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9E94-7B42-4D82-8FA1-D3CEE6441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page generated from the application descrip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rtal administrator edits this to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316-3F4A-4F15-BA07-E57A823B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844-3A5C-4EB1-9A14-77062F79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01C-D673-4A0A-A346-AAB3FAB1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170-F390-4A58-B520-52506152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413-071F-4E78-A487-5814FFCB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9FA-4C91-4DCC-9E07-4E1088AB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A3E-F32E-439C-8942-EB66CCDB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5C8-F47C-4B31-9AFE-957BF4CF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12B-819D-4679-998D-8450A5E2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4D6-B0B4-432D-94C5-967EC2F8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08B-2C41-4CA9-878B-4F7AA6D6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DE5-31AB-429E-8572-CEF91EF6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79D1-F673-45AC-9A94-90D5E2F8B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rids.ucs.indiana.edu:9000/slide/ptliu/research/gateway/AWS/AWS.doc" TargetMode="External"/><Relationship Id="rId2" Type="http://schemas.openxmlformats.org/officeDocument/2006/relationships/hyperlink" Target="http://grids.ucs.indiana.edu:8045/GCWS/Schema/index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839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Web Service Toolkit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users to quickly add new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GF5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ffrey Fox, Marlon Pierce, Ozgur Bals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3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05160" y="33523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ma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13282" r="0" b="2344"/>
          <a:stretch/>
        </p:blipFill>
        <p:spPr>
          <a:xfrm>
            <a:off x="0" y="-609480"/>
            <a:ext cx="914400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matic Interface Generations with Schema Wiz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way schema pages are currently one shot development eff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ap HTML forms to a specific sch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actions update schema instances through Castor generated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generally, we want to be able to automatically map general purpose schema elements to GUI widgets (HTML or otherwi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 this sort of thing a schema wiz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5436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48320" y="22860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wizard generates JSP that delivers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enables one to create instance of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0"/>
          <a:ext cx="4572000" cy="25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57200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351360" y="1475280"/>
            <a:ext cx="8208000" cy="4945320"/>
            <a:chOff x="351360" y="1475280"/>
            <a:chExt cx="8208000" cy="4945320"/>
          </a:xfrm>
        </p:grpSpPr>
        <p:sp>
          <p:nvSpPr>
            <p:cNvPr id="105" name=""/>
            <p:cNvSpPr/>
            <p:nvPr/>
          </p:nvSpPr>
          <p:spPr>
            <a:xfrm>
              <a:off x="351360" y="4238640"/>
              <a:ext cx="937440" cy="1452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ch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3947400"/>
              <a:ext cx="1873080" cy="87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ch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roces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93680" y="5547240"/>
              <a:ext cx="2108160" cy="87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ast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ourceGener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460960" y="3947400"/>
              <a:ext cx="1170360" cy="729000"/>
              <a:chOff x="2460960" y="3947400"/>
              <a:chExt cx="1170360" cy="729000"/>
            </a:xfrm>
          </p:grpSpPr>
          <p:sp>
            <p:nvSpPr>
              <p:cNvPr id="109" name=""/>
              <p:cNvSpPr/>
              <p:nvPr/>
            </p:nvSpPr>
            <p:spPr>
              <a:xfrm>
                <a:off x="2929680" y="3947400"/>
                <a:ext cx="233280" cy="14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162960" y="4238280"/>
                <a:ext cx="233280" cy="14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398040" y="4529520"/>
                <a:ext cx="233280" cy="14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94600" y="4238280"/>
                <a:ext cx="234720" cy="14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60960" y="4529520"/>
                <a:ext cx="233640" cy="14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929680" y="4529520"/>
                <a:ext cx="233280" cy="14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46320" y="4092840"/>
                <a:ext cx="23472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81040" y="4384080"/>
                <a:ext cx="23328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811240" y="4092840"/>
                <a:ext cx="23472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44520" y="4384080"/>
                <a:ext cx="23580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2577600" y="4384080"/>
                <a:ext cx="23472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460960" y="3366360"/>
              <a:ext cx="152388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astor S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806720" y="5547240"/>
              <a:ext cx="1523160" cy="869760"/>
              <a:chOff x="4806720" y="5547240"/>
              <a:chExt cx="1523160" cy="869760"/>
            </a:xfrm>
          </p:grpSpPr>
          <p:sp>
            <p:nvSpPr>
              <p:cNvPr id="122" name=""/>
              <p:cNvSpPr/>
              <p:nvPr/>
            </p:nvSpPr>
            <p:spPr>
              <a:xfrm>
                <a:off x="4806720" y="5547240"/>
                <a:ext cx="1289520" cy="58032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Javabea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24440" y="5692320"/>
                <a:ext cx="1288440" cy="57744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Javabea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41440" y="5838120"/>
                <a:ext cx="1288440" cy="57888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Javabea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4806720" y="1475280"/>
              <a:ext cx="1171800" cy="1452240"/>
              <a:chOff x="4806720" y="1475280"/>
              <a:chExt cx="1171800" cy="1452240"/>
            </a:xfrm>
          </p:grpSpPr>
          <p:sp>
            <p:nvSpPr>
              <p:cNvPr id="126" name=""/>
              <p:cNvSpPr/>
              <p:nvPr/>
            </p:nvSpPr>
            <p:spPr>
              <a:xfrm>
                <a:off x="4806720" y="1475280"/>
                <a:ext cx="992160" cy="12110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96720" y="1596240"/>
                <a:ext cx="992160" cy="12099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87440" y="1717560"/>
                <a:ext cx="991080" cy="12099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66600" y="3512160"/>
              <a:ext cx="1292760" cy="1744920"/>
              <a:chOff x="7266600" y="3512160"/>
              <a:chExt cx="1292760" cy="1744920"/>
            </a:xfrm>
          </p:grpSpPr>
          <p:sp>
            <p:nvSpPr>
              <p:cNvPr id="130" name=""/>
              <p:cNvSpPr/>
              <p:nvPr/>
            </p:nvSpPr>
            <p:spPr>
              <a:xfrm>
                <a:off x="7266600" y="3512160"/>
                <a:ext cx="1094040" cy="145512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65600" y="3657600"/>
                <a:ext cx="1094040" cy="14536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66040" y="3803400"/>
                <a:ext cx="1093320" cy="14536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JS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HTM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form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288800" y="4966560"/>
              <a:ext cx="35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40520" y="4966560"/>
              <a:ext cx="1440" cy="10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640520" y="4385880"/>
              <a:ext cx="144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40520" y="4385880"/>
              <a:ext cx="704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40520" y="5985720"/>
              <a:ext cx="352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03280" y="5985720"/>
              <a:ext cx="585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1200" y="4385880"/>
              <a:ext cx="585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09080" y="2928240"/>
              <a:ext cx="2520" cy="10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509080" y="4820760"/>
              <a:ext cx="1440" cy="72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47600" y="4385880"/>
              <a:ext cx="703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Wizard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Wizard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ma is read in to create an in-memory representation (SOM) and also to create Java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=Castor’s Schema Obj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chema element is mapped to a self-contained JSP nugg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P nuggets are generated from templ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emplate for each element type (simple, complex, enumerated, unbounded,…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is used for convenient scripting of J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JSP page is an aggregate of the JSP nuggets files (using &lt;%@:include&gt;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chema elements are mapped to JavaBeans generated from the schema with Cas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ing templates set up the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re We Real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CE shell Web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ementations develo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chema are available and have been implemented in a demo por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chema wiz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till in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ne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ntiSchema wizar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an HTML form, creates a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s input parameters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work on remote portlets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et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ble, session maintaining, form parameter passing portlets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work out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incorporate schema wizard as a port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rids.ucs.indiana.edu:9000/slide/ptliu/research/gateway/AWS/AWS.do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for a short report and lots of XML Spy generated schema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of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to build an Application Web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for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pplication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rids.ucs.indiana.edu:8045/GCWS/Schema/index.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the sch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Porta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lik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i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PD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id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tP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teway (WebFlow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sissippi Por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g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vide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id or GCE She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nterfaces to user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r port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 job; find its status; manipulate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UNIX Shell-like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lication Port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oblem Solving Environments) are often built on top of “Shell Portals” but this can be quite time conf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lication Por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ell Portal Web Serv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lication (factory) Web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for Application Web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20200" y="3795120"/>
            <a:ext cx="1078200" cy="52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5440" y="3795480"/>
            <a:ext cx="1205640" cy="908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56720" y="1129320"/>
            <a:ext cx="1884240" cy="821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24760" y="1356840"/>
            <a:ext cx="1078200" cy="52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5280" y="5852520"/>
            <a:ext cx="1078200" cy="52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3120" y="3033720"/>
            <a:ext cx="1509840" cy="908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9080" y="4252680"/>
            <a:ext cx="1509840" cy="908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066680"/>
            <a:ext cx="205740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" y="4647960"/>
            <a:ext cx="25909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9360" y="2971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v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0400" y="114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0400" y="19051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32680" y="3110400"/>
            <a:ext cx="1884240" cy="821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43920" y="4023720"/>
            <a:ext cx="2297880" cy="52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nstanc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67600" y="2957400"/>
            <a:ext cx="2297880" cy="908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nstance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67600" y="4938480"/>
            <a:ext cx="2297880" cy="908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nstance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5091840"/>
            <a:ext cx="1884240" cy="821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4038480"/>
            <a:ext cx="747720" cy="486000"/>
          </a:xfrm>
          <a:prstGeom prst="rightArrow">
            <a:avLst>
              <a:gd name="adj1" fmla="val 50000"/>
              <a:gd name="adj2" fmla="val 3846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400800" y="2133720"/>
            <a:ext cx="8380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5257800"/>
            <a:ext cx="3812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4000" y="1905120"/>
            <a:ext cx="19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ppl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just”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stract St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s potential uses of th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to a.out on a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y St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pecific application instance has been set up but no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mitted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pplication instance is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y: sh a.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chived St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job is completed and metadata about the instance is s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n be queried later as 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d instances can be used to create new in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ways of describing all of these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Web Service Bund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952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lication is composed of several shell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escription, batch script generation, job submission, job monitoring, file trans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hould be deployable on a specific compute re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become services on a host re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lication should have two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to inv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‘workflow’ of how the core services inte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disciplinary applications are composed from multiple co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2514600"/>
            <a:ext cx="388620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600200"/>
            <a:ext cx="388620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3429000"/>
            <a:ext cx="129564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4648320"/>
            <a:ext cx="129528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648320"/>
            <a:ext cx="129564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29528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6640" y="29718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E shell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Web Service Sch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proceeding, we have two sets of sch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rst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s the abstract state of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 for invoking dislo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b these to be “abstract descripto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ond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s a specific instance of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ant to use disloc with input1.dat on solar.uits.indiana.e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b these to be “instance descripto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escriptor group consist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ication descrip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ource) descriptor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ecution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queue or shell) descriptor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rd Sche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fine user definable options (standard input as a GUI) fo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Schema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st and environment descriptors are the usual stuff, so we won’t go over tha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stract descrip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 possible invocations of th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ed by application deployers, used to generate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stance descrip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 particular invocations of th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from user interaction with portal interface, stored as application arch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 Application 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seInfo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llects things like application name, version, option flag info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nalComm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ow the application does internal communication: input, output, error fields are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ecBundle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bundle of services the application needs to actually execute (batch script generation, job submission, but NOT file transfe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ternalComm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ow the application communicates with its environment. This is not implemented but is put as a placehol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ecution bun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 to host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ma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6T19:17:24Z</dcterms:created>
  <dc:creator> </dc:creator>
  <dc:description/>
  <dc:language>en-US</dc:language>
  <cp:lastModifiedBy>Piyush Mehrotra</cp:lastModifiedBy>
  <dcterms:modified xsi:type="dcterms:W3CDTF">2002-07-25T10:23:16Z</dcterms:modified>
  <cp:revision>21</cp:revision>
  <dc:subject/>
  <dc:title>Application Web Service Toolkit</dc:title>
</cp:coreProperties>
</file>