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8F6B-7610-458B-92BC-41182F9BD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4840" y="696960"/>
            <a:ext cx="4648320" cy="3486240"/>
          </a:xfrm>
          <a:prstGeom prst="rect">
            <a:avLst/>
          </a:prstGeom>
          <a:ln w="0">
            <a:noFill/>
          </a:ln>
        </p:spPr>
      </p:sp>
      <p:sp>
        <p:nvSpPr>
          <p:cNvPr id="13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commonly used to process form data or access a databas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4840" y="696960"/>
            <a:ext cx="4648320" cy="3486240"/>
          </a:xfrm>
          <a:prstGeom prst="rect">
            <a:avLst/>
          </a:prstGeom>
          <a:ln w="0">
            <a:noFill/>
          </a:ln>
        </p:spPr>
      </p:sp>
      <p:sp>
        <p:nvSpPr>
          <p:cNvPr id="13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commonly used to process form data or access a databa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4840" y="696960"/>
            <a:ext cx="4648320" cy="3486240"/>
          </a:xfrm>
          <a:prstGeom prst="rect">
            <a:avLst/>
          </a:prstGeom>
          <a:ln w="0">
            <a:noFill/>
          </a:ln>
        </p:spPr>
      </p:sp>
      <p:sp>
        <p:nvSpPr>
          <p:cNvPr id="13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commonly used to process form data or access a databa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ive a high-level perspective, I’ll go over the ‘basics’ first.  Then look at the major components—what we used, what the components do, and how they interoperate.  Next I’ll present an overview of our build process, pointing out some of the gotchas.   I’ll next discuss one possible configuration and show how apache and tomcat translate URLs to file system paths.  Then I’ll show some practical ways to start and stop apache and tomcat and end w/ a list of pointers to more inform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commonly used to process form data or access a databa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commonly used to process form data or access a databas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4840" y="696960"/>
            <a:ext cx="4648320" cy="3486240"/>
          </a:xfrm>
          <a:prstGeom prst="rect">
            <a:avLst/>
          </a:prstGeom>
          <a:ln w="0">
            <a:noFill/>
          </a:ln>
        </p:spPr>
      </p:sp>
      <p:sp>
        <p:nvSpPr>
          <p:cNvPr id="12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commonly used to process form data or access a databa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4840" y="696960"/>
            <a:ext cx="4648320" cy="3486240"/>
          </a:xfrm>
          <a:prstGeom prst="rect">
            <a:avLst/>
          </a:prstGeom>
          <a:ln w="0">
            <a:noFill/>
          </a:ln>
        </p:spPr>
      </p:sp>
      <p:sp>
        <p:nvSpPr>
          <p:cNvPr id="12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I commonly used to process form data or access a databa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20720" y="75096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flipH="1">
            <a:off x="64800" y="6616800"/>
            <a:ext cx="900252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789280" y="6443640"/>
            <a:ext cx="3585960" cy="33588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nkGothic Md BT"/>
              </a:rPr>
              <a:t>GGF July 2002</a:t>
            </a:r>
            <a:endParaRPr b="0" lang="en-US" sz="1600" spc="-1" strike="noStrike">
              <a:solidFill>
                <a:srgbClr val="000000"/>
              </a:solidFill>
              <a:latin typeface="Times New Roman"/>
            </a:endParaRPr>
          </a:p>
        </p:txBody>
      </p:sp>
      <p:grpSp>
        <p:nvGrpSpPr>
          <p:cNvPr id="4" name=""/>
          <p:cNvGrpSpPr/>
          <p:nvPr/>
        </p:nvGrpSpPr>
        <p:grpSpPr>
          <a:xfrm>
            <a:off x="0" y="920880"/>
            <a:ext cx="8972280" cy="799920"/>
            <a:chOff x="0" y="920880"/>
            <a:chExt cx="8972280" cy="799920"/>
          </a:xfrm>
        </p:grpSpPr>
        <p:sp>
          <p:nvSpPr>
            <p:cNvPr id="5" name=""/>
            <p:cNvSpPr/>
            <p:nvPr/>
          </p:nvSpPr>
          <p:spPr>
            <a:xfrm flipH="1">
              <a:off x="0" y="1658880"/>
              <a:ext cx="7611840" cy="0"/>
            </a:xfrm>
            <a:prstGeom prst="line">
              <a:avLst/>
            </a:prstGeom>
            <a:ln w="7632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7677000" y="920880"/>
              <a:ext cx="1295280" cy="7999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1714320"/>
            <a:ext cx="9144000" cy="86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totype Workflow Manager </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310680" y="3166560"/>
            <a:ext cx="8458200" cy="2971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uck McParland, Deb Agarwal, Marcia Perry, Jeevak Kasarkod</a:t>
            </a: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Systems Department</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nest Orlando Lawrence Berkeley National Laboratory</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y 2002</a:t>
            </a:r>
            <a:endParaRPr b="0" lang="en-US" sz="2400" spc="-1" strike="noStrike">
              <a:solidFill>
                <a:srgbClr val="000000"/>
              </a:solidFill>
              <a:latin typeface="Times New Roman"/>
            </a:endParaRPr>
          </a:p>
        </p:txBody>
      </p:sp>
      <p:sp>
        <p:nvSpPr>
          <p:cNvPr id="52" name=""/>
          <p:cNvSpPr/>
          <p:nvPr/>
        </p:nvSpPr>
        <p:spPr>
          <a:xfrm>
            <a:off x="685800" y="281304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lementation (contd.)</a:t>
            </a:r>
            <a:endParaRPr b="0" lang="en-US" sz="4000" spc="-1" strike="noStrike">
              <a:solidFill>
                <a:srgbClr val="000000"/>
              </a:solidFill>
              <a:latin typeface="Times New Roman"/>
            </a:endParaRPr>
          </a:p>
        </p:txBody>
      </p:sp>
      <p:sp>
        <p:nvSpPr>
          <p:cNvPr id="84" name=""/>
          <p:cNvSpPr/>
          <p:nvPr/>
        </p:nvSpPr>
        <p:spPr>
          <a:xfrm>
            <a:off x="1020600" y="2384280"/>
            <a:ext cx="6201000" cy="1459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2"/>
          <p:cNvSpPr>
            <a:spLocks noGrp="1"/>
          </p:cNvSpPr>
          <p:nvPr>
            <p:ph/>
          </p:nvPr>
        </p:nvSpPr>
        <p:spPr>
          <a:xfrm>
            <a:off x="406080" y="1725480"/>
            <a:ext cx="8302680" cy="4267440"/>
          </a:xfrm>
          <a:prstGeom prst="rect">
            <a:avLst/>
          </a:prstGeom>
          <a:noFill/>
          <a:ln w="0">
            <a:noFill/>
          </a:ln>
        </p:spPr>
        <p:txBody>
          <a:bodyPr anchor="t">
            <a:normAutofit/>
          </a:bodyPr>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flow instances</a:t>
            </a:r>
            <a:endParaRPr b="0" lang="en-US" sz="2000" spc="-1" strike="noStrike">
              <a:solidFill>
                <a:srgbClr val="000000"/>
              </a:solidFill>
              <a:latin typeface="Times New Roman"/>
            </a:endParaRPr>
          </a:p>
        </p:txBody>
      </p:sp>
      <p:sp>
        <p:nvSpPr>
          <p:cNvPr id="86" name=""/>
          <p:cNvSpPr/>
          <p:nvPr/>
        </p:nvSpPr>
        <p:spPr>
          <a:xfrm>
            <a:off x="1173240" y="2536920"/>
            <a:ext cx="6200640" cy="14587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325520" y="2689200"/>
            <a:ext cx="6200640" cy="14590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444840" y="2847960"/>
            <a:ext cx="1300320" cy="2383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rt</a:t>
            </a:r>
            <a:endParaRPr b="0" lang="en-US" sz="2000" spc="-1" strike="noStrike">
              <a:solidFill>
                <a:srgbClr val="000000"/>
              </a:solidFill>
              <a:latin typeface="Times New Roman"/>
            </a:endParaRPr>
          </a:p>
        </p:txBody>
      </p:sp>
      <p:sp>
        <p:nvSpPr>
          <p:cNvPr id="89" name=""/>
          <p:cNvSpPr/>
          <p:nvPr/>
        </p:nvSpPr>
        <p:spPr>
          <a:xfrm>
            <a:off x="4962600" y="3198960"/>
            <a:ext cx="1299960" cy="2379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B</a:t>
            </a:r>
            <a:endParaRPr b="0" lang="en-US" sz="2000" spc="-1" strike="noStrike">
              <a:solidFill>
                <a:srgbClr val="000000"/>
              </a:solidFill>
              <a:latin typeface="Times New Roman"/>
            </a:endParaRPr>
          </a:p>
        </p:txBody>
      </p:sp>
      <p:sp>
        <p:nvSpPr>
          <p:cNvPr id="90" name=""/>
          <p:cNvSpPr/>
          <p:nvPr/>
        </p:nvSpPr>
        <p:spPr>
          <a:xfrm>
            <a:off x="2000160" y="3165480"/>
            <a:ext cx="1300320" cy="2379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A</a:t>
            </a:r>
            <a:endParaRPr b="0" lang="en-US" sz="2000" spc="-1" strike="noStrike">
              <a:solidFill>
                <a:srgbClr val="000000"/>
              </a:solidFill>
              <a:latin typeface="Times New Roman"/>
            </a:endParaRPr>
          </a:p>
        </p:txBody>
      </p:sp>
      <p:sp>
        <p:nvSpPr>
          <p:cNvPr id="91" name=""/>
          <p:cNvSpPr/>
          <p:nvPr/>
        </p:nvSpPr>
        <p:spPr>
          <a:xfrm>
            <a:off x="4683240" y="3741840"/>
            <a:ext cx="1299960" cy="2379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d</a:t>
            </a:r>
            <a:endParaRPr b="0" lang="en-US" sz="2000" spc="-1" strike="noStrike">
              <a:solidFill>
                <a:srgbClr val="000000"/>
              </a:solidFill>
              <a:latin typeface="Times New Roman"/>
            </a:endParaRPr>
          </a:p>
        </p:txBody>
      </p:sp>
      <p:sp>
        <p:nvSpPr>
          <p:cNvPr id="92" name=""/>
          <p:cNvSpPr/>
          <p:nvPr/>
        </p:nvSpPr>
        <p:spPr>
          <a:xfrm>
            <a:off x="3040200" y="3597120"/>
            <a:ext cx="1299960" cy="2383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C</a:t>
            </a:r>
            <a:endParaRPr b="0" lang="en-US" sz="2000" spc="-1" strike="noStrike">
              <a:solidFill>
                <a:srgbClr val="000000"/>
              </a:solidFill>
              <a:latin typeface="Times New Roman"/>
            </a:endParaRPr>
          </a:p>
        </p:txBody>
      </p:sp>
      <p:sp>
        <p:nvSpPr>
          <p:cNvPr id="93" name=""/>
          <p:cNvSpPr/>
          <p:nvPr/>
        </p:nvSpPr>
        <p:spPr>
          <a:xfrm>
            <a:off x="4359240" y="3726000"/>
            <a:ext cx="293760" cy="104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776840" y="2976480"/>
            <a:ext cx="743040" cy="146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2717640" y="2955960"/>
            <a:ext cx="702000" cy="185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4100040" y="3321000"/>
            <a:ext cx="808200" cy="211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359160" y="3294000"/>
            <a:ext cx="306360" cy="265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96720" y="4400640"/>
            <a:ext cx="1922760" cy="595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utation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a:t>
            </a:r>
            <a:endParaRPr b="0" lang="en-US" sz="2000" spc="-1" strike="noStrike">
              <a:solidFill>
                <a:srgbClr val="000000"/>
              </a:solidFill>
              <a:latin typeface="Times New Roman"/>
            </a:endParaRPr>
          </a:p>
        </p:txBody>
      </p:sp>
      <p:sp>
        <p:nvSpPr>
          <p:cNvPr id="99" name=""/>
          <p:cNvSpPr/>
          <p:nvPr/>
        </p:nvSpPr>
        <p:spPr>
          <a:xfrm>
            <a:off x="6512040" y="4711680"/>
            <a:ext cx="1922400" cy="5954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utation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a:t>
            </a:r>
            <a:endParaRPr b="0" lang="en-US" sz="2000" spc="-1" strike="noStrike">
              <a:solidFill>
                <a:srgbClr val="000000"/>
              </a:solidFill>
              <a:latin typeface="Times New Roman"/>
            </a:endParaRPr>
          </a:p>
        </p:txBody>
      </p:sp>
      <p:sp>
        <p:nvSpPr>
          <p:cNvPr id="100" name=""/>
          <p:cNvSpPr/>
          <p:nvPr/>
        </p:nvSpPr>
        <p:spPr>
          <a:xfrm>
            <a:off x="3073320" y="5195880"/>
            <a:ext cx="1922400" cy="5954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 Transf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a:t>
            </a:r>
            <a:endParaRPr b="0" lang="en-US" sz="2000" spc="-1" strike="noStrike">
              <a:solidFill>
                <a:srgbClr val="000000"/>
              </a:solidFill>
              <a:latin typeface="Times New Roman"/>
            </a:endParaRPr>
          </a:p>
        </p:txBody>
      </p:sp>
      <p:sp>
        <p:nvSpPr>
          <p:cNvPr id="101" name=""/>
          <p:cNvSpPr/>
          <p:nvPr/>
        </p:nvSpPr>
        <p:spPr>
          <a:xfrm flipH="1">
            <a:off x="1576080" y="3419640"/>
            <a:ext cx="716040" cy="95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43600" y="3465360"/>
            <a:ext cx="1484280" cy="12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38520" y="3889440"/>
            <a:ext cx="382680" cy="1233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062960" y="4367160"/>
            <a:ext cx="2591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 service interfac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lementation (contd.)</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sistence provided by XML description of baseline workflow instance plus accumulated, logged state chan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aphical, browser-based display of workflow topology with individual activity state inform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lementation (contd.)</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king with Condor group (U. Wisc) to integrate Condor DAG submissions as a single workflow activity.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ow use of existing, well understood DAG sequence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 a single control environment for coordination of smaller DAG and non DAG-based computational task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ssue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SFL workflow sequencing based on each web service returning “standardized” status valu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web services must implement such a return status to participate in WSFL workflow mode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ce WSFL allows these activity completion status values to be used in arbitrary ways to trigger subsequent activities, semantics of these values must be coordinated across all activities within a given workflow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ssues (contd.)</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mantics of mapping user job submissions onto web servi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urrent web service transaction support (i.e. submit this job once and only on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id job submission and execution typically multiple steps (i.e. web services): submit job, poll or wait for completion, evaluate completion statu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these are individual web services, do we expose this complexity to the user?</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 do we incorporate it into the workflow engine thus making some workflow activities “ specia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ssues (contd.)</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SFL workflow description syntax far too complex for most us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form of simplification or automated generation necessary.  Graphical design tool would be very usefu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nguage complexity makes some form of pre-execution workflow description verification critic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e to use simple Condor DAG-like task descriptions to automatically generate correct WSFL workflow descri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atus</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re workflow engine functio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b-based user control and status interfaces under develop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im Grid job submission services based on Java COG k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81864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acts &amp; Acknowledgement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www-itg.lbl.gov/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pmcparland@lbl.gov</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work was supported by the Mathematical, Information, and Computational Science Division subprogram of the Office of Advanced Scientific Computing Research, U.S. Department of Energy, under </a:t>
            </a:r>
            <a:r>
              <a:rPr b="1" lang="en-US" sz="2800" spc="-1" strike="noStrike">
                <a:solidFill>
                  <a:srgbClr val="000000"/>
                </a:solidFill>
                <a:latin typeface="Times New Roman"/>
                <a:ea typeface="Courier New"/>
              </a:rPr>
              <a:t>Contract DE-AC03-76SF00098 with the University of California</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rganization</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lemen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t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tivation</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rge, persistent computational efforts need workflow management too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ipt-based control programs create maintenance problems for their implementers and are often impenetrable for second generation maintain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y research efforts (e.g. 10-20 yrs.) will require training of 2 or more generations of students and post docs. Clarity and documentation of computational tasks import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tivation (contd.)</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ed for collaborative control of operational aspects of complex computational effor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collaborations become more distributed, operational aspects of analysis and simulation efforts (e.g. analysis chain monitoring, exception recovery) must do likewi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x7 data analysis operations (e.g. automated supernova searches) require contributed effort from multiple time zones and location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sign</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hould provide persistent,  high level view of major computing task.</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ose task state information and have control interfaces for high level task control and exception rout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ow single view/control of tasks that span multiple grid domains or mixed environments (i.e. grid and non-grid).</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t;Therefore, base control of both individual user computing tasks and workflow coordination process via web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sign (contd.)</a:t>
            </a:r>
            <a:endParaRPr b="0" lang="en-US" sz="4000" spc="-1" strike="noStrike">
              <a:solidFill>
                <a:srgbClr val="000000"/>
              </a:solidFill>
              <a:latin typeface="Times New Roman"/>
            </a:endParaRPr>
          </a:p>
        </p:txBody>
      </p:sp>
      <p:sp>
        <p:nvSpPr>
          <p:cNvPr id="62" name="PlaceHolder 2"/>
          <p:cNvSpPr>
            <a:spLocks noGrp="1"/>
          </p:cNvSpPr>
          <p:nvPr>
            <p:ph/>
          </p:nvPr>
        </p:nvSpPr>
        <p:spPr>
          <a:xfrm>
            <a:off x="642960" y="174132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Loosely” based on IBM’s WSFL description language.</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w real standards from which to choose-WSFL has a published syntax.</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SFL offers a web service centric model and (reasonably) developed XML language schema.</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s hierarchical workflow compositions and execution time resource binding through UDDI.</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workflow “life cycle” operations exposed as web services.</a:t>
            </a:r>
            <a:endParaRPr b="0" lang="en-US" sz="24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reased interoperability (hopefully).</a:t>
            </a:r>
            <a:endParaRPr b="0" lang="en-US" sz="2000" spc="-1" strike="noStrike">
              <a:solidFill>
                <a:srgbClr val="000000"/>
              </a:solidFill>
              <a:latin typeface="Times New Roman"/>
            </a:endParaRPr>
          </a:p>
          <a:p>
            <a:pPr lvl="2" marL="1040040" indent="-207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cit mechanisms for run-time resource binding and steer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esign (cont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kflow model is XML description of user-defined activities and their causal and temporal order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user-defined workflow activities expressed as instances of web services and their associated WSDL interface descrip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executing workflow is an instance of a workflow model with its own state and resource binding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lementation</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ML-based workflow descriptions and required WSDL files located in workflow mgr. model repositor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sistent java-based workflow mgr. instantiates instance of model upon user reques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kflow instance can be queried for current state and individual activity stat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r and administrative workflow mgr. interactions are performed via web services hosted on standard servlet-based containers.</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20720" y="75096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mplementation (contd.)</a:t>
            </a:r>
            <a:endParaRPr b="0" lang="en-US" sz="4000" spc="-1" strike="noStrike">
              <a:solidFill>
                <a:srgbClr val="000000"/>
              </a:solidFill>
              <a:latin typeface="Times New Roman"/>
            </a:endParaRPr>
          </a:p>
        </p:txBody>
      </p:sp>
      <p:sp>
        <p:nvSpPr>
          <p:cNvPr id="68" name="PlaceHolder 2"/>
          <p:cNvSpPr>
            <a:spLocks noGrp="1"/>
          </p:cNvSpPr>
          <p:nvPr>
            <p:ph/>
          </p:nvPr>
        </p:nvSpPr>
        <p:spPr>
          <a:xfrm>
            <a:off x="406080" y="1725480"/>
            <a:ext cx="830268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
          <p:cNvSpPr/>
          <p:nvPr/>
        </p:nvSpPr>
        <p:spPr>
          <a:xfrm>
            <a:off x="2478240" y="4718160"/>
            <a:ext cx="1868400" cy="6364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630520" y="4870440"/>
            <a:ext cx="1868400" cy="6364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782800" y="5022720"/>
            <a:ext cx="1868400" cy="6368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65240" y="4848120"/>
            <a:ext cx="1336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flow instances</a:t>
            </a:r>
            <a:endParaRPr b="0" lang="en-US" sz="2000" spc="-1" strike="noStrike">
              <a:solidFill>
                <a:srgbClr val="000000"/>
              </a:solidFill>
              <a:latin typeface="Times New Roman"/>
            </a:endParaRPr>
          </a:p>
        </p:txBody>
      </p:sp>
      <p:sp>
        <p:nvSpPr>
          <p:cNvPr id="73" name=""/>
          <p:cNvSpPr/>
          <p:nvPr/>
        </p:nvSpPr>
        <p:spPr>
          <a:xfrm>
            <a:off x="6156360" y="2008080"/>
            <a:ext cx="1868400" cy="6368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519440" y="1873080"/>
            <a:ext cx="15368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flow Model Repository</a:t>
            </a:r>
            <a:endParaRPr b="0" lang="en-US" sz="2000" spc="-1" strike="noStrike">
              <a:solidFill>
                <a:srgbClr val="000000"/>
              </a:solidFill>
              <a:latin typeface="Times New Roman"/>
            </a:endParaRPr>
          </a:p>
        </p:txBody>
      </p:sp>
      <p:sp>
        <p:nvSpPr>
          <p:cNvPr id="75" name=""/>
          <p:cNvSpPr/>
          <p:nvPr/>
        </p:nvSpPr>
        <p:spPr>
          <a:xfrm>
            <a:off x="4386240" y="3379680"/>
            <a:ext cx="3524400" cy="795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flow Manager</a:t>
            </a:r>
            <a:endParaRPr b="0" lang="en-US" sz="2000" spc="-1" strike="noStrike">
              <a:solidFill>
                <a:srgbClr val="000000"/>
              </a:solidFill>
              <a:latin typeface="Times New Roman"/>
            </a:endParaRPr>
          </a:p>
        </p:txBody>
      </p:sp>
      <p:sp>
        <p:nvSpPr>
          <p:cNvPr id="76" name=""/>
          <p:cNvSpPr/>
          <p:nvPr/>
        </p:nvSpPr>
        <p:spPr>
          <a:xfrm flipH="1">
            <a:off x="6388200" y="2690640"/>
            <a:ext cx="622080" cy="635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4393800" y="4235400"/>
            <a:ext cx="754200" cy="74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41600" y="2438280"/>
            <a:ext cx="1895400" cy="6224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 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g. Tomcat)</a:t>
            </a:r>
            <a:endParaRPr b="0" lang="en-US" sz="2000" spc="-1" strike="noStrike">
              <a:solidFill>
                <a:srgbClr val="000000"/>
              </a:solidFill>
              <a:latin typeface="Times New Roman"/>
            </a:endParaRPr>
          </a:p>
        </p:txBody>
      </p:sp>
      <p:sp>
        <p:nvSpPr>
          <p:cNvPr id="79" name=""/>
          <p:cNvSpPr/>
          <p:nvPr/>
        </p:nvSpPr>
        <p:spPr>
          <a:xfrm>
            <a:off x="492120" y="2205000"/>
            <a:ext cx="1193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 Service Interface</a:t>
            </a:r>
            <a:endParaRPr b="0" lang="en-US" sz="2000" spc="-1" strike="noStrike">
              <a:solidFill>
                <a:srgbClr val="000000"/>
              </a:solidFill>
              <a:latin typeface="Times New Roman"/>
            </a:endParaRPr>
          </a:p>
        </p:txBody>
      </p:sp>
      <p:sp>
        <p:nvSpPr>
          <p:cNvPr id="80" name=""/>
          <p:cNvSpPr/>
          <p:nvPr/>
        </p:nvSpPr>
        <p:spPr>
          <a:xfrm flipH="1" flipV="1">
            <a:off x="3551040" y="2784600"/>
            <a:ext cx="873000" cy="6220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5770440" y="2338560"/>
            <a:ext cx="360360" cy="79200"/>
          </a:xfrm>
          <a:prstGeom prst="line">
            <a:avLst/>
          </a:prstGeom>
          <a:ln w="255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 name=""/>
          <p:cNvSpPr/>
          <p:nvPr/>
        </p:nvSpPr>
        <p:spPr>
          <a:xfrm flipV="1">
            <a:off x="3591000" y="2528640"/>
            <a:ext cx="1143000" cy="212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18:45:59Z</dcterms:created>
  <dc:creator>mperry</dc:creator>
  <dc:description/>
  <dc:language>en-US</dc:language>
  <cp:lastModifiedBy>Keith R. Jackson</cp:lastModifiedBy>
  <dcterms:modified xsi:type="dcterms:W3CDTF">2002-07-23T10:29:35Z</dcterms:modified>
  <cp:revision>352</cp:revision>
  <dc:subject/>
  <dc:title>Apache and Tomcat</dc:title>
</cp:coreProperties>
</file>