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EED-8A78-4E53-81BD-A415B8FE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page generated from the application descri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rtal administrator edits this to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78E-7472-46BD-90B0-0D3AE41D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C35-C498-43DE-84AF-C1F6B223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6AD-BA1E-4A83-80CF-B00889B0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F9D-4B2B-4C25-97B7-3B5D6730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322-E01D-4306-8896-6D815EF8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F4D-0E33-40FC-B553-1F2F54B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CF1-EE5D-4B7C-B96A-D87D6304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DAA-D95B-4D4F-83CF-83B6F882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924-DC47-4C8F-92FB-77A44305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8FA-D021-45F0-BF88-E1211BCF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A56-9700-4293-A413-073A30E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302-4BC7-4709-8562-1CD3EC0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BE11-2748-4C5E-BF81-734F6216C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rids.ucs.indiana.edu:9000/slide/ptliu/research/gateway/AWS/AWS.doc" TargetMode="External"/><Relationship Id="rId2" Type="http://schemas.openxmlformats.org/officeDocument/2006/relationships/hyperlink" Target="http://grids.ucs.indiana.edu:8045/GCWS/Schema/index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83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Toolki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ers to quickly add new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GF5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ffrey Fox, Marlon Pierce, Ozgur Bals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3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05160" y="33523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13282" r="0" b="2344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matic Interface Generations with Schema Wiz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way schema pages are currently one shot development eff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map HTML forms to a specific sch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ctions update schema instances through Castor generated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enerally, we want to be able to automatically map general purpose schema elements to GUI widgets (HTML or otherwi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is sort of thing a schema wiz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5436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48320" y="22860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 wizard generates JSP that delivers th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enables one to create instance of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0"/>
          <a:ext cx="457200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57200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51360" y="1475280"/>
            <a:ext cx="8208000" cy="4945320"/>
            <a:chOff x="351360" y="1475280"/>
            <a:chExt cx="8208000" cy="4945320"/>
          </a:xfrm>
        </p:grpSpPr>
        <p:sp>
          <p:nvSpPr>
            <p:cNvPr id="105" name=""/>
            <p:cNvSpPr/>
            <p:nvPr/>
          </p:nvSpPr>
          <p:spPr>
            <a:xfrm>
              <a:off x="351360" y="4238640"/>
              <a:ext cx="937440" cy="1452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ch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947400"/>
              <a:ext cx="187308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che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93680" y="5547240"/>
              <a:ext cx="210816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st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SourceGener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60960" y="3947400"/>
              <a:ext cx="1170360" cy="729000"/>
              <a:chOff x="2460960" y="3947400"/>
              <a:chExt cx="1170360" cy="729000"/>
            </a:xfrm>
          </p:grpSpPr>
          <p:sp>
            <p:nvSpPr>
              <p:cNvPr id="109" name=""/>
              <p:cNvSpPr/>
              <p:nvPr/>
            </p:nvSpPr>
            <p:spPr>
              <a:xfrm>
                <a:off x="2929680" y="394740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162960" y="423828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98040" y="4529520"/>
                <a:ext cx="233280" cy="14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4600" y="4238280"/>
                <a:ext cx="23472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60960" y="4529520"/>
                <a:ext cx="23364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29680" y="4529520"/>
                <a:ext cx="233280" cy="14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46320" y="409284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81040" y="4384080"/>
                <a:ext cx="23328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811240" y="409284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44520" y="4384080"/>
                <a:ext cx="23580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2577600" y="4384080"/>
                <a:ext cx="23472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460960" y="3366360"/>
              <a:ext cx="1523880" cy="43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Castor S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806720" y="5547240"/>
              <a:ext cx="1523160" cy="869760"/>
              <a:chOff x="4806720" y="5547240"/>
              <a:chExt cx="1523160" cy="869760"/>
            </a:xfrm>
          </p:grpSpPr>
          <p:sp>
            <p:nvSpPr>
              <p:cNvPr id="122" name=""/>
              <p:cNvSpPr/>
              <p:nvPr/>
            </p:nvSpPr>
            <p:spPr>
              <a:xfrm>
                <a:off x="4806720" y="5547240"/>
                <a:ext cx="1289520" cy="58032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24440" y="5692320"/>
                <a:ext cx="1288440" cy="57744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41440" y="5838120"/>
                <a:ext cx="1288440" cy="578880"/>
              </a:xfrm>
              <a:prstGeom prst="flowChartAlternate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avabea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806720" y="1475280"/>
              <a:ext cx="1171800" cy="1452240"/>
              <a:chOff x="4806720" y="1475280"/>
              <a:chExt cx="1171800" cy="1452240"/>
            </a:xfrm>
          </p:grpSpPr>
          <p:sp>
            <p:nvSpPr>
              <p:cNvPr id="126" name=""/>
              <p:cNvSpPr/>
              <p:nvPr/>
            </p:nvSpPr>
            <p:spPr>
              <a:xfrm>
                <a:off x="4806720" y="1475280"/>
                <a:ext cx="992160" cy="12110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96720" y="1596240"/>
                <a:ext cx="992160" cy="12099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87440" y="1717560"/>
                <a:ext cx="991080" cy="12099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66600" y="3512160"/>
              <a:ext cx="1292760" cy="1744920"/>
              <a:chOff x="7266600" y="3512160"/>
              <a:chExt cx="1292760" cy="1744920"/>
            </a:xfrm>
          </p:grpSpPr>
          <p:sp>
            <p:nvSpPr>
              <p:cNvPr id="130" name=""/>
              <p:cNvSpPr/>
              <p:nvPr/>
            </p:nvSpPr>
            <p:spPr>
              <a:xfrm>
                <a:off x="7266600" y="3512160"/>
                <a:ext cx="1094040" cy="145512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65600" y="3657600"/>
                <a:ext cx="1094040" cy="1453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Velo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Templat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66040" y="3803400"/>
                <a:ext cx="1093320" cy="1453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JS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HTM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바탕"/>
                  </a:rPr>
                  <a:t>form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1288800" y="4966560"/>
              <a:ext cx="351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40520" y="4966560"/>
              <a:ext cx="144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40520" y="4385880"/>
              <a:ext cx="144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40520" y="4385880"/>
              <a:ext cx="704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0520" y="5985720"/>
              <a:ext cx="352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03280" y="5985720"/>
              <a:ext cx="585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51200" y="4385880"/>
              <a:ext cx="585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09080" y="2928240"/>
              <a:ext cx="2520" cy="10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509080" y="4820760"/>
              <a:ext cx="1440" cy="72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47600" y="4385880"/>
              <a:ext cx="703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Wizard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Wizard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a is read in to create an in-memory representation (SOM) and also to create Java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=Castor’s Schema Obj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chema element is mapped to a self-contained JSP nug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P nuggets are generated from templ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emplate for each element type (simple, complex, enumerated, unbounded,…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is used for convenient scripting of JS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JSP page is an aggregate of the JSP nuggets files (using &lt;%@:include&gt;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chema elements are mapped to JavaBeans generated from the schema with Ca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ing templates set up the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 Rea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CE shell Web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lementations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chema are available and have been implemented in a demo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chema wiz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till in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ne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ntiSchema wizar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an HTML form, creates a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s input parameters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work on remote portlets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et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ble, session maintaining, form parameter passing portlets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work out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incorporate schema wizard as a por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rids.ucs.indiana.edu:9000/slide/ptliu/research/gateway/AWS/AWS.do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for a short report and lots of XML Spy generated schema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of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to build an Application Web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for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pplication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ids.ucs.indiana.edu:8045/GCWS/Schema/index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sche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Portal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lik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i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PD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idpo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t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teway (WebFlow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sissippi P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g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 “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rid or GCE Sh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nterfaces to user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r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 job; find its status; manipulat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UNIX Shell-like cap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Port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blem Solving Environments) are often built on top of “Shell Portals” but this can be quite time conf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Por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ell Portal Web Serv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lication (factory) Web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for Application Web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20200" y="379512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5440" y="3795480"/>
            <a:ext cx="1205640" cy="908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56720" y="112932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24760" y="135684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5280" y="5852520"/>
            <a:ext cx="107820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3120" y="3033720"/>
            <a:ext cx="150984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9080" y="4252680"/>
            <a:ext cx="150984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066680"/>
            <a:ext cx="205740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" y="4647960"/>
            <a:ext cx="25909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9360" y="29718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v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0400" y="1143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0400" y="19051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32680" y="311040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43920" y="4023720"/>
            <a:ext cx="2297880" cy="52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67600" y="2957400"/>
            <a:ext cx="229788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67600" y="4938480"/>
            <a:ext cx="2297880" cy="908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nstance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5091840"/>
            <a:ext cx="1884240" cy="8211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403848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400800" y="2133720"/>
            <a:ext cx="8380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257800"/>
            <a:ext cx="3812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4000" y="190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ppl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just”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stract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s potential uses of th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a.out on a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y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pecific application instance has been set up but no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mitted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pplication instance i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y: sh a.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chived St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job is completed and metadata about the instance is 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n be queried later as 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d instances can be used to create new in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ways of describing all of these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Bund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 is composed of several shell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description, batch script generation, job submission, job monitoring, file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hould be deployable on a specific compute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become services on a host re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should have two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o inv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‘workflow’ of how the core services inte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sciplinary applications are composed from multiple co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2514600"/>
            <a:ext cx="38862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600200"/>
            <a:ext cx="388620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3429000"/>
            <a:ext cx="129564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129528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648320"/>
            <a:ext cx="129564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295280" cy="9144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26640" y="2971800"/>
            <a:ext cx="14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E sh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 Web Service Sch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proceeding, we have two sets of sch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the abstract state of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 for invoking dislo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 these to be “abstract descript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ond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a specific instance of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nt to use disloc with input1.dat on solar.uits.indiana.e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b these to be “instance descripto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escriptor group consist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 descrip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ource) descriptor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cution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ueue or shell) descriptor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rd Sche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fine user definable options (standard input as a GUI) fo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Schema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and environment descriptors are the usual stuff, so we won’t go over that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stract 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possible invocations of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ed by application deployers, used to generate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stance descri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 particular invocations of th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from user interaction with portal interface, stored as application arch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 Application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Info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llects things like application name, version, option flag info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alComm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w the application does internal communication: input, output, error fields ar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Bundle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bundle of services the application needs to actually execute (batch script generation, job submission, but NOT file transf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ternalComm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w the application communicates with its environment. This is not implemented but is put as a placehol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on bun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 to host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ma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9:17:24Z</dcterms:created>
  <dc:creator> </dc:creator>
  <dc:description/>
  <dc:language>en-US</dc:language>
  <cp:lastModifiedBy>Piyush Mehrotra</cp:lastModifiedBy>
  <dcterms:modified xsi:type="dcterms:W3CDTF">2002-07-25T10:23:16Z</dcterms:modified>
  <cp:revision>21</cp:revision>
  <dc:subject/>
  <dc:title>Application Web Service Toolkit</dc:title>
</cp:coreProperties>
</file>