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-360" y="944388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384192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fld id="{960689F5-1376-489C-A227-6288EF45C9E7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Img"/>
          </p:nvPr>
        </p:nvSpPr>
        <p:spPr>
          <a:xfrm>
            <a:off x="684360" y="566280"/>
            <a:ext cx="5416560" cy="406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Click to move the slide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5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644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060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228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644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060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23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2280" y="879480"/>
            <a:ext cx="769752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23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644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060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228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644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060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2280" y="879480"/>
            <a:ext cx="769752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95280" indent="-23796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2" marL="785880" indent="-23328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184400" indent="-23976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71320" y="5562720"/>
            <a:ext cx="76752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 55 Roman"/>
              </a:rPr>
              <a:t>Page </a:t>
            </a:r>
            <a:fld id="{0B0FD8D7-E71D-42C3-A160-FB8DA2983B63}" type="slidenum">
              <a:rPr b="0" lang="en-US" sz="8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685440" y="5715000"/>
            <a:ext cx="76978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157320" y="5328360"/>
            <a:ext cx="669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utiger 55 Roman"/>
              </a:rPr>
              <a:t>FhRG GADL0_1 (FIRST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first_c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163224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685800" y="5829480"/>
          <a:ext cx="160020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829480"/>
                    <a:ext cx="1600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Click to edit the title text format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57320" indent="0" algn="ctr">
              <a:lnSpc>
                <a:spcPts val="1738"/>
              </a:lnSpc>
              <a:spcBef>
                <a:spcPts val="1874"/>
              </a:spcBef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2" marL="55260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3" marL="94464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34136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341360">
              <a:spcBef>
                <a:spcPts val="374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341360">
              <a:spcBef>
                <a:spcPts val="374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Fraunhofer Resource Grid –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Grid Application Definition Language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38280" y="473544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38280" y="251316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first_c" descr=""/>
          <p:cNvPicPr/>
          <p:nvPr/>
        </p:nvPicPr>
        <p:blipFill>
          <a:blip r:embed="rId1"/>
          <a:stretch/>
        </p:blipFill>
        <p:spPr>
          <a:xfrm>
            <a:off x="1852560" y="2666880"/>
            <a:ext cx="3705120" cy="17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352680" y="4876920"/>
          <a:ext cx="266724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4876920"/>
                    <a:ext cx="266724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GADL: </a:t>
            </a: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Job Definition Language (GJob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roblem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complex workflows of grid job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G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rected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yclic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G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aph (see Condor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, UNICORE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no bidirectional coupling (interaction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no loop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etri Net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Graphical flow control of discrete system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2286000"/>
            <a:ext cx="914400" cy="1066320"/>
            <a:chOff x="1676520" y="2286000"/>
            <a:chExt cx="914400" cy="1066320"/>
          </a:xfrm>
        </p:grpSpPr>
        <p:sp>
          <p:nvSpPr>
            <p:cNvPr id="183" name=""/>
            <p:cNvSpPr/>
            <p:nvPr/>
          </p:nvSpPr>
          <p:spPr>
            <a:xfrm>
              <a:off x="1981080" y="2286000"/>
              <a:ext cx="30492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2666880"/>
              <a:ext cx="304560" cy="30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2666880"/>
              <a:ext cx="304920" cy="30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3047760"/>
              <a:ext cx="30492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3" idx="5"/>
              <a:endCxn id="185" idx="1"/>
            </p:cNvCxnSpPr>
            <p:nvPr/>
          </p:nvCxnSpPr>
          <p:spPr>
            <a:xfrm>
              <a:off x="2241720" y="2545920"/>
              <a:ext cx="8928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8" name=""/>
            <p:cNvCxnSpPr>
              <a:stCxn id="183" idx="3"/>
              <a:endCxn id="184" idx="7"/>
            </p:cNvCxnSpPr>
            <p:nvPr/>
          </p:nvCxnSpPr>
          <p:spPr>
            <a:xfrm flipH="1">
              <a:off x="1936080" y="2545920"/>
              <a:ext cx="8964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9" name=""/>
            <p:cNvCxnSpPr>
              <a:stCxn id="185" idx="3"/>
              <a:endCxn id="186" idx="7"/>
            </p:cNvCxnSpPr>
            <p:nvPr/>
          </p:nvCxnSpPr>
          <p:spPr>
            <a:xfrm flipH="1">
              <a:off x="2241360" y="2926800"/>
              <a:ext cx="8928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0" name=""/>
            <p:cNvCxnSpPr>
              <a:stCxn id="184" idx="5"/>
              <a:endCxn id="186" idx="1"/>
            </p:cNvCxnSpPr>
            <p:nvPr/>
          </p:nvCxnSpPr>
          <p:spPr>
            <a:xfrm>
              <a:off x="1936440" y="2926800"/>
              <a:ext cx="8964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191" name=""/>
          <p:cNvGrpSpPr/>
          <p:nvPr/>
        </p:nvGrpSpPr>
        <p:grpSpPr>
          <a:xfrm>
            <a:off x="3352680" y="4419720"/>
            <a:ext cx="3886200" cy="1218960"/>
            <a:chOff x="3352680" y="4419720"/>
            <a:chExt cx="3886200" cy="1218960"/>
          </a:xfrm>
        </p:grpSpPr>
        <p:sp>
          <p:nvSpPr>
            <p:cNvPr id="192" name=""/>
            <p:cNvSpPr/>
            <p:nvPr/>
          </p:nvSpPr>
          <p:spPr>
            <a:xfrm>
              <a:off x="4267080" y="4876920"/>
              <a:ext cx="304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5181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2680" y="4572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44197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05520" y="53341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05520" y="4876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9920" y="4876920"/>
              <a:ext cx="3045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4876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8240" y="4800600"/>
              <a:ext cx="61884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57600" y="5081400"/>
              <a:ext cx="60948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576680" y="4652640"/>
              <a:ext cx="542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81360" y="5038200"/>
              <a:ext cx="52416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0" y="5119560"/>
              <a:ext cx="53352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415120" y="5033520"/>
              <a:ext cx="590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9520" y="5033520"/>
              <a:ext cx="590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429000" y="4648320"/>
            <a:ext cx="152280" cy="766800"/>
            <a:chOff x="3429000" y="4648320"/>
            <a:chExt cx="152280" cy="766800"/>
          </a:xfrm>
        </p:grpSpPr>
        <p:sp>
          <p:nvSpPr>
            <p:cNvPr id="208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5262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76800" y="4500720"/>
            <a:ext cx="157320" cy="1071360"/>
            <a:chOff x="5176800" y="4500720"/>
            <a:chExt cx="157320" cy="1071360"/>
          </a:xfrm>
        </p:grpSpPr>
        <p:sp>
          <p:nvSpPr>
            <p:cNvPr id="211" name=""/>
            <p:cNvSpPr/>
            <p:nvPr/>
          </p:nvSpPr>
          <p:spPr>
            <a:xfrm>
              <a:off x="5181480" y="4962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1480" y="4500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76800" y="5419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76800" y="4500720"/>
            <a:ext cx="1986120" cy="1071360"/>
            <a:chOff x="5176800" y="4500720"/>
            <a:chExt cx="1986120" cy="1071360"/>
          </a:xfrm>
        </p:grpSpPr>
        <p:sp>
          <p:nvSpPr>
            <p:cNvPr id="215" name=""/>
            <p:cNvSpPr/>
            <p:nvPr/>
          </p:nvSpPr>
          <p:spPr>
            <a:xfrm>
              <a:off x="7010280" y="4962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1480" y="4500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76800" y="5419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lac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les, buffers, control places (active, done, ...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ransition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components, control transi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cs from places to transitions (Place is input place of transition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cs from transitions to places (Place is output place of transition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oken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ul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 transition is activated if all input places are filled with tokens and all output places have not reached their maximum capacity of toke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efinement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 transition can be replaced by a Petri Ne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6002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9810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" y="2362320"/>
            <a:ext cx="762120" cy="228600"/>
            <a:chOff x="685800" y="2362320"/>
            <a:chExt cx="762120" cy="228600"/>
          </a:xfrm>
        </p:grpSpPr>
        <p:sp>
          <p:nvSpPr>
            <p:cNvPr id="224" name=""/>
            <p:cNvSpPr/>
            <p:nvPr/>
          </p:nvSpPr>
          <p:spPr>
            <a:xfrm>
              <a:off x="685800" y="236232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9320" y="2362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4" idx="6"/>
              <a:endCxn id="225" idx="1"/>
            </p:cNvCxnSpPr>
            <p:nvPr/>
          </p:nvCxnSpPr>
          <p:spPr>
            <a:xfrm>
              <a:off x="914040" y="2476080"/>
              <a:ext cx="305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227" name=""/>
          <p:cNvGrpSpPr/>
          <p:nvPr/>
        </p:nvGrpSpPr>
        <p:grpSpPr>
          <a:xfrm>
            <a:off x="685800" y="2743200"/>
            <a:ext cx="762120" cy="228600"/>
            <a:chOff x="685800" y="2743200"/>
            <a:chExt cx="762120" cy="228600"/>
          </a:xfrm>
        </p:grpSpPr>
        <p:sp>
          <p:nvSpPr>
            <p:cNvPr id="228" name=""/>
            <p:cNvSpPr/>
            <p:nvPr/>
          </p:nvSpPr>
          <p:spPr>
            <a:xfrm>
              <a:off x="68580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27432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28" idx="3"/>
              <a:endCxn id="229" idx="2"/>
            </p:cNvCxnSpPr>
            <p:nvPr/>
          </p:nvCxnSpPr>
          <p:spPr>
            <a:xfrm>
              <a:off x="914040" y="2856960"/>
              <a:ext cx="305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br>
              <a:rPr sz="2000"/>
            </a:br>
            <a:r>
              <a:rPr b="1" lang="en-US" sz="1200" spc="-1" strike="noStrike">
                <a:solidFill>
                  <a:srgbClr val="000000"/>
                </a:solidFill>
                <a:latin typeface="Frutiger 45 Light"/>
              </a:rPr>
              <a:t>(from </a:t>
            </a:r>
            <a:r>
              <a:rPr b="1" i="1" lang="en-US" sz="1200" spc="-1" strike="noStrike">
                <a:solidFill>
                  <a:srgbClr val="000000"/>
                </a:solidFill>
                <a:latin typeface="Frutiger 45 Light"/>
              </a:rPr>
              <a:t>van der Aalst und Kumar, 2000</a:t>
            </a:r>
            <a:r>
              <a:rPr b="1" lang="en-US" sz="1200" spc="-1" strike="noStrike">
                <a:solidFill>
                  <a:srgbClr val="000000"/>
                </a:solidFill>
                <a:latin typeface="Frutiger 45 Light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ask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quence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hoice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735360" cy="65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3872160" cy="646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39625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ondi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934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arallel execution with synchroniza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4067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4002120" cy="2921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arallel execution without synchroniza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ait all with time ou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9196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ait any with time ou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79260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hile … do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8610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Description of Petri Nets in XM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193680"/>
                <a:tab algn="l" pos="379440"/>
                <a:tab algn="l" pos="573120"/>
                <a:tab algn="l" pos="266400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NM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P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tri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t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M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kup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nguag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(modified from </a:t>
            </a:r>
            <a:r>
              <a:rPr b="0" i="1" lang="en-US" sz="1500" spc="-1" strike="noStrike">
                <a:solidFill>
                  <a:srgbClr val="000000"/>
                </a:solidFill>
                <a:latin typeface="Frutiger 55 Roman"/>
              </a:rPr>
              <a:t>Jüngel, Kindler, Weber; HU-Berlin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193680"/>
                <a:tab algn="l" pos="379440"/>
                <a:tab algn="l" pos="573120"/>
                <a:tab algn="l" pos="266400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nitialMarking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value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o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q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nitialMarking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1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2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2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Ref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41148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41148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7" idx="3"/>
            <a:endCxn id="256" idx="2"/>
          </p:cNvCxnSpPr>
          <p:nvPr/>
        </p:nvCxnSpPr>
        <p:spPr>
          <a:xfrm>
            <a:off x="6705720" y="426672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1" name=""/>
          <p:cNvCxnSpPr>
            <a:stCxn id="258" idx="6"/>
            <a:endCxn id="257" idx="1"/>
          </p:cNvCxnSpPr>
          <p:nvPr/>
        </p:nvCxnSpPr>
        <p:spPr>
          <a:xfrm>
            <a:off x="5334120" y="426672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464832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Fraunhofer Resource Grid –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Application Definition Language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8280" y="1795320"/>
            <a:ext cx="5051160" cy="32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24"/>
              </a:lnSpc>
              <a:spcAft>
                <a:spcPts val="1001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rid {Resource, Job, Interface, Data} Definition Language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001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ersion 0.2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ndreas Hoheisel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(andreas.hoheisel@first.fraunhofer.de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338280" y="179532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92280" y="519264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first_c" descr=""/>
          <p:cNvPicPr/>
          <p:nvPr/>
        </p:nvPicPr>
        <p:blipFill>
          <a:blip r:embed="rId1"/>
          <a:stretch/>
        </p:blipFill>
        <p:spPr>
          <a:xfrm>
            <a:off x="2666880" y="5486400"/>
            <a:ext cx="163224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85800" y="3429000"/>
          <a:ext cx="2514600" cy="16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429000"/>
                    <a:ext cx="25146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5800" y="5334120"/>
          <a:ext cx="160020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334120"/>
                    <a:ext cx="1600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gjdl0_2_fhrgJob" descr=""/>
          <p:cNvPicPr/>
          <p:nvPr/>
        </p:nvPicPr>
        <p:blipFill>
          <a:blip r:embed="rId1"/>
          <a:stretch/>
        </p:blipFill>
        <p:spPr>
          <a:xfrm>
            <a:off x="3352680" y="879480"/>
            <a:ext cx="4262400" cy="4754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GJobD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66" name=""/>
          <p:cNvSpPr/>
          <p:nvPr/>
        </p:nvSpPr>
        <p:spPr>
          <a:xfrm>
            <a:off x="19000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856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5680" y="38098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8520" y="36576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38520" y="45720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38520" y="41148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1240" y="4038480"/>
            <a:ext cx="618840" cy="18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290600" y="4319280"/>
            <a:ext cx="609480" cy="26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209680" y="3890520"/>
            <a:ext cx="542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14720" y="4276800"/>
            <a:ext cx="52380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5000" y="4357800"/>
            <a:ext cx="53352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62000" y="3886200"/>
            <a:ext cx="152280" cy="766800"/>
            <a:chOff x="1062000" y="3886200"/>
            <a:chExt cx="152280" cy="766800"/>
          </a:xfrm>
        </p:grpSpPr>
        <p:sp>
          <p:nvSpPr>
            <p:cNvPr id="278" name=""/>
            <p:cNvSpPr/>
            <p:nvPr/>
          </p:nvSpPr>
          <p:spPr>
            <a:xfrm>
              <a:off x="106200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2000" y="4500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FTP with Petri Nets in the GJobD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2590920"/>
            <a:ext cx="13716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2" idx="3"/>
            <a:endCxn id="281" idx="2"/>
          </p:cNvCxnSpPr>
          <p:nvPr/>
        </p:nvCxnSpPr>
        <p:spPr>
          <a:xfrm>
            <a:off x="6705720" y="274284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>
            <a:stCxn id="283" idx="6"/>
            <a:endCxn id="282" idx="1"/>
          </p:cNvCxnSpPr>
          <p:nvPr/>
        </p:nvCxnSpPr>
        <p:spPr>
          <a:xfrm>
            <a:off x="3048120" y="2742840"/>
            <a:ext cx="228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1752480" y="2133720"/>
            <a:ext cx="175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remot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220968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1600200"/>
            <a:ext cx="533520" cy="380988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403848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114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3"/>
            <a:endCxn id="290" idx="2"/>
          </p:cNvCxnSpPr>
          <p:nvPr/>
        </p:nvCxnSpPr>
        <p:spPr>
          <a:xfrm>
            <a:off x="6705720" y="419076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95" name=""/>
          <p:cNvCxnSpPr>
            <a:stCxn id="292" idx="6"/>
            <a:endCxn id="296" idx="1"/>
          </p:cNvCxnSpPr>
          <p:nvPr/>
        </p:nvCxnSpPr>
        <p:spPr>
          <a:xfrm>
            <a:off x="3048120" y="4190760"/>
            <a:ext cx="38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97" name=""/>
          <p:cNvSpPr/>
          <p:nvPr/>
        </p:nvSpPr>
        <p:spPr>
          <a:xfrm>
            <a:off x="1752480" y="3581280"/>
            <a:ext cx="175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remot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3657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038480"/>
            <a:ext cx="9907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rid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3"/>
            <a:endCxn id="300" idx="2"/>
          </p:cNvCxnSpPr>
          <p:nvPr/>
        </p:nvCxnSpPr>
        <p:spPr>
          <a:xfrm>
            <a:off x="4419720" y="419076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0" name=""/>
          <p:cNvSpPr/>
          <p:nvPr/>
        </p:nvSpPr>
        <p:spPr>
          <a:xfrm>
            <a:off x="472428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0" idx="6"/>
            <a:endCxn id="291" idx="1"/>
          </p:cNvCxnSpPr>
          <p:nvPr/>
        </p:nvCxnSpPr>
        <p:spPr>
          <a:xfrm>
            <a:off x="5028840" y="4190760"/>
            <a:ext cx="305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2" name=""/>
          <p:cNvSpPr/>
          <p:nvPr/>
        </p:nvSpPr>
        <p:spPr>
          <a:xfrm>
            <a:off x="4114800" y="3657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590920"/>
            <a:ext cx="914400" cy="1904760"/>
          </a:xfrm>
          <a:custGeom>
            <a:avLst/>
            <a:gdLst>
              <a:gd name="textAreaLeft" fmla="*/ 122400 w 914400"/>
              <a:gd name="textAreaRight" fmla="*/ 792000 w 91440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More Information: </a:t>
            </a: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http://www.fhrg.fhg.d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mailto:andreas.hoheisel@first.fhg.de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pic>
        <p:nvPicPr>
          <p:cNvPr id="305" name="australian_grid_200100835_0640x0427" descr=""/>
          <p:cNvPicPr/>
          <p:nvPr/>
        </p:nvPicPr>
        <p:blipFill>
          <a:blip r:embed="rId1"/>
          <a:stretch/>
        </p:blipFill>
        <p:spPr>
          <a:xfrm>
            <a:off x="692280" y="1627200"/>
            <a:ext cx="59720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Fraunhofer Resource Grid (FhRG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Challenge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velopment and implementation of a stable and robust grid infrastructure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layer on top of Globus to enable fast realizations of distributed applica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ntegration of available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67992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76520" y="3200400"/>
          <a:ext cx="17143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200400"/>
                    <a:ext cx="1714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articipating Fraunhofer Institut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4114800"/>
          <a:ext cx="102852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114800"/>
                    <a:ext cx="10285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76520" y="1523880"/>
          <a:ext cx="1162080" cy="7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523880"/>
                    <a:ext cx="11620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676520" y="5000760"/>
          <a:ext cx="1285920" cy="71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5000760"/>
                    <a:ext cx="1285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676520" y="2362320"/>
          <a:ext cx="1114200" cy="71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6520" y="2362320"/>
                    <a:ext cx="1114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V="1">
            <a:off x="5921280" y="2403000"/>
            <a:ext cx="1457280" cy="2149560"/>
          </a:xfrm>
          <a:prstGeom prst="line">
            <a:avLst/>
          </a:prstGeom>
          <a:ln w="72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38880" y="2394000"/>
            <a:ext cx="1939680" cy="1641600"/>
          </a:xfrm>
          <a:prstGeom prst="line">
            <a:avLst/>
          </a:prstGeom>
          <a:ln w="90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402160" y="4079520"/>
            <a:ext cx="519120" cy="453960"/>
          </a:xfrm>
          <a:prstGeom prst="line">
            <a:avLst/>
          </a:prstGeom>
          <a:ln w="72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84760" y="3963960"/>
            <a:ext cx="228600" cy="561960"/>
          </a:xfrm>
          <a:prstGeom prst="line">
            <a:avLst/>
          </a:prstGeom>
          <a:ln w="7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93880" y="3963960"/>
            <a:ext cx="244440" cy="115920"/>
          </a:xfrm>
          <a:prstGeom prst="line">
            <a:avLst/>
          </a:prstGeom>
          <a:ln w="36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0880" y="4017960"/>
            <a:ext cx="1173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73760" y="4486320"/>
            <a:ext cx="1159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15000" y="2438280"/>
            <a:ext cx="1600200" cy="1486080"/>
          </a:xfrm>
          <a:prstGeom prst="line">
            <a:avLst/>
          </a:prstGeom>
          <a:ln w="63360">
            <a:solidFill>
              <a:srgbClr val="ffa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6720" y="3906720"/>
            <a:ext cx="1159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9360" y="2333520"/>
            <a:ext cx="1173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Application Definition Language (GA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A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t of XML-based description languages needed to define and to execute grid applica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e GADL consists 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Resource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Job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grid job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t of resources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+ workflow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InterfaceDL</a:t>
            </a: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nterface definition of software components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DataDL</a:t>
            </a: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0080" y="4419720"/>
            <a:ext cx="76212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143000"/>
            <a:ext cx="266688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1371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175248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1371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167652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16002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29528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981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16002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160020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543800" y="1905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391160" y="1523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92432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70160" y="121932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438280"/>
            <a:ext cx="3657600" cy="12956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Resourc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456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0574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85840" y="2514600"/>
            <a:ext cx="213372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733920"/>
            <a:ext cx="609480" cy="1218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43400" y="441936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191120"/>
            <a:ext cx="1143000" cy="533160"/>
          </a:xfrm>
          <a:prstGeom prst="ellipse">
            <a:avLst/>
          </a:prstGeom>
          <a:solidFill>
            <a:srgbClr val="ffa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Job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1932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4038480"/>
            <a:ext cx="182880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Interfac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648320"/>
            <a:ext cx="150480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Data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438280" y="3581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447920"/>
            <a:ext cx="685800" cy="6094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4952880"/>
            <a:ext cx="1600200" cy="609840"/>
          </a:xfrm>
          <a:prstGeom prst="rect">
            <a:avLst/>
          </a:prstGeom>
          <a:solidFill>
            <a:srgbClr val="ffa8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Job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4952880"/>
            <a:ext cx="1752840" cy="609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Job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629400" y="2666880"/>
            <a:ext cx="0" cy="228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3581280"/>
            <a:ext cx="914400" cy="4572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286000"/>
            <a:ext cx="2514600" cy="380880"/>
          </a:xfrm>
          <a:prstGeom prst="rect">
            <a:avLst/>
          </a:prstGeom>
          <a:solidFill>
            <a:srgbClr val="00ff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LOBUS 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886200"/>
            <a:ext cx="1981440" cy="5335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Resourc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330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MDS, 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67560" y="30160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ADL: Grid Resource Definition Language (GResource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Resource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language for categorization and  description of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Used to select suitable resources to solve a given problem (task mapping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finition of dependencies between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xtension of resource descriptions with inheritance allows formulation of recursive descriptions 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Everything is a resource!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component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Hardware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Measuring devic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esourceDL example that depends on other resourc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?xml version="1.0" encoding="ISO-8859-1" ?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!DOCTYPE fhrgResources</a:t>
            </a:r>
            <a:r>
              <a:rPr b="1" i="1" lang="en-US" sz="1500" spc="-1" strike="noStrike">
                <a:solidFill>
                  <a:srgbClr val="0000ff"/>
                </a:solidFill>
                <a:latin typeface="Courier New"/>
              </a:rPr>
              <a:t> (View Source for full doctype...)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pend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nux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libc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8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84320" y="2324160"/>
            <a:ext cx="5505120" cy="685800"/>
            <a:chOff x="2884320" y="2324160"/>
            <a:chExt cx="5505120" cy="685800"/>
          </a:xfrm>
        </p:grpSpPr>
        <p:sp>
          <p:nvSpPr>
            <p:cNvPr id="176" name=""/>
            <p:cNvSpPr/>
            <p:nvPr/>
          </p:nvSpPr>
          <p:spPr>
            <a:xfrm>
              <a:off x="2884320" y="2629080"/>
              <a:ext cx="126180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82600" y="2324160"/>
              <a:ext cx="2706840" cy="609480"/>
            </a:xfr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ourier New"/>
                </a:rPr>
                <a:t>depends, conflicts, provides, sugg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esourceDL example that provides other resourc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?xml version="1.0" encoding="ISO-8859-1" ?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!DOCTYPE fhrgResources</a:t>
            </a:r>
            <a:r>
              <a:rPr b="1" i="1" lang="en-US" sz="1500" spc="-1" strike="noStrike">
                <a:solidFill>
                  <a:srgbClr val="0000ff"/>
                </a:solidFill>
                <a:latin typeface="Courier New"/>
              </a:rPr>
              <a:t> (View Source for full doctype...)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-fhrg-first_harlekin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vid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8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etwork-ethernet-100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nux-kernel-2-4-18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libc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authorization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userGroup id="all" read="true" write="false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userGroup id="first" read="true" write="true" execute="true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/authorization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3:29:30Z</dcterms:created>
  <dc:creator>Andreas Hoheisel</dc:creator>
  <dc:description/>
  <dc:language>en-US</dc:language>
  <cp:lastModifiedBy>Andreas Hoheisel</cp:lastModifiedBy>
  <cp:lastPrinted>1997-11-19T15:29:38Z</cp:lastPrinted>
  <dcterms:modified xsi:type="dcterms:W3CDTF">2002-07-23T12:11:55Z</dcterms:modified>
  <cp:revision>117</cp:revision>
  <dc:subject/>
  <dc:title>Fraunhofer Resource Grid – Grid Definition Language</dc:title>
</cp:coreProperties>
</file>