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140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1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78400"/>
            <a:ext cx="76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" name="NASlogo" descr=""/>
          <p:cNvPicPr/>
          <p:nvPr/>
        </p:nvPicPr>
        <p:blipFill>
          <a:blip r:embed="rId2"/>
          <a:stretch/>
        </p:blipFill>
        <p:spPr>
          <a:xfrm>
            <a:off x="304920" y="6210360"/>
            <a:ext cx="422280" cy="571320"/>
          </a:xfrm>
          <a:prstGeom prst="rect">
            <a:avLst/>
          </a:prstGeom>
          <a:ln w="0">
            <a:noFill/>
          </a:ln>
        </p:spPr>
      </p:pic>
      <p:pic>
        <p:nvPicPr>
          <p:cNvPr id="4" name="ames.logo" descr=""/>
          <p:cNvPicPr/>
          <p:nvPr/>
        </p:nvPicPr>
        <p:blipFill>
          <a:blip r:embed="rId3"/>
          <a:stretch/>
        </p:blipFill>
        <p:spPr>
          <a:xfrm>
            <a:off x="8458200" y="6194520"/>
            <a:ext cx="5256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2920" y="3087720"/>
            <a:ext cx="52578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000"/>
                </a:solidFill>
                <a:latin typeface="Comic Sans MS"/>
              </a:rPr>
              <a:t>Piyush Mehrotra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Comic Sans MS"/>
              </a:rPr>
              <a:t>NASA Ames Research Center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572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Perpetua"/>
              </a:rPr>
              <a:t>Application Metadata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Perpetua"/>
              </a:rPr>
              <a:t>&amp;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Perpetua"/>
              </a:rPr>
              <a:t>Workflow Managemen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" name="NASlogo" descr=""/>
          <p:cNvPicPr/>
          <p:nvPr/>
        </p:nvPicPr>
        <p:blipFill>
          <a:blip r:embed="rId1"/>
          <a:stretch/>
        </p:blipFill>
        <p:spPr>
          <a:xfrm>
            <a:off x="304920" y="5867280"/>
            <a:ext cx="538200" cy="727200"/>
          </a:xfrm>
          <a:prstGeom prst="rect">
            <a:avLst/>
          </a:prstGeom>
          <a:ln w="0">
            <a:noFill/>
          </a:ln>
        </p:spPr>
      </p:pic>
      <p:pic>
        <p:nvPicPr>
          <p:cNvPr id="44" name="ames.logo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700200" cy="762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380880" y="5410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Perpetua"/>
              </a:rPr>
              <a:t>July 23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Perpetua"/>
              </a:rPr>
              <a:t>GGF5 Edinburgh, U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87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Ilab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(Maurice Yarrow, Karen McCann, A. DeVivo, NASA Ames Research Center 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4120" y="2095560"/>
          <a:ext cx="3429000" cy="360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95560"/>
                    <a:ext cx="34290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ed_param2" descr=""/>
          <p:cNvPicPr/>
          <p:nvPr/>
        </p:nvPicPr>
        <p:blipFill>
          <a:blip r:embed="rId3"/>
          <a:stretch/>
        </p:blipFill>
        <p:spPr>
          <a:xfrm>
            <a:off x="152280" y="1587600"/>
            <a:ext cx="3924360" cy="3124080"/>
          </a:xfrm>
          <a:prstGeom prst="rect">
            <a:avLst/>
          </a:prstGeom>
          <a:ln w="0">
            <a:noFill/>
          </a:ln>
        </p:spPr>
      </p:pic>
      <p:pic>
        <p:nvPicPr>
          <p:cNvPr id="117" name="param_enter" descr=""/>
          <p:cNvPicPr/>
          <p:nvPr/>
        </p:nvPicPr>
        <p:blipFill>
          <a:blip r:embed="rId4"/>
          <a:stretch/>
        </p:blipFill>
        <p:spPr>
          <a:xfrm>
            <a:off x="2362320" y="2095560"/>
            <a:ext cx="2485800" cy="995400"/>
          </a:xfrm>
          <a:prstGeom prst="rect">
            <a:avLst/>
          </a:prstGeom>
          <a:ln w="0">
            <a:noFill/>
          </a:ln>
        </p:spPr>
      </p:pic>
      <p:pic>
        <p:nvPicPr>
          <p:cNvPr id="118" name="job_monitor1" descr=""/>
          <p:cNvPicPr/>
          <p:nvPr/>
        </p:nvPicPr>
        <p:blipFill>
          <a:blip r:embed="rId5"/>
          <a:stretch/>
        </p:blipFill>
        <p:spPr>
          <a:xfrm>
            <a:off x="977760" y="3365640"/>
            <a:ext cx="4086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Ilab: Experiment Creation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154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)  Specify names for “Experiment”, remote super-directory, and remote machine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)  Specify input file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)  Parameterize input file(s) with built-in parameterizer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)  Specify Process data, executable name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resource requirement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scheduler, if any  (currently PBS supported, LSF coming)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metacomputing environment, if any  (currently Globus, Condor supported)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parallel setting and launcher, if any   (mpirun currently supported)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)  Specify output files to be archived, if any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)  Move to next process, if any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7)  Submit and monitor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Ilab: Experiment/Process Object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22" name="ILAB_struct" descr=""/>
          <p:cNvPicPr/>
          <p:nvPr/>
        </p:nvPicPr>
        <p:blipFill>
          <a:blip r:embed="rId1"/>
          <a:stretch/>
        </p:blipFill>
        <p:spPr>
          <a:xfrm>
            <a:off x="1930320" y="1171440"/>
            <a:ext cx="46227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Ilab: Experiment Managment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)  Generates parameterized input file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)  Generates shell script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local script (controller script)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remote scripts      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) Submits local script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) Local script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selects target machine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migrates and submits remote scripts 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)  Remote script (one for each job)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creates subdirectory for run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pulls required files and executables from source location(s)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runs executable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 archive output if requested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Presenter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omasz Haupt, Mississippi State University, USA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eoffrey Fox, Indiana University, USA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Mathew Shields, Cardiff University, UK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Thomas Fahringer, University of Vienna, Austria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Andreas Hoheisel, Fraunhofer Resource Grid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ietmar Erwin, Juelich, Germany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Keith Jackson, Lawrence Berkley Labs, USA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Gregor von Laszewski, Argonne National Labs, USA 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Dennis Gannon, Indiana University, USA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Piyush Mehrotra, NASA Ames Research Center, USA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urther Step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676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White paper - Survey of “best” practices – October 2002 GGF6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Gather application metadata requirements from: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best practices as followed by project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application group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Further Step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Application metadata specification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Are current approaches adequate?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WSFL, 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Xlang,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Many project specific approaches in the Grid community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Extensions or new?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Workflow engine: protocols/APIs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Interfaces: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Invocation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Monitoring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ontrol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Interaction with 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iscovery registries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Resource Brokers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Job Managers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orkflow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6400" y="144756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Workflow has been the focus of the commercial world for sometime - using software to automate a business process which has been mostly been done by humans: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84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The automation of a business process, in whole or part, during which documents, information or tasks are passed from one participant to another for action, according to a set of procedural rules.”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1" marL="842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- WfMC – Workflow Management Council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1" marL="84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Focus of workflow in the grid environment is on the “software process” and automating the optimal management of the control and data flow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orkflow on the Grid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Focused </a:t>
            </a:r>
            <a:r>
              <a:rPr b="0" lang="en-US" sz="2400" spc="-1" strike="noStrike" u="sng">
                <a:solidFill>
                  <a:srgbClr val="010000"/>
                </a:solidFill>
                <a:uFillTx/>
                <a:latin typeface="Comic Sans MS"/>
              </a:rPr>
              <a:t>more</a:t>
            </a: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 on the “sequence” of software tasks and their interactions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High performance: both computation and data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Long running simulations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Large data sets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Optimal usage of the underlying resources while minimizing the total turn-around time of the whole application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But many commonalties with business workflow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Many examples in the grid community– every one has there own name for it: 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000"/>
                </a:solidFill>
                <a:latin typeface="Comic Sans MS"/>
              </a:rPr>
              <a:t>application descriptor, job, task, choreographing, coordination</a:t>
            </a: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, </a:t>
            </a:r>
            <a:r>
              <a:rPr b="0" i="1" lang="en-US" sz="2000" spc="-1" strike="noStrike">
                <a:solidFill>
                  <a:srgbClr val="010000"/>
                </a:solidFill>
                <a:latin typeface="Comic Sans MS"/>
              </a:rPr>
              <a:t>data management workflow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orkflow Specification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The what, how, when and where of the whole proces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Tasks comprising the process along with their inputs and output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Control and data dependencie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Parallelism, pipelining, …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Resources to be used by the task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Other issues: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Hierarchy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Early vs late binding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Projects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Arcade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CRADLE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ILab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GCE perspective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orkflow Management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Interfaces &amp; Functionalities: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Invocation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Manage data &amp; control dependencies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Task selection (optionally executable selection)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Resource selection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Task initiation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Data management – staging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Event generation/logging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Fault management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Monitoring – task status, …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Control &amp; steering – pause, resume, kill, …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Collaboration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10000"/>
                </a:solidFill>
                <a:latin typeface="Comic Sans MS"/>
              </a:rPr>
              <a:t>Will interface with other grid services such as resource brokers, job managers etc to perform its functions)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Workflow Working Group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Propose a Workflow WG within the GCE RG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Products: 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Survey of WF specification and management approaches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WF specification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re current approaches adequate?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WSFL, 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Xlang, VDL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Many project specific approaches in the Grid community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xtensions or new?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WF engine: protocols/APIs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Interfaces: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Invocation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Monitoring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Control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Interaction with 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Discovery registrie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Resource Broker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Job Managers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1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orkflow WG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First steps: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GGF5 BOF on Workflow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Project presentations – will send out email to ferret out projects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Charter approval – start process by email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Question: separate from Application Meta-data WG?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Application Metadata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628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Applications &amp; Testbed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APM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GridRPC – sequencing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Meta-models for “impedance matching”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Service Management framework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Repository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Deployment services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Performance &amp; scheduling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User Service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Accounting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Application Metadata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638360"/>
            <a:ext cx="79628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Composition validation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Execution management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Scheduling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Performance Optimization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QOS guarantees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Accounting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Project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SmartFrog – HP Peter Toft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Meta-models –APM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GridRPC sequencing – APM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Data Grid – Information Retrieval =&gt; workflow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GCE: Further Step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Comic Sans MS"/>
              </a:rPr>
              <a:t>White paper - Survey of “best” practices of projects focusing on:</a:t>
            </a: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The application metadata requirements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Approach to workflow specification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mic Sans MS"/>
              </a:rPr>
              <a:t>Runtime management of workflow</a:t>
            </a: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87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Arcad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(A. Al-Thenayan, M. Zubair, P. Mehrotra, ICASE &amp; Odl Dominion University, VA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8089920" cy="303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Framework for the design and execution of multidisciplinary applications in a distributed environment.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Three-tier architecture: 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1" marL="857160" indent="-285480">
              <a:spcBef>
                <a:spcPts val="45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lient interface, middleware, and resource management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Initial focus on legacy Fortran codes communicating through files.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Visual interface for specifying and monitoring heterogeneous multidisciplinary application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Application Specification: Arcade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78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Application specification based on: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Modules;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0000"/>
                </a:solidFill>
                <a:latin typeface="Comic Sans MS"/>
              </a:rPr>
              <a:t>Normal Module</a:t>
            </a: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 – to specify individual executables along with parameters, inputs, outputs, etc.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0000"/>
                </a:solidFill>
                <a:latin typeface="Comic Sans MS"/>
              </a:rPr>
              <a:t>Hierarchical modules – </a:t>
            </a: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to specify sub-graphs of computation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10000"/>
                </a:solidFill>
                <a:latin typeface="Comic Sans MS"/>
              </a:rPr>
              <a:t>Control-structure modules </a:t>
            </a: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– to specify control structures, if conditions, for loops, while loops, etc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Data dependencies between the modules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Outputs of one module tied to inputs of others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Visual Specification Issue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46040"/>
            <a:ext cx="7772400" cy="134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Mixing data and control flow dependencies causes problems</a:t>
            </a:r>
            <a:endParaRPr b="0" lang="en-US" sz="2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nly data dependencies allowed at any level</a:t>
            </a:r>
            <a:endParaRPr b="0" lang="en-US" sz="2200" spc="-1" strike="noStrike">
              <a:solidFill>
                <a:srgbClr val="01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Hierarchical modules used for control dependency:</a:t>
            </a:r>
            <a:endParaRPr b="0" lang="en-US" sz="2200" spc="-1" strike="noStrike">
              <a:solidFill>
                <a:srgbClr val="01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3440" y="3098880"/>
          <a:ext cx="440856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098880"/>
                    <a:ext cx="4408560" cy="3170160"/>
                  </a:xfrm>
                  <a:prstGeom prst="rect">
                    <a:avLst/>
                  </a:prstGeom>
                  <a:ln w="12600">
                    <a:solidFill>
                      <a:srgbClr val="000066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1984320" y="4262400"/>
            <a:ext cx="1168560" cy="1407960"/>
            <a:chOff x="1984320" y="4262400"/>
            <a:chExt cx="1168560" cy="1407960"/>
          </a:xfrm>
        </p:grpSpPr>
        <p:grpSp>
          <p:nvGrpSpPr>
            <p:cNvPr id="57" name=""/>
            <p:cNvGrpSpPr/>
            <p:nvPr/>
          </p:nvGrpSpPr>
          <p:grpSpPr>
            <a:xfrm>
              <a:off x="2117880" y="4262400"/>
              <a:ext cx="761760" cy="322200"/>
              <a:chOff x="2117880" y="4262400"/>
              <a:chExt cx="761760" cy="322200"/>
            </a:xfrm>
          </p:grpSpPr>
          <p:sp>
            <p:nvSpPr>
              <p:cNvPr id="58" name=""/>
              <p:cNvSpPr/>
              <p:nvPr/>
            </p:nvSpPr>
            <p:spPr>
              <a:xfrm>
                <a:off x="2117880" y="4282920"/>
                <a:ext cx="761760" cy="277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6440" y="4262400"/>
                <a:ext cx="45360" cy="460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476440" y="4538520"/>
                <a:ext cx="45360" cy="460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984320" y="4790880"/>
              <a:ext cx="1034640" cy="322200"/>
              <a:chOff x="1984320" y="4790880"/>
              <a:chExt cx="1034640" cy="322200"/>
            </a:xfrm>
          </p:grpSpPr>
          <p:sp>
            <p:nvSpPr>
              <p:cNvPr id="62" name=""/>
              <p:cNvSpPr/>
              <p:nvPr/>
            </p:nvSpPr>
            <p:spPr>
              <a:xfrm>
                <a:off x="1984320" y="4811400"/>
                <a:ext cx="1034640" cy="277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71400" y="4790880"/>
                <a:ext cx="61920" cy="460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71400" y="5067000"/>
                <a:ext cx="61920" cy="460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498760" y="4562280"/>
              <a:ext cx="0" cy="227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05080" y="4290840"/>
              <a:ext cx="54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Init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39760" y="4811760"/>
              <a:ext cx="111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While_loop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125800" y="5348160"/>
              <a:ext cx="761760" cy="322200"/>
              <a:chOff x="2125800" y="5348160"/>
              <a:chExt cx="761760" cy="322200"/>
            </a:xfrm>
          </p:grpSpPr>
          <p:sp>
            <p:nvSpPr>
              <p:cNvPr id="69" name=""/>
              <p:cNvSpPr/>
              <p:nvPr/>
            </p:nvSpPr>
            <p:spPr>
              <a:xfrm>
                <a:off x="2125800" y="5368680"/>
                <a:ext cx="761760" cy="277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484360" y="5348160"/>
                <a:ext cx="45360" cy="460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484360" y="5624280"/>
                <a:ext cx="45360" cy="46080"/>
              </a:xfrm>
              <a:prstGeom prst="ellipse">
                <a:avLst/>
              </a:prstGeom>
              <a:solidFill>
                <a:srgbClr val="ff66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2498760" y="5089320"/>
              <a:ext cx="0" cy="227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57480" y="5365800"/>
              <a:ext cx="72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Finaliz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71800" y="2869920"/>
            <a:ext cx="6008760" cy="3022920"/>
            <a:chOff x="2971800" y="2869920"/>
            <a:chExt cx="6008760" cy="3022920"/>
          </a:xfrm>
        </p:grpSpPr>
        <p:grpSp>
          <p:nvGrpSpPr>
            <p:cNvPr id="75" name=""/>
            <p:cNvGrpSpPr/>
            <p:nvPr/>
          </p:nvGrpSpPr>
          <p:grpSpPr>
            <a:xfrm>
              <a:off x="4572000" y="2870280"/>
              <a:ext cx="4408560" cy="3022560"/>
              <a:chOff x="4572000" y="2870280"/>
              <a:chExt cx="4408560" cy="3022560"/>
            </a:xfrm>
          </p:grpSpPr>
          <p:graphicFrame>
            <p:nvGraphicFramePr>
              <p:cNvPr id="76" name=""/>
              <p:cNvGraphicFramePr/>
              <p:nvPr/>
            </p:nvGraphicFramePr>
            <p:xfrm>
              <a:off x="4572000" y="2870280"/>
              <a:ext cx="4408560" cy="3022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0" y="2870280"/>
                        <a:ext cx="4408560" cy="302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8" name=""/>
              <p:cNvGrpSpPr/>
              <p:nvPr/>
            </p:nvGrpSpPr>
            <p:grpSpPr>
              <a:xfrm>
                <a:off x="6469200" y="3744720"/>
                <a:ext cx="761760" cy="322200"/>
                <a:chOff x="6469200" y="3744720"/>
                <a:chExt cx="7617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469200" y="3765240"/>
                  <a:ext cx="761760" cy="277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27760" y="3744720"/>
                  <a:ext cx="45360" cy="46080"/>
                </a:xfrm>
                <a:prstGeom prst="ellipse">
                  <a:avLst/>
                </a:prstGeom>
                <a:solidFill>
                  <a:srgbClr val="000066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827760" y="4020840"/>
                  <a:ext cx="45360" cy="46080"/>
                </a:xfrm>
                <a:prstGeom prst="ellipse">
                  <a:avLst/>
                </a:prstGeom>
                <a:solidFill>
                  <a:srgbClr val="ff66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505480" y="4305240"/>
                <a:ext cx="762120" cy="322200"/>
                <a:chOff x="5505480" y="4305240"/>
                <a:chExt cx="762120" cy="3222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05480" y="4325760"/>
                  <a:ext cx="762120" cy="277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864400" y="4305240"/>
                  <a:ext cx="45720" cy="46080"/>
                </a:xfrm>
                <a:prstGeom prst="ellipse">
                  <a:avLst/>
                </a:prstGeom>
                <a:solidFill>
                  <a:srgbClr val="000066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864400" y="4581360"/>
                  <a:ext cx="45720" cy="46080"/>
                </a:xfrm>
                <a:prstGeom prst="ellipse">
                  <a:avLst/>
                </a:prstGeom>
                <a:solidFill>
                  <a:srgbClr val="ff66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7367760" y="4303800"/>
                <a:ext cx="761760" cy="322200"/>
                <a:chOff x="7367760" y="4303800"/>
                <a:chExt cx="761760" cy="3222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7367760" y="4324320"/>
                  <a:ext cx="761760" cy="277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726320" y="4303800"/>
                  <a:ext cx="45360" cy="46080"/>
                </a:xfrm>
                <a:prstGeom prst="ellipse">
                  <a:avLst/>
                </a:prstGeom>
                <a:solidFill>
                  <a:srgbClr val="000066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26320" y="4579920"/>
                  <a:ext cx="45360" cy="46080"/>
                </a:xfrm>
                <a:prstGeom prst="ellipse">
                  <a:avLst/>
                </a:prstGeom>
                <a:solidFill>
                  <a:srgbClr val="ff66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467400" y="5000760"/>
                <a:ext cx="762120" cy="322200"/>
                <a:chOff x="6467400" y="5000760"/>
                <a:chExt cx="762120" cy="3222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467400" y="5021280"/>
                  <a:ext cx="762120" cy="277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826320" y="5000760"/>
                  <a:ext cx="45720" cy="46080"/>
                </a:xfrm>
                <a:prstGeom prst="ellipse">
                  <a:avLst/>
                </a:prstGeom>
                <a:solidFill>
                  <a:srgbClr val="000066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826320" y="5276880"/>
                  <a:ext cx="45720" cy="46080"/>
                </a:xfrm>
                <a:prstGeom prst="ellipse">
                  <a:avLst/>
                </a:prstGeom>
                <a:solidFill>
                  <a:srgbClr val="ff66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 flipH="1">
                <a:off x="5909760" y="4043160"/>
                <a:ext cx="939960" cy="281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50080" y="4043160"/>
                <a:ext cx="876240" cy="281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4400" y="4626000"/>
                <a:ext cx="961920" cy="3747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6850080" y="4603680"/>
                <a:ext cx="876240" cy="417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69200" y="3765600"/>
                <a:ext cx="876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Disc_Init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649840" y="4329000"/>
                <a:ext cx="54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Aero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445520" y="4317840"/>
                <a:ext cx="74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Struct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32560" y="5013360"/>
                <a:ext cx="801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Optim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2971800" y="2869920"/>
              <a:ext cx="1600200" cy="1904760"/>
            </a:xfrm>
            <a:prstGeom prst="line">
              <a:avLst/>
            </a:prstGeom>
            <a:ln w="1260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8120" y="5156280"/>
              <a:ext cx="1523880" cy="73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Arcade: Exection Controller</a:t>
            </a:r>
            <a:endParaRPr b="0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574640"/>
            <a:ext cx="7797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naged the execution of the applic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aunching  jobs based control &amp; data dependenc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viding status information to the user interfa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ault management of the job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87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radle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(Peter Vanderbilt, Ken Gee, Piyush Mehrotra, NASA Ames Research Center )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1758600"/>
            <a:ext cx="8458200" cy="303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65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Infrastructure for (semi)-automatic generation of workflows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65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6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Scenario - User poses the query: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65760" indent="-3657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Comic Sans MS"/>
              </a:rPr>
              <a:t>“</a:t>
            </a:r>
            <a:r>
              <a:rPr b="0" i="1" lang="en-US" sz="2400" spc="-1" strike="noStrike">
                <a:solidFill>
                  <a:srgbClr val="010000"/>
                </a:solidFill>
                <a:latin typeface="Comic Sans MS"/>
              </a:rPr>
              <a:t>Given inputs A, B, and C how do I find out solution X”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65760" indent="-3657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Workflow generator uses a tool repository to generate a solution path - querying the user for choices and additional input when necessary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marL="365760" indent="-36576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Focus of the project: mechanisms for describing the signatures of the tools that go beyond just the data types of the inputs and outputs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radle: Tool Descriptor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mic Sans MS"/>
              </a:rPr>
              <a:t>Registry and discovery of tools is based on tool </a:t>
            </a:r>
            <a:r>
              <a:rPr b="0" i="1" lang="en-US" sz="2400" spc="-1" strike="noStrike">
                <a:solidFill>
                  <a:srgbClr val="010000"/>
                </a:solidFill>
                <a:latin typeface="Comic Sans MS"/>
              </a:rPr>
              <a:t>descriptors:</a:t>
            </a:r>
            <a:endParaRPr b="0" lang="en-US" sz="2400" spc="-1" strike="noStrike">
              <a:solidFill>
                <a:srgbClr val="01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haracteristics:</a:t>
            </a:r>
            <a:endParaRPr b="0" lang="en-US" sz="1800" spc="-1" strike="noStrike">
              <a:solidFill>
                <a:srgbClr val="01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Name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Description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Fidelity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rchitectures supported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here installed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Execution methods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Constraints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1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. . .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lvl="1" marL="713160" indent="-274320">
              <a:lnSpc>
                <a:spcPct val="13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000"/>
                </a:solidFill>
                <a:latin typeface="Comic Sans MS"/>
              </a:rPr>
              <a:t>AppliesTo</a:t>
            </a: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 – set of data types that the tool applies to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lvl="1" marL="713160" indent="-274320">
              <a:lnSpc>
                <a:spcPct val="130000"/>
              </a:lnSpc>
              <a:spcBef>
                <a:spcPts val="499"/>
              </a:spcBef>
              <a:buClr>
                <a:srgbClr val="01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000"/>
                </a:solidFill>
                <a:latin typeface="Comic Sans MS"/>
              </a:rPr>
              <a:t>Inputs/Outputs:</a:t>
            </a:r>
            <a:r>
              <a:rPr b="0" lang="en-US" sz="2000" spc="-1" strike="noStrike">
                <a:solidFill>
                  <a:srgbClr val="010000"/>
                </a:solidFill>
                <a:latin typeface="Comic Sans MS"/>
              </a:rPr>
              <a:t> based on heirarchical combinations of the AppliesTo types</a:t>
            </a: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4076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Cradle: Sample Tool Descriptors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6520" y="1345680"/>
            <a:ext cx="4267080" cy="4953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 fontScale="97000"/>
          </a:bodyPr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ToolDescr {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name : AnsysThermal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ppliesTo : { 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Geometry : GeometryProps, 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nsys : AnsysData,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Freestream : FlowProps,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Material : MaterialProps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%inputs = (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Geometry.Parameters.Length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Geometry.Surface.Grids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Geometry.Surface.HeatFluxDistribution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Freestream.HeatTransferCoefficientCp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Freestream.Temperature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Freestream.Velocity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Material.Emissivity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nsys.Nodes.Volume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nsys.Elements.Volume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%outputs = (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  <a:p>
            <a:pPr marL="21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Geometry.Surface.TemperatureDistribution)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1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057400"/>
            <a:ext cx="3200400" cy="274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ToolDescr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name : AnsysGrid_too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ppliesTo : { Ansys : AnsysData 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%inputs = (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nsys.Gr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%outputs = (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nsys.Nodes.Surfac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nsys.Nodes.Volum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Ansys.Elements.Volum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9:17:08Z</dcterms:created>
  <dc:creator>Piyush Mehrotra</dc:creator>
  <dc:description/>
  <dc:language>en-US</dc:language>
  <cp:lastModifiedBy>Piyush Mehrotra</cp:lastModifiedBy>
  <cp:lastPrinted>1998-07-20T15:29:33Z</cp:lastPrinted>
  <dcterms:modified xsi:type="dcterms:W3CDTF">2002-07-23T03:47:11Z</dcterms:modified>
  <cp:revision>24</cp:revision>
  <dc:subject/>
  <dc:title>PowerPoint Presentation</dc:title>
</cp:coreProperties>
</file>