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A5B3-DB78-4EC7-B486-E4337D4A9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a high-level perspective, I’ll go over the ‘basics’ first.  Then look at the major components—what we used, what the components do, and how they interoperate.  Next I’ll present an overview of our build process, pointing out some of the gotchas.   I’ll next discuss one possible configuration and show how apache and tomcat translate URLs to file system paths.  Then I’ll show some practical ways to start and stop apache and tomcat and end w/ a list of pointers to more inform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20720" y="75096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flipH="1">
            <a:off x="64800" y="6616800"/>
            <a:ext cx="9002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789280" y="6443640"/>
            <a:ext cx="3585960" cy="3358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nkGothic Md BT"/>
              </a:rPr>
              <a:t>GGF July 2002</a:t>
            </a:r>
            <a:endParaRPr b="0" lang="en-US" sz="1600" spc="-1" strike="noStrike">
              <a:solidFill>
                <a:srgbClr val="000000"/>
              </a:solidFill>
              <a:latin typeface="Times New Roman"/>
            </a:endParaRPr>
          </a:p>
        </p:txBody>
      </p:sp>
      <p:grpSp>
        <p:nvGrpSpPr>
          <p:cNvPr id="4" name=""/>
          <p:cNvGrpSpPr/>
          <p:nvPr/>
        </p:nvGrpSpPr>
        <p:grpSpPr>
          <a:xfrm>
            <a:off x="0" y="920880"/>
            <a:ext cx="8972280" cy="799920"/>
            <a:chOff x="0" y="920880"/>
            <a:chExt cx="8972280" cy="799920"/>
          </a:xfrm>
        </p:grpSpPr>
        <p:sp>
          <p:nvSpPr>
            <p:cNvPr id="5" name=""/>
            <p:cNvSpPr/>
            <p:nvPr/>
          </p:nvSpPr>
          <p:spPr>
            <a:xfrm flipH="1">
              <a:off x="0" y="1658880"/>
              <a:ext cx="761184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7677000" y="920880"/>
              <a:ext cx="1295280" cy="799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714320"/>
            <a:ext cx="914400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totype Workflow Manager </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310680" y="3166560"/>
            <a:ext cx="845820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uck McParland, Deb Agarwal, Marcia Perry, Jeevak Kasarkod</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Systems Departmen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nest Orlando Lawrence Berkeley National Laboratory</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2002</a:t>
            </a:r>
            <a:endParaRPr b="0" lang="en-US" sz="2400" spc="-1" strike="noStrike">
              <a:solidFill>
                <a:srgbClr val="000000"/>
              </a:solidFill>
              <a:latin typeface="Times New Roman"/>
            </a:endParaRPr>
          </a:p>
        </p:txBody>
      </p:sp>
      <p:sp>
        <p:nvSpPr>
          <p:cNvPr id="52" name=""/>
          <p:cNvSpPr/>
          <p:nvPr/>
        </p:nvSpPr>
        <p:spPr>
          <a:xfrm>
            <a:off x="685800" y="281304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 (contd.)</a:t>
            </a:r>
            <a:endParaRPr b="0" lang="en-US" sz="4000" spc="-1" strike="noStrike">
              <a:solidFill>
                <a:srgbClr val="000000"/>
              </a:solidFill>
              <a:latin typeface="Times New Roman"/>
            </a:endParaRPr>
          </a:p>
        </p:txBody>
      </p:sp>
      <p:sp>
        <p:nvSpPr>
          <p:cNvPr id="84" name=""/>
          <p:cNvSpPr/>
          <p:nvPr/>
        </p:nvSpPr>
        <p:spPr>
          <a:xfrm>
            <a:off x="1020600" y="2384280"/>
            <a:ext cx="6201000" cy="1459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2"/>
          <p:cNvSpPr>
            <a:spLocks noGrp="1"/>
          </p:cNvSpPr>
          <p:nvPr>
            <p:ph/>
          </p:nvPr>
        </p:nvSpPr>
        <p:spPr>
          <a:xfrm>
            <a:off x="406080" y="1725480"/>
            <a:ext cx="8302680" cy="42674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instances</a:t>
            </a:r>
            <a:endParaRPr b="0" lang="en-US" sz="2000" spc="-1" strike="noStrike">
              <a:solidFill>
                <a:srgbClr val="000000"/>
              </a:solidFill>
              <a:latin typeface="Times New Roman"/>
            </a:endParaRPr>
          </a:p>
        </p:txBody>
      </p:sp>
      <p:sp>
        <p:nvSpPr>
          <p:cNvPr id="86" name=""/>
          <p:cNvSpPr/>
          <p:nvPr/>
        </p:nvSpPr>
        <p:spPr>
          <a:xfrm>
            <a:off x="1173240" y="2536920"/>
            <a:ext cx="6200640" cy="1458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25520" y="2689200"/>
            <a:ext cx="6200640" cy="1459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44840" y="2847960"/>
            <a:ext cx="1300320" cy="2383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0" lang="en-US" sz="2000" spc="-1" strike="noStrike">
              <a:solidFill>
                <a:srgbClr val="000000"/>
              </a:solidFill>
              <a:latin typeface="Times New Roman"/>
            </a:endParaRPr>
          </a:p>
        </p:txBody>
      </p:sp>
      <p:sp>
        <p:nvSpPr>
          <p:cNvPr id="89" name=""/>
          <p:cNvSpPr/>
          <p:nvPr/>
        </p:nvSpPr>
        <p:spPr>
          <a:xfrm>
            <a:off x="4962600" y="3198960"/>
            <a:ext cx="1299960" cy="237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B</a:t>
            </a:r>
            <a:endParaRPr b="0" lang="en-US" sz="2000" spc="-1" strike="noStrike">
              <a:solidFill>
                <a:srgbClr val="000000"/>
              </a:solidFill>
              <a:latin typeface="Times New Roman"/>
            </a:endParaRPr>
          </a:p>
        </p:txBody>
      </p:sp>
      <p:sp>
        <p:nvSpPr>
          <p:cNvPr id="90" name=""/>
          <p:cNvSpPr/>
          <p:nvPr/>
        </p:nvSpPr>
        <p:spPr>
          <a:xfrm>
            <a:off x="2000160" y="3165480"/>
            <a:ext cx="1300320" cy="237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A</a:t>
            </a:r>
            <a:endParaRPr b="0" lang="en-US" sz="2000" spc="-1" strike="noStrike">
              <a:solidFill>
                <a:srgbClr val="000000"/>
              </a:solidFill>
              <a:latin typeface="Times New Roman"/>
            </a:endParaRPr>
          </a:p>
        </p:txBody>
      </p:sp>
      <p:sp>
        <p:nvSpPr>
          <p:cNvPr id="91" name=""/>
          <p:cNvSpPr/>
          <p:nvPr/>
        </p:nvSpPr>
        <p:spPr>
          <a:xfrm>
            <a:off x="4683240" y="3741840"/>
            <a:ext cx="1299960" cy="237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t>
            </a:r>
            <a:endParaRPr b="0" lang="en-US" sz="2000" spc="-1" strike="noStrike">
              <a:solidFill>
                <a:srgbClr val="000000"/>
              </a:solidFill>
              <a:latin typeface="Times New Roman"/>
            </a:endParaRPr>
          </a:p>
        </p:txBody>
      </p:sp>
      <p:sp>
        <p:nvSpPr>
          <p:cNvPr id="92" name=""/>
          <p:cNvSpPr/>
          <p:nvPr/>
        </p:nvSpPr>
        <p:spPr>
          <a:xfrm>
            <a:off x="3040200" y="3597120"/>
            <a:ext cx="1299960" cy="2383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C</a:t>
            </a:r>
            <a:endParaRPr b="0" lang="en-US" sz="2000" spc="-1" strike="noStrike">
              <a:solidFill>
                <a:srgbClr val="000000"/>
              </a:solidFill>
              <a:latin typeface="Times New Roman"/>
            </a:endParaRPr>
          </a:p>
        </p:txBody>
      </p:sp>
      <p:sp>
        <p:nvSpPr>
          <p:cNvPr id="93" name=""/>
          <p:cNvSpPr/>
          <p:nvPr/>
        </p:nvSpPr>
        <p:spPr>
          <a:xfrm>
            <a:off x="4359240" y="3726000"/>
            <a:ext cx="293760" cy="104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776840" y="2976480"/>
            <a:ext cx="743040" cy="146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717640" y="2955960"/>
            <a:ext cx="702000" cy="18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4100040" y="3321000"/>
            <a:ext cx="808200" cy="211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359160" y="3294000"/>
            <a:ext cx="306360" cy="26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96720" y="4400640"/>
            <a:ext cx="1922760" cy="59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atio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99" name=""/>
          <p:cNvSpPr/>
          <p:nvPr/>
        </p:nvSpPr>
        <p:spPr>
          <a:xfrm>
            <a:off x="6512040" y="4711680"/>
            <a:ext cx="1922400" cy="595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atio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100" name=""/>
          <p:cNvSpPr/>
          <p:nvPr/>
        </p:nvSpPr>
        <p:spPr>
          <a:xfrm>
            <a:off x="3073320" y="5195880"/>
            <a:ext cx="1922400" cy="595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 Transf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101" name=""/>
          <p:cNvSpPr/>
          <p:nvPr/>
        </p:nvSpPr>
        <p:spPr>
          <a:xfrm flipH="1">
            <a:off x="1576080" y="3419640"/>
            <a:ext cx="716040" cy="95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43600" y="3465360"/>
            <a:ext cx="1484280" cy="12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38520" y="3889440"/>
            <a:ext cx="382680" cy="123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062960" y="4367160"/>
            <a:ext cx="259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ice interfac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 (contd.)</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istence provided by XML description of baseline workflow instance plus accumulated, logged state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phical, browser-based display of workflow topology with individual activity state inform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lementation (contd.)</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ing with Condor group (U. Wisc) to integrate Condor DAG submissions as a single workflow activity.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 use of existing, well understood DAG sequenc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a single control environment for coordination of smaller DAG and non DAG-based computational tas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SFL workflow sequencing based on each web service returning “standardized” status val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web services must implement such a return status to participate in WSFL workflow mod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ce WSFL allows these activity completion status values to be used in arbitrary ways to trigger subsequent activities, semantics of these values must be coordinated across all activities within a given workflow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 (cont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antics of mapping user job submissions onto web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web service transaction support (i.e. submit this job once and only o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id job submission and execution typically multiple steps (i.e. web services): submit job, poll or wait for completion, evaluate completion statu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se are individual web services, do we expose this complexity to the us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do we incorporate it into the workflow engine thus making some workflow activities “ spe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 (cont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SFL workflow description syntax far too complex for most us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form of simplification or automated generation necessary.  Graphical design tool would be very usefu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nguage complexity makes some form of pre-execution workflow description verification critic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use simple Condor DAG-like task descriptions to automatically generate correct WSFL workflow descri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tu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e workflow engine func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b-based user control and status interfaces under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im Grid job submission services based on Java COG k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1864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acts &amp; Acknowledgement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www-itg.lbl.gov/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pmcparland@lbl.gov</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work was supported by the Mathematical, Information, and Computational Science Division subprogram of the Office of Advanced Scientific Computing Research, U.S. Department of Energy, under </a:t>
            </a:r>
            <a:r>
              <a:rPr b="1" lang="en-US" sz="2800" spc="-1" strike="noStrike">
                <a:solidFill>
                  <a:srgbClr val="000000"/>
                </a:solidFill>
                <a:latin typeface="Times New Roman"/>
                <a:ea typeface="Courier New"/>
              </a:rPr>
              <a:t>Contract DE-AC03-76SF00098 with the University of California</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ganization</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tivation</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rge, persistent computational efforts need workflow management too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based control programs create maintenance problems for their implementers and are often impenetrable for second generation maintain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y research efforts (e.g. 10-20 yrs.) will require training of 2 or more generations of students and post docs. Clarity and documentation of computational tasks impor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vation (cont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 for collaborative control of operational aspects of complex computational effor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collaborations become more distributed, operational aspects of analysis and simulation efforts (e.g. analysis chain monitoring, exception recovery) must do likewi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x7 data analysis operations (e.g. automated supernova searches) require contributed effort from multiple time zones and locatio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ould provide persistent,  high level view of major computing task.</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ose task state information and have control interfaces for high level task control and exception rou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 single view/control of tasks that span multiple grid domains or mixed environments (i.e. grid and non-gri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Therefore, base control of both individual user computing tasks and workflow coordination process via web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 (contd.)</a:t>
            </a:r>
            <a:endParaRPr b="0" lang="en-US" sz="4000" spc="-1" strike="noStrike">
              <a:solidFill>
                <a:srgbClr val="000000"/>
              </a:solidFill>
              <a:latin typeface="Times New Roman"/>
            </a:endParaRPr>
          </a:p>
        </p:txBody>
      </p:sp>
      <p:sp>
        <p:nvSpPr>
          <p:cNvPr id="62" name="PlaceHolder 2"/>
          <p:cNvSpPr>
            <a:spLocks noGrp="1"/>
          </p:cNvSpPr>
          <p:nvPr>
            <p:ph/>
          </p:nvPr>
        </p:nvSpPr>
        <p:spPr>
          <a:xfrm>
            <a:off x="642960" y="17413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Loosely” based on IBM’s WSFL description languag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w real standards from which to choose-WSFL has a published syntax.</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FL offers a web service centric model and (reasonably) developed XML language schema.</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s hierarchical workflow compositions and execution time resource binding through UDDI.</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workflow “life cycle” operations exposed as web services.</a:t>
            </a:r>
            <a:endParaRPr b="0" lang="en-US" sz="24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d interoperability (hopefully).</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cit mechanisms for run-time resource binding and steer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sign (cont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flow model is XML description of user-defined activities and their causal and temporal orde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user-defined workflow activities expressed as instances of web services and their associated WSDL interface descri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executing workflow is an instance of a workflow model with its own state and resource binding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ML-based workflow descriptions and required WSDL files located in workflow mgr. model reposito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istent java-based workflow mgr. instantiates instance of model upon user reques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flow instance can be queried for current state and individual activity sta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and administrative workflow mgr. interactions are performed via web services hosted on standard servlet-based container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 (contd.)</a:t>
            </a:r>
            <a:endParaRPr b="0" lang="en-US" sz="4000" spc="-1" strike="noStrike">
              <a:solidFill>
                <a:srgbClr val="000000"/>
              </a:solidFill>
              <a:latin typeface="Times New Roman"/>
            </a:endParaRPr>
          </a:p>
        </p:txBody>
      </p:sp>
      <p:sp>
        <p:nvSpPr>
          <p:cNvPr id="68" name="PlaceHolder 2"/>
          <p:cNvSpPr>
            <a:spLocks noGrp="1"/>
          </p:cNvSpPr>
          <p:nvPr>
            <p:ph/>
          </p:nvPr>
        </p:nvSpPr>
        <p:spPr>
          <a:xfrm>
            <a:off x="406080" y="1725480"/>
            <a:ext cx="83026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
          <p:cNvSpPr/>
          <p:nvPr/>
        </p:nvSpPr>
        <p:spPr>
          <a:xfrm>
            <a:off x="2478240" y="4718160"/>
            <a:ext cx="1868400" cy="636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30520" y="4870440"/>
            <a:ext cx="1868400" cy="636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782800" y="5022720"/>
            <a:ext cx="1868400" cy="6368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65240" y="4848120"/>
            <a:ext cx="133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instances</a:t>
            </a:r>
            <a:endParaRPr b="0" lang="en-US" sz="2000" spc="-1" strike="noStrike">
              <a:solidFill>
                <a:srgbClr val="000000"/>
              </a:solidFill>
              <a:latin typeface="Times New Roman"/>
            </a:endParaRPr>
          </a:p>
        </p:txBody>
      </p:sp>
      <p:sp>
        <p:nvSpPr>
          <p:cNvPr id="73" name=""/>
          <p:cNvSpPr/>
          <p:nvPr/>
        </p:nvSpPr>
        <p:spPr>
          <a:xfrm>
            <a:off x="6156360" y="2008080"/>
            <a:ext cx="1868400" cy="6368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19440" y="1873080"/>
            <a:ext cx="15368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Model Repository</a:t>
            </a:r>
            <a:endParaRPr b="0" lang="en-US" sz="2000" spc="-1" strike="noStrike">
              <a:solidFill>
                <a:srgbClr val="000000"/>
              </a:solidFill>
              <a:latin typeface="Times New Roman"/>
            </a:endParaRPr>
          </a:p>
        </p:txBody>
      </p:sp>
      <p:sp>
        <p:nvSpPr>
          <p:cNvPr id="75" name=""/>
          <p:cNvSpPr/>
          <p:nvPr/>
        </p:nvSpPr>
        <p:spPr>
          <a:xfrm>
            <a:off x="4386240" y="3379680"/>
            <a:ext cx="3524400" cy="795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Manager</a:t>
            </a:r>
            <a:endParaRPr b="0" lang="en-US" sz="2000" spc="-1" strike="noStrike">
              <a:solidFill>
                <a:srgbClr val="000000"/>
              </a:solidFill>
              <a:latin typeface="Times New Roman"/>
            </a:endParaRPr>
          </a:p>
        </p:txBody>
      </p:sp>
      <p:sp>
        <p:nvSpPr>
          <p:cNvPr id="76" name=""/>
          <p:cNvSpPr/>
          <p:nvPr/>
        </p:nvSpPr>
        <p:spPr>
          <a:xfrm flipH="1">
            <a:off x="6388200" y="2690640"/>
            <a:ext cx="622080" cy="635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4393800" y="4235400"/>
            <a:ext cx="754200" cy="74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41600" y="2438280"/>
            <a:ext cx="1895400" cy="6224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Tomcat)</a:t>
            </a:r>
            <a:endParaRPr b="0" lang="en-US" sz="2000" spc="-1" strike="noStrike">
              <a:solidFill>
                <a:srgbClr val="000000"/>
              </a:solidFill>
              <a:latin typeface="Times New Roman"/>
            </a:endParaRPr>
          </a:p>
        </p:txBody>
      </p:sp>
      <p:sp>
        <p:nvSpPr>
          <p:cNvPr id="79" name=""/>
          <p:cNvSpPr/>
          <p:nvPr/>
        </p:nvSpPr>
        <p:spPr>
          <a:xfrm>
            <a:off x="492120" y="2205000"/>
            <a:ext cx="119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ice Interface</a:t>
            </a:r>
            <a:endParaRPr b="0" lang="en-US" sz="2000" spc="-1" strike="noStrike">
              <a:solidFill>
                <a:srgbClr val="000000"/>
              </a:solidFill>
              <a:latin typeface="Times New Roman"/>
            </a:endParaRPr>
          </a:p>
        </p:txBody>
      </p:sp>
      <p:sp>
        <p:nvSpPr>
          <p:cNvPr id="80" name=""/>
          <p:cNvSpPr/>
          <p:nvPr/>
        </p:nvSpPr>
        <p:spPr>
          <a:xfrm flipH="1" flipV="1">
            <a:off x="3551040" y="2784600"/>
            <a:ext cx="873000" cy="6220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5770440" y="2338560"/>
            <a:ext cx="360360" cy="79200"/>
          </a:xfrm>
          <a:prstGeom prst="line">
            <a:avLst/>
          </a:prstGeom>
          <a:ln w="255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 name=""/>
          <p:cNvSpPr/>
          <p:nvPr/>
        </p:nvSpPr>
        <p:spPr>
          <a:xfrm flipV="1">
            <a:off x="3591000" y="2528640"/>
            <a:ext cx="1143000" cy="21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8:45:59Z</dcterms:created>
  <dc:creator>mperry</dc:creator>
  <dc:description/>
  <dc:language>en-US</dc:language>
  <cp:lastModifiedBy>Keith R. Jackson</cp:lastModifiedBy>
  <dcterms:modified xsi:type="dcterms:W3CDTF">2002-07-23T10:29:35Z</dcterms:modified>
  <cp:revision>352</cp:revision>
  <dc:subject/>
  <dc:title>Apache and Tomcat</dc:title>
</cp:coreProperties>
</file>