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E235-E898-4FBD-8918-3DE8E820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80360"/>
            <a:ext cx="8534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094-6DE9-4FE6-BEFE-97C81D6F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80360"/>
            <a:ext cx="4164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80360"/>
            <a:ext cx="4164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221-EE53-426C-84A4-97E0B4BE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274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914400"/>
            <a:ext cx="274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914400"/>
            <a:ext cx="274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80360"/>
            <a:ext cx="274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80360"/>
            <a:ext cx="274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80360"/>
            <a:ext cx="274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ADF-CA92-4301-AE09-3BC0F48A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442-4422-4644-A7B4-0D9FE4AA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E31-5BF3-4E6B-A523-523E07C8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838-2BD3-4498-BD33-EEA9FC82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FD2-56E6-4574-AA41-3C33A2DC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18B-93B5-4976-B5EC-2CF0C82C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80360"/>
            <a:ext cx="4164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10B-56D7-4DFC-8C63-733597A6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80360"/>
            <a:ext cx="4164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1EB6-7679-43EA-9968-AB1559DF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164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914400"/>
            <a:ext cx="41644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80360"/>
            <a:ext cx="85341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B60-6403-4C4E-9635-E59E494F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1878-AE62-484F-BC16-CA986B30242E}" type="datetime"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7320-091A-4047-9C44-4C434C443B48}" type="slidenum"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G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Interactive Tutorial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) Simple Java and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JavaScript Example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) Dynamic Synchronization in Tango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4953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esented by Geoffrey Fox, Marek Podgorny and T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GO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team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PAC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yracuse Universit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iance ‘98, April 27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‘98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3" name="tango3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16292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ngo Tutorial Simple Examp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FD4-1990-42DE-8B9A-5A9E5483096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0FF0B-98EE-4278-BE55-CAEE8C64B0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 of Simple Examples and Automatic Synchronizat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se foils first discus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Javascrip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Jav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amples in Tango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use a very Simple Chat which involves an HTML form for JavaScrip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is operational Code for these exampl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resentation concludes with discussion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utomatic Synchronization in Tango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particular technology was developed for our sophisticated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WhiteBoard/Dra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ngo Tutorial Simple Examp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206-4732-420C-90C3-6F300C4919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82F3A-24BB-4489-A7A6-73A9CA763D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JavaScript interface to Tango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r simple JavaScript applications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( String 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eive( String )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r integration applications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ltiple Java applets and JavaScript functions on one HTML page and in one Tango sess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avaScript code used as a convenient integration environmen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med channels for different application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bitrary messages exchanged between Java applets (fast/scripted assembly of customized applications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ring messages used for functions handled directly by JavaScript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tring( channel, String )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eiveString( channel, String 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aque byte arrays used for communicating applets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Bytes( channel, byte[ ] )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eiveBytes( channel, byte[ ] )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ngo Tutorial Simple Examp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2AA-0C3B-495C-BFD0-B191F17628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4C908-BFF7-496D-9E9E-6A64E44BDE2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elloWorld for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ang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- JavaScript Application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hat application in pure HTML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ope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angoTemplate.html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file for editing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dd HTML content at will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&lt;form name="chat"&gt;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&lt;input type="text" name="tty" size=18&gt;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&lt;input type="button" value="send”&gt;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&lt;/form&gt;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dd collaboratory functionality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all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ango_send(m)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when Send buttom pressed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nclick=“Tango_send( this.form.tty.value )”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handl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ango_receive(m)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when message arrives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cument.forms.chat.tty.value=m;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gister the application in a Tango ControlApplication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ngo Tutorial Simple Examp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534-1796-4913-8EBD-6DC9CC7E52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0C67E-3B57-49A6-AF80-A766973A07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elloWorld for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ang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- Java Applet (1)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at application in Java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reate any Java class which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ends TangoApple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82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JExamp( ) {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82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= new TextField( );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82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Layout( new BorderLayout( ) );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82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( "North", text);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82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e must add on next foil Collaboratory function for this applet and register it in a Tango Control Application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ngo Tutorial Simple Examp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BAC-94D2-4C9A-98EF-15194A620D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0105B-4A68-4463-975B-4E0003BD9A8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elloWorld for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ang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- Java Applet (2)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dd collaboratory functionality to the previous clas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ll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d( byte[ ] )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when Return pressed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( ( evt.target = = text ) &amp;&amp; ( evt.id = = Event.ACTION_EVENT ) 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d( stringToBytes( text.getText( ) ) );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nd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ive( byte[ ] b )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when data arriv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.setText( bytesToString( b ) );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mbed the applet in an HTML pag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applet codebase="." archive="tm.jar,JExamp.class" code="JExamp.class" width=280 height=33 mayscript&gt;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/applet&gt;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gister the page in a Tango ControlApplica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ngo Tutorial Simple Examp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388-6844-4C09-8236-170FC29219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5652C-F995-4130-952B-2B0941CAEE7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atic synchronization in Tango (1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me applications use dynamically created objec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xistence of which needs to be synchronized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hich themselves need to pass messages and be synchronized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allenges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plicate newly created objects in collaborating application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entify all objects so they can be uniquely addressed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ynchronize all existing objec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anslate object references to different namespac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ssure integrity of the state across the session participan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olution for Tango applets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nchronize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object implements synchronization logic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databl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interface lets automatize synchronizatio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uilt on the top of the basic Tango message passing interfac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ngo Tutorial Simple Examp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C16-9DAE-4722-896F-38D46A4B18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357A7-B469-4AF6-A1F5-66B0D6439B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atic synchronization in Tango (2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plementation of the synchronization mechanism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cts which wish to collaborate implem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abl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interface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StateUpdate( int feature, DataOutputStream update 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State( int feature, DataInputStream update 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is a particular feature which is updated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hen state of an object changes and synchronization is needed, object notifies the synchronization mechanism about the type of change by posting event to 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izer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UpdateEvent( Updatable this, int feature 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ecial feature valu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_CREAT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_DELET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are recognized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rest is taken care by 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izer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ngo Tutorial Simple Examp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61B-1C82-43D7-8C3C-A4DF190610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76EEF-6745-42C7-8578-DA9522F760F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utomatic synchronization in Tango (3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ynchronizer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tasks: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keep database of objects / maintain coherent state across the session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issue global IDs for objects / make translations ID-object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acquires and sends updates / update objects upon receiving updates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datable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tasks: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decide which features shall be updated (at leas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DATE_INIT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implement reading and writing of each feature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notif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ynchronizer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when and which feature has to be updated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ngo Tutorial Simple Examp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E92-CB2D-48F2-AB57-9C46C94D0B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E9CCD-3B57-4BA9-ADD9-5C77D2670E7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6T13:38:33Z</dcterms:created>
  <dc:creator>Tomasz Stachowiak</dc:creator>
  <dc:description/>
  <dc:language>en-US</dc:language>
  <cp:lastModifiedBy>Geoffrey C. Fox</cp:lastModifiedBy>
  <dcterms:modified xsi:type="dcterms:W3CDTF">1998-04-26T01:41:04Z</dcterms:modified>
  <cp:revision>23</cp:revision>
  <dc:subject/>
  <dc:title>JavaScript interface to Tang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