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485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0488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9988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6"/>
          </p:nvPr>
        </p:nvSpPr>
        <p:spPr>
          <a:xfrm>
            <a:off x="399420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BFD9DB-4766-4403-956D-0E635A26D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8637D6-BD92-4F24-BB7F-C84E9BABB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99420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11400" y="704880"/>
            <a:ext cx="4627440" cy="34704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9960" y="4413240"/>
            <a:ext cx="51688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464919-9F84-416D-86BF-CBD6F42A2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99420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11400" y="704880"/>
            <a:ext cx="4627440" cy="34704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39960" y="4413240"/>
            <a:ext cx="51688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8D3E3D-5B00-4E17-996B-759805374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99420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11400" y="704880"/>
            <a:ext cx="4627440" cy="34704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39960" y="4413240"/>
            <a:ext cx="51688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7E79AB-3D7C-4240-A369-23759A109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99420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11400" y="704880"/>
            <a:ext cx="4627440" cy="34704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9960" y="4413240"/>
            <a:ext cx="51688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0F8C68-8220-45AF-91A8-9E4DAA745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99420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11400" y="704880"/>
            <a:ext cx="4627440" cy="34704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39960" y="4413240"/>
            <a:ext cx="51688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CC2601-95E8-42A2-9548-0D11F61E0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99420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11400" y="704880"/>
            <a:ext cx="4627440" cy="34704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39960" y="4413240"/>
            <a:ext cx="51688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226085-6313-4AB0-80F6-DF8C84360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99420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11400" y="704880"/>
            <a:ext cx="4627440" cy="34704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39960" y="4413240"/>
            <a:ext cx="51688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A86CFE-F916-4D4C-A29F-D01F60818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99420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11400" y="704880"/>
            <a:ext cx="4627440" cy="34704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39960" y="4413240"/>
            <a:ext cx="51688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412886-11B0-45A9-83CA-1FEDB2699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99420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11400" y="704880"/>
            <a:ext cx="4627440" cy="3470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9960" y="4413240"/>
            <a:ext cx="51688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1B216-6692-41AC-BEA3-66DD7EF13D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1DE9D-B833-4962-AFA6-38D76C83F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6FC01-67ED-4295-961F-C5F47E3CD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C95EF-421C-48F8-A6BA-45ED9FB138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199D8-862C-4293-98B0-098421127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B447C-7FD9-4F86-8F56-67EC3B91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95802-BBC2-4B39-B8D9-01F6D1A5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FD97D-4730-4EFB-86AA-18EFDA1C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D32E8-2B3C-44EF-957F-C71A4CE4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35F80-F32D-4928-8D6B-062EFD30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F3E1C-1BB7-4ED5-A925-3414199A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005CE-AB25-400D-B511-7A795A7232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29D9B-9D9E-426B-83DD-23B33C78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A4593-34CA-4A8B-9691-E3287B13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7A2CE-1A39-4565-9DDA-F6B4B4F1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215EF-CE74-488E-A3E0-B9583854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96C79-DEBF-4F61-9264-B030EEFE2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8B23F-E040-4FC9-9E39-A72434A177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64A7A-3C74-4EF1-AB7F-4DC6DB5E85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D6FC9-8E39-47E5-B4A7-CC1DCC057D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50346-5D7D-4FE7-97EE-046912762B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88C26-2149-4B8B-9434-E69E187E83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274AF-53BC-4558-B5AE-152963283C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E1944-5741-41A1-859A-C55A9407C4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24680" y="6630840"/>
            <a:ext cx="68580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990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629400" y="662904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5E00-DA37-42C1-BA1D-B5B9D8285BE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FEEB-4AFB-4ACD-8E85-8C728CBFEC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2209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NGO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Interactive Training Session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G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Development Te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PA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racuse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tango1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3581280" cy="2133360"/>
          </a:xfrm>
          <a:prstGeom prst="rect">
            <a:avLst/>
          </a:prstGeom>
          <a:ln w="0">
            <a:noFill/>
          </a:ln>
        </p:spPr>
      </p:pic>
      <p:pic>
        <p:nvPicPr>
          <p:cNvPr id="99" name="tango2" descr=""/>
          <p:cNvPicPr/>
          <p:nvPr/>
        </p:nvPicPr>
        <p:blipFill>
          <a:blip r:embed="rId2"/>
          <a:stretch/>
        </p:blipFill>
        <p:spPr>
          <a:xfrm>
            <a:off x="4952880" y="380880"/>
            <a:ext cx="3810240" cy="205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98142-B259-4654-B5E7-7B946A1F07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urrent capabilities of T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NGO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neral Virtual University Application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rrent WebWisdom hierarchical system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vigating through 20,000 foils and 500 foil set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Raise Hands" Applet to help teacher-student synchronous interactio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ecial Virtual University Application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ared Java applets to teach physics (spring, planets, vector cross product)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ared Java Applets used to teach Java!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ared SmartDesk system aimed at activities useful in special education with built in assessment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6757D-9B80-45F5-85FA-14D1FFEAD3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urrent capabilities of T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NGO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ave some fun with multi-player game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RML2 Ches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tri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thello (Java)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ubric's Cube (Java)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ould develop snakes and ladders and bunch of similar "grid" game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"Other" Application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NGOsim command and control syste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th shared tools (e.g. mapping, weather) to  use in scripted crisis management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D5933-465E-4B2D-9CB7-27B58A6A59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Versions of the T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NGO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system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blic version: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ersion 1.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eta 4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-release version: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ersion 1.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ected May ‘98: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ersion 1.0 for IE 4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ected Summer ‘98: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NGO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pcoming version will be discusse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C58D9-A33A-4807-9C18-C9A0A0B501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NGO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version 1.0 beta 4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ANGO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1.x requires browser plug-i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atible with Netscape Navigator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0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01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 compatible with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.02 and 3.0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due to incoherent security model). There i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G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these versions of the brows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 compatible with MS Internet Explor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NGO 1 use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iveConnect and plug-i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rchitecture. Both these technologie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r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vailable for Internet Explorer, but MS implementation of LiveConnect is not fully compatib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upported platforms: Windows’95/NT, IRIX, Solaris, Linux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D3697-5EC0-4CCD-B6D7-44B80471ED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NGO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version 1.0 beta 4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atible with Netscape Communicator 4.x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ports security models fo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ot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Netscape 3 and Netscape 4 brows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gitally sign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lug-in Java classe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municator version explicitly requires access to privileged operat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ser’s consent necessar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NG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ru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ent  needed only once per sess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system is availabl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ow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rom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http://www.npac.syr.edu/tang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7E794-EC48-4173-8251-6CEC908D6F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NGO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version 1.0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Supports all the same features as T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ANGO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 1.0 beta4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mploy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dified protoco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between the plug-in and the collaboratory serv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w protocol i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compatible with version 1.0 beta4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ngo API is modified (registering application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ocol modifications improve system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reliabil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ersion 1.0 require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-installa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f both server and client softwar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ersion 1.0 will support MS Internet Explorer 4.x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BF44B-9667-4290-A7F7-D4618ACC23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ANGO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Server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va applica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quires JDK 1.1 or high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0% maintenance fre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dustry-strength stabilit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tform-independ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sted on IRIX 5/6, Solaris, Linux, Windows 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ll also run  on Widows’95 (not recommended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vailable for download from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http://www.npac.syr.edu/tang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030B5-0ADF-4E2A-B581-2D5DA979AB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NGO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2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0773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A radically improved version of the entire system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l “lessons learned”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rom TANGO 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ncorporated into design and implement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r more powerful syste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ith many new capabilit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ports the vision of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ectronic communitie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electronic civiliz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e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use plug-in technology, hence no client install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ull asynchronous database suppor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chnical details will be released to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terested parti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3Q98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re system implemented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ow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84DCF-BA22-499B-A680-9D86341F69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NGO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Architecture: Componen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Local Daemon’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main tasks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aintaining two-way communica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between user applications, applets and central serv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unchin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local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assing messag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between applications running on the same nod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ing certain system level functionality not normally available to Java applets, such as file access or print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daemon is implemented as a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lug-i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 Web browsers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daemon is th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nly operating system depend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core part of 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NG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C9D0B-39A6-4570-9367-D0905457581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NGO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Architecture: Componen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53452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Central Serv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s the main communication element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ocal daem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communicate with th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entral serve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ver maintains th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ystem state dat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ve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outes  messag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between applications participating in each sessio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l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pplication protocol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r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paqu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the serv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rrently, 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NG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ystem is restricted to only one collaboratory serv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 easy server switch mechanis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1FBBA-18CE-4CBA-81B6-FA604848D51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Agenda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15364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G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unctionalit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G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urrent Capabiliti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G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Vers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G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omponen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G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pplication Protocol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G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Session Managem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F1506-60E9-4F12-8370-8E53D0B4C6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NGO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Architecture: Componen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Java apple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r applications written in Java,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downloaded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om an HTTP server, and executed in browser environment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munication between Java applets and central server is also maintained by the local daemons. Java applets communicate with local daemon by calling its method func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Local Applications</a:t>
            </a:r>
            <a:r>
              <a:rPr b="1" lang="en-US" sz="2400" spc="-1" strike="noStrike">
                <a:solidFill>
                  <a:srgbClr val="cbcbcb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r applications which run as standalone programs are called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local applicati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Local application may be written in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an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programming languag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municate with the local daemon using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socke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The daemon is responsible for starting these applications and routing messages to and from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ED982-511F-4436-BE2B-FC0C504DF1F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Implementation Detail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0" y="121896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imes New Roman"/>
              </a:rPr>
              <a:t>Daemon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provides a mechanism for TANGO components such as Java applets, central server, JavaScript scripts etc. to talk to each other.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ANGO </a:t>
            </a:r>
            <a:r>
              <a:rPr b="1" lang="en-US" sz="2200" spc="-1" strike="noStrike">
                <a:solidFill>
                  <a:srgbClr val="ffcc00"/>
                </a:solidFill>
                <a:latin typeface="Times New Roman"/>
              </a:rPr>
              <a:t>daemon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has been implemented as a plug-in.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Using </a:t>
            </a:r>
            <a:r>
              <a:rPr b="1" lang="en-US" sz="2200" spc="-1" strike="noStrike">
                <a:solidFill>
                  <a:srgbClr val="ffcc00"/>
                </a:solidFill>
                <a:latin typeface="Times New Roman"/>
              </a:rPr>
              <a:t>LiveConnect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mechanisms, each applet residing in the same page with the plug-in may obtain its handle.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essage passing between plug-in and an applet is achieved by calling appropriate methods of each other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1523880"/>
            <a:ext cx="4484520" cy="495324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3B1C5-E489-4497-B2F9-1A23946E284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NGO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Architecture: Component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57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00"/>
                </a:solidFill>
                <a:latin typeface="Times New Roman"/>
              </a:rPr>
              <a:t>Control Application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 provides TANGO GUI 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Provides uniform application session and floor control for all TANGO applications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spcBef>
                <a:spcPts val="575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Launches applications locally or remotely, creates and connects to existing sessions, exits applications, logs into the system, etc. 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spcBef>
                <a:spcPts val="575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Routes messages between applications on the same node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spcBef>
                <a:spcPts val="575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imes New Roman"/>
              </a:rPr>
              <a:t>Monitors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 distributed system integrity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spcBef>
                <a:spcPts val="575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User interface to the control application </a:t>
            </a:r>
            <a:r>
              <a:rPr b="1" lang="en-US" sz="2300" spc="-1" strike="noStrike">
                <a:solidFill>
                  <a:srgbClr val="ffcc00"/>
                </a:solidFill>
                <a:latin typeface="Times New Roman"/>
              </a:rPr>
              <a:t>auto-adjusts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 to the operating system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CA communicates with the system via LD 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575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The communication between </a:t>
            </a:r>
            <a:r>
              <a:rPr b="1" lang="en-US" sz="2300" spc="-1" strike="noStrike">
                <a:solidFill>
                  <a:srgbClr val="ffcc00"/>
                </a:solidFill>
                <a:latin typeface="Times New Roman"/>
              </a:rPr>
              <a:t>control application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300" spc="-1" strike="noStrike">
                <a:solidFill>
                  <a:srgbClr val="ffcc00"/>
                </a:solidFill>
                <a:latin typeface="Times New Roman"/>
              </a:rPr>
              <a:t>local daemon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 is </a:t>
            </a:r>
            <a:r>
              <a:rPr b="1" lang="en-US" sz="2300" spc="-1" strike="noStrike">
                <a:solidFill>
                  <a:srgbClr val="ffcc00"/>
                </a:solidFill>
                <a:latin typeface="Times New Roman"/>
              </a:rPr>
              <a:t>different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 than in the case of standard Java applets since control application can also generate </a:t>
            </a:r>
            <a:r>
              <a:rPr b="1" lang="en-US" sz="2300" spc="-1" strike="noStrike">
                <a:solidFill>
                  <a:srgbClr val="ffcc00"/>
                </a:solidFill>
                <a:latin typeface="Times New Roman"/>
              </a:rPr>
              <a:t>system messages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0E9BD-0858-462F-9641-B41E7958C39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ango Events and Data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ince TANGO uses central server architecture, there are system scalability concerns.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ystem makes careful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distinction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between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event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data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distribution pathway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550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events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re always distributed via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collaboratory server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550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data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ay be distributed via collaboratory server for thin data stream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550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voluminous data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are either distributed directly between application instances or delivered from  HTTP server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550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eer-to-peer application data exchange may use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multicast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if necessary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550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ertain TANGO applications are therefore implemented as Web browsers for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specialized data types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(e.g., GIS Open Inventor Web browser)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82D44-DF65-4300-9586-FDFD50E806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NGO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Architecture: Media Streams 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257440" y="10666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For scaleability reasons, the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real time multimedia streams are not sent via central server.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Instead, we use a distributed architecture akin to the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Insoft’s OpenDV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he architecture supports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multicast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Session control remains with the TANGO session manager.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ANGO VTC supports stream recording, storage, and retrieval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417680"/>
            <a:ext cx="5181480" cy="5135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FCB97-99C7-48C1-B123-57A57F63C57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Application Protocol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A blueprint for a truly successful collaboratory system does not exist. Hence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ed an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extensible syste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ith very few limitations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stem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must no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define application specific protocols, application programming language, or limit in whatever way functionality of  collaboratory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essence of each collaboratory function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must be defined by applica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nd by application onl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ANGO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 does not define any application protocol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14791-B0E5-4343-933A-1D5E4B0C11F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Application Protocol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0773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sic API requires application developer to implement application protocol conversion to byte stream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re advanced APIs handle more complex situat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port for initial state for ‘latecomers’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change of any complex data structure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isual programming with JavaBea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A6DB9-E9A2-4BA6-BF97-771FCEE21A0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ession Managemen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89917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sess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s a group of application instances currently working together in the collaborative mode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l (and only) applications belonging to the same session exchange information and may share behavior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ow particular application operates in collaborative mode depends on this application characteristics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all sessions there is one master user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ster of the session has special privileges of controlling access of other users to this session and/or controlling the application behavior. The privileges depend on the application type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D7C89-D14D-4315-A91F-FE0A9886BD2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ession Managemen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ster status is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dynamically transferable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loor control allows for both master-master and master-slave relationshi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G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does not restric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he number of concurrent sessions. There may be multiple independent sessions of applications of the same type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ssages from one application compatible with application of another type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will be distributed transparently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3E738-12B4-4C86-8EAF-6E1A99187AE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ession Managemen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urrently supported operations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cal op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mote open (opens an instance on remote machine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lobal and limited remote open (open an instance on a group of machine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ssion joi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cal clos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mote close, including global remote clos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quire and grant session master statu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 implements “intelligent interface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A4A7B-2917-4F22-B597-1E00CD47B67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NGO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Interactive - What it Does?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It lets applications controlled by your browser to talk to  Web application run by other peopl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th few mouse clicks, 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NG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nteractiv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uild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you a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nference room, or a classroom,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using tools from a long list of collaboratory modul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en you have your tools, with another mouse click you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em to your partners’ machin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ybody ca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oi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y of the application sessions,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rab contro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leave,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pen a private channe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creat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nother cha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room,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n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 private or public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essag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play a video other people see, or start and share any “legacy” application…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CF014-6F1C-48AA-B007-65EB7228E4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Product Suppor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eneral ques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rek Podgorny, marek@npac.syr.edu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rchitecture, client setu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onrad Olszewski, konrad@npac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rv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uk Beca, beca@npac.syr.edu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m Jurga (CA), toju@npac, Tom Stachowiak (BV), stach@npac, Remek Trzaska (GIS), remek@npac, Bart Winnowicz (VoD, MS apps), bartw@npac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5714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ttp://www.npac.syr.edu/tang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D644F-08EB-4B88-A09E-96514657A17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NGO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Interactive - What it Does?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ANGO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 turns a web browser into a communication program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oes not limi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s any way current browser functional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amlessl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erg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communication and database acces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es means for sending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ot only dat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but also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ool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thei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isplay and manipul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es complet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llaboratory run-tim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ith powerful session and floor contro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es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pen integration platform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 collaboratory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DCEBA-F24E-4099-8F3A-7D5719DB24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ANGO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Interactive - What Is It?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chnically, it is a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multiparty, multi-session, multiplatform, multimedia collaboratory system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t is also a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software integra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framewor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 support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ny kind of CSCW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but it is particularly well suited fo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istance learnin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pplic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 i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use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ith Web infrastructur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 provides dozens of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ultimedia collaboratory tool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oes no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require an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xpensive infrastructur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beyond a standard PC or Unix workstation and a brows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BFFB1-B35E-4B21-B8A7-75FD04CC92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ystem Architectur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0" y="22856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2" marL="1074240" indent="-214560">
              <a:lnSpc>
                <a:spcPct val="130000"/>
              </a:lnSpc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: Netscape Browser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130000"/>
              </a:lnSpc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D: Local Daem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130000"/>
              </a:lnSpc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: Control Applic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130000"/>
              </a:lnSpc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P: Apple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130000"/>
              </a:lnSpc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: Local Applic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130000"/>
              </a:lnSpc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S: Central Server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130000"/>
              </a:lnSpc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B: Back-end Databas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130000"/>
              </a:lnSpc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TTP: Web server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560376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57164-71F9-4F1B-A2D4-4AD43C1D5F1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Status of T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NGO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 System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t must be competitive with best available collaborative tools and so its multi-language interface allows us to interface to other systems with Tango supplying Integrated Session Control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.g. interfaces to Microsoft NetMeeting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sic model is that of a room which is a group of people getting together for a clas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ngo2 (Summer 98) will support a very powerful persistent multi-room paradigm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ach room supports a collection of shared objects chosen by teacher/students/administrator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5CEAD-8E86-4B21-9998-36B0E85CEB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urrent capabilities of T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NGO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G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supports over 40 applicat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re Collaboration Capabilitie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dio-Video Conferencing multicast between room participant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xt chat rooms with various tradeoffs between "coolness", ease of use etc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ared Browser (Synchronized view of Web Page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ared Web Search (becomes shared database query)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lide Show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ite Board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1B070-CCB9-422D-94B9-C8210D6B02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urrent capabilities of T</a:t>
            </a: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NGO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fice and Authoring Tool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werPoint via shared display or shared Java viewer (collaboration with Net-Scene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crosoft Excel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crosoft Word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ared visual C++ etc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bined Whiteboard/ Java object based PowerPoint like authoring system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ared XEmacs editor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F54C8-9D01-41A5-AC3C-1435030067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4T01:11:54Z</dcterms:created>
  <dc:creator>Marek Podgorny</dc:creator>
  <dc:description/>
  <dc:language>en-US</dc:language>
  <cp:lastModifiedBy>Geoffrey C. Fox</cp:lastModifiedBy>
  <cp:lastPrinted>1998-04-26T01:14:25Z</cp:lastPrinted>
  <dcterms:modified xsi:type="dcterms:W3CDTF">1998-04-26T01:19:06Z</dcterms:modified>
  <cp:revision>48</cp:revision>
  <dc:subject/>
  <dc:title>TANGO for Distance Lear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npac.syr.edu</vt:lpwstr>
  </property>
  <property fmtid="{D5CDD505-2E9C-101B-9397-08002B2CF9AE}" pid="9" name="LinkColor">
    <vt:r8>16711782</vt:r8>
  </property>
  <property fmtid="{D5CDD505-2E9C-101B-9397-08002B2CF9AE}" pid="10" name="MailAddress">
    <vt:lpwstr>gcf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