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8650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13D-7EC5-49FE-B8EF-B138E230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793-86BF-4FDC-91B7-C59010F9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23A-0BB4-434B-BE7C-8745B170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02B-EDAC-4A93-AED5-CE4AD797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53AD-75BA-4319-A36A-3F626EE1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CDBE-EDD7-45A2-B669-2395084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18EB-F134-468E-ABD8-D5DABC8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FFE7-C63B-4EAB-A039-C18E683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44F4-1C0B-4D3D-8C83-D9140161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7C85-A32B-485B-BF14-85BDC05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B18-AE4A-457D-B223-D4616DCE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C82-1B76-4FEA-88E7-1027F518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F83D-FB3A-4198-B28B-C98D2C7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CEF4-6D75-47F2-A29A-0118BBF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B9A2-FC63-4ACF-B94D-ABD38630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5119-9562-409B-81D2-ABDA2BA6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09168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3360" y="165060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09168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3360" y="395928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F76C-1133-436D-BE44-909189E1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F85-74A8-4C26-B03B-9F7EF72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CB5-AC16-4B80-8B1D-EB3D7F2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064-184A-4E57-BD54-FF4D4611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46B-5470-40D5-BAA0-EA0A027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29D-2D05-46B2-B4B5-BAC3A62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395928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D5D-8229-4671-B2B2-CDF4E1A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65060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95928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3C1-8488-48F0-99C2-91D7D3A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38680"/>
            <a:ext cx="8164440" cy="30193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6692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2880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0" y="165060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66680" y="6375240"/>
            <a:ext cx="1905120" cy="3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221F-578F-4256-80EF-C9AF8A14723A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88880" y="6413400"/>
            <a:ext cx="289548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13400"/>
            <a:ext cx="190512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2D7-5180-453F-89DF-1BD0EC3324FF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83960" y="6210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89E5-7AB2-49E7-B795-72AED42B0100}" type="datetime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07/31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193-D774-43AB-8705-3F2838C0E5E4}" type="slidenum"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20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NG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llaboration System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CSA ET Team C Alliance 98 Summary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www.webwisdom.org/papers/jsu/jsuexpt.html (Discusses use in Distance Education)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trurl.npac.syr.edu/tango/ (includes Tango Papers and download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95440" y="393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Univers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A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C3F8-893D-409E-A9D9-7D60FBEAE9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024148-FEA1-4079-803C-522EA83B44C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ango Collaboration System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128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pplet based system us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veConne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plugin with Netscape3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gned Apple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with Netscape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pports general shared event model of collaboration where it can share applications i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va, JavaScript, C, VRML, C++ (Open Inventor), Lisp (emac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ent sharing coordinat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ava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s conventional general too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dio/Video Conferencing, Chat rooms, Whitebo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ed f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mand and contro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re has a simple event driven simulator built i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t extensively used in education -- especially for course betwee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racu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Jackson St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ing JavaScript “guided tour”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Wisdom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king to 22,000 foi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C32-3E63-4386-9A5F-08AD9E6674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AC4D5-E9FD-4C56-807F-DA6C579B57A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4852800"/>
            <a:ext cx="3886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reenshots of Tango Teaching Too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tango-dump2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5029200" cy="4022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6" name="tango-dump1" descr=""/>
          <p:cNvPicPr/>
          <p:nvPr/>
        </p:nvPicPr>
        <p:blipFill>
          <a:blip r:embed="rId2"/>
          <a:stretch/>
        </p:blipFill>
        <p:spPr>
          <a:xfrm>
            <a:off x="0" y="0"/>
            <a:ext cx="5421240" cy="433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6620040" y="249120"/>
            <a:ext cx="19047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Wisd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914400"/>
            <a:ext cx="2286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o Control 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464680" y="1582560"/>
            <a:ext cx="304560" cy="205740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06920" y="2039760"/>
            <a:ext cx="1066680" cy="289584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125680" y="1201680"/>
            <a:ext cx="1662120" cy="17640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21000" y="1735200"/>
            <a:ext cx="1679400" cy="158760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90840" y="442800"/>
            <a:ext cx="3308400" cy="49392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B1A-5E75-4E10-ABBC-489A825AF5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AC564-F46C-4D74-8E21-BC28687D597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w Directions for Tango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ral more courses and tutorials including K-1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recent effort devoted to making syste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re robu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 can be deployed general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 be us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isis Managem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monstration in Ma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 applications include “classic guided tour” and more interesting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hared simula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chanics of springs, plan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jor new enhancements in next 4 month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cti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” Presentations by displaying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werPoi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etc.) on full featured shar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ava whiteboar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kage t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tus Not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 jo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chron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ynchron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ollabor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nkage to JDBC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base backen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or logging of sessions and more powerful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urriculum manageme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oo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re sophisticate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ulti-room customizabl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Tango (2.0) vers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amcjust4foils    http://www.npac.syr.edu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7AA-11B1-4070-9A6C-60100469D1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6DA93-8A34-4986-9E26-1A791FFA22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C. Fox</cp:lastModifiedBy>
  <cp:lastPrinted>1997-10-30T19:09:16Z</cp:lastPrinted>
  <dcterms:modified xsi:type="dcterms:W3CDTF">1998-04-17T21:50:00Z</dcterms:modified>
  <cp:revision>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