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485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0B4C-968E-4536-83B1-7649F3318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852C-A64E-4194-A8E5-9C931FF3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3475-242C-4AE9-8334-C9C3C6C13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009D-432D-4A72-94D0-AE7AB98D2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4B38-3626-44F8-8E85-66F124EAE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7CF4-0760-4A49-BC7A-4AE58F1D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DFBE-F00D-4725-80FB-41D7E9D6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0AE1-F131-4A57-801F-6B55F9BD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231E-6C67-47B0-B90E-14AD962C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998A-78C5-4577-B5D5-ADD47254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6DC2-EF64-4C79-AFB7-A5B11AF2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86D9-C52D-4B76-8EF4-58FCF5AE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5A73-9A95-4B36-8226-7E0C2412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9D1D-2C7E-4586-85C2-58787DB5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3EFF-2673-4E63-8DA9-A74DC795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B9F1-2614-4290-AC3E-DE68410BD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5DD3-015A-4115-8B05-0608D52B2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45A8-A9DA-42E0-9060-442EC75A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9C3B-CFB8-40EB-B221-5A03823E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750F-9820-4DED-92D0-C3321262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9307-AF59-4895-8EF2-53806036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1979-3AEC-4E2B-B9FF-132020CB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BCAB-0ABE-40A8-A261-36F7E52D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055E-C0BA-4A84-9457-00A5461C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24680" y="6630840"/>
            <a:ext cx="68580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990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629400" y="662904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55FA-B498-4181-95A0-2FF183DD1CB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F87E-96FB-4691-A7B9-4141FC6EFB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11426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ANGO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 Interactive Tutorial</a:t>
            </a:r>
            <a:br>
              <a:rPr sz="4000"/>
            </a:b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Overview of Collaboration System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05120" y="41148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sented by Geoffrey Fox, Marek Podgorny and 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G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e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PA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racuse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liance ‘98, April 27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‘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tango5" descr=""/>
          <p:cNvPicPr/>
          <p:nvPr/>
        </p:nvPicPr>
        <p:blipFill>
          <a:blip r:embed="rId1"/>
          <a:stretch/>
        </p:blipFill>
        <p:spPr>
          <a:xfrm>
            <a:off x="5562720" y="341280"/>
            <a:ext cx="342900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10663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DARPA’s Vision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26668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4080" y="5904000"/>
            <a:ext cx="197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17760" y="5904000"/>
            <a:ext cx="3009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533520"/>
            <a:ext cx="7961400" cy="5165640"/>
          </a:xfrm>
          <a:prstGeom prst="rect">
            <a:avLst/>
          </a:prstGeom>
          <a:solidFill>
            <a:srgbClr val="ce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-149760" y="3083040"/>
            <a:ext cx="151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86080" y="605808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505800" y="4235760"/>
            <a:ext cx="2691360" cy="107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89160" y="538200"/>
            <a:ext cx="10823400" cy="848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95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952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21520" y="3832200"/>
            <a:ext cx="18716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c0128"/>
                </a:solidFill>
                <a:latin typeface="Arial"/>
              </a:rPr>
              <a:t>The Industr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c0128"/>
                </a:solidFill>
                <a:latin typeface="Arial"/>
              </a:rPr>
              <a:t>Client-Server Cur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57320" y="4957920"/>
            <a:ext cx="237960" cy="309240"/>
          </a:xfrm>
          <a:prstGeom prst="triangle">
            <a:avLst>
              <a:gd name="adj" fmla="val 49995"/>
            </a:avLst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25120" y="5780160"/>
            <a:ext cx="66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Y9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19760" y="868320"/>
            <a:ext cx="236520" cy="30960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70400" y="1701720"/>
            <a:ext cx="237960" cy="30960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61040" y="582480"/>
            <a:ext cx="238320" cy="30960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54880" y="457200"/>
            <a:ext cx="238320" cy="30960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55520" y="5778360"/>
            <a:ext cx="66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Y9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49080" y="5780160"/>
            <a:ext cx="66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Y9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99800" y="5780160"/>
            <a:ext cx="66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Y9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20880" y="5778360"/>
            <a:ext cx="66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Y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30280" y="5778360"/>
            <a:ext cx="66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Y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66880" y="5329080"/>
            <a:ext cx="2999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MUDs/MBone/Standard VT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840" y="4206960"/>
            <a:ext cx="1832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Web-base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Collabo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59960" y="833400"/>
            <a:ext cx="17773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labora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37960" y="2408400"/>
            <a:ext cx="18550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nchronou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67080" y="1371600"/>
            <a:ext cx="161316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bil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ynchrono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990720"/>
            <a:ext cx="157320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nc/asyn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16160" y="3797280"/>
            <a:ext cx="8800920" cy="177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71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711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59240" y="3852720"/>
            <a:ext cx="236520" cy="309600"/>
          </a:xfrm>
          <a:prstGeom prst="triangle">
            <a:avLst>
              <a:gd name="adj" fmla="val 49995"/>
            </a:avLst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51360" y="3936960"/>
            <a:ext cx="12150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Virtua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Rea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MU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06800" y="3629160"/>
            <a:ext cx="238320" cy="309600"/>
          </a:xfrm>
          <a:prstGeom prst="triangle">
            <a:avLst>
              <a:gd name="adj" fmla="val 49995"/>
            </a:avLst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97960" y="4653000"/>
            <a:ext cx="2149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Standard Shar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Whiteboar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1447920"/>
            <a:ext cx="17924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c0128"/>
                </a:solidFill>
                <a:latin typeface="Arial"/>
              </a:rPr>
              <a:t>The DARP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c0128"/>
                </a:solidFill>
                <a:latin typeface="Arial"/>
              </a:rPr>
              <a:t>Distribu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c0128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c0128"/>
                </a:solidFill>
                <a:latin typeface="Arial"/>
              </a:rPr>
              <a:t>Cur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78600" y="3564000"/>
            <a:ext cx="237960" cy="309600"/>
          </a:xfrm>
          <a:prstGeom prst="triangle">
            <a:avLst>
              <a:gd name="adj" fmla="val 49995"/>
            </a:avLst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08920" y="4037040"/>
            <a:ext cx="174240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Group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enabl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Proprieta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35160" y="4368960"/>
            <a:ext cx="238320" cy="309240"/>
          </a:xfrm>
          <a:prstGeom prst="triangle">
            <a:avLst>
              <a:gd name="adj" fmla="val 49995"/>
            </a:avLst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86400" y="6400800"/>
            <a:ext cx="2362320" cy="337320"/>
          </a:xfrm>
          <a:prstGeom prst="rect">
            <a:avLst/>
          </a:prstGeom>
          <a:solidFill>
            <a:srgbClr val="fcfdc6"/>
          </a:solidFill>
          <a:ln cap="sq"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 ICV, DARP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914400" y="563760"/>
            <a:ext cx="1289160" cy="812520"/>
            <a:chOff x="914400" y="563760"/>
            <a:chExt cx="1289160" cy="812520"/>
          </a:xfrm>
        </p:grpSpPr>
        <p:grpSp>
          <p:nvGrpSpPr>
            <p:cNvPr id="147" name=""/>
            <p:cNvGrpSpPr/>
            <p:nvPr/>
          </p:nvGrpSpPr>
          <p:grpSpPr>
            <a:xfrm>
              <a:off x="914400" y="563760"/>
              <a:ext cx="1289160" cy="812520"/>
              <a:chOff x="914400" y="563760"/>
              <a:chExt cx="1289160" cy="812520"/>
            </a:xfrm>
          </p:grpSpPr>
          <p:sp>
            <p:nvSpPr>
              <p:cNvPr id="148" name=""/>
              <p:cNvSpPr/>
              <p:nvPr/>
            </p:nvSpPr>
            <p:spPr>
              <a:xfrm>
                <a:off x="946440" y="641160"/>
                <a:ext cx="1185840" cy="696960"/>
              </a:xfrm>
              <a:prstGeom prst="ellipse">
                <a:avLst/>
              </a:prstGeom>
              <a:noFill/>
              <a:ln w="50760">
                <a:solidFill>
                  <a:srgbClr val="4c8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46440" y="641160"/>
                <a:ext cx="1174680" cy="684360"/>
              </a:xfrm>
              <a:prstGeom prst="ellipse">
                <a:avLst/>
              </a:prstGeom>
              <a:noFill/>
              <a:ln w="50760">
                <a:solidFill>
                  <a:srgbClr val="558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955800" y="641160"/>
                <a:ext cx="1152360" cy="684360"/>
              </a:xfrm>
              <a:prstGeom prst="ellipse">
                <a:avLst/>
              </a:prstGeom>
              <a:noFill/>
              <a:ln w="50760">
                <a:solidFill>
                  <a:srgbClr val="5d8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970200" y="657000"/>
                <a:ext cx="1128600" cy="652680"/>
              </a:xfrm>
              <a:prstGeom prst="ellipse">
                <a:avLst/>
              </a:prstGeom>
              <a:noFill/>
              <a:ln w="50760">
                <a:solidFill>
                  <a:srgbClr val="669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979560" y="657000"/>
                <a:ext cx="1106640" cy="652680"/>
              </a:xfrm>
              <a:prstGeom prst="ellipse">
                <a:avLst/>
              </a:prstGeom>
              <a:noFill/>
              <a:ln w="50760">
                <a:solidFill>
                  <a:srgbClr val="6e9b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992160" y="672840"/>
                <a:ext cx="1081080" cy="622440"/>
              </a:xfrm>
              <a:prstGeom prst="ellipse">
                <a:avLst/>
              </a:prstGeom>
              <a:noFill/>
              <a:ln w="50760">
                <a:solidFill>
                  <a:srgbClr val="77a1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005120" y="672840"/>
                <a:ext cx="1057320" cy="622440"/>
              </a:xfrm>
              <a:prstGeom prst="ellipse">
                <a:avLst/>
              </a:prstGeom>
              <a:noFill/>
              <a:ln w="50760">
                <a:solidFill>
                  <a:srgbClr val="7fa7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016280" y="685800"/>
                <a:ext cx="1033200" cy="593640"/>
              </a:xfrm>
              <a:prstGeom prst="ellipse">
                <a:avLst/>
              </a:prstGeom>
              <a:noFill/>
              <a:ln w="50760">
                <a:solidFill>
                  <a:srgbClr val="88a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028880" y="685800"/>
                <a:ext cx="1009440" cy="593640"/>
              </a:xfrm>
              <a:prstGeom prst="ellipse">
                <a:avLst/>
              </a:prstGeom>
              <a:noFill/>
              <a:ln w="50760">
                <a:solidFill>
                  <a:srgbClr val="91b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038240" y="703080"/>
                <a:ext cx="989280" cy="560520"/>
              </a:xfrm>
              <a:prstGeom prst="ellipse">
                <a:avLst/>
              </a:prstGeom>
              <a:noFill/>
              <a:ln w="50760">
                <a:solidFill>
                  <a:srgbClr val="99b8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051200" y="703080"/>
                <a:ext cx="961920" cy="560520"/>
              </a:xfrm>
              <a:prstGeom prst="ellipse">
                <a:avLst/>
              </a:prstGeom>
              <a:noFill/>
              <a:ln w="50760">
                <a:solidFill>
                  <a:srgbClr val="a2be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063800" y="716040"/>
                <a:ext cx="939600" cy="534960"/>
              </a:xfrm>
              <a:prstGeom prst="ellipse">
                <a:avLst/>
              </a:prstGeom>
              <a:noFill/>
              <a:ln w="50760">
                <a:solidFill>
                  <a:srgbClr val="aac4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074960" y="716040"/>
                <a:ext cx="915840" cy="534960"/>
              </a:xfrm>
              <a:prstGeom prst="ellipse">
                <a:avLst/>
              </a:prstGeom>
              <a:noFill/>
              <a:ln w="50760">
                <a:solidFill>
                  <a:srgbClr val="b3c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87560" y="716040"/>
                <a:ext cx="892080" cy="517320"/>
              </a:xfrm>
              <a:prstGeom prst="ellipse">
                <a:avLst/>
              </a:prstGeom>
              <a:noFill/>
              <a:ln w="50760">
                <a:solidFill>
                  <a:srgbClr val="bbd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098720" y="731880"/>
                <a:ext cx="869760" cy="501480"/>
              </a:xfrm>
              <a:prstGeom prst="ellipse">
                <a:avLst/>
              </a:prstGeom>
              <a:noFill/>
              <a:ln w="50760">
                <a:solidFill>
                  <a:srgbClr val="c4d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109880" y="731880"/>
                <a:ext cx="844560" cy="48888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123920" y="747720"/>
                <a:ext cx="820800" cy="47304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33640" y="747720"/>
                <a:ext cx="798480" cy="45720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146240" y="761760"/>
                <a:ext cx="774720" cy="44316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157400" y="761760"/>
                <a:ext cx="750960" cy="42732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170000" y="777600"/>
                <a:ext cx="725760" cy="41148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182960" y="777600"/>
                <a:ext cx="703080" cy="39708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92320" y="790560"/>
                <a:ext cx="681120" cy="38412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204920" y="790560"/>
                <a:ext cx="657360" cy="36828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216080" y="806400"/>
                <a:ext cx="633600" cy="35244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216080" y="806400"/>
                <a:ext cx="620640" cy="35244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228680" y="806400"/>
                <a:ext cx="596880" cy="33984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241640" y="823680"/>
                <a:ext cx="573120" cy="32256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251000" y="823680"/>
                <a:ext cx="552600" cy="30636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263600" y="836640"/>
                <a:ext cx="527040" cy="29340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274760" y="836640"/>
                <a:ext cx="503280" cy="27612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287720" y="852480"/>
                <a:ext cx="479160" cy="26028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300320" y="852480"/>
                <a:ext cx="453960" cy="24768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309680" y="865080"/>
                <a:ext cx="435240" cy="23508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324080" y="865080"/>
                <a:ext cx="407880" cy="21924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333440" y="880920"/>
                <a:ext cx="385920" cy="20340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346400" y="880920"/>
                <a:ext cx="361800" cy="19044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359000" y="896760"/>
                <a:ext cx="336600" cy="17460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370160" y="896760"/>
                <a:ext cx="314280" cy="15876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382760" y="896760"/>
                <a:ext cx="290520" cy="15876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393920" y="911160"/>
                <a:ext cx="266760" cy="12852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405080" y="911160"/>
                <a:ext cx="244440" cy="12852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417680" y="927000"/>
                <a:ext cx="219240" cy="9828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428840" y="927000"/>
                <a:ext cx="196920" cy="9828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441440" y="939600"/>
                <a:ext cx="173160" cy="6984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452600" y="939600"/>
                <a:ext cx="147600" cy="6984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463760" y="955440"/>
                <a:ext cx="127080" cy="4140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478160" y="955440"/>
                <a:ext cx="100080" cy="4140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487520" y="971280"/>
                <a:ext cx="79560" cy="972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500120" y="971280"/>
                <a:ext cx="54000" cy="972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474920" y="946080"/>
                <a:ext cx="92160" cy="60120"/>
              </a:xfrm>
              <a:prstGeom prst="ellipse">
                <a:avLst/>
              </a:prstGeom>
              <a:solidFill>
                <a:srgbClr val="cc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27360" y="622080"/>
                <a:ext cx="1223640" cy="735120"/>
              </a:xfrm>
              <a:prstGeom prst="ellipse">
                <a:avLst/>
              </a:prstGeom>
              <a:noFill/>
              <a:ln w="12600">
                <a:solidFill>
                  <a:srgbClr val="d2f4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20880" y="644400"/>
                <a:ext cx="1224000" cy="693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914400" y="976320"/>
                <a:ext cx="121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092240" y="623880"/>
                <a:ext cx="896760" cy="69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186" y="21583"/>
                    </a:moveTo>
                    <a:arcTo wR="10800" hR="10800" stAng="5595391" swAng="214779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186" y="21583"/>
                    </a:moveTo>
                    <a:arcTo wR="10800" hR="10800" stAng="5595391" swAng="21477948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70080" y="623880"/>
                <a:ext cx="528480" cy="69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150" y="21580"/>
                    </a:moveTo>
                    <a:arcTo wR="10800" hR="10800" stAng="5607172" swAng="2153793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150" y="21580"/>
                    </a:moveTo>
                    <a:arcTo wR="10800" hR="10800" stAng="5607172" swAng="21537937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446480" y="623880"/>
                <a:ext cx="174240" cy="69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194" y="21593"/>
                    </a:moveTo>
                    <a:arcTo wR="10800" hR="10800" stAng="5274471" swAng="215373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194" y="21593"/>
                    </a:moveTo>
                    <a:arcTo wR="10800" hR="10800" stAng="5274471" swAng="2153733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339920" y="608400"/>
                <a:ext cx="397440" cy="62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375" y="12994"/>
                    </a:moveTo>
                    <a:arcTo wR="10800" hR="10800" stAng="703147" swAng="100968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375" y="12994"/>
                    </a:moveTo>
                    <a:arcTo wR="10800" hR="10800" stAng="703147" swAng="10096853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11400" y="579600"/>
                <a:ext cx="634680" cy="19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4" y="10447"/>
                    </a:moveTo>
                    <a:arcTo wR="10800" hR="10800" stAng="-112319" swAng="110240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4" y="10447"/>
                    </a:moveTo>
                    <a:arcTo wR="10800" hR="10800" stAng="-112319" swAng="1102407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033560" y="696600"/>
                <a:ext cx="99972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108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108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341720" y="1284120"/>
                <a:ext cx="397800" cy="62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" y="10249"/>
                    </a:moveTo>
                    <a:arcTo wR="10800" hR="10800" stAng="-10624557" swAng="95625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" y="10249"/>
                    </a:moveTo>
                    <a:arcTo wR="10800" hR="10800" stAng="-10624557" swAng="9562574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209960" y="1179360"/>
                <a:ext cx="634320" cy="196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" y="10449"/>
                    </a:moveTo>
                    <a:arcTo wR="10800" hR="10800" stAng="-10688242" swAng="105759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" y="10449"/>
                    </a:moveTo>
                    <a:arcTo wR="10800" hR="10800" stAng="-10688242" swAng="10575924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033560" y="1089000"/>
                <a:ext cx="999720" cy="164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" y="10592"/>
                    </a:moveTo>
                    <a:arcTo wR="10800" hR="10800" stAng="-10733898" swAng="106675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" y="10592"/>
                    </a:moveTo>
                    <a:arcTo wR="10800" hR="10800" stAng="-10733898" swAng="106675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27360" y="960480"/>
                <a:ext cx="1212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092240" y="609480"/>
                <a:ext cx="896760" cy="689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185" y="21582"/>
                    </a:moveTo>
                    <a:arcTo wR="10800" hR="10800" stAng="5595844" swAng="214776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185" y="21582"/>
                    </a:moveTo>
                    <a:arcTo wR="10800" hR="10800" stAng="5595844" swAng="21477665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282680" y="609480"/>
                <a:ext cx="528480" cy="689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148" y="21580"/>
                    </a:moveTo>
                    <a:arcTo wR="10800" hR="10800" stAng="5607653" swAng="215377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148" y="21580"/>
                    </a:moveTo>
                    <a:arcTo wR="10800" hR="10800" stAng="5607653" swAng="21537794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446480" y="609480"/>
                <a:ext cx="174240" cy="689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195" y="21593"/>
                    </a:moveTo>
                    <a:arcTo wR="10800" hR="10800" stAng="5274179" swAng="2153719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195" y="21593"/>
                    </a:moveTo>
                    <a:arcTo wR="10800" hR="10800" stAng="5274179" swAng="21537195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339920" y="595440"/>
                <a:ext cx="397800" cy="59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364" y="13047"/>
                    </a:moveTo>
                    <a:arcTo wR="10800" hR="10800" stAng="720659" swAng="102547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364" y="13047"/>
                    </a:moveTo>
                    <a:arcTo wR="10800" hR="10800" stAng="720659" swAng="10254783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224000" y="563760"/>
                <a:ext cx="633240" cy="19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4" y="10446"/>
                    </a:moveTo>
                    <a:arcTo wR="10800" hR="10800" stAng="-112603" swAng="1102408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4" y="10446"/>
                    </a:moveTo>
                    <a:arcTo wR="10800" hR="10800" stAng="-112603" swAng="11024082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033560" y="666720"/>
                <a:ext cx="999720" cy="183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8" y="10612"/>
                    </a:moveTo>
                    <a:arcTo wR="10800" hR="10800" stAng="-59781" swAng="109195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8" y="10612"/>
                    </a:moveTo>
                    <a:arcTo wR="10800" hR="10800" stAng="-59781" swAng="10919562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341720" y="1253880"/>
                <a:ext cx="397800" cy="63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" y="10249"/>
                    </a:moveTo>
                    <a:arcTo wR="10800" hR="10800" stAng="-10624557" swAng="95625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" y="10249"/>
                    </a:moveTo>
                    <a:arcTo wR="10800" hR="10800" stAng="-10624557" swAng="9562574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25800" y="1163520"/>
                <a:ext cx="632880" cy="19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" y="10450"/>
                    </a:moveTo>
                    <a:arcTo wR="10800" hR="10800" stAng="-10688522" swAng="1057591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" y="10450"/>
                    </a:moveTo>
                    <a:arcTo wR="10800" hR="10800" stAng="-10688522" swAng="10575918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033560" y="1058760"/>
                <a:ext cx="999720" cy="183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" y="10612"/>
                    </a:moveTo>
                    <a:arcTo wR="10800" hR="10800" stAng="-10740219" swAng="1068043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" y="10612"/>
                    </a:moveTo>
                    <a:arcTo wR="10800" hR="10800" stAng="-10740219" swAng="10680438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47880" y="803160"/>
                <a:ext cx="12556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933480" y="614160"/>
                <a:ext cx="1224000" cy="708120"/>
              </a:xfrm>
              <a:prstGeom prst="ellipse">
                <a:avLst/>
              </a:prstGeom>
              <a:noFill/>
              <a:ln w="25560">
                <a:solidFill>
                  <a:srgbClr val="4c8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1045800" y="785880"/>
              <a:ext cx="1088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ca6ff"/>
                  </a:solidFill>
                  <a:latin typeface="Arial"/>
                </a:rPr>
                <a:t>DARP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5791320" y="2057400"/>
            <a:ext cx="161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ANG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nteractive ‘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4B95-0B73-4718-8BF0-E6315F63B9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Specific Darpa objectives</a:t>
            </a: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Enable access via </a:t>
            </a:r>
            <a:r>
              <a:rPr b="1" lang="en-US" sz="2200" spc="-1" strike="noStrike">
                <a:solidFill>
                  <a:srgbClr val="ff9900"/>
                </a:solidFill>
                <a:latin typeface="Times New Roman"/>
              </a:rPr>
              <a:t>diverse portals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, from hand-held through room-size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Enable </a:t>
            </a:r>
            <a:r>
              <a:rPr b="1" lang="en-US" sz="2200" spc="-1" strike="noStrike">
                <a:solidFill>
                  <a:srgbClr val="ff9900"/>
                </a:solidFill>
                <a:latin typeface="Times New Roman"/>
              </a:rPr>
              <a:t>interoperability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across diverse encoding formats, coordination and consistency protocols, and real-time servic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Times New Roman"/>
              </a:rPr>
              <a:t>Scale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collaborations to 10 active contributors, 100 questioners, and 1,000 observer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Reduce by an order of magnitude the time needed to </a:t>
            </a:r>
            <a:r>
              <a:rPr b="1" lang="en-US" sz="2200" spc="-1" strike="noStrike">
                <a:solidFill>
                  <a:srgbClr val="ff9900"/>
                </a:solidFill>
                <a:latin typeface="Times New Roman"/>
              </a:rPr>
              <a:t>generate collaborative application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Enable </a:t>
            </a:r>
            <a:r>
              <a:rPr b="1" lang="en-US" sz="2200" spc="-1" strike="noStrike">
                <a:solidFill>
                  <a:srgbClr val="ff9900"/>
                </a:solidFill>
                <a:latin typeface="Times New Roman"/>
              </a:rPr>
              <a:t>real-time discovery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of relevant collaborators and information within task context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Reduce by an order of magnitude the time to </a:t>
            </a:r>
            <a:r>
              <a:rPr b="1" lang="en-US" sz="2200" spc="-1" strike="noStrike">
                <a:solidFill>
                  <a:srgbClr val="ff9900"/>
                </a:solidFill>
                <a:latin typeface="Times New Roman"/>
              </a:rPr>
              <a:t>establish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ollaborative sessions across heterogeneous environment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Reduce by an order of magnitude the time to </a:t>
            </a:r>
            <a:r>
              <a:rPr b="1" lang="en-US" sz="2200" spc="-1" strike="noStrike">
                <a:solidFill>
                  <a:srgbClr val="ff9900"/>
                </a:solidFill>
                <a:latin typeface="Times New Roman"/>
              </a:rPr>
              <a:t>review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collaborative session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Times New Roman"/>
              </a:rPr>
              <a:t>Improve task-based performance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of collaborators by two orders of magnitude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6324480"/>
            <a:ext cx="2361960" cy="337320"/>
          </a:xfrm>
          <a:prstGeom prst="rect">
            <a:avLst/>
          </a:prstGeom>
          <a:solidFill>
            <a:srgbClr val="fcfdc6"/>
          </a:solidFill>
          <a:ln cap="sq"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 ICV, DARP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7162920" y="716400"/>
            <a:ext cx="1288440" cy="812520"/>
            <a:chOff x="7162920" y="716400"/>
            <a:chExt cx="1288440" cy="812520"/>
          </a:xfrm>
        </p:grpSpPr>
        <p:grpSp>
          <p:nvGrpSpPr>
            <p:cNvPr id="229" name=""/>
            <p:cNvGrpSpPr/>
            <p:nvPr/>
          </p:nvGrpSpPr>
          <p:grpSpPr>
            <a:xfrm>
              <a:off x="7162920" y="716400"/>
              <a:ext cx="1288440" cy="812520"/>
              <a:chOff x="7162920" y="716400"/>
              <a:chExt cx="1288440" cy="812520"/>
            </a:xfrm>
          </p:grpSpPr>
          <p:sp>
            <p:nvSpPr>
              <p:cNvPr id="230" name=""/>
              <p:cNvSpPr/>
              <p:nvPr/>
            </p:nvSpPr>
            <p:spPr>
              <a:xfrm>
                <a:off x="7194600" y="793800"/>
                <a:ext cx="1185480" cy="696960"/>
              </a:xfrm>
              <a:prstGeom prst="ellipse">
                <a:avLst/>
              </a:prstGeom>
              <a:noFill/>
              <a:ln w="50760">
                <a:solidFill>
                  <a:srgbClr val="4c8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194600" y="793800"/>
                <a:ext cx="1174320" cy="684360"/>
              </a:xfrm>
              <a:prstGeom prst="ellipse">
                <a:avLst/>
              </a:prstGeom>
              <a:noFill/>
              <a:ln w="50760">
                <a:solidFill>
                  <a:srgbClr val="558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203960" y="793800"/>
                <a:ext cx="1152000" cy="684360"/>
              </a:xfrm>
              <a:prstGeom prst="ellipse">
                <a:avLst/>
              </a:prstGeom>
              <a:noFill/>
              <a:ln w="50760">
                <a:solidFill>
                  <a:srgbClr val="5d8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218360" y="809640"/>
                <a:ext cx="1128240" cy="652680"/>
              </a:xfrm>
              <a:prstGeom prst="ellipse">
                <a:avLst/>
              </a:prstGeom>
              <a:noFill/>
              <a:ln w="50760">
                <a:solidFill>
                  <a:srgbClr val="669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227720" y="809640"/>
                <a:ext cx="1106280" cy="652680"/>
              </a:xfrm>
              <a:prstGeom prst="ellipse">
                <a:avLst/>
              </a:prstGeom>
              <a:noFill/>
              <a:ln w="50760">
                <a:solidFill>
                  <a:srgbClr val="6e9b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240320" y="825480"/>
                <a:ext cx="1080720" cy="622440"/>
              </a:xfrm>
              <a:prstGeom prst="ellipse">
                <a:avLst/>
              </a:prstGeom>
              <a:noFill/>
              <a:ln w="50760">
                <a:solidFill>
                  <a:srgbClr val="77a1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253280" y="825480"/>
                <a:ext cx="1056960" cy="622440"/>
              </a:xfrm>
              <a:prstGeom prst="ellipse">
                <a:avLst/>
              </a:prstGeom>
              <a:noFill/>
              <a:ln w="50760">
                <a:solidFill>
                  <a:srgbClr val="7fa7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64440" y="838440"/>
                <a:ext cx="1032840" cy="593640"/>
              </a:xfrm>
              <a:prstGeom prst="ellipse">
                <a:avLst/>
              </a:prstGeom>
              <a:noFill/>
              <a:ln w="50760">
                <a:solidFill>
                  <a:srgbClr val="88a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277040" y="838440"/>
                <a:ext cx="1009080" cy="593640"/>
              </a:xfrm>
              <a:prstGeom prst="ellipse">
                <a:avLst/>
              </a:prstGeom>
              <a:noFill/>
              <a:ln w="50760">
                <a:solidFill>
                  <a:srgbClr val="91b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286400" y="855720"/>
                <a:ext cx="988920" cy="560520"/>
              </a:xfrm>
              <a:prstGeom prst="ellipse">
                <a:avLst/>
              </a:prstGeom>
              <a:noFill/>
              <a:ln w="50760">
                <a:solidFill>
                  <a:srgbClr val="99b8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299360" y="855720"/>
                <a:ext cx="961560" cy="560520"/>
              </a:xfrm>
              <a:prstGeom prst="ellipse">
                <a:avLst/>
              </a:prstGeom>
              <a:noFill/>
              <a:ln w="50760">
                <a:solidFill>
                  <a:srgbClr val="a2be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311960" y="868680"/>
                <a:ext cx="939240" cy="534960"/>
              </a:xfrm>
              <a:prstGeom prst="ellipse">
                <a:avLst/>
              </a:prstGeom>
              <a:noFill/>
              <a:ln w="50760">
                <a:solidFill>
                  <a:srgbClr val="aac4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323120" y="868680"/>
                <a:ext cx="915480" cy="534960"/>
              </a:xfrm>
              <a:prstGeom prst="ellipse">
                <a:avLst/>
              </a:prstGeom>
              <a:noFill/>
              <a:ln w="50760">
                <a:solidFill>
                  <a:srgbClr val="b3ca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335720" y="868680"/>
                <a:ext cx="891720" cy="517320"/>
              </a:xfrm>
              <a:prstGeom prst="ellipse">
                <a:avLst/>
              </a:prstGeom>
              <a:noFill/>
              <a:ln w="50760">
                <a:solidFill>
                  <a:srgbClr val="bbd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346880" y="884520"/>
                <a:ext cx="869400" cy="501480"/>
              </a:xfrm>
              <a:prstGeom prst="ellipse">
                <a:avLst/>
              </a:prstGeom>
              <a:noFill/>
              <a:ln w="50760">
                <a:solidFill>
                  <a:srgbClr val="c4d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358040" y="884520"/>
                <a:ext cx="844200" cy="48888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372080" y="900360"/>
                <a:ext cx="820440" cy="47304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381800" y="900360"/>
                <a:ext cx="798120" cy="45720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394400" y="914400"/>
                <a:ext cx="774360" cy="44316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405560" y="914400"/>
                <a:ext cx="750600" cy="42732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418160" y="930240"/>
                <a:ext cx="725400" cy="41148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431120" y="930240"/>
                <a:ext cx="702720" cy="39708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440480" y="943200"/>
                <a:ext cx="680760" cy="38412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453080" y="943200"/>
                <a:ext cx="657000" cy="36828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464240" y="959040"/>
                <a:ext cx="633240" cy="35244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4240" y="959040"/>
                <a:ext cx="620280" cy="35244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476840" y="959040"/>
                <a:ext cx="596520" cy="33984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489800" y="976320"/>
                <a:ext cx="572760" cy="32256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499160" y="976320"/>
                <a:ext cx="552240" cy="30636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511760" y="989280"/>
                <a:ext cx="526680" cy="29340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522920" y="989280"/>
                <a:ext cx="502920" cy="27612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535880" y="1005120"/>
                <a:ext cx="478800" cy="26028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548480" y="1005120"/>
                <a:ext cx="453600" cy="24768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557840" y="1017720"/>
                <a:ext cx="434880" cy="23508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72240" y="1017720"/>
                <a:ext cx="407520" cy="21924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581600" y="1033560"/>
                <a:ext cx="385560" cy="20340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594560" y="1033560"/>
                <a:ext cx="361440" cy="19044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607160" y="1049400"/>
                <a:ext cx="336240" cy="17460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618320" y="1049400"/>
                <a:ext cx="313920" cy="15876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630920" y="1049400"/>
                <a:ext cx="290160" cy="15876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42080" y="1063800"/>
                <a:ext cx="266400" cy="12852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653240" y="1063800"/>
                <a:ext cx="244080" cy="12852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665840" y="1079640"/>
                <a:ext cx="218880" cy="9828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677000" y="1079640"/>
                <a:ext cx="196560" cy="9828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689600" y="1092240"/>
                <a:ext cx="172800" cy="6984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700760" y="1092240"/>
                <a:ext cx="147240" cy="6984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711920" y="1108080"/>
                <a:ext cx="126720" cy="4140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726320" y="1108080"/>
                <a:ext cx="99720" cy="4140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735680" y="1123920"/>
                <a:ext cx="79200" cy="972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748280" y="1123920"/>
                <a:ext cx="53640" cy="9720"/>
              </a:xfrm>
              <a:prstGeom prst="ellipse">
                <a:avLst/>
              </a:prstGeom>
              <a:noFill/>
              <a:ln w="50760">
                <a:solidFill>
                  <a:srgbClr val="cc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723080" y="1098720"/>
                <a:ext cx="91800" cy="60120"/>
              </a:xfrm>
              <a:prstGeom prst="ellipse">
                <a:avLst/>
              </a:prstGeom>
              <a:solidFill>
                <a:srgbClr val="cc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175520" y="774720"/>
                <a:ext cx="1223280" cy="735120"/>
              </a:xfrm>
              <a:prstGeom prst="ellipse">
                <a:avLst/>
              </a:prstGeom>
              <a:noFill/>
              <a:ln w="12600">
                <a:solidFill>
                  <a:srgbClr val="d2f4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169040" y="797040"/>
                <a:ext cx="1223640" cy="693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162920" y="1128960"/>
                <a:ext cx="121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340400" y="776520"/>
                <a:ext cx="896400" cy="69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186" y="21583"/>
                    </a:moveTo>
                    <a:arcTo wR="10800" hR="10800" stAng="5595391" swAng="214779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186" y="21583"/>
                    </a:moveTo>
                    <a:arcTo wR="10800" hR="10800" stAng="5595391" swAng="21477948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518240" y="776520"/>
                <a:ext cx="528120" cy="69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150" y="21580"/>
                    </a:moveTo>
                    <a:arcTo wR="10800" hR="10800" stAng="5607172" swAng="2153793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150" y="21580"/>
                    </a:moveTo>
                    <a:arcTo wR="10800" hR="10800" stAng="5607172" swAng="21537937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94640" y="776520"/>
                <a:ext cx="173880" cy="69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194" y="21593"/>
                    </a:moveTo>
                    <a:arcTo wR="10800" hR="10800" stAng="5274471" swAng="215373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194" y="21593"/>
                    </a:moveTo>
                    <a:arcTo wR="10800" hR="10800" stAng="5274471" swAng="2153733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588080" y="761040"/>
                <a:ext cx="397080" cy="62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375" y="12994"/>
                    </a:moveTo>
                    <a:arcTo wR="10800" hR="10800" stAng="703147" swAng="100968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375" y="12994"/>
                    </a:moveTo>
                    <a:arcTo wR="10800" hR="10800" stAng="703147" swAng="10096853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459560" y="732240"/>
                <a:ext cx="634320" cy="19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4" y="10447"/>
                    </a:moveTo>
                    <a:arcTo wR="10800" hR="10800" stAng="-112319" swAng="110240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4" y="10447"/>
                    </a:moveTo>
                    <a:arcTo wR="10800" hR="10800" stAng="-112319" swAng="1102407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281720" y="849240"/>
                <a:ext cx="99936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108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108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589880" y="1436760"/>
                <a:ext cx="397440" cy="62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" y="10249"/>
                    </a:moveTo>
                    <a:arcTo wR="10800" hR="10800" stAng="-10624557" swAng="95625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" y="10249"/>
                    </a:moveTo>
                    <a:arcTo wR="10800" hR="10800" stAng="-10624557" swAng="9562574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458120" y="1332000"/>
                <a:ext cx="633960" cy="196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" y="10449"/>
                    </a:moveTo>
                    <a:arcTo wR="10800" hR="10800" stAng="-10688242" swAng="105759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" y="10449"/>
                    </a:moveTo>
                    <a:arcTo wR="10800" hR="10800" stAng="-10688242" swAng="10575924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281720" y="1241640"/>
                <a:ext cx="999360" cy="164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" y="10592"/>
                    </a:moveTo>
                    <a:arcTo wR="10800" hR="10800" stAng="-10733898" swAng="106675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" y="10592"/>
                    </a:moveTo>
                    <a:arcTo wR="10800" hR="10800" stAng="-10733898" swAng="1066758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175520" y="1113120"/>
                <a:ext cx="1212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340400" y="762120"/>
                <a:ext cx="896400" cy="689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185" y="21582"/>
                    </a:moveTo>
                    <a:arcTo wR="10800" hR="10800" stAng="5595844" swAng="214776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185" y="21582"/>
                    </a:moveTo>
                    <a:arcTo wR="10800" hR="10800" stAng="5595844" swAng="21477665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530840" y="762120"/>
                <a:ext cx="528120" cy="689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148" y="21580"/>
                    </a:moveTo>
                    <a:arcTo wR="10800" hR="10800" stAng="5607653" swAng="215377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148" y="21580"/>
                    </a:moveTo>
                    <a:arcTo wR="10800" hR="10800" stAng="5607653" swAng="21537794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94640" y="762120"/>
                <a:ext cx="173880" cy="689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195" y="21593"/>
                    </a:moveTo>
                    <a:arcTo wR="10800" hR="10800" stAng="5274179" swAng="2153719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195" y="21593"/>
                    </a:moveTo>
                    <a:arcTo wR="10800" hR="10800" stAng="5274179" swAng="21537195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588080" y="748080"/>
                <a:ext cx="397440" cy="59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364" y="13047"/>
                    </a:moveTo>
                    <a:arcTo wR="10800" hR="10800" stAng="720659" swAng="102547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364" y="13047"/>
                    </a:moveTo>
                    <a:arcTo wR="10800" hR="10800" stAng="720659" swAng="10254783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472160" y="716400"/>
                <a:ext cx="632520" cy="19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4" y="10446"/>
                    </a:moveTo>
                    <a:arcTo wR="10800" hR="10800" stAng="-112603" swAng="1102408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4" y="10446"/>
                    </a:moveTo>
                    <a:arcTo wR="10800" hR="10800" stAng="-112603" swAng="11024082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281720" y="819360"/>
                <a:ext cx="999360" cy="183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8" y="10612"/>
                    </a:moveTo>
                    <a:arcTo wR="10800" hR="10800" stAng="-59781" swAng="109195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8" y="10612"/>
                    </a:moveTo>
                    <a:arcTo wR="10800" hR="10800" stAng="-59781" swAng="10919562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589880" y="1406520"/>
                <a:ext cx="397440" cy="63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" y="10249"/>
                    </a:moveTo>
                    <a:arcTo wR="10800" hR="10800" stAng="-10624557" swAng="95625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" y="10249"/>
                    </a:moveTo>
                    <a:arcTo wR="10800" hR="10800" stAng="-10624557" swAng="9562574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473960" y="1316160"/>
                <a:ext cx="632520" cy="19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" y="10450"/>
                    </a:moveTo>
                    <a:arcTo wR="10800" hR="10800" stAng="-10688522" swAng="1057591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" y="10450"/>
                    </a:moveTo>
                    <a:arcTo wR="10800" hR="10800" stAng="-10688522" swAng="10575918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281720" y="1211400"/>
                <a:ext cx="999360" cy="183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" y="10612"/>
                    </a:moveTo>
                    <a:arcTo wR="10800" hR="10800" stAng="-10740219" swAng="1068043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" y="10612"/>
                    </a:moveTo>
                    <a:arcTo wR="10800" hR="10800" stAng="-10740219" swAng="10680438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196040" y="955800"/>
                <a:ext cx="125532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181640" y="766800"/>
                <a:ext cx="1223640" cy="708120"/>
              </a:xfrm>
              <a:prstGeom prst="ellipse">
                <a:avLst/>
              </a:prstGeom>
              <a:noFill/>
              <a:ln w="25560">
                <a:solidFill>
                  <a:srgbClr val="4c8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7293960" y="938520"/>
              <a:ext cx="1088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ca6ff"/>
                  </a:solidFill>
                  <a:latin typeface="Arial"/>
                </a:rPr>
                <a:t>DARP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5450-A438-45C5-BD90-B6A7B38F5F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mmercial systems -- Netscap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0" y="1295280"/>
            <a:ext cx="9143640" cy="5140080"/>
            <a:chOff x="0" y="1295280"/>
            <a:chExt cx="9143640" cy="5140080"/>
          </a:xfrm>
        </p:grpSpPr>
        <p:pic>
          <p:nvPicPr>
            <p:cNvPr id="308" name="" descr=""/>
            <p:cNvPicPr/>
            <p:nvPr/>
          </p:nvPicPr>
          <p:blipFill>
            <a:blip r:embed="rId1"/>
            <a:stretch/>
          </p:blipFill>
          <p:spPr>
            <a:xfrm>
              <a:off x="0" y="1295280"/>
              <a:ext cx="7311960" cy="514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" descr=""/>
            <p:cNvPicPr/>
            <p:nvPr/>
          </p:nvPicPr>
          <p:blipFill>
            <a:blip r:embed="rId2"/>
            <a:stretch/>
          </p:blipFill>
          <p:spPr>
            <a:xfrm>
              <a:off x="1374120" y="1646640"/>
              <a:ext cx="6854760" cy="450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3"/>
            <a:stretch/>
          </p:blipFill>
          <p:spPr>
            <a:xfrm>
              <a:off x="2765520" y="1815120"/>
              <a:ext cx="6157800" cy="438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4"/>
            <a:stretch/>
          </p:blipFill>
          <p:spPr>
            <a:xfrm>
              <a:off x="4554720" y="3058200"/>
              <a:ext cx="4588920" cy="334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BFAD-3BA1-4290-B85B-82FC1A341D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Netscape Communicator</a:t>
            </a:r>
            <a:endParaRPr b="1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oupware support: e-mail, discussion groups (Collabra), calendar, and conference age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ference agent: 2-party Internet phone, chat, whiteboard, shared brows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not there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ecurity, multi-application session control, multiparty audio/video, session recording, extensibilit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atus: a loosely coupled collection of well-known Internet communication tools with slightly improved, coherent look-end-feel  interface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AE08-ADDD-4778-9B61-BBD96D20DB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ommunicator: Future</a:t>
            </a:r>
            <a:endParaRPr b="1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tscape declares XML and RDF, i.e. metadata applications, to be the next fronti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al-time customizable netcasting paradigm with event-notification that triggers automatic alarms for different event categori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kspace customization (response to MS Windows 98?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None of these thrusts addresses synchronous collaboration - is is all “better asynchronous”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D4B5-3772-493C-A5FE-21294F5208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ommercial systems - Microsoft</a:t>
            </a: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0" y="985680"/>
            <a:ext cx="9143640" cy="5600160"/>
            <a:chOff x="0" y="985680"/>
            <a:chExt cx="9143640" cy="5600160"/>
          </a:xfrm>
        </p:grpSpPr>
        <p:pic>
          <p:nvPicPr>
            <p:cNvPr id="318" name="" descr=""/>
            <p:cNvPicPr/>
            <p:nvPr/>
          </p:nvPicPr>
          <p:blipFill>
            <a:blip r:embed="rId1"/>
            <a:stretch/>
          </p:blipFill>
          <p:spPr>
            <a:xfrm>
              <a:off x="0" y="985680"/>
              <a:ext cx="7857360" cy="52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2"/>
            <a:stretch/>
          </p:blipFill>
          <p:spPr>
            <a:xfrm>
              <a:off x="2712960" y="1453320"/>
              <a:ext cx="5600520" cy="38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3"/>
            <a:stretch/>
          </p:blipFill>
          <p:spPr>
            <a:xfrm>
              <a:off x="3274200" y="2669040"/>
              <a:ext cx="5869440" cy="3916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5F1F-2BBF-448C-9AAE-BE130FB8E1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Microsoft NetMeeting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10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icrosoft NetMeeti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s a PC desktop conferencing system that provides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pplication sharin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by replicating display and input to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an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Microsoft single-user applic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encrypted, point-to-poin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udio/video conferencin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using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.32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tandard;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ulti-user whiteboar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text chat and file transfer, using T.120 standard for data conferencing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irectory servic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map names to network addresses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6E35-FC74-4867-8D46-2885DA9552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Microsoft NetMeeting</a:t>
            </a:r>
            <a:endParaRPr b="1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imitat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er can only participate in one conference at a time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 support is provided for the conference recor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 interface to any asynchronous  groupwar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dio/Video point-to-point onl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C-only  syste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10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xtensibilit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tMeeting API allows integration of NM functionality in 3rd party appli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75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cludes interface to T.120 channel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M itself cannot be expanded at pres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85C4-2612-4622-A5CD-E48947E011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Microsoft NetMeeting future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1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tMeeting will be included as part of all Microsoft operating systems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surprise, surprise...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mbrace  (T.120, H.320, H.323 and H.324) and extend standards (T.share)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vide API to allow third party developers to build value added NetMeeting add-on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ing directory services (proprietary and standard) to dynamically locate collaborator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rome project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DA15-CF94-4959-84DB-1A404B433C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llaboratory systems: Taxonomy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sic architectur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hared display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single instance of applicat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user input &amp; display replicated via conference ag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Times New Roman"/>
              </a:rPr>
              <a:t>Entire functionality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of application is share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Examples: Shared X (HP), NetMeeting (MS), ProShare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      (Intel), ShowMe (Sun), Timbuktu (Farallon)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Advantages: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simple to implement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Disadvantages: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5920" indent="-19656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Times New Roman"/>
              </a:rPr>
              <a:t>functional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: simplistic, inflexible, awkward session control model, insecure (no data access control), no support for asynchronous collaboratio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5920" indent="-19656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Times New Roman"/>
              </a:rPr>
              <a:t>performance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: generate significant data traffic, unsuitable for  WAN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5920" indent="-19656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Times New Roman"/>
              </a:rPr>
              <a:t>incompatible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with Web programming model assuming local intelligence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7F14-CE95-4A51-9D6A-9EA290C936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Agenda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8188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llaboratory systems - an overview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synchronous and synchronous groupwar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pplication domains of  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G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ractiv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stem architectur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stem functionalit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pplication modul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ckaging, installation, and maintenanc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velopment for 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G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nteractiv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0E85-6B83-4E15-9454-B52A69A2AB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llaboratory systems: Taxonomy II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Basic architecture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Event broadcasting: each workstation runs its </a:t>
            </a:r>
            <a:r>
              <a:rPr b="1" lang="en-US" sz="2600" spc="-1" strike="noStrike">
                <a:solidFill>
                  <a:srgbClr val="ffcc00"/>
                </a:solidFill>
                <a:latin typeface="Times New Roman"/>
              </a:rPr>
              <a:t>own copy of application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spcBef>
                <a:spcPts val="550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Times New Roman"/>
              </a:rPr>
              <a:t>(A) Virtual instance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: all events shared (</a:t>
            </a:r>
            <a:r>
              <a:rPr b="1" lang="en-US" sz="2200" spc="-1" strike="noStrike">
                <a:solidFill>
                  <a:srgbClr val="cbcbcb"/>
                </a:solidFill>
                <a:latin typeface="Times New Roman"/>
              </a:rPr>
              <a:t>collaboration transparency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spcBef>
                <a:spcPts val="550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Times New Roman"/>
              </a:rPr>
              <a:t>(B) Independent data views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cbcbcb"/>
                </a:solidFill>
                <a:latin typeface="Times New Roman"/>
              </a:rPr>
              <a:t>some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events share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spcBef>
                <a:spcPts val="550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Examples: Habanero (NCSA - B), Java Collab. Toolset (Old Dominion - A ), ProMondia (Univ. of Nuernberg - B), DISCIPLE (Rutgers University - A/B), TANGO (NPAC - A/B)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spcBef>
                <a:spcPts val="550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Disadvantages: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new category of SW,  </a:t>
            </a:r>
            <a:r>
              <a:rPr b="1" lang="en-US" sz="2200" spc="-1" strike="noStrike">
                <a:solidFill>
                  <a:srgbClr val="ffcc00"/>
                </a:solidFill>
                <a:latin typeface="Times New Roman"/>
              </a:rPr>
              <a:t>difficult to implement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spcBef>
                <a:spcPts val="550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Advantages: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infinitely flexible and adaptable, generate little network traffic, perfectly fit Web/Java paradigm, can implement security, can support asynchronous collaboration…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E94D-37B8-402C-B729-FD932F931F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ollaboration Transparency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3818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cep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design a system that allows using an application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designed for a single individua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be used by a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group of peopl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ithout changing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anythin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n the applicatio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ared display applications implement collaboration transparenc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posed extension of the paradigm to the event broadcasting architectures (Old Dominions’ JCT, Virginia Tech’s JAMM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chnical approach: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odification of the Java AW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automatically distribute even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60DD-2744-4AB9-9CA3-ED4C56F3EE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vent Broadcasting: Criticism and Answers?</a:t>
            </a: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22960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aring possible only if applications deterministic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33cc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applications ARE deterministic or can be made s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pies of applications must be present everywher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33cc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but they are, being applets or downloaded via a push chann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vironments must be identica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33cc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Java VM takes care about thi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itial state of a newcomer impossible to defin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33cc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not so for good OO design and object serialization mechanis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not maintain consistency among cop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33cc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Difficult </a:t>
            </a:r>
            <a:r>
              <a:rPr b="1" lang="en-US" sz="2400" spc="-1" strike="noStrike">
                <a:solidFill>
                  <a:srgbClr val="33cc33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 Impossible. Variety of sync mechanisms available based on JavaBeans/RMI/CORBA etc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990720" y="6172200"/>
            <a:ext cx="6264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Web model enables event broadcasting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8EA9-5D1C-4E4F-B039-7382B31BCB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Asynchronous vs. Synchronou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w relationship for Web collaboratori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s primary Web function is asynchronous information publishing, Web-based collaboratories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inherently lin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wo model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25560" indent="-185040">
              <a:lnSpc>
                <a:spcPct val="110000"/>
              </a:lnSpc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oth modes focus on the </a:t>
            </a: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basic concept of a “shared object”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25560" indent="-185040"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oth modes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shar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presentation tool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25560" indent="-185040"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nchronous mode may create or persistently enhance/modify shared objec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b database linkage technology (based on JDBC/ Enterprise JavaBeans) promotes complex asynchronous collaboration by exposing rich data models of industrial-strength relational and OO DBMS’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ed Both! Tango will be linked to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otus Not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his summ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9AD4-D544-4271-9CBD-A45D4D9B47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Asynchronous vs. Synchronou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bject-oriented middleware can  easily be used in synchronous mod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ence, Web three-tier database architecture with it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JavaBean/CORBA/COM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middleware forms an ideal foundation for synchronous sharing of self-describing object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hared Browse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s the simplest example of the general idea of Web-based integrated sync/async collaborator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NGO’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Wisdom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(discussed later) is a an example of customized web linkage of synchronous and asynchronous collabor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irst mature Integrated Collaboration Environments (ICEs) will be Web-base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5B35-F74D-4B47-BAA8-7D3D34D4C29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search focus for ICEs</a:t>
            </a: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Automati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creation of collaboratory appli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pplication of OO software engineering methodologies, such as JavaBeans or CORB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Adaptiv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ession managem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gration of QoS support and Integrated Services Mod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Interoperabilit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d accessibility via different portal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ext-based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record retrieva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cord informal collaboration sessions in multimedia archiv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vide relevant indexing, search  and browsing capability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vide multimedia presentation and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annotat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ol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DEAC-B391-4FE7-9B2E-7B7D56A9C80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search focus for ICEs II</a:t>
            </a:r>
            <a:endParaRPr b="1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sk-based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collaborators discover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eation of shared  workspaces based on shared-interest group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ta-search engine with security and access managem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aptive Team Dynamic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nitor, remember, modify, and reproduce on demand session setting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vide effectiveness assessment tool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ctive role-based view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dependent data views system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mbedding active elements in collaborative applications as neede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sk/security/access/display contro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96FF-3A80-417C-8795-0C7A7974510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Adaptive Session Managemen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ptimal locat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 information serv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ranscoding servic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based on portal capabilit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ideo gateways to translate encodings between various standard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ssion-based resource allocat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ccording to task complexity, priorities, available bandwidth and connectivit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iority reservation of bandwidth based on user initiated requests (RSVP protocol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tomatic, multi-point adaptation of resources (session bandwidth, display transcoding, and object placement) within a multi-user session based on task, resource availability, connectivity, and access porta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7095-AE56-4B8B-B7DA-3BA8BAC5BD5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ynchronous collaboratory and persistenc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pture of informal collaborations in multiple medi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pture  of session semantic even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eation of rich semantic indices of multi-media archiv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etadata suppor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or asynchronous mod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presentation of  threaded discussions through user provided semantic tag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pport for metadata-oriented search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gration of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mpound documen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notation of compound documents with multiple media not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aring of compound documents with active, collaborative componen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ranslingual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arch of text repositorie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ontext Based Record Retrieval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01D3-5BD7-4DC4-AE58-AAF7A7A5762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Task-Based Collaborator Discovery</a:t>
            </a: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vide tools fo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anual and automatic creation of shared, multi-user workspac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based on shared-interest communitie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grat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-based search engin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combined with meta-data represent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tegrate session captur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ith dynamic creation of interest group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lement user-searchable distributed directory servic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ask-oriented discover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nitor and model user’s task-based interests in real-tim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are and contrast a user’s task-based interest model against the interest models of other us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tify potential collaborators about possibly effective match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F1EE-B463-4C04-BFA5-0F394AF3775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Groupware Definition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ree basic components of groupware: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nowledge base - technically, a data repository of any kin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rkflow - a set of rules describing the activity in which a group of people participates and therefore defining the scope of collaboration proces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llaboration - a process of exchanging messages between group member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l components are intertwined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fferent tasks employ three components to a various degre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1403-9F14-414C-A019-2B4EF9F211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Adaptive Team Dynamic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ig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orkflow scripting languag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ied to asynchronous repositor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vestigat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orkflow issues for  mobile team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eate automated support for adjusting workflow in response to changing situation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velop meta-rule system (rules for changing the rules) that allows a team to evolve their own process model over time in response to changing team composition, situation, and tas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nitor team dynamics in real-time to detect when the current  process model is becoming ineffectiv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ggest automatically appropriate process models based upon team composition, situation, and tas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B649-75E7-42F2-9882-F1F43FDAA5E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Active, Role-Based View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ared interaction in 3-D virtual reality view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dels for shared control of single user appli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nchronized control of browsers, including support for sharing of embedded objec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ared control of replicated, time-aware, self-rendering objec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rchitectures for shared application viewing using embedded or linked application objects and/or application serv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velopment of role-based application views from a shared databas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ime-controlled viewing of simulation outputs in interactive environmen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E9B8-BAD7-46B1-BAD3-062FE57D6B80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Is TANGO is more</a:t>
            </a:r>
            <a:br>
              <a:rPr sz="4000"/>
            </a:b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han a LOGO?</a:t>
            </a:r>
            <a:br>
              <a:rPr sz="4000"/>
            </a:b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We will now see ...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85800" y="5714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ttp://trurl.npac.syr.edu/tang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0" name="tango1" descr=""/>
          <p:cNvPicPr/>
          <p:nvPr/>
        </p:nvPicPr>
        <p:blipFill>
          <a:blip r:embed="rId1"/>
          <a:stretch/>
        </p:blipFill>
        <p:spPr>
          <a:xfrm>
            <a:off x="0" y="2651040"/>
            <a:ext cx="4419720" cy="2633760"/>
          </a:xfrm>
          <a:prstGeom prst="rect">
            <a:avLst/>
          </a:prstGeom>
          <a:ln w="0">
            <a:noFill/>
          </a:ln>
        </p:spPr>
      </p:pic>
      <p:pic>
        <p:nvPicPr>
          <p:cNvPr id="361" name="tango8" descr=""/>
          <p:cNvPicPr/>
          <p:nvPr/>
        </p:nvPicPr>
        <p:blipFill>
          <a:blip r:embed="rId2"/>
          <a:stretch/>
        </p:blipFill>
        <p:spPr>
          <a:xfrm>
            <a:off x="4572000" y="2666880"/>
            <a:ext cx="4572000" cy="2624400"/>
          </a:xfrm>
          <a:prstGeom prst="rect">
            <a:avLst/>
          </a:prstGeom>
          <a:ln w="0">
            <a:noFill/>
          </a:ln>
        </p:spPr>
      </p:pic>
      <p:pic>
        <p:nvPicPr>
          <p:cNvPr id="362" name="tango7" descr=""/>
          <p:cNvPicPr/>
          <p:nvPr/>
        </p:nvPicPr>
        <p:blipFill>
          <a:blip r:embed="rId3"/>
          <a:stretch/>
        </p:blipFill>
        <p:spPr>
          <a:xfrm>
            <a:off x="4952880" y="0"/>
            <a:ext cx="3886200" cy="250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5427-6071-4A78-8567-7369BE9307A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Web Impact on Groupwar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ccess to data repositories has been revolutionize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 “globalized” knowledge base is unstructured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ed to implement metadata and divorce structure from conten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nce, XML and RDF initiatives critical for internet groupware (not a subject of this tutorial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ttle impact on the workflow proces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b enables synchronous collaboratory - as we will show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4B38-D54A-4CCF-BD6B-C4A7437894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Asynchronous Groupwar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ditional approach is to support asynchronous collabor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lectronic mail, including mailing lis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readed discussion group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rface to document management system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ultimedia mail extens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roup calendar and schedul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ynchronous process is self-document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emendously successful mod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d not supplant phone though..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D5C7-AE42-4B3E-96E1-759944BD8E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ynchronous collaboration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Synchronous collabor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s a process of a computer-mediated exchange of information in which messages are being transmitted and presented to the users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instantaneous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ing presentation tools designed to convey message semantics in the most efficient wa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e that the notion of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asynchronous collabor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being extended to also denote the process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asynchronous retrieval of the sessions of synchronous collabor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essions (record and playback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In plain Englis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replace phone/fax by desktop comput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964D-2373-4CD9-A183-5B50BA4905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ynchronous groupwar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773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ditionally, this includes desktop videoconferencing + amenities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iteboard for simple drawing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at as audio/video backup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times, limited-functionality shared brows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ata conferencing” : ability to share documen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lemented as “shared application” using one of very general “display sharing” technolog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5AA8-8FF9-4F20-8AE0-804C897FD0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Synchronous groupware: state of the art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ideoteleconferencing supporting a few coding standards,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almos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.323 complia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ulticast Backbone with related tools for session notification, video, audio, and shared whiteboard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BONE architecture is very multicast-oriented…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ulti-User Domains (MUDs) with either text-based or 3-D graphical interface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cult technology, Metaverse rather than collabora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ared X and Windows Appli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ecial-purpose custom-made Shared Appli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mercial packages (to be discussed separately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1366-C3E4-4B61-A607-A35941ADA3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tate of the art - Limitation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calability: never proven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o support for different user categories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roperability still a problem after a decade of “open systems”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ak or no support for asynchronous collaboratio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 either sense of the term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 flexible process support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udimentary session control and community/group dynamics suppor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 support for context-based discovery of relevant collaborators and inform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D6AA-D633-4022-B627-9342F8B5A6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4T01:11:54Z</dcterms:created>
  <dc:creator>Marek Podgorny</dc:creator>
  <dc:description/>
  <dc:language>en-US</dc:language>
  <cp:lastModifiedBy>Geoffrey C. Fox</cp:lastModifiedBy>
  <cp:lastPrinted>1998-04-26T01:13:39Z</cp:lastPrinted>
  <dcterms:modified xsi:type="dcterms:W3CDTF">1998-04-26T01:13:45Z</dcterms:modified>
  <cp:revision>31</cp:revision>
  <dc:subject/>
  <dc:title>TANGO for Distance Lear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npac.syr.edu</vt:lpwstr>
  </property>
  <property fmtid="{D5CDD505-2E9C-101B-9397-08002B2CF9AE}" pid="9" name="LinkColor">
    <vt:r8>16711782</vt:r8>
  </property>
  <property fmtid="{D5CDD505-2E9C-101B-9397-08002B2CF9AE}" pid="10" name="MailAddress">
    <vt:lpwstr>gcf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temp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