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079-98FD-40D0-AC01-3859069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EB9-988A-44BD-A173-CD211664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0C6-28D2-43D8-AC4B-BAA2450D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363-C1C5-4C7C-B4A6-B44D7892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26C-A596-4D71-95E9-EDAA4DCB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EB7-9C25-4F2C-93DE-46B0FE1B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F38-27B3-48F6-99E4-EEB31654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930-D5A8-446C-B9AD-D72B8B62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506-2FF6-474B-8D0B-33EFFDD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79D-C7A2-4E1F-B0DF-4697A5EA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0F0-6340-40C9-A188-21E46C9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9CE-8E8E-4613-8E59-342152E4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E196-FDE8-453D-B6BB-063C4D72B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JWORB - Java Web Object Request Broker</a:t>
            </a:r>
            <a:endParaRPr b="0" lang="en-US" sz="4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0066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G. C. Fox, W. Furmanski and H. T. Ozde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east Parallel Architectures Center, Syracus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ff99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resented at Alliance’98, NCSA, April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9. CORBA Wrappers for C/++ Legacy Codes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ms_1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962160" cy="3222720"/>
          </a:xfrm>
          <a:prstGeom prst="rect">
            <a:avLst/>
          </a:prstGeom>
          <a:ln w="0">
            <a:noFill/>
          </a:ln>
        </p:spPr>
      </p:pic>
      <p:pic>
        <p:nvPicPr>
          <p:cNvPr id="86" name="modsaf" descr=""/>
          <p:cNvPicPr/>
          <p:nvPr/>
        </p:nvPicPr>
        <p:blipFill>
          <a:blip r:embed="rId2"/>
          <a:stretch/>
        </p:blipFill>
        <p:spPr>
          <a:xfrm>
            <a:off x="4267080" y="914400"/>
            <a:ext cx="4724640" cy="32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267080"/>
            <a:ext cx="39621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A/RTI provides distributed object model and software b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WORB offers smooth integration with Web and Enterprise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ctual simulation modules come from the existing C, C++, Fortan, Ada etc. legacy codes in the DoD M&amp;S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114800"/>
            <a:ext cx="46483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 of such codes we currently work with include ModSAF (above) and CMS (lef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codes are being now parallelized and suitably encapsulated as CORBA components or Enterprise JavaBeans within the JWORB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h wrapper technology will allow these codes to interoperate in the next generation World-Wide scalable fe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1. JWORB Technology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WORB is an extensibe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multi-protoc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twork server written in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JWORB prototype at NPAC supports HTTP (+CGI+Servlets) and IIOP protocols i.e. it can act as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Web Server and CORBA Bro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OP and HTTP requests are distinguished by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magic hea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GIOP vs GET, POST, HEAD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New protoc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dded via JWORB extensibility framework (one such natural extension could be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RT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sup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reamlined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JWOR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uns on UNIX, Windows NT, Windows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WORB is an NPAC proposal for Object Web middleware within a 3-tier distributed object model called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Pragmatic Object We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Page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hat integrates Java, CORBA, DCOM and WOM (i.e. XML+DOM+RD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WORB will be soon used as middleware in several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Object Web applic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der development at NPAC (see next p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. JWORB Applications 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pages illustrate a set of JWORB testing and early prototyping activities at NPAC, starting from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erformance benchma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ages 4,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replacing NPAC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WebFlow middle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itially based on JavaSoft’s Java Web Servers by a mesh of JWORB servers (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age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so intend to use JWORB as the core infrastructure technology for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WebH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n Object Web based implementation of DMSO HLA standard for Modeling and Simulation (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ages 3,7,8,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HLA includes communication bus given by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Object Web R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age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CORBA Wrap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C/C++ legacy codes (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age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eventual goal is WebHLA based support for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Virtual Prototy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imulation Based Design/Acquisition systems in the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High Performance FMS/I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ains (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age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3. JWORB based Object Web Integration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worb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62160" cy="3421080"/>
          </a:xfrm>
          <a:prstGeom prst="rect">
            <a:avLst/>
          </a:prstGeom>
          <a:ln w="0">
            <a:noFill/>
          </a:ln>
        </p:spPr>
      </p:pic>
      <p:pic>
        <p:nvPicPr>
          <p:cNvPr id="50" name="webhla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190760" cy="344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4724280"/>
            <a:ext cx="41911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llustration of Pragmatic Object Web 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 integrates Java, CORBA, DCOM, H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WORB itself integrates HTTP and II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, it links to DCOM via CORBA/COM      bridge, to HPJava via RMI, to SIO via CORBA enterprise services, and to WOM via 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4724280"/>
            <a:ext cx="41907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HLA - an example of JWORB based 3-tier system in DoD M&amp;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 specific modules (HLA federates) plug in as CORBA objects into JWORB bus and can be accessed via Web browser front-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et of NPAC/IWT projects in the figure is involved in developing WebHL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4. JWORB Performance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ntArray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191120" cy="3362400"/>
          </a:xfrm>
          <a:prstGeom prst="rect">
            <a:avLst/>
          </a:prstGeom>
          <a:ln w="0">
            <a:noFill/>
          </a:ln>
        </p:spPr>
      </p:pic>
      <p:pic>
        <p:nvPicPr>
          <p:cNvPr id="56" name="StrArray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267440" cy="3409920"/>
          </a:xfrm>
          <a:prstGeom prst="rect">
            <a:avLst/>
          </a:prstGeom>
          <a:ln w="0">
            <a:noFill/>
          </a:ln>
        </p:spPr>
      </p:pic>
      <p:pic>
        <p:nvPicPr>
          <p:cNvPr id="57" name="IntArray2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3200400" cy="260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828800" y="129528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Fig. 1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562720" y="441972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Fig. 2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81680" y="1447920"/>
            <a:ext cx="6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Fig. 3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038480"/>
            <a:ext cx="44960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ompare here performance of several Java (and C++) ORBs; JWORB performance is satisfactory as for an early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ces in Figs.1 and 2 are related to the use (or not) of (slow) object ser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++ ORB (omniORB2 in Fig. 3) is order of magnitude faster than all Java ORBs so Java ORBs useful mainly for middlewar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5. JWORB Demo for HTTP+IIOP Integration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jworbScreen1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086680" cy="4497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5410080"/>
            <a:ext cx="88394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imple demo illustrates the interplay between HTTP and IIOP protocols inside JW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tscape4 applet connects as ORBlet to JWORB and displays real-time p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is benchmark, client connects to JWORB also via HTTP channel by downloading a page (left frame above) - this results in transient performance loss (spike) in the IIOP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6. JWORB as new WebFlow middleware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pic>
        <p:nvPicPr>
          <p:cNvPr id="68" name="WebFlowHPCC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69" name="hpf1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4038480" cy="3120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4267080"/>
            <a:ext cx="4191120" cy="22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Flow is a Web/Java based visual dataflow system with applet based visual graph editor and servlet based management of distributed  computational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WebFlow prototype at NPAC was based on a mesh of Java Web Servers from JavaSoft (former name Jee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267080"/>
            <a:ext cx="4572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currently switching to JWORB based WebFlow middle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rallel, we are addressing WebFlow integration with Globus in the backend and with UML authoring tools in the front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</a:rPr>
              <a:t>7. DoD M&amp;S versus Object Web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pic>
        <p:nvPicPr>
          <p:cNvPr id="73" name="dis-corba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419360" cy="3281400"/>
          </a:xfrm>
          <a:prstGeom prst="rect">
            <a:avLst/>
          </a:prstGeom>
          <a:ln w="0">
            <a:noFill/>
          </a:ln>
        </p:spPr>
      </p:pic>
      <p:pic>
        <p:nvPicPr>
          <p:cNvPr id="74" name="fig1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962160" cy="3289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4495680"/>
            <a:ext cx="441936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HLA is NPAC recommendation for High Performance FMS/IMT within the DoD Moderniz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roadmap shown above places WebHLA at the convergence point of CORBA, Web, M&amp;S and HPC commodity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267080"/>
            <a:ext cx="41911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h Virtual Prototyping Environments for Simulation Based Acquisition are currently operated only by large industry (e.g. Boe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in WebHLA, they become affordable via integration of Defence, Enteprise, Desktop and open Web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8. JWORB based Object Web RTI</a:t>
            </a:r>
            <a:endParaRPr b="0" lang="en-US" sz="40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wrti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09920" cy="3438360"/>
          </a:xfrm>
          <a:prstGeom prst="rect">
            <a:avLst/>
          </a:prstGeom>
          <a:ln w="0">
            <a:noFill/>
          </a:ln>
        </p:spPr>
      </p:pic>
      <p:pic>
        <p:nvPicPr>
          <p:cNvPr id="80" name="rti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4191120" cy="345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4495680"/>
            <a:ext cx="44960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build WebHLA in a sequence of tasks, starting from JWORB based Object Web RTI (Run-Time Infrastructure) illustrated ab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JWORB model, communication objects: RTIAmbassador and FederateAbmassador  become Java CORBA remote objects and hence naturally accessible from Web front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495680"/>
            <a:ext cx="43434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JWORB integrates CORBA and the Web, Object Web RTI enables World-Wide scalable HLA Fed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ur FMS PET projects within the DoD Modernization Program, we start addressing such large scale simulations involving several HPC DoD Labs (MSRCs and D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6T19:30:21Z</dcterms:created>
  <dc:creator>furm</dc:creator>
  <dc:description/>
  <dc:language>en-US</dc:language>
  <cp:lastModifiedBy>Geoffrey C. Fox</cp:lastModifiedBy>
  <cp:lastPrinted>1998-04-24T21:25:12Z</cp:lastPrinted>
  <dcterms:modified xsi:type="dcterms:W3CDTF">1998-05-01T22:39:25Z</dcterms:modified>
  <cp:revision>47</cp:revision>
  <dc:subject/>
  <dc:title>Towards High Performance  Object Web based  FMS/IMT Environ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users\furm\ppt\arl-oct97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