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3C2-5D36-4D11-824F-5B6AF387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A6E-A9E7-4801-8D9E-0AB2E378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DFC-0B59-44CD-9840-579DA2E9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E5D-9D9D-4BE7-9EA6-BA79FD82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DE1A-E65B-445A-B6E2-6FC31F4F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613C-54C0-4955-AC4E-658D7F80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1E69-D3BF-44EA-98F6-51331A4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4D00-BCE1-4A78-A6B4-3E4BF91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DAAB-09A4-4667-AA99-83EA8796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D0C7-864C-4164-9F68-45AE11E9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C2BD-419B-406B-8A50-113814A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D36-8435-442C-A5F4-0D2A866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598A-E90F-407E-85D3-B250E02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4657-5DDB-4EBE-AB64-C3E6B60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F4FA-162C-47C9-9817-EB9B21D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8703-8E0E-4B0B-B3ED-EDF3B2C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EFFE-F36F-4DB5-A774-D389CC44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C4B-3F05-424E-BA01-82239711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84B-4CA9-4FBF-A543-8875EC2B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268-818C-4FE3-A643-CD25AE73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7E3-E69F-4E03-A68B-5B76DF9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D32-A222-438C-8788-D83472B7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E9F-9C46-4125-8A60-C534E3D0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177-1E71-4F0D-ACEC-CE7F6EC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137-C1DD-48F7-83E0-227D96152D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967A-D22B-4E88-9F71-88D43A870F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PJava: Structured SPMD programming in Ja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Java binding of the High Level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HPspmd </a:t>
            </a: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yan Carpenter, Geoffrey Fox, Xinying Li, Yuhong Wen, Guansong Zha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tiv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parallelism vital in High Performance scientific comput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level HPF programming model attractive, but implementations problema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HPspmd mode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Distributed array syntax, plus high-level class library bindings for communication and arithmetic on arr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xplicitly MIMD control flow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PJa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ance of the HPspmd language mod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s limited new syntax to Java for describing and accessing distributed array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buted array model is a superset of  HPF 1.0 mod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istributed contro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nstructs replace ON HOME and FORALL constructs of HPF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bra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HPspmd model, all communications go through explicit calls to user-level libraries, initially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lib: regular collective oper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PI: low-level message pa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ter, add interfaces to other libraries, e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obal Arrays: 1-sided access to remot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OS: irregular collective operati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tributed Array Synta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PJa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rocs p = new Procs1(4)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ange x = new BlockRange(100,p.dim(0)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loat [[,*]] a = new float [[x, 100]] on p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loat [[]] b = new float [[x]] on p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5520" y="1981080"/>
            <a:ext cx="44193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P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!HPF$ PROCESSOR P(4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!HPF$ DISTRIBUTE  T(BLOCK)  ONTO 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REAL A(100,10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!HPF$ ALIGN A(:,*) WITH T(: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REAL B(10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Helvetica-Narrow"/>
              </a:rPr>
              <a:t>!HPF$ ALIGN B(:) WITH T(: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stributed Contr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icitly coordinate groups of proces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ups cooperate in loosely synchronous man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ol constructs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ver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ispatch con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528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n(p) {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verall(i = x|: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 [i] = 0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t(j = x [3]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 [j] = 23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verall(i = x|2:99) {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r(int k = 0 ; k &lt; 5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 [i,  k] = b [i] + k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 Red-black it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Procs p = new Procs2(NP, NP)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n(p) {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ange x = new BlockRange(N, p.dim(0), 1) ;   // ghost width 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Range y = new BlockRange(N, p.dim(1), 1) ;   // 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loat [[,]] u = new float [[x, y]]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r(int parity = 0 ; parity &lt; 2 ; parity++) {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Adlib.writeHalo(u, widths)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verall(i = x | 1 : N - 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verall(j = y | 1 + (x.idx(i) + parity) % 2 : N - 2 : 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 [i, j] = 0.25 * (u [i - 1, j] + u [i + 1, j] +  u [i, j - 1] + u [i, j + 1])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liminary Performa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2130480"/>
            <a:ext cx="4876920" cy="4260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11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nd translated Jacobi iteration (HPJava to Jav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ared with sequential Java, C++ and Fortran (-O optimization level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DK 1.2Beta, JNI to Adlib, MPICH, Ultrasparc clu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HPspmd Langua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have outlined a dialect of Fortran following the same HPspmd programming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++ version of the model can be implemented through class libraries and macros alone (but inefficient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llaborators at University of Peking to implement compilers for these languag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4T18:18:00Z</dcterms:created>
  <dc:creator>dbc</dc:creator>
  <dc:description/>
  <dc:language>en-US</dc:language>
  <cp:lastModifiedBy>Geoffrey C. Fox</cp:lastModifiedBy>
  <cp:lastPrinted>1998-04-24T21:12:20Z</cp:lastPrinted>
  <dcterms:modified xsi:type="dcterms:W3CDTF">1998-05-02T21:31:48Z</dcterms:modified>
  <cp:revision>3</cp:revision>
  <dc:subject/>
  <dc:title>HPJava: Structured SPMD programming in Ja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