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280" y="401220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2560" y="401220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15080" y="10666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7880" y="10666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280" y="401220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15080" y="401220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7880" y="401220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892-87A2-49AC-93C8-2B706E41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2F2-FB0D-4D0A-AAF7-561D5007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E6F-9A05-4CB4-A4F0-7606426E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A35-5541-4E02-B3BD-49F6F409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AF3-878D-4C8F-932D-A0E5D545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C72-DCC7-41ED-A5A7-8F92BC5A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C4F-803B-43B3-B05A-1F8E731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2560" y="401220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3D3-8FAE-4964-9A49-A378734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CC4-2FF6-4B58-A32D-DFAD94ED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280" y="401220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CB9-EDCC-48C9-A97D-442FC256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2560" y="401220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CC2-F4EC-4D32-ABBD-1FE2534C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15080" y="10666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7880" y="106668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280" y="401220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15080" y="401220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7880" y="4012200"/>
            <a:ext cx="28213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1A4-F8B6-4FA4-9F6B-88A0D3E4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2560" y="401220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4012200"/>
            <a:ext cx="8763120" cy="268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084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084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93720" y="2921040"/>
            <a:ext cx="7653240" cy="344520"/>
          </a:xfrm>
          <a:custGeom>
            <a:avLst/>
            <a:gdLst/>
            <a:ahLst/>
            <a:rect l="l" t="t" r="r" b="b"/>
            <a:pathLst>
              <a:path w="4821" h="217">
                <a:moveTo>
                  <a:pt x="185" y="58"/>
                </a:moveTo>
                <a:lnTo>
                  <a:pt x="194" y="58"/>
                </a:lnTo>
                <a:lnTo>
                  <a:pt x="211" y="58"/>
                </a:lnTo>
                <a:lnTo>
                  <a:pt x="244" y="54"/>
                </a:lnTo>
                <a:lnTo>
                  <a:pt x="286" y="54"/>
                </a:lnTo>
                <a:lnTo>
                  <a:pt x="337" y="50"/>
                </a:lnTo>
                <a:lnTo>
                  <a:pt x="404" y="46"/>
                </a:lnTo>
                <a:lnTo>
                  <a:pt x="480" y="42"/>
                </a:lnTo>
                <a:lnTo>
                  <a:pt x="572" y="38"/>
                </a:lnTo>
                <a:lnTo>
                  <a:pt x="665" y="34"/>
                </a:lnTo>
                <a:lnTo>
                  <a:pt x="774" y="31"/>
                </a:lnTo>
                <a:lnTo>
                  <a:pt x="892" y="27"/>
                </a:lnTo>
                <a:lnTo>
                  <a:pt x="1010" y="23"/>
                </a:lnTo>
                <a:lnTo>
                  <a:pt x="1144" y="19"/>
                </a:lnTo>
                <a:lnTo>
                  <a:pt x="1287" y="15"/>
                </a:lnTo>
                <a:lnTo>
                  <a:pt x="1599" y="7"/>
                </a:lnTo>
                <a:lnTo>
                  <a:pt x="1927" y="4"/>
                </a:lnTo>
                <a:lnTo>
                  <a:pt x="2288" y="0"/>
                </a:lnTo>
                <a:lnTo>
                  <a:pt x="2675" y="0"/>
                </a:lnTo>
                <a:lnTo>
                  <a:pt x="3070" y="4"/>
                </a:lnTo>
                <a:lnTo>
                  <a:pt x="3491" y="7"/>
                </a:lnTo>
                <a:lnTo>
                  <a:pt x="3928" y="19"/>
                </a:lnTo>
                <a:lnTo>
                  <a:pt x="4366" y="34"/>
                </a:lnTo>
                <a:lnTo>
                  <a:pt x="4820" y="58"/>
                </a:lnTo>
                <a:lnTo>
                  <a:pt x="4820" y="61"/>
                </a:lnTo>
                <a:lnTo>
                  <a:pt x="4820" y="69"/>
                </a:lnTo>
                <a:lnTo>
                  <a:pt x="4820" y="85"/>
                </a:lnTo>
                <a:lnTo>
                  <a:pt x="4820" y="104"/>
                </a:lnTo>
                <a:lnTo>
                  <a:pt x="4820" y="150"/>
                </a:lnTo>
                <a:lnTo>
                  <a:pt x="4820" y="200"/>
                </a:lnTo>
                <a:lnTo>
                  <a:pt x="4433" y="177"/>
                </a:lnTo>
                <a:lnTo>
                  <a:pt x="4055" y="162"/>
                </a:lnTo>
                <a:lnTo>
                  <a:pt x="3684" y="150"/>
                </a:lnTo>
                <a:lnTo>
                  <a:pt x="3314" y="146"/>
                </a:lnTo>
                <a:lnTo>
                  <a:pt x="2953" y="146"/>
                </a:lnTo>
                <a:lnTo>
                  <a:pt x="2608" y="146"/>
                </a:lnTo>
                <a:lnTo>
                  <a:pt x="2263" y="154"/>
                </a:lnTo>
                <a:lnTo>
                  <a:pt x="1943" y="162"/>
                </a:lnTo>
                <a:lnTo>
                  <a:pt x="1632" y="169"/>
                </a:lnTo>
                <a:lnTo>
                  <a:pt x="1338" y="181"/>
                </a:lnTo>
                <a:lnTo>
                  <a:pt x="1060" y="193"/>
                </a:lnTo>
                <a:lnTo>
                  <a:pt x="799" y="200"/>
                </a:lnTo>
                <a:lnTo>
                  <a:pt x="564" y="208"/>
                </a:lnTo>
                <a:lnTo>
                  <a:pt x="354" y="212"/>
                </a:lnTo>
                <a:lnTo>
                  <a:pt x="160" y="216"/>
                </a:lnTo>
                <a:lnTo>
                  <a:pt x="0" y="212"/>
                </a:lnTo>
                <a:lnTo>
                  <a:pt x="185" y="58"/>
                </a:lnTo>
              </a:path>
            </a:pathLst>
          </a:custGeom>
          <a:solidFill>
            <a:srgbClr val="062cc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8D46-9D7E-4474-9B08-8325E420CC8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762120"/>
            <a:ext cx="784836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Created by: B. Ki, S. Klasky, G. Fox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Scivis is a </a:t>
            </a:r>
            <a:r>
              <a:rPr b="0" lang="en-US" sz="2600" spc="-1" strike="noStrike">
                <a:solidFill>
                  <a:srgbClr val="ff0033"/>
                </a:solidFill>
                <a:latin typeface="Times New Roman"/>
              </a:rPr>
              <a:t>client-server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 visualization and analysis system which takes full advantage of Java (over 40K lines).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The purpose of this system is provide researchers with a </a:t>
            </a:r>
            <a:r>
              <a:rPr b="0" lang="en-US" sz="2600" spc="-1" strike="noStrike">
                <a:solidFill>
                  <a:srgbClr val="ff0033"/>
                </a:solidFill>
                <a:latin typeface="Times New Roman"/>
              </a:rPr>
              <a:t>customizable data analysis system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 to aid their research.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We provide a collaborative framework, where users can exchange data and their own personalized filters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Available via (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email scott@npac.syr.edu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 for questions)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http://kopernik.npac.syr.edu:8888/scivi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OTE: Scivis  is not Web-based, It’s a Java application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c480e"/>
                </a:solidFill>
                <a:latin typeface="Times New Roman"/>
              </a:rPr>
              <a:t>ScivisLight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  is a browser version of Scivis, but is not be as powerful as Scivis!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228600"/>
            <a:ext cx="78519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llaborative Scientific Visualization (Scivis)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nce filters are </a:t>
            </a:r>
            <a:r>
              <a:rPr b="0" lang="en-US" sz="2800" spc="-1" strike="noStrike">
                <a:solidFill>
                  <a:srgbClr val="bc480e"/>
                </a:solidFill>
                <a:latin typeface="Times New Roman"/>
              </a:rPr>
              <a:t>user-definable</a:t>
            </a: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, different users in a collaboration can have different filters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If a user in a collaboration runs a filter, her/his local version of Scivis checks to see if the other collaborator(s) have this filter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If they do, then we </a:t>
            </a:r>
            <a:r>
              <a:rPr b="0" lang="en-US" sz="2600" spc="-1" strike="noStrike">
                <a:solidFill>
                  <a:srgbClr val="062cc1"/>
                </a:solidFill>
                <a:latin typeface="Times New Roman"/>
              </a:rPr>
              <a:t>send the command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 of the filter.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If not, we use </a:t>
            </a: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serialization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 to send the class file, of the filter, to Scivis.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This system will allow users to exchange new filters among the collaborato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09680" y="76320"/>
            <a:ext cx="46008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Curlz MT"/>
              </a:rPr>
              <a:t>Collaboration with Filter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Curlz MT"/>
              <a:ea typeface="Curlz MT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Animation's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Postscript/ GIF outputs (eventually MPEG)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Zooms, Rotation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olor map editor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Customizable labels, tick marks, plot size, etc.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ull White board capabilities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Buffering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Isosurfaces, complex meshes, surface plots, contour plots, vector plots, line plots, point plots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Virtual Window Manager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09680" y="76320"/>
            <a:ext cx="48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ther Features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civis3D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Use Java 3D, for full hardware rendering. 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e are incorporating Java2D too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We have an early release version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civisLight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Browser version of Scivis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Tango version will follow after this version is complete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civisLight3D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Must have a web browser that is capable of using Java3D.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Add more features!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More plots ( we now have bar charts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More options (Bar chart, legend, …)</a:t>
            </a:r>
            <a:endParaRPr b="0" lang="en-US" sz="20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Front End to Vis5D -&gt; Scivis??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46" name="bar2-merge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209680" y="76320"/>
            <a:ext cx="493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urrent Scivis Wor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20680" y="777960"/>
            <a:ext cx="7026480" cy="5622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914400" y="104760"/>
            <a:ext cx="7372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 screen dump from a sample Scivis Session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9880" y="3049560"/>
            <a:ext cx="4567320" cy="3328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371600" y="6858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19440" cy="1819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914400" y="3429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81080" y="76320"/>
            <a:ext cx="509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re Screen Dumps (Scivis3D)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120" y="836640"/>
            <a:ext cx="7543800" cy="5178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362320" y="152280"/>
            <a:ext cx="4495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More Screen Dump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civis is a visualization server.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imulations servers connect to Scivis with Pipes.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hey send data to Scivis via API’s that we provide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hese API’s open up temporary connections to Scivis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These servers may just read in data and pipe it to Scivis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28720" y="3870360"/>
            <a:ext cx="188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Scivis(server)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25440" y="4267080"/>
            <a:ext cx="6851520" cy="2210040"/>
            <a:chOff x="1225440" y="4267080"/>
            <a:chExt cx="6851520" cy="2210040"/>
          </a:xfrm>
        </p:grpSpPr>
        <p:sp>
          <p:nvSpPr>
            <p:cNvPr id="92" name=""/>
            <p:cNvSpPr/>
            <p:nvPr/>
          </p:nvSpPr>
          <p:spPr>
            <a:xfrm>
              <a:off x="6717960" y="4807080"/>
              <a:ext cx="1359000" cy="1434960"/>
            </a:xfrm>
            <a:prstGeom prst="rect">
              <a:avLst/>
            </a:prstGeom>
            <a:solidFill>
              <a:srgbClr val="bc480e"/>
            </a:soli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68280" y="4861080"/>
              <a:ext cx="1311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90 code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512880" y="4801680"/>
              <a:ext cx="3198960" cy="68436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720000">
              <a:off x="4181400" y="4708440"/>
              <a:ext cx="1864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Pipe to Scivis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98600" y="5394240"/>
              <a:ext cx="1203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ava_ser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lls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pic>
          <p:nvPicPr>
            <p:cNvPr id="97" name="scivis_main" descr=""/>
            <p:cNvPicPr/>
            <p:nvPr/>
          </p:nvPicPr>
          <p:blipFill>
            <a:blip r:embed="rId2"/>
            <a:stretch/>
          </p:blipFill>
          <p:spPr>
            <a:xfrm>
              <a:off x="1225440" y="4267080"/>
              <a:ext cx="2330280" cy="22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 txBox="1"/>
          <p:nvPr/>
        </p:nvSpPr>
        <p:spPr>
          <a:xfrm>
            <a:off x="2133720" y="380880"/>
            <a:ext cx="4952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Visualization Server Mod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3d Isosurfaces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08200" y="1911240"/>
            <a:ext cx="1663560" cy="978120"/>
            <a:chOff x="808200" y="1911240"/>
            <a:chExt cx="1663560" cy="978120"/>
          </a:xfrm>
        </p:grpSpPr>
        <p:sp>
          <p:nvSpPr>
            <p:cNvPr id="101" name=""/>
            <p:cNvSpPr/>
            <p:nvPr/>
          </p:nvSpPr>
          <p:spPr>
            <a:xfrm>
              <a:off x="808200" y="1911240"/>
              <a:ext cx="1663560" cy="978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5200" y="1989000"/>
              <a:ext cx="1609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Simulation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Engine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3760" y="1911240"/>
            <a:ext cx="1663560" cy="978120"/>
            <a:chOff x="5873760" y="1911240"/>
            <a:chExt cx="1663560" cy="978120"/>
          </a:xfrm>
        </p:grpSpPr>
        <p:sp>
          <p:nvSpPr>
            <p:cNvPr id="104" name=""/>
            <p:cNvSpPr/>
            <p:nvPr/>
          </p:nvSpPr>
          <p:spPr>
            <a:xfrm>
              <a:off x="5873760" y="1911240"/>
              <a:ext cx="1663560" cy="978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0600" y="2171880"/>
              <a:ext cx="931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</a:rPr>
                <a:t>Scivis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359160" y="1911240"/>
            <a:ext cx="1663560" cy="978120"/>
            <a:chOff x="3359160" y="1911240"/>
            <a:chExt cx="1663560" cy="978120"/>
          </a:xfrm>
        </p:grpSpPr>
        <p:sp>
          <p:nvSpPr>
            <p:cNvPr id="107" name=""/>
            <p:cNvSpPr/>
            <p:nvPr/>
          </p:nvSpPr>
          <p:spPr>
            <a:xfrm>
              <a:off x="3359160" y="1911240"/>
              <a:ext cx="1663560" cy="978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9360" y="1989000"/>
              <a:ext cx="152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</a:rPr>
                <a:t>Isosurface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</a:rPr>
                <a:t>Engine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029200" y="2400480"/>
            <a:ext cx="838080" cy="0"/>
          </a:xfrm>
          <a:prstGeom prst="line">
            <a:avLst/>
          </a:prstGeom>
          <a:ln w="50760">
            <a:solidFill>
              <a:srgbClr val="941cb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2400480"/>
            <a:ext cx="838080" cy="0"/>
          </a:xfrm>
          <a:prstGeom prst="line">
            <a:avLst/>
          </a:prstGeom>
          <a:ln w="50760">
            <a:solidFill>
              <a:srgbClr val="941c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55480" y="3740040"/>
            <a:ext cx="4186440" cy="2349720"/>
            <a:chOff x="555480" y="3740040"/>
            <a:chExt cx="4186440" cy="2349720"/>
          </a:xfrm>
        </p:grpSpPr>
        <p:sp>
          <p:nvSpPr>
            <p:cNvPr id="112" name=""/>
            <p:cNvSpPr/>
            <p:nvPr/>
          </p:nvSpPr>
          <p:spPr>
            <a:xfrm>
              <a:off x="555480" y="3740040"/>
              <a:ext cx="4186440" cy="2349720"/>
            </a:xfrm>
            <a:prstGeom prst="rect">
              <a:avLst/>
            </a:prstGeom>
            <a:solidFill>
              <a:srgbClr val="062cc1">
                <a:alpha val="50000"/>
              </a:srgbClr>
            </a:solidFill>
            <a:ln w="12600">
              <a:solidFill>
                <a:srgbClr val="062c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773520"/>
              <a:ext cx="4077000" cy="228708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Arial"/>
                </a:rPr>
                <a:t>3D arrays are stored in files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Arial"/>
                </a:rPr>
                <a:t>This engine is developed in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Arial"/>
                </a:rPr>
                <a:t>C and can be placed on any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Arial"/>
                </a:rPr>
                <a:t>machine. A marching cubes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Arial"/>
                </a:rPr>
                <a:t>engine creates triangles to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Arial"/>
                </a:rPr>
                <a:t>send to Scivis.</a:t>
              </a:r>
              <a:r>
                <a:rPr b="0" lang="en-US" sz="24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>
            <a:off x="2517840" y="2895480"/>
            <a:ext cx="1673280" cy="839880"/>
          </a:xfrm>
          <a:prstGeom prst="line">
            <a:avLst/>
          </a:prstGeom>
          <a:ln w="25560">
            <a:solidFill>
              <a:srgbClr val="941c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85680" y="3548160"/>
            <a:ext cx="2911320" cy="2044440"/>
            <a:chOff x="5485680" y="3548160"/>
            <a:chExt cx="2911320" cy="2044440"/>
          </a:xfrm>
        </p:grpSpPr>
        <p:sp>
          <p:nvSpPr>
            <p:cNvPr id="116" name=""/>
            <p:cNvSpPr/>
            <p:nvPr/>
          </p:nvSpPr>
          <p:spPr>
            <a:xfrm>
              <a:off x="5499000" y="3548160"/>
              <a:ext cx="2882880" cy="2044440"/>
            </a:xfrm>
            <a:prstGeom prst="rect">
              <a:avLst/>
            </a:prstGeom>
            <a:gradFill rotWithShape="0">
              <a:gsLst>
                <a:gs pos="0">
                  <a:srgbClr val="062cc1"/>
                </a:gs>
                <a:gs pos="100000">
                  <a:srgbClr val="ccccff"/>
                </a:gs>
              </a:gsLst>
              <a:lin ang="8100000"/>
            </a:gradFill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5680" y="3611520"/>
              <a:ext cx="29113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</a:rPr>
                <a:t>Scivis can query the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</a:rPr>
                <a:t>isosurface engine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</a:rPr>
                <a:t>for new threshold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</a:rPr>
                <a:t>values, or 2d slices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</a:rPr>
                <a:t>from the 3d data.</a:t>
              </a:r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781680" y="2895480"/>
            <a:ext cx="0" cy="609840"/>
          </a:xfrm>
          <a:prstGeom prst="line">
            <a:avLst/>
          </a:prstGeom>
          <a:ln w="25560">
            <a:solidFill>
              <a:srgbClr val="941cb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0" y="304920"/>
            <a:ext cx="4210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ther Servers in Sciv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120" y="6091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A filter is an action which is performed on a data set(s) to create a new data set based on this action. 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We provide an </a:t>
            </a:r>
            <a:r>
              <a:rPr b="0" lang="en-US" sz="2600" spc="-1" strike="noStrike">
                <a:solidFill>
                  <a:srgbClr val="ff0033"/>
                </a:solidFill>
                <a:latin typeface="Times New Roman"/>
              </a:rPr>
              <a:t>infrastructure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 for users to create their own filters.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Filters can be </a:t>
            </a:r>
            <a:r>
              <a:rPr b="0" lang="en-US" sz="2600" spc="-1" strike="noStrike">
                <a:solidFill>
                  <a:srgbClr val="660033"/>
                </a:solidFill>
                <a:latin typeface="Times New Roman"/>
              </a:rPr>
              <a:t>created on-the-fly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 and can be shared among collaborators. We provide a </a:t>
            </a:r>
            <a:r>
              <a:rPr b="0" lang="en-US" sz="2600" spc="-1" strike="noStrike">
                <a:solidFill>
                  <a:srgbClr val="ff0033"/>
                </a:solidFill>
                <a:latin typeface="Times New Roman"/>
              </a:rPr>
              <a:t>Wizard</a:t>
            </a: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 to create filter templates.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We provide interfaces to edit/compile and build filters. There is no need to go outside of SciVis to create filters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Examples: 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Merging of data sets by a point-and-click interface.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Interpolations from non-uniform mesh:uniform mesh.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Derivatives in Space and Time.</a:t>
            </a:r>
            <a:endParaRPr b="0" lang="en-US" sz="2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09680" y="76320"/>
            <a:ext cx="48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er-definable Filters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533520" y="1317600"/>
            <a:ext cx="8043480" cy="3863880"/>
            <a:chOff x="533520" y="1317600"/>
            <a:chExt cx="8043480" cy="3863880"/>
          </a:xfrm>
        </p:grpSpPr>
        <p:pic>
          <p:nvPicPr>
            <p:cNvPr id="123" name="editor-1" descr=""/>
            <p:cNvPicPr/>
            <p:nvPr/>
          </p:nvPicPr>
          <p:blipFill>
            <a:blip r:embed="rId2"/>
            <a:stretch/>
          </p:blipFill>
          <p:spPr>
            <a:xfrm>
              <a:off x="533520" y="1317600"/>
              <a:ext cx="4830840" cy="38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editor-build" descr=""/>
            <p:cNvPicPr/>
            <p:nvPr/>
          </p:nvPicPr>
          <p:blipFill>
            <a:blip r:embed="rId3"/>
            <a:stretch/>
          </p:blipFill>
          <p:spPr>
            <a:xfrm>
              <a:off x="5436360" y="1533600"/>
              <a:ext cx="3140640" cy="353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533520" y="5486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lters are created on-the-fly with our Java editor, compiler, and menu builder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343080"/>
            <a:ext cx="8039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lter Editor, builder &amp; compili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1880" y="2682720"/>
            <a:ext cx="1366920" cy="1492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00720" y="2743200"/>
            <a:ext cx="1366560" cy="1492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01840" y="1879560"/>
            <a:ext cx="2741760" cy="25560"/>
          </a:xfrm>
          <a:prstGeom prst="line">
            <a:avLst/>
          </a:prstGeom>
          <a:ln w="76320">
            <a:solidFill>
              <a:srgbClr val="080808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143000" y="2438280"/>
            <a:ext cx="457200" cy="381240"/>
          </a:xfrm>
          <a:prstGeom prst="line">
            <a:avLst/>
          </a:prstGeom>
          <a:ln w="1260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29200" y="2438280"/>
            <a:ext cx="990720" cy="457200"/>
          </a:xfrm>
          <a:prstGeom prst="line">
            <a:avLst/>
          </a:prstGeom>
          <a:ln w="1260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363760"/>
            <a:ext cx="0" cy="68436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2363760"/>
            <a:ext cx="0" cy="68436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592280" y="1082520"/>
            <a:ext cx="1528920" cy="1328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938920" y="1082520"/>
            <a:ext cx="1528560" cy="1328760"/>
          </a:xfrm>
          <a:prstGeom prst="rect">
            <a:avLst/>
          </a:prstGeom>
          <a:ln w="0">
            <a:noFill/>
          </a:ln>
        </p:spPr>
      </p:pic>
      <p:pic>
        <p:nvPicPr>
          <p:cNvPr id="136" name="iso-slices" descr=""/>
          <p:cNvPicPr/>
          <p:nvPr/>
        </p:nvPicPr>
        <p:blipFill>
          <a:blip r:embed="rId6"/>
          <a:stretch/>
        </p:blipFill>
        <p:spPr>
          <a:xfrm>
            <a:off x="1657440" y="3048120"/>
            <a:ext cx="2838240" cy="2430360"/>
          </a:xfrm>
          <a:prstGeom prst="rect">
            <a:avLst/>
          </a:prstGeom>
          <a:ln w="0">
            <a:noFill/>
          </a:ln>
        </p:spPr>
      </p:pic>
      <p:pic>
        <p:nvPicPr>
          <p:cNvPr id="137" name="iso-slices" descr=""/>
          <p:cNvPicPr/>
          <p:nvPr/>
        </p:nvPicPr>
        <p:blipFill>
          <a:blip r:embed="rId7"/>
          <a:stretch/>
        </p:blipFill>
        <p:spPr>
          <a:xfrm>
            <a:off x="5638680" y="3056040"/>
            <a:ext cx="2838600" cy="243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2120" y="5715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imes New Roman"/>
              </a:rPr>
              <a:t>Scivis uses sockets for collaboration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76320"/>
            <a:ext cx="7067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civis: Built in Collaboratio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914400"/>
            <a:ext cx="0" cy="4800600"/>
          </a:xfrm>
          <a:prstGeom prst="line">
            <a:avLst/>
          </a:prstGeom>
          <a:ln w="76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9T06:05:20Z</dcterms:created>
  <dc:creator>Scott Klasky</dc:creator>
  <dc:description/>
  <dc:language>en-US</dc:language>
  <cp:lastModifiedBy>Geoffrey C. Fox</cp:lastModifiedBy>
  <cp:lastPrinted>1998-04-23T19:57:40Z</cp:lastPrinted>
  <dcterms:modified xsi:type="dcterms:W3CDTF">1998-04-30T22:01:21Z</dcterms:modified>
  <cp:revision>108</cp:revision>
  <dc:subject/>
  <dc:title>SciVis (Scientific Data Visualization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