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70485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E961-5616-4889-A212-496CDBD88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3D77-0808-4B37-9EC7-FD5737BEF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55C6-A2B4-4E50-A850-1189E693C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2D25-26F5-4CA0-914B-41A2B1948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6F293-A5FB-4AA6-96F2-42BF35138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C1A90-9035-4842-9365-8B3AFBDCA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0B38C-4A6B-47D0-8B63-CACE42257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676A3-5FE9-4390-BE1F-856EFFCB2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4B139-2E79-4482-B40E-13CF87B87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D1E7C-178C-4FB9-8AA3-A2C343885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CA6F3-D978-4A8E-BB24-203879611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E18E-F011-475B-BCBD-9EA2F2D1F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6C1EB-A939-4DBC-A9B3-F41BE49BC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99BF2-829F-439D-B1B8-1E7EC65AE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F663B-6C8A-4B7A-B5BA-88D521D6D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68E07-1815-4CD8-893F-CD729C415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22C6F-9CD8-45EA-891F-C38008955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4D7B-F341-4450-A662-9DBCFB647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551D-6E96-45A5-9E05-D8ADBE62E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DC0B-F503-4680-9BAB-13C69D96E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8582-57BA-4649-980B-B9EBE7F8C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B546-8A5D-4962-BCC5-7F18942F9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ECDA-4E4E-4A71-9925-7C9697576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E902-05DD-4736-A657-B49DA18E2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24680" y="6630840"/>
            <a:ext cx="68580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9903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629400" y="6552720"/>
            <a:ext cx="18288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9EC83-FACA-467C-8D8F-32D17138BF3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519C2-97A5-4854-ACDA-8908768CC7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ffcc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ffcc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1142640"/>
            <a:ext cx="5029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T</a:t>
            </a:r>
            <a:r>
              <a:rPr b="1" lang="en-US" sz="3200" spc="-1" strike="noStrike">
                <a:solidFill>
                  <a:srgbClr val="cbcbcb"/>
                </a:solidFill>
                <a:latin typeface="Times New Roman"/>
              </a:rPr>
              <a:t>ANGO</a:t>
            </a: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 Interactive Tutorial</a:t>
            </a:r>
            <a:br>
              <a:rPr sz="4000"/>
            </a:b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Overview of TangoBeans</a:t>
            </a:r>
            <a:br>
              <a:rPr sz="4000"/>
            </a:b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API and Motivation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905120" y="411480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resented by Geoffrey Fox, Marek Podgorny and 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GO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tea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PA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yracuse Univers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lliance ‘98, April 27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, ‘9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2" name="tango4" descr=""/>
          <p:cNvPicPr/>
          <p:nvPr/>
        </p:nvPicPr>
        <p:blipFill>
          <a:blip r:embed="rId1"/>
          <a:stretch/>
        </p:blipFill>
        <p:spPr>
          <a:xfrm>
            <a:off x="4952880" y="304920"/>
            <a:ext cx="4191120" cy="2612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BE7B0-A51C-43CB-8086-7B9DFD77234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TangoBeans - ObjectPipe 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200400" y="2286000"/>
            <a:ext cx="2438280" cy="838080"/>
          </a:xfrm>
          <a:prstGeom prst="roundRect">
            <a:avLst>
              <a:gd name="adj" fmla="val 16667"/>
            </a:avLst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angoBe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rot="15942600">
            <a:off x="3962160" y="3581280"/>
            <a:ext cx="838080" cy="2514600"/>
          </a:xfrm>
          <a:prstGeom prst="can">
            <a:avLst>
              <a:gd name="adj" fmla="val 25000"/>
            </a:avLst>
          </a:prstGeom>
          <a:solidFill>
            <a:srgbClr val="00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Pi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543800" y="4267080"/>
            <a:ext cx="533520" cy="533520"/>
          </a:xfrm>
          <a:prstGeom prst="ellipse">
            <a:avLst/>
          </a:prstGeom>
          <a:solidFill>
            <a:srgbClr val="ff3300"/>
          </a:solidFill>
          <a:ln cap="sq" w="12600">
            <a:solidFill>
              <a:srgbClr val="ffffff"/>
            </a:solidFill>
            <a:miter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533520" cy="533520"/>
          </a:xfrm>
          <a:prstGeom prst="ellipse">
            <a:avLst/>
          </a:prstGeom>
          <a:solidFill>
            <a:srgbClr val="ff3300"/>
          </a:solidFill>
          <a:ln cap="sq" w="12600">
            <a:solidFill>
              <a:srgbClr val="ffffff"/>
            </a:solidFill>
            <a:miter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962520" y="3276720"/>
            <a:ext cx="0" cy="990360"/>
          </a:xfrm>
          <a:prstGeom prst="line">
            <a:avLst/>
          </a:prstGeom>
          <a:ln cap="sq"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4572000" y="3276360"/>
            <a:ext cx="0" cy="990360"/>
          </a:xfrm>
          <a:prstGeom prst="line">
            <a:avLst/>
          </a:prstGeom>
          <a:ln cap="sq"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5714640" y="4572000"/>
            <a:ext cx="1676520" cy="152280"/>
          </a:xfrm>
          <a:prstGeom prst="line">
            <a:avLst/>
          </a:prstGeom>
          <a:ln cap="sq"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1600200" y="4876920"/>
            <a:ext cx="1828800" cy="228600"/>
          </a:xfrm>
          <a:prstGeom prst="line">
            <a:avLst/>
          </a:prstGeom>
          <a:ln cap="sq"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4267080"/>
            <a:ext cx="1752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TANG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371600" y="4648320"/>
            <a:ext cx="1752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rom TANG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962520" y="1752480"/>
            <a:ext cx="380880" cy="457200"/>
          </a:xfrm>
          <a:prstGeom prst="line">
            <a:avLst/>
          </a:prstGeom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4114440" y="2209680"/>
            <a:ext cx="228600" cy="381240"/>
          </a:xfrm>
          <a:prstGeom prst="line">
            <a:avLst/>
          </a:prstGeom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590920"/>
            <a:ext cx="304920" cy="838080"/>
          </a:xfrm>
          <a:prstGeom prst="line">
            <a:avLst/>
          </a:prstGeom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4114440" y="3429000"/>
            <a:ext cx="304920" cy="533520"/>
          </a:xfrm>
          <a:prstGeom prst="line">
            <a:avLst/>
          </a:prstGeom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114800" y="3962520"/>
            <a:ext cx="304920" cy="533160"/>
          </a:xfrm>
          <a:prstGeom prst="line">
            <a:avLst/>
          </a:prstGeom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4190760" y="4495680"/>
            <a:ext cx="228600" cy="1067040"/>
          </a:xfrm>
          <a:prstGeom prst="line">
            <a:avLst/>
          </a:prstGeom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191120" y="5562720"/>
            <a:ext cx="533160" cy="761760"/>
          </a:xfrm>
          <a:prstGeom prst="line">
            <a:avLst/>
          </a:prstGeom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38080" y="2666880"/>
            <a:ext cx="14479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User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400800" y="2666880"/>
            <a:ext cx="14479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User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52B2-A789-4370-931A-0BCD576F2E7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bcbcb"/>
                </a:solidFill>
                <a:latin typeface="Times New Roman"/>
              </a:rPr>
              <a:t>TangoBeans - Modes of Operation</a:t>
            </a:r>
            <a:endParaRPr b="1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Design time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mponents with visual interfac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Run-time - testing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environment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visible system component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ll objects sent to ObjectPipe are looped back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Run-time - Tango environment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visible system component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ll object sent to ObjectPipe are passed to Tango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7C74-C825-4365-99B3-30E1D6D1B10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Using TangoBeans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51920" y="1904760"/>
            <a:ext cx="899172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nstall Tango beans in your IDE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esign applet using Tango beans and other available components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Generate applet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dd Netscape security calls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public void init() {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netscape.security.PrivilegeManager.enablePrivileg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                                 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("UniversalPropertyRead");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//the rest of your cod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}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A019-CB51-44F9-94C2-221323151A3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Using TangoBeans  - continued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dd notification about applet destruction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public void destroy() {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tangoBean1.appletDestroyed();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uper.destroy();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}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ign applet and all used Tango beans as one packag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reate JAR fil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dd applet to Tango application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30FD-AFEC-473B-9DEF-AF4BE428E37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bcbcb"/>
                </a:solidFill>
                <a:latin typeface="Times New Roman"/>
              </a:rPr>
              <a:t>TangoBeans - Tools and Resources</a:t>
            </a:r>
            <a:endParaRPr b="1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Java IDE or JDK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etscape Communicator with AWT 1.1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igital signature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ools for package signing and JAR generation from Netscape - signtoo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3816-C288-4201-8B2A-7DB1FAB22F0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Abstract of TangoBean Overview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is is still under development but represents the most elegant way of building collaborative Java applet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e review JavaBeans which are Java’s component mod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e discuss the current TangoBean architecture and illustrate process with a simple example where applets has two buttons -- On and Off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8BCD-A588-47ED-9672-82E9F43F28B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bcbcb"/>
                </a:solidFill>
                <a:latin typeface="Times New Roman"/>
              </a:rPr>
              <a:t>What are JavaBeans I</a:t>
            </a:r>
            <a:endParaRPr b="1" lang="en-US" sz="4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0" y="837720"/>
            <a:ext cx="91440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y are Java’s implementation of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“component-based” visual programming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is modern software engineering technique produces a new approach to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libraries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hich become a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“software component infrastructure(SCI)”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re is a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visual interface to discovery of and setting of value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of and information about parameters used in a particular software component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JavaBean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uses the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event model of JDK1.1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to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ommunicate between component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ne expects Javabeans to become the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ORBA component interfac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defining containers in CORBA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Enterprise Javabean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are extremely important server side version which are the Java way of building reuseable middleware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40FD-BD69-4753-8A71-F0ED0608F42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bcbcb"/>
                </a:solidFill>
                <a:latin typeface="Times New Roman"/>
              </a:rPr>
              <a:t>What are JavaBeans II</a:t>
            </a:r>
            <a:endParaRPr b="1" lang="en-US" sz="4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55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visual interface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 allows inspection of and implementation of both </a:t>
            </a: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individual beans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 and their </a:t>
            </a: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linkage .</a:t>
            </a:r>
            <a:r>
              <a:rPr b="1" lang="en-US" sz="2200" spc="-1" strike="noStrike">
                <a:solidFill>
                  <a:srgbClr val="ff7c8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This visual construction of </a:t>
            </a: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linkage 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allows one to form nontrivial programs with </a:t>
            </a: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multiple communicating components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55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Apart  from the event mechanism which is a </a:t>
            </a: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communication/linkage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 mechanism, </a:t>
            </a: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ComponentWare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 (and </a:t>
            </a: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JavaBeans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 in  particular)  “just” give a </a:t>
            </a: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set of universal rules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 (needed for interoperability) for rather uncontroversial (albeit good) object-oriented and visual programming practices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55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Hiding of properties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 which can only be accessed by methods (which must have special names)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55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Display of these properties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 (as given by methods)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55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Javabeans expose the interesting events and properties and the user can use this in a design environment such as Visual Café to decide how to share these exposed elements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280E-0209-4452-871E-8C801F4B881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TangoBeans - Overview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6765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et of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JavaBean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integrated with Tango which Support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essage sending and receiving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ntrol operations on applet: open, close, focu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mmunication channel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exchange of data between specific components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essage multiplexing and de-multiplexing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nables easy automatic construction of collaborative applications using visual tools such as Visual Caf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Universal interface - arbitrary types of objects may be transferred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re are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ystem TangoBean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(JavaBeans supporting Tango runtime) enabling the functioing of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user TangoBean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5974-E207-4A72-9469-BF4E3D5EE75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TangoBeans - Component Functionality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10480" cy="586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ango Bea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ntegrates applet with Tango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xecutes control operations on applet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ccepts new pipe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outes messages to pipe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ccepts messages from Pipe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ccepted Event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PipeConnectEvent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rom pipe that is ready to be connected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7692-5290-4D77-B2F8-A118572A545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TangoBean Architecture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3886200"/>
            <a:ext cx="2438640" cy="838080"/>
          </a:xfrm>
          <a:prstGeom prst="roundRect">
            <a:avLst>
              <a:gd name="adj" fmla="val 16667"/>
            </a:avLst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angoBe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429000" y="1981080"/>
            <a:ext cx="1600200" cy="91440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ffffff"/>
            </a:solidFill>
            <a:miter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NG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5562720"/>
            <a:ext cx="457200" cy="457200"/>
          </a:xfrm>
          <a:prstGeom prst="ellipse">
            <a:avLst/>
          </a:prstGeom>
          <a:solidFill>
            <a:srgbClr val="00ffcc"/>
          </a:solidFill>
          <a:ln cap="sq" w="12600">
            <a:solidFill>
              <a:srgbClr val="ffffff"/>
            </a:solidFill>
            <a:miter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352680" y="5638680"/>
            <a:ext cx="457200" cy="457200"/>
          </a:xfrm>
          <a:prstGeom prst="ellipse">
            <a:avLst/>
          </a:prstGeom>
          <a:solidFill>
            <a:srgbClr val="00ffcc"/>
          </a:solidFill>
          <a:ln cap="sq" w="12600">
            <a:solidFill>
              <a:srgbClr val="ffffff"/>
            </a:solidFill>
            <a:miter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029200" y="5638680"/>
            <a:ext cx="457200" cy="457200"/>
          </a:xfrm>
          <a:prstGeom prst="ellipse">
            <a:avLst/>
          </a:prstGeom>
          <a:solidFill>
            <a:srgbClr val="00ffcc"/>
          </a:solidFill>
          <a:ln cap="sq" w="12600">
            <a:solidFill>
              <a:srgbClr val="ffffff"/>
            </a:solidFill>
            <a:miter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5638680"/>
            <a:ext cx="457200" cy="457200"/>
          </a:xfrm>
          <a:prstGeom prst="ellipse">
            <a:avLst/>
          </a:prstGeom>
          <a:solidFill>
            <a:srgbClr val="00ffcc"/>
          </a:solidFill>
          <a:ln cap="sq" w="12600">
            <a:solidFill>
              <a:srgbClr val="ffffff"/>
            </a:solidFill>
            <a:miter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962520" y="2971800"/>
            <a:ext cx="0" cy="838080"/>
          </a:xfrm>
          <a:prstGeom prst="line">
            <a:avLst/>
          </a:prstGeom>
          <a:ln cap="sq" w="2844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4495680" y="2971440"/>
            <a:ext cx="0" cy="762120"/>
          </a:xfrm>
          <a:prstGeom prst="line">
            <a:avLst/>
          </a:prstGeom>
          <a:ln cap="sq" w="2844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219320" y="4952880"/>
            <a:ext cx="1752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bjectPip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419720" y="4800600"/>
            <a:ext cx="533160" cy="8380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 flipV="1">
            <a:off x="4724280" y="4800600"/>
            <a:ext cx="533520" cy="8380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638680" y="4724280"/>
            <a:ext cx="838440" cy="83844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5409720" y="4876920"/>
            <a:ext cx="838440" cy="8380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3809520" y="4800600"/>
            <a:ext cx="381240" cy="8380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581280" y="4800240"/>
            <a:ext cx="304920" cy="7621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2666520" y="4800600"/>
            <a:ext cx="685800" cy="8380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2438280" y="4723920"/>
            <a:ext cx="609840" cy="6858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98040" y="3886200"/>
            <a:ext cx="267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ystem TangoBe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463800" y="4876920"/>
            <a:ext cx="247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User TangoBea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E151-AC5E-4C09-8F94-D276F69C500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tangobeans" descr=""/>
          <p:cNvPicPr/>
          <p:nvPr/>
        </p:nvPicPr>
        <p:blipFill>
          <a:blip r:embed="rId1"/>
          <a:stretch/>
        </p:blipFill>
        <p:spPr>
          <a:xfrm>
            <a:off x="0" y="63360"/>
            <a:ext cx="9144000" cy="679464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04960" y="228600"/>
            <a:ext cx="5257800" cy="990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Building a User TangoBean</a:t>
            </a:r>
            <a:endParaRPr b="1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9880" y="6172200"/>
            <a:ext cx="472464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Designer’s view of the TangoBe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133360" y="5029200"/>
            <a:ext cx="2361960" cy="0"/>
          </a:xfrm>
          <a:prstGeom prst="line">
            <a:avLst/>
          </a:prstGeom>
          <a:ln cap="sq"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2133360" y="5867280"/>
            <a:ext cx="2361960" cy="0"/>
          </a:xfrm>
          <a:prstGeom prst="line">
            <a:avLst/>
          </a:prstGeom>
          <a:ln cap="sq"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14400" y="3733920"/>
            <a:ext cx="1905120" cy="4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ObjectPip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0" y="4343400"/>
            <a:ext cx="228600" cy="53352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876920" y="3352680"/>
            <a:ext cx="403848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User view of this TangoBe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EAE3-758F-4204-A42E-574D4FAC6B3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TangoBeans - Components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10480" cy="563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ObjectPipe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mmunication channel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ust be connected to TangoBea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ccepts Serializable object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ethod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public void sendData(Object toTango)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ends data to Tango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Generated Event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PipeDataEvent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informs other components that message arrived from Tango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PipeConnectEvent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informs TangoBean that pipe is ready to be connected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ccepted Event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PipeDataEvent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event with data to be sent to Tango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181480" y="1523880"/>
            <a:ext cx="3749760" cy="2654280"/>
          </a:xfrm>
          <a:prstGeom prst="rect">
            <a:avLst/>
          </a:pr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ObjectPipes send objec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travelling through th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(which can be data or event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to the system TangoBe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which replicates them 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all involved cli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3D82-F7F5-4DC1-ABC6-5E84D8E3B2F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4T01:11:54Z</dcterms:created>
  <dc:creator>Marek Podgorny</dc:creator>
  <dc:description/>
  <dc:language>en-US</dc:language>
  <cp:lastModifiedBy>Geoffrey C. Fox</cp:lastModifiedBy>
  <cp:lastPrinted>1998-04-26T01:38:38Z</cp:lastPrinted>
  <dcterms:modified xsi:type="dcterms:W3CDTF">1998-04-26T01:40:15Z</dcterms:modified>
  <cp:revision>24</cp:revision>
  <dc:subject/>
  <dc:title>TANGO for Distance Learn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2</vt:r8>
  </property>
  <property fmtid="{D5CDD505-2E9C-101B-9397-08002B2CF9AE}" pid="8" name="HomePage">
    <vt:lpwstr>http://www.npac.syr.edu</vt:lpwstr>
  </property>
  <property fmtid="{D5CDD505-2E9C-101B-9397-08002B2CF9AE}" pid="9" name="LinkColor">
    <vt:r8>16711782</vt:r8>
  </property>
  <property fmtid="{D5CDD505-2E9C-101B-9397-08002B2CF9AE}" pid="10" name="MailAddress">
    <vt:lpwstr>gcf@npac.syr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temp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