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5CF4-6CAE-41C4-A32D-0E35B32C6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1F11-097A-47AD-A792-E83598C69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CBE3-C3FA-452E-AC27-20F28118F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0E95-7ED1-4F2C-A9ED-5F6AB4D35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E75F1-2479-4E6D-9EC4-63000B52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57E5A-FD42-482A-8E02-F4C96EF9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CDFEA-88AB-4B81-872D-7AF69E02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BE16-E083-43B8-B3E4-6A1AD63A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2910C-A4C9-4B8C-8E34-1D10FD5E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2DD9C-8FB5-436F-9ABA-082F90F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1BF8D-C07F-44CE-82D8-3048F44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77B8-5362-4B95-9FCD-42E5E1B6F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9F18-2A50-453F-96C3-BBE43F76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1E01F-DE45-4BE6-8F59-0EC2910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AEE88-AF7F-437B-BA2A-8E87F95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D7B9-DA0F-4FE4-A774-4CCBEED9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B6A24-ADCE-4887-AE11-299C92FC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76A3-16D9-4139-A9DF-96AF07B6C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9999-1840-4404-9C05-A0E33DBCF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3F36-1F46-4467-AF58-AD27F3F0D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462A-40A7-420F-BE0D-A88DA3F2A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68DD-1A73-490A-BD80-5377356FA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55B7-57C2-4F60-9BAE-4ACCBFB1F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FB20-E921-40F8-8391-5AF452A9D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AE30-B359-44D5-9237-836D11D376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FB08-0F78-4783-9E4B-05FEB4CFE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Interactive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Tutorial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verview of Tango AP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5120" y="4114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ed by Geoffrey Fox, Marek Podgorny and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iance ‘98, April 2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‘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tango6" descr=""/>
          <p:cNvPicPr/>
          <p:nvPr/>
        </p:nvPicPr>
        <p:blipFill>
          <a:blip r:embed="rId1"/>
          <a:stretch/>
        </p:blipFill>
        <p:spPr>
          <a:xfrm>
            <a:off x="4724280" y="282600"/>
            <a:ext cx="4267440" cy="32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FD43-D909-4A77-9B97-03A0601905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 API - code example ctd.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00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boolean action(Event e,Object o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(o instanceof TextField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ing msg=un+” : “+tf.getTex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te[] t=new byte[msg.length()];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creation of byte 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sg.getBytes(0,msg.length(),t,0);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 string to byte[]convers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pEventMessage em=new AppEventMessage(Const.DATA,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 The above is a new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nd(em);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Tango API c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f.setText(“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urn super.action(e,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C944-B573-4638-9384-A8CE8EBDD8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ther Tango API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bject AP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allows more complex operations (e.g. automatic update of state) for Java apple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AP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used for standalone applications; based on socket conne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avaScript AP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similar to Java, messages in form of strin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1FC4-C54E-41F5-A95F-E7AF7F730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Script interface to Tango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787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 simple JavaScript application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nd( String ) / receive( String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 integration application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ultiple Java applets and JavaScript functions on one HTML page and in one Tango sess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avaScript code used as a convenient integration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amed channels for different appli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rbitrary messages exchanged between Java applets (fast/scripted assembly of customized application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ing messages used for functions handled directly by JavaScript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ndString( channel, String ) / receiveString( channel, String 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paque byte arrays used for communicating applet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ndBytes( channel, byte[ ] ) / receiveBytes( channel, byte[ ] 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FEC0-647A-4633-AE2A-DD07AFE39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 Object AP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AP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ango allows direct communic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ween corresponding client objects.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ifies design and imple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utomatic distribution of initial sta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ommunication logic for an object is located with that object which improves maintainability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343400"/>
            <a:ext cx="2438280" cy="160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4495680"/>
            <a:ext cx="2743200" cy="1828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181480"/>
            <a:ext cx="685800" cy="60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648320"/>
            <a:ext cx="838440" cy="761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952880"/>
            <a:ext cx="83808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5181480"/>
            <a:ext cx="762120" cy="762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715000"/>
            <a:ext cx="685800" cy="45720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172200"/>
            <a:ext cx="28958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9920" y="5791320"/>
            <a:ext cx="45720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5257800"/>
            <a:ext cx="457200" cy="304920"/>
          </a:xfrm>
          <a:prstGeom prst="line">
            <a:avLst/>
          </a:prstGeom>
          <a:ln w="5724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5562720"/>
            <a:ext cx="12193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05520" y="5486400"/>
            <a:ext cx="152280" cy="7632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FCCB-17E0-4F09-983F-C4B7EA2BBD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 Object API - descrip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API consists of the clas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Nod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an an interfac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bjec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as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No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vers the standard Tango API. It provides routing mechanisms for messages distributed in the system, so that they are passed only to corresponding TObject on other instances of the Apple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Nod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provides methods for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stering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bjec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ilding messag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essing general Tango related information (information about users, sessions, etc.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bjec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interface defines methods called by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Nod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when the object is created, a message for that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bjec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rrives or whe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bjec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hould be discarded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E86F-6F3D-4B29-A9E3-7D71C54F7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 Object API -exampl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dagger/applets/APIExample/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pplet allows adding and moving ico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icon implement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bjec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icon is added or moved on one instance of the applet the changes are automatically reflected on other instan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new client joins the session it automatically receives the current state of the sessio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C27E-4BB2-4E05-9D92-E5D38B963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 for C Applicatio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ke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onnec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methods for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ering an appli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ing messages from TANGO or other ap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ing messages to TANGO or other ap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/destroying/managing mess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691E-08EB-44D8-9F8B-E645633EEC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gistering an Application in C AP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ing an application that uses C runtime libr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K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gisterAp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int argc, char* argv[]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rogram parameters as provided in main(...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socket connected to TANGO or INVALID_SOCK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ing Win32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KET registerWinAp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LPSTR lpCmdLine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rogram parameters as provided in WinMain(…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socket connected to TANGO or INVALID_SOCK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E390-29AE-4755-942E-0D5B8834B4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Message in C API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ttribu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nd to Control Applic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end to other participating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ength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ointer to actual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eation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d using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eateEv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 Event* createEvent( int type, int len, char* data 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1BFC-779E-44DA-A72C-B60B6C19A7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Message (cont.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prevent memory leaks, suggested method of deallocating a message is by us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troyEv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i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troyEv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struct Event*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takes car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at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eld deallo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ppropriate destruct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90F7-8925-49B7-B11E-2F73D4FA8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s - outlin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 basic AP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Script AP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 Object AP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 API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89D0-3EB9-413F-90D4-B7EBFAA042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Message (cont.)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 getTyp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struct Event* pEv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type of message (DATA or CONTRO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 getL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struct Event* pEv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length of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r* getDat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struct Event* pEv 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pointer to da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ed pointer points to newly allocated buffer, this buffer should be freed using C free(…) fun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C746-F415-4F90-B4AA-2BD900A1E9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nding and Receiving Messages in C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ing mess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uct Event* receive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SOCKET 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- socket to receive a message fro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s pointer to received message or NUL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re is no available data, method block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ing messa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RESULT send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SOCKE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struct Event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socket to send a message t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v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essage to be s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288A-508F-4F41-9CA3-561C9734FE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 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ic functionality - sending and receiving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 calling ‘send’ method puts some information into the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is carried to all the applications connected to the same sess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a message arrives the ‘receive’ method is called on the destination appli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8A30-FAF2-4C36-B8A5-0B12E7923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event distribution model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2133720"/>
            <a:ext cx="8212680" cy="4190400"/>
            <a:chOff x="304920" y="2133720"/>
            <a:chExt cx="8212680" cy="4190400"/>
          </a:xfrm>
        </p:grpSpPr>
        <p:sp>
          <p:nvSpPr>
            <p:cNvPr id="98" name=""/>
            <p:cNvSpPr/>
            <p:nvPr/>
          </p:nvSpPr>
          <p:spPr>
            <a:xfrm>
              <a:off x="2646360" y="3638520"/>
              <a:ext cx="1405080" cy="858240"/>
            </a:xfrm>
            <a:prstGeom prst="ellipse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ang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4066920"/>
              <a:ext cx="936720" cy="860040"/>
            </a:xfrm>
            <a:prstGeom prst="rect">
              <a:avLst/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2560" y="4390920"/>
              <a:ext cx="938520" cy="858600"/>
            </a:xfrm>
            <a:prstGeom prst="rect">
              <a:avLst/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81760" y="2993760"/>
              <a:ext cx="936720" cy="858600"/>
            </a:xfrm>
            <a:prstGeom prst="rect">
              <a:avLst/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241640" y="4066560"/>
              <a:ext cx="1311120" cy="2156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051440" y="3422520"/>
              <a:ext cx="1030320" cy="4298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7840" y="4390920"/>
              <a:ext cx="1404720" cy="5360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4120" y="367560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nd(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91080" y="313740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ceive(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96040" y="475020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ceive(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8040" y="2133720"/>
              <a:ext cx="936360" cy="86004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84400" y="2778120"/>
              <a:ext cx="843120" cy="86004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5280" y="249120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nd(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59160" y="5464080"/>
              <a:ext cx="936720" cy="86004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pp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646000" y="4390920"/>
              <a:ext cx="281160" cy="10728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4960" y="496296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ceive(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63040" y="2455920"/>
              <a:ext cx="280800" cy="321840"/>
            </a:xfrm>
            <a:prstGeom prst="rect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91000" y="238464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ssion 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63040" y="3422520"/>
              <a:ext cx="280800" cy="321840"/>
            </a:xfrm>
            <a:prstGeom prst="rect">
              <a:avLst/>
            </a:prstGeom>
            <a:solidFill>
              <a:srgbClr val="0066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1000" y="335304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ession 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5AF0-B32F-4C9D-A8B7-359DEF7DB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 for apple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 void register(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s application with the rest of the system; this method should be called during the program star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 void send (AppEventMessage 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s information wrapped in a AppEventMessage class through Tango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blic abstract void receive (AppEventMessage m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back method called each time a new message arrives; it’s implementation is application dependent and has to contain application-specific code for event hand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5C44-F3C2-45E6-BB2C-2DFB63563D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 - AppEventMessag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EventMessage can contain two types of messsg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information sent between applications in one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: a string representing sentence in cha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ist of x,y coordinates describing a figure in pai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O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system-specific information exchanged between application and Control Application; e.g. request for list of users or floor control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33E9-E7BD-43BA-A774-46AB495147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API </a:t>
            </a: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Control typ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MAS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master/slave stat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R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user 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TER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request for the name of mas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ST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hostnam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TICIPA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list of participants in the current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US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list of users logged into the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CALAP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the list of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PA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equest for data transfer between applications on the same hos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E4F3-6BE4-42B9-AD97-B0F4B7B21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ava API - code example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mport messages.*;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Tango Packag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mport interfaces.AppletBase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mport consts.*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class Chat extend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pletB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ango base clas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void init() {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Layout(new BorderLayout()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GUI setu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(“Center”,ta=new TextArea()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(“South”,tf=new TextField())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gister(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ango API cal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te[] t=new byte[1]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[0] = CAConsts.USERNAME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reation of Tango control messag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pEventMessage em=new AppEventMessage(Const.CONTROL,t)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nd(em)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ango API cal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190512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FC85-BBAE-4E19-9E1F-D70F26017C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 API - code example ctd.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4479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 Tango api ‘receive’ imp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e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ppEventMessage em)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f (em.getType() == Const.CONTROL) {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 checking for message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ppAnswerEventMessage msg =  (CAppAnswerEventMessage) em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The above is conversion to control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f (msg.getAnswerType() == CAConsts.USER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 = msg.getUserName();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extraction of inform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e {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//DATA type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ring msg=new String (em.getData(),0,0,em.getLen())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//extraction of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.appendText(ms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09160" indent="-209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6E00-F053-4605-B9C2-21EA25DEB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1T23:57:19Z</dcterms:created>
  <dc:creator>Konrad Olszewski</dc:creator>
  <dc:description/>
  <dc:language>en-US</dc:language>
  <cp:lastModifiedBy>Geoffrey C. Fox</cp:lastModifiedBy>
  <cp:lastPrinted>1997-12-10T20:45:33Z</cp:lastPrinted>
  <dcterms:modified xsi:type="dcterms:W3CDTF">1998-04-26T00:00:15Z</dcterms:modified>
  <cp:revision>7</cp:revision>
  <dc:subject/>
  <dc:title>Tango APIs - out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