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FD5-C73A-4346-82E5-A9C5ED0D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160" y="1060200"/>
            <a:ext cx="91090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160" y="3770640"/>
            <a:ext cx="91090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856-9FF3-40F8-8471-259B26F4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160" y="1060200"/>
            <a:ext cx="4444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7560" y="1060200"/>
            <a:ext cx="4444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160" y="3770640"/>
            <a:ext cx="4444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7560" y="3770640"/>
            <a:ext cx="4444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1F7-C0D6-420F-A141-9EF83F94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160" y="1060200"/>
            <a:ext cx="2932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9960" y="1060200"/>
            <a:ext cx="2932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0120" y="1060200"/>
            <a:ext cx="2932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160" y="3770640"/>
            <a:ext cx="2932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9960" y="3770640"/>
            <a:ext cx="2932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0120" y="3770640"/>
            <a:ext cx="2932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800-3581-4302-8FD6-68B2A32A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160" y="1060200"/>
            <a:ext cx="9109080" cy="51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04D-3DA3-49A6-9361-753E8CA0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160" y="1060200"/>
            <a:ext cx="910908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814-1B02-4A00-88BE-E96B22F6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160" y="1060200"/>
            <a:ext cx="44449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560" y="1060200"/>
            <a:ext cx="44449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DD9-5C7A-4540-8294-17AF2CFF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7E3-6314-4928-96CF-59647AD4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80" y="11160"/>
            <a:ext cx="90993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22D-CDF8-4930-977E-C516D938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160" y="1060200"/>
            <a:ext cx="4444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060200"/>
            <a:ext cx="44449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160" y="3770640"/>
            <a:ext cx="4444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28C-F6EB-421F-8A16-2155E08E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160" y="1060200"/>
            <a:ext cx="444492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060200"/>
            <a:ext cx="4444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7560" y="3770640"/>
            <a:ext cx="4444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254-DE40-4C1F-A2E1-8BA442B0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160" y="1060200"/>
            <a:ext cx="4444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560" y="1060200"/>
            <a:ext cx="444492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160" y="3770640"/>
            <a:ext cx="9109080" cy="24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456-8871-4C8A-86BC-EAEE320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7120" y="6438960"/>
            <a:ext cx="1903320" cy="41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ctr">
            <a:noAutofit/>
          </a:bodyPr>
          <a:lstStyle>
            <a:lvl1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2AD7BFB2-CEE7-48F6-A6F1-04AB68027CD9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556000" y="6438960"/>
            <a:ext cx="2822400" cy="41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ctr">
            <a:noAutofit/>
          </a:bodyPr>
          <a:lstStyle>
            <a:lvl1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438520" y="6438960"/>
            <a:ext cx="1168200" cy="41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ctr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90D82289-5238-42D4-98F9-5E7A04292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29600" cy="97488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20160" y="1060200"/>
            <a:ext cx="910908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790015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000" spc="-1" strike="noStrike">
                <a:solidFill>
                  <a:srgbClr val="790015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000" spc="-1" strike="noStrike">
                <a:solidFill>
                  <a:srgbClr val="790015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000" spc="-1" strike="noStrike">
                <a:solidFill>
                  <a:srgbClr val="790015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  <a:p>
            <a:pPr lvl="3" marL="1481040" indent="-210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000" spc="-1" strike="noStrike">
                <a:solidFill>
                  <a:srgbClr val="790015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  <a:p>
            <a:pPr lvl="4" marL="190512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000" spc="-1" strike="noStrike">
                <a:solidFill>
                  <a:srgbClr val="790015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  <a:p>
            <a:pPr lvl="5" marL="190512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000" spc="-1" strike="noStrike">
                <a:solidFill>
                  <a:srgbClr val="790015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  <a:p>
            <a:pPr lvl="6" marL="190512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000" spc="-1" strike="noStrike">
                <a:solidFill>
                  <a:srgbClr val="790015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760" y="6465960"/>
            <a:ext cx="7580520" cy="468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581880" y="6620040"/>
            <a:ext cx="25416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900" spc="-1" strike="noStrike">
                <a:solidFill>
                  <a:srgbClr val="00279f"/>
                </a:solidFill>
                <a:latin typeface="Arial"/>
              </a:rPr>
              <a:t>University of Illinois at Urbana-Champa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659720" y="6264360"/>
            <a:ext cx="13431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Java Grande:  Java for HPC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160" y="1060200"/>
            <a:ext cx="910908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790015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600" spc="-1" strike="noStrike">
                <a:solidFill>
                  <a:srgbClr val="790015"/>
                </a:solidFill>
                <a:latin typeface="Arial"/>
              </a:rPr>
              <a:t>Research Java Extensions and Frameworks for</a:t>
            </a:r>
            <a:endParaRPr b="1" lang="en-US" sz="2600" spc="-1" strike="noStrike">
              <a:solidFill>
                <a:srgbClr val="79001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High Performance GRID Computatio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S&amp;E Distributed Modeling and Simulatio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ata Intensive Computing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mputational and Communications-Intensive Application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ommercial Computing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cientific Research Applications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iance Leadership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Fox (NPAC/Syracuse), Gannon (Indiana)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un funding for Syracuse/Indiana/NCSA project</a:t>
            </a:r>
            <a:endParaRPr b="1" lang="en-US" sz="2000" spc="-1" strike="noStrike">
              <a:solidFill>
                <a:srgbClr val="00279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90015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600" spc="-1" strike="noStrike">
                <a:solidFill>
                  <a:srgbClr val="790015"/>
                </a:solidFill>
                <a:latin typeface="Arial"/>
              </a:rPr>
              <a:t>Java Grande Forum is Community Standards Effort</a:t>
            </a:r>
            <a:endParaRPr b="1" lang="en-US" sz="26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iancegen98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934-2AC5-4CF1-AB0E-A95675A74C0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7B854-34B6-486C-97A2-EEF319C4EE7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What is Java Grande?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160" y="1060200"/>
            <a:ext cx="9109080" cy="51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790015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000" spc="-1" strike="noStrike">
                <a:solidFill>
                  <a:srgbClr val="790015"/>
                </a:solidFill>
                <a:latin typeface="Arial"/>
              </a:rPr>
              <a:t>Use of Java for:</a:t>
            </a:r>
            <a:endParaRPr b="1" lang="en-US" sz="3000" spc="-1" strike="noStrike">
              <a:solidFill>
                <a:srgbClr val="790015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High Performance Network Computing</a:t>
            </a:r>
            <a:endParaRPr b="1" lang="en-US" sz="2700" spc="-1" strike="noStrike">
              <a:solidFill>
                <a:srgbClr val="00279f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Scientific and Engineering Computation</a:t>
            </a:r>
            <a:endParaRPr b="1" lang="en-US" sz="2700" spc="-1" strike="noStrike">
              <a:solidFill>
                <a:srgbClr val="00279f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(Distributed) Modeling and Simulation</a:t>
            </a:r>
            <a:endParaRPr b="1" lang="en-US" sz="2700" spc="-1" strike="noStrike">
              <a:solidFill>
                <a:srgbClr val="00279f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Parallel and Distributed Computing</a:t>
            </a:r>
            <a:endParaRPr b="1" lang="en-US" sz="2700" spc="-1" strike="noStrike">
              <a:solidFill>
                <a:srgbClr val="00279f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Data Intensive Computing</a:t>
            </a:r>
            <a:endParaRPr b="1" lang="en-US" sz="2700" spc="-1" strike="noStrike">
              <a:solidFill>
                <a:srgbClr val="00279f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Communication and Computing Intensive Commercial and Academic Applications</a:t>
            </a:r>
            <a:endParaRPr b="1" lang="en-US" sz="2700" spc="-1" strike="noStrike">
              <a:solidFill>
                <a:srgbClr val="00279f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003399"/>
              </a:buClr>
              <a:buSzPct val="60000"/>
              <a:buFont typeface="Wingdings" charset="2"/>
              <a:buChar char="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Arial"/>
              </a:rPr>
              <a:t>HPCC   Computational Grids ……..</a:t>
            </a:r>
            <a:endParaRPr b="1" lang="en-US" sz="2700" spc="-1" strike="noStrike">
              <a:solidFill>
                <a:srgbClr val="00279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Very difficult to find a “conventional name” that doesn’t get misunderstood by some community!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iancegen98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E54-7BF6-4010-976C-E8D77E7A6B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DC47B-569A-4694-9CB5-9F1C0A475A3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" y="11160"/>
            <a:ext cx="909936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cademic Fields of Computational Science and Internetic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11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5000"/>
          </a:bodyPr>
          <a:p>
            <a:pPr marL="154080" indent="-154080">
              <a:spcBef>
                <a:spcPts val="550"/>
              </a:spcBef>
              <a:buClr>
                <a:srgbClr val="790015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Two realizations of Large Scale Computing</a:t>
            </a:r>
            <a:br>
              <a:rPr sz="2200"/>
            </a:b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Scale Computer for          Scale Users and 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Students</a:t>
            </a: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 in proportion</a:t>
            </a:r>
            <a:br>
              <a:rPr sz="2200"/>
            </a:br>
            <a:r>
              <a:rPr b="1" lang="en-US" sz="2200" spc="-1" strike="noStrike">
                <a:solidFill>
                  <a:srgbClr val="790015"/>
                </a:solidFill>
                <a:latin typeface="Arial"/>
              </a:rPr>
              <a:t>Power User                        to number of computers</a:t>
            </a:r>
            <a:endParaRPr b="1" lang="en-US" sz="2200" spc="-1" strike="noStrike">
              <a:solidFill>
                <a:srgbClr val="790015"/>
              </a:solidFill>
              <a:latin typeface="Arial"/>
            </a:endParaRPr>
          </a:p>
          <a:p>
            <a:pPr marL="154080" indent="-154080">
              <a:spcBef>
                <a:spcPts val="550"/>
              </a:spcBef>
              <a:buClr>
                <a:srgbClr val="790015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mputational                   Commodity Technology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cience                               Web, Networking, Databases ...</a:t>
            </a:r>
            <a:endParaRPr b="1" lang="en-US" sz="2200" spc="-1" strike="noStrike">
              <a:solidFill>
                <a:srgbClr val="790015"/>
              </a:solidFill>
              <a:latin typeface="Arial"/>
            </a:endParaRPr>
          </a:p>
          <a:p>
            <a:pPr marL="154080" indent="-154080">
              <a:spcBef>
                <a:spcPts val="550"/>
              </a:spcBef>
              <a:buClr>
                <a:srgbClr val="790015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&lt;--          --------------------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ternetic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---------------------------------&gt;</a:t>
            </a:r>
            <a:endParaRPr b="1" lang="en-US" sz="2200" spc="-1" strike="noStrike">
              <a:solidFill>
                <a:srgbClr val="790015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5040" y="5151960"/>
            <a:ext cx="349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arallel Computing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Interface of Comput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with fields such as phys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using large scale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60640" y="4265640"/>
            <a:ext cx="5178240" cy="285840"/>
            <a:chOff x="2960640" y="4265640"/>
            <a:chExt cx="5178240" cy="285840"/>
          </a:xfrm>
        </p:grpSpPr>
        <p:sp>
          <p:nvSpPr>
            <p:cNvPr id="53" name=""/>
            <p:cNvSpPr/>
            <p:nvPr/>
          </p:nvSpPr>
          <p:spPr>
            <a:xfrm>
              <a:off x="2960640" y="4265640"/>
              <a:ext cx="285480" cy="2858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71840" y="4265640"/>
              <a:ext cx="285840" cy="2858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1120" y="4265640"/>
              <a:ext cx="285840" cy="2858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67000" y="4265640"/>
              <a:ext cx="285840" cy="2858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59480" y="4265640"/>
              <a:ext cx="285480" cy="2858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63960" y="4265640"/>
              <a:ext cx="285840" cy="2858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853040" y="4265640"/>
              <a:ext cx="285840" cy="2858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56080" y="4265640"/>
              <a:ext cx="285840" cy="285840"/>
            </a:xfrm>
            <a:prstGeom prst="ellipse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70160" y="4408560"/>
              <a:ext cx="4876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28880" y="3429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20560" y="3678120"/>
            <a:ext cx="1371600" cy="1523880"/>
            <a:chOff x="520560" y="3678120"/>
            <a:chExt cx="1371600" cy="1523880"/>
          </a:xfrm>
        </p:grpSpPr>
        <p:grpSp>
          <p:nvGrpSpPr>
            <p:cNvPr id="64" name=""/>
            <p:cNvGrpSpPr/>
            <p:nvPr/>
          </p:nvGrpSpPr>
          <p:grpSpPr>
            <a:xfrm>
              <a:off x="520560" y="4916160"/>
              <a:ext cx="1371600" cy="285840"/>
              <a:chOff x="520560" y="4916160"/>
              <a:chExt cx="1371600" cy="285840"/>
            </a:xfrm>
          </p:grpSpPr>
          <p:sp>
            <p:nvSpPr>
              <p:cNvPr id="65" name=""/>
              <p:cNvSpPr/>
              <p:nvPr/>
            </p:nvSpPr>
            <p:spPr>
              <a:xfrm>
                <a:off x="520560" y="4916160"/>
                <a:ext cx="28584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2720" y="4916160"/>
                <a:ext cx="28584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244520" y="4916160"/>
                <a:ext cx="28584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606680" y="4916160"/>
                <a:ext cx="28548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20560" y="4503600"/>
              <a:ext cx="1371600" cy="285840"/>
              <a:chOff x="520560" y="4503600"/>
              <a:chExt cx="1371600" cy="285840"/>
            </a:xfrm>
          </p:grpSpPr>
          <p:sp>
            <p:nvSpPr>
              <p:cNvPr id="70" name=""/>
              <p:cNvSpPr/>
              <p:nvPr/>
            </p:nvSpPr>
            <p:spPr>
              <a:xfrm>
                <a:off x="520560" y="4503600"/>
                <a:ext cx="28584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82720" y="4503600"/>
                <a:ext cx="28584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44520" y="4503600"/>
                <a:ext cx="28584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06680" y="4503600"/>
                <a:ext cx="28548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520560" y="4090680"/>
              <a:ext cx="1371600" cy="285840"/>
              <a:chOff x="520560" y="4090680"/>
              <a:chExt cx="1371600" cy="285840"/>
            </a:xfrm>
          </p:grpSpPr>
          <p:sp>
            <p:nvSpPr>
              <p:cNvPr id="75" name=""/>
              <p:cNvSpPr/>
              <p:nvPr/>
            </p:nvSpPr>
            <p:spPr>
              <a:xfrm>
                <a:off x="520560" y="4090680"/>
                <a:ext cx="28584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2720" y="4090680"/>
                <a:ext cx="28584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44520" y="4090680"/>
                <a:ext cx="28584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06680" y="4090680"/>
                <a:ext cx="285480" cy="28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20560" y="3678120"/>
              <a:ext cx="1371600" cy="285480"/>
              <a:chOff x="520560" y="3678120"/>
              <a:chExt cx="1371600" cy="285480"/>
            </a:xfrm>
          </p:grpSpPr>
          <p:sp>
            <p:nvSpPr>
              <p:cNvPr id="80" name=""/>
              <p:cNvSpPr/>
              <p:nvPr/>
            </p:nvSpPr>
            <p:spPr>
              <a:xfrm>
                <a:off x="520560" y="3678120"/>
                <a:ext cx="285840" cy="28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82720" y="3678120"/>
                <a:ext cx="285840" cy="28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244520" y="3678120"/>
                <a:ext cx="285840" cy="28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06680" y="3678120"/>
                <a:ext cx="285480" cy="28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72840" y="5059080"/>
              <a:ext cx="1067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2840" y="4640040"/>
              <a:ext cx="1067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2840" y="4221000"/>
              <a:ext cx="1067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2840" y="3801960"/>
              <a:ext cx="1067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739880" y="380196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1384200" y="380196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028520" y="380196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72840" y="380196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871720" y="3446640"/>
            <a:ext cx="5562720" cy="685800"/>
            <a:chOff x="2871720" y="3446640"/>
            <a:chExt cx="5562720" cy="685800"/>
          </a:xfrm>
        </p:grpSpPr>
        <p:sp>
          <p:nvSpPr>
            <p:cNvPr id="93" name=""/>
            <p:cNvSpPr/>
            <p:nvPr/>
          </p:nvSpPr>
          <p:spPr>
            <a:xfrm>
              <a:off x="2871720" y="3446640"/>
              <a:ext cx="5562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35320" y="3840480"/>
              <a:ext cx="4876920" cy="0"/>
            </a:xfrm>
            <a:prstGeom prst="line">
              <a:avLst/>
            </a:prstGeom>
            <a:ln w="57240">
              <a:solidFill>
                <a:srgbClr val="91919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2948040" y="3598920"/>
              <a:ext cx="345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3649680" y="3598920"/>
              <a:ext cx="345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4351320" y="3598920"/>
              <a:ext cx="34632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52960" y="3598920"/>
              <a:ext cx="34632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5756400" y="3598920"/>
              <a:ext cx="345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6"/>
            <a:stretch/>
          </p:blipFill>
          <p:spPr>
            <a:xfrm>
              <a:off x="6458040" y="3598920"/>
              <a:ext cx="345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7"/>
            <a:stretch/>
          </p:blipFill>
          <p:spPr>
            <a:xfrm>
              <a:off x="7159680" y="3598920"/>
              <a:ext cx="345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8"/>
            <a:stretch/>
          </p:blipFill>
          <p:spPr>
            <a:xfrm>
              <a:off x="7863120" y="3598920"/>
              <a:ext cx="345960" cy="38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774720" y="2898720"/>
            <a:ext cx="687240" cy="773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44160" y="4683600"/>
            <a:ext cx="417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ed Computing or the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Interface between Comput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and all application areas inclu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for instance Public Administration,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Business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liancegen98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1F6-0DCD-4FF9-BAFD-151D00815F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E1A9C-58EE-4A63-81BC-9ADE53CE225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0:31:14Z</dcterms:created>
  <dc:creator>Geoffrey Fox</dc:creator>
  <dc:description/>
  <dc:language>en-US</dc:language>
  <cp:lastModifiedBy>Geoffrey C. Fox</cp:lastModifiedBy>
  <cp:lastPrinted>1998-04-24T18:59:01Z</cp:lastPrinted>
  <dcterms:modified xsi:type="dcterms:W3CDTF">1998-05-03T02:33:41Z</dcterms:modified>
  <cp:revision>12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