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474-9804-4BE0-976B-F988CAFE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B46-4C51-483F-9B30-F3C1ECB4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DAC-C1F3-4F13-8ED8-36228664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A97-0CBE-4CDA-B02A-04DD3EC7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A200-F056-4C39-99EC-E506AD60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A9F8-A448-4344-89AC-99A12FD2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B98E-2545-4FB7-A9B9-2E4BEFF3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1B87-03C2-4B60-AFC9-F4A39FAB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5F3-24FA-4696-A024-C7000009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5383-CF15-423D-8720-627B9362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5D6F-53FA-471B-934F-43C6395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A36-D2B3-4782-B040-9C11E1BE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AE7-931C-414A-9D79-2E35B7BB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A28F-BA5E-4017-ACF3-0D59CAA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C707-14FA-423E-9805-A0D917FB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75B-0A35-480A-A84F-51C9DB4D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135F-8490-4391-BD3C-CFAE3784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166-B3CE-4524-8566-2742E4D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7DC-9C0A-4D07-8754-F30AD627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C57-1986-4A11-8FE4-6B69A65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5AB-95CF-42FF-B79C-BC85AC2D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943-F6CA-4074-BA55-E280591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E01-106C-463D-9CE3-504A2FC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C2E-3831-411A-B521-85051AF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8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74B5-66A7-4DEB-894B-03BBE091A284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572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BDB-A151-4C56-8CD1-EC56F83C794F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951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CB7E-2562-4EC6-9567-4D0E893BF494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416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430A-CDEA-439C-BA21-1736647CABE3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ces Modeling and Simul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of ARL PET Activiti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ear 2 and Beyon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4600" y="2501640"/>
            <a:ext cx="86108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eoffrey C. Fox and Wojtek Furmanski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rtheast Parallel Architectures Center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11 College Place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racuse University, Syracuse, NY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RL PET End of Year 2 Workshop - Aberdeen July 29-30, 1998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rlfmssummjuly98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D923-83F5-42AD-BC6E-8AB8B3D3C3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07B4DD-C288-457E-9680-C7F267C826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560" y="2048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FMS PET at Syracuse  - Year 2 Accomplishment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umber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Reached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7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umber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pers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blished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2 (4 at ITEA, 1 DoD UGC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umber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urs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resented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(1 at ITEA, JSU Summer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umber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chnical Repor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(CMS parallelization, JWORB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umber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ftware Modul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 (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Visual Simulation Toolkit for DMSO Jager,  JWORB/HTTP Protocol (Web Server), JWORB/IIOP Protocol (CORBA Server/Broker), Object Web RTI as JWORB Service, Object Model Builder (OMBuilder) in Excel+VBA, DirectX Front-End for DMSO Jager, FMS Training Space /  Database Navigator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fmssummjuly98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845-7B04-4047-BF92-9FE96DEF03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E0655-F03F-40C2-BB9B-D3CC174899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Year 2 Deliverabl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50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 FMS Support and Tech Tracking -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b Site (300+ Pages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TI Parallelization Planning 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PAC joins CHSSI FMS-5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EDES Training Materials 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b Database for Source and Documentation Navig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MS Training 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4 courses, 12 papers, FMS Training Space / Database -- includes future SIW98 Orlando  pape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sual Simulation Tools 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bFlow+Excel+VBA+DirectX for Jager - commodity version of DMSO technolog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allel CMS Planning (CEWES) 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uns at ARL, tech report ready -- will be focus of application work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Web RTI (CEWES) 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mplemented, alpha release fall 98 is foundation of WebHLA architecture and FMS metacomputing for futu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fmssummjuly98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1AD-AAA3-4411-A227-02BEB5C9A6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31215-4153-4BFF-9723-081106A6F6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ear 3-5 NPAC Work Packag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bHL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Proposa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572760"/>
            <a:ext cx="9144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all Structur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374"/>
              </a:spcBef>
              <a:spcAft>
                <a:spcPts val="374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ic project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each for years 3-5 with suggested activiti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374"/>
              </a:spcBef>
              <a:spcAft>
                <a:spcPts val="374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Differen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SSI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modules and/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stomer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addressed each year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HLA</a:t>
            </a:r>
            <a:r>
              <a:rPr b="1" lang="en-US" sz="20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- an overall 3-tier commodity architecture  to offer an integrated training, demo, testbed and FMS software delivery platfor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re PET FMS Support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-- continual Tracking of DMSO/Commodity Technologies with COM and XML in year 3 incl. Microsoft ChromeEffects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ecific Parallel Modeling and Simulation Module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(Year 3 is CMS --&gt; Year 5 JSIMS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tacomputing FMS Demonstration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(use JWORB for fully DMSO HLA compliant multi MSRC commodity metacomputing starting with ModSAF/CMS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SSI Training Module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(Year 3 SPEEDES, then TEMPO, E-ModSAF ...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ining Federate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(use of WebHLA for interactive training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HLA Integr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(is FMS Problem Solving environment -- eventually explore SBA or Simulation Based acquisition as discussed at ITEA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fmssummjuly98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393-B193-4D39-9671-853622C133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0F11C-BE38-4C6C-AA39-8CEE605FAF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webhla-package" descr=""/>
          <p:cNvPicPr/>
          <p:nvPr/>
        </p:nvPicPr>
        <p:blipFill>
          <a:blip r:embed="rId1"/>
          <a:stretch/>
        </p:blipFill>
        <p:spPr>
          <a:xfrm>
            <a:off x="0" y="444600"/>
            <a:ext cx="6937200" cy="6413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467480" y="1359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11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5245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942240" y="1944720"/>
            <a:ext cx="1752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967080" y="5829480"/>
            <a:ext cx="17528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1981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ar 3-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900840" y="3724200"/>
            <a:ext cx="1752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090960" y="-360"/>
            <a:ext cx="6053040" cy="606600"/>
          </a:xfrm>
          <a:prstGeom prst="rect">
            <a:avLst/>
          </a:prstGeom>
          <a:solidFill>
            <a:srgbClr val="9c00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NPAC FMS PET Proposa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fmssummjuly98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5B9-A079-4187-A792-6EB34BF0F0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FD104-9B38-4E51-B3F8-2AE7AC0E5D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C. Fox</cp:lastModifiedBy>
  <cp:lastPrinted>1997-12-25T20:46:20Z</cp:lastPrinted>
  <dcterms:modified xsi:type="dcterms:W3CDTF">1998-07-26T13:17:57Z</dcterms:modified>
  <cp:revision>1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