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F734-9615-4B24-BA9C-8F558EBF0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794D-CB6B-4F61-A489-D7D825580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5270-291D-43E8-A2CE-EC3B92213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95A1-2FB9-4494-9D8F-E8638561B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E45E-E249-4E34-9C90-0720049FF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28F7-EDAA-4B27-B507-3D8DF08BF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C3FF-D7FC-4CB5-9781-CA5A77BBD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CBFA-22F9-4E79-A7A9-83F32CF06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8723-1128-4DCB-B091-4B7D6BDDC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DBF5-3957-4578-88D4-FB5FE8E2E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3485-A3E4-4D4E-BA19-6BC243F4B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93E7-3A57-4155-9550-1AA7A109E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FBC2-64F9-418C-83B1-694BDC655A27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utational Science Course Material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ctures from CPS615, Computational Science for Simulation Applications, were revised during the teaching of the fall course (given remotely at JSU).  Major revisions or ad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el Archite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ssage-Passing Interface (MP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-Body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links to outside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main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896F-EBD0-4C5B-AA90-66BE8DB5B2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HSE HPCC Roadmap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CC resources in the National High Performance Software Exchange went through a major revision, particulary:  HPCC Glossary, HPCC hardware vendors,  Parallel computing archit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vendors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comp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49" name="hpcc" descr=""/>
          <p:cNvPicPr/>
          <p:nvPr/>
        </p:nvPicPr>
        <p:blipFill>
          <a:blip r:embed="rId3"/>
          <a:stretch/>
        </p:blipFill>
        <p:spPr>
          <a:xfrm>
            <a:off x="5638680" y="3429000"/>
            <a:ext cx="327672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40BE-9CD6-46A1-A5C2-089F4E38A5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tributions from Partne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Chuck Koelbel at Rice Uni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Performance Fortran in Pract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ing and Building Parallel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eotape (from ASC) digitized &amp; synchronized w/ foils using LecC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Mississippi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I CH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chuck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810240" cy="34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A9B3-6E35-418C-BE27-CFD191ABA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8-08-05T13:41:55Z</cp:lastPrinted>
  <dcterms:modified xsi:type="dcterms:W3CDTF">1999-01-29T18:28:33Z</dcterms:modified>
  <cp:revision>4</cp:revision>
  <dc:subject/>
  <dc:title>No Slide Title</dc:title>
</cp:coreProperties>
</file>