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BA47-B784-4855-A636-C98E8DFFA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B899-F141-4292-AB00-CE3F86B3C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ADAF-B3BF-45D6-B2F6-F5E383E07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C7CD-ADA7-47DD-8BC1-238F09EABA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397E-E695-46FE-AD29-8BE6170621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B0E4-27BE-4B8C-B7AC-40D4ED145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AE7AC-92DB-4564-8856-D0D931C56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69FB-DFD5-44E1-AFC7-6E1FA9760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3BD2-8E76-4DC9-9A98-8FB50ACA2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46C2-3EFA-41FB-BAC6-3646CDD65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1225-FE91-4597-BEDF-EB87CFAA8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E256-1D21-4D24-BD5C-92C278FDB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98FF-16A0-4D46-ABE0-6B18C942D04C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rclogo" descr=""/>
          <p:cNvPicPr/>
          <p:nvPr/>
        </p:nvPicPr>
        <p:blipFill>
          <a:blip r:embed="rId3"/>
          <a:stretch/>
        </p:blipFill>
        <p:spPr>
          <a:xfrm>
            <a:off x="0" y="6149880"/>
            <a:ext cx="1892160" cy="708120"/>
          </a:xfrm>
          <a:prstGeom prst="rect">
            <a:avLst/>
          </a:prstGeom>
          <a:ln w="0">
            <a:noFill/>
          </a:ln>
        </p:spPr>
      </p:pic>
      <p:pic>
        <p:nvPicPr>
          <p:cNvPr id="5" name="newmsrclogo" descr=""/>
          <p:cNvPicPr/>
          <p:nvPr/>
        </p:nvPicPr>
        <p:blipFill>
          <a:blip r:embed="rId4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Emergent Technologies for HPC Migration and Productivit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Web Interfaces for Computational Modul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A Problem Solving Environment (PSE) for CWO Modeling Systems </a:t>
            </a:r>
            <a:br>
              <a:rPr sz="3200"/>
            </a:b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joint project with OSU and OSC,</a:t>
            </a:r>
            <a:br>
              <a:rPr sz="3200"/>
            </a:b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presented by OSU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C8D3-CEE6-4ABF-A3F9-43C7E40A5A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eb Interfac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Use commodity/standard software tools to develop a system to make easier..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594360" indent="-2286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igration of complex applications to HP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594360" indent="-2286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se of diverse and specialized HPC resourc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594360" indent="-2286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uple applications together to meet demand for higher-fidelity model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594360" indent="-2286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acilitate separation of front-end user interface and computational back-en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274320" indent="-2743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ome of above possible with Java &amp; CGI but cumbersome and hard to generaliz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74320" indent="-2743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Java, CORBA &amp; WebFlow better approach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B80C-398B-4F4A-8236-1A74BEF21B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eb Interfaces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llow-on to Year 3 effor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and Management System (EQM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obility Assessment (Logistics/FM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 Year 4 expand to other CTAs and other types of HPC applications to broaden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ynergistic with new ASC “Gateway” project (NPAC, OSC, Nichols).  There NPAC focus is on “middleware”, here on supporting applications and CTA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C296-2B29-410A-96FC-FA5987D628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eb Interfaces (3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mplement basic WebFlow infrastructure at CEWES, including security enhancements from ASC Gatewa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lan is to work with 2-3 CTA applic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esign and implement API to allow applications to interface with WebFlow servic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83280" indent="-2628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C appl. areas not supported at CEW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83280" indent="-2628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eed broad spectrum of apps early to insure “universal” suppor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CA08-3989-421C-A93D-8065576262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PSE for CWO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mplements ASC “Gateway” projec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WO not supported at AS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tilizes  &amp; extends same infrastructure (“middleware”) as at AS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xtends infrastructure to support new requirements introduced by CWO, especially management and “co-allocation” of cooperating but separate HPC sim. apps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350C-F2B5-41E7-9ECA-DC952ED62A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7T15:05:40Z</dcterms:created>
  <dc:creator>John T. Eberle</dc:creator>
  <dc:description/>
  <dc:language>en-US</dc:language>
  <cp:lastModifiedBy>David E Bernholdt</cp:lastModifiedBy>
  <cp:lastPrinted>1998-08-05T13:41:55Z</cp:lastPrinted>
  <dcterms:modified xsi:type="dcterms:W3CDTF">1999-01-29T17:49:30Z</dcterms:modified>
  <cp:revision>44</cp:revision>
  <dc:subject/>
  <dc:title>No Slide Title</dc:title>
</cp:coreProperties>
</file>