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134D-2F43-4D86-AD32-8E49E162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8EF-57C0-4DC8-8A3B-5ADA2364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2076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8CE2-E1D3-4469-9E7A-07739333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608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72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608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72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48F-BA6B-4D67-B296-112D81A7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D906-CEA4-4F78-B800-35CDB982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90E6-0553-41CB-ABBE-4092D376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5E6B-A2F8-4E52-B6A8-1F6D9CDA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2F6E-32BB-46C1-A0A5-D60AD675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AF75-AAAA-4624-A791-7BDB58E9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343080"/>
            <a:ext cx="77724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35FD-5607-46A5-AB12-22E85B24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8A90-B56B-46E1-A436-96FA3275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0402-594E-48CE-B922-83DC9B5A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2076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110F-6952-467D-A7B0-7AFAE309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E6C5-2B93-4961-B61F-BDBCF72C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808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DB3B-62EC-4358-A630-CF478518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80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2076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B7A7-AEDF-4B65-9AFA-D278E609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6608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372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808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6608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9372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291D-F451-4906-A29B-7C0AD37A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5A8F-DBB0-4816-B9D8-BDAB4EB2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FCF0-2CE2-4EAB-8B8C-87E02CF5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9FBE-1F3A-40EA-A0B1-310F4986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43080"/>
            <a:ext cx="77724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328-99CD-4F2A-84E6-CE15470D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931C-3861-4B3A-A1F5-31DFF6DA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2076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6C3-515E-4207-AD23-CB03C3A0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5AC9-D837-47D1-B744-DF32E1DA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33520" y="1751040"/>
            <a:ext cx="253440" cy="4421160"/>
            <a:chOff x="533520" y="1751040"/>
            <a:chExt cx="253440" cy="4421160"/>
          </a:xfrm>
        </p:grpSpPr>
        <p:sp>
          <p:nvSpPr>
            <p:cNvPr id="1" name=""/>
            <p:cNvSpPr/>
            <p:nvPr/>
          </p:nvSpPr>
          <p:spPr>
            <a:xfrm>
              <a:off x="533520" y="1752480"/>
              <a:ext cx="250920" cy="44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3520" y="1751040"/>
              <a:ext cx="253440" cy="4421160"/>
            </a:xfrm>
            <a:custGeom>
              <a:avLst/>
              <a:gdLst/>
              <a:ahLst/>
              <a:rect l="l" t="t" r="r" b="b"/>
              <a:pathLst>
                <a:path w="97" h="2785">
                  <a:moveTo>
                    <a:pt x="0" y="2784"/>
                  </a:moveTo>
                  <a:lnTo>
                    <a:pt x="96" y="2784"/>
                  </a:ln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51040"/>
              <a:ext cx="253440" cy="4421160"/>
            </a:xfrm>
            <a:custGeom>
              <a:avLst/>
              <a:gdLst/>
              <a:ahLst/>
              <a:rect l="l" t="t" r="r" b="b"/>
              <a:pathLst>
                <a:path w="97" h="2785">
                  <a:moveTo>
                    <a:pt x="0" y="2784"/>
                  </a:move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380880" y="304920"/>
            <a:ext cx="304920" cy="685800"/>
            <a:chOff x="380880" y="304920"/>
            <a:chExt cx="304920" cy="685800"/>
          </a:xfrm>
        </p:grpSpPr>
        <p:sp>
          <p:nvSpPr>
            <p:cNvPr id="5" name=""/>
            <p:cNvSpPr/>
            <p:nvPr/>
          </p:nvSpPr>
          <p:spPr>
            <a:xfrm>
              <a:off x="380880" y="304920"/>
              <a:ext cx="303480" cy="6850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80880" y="304920"/>
              <a:ext cx="304920" cy="68580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304920"/>
              <a:ext cx="304920" cy="68580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2673-95F0-4B0D-8084-64BEBF22C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0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1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55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59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11E2-EDA2-4769-ADB0-8112F29D6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6640" y="20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V2 - The Collaborative Scientific Data Visualization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40381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anxiang Jin, Geoffrey F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racus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EB95-E6F1-40CE-A0FD-83CEDD68BC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Sharing Applet in SV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t(only canvas based so far) can be shared in SV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the initialization of Applet without collaboration-aware for Applet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ynchronization through connection to local disk file.(TCP connection to SV2 server is under coming so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3DAB-56F6-40AE-A344-F165E77E27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4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Futur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llel computing on sv2-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Since some computing should be done on  sv2-server , decreasing this time is critical. We will focus on developing a server on multiple processors using MPI + Ja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complex applet in S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How to use serialization in java to sharing the view of complex appl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ss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Data must be compressed in order to view data in a “reasonable” amount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E27-2AF6-4201-A98B-C3751F9E84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V2 Sample Screen/Window Du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sv2%20screen" descr=""/>
          <p:cNvPicPr/>
          <p:nvPr/>
        </p:nvPicPr>
        <p:blipFill>
          <a:blip r:embed="rId1"/>
          <a:stretch/>
        </p:blipFill>
        <p:spPr>
          <a:xfrm>
            <a:off x="1371600" y="108576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04C0-7D88-41D5-A3D8-FD8B8989AE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SV2 screen du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jshot2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088320" cy="48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562-A89C-4CB3-821F-9775A0070B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SV2 screen du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untitled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21680" cy="549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8803-2FB0-4351-AA98-383C70BA5B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Visualiz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transformation of data or information into pictu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ientific Visualiz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mpasses user interface, data representation, processing algorithms, visual representations, and other sensory presen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data/information becomes larger, scientist need to collaborate to better understand this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Java 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latform independence, and ease of use of working with other languages(JN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5C45-73FF-4DC9-9113-F5EF3D1EF0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37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Overview of SV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a scientific visualization system to handle collaborations with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arge datas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 3-tier architecture combining a data-flow system with an easy to use collaborative infrastru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sign a collaborative system to allow users to work together in an efficient man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ld visualization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JDK 1.2, Java 2D, Java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accomplish these goals, we focus on  </a:t>
            </a: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multi-casting and com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he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system is composed of a </a:t>
            </a: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visualization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Java/C++) and </a:t>
            </a: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visualization cli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614-3F75-47E7-84D6-BD555193E2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V2 System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2-Server :                                         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Receiving  and multi-casting the data, it  contains two computation engines: geometry and filter engines.Simulator provides real time data to SV2-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2-Client :                                                 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It consists two parts, a client Manager and a Data Viewer. Data Viewer is implemented using JDK1.2 and Java3D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go:                                                          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It is a software framework supporting multiplatform collaboration, providing the management of collaborative issues in data vis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022-2CA5-49BF-8605-A4BC7926F4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762120"/>
            <a:ext cx="1295280" cy="30456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View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2952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View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457200"/>
            <a:ext cx="1219320" cy="15238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762120"/>
            <a:ext cx="1295640" cy="30456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View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1295280"/>
            <a:ext cx="12956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View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457200"/>
            <a:ext cx="1218960" cy="15238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886200"/>
            <a:ext cx="236232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an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209680" y="1981080"/>
            <a:ext cx="228600" cy="1905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286000" y="1981080"/>
            <a:ext cx="4267080" cy="1905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3886200"/>
            <a:ext cx="243828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2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4343400"/>
            <a:ext cx="1371600" cy="533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324120" y="457200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105520" y="1981080"/>
            <a:ext cx="1600200" cy="1905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895480" y="1981080"/>
            <a:ext cx="2286000" cy="1905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3352680"/>
            <a:ext cx="1447920" cy="22860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3276720"/>
            <a:ext cx="1371600" cy="30456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gure 1: SV2 System Architect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AB04-B580-4590-80F7-5C5656E82C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Collaboration Charac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Multi-user and multi-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Times New Roman"/>
              </a:rPr>
              <a:t>Real Time Synchron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Large Data s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Control messa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separated (through SV2 Server and Tango respective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r>
              <a:rPr b="0" lang="en-US" sz="3200" spc="-1" strike="noStrike">
                <a:solidFill>
                  <a:srgbClr val="cc00ff"/>
                </a:solidFill>
                <a:latin typeface="Times New Roman"/>
              </a:rPr>
              <a:t>Collaborative to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available(Chat, Whiteboard, Shared browser, Videoconferencing Syst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35D-44D2-40D6-8BA7-DEA72CF9F4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Multi-casting Charac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casting is a hot research topic .There are many different philosophies to solv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V2,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uild-in Multi-thr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Java is used when Server broadcasting the large Data sets to Clients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ata Synchron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612C-A17B-450A-B1BF-C43D66EF1E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Corporation with C/C+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uge compu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eeded on SV2-Server . This computing time is related to th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sponse time of the whole sys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we need to implements critical routines in C/C++                                                                            Some already exist routines are written in C/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simulator is written in C/C++ instead of Java.In SV2, we provid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 AP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imulator to passing Data to SV2-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hese are reasons for us using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JNI 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Java in SV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BD42-A571-4C0E-B59B-846532DF86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Connect to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 to web server database through JD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ualize the server lo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ieve some useful information from web server raw data by using some data mining technolog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6290-2361-4679-A50F-C43BAE6ED9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02:39:23Z</dcterms:created>
  <dc:creator>jjin</dc:creator>
  <dc:description/>
  <dc:language>en-US</dc:language>
  <cp:lastModifiedBy>jjin</cp:lastModifiedBy>
  <dcterms:modified xsi:type="dcterms:W3CDTF">2000-01-30T15:57:10Z</dcterms:modified>
  <cp:revision>19</cp:revision>
  <dc:subject/>
  <dc:title>SV2 - The Collaborative Scientific Data Visualization Framework by using Tango</dc:title>
</cp:coreProperties>
</file>