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C79B-D56C-4636-AC78-21F13C397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F71E-9E2E-42A3-B9E1-3F77BC1E9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9EC1-A056-4A12-94EB-3BED324F4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A97B-F527-48ED-B93D-B04F5D33E3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A271-1E6C-42E4-BCA0-AFBDDD058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56C4-5D19-4773-8DCD-EBA6B5E98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9BB9-7367-4042-80C8-D2CC53E70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D6B6-E7DA-4E01-B6B5-8C5A66A95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76C4-D350-4C03-BD7C-8B7A64806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71D9-0983-40B9-A19E-ECF24EF7C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5985-DD09-4469-86D2-59E447B92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A573-0ED9-43A4-BCEC-3393554E8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F91-F7DC-4E49-8230-B8102DD75F26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33"/>
                </a:solidFill>
                <a:uFillTx/>
                <a:latin typeface="Times New Roman"/>
              </a:rPr>
              <a:t>Forces Modeling and Simulation/C4I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br>
              <a:rPr sz="4400"/>
            </a:br>
            <a:br>
              <a:rPr sz="1800"/>
            </a:b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3600"/>
            </a:br>
            <a:br>
              <a:rPr sz="1800"/>
            </a:b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High Performance Distributed Object Web Based HLA Demonst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jtek Furmansk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6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isting FMS CHSSI Team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FMS-3, FMS-4, FMS-5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Jeff Steinman/Mark Roberts regarding SPEEDES/E-ModSAF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Larry Peterson and Jeff Wallace re Parallel IMPORT support in WebHL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ntributing our HLA expertise in HPC RTI project;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 Web RTI to be certified by DMSO as the first non-DMSO RT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A70A-427B-4E2D-8A85-72623A58D0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7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2 submit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mela M. Jacobs/Ft. Belvoir, Wojtek Furmanski/Translet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ebHLA Toolkit for Metacomputing based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ry J. Peterson/SPAWAR, Chris Wallace/TRW, Wojtek Furmanski/Translet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PC for Scalable Cognitive Entities in Forces Modeling and Simul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A2B1-B4D1-4BF3-889C-835A3AECC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8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100+ pag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both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in detail) and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HSS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t the summary level) FMS progra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s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ebH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sion, component technologies, prototypes, demonstr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early support for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MS Training Sp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ite at NPAC 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ttp://bombay.npac.syr.edu/f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ummary site being installed at CEW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D810-AC8F-40DE-A2DF-BC620FA98E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gh Performance Distributed Object Web Based HLA Demonst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s on JWORB/OWRTI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Parallel CMS as HPC Feder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ModSAF, Vis, Log etc. Federat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WebHLA demos (Jager) - Summer 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CMS Demo at SC’98, Fall 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bile laptop demo (event playback) - Feb ‘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demo - end of March ‘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F336-6099-4EE7-AEA6-CA0B6C10DC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4479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ebHLA/Parallel CMS Demo at the HPCMO Booth at  Supercomputing ‘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vember 7-13, 1998, Orlando, F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0B72-D047-42CD-A1C0-EE558FF4CD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monstration Compon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M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mprehensive Minefield Simulator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dvanced DIS system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. Belvo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recently parallelized on Origin2000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T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odSA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odular Semi-Automated Force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I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provides advanced support for terrain and vehicle simulation (tanks, coutermine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k Steal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mmercial DIS battlefield visualizer fr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 Technolog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imV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X/3D Battlefield Viewer; commodity/NT front-end for Parallel CMS developed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T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6B73-65B4-4C09-8AFC-CBDFB7477C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rallel CMS - Install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t NPAC,  Syracuse Unviers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s on Origin2000 in ARL and CEWES MSRC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S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 Steal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 on NPAC SGI workst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3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er runs on NT commodity cluste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spcAft>
                <a:spcPts val="700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t SC98 in Orlan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s on Origin2000 in HPCMO booth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S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tealth runs on booth SG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ewer runs on lapto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BC9C-0748-4D04-BC53-7B842EF646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allel CMS Demo - Result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enario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y breach operation at Ft. Knox, developed for Syracuse by Ft. Belvoi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etwork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NE connection satisfactory between NPAC and MSRCs, difficulties in Orland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peed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far linear up to 8 nodes, more work and tests needed to scale for larger parti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98 dem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 capability only but already generated some interest and visi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ext ste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HLA suppor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nd of Year 3)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MSR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computing CMS (Year 3 proposal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7BB2-FEFA-4AF4-9C2B-FDBABD24E3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rawing1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782040" cy="51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73E3-6B79-4210-9930-329EC832C9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ms_with_veh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553440" cy="4803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MS Front-End for the Ft. Knox Minefield Br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DFE8-049E-4231-9F08-EDF90EFC9A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MS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ojtek Furman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imucin Ozdemi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Pulik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hesh Rengaswam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3E6A-5470-409D-90C3-CC2D9C0EE2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odsaf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4862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SAF Front-End for the Ft. Knox Minefield Br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D3C9-6956-4DD6-ACC8-C261D05A0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er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315200" cy="4934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allel CMS Performance Monitor and PDU Sampler/Sn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C342-F2EC-47F4-A0E3-33A21C990C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c985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705720" cy="5092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4572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rect3D based Commodity (NT) Front-End for Parallel C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768E-0489-40CF-BA56-915B9EA116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tealth_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638680" cy="4784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6015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k Stealth - High End SGI Viewer adapted for Parallel 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2CC6-6891-45DC-A439-9ED3526D91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wards  HLA Support for Parallel CM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C’98 Parallel CMS Demo 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IS based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LA conversion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of old/legacy modules (CMS, ModSAF) - in progres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DIS/HLA modules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(JDIS, Logger, Playback, SimVis) - initially operational and being completed/ref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bile laptop demo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(under development - to be shown at Year 3 review) enables scenario storage, playback and analys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inal demo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will include all WebHLA components listed below - to be available end of March 99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DB35-53E0-44E6-968B-BE4417BB22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HLA - Current Component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WOR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Java Web Object Request Broker)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 based CORBA broker acting as HLA middlewar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WRTI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Object Web Run-Time Infrastructure)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 CORBA based implementation of DMSO RTI 1.3 packaged as JWORB servic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MBuild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l+VBA based Visual FOM/SOM Authoring tool with Aegis OMDT look-and-fe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DirectX based SimVis Front-E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DirectPlay for multiplayer gaming to bridge with RTI middlewar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D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DIS-HLA bridge and PDU probe generator written in Java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Parallel Performance  Monitor)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Log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laybac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derat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agmatic Object We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eptual framework - integrates HLA with Java, CORBA, COM and XM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364A-E9B5-4F7F-9C92-10C68D2312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in developing WebHLA - potential new breakthrough technology from FMS CT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publication efforts (several papers, book, FMS Web site) generate broad visibility for F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solid relations with Ft. Belvoir and SPAWAR (via joint CHSSI proposals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 interest of JSIMS (Jeff Wallace) and DMSO (Judith Dahmann) in WebHL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CE77-BE2E-4DBD-A8D3-25CE2DB9C2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Object Web HLA Demonstr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ojtek Furmanski, Survesh Jithendran, Dinesh Kasthuril, Ganesh Krishnamurthy, Subhash Nair, Zeynep Odcikin-Ozdemir, Timucin Ozdemir, Tom Pulikal, Krishnan Ragarajan, Mahesh Rengaswamy, Anusha Shankar, Sachin Shanbhag, Rudrasen Shitole, Ankur Soo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09D7-97AF-4E28-BFA9-1D801CD866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OWRTI, CMS etc.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Presentation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0 papers publish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FMS at JSU, SPEEDES at JNTF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Pragmatic Object Web, Wiley ‘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sting FMS CHSSI Team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FMS-3, FMS-4, FMS-5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2 submit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00+ pag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F60E-3F23-4002-AF2E-1899D5225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1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OWRTI, CMS etc.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WOR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WRT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MBuild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 2 Modul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SimVi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X based 3D simulation visualization front-end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arallal C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igin2000 port of Comprehensive Mine Simulator from Ft. Belvoi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Java based parallel performance monitor and PDU probing to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D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Java based DIS=&gt;HLA bridge serv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ModSAF/H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upport for ModSAF node to act as HLA federat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Logger Federate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d to save HLA interactions (events) in a relational databas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layback Federa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used to replay a simulation from an event databas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F7CA-C2D3-477A-B5F8-1AEF29905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erence Presentations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10 papers publish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C DoD User Group Confrerence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Rice U., June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EA HPC Conf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Aberdeen, MD, 4 papers, July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W (HLA conf by DMSO/SISO),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Orlando, FL, Sept 98 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 paper awarded as recommended re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S WebSim’99 Conf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San Francisco, CA, Jan 1999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HPC confs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(EuroPar, Wisconsin, ICASE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A00E-3DEE-4825-B6C7-1001A0B2EE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ebHLA/OWR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esentation at SPAWAR, Aug 98, as part of JSIMS/Panda meet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Demonstration of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HPCMO booth at Supercomputing ‘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DBAA-B426-4590-B576-7AA1C585F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4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FMS JSU, SPEEDES at JNTF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ing Full Day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JSU Summer Institute, June 98; included morning presentation and afternoon lab with hands-on WebHLA demo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ng in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PEEDE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Metron, Inc. at the Joint National Test Facility at Colorado Springs, CO, June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C10E-0EFC-4085-9EC0-CDBD5FE092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5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 Development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Pragmatic Object Web, Wiley ‘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.C. Fox, W. Furmanski, S. Pallickara and H. Timucin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Building Distributed Systems on Pragmatic Object Web -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The Best of Java, CORBA, COM, XML and H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book in progress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ey ‘9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our recent work on Web based HPC and proposes dual-use of WebHLA for several Internet application domains (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virtual communities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nline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multiplayer gaming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SBA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distance training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telemedic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tc.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23A1-C272-499A-B951-8AE6B614B3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0:49:46Z</dcterms:created>
  <dc:creator>David E Bernholdt</dc:creator>
  <dc:description/>
  <dc:language>en-US</dc:language>
  <cp:lastModifiedBy>David E Bernholdt</cp:lastModifiedBy>
  <cp:lastPrinted>1999-01-30T16:45:36Z</cp:lastPrinted>
  <dcterms:modified xsi:type="dcterms:W3CDTF">1999-02-09T14:05:36Z</dcterms:modified>
  <cp:revision>79</cp:revision>
  <dc:subject/>
  <dc:title>No Slide Title</dc:title>
</cp:coreProperties>
</file>