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EE6E4E-B8C4-4736-A57A-319B232641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F0B8AD8-096B-4F7D-9C2C-C256EC52AE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C276FFF-E3D7-4E66-88F5-8066E7C774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BB2A3E0-1DC2-4493-9DB5-69C79A3AB6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196F929-7A51-4FE4-86D3-D040AD1D67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EC68A60-F669-4AF6-A088-87C1DA29C4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2774C7D-CBBE-4071-B480-1B3D0424E9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3550DF2-1BE5-4280-B8A0-2BEB97B33E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FDC5EF3-836E-4010-ACB7-F0C6C1036A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4465D22-BA3F-49F1-A922-82D6569958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0D40FBC-4B84-488F-B589-B3F2D66F86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4FB3D5C-009E-45DA-8718-DA5DB8264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99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BA58-5CC5-4D2C-80AE-77C716119D3B}" type="slidenum">
              <a:rPr b="0" lang="en-US" sz="900" spc="-1" strike="noStrike">
                <a:solidFill>
                  <a:srgbClr val="ff9933"/>
                </a:solidFill>
                <a:latin typeface="Times New Roman"/>
              </a:rPr>
              <a:t>&lt;number&gt;</a:t>
            </a:fld>
            <a:endParaRPr b="0" lang="en-US" sz="900" spc="-1" strike="noStrike">
              <a:solidFill>
                <a:srgbClr val="000000"/>
              </a:solidFill>
              <a:latin typeface="Times New Roman"/>
            </a:endParaRPr>
          </a:p>
        </p:txBody>
      </p:sp>
      <p:pic>
        <p:nvPicPr>
          <p:cNvPr id="3" name="PETIMAGE" descr=""/>
          <p:cNvPicPr/>
          <p:nvPr/>
        </p:nvPicPr>
        <p:blipFill>
          <a:blip r:embed="rId2"/>
          <a:stretch/>
        </p:blipFill>
        <p:spPr>
          <a:xfrm>
            <a:off x="504720" y="0"/>
            <a:ext cx="8334360" cy="533520"/>
          </a:xfrm>
          <a:prstGeom prst="rect">
            <a:avLst/>
          </a:prstGeom>
          <a:ln w="0">
            <a:noFill/>
          </a:ln>
        </p:spPr>
      </p:pic>
      <p:pic>
        <p:nvPicPr>
          <p:cNvPr id="4" name="Nrclogo" descr=""/>
          <p:cNvPicPr/>
          <p:nvPr/>
        </p:nvPicPr>
        <p:blipFill>
          <a:blip r:embed="rId3"/>
          <a:stretch/>
        </p:blipFill>
        <p:spPr>
          <a:xfrm>
            <a:off x="0" y="6149880"/>
            <a:ext cx="1892160" cy="708120"/>
          </a:xfrm>
          <a:prstGeom prst="rect">
            <a:avLst/>
          </a:prstGeom>
          <a:ln w="0">
            <a:noFill/>
          </a:ln>
        </p:spPr>
      </p:pic>
      <p:pic>
        <p:nvPicPr>
          <p:cNvPr id="5" name="newmsrclogo" descr=""/>
          <p:cNvPicPr/>
          <p:nvPr/>
        </p:nvPicPr>
        <p:blipFill>
          <a:blip r:embed="rId4"/>
          <a:stretch/>
        </p:blipFill>
        <p:spPr>
          <a:xfrm>
            <a:off x="6705720" y="6122880"/>
            <a:ext cx="213336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Interfaces for Computational Modules</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 Fox, Tomasz Haup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Syracuse Univer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 of Webflow</a:t>
            </a:r>
            <a:endParaRPr b="0" lang="en-US" sz="4000" spc="-1" strike="noStrike">
              <a:solidFill>
                <a:srgbClr val="000000"/>
              </a:solidFill>
              <a:latin typeface="Times New Roman"/>
            </a:endParaRPr>
          </a:p>
        </p:txBody>
      </p:sp>
      <p:pic>
        <p:nvPicPr>
          <p:cNvPr id="61" name="sc98fig1" descr=""/>
          <p:cNvPicPr/>
          <p:nvPr/>
        </p:nvPicPr>
        <p:blipFill>
          <a:blip r:embed="rId1"/>
          <a:stretch/>
        </p:blipFill>
        <p:spPr>
          <a:xfrm>
            <a:off x="1752480" y="1676520"/>
            <a:ext cx="5610240" cy="4257720"/>
          </a:xfrm>
          <a:prstGeom prst="rect">
            <a:avLst/>
          </a:prstGeom>
          <a:ln w="0">
            <a:noFill/>
          </a:ln>
        </p:spPr>
      </p:pic>
      <p:sp>
        <p:nvSpPr>
          <p:cNvPr id="3" name="PlaceHolder 2"/>
          <p:cNvSpPr>
            <a:spLocks noGrp="1"/>
          </p:cNvSpPr>
          <p:nvPr>
            <p:ph type="sldNum" idx="1"/>
          </p:nvPr>
        </p:nvSpPr>
        <p:spPr/>
        <p:txBody>
          <a:bodyPr/>
          <a:p>
            <a:fld id="{DF5BDC85-3ECF-499D-8A5B-CC0616326D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delivered by this project offers an intuitive web browser based interface and a uniform point of interactive control for a variety of computational modules and applications, running at various places on different platforms and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applications can be composed dynamically from reusable components just by clicking on visual module icons, dragging them into the active WebFlow editor area, and linked by</a:t>
            </a:r>
            <a:r>
              <a:rPr b="0" lang="en-US" sz="3200" spc="-1" strike="noStrike">
                <a:solidFill>
                  <a:srgbClr val="000000"/>
                </a:solidFill>
                <a:latin typeface="Times New Roman"/>
              </a:rPr>
              <a:t> </a:t>
            </a:r>
            <a:r>
              <a:rPr b="0" lang="en-US" sz="2400" spc="-1" strike="noStrike">
                <a:solidFill>
                  <a:srgbClr val="000000"/>
                </a:solidFill>
                <a:latin typeface="Times New Roman"/>
              </a:rPr>
              <a:t>drawing the required connection lines, as shown in the following slid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6411046-6C91-4CC4-9380-0D310F1784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Front-end</a:t>
            </a:r>
            <a:endParaRPr b="0" lang="en-US" sz="4400" spc="-1" strike="noStrike">
              <a:solidFill>
                <a:srgbClr val="000000"/>
              </a:solidFill>
              <a:latin typeface="Times New Roman"/>
            </a:endParaRPr>
          </a:p>
        </p:txBody>
      </p:sp>
      <p:pic>
        <p:nvPicPr>
          <p:cNvPr id="65" name="newfrontend" descr=""/>
          <p:cNvPicPr/>
          <p:nvPr/>
        </p:nvPicPr>
        <p:blipFill>
          <a:blip r:embed="rId1"/>
          <a:stretch/>
        </p:blipFill>
        <p:spPr>
          <a:xfrm>
            <a:off x="185760" y="138240"/>
            <a:ext cx="8772480" cy="6581520"/>
          </a:xfrm>
          <a:prstGeom prst="rect">
            <a:avLst/>
          </a:prstGeom>
          <a:ln w="0">
            <a:noFill/>
          </a:ln>
        </p:spPr>
      </p:pic>
      <p:sp>
        <p:nvSpPr>
          <p:cNvPr id="3" name="PlaceHolder 2"/>
          <p:cNvSpPr>
            <a:spLocks noGrp="1"/>
          </p:cNvSpPr>
          <p:nvPr>
            <p:ph type="sldNum" idx="1"/>
          </p:nvPr>
        </p:nvSpPr>
        <p:spPr/>
        <p:txBody>
          <a:bodyPr/>
          <a:p>
            <a:fld id="{3EE1CC2D-F394-4B41-8D3C-CC13AAD05D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66" name="mitas1" descr=""/>
          <p:cNvPicPr/>
          <p:nvPr/>
        </p:nvPicPr>
        <p:blipFill>
          <a:blip r:embed="rId1"/>
          <a:stretch/>
        </p:blipFill>
        <p:spPr>
          <a:xfrm>
            <a:off x="1338120" y="1090440"/>
            <a:ext cx="6467760" cy="4677120"/>
          </a:xfrm>
          <a:prstGeom prst="rect">
            <a:avLst/>
          </a:prstGeom>
          <a:ln w="0">
            <a:noFill/>
          </a:ln>
        </p:spPr>
      </p:pic>
      <p:sp>
        <p:nvSpPr>
          <p:cNvPr id="2" name="PlaceHolder 1"/>
          <p:cNvSpPr>
            <a:spLocks noGrp="1"/>
          </p:cNvSpPr>
          <p:nvPr>
            <p:ph type="sldNum" idx="1"/>
          </p:nvPr>
        </p:nvSpPr>
        <p:spPr/>
        <p:txBody>
          <a:bodyPr/>
          <a:p>
            <a:fld id="{9F350357-29C2-4C09-95E1-CE02BF343F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eveloped a platform independent, three-tier system: the visual authoring tools implemented in the front end integrated with the middle tier network of servers based on the industry standards and following the distributed object paradigm, which facilitates seamless integration of commodity software components. </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articular, we use the WebFlow as a high level, visual user interface for GLOBUS. This not only makes the construction of a meta-application a much easier task for an end user, but also allows to combine this state of art HPCC environment with commercial software, including packages available only on Intel-based personal computers</a:t>
            </a:r>
            <a:r>
              <a:rPr b="0" lang="en-US" sz="24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re info: http://www.Npac.Syr.Edu/users/haupt/webflow/demo.Html</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24000D0-4CD1-4EE0-8624-E31B3FF1C6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 Projects Description</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interfaces to:</a:t>
            </a:r>
            <a:endParaRPr b="0" lang="en-US" sz="32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Landscape modeling system</a:t>
            </a:r>
            <a:endParaRPr b="0" lang="en-US" sz="24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ssment and repair of roadways system</a:t>
            </a:r>
            <a:endParaRPr b="0" lang="en-US" sz="24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the Interne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e.g., a connected to the internet laptop PC)</a:t>
            </a:r>
            <a:endParaRPr b="0" lang="en-US" sz="28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7EE78AB-5952-47FF-ACDE-72F3C0711F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Technically...</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s data retrieval from different sources (databases, web si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s input data preprocessing (such as format conversions) on-the-f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ies and allocates computational resources (ranging form the local host to a network of remote high performance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 interprocessor commun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s data transf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es visualization packages (also in a collaborative mod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28F73C6-00CC-4263-9263-6456E7C1CA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 java, javabeans, CORBA, IIOP,...</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ercial commodity softwar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browsers, web servers, text editors, ...</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pt the best solutions from academia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GLOBUS, …</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modifications of the existing simulation softwar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5BB17CC-A434-42C8-8589-FB34D148C3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using WebFlow as the base infrastructure for Web-based distributed compu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high performance systems will be build using GLOBUS metacomputing toolk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me infrastructure will be used for different applications (including other PET projects - already adopted by M. Wheeler at UT at Aust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ular applications require customized front-ends, and Java/CORBA wrappers for the computational modules without modifications of the original codes.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F2C1D89-AAB6-4CFA-B286-30A1349EDC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atic Status (1)</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meeting with FMS group (Jun’98)</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eetings w/ both Deliman &amp; Holland groups</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type web interface for LMS demo (Jul’98)</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 rescheduled to early Sep’98 to match change in Holland’s planned demo for DoD</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on “lessons learned” from LMS prototype (Aug’98)</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follow demo</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2672793-57E7-4F11-AD3D-6343F6340B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applicatio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odeling System</a:t>
            </a:r>
            <a:endParaRPr b="0" lang="en-US" sz="32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lect a computational model (currently CASC2D interoperating with EDYS), retrieve the input data, preprocess them using WMS, transfer the data to the hosts on which the models are to be run, launch the applications, and visualize the result on the local host. </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and Repair of Roadways</a:t>
            </a:r>
            <a:endParaRPr b="0" lang="en-US" sz="32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S-based front-end implemented as a Java applet that allows the user to define a problem by interactively selecting features on the map, and run it on a selected host. The raw input data (GIS maps, status of roads, etc.) come from many different sources, in different  formats, and are of different qualit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25344B4-6387-496C-B4AB-00337E2FB7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1" name=""/>
          <p:cNvSpPr/>
          <p:nvPr/>
        </p:nvSpPr>
        <p:spPr>
          <a:xfrm>
            <a:off x="2666880" y="1447920"/>
            <a:ext cx="1752840" cy="1523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819520" y="1828800"/>
            <a:ext cx="144756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19520" y="3429000"/>
            <a:ext cx="12952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Flo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4" name=""/>
          <p:cNvSpPr/>
          <p:nvPr/>
        </p:nvSpPr>
        <p:spPr>
          <a:xfrm>
            <a:off x="4876920" y="3429000"/>
            <a:ext cx="12952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Flo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5" name=""/>
          <p:cNvSpPr/>
          <p:nvPr/>
        </p:nvSpPr>
        <p:spPr>
          <a:xfrm>
            <a:off x="6934320" y="3429000"/>
            <a:ext cx="12952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Flo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6" name=""/>
          <p:cNvSpPr/>
          <p:nvPr/>
        </p:nvSpPr>
        <p:spPr>
          <a:xfrm>
            <a:off x="4114800" y="3733920"/>
            <a:ext cx="762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172200" y="3733920"/>
            <a:ext cx="762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086600" y="4114800"/>
            <a:ext cx="10666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 name=""/>
          <p:cNvSpPr/>
          <p:nvPr/>
        </p:nvSpPr>
        <p:spPr>
          <a:xfrm>
            <a:off x="5029200" y="5562720"/>
            <a:ext cx="10666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0" name=""/>
          <p:cNvSpPr/>
          <p:nvPr/>
        </p:nvSpPr>
        <p:spPr>
          <a:xfrm>
            <a:off x="2895480" y="4114800"/>
            <a:ext cx="10670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Retrieval</a:t>
            </a:r>
            <a:endParaRPr b="0" lang="en-US" sz="1400" spc="-1" strike="noStrike">
              <a:solidFill>
                <a:srgbClr val="000000"/>
              </a:solidFill>
              <a:latin typeface="Times New Roman"/>
            </a:endParaRPr>
          </a:p>
        </p:txBody>
      </p:sp>
      <p:sp>
        <p:nvSpPr>
          <p:cNvPr id="91" name=""/>
          <p:cNvSpPr/>
          <p:nvPr/>
        </p:nvSpPr>
        <p:spPr>
          <a:xfrm>
            <a:off x="4495680" y="518148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576680" y="5257800"/>
            <a:ext cx="188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igh Performance System</a:t>
            </a:r>
            <a:endParaRPr b="0" lang="en-US" sz="1200" spc="-1" strike="noStrike">
              <a:solidFill>
                <a:srgbClr val="000000"/>
              </a:solidFill>
              <a:latin typeface="Times New Roman"/>
            </a:endParaRPr>
          </a:p>
        </p:txBody>
      </p:sp>
      <p:sp>
        <p:nvSpPr>
          <p:cNvPr id="93" name=""/>
          <p:cNvSpPr/>
          <p:nvPr/>
        </p:nvSpPr>
        <p:spPr>
          <a:xfrm>
            <a:off x="5029200" y="4114800"/>
            <a:ext cx="1066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a:t>
            </a:r>
            <a:endParaRPr b="0" lang="en-US" sz="1800" spc="-1" strike="noStrike">
              <a:solidFill>
                <a:srgbClr val="000000"/>
              </a:solidFill>
              <a:latin typeface="Times New Roman"/>
            </a:endParaRPr>
          </a:p>
        </p:txBody>
      </p:sp>
      <p:sp>
        <p:nvSpPr>
          <p:cNvPr id="94" name=""/>
          <p:cNvSpPr/>
          <p:nvPr/>
        </p:nvSpPr>
        <p:spPr>
          <a:xfrm>
            <a:off x="5562720" y="472428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49600" y="335268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IOP</a:t>
            </a:r>
            <a:endParaRPr b="0" lang="en-US" sz="1200" spc="-1" strike="noStrike">
              <a:solidFill>
                <a:srgbClr val="000000"/>
              </a:solidFill>
              <a:latin typeface="Times New Roman"/>
            </a:endParaRPr>
          </a:p>
        </p:txBody>
      </p:sp>
      <p:sp>
        <p:nvSpPr>
          <p:cNvPr id="96" name=""/>
          <p:cNvSpPr/>
          <p:nvPr/>
        </p:nvSpPr>
        <p:spPr>
          <a:xfrm>
            <a:off x="2898000" y="1447920"/>
            <a:ext cx="136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 Browser</a:t>
            </a:r>
            <a:endParaRPr b="0" lang="en-US" sz="1600" spc="-1" strike="noStrike">
              <a:solidFill>
                <a:srgbClr val="000000"/>
              </a:solidFill>
              <a:latin typeface="Times New Roman"/>
            </a:endParaRPr>
          </a:p>
        </p:txBody>
      </p:sp>
      <p:sp>
        <p:nvSpPr>
          <p:cNvPr id="97" name=""/>
          <p:cNvSpPr/>
          <p:nvPr/>
        </p:nvSpPr>
        <p:spPr>
          <a:xfrm>
            <a:off x="2895480" y="1828800"/>
            <a:ext cx="1349640" cy="95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Wizard</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S interface</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olbar</a:t>
            </a:r>
            <a:endParaRPr b="0" lang="en-US" sz="1400" spc="-1" strike="noStrike">
              <a:solidFill>
                <a:srgbClr val="000000"/>
              </a:solidFill>
              <a:latin typeface="Times New Roman"/>
            </a:endParaRPr>
          </a:p>
        </p:txBody>
      </p:sp>
      <p:sp>
        <p:nvSpPr>
          <p:cNvPr id="98" name=""/>
          <p:cNvSpPr/>
          <p:nvPr/>
        </p:nvSpPr>
        <p:spPr>
          <a:xfrm>
            <a:off x="2666880" y="3048120"/>
            <a:ext cx="762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a:t>
            </a:r>
            <a:endParaRPr b="0" lang="en-US" sz="1400" spc="-1" strike="noStrike">
              <a:solidFill>
                <a:srgbClr val="000000"/>
              </a:solidFill>
              <a:latin typeface="Times New Roman"/>
            </a:endParaRPr>
          </a:p>
        </p:txBody>
      </p:sp>
      <p:sp>
        <p:nvSpPr>
          <p:cNvPr id="99" name=""/>
          <p:cNvSpPr/>
          <p:nvPr/>
        </p:nvSpPr>
        <p:spPr>
          <a:xfrm>
            <a:off x="2895480" y="4495680"/>
            <a:ext cx="106704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0" name=""/>
          <p:cNvSpPr/>
          <p:nvPr/>
        </p:nvSpPr>
        <p:spPr>
          <a:xfrm>
            <a:off x="2895480" y="4876920"/>
            <a:ext cx="10670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Transfer</a:t>
            </a:r>
            <a:endParaRPr b="0" lang="en-US" sz="1400" spc="-1" strike="noStrike">
              <a:solidFill>
                <a:srgbClr val="000000"/>
              </a:solidFill>
              <a:latin typeface="Times New Roman"/>
            </a:endParaRPr>
          </a:p>
        </p:txBody>
      </p:sp>
      <p:sp>
        <p:nvSpPr>
          <p:cNvPr id="101" name=""/>
          <p:cNvSpPr/>
          <p:nvPr/>
        </p:nvSpPr>
        <p:spPr>
          <a:xfrm>
            <a:off x="7086600" y="4495680"/>
            <a:ext cx="10666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Transfer</a:t>
            </a: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implementation of LM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
          <p:cNvSpPr/>
          <p:nvPr/>
        </p:nvSpPr>
        <p:spPr>
          <a:xfrm>
            <a:off x="5638680" y="4800600"/>
            <a:ext cx="83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US</a:t>
            </a:r>
            <a:endParaRPr b="0" lang="en-US" sz="1200" spc="-1" strike="noStrike">
              <a:solidFill>
                <a:srgbClr val="000000"/>
              </a:solidFill>
              <a:latin typeface="Times New Roman"/>
            </a:endParaRPr>
          </a:p>
        </p:txBody>
      </p:sp>
      <p:sp>
        <p:nvSpPr>
          <p:cNvPr id="104" name=""/>
          <p:cNvSpPr/>
          <p:nvPr/>
        </p:nvSpPr>
        <p:spPr>
          <a:xfrm>
            <a:off x="3505320" y="2971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152280" y="1447920"/>
            <a:ext cx="1981080" cy="1752120"/>
            <a:chOff x="152280" y="1447920"/>
            <a:chExt cx="1981080" cy="1752120"/>
          </a:xfrm>
        </p:grpSpPr>
        <p:sp>
          <p:nvSpPr>
            <p:cNvPr id="106" name=""/>
            <p:cNvSpPr/>
            <p:nvPr/>
          </p:nvSpPr>
          <p:spPr>
            <a:xfrm>
              <a:off x="152280" y="1447920"/>
              <a:ext cx="198108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S &amp; DEM</a:t>
              </a:r>
              <a:endParaRPr b="0" lang="en-US" sz="1800" spc="-1" strike="noStrike">
                <a:solidFill>
                  <a:srgbClr val="000000"/>
                </a:solidFill>
                <a:latin typeface="Times New Roman"/>
              </a:endParaRPr>
            </a:p>
          </p:txBody>
        </p:sp>
        <p:sp>
          <p:nvSpPr>
            <p:cNvPr id="107" name=""/>
            <p:cNvSpPr/>
            <p:nvPr/>
          </p:nvSpPr>
          <p:spPr>
            <a:xfrm>
              <a:off x="152280" y="1904760"/>
              <a:ext cx="198108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ils &amp; Land Use</a:t>
              </a:r>
              <a:endParaRPr b="0" lang="en-US" sz="1600" spc="-1" strike="noStrike">
                <a:solidFill>
                  <a:srgbClr val="000000"/>
                </a:solidFill>
                <a:latin typeface="Times New Roman"/>
              </a:endParaRPr>
            </a:p>
          </p:txBody>
        </p:sp>
        <p:sp>
          <p:nvSpPr>
            <p:cNvPr id="108" name=""/>
            <p:cNvSpPr/>
            <p:nvPr/>
          </p:nvSpPr>
          <p:spPr>
            <a:xfrm>
              <a:off x="152280" y="2361960"/>
              <a:ext cx="198108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ther Data</a:t>
              </a:r>
              <a:endParaRPr b="0" lang="en-US" sz="1800" spc="-1" strike="noStrike">
                <a:solidFill>
                  <a:srgbClr val="000000"/>
                </a:solidFill>
                <a:latin typeface="Times New Roman"/>
              </a:endParaRPr>
            </a:p>
          </p:txBody>
        </p:sp>
        <p:sp>
          <p:nvSpPr>
            <p:cNvPr id="109" name=""/>
            <p:cNvSpPr/>
            <p:nvPr/>
          </p:nvSpPr>
          <p:spPr>
            <a:xfrm>
              <a:off x="152280" y="2819160"/>
              <a:ext cx="198108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getation Data</a:t>
              </a:r>
              <a:endParaRPr b="0" lang="en-US" sz="1800" spc="-1" strike="noStrike">
                <a:solidFill>
                  <a:srgbClr val="000000"/>
                </a:solidFill>
                <a:latin typeface="Times New Roman"/>
              </a:endParaRPr>
            </a:p>
          </p:txBody>
        </p:sp>
      </p:grpSp>
      <p:sp>
        <p:nvSpPr>
          <p:cNvPr id="110" name=""/>
          <p:cNvSpPr/>
          <p:nvPr/>
        </p:nvSpPr>
        <p:spPr>
          <a:xfrm flipH="1">
            <a:off x="1143000" y="42670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143000" y="4419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1143000" y="320004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9320" y="426708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14" name=""/>
          <p:cNvSpPr/>
          <p:nvPr/>
        </p:nvSpPr>
        <p:spPr>
          <a:xfrm>
            <a:off x="2133720" y="5410080"/>
            <a:ext cx="1844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bFlow modu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end)</a:t>
            </a:r>
            <a:endParaRPr b="0" lang="en-US" sz="1600" spc="-1" strike="noStrike">
              <a:solidFill>
                <a:srgbClr val="000000"/>
              </a:solidFill>
              <a:latin typeface="Times New Roman"/>
            </a:endParaRPr>
          </a:p>
        </p:txBody>
      </p:sp>
      <p:sp>
        <p:nvSpPr>
          <p:cNvPr id="115" name=""/>
          <p:cNvSpPr/>
          <p:nvPr/>
        </p:nvSpPr>
        <p:spPr>
          <a:xfrm>
            <a:off x="7924680" y="2895480"/>
            <a:ext cx="1219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bFlo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ddle-tier</a:t>
            </a:r>
            <a:endParaRPr b="0" lang="en-US" sz="1600" spc="-1" strike="noStrike">
              <a:solidFill>
                <a:srgbClr val="000000"/>
              </a:solidFill>
              <a:latin typeface="Times New Roman"/>
            </a:endParaRPr>
          </a:p>
        </p:txBody>
      </p:sp>
      <p:sp>
        <p:nvSpPr>
          <p:cNvPr id="116" name=""/>
          <p:cNvSpPr/>
          <p:nvPr/>
        </p:nvSpPr>
        <p:spPr>
          <a:xfrm>
            <a:off x="4419720" y="2057400"/>
            <a:ext cx="1844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bFlow appl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ront-e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0AF5032-8C96-435F-84D2-CB886045CB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MS: Deliverables</a:t>
            </a:r>
            <a:br>
              <a:rPr sz="4000"/>
            </a:b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218960"/>
            <a:ext cx="784872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rt term (September 98):</a:t>
            </a:r>
            <a:r>
              <a:rPr b="0" lang="en-US" sz="2400" spc="-1" strike="noStrike">
                <a:solidFill>
                  <a:srgbClr val="000000"/>
                </a:solidFill>
                <a:latin typeface="Times New Roman"/>
              </a:rPr>
              <a:t> </a:t>
            </a:r>
            <a:r>
              <a:rPr b="0" lang="en-US" sz="2000" spc="-1" strike="noStrike">
                <a:solidFill>
                  <a:srgbClr val="000000"/>
                </a:solidFill>
                <a:latin typeface="Times New Roman"/>
              </a:rPr>
              <a:t>The first demo of the Web-based LMS system will include the following featur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 downloading of input data needed to run CASC2D mod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ing WMS on local or remote host  (to preprocess raw input data to CASC2D form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ing CASC2D on a remote hos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 stand-alone mod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pled with EDYS to improve CASC2D simulation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provide input data for a long term EDYS simulation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loading results to the client and run WMS visualization packag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B6DDC80-ABE1-4768-BDAB-76A83AE23A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deliverables (Long Term)</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models different than CASC2D to WMS, and support for application other than W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a general support for small grain interaction between the mode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igh performance systems using GLOBU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5103938-9724-4EE0-9A4D-B35CBF92D2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Statu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infrastructure ready to us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Unix and Windows 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 encapsulated as a WebFlow modu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C2D and EDY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ing for the codes (the codes are being modified to facilitate a fine grain data exchange between th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modu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data from USGS: under develop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pending on specifications to be received from WES.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4E11DEC-A89A-4234-8D44-B27A6DDC69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 Deliverable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rt term (September 98):</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of a specific model as a WebFlow module and running it using a fixed input data stored on a local disk</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 term: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eb interface for selecting and retrieving data s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modules to identify format of the data, and performing data conversions, if necess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modules to generate input data, if none are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for remote execution of computational models and data transfe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13F7033-3747-405A-AA13-597B5DC3E7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 statu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ttle behind the sche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ding on codes to be received form W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news: much of the efforts devoted to WMS is directly reusable for this projec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61F528F-A0F5-40FD-9022-E413AF735C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light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training presented (Jun’98) as outgrowth of this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meetings with EQM &amp; FMS users in first half of Year 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 EQM “web launching” project with shift to WebFlow technolog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D4F9E90-A26A-41BF-B640-48DA75C6FE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Pla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demonstration of web interfacing technology with U Texas (Mary Wheeler) group for SC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on to HPC systems via WebFlow over GLOBU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6141ADA-BF58-439E-8D24-26110E18FC8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atic Status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s for PET mid-year and annual reviews (Aug’98, Jan’99)</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interfaces ready for demo (Feb’99)</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rack</a:t>
            </a:r>
            <a:endParaRPr b="0" lang="en-US" sz="28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at CEWES MSRC on web interface technology (Mar’99)</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rack</a:t>
            </a:r>
            <a:endParaRPr b="0" lang="en-US" sz="28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Mar’99)</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rack</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A7CAAFB-AA35-476E-82D0-A9706832ED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ical Progres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 on web interface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description of two demonstration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ights of result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B5DDE9F-83FB-436C-9A2C-63175C331F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 Background</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directly funded by PET pro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technologies of the World-Wide Web contain a promising potential for building a new generation of distributed, high performance computing environ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eb is not just a document access system supported by the somewhat limited HTTP protocol. Rather, it is the distributed object technology which can build general multi-tiered enterprise intranet and internet applicatio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BA is turning from a sleepy heavyweight standard initiative to a major competitive development activity that battles with DCOM and JavaBeans to be the core distributed object technology.</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AB3BC4D-FA35-49AA-9819-D9A0D23681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pcc:</a:t>
            </a:r>
            <a:br>
              <a:rPr sz="4400"/>
            </a:br>
            <a:r>
              <a:rPr b="1" lang="en-US" sz="2800" spc="-1" strike="noStrike">
                <a:solidFill>
                  <a:srgbClr val="000000"/>
                </a:solidFill>
                <a:latin typeface="Times New Roman"/>
              </a:rPr>
              <a:t>High Performance Commodity Computing</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ew strategy which builds HPCC programming tools on top of the remarkable new software infrastructure being developed for the commercial web and distributed object are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leverage of a huge industry investment naturally delivers tools with the desired properties with the one (albeit critical) exception that high performance is not guarante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dd high performance to commodity systems using a multi-tier architecture with GLOBUS metacomputing toolkit as the backend of a middle-tier of commodity web and object servers.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B4B66BA-55FD-4891-950A-AC2017DF63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Based Metacomputing</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level programming environment and tools to support distance computing on heterogeneous distributed commodity platforms and high-speed networks, spanning across labs and faciliti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to the full range of commercial capabilities (e.g. databases and compute servers), pervasive access from all platforms and natural incremental enhance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orm, platform independent, Web-based interactive point of acces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93FDD66-B3C0-4449-8C0E-0A24184031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specifically, we are developing WebFlow - a scalable, high level, commodity standards based, HPDC system that integrat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front-ends for visual programming, steering, run-time data analysis and visualization, and collaboration built on top of the web and OO commodity standards (tier 1).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reusable web server and object broker middleware (tier 2)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erformance backend implemented using the metacomputing toolkit of GLOBUS (tier 3)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17D8F06-55B1-4FD6-A490-04A784904C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3T01:44:32Z</dcterms:created>
  <dc:creator>Tomasz Haupt</dc:creator>
  <dc:description/>
  <dc:language>en-US</dc:language>
  <cp:lastModifiedBy>David E Bernholdt</cp:lastModifiedBy>
  <cp:lastPrinted>1998-08-24T13:33:32Z</cp:lastPrinted>
  <dcterms:modified xsi:type="dcterms:W3CDTF">1998-08-24T18:33:17Z</dcterms:modified>
  <cp:revision>11</cp:revision>
  <dc:subject/>
  <dc:title>Web Interfaces for Computational Modules</dc:title>
</cp:coreProperties>
</file>