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2D23-B293-4785-A9D4-0DB80455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407A-614B-4D31-924E-F44E1BE6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2076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5C9-0ACE-425E-892F-CBC7F3C5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608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372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608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372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1F0A-1906-4E57-9753-3D52CCE3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6B93-EBB4-4CA2-8A10-2975CDBB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02A8-16CF-4FDE-A181-9A06FA65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136E-B6C3-4294-9E68-3D9D2C82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1DE2-251D-4558-9AD6-5FC8AE53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D59D-9FC9-4137-A0C3-78327E3C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343080"/>
            <a:ext cx="77724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ADD5-85A1-49A8-8CAB-EA1DDC77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1511-81F7-4188-9364-E89D119F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6C97-0037-4373-87D3-FF248C18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2076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3D56-1DD4-48A0-BB56-78A91EEC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FF70-5C67-424B-A7AE-D39E4088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808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2B54-0D83-49FB-8D43-1456DF16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80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2076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2EB6-0579-4C6B-88A0-F22C37EE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6608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372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3808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6608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9372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8049-8B0D-4CD1-A3C3-F307B572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CE42-61C7-4DB6-9DEC-C1956839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A882-26E0-427C-9AF9-86EE9F31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805A-28D8-4759-8533-274D4DC2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43080"/>
            <a:ext cx="77724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199C-CC71-4A35-9157-3116023C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1967-F192-4F46-8A30-77E13B91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2076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263-F50C-44F5-BE71-FE48E8FC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E3C-77F9-4864-90F7-2360CE4F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33520" y="1751040"/>
            <a:ext cx="253440" cy="4421160"/>
            <a:chOff x="533520" y="1751040"/>
            <a:chExt cx="253440" cy="4421160"/>
          </a:xfrm>
        </p:grpSpPr>
        <p:sp>
          <p:nvSpPr>
            <p:cNvPr id="1" name=""/>
            <p:cNvSpPr/>
            <p:nvPr/>
          </p:nvSpPr>
          <p:spPr>
            <a:xfrm>
              <a:off x="533520" y="1752480"/>
              <a:ext cx="250920" cy="44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3520" y="1751040"/>
              <a:ext cx="253440" cy="4421160"/>
            </a:xfrm>
            <a:custGeom>
              <a:avLst/>
              <a:gdLst/>
              <a:ahLst/>
              <a:rect l="l" t="t" r="r" b="b"/>
              <a:pathLst>
                <a:path w="97" h="2785">
                  <a:moveTo>
                    <a:pt x="0" y="2784"/>
                  </a:moveTo>
                  <a:lnTo>
                    <a:pt x="96" y="2784"/>
                  </a:ln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51040"/>
              <a:ext cx="253440" cy="4421160"/>
            </a:xfrm>
            <a:custGeom>
              <a:avLst/>
              <a:gdLst/>
              <a:ahLst/>
              <a:rect l="l" t="t" r="r" b="b"/>
              <a:pathLst>
                <a:path w="97" h="2785">
                  <a:moveTo>
                    <a:pt x="0" y="2784"/>
                  </a:move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380880" y="304920"/>
            <a:ext cx="304920" cy="685800"/>
            <a:chOff x="380880" y="304920"/>
            <a:chExt cx="304920" cy="685800"/>
          </a:xfrm>
        </p:grpSpPr>
        <p:sp>
          <p:nvSpPr>
            <p:cNvPr id="5" name=""/>
            <p:cNvSpPr/>
            <p:nvPr/>
          </p:nvSpPr>
          <p:spPr>
            <a:xfrm>
              <a:off x="380880" y="304920"/>
              <a:ext cx="303480" cy="6850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80880" y="304920"/>
              <a:ext cx="304920" cy="68580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0880" y="304920"/>
              <a:ext cx="304920" cy="68580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772400" cy="72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85F9-F51D-410A-AEEC-4EA33DB50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0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1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55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59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F0CB-B761-4725-8CA0-81B8889B1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6640" y="20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V2 - The Collaborative Scientific Data Visualization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8080" y="40381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anxiang Jin, Geoffrey F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racus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413A-E157-417E-9815-864C389932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772400" cy="72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 Sharing Applet in SV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et(only canvas based so far) can be shared in SV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the initialization of Applet without collaboration-aware for Applet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ynchronization through connection to local disk file.(TCP connection to SV2 server is under coming so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7D75-0DC1-4552-8897-B46DD3983C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4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Futur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llel computing on sv2-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Since some computing should be done on  sv2-server , decreasing this time is critical. We will focus on developing a server on multiple processors using MPI + Ja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complex applet in S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How to use serialization in java to sharing the view of complex appl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ss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Data must be compressed in order to view data in a “reasonable” amount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135-3790-4A62-B1C4-8E167E53CE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V2 Sample Screen/Window Du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sv2%20screen" descr=""/>
          <p:cNvPicPr/>
          <p:nvPr/>
        </p:nvPicPr>
        <p:blipFill>
          <a:blip r:embed="rId1"/>
          <a:stretch/>
        </p:blipFill>
        <p:spPr>
          <a:xfrm>
            <a:off x="1371600" y="108576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3F9A-E630-41E2-8DC6-0D721480DC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SV2 screen du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jshot2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088320" cy="48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49DE-EECB-4326-AF49-DB76975860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SV2 screen du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untitled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21680" cy="549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011C-9A24-42F3-A6DB-65B0CA34EB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Visualiz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transformation of data or information into pictu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ientific Visualiz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mpasses user interface, data representation, processing algorithms, visual representations, and other sensory presen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data/information becomes larger, scientist need to collaborate to better understand this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Java 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latform independence, and ease of use of working with other languages(JN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81B4-092B-45DC-A962-899DF569F4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772400" cy="37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Overview of SV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a scientific visualization system to handle collaborations with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arge datas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 3-tier architecture combining a data-flow system with an easy to use collaborative infrastru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esign a collaborative system to allow users to work together in an efficient man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ld visualization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JDK 1.2, Java 2D, Java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accomplish these goals, we focus on  </a:t>
            </a: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multi-casting and com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che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system is composed of a </a:t>
            </a: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visualization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Java/C++) and </a:t>
            </a: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visualization cli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2262-E32C-41E6-A3C3-82E85B0C34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772400" cy="72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V2 System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2-Server :                                         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Receiving  and multi-casting the data, it  contains two computation engines: geometry and filter engines.Simulator provides real time data to SV2-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2-Client :                                                 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It consists two parts, a client Manager and a Data Viewer. Data Viewer is implemented using JDK1.2 and Java3D 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go:                                                          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It is a software framework supporting multiplatform collaboration, providing the management of collaborative issues in data vis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F76-823A-442B-B7BD-CF73AF0832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762120"/>
            <a:ext cx="1295280" cy="30456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View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2952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View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457200"/>
            <a:ext cx="1219320" cy="15238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762120"/>
            <a:ext cx="1295640" cy="30456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View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38880" y="1295280"/>
            <a:ext cx="12956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View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457200"/>
            <a:ext cx="1218960" cy="15238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886200"/>
            <a:ext cx="236232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an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209680" y="1981080"/>
            <a:ext cx="228600" cy="1905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286000" y="1981080"/>
            <a:ext cx="4267080" cy="1905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3886200"/>
            <a:ext cx="243828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2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4343400"/>
            <a:ext cx="1371600" cy="533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324120" y="457200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105520" y="1981080"/>
            <a:ext cx="1600200" cy="1905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895480" y="1981080"/>
            <a:ext cx="2286000" cy="1905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3352680"/>
            <a:ext cx="1447920" cy="22860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3276720"/>
            <a:ext cx="1371600" cy="30456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gure 1: SV2 System Architect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6341-1705-404D-8425-CBCF8F8794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772400" cy="72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Collaboration Charac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Multi-user and multi-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Times New Roman"/>
              </a:rPr>
              <a:t>Real Time Synchron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Large Data s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Control messa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separated (through SV2 Server and Tango respective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</a:t>
            </a:r>
            <a:r>
              <a:rPr b="0" lang="en-US" sz="3200" spc="-1" strike="noStrike">
                <a:solidFill>
                  <a:srgbClr val="cc00ff"/>
                </a:solidFill>
                <a:latin typeface="Times New Roman"/>
              </a:rPr>
              <a:t>Collaborative to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available(Chat, Whiteboard, Shared browser, Videoconferencing Syst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FD8-C50C-449C-B65D-8DAEE8A2B3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772400" cy="72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Multi-casting Charac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casting is a hot research topic .There are many different philosophies to solv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V2,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Build-in Multi-thr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Java is used when Server broadcasting the large Data sets to Clients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ata Synchron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B82-8EBE-4A76-AD13-8215D81433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772400" cy="72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Corporation with C/C+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uge compu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eeded on SV2-Server . This computing time is related to th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sponse time of the whole sys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we need to implements critical routines in C/C++                                                                            Some already exist routines are written in C/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simulator is written in C/C++ instead of Java.In SV2, we provid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 AP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imulator to passing Data to SV2-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hese are reasons for us using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JNI 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Java in SV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D79D-11AD-4DAD-A519-230B1CC351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772400" cy="72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 Connect to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 to web server database through JD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ualize the server lo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ieve some useful information from web server raw data by using some data mining technolog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6BD4-A4F0-494F-B15A-ED325934A0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02:39:23Z</dcterms:created>
  <dc:creator>jjin</dc:creator>
  <dc:description/>
  <dc:language>en-US</dc:language>
  <cp:lastModifiedBy>jjin</cp:lastModifiedBy>
  <dcterms:modified xsi:type="dcterms:W3CDTF">2000-01-30T15:57:10Z</dcterms:modified>
  <cp:revision>19</cp:revision>
  <dc:subject/>
  <dc:title>SV2 - The Collaborative Scientific Data Visualization Framework by using Tango</dc:title>
</cp:coreProperties>
</file>