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D856-6F5B-4A1A-A724-EDFFDB840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9CE1-11BC-4F21-8013-D6FEFBC47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6962-8044-492D-9AA7-5060A5762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883A-3C95-467B-8977-4CE84BF2B9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B036-47EB-49E1-8BD6-3E169C6369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620C-B1FB-4CAA-A444-8E0B5291E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C328-CB43-4DCE-9817-2AE6290DE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D338-BD9E-4023-A405-3D4120FB5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6B42-2E04-49AA-B407-82557DE74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D459-2178-41AD-A35A-4410465E0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9E5E-E1AE-401B-830B-48214B359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F0F0-8962-4BFA-BB6F-093C7245E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362320" y="609480"/>
            <a:ext cx="5105160" cy="0"/>
          </a:xfrm>
          <a:prstGeom prst="line">
            <a:avLst/>
          </a:prstGeom>
          <a:ln w="7632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91520" y="228600"/>
            <a:ext cx="14475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rogramming Environment &amp; Training (PET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00200" y="6324480"/>
            <a:ext cx="5867280" cy="0"/>
          </a:xfrm>
          <a:prstGeom prst="line">
            <a:avLst/>
          </a:prstGeom>
          <a:ln w="7632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172200"/>
            <a:ext cx="1752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14 - 15 Sep 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msrcerdc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2210040" cy="712800"/>
          </a:xfrm>
          <a:prstGeom prst="rect">
            <a:avLst/>
          </a:prstGeom>
          <a:ln w="0">
            <a:noFill/>
          </a:ln>
        </p:spPr>
      </p:pic>
      <p:pic>
        <p:nvPicPr>
          <p:cNvPr id="7" name="NLogo" descr=""/>
          <p:cNvPicPr/>
          <p:nvPr/>
        </p:nvPicPr>
        <p:blipFill>
          <a:blip r:embed="rId3"/>
          <a:stretch/>
        </p:blipFill>
        <p:spPr>
          <a:xfrm>
            <a:off x="7543800" y="6019920"/>
            <a:ext cx="1066680" cy="5331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5638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CD00-80A2-4E30-9A2A-07D627FAF38A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/C Core Sup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ffrey C. F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AC at Syracus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F60B-CE90-4582-BFAD-274E100576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to DoD Miss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 and encourage PET and users to take advantage of modern technologies to improve efficiency and cost-effectiveness of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/MSRC user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urce for P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5D54-11D9-4D85-BB1B-4093D85B0E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aining Core Sup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ffrey C. F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AC at Syracus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1608-B4AC-4DE5-9A96-E072DEB5A3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la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-range leadership on issues of technologies, tools and techniques for PET Training &amp; Educ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and enhancement of Tango Interactive and related tools for use in Training (expect 7+ ev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hop on Distance Training for PET/MSRC staff &amp;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09DF-6872-4A2D-9B7A-09CDA7628F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complishments (1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x delivered seminar to all four MSRCs via Tango from Syracu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gocast of T3E class delivered to ARFL (Kirtland AFB) following visit by John Eberle to se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go tutorials at DoD HPC UG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half-day tuto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attendance (1st full, second 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AD84-B761-4C53-AC1D-CC73086237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complishments (2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nholdt held informal meeting of Training/Collaboration support staff at DoD HPC UGC, to be followed up with email list &amp; web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gocast of Parallel Libraries class offered (ARL picked up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 Training Workshop 16-17 S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also meeting/conference list in C/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885D-147D-4915-AF1D-BF48635C60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to DoD Miss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is central to PET 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technologies offer the opportunity to reach more people more eas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ingly possible to eliminate travel &amp; associated headaches and cos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4E14-FFB2-45BD-945C-6B46B592C3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w Directions in Distance Education and Train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ffrey C. F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AC at Syracus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C560-0815-4A24-9A06-ED9176A58A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la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 dist. edu. collaboration with JSU &amp; exp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 courses Fall and Sp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more “sophisticated”  core HPC courseware and delivery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ssaries, quizzes, embedded appl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iver in Spring as course &amp;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. Edu. Workshop at J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9DF1-D66B-4A9A-B793-CCECF08B5A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complishments (1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 Education Workshop at J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 course: CPS640 “Topics in Networking and Multimedia Application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ipient sites: Clark-Atlanta, Jackson State, Mississippi State, Morgan State, Prarieview A&amp;M, Syracuse, ASC, NAVO, N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 will have access to LecCorder capture of lecture (asynchrono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431E-9A13-4E6A-AF66-7341844806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complishments (2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ssary support almost compl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quizzes almost compl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on courseware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on cleaning up CD-ROM materials for next sem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Java material (CPS616) must be updated from version 1.1 to 1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D6A4-5DB0-4CB0-A0C7-309ECAA756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la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-range guidance on current technologies for collaboration &amp;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and enhancement of Tan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, use for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ngo training/Open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for other (web/database) communications 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SMS, domain-specific search e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D1F2-1255-4C59-8680-C1A76BADFF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to DoD Miss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D needs pipeline of workers with knowledge and experience in H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CU/MI graduates in particular are under-represented in pip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ments training for professio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 education allows universities to share leading-edge courses, otherwise unavailable to many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AD5F-03BA-442F-A4A8-FB75D6A3AA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llaborative Computing Environmen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ffrey C. F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AC at Syracus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5A75-F076-4F87-98F3-FF5B60D705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la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e “collaboratization” of HPC applications to facilitate joint work by geographically separated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ango Interactive as collaborative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ule on interfacing to HPC applications as part of planned Tango tuto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06A2-BA26-476F-8E4A-0FBFDD09A7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complishmen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tly better understanding of application sharing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type -- shared version of NCSA’s web-based Biology Workb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shared scientific visualization coming as part of integration of SciVis2 with Tango2 (also illustrates shared fi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E0D8-CD6D-48FB-8C96-60DA6768A4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re General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ared Server Side Obje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676520"/>
            <a:ext cx="9144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b Page Shar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a special case of sharing server side objects -- CGI Scripts, Databases, Object Repositories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can be done b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ar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b specification of these objec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ich can be don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ent s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ithout ANY change to basic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haring of client side interface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x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to server side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2560" y="3130560"/>
            <a:ext cx="8606520" cy="3727440"/>
            <a:chOff x="232560" y="3130560"/>
            <a:chExt cx="8606520" cy="3727440"/>
          </a:xfrm>
        </p:grpSpPr>
        <p:sp>
          <p:nvSpPr>
            <p:cNvPr id="94" name=""/>
            <p:cNvSpPr/>
            <p:nvPr/>
          </p:nvSpPr>
          <p:spPr>
            <a:xfrm>
              <a:off x="6477120" y="4273560"/>
              <a:ext cx="114300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4952880" y="3969000"/>
              <a:ext cx="838440" cy="18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057400" y="3816360"/>
              <a:ext cx="3733920" cy="198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73280" y="5873400"/>
              <a:ext cx="858600" cy="984600"/>
              <a:chOff x="773280" y="5873400"/>
              <a:chExt cx="858600" cy="984600"/>
            </a:xfrm>
          </p:grpSpPr>
          <p:pic>
            <p:nvPicPr>
              <p:cNvPr id="98" name="B_OEQ127" descr=""/>
              <p:cNvPicPr/>
              <p:nvPr/>
            </p:nvPicPr>
            <p:blipFill>
              <a:blip r:embed="rId1"/>
              <a:stretch/>
            </p:blipFill>
            <p:spPr>
              <a:xfrm>
                <a:off x="773280" y="5873760"/>
                <a:ext cx="858600" cy="98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886680" y="5873400"/>
                <a:ext cx="651600" cy="6426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Web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Pag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 flipV="1">
              <a:off x="1219320" y="4654440"/>
              <a:ext cx="152280" cy="1143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3657240" y="4349880"/>
              <a:ext cx="2971800" cy="1295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248520" y="5721120"/>
              <a:ext cx="858600" cy="984600"/>
              <a:chOff x="6248520" y="5721120"/>
              <a:chExt cx="858600" cy="984600"/>
            </a:xfrm>
          </p:grpSpPr>
          <p:pic>
            <p:nvPicPr>
              <p:cNvPr id="103" name="B_OEQ127" descr=""/>
              <p:cNvPicPr/>
              <p:nvPr/>
            </p:nvPicPr>
            <p:blipFill>
              <a:blip r:embed="rId2"/>
              <a:stretch/>
            </p:blipFill>
            <p:spPr>
              <a:xfrm>
                <a:off x="6248520" y="5721480"/>
                <a:ext cx="858600" cy="98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6361920" y="5721120"/>
                <a:ext cx="651600" cy="6426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Web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Pag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5780160" y="446580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2560" y="4806000"/>
              <a:ext cx="1924200" cy="42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Specify Objec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" name="B_OEQ128" descr=""/>
            <p:cNvPicPr/>
            <p:nvPr/>
          </p:nvPicPr>
          <p:blipFill>
            <a:blip r:embed="rId3"/>
            <a:stretch/>
          </p:blipFill>
          <p:spPr>
            <a:xfrm>
              <a:off x="5867280" y="3206880"/>
              <a:ext cx="82728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flipH="1" flipV="1">
              <a:off x="3200040" y="4654440"/>
              <a:ext cx="685800" cy="1066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510000" y="5797440"/>
              <a:ext cx="858960" cy="984600"/>
              <a:chOff x="3510000" y="5797440"/>
              <a:chExt cx="858960" cy="984600"/>
            </a:xfrm>
          </p:grpSpPr>
          <p:pic>
            <p:nvPicPr>
              <p:cNvPr id="110" name="B_OEQ127" descr=""/>
              <p:cNvPicPr/>
              <p:nvPr/>
            </p:nvPicPr>
            <p:blipFill>
              <a:blip r:embed="rId4"/>
              <a:stretch/>
            </p:blipFill>
            <p:spPr>
              <a:xfrm>
                <a:off x="3510000" y="5797800"/>
                <a:ext cx="858960" cy="98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3624120" y="5797440"/>
                <a:ext cx="651600" cy="6426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Web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Pag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466400" y="3130560"/>
              <a:ext cx="1372680" cy="1292040"/>
              <a:chOff x="7466400" y="3130560"/>
              <a:chExt cx="1372680" cy="129204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7467480" y="3130560"/>
                <a:ext cx="1371600" cy="1292040"/>
                <a:chOff x="7467480" y="3130560"/>
                <a:chExt cx="1371600" cy="12920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7467480" y="3894120"/>
                  <a:ext cx="1371600" cy="5284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839080" y="3365280"/>
                  <a:ext cx="0" cy="822600"/>
                </a:xfrm>
                <a:prstGeom prst="line">
                  <a:avLst/>
                </a:prstGeom>
                <a:ln w="190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825320" y="3659040"/>
                  <a:ext cx="0" cy="234720"/>
                </a:xfrm>
                <a:prstGeom prst="line">
                  <a:avLst/>
                </a:prstGeom>
                <a:ln w="190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242560" y="3659040"/>
                  <a:ext cx="0" cy="234720"/>
                </a:xfrm>
                <a:prstGeom prst="line">
                  <a:avLst/>
                </a:prstGeom>
                <a:ln w="190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8063640" y="3659040"/>
                  <a:ext cx="178920" cy="7048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242560" y="3600360"/>
                  <a:ext cx="178920" cy="763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825320" y="3659040"/>
                  <a:ext cx="238320" cy="646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467480" y="3423960"/>
                  <a:ext cx="238320" cy="763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705800" y="3541320"/>
                  <a:ext cx="238320" cy="763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421480" y="3541320"/>
                  <a:ext cx="178920" cy="763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600400" y="3483000"/>
                  <a:ext cx="178920" cy="7635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8660160" y="3423960"/>
                  <a:ext cx="178920" cy="763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67480" y="3130560"/>
                  <a:ext cx="1371600" cy="5284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67480" y="3365280"/>
                  <a:ext cx="0" cy="822600"/>
                </a:xfrm>
                <a:prstGeom prst="line">
                  <a:avLst/>
                </a:prstGeom>
                <a:ln w="190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7466400" y="3586680"/>
                <a:ext cx="1370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bject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epositor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33520" y="3283200"/>
              <a:ext cx="3276360" cy="1371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Collaboration Server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hares Object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77120" y="381636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75400" y="5110920"/>
              <a:ext cx="3824640" cy="42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Receive Identical Specification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90880" y="4501440"/>
              <a:ext cx="2954520" cy="429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Fetch Identical Object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523880" y="5873760"/>
              <a:ext cx="1219320" cy="609840"/>
              <a:chOff x="1523880" y="5873760"/>
              <a:chExt cx="1219320" cy="609840"/>
            </a:xfrm>
          </p:grpSpPr>
          <p:sp>
            <p:nvSpPr>
              <p:cNvPr id="134" name=""/>
              <p:cNvSpPr/>
              <p:nvPr/>
            </p:nvSpPr>
            <p:spPr>
              <a:xfrm>
                <a:off x="1828800" y="5873760"/>
                <a:ext cx="914400" cy="609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Times New Roman"/>
                  </a:rPr>
                  <a:t>object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23880" y="6178680"/>
                <a:ext cx="304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267080" y="5797800"/>
              <a:ext cx="1219320" cy="609480"/>
              <a:chOff x="4267080" y="5797800"/>
              <a:chExt cx="1219320" cy="609480"/>
            </a:xfrm>
          </p:grpSpPr>
          <p:sp>
            <p:nvSpPr>
              <p:cNvPr id="137" name=""/>
              <p:cNvSpPr/>
              <p:nvPr/>
            </p:nvSpPr>
            <p:spPr>
              <a:xfrm>
                <a:off x="4572000" y="5797800"/>
                <a:ext cx="914400" cy="609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Times New Roman"/>
                  </a:rPr>
                  <a:t>object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267080" y="6102360"/>
                <a:ext cx="304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010280" y="5721480"/>
              <a:ext cx="1219320" cy="609480"/>
              <a:chOff x="7010280" y="5721480"/>
              <a:chExt cx="1219320" cy="609480"/>
            </a:xfrm>
          </p:grpSpPr>
          <p:sp>
            <p:nvSpPr>
              <p:cNvPr id="140" name=""/>
              <p:cNvSpPr/>
              <p:nvPr/>
            </p:nvSpPr>
            <p:spPr>
              <a:xfrm>
                <a:off x="7315200" y="5721480"/>
                <a:ext cx="914400" cy="609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Times New Roman"/>
                  </a:rPr>
                  <a:t>object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10280" y="6026040"/>
                <a:ext cx="304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E08B-964B-4D97-AF5B-0E796A7D14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aring Server Side Objects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ve used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ared prox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ion to imp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ared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ared For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access server side Computation (NCSA Biology Workbench -- CGI scrip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access t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eb-linke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959280" y="3463920"/>
          <a:ext cx="518472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9280" y="3463920"/>
                    <a:ext cx="518472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34960" y="3506040"/>
            <a:ext cx="3190680" cy="3111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does not need to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ow about detail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aboration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is more efficient if i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ches information f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-us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us use custom data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ching or ge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xy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2579-67DB-4714-9030-1EC202D0B8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ated Idea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program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ared teln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vail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ared ema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vail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ing shared W3C DOM will allow more powerful shared editing of web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aspects of col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general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ared fi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amp; link t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ite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lmto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9848-A506-4722-82AB-45B8D1C39F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to DoD Miss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 ability of distant researchers to interact over the Internet to include important application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travel &amp; costs associated with distributed group projects, enhance produ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59FA-2BAC-42D6-8CB4-8155099370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bstacles and Cha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 DoD-relevant demonstration application will be delayed due to problems staffing this project (emphasis on completing core Tango 2 functional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CA16-A6DF-48C8-8BC7-1B66CD96FD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eb Interfaces for Computational Modu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ffrey C. Fox and Tomasz Hau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AC at Syracus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8767-4309-40E7-AB0F-8F0A70BD1A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complishmen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/C presentation at JSU Summer Institute; combined local &amp; remote instruction via Tan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-specific search engine for CWO sta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SMS demo (Frid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go support and deployment eff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FB96E-E86F-4505-BBCA-AA7B1A93BD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la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un August 1999 as follow-on to Yr3 pro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EQM applications and also Army Risk Assessment Modeling System (ARAM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customizable decision support interf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A655-CAD5-41D5-B0E8-9AD214ED38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lan (2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fied look-and-feel for the family of the EQM applications: LMS, GMS, SMS and W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data access -- increase sophistication/flex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execution -- more models, more complex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PAC work on middleware, others doing front-end, back-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A19F-097F-4EEF-B5C9-6563B391C5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complishmen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meeting of LMS group at ERDC 27-28 Ju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sary tasks defined and assig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on installing CORBA-based infrastructure on appropriate machin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o be completed by Sept. 0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B99D-FD15-41B0-B47E-F61D93C73A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to DoD Miss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MS intended to address questions of environmental damage and recovery as a result of DoD training exercises or actual battles.  Environmental restoration important, and potentially costly fa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generally, and example of using CORBA, Java, etc. to build coupled HPC applications w/ user-friendly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2FD1-5367-4048-8676-364BC4F874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ango Deploy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go deployment for education &amp; training well understood and practi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go deployment for meetings, casual collaboration somewhat harder (audio configuration very import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with John Eberle to promote Tango for meetings (incl. Center Directo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D3C3-F0BD-4874-970F-AE13CE13FE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ango Deployment (2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berle can train &amp; assist users in setup/use of Tango for meetings including audio se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users may be more comfortable with phone for voice, Tango for video, document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ll-out of Tango 2 planned now through January (1.4 &amp; 2.0 must co-exist most of this ti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88D7-38D1-41A5-9030-36FBE14561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ango Interactive Statu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300"/>
              </a:spcBef>
              <a:buNone/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pabilit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 1.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 2.0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 2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300"/>
              </a:spcBef>
              <a:buNone/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tools (BV, SB, WBD, Chat, etc.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300"/>
              </a:spcBef>
              <a:buNone/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dynamic HTML suppor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300"/>
              </a:spcBef>
              <a:buNone/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Document Object Mod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300"/>
              </a:spcBef>
              <a:buNone/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Java apple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300"/>
              </a:spcBef>
              <a:buNone/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Java in pag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300"/>
              </a:spcBef>
              <a:buNone/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JavaBea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300"/>
              </a:spcBef>
              <a:buNone/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NG-based interf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300"/>
              </a:spcBef>
              <a:buNone/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authentic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300"/>
              </a:spcBef>
              <a:buNone/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 Identity Modu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300"/>
              </a:spcBef>
              <a:buNone/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r Licen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075C-CFC4-436D-8590-7059D03272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ango Interactive Status (2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pabilit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 1.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 2.0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 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e reposito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d e-mail suppor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wareness” service (like AI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-customizable  interf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Explorer suppor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-of-browser” implemen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visualiz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compute eng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web-linked datab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ctr" pos="5257800"/>
                <a:tab algn="ctr" pos="6229440"/>
                <a:tab algn="ct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wall suppor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A7DB-3872-45B6-AC74-8C1A1AC841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etings and Conferenc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levant to both Training &amp; C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Open Hous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D Networking group at Minnowbrook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LT (education researchers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lk/de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L/NAS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dak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lk/demo/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eway Meeting at ARL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. Houst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due Univ. (John Rice Memorial Meeting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AM Meeting, Atlant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 (minority/tribal CS dept. heads)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CA30-4671-4294-99CC-84D3983940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etings and Conferences (2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D Users Group Conferenc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uto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va Gran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vaOn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hib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MEDI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M Earthquake Simulation Group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m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interest in crisis management dem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C Distance Education Workshop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lk/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 Developers Meeting, Montreal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mo/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rida State Univ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. California Earthquake Center Ann. Mtg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ern Universities Res. Assoc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lk/demo/train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9F9A-5313-4F75-A515-25162828CC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8T21:40:03Z</dcterms:created>
  <dc:creator>David E Bernholdt</dc:creator>
  <dc:description/>
  <dc:language>en-US</dc:language>
  <cp:lastModifiedBy>David E Bernholdt</cp:lastModifiedBy>
  <cp:lastPrinted>1999-08-06T16:03:33Z</cp:lastPrinted>
  <dcterms:modified xsi:type="dcterms:W3CDTF">1999-09-01T01:41:22Z</dcterms:modified>
  <cp:revision>85</cp:revision>
  <dc:subject/>
  <dc:title>No Slide Title</dc:title>
</cp:coreProperties>
</file>