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6D47-C48C-4F0A-9B6B-04A47663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BD18-3ACC-4C88-846E-C2789400E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C64C-CDE6-41B5-B4D1-D9357F76D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17B-1F11-4DBF-87ED-BAA9BD4E2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C166-82EA-4DAC-B7A9-463B4BCAA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6816-E52D-4B3C-86F2-FF111D937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0299-03F8-4887-A784-A51255313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95DF-484D-4131-8B43-A108CDE3A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E7F2-77F0-4BCA-A2DB-653B537D6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9C4C-4D5C-4732-ABE8-722EDBD91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AA8F-149E-465D-8E96-0CBCF237D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DDFF-8F90-43F6-BA6F-B3D06303C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FDC-E9F3-49CD-BDE5-F976725C4373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99072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 for Forces Modeling and Simulation CTA at CEWES MSRC - Year 3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EWES, Feb 9-10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053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jtek Furman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 and Translet,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FC25-AD2B-49F0-8A2E-8931DF679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8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both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 detail) and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HS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t the summary level) FMS progra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sion, component technologies, prototypes, demonstr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early support for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MS Training Sp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ite at NPAC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ttp://bombay.npac.syr.edu/f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mmary site being installed at CEW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CFF7-1661-4AFB-8726-868DEDCD20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s on JWORB/OWRTI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Parallel CMS as HPC Feder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ModSAF, Vis, Log etc. Feder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ebHLA demos (Jager) - Summer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MS Demo at SC’98, Fall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laptop demo (event playback) - Feb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emo - end of March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0EA9-9902-46DB-8E5E-3B59831B83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4479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allel CMS Demo at the HPCMO Booth at  Supercomputing ‘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vember 7-13, 1998, Orlando, F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A513-B887-4E27-B3C8-AB4A4A7E3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Compon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M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mprehensive Minefield Simulator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dvanced DIS system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. Belvo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cently parallelized on Origin2000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odSA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dular Semi-Automated Force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provides advanced support for terrain and vehicle simulation (tanks, coutermine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mmercial DIS battlefield visualizer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Technolog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V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X/3D Battlefield Viewer; commodity/NT front-end for Parallel CMS develop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D9B5-F404-47E9-83A0-378BEA29C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Install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NPAC,  Syracuse Unviers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ARL and CEWES MSRC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 on NPAC SGI workst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er runs on NT commodity clust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SC98 in Orl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HPCMO boot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tealth runs on booth SG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ewer runs on lapto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7AA0-AFD5-4B86-A54E-5EC600793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allel CMS Demo - Resul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enario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breach operation at Ft. Knox, developed for Syracuse by Ft. Belvoi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twor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NE connection satisfactory between NPAC and MSRCs, difficulties in Orlan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far linear up to 8 nodes, more work and tests needed to scale for larger parti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98 de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capability only but already generated some interest and visi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xt ste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HL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d of Year 3)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MSR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computing CMS (Year 3 proposal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1E5D-1F6A-4B79-8BF7-E19AD9980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Drawing1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82040" cy="51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1579-22E6-4621-AC98-EF06ADAA1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ms_with_veh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4803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MS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703E-4478-4CB5-B242-DD1AAC9CC6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modsaf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SAF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4CD6-E8EC-4F9D-88BB-4133E7E9E7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er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15200" cy="4934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llel CMS Performance Monitor and PDU Sampler/Sn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30C2-10A5-4A54-B2F7-1119D33B9C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FMS at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2A4F-F143-4909-A878-F348F9FDB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c98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705720" cy="50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572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3D based Commodity (NT) Front-End for Parallel C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2471-8EAD-4433-AE14-902FC36BD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tealth_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38680" cy="478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601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k Stealth - High End SGI Viewer adapted for Parallel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F8E8-F75B-4021-9D02-C8103DAD5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wards  HLA Support for Parallel C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C’98 Parallel CMS Demo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S based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convertion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of old/legacy modules (CMS, ModSAF) - in progres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S/HLA modules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JDIS, Logger, Playback, SimVis) - initially operational and being completed/ref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e laptop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under development - to be shown at Year 3 review) enables scenario storage, playback and analys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al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will include all WebHLA components listed below - to be available end of March 99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6177-C694-4FC3-BA0A-9BF4E2B46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HLA - Current Componen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based CORBA broker acting as HLA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Object Web Run-Time Infrastructure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CORBA based implementation of DMSO RTI 1.3 packaged as JWORB serv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l+VBA based Visual FOM/SOM Authoring tool with Aegis OMDT look-and-fe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rectX based SimVis Front-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DirectPlay for multiplayer gaming to bridge with RTI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IS-HLA bridge and PDU probe generator written in Jav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Parallel Performance  Monitor)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derat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agmatic Object We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eptual framework - integrates HLA with Java, CORBA, COM and XM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79D5-684B-4964-A5C7-C405A6729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75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562360" cy="480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609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WORB - multi-protocol middleware server for object based High Performance Distribute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931B-F803-4AEF-AAA2-717DC86EC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76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943600" cy="4740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6094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WRTI - First Non-DMSO Implementation of RTI 1.3,   to be certified by DMSO as part of  FMS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3855-4D13-41C6-A78C-862D89BD93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108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92" name="Image81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3536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Image78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733920" cy="302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685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MBuilder for WebFlow based Visual HLA Auth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6DD0-3A2F-4CE8-BC69-0825B92F75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8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5105160" cy="3828960"/>
          </a:xfrm>
          <a:prstGeom prst="rect">
            <a:avLst/>
          </a:prstGeom>
          <a:ln w="0">
            <a:noFill/>
          </a:ln>
        </p:spPr>
      </p:pic>
      <p:pic>
        <p:nvPicPr>
          <p:cNvPr id="96" name="Image83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4782960" cy="3587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685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authoring tools: WebFlow + OMBuilder for DMSO Jager HLA application/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3BBC-8D48-49E5-B047-61B29B863A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rect X Framework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Component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9080" cy="21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01" name="DirectX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9811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2" name="DXF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19480" cy="179100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103" name="DXM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3019320" cy="1800360"/>
          </a:xfrm>
          <a:prstGeom prst="rect">
            <a:avLst/>
          </a:prstGeom>
          <a:ln w="3240">
            <a:solidFill>
              <a:srgbClr val="00cc99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104" name=""/>
          <p:cNvSpPr/>
          <p:nvPr/>
        </p:nvSpPr>
        <p:spPr>
          <a:xfrm flipV="1">
            <a:off x="4952880" y="1600200"/>
            <a:ext cx="0" cy="99072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600200"/>
            <a:ext cx="144792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14800" y="2361960"/>
            <a:ext cx="0" cy="68580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00400" y="2362320"/>
            <a:ext cx="91440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809880"/>
            <a:ext cx="0" cy="91440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95480" y="4724280"/>
            <a:ext cx="106704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19520" y="3124080"/>
            <a:ext cx="365760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0" y="2133720"/>
            <a:ext cx="197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abor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62920" y="380880"/>
            <a:ext cx="175248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tream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00800" y="1219320"/>
            <a:ext cx="108576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D Worl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724280"/>
            <a:ext cx="5410080" cy="1600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to HLA/RTI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thout object/datab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OMT, OML, FOMs, S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8FD7-7984-47B6-AFDD-0216BC9A34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c98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410080" cy="4108320"/>
          </a:xfrm>
          <a:prstGeom prst="rect">
            <a:avLst/>
          </a:prstGeom>
          <a:ln w="0">
            <a:noFill/>
          </a:ln>
        </p:spPr>
      </p:pic>
      <p:pic>
        <p:nvPicPr>
          <p:cNvPr id="116" name="Jager-donuts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76212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X based SimVis Commodity Tools for CMS (left) and Jager (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560C-5E0F-4A07-9E41-958D40DD71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1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OWRT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OMBuilder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 2 Modul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SimVi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X based 3D simulation visualization front-en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arallal CM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2000 port of Comprehensive Mine Simulator from Ft. Belvoir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Java based parallel performance monitor and PDU probing too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Java based DIS=&gt;HLA bridge server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ModSAF/H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support for ModSAF node to act as HLA federat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Logger Federate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d to save HLA interactions (events) in a relational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layback Feder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used to replay a simulation from an event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A5A2-4B8F-44A3-B400-B37A459764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9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019920" cy="4875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6094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MSO RTI - A Promising New Model for General Purpose High Level Metacomputing Operat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DF63-D012-455E-9176-32C05133EF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op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400800" cy="491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-use of WebHLA for High Performance Commod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5FE5-0D28-4C57-9D02-1F7E51467B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in developing WebHLA - potential new breakthrough technology from FMS CT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publication efforts (several papers, book, FMS Web site) generate broad visibility for F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solid relations with Ft. Belvoir and SPAWAR (via joint CHSSI proposals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interest of JSIMS (Jeff Wallace) and DMSO (Judith Dahmann) in WebHL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524B-29FA-4D29-92B4-B780903933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C DoD User Group Confreren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Rice U.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A HPC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Aberdeen, MD, 4 papers, July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W (HLA conf by DMSO/SISO),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lando, FL, Sept 98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paper awarded as recommended re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S WebSim’99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San Francisco, CA, Jan 1999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PC conf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(EuroPar, Wisconsin, ICASE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BFCC-7A1A-4A7B-98FD-4E4DB9E72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/OWR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esentation at SPAWAR, Aug 98, as part of JSIMS/Panda meet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Demonstration of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HPCMO booth at Supercomputing ‘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30CF-3475-43E0-BC30-ED23DFD67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4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FMS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ing Full Day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JSU Summer Institute, June 98; included morning presentation and afternoon lab with hands-on WebHLA dem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E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Metron, Inc. at the Joint National Test Facility at Colorado Springs, CO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10B8-E49C-41EA-BC3A-65E1B3A23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5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.C. Fox, W. Furmanski, S. Pallickara and H. Timucin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Building Distributed Systems on Pragmatic Object Web -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he Best of Java, CORBA, COM, XML and 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book in progress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ey ‘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our recent work on Web based HPC and proposes dual-use of WebHLA for several Internet application domains (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irtual communities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nlin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ultiplayer gam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BA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stance train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elemedic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tc.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03FF-781B-40EA-8D27-5FFDF6F8C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6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Jeff Steinman/Mark Roberts regarding SPEEDES/E-ModSA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Larry Peterson and Jeff Wallace re Parallel IMPORT support in WebHL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ntributing our HLA expertise in HPC RTI project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to be certified by DMSO as the first non-DMSO RT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666E-A275-4433-B41E-CDBFA3AE0B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7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mela M. Jacobs/Ft. Belvoir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 Toolkit for Metacomputing based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ry J. Peterson/SPAWAR, Chris Wallace/TRW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PC for Scalable Cognitive Entities in Forces Modeling and Simu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4B2-887D-4360-AF7E-9195D7C2C2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9-01-29T00:29:51Z</cp:lastPrinted>
  <dcterms:modified xsi:type="dcterms:W3CDTF">1999-01-29T02:26:01Z</dcterms:modified>
  <cp:revision>9</cp:revision>
  <dc:subject/>
  <dc:title>No Slide Title</dc:title>
</cp:coreProperties>
</file>