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6C2-FD01-4716-BFDC-D8C7D0B2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8E8-DDE0-4429-8D20-6A89262D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F46-C050-4D8A-B38A-2F1ECFD4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E8C-738B-41F0-892C-84249926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1B12-B113-49E8-8B1A-93B58994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9D7A-E26A-459B-85F5-E2CDB03E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EAC8-5B64-4DA6-A38D-98D0642A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EFCE-59FB-4929-BC3C-D329F2AE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1569-26FC-4CEC-8823-2BDA71A6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E85D-9E2D-4BE8-9C3D-9A1759A5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F278-FC2E-462B-BC06-137A53F6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826-BF12-43B6-B7C1-6EDE67DD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22B7-1FEB-4079-BD3D-329A7303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2526-061E-409E-866F-0A47D173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E277-3BE4-4931-BE6E-581FC34F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04BC-5B68-4FC3-BD31-AB9338DA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29BD-C8DA-4D2A-9DEF-40BD69FD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7C2-413D-4B4D-82BF-56D2CF9D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1D1-58FE-42C0-A741-C0B699FF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374-79D1-445C-A2C0-A6F82703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4A0A-5065-4C36-B194-1712F422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4F1-1E55-4E7E-A079-121C71E7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65C-5B9E-485F-AB27-5E0F4332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572-3F4E-4DE4-9500-6BF5B9B2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D585-D14C-4159-85F9-BB51A127D31D}" type="datetime">
              <a:rPr b="0" lang="en-US" sz="1400" spc="-1" strike="noStrike">
                <a:solidFill>
                  <a:srgbClr val="5e574e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12F4-10AC-4FBF-A400-BD3C4FCCD1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60020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1C0A-F115-49C3-ABE3-8D565520BAFF}" type="datetime">
              <a:rPr b="0" lang="en-US" sz="1400" spc="-1" strike="noStrike">
                <a:solidFill>
                  <a:srgbClr val="5e574e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E28A-227E-404D-BF64-0439D20162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60020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NGO Interactive 2.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neral Review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y Marek Podgorn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PAC, Syracuse University &amp; WebWisdom.co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B8FF-52D3-4822-890D-BE7DFFC70D8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E89DF17-132D-48C3-8DEA-E87151B40F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cept of “roles”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user in a community is assigned a r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le is completely arbit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fessor, student, uncle Matt, top_secret_clearance, cha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les can only be used with secure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Manager can be configured to alter some behaviors based on the ro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defined s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-specific application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-specific application startup UR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-specific operational privile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A20-B380-47CB-B421-2C54ACC4B2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14BDF-7602-42AC-9CCA-8C048936B9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M Predefined Session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defined sessions are sessions that are automatically started when a user with a certain role (e.g. professor) logs to the syste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defined session requires section 'predefined' in the conf fi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predefined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T+=333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………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App 3333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type=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T=333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 name=Paintbrush prede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ickname=P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 constraint=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lowed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rl=http://trurl.npac.syr.edu/tango101/applets/whiteboard/index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con=images/20X18/draw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Courier New"/>
              </a:rPr>
              <a:t>starter=pro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frame=appletfr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C68-A48D-45E4-B1A8-3F535106DA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A7B65-C5DC-4EE0-9DBD-8B499D7B10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ole-specific application s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desirable to block the ability to start some type of applications for certain type of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nfiguration file allows for adding the 'show' parameter in the 'App' section specifying who is able to use this type of applicat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pp 3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=professor,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only “professor” and “support” roles may start the application 37. Other users can have this application opened remotely on their machi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25D-917F-4C13-A1D4-CFC3D1F0C8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17CCD-F290-4156-905B-B5AEB59B23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ole-specific startup URL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applet has a 'url' parameter specifying the starting page for given type of application. This parameter can be overridden by a role specific URL pointing to another locat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App 111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=http://kain.npac.syr.edu/Applets/TangoVideo/index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fess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=http://kain.npac.syr.edu/Applets/TangoVideoMaster/index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users with a ro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fessor start application using 'url' parameter. When a user with professor role starts the same type of application, 'professor url' will be used inst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47D-4D22-4027-A426-BF5A8174C8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955A4-93DD-4C06-9828-4ECC70B238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ther SM configuration option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-specific operational privile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the session is started only certain roles will be able to invoke session commands (e.g. only professor can close the ses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-specific application se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situation when configuration file describes more than one server, each server can have a list of applications associated with i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h list is a subset of all applications defined in the configuration file. The application set depends on the currently used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374-E613-44E4-8654-CDA10A6970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BC510-224D-4B69-9F26-8B998DA3F5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eficiencies of TANGO 1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exible security and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plete support for firewall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kward GUI (“alien interface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untime server switch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upport for user’s identity (cybercrow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upport for “rol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al support for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dimentary support for asynchronous collabo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persistent document sto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mail gatew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733-014B-43A6-A9BC-4E9FF24093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1F265-66E5-42D7-A8C5-75C354E314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eficiencies of TANGO 1, cont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ownership and floor control mix-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protocol independence was not consequently expanded to flo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configurability of Session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plete API for JavaScrip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tied to Netscape browser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upport for Internet Explo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problems on UN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limited support for system adminis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693-223B-444E-996A-5180E7B05A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7F763-FA0E-49CD-836A-CBC29C9972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ANGO 2 core enhancements I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d new Graphical User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s new cyberspace navigation paradig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orms to  prevailing, intuitive  “look and fe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s ergonomy and saves screen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agile, though…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ecur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-based user authentication, secret key based, strength better than UNIX but still not in Kerberos lea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for a variety of repositories: LDAP, RDBMS, local encrypted files, HTTP-based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censing (eliminates rogue servers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e Sockets used for server-client commun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ewall support: SOCKS4 supported for client-server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2ED-E9B2-4A6F-B115-9247DB6144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17228-AA0C-4C4C-9057-811151A3A6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ANGO 2 core enhancements II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s-compliant personal identity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pendent of storage, PIM metadata comply with IMS stand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ritical for future interoper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include “rol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pretation of “role” attribute is left to the system. Enables privilege and contents acces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ed e-mail and support for data persisten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 mail system got a gateway to “sendmai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internal messages may be copied to external mail accou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ties” supported by listserv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 modules can use e-mail to store application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E74-9441-4482-B332-3016FD10FB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FDF82-8326-44D8-9678-E388121199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ANGO 2 core enhancements III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areness”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directory service implemented to track users and commun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untary” participation, multilevel status definition, privacy prot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collaboratory server selection an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d on server status tracking via directory ser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recording capa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ion with the LecCorder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hanced session management and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ermissions can be set per application session in addition to global sett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- based privile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AE5-7442-4C19-B6D3-7A44241F88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15DEB-11C1-4CD6-90AF-8949DB8F29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ANGO 2 core enhancements IV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configuration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defined, fixed, auto-started  application sess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 (system administrator configurable) multi-frame lay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for placing selected application modules in one multi-frame windo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interface ergonomy; implementation of  domain specific  interfac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den-frames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olute placement of floating application windows with a customizable window manag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ding”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970-6DDF-42AA-B9CE-D5D389D817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7D578-4368-43FF-9C46-4F8CD18155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ANGO 2 core enhancements V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Internet Explor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and operational for Java applets and “local”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and prototyped for JavaScript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ufficient testing, unknown robust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-of-the-browser”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ortant for UNIX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, prototyped and sparsely tested. Design implements a model analogous to “LiveConnect” for AppletView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performance and robustness gai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29E-1E28-466E-B30D-5FEF02EB5C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0E42E-C776-4C49-84BC-45AA837583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ANGO 2 application suppor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shared dynamic HTM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shared D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s-based applications such as “workbench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with  Courseware Management  Database Syst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user feedback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ting/Testing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tific Visualization pack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Shared Objects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7F9-4A50-4D0C-820D-FE19BB4439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7F00E-AAC5-4A2E-96A8-3D3AC0747D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0T16:59:35Z</dcterms:created>
  <dc:creator>Remek Trzaska</dc:creator>
  <dc:description/>
  <dc:language>en-US</dc:language>
  <cp:lastModifiedBy>David E Bernholdt</cp:lastModifiedBy>
  <dcterms:modified xsi:type="dcterms:W3CDTF">1999-08-02T15:43:37Z</dcterms:modified>
  <cp:revision>37</cp:revision>
  <dc:subject/>
  <dc:title>XEmacs-based Remote Consulting</dc:title>
</cp:coreProperties>
</file>