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4604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1541520" y="52560"/>
            <a:ext cx="5986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Northeast Parallel Architectures Center at Syracus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380880"/>
            <a:ext cx="6172200" cy="0"/>
          </a:xfrm>
          <a:prstGeom prst="line">
            <a:avLst/>
          </a:prstGeom>
          <a:ln w="76320">
            <a:solidFill>
              <a:srgbClr val="0c0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7835760" cy="0"/>
          </a:xfrm>
          <a:prstGeom prst="line">
            <a:avLst/>
          </a:prstGeom>
          <a:ln w="76320">
            <a:solidFill>
              <a:srgbClr val="0c0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89880" y="0"/>
            <a:ext cx="1552680" cy="1057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 1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Bernholdt and Wojtek Furman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heast Parallel Architecture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racus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llenges to HPC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gration for FMS &amp; I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 often involves coupling of multiple applications, including legacy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or may not be able to substantially modify apps for H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tantial established DoD structures &amp;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SO (DIS, HLA, R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any cases, models must be cer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ge investments -- cannot discard for sake of “Moderniz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use local resources &amp; DCs, not MS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interactive/real-time access, often human- or hardware-in-the-loop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ed computing is the 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876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New HPCC Paradig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Emer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90512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rn computing very much driven by internet/web technologies and hot applications such as scalable interactive entertainment or enterpris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entertainment applications share many characteristics with FMS &amp; IM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ilding new HPCC on top of pervasive web instead of custom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aradigm very appropriate to FMS &amp; IM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MS CTA White Paper endorses; much interest expressed at HPC User’s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ers at Naval Postgraduate School investigating internet/web technology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Range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 1 efforts addressed the question of whether new and emerging internet/web technologies can be useful for FMS/IMT applications. (Answer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identified important web technologies and placed them into context with HPCC and DMSO (military modeling &amp; simulation) technologies to understand how they are conv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, HLA, RTI, CORBA, HP-CORBA, Object Web, Java3D, JavaBeans, VRM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87480" y="1111320"/>
            <a:ext cx="7156440" cy="5318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723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Range Vision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 2 efforts emphasize early practical demonstrations of the new technologies in FMS/IMT applications, while continuing to study the development of certain ke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 2+ incremental development of training modules targeting both web technologies (as they emerge and mature) and specialized modeling &amp; simulation tools (eg SPEEDES, IMPOR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s and demonstrations serve as tools to help bring the new paradigm to the DoD FMS/IMT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Range Vision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 3+ utilize early demonstration frameworks to incorporate more sophisticated/realistic simulation components and newly developed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trainings and demonstrations gradually become more focused,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w paradigm is more widely adopted, we will have more opportunities to work with particular groups on particular applications, much as other CTAs do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723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r Input &amp; Out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905120"/>
            <a:ext cx="7772400" cy="41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ly (years 1-2) work mostly through CTA leads and CHSSI projects.  Total user community is too large to deal with effectively -- ne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MS: Bob Wasilausky, N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T: Andrew Mark, 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in Years 1-2 aimed at needs analysis and carefully selected exemplar projec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s 3+ use exemplars to introduce wider FMS &amp; IMT community to web/java capabilities and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h progressively larger community as program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tting the Stage for Yea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digm shift is very exciting, and probably unique at this time among DoD 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le budget is extremely modest given huge conceptual change taking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MS &amp; IMT cannot leverage other CTAs very easily (unlike grid generation,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equently, Year 2 effort (even including “additional” project proposals) is constrained to f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n we believe would be most effective at this point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work re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v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 synergy with other NPAC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NPAC Effor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levant to FMS/I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Flow (D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able Televirtual Environments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DCE (Rome Lab, D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 for Computational Science Community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workshops lead by N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RC (DAR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s SPMD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PC Programming Environments (N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 2 Planned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1257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Computing &amp; Web Technology for FMS and I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requirements of FMS and IMT and how new and emerging software technologies can be used to help me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One more trip needed to ARL for more discussions with IMT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hite paper to be delivered in 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sis of simulation network traffic (provided by Ginny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nalysis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eral FMS/IMT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ologies relevant to simulation and modeling are developing extremely rapidly at the moment.  We must pay attention to these developments in order to be effective in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developments, especially i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Web (integrating HTTP, IIOP and JavaBeans for enterprise comp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-based DIS (i.e. NPS expts. with Java-VRML DIS frame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paper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erging Web Technologies for Modeling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336840" y="43344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MS/IMT Training &amp;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database training developed in Ye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hop on Adv. Web/Java Tech. for Modeling &amp;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-Workshop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Web Technolo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Web Technolo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/Java Technologies for Modeling &amp; 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MS/I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ti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and Web-Linked Databas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torial and Workshop on Advanced Web &amp; Java-Based Technologies for Modeling &amp;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336840" y="43344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MS Training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ory module, providing background &amp; framework for more detaile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: Integrating Object Web and Web DIS with DM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ebFlow-based interactive training tools for visual auth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LA Simulation Objec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derated Object Mode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be delivered a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36840" y="43344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952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ailed FMS Appl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y &amp; Demon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be able to show community an application of web/java-based technologies that they will understand and apprec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extension of Year 1 effort to understand in general how web/java can be used in modeling &amp;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 for user 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 will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h of Java servers (HTTP &amp; IIOP protocols) will act as scalable Object Web compliant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I support implemented using IIOP-based CORBA support and custom or MITRE prototyp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browser-based interactive display (Java, Java3D, VR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-based multi-user collaboratory/virtual reality tools (TV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Flow-based visual auth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36840" y="43344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ailed FMS Appl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y &amp; Demonstratio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imple simulations will be sel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 time-stepped (e.g. from Monterey NPS experi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-driven (to be determ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appls.cast into HLA framework and coordinated on RTI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simulations are placeholders for Year 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T hardware-in-the-loop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MS simulation (perhaps IMPORT/SPEEDES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’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get FMS application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paper analyzing application and discussing implementation using web/java-based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nstration a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36840" y="43344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 2 Addition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PEEDES Training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ES parallel discrete event simulation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by two FMS CHSSI projects and other eff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SSI wants electronic training materials to help “get the word out” to the us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pecifically mentioned in FMS CTA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buy-in from FMS CH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training module for SPE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$29,141 (note assum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peration of Jeff Steinman (Metron In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ing from CHSSI to support Steinman, and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ailed FMS/IM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examination of a real FMS/IMT application and analysis of how it translates to web/java-base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Year 1 Simulation Network Traffic Analy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experience to specify application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 to target ARL Virtual Proving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’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paper with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$32,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ring of FMS/IMT On-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hire the “right” person without knowing what they are to do.  Similarly can’t attract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son without clear definition of what they are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eld is chang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pidly; also insufficient detailed knowledge of FMS/IM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 to use linear combination of existing NPAC staff to provide part-time on-site support for first six months (using on-site budg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NPAC staff will augment limited resources of cor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ring of FMS/IMT On-Sit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6 months, both web/java technology and understanding of FMS/IMT needs will b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me search in 6 months, expect to hire within three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’97-Feb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AC staff provide part-time on-sit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definition of permanent on-sit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-site position f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$20,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s use of on-site budget for PT NPAC-base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181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Computing &amp; Web Technology for FMS and I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jtek Furmansk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ji Nataraja, Hasan Ozdemir, Zeynep Ozdemir, Bryan Carpenter, Geoffrey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NPAC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D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Lab (D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RC (includes SPMD Ja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for Computational Science (2 workshops lead by N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PC Programming Environ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876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gra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ORT/SPEEDES with 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is high-level multithreaded simulation languages for use in next-generation advanced F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ES parallel event-driven simulation frameowrk -- powerful, but difficult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efforts include IMPORT--&gt;SPEEDES translator for friendlier simula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has many synergies with Java (IMPORT predates 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MS CHSSI very interested in integrating IMPORT with Java to take advantage of internet/web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gra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ORT/SPEEDES with Jav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rages NPAC involvement in Sun PHC Consortium and Java Frameworks for Scientific and Engineering Computing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train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 working relationship with IMPORT group (N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paper describing feasibility study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xpected) Joint proposal to JavaSoft for extension of Java to support IMPOR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$102,5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ll explore FMS CHSSI and other financi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CM Software Repository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/ES project, joint with Univ. of Tennessee (Shirley Browne), ASC MSRC; collaboration &amp; support from PET &amp; DoD CCM, John Gro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CCM repository as a model for other 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rages Chemistry Software and Information Resources project (NPAC &amp; NH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s &amp;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’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A-specific structure, classificatio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’9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ASC CCM reposi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t ASC/ARL CCM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$19,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deo on Demand Syst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AR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ARL to evaluate NPAC VoD system for training &amp; oth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Cs for dial-up through high-speed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fully integrated with WebWisdom2 electronic training repository/delive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L staff make (extended) site visit to NPAC to evaluate system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d Costs: Time &amp; materials of supporting NPAC staff for duration of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360600" y="419040"/>
            <a:ext cx="271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2 Addition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deo on Demand Syst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ARL Evaluatio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2 -- Installation at A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video creation s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-site cap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0k + ~$25k hd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source to NPA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/hour + storag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t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20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5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deo cl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400/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arrangements include training on client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WebWisd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40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xing via speech recog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80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495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 and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FMS/IM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MS/IMT Training &amp;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FMS Train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FMS Application Study &amp;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PEEDES Train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FMS/IMT Applica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ring of FMS/IMT On-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IMPORT/SPEEDES with 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M Repositor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deo on Demand System for AR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104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llel Databases for FMS, IMT, and other AR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role of parallel database technology in FMS, IMT, and other applications of interest to A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hite paper to be delivered in 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materials for “Parallel and Web-Linked Databa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eb-Linked” ready for delivery, being upgraded as JDBC m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Parallel” first-draft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: “Parallel and Web-Linked Databa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Scheduled for June, then canceled due to conflicts.  Has not been rescheduled.  Plan to present in y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181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llel Databases for FMS, IMT, and other AR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ng Cheng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iangang Gu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o-Wei Ou, Yuping Zhu, Krzysztof Walczak, Marek Podgorny, Geoffrey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NPAC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n &amp; Brad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racuse Langua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ARL-Supporte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dd Olson (tech.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 Bernhol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ring For FMS/IMT On-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rounds of advertisments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spapers: Washington Post, Baltimor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s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distribution through DMSO (first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Few responses received, generally in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Nature of position has been a moving target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FMS, IMT or bo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Modeling &amp; simulation vs web technolog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More on On-Site hiring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6476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 1 Travel &amp;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ctr" pos="738360"/>
                <a:tab algn="l" pos="1711440"/>
                <a:tab algn="r" pos="69199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ull or partial ARL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’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T Kick-Off, A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’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PC User’s 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’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T Vision Worksh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n’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PAC @  A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6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n’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PC User’s 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0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’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T Retr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4 person-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’9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L @ NPA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ing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ctr" pos="738360"/>
                <a:tab algn="l" pos="1711440"/>
                <a:tab algn="r" pos="69199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’9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PAC @ AR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18080" y="43344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Year 1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FMS/IMT Strategic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10288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mportance of HPCC to FMS &amp; I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x DoD simulations need next generation computing paradigms to cope with aggressiv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SIMS (Joint Simulation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WARS (Joint Warfare Sim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MASS (Joint Modeling and Simulation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d reliance on design &amp; testing using computational models (eg Virtual Proving G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08240" y="433440"/>
            <a:ext cx="290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c0cff"/>
                </a:solidFill>
                <a:latin typeface="Times New Roman"/>
                <a:ea typeface="Times New Roman"/>
              </a:rPr>
              <a:t>FMS/IMT Strategic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E Bernholdt</dc:creator>
  <dc:description/>
  <dc:language>en-US</dc:language>
  <cp:lastModifiedBy>David E Bernholdt</cp:lastModifiedBy>
  <cp:revision>0</cp:revision>
  <dc:subject/>
  <dc:title>No Slide Title</dc:title>
</cp:coreProperties>
</file>