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1840" y="68868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0162-048F-4CB8-870B-504144FDC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t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ve Visual simulation system for data analysis developed for Tan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vehicle model construction underway to support Family of Medium Tactical Vehicles (FMT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type Oracle database completed for FMTV Driveline Study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 access demon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front-end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C developing a requirements specification for Production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ing with the VISION Team init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5D6B-F1F0-4766-B7FF-60E0CDF5F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799308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2840" y="3785400"/>
            <a:ext cx="799308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6AEC-2006-4B15-A3A9-F30050CBC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920" y="180468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2840" y="378540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8920" y="378540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21AD-3BE1-4B24-88D2-11B626E61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257364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720" y="1804680"/>
            <a:ext cx="257364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8240" y="1804680"/>
            <a:ext cx="257364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2840" y="3785400"/>
            <a:ext cx="257364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720" y="3785400"/>
            <a:ext cx="257364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8240" y="3785400"/>
            <a:ext cx="257364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D30C-03C6-4C6A-A04F-C3F67389D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2840" y="1804680"/>
            <a:ext cx="7993080" cy="37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7993080" cy="379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3900600" cy="379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68920" y="1804680"/>
            <a:ext cx="3900600" cy="379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38120" y="553680"/>
            <a:ext cx="756288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68920" y="1804680"/>
            <a:ext cx="3900600" cy="379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2840" y="378540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2840" y="1804680"/>
            <a:ext cx="7993080" cy="37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1C4B-CF3F-499D-934A-B16582760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3900600" cy="379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68920" y="180468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68920" y="378540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68920" y="180468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2840" y="3785400"/>
            <a:ext cx="799308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799308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2840" y="3785400"/>
            <a:ext cx="799308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8920" y="180468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2840" y="378540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68920" y="378540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257364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5720" y="1804680"/>
            <a:ext cx="257364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8240" y="1804680"/>
            <a:ext cx="257364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2840" y="3785400"/>
            <a:ext cx="257364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5720" y="3785400"/>
            <a:ext cx="257364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8240" y="3785400"/>
            <a:ext cx="257364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7993080" cy="379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9F40-66E4-4D3C-9E47-DB570DA54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3900600" cy="379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8920" y="1804680"/>
            <a:ext cx="3900600" cy="379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AAA2-5876-49F6-81C7-7366FC656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C23B-C9C9-45A1-9EF2-406DA202A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8120" y="553680"/>
            <a:ext cx="756288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0A17-8762-4E2A-847F-2A5791413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8920" y="1804680"/>
            <a:ext cx="3900600" cy="379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2840" y="378540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55D4-4652-4680-A3A7-8F8DD0486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3900600" cy="379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8920" y="180468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8920" y="378540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8B9C-E44B-4560-AE8C-38B56FDEE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8920" y="1804680"/>
            <a:ext cx="390060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2840" y="3785400"/>
            <a:ext cx="7993080" cy="18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6EDF-2CA4-4993-AD0B-13F7DF596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2120" y="3049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2840" y="1804680"/>
            <a:ext cx="7993080" cy="37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70000"/>
              </a:buClr>
              <a:buSzPct val="8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cc"/>
              </a:buClr>
              <a:buSzPct val="11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ff9900"/>
              </a:buClr>
              <a:buSzPct val="69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500"/>
              </a:spcBef>
              <a:buClr>
                <a:srgbClr val="009900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4640" indent="-285840">
              <a:spcBef>
                <a:spcPts val="15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46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46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82600" y="0"/>
            <a:ext cx="95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Lucida Sans"/>
              </a:rPr>
              <a:t>HPCMO PR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70320" y="0"/>
            <a:ext cx="1076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Lucida Sans"/>
              </a:rPr>
              <a:t>Updated 02/27/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45120" y="6608880"/>
            <a:ext cx="1904760" cy="24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cc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6DA7-7BB5-47EB-80C0-E612C6817453}" type="slidenum">
              <a:rPr b="1" lang="en-US" sz="800" spc="-1" strike="noStrike">
                <a:solidFill>
                  <a:srgbClr val="0000cc"/>
                </a:solidFill>
                <a:latin typeface="Lucida San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80800" y="6573600"/>
            <a:ext cx="2895480" cy="28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cc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Lucida Sans"/>
              </a:rPr>
              <a:t>ARL MSRC P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90520" y="0"/>
            <a:ext cx="684396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9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9900"/>
              </a:buClr>
              <a:buSzPct val="110000"/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0440" y="2703600"/>
            <a:ext cx="8717040" cy="27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70000"/>
                </a:solidFill>
                <a:latin typeface="Times New Roman"/>
              </a:rPr>
              <a:t>ARL MSR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70000"/>
                </a:solidFill>
                <a:latin typeface="Times New Roman"/>
              </a:rPr>
              <a:t>P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70000"/>
                </a:solidFill>
                <a:latin typeface="Times New Roman"/>
              </a:rPr>
              <a:t>Andrew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98400" y="458640"/>
            <a:ext cx="7772400" cy="18576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96969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70000"/>
                </a:solidFill>
                <a:latin typeface="Times New Roman"/>
              </a:rPr>
              <a:t>Department of Defense</a:t>
            </a:r>
            <a:br>
              <a:rPr sz="4800"/>
            </a:b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High Performance Computing Modernization Program</a:t>
            </a:r>
            <a:endParaRPr b="1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8120" y="279000"/>
            <a:ext cx="756288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AUTOMOTIVE PERFORMANCE DATABASE PROJEC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419720" cy="492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70000"/>
              </a:buClr>
              <a:buSzPct val="8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. Wallace, M. Rukowicz, C. Turner, Aberdeen Test Cen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70000"/>
              </a:buClr>
              <a:buSzPct val="8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totype a secure database, with web front-end for archiving, retrieval and post-test analysis of vehicle performance dat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st the VISION Project - Digital Libra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70000"/>
              </a:buClr>
              <a:buSzPct val="8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act and DoD Relevan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vide a secure, on-line repository for all legacy and current test data, accessible globally via a web brows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vide a foundation for application of data mining operations for intelligent retrieval and analysis of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12880" y="60976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Action5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192560" cy="1717560"/>
          </a:xfrm>
          <a:prstGeom prst="rect">
            <a:avLst/>
          </a:prstGeom>
          <a:ln w="0">
            <a:noFill/>
          </a:ln>
        </p:spPr>
      </p:pic>
      <p:pic>
        <p:nvPicPr>
          <p:cNvPr id="95" name="vtanker1" descr=""/>
          <p:cNvPicPr/>
          <p:nvPr/>
        </p:nvPicPr>
        <p:blipFill>
          <a:blip r:embed="rId2"/>
          <a:stretch/>
        </p:blipFill>
        <p:spPr>
          <a:xfrm>
            <a:off x="4724280" y="3886200"/>
            <a:ext cx="41911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8120" y="553680"/>
            <a:ext cx="75628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Evaluation of Fracture Code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2840" y="1804680"/>
            <a:ext cx="3919320" cy="497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c70000"/>
              </a:buClr>
              <a:buSzPct val="8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. Bill Walters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Army Research Laborato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c70000"/>
              </a:buClr>
              <a:buSzPct val="8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state-of-the-art computational codes to simulate dynamic fracture and impact proble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c70000"/>
              </a:buClr>
              <a:buSzPct val="8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act and DoD Releva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more realistic material failure model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 the computational efficiency and accurac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rove the computational capability to simulate complicated 3D proble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03960" y="1447920"/>
            <a:ext cx="2895480" cy="22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3753000"/>
            <a:ext cx="2895480" cy="23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1" descr=""/>
          <p:cNvPicPr/>
          <p:nvPr/>
        </p:nvPicPr>
        <p:blipFill>
          <a:blip r:embed="rId1"/>
          <a:stretch/>
        </p:blipFill>
        <p:spPr>
          <a:xfrm>
            <a:off x="5427720" y="1511280"/>
            <a:ext cx="2871720" cy="2084400"/>
          </a:xfrm>
          <a:prstGeom prst="rect">
            <a:avLst/>
          </a:prstGeom>
          <a:ln w="0">
            <a:noFill/>
          </a:ln>
        </p:spPr>
      </p:pic>
      <p:pic>
        <p:nvPicPr>
          <p:cNvPr id="101" name="sideframe40" descr=""/>
          <p:cNvPicPr/>
          <p:nvPr/>
        </p:nvPicPr>
        <p:blipFill>
          <a:blip r:embed="rId2"/>
          <a:stretch/>
        </p:blipFill>
        <p:spPr>
          <a:xfrm>
            <a:off x="5403960" y="3870360"/>
            <a:ext cx="2895480" cy="2225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84320" y="6172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22:40:27Z</dcterms:created>
  <dc:creator>Virginia To</dc:creator>
  <dc:description/>
  <dc:language>en-US</dc:language>
  <cp:lastModifiedBy>E. J. Grabert</cp:lastModifiedBy>
  <cp:lastPrinted>2000-03-01T19:02:30Z</cp:lastPrinted>
  <dcterms:modified xsi:type="dcterms:W3CDTF">2000-04-06T17:57:08Z</dcterms:modified>
  <cp:revision>92</cp:revision>
  <dc:subject/>
  <dc:title>TANGO INTERACTIVE</dc:title>
</cp:coreProperties>
</file>