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11B3-5EAA-469D-AE6C-4B529887F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5342-44FE-4FA7-B18E-D475DCB94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6FD1-3B65-4DA2-BFBD-3AA8567D6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1155-2EF5-4C7C-AB5C-549145243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A348-8B26-452E-A4F3-36D525DFE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F587-A4B6-4E6E-8CF5-89DDAA70C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6559-D3C3-4529-BB44-4A7E78696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7E78-4447-43CA-A0CD-32435E48B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0D19-CB1C-4293-8C4A-AE347B9E6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533D-32B0-4174-B2DC-CF0F2CB24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8B20-A1A5-4544-B535-4ACC73B7C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2BAF-2D22-4B69-8E0A-3DAE94C94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BBFD-D852-401B-97EA-CF0F4E9B937C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of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Year 4 Proposal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and 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uilds on highly successful efforts during Years 2 and 3 (four courses delivered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Year 4 extend in several way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omote increased understanding &amp; use of distance education at JSU &amp; other institutions via summer worksho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velop new, more sophisticated course materials &amp; Tango support for them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liver new &amp; existing courseware as class and train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E989-9FDF-4003-A464-06DF62AB32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. Edu. -- New Coursewa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and WebWisdom currently handles relatively “low-end” media (HTML, PowerPoint).  Common in academics, especially for rapidly changing are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ny areas are better developed pedagogically, and could take advantage of more sophisticated (“flashy”) materials (ie embedded applets, Macromedia Director…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75F9-D8A7-444D-B541-B4ECD92DDD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. Edu. -- New Coursewa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velop higher-level course materials in basic parallel computing.  Based on existing NPAC courseware (during summer’99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rk with Mississippi State U to develop high-level materials in CFD (spring’00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6D62-0584-4547-9E6B-94EC0E2A1B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. Edu. -- Tango Enhancem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glossaries and interactive quizz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embedded Javabeans and Java apple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high-end authoring tools, such as Macromedia Director/Authorwa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lan to leverage support from other centers to broaden high-end suppo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F938-C1F3-4562-B7AB-928FD33603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. Edu. -- Class Delive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ummer’99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-- JSU workshop on distance ed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Fall’99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-- prototype parallel computing mat’l delivered to JSU &amp; others as academic class.  (Feedback used to improve material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pring’00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-- final version of parallel computing mat’l delivered as dist. training for CEWES MSRC users &amp; othe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pring’00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-- Syracuse CPS616 offered to JSU and others (repeat of Spring’99 “gift”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67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D-ROM w/ coursewa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FC71-6F28-4053-A4DA-4483DDBDC7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Core Support: Collaboration/Commun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Collaborative Computing Environments (Web Interface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36AF-6DA8-422E-B093-4AB1F1E95D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echnology tracking, trip reports, technology bulletins, etc. as appropria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gular reporting &amp; review briefing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aining: Tango “Open House” and Tutoria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ssessment of asynchronous collaboration tools and their possible roles within the CEWES MSRC and PET organiz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4F26-6169-4B79-8E57-5586EDE19D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Tango Enhancem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nhanced secur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eeting suppo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 number of small but important features to facilitate formal meetings &amp; briefing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cilitate off-site involvement in MY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ut-of-browser Tango (prototyped already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is tightly integrated with browser -- good and bad (each new release introduces new &amp; exciting bugs; releases </a:t>
            </a:r>
            <a:r>
              <a:rPr b="0" i="1" lang="en-US" sz="2800" spc="-1" strike="noStrike">
                <a:solidFill>
                  <a:srgbClr val="ff9933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frequent lately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ows easier support of other browse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95F2-9E66-4853-896D-E6C073B08E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ve Computing Environm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 collaborative framework like Tango can also be used to “share” HPC applications in addition to the familiar too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ed HPC applications can be useful in education, collaborative research, etc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llaboratization” is application-specific, but principles are genera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e plan to “collaboratize” two applications as demos &amp; document approach for others to follow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4A79-3797-48C7-ADC8-E578B45923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orces Modeling and Simulation/C4I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Core Support: Forces Modeling and Simulation/C4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HLA Integration for HPC Applications, Applied to CM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80A4-F440-4814-8893-F77106CD20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s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ast three years have seen unprecedented progress in web tech. &amp; their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eb technologies offer a unique way to learn, to work together, and to construct large-scale computer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sequently, web technologies can and should play a major role in improving access and ease of use in HPCC-related areas, just as in the world at larg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MS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echnology Convergence Roadmap” still on track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apid evolution in both DoD M&amp;S and web/commodity computing worlds -- tracking changes very importa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asic FMS training materials will be developed in a various formats (web-based training very important to FMS CHSSI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ports, reviews, scientific papers, etc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FA74-BA57-44CA-B10B-E14C295E61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mprehensive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e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ulator (Ft. Belvoir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idely-used FMS applic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urrently runs on uniprocessor SGI systems, up to 50,000 min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rget of 1,000,000 mines -- requires HP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MS work also supported by AR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-memory parallel on SGI up to 4 CP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rformance deteriorates beyond 8 CP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A497-EF26-45A8-AE76-380668C473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arallel CM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MS is strongly object-oriented (as is much modern FMS code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urrent OO structure at odds with better scalability.  Need to restructure inner loops and some data storage &amp; data distribu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llowing proposal will use shared-memory parallel CMS as elements in larger distributed simul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3C58-B315-4088-A547-D32C0A430A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LA Integration for HPC Applic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LA is DoD mandated way of connecting M&amp;S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t limited to “FMS” apps. Increasingly, high-fidelity physical simulations will be coupled with “FMS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uilds on CEWES and ARL supported work on “webHLA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va/Web/Object Request Broker (JWORB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TI implementation (component of HLA) on top of JWORB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30D9-771B-4395-86B8-8479B3D82F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LA Integration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s WebHLA to provide HLA-based metacomputing environment capable of coupling HPC applications on different computers into single simul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ith parallel CMS and previously developed visualization tools, will be able to demonstrate large-scale distributed minefield simul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ame tools/techniques for other HPC apps which need HLA integr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6894-0D2E-4899-9857-ADF74CE9A6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mergent Technologies for HPC Migration and Productiv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A Problem Solving Environment (PSE) for CWO Modeling Systems 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joint project with OSU and OSC,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presented by OSU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69AA-4D7E-49A1-9BED-93F811BF54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 commodity/standard software tools to develop a system to make easier..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igration of complex applications to HP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 of diverse and specialized HPC resour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uple applications together to meet demand for higher-fidelity model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cilitate separation of front-end user interface and computational back-e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ome of above possible with Java &amp; CGI but cumbersome and hard to generaliz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Java, CORBA &amp; WebFlow better approach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F4BF-6AFB-4926-8D30-1EB6A6E786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llow-on to Year 3 effo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nd Management System (EQM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bility Assessment (Logistics/FM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Year 4 expand to other CTAs and other types of HPC applications to broaden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ynergistic with new ASC “Gateway” project (NPAC, OSC, Nichols).  There NPAC focus is on “middleware”, here on supporting applications and CT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F78B-6DD3-4751-A6DE-EFA6B9A768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lement basic WebFlow infrastructure at CEWES, including security enhancements from ASC Gatewa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lan is to work with 2-3 CTA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sign and implement API to allow applications to interface with WebFlow servic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 appl. areas not supported at CEW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ed broad spectrum of apps early to insure “universal” suppor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6CBA-0AE0-4348-9752-AC32E268C2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e Support: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Directions in Dist. Education and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35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Forces Modeling and Simulation/C4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e Support: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LA Integration for HPC Applic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Collaboration and Communicatio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e Support: C/C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llaborative Computing Environmen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Emergent Technologies for HPC Migration and Productivit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Problem Solving Environment for CW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7044-9A88-4F53-A8E9-9F178E90B3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sion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 of commodity- and standards-based software facilitates maintenance, interoperability, and future developm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 has substantial experience in coupling web technologies with HPCC- and education-related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ur long-range vision is to make the use of advanced web technologies to facilitate all aspects of DoD computational science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sion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reas addressed in Year 4 proposals (nearly all based on web technology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llaboration and Communicatio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rces Modeling and Simulation/C4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ergent Technologies for HPC Migration and Productivit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remely high leverage for PET $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dvantages to the Warfighter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ment of productivity in access to HPCC resources and personnel (especially off-site user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ke advantage of computers and networks to collaborate more efficientl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d training capabiliti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omote new ways of approaching problem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omote commodity- and standards-based solu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800" y="6489720"/>
            <a:ext cx="194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ategic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Core Support: Train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New Directions in Distance Education and Train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154D-F9EE-41C1-A78A-67E727EFCE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cus on technological tools for training and education.  Training activities at CEWES still handled by John Eberle &amp; Wayne Mast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echnology tracking, trip reports, technology bulletins, etc. as appropria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gular reporting &amp; review briefing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volvement in program-wide Training Group meetings  &amp; activiti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0D93-8D17-4EE0-80DD-50B4421DEC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distance training activities (build on successful Yr 3 Focused Effort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istance Training Workshop to be organized this sp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T partners have committed to seven training classes to be delivered with Tango during Yr 4 (more welcome), plus JSU course delivery!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ist with development/conversion of course materials, delivery of c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ust keep Tango up to date with new releases of Java, browsers, operating systems, etc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DE49-A35D-40AF-8263-A0833D2400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an install LecCorder system at CEW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riginally developed for ASC, and related to an idea put forward by John Eber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tegrated hardware/software system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cord live trainings &amp; publish on web quickly and easily as “foils over audio/video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iewable with Java play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expensively produce asynchronous training resources from live training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AADF-5F48-4770-8067-595A934026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05:40Z</dcterms:created>
  <dc:creator>John T. Eberle</dc:creator>
  <dc:description/>
  <dc:language>en-US</dc:language>
  <cp:lastModifiedBy>David E Bernholdt</cp:lastModifiedBy>
  <cp:lastPrinted>1998-08-05T13:41:55Z</cp:lastPrinted>
  <dcterms:modified xsi:type="dcterms:W3CDTF">1999-01-29T21:39:04Z</dcterms:modified>
  <cp:revision>48</cp:revision>
  <dc:subject/>
  <dc:title>No Slide Title</dc:title>
</cp:coreProperties>
</file>