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E25-987A-4261-98E5-152340E0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3D7-8882-44F3-8832-D32320E3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794-7B6E-485E-A087-019B6206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FF7-B87B-476F-B57D-622222B9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91A-989E-4891-8D7E-D2863BF1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9DF-891B-4E89-B382-EBED1E03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EAA-2E14-4B38-A0CE-F9CF1C89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0EC-FC4B-4B64-8E5A-F7BB7FF3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54F-2DF9-414B-B45E-91882ABC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39A-B0A9-4F04-AD68-F040D15D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7CD-521F-4B8D-8CE5-7A78FBB7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020-C2CE-44A5-BEDA-793760BC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ebruary 18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CA87-7177-488A-87DF-6C9C24107F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/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x 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CSA/UIU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L PET Workshop - February 18,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/C Core Support - Collabo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743200"/>
            <a:ext cx="76201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Design ARL P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Intranet for 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collaboration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ARL PET Intra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design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Pilot ARL P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Intrane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590920"/>
            <a:ext cx="655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3352680"/>
            <a:ext cx="297180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3908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5334120"/>
            <a:ext cx="29196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63868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ug 3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46483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n 19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29196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D0A-5922-4BCB-ABFD-77ACE43C9E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8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/C Core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ve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r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needs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/C web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Suppo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ance for developing web-based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mo asynchronous web-based training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64C-A10D-4AF9-B221-88BAC57125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8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/C Core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verables (continu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Site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oss-MSRC Webmaster sense of commun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oss MSRC PET Web site design guid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site design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itory of reusable graphic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inar on web authoring tools to CTA l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anet Environment to support CTA and Admin collab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71C-65F7-4476-B30F-2F9CF965FF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8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/C Core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software technologies to support information dissemination and collaboration within the HPC research community. I/C works with the leads of the various Computational Technology Areas (CTA) to identify I/C needs and provide expertise, tools, and training in the required software technology area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97A-0EB6-4F7C-A14E-0E2E0CD5E9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8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/C Core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/Benefic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and CTA Lea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 PET/MSRC Webm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RC PET user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24C-5831-40EE-846D-2D09967C4E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8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/C Core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c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utreac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interaction with the user community to determine I/C user needs, provide technology training, dissemination of information on various I/C technologies of relevance to web, collaboration and training, and technology transfer of implemented I/C technolog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ning Supp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upport to trainers and recommendations for training technologies to meet the training requirements of the DoD HPC communit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b Site Supp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expertise and assistance in designing and developing PET web sites and facilitation of MSRC/PET web master communit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llabor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identification of software technologies to improve communication and collaboration between HPC researcher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94D-750B-4490-B3C5-A4E3DDD524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8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/C Core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offrey Fox assumed I/C academic l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racuse and NCSA focus areas ident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Assessment Comp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/C Web Pages Complete and Insta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uthoring Tool Investigation Comp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cross-MSRC Webmasters meeting at NC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ynchronous training tool investigation under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5E3-7A97-4212-9EB2-68BF483813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8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/C Core Support - Out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895480"/>
            <a:ext cx="7620120" cy="30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Conduct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Needs Assessmen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Disseminate I/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Information to us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User Nee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Assessment Repor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Initial I/C web pag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I/C discussion spa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I/C web page updat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2590920"/>
            <a:ext cx="655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96252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548640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26708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an 9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5791320"/>
            <a:ext cx="9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y 19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124080"/>
            <a:ext cx="144792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3581280"/>
            <a:ext cx="495288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3908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572000"/>
            <a:ext cx="29196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8769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an 19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502920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53341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an 30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48640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5791320"/>
            <a:ext cx="9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ug 19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1D9-135F-49C9-802C-6D144DEFB5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8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/C Core Support - Trai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895480"/>
            <a:ext cx="762012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Identify web-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asynch training tool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Support implemen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of web-based cours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Web-based trai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tool recommendation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Guidance for develop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of web-based cours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Demo web-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asynchronous cours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590920"/>
            <a:ext cx="655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396252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5486400"/>
            <a:ext cx="29196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426708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b 27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3124080"/>
            <a:ext cx="228600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581280"/>
            <a:ext cx="495288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3908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457200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48769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y 19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5791320"/>
            <a:ext cx="9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ug 3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270-02E7-4BD5-9588-A660D245C3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8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/C Core Support - Web Site Develop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743200"/>
            <a:ext cx="76201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Identify web p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authoring tool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Support enhan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of ARL web sit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Web page autho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tool recommendation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Seminar on web p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authoring tool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Repository of PET we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site graphic element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Cross MSRC web 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design guidan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590920"/>
            <a:ext cx="655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88620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548640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41911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an 30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124080"/>
            <a:ext cx="152424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581280"/>
            <a:ext cx="495288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83908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434340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6483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y 19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5791320"/>
            <a:ext cx="9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n 19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952880"/>
            <a:ext cx="292320" cy="29232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525780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r 9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4B0-E1D0-4D83-A116-E4F0175763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8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/C Core Support - Web Master Integ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743200"/>
            <a:ext cx="762012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Integrate ARL Web Ma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with NCSA I/C team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Build MSRC/P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Web Master Communit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ARL Web Master 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visits to NCS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Cross MSRC we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master meeting(s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Cross MSRC we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master discussion spa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590920"/>
            <a:ext cx="655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11480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44197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b 5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3276720"/>
            <a:ext cx="525780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3886200"/>
            <a:ext cx="335268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39080" y="2895480"/>
            <a:ext cx="0" cy="304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80060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51055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b 5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5486400"/>
            <a:ext cx="29196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57913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b 27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4114800"/>
            <a:ext cx="29196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44197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r 20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0120" y="4114800"/>
            <a:ext cx="29196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44197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 20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510552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n 19 ‘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4800600"/>
            <a:ext cx="291960" cy="291960"/>
          </a:xfrm>
          <a:prstGeom prst="triangle">
            <a:avLst>
              <a:gd name="adj" fmla="val 49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-PET Mid-Year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E29-4F36-4797-8106-E6AFC7A673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8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8:22:08Z</dcterms:created>
  <dc:creator/>
  <dc:description/>
  <dc:language>en-US</dc:language>
  <cp:lastModifiedBy>Sandra Kappes</cp:lastModifiedBy>
  <cp:lastPrinted>1998-02-09T22:39:09Z</cp:lastPrinted>
  <dcterms:modified xsi:type="dcterms:W3CDTF">1998-02-10T21:41:33Z</dcterms:modified>
  <cp:revision>31</cp:revision>
  <dc:subject/>
  <dc:title>No Slide Title</dc:title>
</cp:coreProperties>
</file>