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67513" cy="9334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D98E-5292-4D33-BB6C-4A952FEE5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CB9D-F946-4CB6-B8A9-E08E6818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35A3-DB88-4C1D-9483-B7248920F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8BDA-3180-4A53-BA25-3FFD14F45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4EEC-D608-45DA-9DF2-108540473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BCF5-B964-43D7-BAB7-9A760CF9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AC2A-3E29-4702-8614-E646F8EF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3109-D80B-4BFB-9F9C-513CED01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3A7B-0A39-44B2-9FB3-1B367DB6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9B61-FF94-4F24-9759-07540ADF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1B3F-B245-4B35-9191-C916E753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B0C3-A481-4305-820A-67BD97DE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C850-6A27-4B48-B13E-C46BE621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56C5-4E8D-4CAE-B944-1983B513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CD77-D7DC-4509-830D-E3D92A09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E4F8-AF00-4C34-A5A2-C6B8786B7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40F1-D477-4B66-A0C1-D0EE4FA05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EA4D-9BB0-4FAB-9851-1C0332D8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ED66-69ED-4EE7-B92C-FCCF70BF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9427-EBED-434B-B871-AD66CEF1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413F-D883-421F-A76A-F96917DC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19FA-03AB-4C2A-B1D9-A7D266BF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A8AD-1E6C-4B36-8C59-C87A0D50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D2D7-3378-4DDA-B361-6C9E9B78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24680" y="6630840"/>
            <a:ext cx="68580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990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629400" y="662904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F1D1-5DF9-49B5-8B12-AC47F27F0297}" type="slidenum"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497B-21CD-4C72-9F78-FCA7ACF3DC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1599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Opportunities for </a:t>
            </a:r>
            <a:br>
              <a:rPr sz="4000"/>
            </a:b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Synchronous and Asynchronous </a:t>
            </a:r>
            <a:br>
              <a:rPr sz="4000"/>
            </a:b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Distance Training</a:t>
            </a:r>
            <a:endParaRPr b="1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id E. Bernhold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east Parallel Architectures Ce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racuse Un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Distance Education for </a:t>
            </a:r>
            <a:br>
              <a:rPr sz="4000"/>
            </a:b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Curricula Enhancement</a:t>
            </a:r>
            <a:endParaRPr b="1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earch” Universities deliver courses over the network  to “teaching focused” Univers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 students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nd facul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ith access to leading-edge cour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Tango/WebWisdom for synchronous delivery of lectures from SU to JS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ilot for distanc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rain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f DoD user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njm-trs-teaching" descr=""/>
          <p:cNvPicPr/>
          <p:nvPr/>
        </p:nvPicPr>
        <p:blipFill>
          <a:blip r:embed="rId1"/>
          <a:srcRect l="0" t="20000" r="0" b="0"/>
          <a:stretch/>
        </p:blipFill>
        <p:spPr>
          <a:xfrm>
            <a:off x="6248520" y="1828800"/>
            <a:ext cx="2514600" cy="1508040"/>
          </a:xfrm>
          <a:prstGeom prst="rect">
            <a:avLst/>
          </a:prstGeom>
          <a:ln w="0">
            <a:noFill/>
          </a:ln>
        </p:spPr>
      </p:pic>
      <p:pic>
        <p:nvPicPr>
          <p:cNvPr id="136" name="jsu-students2" descr=""/>
          <p:cNvPicPr/>
          <p:nvPr/>
        </p:nvPicPr>
        <p:blipFill>
          <a:blip r:embed="rId2"/>
          <a:srcRect l="0" t="0" r="27827" b="0"/>
          <a:stretch/>
        </p:blipFill>
        <p:spPr>
          <a:xfrm>
            <a:off x="7238880" y="3505320"/>
            <a:ext cx="1905120" cy="1782720"/>
          </a:xfrm>
          <a:prstGeom prst="rect">
            <a:avLst/>
          </a:prstGeom>
          <a:ln w="0">
            <a:noFill/>
          </a:ln>
        </p:spPr>
      </p:pic>
      <p:pic>
        <p:nvPicPr>
          <p:cNvPr id="137" name="jsu-students3" descr=""/>
          <p:cNvPicPr/>
          <p:nvPr/>
        </p:nvPicPr>
        <p:blipFill>
          <a:blip r:embed="rId3"/>
          <a:srcRect l="0" t="14544" r="0" b="0"/>
          <a:stretch/>
        </p:blipFill>
        <p:spPr>
          <a:xfrm>
            <a:off x="5410080" y="4800600"/>
            <a:ext cx="2743200" cy="1600200"/>
          </a:xfrm>
          <a:prstGeom prst="rect">
            <a:avLst/>
          </a:prstGeom>
          <a:ln w="0">
            <a:noFill/>
          </a:ln>
        </p:spPr>
      </p:pic>
      <p:pic>
        <p:nvPicPr>
          <p:cNvPr id="138" name="jsu-students1" descr=""/>
          <p:cNvPicPr/>
          <p:nvPr/>
        </p:nvPicPr>
        <p:blipFill>
          <a:blip r:embed="rId4"/>
          <a:srcRect l="0" t="16941" r="0" b="0"/>
          <a:stretch/>
        </p:blipFill>
        <p:spPr>
          <a:xfrm>
            <a:off x="4419720" y="2362320"/>
            <a:ext cx="2097000" cy="267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9C9F-6D5C-4811-98F3-49859487DA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Architecture of JSU Distance Education</a:t>
            </a:r>
            <a:endParaRPr b="1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80880" y="1447920"/>
            <a:ext cx="8325000" cy="4943160"/>
            <a:chOff x="380880" y="1447920"/>
            <a:chExt cx="8325000" cy="4943160"/>
          </a:xfrm>
        </p:grpSpPr>
        <p:grpSp>
          <p:nvGrpSpPr>
            <p:cNvPr id="142" name=""/>
            <p:cNvGrpSpPr/>
            <p:nvPr/>
          </p:nvGrpSpPr>
          <p:grpSpPr>
            <a:xfrm>
              <a:off x="380880" y="1447920"/>
              <a:ext cx="8325000" cy="4387680"/>
              <a:chOff x="380880" y="1447920"/>
              <a:chExt cx="8325000" cy="4387680"/>
            </a:xfrm>
          </p:grpSpPr>
          <p:sp>
            <p:nvSpPr>
              <p:cNvPr id="143" name=""/>
              <p:cNvSpPr/>
              <p:nvPr/>
            </p:nvSpPr>
            <p:spPr>
              <a:xfrm>
                <a:off x="6546600" y="1835280"/>
                <a:ext cx="1363680" cy="824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NPAC Web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396800" y="1447920"/>
                <a:ext cx="1363680" cy="824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JSU Web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960200" y="3235680"/>
                <a:ext cx="1363680" cy="823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JSU Tango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46" name="B_OEQ127" descr=""/>
              <p:cNvPicPr/>
              <p:nvPr/>
            </p:nvPicPr>
            <p:blipFill>
              <a:blip r:embed="rId1"/>
              <a:stretch/>
            </p:blipFill>
            <p:spPr>
              <a:xfrm>
                <a:off x="6910200" y="4373640"/>
                <a:ext cx="858960" cy="984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B_OEQ127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5277240"/>
                <a:ext cx="485640" cy="55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B_OEQ127" descr=""/>
              <p:cNvPicPr/>
              <p:nvPr/>
            </p:nvPicPr>
            <p:blipFill>
              <a:blip r:embed="rId3"/>
              <a:stretch/>
            </p:blipFill>
            <p:spPr>
              <a:xfrm>
                <a:off x="1717560" y="5277240"/>
                <a:ext cx="485640" cy="55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B_OEQ127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5800" y="5277240"/>
                <a:ext cx="486000" cy="55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2287440" y="4918680"/>
                <a:ext cx="869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7c80"/>
                    </a:solidFill>
                    <a:latin typeface="Times New Roman"/>
                  </a:rPr>
                  <a:t>…</a:t>
                </a:r>
                <a:endParaRPr b="0" lang="en-US" sz="5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51" name="B_OEQ127" descr=""/>
              <p:cNvPicPr/>
              <p:nvPr/>
            </p:nvPicPr>
            <p:blipFill>
              <a:blip r:embed="rId5"/>
              <a:stretch/>
            </p:blipFill>
            <p:spPr>
              <a:xfrm>
                <a:off x="3079440" y="5277240"/>
                <a:ext cx="486000" cy="55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>
                <a:off x="7176960" y="2673720"/>
                <a:ext cx="0" cy="1660320"/>
              </a:xfrm>
              <a:prstGeom prst="line">
                <a:avLst/>
              </a:prstGeom>
              <a:ln w="3816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1959840" y="4097520"/>
                <a:ext cx="142920" cy="113184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839520" y="4096080"/>
                <a:ext cx="1262160" cy="113184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114280" y="4307400"/>
                <a:ext cx="3652560" cy="825480"/>
              </a:xfrm>
              <a:prstGeom prst="rect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Audio Video Conferencing</a:t>
                </a:r>
                <a:br>
                  <a:rPr sz="2400"/>
                </a:b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Chat Rooms etc.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365280" y="3957840"/>
                <a:ext cx="3591000" cy="76032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287520" y="3624480"/>
                <a:ext cx="3706920" cy="849240"/>
              </a:xfrm>
              <a:prstGeom prst="line">
                <a:avLst/>
              </a:prstGeom>
              <a:ln cap="rnd" w="38160">
                <a:solidFill>
                  <a:srgbClr val="ff7c80"/>
                </a:solidFill>
                <a:custDash>
                  <a:ds d="100000" sp="1000"/>
                </a:custDash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723600" y="3854160"/>
                <a:ext cx="1209600" cy="1325880"/>
              </a:xfrm>
              <a:prstGeom prst="line">
                <a:avLst/>
              </a:prstGeom>
              <a:ln cap="rnd" w="38160">
                <a:solidFill>
                  <a:srgbClr val="ff7c80"/>
                </a:solidFill>
                <a:custDash>
                  <a:ds d="100000" sp="1000"/>
                </a:custDash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634680" y="2284560"/>
                <a:ext cx="1121040" cy="2935440"/>
              </a:xfrm>
              <a:prstGeom prst="line">
                <a:avLst/>
              </a:prstGeom>
              <a:ln w="3816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549240" y="2902680"/>
                <a:ext cx="2145240" cy="703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7c80"/>
                    </a:solidFill>
                    <a:latin typeface="Times New Roman"/>
                  </a:rPr>
                  <a:t>Address at JSU of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7c80"/>
                    </a:solidFill>
                    <a:latin typeface="Times New Roman"/>
                  </a:rPr>
                  <a:t>Curriculum Pag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557760" y="3054960"/>
                <a:ext cx="2148120" cy="703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7c80"/>
                    </a:solidFill>
                    <a:latin typeface="Times New Roman"/>
                  </a:rPr>
                  <a:t>Teacher’s View of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7c80"/>
                    </a:solidFill>
                    <a:latin typeface="Times New Roman"/>
                  </a:rPr>
                  <a:t>Curriculum Pag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30080" y="2423160"/>
                <a:ext cx="2108520" cy="703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7c80"/>
                    </a:solidFill>
                    <a:latin typeface="Times New Roman"/>
                  </a:rPr>
                  <a:t>Student’s View of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7c80"/>
                    </a:solidFill>
                    <a:latin typeface="Times New Roman"/>
                  </a:rPr>
                  <a:t>Curriculum Pag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427680" y="5931360"/>
              <a:ext cx="272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articipants at JS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5291640" y="548208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acher/Lecturer at NPA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91BC-4217-401A-9A02-48A08B45FF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4914720"/>
            <a:ext cx="3886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Screenshots of Tango Teaching Tools</a:t>
            </a:r>
            <a:endParaRPr b="1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pic>
        <p:nvPicPr>
          <p:cNvPr id="166" name="tango-dump2" descr=""/>
          <p:cNvPicPr/>
          <p:nvPr/>
        </p:nvPicPr>
        <p:blipFill>
          <a:blip r:embed="rId1"/>
          <a:stretch/>
        </p:blipFill>
        <p:spPr>
          <a:xfrm>
            <a:off x="3886200" y="2362320"/>
            <a:ext cx="5029200" cy="4022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67" name="tango-dump1" descr=""/>
          <p:cNvPicPr/>
          <p:nvPr/>
        </p:nvPicPr>
        <p:blipFill>
          <a:blip r:embed="rId2"/>
          <a:stretch/>
        </p:blipFill>
        <p:spPr>
          <a:xfrm>
            <a:off x="1447920" y="457200"/>
            <a:ext cx="4876560" cy="3900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0" y="11430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bWisd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05720" y="914400"/>
            <a:ext cx="2209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hared Brow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udio 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ngo Control Ap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8381520" y="1523880"/>
            <a:ext cx="304920" cy="2057400"/>
          </a:xfrm>
          <a:prstGeom prst="line">
            <a:avLst/>
          </a:prstGeom>
          <a:ln w="284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6324480" y="1981080"/>
            <a:ext cx="1067040" cy="2895840"/>
          </a:xfrm>
          <a:prstGeom prst="line">
            <a:avLst/>
          </a:prstGeom>
          <a:ln w="284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172200" y="1143000"/>
            <a:ext cx="533520" cy="304920"/>
          </a:xfrm>
          <a:prstGeom prst="line">
            <a:avLst/>
          </a:prstGeom>
          <a:ln w="284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6095880" y="1676520"/>
            <a:ext cx="609840" cy="1752480"/>
          </a:xfrm>
          <a:prstGeom prst="line">
            <a:avLst/>
          </a:prstGeom>
          <a:ln w="284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1447920"/>
            <a:ext cx="1066680" cy="152280"/>
          </a:xfrm>
          <a:prstGeom prst="line">
            <a:avLst/>
          </a:prstGeom>
          <a:ln w="284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F6CB-14AD-46CB-96ED-657B6442D6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jsuspr98-homepage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573360" cy="48006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JSU CSC 499: </a:t>
            </a:r>
            <a:br>
              <a:rPr sz="4000"/>
            </a:b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Programming for the Web</a:t>
            </a:r>
            <a:endParaRPr b="1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view of Web Applications and Servi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Archite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M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GI Programm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av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avaScrip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ional Databa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acle 7, SQL, PL/SQL, OraPerl, JDB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5623-C291-4B12-B079-775B7C9896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Results and Plans</a:t>
            </a:r>
            <a:endParaRPr b="1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ught Jav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ainin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rom CEWES to JS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ught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ndergradua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SC499 Fall 97 and Spring 9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ll teach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radua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omputational science course Fall 98 to JSU &amp; possibly CA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JSU will teach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SC499 to others remote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twork requirements (b/w, jitter, los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ical support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ucational support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8E9A-5BDA-4565-8212-D655AFFDCE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Prototype Distance Training for DoD Users</a:t>
            </a:r>
            <a:endParaRPr b="1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EWES-supported Year 3 project, joint with Ohio Supercomputer Cen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tension of JSU distanc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duc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ffort into PET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ainin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ctivi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SC will provide coursewa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PAC will provide delivery tools (Tango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SRCs and major sites (i. e. NRL) will be recipients (DREN required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FF10-93A9-4456-9126-B3D1D10F25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Distance Training Issues</a:t>
            </a:r>
            <a:endParaRPr b="1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aptability of instructors &amp; courseware to new delivery mechanisms &amp; forma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ility of delivery tools from student viewpoint (robustness &amp; simplicity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bility of network (DREN) to support such activities on a regular bas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udent preferences compared to local instruction, travel, and asynchronous presen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42E4-DA4A-4C88-A1D3-A7F5ED237E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Multimedia Databases </a:t>
            </a:r>
            <a:br>
              <a:rPr sz="4000"/>
            </a:b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for Training</a:t>
            </a:r>
            <a:endParaRPr b="1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Design, implementation, and deployment of automated system for capture, storage, indexing and retrieval of clas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 component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pture station with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ormat conversio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capabil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tomate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ublishing system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or quick Web deploy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tomatic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ndexing system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or two-way video/foils synchroniz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archable audio/video and presentatio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posi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et of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layback tool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or streaming delivery of foils over vide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5B75-8903-49EB-AF30-A2418599A0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Basic Technical Approach</a:t>
            </a:r>
            <a:endParaRPr b="1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t the “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ugge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” (educational objects) into a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ataba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- either directly or as URL pointers to HTML or Images on a file syst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cord audio/vide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either by shooting lectures or from audio-video conferencing), time stamp, digitize into high (MPEG 1,2) and low resolution (H263)ver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it if requi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ore pointers to file system store in datab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ectur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re now “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lay-lis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” of multiple linked objects arranged in ord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k “curricula nuggets” (&gt;1 at a time in general) and multiple digitized A/V strea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pply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ols to view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ateri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4EEC-3928-4EF8-9BF4-A6EC6B4E9E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atabase Backend for Synchronous or Asynchronous Learning</a:t>
            </a:r>
            <a:endParaRPr b="1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68200" y="762120"/>
            <a:ext cx="8875440" cy="5933880"/>
            <a:chOff x="268200" y="762120"/>
            <a:chExt cx="8875440" cy="5933880"/>
          </a:xfrm>
        </p:grpSpPr>
        <p:sp>
          <p:nvSpPr>
            <p:cNvPr id="191" name=""/>
            <p:cNvSpPr/>
            <p:nvPr/>
          </p:nvSpPr>
          <p:spPr>
            <a:xfrm>
              <a:off x="2076480" y="3540240"/>
              <a:ext cx="1363680" cy="82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JSU Tango</a:t>
              </a:r>
              <a:br>
                <a:rPr sz="2000"/>
              </a:b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2" name="B_OEQ127" descr=""/>
            <p:cNvPicPr/>
            <p:nvPr/>
          </p:nvPicPr>
          <p:blipFill>
            <a:blip r:embed="rId1"/>
            <a:stretch/>
          </p:blipFill>
          <p:spPr>
            <a:xfrm>
              <a:off x="7026480" y="4678560"/>
              <a:ext cx="858600" cy="98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B_OEQ127" descr=""/>
            <p:cNvPicPr/>
            <p:nvPr/>
          </p:nvPicPr>
          <p:blipFill>
            <a:blip r:embed="rId2"/>
            <a:stretch/>
          </p:blipFill>
          <p:spPr>
            <a:xfrm>
              <a:off x="496800" y="5581800"/>
              <a:ext cx="486000" cy="5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B_OEQ127" descr=""/>
            <p:cNvPicPr/>
            <p:nvPr/>
          </p:nvPicPr>
          <p:blipFill>
            <a:blip r:embed="rId3"/>
            <a:stretch/>
          </p:blipFill>
          <p:spPr>
            <a:xfrm>
              <a:off x="1833480" y="5581800"/>
              <a:ext cx="486000" cy="5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B_OEQ127" descr=""/>
            <p:cNvPicPr/>
            <p:nvPr/>
          </p:nvPicPr>
          <p:blipFill>
            <a:blip r:embed="rId4"/>
            <a:stretch/>
          </p:blipFill>
          <p:spPr>
            <a:xfrm>
              <a:off x="1162080" y="5581800"/>
              <a:ext cx="48564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403360" y="5223600"/>
              <a:ext cx="870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7c80"/>
                  </a:solidFill>
                  <a:latin typeface="Times New Roman"/>
                </a:rPr>
                <a:t>…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7" name="B_OEQ127" descr=""/>
            <p:cNvPicPr/>
            <p:nvPr/>
          </p:nvPicPr>
          <p:blipFill>
            <a:blip r:embed="rId5"/>
            <a:stretch/>
          </p:blipFill>
          <p:spPr>
            <a:xfrm>
              <a:off x="3195720" y="5581800"/>
              <a:ext cx="48564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7292880" y="2978280"/>
              <a:ext cx="0" cy="16606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2076120" y="4402080"/>
              <a:ext cx="142920" cy="1132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955440" y="4400640"/>
              <a:ext cx="1261800" cy="11318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30560" y="4611960"/>
              <a:ext cx="3652560" cy="825480"/>
            </a:xfrm>
            <a:prstGeom prst="rect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Times New Roman"/>
                </a:rPr>
                <a:t>Audio Video Conferencing</a:t>
              </a:r>
              <a:br>
                <a:rPr sz="2400"/>
              </a:br>
              <a:r>
                <a:rPr b="1" lang="en-US" sz="2400" spc="-1" strike="noStrike">
                  <a:solidFill>
                    <a:srgbClr val="660033"/>
                  </a:solidFill>
                  <a:latin typeface="Times New Roman"/>
                </a:rPr>
                <a:t>Chat Rooms etc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81560" y="4262400"/>
              <a:ext cx="3590640" cy="7606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403800" y="3929040"/>
              <a:ext cx="3706560" cy="849600"/>
            </a:xfrm>
            <a:prstGeom prst="line">
              <a:avLst/>
            </a:prstGeom>
            <a:ln cap="rnd" w="57240">
              <a:solidFill>
                <a:srgbClr val="ffff0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839880" y="4159440"/>
              <a:ext cx="1209600" cy="1325520"/>
            </a:xfrm>
            <a:prstGeom prst="line">
              <a:avLst/>
            </a:prstGeom>
            <a:ln cap="rnd" w="57240">
              <a:solidFill>
                <a:srgbClr val="ffff0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725400" y="2590920"/>
              <a:ext cx="511200" cy="28954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98560" y="3207240"/>
              <a:ext cx="2279160" cy="703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Database Entry for</a:t>
              </a:r>
              <a:br>
                <a:rPr sz="2000"/>
              </a:b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Curriculum Pag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674040" y="3359880"/>
              <a:ext cx="2148120" cy="703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Teacher’s View of</a:t>
              </a:r>
              <a:br>
                <a:rPr sz="2000"/>
              </a:b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Curriculum Pag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6000" y="2728080"/>
              <a:ext cx="2108520" cy="703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Student’s View of</a:t>
              </a:r>
              <a:br>
                <a:rPr sz="2000"/>
              </a:b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Curriculum Pag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3600" y="6236280"/>
              <a:ext cx="272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articipants at JS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07560" y="5787000"/>
              <a:ext cx="373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eacher/Lecturer at NPA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2863800" y="762120"/>
              <a:ext cx="2892240" cy="2209320"/>
              <a:chOff x="2863800" y="762120"/>
              <a:chExt cx="2892240" cy="2209320"/>
            </a:xfrm>
          </p:grpSpPr>
          <p:sp>
            <p:nvSpPr>
              <p:cNvPr id="212" name=""/>
              <p:cNvSpPr/>
              <p:nvPr/>
            </p:nvSpPr>
            <p:spPr>
              <a:xfrm>
                <a:off x="2863800" y="2067480"/>
                <a:ext cx="2892240" cy="903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756040" y="1163520"/>
                <a:ext cx="0" cy="1406520"/>
              </a:xfrm>
              <a:prstGeom prst="line">
                <a:avLst/>
              </a:prstGeom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618360" y="1666080"/>
                <a:ext cx="0" cy="401400"/>
              </a:xfrm>
              <a:prstGeom prst="line">
                <a:avLst/>
              </a:prstGeom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498200" y="1666080"/>
                <a:ext cx="0" cy="401400"/>
              </a:xfrm>
              <a:prstGeom prst="line">
                <a:avLst/>
              </a:prstGeom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120920" y="1666080"/>
                <a:ext cx="377280" cy="12052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498200" y="1565280"/>
                <a:ext cx="377280" cy="1305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618360" y="1666080"/>
                <a:ext cx="502560" cy="11044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863800" y="1263960"/>
                <a:ext cx="502560" cy="1305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366360" y="1464840"/>
                <a:ext cx="502920" cy="1305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5480" y="1464840"/>
                <a:ext cx="377280" cy="1305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252760" y="1364760"/>
                <a:ext cx="377280" cy="1305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378760" y="1263960"/>
                <a:ext cx="377280" cy="1305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863800" y="762120"/>
                <a:ext cx="2892240" cy="903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863800" y="1163520"/>
                <a:ext cx="0" cy="1406520"/>
              </a:xfrm>
              <a:prstGeom prst="line">
                <a:avLst/>
              </a:prstGeom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2933640" y="1599120"/>
              <a:ext cx="27043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lassic Distributed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plicated Curriculu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and Administrative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64440" y="1295640"/>
              <a:ext cx="1992240" cy="1660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NPAC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erver side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Java(JDBC) or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LiveWi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754600" y="1600200"/>
              <a:ext cx="779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73320" y="1295640"/>
              <a:ext cx="743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8200" y="838440"/>
              <a:ext cx="1992600" cy="1660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JSU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erver side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Java(JDBC) or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LiveWi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AC25-DAD2-412F-94BE-E59D3C5405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Basic Terminology 1</a:t>
            </a:r>
            <a:endParaRPr b="1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35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tance training and educ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re particular forms of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mote collabor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35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tance educ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refers to long-term (semester) relationship, academic in sty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35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tance trainin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s a limited-term, focused activ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35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ments may be slightly differ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872A-0BB8-4BFB-AE7F-9A6449A045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What is needed for publishing?</a:t>
            </a:r>
            <a:endParaRPr b="1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Elements needed to publish the cours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.263 video  and ADPCM audio fi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se files do not need to be chopped!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werPoint presentation converted via Internet Assist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ex file (time stamp/foil # pair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rrently must be created manual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ll be created automatically by lecture record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tool for semi-automatic creation for legacy material is option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9AFB-EC74-4BB0-AD48-42FF73C824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Requirements for lecturers</a:t>
            </a:r>
            <a:endParaRPr b="1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 i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lectronic for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urned in few hours (a day?)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efore the cla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itical for automatic recording, as automatic indexing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ill not work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without electronic present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SRC staff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will convert the presentation to one of the supported forma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cturer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US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use one of the tools provided with the package to deliver their present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ggest a PC in the delivery room with pre-installed S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cturer laptops can be accommodated as presentation/ recording tools downloada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23C7-E021-42A2-8B92-A7139680AC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Formats we will support</a:t>
            </a:r>
            <a:endParaRPr b="1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will or do support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ersuasion, PowerPoint, series of Image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(As exported by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ramemak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, lists of URL’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will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OT support format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that can not be described in terms of information nugge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.g. “Spaghetti” HTML files with or without anchor addresses,  where 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cturers use scrollbar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o navig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9A39-5BD2-4660-A533-4BF8134D6D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Video and audio formats</a:t>
            </a:r>
            <a:endParaRPr b="1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PEG1 f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REN and intranet distribu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dwidth: 1.5 Mb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ality: 30fps, CD quality audio, SIF (320x240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ceptual quality equivalent to VH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ual performance CPU-depend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 player: ActiveMovie, PC on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eds video server support (no http streaming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the works: Java Media Framework play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tform-independent, internally uses platform-specific C implement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CE67-6DD2-4808-91B9-01F6E887A4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Video and audio formats</a:t>
            </a:r>
            <a:endParaRPr b="1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.263 for low-bitrate (Internet) vide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at/encoder enhanced to accommodate random access and error tolerance by adding I-fram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dwidth: variable, but starts at 9 Kb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ality: 3-10 fps, QCIF-CIF (9 Kbps=10 fps, QCIF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 player: both ActiveMovie and Java appl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udio: ADPCM, GSM, MPEG-4 CEL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PCM: done, 32 Kbp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SM: codec done, integration in progress (13 Kbp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PEG-4: ongoing, slated for early July (4 - 6 Kbp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4271-A950-40B4-8E00-70DE3987735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Summary of NPAC Capabilities</a:t>
            </a:r>
            <a:endParaRPr b="1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miliar with synchronous and asynchronous collaboration too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er of Tango Interact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sion &amp; implementation for back-end courseware repository (multimedia database) for synch and asynch u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ience with network-based remote delivery of clas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rge repository of computational science and “Internetics” coursewa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EB3E-B532-4DFA-B7EE-DEC27874F68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Additional Information...</a:t>
            </a:r>
            <a:endParaRPr b="1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ango Interactiv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ollaboratory to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://tango.npac.syr.ed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://www.npac.syr.edu/users/gcf/alliance98/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JSU Distance Educ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rojec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://www.npac.syr.edu/users/trscavo/jsufall97/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ultimediate Databas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ss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://www.npac.syr.edu/users/gcf/daytonmay98/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PAC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ducational activi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://www.npac.syr.edu/Education/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8BDC-5016-4366-AC13-AC4E487529D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Basic Terminology 2</a:t>
            </a:r>
            <a:endParaRPr b="1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synchrono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ollaboration is a flow of information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withou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he opportunity for direct intera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-mail (incl. Mailing lists), threaded discussion spaces, static web content, voicemail, et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nchrono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ollaboration allows for direct, “real-time” intera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-bone, “chat” tools, whiteboard, phone, traditional classroom lecture, teleconferenc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th appear to have a role in education &amp; train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11B2-BA8D-4BE8-967D-09B6E4B54B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Network-Based Distance Education/Training</a:t>
            </a:r>
            <a:endParaRPr b="1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ynchrono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TC-style Virtual Workshop (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$$$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produc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ils on we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ils with audio and/or video (canned lectur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nchrono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ils, audio/video, chat, whiteboard (live lectur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ynch and synch can share courseware if formats &amp; tools are compati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FEF7-90F6-4EEA-AD5C-87B8197423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Synchronous vs Asynchronous</a:t>
            </a:r>
            <a:endParaRPr b="1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synchrono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“any time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anned lectures can be produces inexpensive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requires highly motivated stud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requires high-quality courseware &amp; present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ynchrono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pportunity to interact with instru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restricted to a schedu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amiliar setting for most instructors &amp; students (“pulls along” less motivated student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ore expensive (instructor tim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BBA2-A11D-48AF-80F3-B4DBA8A51C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Network-Based Collab.  Tools</a:t>
            </a:r>
            <a:endParaRPr b="1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ynchrono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y WWW server &amp; browser (Java-capabl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aming audio/video (i. e.RealPlay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nchrono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ared display: NetMeeting (Microsoft), ProShare (Intel), Timbuktu (Farallon), Shared X (HP), ShowMe (Su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ent Broadcasting: Habenero (NCSA), Java Collab Toolset (Old Dominion), ProMondia (Nuernberg), DISCIPLE (Rutgers), Tango (Syracus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/V Conferencing: M-Bone, CU-SeeMe, BuenaVis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FB20-868A-447C-A005-5256EC2207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WebWisdom Architecture</a:t>
            </a:r>
            <a:endParaRPr b="1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-360" y="1676520"/>
            <a:ext cx="9144360" cy="4759200"/>
            <a:chOff x="-360" y="1676520"/>
            <a:chExt cx="9144360" cy="4759200"/>
          </a:xfrm>
        </p:grpSpPr>
        <p:sp>
          <p:nvSpPr>
            <p:cNvPr id="105" name=""/>
            <p:cNvSpPr/>
            <p:nvPr/>
          </p:nvSpPr>
          <p:spPr>
            <a:xfrm>
              <a:off x="0" y="1676520"/>
              <a:ext cx="9144000" cy="475920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52480" y="2438280"/>
              <a:ext cx="5775480" cy="318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097080" y="3246480"/>
              <a:ext cx="2992680" cy="1618560"/>
            </a:xfrm>
            <a:prstGeom prst="ellipse">
              <a:avLst/>
            </a:prstGeom>
            <a:solidFill>
              <a:srgbClr val="80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28400" y="3335040"/>
              <a:ext cx="28872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ore System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ecur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Weblinked Databa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4606920" y="2455560"/>
              <a:ext cx="0" cy="7758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4606920" y="4878000"/>
              <a:ext cx="0" cy="7758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95880" y="4038480"/>
              <a:ext cx="1406520" cy="17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1687680" y="4038480"/>
              <a:ext cx="1436400" cy="17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20100000">
              <a:off x="1751400" y="2925720"/>
              <a:ext cx="2968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Collaboration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20100000">
              <a:off x="4551480" y="4498560"/>
              <a:ext cx="3220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Communica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560000">
              <a:off x="4637520" y="3041640"/>
              <a:ext cx="2771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Multimedia Serv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320000">
              <a:off x="1768680" y="4571640"/>
              <a:ext cx="2710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Basic Web Servi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2286000" y="1980720"/>
              <a:ext cx="581040" cy="7743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5916240" y="5487480"/>
              <a:ext cx="506520" cy="7110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6781680" y="2209320"/>
              <a:ext cx="677880" cy="7743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438280" y="5333760"/>
              <a:ext cx="457200" cy="8301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01080" y="1857240"/>
              <a:ext cx="4092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Courseware -- 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4260000">
              <a:off x="6928200" y="3125880"/>
              <a:ext cx="2295720" cy="10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ynchronous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and Asynchronou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Delivery Syste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99880" y="5592600"/>
              <a:ext cx="3143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Multimedia Author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nd Editing Too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9440000">
              <a:off x="228600" y="2818800"/>
              <a:ext cx="2518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Administra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2820000">
              <a:off x="282960" y="4897080"/>
              <a:ext cx="2464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ssessment Too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-360" y="4038480"/>
              <a:ext cx="1700280" cy="17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7440120" y="4496760"/>
              <a:ext cx="941400" cy="836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9620000">
              <a:off x="6114240" y="5133600"/>
              <a:ext cx="192096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onvert Lega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ystem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2937-395A-4CA2-A952-A2BF30721E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NPAC Activities in Education, Training, and Collaboration 1</a:t>
            </a:r>
            <a:endParaRPr b="1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aboration &amp; Communications Lead (ARL, CEWE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ining Lead (CEWE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PCC Educational CD-ROM (CEWE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tance Education for Curricula Enhancement (CEWE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totype Distance Training for DoD Users (CEWE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ining at a Distance (ARL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media Databases for Training (ASC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B2A0-CE77-4BF0-9015-8E664B8C62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NPAC Activities in Education, Training, and Collaboration 2</a:t>
            </a:r>
            <a:endParaRPr b="1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ment of Tango Interactive collaboration tool (variou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utational Science courses and certificate programs (SU, others possibl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-12 computational science education (Java Academy, etc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’l Collaborative Web Univers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E0AA-05E7-4FF2-B0EB-54632A76E5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4T01:11:54Z</dcterms:created>
  <dc:creator>Marek Podgorny</dc:creator>
  <dc:description/>
  <dc:language>en-US</dc:language>
  <cp:lastModifiedBy>David E Bernholdt</cp:lastModifiedBy>
  <cp:lastPrinted>1998-05-12T18:50:40Z</cp:lastPrinted>
  <dcterms:modified xsi:type="dcterms:W3CDTF">1998-05-12T20:16:38Z</dcterms:modified>
  <cp:revision>93</cp:revision>
  <dc:subject/>
  <dc:title>TANGO for Distance Lear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npac.syr.edu</vt:lpwstr>
  </property>
  <property fmtid="{D5CDD505-2E9C-101B-9397-08002B2CF9AE}" pid="9" name="LinkColor">
    <vt:r8>16711782</vt:r8>
  </property>
  <property fmtid="{D5CDD505-2E9C-101B-9397-08002B2CF9AE}" pid="10" name="MailAddress">
    <vt:lpwstr>gcf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temp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