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5810-89B0-4DEF-A5B0-D1DD5411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29256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E5E-9A7F-4F1C-8D83-4DFC93BE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2925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2925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A65A-D744-4766-BFCA-5BA157F3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14300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29256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29256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29256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C6A7-BD95-43CB-9FF5-E49C54E2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D869-740F-409B-B5F4-CE228BE4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1DE-DB00-4A62-9C8D-9A5E2042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C91-CC0B-4EE5-82B3-EEB55874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DBF-988A-4C1D-9135-63B61B34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C392-AD9F-424E-BD32-76DBA45C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2925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871-867A-4DBC-ADB9-844AC5B7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2925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334-4757-418C-8E07-8A77B5D2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29256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FB6A-8B32-456F-ADC5-BEA87554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129E-BAA5-4C90-AB01-A1842F0A51D6}" type="datetime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01AC-C219-424D-A766-753420F6EF32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nsition Issu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PAC … FSU/CSIT + …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offrey Fo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95 Dirac Science Libra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ational Science and Information Technolog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orida State Univers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Millenium   gcf@cs.fs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F84-6A8D-4A32-9602-8A961EDBC86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0042B-7A2E-42F7-9A24-925B7C6D65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sibilitie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ategic Relationship between DoD and CSIT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SIT visits Dayt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disciplinary  Application Initia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ulation Based Acquisi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PINT with a clearer focu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ority Initiativ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Millenium   gcf@cs.fs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BAD-EC59-4AC0-90C1-241560B8B5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CB2D3-C82F-473B-A49D-29FD03778A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bWisdom.c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are three interesting (for DoD) pieces of technology which Syracuse intends to license to WebWisdom.co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ngo Collaborative sys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DoD could contract with them to continue system support but ASC has not funded this so far (EDRC and ARL did so)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S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ill work in this area bu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 on Tang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hich is more or less finish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cCord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lecture recorder): this was developed entirely by ASC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SU will not continue this wor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specialized and more or less comple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werPoint and Lecture Datab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this was largely developed internally at NPAC and wil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inue to be developed at FS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Millenium   gcf@cs.fs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3BDB-8789-4A20-815B-81CB9DE2DB9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20D00-F5D7-4C13-A7A7-BE1FDFF722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p to May 00, work will proceed at NPAC with some increasing difficulties as support staff will leave and computing resources will get less effec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Students have appointments till Mid May 00 as this is spring semester at Syracu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arly all PhD Students expect to be at FSU for summ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x will move on approximately April 1 but I will commute back and forth before and after this da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 staff could move at different times depending on availability (transfer) of fund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Millenium   gcf@cs.fs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D112-D273-4E46-8BEB-F0A3675D35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BFE9D-AE62-493C-BD56-C8FADE5705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will be wher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not certain yet -- all NPAC staff were given opportunity to move but this is not so convenient for many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will scatter to the winds 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ngo grou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 led by Marek Podgorny will stay at Syracuse and expect to find Venture Capital to exploit this technology commercially (WebWisdom.com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atew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ctivity will continue at FS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m Haupt may come to FSU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rlon Pier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ill continue current role but as FSU employe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vid Bernhold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hould be available for DoD program up to fall 00 and could move to FS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 will probably stay at Syracuse over Summer and perhaps la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Millenium   gcf@cs.fs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5FF5-168D-4D19-B8C3-DCC86AEEF5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2CF6B-E75D-47EA-BAD6-A07BB58880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ining Management Syst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continue this work at FSU but best to do as much as possible in next 3 month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need more input from ASC as to requirements and structure of syste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Millenium   gcf@cs.fs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906-D02A-4383-931A-9D0318DC7A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D3350-0D72-4647-887A-5021F58386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will be inevitable disruption in May but this is major deliverab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 will continue after May at FS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laborative portals including collaborative visualization should be framework to continue this wor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ateway is “correct” architec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computing and training portal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ing on and extending this is recommended strate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oid Browser uncertainties -- use Servers where possi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Millenium   gcf@cs.fs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8956-2274-49A5-A7CF-0B6857DDFC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9455C-9D81-4781-8EAC-26F7C82339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SU Wor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 to meld togeth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 can do tod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Sponsors wa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new strengths FSU brings to table as future extension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Millenium   gcf@cs.fs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494D-BF64-4175-AD20-F62C6982B3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ED28E-E8C1-4D3F-9A56-57EB782611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SU 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llaborative Syste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- learn from Tango and build new system with broader capabilities so as to b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werfu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- link asynchronous, synchronous, collaboration aware and unaware modes -- will allow “late-comers” to automatically catch 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ew client like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g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 collaborative events are queued and can be delivered instantaneously (as now in Tango) or when you come on 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obu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- avoid current Network/Browser probl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grated with concept of portal so can naturally design and build systems lik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atew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llaborative Port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today’s Tango for deploy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Millenium   gcf@cs.fs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8800-1549-4DE1-9CA4-058E239314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85B4A-9DCB-4DE4-B4E2-0B1BF301DE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SU II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atew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xten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ing with Sun and NCSA Alliance 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ience Portal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tance Learn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s and Curricul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 current Syracuse work with Major collaboration with FSU ODDL (Office of Distributed and Distance Learnin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Blackboard System and other too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e and extend HBCU activities (FAMU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fe Long Learn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olve “Internetics” Courses (as developed at Syracuse) as part of CSIT curricul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 on Gateway …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linke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taba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formation Port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C Training Management Syst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Intran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 on Gateway …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Millenium   gcf@cs.fs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A4C-38D0-44FA-BF23-FE3FBD67066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03EE6-6846-41C9-A4F9-BB13DCEEE0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CSIT Bring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al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eraflo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related Simulation and Information Infrastruc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disciplinary Research Environm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vel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ducation Curricul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ODD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pplic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puter Scie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Experti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mate, Ocean, CFD, Electromagnetics, Reactive Flow 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ualization, PSE, Compilers, Security, Queuing Systems, Cluster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stantial Algorithm (Math) expertise with practical applic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ority Outreach: James Turner (CSIT Outreach) and FAM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Millenium   gcf@cs.fs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295-3360-4644-A78B-74B86093BA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5B065-C1E1-48B3-BD2D-5CC1A96075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3:03:54Z</dcterms:created>
  <dc:creator>npac</dc:creator>
  <dc:description/>
  <dc:language>en-US</dc:language>
  <cp:lastModifiedBy>npac</cp:lastModifiedBy>
  <dcterms:modified xsi:type="dcterms:W3CDTF">2000-01-31T12:50:54Z</dcterms:modified>
  <cp:revision>13</cp:revision>
  <dc:subject/>
  <dc:title>Transition Issues NPAC … FSU/CSIT + …..</dc:title>
</cp:coreProperties>
</file>