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874250" cy="7499350"/>
  <p:notesSz cx="9194800" cy="7034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55A-5385-4018-ABAC-BB78264D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720" y="1157400"/>
            <a:ext cx="983916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720" y="4120920"/>
            <a:ext cx="983916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78E-70D6-4282-B66A-08052E04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720" y="1157400"/>
            <a:ext cx="48013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0520" y="1157400"/>
            <a:ext cx="48013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8720" y="4120920"/>
            <a:ext cx="48013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0520" y="4120920"/>
            <a:ext cx="48013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542-F002-4294-B1FB-541CA637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720" y="11574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45480" y="11574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72240" y="11574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8720" y="412092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45480" y="412092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72240" y="412092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862-B126-4627-9C73-3C6C291F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8720" y="1157400"/>
            <a:ext cx="9839160" cy="56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CA3-CBEE-4153-82EA-7CD1521E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720" y="1157400"/>
            <a:ext cx="9839160" cy="5673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995-A815-4AF6-A1B3-4901933F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720" y="1157400"/>
            <a:ext cx="4801320" cy="5673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0520" y="1157400"/>
            <a:ext cx="4801320" cy="5673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AFE-3456-4667-9B6F-9F2FE70E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0E2-B760-4361-B119-416EDDC7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640" y="9000"/>
            <a:ext cx="982800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F7E-CA0F-4904-9094-FE0F9156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720" y="1157400"/>
            <a:ext cx="48013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0520" y="1157400"/>
            <a:ext cx="4801320" cy="5673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8720" y="4120920"/>
            <a:ext cx="48013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2DB-F4B2-4D64-B8AA-6114B78A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720" y="1157400"/>
            <a:ext cx="4801320" cy="5673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0520" y="1157400"/>
            <a:ext cx="48013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0520" y="4120920"/>
            <a:ext cx="48013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334-E031-4B86-AA50-D62E6F1D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720" y="1157400"/>
            <a:ext cx="48013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0520" y="1157400"/>
            <a:ext cx="48013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720" y="4120920"/>
            <a:ext cx="983916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2FA-4FBF-4D85-91A1-99C6F004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5920" y="68724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12800" y="68724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70400" y="68724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A87A-32F1-4019-B9F6-F391C5D9B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3240"/>
            <a:ext cx="9859680" cy="1067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8720" y="1157400"/>
            <a:ext cx="9839160" cy="5673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lvl="1" marL="801720" indent="-308160">
              <a:spcBef>
                <a:spcPts val="7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lvl="2" marL="1235160" indent="-247680">
              <a:spcBef>
                <a:spcPts val="7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84440" y="7042320"/>
            <a:ext cx="7429320" cy="468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227720" y="7289640"/>
            <a:ext cx="23320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279f"/>
                </a:solidFill>
                <a:latin typeface="Arial"/>
              </a:rPr>
              <a:t>National Computational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14480" y="6873840"/>
            <a:ext cx="1450800" cy="417600"/>
          </a:xfrm>
          <a:prstGeom prst="rect">
            <a:avLst/>
          </a:prstGeom>
          <a:ln w="0">
            <a:noFill/>
          </a:ln>
        </p:spPr>
      </p:pic>
      <p:pic>
        <p:nvPicPr>
          <p:cNvPr id="9" name="Alliance" descr=""/>
          <p:cNvPicPr/>
          <p:nvPr/>
        </p:nvPicPr>
        <p:blipFill>
          <a:blip r:embed="rId3"/>
          <a:stretch/>
        </p:blipFill>
        <p:spPr>
          <a:xfrm>
            <a:off x="9259920" y="6593040"/>
            <a:ext cx="558720" cy="876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7261200"/>
            <a:ext cx="30686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279f"/>
                </a:solidFill>
                <a:latin typeface="Arial"/>
              </a:rPr>
              <a:t>University of Illinois at Urbana-Champa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NCSA progress on DOD-IO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720" y="1157400"/>
            <a:ext cx="9839160" cy="5673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Prototype of interface system created to begin the data interaction portion of the Intranet system.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marL="369720" indent="-369720">
              <a:spcBef>
                <a:spcPts val="7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PKI authorization structure and Kerberos API installed on temporary Web server for testing.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marL="369720" indent="-369720">
              <a:spcBef>
                <a:spcPts val="7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Purchasing of Production and Testing servers and Apache Stronghold and Oracle licenses.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marL="369720" indent="-369720">
              <a:spcBef>
                <a:spcPts val="7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Java object share system prototype to allow database information to work with interfacing applets and servlets.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Database Connection in Web services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720" y="1157400"/>
            <a:ext cx="9839160" cy="5673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Interfacing the Portal Requires User information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lvl="1" marL="801720" indent="-308160">
              <a:spcBef>
                <a:spcPts val="726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Arial"/>
              </a:rPr>
              <a:t>State Values need to be stored for every command that gets passed to the portal</a:t>
            </a:r>
            <a:endParaRPr b="1" lang="en-US" sz="2900" spc="-1" strike="noStrike">
              <a:solidFill>
                <a:srgbClr val="00279f"/>
              </a:solidFill>
              <a:latin typeface="Arial"/>
            </a:endParaRPr>
          </a:p>
          <a:p>
            <a:pPr lvl="1" marL="801720" indent="-308160">
              <a:spcBef>
                <a:spcPts val="726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Arial"/>
              </a:rPr>
              <a:t>2 SQL Databases are going to be used to have fast easy access to state variables and user information.</a:t>
            </a:r>
            <a:endParaRPr b="1" lang="en-US" sz="2900" spc="-1" strike="noStrike">
              <a:solidFill>
                <a:srgbClr val="00279f"/>
              </a:solidFill>
              <a:latin typeface="Arial"/>
            </a:endParaRPr>
          </a:p>
          <a:p>
            <a:pPr lvl="1" marL="801720" indent="0">
              <a:spcBef>
                <a:spcPts val="72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9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93960" y="4473720"/>
            <a:ext cx="2497320" cy="1819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 Built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ache 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1400" y="4776840"/>
            <a:ext cx="1298520" cy="1342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91280" y="4575240"/>
            <a:ext cx="1182600" cy="17175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800" y="4459320"/>
            <a:ext cx="1978200" cy="187632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6200" y="4454640"/>
            <a:ext cx="1977840" cy="187632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0"/>
            <a:ext cx="9875880" cy="2590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Intranet Portal Topology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295280"/>
            <a:ext cx="60958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Browser or Other XML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and Request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657600"/>
            <a:ext cx="25146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029200"/>
            <a:ext cx="403884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5181480"/>
            <a:ext cx="2895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05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3352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962160" y="464832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464832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Portal Security Architectur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1752480"/>
            <a:ext cx="251460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2096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1828800"/>
            <a:ext cx="99072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175248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733920"/>
            <a:ext cx="2743200" cy="2133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276720"/>
            <a:ext cx="160020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5334120"/>
            <a:ext cx="160020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200400"/>
            <a:ext cx="16761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5257800"/>
            <a:ext cx="16765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209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2666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943600" y="4724280"/>
            <a:ext cx="4572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3600" y="42670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03812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8120" y="57913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980720" y="3733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3124080"/>
            <a:ext cx="1752480" cy="14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9966"/>
            </a:solidFill>
            <a:miter/>
          </a:ln>
        </p:spPr>
        <p:txBody>
          <a:bodyPr lIns="100080" rIns="100080" tIns="49320" bIns="49320" anchor="t">
            <a:normAutofit/>
          </a:bodyPr>
          <a:p>
            <a:pPr marL="369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  <a:p>
            <a:pPr marL="369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</a:t>
            </a:r>
            <a:endParaRPr b="1" lang="en-US" sz="3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572000"/>
            <a:ext cx="8380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Public Key Infrastructure (PKI) Allows Expandable &amp; Up-Gradable Security Systems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098360"/>
            <a:ext cx="9839160" cy="4763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 fontScale="89000"/>
          </a:bodyPr>
          <a:p>
            <a:pPr marL="329040" indent="-329040">
              <a:spcBef>
                <a:spcPts val="601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Currently NCSA Uses a Kerberos-Based Authentication System Allowing the Authentication of Users Without Sending Clear Text Passwords</a:t>
            </a:r>
            <a:endParaRPr b="1" lang="en-US" sz="2400" spc="-1" strike="noStrike">
              <a:solidFill>
                <a:srgbClr val="790015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We are Moving to a Web Based Security &amp; PKI Which Creates a Dual-Key System for Intranet Services</a:t>
            </a:r>
            <a:endParaRPr b="1" lang="en-US" sz="2400" spc="-1" strike="noStrike">
              <a:solidFill>
                <a:srgbClr val="790015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400" spc="-1" strike="noStrike">
              <a:solidFill>
                <a:srgbClr val="790015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Virtual Private Networks Using Dual-key Certified Connections Allow Users to Be Secure From Any Machine Within the U.S.</a:t>
            </a:r>
            <a:endParaRPr b="1" lang="en-US" sz="2400" spc="-1" strike="noStrike">
              <a:solidFill>
                <a:srgbClr val="790015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400" spc="-1" strike="noStrike">
              <a:solidFill>
                <a:srgbClr val="790015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Using PKI Encryption We Will Be Able to Create Encrypted Web Traffic With an Alliance Certificate Authority</a:t>
            </a:r>
            <a:endParaRPr b="1" lang="en-US" sz="2400" spc="-1" strike="noStrike">
              <a:solidFill>
                <a:srgbClr val="790015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With the PKI combination we will link into Kerberos databases for DOD authentication.</a:t>
            </a:r>
            <a:endParaRPr b="1" lang="en-US" sz="2400" spc="-1" strike="noStrike">
              <a:solidFill>
                <a:srgbClr val="7900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PKI VPN for Web Traffic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7200" y="1357200"/>
            <a:ext cx="2786040" cy="1687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ternal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84680" y="4011480"/>
            <a:ext cx="3579840" cy="25704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Client Ac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Key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Car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120" y="1320840"/>
            <a:ext cx="3579840" cy="2570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Porta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Key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6680" y="3075120"/>
            <a:ext cx="3286080" cy="874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7440" y="1346040"/>
            <a:ext cx="2276280" cy="1770120"/>
          </a:xfrm>
          <a:prstGeom prst="leftArrow">
            <a:avLst>
              <a:gd name="adj1" fmla="val 50000"/>
              <a:gd name="adj2" fmla="val 32149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1640520" y="2723040"/>
            <a:ext cx="2735280" cy="5153040"/>
          </a:xfrm>
          <a:custGeom>
            <a:avLst/>
            <a:gdLst>
              <a:gd name="textAreaLeft" fmla="*/ 785160 w 2735280"/>
              <a:gd name="textAreaRight" fmla="*/ 2342880 w 2735280"/>
              <a:gd name="textAreaTop" fmla="*/ 2967840 h 5153040"/>
              <a:gd name="textAreaBottom" fmla="*/ 4413600 h 51530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 Key Encry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40" y="9000"/>
            <a:ext cx="982800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Open Portal Interfac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1295280"/>
            <a:ext cx="22100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22100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l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362320"/>
            <a:ext cx="221004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Pr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36232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3657600"/>
            <a:ext cx="25146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G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5029200"/>
            <a:ext cx="17528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4952880"/>
            <a:ext cx="190476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43600"/>
            <a:ext cx="31244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Trans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585520" y="289728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2819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05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352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962160" y="464832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4648320"/>
            <a:ext cx="83808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360" y="533412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02:47:51Z</dcterms:created>
  <dc:creator>Larry Smarr</dc:creator>
  <dc:description/>
  <dc:language>en-US</dc:language>
  <cp:lastModifiedBy>Douglas Fein</cp:lastModifiedBy>
  <cp:lastPrinted>1998-09-08T00:15:07Z</cp:lastPrinted>
  <dcterms:modified xsi:type="dcterms:W3CDTF">1999-07-26T13:27:01Z</dcterms:modified>
  <cp:revision>504</cp:revision>
  <dc:subject/>
  <dc:title>Visualization Needs in  Science and Technology</dc:title>
</cp:coreProperties>
</file>