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4A32-9571-4674-A1CB-4136FD9D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0A2D-64C3-43BD-847F-873C2804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DC4E-AE19-4213-A2AE-162E5714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8659-C01E-4796-99F2-071BF29A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90D6-F673-4D71-8B97-8435F1CB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D4F3-12CC-4B2C-A8D8-5FB83329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CD87-4B25-47D1-A347-1433EAE8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F92C-4811-4F43-B13B-7627AC54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019C-22C4-4EE8-B52B-19E84752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63A9-C1EB-4756-8BF8-01E923AC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CA93-D0DC-4C5B-AC9D-59780427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5C32-E1B0-458C-8F4D-6FAE61A4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601B-B550-4A2C-A211-DCE26FC22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Interfaces for Computational Mo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omasz Hau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fig2a" descr=""/>
          <p:cNvPicPr/>
          <p:nvPr/>
        </p:nvPicPr>
        <p:blipFill>
          <a:blip r:embed="rId1"/>
          <a:stretch/>
        </p:blipFill>
        <p:spPr>
          <a:xfrm>
            <a:off x="3581280" y="1371600"/>
            <a:ext cx="5154840" cy="51544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Retriev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360" y="133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371600"/>
            <a:ext cx="3124080" cy="510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he data wizard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allows the user to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interactively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select the data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download them to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he local machine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he raw data are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hen fed to the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WMS system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launched from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he browser to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generate input files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for simul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LMS01a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553440" cy="6191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1371600"/>
            <a:ext cx="312408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51128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Launching coupled simulations on different back-end computation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04920" y="4495680"/>
            <a:ext cx="2286000" cy="2133720"/>
            <a:chOff x="304920" y="4495680"/>
            <a:chExt cx="2286000" cy="2133720"/>
          </a:xfrm>
        </p:grpSpPr>
        <p:sp>
          <p:nvSpPr>
            <p:cNvPr id="133" name=""/>
            <p:cNvSpPr/>
            <p:nvPr/>
          </p:nvSpPr>
          <p:spPr>
            <a:xfrm>
              <a:off x="304920" y="4495680"/>
              <a:ext cx="17524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lect 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4920" y="5054760"/>
              <a:ext cx="19047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lect 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920" y="5613480"/>
              <a:ext cx="2057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t parame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4920" y="6172200"/>
              <a:ext cx="22860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V="1">
            <a:off x="2057400" y="4343400"/>
            <a:ext cx="3049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209680" y="4343400"/>
            <a:ext cx="25146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362320" y="5181480"/>
            <a:ext cx="251460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632448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MS based Visualiz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fig4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6049800" cy="48290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105520" y="1676520"/>
            <a:ext cx="3733560" cy="2895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he results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simulations are s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back to the front e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and can be visualiz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using tools inclu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in  WMS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bility System’s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905120" y="3429000"/>
            <a:ext cx="1523880" cy="1219320"/>
            <a:chOff x="1905120" y="3429000"/>
            <a:chExt cx="1523880" cy="1219320"/>
          </a:xfrm>
        </p:grpSpPr>
        <p:sp>
          <p:nvSpPr>
            <p:cNvPr id="146" name=""/>
            <p:cNvSpPr/>
            <p:nvPr/>
          </p:nvSpPr>
          <p:spPr>
            <a:xfrm>
              <a:off x="1905120" y="3429000"/>
              <a:ext cx="1523880" cy="1219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" name="msd01" descr=""/>
            <p:cNvPicPr/>
            <p:nvPr/>
          </p:nvPicPr>
          <p:blipFill>
            <a:blip r:embed="rId1"/>
            <a:stretch/>
          </p:blipFill>
          <p:spPr>
            <a:xfrm>
              <a:off x="2009880" y="3505320"/>
              <a:ext cx="131436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/>
          <p:nvPr/>
        </p:nvSpPr>
        <p:spPr>
          <a:xfrm>
            <a:off x="1905120" y="5334120"/>
            <a:ext cx="1523880" cy="9144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inat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form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28600" y="3124080"/>
            <a:ext cx="1155960" cy="1676520"/>
            <a:chOff x="228600" y="3124080"/>
            <a:chExt cx="1155960" cy="1676520"/>
          </a:xfrm>
        </p:grpSpPr>
        <p:sp>
          <p:nvSpPr>
            <p:cNvPr id="150" name=""/>
            <p:cNvSpPr/>
            <p:nvPr/>
          </p:nvSpPr>
          <p:spPr>
            <a:xfrm>
              <a:off x="396720" y="3124080"/>
              <a:ext cx="914040" cy="60948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6720" y="4190760"/>
              <a:ext cx="914040" cy="6098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8600" y="374796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752480" y="2209680"/>
            <a:ext cx="7621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43200" y="2209680"/>
            <a:ext cx="7621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22860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te HPCC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4648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2819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2819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342900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295280" y="4191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038480" y="1447920"/>
            <a:ext cx="4496040" cy="2133360"/>
            <a:chOff x="4038480" y="1447920"/>
            <a:chExt cx="4496040" cy="2133360"/>
          </a:xfrm>
        </p:grpSpPr>
        <p:sp>
          <p:nvSpPr>
            <p:cNvPr id="162" name=""/>
            <p:cNvSpPr/>
            <p:nvPr/>
          </p:nvSpPr>
          <p:spPr>
            <a:xfrm>
              <a:off x="4191120" y="1523880"/>
              <a:ext cx="43434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 object oriented approach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 implementation: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- CORBA based middle-ti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- bean-box type API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- JDBC proxy mod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38480" y="1447920"/>
              <a:ext cx="4343400" cy="2133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038480" y="3733920"/>
            <a:ext cx="4800600" cy="2895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Web interface to store data in DB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in variable forma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Data transfer from DB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a visualization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Coordinates transformations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emote serv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Launching simulations on rem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sts with interactive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MSRC received for the m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ies and Deliver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nstration of WebFlow capabilities to build webflow interfaces and to provide access to remote resources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scape Management System (comple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ity System Division applications (in prog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Flow documentation, developers guide and user training (to be delivered on March 9, 19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metr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visits to CEW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-based LMS prototyp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monstrated at SC ‘98 and included in SC’98 technical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alled at CEWES MSRC and delivered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. Hol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aboration with Mobility System Divis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. Deliman, B.Ga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 report and tutorial (by Mar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Flow Architect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rn three-tier syst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2514600"/>
            <a:ext cx="3353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imes New Roman"/>
              </a:rPr>
              <a:t>Tier 1 is a high-level </a:t>
            </a:r>
            <a:br>
              <a:rPr sz="2000"/>
            </a:br>
            <a:r>
              <a:rPr b="1" i="1" lang="en-US" sz="2000" spc="-1" strike="noStrike">
                <a:solidFill>
                  <a:srgbClr val="996633"/>
                </a:solidFill>
                <a:latin typeface="Times New Roman"/>
              </a:rPr>
              <a:t>front-end</a:t>
            </a:r>
            <a:r>
              <a:rPr b="0" lang="en-US" sz="2000" spc="-1" strike="noStrike">
                <a:solidFill>
                  <a:srgbClr val="996633"/>
                </a:solidFill>
                <a:latin typeface="Times New Roman"/>
              </a:rPr>
              <a:t> for visual</a:t>
            </a: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6633"/>
                </a:solidFill>
                <a:latin typeface="Times New Roman"/>
              </a:rPr>
              <a:t>programm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ed object-based, scalable, and reusable Web server and Object broke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ddlew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ms Tier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Back-en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services comprise Tier 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c98fig1" descr=""/>
          <p:cNvPicPr/>
          <p:nvPr/>
        </p:nvPicPr>
        <p:blipFill>
          <a:blip r:embed="rId1"/>
          <a:stretch/>
        </p:blipFill>
        <p:spPr>
          <a:xfrm>
            <a:off x="3533760" y="2133720"/>
            <a:ext cx="56102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54860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-Tier is given by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h of Web Servers running servlets that manage and coordinate distributed comput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3429000"/>
            <a:ext cx="3809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5308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4191120"/>
            <a:ext cx="457200" cy="457200"/>
          </a:xfrm>
          <a:prstGeom prst="cube">
            <a:avLst>
              <a:gd name="adj" fmla="val 25000"/>
            </a:avLst>
          </a:prstGeom>
          <a:solidFill>
            <a:srgbClr val="72c0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86600" y="4191120"/>
            <a:ext cx="457200" cy="457200"/>
          </a:xfrm>
          <a:prstGeom prst="cube">
            <a:avLst>
              <a:gd name="adj" fmla="val 25000"/>
            </a:avLst>
          </a:prstGeom>
          <a:solidFill>
            <a:srgbClr val="dde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012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373392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34320" y="37339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48520" y="44197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324120" y="3809880"/>
            <a:ext cx="3812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7467120" y="3809880"/>
            <a:ext cx="3049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3809880"/>
            <a:ext cx="30456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952880"/>
            <a:ext cx="228600" cy="223920"/>
          </a:xfrm>
          <a:prstGeom prst="can">
            <a:avLst>
              <a:gd name="adj" fmla="val 24967"/>
            </a:avLst>
          </a:prstGeom>
          <a:solidFill>
            <a:srgbClr val="72c0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5257800"/>
            <a:ext cx="228600" cy="223920"/>
          </a:xfrm>
          <a:prstGeom prst="can">
            <a:avLst>
              <a:gd name="adj" fmla="val 24967"/>
            </a:avLst>
          </a:prstGeom>
          <a:solidFill>
            <a:srgbClr val="72c0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5257800"/>
            <a:ext cx="228600" cy="223920"/>
          </a:xfrm>
          <a:prstGeom prst="can">
            <a:avLst>
              <a:gd name="adj" fmla="val 24967"/>
            </a:avLst>
          </a:prstGeom>
          <a:solidFill>
            <a:srgbClr val="72c0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5257800"/>
            <a:ext cx="228600" cy="223920"/>
          </a:xfrm>
          <a:prstGeom prst="can">
            <a:avLst>
              <a:gd name="adj" fmla="val 24967"/>
            </a:avLst>
          </a:prstGeom>
          <a:solidFill>
            <a:srgbClr val="dde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5029200"/>
            <a:ext cx="228600" cy="223920"/>
          </a:xfrm>
          <a:prstGeom prst="can">
            <a:avLst>
              <a:gd name="adj" fmla="val 33333"/>
            </a:avLst>
          </a:prstGeom>
          <a:solidFill>
            <a:srgbClr val="72c0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5257800"/>
            <a:ext cx="228600" cy="223920"/>
          </a:xfrm>
          <a:prstGeom prst="can">
            <a:avLst>
              <a:gd name="adj" fmla="val 24967"/>
            </a:avLst>
          </a:prstGeom>
          <a:solidFill>
            <a:srgbClr val="dde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86600" y="4952880"/>
            <a:ext cx="228600" cy="223920"/>
          </a:xfrm>
          <a:prstGeom prst="can">
            <a:avLst>
              <a:gd name="adj" fmla="val 24967"/>
            </a:avLst>
          </a:prstGeom>
          <a:solidFill>
            <a:srgbClr val="dde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5105520"/>
            <a:ext cx="228600" cy="223560"/>
          </a:xfrm>
          <a:prstGeom prst="can">
            <a:avLst>
              <a:gd name="adj" fmla="val 24967"/>
            </a:avLst>
          </a:prstGeom>
          <a:solidFill>
            <a:srgbClr val="dde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791320" y="4648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019920" y="4647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6171840" y="46483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562720" y="464796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7162920" y="4648320"/>
            <a:ext cx="759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934320" y="464796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315200" y="4647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7391160" y="46483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91520" y="1371600"/>
            <a:ext cx="1143000" cy="1066680"/>
          </a:xfrm>
          <a:prstGeom prst="cube">
            <a:avLst>
              <a:gd name="adj" fmla="val 249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467480" y="1752480"/>
            <a:ext cx="762120" cy="60984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10280" y="2438280"/>
            <a:ext cx="1600200" cy="228600"/>
          </a:xfrm>
          <a:prstGeom prst="cube">
            <a:avLst>
              <a:gd name="adj" fmla="val 79583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01000" y="2133720"/>
            <a:ext cx="838080" cy="1600200"/>
          </a:xfrm>
          <a:custGeom>
            <a:avLst/>
            <a:gdLst/>
            <a:ahLst/>
            <a:rect l="l" t="t" r="r" b="b"/>
            <a:pathLst>
              <a:path w="528" h="1008">
                <a:moveTo>
                  <a:pt x="288" y="0"/>
                </a:moveTo>
                <a:lnTo>
                  <a:pt x="528" y="0"/>
                </a:lnTo>
                <a:lnTo>
                  <a:pt x="528" y="1008"/>
                </a:lnTo>
                <a:lnTo>
                  <a:pt x="0" y="1008"/>
                </a:lnTo>
                <a:lnTo>
                  <a:pt x="48" y="10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80880" y="2514600"/>
            <a:ext cx="3504960" cy="2743200"/>
            <a:chOff x="380880" y="2514600"/>
            <a:chExt cx="3504960" cy="2743200"/>
          </a:xfrm>
        </p:grpSpPr>
        <p:pic>
          <p:nvPicPr>
            <p:cNvPr id="84" name="dataflow" descr=""/>
            <p:cNvPicPr/>
            <p:nvPr/>
          </p:nvPicPr>
          <p:blipFill>
            <a:blip r:embed="rId1"/>
            <a:stretch/>
          </p:blipFill>
          <p:spPr>
            <a:xfrm>
              <a:off x="838080" y="2514600"/>
              <a:ext cx="2466720" cy="27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80880" y="2514600"/>
              <a:ext cx="35049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304920" y="228600"/>
            <a:ext cx="6400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Flow applications are composed of independent   reusable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ules are written by module developers who have only  limited knowledge of the system on which the modules will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Flow system hides module management and coordination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MS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evelop a web based system that implements  a “navigate-and-choose” paradigm and  allows the end user t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(a set of) computational modules that provide answers to the problem at h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ieve input data sets from remote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dequate (remote) computation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ualize and analyze output data on the local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time, anywhere, using any platfo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.g., a connected to the internet laptop P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MS: Changes in Vege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cision maker (the end user of the system) wants to evaluate changes in vegetation in some geographical region over a long time period caused by some short term disturbances such as a fire or human’s activit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f the critical parameters of the vegetation model (EDYS) is soil condition at the time of the disturb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 turn is dominated by rainfalls that possibly occur at that time (CASC2D simu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data for the simulations are available from the Internet, such as Data Elevation Models (DEM) from USGS web site or from custom databases (spices characteris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MS: Changes in Vege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retrie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pre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: two interacting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C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3200400"/>
            <a:ext cx="18288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4648320"/>
            <a:ext cx="12193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4648320"/>
            <a:ext cx="1218960" cy="457200"/>
          </a:xfrm>
          <a:prstGeom prst="rect">
            <a:avLst/>
          </a:prstGeom>
          <a:solidFill>
            <a:srgbClr val="fe0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C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4419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510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5334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51460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3886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3886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2057400"/>
            <a:ext cx="838080" cy="380880"/>
          </a:xfrm>
          <a:prstGeom prst="rect">
            <a:avLst/>
          </a:prstGeom>
          <a:solidFill>
            <a:srgbClr val="dde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2057400"/>
            <a:ext cx="838440" cy="380880"/>
          </a:xfrm>
          <a:prstGeom prst="rect">
            <a:avLst/>
          </a:prstGeom>
          <a:solidFill>
            <a:srgbClr val="12f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nd 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2057400"/>
            <a:ext cx="838080" cy="380880"/>
          </a:xfrm>
          <a:prstGeom prst="rect">
            <a:avLst/>
          </a:prstGeom>
          <a:solidFill>
            <a:srgbClr val="190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x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2057400"/>
            <a:ext cx="838080" cy="380880"/>
          </a:xfrm>
          <a:prstGeom prst="rect">
            <a:avLst/>
          </a:prstGeom>
          <a:solidFill>
            <a:srgbClr val="f10d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ge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2438280"/>
            <a:ext cx="9903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505320" y="24382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123720" y="243828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2438280"/>
            <a:ext cx="3812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20040" y="6172200"/>
            <a:ext cx="33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YS: vegeta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3840" y="617220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C2D: watershed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7560" y="5791320"/>
            <a:ext cx="48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MS: Watershed Model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MS Front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ms01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343920" cy="4848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78720" y="617220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retrieval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31680" y="617220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re- and post-pro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17040" y="617220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371600" y="4876920"/>
            <a:ext cx="2895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648320" y="4876920"/>
            <a:ext cx="99036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6858000" y="4876920"/>
            <a:ext cx="8380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06:44:25Z</dcterms:created>
  <dc:creator>Tomasz Haupt</dc:creator>
  <dc:description/>
  <dc:language>en-US</dc:language>
  <cp:lastModifiedBy>haupt</cp:lastModifiedBy>
  <dcterms:modified xsi:type="dcterms:W3CDTF">1999-01-28T20:56:54Z</dcterms:modified>
  <cp:revision>5</cp:revision>
  <dc:subject/>
  <dc:title>Web Interfaces for Computational Modules</dc:title>
</cp:coreProperties>
</file>