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8A62-D5AC-477A-8CC9-3114D345A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C496-E720-4FD9-A64F-2D739DD29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51F4-68AF-4702-AF19-B1A06E612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B17B-2948-4E67-A296-70CB026BD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3450-B017-42C6-8D07-1A7B36D09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4610-4D68-4539-A0DC-82183C961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A8AD-36D1-4A8B-9203-DC29E4D71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138D-F919-4EA0-8AFE-CCA1C0381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0EE3-32EE-4891-A125-F6D35A8BD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3738-EEBE-4B64-BA2B-8277026FB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7AD7-2FCE-47B9-97F3-4716F7EE7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7078-962D-4FB2-AA20-7F21A0C98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C30D-4FC2-418B-BF5A-C7F6E8D852AF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view of Year 3 Projec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posted to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ET Program-Wide Training Group Meetings (at User Group Conferenc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enhancements &amp; releases to support training and educ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1, May’98 (“all browser” support not releas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, Oct’98 (robustnes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valuation of multimedia databases for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711A-4598-45AA-968A-FF5609C23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x leads graduate education program for NSF PACI (combined NCSA/NPACI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rough PACI also see how tools for K-12 and other educational areas can by synergistic with DoD nee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.g. use of TangoInteractive in Middle/High school Java Academ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so Fox one of lead authors of pedagogical book on parallel computing planned by CRP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BFBD-B00E-45BF-8166-2B90463BD9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ip Repor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from more than 30 events this yea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st related to collab/training and/or other technical are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Very few events PET-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ttp://www.npac.syr.edu/users/bernhold/trip-reports/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so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8" name="trip-report-web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3A7A-7847-4753-BA8B-26760D8BD3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 On-going Enhancements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in focus on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ystem robustness and maintain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ments for collaborative and educational functions (new and improved application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ull support for W3C document object model sha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kage of synchronous and asynchronous mod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achieved by improving shared browser support as “asynchronous”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kage to asynchronous document repositor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s and form based server interfa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ystem programmability (API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ocumentation and training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F6F8-ADD3-46FB-83D4-A052CDA227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ystem Rele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1.01 released in May 98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ed servers for both UNIX and Windows NT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utomated, industrial grade installation proced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ustrial grade stability and robustnes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ing for the complete application sui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deployed at CEWES and ARL and at several HBC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d by several universities in US and abroad (~ 1000 download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8F91-4C30-4B71-8E04-2E4EF16B48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1.1 Releas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adically improved syst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vailable internally in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blic release expected in February 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ploys newest Java and browser technolog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corporates all “lessons learned” from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1.0 deployment and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paradigm for “collaboration space” navigation, session handling, and floor contr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ierarchical view of the “interaction space”, “Metaverse traversing” suppor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41F9-0115-4D65-B7C3-9BDACE5B09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ewca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153040" cy="3019320"/>
          </a:xfrm>
          <a:prstGeom prst="rect">
            <a:avLst/>
          </a:prstGeom>
          <a:ln w="0">
            <a:noFill/>
          </a:ln>
        </p:spPr>
      </p:pic>
      <p:pic>
        <p:nvPicPr>
          <p:cNvPr id="76" name="newca3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438280" cy="3743280"/>
          </a:xfrm>
          <a:prstGeom prst="rect">
            <a:avLst/>
          </a:prstGeom>
          <a:ln w="0">
            <a:noFill/>
          </a:ln>
        </p:spPr>
      </p:pic>
      <p:pic>
        <p:nvPicPr>
          <p:cNvPr id="77" name="newca4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248616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3962520"/>
            <a:ext cx="2286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1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phical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(based on Java Swing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A049-2A33-4745-9154-20F732979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plication improvement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enaVista 3.0 (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videoconferencing agent) completely rewritten for PC and SGI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 multithreaded implementation, extensively tested for st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mproved audio and video qua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 for multiple audio and video card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-implemented robust session control protoc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designed user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ailed documentation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ux implementation ongo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V has been critical for remote class and training delive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ersion 3.0 will be released with T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1.1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DB95-44BD-45DD-AFF4-5FF1423D47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V7p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B7FC-755F-4FB3-A222-98487E1E51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(C/C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uk Bec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Konrad Olsze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iotr Sokol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F565-C894-4979-AC5D-D9862D728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routinely posted on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Tango enhancements &amp; releas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 (increased robustness) Oct’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1 (extensive rewrites, added functionality based on experience and user feedback) internal now, public by end of Februa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base/asynch collab linkage availab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3236-4942-4AAD-9CE3-156DF2FE5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operation of web-linked database apps, assistance with transfer to CEW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arch Engines, WSMS working at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isting with WSMS installation now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 has account after 11 month wait for N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raining at CEWES (Nov’98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umerous Tango trainings elsewhere open to DoD research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56B0-A5E0-48D6-B529-C515086F8D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utorial on installation and operation at JSU, assistance with CEWES Tango installation (7 person-day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tinued user support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going involvement in national activities (such as DoD users meeting and NPACI/NSCA PACI Leading Edge Sites and Partners) leads to continuing better understanding of collaborative technologies and how to meet PET nee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2FA4-D16B-4F86-84A1-FBA30AABE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Technical Progres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ented together with closely related Training Core technical progre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FB2E-FFEC-4738-AC1C-0B19D2B52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in Jianxia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rka Lucen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oman Mark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Stachowiak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E6E1-6F6A-4F5B-A651-8721F88804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9-01-30T16:45:36Z</cp:lastPrinted>
  <dcterms:modified xsi:type="dcterms:W3CDTF">1999-02-09T14:31:54Z</dcterms:modified>
  <cp:revision>80</cp:revision>
  <dc:subject/>
  <dc:title>No Slide Title</dc:title>
</cp:coreProperties>
</file>