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34200" cy="8650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847-6226-46B4-81C7-A74CD7BE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0" y="395928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69F-F766-49B9-B29B-501441A6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0" y="395928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5760" y="395928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AF0-B6F7-4BD5-8ECB-19628774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91680" y="165060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3360" y="165060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0" y="395928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091680" y="395928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3360" y="395928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236-6B77-4CD6-BAF7-671776C8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1B1B-98C5-4B99-9601-D8021CAF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65060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EDD2-031B-4282-9AD0-24EEC25E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5FDD-9462-4657-A4D7-8E9786BF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3896-D231-4B23-AB17-B7C49942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E983-AF24-41D1-A7BB-97F2094E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8DB7-4568-4833-9EA9-F8B9CAD0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95928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DFDD-58EC-4746-9D3D-23B637B5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0" y="165060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E23-F0AC-45F9-9FF0-683727A6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5760" y="395928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03A5-BC20-4CCD-8F98-D65E7E9E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0" y="395928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29AF-1B6F-4CB3-A26A-C3831493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0" y="395928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7833-8865-4DFA-A1A2-2B2E3CA3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0" y="395928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5760" y="395928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0836-4049-4FDB-AC2D-428F7230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091680" y="165060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3360" y="165060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0" y="395928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091680" y="395928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3360" y="395928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473E-C841-4250-9D9A-53EAF64C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3D5-A39D-40AF-A891-044D639D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920-4D7F-4994-8F98-583D6689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096-BDAB-4F14-BC0E-2F0B9DC0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AC0-72F6-4A7D-B05D-2BB48059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95928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498-171C-4CF4-9880-A08B530E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5760" y="395928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0DA-1BBB-455A-87A8-DB27E3EC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95928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A67-A79A-4DA4-B549-7C212A7C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38680"/>
            <a:ext cx="8164440" cy="301932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6692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2880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0" y="165060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66680" y="6375240"/>
            <a:ext cx="1905120" cy="3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7606-D4F3-4830-91AF-8367FBF01A7C}" type="datetime"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88880" y="6413400"/>
            <a:ext cx="2895480" cy="2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238880" y="6413400"/>
            <a:ext cx="1905120" cy="2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6F66-8DF3-4BEA-9266-ABBACE57CD40}" type="slidenum"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83960" y="6210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2FC9-504B-4018-96AD-5B83CEBF6536}" type="datetime"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1A6C-A246-4D38-ABF7-1140E76CFC78}" type="slidenum"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320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ANG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llaboration System</a:t>
            </a:r>
            <a:br>
              <a:rPr sz="40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CSA ET Team C Alliance 98 Summary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ttp://www.webwisdom.org/papers/jsu/jsuexpt.html (Discusses use in Distance Education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ttp://trurl.npac.syr.edu/tango/ (includes Tango Papers and download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95440" y="393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offrey Fox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racuse Univers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1 College Plac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racuse NY 13244 41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15443216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amcjust4foils  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B8D9-B46D-4F13-ADE2-0F07290D85F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95291DA-2A94-4718-A25A-2351632E89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ango Collaboration System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81288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 Applet based system using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veConnec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nd plugin with Netscape3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igned Apple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ith Netscape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pports general shared event model of collaboration where it can share applications i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Java, JavaScript, C, VRML, C++ (Open Inventor), Lisp (emacs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ent sharing coordinated b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ava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s conventional general too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dio/Video Conferencing, Chat rooms, Whitebo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loped fo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mand and contro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ere has a simple event driven simulator built i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t extensively used in education -- especially for course betwee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yracu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Jackson Stat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ing JavaScript “guided tour”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Wisdom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nking to 22,000 foil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amcjust4foils  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3E4-3D8F-48C4-B430-EC3AB690C5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AF546-D4EB-4DC8-8525-B8647616E7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4852800"/>
            <a:ext cx="38862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reenshots of Tango Teaching Tool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tango-dump2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5029200" cy="4022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6" name="tango-dump1" descr=""/>
          <p:cNvPicPr/>
          <p:nvPr/>
        </p:nvPicPr>
        <p:blipFill>
          <a:blip r:embed="rId2"/>
          <a:stretch/>
        </p:blipFill>
        <p:spPr>
          <a:xfrm>
            <a:off x="0" y="0"/>
            <a:ext cx="5421240" cy="433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6620040" y="249120"/>
            <a:ext cx="19047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Wisd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914400"/>
            <a:ext cx="228600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o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o Control A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464680" y="1582560"/>
            <a:ext cx="304560" cy="205740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406920" y="2039760"/>
            <a:ext cx="1066680" cy="289584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125680" y="1201680"/>
            <a:ext cx="1662120" cy="17640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121000" y="1735200"/>
            <a:ext cx="1679400" cy="158760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390840" y="442800"/>
            <a:ext cx="3308400" cy="49392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amcjust4foils    http://www.npac.syr.edu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FF2-6252-4A20-930C-FEA0AEEF5D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92C83-5E99-4AD6-B55C-C216DAAA13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ew Directions for Tango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veral more courses and tutorials including K-1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recent effort devoted to making system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re robu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 can be deployed general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l be us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isis Manage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emonstration in Ma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ucation applications include “classic guided tour” and more interesting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simul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chanics of springs, plane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jor new enhancements in next 4 month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cti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” Presentations by displaying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werPoi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etc.) on full featured share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ava whiteboar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nkage t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otus Not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o jo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ynchronou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synchronou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ollabor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nkage to JDBC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base backen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or logging of sessions and more powerfu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managem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ool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re sophisticate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ulti-room customizab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ango (2.0) vers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amcjust4foils  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978-B7FD-4AA1-9977-6BE5DAE4D3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1D40C-779F-4FAB-8255-C79DE334BB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20:31:14Z</dcterms:created>
  <dc:creator>Geoffrey Fox</dc:creator>
  <dc:description/>
  <dc:language>en-US</dc:language>
  <cp:lastModifiedBy>Geoffrey C. Fox</cp:lastModifiedBy>
  <cp:lastPrinted>1997-10-30T19:09:16Z</cp:lastPrinted>
  <dcterms:modified xsi:type="dcterms:W3CDTF">1998-04-17T21:50:00Z</dcterms:modified>
  <cp:revision>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