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0507-E15F-4E37-B6A9-BF1CB6DB5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8C19-062E-4413-971C-D38F6A2D9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646C-4CD9-4CB7-A505-0B173355B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56B6-A85F-4908-8EEF-5CE2E8D3DB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776D-909E-4314-A794-D57E8CE0B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2D0C-A42E-48F2-9088-58AA66EB7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3185-496E-4681-A8ED-033F81FC3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3006-3A56-4F90-BFCF-AAD16F56A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9767-1EDE-49BA-A3BC-3CB37CD84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F05F-C05D-408C-B7C3-C6D1CBBC3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F250-F17A-407F-B3EC-83AA47AC8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33E9-52B4-4ECF-BE31-9AD325130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EDB9-7C6B-49EF-BCF3-DD2D2EDA212D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90760" y="3200040"/>
            <a:ext cx="464796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Pointer added to Internet Assistant PowerPoint on the web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lustrates sharing of W3C Object Mode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066680" y="3429000"/>
            <a:ext cx="3276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1295280"/>
            <a:ext cx="4648320" cy="83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HTML “Heartbeat” recording shared events in last 6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514600" y="1371240"/>
            <a:ext cx="175248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921A-91B4-47C1-81A4-CA931942DC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77800"/>
            <a:ext cx="7848720" cy="6280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867280"/>
            <a:ext cx="77724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hared Form Illustrated by Shared Access to NCSA Biology Workbench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2960" y="3886200"/>
            <a:ext cx="270900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Multipl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Tex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Check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733920"/>
            <a:ext cx="144756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74320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809880"/>
            <a:ext cx="259056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3505320"/>
            <a:ext cx="144792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D639-A697-4514-AA13-D1CDD1409C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yered whiteboar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in several applications, advanced authoring mode, import/export/save support, telecursor, scriptable external interface, advanced image compression, …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va Shared brow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, supports frames and embedded MM obj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hat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vanced avatar 2.5D chat for “telepresence”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professional text chat with many advanced features, including clipboard, session save/mail, and latecomers support, fully customizabl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38B5-92F7-4F6E-84CF-5358A65D12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, continued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Telnet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hances Year 2 remote consulting tools sui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ployed during remote training sess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 “instructor feedback”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tinuous audience feedback pooling and visualiz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tructor alert too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streaming media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ava H263/GSM video viewer with database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alVideo player (use and distribution agreed with supported by Progressive Network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3730-9911-4CB7-A8A2-F1652C33C2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4T20:49:46Z</dcterms:created>
  <dc:creator>David E Bernholdt</dc:creator>
  <dc:description/>
  <dc:language>en-US</dc:language>
  <cp:lastModifiedBy>David E Bernholdt</cp:lastModifiedBy>
  <cp:lastPrinted>1999-01-30T16:45:36Z</cp:lastPrinted>
  <dcterms:modified xsi:type="dcterms:W3CDTF">1999-02-09T14:32:46Z</dcterms:modified>
  <cp:revision>80</cp:revision>
  <dc:subject/>
  <dc:title>No Slide Title</dc:title>
</cp:coreProperties>
</file>