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CDE4-465C-4321-A51E-D627688B7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01F6-997D-4BF2-9BD7-8397A663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2FD9-0E2C-4385-BD52-F7E8A4EF4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408D-6309-4E6D-8AAA-9E54B011C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E43A-9C42-4CAD-9C05-6380593B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C345-13A2-40B5-A0AE-B164D106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D9A2-9EC0-4592-8D78-54BE8733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7CE2-9C8D-416A-AEBB-FA7BC3BC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B6C2-022F-4804-BA47-BBFA907C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A0BF-7B98-43FB-874E-CF8EE215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D7B6-2E23-42D8-8C52-C3D4EBF8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016D-D894-492F-AEC8-7D54E550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A313-DFAE-4C75-88CB-4746CA901AA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523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orces Modeling and Simul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123720"/>
            <a:ext cx="64771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f. Geoffrey C. Fox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Prof. Wojtek Furmansk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racuse Univer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RL PET Workshop - February 18, 199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86EF-E00B-4742-8A87-C3824427A34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TI Parallelization Planning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ject Obj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derstand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easibility and requiremen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or developing parallel and/or distributed R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lore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arallel RTI op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.e. porting DMSO RTI 1.0 C++ code to Origin2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lore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distributed RTI op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.e.coupling multiple MSRC or DC sites for HPDC op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A623-809A-4C00-950E-3BABBD7F31E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TI Parallelization Planning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ser/Benefici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VPG tea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ho will likely start converting current DIS/ModSAF simulations to H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MS CHSSI system develop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SPEEDES, TEMPO, E-ModSAF, IMPORT) who could use parallel/distributed RTI framework as a testbed and integration platform for their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MS tea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Ft. Belvoir) who could use parallel RTI to convert their parallel CMS to H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spcAft>
                <a:spcPts val="19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83C4-9B64-4D8E-947A-29C78B9BB10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TI Parallelization Planning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echnical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arallel R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ption not feasible - not good enough contacts into DMSO to get RTI 1.0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distributed R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feasible and funded by CEW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igin2000 port of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MS as driving appl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will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-visit parallel RTI in Year 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to support parallel CMS  over HLA) after we develop distributed RTI and parallel CMS over D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spcAft>
                <a:spcPts val="19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096A-4886-4BF3-9EFD-9CB4B05EEB6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TI Parallelization Planning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tatus, Milestones and Deliver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progress for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distributed R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early prototype for CEWES end of M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allel/Distributed RTI Planning Report for ARL by end of M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 Year 3 proposal for Metacomputing CMS over Distr RTI including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EWES &amp; ARL MSR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further progress in Year 2 for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arallel R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spcAft>
                <a:spcPts val="15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spcAft>
                <a:spcPts val="19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E201-C81C-41A6-9EFE-2C24BBA885D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PEEDES Training Materia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ject Objec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Web based interactive train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or the SPEEDES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 on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dvanced M&amp;S development team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ho need assistance in using the SPEEDES kern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925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mote on-line demonstrations and hands-on code develop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upport as part of trai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642B-21F0-46BC-8CD8-47154A8E5D5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PEEDES Training Materia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ser/Benefici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spcAft>
                <a:spcPts val="1349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Wargame20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roject at JNTF (Joint National Test Facilities), Colorado Springs who selected SPEEDES as core simulational 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spcAft>
                <a:spcPts val="134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ercial companies such as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OriginalSi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Montreal, or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ystem Integration Softwa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Colorado Springs, who intend to license SPEE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spcAft>
                <a:spcPts val="1349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FMS CHSSI Project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uch as Parallel IMPORT which integrate SPEEDES with 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spcAft>
                <a:spcPts val="1349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MSO RTI Time Manageme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TM) Service designers and developers (TM offers a subset of SPEEDES functionalit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spcAft>
                <a:spcPts val="16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6794-E050-4C8A-9B49-2E9C9516C6A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PEEDES Training Materia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echnical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ying SPEEDES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ap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presen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pecting SPEEDES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our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when availab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ing simple SPEEDES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dem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talling SPEEDES on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Origin20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t AR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925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loring connectivities between SPEEDES and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Object Web R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can they be integrated and how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6766-8F86-4D73-AECC-CBD0182E8C5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PEEDES Training Materia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spcAft>
                <a:spcPts val="400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tatus, Milestones and Deliver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SPEEDES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ap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eleven) identified, downlaoded and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nalyz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ill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wai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or SPEEDES license from NASA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spcAft>
                <a:spcPts val="1925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pers discuss core technology only -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we need to see demo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at come with the release to understand the application perspective before we can proc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spcAft>
                <a:spcPts val="1925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, as expected, license comes Feb/March, we can still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deliver early train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aterials by August 98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E7DF-8516-4E9F-8EFE-63D82686C79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MS Training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ject Obj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entation of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Training/Semina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the FMS Ar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operation with the associated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M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925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livery of at least two seminars on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WebHL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925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icipation in the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MT T&amp;E confere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May 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3E22-6A47-45A6-B7C7-01FCD2D4A06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MS Training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ser/Benefici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ntry level us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ho want to learn about HLA/RTI and/or  Object Web (CORBA, Java, DCO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Decision mak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ho want to learn about linkages between HLA and Web for the planning purpo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dvanced M&amp;S develop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ho want to use SPEEDES or Object Web RTI in High Performance M&amp;S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spcAft>
                <a:spcPts val="19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5C5C-B9D5-492D-954C-683F4F86979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ral Overview of FMS Activ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utrea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i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chnology Transf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I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eral FMS Support and Tech. Track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TI Parallelization Plan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PEEDES Training Materi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MS Trai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sual Simulation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ligh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ear 3 Expect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326C-1E6A-462E-B0D5-5EF4D0B6B50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MS Training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echnical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tud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M&amp;S system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HLA/RTI, SPEEDES, TEMPO,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ple training/seminars with prototype development of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WebH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liver web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training linked to simula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via Object Web R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seminate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lessons learn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semin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spcAft>
                <a:spcPts val="19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5A41-8AE3-4A9C-9528-1B530EF38A4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MS Training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tatus, Milestones and Deliver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25"/>
              </a:spcBef>
              <a:spcAft>
                <a:spcPts val="1375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HLA Overview/Introductory Tutori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delivered as part of IMT Training on T&amp;E for M&amp;S, Dec’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1125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LA materials collected; starting 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HLA trainin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develop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1125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SPEEDES trainin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waits for license from NA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1125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WebHLA trainin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development starts in April (after Object Web RTI prototype operationa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1125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ModSAF trainin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development starts now (license just received from STRICOM/CEW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134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MS Seminars to be presented during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MT Con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May 98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3024-3064-4C4E-8117-0F0DC079593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Visual Simulation Too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ject Obj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otype Web based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visual tool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or HLA simulation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 NPAC visual dataflow system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WebFlo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 DMSO spreadsheet tools such as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OMD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or FOM/SOM autho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 OMDT-like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roperty shee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or fine-tuning WebFlow based visual simulation mod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spcAft>
                <a:spcPts val="15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spcAft>
                <a:spcPts val="19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AF02-74AF-4189-96D4-362B66777ED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Visual Simulation Too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ser/Benefici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VP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here visual FOM/SOM authoring can accelerate development of T&amp;E simulation scenar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ntry level FMS us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ho could use Visual Simulation Tools as part of the FMS/WebHLA Trai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MS CHSSI system develop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ho could attract users by offering user friendly visual autho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1F78-401E-46E6-BF5B-D58D79CF7B2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Visual Simulation Too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echnical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lore current DMSO tools such as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OMD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Aegis (for NT) and Java tools by TASC (not read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OM based componen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 OMDT look-and-feel using Excel/VBA automation or directly MFC for CV++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ple such COM spreadsheet components with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WebFl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spcAft>
                <a:spcPts val="19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FCCF-C7A9-4585-9B08-DD0631DFDE0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Visual Simulation Too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tatus, Milestones and Deliver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OMD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ol downloaded, installed, analyz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going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O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ork on Excel/VBA and MFC VC++ spreadsheet compon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WebFlo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tegration work to start in M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arly prototyp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xpected by May/Ju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table relea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y end of Aug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spcAft>
                <a:spcPts val="19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F8DF-4B6C-4137-A083-AA090D4C62E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ummary of SignificantAccomplishmen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Aft>
                <a:spcPts val="1599"/>
              </a:spcAft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ntacts establish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it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MS CHSSI progra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Bob Wasilausky, Jeff Steinman, Mark Roberts, Jeff Walla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MS users at AR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VPG, Jeff Sauerbor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MS users at Ft. Belvoi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Steve Bisho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Aft>
                <a:spcPts val="1049"/>
              </a:spcAft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MT project at AR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Sam Blankenshi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Aft>
                <a:spcPts val="1599"/>
              </a:spcAft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Distributed RTI fund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y CEW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offer good insight into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arallel R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start for 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joint CEWES/AR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ta-M&amp;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progress so far with implementation 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JWOR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8757-1AEA-4A28-90D9-C5C820908D6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MS - Yr 3 Support Expec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intend to develop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WebHLA technology demo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Year 3, including all 3 tiers: Front-End(Visualization and authoring), Middleware (RTI), Back-End (D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T FMS focus is on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Middlewa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we provid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ow cost commodity solutions (NT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or the Front- and Back-End lay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could use help in high-end technologies fro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1500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ciVi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or advanced displays (SGI, ImmersaDes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451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nfo/Co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or parallel Oracle datab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451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Programming Tool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or Origin2000 code optim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E7C4-070D-4642-8C70-274C9BA6D3A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-3049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MS - Outrea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imulation Interoperability Workshop Fall’97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Orlando FL, Sept ‘97 - contacts with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ob Wasilausk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rk Robe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FMS CHSSI Revie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NRaD Nov ‘97 - insight into TEMPO, SPEEDES, IMPORT; contacts with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eff Steinm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eff Wal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RL visi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ec ‘97 - contacts with APG (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Jeff Sauerbor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ileen Vi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, IMT(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am Blankenshi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D67C-4551-48EE-8872-DD958FB933B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MS - Trai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1"/>
              </a:spcBef>
              <a:spcAft>
                <a:spcPts val="2200"/>
              </a:spcAft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HLA Overview/Introductory Tutori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 delivered as part of IMT Training on T&amp;E for M&amp;S, Dec’9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200"/>
              </a:spcAft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llecting HLA, RTI and FMS materials for advanced training developm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Orlando SIW’97, FMS CHSSI Review, DMSO HLA Material Analysis, WebHLA prototy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2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 also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PEEDES Train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roject be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6CED-7891-4DCE-B0CD-5E04B14287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MS - Technology Transf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1"/>
              </a:spcBef>
              <a:spcAft>
                <a:spcPts val="2200"/>
              </a:spcAft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HLA/R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 new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MSO M&amp;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echnology to be accepted DoD-w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200"/>
              </a:spcAft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bject We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CORBA/Java) Middleware - promising framework to buil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ebH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200"/>
              </a:spcAft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WebFlo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 NPAC visual dataflow environment to be adapted for Visual Simulation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2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AD65-292A-4A28-9E71-67DEBD85D8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General FMS Support and Technology Track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ject Obj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925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y new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Web/Commod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HLA/R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echnologies of relevance for F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925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act with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MS us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find the most efficient ways for technology transfer to the DoD commun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925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 on the following domains: HLA meets Object Web (CORBA, Java), Data Mining, Web based Commodity Front-Ends (VRML, DirectX) for M&amp;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0D6B-176E-4E42-8D3E-685413AA49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General FMS Support and Technology Track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ser/Benefici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Virtual Proving Grou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VPG) is interested in new Web/DB techs 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ata Min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, simulatio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crip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teractiv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eb browser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MS CHSSI (SPEEDES, TEMPO) commun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interested in new commodity middleware such a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RB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JavaBe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T&amp;E/IMT commun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an benefit from new NT simulation &amp; visualization technologies 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irect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spcAft>
                <a:spcPts val="19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26AB-EDDE-4CC5-A454-3BCB583867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General FMS Support and Technology Track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echnical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vely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moni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velopments in Web/Commodity technologies of relevance for HPC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 on the following technology domai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28600">
              <a:spcBef>
                <a:spcPts val="113"/>
              </a:spcBef>
              <a:spcAft>
                <a:spcPts val="1239"/>
              </a:spcAft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HLA/RTI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- new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DMSO M&amp;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technology to be accepted DoD-w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28600">
              <a:spcBef>
                <a:spcPts val="113"/>
              </a:spcBef>
              <a:spcAft>
                <a:spcPts val="1239"/>
              </a:spcAft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Object Web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CORBA/Java) Middleware - promising framework to build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WebH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28600">
              <a:spcBef>
                <a:spcPts val="113"/>
              </a:spcBef>
              <a:spcAft>
                <a:spcPts val="1239"/>
              </a:spcAft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Data Mining, XML Scripting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- of relevance for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Virtual Proving Grou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28600">
              <a:spcBef>
                <a:spcPts val="113"/>
              </a:spcBef>
              <a:spcAft>
                <a:spcPts val="1239"/>
              </a:spcAft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DirectX based M&amp;S Front-End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- integrated Web/commodity from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Microsoft (part of I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AC27-E1E8-46C3-B528-79E9B0313AD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General FMS Support and Technology Track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tatus, Milestones and Deliver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134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ess with official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FMS PET pages for AR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core pages ready by mid Fe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1349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OriginalSi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fo pages (related to SPEEDES and Visual Simulation Tools) - by M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134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loring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ata Mining and XML Scripting for VP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info pages planned by Apr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134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loring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irectX for T&amp;E/IM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info pages by M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1349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Final Repor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ue Aug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spcAft>
                <a:spcPts val="16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381D-046C-4A24-940C-6C55AE296F8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18-19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8:22:08Z</dcterms:created>
  <dc:creator/>
  <dc:description/>
  <dc:language>en-US</dc:language>
  <cp:lastModifiedBy>David E Bernholdt</cp:lastModifiedBy>
  <cp:lastPrinted>1998-02-10T05:32:39Z</cp:lastPrinted>
  <dcterms:modified xsi:type="dcterms:W3CDTF">1998-02-10T22:54:09Z</dcterms:modified>
  <cp:revision>26</cp:revision>
  <dc:subject/>
  <dc:title>No Slide Title</dc:title>
</cp:coreProperties>
</file>