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C5F4E-2ABB-4C2D-8A4F-C4F50B739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42AE9-1A9C-4882-8BDB-6EDD0214A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FE9F-7A82-451A-AD0D-358ED3546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61FE-8203-47D3-A7DE-F426915560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EA36-8677-4557-B159-E50EC6CCA5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CCFE-C932-4676-A05F-8CF724E0F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44D8-AA97-4DE7-B7D6-F817265D1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B84E-D12D-4E1D-B062-D0C6E237C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D62DA-EDAD-4F6A-9988-105D15160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01D4-24CA-4CB5-ABBB-5304F0329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1924-2584-4913-A7EA-0E9894BBA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69C7-D983-4C58-BC5F-DDD204394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369B-0F9F-476D-ACB4-15570315EC8F}" type="slidenum">
              <a:rPr b="0" lang="en-US" sz="9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ETIMAGE" descr=""/>
          <p:cNvPicPr/>
          <p:nvPr/>
        </p:nvPicPr>
        <p:blipFill>
          <a:blip r:embed="rId2"/>
          <a:stretch/>
        </p:blipFill>
        <p:spPr>
          <a:xfrm>
            <a:off x="504720" y="0"/>
            <a:ext cx="833436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Nrclogo" descr=""/>
          <p:cNvPicPr/>
          <p:nvPr/>
        </p:nvPicPr>
        <p:blipFill>
          <a:blip r:embed="rId3"/>
          <a:stretch/>
        </p:blipFill>
        <p:spPr>
          <a:xfrm>
            <a:off x="0" y="6149880"/>
            <a:ext cx="1892160" cy="708120"/>
          </a:xfrm>
          <a:prstGeom prst="rect">
            <a:avLst/>
          </a:prstGeom>
          <a:ln w="0">
            <a:noFill/>
          </a:ln>
        </p:spPr>
      </p:pic>
      <p:pic>
        <p:nvPicPr>
          <p:cNvPr id="5" name="newmsrclogo" descr=""/>
          <p:cNvPicPr/>
          <p:nvPr/>
        </p:nvPicPr>
        <p:blipFill>
          <a:blip r:embed="rId4"/>
          <a:stretch/>
        </p:blipFill>
        <p:spPr>
          <a:xfrm>
            <a:off x="6705720" y="6122880"/>
            <a:ext cx="2133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 -- Statu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ctivities/Deliverabl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ught distance course at Jackson Stat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SC499 “Programming for the Web” in Spring 98 (started during Year 2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SC539 “Computational Science for Simulation Applications” in Fall 98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PS616 “Web Software Technologies” Spr’99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ffered for free to all PET partners (not actually a deliverable of any PET project)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B712-F984-479E-839D-0E14E70F49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s approach to dist. edu. is now in some sense “routine”, but active support still valuable (in addition to education aspects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nderstanding of human factors in dist. edu.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rives requirements for Tango capabilities &amp; robustness also relevant to training &amp; collab us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esting ground for new Tango releas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akes extensive use of DRE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1B47A-FB76-4354-8BB6-46279ADD80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-- Other Metric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4 trips to JSU by NPAC instructors, 1 for Tango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2120" indent="-3121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pring 98 class: 8 students,  Fall 98 class: 7 students, Spring 99 class: 21 students (3 schools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2120" indent="-3121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resentation at SC98:  </a:t>
            </a: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Synchronous Learning at a Distance:  Experiences with Tango Interactiv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2120" indent="-3121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stalled Student Database System (written at NPAC) at JSU for use with other dist. edu. courses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2120" indent="-3121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xtensive &amp; regular use of DREN &amp; interactions with DREN staff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6CFE-14F9-4DFD-A91B-6C95395D5C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 for Curricula Enhancemen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5333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search” universities deliver courses over the network to “teaching focused” universiti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provide students and faculty with access to leading-edge course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jump start” local courses based on material originally delivered remotely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se TangoInteractive/ WebWisdom for synchronous delivery of lectures from SU to JSU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ilot for distance training of DoD use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48" name="jsu-students2" descr=""/>
          <p:cNvPicPr/>
          <p:nvPr/>
        </p:nvPicPr>
        <p:blipFill>
          <a:blip r:embed="rId1"/>
          <a:srcRect l="0" t="0" r="27827" b="0"/>
          <a:stretch/>
        </p:blipFill>
        <p:spPr>
          <a:xfrm>
            <a:off x="6553080" y="4038480"/>
            <a:ext cx="1905120" cy="1782720"/>
          </a:xfrm>
          <a:prstGeom prst="rect">
            <a:avLst/>
          </a:prstGeom>
          <a:ln w="0">
            <a:noFill/>
          </a:ln>
        </p:spPr>
      </p:pic>
      <p:pic>
        <p:nvPicPr>
          <p:cNvPr id="49" name="njm-trs-teaching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6248520" y="2209680"/>
            <a:ext cx="2514600" cy="15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21A9-2868-41B5-B9D1-D6070CCDFF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Architecture of JSU Distance Educ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1676520"/>
            <a:ext cx="1363680" cy="74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PAC Web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523880"/>
            <a:ext cx="1363680" cy="74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SU  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276720"/>
            <a:ext cx="1363680" cy="74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ava Tang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_OEQ127" descr=""/>
          <p:cNvPicPr/>
          <p:nvPr/>
        </p:nvPicPr>
        <p:blipFill>
          <a:blip r:embed="rId1"/>
          <a:stretch/>
        </p:blipFill>
        <p:spPr>
          <a:xfrm>
            <a:off x="6858000" y="4648320"/>
            <a:ext cx="858960" cy="984240"/>
          </a:xfrm>
          <a:prstGeom prst="rect">
            <a:avLst/>
          </a:prstGeom>
          <a:ln w="0">
            <a:noFill/>
          </a:ln>
        </p:spPr>
      </p:pic>
      <p:pic>
        <p:nvPicPr>
          <p:cNvPr id="55" name="B_OEQ127" descr=""/>
          <p:cNvPicPr/>
          <p:nvPr/>
        </p:nvPicPr>
        <p:blipFill>
          <a:blip r:embed="rId2"/>
          <a:stretch/>
        </p:blipFill>
        <p:spPr>
          <a:xfrm>
            <a:off x="287280" y="4906800"/>
            <a:ext cx="486000" cy="557280"/>
          </a:xfrm>
          <a:prstGeom prst="rect">
            <a:avLst/>
          </a:prstGeom>
          <a:ln w="0">
            <a:noFill/>
          </a:ln>
        </p:spPr>
      </p:pic>
      <p:pic>
        <p:nvPicPr>
          <p:cNvPr id="56" name="B_OEQ127" descr=""/>
          <p:cNvPicPr/>
          <p:nvPr/>
        </p:nvPicPr>
        <p:blipFill>
          <a:blip r:embed="rId3"/>
          <a:stretch/>
        </p:blipFill>
        <p:spPr>
          <a:xfrm>
            <a:off x="1623960" y="4906800"/>
            <a:ext cx="486000" cy="557280"/>
          </a:xfrm>
          <a:prstGeom prst="rect">
            <a:avLst/>
          </a:prstGeom>
          <a:ln w="0">
            <a:noFill/>
          </a:ln>
        </p:spPr>
      </p:pic>
      <p:pic>
        <p:nvPicPr>
          <p:cNvPr id="57" name="B_OEQ127" descr=""/>
          <p:cNvPicPr/>
          <p:nvPr/>
        </p:nvPicPr>
        <p:blipFill>
          <a:blip r:embed="rId4"/>
          <a:stretch/>
        </p:blipFill>
        <p:spPr>
          <a:xfrm>
            <a:off x="952560" y="4906800"/>
            <a:ext cx="485640" cy="557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063880" y="4542480"/>
            <a:ext cx="186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_OEQ127" descr=""/>
          <p:cNvPicPr/>
          <p:nvPr/>
        </p:nvPicPr>
        <p:blipFill>
          <a:blip r:embed="rId5"/>
          <a:stretch/>
        </p:blipFill>
        <p:spPr>
          <a:xfrm>
            <a:off x="3762360" y="4906800"/>
            <a:ext cx="485640" cy="557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38880" y="2438280"/>
            <a:ext cx="1800" cy="2119320"/>
          </a:xfrm>
          <a:prstGeom prst="line">
            <a:avLst/>
          </a:prstGeom>
          <a:ln w="57240">
            <a:solidFill>
              <a:srgbClr val="b948e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294920" y="4038480"/>
            <a:ext cx="685800" cy="68580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5440" y="1522800"/>
            <a:ext cx="212688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hare URL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dio Vid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ferencing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at Roo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ite Boards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93920" y="3035160"/>
            <a:ext cx="3754440" cy="129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09480" y="3962160"/>
            <a:ext cx="1067040" cy="6397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33160" y="2362320"/>
            <a:ext cx="1135080" cy="2344680"/>
          </a:xfrm>
          <a:prstGeom prst="line">
            <a:avLst/>
          </a:prstGeom>
          <a:ln w="38160">
            <a:solidFill>
              <a:srgbClr val="b948e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27240" y="3259800"/>
            <a:ext cx="2145240" cy="703800"/>
          </a:xfrm>
          <a:prstGeom prst="rect">
            <a:avLst/>
          </a:prstGeom>
          <a:solidFill>
            <a:srgbClr val="b94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dress at JSU o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64160" y="2942280"/>
            <a:ext cx="2148120" cy="703800"/>
          </a:xfrm>
          <a:prstGeom prst="rect">
            <a:avLst/>
          </a:prstGeom>
          <a:solidFill>
            <a:srgbClr val="b94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acher’s View o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7640" y="2513520"/>
            <a:ext cx="2108520" cy="703800"/>
          </a:xfrm>
          <a:prstGeom prst="rect">
            <a:avLst/>
          </a:prstGeom>
          <a:solidFill>
            <a:srgbClr val="b94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udent’s View o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4080" y="556164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cipants at J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51960" y="552492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acher/Lecturer at NP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3580200"/>
            <a:ext cx="186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3276720" y="4038120"/>
            <a:ext cx="761760" cy="6858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40600" y="4697640"/>
            <a:ext cx="21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rol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127920" y="5027760"/>
            <a:ext cx="682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4446360" y="5073120"/>
            <a:ext cx="493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2472-A339-4359-A0AE-E3F80A7CE6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JSU CSC 499: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Programming for the Web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1120" y="1980720"/>
            <a:ext cx="4495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aught in Spring 98 (started during Yr2). Repeat of Fall 97 class, popular at JSU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JSU faculty attended to “learn” materia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aught Web architecture, CGI programming and Jav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dditional refinements of architecture with proxy web  server to avoid copying of material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78" name="jsu-students1" descr=""/>
          <p:cNvPicPr/>
          <p:nvPr/>
        </p:nvPicPr>
        <p:blipFill>
          <a:blip r:embed="rId1"/>
          <a:srcRect l="0" t="16941" r="0" b="0"/>
          <a:stretch/>
        </p:blipFill>
        <p:spPr>
          <a:xfrm>
            <a:off x="1905120" y="2057400"/>
            <a:ext cx="2097000" cy="2676600"/>
          </a:xfrm>
          <a:prstGeom prst="rect">
            <a:avLst/>
          </a:prstGeom>
          <a:ln w="0">
            <a:noFill/>
          </a:ln>
        </p:spPr>
      </p:pic>
      <p:pic>
        <p:nvPicPr>
          <p:cNvPr id="79" name="jsu-students3" descr=""/>
          <p:cNvPicPr/>
          <p:nvPr/>
        </p:nvPicPr>
        <p:blipFill>
          <a:blip r:embed="rId2"/>
          <a:srcRect l="0" t="14544" r="0" b="0"/>
          <a:stretch/>
        </p:blipFill>
        <p:spPr>
          <a:xfrm>
            <a:off x="457200" y="4343400"/>
            <a:ext cx="274320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DE7F-66F9-4252-8558-12341D49FE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JSU CSC 539:  Computational Science for Simulation Applications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4572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aught parallel computing architecture, scientific applications and algorithms, parallel programming in C/MPI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sed an on-line “Virtual Programming Lab” to compute with NPAC parallel computing resource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eaching graduate students led to additional kinds of feedback for Tango and style of distance teaching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2" name="jsufall98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3938760" cy="37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B87FE-1447-49D8-ABCE-C1F2228E8E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Report presented at SC98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e paper “Synchronous Learning at a Distance:  Experiences with Tango Interactive was presented at the education sessions of SC98 in November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5" name="sc98-cover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241440" cy="4419360"/>
          </a:xfrm>
          <a:prstGeom prst="rect">
            <a:avLst/>
          </a:prstGeom>
          <a:ln w="0">
            <a:noFill/>
          </a:ln>
        </p:spPr>
      </p:pic>
      <p:pic>
        <p:nvPicPr>
          <p:cNvPr id="86" name="sc98-tango-paper" descr=""/>
          <p:cNvPicPr/>
          <p:nvPr/>
        </p:nvPicPr>
        <p:blipFill>
          <a:blip r:embed="rId2"/>
          <a:stretch/>
        </p:blipFill>
        <p:spPr>
          <a:xfrm>
            <a:off x="6095880" y="2743200"/>
            <a:ext cx="2835360" cy="30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1E9DC-2FEE-42FF-93E4-0D167A572A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Additional Course in Spring 99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9520" y="1905120"/>
            <a:ext cx="49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We have just begun teaching a distance education course based on the Syracuse course CPS616 Web Software Technologies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Given at JSU to 9 students for credit.   Also attended by 10 students at Mississippi State and 2 students from Clark Atlanta University for certificates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The course will include multi-tier web architecture, web-linked databases, user interfaces with JavaScript and DHTML, distributed objects with RMI and CORBA, XML, and security issues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9" name="jsufpring99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3353040" cy="32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9F04-3927-4838-BF18-91D1FCF2BE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ow in fourth semester of course delivery!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nhanced edu. opportunities for student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ives local faculty a head start developing new courses (i.e. JSU now teaching Programming for the Web via Tango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istance education tools &amp; techniques being adopted by JSU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C322-C606-416D-9967-528AFDC5EF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7T15:05:40Z</dcterms:created>
  <dc:creator>John T. Eberle</dc:creator>
  <dc:description/>
  <dc:language>en-US</dc:language>
  <cp:lastModifiedBy>David E Bernholdt</cp:lastModifiedBy>
  <cp:lastPrinted>1998-08-05T13:41:55Z</cp:lastPrinted>
  <dcterms:modified xsi:type="dcterms:W3CDTF">1999-01-29T17:07:31Z</dcterms:modified>
  <cp:revision>21</cp:revision>
  <dc:subject/>
  <dc:title>No Slide Title</dc:title>
</cp:coreProperties>
</file>