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8C01-34D4-4095-B2BC-217A63FDC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944C-52DF-4B7C-B536-75816BBB3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10C5-0FD0-4F12-A7F5-A378956BE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C49F-9535-43BB-ACDF-A06C22392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D299-C04C-46D1-83CD-26CB4566D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1F2A-E956-4B47-941A-254C62DF0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26B4-BB4C-4016-9C7D-460726014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B831-EDFF-4CD4-AB86-2D31A75A8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BDD5-3FEE-40CB-BE0C-09660DFBB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F532-6301-409F-9DD5-C4DBE4B27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087D-5BCF-4F96-9A0D-DB858F380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8681-EF00-4E45-B569-C384AE98B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2472-D9BC-4D05-99BE-1D1C4DBA0562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8D19-5BD3-4C50-9EF2-2CE4F009ED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3400" y="609120"/>
            <a:ext cx="726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censing Real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irst approach was to license RealAudio/RealVideo codecs and use them in our TANGO Interactive video and audio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ossible - RealNetworks licensed them themselv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lby Labor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pro Lab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more efficient way emerged--RealMedia Architecture SD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0DB3-1431-496A-8856-21E605121C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43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System and 3rd Party Softw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K provides complete control over RealSystem client and server components encapsulated in COM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PC, Unix, M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Media Architecture SDK is currently in Beta10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cient stability and robus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used to integrate with our distance learning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25F4-72FE-448D-8203-00694BA81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60912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RealP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A SDK also provides Java implementation of key RMA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Java Media Framework from SUN, Intel, and S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evaluation of JMF RealMedia System is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mplementation lacks stability and robus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inferior to our own Java H263 streaming audio/video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available only for 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93E3-A9E8-4316-BB87-A81A4989B0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3400" y="609120"/>
            <a:ext cx="726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RealAV/TAN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developed a prototype implementation of a RealMedia client (player) for 32-bit Windows plat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is collaborative via TANGO Interactive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ous/Asynchronous playback of Real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0988-39E5-489D-AECA-1F56F4F92F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18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EG1 =&gt; Real Video/Real Audio conve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with automatic index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adding URL information to RealMedi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with database backend for course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ewer/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 i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d random access, also collab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C4F2-3EA8-4938-BC68-10E523430F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ROM Technical Progres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evisions/updates to support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 Science/Parallel Processing Training &amp; Educational Materials Arch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links to teaching support materials (both undergraduate &amp; graduate lev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ve search &amp; evaluation of external cours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ack of good material on current (&lt; 2 yrs old) parallel computer architectures for non-CS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EADD-5C50-45E9-A289-CAC45AD32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ROM Technical Progres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erformance Fortran (HPF)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HPF Tutorial from Chuck Koel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PF Applications (HPFA) - small example ker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PFA benchmarking results w/ various early compi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FB2D-0C2C-43DD-9075-D0A03FF193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ROM Technical Progres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’l HPCC Software Exchange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developed by CRPC’s NH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updated for CD-ROM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ssary of HPCC 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 of HPCC Hardwar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of Parallel Comput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ABCA-6484-45BF-BA39-6FC2830CFE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ROM Futur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ed by MSU about MPI-related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ck Koelbel just made latest Designing &amp; Building Parallel Programs available - may be able to get voice-over from ARL or A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A49D-3578-407F-82C5-2F5C668DA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/C Technical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multimedia database needs for train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&amp; being written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training content straightforward to understand/manipulate (HTML, PowerPoint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question involves how to integrate streaming audio/video technologies, which are widely used, and quite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Audio/Video key player in this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CA2A-EB65-4BEE-A139-661036EFD4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60912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Media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system developed by RealNetworks that gives content creators the ability to stream various data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, video, tex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used standard (CNN.com, FoxNews.com, ABCNews.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available for many platforms, each component available in a free var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5271-5EBC-4E1F-A400-78AD8BFB41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60912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Encoder--encodes real-time/stored video/audio into a file and/or a pipe to the Real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Server--broadcasts the RealMedia stream to Real Clients (play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layer--receives the RealMedia stream and plays it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mponents are available in 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, most of them are cross-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A1A1-75DD-476C-8D9D-5DB8EF99E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18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Evaluation of 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ocused on the following aspects of Real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with our distance learning TANGO Inter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with WebWisdom NT  database backend for playing multimedia coursewar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System is probably the best existing framework for streaming,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synchron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elivery o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on-dem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media content currently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uitable for synchronous, interactive delivery due to inherent de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EBAE-A0AE-4069-93D4-1F4079829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13:11:55Z</dcterms:created>
  <dc:creator>David E Bernholdt</dc:creator>
  <dc:description/>
  <dc:language>en-US</dc:language>
  <cp:lastModifiedBy>David E Bernholdt</cp:lastModifiedBy>
  <cp:lastPrinted>1998-08-05T13:41:55Z</cp:lastPrinted>
  <dcterms:modified xsi:type="dcterms:W3CDTF">1998-08-25T13:41:34Z</dcterms:modified>
  <cp:revision>8</cp:revision>
  <dc:subject/>
  <dc:title>No Slide Title</dc:title>
</cp:coreProperties>
</file>