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86C7-20DD-4195-910A-566B304E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F6C0-938E-448E-9FB7-52622269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DE97-CF30-461C-B772-B7D176DF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A830-7784-4793-A521-EBF6B9EA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FA3F-2F18-406F-B9CD-DCB4395A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7187-FB5D-4A2C-BA75-15596083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6078-4B5A-47A1-B3EB-5C0E8437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F9BD-2F33-4C2D-8D45-D13E0AB4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8FFD-3B89-44DE-9E45-1A22BE2F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BCCC-D463-4939-B822-F73074C0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3158-B6DC-42FA-A189-AE070E1D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B723-83A1-440F-866F-D04AD8BB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6C0B-28A7-4F5F-94C1-D44CB4A48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ook Antiqua"/>
              </a:rPr>
              <a:t>Web - Linked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ull - Text Web Search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b Site Manage Syste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53800" y="4648320"/>
            <a:ext cx="575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en-US" sz="2400" spc="-1" strike="noStrike">
                <a:solidFill>
                  <a:srgbClr val="a50021"/>
                </a:solidFill>
                <a:latin typeface="Century Schoolbook"/>
              </a:rPr>
              <a:t>Yuping Z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Century Schoolbook"/>
              </a:rPr>
              <a:t>Northeast Parallel Architecture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Century Schoolbook"/>
              </a:rPr>
              <a:t>             </a:t>
            </a:r>
            <a:r>
              <a:rPr b="1" i="1" lang="en-US" sz="2400" spc="-1" strike="noStrike">
                <a:solidFill>
                  <a:srgbClr val="a50021"/>
                </a:solidFill>
                <a:latin typeface="Century Schoolbook"/>
              </a:rPr>
              <a:t>Syracuse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a50021"/>
                </a:solidFill>
                <a:latin typeface="Century Schoolbook"/>
              </a:rPr>
              <a:t>Feb. 3,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creen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ook Antiqua"/>
              </a:rPr>
              <a:t>Robot Manage T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8600" y="1523880"/>
            <a:ext cx="700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d60093"/>
                </a:solidFill>
                <a:latin typeface="NewCenturySchlbk"/>
              </a:rPr>
              <a:t>User ID, password (can be chang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figure Rob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d60093"/>
                </a:solidFill>
                <a:latin typeface="NewCenturySchlbk"/>
              </a:rPr>
              <a:t>Set directory, DB ID/password, Max depth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60093"/>
                </a:solidFill>
                <a:latin typeface="NewCenturySchlbk"/>
              </a:rPr>
              <a:t>    </a:t>
            </a:r>
            <a:r>
              <a:rPr b="1" i="1" lang="en-US" sz="2400" spc="-1" strike="noStrike">
                <a:solidFill>
                  <a:srgbClr val="d60093"/>
                </a:solidFill>
                <a:latin typeface="NewCenturySchlbk"/>
              </a:rPr>
              <a:t>Web site domain,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 Robot On-line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d60093"/>
                </a:solidFill>
                <a:latin typeface="NewCenturySchlbk"/>
              </a:rPr>
              <a:t>Gathered pages, discarded pages, dead link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60093"/>
                </a:solidFill>
                <a:latin typeface="NewCenturySchlbk"/>
              </a:rPr>
              <a:t>    </a:t>
            </a:r>
            <a:r>
              <a:rPr b="1" i="1" lang="en-US" sz="2400" spc="-1" strike="noStrike">
                <a:solidFill>
                  <a:srgbClr val="d60093"/>
                </a:solidFill>
                <a:latin typeface="NewCenturySchlbk"/>
              </a:rPr>
              <a:t>covered servers, waiting p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t UR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d60093"/>
                </a:solidFill>
                <a:latin typeface="NewCenturySchlbk"/>
              </a:rPr>
              <a:t>Add new start URLs, check old start U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creen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ook Antiqua"/>
              </a:rPr>
              <a:t>Web Site Manag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02880" y="1676520"/>
            <a:ext cx="7693920" cy="44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Century Schoolbook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ystem is intended to facilitat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y-to-day operations and mainten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Web Site. It divides documents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Site into  three types -- “prototype”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on” and “archive”. It also provi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session and grants different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hierarchical privile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ook Antiqua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1523880"/>
            <a:ext cx="7696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d60093"/>
                </a:solidFill>
                <a:latin typeface="NewCenturySchlbk"/>
              </a:rPr>
              <a:t>System, manager, developer or public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d / delete / modify us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age docu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d60093"/>
                </a:solidFill>
                <a:latin typeface="NewCenturySchlbk"/>
              </a:rPr>
              <a:t>Insert, delete, change status, update, review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60093"/>
                </a:solidFill>
                <a:latin typeface="NewCenturySchlbk"/>
              </a:rPr>
              <a:t>   </a:t>
            </a:r>
            <a:r>
              <a:rPr b="1" i="1" lang="en-US" sz="2400" spc="-1" strike="noStrike">
                <a:solidFill>
                  <a:srgbClr val="d60093"/>
                </a:solidFill>
                <a:latin typeface="NewCenturySchlbk"/>
              </a:rPr>
              <a:t>archive, 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d60093"/>
                </a:solidFill>
                <a:latin typeface="NewCenturySchlbk"/>
              </a:rPr>
              <a:t>Public, internal or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r change password / time-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ook Antiqua"/>
              </a:rPr>
              <a:t>Data in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1600200"/>
            <a:ext cx="588312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entury Schoolbook"/>
              </a:rPr>
              <a:t>Attrib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 Auth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 User’s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 Submit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 Last modification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 Expiration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 Reviewer and review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 Document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entury Schoolbook"/>
              </a:rPr>
              <a:t>T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ither in DB or external 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screen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Book Antiqua"/>
              </a:rPr>
              <a:t>Why Web Search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owth of 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b Space grows dramatica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rs locate the document quick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b-masters get web’s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entralize the docu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Book Antiqua"/>
              </a:rPr>
              <a:t>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acle 7.3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acle ConText O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acle Web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P/IP and HTTP (CGI, HTM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red mem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maphore man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Book Antiqua"/>
              </a:rPr>
              <a:t>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034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1981080"/>
            <a:ext cx="68580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ther Subsystem: Rob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66"/>
                </a:solidFill>
                <a:latin typeface="NewCenturySchlbk"/>
              </a:rPr>
              <a:t>Gather, Inspector, Loader,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ex Sub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arch Sub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0066"/>
                </a:solidFill>
                <a:latin typeface="NewCenturySchlbk"/>
              </a:rPr>
              <a:t>Search package, Web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bot Mana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b Information pa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ook Antiqua"/>
              </a:rPr>
              <a:t>Gather Subsystem Data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06600" y="1752480"/>
          <a:ext cx="8067600" cy="39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1752480"/>
                    <a:ext cx="806760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ook Antiqua"/>
              </a:rPr>
              <a:t>Search Subsystem Data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62120" y="1523880"/>
          <a:ext cx="777240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7724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ook Antiqua"/>
              </a:rPr>
              <a:t>Search System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2057400"/>
            <a:ext cx="815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fic Web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d60093"/>
                </a:solidFill>
                <a:latin typeface="NewCenturySchlbk"/>
              </a:rPr>
              <a:t>http://apollo.wes.hpc.m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fic Dire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d60093"/>
                </a:solidFill>
                <a:latin typeface="NewCenturySchlbk"/>
              </a:rPr>
              <a:t>http://www.npac.syr.edu/users/g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ral Servers under An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d60093"/>
                </a:solidFill>
                <a:latin typeface="NewCenturySchlbk"/>
              </a:rPr>
              <a:t>http://*.wes.army.m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fic Technology Do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d60093"/>
                </a:solidFill>
                <a:latin typeface="NewCenturySchlbk"/>
              </a:rPr>
              <a:t>Grid Generation Search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ook Antiqua"/>
              </a:rPr>
              <a:t>Some Search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creen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ook Antiqua"/>
              </a:rPr>
              <a:t>Web Server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88280" y="1905120"/>
            <a:ext cx="72781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d60093"/>
                </a:solidFill>
                <a:latin typeface="NewCenturySchlbk"/>
              </a:rPr>
              <a:t>Total page and size, longest and shortest p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60093"/>
                </a:solidFill>
                <a:latin typeface="NewCenturySchlbk"/>
              </a:rPr>
              <a:t>    </a:t>
            </a:r>
            <a:r>
              <a:rPr b="1" i="1" lang="en-US" sz="2400" spc="-1" strike="noStrike">
                <a:solidFill>
                  <a:srgbClr val="d60093"/>
                </a:solidFill>
                <a:latin typeface="NewCenturySchlbk"/>
              </a:rPr>
              <a:t>size, dead links, discarded links, covered we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60093"/>
                </a:solidFill>
                <a:latin typeface="NewCenturySchlbk"/>
              </a:rPr>
              <a:t>    </a:t>
            </a:r>
            <a:r>
              <a:rPr b="1" i="1" lang="en-US" sz="2400" spc="-1" strike="noStrike">
                <a:solidFill>
                  <a:srgbClr val="d60093"/>
                </a:solidFill>
                <a:latin typeface="NewCenturySchlbk"/>
              </a:rPr>
              <a:t>servers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d60093"/>
                </a:solidFill>
                <a:latin typeface="NewCenturySchlbk"/>
              </a:rPr>
              <a:t>Page’s location in file system on Web Ser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60093"/>
                </a:solidFill>
                <a:latin typeface="NewCenturySchlbk"/>
              </a:rPr>
              <a:t>     </a:t>
            </a:r>
            <a:r>
              <a:rPr b="1" i="1" lang="en-US" sz="2400" spc="-1" strike="noStrike">
                <a:solidFill>
                  <a:srgbClr val="d60093"/>
                </a:solidFill>
                <a:latin typeface="NewCenturySchlbk"/>
              </a:rPr>
              <a:t>based-on gathe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ow dead / discarded lin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9T02:31:29Z</dcterms:created>
  <dc:creator>Yuping Zhu</dc:creator>
  <dc:description/>
  <dc:language>en-US</dc:language>
  <cp:lastModifiedBy>David E Bernholdt</cp:lastModifiedBy>
  <dcterms:modified xsi:type="dcterms:W3CDTF">1998-02-16T02:54:44Z</dcterms:modified>
  <cp:revision>42</cp:revision>
  <dc:subject/>
  <dc:title>WEB - Linked Databa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osprey7.npac.syr.edu:1963/apollo</vt:lpwstr>
  </property>
  <property fmtid="{D5CDD505-2E9C-101B-9397-08002B2CF9AE}" pid="9" name="LinkColor">
    <vt:r8>16711782</vt:r8>
  </property>
  <property fmtid="{D5CDD505-2E9C-101B-9397-08002B2CF9AE}" pid="10" name="MailAddress">
    <vt:lpwstr>yuzhu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yuzhu\test</vt:lpwstr>
  </property>
  <property fmtid="{D5CDD505-2E9C-101B-9397-08002B2CF9AE}" pid="14" name="ScreenSize">
    <vt:r8>3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