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52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4.wmf" ContentType="image/x-wmf"/>
  <Override PartName="/ppt/media/image6.png" ContentType="image/png"/>
  <Override PartName="/ppt/media/image36.png" ContentType="image/png"/>
  <Override PartName="/ppt/media/image45.jpeg" ContentType="image/jpeg"/>
  <Override PartName="/ppt/media/image32.png" ContentType="image/png"/>
  <Override PartName="/ppt/media/image34.png" ContentType="image/png"/>
  <Override PartName="/ppt/media/image40.png" ContentType="image/png"/>
  <Override PartName="/ppt/media/image42.png" ContentType="image/pn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49.png" ContentType="image/png"/>
  <Override PartName="/ppt/media/image12.wmf" ContentType="image/x-wmf"/>
  <Override PartName="/ppt/media/image51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10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9C83-F4BC-44AA-A014-7D4DE99D1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5018-E68D-4105-894D-07B37EDC3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9C4B-8782-4EC0-BE47-D8644E7E9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51AA-CE1D-4434-89E9-AD0BEFEE44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EA9E-E76A-4341-8AC6-82A3E56F08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FCEB-09C1-483E-861F-5D6B9A785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205E-54F5-4B9D-8FCF-7BE28B422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1E0C-719A-4612-90DA-8DC9A0181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73A1-00B8-4435-AB8C-3DF41B653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67FF-ABB9-42AA-8286-8353C00E3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497F-B46C-457A-AD2E-2139847102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021D-626E-41D0-B4B5-C1C291F0F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E488-D28E-497A-825E-95A29F2DCD22}" type="slidenum">
              <a:rPr b="0" lang="en-US" sz="9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ETIMAGE" descr=""/>
          <p:cNvPicPr/>
          <p:nvPr/>
        </p:nvPicPr>
        <p:blipFill>
          <a:blip r:embed="rId2"/>
          <a:stretch/>
        </p:blipFill>
        <p:spPr>
          <a:xfrm>
            <a:off x="504720" y="0"/>
            <a:ext cx="8334360" cy="533520"/>
          </a:xfrm>
          <a:prstGeom prst="rect">
            <a:avLst/>
          </a:prstGeom>
          <a:ln w="0">
            <a:noFill/>
          </a:ln>
        </p:spPr>
      </p:pic>
      <p:pic>
        <p:nvPicPr>
          <p:cNvPr id="4" name="Nrclogo" descr=""/>
          <p:cNvPicPr/>
          <p:nvPr/>
        </p:nvPicPr>
        <p:blipFill>
          <a:blip r:embed="rId3"/>
          <a:stretch/>
        </p:blipFill>
        <p:spPr>
          <a:xfrm>
            <a:off x="0" y="6149880"/>
            <a:ext cx="1892160" cy="708120"/>
          </a:xfrm>
          <a:prstGeom prst="rect">
            <a:avLst/>
          </a:prstGeom>
          <a:ln w="0">
            <a:noFill/>
          </a:ln>
        </p:spPr>
      </p:pic>
      <p:pic>
        <p:nvPicPr>
          <p:cNvPr id="5" name="newmsrclogo" descr=""/>
          <p:cNvPicPr/>
          <p:nvPr/>
        </p:nvPicPr>
        <p:blipFill>
          <a:blip r:embed="rId4"/>
          <a:stretch/>
        </p:blipFill>
        <p:spPr>
          <a:xfrm>
            <a:off x="6705720" y="6122880"/>
            <a:ext cx="2133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Review of Year 3 Project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aining Core -- Statu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rip reports posted to NPAC web site &amp; distributed by emai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1600" indent="-2916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ET Program-Wide Training Group Meetings (at User Group Conference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1600" indent="-2916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ango enhancements &amp; releases to support training and educa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31440" indent="-2426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ngo 1.01, May’98 (“all browser” support not released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31440" indent="-2426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ngo 1.02, Oct’98 (robustnes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291600" indent="-2916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val of multimedia db needs for train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75AF-7A74-4B20-B3CD-7B5EB9FA27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rogress in developing WebHLA - potential new breakthrough technology from FMS CT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publication efforts (several papers, book, FMS Web site) generate broad visibility for FM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solid relations with Ft. Belvoir and SPAWAR (via joint CHSSI proposals)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l interest of JSIMS (Jeff Wallace) and DMSO (Judith Dahmann) in WebHL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8112-FCD2-4DED-83FE-E924F1AC19D2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aining Core -- Other Metric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2214-6816-4F92-81EB-8EE62D6FBE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ip Report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rip reports from more than 30 events this year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ost related to collab/training and/or other technical area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Very few events PET-suppor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http://www.npac.syr.edu/users/bernhold/trip-reports/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lso distributed by emai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68" name="trip-report-web" descr=""/>
          <p:cNvPicPr/>
          <p:nvPr/>
        </p:nvPicPr>
        <p:blipFill>
          <a:blip r:embed="rId1"/>
          <a:stretch/>
        </p:blipFill>
        <p:spPr>
          <a:xfrm>
            <a:off x="5715000" y="1371600"/>
            <a:ext cx="335268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0235-DDCD-4855-B227-060C64C5CB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 On-going Enhancements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ain focus on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ystem robustness and maintainabilit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nhancements for collaborative and educational functions (new and improved application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inkage of synchronous and asynchronous mod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inkage to asynchronous document repositori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atabases and W3C object model shar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ystem programmability (API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ocumentation and training materia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CC16-43E0-44DB-BF34-5BC6A59087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ystem Releas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1.0 released in May 98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ackaged servers for both UNIX and Windows NT platform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utomated, industrial grade installation procedur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dustrial grade stability and robustnes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ackaging for the complete application suit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ystem deployed at CEWES and ARL and at several HBCU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sed by several universities in US and abroad (~ 1000 download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FE24-3D10-412B-85E4-C943C727BB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1.1 Releas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Radically improved syste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vailable internally in NPA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ublic release expected mid-February 99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mploys newest Java and browser technolog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corporates all “lessons learned” from T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1.0 deployment and us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ew paradigm for “collaboration space” navigation, session handling, and floor contro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hierarchical view of the “interaction space”, “Metaverse traversing” suppor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C532-6C75-41EC-9FDF-1B1F5B92B3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newca2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153040" cy="3019320"/>
          </a:xfrm>
          <a:prstGeom prst="rect">
            <a:avLst/>
          </a:prstGeom>
          <a:ln w="0">
            <a:noFill/>
          </a:ln>
        </p:spPr>
      </p:pic>
      <p:pic>
        <p:nvPicPr>
          <p:cNvPr id="76" name="newca3" descr=""/>
          <p:cNvPicPr/>
          <p:nvPr/>
        </p:nvPicPr>
        <p:blipFill>
          <a:blip r:embed="rId2"/>
          <a:stretch/>
        </p:blipFill>
        <p:spPr>
          <a:xfrm>
            <a:off x="6019920" y="1295280"/>
            <a:ext cx="2438280" cy="3743280"/>
          </a:xfrm>
          <a:prstGeom prst="rect">
            <a:avLst/>
          </a:prstGeom>
          <a:ln w="0">
            <a:noFill/>
          </a:ln>
        </p:spPr>
      </p:pic>
      <p:pic>
        <p:nvPicPr>
          <p:cNvPr id="77" name="newca4" descr=""/>
          <p:cNvPicPr/>
          <p:nvPr/>
        </p:nvPicPr>
        <p:blipFill>
          <a:blip r:embed="rId3"/>
          <a:stretch/>
        </p:blipFill>
        <p:spPr>
          <a:xfrm>
            <a:off x="2971800" y="3733920"/>
            <a:ext cx="2486160" cy="3076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3520" y="3962520"/>
            <a:ext cx="2286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1.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Graphical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(based on Java Swing clas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C8AF-4D6E-4418-8AB3-9FF1AB5FBC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Enhanced Support for Collabor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pplication improvements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uenaVista 3.0 (T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videoconferencing agent) completely rewritten for PCs and SGIs platform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obust multithreaded implementation, extensively tested for stabil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mproved audio and video qual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upport for multiple audio and video card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-implemented robust session control protoco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designed user interfac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etailed documentation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inux implementation ongo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V has been critical for remote class and training deliver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3" marL="1487880" indent="-21240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Version 3.0 will be released with T</a:t>
            </a:r>
            <a:r>
              <a:rPr b="0" lang="en-US" sz="18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1.1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72E1-73E1-4186-8A16-37CAE48EF8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V7pc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53416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484D-AA91-463B-9E30-8800C07BE5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Enhanced Support for Collabor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pplication improvement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mprovements to WebWisdom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ew DHTML shared brows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expect GCF will have foils for thi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7473-CFEF-4AA7-847A-06FC6F62C2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ore Support</a:t>
            </a: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ollaboration/Communication</a:t>
            </a: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(C/C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nnual Review 9-10 February 1999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Enhanced Support for Collabor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applic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ayered whiteboard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used in several applications, advanced authoring mode, import/export/save support, telecursor, scriptable external interface, advanced image compression, …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hared brows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obust, supports frames and embedded MM object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hat tool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dvanced avatar 2.5D chat for “telepresence”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ew professional text chat with many advanced features, including clipboard, session save/mail, and latecomers support, fully customizabl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C57B-28A4-4AAA-A50B-FA541BA918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Enhanced Support for Collabor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applications, cont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hared Telnet too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nhances Year 2 remote consulting tools suit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eployed during remote training sessi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ew  “instructor feedback” too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ntinuous audience feedback pooling and visualiza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structor alert tool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hared streaming media tool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Java H263/GSM video viewer with database interfac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alVideo player (use and distribution agreed with supported by Progressive Network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D8881-12FA-4C8C-AB49-4FE89F6FF6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Robustness and Stabilit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xtensive in-house and field test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ug submission and fix tracing procedur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-depth study of underlying (undocumented) browser technolog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ozens of bugs uncovered and fixed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mprovements to protocols and architectural modifications in multithreaded design of server and clien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Robust installation procedures implemen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59A9-9775-4994-A6A4-D5EA31C1F7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Universal Browser Suppor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oW stipulates support for Internet Explorer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83280" indent="-2628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etermined to be very expensive and time consuming, so we found a better wa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lternative approach studied, designed, and prototyped (full impl. proposed for Year 4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83280" indent="-26280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olution also helps with some problems of browsers relative to Tango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51560" indent="-210240"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Browsers critical but extremely unfriendly for develope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51560" indent="-210240"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erformance problems under UNIX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51560" indent="-210240"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evelopment and maintenance of  two different technologies too expensiv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83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1C5A-5EE8-4C1C-A813-A7D0426DD9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Programming Interfac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o enable 3rd-party application development, a set of new APIs was designed and documen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ttp://www.npac.syr.edu/tango/Developers_pages/developers_pages.html</a:t>
            </a:r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runtime functionality encapsulated in a system proxy agen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roxy methods callable from any languag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Bean enables visual programming of collaborative applications (no extra coding!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APIs support embedding of </a:t>
            </a: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active shared objects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in Web pages!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B48C-BC3D-45C6-BB35-D03726CD33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owards Virtual Civilization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ersonal Identity Module for 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GO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tabase backend (relational or LDAP) to hold user identities and information, interfaced to collaboratory server (70% completed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upports authentication, security, assessmen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ecessary for sync/async integration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/Mail/Listserv interface implemented, being integra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Local storage and file distribution interface implemented, being integra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EC874-C7D2-45FA-9F6F-59244E5ECD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ustomizabilit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client  supports configurable, domain-specific interfac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election of collaborative tool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redefined, automatically started session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idden agents (faceless applic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ulti-frame integrated interfac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dministrative interfac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ll aspects under external control of system administrator/end us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14C8-5AC1-44FA-A233-A12C9BFD078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Virtual Space Navigation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run-time server hop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communities/interest group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Hierarchical visualization of the “collaboration space”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erver/community/session/us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ore granular, “per-session” floor contro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session control paradig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mprehensive, multi-level access to user informa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7CC7-3CF9-4A81-993C-930A8E63BA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hared Access to Databas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shared browser supports shared access to pages of arbitrary complexity, including CSS-based content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haring of XML-compliant documents is fully suppor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hared access to relational courseware repositories is implemented via server-side extensions implementing XML-style tags (WebWisdom NT 2.1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B3A2-7F7C-47B2-9BD9-314CAA40F31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Deployment Statu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education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Jackson State University (full install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organ State University (full install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lark Atlanta, Houston, MSU  (client side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training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EWES (full install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RL/HEAT center (full install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SC (client and collaboratory server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C, NAVO, NRL (client side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7D3E-0454-4E68-9263-50A21CD0522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ollaboration/Communication Cor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uk Bec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vid Bernhold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m Majo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Konrad Olszewski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arek Podgorn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iotr Sokolowski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emek Trzask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Yuping Zhu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17A6-822E-4D0C-AA1C-1DCD397091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ntributed substantially to tracking of technology and progress in broad area (not limited to C/C &amp; Training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bstantial enhancement of Tango to meet requirements of PET education, training and collaboration activities.  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ools are now in a position where routine use by broad spectrum of users is appropriate; deployment/acceptance is next issu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927B-8809-44C0-8B78-BBEF59736F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 for Curricula Enhancemen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nnual Review 9-10 February 1999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 for Curricula Enhancemen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zgur Balsoy, Saleh Elmohamed, Geoffrey Fox, Meryem Ispirli, Jin Jianxiang, Norka Lucena, Tom Major, Roman Markowski, Nancy McCracken, Marek Podgorny, Tom Scavo, Mehmet Sen, Tom Stachowiak, Remek Trzask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18255-762C-4952-923A-ACDEC8B4614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 -- Statu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ctivities/Deliverabl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ught distance course at Jackson Stat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SC499 “Programming for the Web” in Spring 98 (started during Year 2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SC539 “Computational Science for Simulation Applications” in Fall 98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PS616 “Web Software Technologies” Spr’99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ffered for free to all PET partners (not actually a deliverable of any PET project)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7499-EEA5-41A5-B1FB-1C04C6845B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-- Other Metric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4 trips to JSU by NPAC instructors, 1 for Tango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2120" indent="-3121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pring 98 class: 8 students,  Fall 98 class: 7 students, Spring 99 class: 21 students (3 schools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2120" indent="-3121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resentation at SC98:  </a:t>
            </a: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Synchronous Learning at a Distance:  Experiences with Tango Interactiv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2120" indent="-3121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stalled Student Database System (written at NPAC) at JSU for use with other dist. edu. courses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2120" indent="-3121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xtensive &amp; regular use of DREN &amp; interactions with DREN staff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6976-FD54-4A5F-B6EB-BB51525BD83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 for Curricula Enhancemen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5333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search” universities deliver courses over the network to “teaching focused” universiti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provide students and faculty with access to leading-edge course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jump start” local courses based on material originally delivered remotely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Use TangoInteractive/ WebWisdom for synchronous delivery of lectures from SU to JSU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ilot for distance training of DoD use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17" name="jsu-students2" descr=""/>
          <p:cNvPicPr/>
          <p:nvPr/>
        </p:nvPicPr>
        <p:blipFill>
          <a:blip r:embed="rId1"/>
          <a:srcRect l="0" t="0" r="27827" b="0"/>
          <a:stretch/>
        </p:blipFill>
        <p:spPr>
          <a:xfrm>
            <a:off x="6553080" y="4038480"/>
            <a:ext cx="1905120" cy="1782720"/>
          </a:xfrm>
          <a:prstGeom prst="rect">
            <a:avLst/>
          </a:prstGeom>
          <a:ln w="0">
            <a:noFill/>
          </a:ln>
        </p:spPr>
      </p:pic>
      <p:pic>
        <p:nvPicPr>
          <p:cNvPr id="118" name="njm-trs-teaching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6248520" y="2209680"/>
            <a:ext cx="2514600" cy="15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A279-831B-4F19-AA35-A6BE234A0EB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Architecture of JSU Distance Educ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1676520"/>
            <a:ext cx="1363680" cy="74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PAC Web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1523880"/>
            <a:ext cx="1363680" cy="74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SU  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3276720"/>
            <a:ext cx="1363680" cy="74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ava Tang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B_OEQ127" descr=""/>
          <p:cNvPicPr/>
          <p:nvPr/>
        </p:nvPicPr>
        <p:blipFill>
          <a:blip r:embed="rId1"/>
          <a:stretch/>
        </p:blipFill>
        <p:spPr>
          <a:xfrm>
            <a:off x="6858000" y="4648320"/>
            <a:ext cx="858960" cy="984240"/>
          </a:xfrm>
          <a:prstGeom prst="rect">
            <a:avLst/>
          </a:prstGeom>
          <a:ln w="0">
            <a:noFill/>
          </a:ln>
        </p:spPr>
      </p:pic>
      <p:pic>
        <p:nvPicPr>
          <p:cNvPr id="124" name="B_OEQ127" descr=""/>
          <p:cNvPicPr/>
          <p:nvPr/>
        </p:nvPicPr>
        <p:blipFill>
          <a:blip r:embed="rId2"/>
          <a:stretch/>
        </p:blipFill>
        <p:spPr>
          <a:xfrm>
            <a:off x="287280" y="4906800"/>
            <a:ext cx="486000" cy="557280"/>
          </a:xfrm>
          <a:prstGeom prst="rect">
            <a:avLst/>
          </a:prstGeom>
          <a:ln w="0">
            <a:noFill/>
          </a:ln>
        </p:spPr>
      </p:pic>
      <p:pic>
        <p:nvPicPr>
          <p:cNvPr id="125" name="B_OEQ127" descr=""/>
          <p:cNvPicPr/>
          <p:nvPr/>
        </p:nvPicPr>
        <p:blipFill>
          <a:blip r:embed="rId3"/>
          <a:stretch/>
        </p:blipFill>
        <p:spPr>
          <a:xfrm>
            <a:off x="1623960" y="4906800"/>
            <a:ext cx="486000" cy="557280"/>
          </a:xfrm>
          <a:prstGeom prst="rect">
            <a:avLst/>
          </a:prstGeom>
          <a:ln w="0">
            <a:noFill/>
          </a:ln>
        </p:spPr>
      </p:pic>
      <p:pic>
        <p:nvPicPr>
          <p:cNvPr id="126" name="B_OEQ127" descr=""/>
          <p:cNvPicPr/>
          <p:nvPr/>
        </p:nvPicPr>
        <p:blipFill>
          <a:blip r:embed="rId4"/>
          <a:stretch/>
        </p:blipFill>
        <p:spPr>
          <a:xfrm>
            <a:off x="952560" y="4906800"/>
            <a:ext cx="485640" cy="557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063880" y="4542480"/>
            <a:ext cx="186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B_OEQ127" descr=""/>
          <p:cNvPicPr/>
          <p:nvPr/>
        </p:nvPicPr>
        <p:blipFill>
          <a:blip r:embed="rId5"/>
          <a:stretch/>
        </p:blipFill>
        <p:spPr>
          <a:xfrm>
            <a:off x="3762360" y="4906800"/>
            <a:ext cx="485640" cy="557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238880" y="2438280"/>
            <a:ext cx="1800" cy="2119320"/>
          </a:xfrm>
          <a:prstGeom prst="line">
            <a:avLst/>
          </a:prstGeom>
          <a:ln w="57240">
            <a:solidFill>
              <a:srgbClr val="b948e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294920" y="4038480"/>
            <a:ext cx="685800" cy="68580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5440" y="1522800"/>
            <a:ext cx="212688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hare URL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dio Vide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ferencing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at Roo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ite Boards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93920" y="3035160"/>
            <a:ext cx="3754440" cy="129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09480" y="3962160"/>
            <a:ext cx="1067040" cy="6397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33160" y="2362320"/>
            <a:ext cx="1135080" cy="2344680"/>
          </a:xfrm>
          <a:prstGeom prst="line">
            <a:avLst/>
          </a:prstGeom>
          <a:ln w="38160">
            <a:solidFill>
              <a:srgbClr val="b948e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27240" y="3259800"/>
            <a:ext cx="2145240" cy="703800"/>
          </a:xfrm>
          <a:prstGeom prst="rect">
            <a:avLst/>
          </a:prstGeom>
          <a:solidFill>
            <a:srgbClr val="b94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dress at JSU o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64160" y="2942280"/>
            <a:ext cx="2148120" cy="703800"/>
          </a:xfrm>
          <a:prstGeom prst="rect">
            <a:avLst/>
          </a:prstGeom>
          <a:solidFill>
            <a:srgbClr val="b94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acher’s View o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7640" y="2513520"/>
            <a:ext cx="2108520" cy="703800"/>
          </a:xfrm>
          <a:prstGeom prst="rect">
            <a:avLst/>
          </a:prstGeom>
          <a:solidFill>
            <a:srgbClr val="b94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udent’s View o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4080" y="556164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cipants at J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51960" y="552492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acher/Lecturer at NP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3580200"/>
            <a:ext cx="186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276720" y="4038120"/>
            <a:ext cx="761760" cy="6858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40600" y="4697640"/>
            <a:ext cx="21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rol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127920" y="5027760"/>
            <a:ext cx="682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446360" y="5073120"/>
            <a:ext cx="493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F4A8-EC19-4993-830C-66740DDBFD4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JSU CSC 499:</a:t>
            </a: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Programming for the Web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1120" y="1980720"/>
            <a:ext cx="4495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aught in Spring 98 (started during Yr2). Repeat of Fall 97 class, popular at JSU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JSU faculty attended to “learn” materia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aught Web architecture, CGI programming and Jav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dditional refinements of architecture with proxy web  server to avoid copying of material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47" name="jsu-students1" descr=""/>
          <p:cNvPicPr/>
          <p:nvPr/>
        </p:nvPicPr>
        <p:blipFill>
          <a:blip r:embed="rId1"/>
          <a:srcRect l="0" t="16941" r="0" b="0"/>
          <a:stretch/>
        </p:blipFill>
        <p:spPr>
          <a:xfrm>
            <a:off x="1905120" y="2057400"/>
            <a:ext cx="2097000" cy="2676600"/>
          </a:xfrm>
          <a:prstGeom prst="rect">
            <a:avLst/>
          </a:prstGeom>
          <a:ln w="0">
            <a:noFill/>
          </a:ln>
        </p:spPr>
      </p:pic>
      <p:pic>
        <p:nvPicPr>
          <p:cNvPr id="148" name="jsu-students3" descr=""/>
          <p:cNvPicPr/>
          <p:nvPr/>
        </p:nvPicPr>
        <p:blipFill>
          <a:blip r:embed="rId2"/>
          <a:srcRect l="0" t="14544" r="0" b="0"/>
          <a:stretch/>
        </p:blipFill>
        <p:spPr>
          <a:xfrm>
            <a:off x="457200" y="4343400"/>
            <a:ext cx="274320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A5CD-095B-4C1E-9F4E-9315C1623D6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JSU CSC 539:  Computational Science for Simulation Applications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43400" y="1905120"/>
            <a:ext cx="4572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aught parallel computing architecture, scientific applications and algorithms, parallel programming in C/MPI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Used an on-line “Virtual Programming Lab” to compute with NPAC parallel computing resource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eaching graduate students led to additional kinds of feedback for Tango and style of distance teaching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51" name="jsufall98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3938760" cy="37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90BEA-8BC2-4162-87A6-2CE1904A8E6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Report presented at SC98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e paper “Synchronous Learning at a Distance:  Experiences with Tango Interactive was presented at the education sessions of SC98 in November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54" name="sc98-cover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241440" cy="4419360"/>
          </a:xfrm>
          <a:prstGeom prst="rect">
            <a:avLst/>
          </a:prstGeom>
          <a:ln w="0">
            <a:noFill/>
          </a:ln>
        </p:spPr>
      </p:pic>
      <p:pic>
        <p:nvPicPr>
          <p:cNvPr id="155" name="sc98-tango-paper" descr=""/>
          <p:cNvPicPr/>
          <p:nvPr/>
        </p:nvPicPr>
        <p:blipFill>
          <a:blip r:embed="rId2"/>
          <a:stretch/>
        </p:blipFill>
        <p:spPr>
          <a:xfrm>
            <a:off x="6095880" y="2743200"/>
            <a:ext cx="2835360" cy="30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CE71-0824-48C5-808C-E70F90E5FBB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/C Core -- Statu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rip reports routinely posted on NPAC web site &amp; distributed by emai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n-going Tango enhancements &amp; releas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ngo 1.02 (increased robustness) Oct’98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ngo 1.1 (extensive rewrites, added functionality) internal now, public mid-Feb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tabase/asynch collab linkage availabl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3411-67E8-441C-B795-B14000863C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Additional Course in Spring 99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9520" y="1905120"/>
            <a:ext cx="49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We have just begun teaching a distance education course based on the Syracuse course CPS616 Web Software Technologies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Given at JSU to 9 students for credit.   Also attended by 10 students at Mississippi State and 2 students from Clark Atlanta University for certificates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The course will include multi-tier web architecture, web-linked databases, user interfaces with JavaScript and DHTML, distributed objects with RMI and CORBA, XML, and security issues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58" name="jsufpring99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3353040" cy="321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AC25-75AE-4828-9173-458D47301A1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ow in fourth semester of course delivery!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nhanced edu. opportunities for student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ives local faculty a head start developing new courses (i.e. JSU now teaching Programming for the Web via Tango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istance education tools &amp; techniques being adopted by JSU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B1C7-4339-40D6-8024-E4F40CEE843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s approach to dist. edu. is now in some sense “routine”, but active support still valuable (in addition to education aspects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nderstanding of human factors in dist. edu.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rives requirements for Tango capabilities &amp; robustness also relevant to training &amp; collab us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esting ground for new Tango releas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akes extensive use of DRE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4496-B9D5-4F3D-8C1C-E9BD91CD63C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HPC Educational CD-ROM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avid Bernhold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nnual Review 9-10 February 1999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HPC Educational CD-ROM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vid Bernhold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aleh Elmohamed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ancy McCracken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eepak Ramanathan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AC9E-5880-470B-ADA8-B468562EAFD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Educational CD-ROM -- Statu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aster CD-ROM prepared (done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D-ROM duplicated &amp; ready for distribution (delayed to allow incorporation of new dynamic HTML (DHTML) capabilities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HTML significantly improved ease of use of Syracuse-produced class material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Will be ready for distribution at DoD HPC UGC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78206-9565-4EBA-AE47-2F25086841A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D-ROM “Second Edition”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Builds on first edition, distributed at 1998 DoD HPC UGC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uch material revis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specially CPS615, used for JSU Fall’98 clas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gnificant new materia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cludes contributions from Rice, Mississippi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2 discs, 886 MB total conten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C7BD-E66E-48CB-9902-9A29005070A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Computational Science Course Materials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343400" y="18288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ectures from CPS615, Computational Science for Simulation Applications, were revised during the teaching of the fall course (given remotely at JSU).  Major revisions or additions: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Parallel Architecture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Message-Passing Interface (MPI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N-Body application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Updated links to outside resourc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74" name="main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809880" cy="42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CD52-D25F-4E7F-8FD4-24F235583E2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NHSE HPCC Roadmap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HPCC resources in the National High Performance Software Exchange went through a major revision, particulary:  HPCC Glossary, HPCC hardware vendors,  Parallel computing architectur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77" name="vendors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3810240" cy="2847960"/>
          </a:xfrm>
          <a:prstGeom prst="rect">
            <a:avLst/>
          </a:prstGeom>
          <a:ln w="0">
            <a:noFill/>
          </a:ln>
        </p:spPr>
      </p:pic>
      <p:pic>
        <p:nvPicPr>
          <p:cNvPr id="178" name="comp" descr=""/>
          <p:cNvPicPr/>
          <p:nvPr/>
        </p:nvPicPr>
        <p:blipFill>
          <a:blip r:embed="rId2"/>
          <a:stretch/>
        </p:blipFill>
        <p:spPr>
          <a:xfrm>
            <a:off x="2133720" y="3809880"/>
            <a:ext cx="3809880" cy="2695680"/>
          </a:xfrm>
          <a:prstGeom prst="rect">
            <a:avLst/>
          </a:prstGeom>
          <a:ln w="0">
            <a:noFill/>
          </a:ln>
        </p:spPr>
      </p:pic>
      <p:pic>
        <p:nvPicPr>
          <p:cNvPr id="179" name="hpcc" descr=""/>
          <p:cNvPicPr/>
          <p:nvPr/>
        </p:nvPicPr>
        <p:blipFill>
          <a:blip r:embed="rId3"/>
          <a:stretch/>
        </p:blipFill>
        <p:spPr>
          <a:xfrm>
            <a:off x="5638680" y="3429000"/>
            <a:ext cx="3276720" cy="252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B3C1-0CD1-4157-A66B-11EA6F2CA93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ontributions from Partner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267080" y="182880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rom Chuck Koelbel at Rice Univ: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Lectures: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High Performance Fortran in Practic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Designing and Building Parallel Program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Videotape (from ASC) digitized &amp; synchronized w/ foils using LecCorder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rom Mississippi Stat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MPI CH resource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82" name="chuck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3810240" cy="349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F67F-8169-4B8E-B35A-4B4398F3882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/C Core -- Status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n-going operation of web-linked database apps, assistance with transfer to CEW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earch Engines, WSMS working at NPA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sisting with WSMS installation now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Yuping Zhu has account after 11 month wait for NA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ango training at CEWES (Nov’98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umerous Tango trainings elsewhere open to DoD researcher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FD1B-7741-420B-A86F-BF9A2543AC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Prototype Distance HPC Training for DoD User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-360" y="26665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862956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Leslie Souther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862956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hio Supercomputer Center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r" pos="862956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avid Bernhold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862956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86295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862956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Presented by OSC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Web Interfaces for Computational Modul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omasz Haup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nnual Review 9-10 February 1999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Web Interfaces for Computational Modul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rol Akarsu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m Haup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8EBB-CBA2-4AD1-98F4-C8432449F9A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Activities and Deliverabl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emonstration of WebFlow capabilities to build webflow interfaces and to provide access to remote resources fo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andscape Management System (completed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obility Systems Division applications (in progres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Delays due to lack of communication with MSD and personnel changes in MSD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PET mgmt (Louis Turcotte, Wayne Mastin) aware of situation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ebFlow documentation, developers guide and user training (to be delivered on March 9, 1999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ET people, especially on-sites encouraged to attend!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BCDCB-4A2E-4551-BDD9-41282F6D7B1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Other metric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5 visits to CEWES (17 person-days), 1 to Mary Wheeler’s group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eb-based LMS prototype: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demonstrated at SC ‘98 and included in SC’98 technical presenta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nstalled at CEWES MSRC and delivered to 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J. Hollan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llaboration with Mobility Systems Division 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N. Deliman, B.Gate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echnical report and tutorial (by March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C042-92E7-49C1-BE76-30686AC6B3A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WebFlow Architecture</a:t>
            </a: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modern three-tier system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2514600"/>
            <a:ext cx="3353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er 1 is a high-level 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ront-en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r visu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gramming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tributed object-based, scalable, and reusable Web server and Object broke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rms Tier 2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ack-en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ervices comprise Tier 3.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96" name="sc98fig1" descr=""/>
          <p:cNvPicPr/>
          <p:nvPr/>
        </p:nvPicPr>
        <p:blipFill>
          <a:blip r:embed="rId1"/>
          <a:stretch/>
        </p:blipFill>
        <p:spPr>
          <a:xfrm>
            <a:off x="3533760" y="1828800"/>
            <a:ext cx="5610240" cy="42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C319-0447-4674-9AE2-224267280F0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762120" y="2514600"/>
            <a:ext cx="3504960" cy="2743200"/>
            <a:chOff x="762120" y="2514600"/>
            <a:chExt cx="3504960" cy="2743200"/>
          </a:xfrm>
        </p:grpSpPr>
        <p:pic>
          <p:nvPicPr>
            <p:cNvPr id="198" name="dataflow" descr=""/>
            <p:cNvPicPr/>
            <p:nvPr/>
          </p:nvPicPr>
          <p:blipFill>
            <a:blip r:embed="rId1"/>
            <a:stretch/>
          </p:blipFill>
          <p:spPr>
            <a:xfrm>
              <a:off x="1219320" y="2514600"/>
              <a:ext cx="246672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62120" y="2514600"/>
              <a:ext cx="350496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80720" y="54860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iddle-Tier is given by a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esh of Web Servers running servlets that manage and coordinate distributed computation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34290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029200" y="1066680"/>
            <a:ext cx="3429000" cy="4110120"/>
            <a:chOff x="5029200" y="1066680"/>
            <a:chExt cx="3429000" cy="4110120"/>
          </a:xfrm>
        </p:grpSpPr>
        <p:sp>
          <p:nvSpPr>
            <p:cNvPr id="203" name=""/>
            <p:cNvSpPr/>
            <p:nvPr/>
          </p:nvSpPr>
          <p:spPr>
            <a:xfrm>
              <a:off x="5029200" y="3200400"/>
              <a:ext cx="457200" cy="4572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72200" y="3200400"/>
              <a:ext cx="457200" cy="4572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86400" y="3886200"/>
              <a:ext cx="457200" cy="457200"/>
            </a:xfrm>
            <a:prstGeom prst="cube">
              <a:avLst>
                <a:gd name="adj" fmla="val 25000"/>
              </a:avLst>
            </a:prstGeom>
            <a:solidFill>
              <a:srgbClr val="72c0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05720" y="3886200"/>
              <a:ext cx="457200" cy="457200"/>
            </a:xfrm>
            <a:prstGeom prst="cube">
              <a:avLst>
                <a:gd name="adj" fmla="val 25000"/>
              </a:avLst>
            </a:prstGeom>
            <a:solidFill>
              <a:srgbClr val="dde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9240" y="3200400"/>
              <a:ext cx="457200" cy="4572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10440" y="34290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53440" y="34290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67640" y="41148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943240" y="3504960"/>
              <a:ext cx="3812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086240" y="3504960"/>
              <a:ext cx="3049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1840" y="3504960"/>
              <a:ext cx="30456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4120" y="4647960"/>
              <a:ext cx="228600" cy="223920"/>
            </a:xfrm>
            <a:prstGeom prst="can">
              <a:avLst>
                <a:gd name="adj" fmla="val 24967"/>
              </a:avLst>
            </a:prstGeom>
            <a:solidFill>
              <a:srgbClr val="72c0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86400" y="4952880"/>
              <a:ext cx="228600" cy="223920"/>
            </a:xfrm>
            <a:prstGeom prst="can">
              <a:avLst>
                <a:gd name="adj" fmla="val 24967"/>
              </a:avLst>
            </a:prstGeom>
            <a:solidFill>
              <a:srgbClr val="72c0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29200" y="4952880"/>
              <a:ext cx="228600" cy="223920"/>
            </a:xfrm>
            <a:prstGeom prst="can">
              <a:avLst>
                <a:gd name="adj" fmla="val 24967"/>
              </a:avLst>
            </a:prstGeom>
            <a:solidFill>
              <a:srgbClr val="72c0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2040" y="4952880"/>
              <a:ext cx="228600" cy="223920"/>
            </a:xfrm>
            <a:prstGeom prst="can">
              <a:avLst>
                <a:gd name="adj" fmla="val 24967"/>
              </a:avLst>
            </a:prstGeom>
            <a:solidFill>
              <a:srgbClr val="dde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91320" y="4724280"/>
              <a:ext cx="228600" cy="223920"/>
            </a:xfrm>
            <a:prstGeom prst="can">
              <a:avLst>
                <a:gd name="adj" fmla="val 33333"/>
              </a:avLst>
            </a:prstGeom>
            <a:solidFill>
              <a:srgbClr val="72c0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00800" y="4952880"/>
              <a:ext cx="228600" cy="223920"/>
            </a:xfrm>
            <a:prstGeom prst="can">
              <a:avLst>
                <a:gd name="adj" fmla="val 24967"/>
              </a:avLst>
            </a:prstGeom>
            <a:solidFill>
              <a:srgbClr val="dde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05720" y="4647960"/>
              <a:ext cx="228600" cy="223920"/>
            </a:xfrm>
            <a:prstGeom prst="can">
              <a:avLst>
                <a:gd name="adj" fmla="val 24967"/>
              </a:avLst>
            </a:prstGeom>
            <a:solidFill>
              <a:srgbClr val="dde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62920" y="4800600"/>
              <a:ext cx="228600" cy="223560"/>
            </a:xfrm>
            <a:prstGeom prst="can">
              <a:avLst>
                <a:gd name="adj" fmla="val 24967"/>
              </a:avLst>
            </a:prstGeom>
            <a:solidFill>
              <a:srgbClr val="dde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410440" y="434340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5639040" y="4343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5790960" y="434340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5181840" y="434304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782040" y="4343400"/>
              <a:ext cx="759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6553440" y="434304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934320" y="4343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7010280" y="434340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10640" y="1066680"/>
              <a:ext cx="1143000" cy="1066680"/>
            </a:xfrm>
            <a:prstGeom prst="cube">
              <a:avLst>
                <a:gd name="adj" fmla="val 249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86600" y="1447560"/>
              <a:ext cx="762120" cy="6098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29400" y="2133360"/>
              <a:ext cx="1600200" cy="228600"/>
            </a:xfrm>
            <a:prstGeom prst="cube">
              <a:avLst>
                <a:gd name="adj" fmla="val 7958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0120" y="1828800"/>
              <a:ext cx="838080" cy="1600200"/>
            </a:xfrm>
            <a:custGeom>
              <a:avLst/>
              <a:gdLst/>
              <a:ahLst/>
              <a:rect l="l" t="t" r="r" b="b"/>
              <a:pathLst>
                <a:path w="528" h="1008">
                  <a:moveTo>
                    <a:pt x="288" y="0"/>
                  </a:moveTo>
                  <a:lnTo>
                    <a:pt x="528" y="0"/>
                  </a:lnTo>
                  <a:lnTo>
                    <a:pt x="528" y="1008"/>
                  </a:lnTo>
                  <a:lnTo>
                    <a:pt x="0" y="1008"/>
                  </a:lnTo>
                  <a:lnTo>
                    <a:pt x="48" y="100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28600" y="533520"/>
            <a:ext cx="6781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WebFlow applications are composed of independent   reusable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Modules are written by module developers who have only  limited knowledge of the system on which the modules will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The WebFlow system hides module management and coordination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3069-7BDD-46B7-B809-12857F3AD14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LMS Objectiv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 develop a web based system that implements  a “navigate-and-choose” paradigm and  allows the end user to: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elect (a set of) computational modules that provide answers to the problem at han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trieve input data sets from remote sourc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Use adequate (remote) computational resourc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Visualize and analyze output data on the local hos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ytime, anywhere, using any platform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e.g., a connected to the internet laptop PC)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E9BC2-C326-439D-A4CC-BA7DDE2EC57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LMS: Changes in Vegetation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9933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 decision maker (the end user of the system) wants to evaluate changes in vegetation in some geographical region over a long time period caused by some short term disturbances such as a fire or human’s activities.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9933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ne of the critical parameters of the vegetation model (EDYS) is soil condition at the time of the disturbance.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9933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his in turn is dominated by rainfalls that possibly occur at that time (CASC2D simulation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9933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put data for the simulations are available from the Internet, such as Data Elevation Models (DEM) from USGS web site or from custom databases (spieces characteristic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A59E-7AAF-4D02-AC3B-CA4E61A579B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LMS: Changes in Vegetation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88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ta retrieva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ta preprocess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imulation: two interacting cod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DYS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ASC2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Visualization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914400" y="1523880"/>
            <a:ext cx="3809880" cy="3276720"/>
            <a:chOff x="914400" y="1523880"/>
            <a:chExt cx="3809880" cy="3276720"/>
          </a:xfrm>
        </p:grpSpPr>
        <p:sp>
          <p:nvSpPr>
            <p:cNvPr id="242" name=""/>
            <p:cNvSpPr/>
            <p:nvPr/>
          </p:nvSpPr>
          <p:spPr>
            <a:xfrm>
              <a:off x="1981080" y="2666880"/>
              <a:ext cx="18288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23880" y="4114800"/>
              <a:ext cx="12193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D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71800" y="4114800"/>
              <a:ext cx="1218960" cy="457200"/>
            </a:xfrm>
            <a:prstGeom prst="rect">
              <a:avLst/>
            </a:prstGeom>
            <a:solidFill>
              <a:srgbClr val="fe04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SC2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38280" y="3886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382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526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526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38280" y="4800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438280" y="4571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09680" y="33526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81280" y="33526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14400" y="1523880"/>
              <a:ext cx="838080" cy="380880"/>
            </a:xfrm>
            <a:prstGeom prst="rect">
              <a:avLst/>
            </a:prstGeom>
            <a:solidFill>
              <a:srgbClr val="dde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4760" y="1523880"/>
              <a:ext cx="838440" cy="380880"/>
            </a:xfrm>
            <a:prstGeom prst="rect">
              <a:avLst/>
            </a:prstGeom>
            <a:solidFill>
              <a:srgbClr val="12f1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nd U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95480" y="1523880"/>
              <a:ext cx="838080" cy="380880"/>
            </a:xfrm>
            <a:prstGeom prst="rect">
              <a:avLst/>
            </a:prstGeom>
            <a:solidFill>
              <a:srgbClr val="190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o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x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86200" y="1523880"/>
              <a:ext cx="838080" cy="380880"/>
            </a:xfrm>
            <a:prstGeom prst="rect">
              <a:avLst/>
            </a:prstGeom>
            <a:solidFill>
              <a:srgbClr val="f10d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ege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71600" y="1904760"/>
              <a:ext cx="9903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3429000" y="1904760"/>
              <a:ext cx="9144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047400" y="1904760"/>
              <a:ext cx="3049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61960" y="1904760"/>
              <a:ext cx="3812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839160" y="525780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EDYS: vegeta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22960" y="525780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ASC2D: watershe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04400" y="5638680"/>
            <a:ext cx="48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WMS: Watershed Model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9DD2-7F03-4309-A5BE-CB931221D68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/C Core -- Other Metric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ango tutorial on installation and operation at JSU, assistance with CEWES Tango installation (7 person-days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51C1-8D77-4216-99F7-FF5B9EFA69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LMS Front End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66" name="lms01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343920" cy="48481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42670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ata retrieval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66520" y="6035760"/>
            <a:ext cx="21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ata pre-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ost-pro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1800" y="617220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95280" y="464832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648320" y="4876920"/>
            <a:ext cx="99036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943600" y="4876920"/>
            <a:ext cx="9144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A01F-8C9F-4213-A947-847B65FC230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fig2a" descr=""/>
          <p:cNvPicPr/>
          <p:nvPr/>
        </p:nvPicPr>
        <p:blipFill>
          <a:blip r:embed="rId1"/>
          <a:stretch/>
        </p:blipFill>
        <p:spPr>
          <a:xfrm>
            <a:off x="3581280" y="1371600"/>
            <a:ext cx="5154840" cy="515448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ata Retrieval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36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1371600"/>
            <a:ext cx="3124080" cy="510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 data wizard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llows the user to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interactively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select the data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download them to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 local machine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 raw data are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n fed to the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WMS system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launched from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 browser to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generate input files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for simu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F1F63-16EC-46D6-81F0-08BD14C3B38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LMS01a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553440" cy="6191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04920" y="1371600"/>
            <a:ext cx="312408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51128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Launching coupled simulations on different back-end computation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04920" y="4495680"/>
            <a:ext cx="2286000" cy="2133720"/>
            <a:chOff x="304920" y="4495680"/>
            <a:chExt cx="2286000" cy="2133720"/>
          </a:xfrm>
        </p:grpSpPr>
        <p:sp>
          <p:nvSpPr>
            <p:cNvPr id="281" name=""/>
            <p:cNvSpPr/>
            <p:nvPr/>
          </p:nvSpPr>
          <p:spPr>
            <a:xfrm>
              <a:off x="304920" y="4495680"/>
              <a:ext cx="17524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lect 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4920" y="5054760"/>
              <a:ext cx="19047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lect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4920" y="5613480"/>
              <a:ext cx="2057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t parame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4920" y="6172200"/>
              <a:ext cx="22860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 flipV="1">
            <a:off x="2057400" y="4343400"/>
            <a:ext cx="3049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209680" y="4343400"/>
            <a:ext cx="25146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362320" y="5181480"/>
            <a:ext cx="251460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90920" y="63244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3231-03E4-4BA5-B8D5-61219C59014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WMS based Visualizations</a:t>
            </a:r>
            <a:br>
              <a:rPr sz="4400"/>
            </a:b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90" name="fig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6049800" cy="48290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105520" y="1523880"/>
            <a:ext cx="3733560" cy="2895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 results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simulations are s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back to the front e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nd can be visual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using tools inclu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in  WMS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D68B5-3902-4B2B-87AF-2611967726A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Mobility Systems Application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28600" y="2133720"/>
            <a:ext cx="3276720" cy="4038120"/>
            <a:chOff x="228600" y="2133720"/>
            <a:chExt cx="3276720" cy="4038120"/>
          </a:xfrm>
        </p:grpSpPr>
        <p:grpSp>
          <p:nvGrpSpPr>
            <p:cNvPr id="294" name=""/>
            <p:cNvGrpSpPr/>
            <p:nvPr/>
          </p:nvGrpSpPr>
          <p:grpSpPr>
            <a:xfrm>
              <a:off x="1905120" y="3352680"/>
              <a:ext cx="1523880" cy="1218960"/>
              <a:chOff x="1905120" y="3352680"/>
              <a:chExt cx="1523880" cy="1218960"/>
            </a:xfrm>
          </p:grpSpPr>
          <p:sp>
            <p:nvSpPr>
              <p:cNvPr id="295" name=""/>
              <p:cNvSpPr/>
              <p:nvPr/>
            </p:nvSpPr>
            <p:spPr>
              <a:xfrm>
                <a:off x="1905120" y="3352680"/>
                <a:ext cx="1523880" cy="1218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6" name="msd01" descr=""/>
              <p:cNvPicPr/>
              <p:nvPr/>
            </p:nvPicPr>
            <p:blipFill>
              <a:blip r:embed="rId1"/>
              <a:stretch/>
            </p:blipFill>
            <p:spPr>
              <a:xfrm>
                <a:off x="2009880" y="3428640"/>
                <a:ext cx="1314360" cy="105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7" name=""/>
            <p:cNvSpPr/>
            <p:nvPr/>
          </p:nvSpPr>
          <p:spPr>
            <a:xfrm>
              <a:off x="1905120" y="5257800"/>
              <a:ext cx="1523880" cy="91404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ordinate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nsform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28600" y="3047760"/>
              <a:ext cx="1155960" cy="1675800"/>
              <a:chOff x="228600" y="3047760"/>
              <a:chExt cx="1155960" cy="1675800"/>
            </a:xfrm>
          </p:grpSpPr>
          <p:sp>
            <p:nvSpPr>
              <p:cNvPr id="299" name=""/>
              <p:cNvSpPr/>
              <p:nvPr/>
            </p:nvSpPr>
            <p:spPr>
              <a:xfrm>
                <a:off x="396720" y="3047760"/>
                <a:ext cx="914040" cy="60912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96720" y="4114080"/>
                <a:ext cx="914040" cy="60948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8600" y="3671280"/>
                <a:ext cx="1155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33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752480" y="2133720"/>
              <a:ext cx="76212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43200" y="2133720"/>
              <a:ext cx="76212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66880" y="4572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09680" y="274320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048120" y="274320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95280" y="3352680"/>
              <a:ext cx="6098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1295280" y="4114440"/>
              <a:ext cx="60984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4648320" y="3733920"/>
            <a:ext cx="4343400" cy="228852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rog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- object oriented approach 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- implementation: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 - CORBA based middle-tier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 - bean-box type API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 - JDBC proxy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19720" y="685800"/>
            <a:ext cx="4724280" cy="2895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Web interface to store data in DB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in variable forma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Data transfer from DB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a visualization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Coordinates transformations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mote serv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Launching simulations on rem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sts with interactive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2286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Remote HPCC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03FE-24C7-4C61-A124-DC35F5B0E53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eliver useful web interfaces to customer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and Management System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lanned Mobility Systems work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stablished general approach to web interfacing problem and developed supporting infrastructure -- both transferable to other applic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raining to be deliver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F2E49-9AE0-4256-8636-201EEEB33F7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obility Systems work has already pushed project into newest technology (CORBA) -- more general &amp; easier than LMS approach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pin-off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C “Gateway”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Year 4 “Web Interfaces”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Year 4 “PSE for CWO”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Work with more CTAs to develop truly “universal” approach &amp; tool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CA33-C437-4F75-B4B7-3699F39B84A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33"/>
                </a:solidFill>
                <a:uFillTx/>
                <a:latin typeface="Times New Roman"/>
              </a:rPr>
              <a:t>Forces Modeling and Simulation/C4I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br>
              <a:rPr sz="4400"/>
            </a:br>
            <a:br>
              <a:rPr sz="1800"/>
            </a:b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Core Support</a:t>
            </a:r>
            <a:br>
              <a:rPr sz="3600"/>
            </a:br>
            <a:br>
              <a:rPr sz="1800"/>
            </a:b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 High Performance Distributed Object Web Based HLA Demonstr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Wojtek Furmanski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nnual Review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9-10 February 1999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FMS Cor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vid Bernhold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ojtek Furmanski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imucin Ozdemi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m Pulika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ahesh Rengaswam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2CDF-53FA-4C8F-B4D6-9CD3E870603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Object Web HLA Demonstration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Wojtek Furmanski, Survesh Jithendran, Dinesh Kasthuril, Ganesh Krishnamurthy, Subhash Nair, Zeynep Odcikin-Ozdemir, Timucin Ozdemir, Tom Pulikal, Krishnan Ragarajan, Mahesh Rengaswamy, Anusha Shankar, Sachin Shanbhag, Rudrasen Shitole, Ankur Soo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CCDEC-5D7C-4A25-ACDA-151A8E4D2F3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/C Core -- Technical Progres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resented together with closely related Training Core technical progres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D572-BE62-44AE-8446-C5D3C260A6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HLA Modules Developmen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OWRTI, CMS etc.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erence Presentation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10 papers published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onstrations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JSIMS/Panda @ SPAWAR, SC’98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torials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FMS at JSU, SPEEDES at JNTF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k Developmen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Pragmatic Object Web, Wiley ‘99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isting FMS CHSSI Team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FMS-3, FMS-4, FMS-5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 with FMS CHSSI ‘99 Proposal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2 submitted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T FMS Web Site Developmen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100+ page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CA61-061F-42B0-983A-38775556F69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1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HLA Modules Development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(OWRTI, CMS etc.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JWORB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OWRTI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OMBuilder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ear 2 Module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SimVis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rectX based 3D simulation visualization front-end 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Parallal CM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igin2000 port of Comprehensive Mine Simulator from Ft. Belvoir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JScop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- Java based parallel performance monitor and PDU probing tool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JD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- Java based DIS=&gt;HLA bridge server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ModSAF/HL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- support for ModSAF node to act as HLA federat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Logger Federate 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d to save HLA interactions (events) in a relational databas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Playback Federat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- used to replay a simulation from an event databas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F569-2126-41E7-BF3D-4D77521059B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ference Presentations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(10 papers published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PC DoD User Group Confrerence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, Rice U., June 98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EA HPC Conf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, Aberdeen, MD, 4 papers, July 98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W (HLA conf by DMSO/SISO),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Orlando, FL, Sept 98 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HLA paper awarded as recommended read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S WebSim’99 Conf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, San Francisco, CA, Jan 1999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HPC confs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(EuroPar, Wisconsin, ICASE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1845-1C26-48B0-92B9-C287F08389D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3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monstrations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(JSIMS/Panda @ SPAWAR, SC’98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WebHLA/OWRT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resentation at SPAWAR, Aug 98, as part of JSIMS/Panda meet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ve Demonstration of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arallel C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the HPCMO booth at Supercomputing ‘98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FF41-B765-4D68-9F12-07BE1A62DF4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4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utorials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(FMS JSU, SPEEDES at JNTF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ing Full Day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MS Tutori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t JSU Summer Institute, June 98; included morning presentation and afternoon lab with hands-on WebHLA demo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cipating in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PEEDES Tutori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y Metron, Inc. at the Joint National Test Facility at Colorado Springs, CO, June 98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B2FF-A077-4C2D-91D3-8491DB699D6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5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ok Development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(Pragmatic Object Web, Wiley ‘99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.C. Fox, W. Furmanski, S. Pallickara and H. Timucin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Building Distributed Systems on Pragmatic Object Web -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The Best of Java, CORBA, COM, XML and HL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book in progress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iley ‘9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marizes our recent work on Web based HPC and proposes dual-use of WebHLA for several Internet application domains (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virtual communities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online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multiplayer gaming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SBA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distance training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telemedici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etc.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053C-BD36-42E0-BD2C-63A227C8AAF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6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sisting FMS CHSSI Team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(FMS-3, FMS-4, FMS-5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MS-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Interacting with Jeff Steinman/Mark Roberts regarding SPEEDES/E-ModSAF Train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MS-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Interacting with Larry Peterson and Jeff Wallace re Parallel IMPORT support in WebHL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MS-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Contributing our HLA expertise in HPC RTI project;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bject Web RTI to be certified by DMSO as the first non-DMSO RTI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8ECB-0381-45FD-8654-7B2DAF340F6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7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lp with FMS CHSSI ‘99 Proposals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(2 submitted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mela M. Jacobs/Ft. Belvoir, Wojtek Furmanski/Translet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WebHLA Toolkit for Metacomputing based FM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ry J. Peterson/SPAWAR, Chris Wallace/TRW, Wojtek Furmanski/Translet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HPC for Scalable Cognitive Entities in Forces Modeling and Simula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079C-E215-4565-B415-47CFB99C0AF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8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T FMS Web Site Development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(100+ page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vers both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E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in detail) and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HSS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t the summary level) FMS program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bes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WebH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ision, component technologies, prototypes, demonstrati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udes early support for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MS Training Spac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ite at NPAC -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http://bombay.npac.syr.edu/f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summary site being installed at CEW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4EFB-2BD8-4573-AC37-720FB4DCD90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igh Performance Distributed Object Web Based HLA Demonstr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s on JWORB/OWRTI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Parallel CMS as HPC Federat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ModSAF, Vis, Log etc. Federat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ly WebHLA demos (Jager) - Summer 98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llel CMS Demo at SC’98, Fall 98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bile laptop demo (event playback) - Feb ‘99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l demo - end of March ‘99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DE561-4987-4428-864E-A3551860E47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ore Support</a:t>
            </a: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aining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nnual Review 9-10 February 1999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80880" y="1447920"/>
            <a:ext cx="79250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ebHLA/Parallel CMS Demo at the HPCMO Booth at  Supercomputing ‘9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vember 7-13, 1998, Orlando, F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2205-207F-4169-B289-8F26A56CF20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arallel CMS - Component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M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mprehensive Minefield Simulator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advanced DIS system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t. Belvoi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recently parallelized on Origin2000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T FM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odSAF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Modular Semi-Automated Forces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ICO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provides advanced support for terrain and vehicle simulation (tanks, coutermine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ak Steal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commercial DIS battlefield visualizer from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k Technologi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imVi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X/3D Battlefield Viewer; commodity/NT front-end for Parallel CMS developed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T FM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8E175-5065-45B2-9F47-27082FA1397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arallel CMS - Installation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At NPAC,  Syracuse Unviers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llel C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uns on Origin2000 in ARL and CEWES MSRC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SA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k Steal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un on NPAC SGI workstati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3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er runs on NT commodity cluster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spcAft>
                <a:spcPts val="700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At SC98 in Orland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llel C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uns on Origin2000 in HPCMO booth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SA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Stealth runs on booth SGI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iewer runs on laptop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3F490-5409-48A2-9940-736B766BF90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rallel CMS Demo - Results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cenario 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y breach operation at Ft. Knox, developed for Syracuse by Ft. Belvoir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Network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NE connection satisfactory between NPAC and MSRCs, difficulties in Orlando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peed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 far linear up to 8 nodes, more work and tests needed to scale for larger partiti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C98 dem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rly capability only but already generated some interest and visibil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Next step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HLA suppor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end of Year 3)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-MSR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computing CMS (Year 3 proposal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5A95-059D-4596-8630-2A86C23EBCC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Drawing1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782040" cy="514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09A54-7B09-4658-83BF-14103F620B2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cms_with_veh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553440" cy="48034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85800" y="3049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600" y="6094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MS Front-End for the Ft. Knox Minefield Breach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05F2-4A47-4188-8E26-B1408933792C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modsaf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629400" cy="48625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odSAF Front-End for the Ft. Knox Minefield Breach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EBFE1-591C-4AB2-B3B7-285B101A822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erf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315200" cy="49341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2860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arallel CMS Performance Monitor and PDU Sampler/Sni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010D-09F2-43A7-99CC-2F9A1A9A4F8C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sc985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705720" cy="50925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52280" y="4572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rect3D based Commodity (NT) Front-End for Parallel C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B0EF-8190-4A5A-9EE0-B2986A1B8EC6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stealth_1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638680" cy="47847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04920" y="60156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k Stealth - High End SGI Viewer adapted for Parallel 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895F-A26A-498A-B9D8-D81FD2126603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aining Cor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vid Bernhold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Jin Jianxia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orka Lucen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m Majo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oman Markowski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arek Podgorn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m Stachowiak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emek Trzask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9153-C33F-4155-AAA0-AEFB58AA11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owards  HLA Support for Parallel CMS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C’98 Parallel CMS Demo -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IS based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HLA convertion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of old/legacy modules (CMS, ModSAF) - in progress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ew DIS/HLA modules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(JDIS, Logger, Playback, SimVis) - initially operational and being completed/refin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obile laptop demo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(under development - to be shown at Year 3 review) enables scenario storage, playback and analysi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inal demo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will include all WebHLA components listed below - to be available end of March 99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806C-3DB5-4D7D-9EF1-BACB98A2FB9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bHLA - Current Components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JWORB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Java Web Object Request Broker)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va based CORBA broker acting as HLA middlewar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OWRTI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Object Web Run-Time Infrastructure)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va CORBA based implementation of DMSO RTI 1.3 packaged as JWORB servic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OMBuild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cel+VBA based Visual FOM/SOM Authoring tool with Aegis OMDT look-and-fee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DirectX based SimVis Front-En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s DirectPlay for multiplayer gaming to bridge with RTI middlewar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JDI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DIS-HLA bridge and PDU probe generator written in Java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JScop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Parallel Performance  Monitor)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Logg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layback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derate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ragmatic Object Web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ceptual framework - integrates HLA with Java, CORBA, COM and XM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BCA6-14C1-429A-9591-23E1529CE96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Image75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562360" cy="48024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685800" y="60948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WORB - multi-protocol middleware server for object based High Performance Distributed Comp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C46B-0E43-49E7-AFD6-0DFE0F3BB23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Image76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5943600" cy="47401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143000" y="60948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WRTI - First Non-DMSO Implementation of RTI 1.3,   to be certified by DMSO as part of  FMS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FCF6-6F3E-4711-85B9-0A6F0915E37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Image108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3733920" cy="2798640"/>
          </a:xfrm>
          <a:prstGeom prst="rect">
            <a:avLst/>
          </a:prstGeom>
          <a:ln w="0">
            <a:noFill/>
          </a:ln>
        </p:spPr>
      </p:pic>
      <p:pic>
        <p:nvPicPr>
          <p:cNvPr id="372" name="Image81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735360" cy="4495680"/>
          </a:xfrm>
          <a:prstGeom prst="rect">
            <a:avLst/>
          </a:prstGeom>
          <a:ln w="0">
            <a:noFill/>
          </a:ln>
        </p:spPr>
      </p:pic>
      <p:pic>
        <p:nvPicPr>
          <p:cNvPr id="373" name="Image78" descr=""/>
          <p:cNvPicPr/>
          <p:nvPr/>
        </p:nvPicPr>
        <p:blipFill>
          <a:blip r:embed="rId3"/>
          <a:stretch/>
        </p:blipFill>
        <p:spPr>
          <a:xfrm>
            <a:off x="838080" y="3048120"/>
            <a:ext cx="3733920" cy="30272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572000" y="6858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MBuilder for WebFlow based Visual HLA Auth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22367-6414-4522-ADD0-2F77C409BB0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Image82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5105160" cy="3828960"/>
          </a:xfrm>
          <a:prstGeom prst="rect">
            <a:avLst/>
          </a:prstGeom>
          <a:ln w="0">
            <a:noFill/>
          </a:ln>
        </p:spPr>
      </p:pic>
      <p:pic>
        <p:nvPicPr>
          <p:cNvPr id="376" name="Image83" descr=""/>
          <p:cNvPicPr/>
          <p:nvPr/>
        </p:nvPicPr>
        <p:blipFill>
          <a:blip r:embed="rId2"/>
          <a:stretch/>
        </p:blipFill>
        <p:spPr>
          <a:xfrm>
            <a:off x="4114800" y="609480"/>
            <a:ext cx="4782960" cy="35877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04920" y="6858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HLA authoring tools: WebFlow + OMBuilder for DMSO Jager HLA application/demon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B212-56B4-4809-8789-9890A9C2F07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533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rect X Framework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80" name="Component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629080" cy="2124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381" name="DirectX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2981160" cy="1942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82" name="DXF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3219480" cy="179100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</p:pic>
      <p:pic>
        <p:nvPicPr>
          <p:cNvPr id="383" name="DXM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3019320" cy="1800360"/>
          </a:xfrm>
          <a:prstGeom prst="rect">
            <a:avLst/>
          </a:prstGeom>
          <a:ln w="3240">
            <a:solidFill>
              <a:srgbClr val="00cc99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</p:pic>
      <p:sp>
        <p:nvSpPr>
          <p:cNvPr id="384" name=""/>
          <p:cNvSpPr/>
          <p:nvPr/>
        </p:nvSpPr>
        <p:spPr>
          <a:xfrm flipV="1">
            <a:off x="4952880" y="1600200"/>
            <a:ext cx="0" cy="99072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600200"/>
            <a:ext cx="1447920" cy="0"/>
          </a:xfrm>
          <a:prstGeom prst="line">
            <a:avLst/>
          </a:prstGeom>
          <a:ln w="7632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114800" y="2361960"/>
            <a:ext cx="0" cy="68580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200400" y="2362320"/>
            <a:ext cx="914400" cy="0"/>
          </a:xfrm>
          <a:prstGeom prst="line">
            <a:avLst/>
          </a:prstGeom>
          <a:ln w="7632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3809880"/>
            <a:ext cx="0" cy="91440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895480" y="4724280"/>
            <a:ext cx="1067040" cy="0"/>
          </a:xfrm>
          <a:prstGeom prst="line">
            <a:avLst/>
          </a:prstGeom>
          <a:ln w="7632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2819520" y="3124080"/>
            <a:ext cx="3657600" cy="274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8000" y="2133720"/>
            <a:ext cx="1971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aboration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162920" y="380880"/>
            <a:ext cx="1752480" cy="4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ideo Streaming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400800" y="1219320"/>
            <a:ext cx="108576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3D World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4" name=""/>
          <p:cNvSpPr/>
          <p:nvPr/>
        </p:nvSpPr>
        <p:spPr>
          <a:xfrm>
            <a:off x="3657600" y="4724280"/>
            <a:ext cx="5410080" cy="1600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ilar to HLA/RTI 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ithout object/databas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OMT, OML, FOMs, SO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1F60A-299D-45CD-8AA0-C93945E1E8DA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sc982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5410080" cy="4108320"/>
          </a:xfrm>
          <a:prstGeom prst="rect">
            <a:avLst/>
          </a:prstGeom>
          <a:ln w="0">
            <a:noFill/>
          </a:ln>
        </p:spPr>
      </p:pic>
      <p:pic>
        <p:nvPicPr>
          <p:cNvPr id="396" name="Jager-donuts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4495680" cy="3370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5867280" y="76212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rectX based SimVis Commodity Tools for CMS (left) and Jager (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23B0-CC00-4C2A-BAD8-F68451346B07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Image92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019920" cy="48754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04920" y="6094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MSO RTI - A Promising New Model for General Purpose High Level Metacomputing Operating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9D1B-7487-4098-AF0A-FF63BEC1FBFD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op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400800" cy="49118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ual-use of WebHLA for High Performance Commodity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D217-26DA-4F2C-8410-F481B7587775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4T20:49:46Z</dcterms:created>
  <dc:creator>David E Bernholdt</dc:creator>
  <dc:description/>
  <dc:language>en-US</dc:language>
  <cp:lastModifiedBy>David E Bernholdt</cp:lastModifiedBy>
  <cp:lastPrinted>1998-08-05T13:41:55Z</cp:lastPrinted>
  <dcterms:modified xsi:type="dcterms:W3CDTF">1999-01-29T20:50:43Z</dcterms:modified>
  <cp:revision>68</cp:revision>
  <dc:subject/>
  <dc:title>No Slide Title</dc:title>
</cp:coreProperties>
</file>