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20.png" ContentType="image/png"/>
  <Override PartName="/ppt/media/image17.png" ContentType="image/png"/>
  <Override PartName="/ppt/media/image32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jpeg" ContentType="image/jpeg"/>
  <Override PartName="/ppt/media/image31.jpeg" ContentType="image/jpeg"/>
  <Override PartName="/ppt/media/image36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4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1.png" ContentType="image/png"/>
  <Override PartName="/ppt/media/image24.png" ContentType="image/pn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58982-EDD8-4C47-BAA9-04B4F13B8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1FA09-4A5B-489D-B13E-0A54B686C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A78AD-CDB5-4545-BCB0-7710B3CD5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1C4BC-E917-43CB-88BC-1A9018C589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F2741-06CD-429B-9AAC-49B75401C1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4C2E-4E6F-42D2-B972-84F0B0753C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B8F7-0469-4508-89B0-0D18392429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821D-CE3A-465B-AE1D-70B8470CC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822B8-283F-4026-9B28-BEAA385CB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171B-C736-4059-86D8-6D829B007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87588-B4DB-43A9-AD3F-E4987C9ED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F01DB-C5E0-416B-A737-D93692622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06EF-9940-4E9B-9605-8A1D9F991784}" type="slidenum">
              <a:rPr b="0" lang="en-US" sz="9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ETIMAGE" descr=""/>
          <p:cNvPicPr/>
          <p:nvPr/>
        </p:nvPicPr>
        <p:blipFill>
          <a:blip r:embed="rId2"/>
          <a:stretch/>
        </p:blipFill>
        <p:spPr>
          <a:xfrm>
            <a:off x="504720" y="0"/>
            <a:ext cx="8334360" cy="533520"/>
          </a:xfrm>
          <a:prstGeom prst="rect">
            <a:avLst/>
          </a:prstGeom>
          <a:ln w="0">
            <a:noFill/>
          </a:ln>
        </p:spPr>
      </p:pic>
      <p:pic>
        <p:nvPicPr>
          <p:cNvPr id="4" name="Nrclogo" descr=""/>
          <p:cNvPicPr/>
          <p:nvPr/>
        </p:nvPicPr>
        <p:blipFill>
          <a:blip r:embed="rId3"/>
          <a:stretch/>
        </p:blipFill>
        <p:spPr>
          <a:xfrm>
            <a:off x="0" y="6149880"/>
            <a:ext cx="1892160" cy="708120"/>
          </a:xfrm>
          <a:prstGeom prst="rect">
            <a:avLst/>
          </a:prstGeom>
          <a:ln w="0">
            <a:noFill/>
          </a:ln>
        </p:spPr>
      </p:pic>
      <p:pic>
        <p:nvPicPr>
          <p:cNvPr id="5" name="newmsrclogo" descr=""/>
          <p:cNvPicPr/>
          <p:nvPr/>
        </p:nvPicPr>
        <p:blipFill>
          <a:blip r:embed="rId4"/>
          <a:stretch/>
        </p:blipFill>
        <p:spPr>
          <a:xfrm>
            <a:off x="6705720" y="6122880"/>
            <a:ext cx="213336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Review of Year 3 Project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PAC/Syracuse Univer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raining Core -- Statu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rip reports posted to NPAC web site &amp; distributed by emai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ET Program-Wide Training Group Meetings (at User Group Conference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ango enhancements &amp; releases to support training and educat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ango 1.01, May’98 (“all browser” support not released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ango 1.02, Oct’98 (robustnes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valuation of multimedia databases for trainin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C5D88-D6A1-4979-871F-9531B2E4B9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raining Core -- Other Metric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x leads graduate education program for NSF PACI (combined NCSA/NPACI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rough PACI also see how tools for K-12 and other educational areas can by synergistic with DoD need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.g. use of TangoInteractive in Middle/High school Java Academ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lso Fox one of lead authors of pedagogical book on parallel computing planned by CRPC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BCCE3-5045-4B48-97CC-198B242605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rip Report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rip reports from more than 30 events this year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ost related to collab/training and/or other technical area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Very few events PET-supported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http://www.npac.syr.edu/users/bernhold/trip-reports/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lso distributed by emai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68" name="trip-report-web" descr=""/>
          <p:cNvPicPr/>
          <p:nvPr/>
        </p:nvPicPr>
        <p:blipFill>
          <a:blip r:embed="rId1"/>
          <a:stretch/>
        </p:blipFill>
        <p:spPr>
          <a:xfrm>
            <a:off x="5715000" y="1371600"/>
            <a:ext cx="335268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D9E5-2794-47BF-92E9-EBF1F9527F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 On-going Enhancements</a:t>
            </a: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ain focus on: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ystem robustness and maintainabilit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enhancements for collaborative and educational functions (new and improved application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Full support for W3C document object model shar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linkage of synchronous and asynchronous mod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achieved by improving shared browser support as “asynchronous”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linkage to asynchronous document repositori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atabases and form based server interfac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ystem programmability (API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ocumentation and training materia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149D-EAEB-48AD-B399-4C78894CB9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ystem Release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1.01 released in May 98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ackaged servers for both UNIX and Windows NT platform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utomated, industrial grade installation procedur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ndustrial grade stability and robustnes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ackaging for the complete application suit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ystem deployed at CEWES and ARL and at several HBCU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used by several universities in US and abroad (~ 1000 download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EFB71-5959-4B34-A765-52584FADE2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 1.1 Release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Radically improved system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vailable internally in NPAC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ublic release expected in February 99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mploys newest Java and browser technolog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corporates all “lessons learned” from T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1.0 deployment and us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ew paradigm for “collaboration space” navigation, session handling, and floor contro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hierarchical view of the “interaction space”, “Metaverse traversing” suppor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0A4CA-034A-4E9C-B195-D1B826E3DE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newca2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153040" cy="3019320"/>
          </a:xfrm>
          <a:prstGeom prst="rect">
            <a:avLst/>
          </a:prstGeom>
          <a:ln w="0">
            <a:noFill/>
          </a:ln>
        </p:spPr>
      </p:pic>
      <p:pic>
        <p:nvPicPr>
          <p:cNvPr id="76" name="newca3" descr=""/>
          <p:cNvPicPr/>
          <p:nvPr/>
        </p:nvPicPr>
        <p:blipFill>
          <a:blip r:embed="rId2"/>
          <a:stretch/>
        </p:blipFill>
        <p:spPr>
          <a:xfrm>
            <a:off x="6019920" y="1295280"/>
            <a:ext cx="2438280" cy="3743280"/>
          </a:xfrm>
          <a:prstGeom prst="rect">
            <a:avLst/>
          </a:prstGeom>
          <a:ln w="0">
            <a:noFill/>
          </a:ln>
        </p:spPr>
      </p:pic>
      <p:pic>
        <p:nvPicPr>
          <p:cNvPr id="77" name="newca4" descr=""/>
          <p:cNvPicPr/>
          <p:nvPr/>
        </p:nvPicPr>
        <p:blipFill>
          <a:blip r:embed="rId3"/>
          <a:stretch/>
        </p:blipFill>
        <p:spPr>
          <a:xfrm>
            <a:off x="2971800" y="3733920"/>
            <a:ext cx="2486160" cy="3076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3520" y="3962520"/>
            <a:ext cx="2286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1.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Graphical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(based on Java Swing clas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8265C-6BF4-4F11-939F-002F610B48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Enhanced Support for Collaboration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pplication improvements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BuenaVista 3.0 (T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videoconferencing agent) completely rewritten for PC and SGI platform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obust multithreaded implementation, extensively tested for stabilit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mproved audio and video qualit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upport for multiple audio and video card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e-implemented robust session control protoco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edesigned user interfac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etailed documentation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Linux implementation ongo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BV has been critical for remote class and training deliver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3" marL="1487880" indent="-21240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Version 3.0 will be released with T</a:t>
            </a:r>
            <a:r>
              <a:rPr b="0" lang="en-US" sz="18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 1.1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EBCAE-D36A-443C-B5BB-4953BFA943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BV7pc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53416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24CFF-66AB-4D20-9FFE-E9EEAE14E6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6105600" cy="4884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Enhanced Support for Collaboration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90760" y="3200040"/>
            <a:ext cx="4647960" cy="160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d Pointer added to Internet Assistant PowerPoint on the web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lustrates sharing of W3C Object Mode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066680" y="3429000"/>
            <a:ext cx="32767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4800" y="1295280"/>
            <a:ext cx="4648320" cy="83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HTML “Heartbeat” recording shared events in last 60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2514600" y="1371240"/>
            <a:ext cx="1752480" cy="152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46E68-E2A1-47C8-BBD5-E8BD125095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ore Support</a:t>
            </a: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ollaboration/Communication</a:t>
            </a: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(C/C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Geoffrey Fox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PAC/Syracuse Univer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nnual Review 9-10 February 1999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577800"/>
            <a:ext cx="7848720" cy="6280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5867280"/>
            <a:ext cx="77724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Shared Form Illustrated by Shared Access to NCSA Biology Workbench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2960" y="3886200"/>
            <a:ext cx="270900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d Multipl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d But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d Text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d Check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3733920"/>
            <a:ext cx="1447560" cy="1066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2743200"/>
            <a:ext cx="121932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809880"/>
            <a:ext cx="259056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3505320"/>
            <a:ext cx="1447920" cy="99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4CA87-7F3C-4C4A-99A3-1C7629E2A5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Enhanced Support for Collaboration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w applica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Layered whiteboard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used in several applications, advanced authoring mode, import/export/save support, telecursor, scriptable external interface, advanced image compression, …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Java Shared browse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obust, supports frames and embedded MM object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hat tool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dvanced avatar 2.5D chat for “telepresence”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ew professional text chat with many advanced features, including clipboard, session save/mail, and latecomers support, fully customizabl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9B28-8721-4CD1-9D9E-FEE23885FB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Enhanced Support for Collaboration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w applications, continued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hared Telnet too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enhances Year 2 remote consulting tools suit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eployed during remote training session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ew  “instructor feedback” too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ntinuous audience feedback pooling and visualizatio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nstructor alert tool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hared streaming media tool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Java H263/GSM video viewer with database interfac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ealVideo player (use and distribution agreed with supported by Progressive Network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2304F-1C7F-4D96-9756-6F38D31C3A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Robustness and Stabilit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xtensive in-house and field testin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bug submission and fix tracing procedur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-depth study of underlying (undocumented) browser technolog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ozens of bugs uncovered and fixed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mprovements to protocols and architectural modifications in multithreaded design of server and clien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Robust installation procedures implemented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364AF-4B0A-45FD-B79B-E62D9184B0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Universal Browser Support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oW stipulates support for Internet Explorer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05600" indent="-27144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etermined to be very expensive and time consuming and not easy to maintain concurrently with Netscape version, so we found another approach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25800" indent="-3258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lternative approach studied, designed, and prototyped (full implementation proposed for Year 4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05600" indent="-271440"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olution also helps with some problems of browsers relative to Tango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17080"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Browsers critical but nonstandard Java and bugs implies extremely unfriendly for developer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17080"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Performance problems under UNIX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17080"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evelopment and maintenance of  two different technologies very expensiv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05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87ACF-7AD4-4EF1-ABCA-AA31B18CC5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Programming Interface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o enable 3rd-party application development, a set of new APIs was designed and documented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ttp://www.npac.syr.edu/tango/Developers_pages/developers_pages.html</a:t>
            </a:r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runtime functionality encapsulated in a system proxy agen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roxy methods callable from any languag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Bean enables visual programming of collaborative applications (no extra coding!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w APIs support embedding of </a:t>
            </a:r>
            <a:r>
              <a:rPr b="0" i="1" lang="en-US" sz="3200" spc="-1" strike="noStrike">
                <a:solidFill>
                  <a:srgbClr val="ff9933"/>
                </a:solidFill>
                <a:latin typeface="Times New Roman"/>
              </a:rPr>
              <a:t>active shared objects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in Web pages!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3C6FA-A696-4DCE-91DF-37C44F61AE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owards Virtual Civilization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ersonal Identity Module for T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NGO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atabase backend (relational or LDAP) to hold user identities and information, interfaced to collaboratory server (70% completed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upports authentication, security, assessmen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ecessary for sync/async integratio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/Mail/Listserv interface implemented, being integrated (critical synchronous/Asynchronous capability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CSA Lotus Notes Intranet has major difficulty that discussion lists not linked to “ordinary” emai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Local storage and file distribution interface implemented, being integrated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684FC-C2C0-419E-9C37-2B2757DADAB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ustomizabilit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w client  supports configurable, domain-specific interfac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election of collaborative tool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redefined, automatically started session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idden agents (faceless application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ulti-frame integrated interfac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dministrative interfac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ll aspects under external control of system administrator/end use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52B31-7F11-480E-8F53-CA7219D29EA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Virtual Space Navigation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upport for run-time server hopin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upport for communities/interest group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Hierarchical visualization of the “collaboration space”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erver/community/session/use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ore granular, “per-session” floor contro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w session control paradigm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omprehensive, multi-level access to user informat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D97F2-E7F7-48B0-86D5-B4882A2D98C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hared Access to Database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w shared browser supports shared access to pages of arbitrary complexity, including CSS-based content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haring of XML-compliant documents is fully supported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hared access to relational courseware repositories is implemented via server-side extensions implementing XML-style tags (WebWisdom NT 2.1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6B36B-4F65-4E50-AD92-C7E1897AEB0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ollaboration/Communication Core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Staff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Luk Beca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avid Bernhold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eoffrey Fox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om Majo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Konrad Olszewski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arek Podgorn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iotr Sokolowski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emek Trzaska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Yuping Zhu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343400" cy="46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0664-604B-46A1-A720-32D47CBF05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ANGO</a:t>
            </a: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 Deployment Statu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upport for education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Jackson State University (full installation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organ State University (full installation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lark Atlanta, Houston, MSU  (client side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upport for training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EWES (full installation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RL/HEAT center (full installation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OSC (client and collaboratory server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SC, NAVO, NRL (client side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F561-CBCF-4E75-949B-09609CEB3EC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ontributed substantially to tracking of technology and progress in broad area (not limited to C/C &amp; Training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-3085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ubstantial enhancement of Tango to meet requirements of PET education, training and collaboration activities.  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-30852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ools are now in a position where routine use by broad spectrum of users is appropriate; deployment/acceptance is next issu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F02E-B4DF-482E-B0BB-E58A37A2339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ance Education for Curricula Enhancement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Geoffrey Fox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PAC/Syracuse Univer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nnual Review 9-10 February 1999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ance Education for Curricula Enhancement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Staff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Ozgur Balsoy, Saleh Elmohamed, Geoffrey Fox, Meryem Ispirli, Jin Jianxiang, Norka Lucena, Tom Major, Roman Markowski, Nancy McCracken, Marek Podgorny, Tom Scavo, Mehmet Sen, Tom Stachowiak, Remek Trzask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343400" cy="46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BE63C-5F25-4C46-BA77-AA95AC44F3E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ance Education -- Statu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ctivities/Deliverabl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aught distance course at Jackson Stat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SC499 “Programming for the Web” in Spring 98 (started during Year 2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SC539 “Computational Science for Simulation Applications” in Fall 98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PS616 “Web Software Technologies” Spr’99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Offered for free to all PET partners (not actually a deliverable of any PET project)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2C730-1C1E-47DB-97F2-080D6BBABEF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ance Education-- Other Metric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4 trips to JSU by NPAC instructors, 1 for Tango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pring 98 class: 8 students,  Fall 98 class: 7 students, Spring 99 class: 21 students (3 school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resentation at SC98:  </a:t>
            </a:r>
            <a:r>
              <a:rPr b="0" i="1" lang="en-US" sz="2800" spc="-1" strike="noStrike">
                <a:solidFill>
                  <a:srgbClr val="ff9933"/>
                </a:solidFill>
                <a:latin typeface="Times New Roman"/>
              </a:rPr>
              <a:t>Synchronous Learning at a Distance:  Experiences with Tango Interactiv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stalled Student (grading, homework, registration) Database System (web-linked Oracle database written at NPAC) at JSU for use with other dist. edu. courses.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xtensive &amp; regular use of DREN &amp; interactions with DREN staff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4619-36AA-47A1-B642-2F89777BE5D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istance Education for Curricula Enhancement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5333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esearch” universities deliver courses over the network to “teaching focused” universiti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provide students and faculty with access to leading-edge course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jump start” local courses based on material originally delivered remotely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Use TangoInteractive/ WebWisdom for synchronous delivery of lectures from SU to JSU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Pilot for distance training of DoD user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28" name="jsu-students2" descr=""/>
          <p:cNvPicPr/>
          <p:nvPr/>
        </p:nvPicPr>
        <p:blipFill>
          <a:blip r:embed="rId1"/>
          <a:srcRect l="0" t="0" r="27827" b="0"/>
          <a:stretch/>
        </p:blipFill>
        <p:spPr>
          <a:xfrm>
            <a:off x="6553080" y="4038480"/>
            <a:ext cx="1905120" cy="1782720"/>
          </a:xfrm>
          <a:prstGeom prst="rect">
            <a:avLst/>
          </a:prstGeom>
          <a:ln w="0">
            <a:noFill/>
          </a:ln>
        </p:spPr>
      </p:pic>
      <p:pic>
        <p:nvPicPr>
          <p:cNvPr id="129" name="njm-trs-teaching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6248520" y="2209680"/>
            <a:ext cx="2514600" cy="15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79C71-1164-4482-85F9-F9D7D13AA0F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Architecture of JSU Distance Education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05720" y="1676520"/>
            <a:ext cx="1363680" cy="74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PAC Web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523880"/>
            <a:ext cx="1363680" cy="74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SU  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3276720"/>
            <a:ext cx="1363680" cy="74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ava Tang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_OEQ127" descr=""/>
          <p:cNvPicPr/>
          <p:nvPr/>
        </p:nvPicPr>
        <p:blipFill>
          <a:blip r:embed="rId1"/>
          <a:stretch/>
        </p:blipFill>
        <p:spPr>
          <a:xfrm>
            <a:off x="6858000" y="4648320"/>
            <a:ext cx="858960" cy="984240"/>
          </a:xfrm>
          <a:prstGeom prst="rect">
            <a:avLst/>
          </a:prstGeom>
          <a:ln w="0">
            <a:noFill/>
          </a:ln>
        </p:spPr>
      </p:pic>
      <p:pic>
        <p:nvPicPr>
          <p:cNvPr id="135" name="B_OEQ127" descr=""/>
          <p:cNvPicPr/>
          <p:nvPr/>
        </p:nvPicPr>
        <p:blipFill>
          <a:blip r:embed="rId2"/>
          <a:stretch/>
        </p:blipFill>
        <p:spPr>
          <a:xfrm>
            <a:off x="287280" y="4906800"/>
            <a:ext cx="486000" cy="557280"/>
          </a:xfrm>
          <a:prstGeom prst="rect">
            <a:avLst/>
          </a:prstGeom>
          <a:ln w="0">
            <a:noFill/>
          </a:ln>
        </p:spPr>
      </p:pic>
      <p:pic>
        <p:nvPicPr>
          <p:cNvPr id="136" name="B_OEQ127" descr=""/>
          <p:cNvPicPr/>
          <p:nvPr/>
        </p:nvPicPr>
        <p:blipFill>
          <a:blip r:embed="rId3"/>
          <a:stretch/>
        </p:blipFill>
        <p:spPr>
          <a:xfrm>
            <a:off x="1623960" y="4906800"/>
            <a:ext cx="486000" cy="557280"/>
          </a:xfrm>
          <a:prstGeom prst="rect">
            <a:avLst/>
          </a:prstGeom>
          <a:ln w="0">
            <a:noFill/>
          </a:ln>
        </p:spPr>
      </p:pic>
      <p:pic>
        <p:nvPicPr>
          <p:cNvPr id="137" name="B_OEQ127" descr=""/>
          <p:cNvPicPr/>
          <p:nvPr/>
        </p:nvPicPr>
        <p:blipFill>
          <a:blip r:embed="rId4"/>
          <a:stretch/>
        </p:blipFill>
        <p:spPr>
          <a:xfrm>
            <a:off x="952560" y="4906800"/>
            <a:ext cx="485640" cy="557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063880" y="4542480"/>
            <a:ext cx="186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……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_OEQ127" descr=""/>
          <p:cNvPicPr/>
          <p:nvPr/>
        </p:nvPicPr>
        <p:blipFill>
          <a:blip r:embed="rId5"/>
          <a:stretch/>
        </p:blipFill>
        <p:spPr>
          <a:xfrm>
            <a:off x="3762360" y="4906800"/>
            <a:ext cx="485640" cy="557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238880" y="2438280"/>
            <a:ext cx="1800" cy="2119320"/>
          </a:xfrm>
          <a:prstGeom prst="line">
            <a:avLst/>
          </a:prstGeom>
          <a:ln w="57240">
            <a:solidFill>
              <a:srgbClr val="b948e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294920" y="4038480"/>
            <a:ext cx="685800" cy="68580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55440" y="1522800"/>
            <a:ext cx="212688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hare URL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dio Vide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ferencing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at Roo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hite Boards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93920" y="3035160"/>
            <a:ext cx="3754440" cy="129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09480" y="3962160"/>
            <a:ext cx="1067040" cy="6397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33160" y="2362320"/>
            <a:ext cx="1135080" cy="2344680"/>
          </a:xfrm>
          <a:prstGeom prst="line">
            <a:avLst/>
          </a:prstGeom>
          <a:ln w="38160">
            <a:solidFill>
              <a:srgbClr val="b948e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27240" y="3259800"/>
            <a:ext cx="2145240" cy="703800"/>
          </a:xfrm>
          <a:prstGeom prst="rect">
            <a:avLst/>
          </a:prstGeom>
          <a:solidFill>
            <a:srgbClr val="b94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dress at JSU o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rriculum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64160" y="2942280"/>
            <a:ext cx="2148120" cy="703800"/>
          </a:xfrm>
          <a:prstGeom prst="rect">
            <a:avLst/>
          </a:prstGeom>
          <a:solidFill>
            <a:srgbClr val="b94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acher’s View o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rriculum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7640" y="2513520"/>
            <a:ext cx="2108520" cy="703800"/>
          </a:xfrm>
          <a:prstGeom prst="rect">
            <a:avLst/>
          </a:prstGeom>
          <a:solidFill>
            <a:srgbClr val="b94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udent’s View o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rriculum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4080" y="556164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ticipants at J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51960" y="552492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acher/Lecturer at NP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3580200"/>
            <a:ext cx="186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……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276720" y="4038120"/>
            <a:ext cx="761760" cy="6858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40600" y="4697640"/>
            <a:ext cx="218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va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rol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127920" y="5027760"/>
            <a:ext cx="682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4446360" y="5073120"/>
            <a:ext cx="493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8B4B7-132B-4CFD-8D68-8684B3FE9ED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JSU CSC 499:</a:t>
            </a: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Programming for the Web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91120" y="1980720"/>
            <a:ext cx="4495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aught in Spring 98 (started during Yr2). Repeat of Fall 97 class, popular at JSU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JSU faculty attended to “learn” materia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aught Web architecture, CGI programming and Jav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dditional refinements of architecture with proxy web  server to avoid copying of materials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58" name="jsu-students1" descr=""/>
          <p:cNvPicPr/>
          <p:nvPr/>
        </p:nvPicPr>
        <p:blipFill>
          <a:blip r:embed="rId1"/>
          <a:srcRect l="0" t="16941" r="0" b="0"/>
          <a:stretch/>
        </p:blipFill>
        <p:spPr>
          <a:xfrm>
            <a:off x="1905120" y="2057400"/>
            <a:ext cx="2097000" cy="2676600"/>
          </a:xfrm>
          <a:prstGeom prst="rect">
            <a:avLst/>
          </a:prstGeom>
          <a:ln w="0">
            <a:noFill/>
          </a:ln>
        </p:spPr>
      </p:pic>
      <p:pic>
        <p:nvPicPr>
          <p:cNvPr id="159" name="jsu-students3" descr=""/>
          <p:cNvPicPr/>
          <p:nvPr/>
        </p:nvPicPr>
        <p:blipFill>
          <a:blip r:embed="rId2"/>
          <a:srcRect l="0" t="14544" r="0" b="0"/>
          <a:stretch/>
        </p:blipFill>
        <p:spPr>
          <a:xfrm>
            <a:off x="457200" y="4343400"/>
            <a:ext cx="274320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BC630-2380-4D94-8575-FF649438989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JSU CSC 539:  Computational Science for Simulation Applications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343400" y="1600200"/>
            <a:ext cx="4572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aught parallel computing architecture, scientific applications and algorithms, parallel programming in C/MPI.</a:t>
            </a:r>
            <a:br>
              <a:rPr sz="2400"/>
            </a:b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(Material on CD-ROM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Used an on-line “Virtual Programming Lab” to compute with NPAC parallel computing resources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eaching graduate students led to additional kinds of feedback for Tango and style of distance teaching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62" name="jsufall98" descr=""/>
          <p:cNvPicPr/>
          <p:nvPr/>
        </p:nvPicPr>
        <p:blipFill>
          <a:blip r:embed="rId1"/>
          <a:stretch/>
        </p:blipFill>
        <p:spPr>
          <a:xfrm>
            <a:off x="76320" y="1979640"/>
            <a:ext cx="4343400" cy="409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8C42-3503-4B4C-A3FB-B1413F8C8F6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/C Core -- Statu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rip reports routinely posted on NPAC web site &amp; distributed by emai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n-going Tango enhancements &amp; releas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ango 1.02 (increased robustness) Oct’98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ango 1.1 (extensive rewrites, added functionality based on experience and user feedback) internal now, public by end of Februar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atabase/asynch collab linkage availabl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0AB53-1905-4287-9E41-48FD51807A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Report presented at SC98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e paper “Synchronous Learning at a Distance:  Experiences with Tango Interactive” was presented at the education sessions of SC98 in November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65" name="sc98-cover" descr=""/>
          <p:cNvPicPr/>
          <p:nvPr/>
        </p:nvPicPr>
        <p:blipFill>
          <a:blip r:embed="rId1"/>
          <a:stretch/>
        </p:blipFill>
        <p:spPr>
          <a:xfrm>
            <a:off x="4495680" y="1143000"/>
            <a:ext cx="3856320" cy="5257800"/>
          </a:xfrm>
          <a:prstGeom prst="rect">
            <a:avLst/>
          </a:prstGeom>
          <a:ln w="0">
            <a:noFill/>
          </a:ln>
        </p:spPr>
      </p:pic>
      <p:pic>
        <p:nvPicPr>
          <p:cNvPr id="166" name="sc98-tango-paper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3976920" cy="42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31BF5-FE04-4361-A250-03F8AD6F086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Additional Course in Spring 99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We have just begun teaching a distance education course based on the Syracuse course CPS616 Web Software Technologies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Given at JSU to 9 students for credit.   Also attended by 10 students at Mississippi State and 2 students from Clark Atlanta University for certificates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The course will include multi-tier web architecture, web-linked databases, user interfaces with JavaScript and DHTML, distributed objects with RMI and CORBA, XML, and security issues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69" name="jsufpring99" descr=""/>
          <p:cNvPicPr/>
          <p:nvPr/>
        </p:nvPicPr>
        <p:blipFill>
          <a:blip r:embed="rId1"/>
          <a:stretch/>
        </p:blipFill>
        <p:spPr>
          <a:xfrm>
            <a:off x="0" y="1940040"/>
            <a:ext cx="4191120" cy="40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1E040-ECDF-4DDB-A98D-4D66DA42E75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ow in fourth semester of course delivery!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nhanced edu. opportunities for student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Gives local faculty a head start developing new courses (i.e. JSU now teaching “Programming for the Web” via Tango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istance education tools &amp; techniques being adopted by JSU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75250-DFFA-49D4-9796-857718779E9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ummary (2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s approach to dist. edu. is now in some sense “routine”, but active support still valuable (in addition to education aspects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Understanding of human factors in dist. edu.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rives requirements for Tango capabilities &amp; robustness also relevant to training &amp; collab us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esting ground for new Tango releas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akes extensive use of DRE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7DAA-9575-47BC-9928-A22E56C6833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HPC Educational CD-ROM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avid Bernhold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PAC/Syracuse Univer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nnual Review 9-10 February 1999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HPC Educational CD-ROM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Staff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avid Bernhold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aleh Elmohamed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eoffrey Fox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ancy McCracken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eepak Ramanathan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343400" cy="46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C6576-8C27-42E9-9FBE-95835B29EB9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Educational CD-ROM -- Statu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aster CD-ROM prepared (done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D-ROM duplicated &amp; ready for distribution (delayed to allow incorporation of new dynamic HTML (DHTML) capabilities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HTML significantly improved ease of use of Syracuse-produced class material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Will be ready for distribution at DoD HPC UGC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8150F-AA2D-4D8D-8201-04F0398E423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D-ROM “Second Edition”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Builds on first edition, distributed at 1998 DoD HPC UGC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uch material revised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specially CPS615, used for JSU Fall’98 clas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gnificant new materia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cludes contributions from Rice, Mississippi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2 discs, 886 MB total conten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D3BB4-237B-4AE2-9D93-F93EC51ACD0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Computational Science Course Materials</a:t>
            </a:r>
            <a:endParaRPr b="1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343400" y="18288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Lectures from CPS615, Computational Science for Simulation Applications, were revised during the teaching of the fall course (given remotely at JSU).  Major revisions or additions: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Parallel Architecture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Message-Passing Interface (MPI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N-Body application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Updated links to outside resourc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85" name="main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809880" cy="42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4FA76-5BA6-4DF3-904D-1317E5F9E04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NHSE HPCC Roadmap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HPCC resources in the National High Performance Software Exchange went through a major revision, particulary:  HPCC Glossary, HPCC hardware vendors,  Parallel computing architectur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88" name="vendors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3810240" cy="2847960"/>
          </a:xfrm>
          <a:prstGeom prst="rect">
            <a:avLst/>
          </a:prstGeom>
          <a:ln w="0">
            <a:noFill/>
          </a:ln>
        </p:spPr>
      </p:pic>
      <p:pic>
        <p:nvPicPr>
          <p:cNvPr id="189" name="comp" descr=""/>
          <p:cNvPicPr/>
          <p:nvPr/>
        </p:nvPicPr>
        <p:blipFill>
          <a:blip r:embed="rId2"/>
          <a:stretch/>
        </p:blipFill>
        <p:spPr>
          <a:xfrm>
            <a:off x="2133720" y="3809880"/>
            <a:ext cx="3809880" cy="2695680"/>
          </a:xfrm>
          <a:prstGeom prst="rect">
            <a:avLst/>
          </a:prstGeom>
          <a:ln w="0">
            <a:noFill/>
          </a:ln>
        </p:spPr>
      </p:pic>
      <p:pic>
        <p:nvPicPr>
          <p:cNvPr id="190" name="hpcc" descr=""/>
          <p:cNvPicPr/>
          <p:nvPr/>
        </p:nvPicPr>
        <p:blipFill>
          <a:blip r:embed="rId3"/>
          <a:stretch/>
        </p:blipFill>
        <p:spPr>
          <a:xfrm>
            <a:off x="5638680" y="3429000"/>
            <a:ext cx="3276720" cy="252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ACC5-4D8D-48F7-9687-CFD6B4B057E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/C Core -- Status (2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n-going operation of web-linked database apps, assistance with transfer to CEW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earch Engines, WSMS working at NPAC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ssisting with WSMS installation now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Yuping Zhu has account after 11 month wait for NAC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ango training at CEWES (Nov’98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umerous Tango trainings elsewhere open to DoD researcher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72CEA-33FF-413C-B9F1-532B8047D0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ontributions from Partner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267080" y="182880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From Chuck Koelbel at Rice Univ: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Lectures: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High Performance Fortran in Practice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Designing and Building Parallel Program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Videotape (from ASC) digitized &amp; synchronized w/ foils using LecCorder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From Mississippi Stat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MPI CH resource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93" name="chuck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3810240" cy="349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96424-DAD3-4C9E-8323-1B16E65F4FF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Prototype Distance HPC Training for DoD User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-360" y="266652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862956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Leslie Souther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862956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hio Supercomputer Center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r" pos="862956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avid Bernhold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862956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PAC/Syracuse Univer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862956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862956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Times New Roman"/>
              </a:rPr>
              <a:t>Presented by OSC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Web Interfaces for Computational Module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omasz Haup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PAC/Syracuse Univer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nnual Review 9-10 February 1999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Web Interfaces for Computational Module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Staff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rol Akarsu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om Haup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343400" cy="46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70743-B570-46F0-B4EA-ED778BE1651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Activities and Deliverable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emonstration of WebFlow capabilities to build java client interfaces and to provide access to remote resources fo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Landscape Management System (completed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obility Systems Division applications (in progres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Delays due to lack of communication with MSD and personnel changes in MSD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PET mgmt (Louis Turcotte, Wayne Mastin) aware of situation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ebFlow documentation, developers guide and user training (to be delivered on March 9, 1999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PET people, especially on-sites encouraged to attend!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FED38-F6AA-4F65-B948-4CD8CA12929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Other metric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5 visits to CEWES (17 person-days), 1 to Mary Wheeler’s group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eb-based LMS prototype: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demonstrated at SC ‘98 and included in SC’98 technical presentatio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installed at CEWES MSRC and delivered to 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J. Hollan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ollaboration with Mobility Systems Division 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N. Deliman, B.Gate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echnical report and tutorial (by March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2A571-E01F-4804-9254-77AA09C7D21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WebFlow Architecture</a:t>
            </a: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modern three-tier system</a:t>
            </a: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960" y="2209320"/>
            <a:ext cx="3352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ier 1 is a high-level 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front-end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for visual programming.</a:t>
            </a:r>
            <a:endParaRPr b="0" lang="en-US" sz="2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Distributed object-based, scalable, and reusable Web server and Object broker </a:t>
            </a: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forms Tier 2.</a:t>
            </a:r>
            <a:endParaRPr b="0" lang="en-US" sz="2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Back-end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services comprise Tier 3. </a:t>
            </a:r>
            <a:endParaRPr b="0" lang="en-US" sz="2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07" name="sc98fig1" descr=""/>
          <p:cNvPicPr/>
          <p:nvPr/>
        </p:nvPicPr>
        <p:blipFill>
          <a:blip r:embed="rId1"/>
          <a:stretch/>
        </p:blipFill>
        <p:spPr>
          <a:xfrm>
            <a:off x="3533760" y="1828800"/>
            <a:ext cx="5610240" cy="42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32CEB-A920-40A7-ACAA-BE2C07E5BE8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762120" y="2514600"/>
            <a:ext cx="3504960" cy="2743200"/>
            <a:chOff x="762120" y="2514600"/>
            <a:chExt cx="3504960" cy="2743200"/>
          </a:xfrm>
        </p:grpSpPr>
        <p:pic>
          <p:nvPicPr>
            <p:cNvPr id="209" name="dataflow" descr=""/>
            <p:cNvPicPr/>
            <p:nvPr/>
          </p:nvPicPr>
          <p:blipFill>
            <a:blip r:embed="rId1"/>
            <a:stretch/>
          </p:blipFill>
          <p:spPr>
            <a:xfrm>
              <a:off x="1219320" y="2514600"/>
              <a:ext cx="2466720" cy="27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762120" y="2514600"/>
              <a:ext cx="350496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80720" y="54860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Middle-Tier is given by a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Mesh of Web Servers running servlets that manage and coordinate distributed computation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3429000"/>
            <a:ext cx="3809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029200" y="1066680"/>
            <a:ext cx="3429000" cy="4110120"/>
            <a:chOff x="5029200" y="1066680"/>
            <a:chExt cx="3429000" cy="4110120"/>
          </a:xfrm>
        </p:grpSpPr>
        <p:sp>
          <p:nvSpPr>
            <p:cNvPr id="214" name=""/>
            <p:cNvSpPr/>
            <p:nvPr/>
          </p:nvSpPr>
          <p:spPr>
            <a:xfrm>
              <a:off x="5029200" y="3200400"/>
              <a:ext cx="457200" cy="4572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72200" y="3200400"/>
              <a:ext cx="457200" cy="4572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86400" y="3886200"/>
              <a:ext cx="457200" cy="457200"/>
            </a:xfrm>
            <a:prstGeom prst="cube">
              <a:avLst>
                <a:gd name="adj" fmla="val 25000"/>
              </a:avLst>
            </a:prstGeom>
            <a:solidFill>
              <a:srgbClr val="72c0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05720" y="3886200"/>
              <a:ext cx="457200" cy="457200"/>
            </a:xfrm>
            <a:prstGeom prst="cube">
              <a:avLst>
                <a:gd name="adj" fmla="val 25000"/>
              </a:avLst>
            </a:prstGeom>
            <a:solidFill>
              <a:srgbClr val="dde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39240" y="3200400"/>
              <a:ext cx="457200" cy="4572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440" y="342900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3440" y="34290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67640" y="411480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943240" y="3504960"/>
              <a:ext cx="3812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7086240" y="3504960"/>
              <a:ext cx="3049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81840" y="3504960"/>
              <a:ext cx="30456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34120" y="4647960"/>
              <a:ext cx="228600" cy="223920"/>
            </a:xfrm>
            <a:prstGeom prst="can">
              <a:avLst>
                <a:gd name="adj" fmla="val 24967"/>
              </a:avLst>
            </a:prstGeom>
            <a:solidFill>
              <a:srgbClr val="72c0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86400" y="4952880"/>
              <a:ext cx="228600" cy="223920"/>
            </a:xfrm>
            <a:prstGeom prst="can">
              <a:avLst>
                <a:gd name="adj" fmla="val 24967"/>
              </a:avLst>
            </a:prstGeom>
            <a:solidFill>
              <a:srgbClr val="72c0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29200" y="4952880"/>
              <a:ext cx="228600" cy="223920"/>
            </a:xfrm>
            <a:prstGeom prst="can">
              <a:avLst>
                <a:gd name="adj" fmla="val 24967"/>
              </a:avLst>
            </a:prstGeom>
            <a:solidFill>
              <a:srgbClr val="72c0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2040" y="4952880"/>
              <a:ext cx="228600" cy="223920"/>
            </a:xfrm>
            <a:prstGeom prst="can">
              <a:avLst>
                <a:gd name="adj" fmla="val 24967"/>
              </a:avLst>
            </a:prstGeom>
            <a:solidFill>
              <a:srgbClr val="dde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91320" y="4724280"/>
              <a:ext cx="228600" cy="223920"/>
            </a:xfrm>
            <a:prstGeom prst="can">
              <a:avLst>
                <a:gd name="adj" fmla="val 33333"/>
              </a:avLst>
            </a:prstGeom>
            <a:solidFill>
              <a:srgbClr val="72c0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00800" y="4952880"/>
              <a:ext cx="228600" cy="223920"/>
            </a:xfrm>
            <a:prstGeom prst="can">
              <a:avLst>
                <a:gd name="adj" fmla="val 24967"/>
              </a:avLst>
            </a:prstGeom>
            <a:solidFill>
              <a:srgbClr val="dde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05720" y="4647960"/>
              <a:ext cx="228600" cy="223920"/>
            </a:xfrm>
            <a:prstGeom prst="can">
              <a:avLst>
                <a:gd name="adj" fmla="val 24967"/>
              </a:avLst>
            </a:prstGeom>
            <a:solidFill>
              <a:srgbClr val="dde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62920" y="4800600"/>
              <a:ext cx="228600" cy="223560"/>
            </a:xfrm>
            <a:prstGeom prst="can">
              <a:avLst>
                <a:gd name="adj" fmla="val 24967"/>
              </a:avLst>
            </a:prstGeom>
            <a:solidFill>
              <a:srgbClr val="dde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410440" y="434340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5639040" y="4343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5790960" y="4343400"/>
              <a:ext cx="152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5181840" y="434304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782040" y="4343400"/>
              <a:ext cx="759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553440" y="434304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6934320" y="4343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7010280" y="434340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10640" y="1066680"/>
              <a:ext cx="1143000" cy="1066680"/>
            </a:xfrm>
            <a:prstGeom prst="cube">
              <a:avLst>
                <a:gd name="adj" fmla="val 249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86600" y="1447560"/>
              <a:ext cx="762120" cy="6098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2133360"/>
              <a:ext cx="1600200" cy="228600"/>
            </a:xfrm>
            <a:prstGeom prst="cube">
              <a:avLst>
                <a:gd name="adj" fmla="val 7958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20120" y="1828800"/>
              <a:ext cx="838080" cy="1600200"/>
            </a:xfrm>
            <a:custGeom>
              <a:avLst/>
              <a:gdLst/>
              <a:ahLst/>
              <a:rect l="l" t="t" r="r" b="b"/>
              <a:pathLst>
                <a:path w="528" h="1008">
                  <a:moveTo>
                    <a:pt x="288" y="0"/>
                  </a:moveTo>
                  <a:lnTo>
                    <a:pt x="528" y="0"/>
                  </a:lnTo>
                  <a:lnTo>
                    <a:pt x="528" y="1008"/>
                  </a:lnTo>
                  <a:lnTo>
                    <a:pt x="0" y="1008"/>
                  </a:lnTo>
                  <a:lnTo>
                    <a:pt x="48" y="100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28600" y="533520"/>
            <a:ext cx="6781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WebFlow applications are composed of independent   reusable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Modules are written by module developers who have only  limited knowledge of the system on which the modules will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The WebFlow system hides module management and coordination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B913D-4364-41E9-820C-1F8C159F0FB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LMS Objective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o develop a web based system that implements  a “navigate-and-choose” paradigm and  allows the end user to: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elect (a set of) computational modules that provide answers to the problem at han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etrieve input data sets from remote sourc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Use adequate (remote) computational resourc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Visualize and analyze output data on the local hos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nytime, anywhere, using any platform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e.g., a connected to the internet laptop PC)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B7F36-2835-439C-8202-7838C95188E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LMS: Changes in Vegetation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9933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 decision maker (the end user of the system) wants to evaluate changes in vegetation in some geographical region over a long time period caused by some short term disturbances such as a fire or human’s activities.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9933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One of the critical parameters of the vegetation model (EDYS) is soil condition at the time of the disturbance.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9933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his in turn is dominated by rainfalls that possibly occur at that time (CASC2D simulation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9933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nput data for the simulations are available from the Internet, such as Data Elevation Models (DEM) from USGS web site or from custom databases (spieces characteristic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887C2-5CBF-46E4-BD2F-1CBB05D5877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/C Core -- Other Metric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ango tutorial on installation and operation at JSU, assistance with CEWES Tango installation (7 person-days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ontinued user support 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ngoing involvement in national activities (such as DoD users meeting and NPACI/NSCA PACI Leading Edge Sites and Partners) leads to continuing better understanding of collaborative technologies and how to meet PET need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BCEB3-ECA6-48BD-AF54-C4BC4F23ED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LMS: Changes in Vegetation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288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ata retrieva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ata preprocess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imulation: two interacting cod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EDYS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ASC2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Visualization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914400" y="1523880"/>
            <a:ext cx="3809880" cy="3276720"/>
            <a:chOff x="914400" y="1523880"/>
            <a:chExt cx="3809880" cy="3276720"/>
          </a:xfrm>
        </p:grpSpPr>
        <p:sp>
          <p:nvSpPr>
            <p:cNvPr id="253" name=""/>
            <p:cNvSpPr/>
            <p:nvPr/>
          </p:nvSpPr>
          <p:spPr>
            <a:xfrm>
              <a:off x="1981080" y="2666880"/>
              <a:ext cx="182880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23880" y="4114800"/>
              <a:ext cx="12193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DY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71800" y="4114800"/>
              <a:ext cx="1218960" cy="457200"/>
            </a:xfrm>
            <a:prstGeom prst="rect">
              <a:avLst/>
            </a:prstGeom>
            <a:solidFill>
              <a:srgbClr val="fe04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SC2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438280" y="3886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3828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5268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526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438280" y="48006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438280" y="4571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09680" y="33526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81280" y="33526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14400" y="1523880"/>
              <a:ext cx="838080" cy="380880"/>
            </a:xfrm>
            <a:prstGeom prst="rect">
              <a:avLst/>
            </a:prstGeom>
            <a:solidFill>
              <a:srgbClr val="dde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04760" y="1523880"/>
              <a:ext cx="838440" cy="380880"/>
            </a:xfrm>
            <a:prstGeom prst="rect">
              <a:avLst/>
            </a:prstGeom>
            <a:solidFill>
              <a:srgbClr val="12f10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nd U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95480" y="1523880"/>
              <a:ext cx="838080" cy="380880"/>
            </a:xfrm>
            <a:prstGeom prst="rect">
              <a:avLst/>
            </a:prstGeom>
            <a:solidFill>
              <a:srgbClr val="190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o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ex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86200" y="1523880"/>
              <a:ext cx="838080" cy="380880"/>
            </a:xfrm>
            <a:prstGeom prst="rect">
              <a:avLst/>
            </a:prstGeom>
            <a:solidFill>
              <a:srgbClr val="f10d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ege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371600" y="1904760"/>
              <a:ext cx="9903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429000" y="1904760"/>
              <a:ext cx="9144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047400" y="1904760"/>
              <a:ext cx="3049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61960" y="1904760"/>
              <a:ext cx="3812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839160" y="5257800"/>
            <a:ext cx="33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EDYS: vegeta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22960" y="525780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CASC2D: watershed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04400" y="5638680"/>
            <a:ext cx="48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WMS: Watershed Model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C4D8C-141D-4189-9BD2-3B928C8E551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LMS Front End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77" name="lms01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343920" cy="4848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42670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ata retrieval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666520" y="6035760"/>
            <a:ext cx="21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ata pre-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post-pro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1800" y="617220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im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95280" y="4648320"/>
            <a:ext cx="2514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648320" y="4876920"/>
            <a:ext cx="99036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943600" y="4876920"/>
            <a:ext cx="9144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735CE-2AEB-4F60-9F1F-2B707FE7BC3D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fig2a" descr=""/>
          <p:cNvPicPr/>
          <p:nvPr/>
        </p:nvPicPr>
        <p:blipFill>
          <a:blip r:embed="rId1"/>
          <a:stretch/>
        </p:blipFill>
        <p:spPr>
          <a:xfrm>
            <a:off x="3581280" y="1371600"/>
            <a:ext cx="5154840" cy="51544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Data Retrieval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1360" y="133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1371600"/>
            <a:ext cx="3124080" cy="510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he data wizard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allows the user to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interactively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select the data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download them to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he local machine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he raw data are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hen fed to the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WMS system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launched from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he browser to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generate input files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for simu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16EE1-6E5E-47C8-9650-F5F7820303B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LMS01a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553440" cy="6191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04920" y="1371600"/>
            <a:ext cx="312408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151128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Launching coupled simulations on different back-end computation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04920" y="4495680"/>
            <a:ext cx="2286000" cy="2133720"/>
            <a:chOff x="304920" y="4495680"/>
            <a:chExt cx="2286000" cy="2133720"/>
          </a:xfrm>
        </p:grpSpPr>
        <p:sp>
          <p:nvSpPr>
            <p:cNvPr id="292" name=""/>
            <p:cNvSpPr/>
            <p:nvPr/>
          </p:nvSpPr>
          <p:spPr>
            <a:xfrm>
              <a:off x="304920" y="4495680"/>
              <a:ext cx="17524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lect 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920" y="5054760"/>
              <a:ext cx="19047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lect 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4920" y="5613480"/>
              <a:ext cx="2057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t parame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4920" y="6172200"/>
              <a:ext cx="22860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 flipV="1">
            <a:off x="2057400" y="4343400"/>
            <a:ext cx="3049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209680" y="4343400"/>
            <a:ext cx="25146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362320" y="5181480"/>
            <a:ext cx="251460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90920" y="632448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DBF3D-307B-45EC-8F68-43200FCFFC2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WMS based Visualizations</a:t>
            </a:r>
            <a:br>
              <a:rPr sz="4400"/>
            </a:b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301" name="fig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6049800" cy="48290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5105520" y="1523880"/>
            <a:ext cx="3733560" cy="2895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he results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simulations are s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back to the front e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and can be visualiz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using tools inclu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in  WMS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5B577-7E05-4114-9186-F2F4D6E3134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4343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Mobility Systems Application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28600" y="2133720"/>
            <a:ext cx="3276720" cy="4038120"/>
            <a:chOff x="228600" y="2133720"/>
            <a:chExt cx="3276720" cy="4038120"/>
          </a:xfrm>
        </p:grpSpPr>
        <p:grpSp>
          <p:nvGrpSpPr>
            <p:cNvPr id="305" name=""/>
            <p:cNvGrpSpPr/>
            <p:nvPr/>
          </p:nvGrpSpPr>
          <p:grpSpPr>
            <a:xfrm>
              <a:off x="1905120" y="3352680"/>
              <a:ext cx="1523880" cy="1218960"/>
              <a:chOff x="1905120" y="3352680"/>
              <a:chExt cx="1523880" cy="1218960"/>
            </a:xfrm>
          </p:grpSpPr>
          <p:sp>
            <p:nvSpPr>
              <p:cNvPr id="306" name=""/>
              <p:cNvSpPr/>
              <p:nvPr/>
            </p:nvSpPr>
            <p:spPr>
              <a:xfrm>
                <a:off x="1905120" y="3352680"/>
                <a:ext cx="1523880" cy="1218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07" name="msd01" descr=""/>
              <p:cNvPicPr/>
              <p:nvPr/>
            </p:nvPicPr>
            <p:blipFill>
              <a:blip r:embed="rId1"/>
              <a:stretch/>
            </p:blipFill>
            <p:spPr>
              <a:xfrm>
                <a:off x="2009880" y="3428640"/>
                <a:ext cx="1314360" cy="105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8" name=""/>
            <p:cNvSpPr/>
            <p:nvPr/>
          </p:nvSpPr>
          <p:spPr>
            <a:xfrm>
              <a:off x="1905120" y="5257800"/>
              <a:ext cx="1523880" cy="91404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ordinate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ansform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228600" y="3047760"/>
              <a:ext cx="1155960" cy="1675800"/>
              <a:chOff x="228600" y="3047760"/>
              <a:chExt cx="1155960" cy="1675800"/>
            </a:xfrm>
          </p:grpSpPr>
          <p:sp>
            <p:nvSpPr>
              <p:cNvPr id="310" name=""/>
              <p:cNvSpPr/>
              <p:nvPr/>
            </p:nvSpPr>
            <p:spPr>
              <a:xfrm>
                <a:off x="396720" y="3047760"/>
                <a:ext cx="914040" cy="60912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6720" y="4114080"/>
                <a:ext cx="914040" cy="60948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28600" y="3671280"/>
                <a:ext cx="1155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9933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1752480" y="2133720"/>
              <a:ext cx="76212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2133720"/>
              <a:ext cx="76212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66880" y="4572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09680" y="2743200"/>
              <a:ext cx="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48120" y="2743200"/>
              <a:ext cx="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95280" y="3352680"/>
              <a:ext cx="6098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1295280" y="4114440"/>
              <a:ext cx="60984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4648320" y="3733920"/>
            <a:ext cx="4343400" cy="228852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Prog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- object oriented approach 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- implementation: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 - CORBA based middle-tier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 - bean-box type API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 - JDBC proxy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685800"/>
            <a:ext cx="4724280" cy="2895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Web interface to store data in DB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in variable forma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Data transfer from DB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a visualization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Coordinates transformations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emote serv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Launching simulations on rem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sts with interactive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47920" y="2286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Remote HPCC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F2C5-1F6E-4F1E-BA95-E35C0CC6B3F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eliver useful web interfaces to customer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Land Management System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lanned Mobility Systems work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stablished general approach to web interfacing problem and developed supporting infrastructure -- both transferable to other applica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raining to be delivered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1873A-0371-46F1-983B-6F26ED97AFE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ummary (2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obility Systems work has already pushed project into newest technology (CORBA) -- more general &amp; easier than LMS approach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pin-off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SC “Gateway”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Year 4 “Web Interfaces”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Year 4 “PSE for CWO”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Work with more CTAs to develop truly “universal” approach &amp; tool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F16B2-2C63-4ECE-835D-3708382184F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33"/>
                </a:solidFill>
                <a:uFillTx/>
                <a:latin typeface="Times New Roman"/>
              </a:rPr>
              <a:t>Forces Modeling and Simulation/C4I</a:t>
            </a: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 </a:t>
            </a:r>
            <a:br>
              <a:rPr sz="4400"/>
            </a:br>
            <a:br>
              <a:rPr sz="1800"/>
            </a:b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Core Support</a:t>
            </a:r>
            <a:br>
              <a:rPr sz="3600"/>
            </a:br>
            <a:br>
              <a:rPr sz="1800"/>
            </a:b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 High Performance Distributed Object Web Based HLA Demonstration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2952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Wojtek Furmanski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PAC/Syracuse Univer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nnual Review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9-10 February 1999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FMS Core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Staff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avid Bernhold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eoffrey Fox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ojtek Furmanski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imucin Ozdemi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om Pulika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ahesh Rengaswam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343400" cy="46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55CBF-FC12-4D94-9886-484B3D776B30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/C Core -- Technical Progres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resented together with closely related Training Core technical progres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ECC7-82CB-4CC3-A90B-0EC639677F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Object Web HLA Demonstration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Staff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Wojtek Furmanski, Survesh Jithendran, Dinesh Kasthuril, Ganesh Krishnamurthy, Subhash Nair, Zeynep Odcikin-Ozdemir, Timucin Ozdemir, Tom Pulikal, Krishnan Ragarajan, Mahesh Rengaswamy, Anusha Shankar, Sachin Shanbhag, Rudrasen Shitole, Ankur Soo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343400" cy="46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77983-C95E-4EF0-A633-E015FDDD43A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HLA Modules Development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OWRTI, CMS etc.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erence Presentation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10 papers published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monstrations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JSIMS/Panda @ SPAWAR, SC’98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utorials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FMS at JSU, SPEEDES at JNTF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k Development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Pragmatic Object Web, Wiley ‘99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isting FMS CHSSI Team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FMS-3, FMS-4, FMS-5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p with FMS CHSSI ‘99 Proposal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2 submitted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T FMS Web Site Development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100+ page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98625-FA30-4074-93FC-C1CD0F28E57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 (1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bHLA Modules Development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(OWRTI, CMS etc.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JWORB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OWRTI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OMBuilder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ear 2 Module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SimVi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rectX based 3D simulation visualization front-end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Parallal CM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igin2000 port of Comprehensive Mine Simulator from Ft. Belvoir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JScop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Java based parallel performance monitor and PDU probing too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JDI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Java based DIS=&gt;HLA bridge server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ModSAF/HL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support for ModSAF node to act as HLA federate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spcAft>
                <a:spcPts val="451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Logger Federate 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ed to save HLA interactions (events) in a relational databas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Playback Federa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used to replay a simulation from an event database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676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CD3C-F012-41D0-8292-A3BA2E12BF4E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 (2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ference Presentations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(10 papers published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PC DoD User Group Confrerence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, Rice U., June 98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EA HPC Conf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, Aberdeen, MD, 4 papers, July 98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W (HLA conf by DMSO/SISO),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Orlando, FL, Sept 98 -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HLA paper awarded as recommended read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S WebSim’99 Conf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, San Francisco, CA, Jan 1999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HPC confs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(EuroPar, Wisconsin, ICASE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67839-C5FC-427F-91A3-1024D5E57E5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 (3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monstrations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(JSIMS/Panda @ SPAWAR, SC’98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WebHLA/OWRT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resentation at SPAWAR, Aug 98, as part of JSIMS/Panda meet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ve Demonstration of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Parallel C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the HPCMO booth at Supercomputing ‘98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3734C-10E4-4B22-AA56-20BDB95B983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 (4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utorials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(FMS JSU, SPEEDES at JNTF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ing Full Day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FMS Tutori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t JSU Summer Institute, June 98; included morning presentation and afternoon lab with hands-on WebHLA demo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icipating in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PEEDES Tutori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y Metron, Inc. at the Joint National Test Facility at Colorado Springs, CO, June 98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1117A-A133-4154-AD54-045A278FF0C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 (5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ook Development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(Pragmatic Object Web, Wiley ‘99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.C. Fox, W. Furmanski, S. Pallickara and H. Timucin,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Building Distributed Systems on Pragmatic Object Web -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The Best of Java, CORBA, COM, XML and HL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book in progress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iley ‘99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marizes our recent work on Web based HPC and proposes dual-use of WebHLA for several Internet application domains (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virtual communities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online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multiplayer gaming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SBA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distance training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telemedici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etc.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C740A-D456-41A9-A908-BF8D4572B9F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 (6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sisting FMS CHSSI Team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(FMS-3, FMS-4, FMS-5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FMS-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Interacting with Jeff Steinman/Mark Roberts regarding SPEEDES/E-ModSAF Train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FMS-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Interacting with Larry Peterson and Jeff Wallace re Parallel IMPORT support in WebHL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FMS-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Contributing our HLA expertise in HPC RTI project;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bject Web RTI to be certified by DMSO as the first non-DMSO RTI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B639-233D-4ED6-9051-C897F32300F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 (7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lp with FMS CHSSI ‘99 Proposals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(2 submitted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mela M. Jacobs/Ft. Belvoir, Wojtek Furmanski/Translet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WebHLA Toolkit for Metacomputing based FM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ry J. Peterson/SPAWAR, Chris Wallace/TRW, Wojtek Furmanski/Translet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HPC for Scalable Cognitive Entities in Forces Modeling and Simulatio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C172-6791-4501-9330-219FFC520A3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st of Activities/Deliverables (8)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T FMS Web Site Development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(100+ page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vers both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PE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in detail) and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HSS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t the summary level) FMS program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bes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WebH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vision, component technologies, prototypes, demonstration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ludes early support for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FMS Training Spac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ite at NPAC -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http://bombay.npac.syr.edu/f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summary site being installed at CEW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815E3-2FFC-40B7-B837-EB58C1B0015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ore Support</a:t>
            </a: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raining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Geoffrey Fox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PAC/Syracuse Univer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nnual Review 9-10 February 1999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igh Performance Distributed Object Web Based HLA Demonstration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s on JWORB/OWRTI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Parallel CMS as HPC Federat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ModSAF, Vis, Log etc. Federat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ly WebHLA demos (Jager) - Summer 98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llel CMS Demo at SC’98, Fall 98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bile laptop demo (event playback) - Feb ‘99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l demo - end of March ‘99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1740-7DE5-4685-9961-2693664199A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80880" y="1447920"/>
            <a:ext cx="79250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ebHLA/Parallel CMS Demo at the HPCMO Booth at  Supercomputing ‘9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vember 7-13, 1998, Orlando, F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5924C-BD58-470F-9F34-64F9A99A2651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emonstration Component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CM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Comprehensive Minefield Simulator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advanced DIS system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t. Belvoi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recently parallelized on Origin2000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T FM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ModSAF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Modular Semi-Automated Forces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ICO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provides advanced support for terrain and vehicle simulation (tanks, coutermine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Mak Steal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commercial DIS battlefield visualizer from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k Technologi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imVi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X/3D Battlefield Viewer; commodity/NT front-end for Parallel CMS developed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T FM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A4E81-4432-4DAC-981D-E887EBC70578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arallel CMS - Installation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At NPAC,  Syracuse Unviersit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llel C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uns on Origin2000 in ARL and CEWES MSRC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SA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k Steal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un on NPAC SGI workstation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rect3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ewer runs on NT commodity cluster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spcAft>
                <a:spcPts val="700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At SC98 in Orland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llel C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uns on Origin2000 in HPCMO booth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SA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Stealth runs on booth SGI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rect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Viewer runs on laptop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3EE7E-8D1B-4096-B936-C7E47B2BA228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arallel CMS Demo - Results</a:t>
            </a:r>
            <a:endParaRPr b="1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cenario 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y breach operation at Ft. Knox, developed for Syracuse by Ft. Belvoir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Network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NE connection satisfactory between NPAC and MSRCs, difficulties in Orlando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peed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 far linear up to 8 nodes, more work and tests needed to scale for larger partition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C98 dem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rly capability only but already generated some interest and visibilit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Next step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HLA suppor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end of Year 3),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-MSR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acomputing CMS (Year 3 proposal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F14F8-516C-4DBD-8303-5EC3753E3C2F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Drawing1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6782040" cy="514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B3148-42D4-44CA-BA07-C2F2BCDB0E60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cms_with_veh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553440" cy="48034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685800" y="3049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6094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MS Front-End for the Ft. Knox Minefield Breach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92C97-C30D-4D40-8911-DEFAEB3EE5DF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modsaf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629400" cy="48625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odSAF Front-End for the Ft. Knox Minefield Breach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DE6C2-5AEF-4AE9-9310-044292BA6FC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erf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315200" cy="49341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22860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arallel CMS Performance Monitor and PDU Sampler/Sni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656D-A79F-4BEE-81F5-8E32C8687B36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sc985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705720" cy="50925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152280" y="4572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irect3D based Commodity (NT) Front-End for Parallel C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75C5C-611B-42F8-B019-EF1BAE928FC7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raining Core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Staff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avid Bernhold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eoffrey Fox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Jin Jianxia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orka Lucena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om Majo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oman Markowski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arek Podgorn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om Stachowiak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emek Trzaska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343400" cy="46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164E8-3754-4945-A6F7-59C8B95F15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stealth_1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638680" cy="47847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04920" y="60156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ak Stealth - High End SGI Viewer adapted for Parallel 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1DA26-0490-4CA3-A759-5FE2C04DB046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owards  HLA Support for Parallel CMS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SC’98 Parallel CMS Demo -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IS based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HLA conversion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of old/legacy modules (CMS, ModSAF) - in progress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ew DIS/HLA modules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(JDIS, Logger, Playback, SimVis) - initially operational and being completed/refine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obile laptop demo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(under development - to be shown at Year 3 review) enables scenario storage, playback and analysi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Final demo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will include all WebHLA components listed below - to be available end of March 99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C181A-DB18-4B40-B91B-46B36420FD3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ebHLA - Current Components</a:t>
            </a:r>
            <a:endParaRPr b="1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JWORB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(Java Web Object Request Broker)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va based CORBA broker acting as HLA middleware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OWRTI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Object Web Run-Time Infrastructure)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va CORBA based implementation of DMSO RTI 1.3 packaged as JWORB service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OMBuilde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cel+VBA based Visual FOM/SOM Authoring tool with Aegis OMDT look-and-fee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DirectX based SimVis Front-En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s DirectPlay for multiplayer gaming to bridge with RTI middleware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JDI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DIS-HLA bridge and PDU probe generator written in Java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JScop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Parallel Performance  Monitor),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Logg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Playback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derate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Pragmatic Object Web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ceptual framework - integrates HLA with Java, CORBA, COM and XM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C9C1-E0D1-4D71-B088-E731F25AD04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progress in developing WebHLA - potential new breakthrough technology from FMS CTA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publication efforts (several papers, book, FMS Web site) generate broad visibility for FM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solid relations with Ft. Belvoir and SPAWAR (via joint CHSSI proposals)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tial interest of JSIMS (Jeff Wallace) and DMSO (Judith Dahmann) in WebHLA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E632A-9464-408D-BE81-DB412C3473F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4T20:49:46Z</dcterms:created>
  <dc:creator>David E Bernholdt</dc:creator>
  <dc:description/>
  <dc:language>en-US</dc:language>
  <cp:lastModifiedBy>David E Bernholdt</cp:lastModifiedBy>
  <cp:lastPrinted>1999-01-30T16:45:36Z</cp:lastPrinted>
  <dcterms:modified xsi:type="dcterms:W3CDTF">1999-01-30T19:21:18Z</dcterms:modified>
  <cp:revision>78</cp:revision>
  <dc:subject/>
  <dc:title>No Slide Title</dc:title>
</cp:coreProperties>
</file>