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CE5B4-50BB-4222-992F-3E25C4AF1E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62F2A-D1C7-4740-8F41-B4FF307D59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83427-A116-4EA1-A9F8-25FDB1401F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53492-CEE4-454B-8449-2B7A0BA07B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1C154-917B-4804-9147-562C63089B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D12BF-1A65-45CF-B81F-46601DB766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F8FFF-58F6-4171-8A23-5EB661678E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CEDDC-5932-40C4-9478-459B8B9689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FBCBD-41D7-4A3A-8CB3-623DEF52A1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6678A-468B-4507-AD44-307C829CF1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141B6-0632-4480-ABD9-BA81A2B378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D0C13-9389-4371-8B6C-FF1D94842C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99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F4922-7673-4820-B7E4-CDACA55EA0CC}" type="slidenum">
              <a:rPr b="0" lang="en-US" sz="900" spc="-1" strike="noStrike">
                <a:solidFill>
                  <a:srgbClr val="ff993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ETIMAGE" descr=""/>
          <p:cNvPicPr/>
          <p:nvPr/>
        </p:nvPicPr>
        <p:blipFill>
          <a:blip r:embed="rId2"/>
          <a:stretch/>
        </p:blipFill>
        <p:spPr>
          <a:xfrm>
            <a:off x="504720" y="0"/>
            <a:ext cx="8334360" cy="533520"/>
          </a:xfrm>
          <a:prstGeom prst="rect">
            <a:avLst/>
          </a:prstGeom>
          <a:ln w="0">
            <a:noFill/>
          </a:ln>
        </p:spPr>
      </p:pic>
      <p:pic>
        <p:nvPicPr>
          <p:cNvPr id="4" name="newmsrclogo" descr=""/>
          <p:cNvPicPr/>
          <p:nvPr/>
        </p:nvPicPr>
        <p:blipFill>
          <a:blip r:embed="rId3"/>
          <a:stretch/>
        </p:blipFill>
        <p:spPr>
          <a:xfrm>
            <a:off x="6705720" y="6122880"/>
            <a:ext cx="2133360" cy="735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" name=""/>
          <p:cNvGraphicFramePr/>
          <p:nvPr/>
        </p:nvGraphicFramePr>
        <p:xfrm>
          <a:off x="0" y="5999040"/>
          <a:ext cx="2236680" cy="858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5999040"/>
                    <a:ext cx="223668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5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5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6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7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384280" y="2286000"/>
            <a:ext cx="485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RAINING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9EF15-1583-46AA-9614-158034E2BF6B}" type="slidenum">
              <a:t>1</a:t>
            </a:fld>
          </a:p>
        </p:txBody>
      </p:sp>
    </p:spTree>
  </p:cSld>
  <p:transition spd="slow"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447920" y="685800"/>
            <a:ext cx="611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II  TECHNICAL PROGR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447920"/>
            <a:ext cx="4876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Distance Edu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90720" y="2514600"/>
            <a:ext cx="77724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Tango installation &amp; training at JSU 19-21 August 1998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4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First lecture delivered 25 August 1998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4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Nine JSU stud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4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Expect ~3 non-credit students to join from CEWES TE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FA389-A28C-463C-A732-5E3B83B14DB4}" type="slidenum">
              <a:t>10</a:t>
            </a:fld>
          </a:p>
        </p:txBody>
      </p:sp>
    </p:spTree>
  </p:cSld>
  <p:transition spd="slow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jsu-cps615-2" descr=""/>
          <p:cNvPicPr/>
          <p:nvPr/>
        </p:nvPicPr>
        <p:blipFill>
          <a:blip r:embed="rId1"/>
          <a:stretch/>
        </p:blipFill>
        <p:spPr>
          <a:xfrm>
            <a:off x="1600200" y="914400"/>
            <a:ext cx="6248520" cy="50007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7621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JSU Class in Progr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0D3EA-06CF-44A6-A669-2E116C0E952C}" type="slidenum">
              <a:t>11</a:t>
            </a:fld>
          </a:p>
        </p:txBody>
      </p:sp>
    </p:spTree>
  </p:cSld>
  <p:transition spd="slow"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913680" y="533520"/>
            <a:ext cx="753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II  TECHNICAL PROGRESS, Cont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1600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Distance Trai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2514600"/>
            <a:ext cx="77724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Tango client &amp; server installed at OS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OSC’s Troy Baer attended JSU Tango train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First training, Fortran 90 (1 day), to be delivered by Troy Baer (OSC) in September.  Courseware in Tango-compatible format.  ARL, OSC to receiv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Second training probably on Origin 2000 (2-2.5 days), being schedul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84504-3265-48B5-908C-D41FDACBBCCF}" type="slidenum">
              <a:t>12</a:t>
            </a:fld>
          </a:p>
        </p:txBody>
      </p:sp>
    </p:spTree>
  </p:cSld>
  <p:transition spd="slow"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Distance Training Coursew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osc-f90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6172200" cy="4937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D8F5C-4F2D-4A1C-9DF2-B0CA105FC6C2}" type="slidenum">
              <a:t>13</a:t>
            </a:fld>
          </a:p>
        </p:txBody>
      </p:sp>
    </p:spTree>
  </p:cSld>
  <p:transition spd="slow"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209680" y="685800"/>
            <a:ext cx="459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III  FUTURE PLA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7320" y="1600200"/>
            <a:ext cx="50637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Tango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Release 1.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Continue to Improve/Refi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7400" y="3048120"/>
            <a:ext cx="776556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Distance Educa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Experience is increasing understanding but.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Room for more experimentation with Teacher Sty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Investigate other deliveries, other recipi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3567C-5DC5-4E35-9261-E203D72B8980}" type="slidenum">
              <a:t>14</a:t>
            </a:fld>
          </a:p>
        </p:txBody>
      </p:sp>
    </p:spTree>
  </p:cSld>
  <p:transition spd="slow"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14400" y="1523880"/>
            <a:ext cx="2835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Distance Training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2600" y="2286000"/>
            <a:ext cx="78523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9933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More accessible to Desktops instead of/in addition to</a:t>
            </a:r>
            <a:br>
              <a:rPr sz="2600"/>
            </a:b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    “classroom” acc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Desktop use requires “foolproofing”</a:t>
            </a:r>
            <a:br>
              <a:rPr sz="2600"/>
            </a:b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           (Very Difficul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09320" y="685800"/>
            <a:ext cx="57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III  FUTURE PLANS, Co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49760" y="4435560"/>
            <a:ext cx="1688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CD-ROM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76920" y="4968720"/>
            <a:ext cx="7393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Possible tie in with ASC’s Lecture/Recorder Play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B43CE-33F8-42BC-9DEA-79C4E4C493C8}" type="slidenum">
              <a:t>15</a:t>
            </a:fld>
          </a:p>
        </p:txBody>
      </p:sp>
    </p:spTree>
  </p:cSld>
  <p:transition spd="slow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68840" y="2443320"/>
            <a:ext cx="6863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9933"/>
                </a:solidFill>
                <a:latin typeface="Times New Roman"/>
              </a:rPr>
              <a:t>CEW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9933"/>
                </a:solidFill>
                <a:latin typeface="Times New Roman"/>
              </a:rPr>
              <a:t>CORE SUPPORT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18BDE-CC8C-4D64-95A4-C3FAC022E3FE}" type="slidenum">
              <a:t>2</a:t>
            </a:fld>
          </a:p>
        </p:txBody>
      </p:sp>
    </p:spTree>
  </p:cSld>
  <p:transition spd="slow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97600" y="1498680"/>
            <a:ext cx="466596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Number of Classes :  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Number of Remote Classes:  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Number of  Workshops:  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Total number of students:  12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**************************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Note: Tango Class Schedul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for Septemb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**************************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classroom2" descr=""/>
          <p:cNvPicPr/>
          <p:nvPr/>
        </p:nvPicPr>
        <p:blipFill>
          <a:blip r:embed="rId1"/>
          <a:stretch/>
        </p:blipFill>
        <p:spPr>
          <a:xfrm>
            <a:off x="5334120" y="1905120"/>
            <a:ext cx="3429000" cy="2933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602720" y="609480"/>
            <a:ext cx="556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Progress Since 1 April 199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15563-20CD-4CCF-82F2-73276F49116A}" type="slidenum">
              <a:t>3</a:t>
            </a:fld>
          </a:p>
        </p:txBody>
      </p:sp>
    </p:spTree>
  </p:cSld>
  <p:transition spd="slow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45800" y="965160"/>
            <a:ext cx="839808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Proposed Classes for October 1998 through March 1999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October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  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Collab and Multimedia Database Technology (Syracus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  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Open MP (SGI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  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MPI Case Studies ‑ at NRL (MSU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November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CSM Workshop (PE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December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SciViz Tools (NCSA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Parallel Programming Workshop (PET/CMG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FA152-8A63-4219-A2C7-021B0AEB0C62}" type="slidenum">
              <a:t>4</a:t>
            </a:fld>
          </a:p>
        </p:txBody>
      </p:sp>
    </p:spTree>
  </p:cSld>
  <p:transition spd="slow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87800" y="1447920"/>
            <a:ext cx="859032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January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  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Parallel Tools and Libraries (Tennesse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  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Parallel Programming Workshop ‑ at AEDC (PET/CMG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February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  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Parallel Technology and Algorithms (Texa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  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CWO Workshop (OSU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  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Parallel Programming Workshop ‑ at NRL (PET/CMG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March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  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Parallel Programming on the SGI O2K ‑via Tango</a:t>
            </a:r>
            <a:br>
              <a:rPr sz="2600"/>
            </a:b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    (OSC/Syracus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  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Parallel Programming Workshop (PET/CMG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45200" y="1006560"/>
            <a:ext cx="3561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Proposed Classes, Con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2013B-CEF5-4AFC-BF12-25AD4AAB45DB}" type="slidenum">
              <a:t>5</a:t>
            </a:fld>
          </a:p>
        </p:txBody>
      </p:sp>
    </p:spTree>
  </p:cSld>
  <p:transition spd="slow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9800" y="2209680"/>
            <a:ext cx="9123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SYRACUS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CORE and FOCUSED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1A393-77F5-4484-B630-6E88DC830460}" type="slidenum">
              <a:t>6</a:t>
            </a:fld>
          </a:p>
        </p:txBody>
      </p:sp>
    </p:spTree>
  </p:cSld>
  <p:transition spd="slow">
    <p:split dir="in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1523880"/>
            <a:ext cx="861048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Deliverable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Tango 1.0:     Releas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Tango 2.0 (Tango 1.0.1) Releas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CEWES MSRC PET Training Website: On-going effor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Evaluation of multimedia database needs for training material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Done - Incorporated in Pet Collaboration and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Implementation Pla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120" y="1117440"/>
            <a:ext cx="1982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TRAINING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95640" y="457200"/>
            <a:ext cx="659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I  PROGRAMMATIC STATUS</a:t>
            </a: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F0135-C4AD-4F77-A510-0BAFBD62CB26}" type="slidenum">
              <a:t>7</a:t>
            </a:fld>
          </a:p>
        </p:txBody>
      </p:sp>
    </p:spTree>
  </p:cSld>
  <p:transition spd="slow">
    <p:split dir="in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289160" y="1498680"/>
            <a:ext cx="719892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Distance Education for Curricula Enhancement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Delivery to JSU Ongo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HPC Educational CD-RO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On Trac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Prototype Distance HPC Training for DoD User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Bit behind- First class in Sep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E889E-158D-42CF-B7D6-F8F6357640B6}" type="slidenum">
              <a:t>8</a:t>
            </a:fld>
          </a:p>
        </p:txBody>
      </p:sp>
    </p:spTree>
  </p:cSld>
  <p:transition spd="slow"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380880" y="1143000"/>
          <a:ext cx="2710080" cy="170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143000"/>
                    <a:ext cx="2710080" cy="17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276720" y="1143000"/>
          <a:ext cx="2709720" cy="1709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1143000"/>
                    <a:ext cx="2709720" cy="17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6172200" y="1143000"/>
          <a:ext cx="2709720" cy="17096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72200" y="1143000"/>
                    <a:ext cx="2709720" cy="17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380880" y="3581280"/>
          <a:ext cx="2710080" cy="171000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880" y="3581280"/>
                    <a:ext cx="2710080" cy="17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3352680" y="3733920"/>
          <a:ext cx="2457720" cy="1562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52680" y="3733920"/>
                    <a:ext cx="2457720" cy="15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6248520" y="3733920"/>
          <a:ext cx="2457360" cy="1562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248520" y="3733920"/>
                    <a:ext cx="2457360" cy="15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685440" y="2895480"/>
            <a:ext cx="190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Training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4160" y="2895480"/>
            <a:ext cx="213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CEWES MSRC</a:t>
            </a:r>
            <a:br>
              <a:rPr sz="2400"/>
            </a:b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PET Web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54200" y="2860560"/>
            <a:ext cx="235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Web Interface for</a:t>
            </a:r>
            <a:br>
              <a:rPr sz="2400"/>
            </a:b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Comp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1680" y="5181480"/>
            <a:ext cx="307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Distance Education</a:t>
            </a:r>
            <a:br>
              <a:rPr sz="2400"/>
            </a:b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Curricula Enhanc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09640" y="5410080"/>
            <a:ext cx="20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HPC CD-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323400" y="5257800"/>
            <a:ext cx="251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Prototype Distance</a:t>
            </a:r>
            <a:br>
              <a:rPr sz="2400"/>
            </a:b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609480"/>
            <a:ext cx="23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Financial Stat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98BDD-6270-456D-9901-93C190466AFF}" type="slidenum">
              <a:t>9</a:t>
            </a:fld>
          </a:p>
        </p:txBody>
      </p:sp>
    </p:spTree>
  </p:cSld>
  <p:transition spd="slow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7T16:12:20Z</dcterms:created>
  <dc:creator>John T. Eberle</dc:creator>
  <dc:description/>
  <dc:language>en-US</dc:language>
  <cp:lastModifiedBy>John T. Eberle</cp:lastModifiedBy>
  <cp:lastPrinted>1998-08-27T14:05:34Z</cp:lastPrinted>
  <dcterms:modified xsi:type="dcterms:W3CDTF">1998-09-01T14:34:59Z</dcterms:modified>
  <cp:revision>20</cp:revision>
  <dc:subject/>
  <dc:title>No Slide Title</dc:title>
</cp:coreProperties>
</file>