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1516-0654-4598-B5FB-9C2697649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5284-4D9C-4013-A8B5-6741C1786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2F7C-F247-4CEB-A5EA-9F3D89DBF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1769-DD15-44B7-9B1D-006F46533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39C8-D3DD-4D49-B97A-6C59C3426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46B6-A59D-4179-9F32-75D113287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081F-2197-477B-A2F8-D42EAA218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094A-A59D-4D3B-AFF6-9B8F7A1C5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CF82-E1CB-458D-893F-833CA7D10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396C-19A4-4598-89C8-2B841F864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F19B-F199-44E1-87C7-625ACD14E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EF25-8E84-4A47-9492-BFBE80158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8611-00D3-45A3-92DB-12BDEA70EE94}" type="slidenum">
              <a:rPr b="0" lang="en-US" sz="9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ETIMAGE" descr=""/>
          <p:cNvPicPr/>
          <p:nvPr/>
        </p:nvPicPr>
        <p:blipFill>
          <a:blip r:embed="rId2"/>
          <a:stretch/>
        </p:blipFill>
        <p:spPr>
          <a:xfrm>
            <a:off x="504720" y="0"/>
            <a:ext cx="833436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Nrclogo" descr=""/>
          <p:cNvPicPr/>
          <p:nvPr/>
        </p:nvPicPr>
        <p:blipFill>
          <a:blip r:embed="rId3"/>
          <a:stretch/>
        </p:blipFill>
        <p:spPr>
          <a:xfrm>
            <a:off x="0" y="6149880"/>
            <a:ext cx="1892160" cy="708120"/>
          </a:xfrm>
          <a:prstGeom prst="rect">
            <a:avLst/>
          </a:prstGeom>
          <a:ln w="0">
            <a:noFill/>
          </a:ln>
        </p:spPr>
      </p:pic>
      <p:pic>
        <p:nvPicPr>
          <p:cNvPr id="5" name="newmsrclogo" descr=""/>
          <p:cNvPicPr/>
          <p:nvPr/>
        </p:nvPicPr>
        <p:blipFill>
          <a:blip r:embed="rId4"/>
          <a:stretch/>
        </p:blipFill>
        <p:spPr>
          <a:xfrm>
            <a:off x="6705720" y="6122880"/>
            <a:ext cx="2133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unication/Collabor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T Midyear Revie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Wayne Masti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T On-Site Team Lea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ichols Resear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tember 14-15, 199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Technical Progr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ed by Dr. Geoffrey Fox in FMS Core present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I. Future Pla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ng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ploy Tango server at CEWES MSR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duct at test research collaboration using Tang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WO at CEWES, NAVO, and NRL-Montere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T on-site and a “friendly” off-site us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eb-Based Technologies</a:t>
            </a:r>
            <a:br>
              <a:rPr sz="44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without Oracle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id Generation Search Engine - keep at Syracu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WES MSRC Web Site Search Engine - keep at Syracuse or replace with a commercial produ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WES MSRC Thematic Ar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ing and User Productiv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pports web-based training and distance educ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tential application for remote scientific visualiz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/C Effor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C/C Core Support - Syracuse University Prof. Geoffrey Fox, Academic Lea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r. David Bernholdt, P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PET Web Pages Evolution - NCSA, UIU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s. Sandie Kappes, P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munication/Collaboration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re Sup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. Programmatic Stat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liver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ip reports - on the web at http://www.npac.syr.edu/users/bernhold/trip-reports - total now at 21 reports covering 18 conferen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weekly and Annual Repor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dyear and Annual Review present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liver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ngo enhanc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ango 2 release renamed Tango 1.01, released Jun 98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ango 2” with database for asynchronous collaboration - Jan 99 release on schedu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b-linked database deliverables - progress awaiting Orac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liver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ngo train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CSA Alliance Meeting, April 27 - don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ance Education Technologies Workshop - don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/C web site development and maintenance - to be do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/C Core Expenditur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aff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vid Bernhold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offrey Fo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rek Podgor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epak Ramanath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ek Trzask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uping Zh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18:37:34Z</dcterms:created>
  <dc:creator>Wayne Mastin</dc:creator>
  <dc:description/>
  <dc:language>en-US</dc:language>
  <cp:lastModifiedBy>David E Bernholdt</cp:lastModifiedBy>
  <dcterms:modified xsi:type="dcterms:W3CDTF">1998-09-01T16:55:57Z</dcterms:modified>
  <cp:revision>4</cp:revision>
  <dc:subject/>
  <dc:title>Communication/Collaboration</dc:title>
</cp:coreProperties>
</file>