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675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66C-F53E-4A21-845C-49D085B3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382-AF85-4C64-8EF9-8148A2D8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2EC-FAB9-47CF-8FC9-21D9FB5C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BE2-5891-456E-AB69-79A9256E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0A9-C08A-42E9-AF10-8A145221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F2E-691D-4C8D-991D-43586EE1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CDB-352A-4E91-A046-06658DD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571-A5FE-4E05-AFFD-5A21E78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923-35A7-4FA6-99B9-E793CAA1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923-3B4F-4CCB-947F-954DD6F9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A32-9C50-4A03-A5A4-A988198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408-871B-4E2F-8AB8-0EA9C30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366-BCE8-4C97-8A0E-9448BC457E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ces Modeling and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Geoffrey C. Fo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Prof. Wojtek Furman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L PET Workshop - February 18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9FE-D520-4B8B-9299-0B172B5D1F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easibility and requir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developing parallel and/or distributed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 op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.e. porting DMSO RTI 1.0 C++ code to Origin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 op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.e.coupling multiple MSRC or DC sites for HPDC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B96-DFC3-4D55-8E7D-0F9204670B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PG t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ill likely start converting current DIS/ModSAF simulations to 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system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PEEDES, TEMPO, E-ModSAF, IMPORT) who could use parallel/distributed RTI framework as a testbed and integration platform for thei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MS t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Ft. Belvoir) who could use parallel RTI to convert their parallel CMS to 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F3F-5A9E-4E90-9219-A956F2F00F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tion not feasible - not good enough contacts into DMSO to get RTI 1.0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feasible and funded by CEW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2000 port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MS as driving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-visit parallel RTI in Year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to support parallel CMS  over HLA) after we develop distributed RTI and parallel CMS over 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1C7-53C6-417A-A276-037DCFD745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f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early prototype for CEWES end of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/Distributed RTI Planning Report for ARL by end of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Year 3 proposal for Metacomputing CMS over Distr RTI includ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EWES &amp; ARL MSR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urther progress in Year 2 f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5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B39-17F9-47DE-BB6E-E84A625D10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 based interactive tra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 SPEEDE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vanced M&amp;S development tea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need assistance in using the SPEEDES ker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mote on-line demonstrations and hands-on code develop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pport as part of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91B-6AF4-4AFE-9F89-795B079474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rgame2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ject at JNTF (Joint National Test Facilities), Colorado Springs who selected SPEEDES as core simulational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rcial companies such as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iginalS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ontreal, or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ystem Integration Softw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Springs, who intend to license SPE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MS CHSSI Pro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h as Parallel IMPORT which integrate SPEEDES with 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MSO RTI Time Manag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TM) Service designers and developers (TM offers a subset of SPEEDES function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98C-6A84-488A-BD99-9419F56C2A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ing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ing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when avail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simple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ling SPEEDE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rigin2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A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ing connectivities between SPEEDES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bject Web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an they be integrated and ho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18F-C316-4062-B2ED-56781B1B3B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4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eleven) identified, downlaoded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aly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ai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SPEEDES license from NAS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pers discuss core technology only -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 need to see dem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come with the release to understand the application perspective before we can pro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, as expected, license comes Feb/March, we can st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liver early tra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terials by August 9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B21-A0E4-4EAE-8B7A-DDAB08F4FD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ining/Semin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FM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peration with the associate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ivery of at least two seminar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H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th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T T&amp;E confer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May 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653-DF8C-4717-AA0E-33C9CB6520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ry level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learn about HLA/RTI and/or  Object Web (CORBA, Java, DC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cision ma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learn about linkages between HLA and Web for the planning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vanced M&amp;S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use SPEEDES or Object Web RTI in High Performance M&amp;S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F92-2EAE-404F-BF90-FBCC317AFD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Overview of FMS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r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I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 FMS Support and Tech. Trac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TI Parallelization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EDES Training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MS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 Simulation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3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03E-871E-4092-A60C-9F5B896056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ud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&amp;S syste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HLA/RTI, SPEEDES, TEMPO,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ple training/seminars with prototype development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iver web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ining linked to simul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Object Web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t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ssons lear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emin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28B-EA54-4E8F-927E-51B5628DDB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spcAft>
                <a:spcPts val="137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LA Overview/Introductory Tutor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elivered as part of IMT Training on T&amp;E for M&amp;S, Dec’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LA materials collected; starting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LA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PEEDES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aits for license from 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ebHLA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 starts in April (after Object Web RTI prototype opera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ModSAF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 starts now (license just received from STRICOM/CEW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MS Seminars to be presented du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T Con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ay 9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C51-72F4-42FA-80ED-85425C9632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Web base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isual too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HLA simulatio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NPAC visual dataflow system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DMSO spreadsheet tools such a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FOM/SOM auth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OMDT-lik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perty shee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fine-tuning WebFlow based visual simulation 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5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D71-9514-42D7-8102-3E59655C8F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re visual FOM/SOM authoring can accelerate development of T&amp;E simulation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ry level FMS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could use Visual Simulation Tools as part of the FMS/WebHLA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system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could attract users by offering user friendly visual auth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AD0-E671-4239-B120-999D79C9C8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current DMSO tools such a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Aegis (for NT) and Java tools by TASC (not read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 based compon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OMDT look-and-feel using Excel/VBA automation or directly MFC for CV++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ple such COM spreadsheet components wit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E2F-D2A7-4849-B11B-6D015B5BA0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ol downloaded, installed, analy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go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k on Excel/VBA and MFC VC++ spreadshee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gration work to start in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arly prot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pected by May/J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able relea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end of Aug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435-439C-4A9A-8DBE-1A346EDB22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 of SignificantAccomplishm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Aft>
                <a:spcPts val="1599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tacts establis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CHSSI progr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Bob Wasilausky, Jeff Steinman, Mark Roberts, Jeff Wall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users at 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PG, Jeff Sauerbor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users at Ft. Belvo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teve Bisho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Aft>
                <a:spcPts val="1049"/>
              </a:spcAft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MT project at 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am Blankenshi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1599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istributed RTI fund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CEW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offer good insight in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allel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start for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oint CEWES/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ta-M&amp;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so far with implementation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WOR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A1F-CC53-4B3E-891E-C4CAB909B2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MS - Yr 3 Support Expec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intend to develop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ebHLA technology dem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Year 3, including all 3 tiers: Front-End(Visualization and authoring), Middleware (RTI), Back-End (D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 FMS focus is o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iddlew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we provid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 cost commodity solutions (N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Front- and Back-End lay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uld use help in high-end technologies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ci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dvanced displays (SGI, ImmersaDes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fo/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arallel Oracle 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gramming To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Origin2000 code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A2E-11DD-4471-81FE-0C6A3263B4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uxiliary Material: Figures,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ebFlo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urrent Status (SC97 scre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istributed R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JWORB perform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isual Simulation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MDT, Excel, MF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PEEDES Training Materia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sim scre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F24-3927-4C0D-B841-9F4DEBA1D6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LA Object Model Development Tool (OMD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omates the process of constructing Simulation Object Models (SOMs) and Federation Object Models (FOM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s for direct browsing/downloading/uploading object models from the DMSO Modeling and Simulation Resource Repository (MSR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s the Federation Execution Details (FED) file required by the Runtime Infrastructure (RTI) to execute feder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for documentation of interrelated components in the Object Model in the following tabular 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8DC-70D6-4363-9282-908C80AA9D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mulation Interoperability Workshop Fall’9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lando FL, Sept ‘97 - contacts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b Wasilausk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rk Rob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MS CHSSI Revi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NRaD Nov ‘97 - insight into TEMPO, SPEEDES, IMPORT; contacts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ff Steinm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ff Wal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RL vis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c ‘97 - contacts with APG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Jeff Sauerbor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ileen Vi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IMT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am Blankenshi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5CD-373C-4406-B2BE-348AC56ACA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presentation of Object Class Structure Table in OMDT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lasstabl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504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F33-DDB4-46B0-84B4-39605AAAD5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presentation of Interaction Table in OMD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interactiontable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04920" y="1905120"/>
            <a:ext cx="8610480" cy="41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A85-B452-4BC3-8F61-637DC77784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presentation of Attribute/Parameter Table in OMD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ttributetable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0080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707-CAEB-4F6A-9FA8-D5A9E0D3FF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urrent Work on OMDT Development at NPA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s to create a complete COM-based solution for OMDT in Windows environment (Current Release of OMDT  by Aegis Research Center  not a COM - based modular solution, just a monolythic Visual C++ progra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ly experimenting with Excel Spreadsheets for table-creation purposes using Object Linking and Embedding(OLE)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 C++/Visual Basic environments being experimented upon to access Windows Component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l experiments with Microsoft Foundation Classes (MFC) Graphics Library for table-creation/editing purpos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94C-48DB-4327-8735-E3142FC52F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erimentation with OLE/MFC for creation of OMDT Tab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1: Use of Excel Sheet through OLE/VB                        Fig2: Drawing of table with MFC graph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excelomdt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114800" cy="3232080"/>
          </a:xfrm>
          <a:prstGeom prst="rect">
            <a:avLst/>
          </a:prstGeom>
          <a:ln w="0">
            <a:noFill/>
          </a:ln>
        </p:spPr>
      </p:pic>
      <p:pic>
        <p:nvPicPr>
          <p:cNvPr id="113" name="sheet-mfc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648320" cy="32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9E-9048-4114-8FE4-64F630C5C5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LA Object Model Library(OML) - 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internet-based database application to store,browse and retrieve HLA Object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OMT Data Interchange Format(DIF) for check in and check out of Object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for keyword searches of the contents of all the Object Models stored in the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LE/COM-based solution for OMDT can tightly integrate OML  with the tool using Internet Explorer Browser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8A5-9F6B-4ACB-9129-DE1C30EA88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LA OML - 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OML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50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848-14A7-41FD-AF1A-6862888903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SIM - A Commercial Simulation Development Produc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llection of interoperating frameworks for supporting model development,code generation, communication and exec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uilder Framewor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 visual development environment for class library and model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odeGenerator Framewor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utomatically generates the complete skeleton code for the simulation application with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xecutor Framewor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executes and controls the simulation and packages it in a scenario for re-use. Current Version only for Real-Time simulation implementations - Future versions to support Discrete Event simulations with SPEEDES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iewer Framewor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llows interfaces to external custom application to be created/automatically maintained by the CodeGenerator( X/Motif View/VRML Vie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4C5-9F7F-4B90-8AFF-97C595010C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Sim Class Builder Framework Scre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OSim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750-4DDC-425F-B0D9-522E2658A1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-15228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ML Support in Rational Ro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classDiag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337200" cy="2754360"/>
          </a:xfrm>
          <a:prstGeom prst="rect">
            <a:avLst/>
          </a:prstGeom>
          <a:ln w="0">
            <a:noFill/>
          </a:ln>
        </p:spPr>
      </p:pic>
      <p:pic>
        <p:nvPicPr>
          <p:cNvPr id="127" name="use_case_view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5105520" cy="3614760"/>
          </a:xfrm>
          <a:prstGeom prst="rect">
            <a:avLst/>
          </a:prstGeom>
          <a:ln w="0">
            <a:noFill/>
          </a:ln>
        </p:spPr>
      </p:pic>
      <p:pic>
        <p:nvPicPr>
          <p:cNvPr id="128" name="sequenceDiag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2971800" cy="27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ECC-14CC-4474-BCAA-DBE6BA33E8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Trai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LA Overview/Introductory Tutor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delivered as part of IMT Training on T&amp;E for M&amp;S, Dec’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llecting HLA, RTI and FMS materials for advanced training develop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rlando SIW’97, FMS CHSSI Review, DMSO HLA Material Analysis, WebHLA prototy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als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PEEDES Trai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ject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D7B-44B3-4B07-BE48-3408D3B94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SC’97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hpf1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15280" cy="503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B1A-39BB-41C2-AB45-5FFB399E05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WORB Perform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ntArray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190760" cy="3362400"/>
          </a:xfrm>
          <a:prstGeom prst="rect">
            <a:avLst/>
          </a:prstGeom>
          <a:ln w="0">
            <a:noFill/>
          </a:ln>
        </p:spPr>
      </p:pic>
      <p:pic>
        <p:nvPicPr>
          <p:cNvPr id="135" name="StrArray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67080" cy="3409920"/>
          </a:xfrm>
          <a:prstGeom prst="rect">
            <a:avLst/>
          </a:prstGeom>
          <a:ln w="0">
            <a:noFill/>
          </a:ln>
        </p:spPr>
      </p:pic>
      <p:pic>
        <p:nvPicPr>
          <p:cNvPr id="136" name="IntArray2" descr=""/>
          <p:cNvPicPr/>
          <p:nvPr/>
        </p:nvPicPr>
        <p:blipFill>
          <a:blip r:embed="rId3"/>
          <a:stretch/>
        </p:blipFill>
        <p:spPr>
          <a:xfrm>
            <a:off x="5410080" y="76320"/>
            <a:ext cx="3200400" cy="26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711-7B9A-47DC-AAB1-E57903E02B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 of WebFlow in WebH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WebFlowHPCC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629400" cy="5031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0" y="1447920"/>
            <a:ext cx="44481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Visual FOM/SOM Autho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62520" y="3352680"/>
            <a:ext cx="5000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Object Web (Java/CORBA) R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010280" y="5029200"/>
            <a:ext cx="1971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NT Clus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010280" y="5562720"/>
            <a:ext cx="1800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Origin2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42B-E04A-40CB-8854-54C8E22104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bHLA based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irtual Prototyping Enviro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fig1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553080" cy="54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2C9-ADA3-49AB-92DF-07C97A8AC65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rect X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mponent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9080" cy="21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50" name="DirectX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9811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51" name="DXF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19480" cy="1791000"/>
          </a:xfrm>
          <a:prstGeom prst="rect">
            <a:avLst/>
          </a:prstGeom>
          <a:ln w="32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152" name="DXM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3019320" cy="1800360"/>
          </a:xfrm>
          <a:prstGeom prst="rect">
            <a:avLst/>
          </a:prstGeom>
          <a:ln w="324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153" name=""/>
          <p:cNvSpPr/>
          <p:nvPr/>
        </p:nvSpPr>
        <p:spPr>
          <a:xfrm flipV="1">
            <a:off x="4952880" y="1600200"/>
            <a:ext cx="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160020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14800" y="236196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00400" y="23623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8098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95480" y="472428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819520" y="3124080"/>
            <a:ext cx="3657600" cy="2743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0" y="2133720"/>
            <a:ext cx="197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abor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62920" y="380880"/>
            <a:ext cx="175248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tream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00800" y="1219320"/>
            <a:ext cx="108576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D Worl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724280"/>
            <a:ext cx="5410080" cy="1600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LA/RTI 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object/databas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MT, OML, FOMs, SO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4F1-8A0F-4033-8A30-A50EE220792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56440" cy="53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2AC-4B70-4C68-9C58-5642FADE836A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Technology Trans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ew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MSO M&amp;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echnology to be accepted DoD-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bject We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ORBA/Java) Middleware - promising framework to buil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bH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PAC visual dataflow environment to be adapted for Visual Simul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2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DFB-1115-4132-875A-7C9B630DB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new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/Commod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chnologies of relevance for 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 wit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find the most efficient ways for technology transfer to the DoD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following domains: HLA meets Object Web (CORBA, Java), Data Mining, Web based Commodity Front-Ends (VRML, DirectX) for M&amp;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5C5-F11E-452B-A5C2-679C8D797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irtual Proving 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PG) is interested in new Web/DB tech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M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simula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crip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a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b brows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(SPEEDES, TEMPO) commu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terested in new commodity middleware such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vaB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&amp;E/IMT commu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benefit from new NT simulation &amp; visualization technologie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16A-1F36-49C6-AB52-179D8CA5D1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oni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ments in Web/Commodity technologies of relevance for HP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following technology doma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new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MSO M&amp;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echnology to be accepted DoD-w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Object We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CORBA/Java) Middleware - promising framework to buil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H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Data Mining, XML Scrip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of relevanc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irtual Proving G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DirectX based M&amp;S Front-End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integrated Web/commodity fro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crosoft (part of I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876-C902-4DB0-9111-91B32C9018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with official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MS PET pages for A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re pages ready by mid F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iginalS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fo pages (related to SPEEDES and Visual Simulation Tools) - by M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 Mining and XML Scripting for VP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fo pages planned by 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irectX for T&amp;E/IM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fo pages by M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inal Re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e 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E73-0628-4843-A439-7FB2AA1408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8:22:08Z</dcterms:created>
  <dc:creator/>
  <dc:description/>
  <dc:language>en-US</dc:language>
  <cp:lastModifiedBy>David E Bernholdt</cp:lastModifiedBy>
  <cp:lastPrinted>1998-02-17T15:05:12Z</cp:lastPrinted>
  <dcterms:modified xsi:type="dcterms:W3CDTF">1998-02-17T15:06:56Z</dcterms:modified>
  <cp:revision>29</cp:revision>
  <dc:subject/>
  <dc:title>No Slide Title</dc:title>
</cp:coreProperties>
</file>