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CF8-B737-429D-B1F1-084950D9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4D6-3517-4F77-9E30-BA13EE66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C7E-C246-4CD4-ADA9-D70A6EA4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662-8714-490C-B944-857176E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940-A314-40ED-BD65-DCAF8D4D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150-DA6F-499F-B12E-FFF86E2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2EF-F739-4D41-A665-75FCC4C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38F-BDFC-41A1-9872-24411E23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129-E9FF-4787-ABBF-A8CC651E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312-FCF2-4AB4-9318-E03918F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A57-CC7C-40DE-BC79-9C1F9A3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3A9-B5F7-4A3B-8561-62241C2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F82-9EA8-42B4-BE99-B31173541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98760" y="1397160"/>
          <a:ext cx="5349960" cy="52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1397160"/>
                    <a:ext cx="534996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66880" y="1709640"/>
          <a:ext cx="5610240" cy="34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1709640"/>
                    <a:ext cx="561024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84320" y="787320"/>
          <a:ext cx="517536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4320" y="787320"/>
                    <a:ext cx="51753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779560" y="1392120"/>
          <a:ext cx="3583080" cy="40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392120"/>
                    <a:ext cx="358308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741760" y="1359000"/>
          <a:ext cx="3659040" cy="41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1359000"/>
                    <a:ext cx="365904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9T22:24:58Z</dcterms:created>
  <dc:creator>marek</dc:creator>
  <dc:description/>
  <dc:language>en-US</dc:language>
  <cp:lastModifiedBy>marek</cp:lastModifiedBy>
  <dcterms:modified xsi:type="dcterms:W3CDTF">1999-02-19T22:28:11Z</dcterms:modified>
  <cp:revision>1</cp:revision>
  <dc:subject/>
  <dc:title>No Slide Title</dc:title>
</cp:coreProperties>
</file>