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9F7E-575F-4D8B-BA88-B02109165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FF96-84F7-45BB-9B90-D68A13F9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2A37-63FE-4646-BF46-80828B6A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F1C4-4BFD-4099-8A9C-255ABFB93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9A97-5401-41D2-A978-9AAF6FA2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ECE8-3E8D-4635-8E28-29CB158E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7A03-2D1E-4CF5-A119-8F45D822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76A8-9FA8-46FB-90C3-96C09030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0E93-DD83-42F1-8A35-1DDFDBF1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2324-4208-4FDB-868C-F6E6E6A3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2A16-A36D-48EE-A2DC-85B489A3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2E41-A333-4A97-BC3A-D4AF06CC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6C37-8C0D-4568-A287-3A7A4E40F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ucture of Distance Learning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770520" y="1370160"/>
            <a:ext cx="1447920" cy="966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PAC Web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06440" y="914400"/>
            <a:ext cx="1447920" cy="968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SU Web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3013200"/>
            <a:ext cx="1446120" cy="968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SU Tang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_OEQ127" descr=""/>
          <p:cNvPicPr/>
          <p:nvPr/>
        </p:nvPicPr>
        <p:blipFill>
          <a:blip r:embed="rId1"/>
          <a:stretch/>
        </p:blipFill>
        <p:spPr>
          <a:xfrm>
            <a:off x="7156440" y="4351320"/>
            <a:ext cx="911160" cy="1155600"/>
          </a:xfrm>
          <a:prstGeom prst="rect">
            <a:avLst/>
          </a:prstGeom>
          <a:ln w="0">
            <a:noFill/>
          </a:ln>
        </p:spPr>
      </p:pic>
      <p:pic>
        <p:nvPicPr>
          <p:cNvPr id="46" name="B_OEQ127" descr=""/>
          <p:cNvPicPr/>
          <p:nvPr/>
        </p:nvPicPr>
        <p:blipFill>
          <a:blip r:embed="rId2"/>
          <a:stretch/>
        </p:blipFill>
        <p:spPr>
          <a:xfrm>
            <a:off x="228600" y="5411880"/>
            <a:ext cx="515880" cy="654120"/>
          </a:xfrm>
          <a:prstGeom prst="rect">
            <a:avLst/>
          </a:prstGeom>
          <a:ln w="0">
            <a:noFill/>
          </a:ln>
        </p:spPr>
      </p:pic>
      <p:pic>
        <p:nvPicPr>
          <p:cNvPr id="47" name="B_OEQ127" descr=""/>
          <p:cNvPicPr/>
          <p:nvPr/>
        </p:nvPicPr>
        <p:blipFill>
          <a:blip r:embed="rId3"/>
          <a:stretch/>
        </p:blipFill>
        <p:spPr>
          <a:xfrm>
            <a:off x="1646280" y="5411880"/>
            <a:ext cx="515880" cy="654120"/>
          </a:xfrm>
          <a:prstGeom prst="rect">
            <a:avLst/>
          </a:prstGeom>
          <a:ln w="0">
            <a:noFill/>
          </a:ln>
        </p:spPr>
      </p:pic>
      <p:pic>
        <p:nvPicPr>
          <p:cNvPr id="48" name="B_OEQ127" descr=""/>
          <p:cNvPicPr/>
          <p:nvPr/>
        </p:nvPicPr>
        <p:blipFill>
          <a:blip r:embed="rId4"/>
          <a:stretch/>
        </p:blipFill>
        <p:spPr>
          <a:xfrm>
            <a:off x="934920" y="5411880"/>
            <a:ext cx="514440" cy="654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51080" y="5070960"/>
            <a:ext cx="92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B_OEQ127" descr=""/>
          <p:cNvPicPr/>
          <p:nvPr/>
        </p:nvPicPr>
        <p:blipFill>
          <a:blip r:embed="rId5"/>
          <a:stretch/>
        </p:blipFill>
        <p:spPr>
          <a:xfrm>
            <a:off x="3092400" y="5411880"/>
            <a:ext cx="515880" cy="654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440480" y="2354400"/>
            <a:ext cx="0" cy="1949400"/>
          </a:xfrm>
          <a:prstGeom prst="line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904760" y="4025880"/>
            <a:ext cx="150840" cy="13302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15680" y="4024440"/>
            <a:ext cx="1338120" cy="132876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81240" y="4346640"/>
            <a:ext cx="365256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dio Video Conferencin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at Room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95520" y="3862440"/>
            <a:ext cx="3810240" cy="89208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13080" y="3470400"/>
            <a:ext cx="3933720" cy="996840"/>
          </a:xfrm>
          <a:prstGeom prst="line">
            <a:avLst/>
          </a:prstGeom>
          <a:ln cap="rnd" w="38160">
            <a:solidFill>
              <a:srgbClr val="b2b2b2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92200" y="3740040"/>
            <a:ext cx="1284120" cy="1557360"/>
          </a:xfrm>
          <a:prstGeom prst="line">
            <a:avLst/>
          </a:prstGeom>
          <a:ln cap="rnd" w="38160">
            <a:solidFill>
              <a:srgbClr val="b2b2b2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98240" y="1897200"/>
            <a:ext cx="1189080" cy="3446280"/>
          </a:xfrm>
          <a:prstGeom prst="line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6640" y="3123000"/>
            <a:ext cx="21452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ddress at JSU of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urriculum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48280" y="2862720"/>
            <a:ext cx="21481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eacher’s View of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urriculum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4920" y="2122920"/>
            <a:ext cx="21085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tudent’s View of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urriculum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0200" y="617112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ticipants at J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91640" y="548208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acher/Lecturer at NP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838080"/>
            <a:ext cx="1363680" cy="824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PAC CGI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2514600"/>
            <a:ext cx="1371600" cy="1828800"/>
          </a:xfrm>
          <a:prstGeom prst="line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90040" y="1751400"/>
            <a:ext cx="21679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Log of Access to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urriculum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1T22:41:48Z</dcterms:created>
  <dc:creator>Geoffrey Fox</dc:creator>
  <dc:description/>
  <dc:language>en-US</dc:language>
  <cp:lastModifiedBy>Geoffrey Fox</cp:lastModifiedBy>
  <dcterms:modified xsi:type="dcterms:W3CDTF">1997-08-21T23:05:18Z</dcterms:modified>
  <cp:revision>2</cp:revision>
  <dc:subject/>
  <dc:title>Structure of Distance Learning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npac.syr.edu</vt:lpwstr>
  </property>
  <property fmtid="{D5CDD505-2E9C-101B-9397-08002B2CF9AE}" pid="9" name="LinkColor">
    <vt:r8>16711782</vt:r8>
  </property>
  <property fmtid="{D5CDD505-2E9C-101B-9397-08002B2CF9AE}" pid="10" name="MailAddress">
    <vt:lpwstr>gcf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