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464-1C79-446E-BE77-67EA412B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62F-F26D-4669-AEAC-2A494B48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86C-F225-49E4-AB99-C8FFF843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90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776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2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90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776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7F5-1039-4D11-A3A5-275B6642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3B9-4156-4DEA-BC82-9ED07586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3AF-A56C-4070-A1E9-F5B77B51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EBE-B191-4AC7-90BB-F5E3373B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D93-4858-471E-845E-CB911070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7999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AA3-06D7-46C5-A670-CD8D1B2D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A9B-BB90-4F3D-A5CD-183FE848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A02-AEA2-4CE6-AE02-47B79671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3DF-0FF4-465A-AB22-474583C0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6D94-2347-4F8A-9212-085D47FA2DD9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347840" y="52560"/>
            <a:ext cx="600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ortheast Parallel Architectures Center at Syracuse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71600" y="380880"/>
            <a:ext cx="775980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783576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41400" y="9360"/>
            <a:ext cx="1288800" cy="973440"/>
            <a:chOff x="41400" y="9360"/>
            <a:chExt cx="1288800" cy="973440"/>
          </a:xfrm>
        </p:grpSpPr>
        <p:sp>
          <p:nvSpPr>
            <p:cNvPr id="9" name=""/>
            <p:cNvSpPr/>
            <p:nvPr/>
          </p:nvSpPr>
          <p:spPr>
            <a:xfrm>
              <a:off x="1073160" y="509760"/>
              <a:ext cx="257040" cy="47304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400" y="65160"/>
              <a:ext cx="257040" cy="47304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2960" y="330120"/>
              <a:ext cx="257400" cy="47304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87520" y="9360"/>
              <a:ext cx="257040" cy="47340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50800" y="506520"/>
              <a:ext cx="257400" cy="47304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2120" y="196920"/>
              <a:ext cx="257040" cy="47304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Year 3 Activities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istance Education and Trainin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ANGO Interactiv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vid E. Bernhol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east Parallel Architectures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racuse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6DC-44EE-4E95-9635-4E06472C966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V7p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767-7E71-4702-A92A-01A654A7ABC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105600" cy="4884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Enhanced Support for Collabor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760" y="3200040"/>
            <a:ext cx="464796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Shared Pointer added to Internet Assistant PowerPoint on the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Illustrates sharing of W3C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66680" y="3429000"/>
            <a:ext cx="3276720" cy="3049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1295280"/>
            <a:ext cx="46483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DHTML “Heartbeat” recording shared events in last 60 secon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514600" y="1371240"/>
            <a:ext cx="1752480" cy="15228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E38-35BA-416C-9027-7EE65F6845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nhanced Support for Collabor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ayered whiteboa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in several applications, advanced authoring mode, import/export/save support, telecursor, scriptable external interface, advanced image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ava Shared brows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st, supports frames and embedded MM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hat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avatar 2.5D chat for “telepresenc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professional text chat with many advanced features, including clipboard, session save/mail, and latecomers support, fully customiz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228-8212-4DF8-919A-90A2354FE4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nhanced Support for Collabor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applications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hared Telnet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hances Year 2 remote consulting tools su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loyed during remote training s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ew  “instructor feedback”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ous audience feedback pooling and visu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ructor aler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hared streaming media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va H263/GSM video viewer with database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Video player (use and distribution agreed with supported by Progressive Networ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401-C7E6-49F0-A504-455FF18304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ca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153040" cy="3019320"/>
          </a:xfrm>
          <a:prstGeom prst="rect">
            <a:avLst/>
          </a:prstGeom>
          <a:ln w="0">
            <a:noFill/>
          </a:ln>
        </p:spPr>
      </p:pic>
      <p:pic>
        <p:nvPicPr>
          <p:cNvPr id="81" name="newca3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2438280" cy="3743280"/>
          </a:xfrm>
          <a:prstGeom prst="rect">
            <a:avLst/>
          </a:prstGeom>
          <a:ln w="0">
            <a:noFill/>
          </a:ln>
        </p:spPr>
      </p:pic>
      <p:pic>
        <p:nvPicPr>
          <p:cNvPr id="82" name="newca4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2486160" cy="307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3962520"/>
            <a:ext cx="2438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GO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2.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aphical 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ased on Java Swing class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7D9-AC05-4589-AE46-53A4B8EAC12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Year 4 Proposal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and expand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istance education and trai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 enhancements to TANGO Interactive based on discussions with NAVO MSRC PE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hanced Audio-Video Conferencing Support for the Tango Interactive Collabor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Real-Time Session Recording Capability for the Tango Interactive Collabor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activity in the area of “high performance commodity computing” (HPcc) based on discussions with NAVO MSRC PE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igh Performance Commodity Computing (HPcc) Based HLA-Compliant Meta-Cluster Management and Meta-Federation Support for NAVO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F09-AE15-4B04-88E9-38B4D24479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istance Education and Training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ation and expansion of past efforts at NAVO and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” PowerPoint/HTML courseware already well-supported &amp; well-used in TANGO-based training &amp; education eff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’s Document Object Model (DOM) allows much richer documents which can significantly enhance courseware, provide greater dep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ome topics, it is worth the investment to create enhanced courseware allowing students to work with more sophisticated material at multiple dep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59E-EBEF-4500-BF0D-8C8CF08280F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istance Education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nd Training (2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GO support for glossaries and interactive quizz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GO support for embedded applets and JavaB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GO support for Macromedia Director/Author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vanced courseware support open for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Parallel Computing coursware using TANGO enhanc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ed as PET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ed as academic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’l academic class offering for other sem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rage with similar CEWES ef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B4E-FA2C-4D0A-8887-FE6B32F1DC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nhanced Audio-Video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nferencing Support for the Tango Interactive Collaboratory System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NGO audio/video codecs (software) designed to minimize bandwidth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pushing forward: hardware codecs, higher capacity networks (esp. DREN), new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ility of high-quality (“industrial quality”) a/v conferencing (w/ appropriate resources) will enhance usefulness and user acceptance of such tools for collaboration and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35F-A562-4FD7-81FA-B7D9190846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nhanced A/V Conferencing (2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atform support: Wintel, SGI,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urrent use of h/w and s/w code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ry session topology, incl. both unicast &amp; multic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up to 15 fps video up to SIF size (320x244 pixels), 16-bit 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/v synchronized using Real Time Protocol (RT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Osprey-1000 h/w H.261/H.263 codec for P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G.711, G.722 audio code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 BV/TANGO to make more effective use of high-speed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09B-3EA7-426D-B024-ED95D43294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raining: Java for Scientific Computing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-25 September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d by Nancy McCrac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of lecture and 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 pre-registered, 4 sh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2CB-007B-4488-B6F3-6D31E88008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 Real-Time Sess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cording Capability for the Tango Interactive Collaboratory System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val recording is a useful feature for distance trainings, meetings, and general collab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 asynchronous training resources from synchronous ones (richer, more general than LecCorder sys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“minutes” of a meeting, allows complete review by those unable to attend in real-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tible with WebWisdomNT database-backed repository for courseware, student information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7E3-0619-41E3-A124-B5158EC1D4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ession Recording (2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ly challenging due to stream multiplexing and time-stamping issues (especially a/v strea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simple approach, guaranteed to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/V (sub-)streams recorded at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emons (under TANGO) to collect substreams, time stamp, index, store on media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ke automatic format conversion tools to produce desired distribution formats (I.e. RealPlayer, LecCorder formats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 gap between video conferencing and video-on-demand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8AF-719A-4F28-AE92-C4D9DB834F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High Performance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mmodity Computing (HPcc) Based HLA-Compliant Meta-Cluster Management and Meta-Federation Support for NAVO Applica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314-6FBF-4F7C-A7E8-609AD6A9F4A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hat is WebHLA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H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gh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vel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rchite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new standard set by DMSO for how modeling and simulation (M&amp;S) codes inte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ebH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HLA “implementation” built on top of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mmodity &amp; standa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b technologies: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ava, HTTP, CORBA, COM, WOM/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HLA provides a mechanism for HPC systems and applications to work together (federate) in loosely-coupled fash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H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gh-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rformance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ommodity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omputing (HPc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A66-3823-4D0D-A9C2-F47B590E78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eta-Cluster Managemen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ystem in a metasystem cluster can be thought of as an HLA federate following a “Cluster FOM” (Federation Object Model) designed according to HLA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HLA framework to support management of security, resources, load, users, an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ion, with CORBA-compliance, could be part of a meta-cluster -- federate with Legion applications, facilitate HLA compliance for Legion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913-665E-41DC-AC74-08C32BC723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eta-Federation Suppor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the integration of HPC applications (federates) into a high-level coupled modeling &amp; simulation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at CEWES, ARL in FMS area -- battlefield/wargame simulations, currently focused around parallel CMS (Comprehensive Mine Simul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NAVO work with applications in other areas (CWO?) that will require HLA-compli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FMS activities and “Gateway” (A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eway uses essentially the same infrastructures except for H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eway focus on CTA-based problem-solving environments, interoperability, simplifying access to HPC &amp; other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B05-83E8-4263-9E6D-C0B2F28881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 3 modest but successful contribution to distance education and training for NAVO &amp;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NGO Installation support and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tion in distance education and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ments to TANGO Interactive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 4 plan to expand distance education and train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courseware development in basic parallel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NGO support for more sophisticated course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demic classes, PET Trai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hrust in Year 4 on High Performance commodity computing, ties in with FMS activities (CEWES, ARL) and “Gateway” project (A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 3 activities too limited to use NPAC’s capabilities to best advantage.  Hopefuly Year 4 will be bett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F86-5D93-496C-ACB9-93D3FD8BF3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istance Education and Training</a:t>
            </a:r>
            <a:br>
              <a:rPr sz="3600"/>
            </a:br>
            <a:r>
              <a:rPr b="1" i="1" lang="en-US" sz="3600" spc="-1" strike="noStrike">
                <a:solidFill>
                  <a:srgbClr val="fafd00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effort, originally intended to be “consultativ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 distance training and education activities at NAVO MSRC and among PET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te to support of TANGO Interactive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60B-5ED4-46D3-8562-E42F9B6F26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ANGO Training and Install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on TANGO Interactive installation, operation, and support at Jackson State U, August 1998, presented by Marek Podgorny, Tom Stachowiak, and Greg Lewandow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attendees from  Tennessee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attendees from NAVO MSRC 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with local TANGO installation at NAVO and training, September 1998, by Marek Podgorny, Konrad Olszewski, and Tom Stachowi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p to Morgan State U, December 1998 by Marek Podgorny to assist with local TANGO insta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E6D-9A39-4FFA-A5E7-A6B0FE9A25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istance Education and Training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in cross-MSRC distance training experiment, 26-27 January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llel Programming on the Origin2000 Using OpenM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ed by Ohio Supercomputer Center instructor from CEWES MSRC TEF to a total of 30 students at 6 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gan State U receiving academic course from Jackson State U, Spring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SU CSC499 “Programming for the Web”, Prof. Qutaibah Mallu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 students at JSU, 5 at M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in seminar planned for 6 April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You Wanted to Know About Document Object Models: From JavaScripts to CORBA and J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 presented by Geoffrey Fox from NPAC, delivered to all MSRCs via TAN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S616 offered Spring 1999, no NAVO partic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3B7-2FD3-4204-AD4A-A9B6A980E6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ANGO On-going Enhancements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focus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robustness and main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ments for collaborative and educational functions (new and improved applic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support for W3C document object model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age of synchronous and asynchronous m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hieved by improving shared browser support as “asynchronou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age to asynchronous document reposi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 and form based server inte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programmability (AP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ation and training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39E-F1E6-4C8E-A308-D6815D4F73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ystem Releas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GO 1.01 released in May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kaged servers for both UNIX and Windows NT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omated, industrial grade installation proced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ustrial grade stability and robust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kaging for the complete application su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deployed at MSRCs, several HBCUs, other univers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GO 1.4 released March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tenance release, as 2.0 testing contin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erous bug fi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enaVista 3.0 (a/v conferencing) -- substantial improv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GO 2.0 release (internal tes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cally improved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s newest Java and browser 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tes all “lessons learned” from TANGO 1 deployment an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paradigm for “collaboration space” navigation, session handling, and floor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2EB-70DD-4536-ABFB-558674855F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obustness and Stabilit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ve in-house and field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g submission and fix tracing 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depth study of underlying (undocumented) browser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zens of bugs uncovered and fix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ments to protocols and architectural modifications in multithreaded design of server and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ust installation procedures implem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856-B619-4EFF-BD83-D145F1B0A2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nhanced Support for Collabor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improv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enaVista 3.0 (TANGO videoconferencing agent) completely rewritten for PC and SGI plat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st multithreaded implementation, extensively tested for st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audio and video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for multiple audio and video c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-implemented robust session control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esigned user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ailed documen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ux implementation on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V has been critical for remote class and training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530-AFE1-4DCF-ADCA-0D0CAA1DCD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4 April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02:43:16Z</dcterms:created>
  <dc:creator>David E Bernholdt</dc:creator>
  <dc:description/>
  <dc:language>en-US</dc:language>
  <cp:lastModifiedBy>David E Bernholdt</cp:lastModifiedBy>
  <cp:lastPrinted>1996-06-19T17:53:30Z</cp:lastPrinted>
  <dcterms:modified xsi:type="dcterms:W3CDTF">1999-03-29T19:48:00Z</dcterms:modified>
  <cp:revision>116</cp:revision>
  <dc:subject/>
  <dc:title>No Slide Title</dc:title>
</cp:coreProperties>
</file>