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D2FE-A09B-4DEB-B8B4-237EBC16C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D7E3-962B-42A5-B459-D5709819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1769-76BC-4C02-A07E-A7AB171A7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E199-B90E-4888-B232-5EC88CF23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783C-D40B-4604-9D8B-912677A8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D597-C543-4D3C-9AD0-BA8DFFA3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4381-18C5-4C23-9B6C-39A3073F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E568-4159-46D2-8853-2A10533F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78EC-C896-45E0-96A6-52E19588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7AF3-B2B7-4FC2-BB41-B308D4B3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F751-891D-4B55-AC76-9AAD7170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9054-8A01-42F6-A4E8-E54FFE30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1CE0-482A-47B8-AD1D-5A9D74826BEE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23880" y="2209680"/>
            <a:ext cx="6056280" cy="3657600"/>
            <a:chOff x="1523880" y="2209680"/>
            <a:chExt cx="6056280" cy="3657600"/>
          </a:xfrm>
        </p:grpSpPr>
        <p:sp>
          <p:nvSpPr>
            <p:cNvPr id="42" name=""/>
            <p:cNvSpPr/>
            <p:nvPr/>
          </p:nvSpPr>
          <p:spPr>
            <a:xfrm>
              <a:off x="1941120" y="2971800"/>
              <a:ext cx="1524240" cy="28954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246040" y="3124080"/>
              <a:ext cx="92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65560" y="2971800"/>
              <a:ext cx="2514600" cy="28954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99080" y="3047760"/>
              <a:ext cx="159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eb 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79560" y="3657600"/>
              <a:ext cx="2971800" cy="533160"/>
            </a:xfrm>
            <a:custGeom>
              <a:avLst/>
              <a:gdLst>
                <a:gd name="textAreaLeft" fmla="*/ 464400 w 2971800"/>
                <a:gd name="textAreaRight" fmla="*/ 2600640 w 2971800"/>
                <a:gd name="textAreaTop" fmla="*/ 133200 h 533160"/>
                <a:gd name="textAreaBottom" fmla="*/ 39996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quest (UR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46040" y="4267080"/>
              <a:ext cx="914400" cy="7621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ro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827320" y="3581280"/>
              <a:ext cx="1067040" cy="106668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G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cripts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tc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903640" y="4952880"/>
              <a:ext cx="1066680" cy="685800"/>
            </a:xfrm>
            <a:prstGeom prst="flowChartMagneticDisk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ont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1523880" y="2590560"/>
              <a:ext cx="752400" cy="78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4857480" y="2209680"/>
              <a:ext cx="712800" cy="1249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" name=""/>
            <p:cNvGrpSpPr/>
            <p:nvPr/>
          </p:nvGrpSpPr>
          <p:grpSpPr>
            <a:xfrm>
              <a:off x="2702880" y="5104800"/>
              <a:ext cx="2971800" cy="533160"/>
              <a:chOff x="2702880" y="5104800"/>
              <a:chExt cx="2971800" cy="533160"/>
            </a:xfrm>
          </p:grpSpPr>
          <p:sp>
            <p:nvSpPr>
              <p:cNvPr id="53" name=""/>
              <p:cNvSpPr/>
              <p:nvPr/>
            </p:nvSpPr>
            <p:spPr>
              <a:xfrm rot="10800000">
                <a:off x="2702880" y="5104800"/>
                <a:ext cx="2971800" cy="533160"/>
              </a:xfrm>
              <a:custGeom>
                <a:avLst/>
                <a:gdLst>
                  <a:gd name="textAreaLeft" fmla="*/ 464400 w 2971800"/>
                  <a:gd name="textAreaRight" fmla="*/ 2600640 w 2971800"/>
                  <a:gd name="textAreaTop" fmla="*/ 133200 h 533160"/>
                  <a:gd name="textAreaBottom" fmla="*/ 39996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467880" y="5181120"/>
                <a:ext cx="178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sponse (Content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 Programming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P Programming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04920" y="2209680"/>
            <a:ext cx="8381160" cy="3657600"/>
            <a:chOff x="304920" y="2209680"/>
            <a:chExt cx="8381160" cy="3657600"/>
          </a:xfrm>
        </p:grpSpPr>
        <p:grpSp>
          <p:nvGrpSpPr>
            <p:cNvPr id="58" name=""/>
            <p:cNvGrpSpPr/>
            <p:nvPr/>
          </p:nvGrpSpPr>
          <p:grpSpPr>
            <a:xfrm>
              <a:off x="6400800" y="2209680"/>
              <a:ext cx="2285280" cy="3657600"/>
              <a:chOff x="6400800" y="2209680"/>
              <a:chExt cx="2285280" cy="3657600"/>
            </a:xfrm>
          </p:grpSpPr>
          <p:sp>
            <p:nvSpPr>
              <p:cNvPr id="59" name=""/>
              <p:cNvSpPr/>
              <p:nvPr/>
            </p:nvSpPr>
            <p:spPr>
              <a:xfrm>
                <a:off x="6857640" y="2971800"/>
                <a:ext cx="1828440" cy="28954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86240" y="3048120"/>
                <a:ext cx="159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Web Serv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314840" y="3581280"/>
                <a:ext cx="1066320" cy="106704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G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Scripts,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etc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390800" y="4952880"/>
                <a:ext cx="1066680" cy="685800"/>
              </a:xfrm>
              <a:prstGeom prst="flowChartMagneticDisk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Cont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400800" y="2209680"/>
                <a:ext cx="712440" cy="1249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4" name=""/>
            <p:cNvGrpSpPr/>
            <p:nvPr/>
          </p:nvGrpSpPr>
          <p:grpSpPr>
            <a:xfrm>
              <a:off x="2131200" y="2265120"/>
              <a:ext cx="845280" cy="1206000"/>
              <a:chOff x="2131200" y="2265120"/>
              <a:chExt cx="845280" cy="120600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2721960" y="2710080"/>
                <a:ext cx="254520" cy="761040"/>
                <a:chOff x="2721960" y="2710080"/>
                <a:chExt cx="254520" cy="761040"/>
              </a:xfrm>
            </p:grpSpPr>
            <p:grpSp>
              <p:nvGrpSpPr>
                <p:cNvPr id="66" name=""/>
                <p:cNvGrpSpPr/>
                <p:nvPr/>
              </p:nvGrpSpPr>
              <p:grpSpPr>
                <a:xfrm>
                  <a:off x="2724840" y="2970360"/>
                  <a:ext cx="251640" cy="500760"/>
                  <a:chOff x="2724840" y="2970360"/>
                  <a:chExt cx="251640" cy="500760"/>
                </a:xfrm>
              </p:grpSpPr>
              <p:grpSp>
                <p:nvGrpSpPr>
                  <p:cNvPr id="67" name=""/>
                  <p:cNvGrpSpPr/>
                  <p:nvPr/>
                </p:nvGrpSpPr>
                <p:grpSpPr>
                  <a:xfrm>
                    <a:off x="2724840" y="2985480"/>
                    <a:ext cx="162720" cy="483120"/>
                    <a:chOff x="2724840" y="2985480"/>
                    <a:chExt cx="162720" cy="483120"/>
                  </a:xfrm>
                </p:grpSpPr>
                <p:sp>
                  <p:nvSpPr>
                    <p:cNvPr id="68" name=""/>
                    <p:cNvSpPr/>
                    <p:nvPr/>
                  </p:nvSpPr>
                  <p:spPr>
                    <a:xfrm>
                      <a:off x="2790000" y="2985480"/>
                      <a:ext cx="57960" cy="7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" name=""/>
                    <p:cNvSpPr/>
                    <p:nvPr/>
                  </p:nvSpPr>
                  <p:spPr>
                    <a:xfrm flipV="1">
                      <a:off x="2771640" y="2990160"/>
                      <a:ext cx="73440" cy="98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" name=""/>
                    <p:cNvSpPr/>
                    <p:nvPr/>
                  </p:nvSpPr>
                  <p:spPr>
                    <a:xfrm>
                      <a:off x="2770200" y="3092040"/>
                      <a:ext cx="102240" cy="2163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" name=""/>
                    <p:cNvSpPr/>
                    <p:nvPr/>
                  </p:nvSpPr>
                  <p:spPr>
                    <a:xfrm flipV="1">
                      <a:off x="2724840" y="3303360"/>
                      <a:ext cx="145080" cy="1620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" name=""/>
                    <p:cNvSpPr/>
                    <p:nvPr/>
                  </p:nvSpPr>
                  <p:spPr>
                    <a:xfrm>
                      <a:off x="2745360" y="3304440"/>
                      <a:ext cx="142200" cy="1641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" name=""/>
                    <p:cNvSpPr/>
                    <p:nvPr/>
                  </p:nvSpPr>
                  <p:spPr>
                    <a:xfrm flipV="1">
                      <a:off x="2742840" y="3092760"/>
                      <a:ext cx="112320" cy="2095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" name=""/>
                    <p:cNvSpPr/>
                    <p:nvPr/>
                  </p:nvSpPr>
                  <p:spPr>
                    <a:xfrm>
                      <a:off x="2790000" y="2985480"/>
                      <a:ext cx="66960" cy="1134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5" name=""/>
                  <p:cNvSpPr/>
                  <p:nvPr/>
                </p:nvSpPr>
                <p:spPr>
                  <a:xfrm flipV="1">
                    <a:off x="2884320" y="3272040"/>
                    <a:ext cx="59760" cy="199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2860920" y="3097080"/>
                    <a:ext cx="84960" cy="178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flipV="1">
                    <a:off x="2860920" y="2972880"/>
                    <a:ext cx="20520" cy="12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 flipV="1">
                    <a:off x="2849760" y="2970360"/>
                    <a:ext cx="35280" cy="18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2850840" y="2987280"/>
                    <a:ext cx="52560" cy="89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 flipV="1">
                    <a:off x="2875320" y="3076560"/>
                    <a:ext cx="23400" cy="228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2876040" y="3304440"/>
                    <a:ext cx="100440" cy="106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" name=""/>
                <p:cNvSpPr/>
                <p:nvPr/>
              </p:nvSpPr>
              <p:spPr>
                <a:xfrm flipV="1">
                  <a:off x="2721960" y="2735280"/>
                  <a:ext cx="96480" cy="725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2823120" y="2756160"/>
                  <a:ext cx="61560" cy="711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flipV="1">
                  <a:off x="2885040" y="3404880"/>
                  <a:ext cx="83880" cy="58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834280" y="2749680"/>
                  <a:ext cx="136080" cy="662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723040" y="3461040"/>
                  <a:ext cx="164880" cy="2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796120" y="2710080"/>
                  <a:ext cx="69480" cy="90360"/>
                </a:xfrm>
                <a:prstGeom prst="ellipse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2131200" y="2265120"/>
                <a:ext cx="712080" cy="1113120"/>
                <a:chOff x="2131200" y="2265120"/>
                <a:chExt cx="712080" cy="1113120"/>
              </a:xfrm>
            </p:grpSpPr>
            <p:grpSp>
              <p:nvGrpSpPr>
                <p:cNvPr id="89" name=""/>
                <p:cNvGrpSpPr/>
                <p:nvPr/>
              </p:nvGrpSpPr>
              <p:grpSpPr>
                <a:xfrm>
                  <a:off x="2131200" y="2265120"/>
                  <a:ext cx="467280" cy="1113120"/>
                  <a:chOff x="2131200" y="2265120"/>
                  <a:chExt cx="467280" cy="111312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rot="10782600">
                    <a:off x="2134080" y="2265840"/>
                    <a:ext cx="379800" cy="1111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23" y="211"/>
                        </a:moveTo>
                        <a:arcTo wR="10800" hR="10800" stAng="-4719734" swAng="919905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23" y="211"/>
                        </a:moveTo>
                        <a:arcTo wR="10800" hR="10800" stAng="-4719734" swAng="9199056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rot="10782600">
                    <a:off x="2213640" y="2351520"/>
                    <a:ext cx="328320" cy="954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9" y="210"/>
                        </a:moveTo>
                        <a:arcTo wR="10800" hR="10800" stAng="-4721070" swAng="921366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9" y="210"/>
                        </a:moveTo>
                        <a:arcTo wR="10800" hR="10800" stAng="-4721070" swAng="9213665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 rot="10782600">
                    <a:off x="2291400" y="2417040"/>
                    <a:ext cx="304920" cy="804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3" y="209"/>
                        </a:moveTo>
                        <a:arcTo wR="10800" hR="10800" stAng="-4723042" swAng="920763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3" y="209"/>
                        </a:moveTo>
                        <a:arcTo wR="10800" hR="10800" stAng="-4723042" swAng="9207638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" name=""/>
                <p:cNvGrpSpPr/>
                <p:nvPr/>
              </p:nvGrpSpPr>
              <p:grpSpPr>
                <a:xfrm>
                  <a:off x="2358000" y="2430000"/>
                  <a:ext cx="393120" cy="736920"/>
                  <a:chOff x="2358000" y="2430000"/>
                  <a:chExt cx="393120" cy="736920"/>
                </a:xfrm>
              </p:grpSpPr>
              <p:sp>
                <p:nvSpPr>
                  <p:cNvPr id="94" name=""/>
                  <p:cNvSpPr/>
                  <p:nvPr/>
                </p:nvSpPr>
                <p:spPr>
                  <a:xfrm rot="10782600">
                    <a:off x="2359440" y="2430720"/>
                    <a:ext cx="320760" cy="735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81" y="202"/>
                        </a:moveTo>
                        <a:arcTo wR="10800" hR="10800" stAng="-4733383" swAng="922868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81" y="202"/>
                        </a:moveTo>
                        <a:arcTo wR="10800" hR="10800" stAng="-4733383" swAng="9228686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 rot="10782600">
                    <a:off x="2426760" y="2487240"/>
                    <a:ext cx="277560" cy="631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56" y="198"/>
                        </a:moveTo>
                        <a:arcTo wR="10800" hR="10800" stAng="-4741447" swAng="92642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56" y="198"/>
                        </a:moveTo>
                        <a:arcTo wR="10800" hR="10800" stAng="-4741447" swAng="9264289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 rot="10782600">
                    <a:off x="2491920" y="2531160"/>
                    <a:ext cx="257760" cy="53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67" y="200"/>
                        </a:moveTo>
                        <a:arcTo wR="10800" hR="10800" stAng="-4737959" swAng="922806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67" y="200"/>
                        </a:moveTo>
                        <a:arcTo wR="10800" hR="10800" stAng="-4737959" swAng="9228062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7" name=""/>
                <p:cNvSpPr/>
                <p:nvPr/>
              </p:nvSpPr>
              <p:spPr>
                <a:xfrm rot="10782600">
                  <a:off x="2551680" y="2556000"/>
                  <a:ext cx="231480" cy="460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32" y="213"/>
                      </a:moveTo>
                      <a:arcTo wR="10800" hR="10800" stAng="-4716714" swAng="92062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32" y="213"/>
                      </a:moveTo>
                      <a:arcTo wR="10800" hR="10800" stAng="-4716714" swAng="9206279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rot="10782600">
                  <a:off x="2616840" y="2589120"/>
                  <a:ext cx="199800" cy="397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01" y="206"/>
                      </a:moveTo>
                      <a:arcTo wR="10800" hR="10800" stAng="-4726822" swAng="92328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01" y="206"/>
                      </a:moveTo>
                      <a:arcTo wR="10800" hR="10800" stAng="-4726822" swAng="9232823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 rot="10782600">
                  <a:off x="2669760" y="2622240"/>
                  <a:ext cx="172440" cy="308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78" y="202"/>
                      </a:moveTo>
                      <a:arcTo wR="10800" hR="10800" stAng="-4734294" swAng="923285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78" y="202"/>
                      </a:moveTo>
                      <a:arcTo wR="10800" hR="10800" stAng="-4734294" swAng="9232855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rot="10782600">
                  <a:off x="2721960" y="2653560"/>
                  <a:ext cx="101880" cy="231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764" y="180"/>
                      </a:moveTo>
                      <a:arcTo wR="10800" hR="10800" stAng="-4771502" swAng="92718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764" y="180"/>
                      </a:moveTo>
                      <a:arcTo wR="10800" hR="10800" stAng="-4771502" swAng="9271897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1" name=""/>
            <p:cNvGrpSpPr/>
            <p:nvPr/>
          </p:nvGrpSpPr>
          <p:grpSpPr>
            <a:xfrm>
              <a:off x="761760" y="2971800"/>
              <a:ext cx="1218960" cy="2895480"/>
              <a:chOff x="761760" y="2971800"/>
              <a:chExt cx="1218960" cy="2895480"/>
            </a:xfrm>
          </p:grpSpPr>
          <p:sp>
            <p:nvSpPr>
              <p:cNvPr id="102" name=""/>
              <p:cNvSpPr/>
              <p:nvPr/>
            </p:nvSpPr>
            <p:spPr>
              <a:xfrm>
                <a:off x="761760" y="2971800"/>
                <a:ext cx="1218960" cy="28954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13680" y="3124080"/>
                <a:ext cx="92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i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14040" y="4038480"/>
                <a:ext cx="914040" cy="99072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WA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Us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g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3124080" y="2286000"/>
              <a:ext cx="2437560" cy="3581280"/>
              <a:chOff x="3124080" y="2286000"/>
              <a:chExt cx="2437560" cy="3581280"/>
            </a:xfrm>
          </p:grpSpPr>
          <p:sp>
            <p:nvSpPr>
              <p:cNvPr id="106" name=""/>
              <p:cNvSpPr/>
              <p:nvPr/>
            </p:nvSpPr>
            <p:spPr>
              <a:xfrm>
                <a:off x="3352320" y="2971800"/>
                <a:ext cx="2209320" cy="28954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810600" y="3124080"/>
                <a:ext cx="126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Gatewa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885840" y="4038480"/>
                <a:ext cx="1142640" cy="99072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Encoder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n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ecod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124080" y="2286000"/>
                <a:ext cx="712440" cy="1249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0" name=""/>
            <p:cNvSpPr/>
            <p:nvPr/>
          </p:nvSpPr>
          <p:spPr>
            <a:xfrm>
              <a:off x="1371600" y="3505320"/>
              <a:ext cx="2361600" cy="457200"/>
            </a:xfrm>
            <a:custGeom>
              <a:avLst/>
              <a:gdLst>
                <a:gd name="textAreaLeft" fmla="*/ 369000 w 2361600"/>
                <a:gd name="textAreaRight" fmla="*/ 2066400 w 2361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ncoded 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52880" y="3581280"/>
              <a:ext cx="2361960" cy="457200"/>
            </a:xfrm>
            <a:custGeom>
              <a:avLst/>
              <a:gdLst>
                <a:gd name="textAreaLeft" fmla="*/ 369000 w 2361960"/>
                <a:gd name="textAreaRight" fmla="*/ 2066760 w 236196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4876200" y="5257800"/>
              <a:ext cx="2361960" cy="457200"/>
              <a:chOff x="4876200" y="5257800"/>
              <a:chExt cx="2361960" cy="457200"/>
            </a:xfrm>
          </p:grpSpPr>
          <p:sp>
            <p:nvSpPr>
              <p:cNvPr id="113" name=""/>
              <p:cNvSpPr/>
              <p:nvPr/>
            </p:nvSpPr>
            <p:spPr>
              <a:xfrm rot="10800000">
                <a:off x="4876200" y="5257800"/>
                <a:ext cx="2361960" cy="457200"/>
              </a:xfrm>
              <a:custGeom>
                <a:avLst/>
                <a:gdLst>
                  <a:gd name="textAreaLeft" fmla="*/ 369000 w 2361960"/>
                  <a:gd name="textAreaRight" fmla="*/ 2066760 w 2361960"/>
                  <a:gd name="textAreaTop" fmla="*/ 114120 h 457200"/>
                  <a:gd name="textAreaBottom" fmla="*/ 34308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330520" y="5334120"/>
                <a:ext cx="159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esponse (Conten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371600" y="5257800"/>
              <a:ext cx="2361600" cy="457200"/>
              <a:chOff x="1371600" y="5257800"/>
              <a:chExt cx="2361600" cy="457200"/>
            </a:xfrm>
          </p:grpSpPr>
          <p:sp>
            <p:nvSpPr>
              <p:cNvPr id="116" name=""/>
              <p:cNvSpPr/>
              <p:nvPr/>
            </p:nvSpPr>
            <p:spPr>
              <a:xfrm rot="10800000">
                <a:off x="1371600" y="5257800"/>
                <a:ext cx="2361600" cy="457200"/>
              </a:xfrm>
              <a:custGeom>
                <a:avLst/>
                <a:gdLst>
                  <a:gd name="textAreaLeft" fmla="*/ 369000 w 2361600"/>
                  <a:gd name="textAreaRight" fmla="*/ 2066400 w 2361600"/>
                  <a:gd name="textAreaTop" fmla="*/ 114120 h 457200"/>
                  <a:gd name="textAreaBottom" fmla="*/ 34308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826640" y="533412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ncoded Respons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18" name="" descr=""/>
            <p:cNvPicPr/>
            <p:nvPr/>
          </p:nvPicPr>
          <p:blipFill>
            <a:blip r:embed="rId3"/>
            <a:stretch/>
          </p:blipFill>
          <p:spPr>
            <a:xfrm>
              <a:off x="304920" y="2590920"/>
              <a:ext cx="75060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666160" y="4724280"/>
            <a:ext cx="231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) Copyright 1997, The Strategis Grou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213200" y="2209680"/>
            <a:ext cx="6282720" cy="3660120"/>
            <a:chOff x="1213200" y="2209680"/>
            <a:chExt cx="6282720" cy="3660120"/>
          </a:xfrm>
        </p:grpSpPr>
        <p:grpSp>
          <p:nvGrpSpPr>
            <p:cNvPr id="121" name=""/>
            <p:cNvGrpSpPr/>
            <p:nvPr/>
          </p:nvGrpSpPr>
          <p:grpSpPr>
            <a:xfrm>
              <a:off x="1705320" y="2209680"/>
              <a:ext cx="5790600" cy="3660120"/>
              <a:chOff x="1705320" y="2209680"/>
              <a:chExt cx="5790600" cy="3660120"/>
            </a:xfrm>
          </p:grpSpPr>
          <p:sp>
            <p:nvSpPr>
              <p:cNvPr id="122" name=""/>
              <p:cNvSpPr/>
              <p:nvPr/>
            </p:nvSpPr>
            <p:spPr>
              <a:xfrm>
                <a:off x="2458440" y="2314440"/>
                <a:ext cx="5035680" cy="2830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458440" y="4792320"/>
                <a:ext cx="50356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458440" y="4439880"/>
                <a:ext cx="50356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458440" y="4087440"/>
                <a:ext cx="50356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458440" y="3733560"/>
                <a:ext cx="5035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458440" y="3371760"/>
                <a:ext cx="5035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458440" y="3019320"/>
                <a:ext cx="5035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458440" y="2666880"/>
                <a:ext cx="5035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458440" y="2314440"/>
                <a:ext cx="5035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458440" y="2314440"/>
                <a:ext cx="5035680" cy="2830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458440" y="2314440"/>
                <a:ext cx="1800" cy="28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62680" y="5144760"/>
                <a:ext cx="95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362680" y="4792320"/>
                <a:ext cx="95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362680" y="4439880"/>
                <a:ext cx="95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362680" y="4087440"/>
                <a:ext cx="95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362680" y="3733560"/>
                <a:ext cx="95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362680" y="3371760"/>
                <a:ext cx="95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362680" y="3019320"/>
                <a:ext cx="95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362680" y="2666880"/>
                <a:ext cx="95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362680" y="2314440"/>
                <a:ext cx="95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458440" y="5144760"/>
                <a:ext cx="50356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2458440" y="5144760"/>
                <a:ext cx="180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2912760" y="5144760"/>
                <a:ext cx="180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3378960" y="5144760"/>
                <a:ext cx="180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3833280" y="5144760"/>
                <a:ext cx="216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4287960" y="5144760"/>
                <a:ext cx="180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4741920" y="5144760"/>
                <a:ext cx="180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V="1">
                <a:off x="5208480" y="5144760"/>
                <a:ext cx="180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>
                <a:off x="5664960" y="5144760"/>
                <a:ext cx="180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>
                <a:off x="6118920" y="5144760"/>
                <a:ext cx="216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6573600" y="5144760"/>
                <a:ext cx="180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7039440" y="5144760"/>
                <a:ext cx="216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7494120" y="5144760"/>
                <a:ext cx="180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685240" y="4935240"/>
                <a:ext cx="454320" cy="76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3139920" y="4840200"/>
                <a:ext cx="466200" cy="9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3606480" y="4629960"/>
                <a:ext cx="453960" cy="209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4060440" y="4382640"/>
                <a:ext cx="453960" cy="247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4514760" y="4115880"/>
                <a:ext cx="466200" cy="266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4980960" y="3847680"/>
                <a:ext cx="456120" cy="268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5437440" y="3552120"/>
                <a:ext cx="453960" cy="295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5891760" y="3237840"/>
                <a:ext cx="454320" cy="314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6346440" y="2952360"/>
                <a:ext cx="466200" cy="2858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6812640" y="2704680"/>
                <a:ext cx="453960" cy="247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649600" y="4982760"/>
                <a:ext cx="716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103920" y="4906800"/>
                <a:ext cx="716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570120" y="4811400"/>
                <a:ext cx="716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024800" y="4601880"/>
                <a:ext cx="7128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479120" y="4354200"/>
                <a:ext cx="716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945320" y="4087440"/>
                <a:ext cx="716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401800" y="3819240"/>
                <a:ext cx="7128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856120" y="3524040"/>
                <a:ext cx="716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310800" y="3209760"/>
                <a:ext cx="7128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776640" y="2923920"/>
                <a:ext cx="716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231320" y="2676240"/>
                <a:ext cx="716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040120" y="5040000"/>
                <a:ext cx="13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000000"/>
                    </a:solidFill>
                    <a:latin typeface="굴림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705320" y="4687560"/>
                <a:ext cx="393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000000"/>
                    </a:solidFill>
                    <a:latin typeface="굴림"/>
                  </a:rPr>
                  <a:t>1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705320" y="4335120"/>
                <a:ext cx="393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000000"/>
                    </a:solidFill>
                    <a:latin typeface="굴림"/>
                  </a:rPr>
                  <a:t>2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705320" y="3981240"/>
                <a:ext cx="393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000000"/>
                    </a:solidFill>
                    <a:latin typeface="굴림"/>
                  </a:rPr>
                  <a:t>3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705320" y="3628800"/>
                <a:ext cx="393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000000"/>
                    </a:solidFill>
                    <a:latin typeface="굴림"/>
                  </a:rPr>
                  <a:t>4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705320" y="3267000"/>
                <a:ext cx="393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000000"/>
                    </a:solidFill>
                    <a:latin typeface="굴림"/>
                  </a:rPr>
                  <a:t>5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705320" y="2914560"/>
                <a:ext cx="393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000000"/>
                    </a:solidFill>
                    <a:latin typeface="굴림"/>
                  </a:rPr>
                  <a:t>6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705320" y="2562120"/>
                <a:ext cx="393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000000"/>
                    </a:solidFill>
                    <a:latin typeface="굴림"/>
                  </a:rPr>
                  <a:t>7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705320" y="2209680"/>
                <a:ext cx="393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000000"/>
                    </a:solidFill>
                    <a:latin typeface="굴림"/>
                  </a:rPr>
                  <a:t>8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6200000">
                <a:off x="2402280" y="5558400"/>
                <a:ext cx="40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00"/>
                    </a:solidFill>
                    <a:latin typeface="굴림"/>
                  </a:rPr>
                  <a:t>199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6200000">
                <a:off x="2854440" y="5558400"/>
                <a:ext cx="40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00"/>
                    </a:solidFill>
                    <a:latin typeface="굴림"/>
                  </a:rPr>
                  <a:t>199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6200000">
                <a:off x="3322800" y="5558400"/>
                <a:ext cx="40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00"/>
                    </a:solidFill>
                    <a:latin typeface="굴림"/>
                  </a:rPr>
                  <a:t>199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6200000">
                <a:off x="3774960" y="5558400"/>
                <a:ext cx="40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00"/>
                    </a:solidFill>
                    <a:latin typeface="굴림"/>
                  </a:rPr>
                  <a:t>199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6200000">
                <a:off x="4231440" y="5550480"/>
                <a:ext cx="40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00"/>
                    </a:solidFill>
                    <a:latin typeface="굴림"/>
                  </a:rPr>
                  <a:t>199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6200000">
                <a:off x="4698000" y="5558400"/>
                <a:ext cx="40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00"/>
                    </a:solidFill>
                    <a:latin typeface="굴림"/>
                  </a:rPr>
                  <a:t>199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6200000">
                <a:off x="5150160" y="5558400"/>
                <a:ext cx="40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00"/>
                    </a:solidFill>
                    <a:latin typeface="굴림"/>
                  </a:rPr>
                  <a:t>199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6200000">
                <a:off x="5608440" y="5558400"/>
                <a:ext cx="40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00"/>
                    </a:solidFill>
                    <a:latin typeface="굴림"/>
                  </a:rPr>
                  <a:t>20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6200000">
                <a:off x="6060960" y="5558400"/>
                <a:ext cx="40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00"/>
                    </a:solidFill>
                    <a:latin typeface="굴림"/>
                  </a:rPr>
                  <a:t>200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6200000">
                <a:off x="6529680" y="5558400"/>
                <a:ext cx="40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00"/>
                    </a:solidFill>
                    <a:latin typeface="굴림"/>
                  </a:rPr>
                  <a:t>200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6200000">
                <a:off x="6983640" y="5558400"/>
                <a:ext cx="40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00"/>
                    </a:solidFill>
                    <a:latin typeface="굴림"/>
                  </a:rPr>
                  <a:t>200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 rot="16215000">
              <a:off x="-60480" y="3569760"/>
              <a:ext cx="286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. of Wireless Subscribers (M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Wireless Subscriber Pop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1143000" y="1828440"/>
            <a:ext cx="6934320" cy="4343760"/>
            <a:chOff x="1143000" y="1828440"/>
            <a:chExt cx="6934320" cy="4343760"/>
          </a:xfrm>
        </p:grpSpPr>
        <p:sp>
          <p:nvSpPr>
            <p:cNvPr id="199" name=""/>
            <p:cNvSpPr/>
            <p:nvPr/>
          </p:nvSpPr>
          <p:spPr>
            <a:xfrm>
              <a:off x="1143000" y="1828800"/>
              <a:ext cx="3886200" cy="4572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 Layer (WA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43000" y="2514600"/>
              <a:ext cx="4648320" cy="4572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ssion Layer (WSP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143000" y="3200400"/>
              <a:ext cx="5410080" cy="4572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action Layer (WTP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43000" y="3886200"/>
              <a:ext cx="6172200" cy="4572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curity Layer (WTL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143000" y="4572000"/>
              <a:ext cx="6934320" cy="4572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port Layer (WDP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1143000" y="5334120"/>
              <a:ext cx="6934320" cy="838080"/>
              <a:chOff x="1143000" y="5334120"/>
              <a:chExt cx="6934320" cy="838080"/>
            </a:xfrm>
          </p:grpSpPr>
          <p:sp>
            <p:nvSpPr>
              <p:cNvPr id="205" name=""/>
              <p:cNvSpPr/>
              <p:nvPr/>
            </p:nvSpPr>
            <p:spPr>
              <a:xfrm>
                <a:off x="1143000" y="5334120"/>
                <a:ext cx="6934320" cy="8380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19320" y="5715000"/>
                <a:ext cx="6858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S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981080" y="5715000"/>
                <a:ext cx="6858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S-1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743200" y="5715000"/>
                <a:ext cx="6858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DM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505320" y="5715000"/>
                <a:ext cx="6858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H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267080" y="5715000"/>
                <a:ext cx="6858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DP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029200" y="5715000"/>
                <a:ext cx="6858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DC-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791320" y="5715000"/>
                <a:ext cx="6858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DE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553080" y="5715000"/>
                <a:ext cx="6858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LE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315200" y="5715000"/>
                <a:ext cx="6858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tc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218600" y="5334120"/>
                <a:ext cx="85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earers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5181480" y="1828440"/>
              <a:ext cx="2895840" cy="2514960"/>
              <a:chOff x="5181480" y="1828440"/>
              <a:chExt cx="2895840" cy="2514960"/>
            </a:xfrm>
          </p:grpSpPr>
          <p:sp>
            <p:nvSpPr>
              <p:cNvPr id="217" name=""/>
              <p:cNvSpPr/>
              <p:nvPr/>
            </p:nvSpPr>
            <p:spPr>
              <a:xfrm>
                <a:off x="5181480" y="1828800"/>
                <a:ext cx="289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>
                <a:off x="8077320" y="1828440"/>
                <a:ext cx="0" cy="251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5181480" y="1828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181480" y="228600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5943600" y="228564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943600" y="297180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6705720" y="297144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705720" y="3657600"/>
                <a:ext cx="76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7467480" y="365724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467480" y="434340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5870160" y="1905120"/>
              <a:ext cx="2134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ther Services 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P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4T16:38:47Z</dcterms:created>
  <dc:creator>Dongmin Kim</dc:creator>
  <dc:description/>
  <dc:language>en-US</dc:language>
  <cp:lastModifiedBy>Dongmin Kim</cp:lastModifiedBy>
  <dcterms:modified xsi:type="dcterms:W3CDTF">2000-04-14T17:39:01Z</dcterms:modified>
  <cp:revision>1</cp:revision>
  <dc:subject/>
  <dc:title>WWW Programming Model</dc:title>
</cp:coreProperties>
</file>