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-360" y="64771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5181120" y="64771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B374-7793-429A-8F21-B736CC76A79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181120" y="64771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0FDF-DF56-4DAC-A37D-D9C1F111B80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64771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-36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181120" y="-36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5181120" y="64771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7BE7-AF3F-4F94-81A7-4E1ACF5E967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64771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-36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181120" y="-36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 defined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ram Management for PET program mana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 Management for Academic Part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ining Management for PET Training Management Sta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 Communication for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rtal gives the single point of entry to the Intranet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s to impl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User Customization /Personalization (cookies, server side stor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Security: Public Key Infrastructure, Kerberos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I encryption will allow for encrypted Web Traffic (CA provid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 NCSA server or commercial service (Verisign) and certif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authentication for clients and ser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rberos will allow authentication without sending clear text pass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-based solution centered upon emerging XM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DBC based access to the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 for desktop and OS indepen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cle 8i - the only professional database with built-in Java/XML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d quality, performance, availability, manageability, multimedia datatype support, scalability, Large Object support, SQL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L parser on the client side as downloaded applet (Note that current Netscape browser does not support XML; IE do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L messages are passed between the browser and the middle t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for variety Communication protocols necess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, RMI, IIOP, SSL, SMTP, Multicast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l engine implemented as Apache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EB61-A540-4D75-8310-9E30A5E96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42D7-5975-49D7-9CC3-B8D093C4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4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E960-F309-4113-B969-39E985334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90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776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90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776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5E8E-3EB7-4895-A604-57404D3C8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7EEB-BFAC-4DD2-A1C4-A6967226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C76E-2908-4760-BA2C-7904C1E2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0E38-DE5C-4FE5-B21D-92344F03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28D0-64C0-41AC-A94F-60E2D008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999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B9C5-B446-45AC-87B8-03AD99EC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32BE-0627-40FA-A025-DFC405B7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4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12F0-9AF2-4266-8EAD-61C85BF7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4E17-D5F8-42F7-B710-52AC8F39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D0C4-A104-4140-85EB-529B9CC00C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fffff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arl-msrc-logo" descr=""/>
          <p:cNvPicPr/>
          <p:nvPr/>
        </p:nvPicPr>
        <p:blipFill>
          <a:blip r:embed="rId2"/>
          <a:stretch/>
        </p:blipFill>
        <p:spPr>
          <a:xfrm>
            <a:off x="0" y="19080"/>
            <a:ext cx="1836720" cy="647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238880" y="0"/>
            <a:ext cx="1905120" cy="64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279f"/>
                </a:solidFill>
                <a:latin typeface="Times New Roman"/>
              </a:rPr>
              <a:t>Information and Communic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Information and Communication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ARL MSRC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Year 3 Annual Review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44953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PAC/Syracuse Univer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C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ANGO 2 Core Enhancements V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 for Internet Explor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ed and operational for Java applets and “local” appl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igned and prototyped for JavaScript appl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ufficient testing, unknown robust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ticipated for release in 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-of-the-browser”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ortant for UNIX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igned, prototyped and sparsely tested. Design implements a model analogous to “LiveConnect” for AppletVie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ificant performance and robustness ga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ticipated for release in 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 Annual 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6AF7-E5E3-440D-980D-AC848BCC8E7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5 August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ANGO 2 application suppor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 for shared dynamic HTM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 for shared DO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ms-based applications such as “workbenche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tion with  Courseware Management  Database System (WebWisdom D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hanced user feedback mod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ting/Testing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fic Visualization package (for 2.1 relea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e Shared Objects technology (examples provid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 Annual 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AC32-F215-4BCC-828E-61DCDEDF726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5 August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Asynchronous 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eb-based Training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:  Provide PET with capability to deliver any-time, anywhere, any-pace training via the we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ynchronous web-based training tool, WebCT, recommended and demonstrated in Year 2 for use in delivering CTA cour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bility tech transferred to PET via training in December at ARL and NCS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ions to determine effectiveness will be conducted as CTA courses are develop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e TangoInteractive can share WebCT course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ting portable LecCorders to be based at OSU (now), ARL/HEAT (so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 Annual 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4FC6-F621-4174-B989-637CE40198C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5 August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ollaboration &amp; Training Support (1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-site I/C staff (Derek Moses) supports routine operations of training r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L Distance Training Workshop: Tango Interactive and WebCT (Dec’9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ipated in CEWES-sponsored prototype distance training classes: Fortran90 (Sep’98), OpenMP (Jan’9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ed Alliance-sponsored, OSC-delivered distance training (Java for Scientific Computing) at ACCESS Center in DC.  Preparation for ARL use of ACCESS to better reach DC-area users. (Feb’9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 Annual 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283B-217F-4827-A507-E28863E39F5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5 August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ollaboration &amp; Training Support (2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ffrey Fox delivered seminar from Syracuse to all four MSRCs, organized by ARL (Apr’9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etwork-Based Remote Collaboration and Training: Progress and Plan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te paper requested by John Grosh at mid-year mee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http://www.npac.syr.edu/Projects/DoD/white-paper-collab-train-990510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half-day Tango tutorials, full-day Java tutorial at DoD HPC UGC (Jun’9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l meeting of Training and I/C support staff at DoD HPC UGC, to be followed up with email, phone conferences (Jun’9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 Annual 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AAF2-BBC0-4BD2-B203-89F346F1826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5 August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eb Site Suppor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SRC and PET web sites are a primary tool for user 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-site staff (Derek Moses) responsible for day to day operation and management of web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-site staff largely responsible for web site re-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-site I/C staff provide training and assistance with HTML, web tools, etc. for other MSRC &amp; PET sta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s to install web/database tools: search engine, eventually WS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 Annual 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0E57-A601-44AE-948A-6B03EE30F02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5 August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Intranet Operating Environmen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pose:  IOE for ARL and ASC that facilitates day-to-day operations with focus 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T project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ote collabo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fective dissemination of information to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ols to support application access, database access, document reposito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s: PET management, Academic team, Training staff, MSRC u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se I - PET activities, 15 month project, started end of June 19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se II - MSRC activit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 Annual 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24B5-235A-4CDF-810D-105E62DA85F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5 August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IOE Requirement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 browser independent (Netscape, Internet Explorer, Applica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ktop and Operation System Indepen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ace to  Object Relational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bilities: Master Training Calendar, Master Events Calendar, Operating and Collaboration Too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 Annual 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D15D-BC15-41D0-BC05-E8678C99704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5 August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IOE Capabilities Defined in SoW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914400" y="1752480"/>
            <a:ext cx="7543800" cy="4800600"/>
            <a:chOff x="914400" y="1752480"/>
            <a:chExt cx="7543800" cy="4800600"/>
          </a:xfrm>
        </p:grpSpPr>
        <p:sp>
          <p:nvSpPr>
            <p:cNvPr id="86" name=""/>
            <p:cNvSpPr/>
            <p:nvPr/>
          </p:nvSpPr>
          <p:spPr>
            <a:xfrm>
              <a:off x="914400" y="6019920"/>
              <a:ext cx="914400" cy="457200"/>
            </a:xfrm>
            <a:prstGeom prst="rect">
              <a:avLst/>
            </a:prstGeom>
            <a:solidFill>
              <a:srgbClr val="c7f3d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Discuss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Foru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5320" y="1752480"/>
              <a:ext cx="1752480" cy="533520"/>
            </a:xfrm>
            <a:prstGeom prst="rect">
              <a:avLst/>
            </a:prstGeom>
            <a:solidFill>
              <a:srgbClr val="c7f3d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Times New Roman"/>
                </a:rPr>
                <a:t>IOE (ARL, ASC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71600" y="2438280"/>
              <a:ext cx="1295280" cy="609840"/>
            </a:xfrm>
            <a:prstGeom prst="rect">
              <a:avLst/>
            </a:prstGeom>
            <a:solidFill>
              <a:srgbClr val="c7f3d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79f"/>
                  </a:solidFill>
                  <a:latin typeface="Times New Roman"/>
                </a:rPr>
                <a:t>MSRC P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79f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62920" y="2438280"/>
              <a:ext cx="1295280" cy="609840"/>
            </a:xfrm>
            <a:prstGeom prst="rect">
              <a:avLst/>
            </a:prstGeom>
            <a:solidFill>
              <a:srgbClr val="c7f3d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79f"/>
                  </a:solidFill>
                  <a:latin typeface="Times New Roman"/>
                </a:rPr>
                <a:t>HPC 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79f"/>
                  </a:solidFill>
                  <a:latin typeface="Times New Roman"/>
                </a:rPr>
                <a:t>Suppo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15000" y="2438280"/>
              <a:ext cx="1295280" cy="609840"/>
            </a:xfrm>
            <a:prstGeom prst="rect">
              <a:avLst/>
            </a:prstGeom>
            <a:solidFill>
              <a:srgbClr val="c7f3d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79f"/>
                  </a:solidFill>
                  <a:latin typeface="Times New Roman"/>
                </a:rPr>
                <a:t>Collabor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79f"/>
                  </a:solidFill>
                  <a:latin typeface="Times New Roman"/>
                </a:rPr>
                <a:t>Too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267080" y="2438280"/>
              <a:ext cx="1295640" cy="609840"/>
            </a:xfrm>
            <a:prstGeom prst="rect">
              <a:avLst/>
            </a:prstGeom>
            <a:solidFill>
              <a:srgbClr val="c7f3d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79f"/>
                  </a:solidFill>
                  <a:latin typeface="Times New Roman"/>
                </a:rPr>
                <a:t>Computation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79f"/>
                  </a:solidFill>
                  <a:latin typeface="Times New Roman"/>
                </a:rPr>
                <a:t>Tech. Are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19520" y="2438280"/>
              <a:ext cx="1295280" cy="609840"/>
            </a:xfrm>
            <a:prstGeom prst="rect">
              <a:avLst/>
            </a:prstGeom>
            <a:solidFill>
              <a:srgbClr val="c7f3d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79f"/>
                  </a:solidFill>
                  <a:latin typeface="Times New Roman"/>
                </a:rPr>
                <a:t>MSRC P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79f"/>
                  </a:solidFill>
                  <a:latin typeface="Times New Roman"/>
                </a:rPr>
                <a:t>Commun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391520" y="3581280"/>
              <a:ext cx="1066680" cy="1600200"/>
            </a:xfrm>
            <a:prstGeom prst="rect">
              <a:avLst/>
            </a:prstGeom>
            <a:solidFill>
              <a:srgbClr val="c7f3d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Help Des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Software Rep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Resource Inf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Job Statu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Training Inf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Usag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172200" y="3581280"/>
              <a:ext cx="1066680" cy="685800"/>
            </a:xfrm>
            <a:prstGeom prst="rect">
              <a:avLst/>
            </a:prstGeom>
            <a:solidFill>
              <a:srgbClr val="c7f3d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Tang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NetMeetin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ICh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52880" y="3581280"/>
              <a:ext cx="1067040" cy="1295640"/>
            </a:xfrm>
            <a:prstGeom prst="rect">
              <a:avLst/>
            </a:prstGeom>
            <a:solidFill>
              <a:srgbClr val="c7f3d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Links to: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CSM, CF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CCM,CEA,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CWO,SI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FMS,EQ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CEN,IM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733920" y="3581280"/>
              <a:ext cx="1143000" cy="1752840"/>
            </a:xfrm>
            <a:prstGeom prst="rect">
              <a:avLst/>
            </a:prstGeom>
            <a:solidFill>
              <a:srgbClr val="c7f3d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Calendar o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   </a:t>
              </a: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Event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Announcement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Email Alias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Membershi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   </a:t>
              </a: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List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Repository o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Technical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Publication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95480" y="3581280"/>
              <a:ext cx="685800" cy="685800"/>
            </a:xfrm>
            <a:prstGeom prst="rect">
              <a:avLst/>
            </a:prstGeom>
            <a:solidFill>
              <a:srgbClr val="c7f3d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Trainin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Mgm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3581280"/>
              <a:ext cx="685800" cy="685800"/>
            </a:xfrm>
            <a:prstGeom prst="rect">
              <a:avLst/>
            </a:prstGeom>
            <a:solidFill>
              <a:srgbClr val="c7f3d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Progra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Mgm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81080" y="3581280"/>
              <a:ext cx="685800" cy="685800"/>
            </a:xfrm>
            <a:prstGeom prst="rect">
              <a:avLst/>
            </a:prstGeom>
            <a:solidFill>
              <a:srgbClr val="c7f3d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Proj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Mgm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95480" y="4419720"/>
              <a:ext cx="685800" cy="533160"/>
            </a:xfrm>
            <a:prstGeom prst="rect">
              <a:avLst/>
            </a:prstGeom>
            <a:solidFill>
              <a:srgbClr val="c7f3d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Trainin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databas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95480" y="4952880"/>
              <a:ext cx="685800" cy="533520"/>
            </a:xfrm>
            <a:prstGeom prst="rect">
              <a:avLst/>
            </a:prstGeom>
            <a:solidFill>
              <a:srgbClr val="c7f3d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Calenda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05120" y="4419720"/>
              <a:ext cx="914400" cy="2133360"/>
            </a:xfrm>
            <a:prstGeom prst="rect">
              <a:avLst/>
            </a:prstGeom>
            <a:solidFill>
              <a:srgbClr val="c7f3d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Budget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Mgm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Statu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Report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Proj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Planin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Docum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Databas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Trave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Notific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Trip Report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14400" y="4419720"/>
              <a:ext cx="914400" cy="1143000"/>
            </a:xfrm>
            <a:prstGeom prst="rect">
              <a:avLst/>
            </a:prstGeom>
            <a:solidFill>
              <a:srgbClr val="c7f3d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Database o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Proposal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SoW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Budge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Document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Report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14400" y="5562720"/>
              <a:ext cx="914400" cy="457200"/>
            </a:xfrm>
            <a:prstGeom prst="rect">
              <a:avLst/>
            </a:prstGeom>
            <a:solidFill>
              <a:srgbClr val="c7f3d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Repor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79f"/>
                  </a:solidFill>
                  <a:latin typeface="Times New Roman"/>
                </a:rPr>
                <a:t>Generato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95280" y="3352680"/>
              <a:ext cx="1905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57400" y="30481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95280" y="33526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62320" y="33526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00400" y="33526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62520" y="304812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34120" y="304812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629400" y="304812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848720" y="304812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95280" y="42670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6000" y="42670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00400" y="42670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-720" y="5257800"/>
            <a:ext cx="838800" cy="459000"/>
            <a:chOff x="-720" y="5257800"/>
            <a:chExt cx="838800" cy="459000"/>
          </a:xfrm>
        </p:grpSpPr>
        <p:sp>
          <p:nvSpPr>
            <p:cNvPr id="118" name=""/>
            <p:cNvSpPr/>
            <p:nvPr/>
          </p:nvSpPr>
          <p:spPr>
            <a:xfrm>
              <a:off x="-720" y="5257800"/>
              <a:ext cx="819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NAV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prototyp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5800" y="5486400"/>
              <a:ext cx="1522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-720" y="4495680"/>
            <a:ext cx="838800" cy="459000"/>
            <a:chOff x="-720" y="4495680"/>
            <a:chExt cx="838800" cy="459000"/>
          </a:xfrm>
        </p:grpSpPr>
        <p:sp>
          <p:nvSpPr>
            <p:cNvPr id="121" name=""/>
            <p:cNvSpPr/>
            <p:nvPr/>
          </p:nvSpPr>
          <p:spPr>
            <a:xfrm>
              <a:off x="-720" y="4495680"/>
              <a:ext cx="819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AR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prototyp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5800" y="4724280"/>
              <a:ext cx="1522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102120" y="5532120"/>
            <a:ext cx="1547640" cy="565560"/>
            <a:chOff x="3102120" y="5532120"/>
            <a:chExt cx="1547640" cy="565560"/>
          </a:xfrm>
        </p:grpSpPr>
        <p:sp>
          <p:nvSpPr>
            <p:cNvPr id="124" name=""/>
            <p:cNvSpPr/>
            <p:nvPr/>
          </p:nvSpPr>
          <p:spPr>
            <a:xfrm>
              <a:off x="3102120" y="5821200"/>
              <a:ext cx="154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Current ASC proj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3238560" y="5532120"/>
              <a:ext cx="0" cy="152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3238560" y="5684400"/>
              <a:ext cx="0" cy="182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16160" y="6248520"/>
            <a:ext cx="305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ARL staff to evaluate calendaring soft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 Annual 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2B4C-AD79-4CA3-A439-BE1AE980055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5 August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IOE Portal Topolog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838080" y="1828800"/>
            <a:ext cx="7925040" cy="4419720"/>
            <a:chOff x="838080" y="1828800"/>
            <a:chExt cx="7925040" cy="4419720"/>
          </a:xfrm>
        </p:grpSpPr>
        <p:sp>
          <p:nvSpPr>
            <p:cNvPr id="130" name=""/>
            <p:cNvSpPr/>
            <p:nvPr/>
          </p:nvSpPr>
          <p:spPr>
            <a:xfrm>
              <a:off x="2133720" y="1905120"/>
              <a:ext cx="5029200" cy="838080"/>
            </a:xfrm>
            <a:prstGeom prst="rect">
              <a:avLst/>
            </a:prstGeom>
            <a:solidFill>
              <a:srgbClr val="abedb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Web Browser or Other XML intera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58840" y="182880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Times New Roman"/>
                </a:rPr>
                <a:t>Cli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14400" y="3048120"/>
              <a:ext cx="7848720" cy="1752480"/>
            </a:xfrm>
            <a:prstGeom prst="rect">
              <a:avLst/>
            </a:prstGeom>
            <a:solidFill>
              <a:srgbClr val="b5cdf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33720" y="3200400"/>
              <a:ext cx="5029200" cy="762120"/>
            </a:xfrm>
            <a:prstGeom prst="rect">
              <a:avLst/>
            </a:prstGeom>
            <a:solidFill>
              <a:srgbClr val="e5c8a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HTTP and XML Serv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080" y="2971800"/>
              <a:ext cx="135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Times New Roman"/>
                </a:rPr>
                <a:t>Middle Ti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33720" y="4038480"/>
              <a:ext cx="5029200" cy="609840"/>
            </a:xfrm>
            <a:prstGeom prst="rect">
              <a:avLst/>
            </a:prstGeom>
            <a:solidFill>
              <a:srgbClr val="e5c8a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Data Access Servle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23880" y="4952880"/>
              <a:ext cx="3048120" cy="1295640"/>
            </a:xfrm>
            <a:prstGeom prst="rect">
              <a:avLst/>
            </a:prstGeom>
            <a:solidFill>
              <a:srgbClr val="fc012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Data Sour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52880" y="4952880"/>
              <a:ext cx="3048120" cy="1295640"/>
            </a:xfrm>
            <a:prstGeom prst="rect">
              <a:avLst/>
            </a:prstGeom>
            <a:solidFill>
              <a:srgbClr val="fc012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Applicati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91120" y="2438280"/>
              <a:ext cx="914400" cy="9144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00279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38280" y="4343400"/>
              <a:ext cx="914400" cy="9144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00279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19920" y="4343400"/>
              <a:ext cx="914400" cy="9144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00279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25680" y="4952880"/>
              <a:ext cx="98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79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 Annual 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EA7C-DC55-49C5-A7F1-98BE19D2F05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5 August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Organization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ffrey Fox, Academic L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 Leaders for I/C-related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vid Bernholdt, Syrac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ndie Kappes, NC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man Markowski, Syrac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Melchi, NC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ek Podgorny, Syrac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rek Moses, ARL on-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peration with Training sta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 Annual 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6772-350D-440F-96CA-81031BCF76E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5 August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IOE Portal Architectur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09480" y="1676520"/>
            <a:ext cx="7925040" cy="4647960"/>
            <a:chOff x="609480" y="1676520"/>
            <a:chExt cx="7925040" cy="4647960"/>
          </a:xfrm>
        </p:grpSpPr>
        <p:sp>
          <p:nvSpPr>
            <p:cNvPr id="144" name=""/>
            <p:cNvSpPr/>
            <p:nvPr/>
          </p:nvSpPr>
          <p:spPr>
            <a:xfrm>
              <a:off x="1905120" y="1676520"/>
              <a:ext cx="5029200" cy="838080"/>
            </a:xfrm>
            <a:prstGeom prst="rect">
              <a:avLst/>
            </a:prstGeom>
            <a:solidFill>
              <a:srgbClr val="abedb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3560" y="190512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</a:rPr>
                <a:t>Cli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" y="2971800"/>
              <a:ext cx="7848720" cy="1676520"/>
            </a:xfrm>
            <a:prstGeom prst="rect">
              <a:avLst/>
            </a:prstGeom>
            <a:solidFill>
              <a:srgbClr val="b5cdf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9480" y="2666880"/>
              <a:ext cx="135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</a:rPr>
                <a:t>Middle Ti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8080" y="5029200"/>
              <a:ext cx="5029200" cy="1295280"/>
            </a:xfrm>
            <a:prstGeom prst="rect">
              <a:avLst/>
            </a:prstGeom>
            <a:solidFill>
              <a:srgbClr val="fc012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95880" y="5029200"/>
              <a:ext cx="2438640" cy="1295280"/>
            </a:xfrm>
            <a:prstGeom prst="rect">
              <a:avLst/>
            </a:prstGeom>
            <a:solidFill>
              <a:srgbClr val="fc012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Applicati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279f"/>
                  </a:solidFill>
                  <a:latin typeface="Times New Roman"/>
                </a:rPr>
                <a:t>Report Generato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279f"/>
                  </a:solidFill>
                  <a:latin typeface="Times New Roman"/>
                </a:rPr>
                <a:t>Help Des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8080" y="5005440"/>
              <a:ext cx="108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Times New Roman"/>
                </a:rPr>
                <a:t>Oracle 8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97560" y="1676520"/>
              <a:ext cx="511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79f"/>
                  </a:solidFill>
                  <a:latin typeface="Times New Roman"/>
                </a:rPr>
                <a:t>Client User Interface: Web Browser, Application, Palm Pilot, et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33720" y="1981080"/>
              <a:ext cx="1600200" cy="304920"/>
            </a:xfrm>
            <a:prstGeom prst="roundRect">
              <a:avLst>
                <a:gd name="adj" fmla="val 37500"/>
              </a:avLst>
            </a:prstGeom>
            <a:solidFill>
              <a:srgbClr val="f7eee5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Times New Roman"/>
                </a:rPr>
                <a:t>XML pars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62120" y="3048120"/>
              <a:ext cx="3276360" cy="990360"/>
            </a:xfrm>
            <a:prstGeom prst="roundRect">
              <a:avLst>
                <a:gd name="adj" fmla="val 16667"/>
              </a:avLst>
            </a:prstGeom>
            <a:solidFill>
              <a:srgbClr val="f7eee5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38440" y="3048120"/>
              <a:ext cx="155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Times New Roman"/>
                </a:rPr>
                <a:t>XML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91120" y="3048120"/>
              <a:ext cx="1828800" cy="990360"/>
            </a:xfrm>
            <a:prstGeom prst="roundRect">
              <a:avLst>
                <a:gd name="adj" fmla="val 16667"/>
              </a:avLst>
            </a:prstGeom>
            <a:solidFill>
              <a:srgbClr val="f7eee5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8080" y="4114800"/>
              <a:ext cx="7620120" cy="457200"/>
            </a:xfrm>
            <a:prstGeom prst="roundRect">
              <a:avLst>
                <a:gd name="adj" fmla="val 16667"/>
              </a:avLst>
            </a:prstGeom>
            <a:solidFill>
              <a:srgbClr val="f7eee5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Times New Roman"/>
                </a:rPr>
                <a:t>Data Acces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72200" y="3048120"/>
              <a:ext cx="2286000" cy="990360"/>
            </a:xfrm>
            <a:prstGeom prst="roundRect">
              <a:avLst>
                <a:gd name="adj" fmla="val 16667"/>
              </a:avLst>
            </a:prstGeom>
            <a:solidFill>
              <a:srgbClr val="f7eee5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249240" y="3048120"/>
              <a:ext cx="16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Times New Roman"/>
                </a:rPr>
                <a:t>HTTP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91120" y="3048120"/>
              <a:ext cx="104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Times New Roman"/>
                </a:rPr>
                <a:t>Servle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48520" y="3429000"/>
              <a:ext cx="1295280" cy="533520"/>
            </a:xfrm>
            <a:prstGeom prst="roundRect">
              <a:avLst>
                <a:gd name="adj" fmla="val 37500"/>
              </a:avLst>
            </a:prstGeom>
            <a:solidFill>
              <a:srgbClr val="f7eee5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79f"/>
                  </a:solidFill>
                  <a:latin typeface="Times New Roman"/>
                </a:rPr>
                <a:t>XML par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79f"/>
                  </a:solidFill>
                  <a:latin typeface="Times New Roman"/>
                </a:rPr>
                <a:t>appl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38080" y="3581280"/>
              <a:ext cx="1600200" cy="381240"/>
            </a:xfrm>
            <a:prstGeom prst="roundRect">
              <a:avLst>
                <a:gd name="adj" fmla="val 37500"/>
              </a:avLst>
            </a:prstGeom>
            <a:solidFill>
              <a:srgbClr val="f7eee5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79f"/>
                  </a:solidFill>
                  <a:latin typeface="Times New Roman"/>
                </a:rPr>
                <a:t>Document Handl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14600" y="3124080"/>
              <a:ext cx="1371600" cy="838440"/>
            </a:xfrm>
            <a:prstGeom prst="roundRect">
              <a:avLst>
                <a:gd name="adj" fmla="val 37500"/>
              </a:avLst>
            </a:prstGeom>
            <a:solidFill>
              <a:srgbClr val="f7eee5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79f"/>
                  </a:solidFill>
                  <a:latin typeface="Times New Roman"/>
                </a:rPr>
                <a:t>XML Services: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79f"/>
                  </a:solidFill>
                  <a:latin typeface="Times New Roman"/>
                </a:rPr>
                <a:t>Parser, DO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79f"/>
                  </a:solidFill>
                  <a:latin typeface="Times New Roman"/>
                </a:rPr>
                <a:t>XSL,SAX,XQ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67080" y="3429000"/>
              <a:ext cx="1676520" cy="533520"/>
            </a:xfrm>
            <a:prstGeom prst="roundRect">
              <a:avLst>
                <a:gd name="adj" fmla="val 37500"/>
              </a:avLst>
            </a:prstGeom>
            <a:solidFill>
              <a:srgbClr val="f7eee5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79f"/>
                  </a:solidFill>
                  <a:latin typeface="Times New Roman"/>
                </a:rPr>
                <a:t>XSQL Servl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79f"/>
                  </a:solidFill>
                  <a:latin typeface="Times New Roman"/>
                </a:rPr>
                <a:t>SQL Utiliti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66680" y="4191120"/>
              <a:ext cx="2590920" cy="304560"/>
            </a:xfrm>
            <a:prstGeom prst="roundRect">
              <a:avLst>
                <a:gd name="adj" fmla="val 37500"/>
              </a:avLst>
            </a:prstGeom>
            <a:solidFill>
              <a:srgbClr val="f7eee5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79f"/>
                  </a:solidFill>
                  <a:latin typeface="Times New Roman"/>
                </a:rPr>
                <a:t>Metadata manag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62720" y="4191120"/>
              <a:ext cx="2590560" cy="304560"/>
            </a:xfrm>
            <a:prstGeom prst="roundRect">
              <a:avLst>
                <a:gd name="adj" fmla="val 37500"/>
              </a:avLst>
            </a:prstGeom>
            <a:solidFill>
              <a:srgbClr val="f7eee5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79f"/>
                  </a:solidFill>
                  <a:latin typeface="Times New Roman"/>
                </a:rPr>
                <a:t>Application Manag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91120" y="5715000"/>
              <a:ext cx="1600200" cy="533520"/>
            </a:xfrm>
            <a:prstGeom prst="roundRect">
              <a:avLst>
                <a:gd name="adj" fmla="val 37500"/>
              </a:avLst>
            </a:prstGeom>
            <a:solidFill>
              <a:srgbClr val="f7eee5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79f"/>
                  </a:solidFill>
                  <a:latin typeface="Times New Roman"/>
                </a:rPr>
                <a:t>User profi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79f"/>
                  </a:solidFill>
                  <a:latin typeface="Times New Roman"/>
                </a:rPr>
                <a:t>Public Key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38280" y="5105520"/>
              <a:ext cx="1676520" cy="1143000"/>
            </a:xfrm>
            <a:prstGeom prst="roundRect">
              <a:avLst>
                <a:gd name="adj" fmla="val 37500"/>
              </a:avLst>
            </a:prstGeom>
            <a:solidFill>
              <a:srgbClr val="f7eee5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79f"/>
                  </a:solidFill>
                  <a:latin typeface="Times New Roman"/>
                </a:rPr>
                <a:t>Data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79f"/>
                  </a:solidFill>
                  <a:latin typeface="Times New Roman"/>
                </a:rPr>
                <a:t>Document Rep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79f"/>
                  </a:solidFill>
                  <a:latin typeface="Times New Roman"/>
                </a:rPr>
                <a:t>Project Repositor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79f"/>
                  </a:solidFill>
                  <a:latin typeface="Times New Roman"/>
                </a:rPr>
                <a:t>Training Rep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14400" y="5943600"/>
              <a:ext cx="1447920" cy="304920"/>
            </a:xfrm>
            <a:prstGeom prst="roundRect">
              <a:avLst>
                <a:gd name="adj" fmla="val 37500"/>
              </a:avLst>
            </a:prstGeom>
            <a:solidFill>
              <a:srgbClr val="f7eee5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79f"/>
                  </a:solidFill>
                  <a:latin typeface="Times New Roman"/>
                </a:rPr>
                <a:t>JV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14400" y="5334120"/>
              <a:ext cx="1447920" cy="533160"/>
            </a:xfrm>
            <a:prstGeom prst="roundRect">
              <a:avLst>
                <a:gd name="adj" fmla="val 37500"/>
              </a:avLst>
            </a:prstGeom>
            <a:solidFill>
              <a:srgbClr val="f7eee5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79f"/>
                  </a:solidFill>
                  <a:latin typeface="Times New Roman"/>
                </a:rPr>
                <a:t>Stored Java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79f"/>
                  </a:solidFill>
                  <a:latin typeface="Times New Roman"/>
                </a:rPr>
                <a:t>PL/SQL proc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67080" y="5410080"/>
              <a:ext cx="1447920" cy="228600"/>
            </a:xfrm>
            <a:prstGeom prst="roundRect">
              <a:avLst>
                <a:gd name="adj" fmla="val 37500"/>
              </a:avLst>
            </a:prstGeom>
            <a:solidFill>
              <a:srgbClr val="f7eee5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79f"/>
                  </a:solidFill>
                  <a:latin typeface="Times New Roman"/>
                </a:rPr>
                <a:t>State Upda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67080" y="5105520"/>
              <a:ext cx="1447920" cy="228600"/>
            </a:xfrm>
            <a:prstGeom prst="roundRect">
              <a:avLst>
                <a:gd name="adj" fmla="val 37500"/>
              </a:avLst>
            </a:prstGeom>
            <a:solidFill>
              <a:srgbClr val="f7eee5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79f"/>
                  </a:solidFill>
                  <a:latin typeface="Times New Roman"/>
                </a:rPr>
                <a:t>XSL Templat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00400" y="4495680"/>
              <a:ext cx="1371600" cy="6858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afd00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Times New Roman"/>
                </a:rPr>
                <a:t>JDB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95880" y="4495680"/>
              <a:ext cx="1371600" cy="6858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afd00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67280" y="2209680"/>
              <a:ext cx="1371600" cy="9144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afd00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79f"/>
                  </a:solidFill>
                  <a:latin typeface="Times New Roman"/>
                </a:rPr>
                <a:t>HT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79f"/>
                  </a:solidFill>
                  <a:latin typeface="Times New Roman"/>
                </a:rPr>
                <a:t>HTM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90920" y="2286000"/>
              <a:ext cx="1371600" cy="9144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afd00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79f"/>
                  </a:solidFill>
                  <a:latin typeface="Times New Roman"/>
                </a:rPr>
                <a:t>XM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279f"/>
                  </a:solidFill>
                  <a:latin typeface="Times New Roman"/>
                </a:rPr>
                <a:t>reques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279f"/>
                  </a:solidFill>
                  <a:latin typeface="Times New Roman"/>
                </a:rPr>
                <a:t>respons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91520" y="3429000"/>
              <a:ext cx="990360" cy="533520"/>
            </a:xfrm>
            <a:prstGeom prst="roundRect">
              <a:avLst>
                <a:gd name="adj" fmla="val 37500"/>
              </a:avLst>
            </a:prstGeom>
            <a:solidFill>
              <a:srgbClr val="f7eee5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79f"/>
                  </a:solidFill>
                  <a:latin typeface="Times New Roman"/>
                </a:rPr>
                <a:t>PORT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79f"/>
                  </a:solidFill>
                  <a:latin typeface="Times New Roman"/>
                </a:rPr>
                <a:t>eng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 Annual 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1092-6783-40D0-A20C-89C0D9EAE40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5 August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IOE Progress to Date: 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Procurement and Installation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ion &amp; testing HP servers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NC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ache Stronghold secure web server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NC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ache Server 1.3.6 with servlet support (Jserv 1.0)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S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8i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NCSA, S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Enterprise Manager 2.0 for Solaris and NT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S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Application Server 4.0 for Solaris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S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DB 2.0.5,  interMedia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S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 Annual 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6AC4-14DE-45A7-A80E-B7F106502B1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5 August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IOE Progress to Date: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esting, Evaluation &amp; Prototyping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otype of User Interface System (Portal model)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ttp://aim.ncsa.uiuc.edu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(NC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ity Infrastructure: Kerberos API for authentication, PKI for encryption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NC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ent-Middle tier Interactions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NCSA, S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56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SQL Servlet (DB table converted to XML and displayed by I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56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 SQL Utility (client and server side conversion of DB table into XML file and vice vers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56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 Parser for Java with DOM, SAX and XSL inte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dle tier-Database Interactions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S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56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n JDBC and OCI8 drivers for access to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56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ading formatted documents (Word, PPT, PDF) into database table with BLOB colum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 Annual 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9EE1-8673-4523-9F4C-3EF73EEA3DE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5 August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-2289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Future Activities (1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18116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ngo Interactive 2.0 will be deployed for collaboration and 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L-supported Tango development will focus on security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2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 is presently quite functional, but offers little protection against eavesdropping -- can be a sociological or actual barrier to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2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atures to be added include firewall support, encryption of client-server traffic (SSL), user authent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Tango application area: briefings and meetings. Require extension of teacher-student to richer role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need to start test deployment of TangoInteractive to scientific collabor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2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ed capabilities such as shared visualization (several prototyp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224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Volunteers welcom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 Annual 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84BC-0CB1-4251-B9BD-D7774B1CF34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5 August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Future Activities (2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409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ll’99 course Tangocast offered to all ARL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56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PS640: Topics in Networking and Multimedia Appl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56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SU plans to participate, among oth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Tangocast delivery of trainings to allow broader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56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chnical capability ready &amp; waiting at ARL, ASC, CEWES, NAVO, NRL-DC, ACCESS, Kirtland AFB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56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ed willing instru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56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SC instructors now offer Tangocast option as a matter of rout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ggest a PET/MSRC seminar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56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lp PET staff become comfortable w/ TI by giving a seminar in their own field from their home instit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56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vides users opportunity to see seminar in their field w/o tra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56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Tango to reach larger audience -- other MSRCs interes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 Annual 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CE59-49A2-4B6F-95F9-F4BE96860B4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5 August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Future Activiti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are ARL mobile training cluster for use w/ 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use of LecCorder to capture trainings for future synchronous or asynchronous play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T IOE will continue as joint Syracuse/NCSA project with support and guidance from both ARL and AS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ct barely begun in Yr3.  Procurement, installation, evaluation will become evaluation, prototyping, and implem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ificant use of XML, database back-ends -- these technologies will be important for web-based communications in DoD and elsew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 Annual 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264C-EBED-4565-8E3E-1330BE6F3C5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5 August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Future Activities (4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sion of Gateway or related metacomputing activities to A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L host Gateway project meeting (May’9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ussions of IMT needs (somewhere between Gateway and traditional I/C), but IMT users not yet re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L sponsoring Metacomputing Workshop at U. Virginia later this mon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 Annual 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5907-080B-4D18-A894-24EB920A40E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5 August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itate PET and Modernization Program activities through ideas, tools, and technologies derived from the rapidly advancing Internet/web/distributed computing are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as of application include internal PET communication as well as interaction with users, technological aspects of Training, as well as I/C issues relating to software environ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llaborative technologies import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hasize commodity and standards-based solu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 Annual 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1F02-5A06-4CFF-A333-A8B6AE6E1F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5 August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Primary Activiti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d  Support for and Enhancement of Tango Intera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ynchronous Web-Based 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Collaboration &amp; Training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Web Site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T Intranet Operating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 Annual 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6571-FE06-4654-9954-011A7C5A8A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5 August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ANGO 2 Core Enhancements I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638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afd00"/>
                </a:solidFill>
                <a:latin typeface="Arial"/>
              </a:rPr>
              <a:t>Tango 1 highly functional, but needed major renovations for better generality, flex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and new Graphical User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2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s new cyberspace navigation paradig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2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forms to  prevailing, intuitive  “look and feel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2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roves ergonomy and saves screen 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2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ever more Java code, so longer to down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hentication and secur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2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er-based user authentication, secret key based, strength better than UNIX but still not in Kerberos leag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2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rt for a variety of repositories: local encrypted files (RDBMS, HTTP-based files written, not integrated -- release 2.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2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censing (eliminates rogue servers , server spoof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 Annual 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41CD-333C-4A63-AFB4-07483B4829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5 August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ANGO 2 Core Enhancements II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s-compliant personal identity mod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pendent of storage, PIM metadata comply with IMS standa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critical for future interoper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 data include “role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pretation of “role” attribute is left to the system. Enables privilege and contents access 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ted e-mail and support for data persisten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al mail system got a gateway to “sendmail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 internal messages may be copied to external mail accou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unities” supported by listserv interface (integrated in 2.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 modules can use e-mail to store application data (integrated in 2.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 Annual 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7FAB-0B43-4A9B-B785-59D5981947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5 August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oncept of “role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user in a community is assigned a r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ole is completely arbitr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fessor, student, uncle Matt, top_secret_clearance, cha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les can only be used with secure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ssion Manager can be configured to alter some behaviors based on the r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defined se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le-specific application 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le-specific application startup UR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le-specific operational privile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 Annual 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241B-E62F-4F90-A4C9-EB5D15FC51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5 August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ANGO 2 Core Enhancements III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wareness” pack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ynamic directory service implemented to track users and commun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luntary” participation, multilevel status definition, privacy prote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ynamic collaboratory server selection and mig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d on server status tracking via directory 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C-only at present (unix support for agents lack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ssion recording capabil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gration with the LecCorder pack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hanced session management and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 permissions can be set per application session in addition to global sett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le- based privile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 Annual 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578D-E51C-45B6-AD06-1D70C69450B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5 August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ANGO 2 Core Enhancements IV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ace configuration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-defined, fixed, auto-started  application session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exible (system administrator configurable) multi-frame lay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upport for placing selected application modules in one multi-frame window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proved interface ergonomy; implementation of  domain specific  interfa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xample: distance education interface with session manager, feedback applet, chat pre-arranged in a single window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dden-frames support (provides a place for applets/scripts to run without having to present a user interface, or extraneous window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olute placement of floating application windows with a customizable window manag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anding” sup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 Annual 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AA87-C856-404F-901E-D330BC5F6AD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5 August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7T20:51:10Z</dcterms:created>
  <dc:creator>David E Bernholdt</dc:creator>
  <dc:description/>
  <dc:language>en-US</dc:language>
  <cp:lastModifiedBy>David E Bernholdt</cp:lastModifiedBy>
  <cp:lastPrinted>1996-06-19T17:53:30Z</cp:lastPrinted>
  <dcterms:modified xsi:type="dcterms:W3CDTF">1999-08-02T17:49:13Z</dcterms:modified>
  <cp:revision>174</cp:revision>
  <dc:subject/>
  <dc:title>Information and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npac.syr.edu</vt:lpwstr>
  </property>
  <property fmtid="{D5CDD505-2E9C-101B-9397-08002B2CF9AE}" pid="9" name="LinkColor">
    <vt:r8>16711782</vt:r8>
  </property>
  <property fmtid="{D5CDD505-2E9C-101B-9397-08002B2CF9AE}" pid="10" name="MailAddress">
    <vt:lpwstr>gcf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