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ACBA-1761-4CE5-8EEB-0CD3DEC0B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7D1C-B282-41ED-9A21-905D1D991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260A-F976-4C7E-BACD-95D43FE33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4F7E-E064-483A-A8FF-FF77CBAC3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E86E-78CD-4910-99C4-E5A0D84BB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A98A-5F01-4E83-8F04-64CD982A5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8A0B-9CF2-4107-930F-59ADF515F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D13F-4BB9-4F41-B699-21828F0B2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9CA4-4D87-46D2-9BF4-5C42B5A49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C93E-A9B5-4944-802C-9C02FCA19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E8F9-9B11-4A7D-B495-48A406D4F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46D2-13C3-4E5C-9E42-3EE41018B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CDD-3E98-499F-BE6B-F363C0B18353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view of Year 3 Projec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posted to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ET Program-Wide Training Group Meetings (at User Group Conferenc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enhancements &amp; releases to support training and educ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1, May’98 (“all browser” support not releas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, Oct’98 (robustnes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valuation of multimedia databases for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296F-4A6E-47B8-A682-B461326039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x leads graduate education program for NSF PACI (combined NCSA/NPACI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rough PACI also see how tools for K-12 and other educational areas can by synergistic with DoD nee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.g. use of TangoInteractive in Middle/High school Java Academ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Fox one of lead authors of pedagogical book on parallel computing planned by CRP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6303-A745-4C29-9BF4-BBF9D0196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ip Repor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from more than 30 events this yea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st related to collab/training and/or other technical are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Very few events PET-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ttp://www.npac.syr.edu/users/bernhold/trip-reports/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8" name="trip-report-web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64B6-836A-4D82-84DC-53F255EB71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On-going Enhancement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in focus on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ystem robustness and maintain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ments for collaborative and educational functions (new and improved application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ull support for W3C document object model sha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kage of synchronous and asynchronous mod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achieved by improving shared browser support as “asynchronous”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kage to asynchronous document repositor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s and form based server interfa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ystem programmability (API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cumentation and training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058D-7BE8-486A-9B40-4744B04FDD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ystem Rele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1.01 released in May 98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ed servers for both UNIX and Windows NT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utomated, industrial grade installation proced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ustrial grade stability and robustnes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ing for the complete application sui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deployed at CEWES and ARL and at several HBC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d by several universities in US and abroad (~ 1000 download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615D-CB0C-4AFA-BD76-65A8C116E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1.1 Releas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dically improved syst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vailable internally in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blic release expected in February 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s newest Java and browser technolog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orporates all “lessons learned” from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1.0 deployment and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paradigm for “collaboration space” navigation, session handling, and floor contr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ierarchical view of the “interaction space”, “Metaverse traversing” suppor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9C98-A879-4F8B-AB59-F71D188C2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ewca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153040" cy="3019320"/>
          </a:xfrm>
          <a:prstGeom prst="rect">
            <a:avLst/>
          </a:prstGeom>
          <a:ln w="0">
            <a:noFill/>
          </a:ln>
        </p:spPr>
      </p:pic>
      <p:pic>
        <p:nvPicPr>
          <p:cNvPr id="76" name="newca3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438280" cy="3743280"/>
          </a:xfrm>
          <a:prstGeom prst="rect">
            <a:avLst/>
          </a:prstGeom>
          <a:ln w="0">
            <a:noFill/>
          </a:ln>
        </p:spPr>
      </p:pic>
      <p:pic>
        <p:nvPicPr>
          <p:cNvPr id="77" name="newca4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48616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3962520"/>
            <a:ext cx="2286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1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phical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(based on Java Swing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D363-EB67-48B0-AD77-6594F0E42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enaVista 3.0 (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videoconferencing agent) completely rewritten for PC and SGI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 multithreaded implementation, extensively tested for st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mproved audio and video qua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 for multiple audio and video card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-implemented robust session control protoc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esigned user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ailed documentation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ux implementation ongo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V has been critical for remote class and training delive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ersion 3.0 will be released with T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1.1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5B92-5FEE-4B4E-AE76-6F0EDC2D3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4D15-A117-4C27-B288-77B9DB28C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760" y="3200040"/>
            <a:ext cx="464796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Pointer added to Internet Assistant PowerPoint on the web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ustrates sharing of W3C Object Mode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066680" y="3429000"/>
            <a:ext cx="3276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1295280"/>
            <a:ext cx="4648320" cy="8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HTML “Heartbeat” recording shared events in last 6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514600" y="1371240"/>
            <a:ext cx="175248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9F01-AF0A-4943-A763-C72E0B37FC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(C/C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77800"/>
            <a:ext cx="7848720" cy="6280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867280"/>
            <a:ext cx="77724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hared Form Illustrated by Shared Access to NCSA Biology Workbench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2960" y="3886200"/>
            <a:ext cx="270900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Multipl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T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Che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733920"/>
            <a:ext cx="144756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7432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809880"/>
            <a:ext cx="2590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50532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F4EE-D08E-4245-B55F-70B84C0558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yered whiteboar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in several applications, advanced authoring mode, import/export/save support, telecursor, scriptable external interface, advanced image compression, …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 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, supports frames and embedded MM obj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hat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anced avatar 2.5D chat for “telepresence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professional text chat with many advanced features, including clipboard, session save/mail, and latecomers support, fully customiz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B085-031F-4C96-BCD4-F07F0FCC1B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, continued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Telnet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s Year 2 remote consulting tools sui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ployed during remote training sess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 “instructor feedback”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inuous audience feedback pooling and visualiz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ructor alert t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streaming media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ava H263/GSM video viewer with database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alVideo player (use and distribution agreed with supported by Progressive Network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45A1-54A8-4101-8AE9-24F2BFACF4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obustness and St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in-house and field tes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g submission and fix tracing procedur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-depth study of underlying (undocumented) browser technolog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ozens of bugs uncovered and fix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s to protocols and architectural modifications in multithreaded design of server and cli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obust installation procedures imple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A81A-397B-498E-B9ED-F1F7A0546E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Universal Browser Suppor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W stipulates support for Internet Explor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ermined to be very expensive and time consuming and not easy to maintain concurrently with Netscape version, so we found another approac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lternative approach studied, designed, and prototyped (full implementation proposed for Year 4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lution also helps with some problems of browsers relative to Tang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rowsers critical but nonstandard Java and bugs implies extremely unfriendly for develop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formance problems under UNI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velopment and maintenance of  two different technologies very expensiv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830A-0A11-440E-9907-67FA5CC8C6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 enable 3rd-party application development, a set of new APIs was designed and docu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ttp://www.npac.syr.edu/tango/Developers_pages/developers_pages.html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runtime functionality encapsulated in a system proxy ag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xy methods callable from any langu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ean enables visual programming of collaborative applications (no extra coding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Is support embedding of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ctive shared object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Web pages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B1EE-E77E-470F-9188-D9A9310822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owards Virtual Civiliz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rsonal Identity Module for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 backend (relational or LDAP) to hold user identities and information, interfaced to collaboratory server (70% comple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s authentication, security, assessm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cessary for sync/async integr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/Mail/Listserv interface implemented, being integrated (critical synchronous/Asynchronous capability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CSA Lotus Notes Intranet has major difficulty that discussion lists not linked to “ordinary” emai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cal storage and file distribution interface implemented, being integrat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1692-19B7-451A-9CCD-1CAA9CE5F7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ustomiz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client  supports configurable, domain-specific interfa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lection of collaborative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defined, automatically started sess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dden agents (faceless applic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lti-frame integrated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aspects under external control of system administrator/end 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23F2-683D-4A65-930B-F7D9FCCE62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rtual Space Navig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run-time server hop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communities/interest grou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ierarchical visualization of the “collaboration space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rver/community/session/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re granular, “per-session” floor contro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ession control paradig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ehensive, multi-level access to user inform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DE5D-AEA0-48DB-9CA9-74A3D69E4F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ared Access to Datab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hared browser supports shared access to pages of arbitrary complexity, including CSS-based cont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ing of XML-compliant documents is fully 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access to relational courseware repositories is implemented via server-side extensions implementing XML-style tags (WebWisdom NT 2.1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F83B-8F59-44C7-8B03-2CDA3FCEB7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uk Bec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Konrad Olsze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iotr Sokol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2CC1-F8A9-4DAB-8193-FE159496D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Deployment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duca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ckso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rga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ark Atlanta, Houston, MSU 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training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EWES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RL/HEAT center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 (client and collaboratory server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, NAVO, NRL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EE3E-EBAC-4931-861B-5CF9AF3028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ributed substantially to tracking of technology and progress in broad area (not limited to C/C &amp; Training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bstantial enhancement of Tango to meet requirements of PET education, training and collaboration activities. 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ols are now in a position where routine use by broad spectrum of users is appropriate; deployment/acceptance is next issu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8903-7F12-458F-B121-BDE3BD3332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zgur Balsoy, Saleh Elmohamed, Geoffrey Fox, Meryem Ispirli, Jin Jianxiang, Norka Lucena, Tom Major, Roman Markowski, Nancy McCracken, Marek Podgorny, Tom Scavo, Mehmet Sen, Tom Stachowiak, Remek Trzask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E6AF-5294-42F2-8A8C-FCC1A4DAE1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ctivities/Deliverab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ught distance course at Jackson St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499 “Programming for the Web” in Spring 98 (started during Year 2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539 “Computational Science for Simulation Applications” in Fall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PS616 “Web Software Technologies” Spr’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ffered for free to all PET partners (not actually a deliverable of any PET project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6F4D-37C7-45D6-81A4-75BA5FCCC4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4 trips to JSU by NPAC instructors, 1 for Tang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pring 98 class: 8 students,  Fall 98 class: 7 students, Spring 99 class: 21 students (3 school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sentation at SC98:  </a:t>
            </a:r>
            <a:r>
              <a:rPr b="0" i="1" lang="en-US" sz="2800" spc="-1" strike="noStrike">
                <a:solidFill>
                  <a:srgbClr val="ff9933"/>
                </a:solidFill>
                <a:latin typeface="Times New Roman"/>
              </a:rPr>
              <a:t>Synchronous Learning at a Distance:  Experiences with Tango Interactiv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alled Student (grading, homework, registration) Database System (web-linked Oracle database written at NPAC) at JSU for use with other dist. edu. course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tensive &amp; regular use of DREN &amp; interactions with DREN staff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9BF6-289D-44D8-AD71-5CD27A1B76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33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search” universities deliver courses over the network to “teaching focused” universit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rovide students and faculty with access to leading-edge cours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jump start” local courses based on material originally delivered remote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TangoInteractive/ WebWisdom for synchronous delivery of lectures from SU to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ilot for distance training of DoD us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8" name="jsu-students2" descr=""/>
          <p:cNvPicPr/>
          <p:nvPr/>
        </p:nvPicPr>
        <p:blipFill>
          <a:blip r:embed="rId1"/>
          <a:srcRect l="0" t="0" r="27827" b="0"/>
          <a:stretch/>
        </p:blipFill>
        <p:spPr>
          <a:xfrm>
            <a:off x="6553080" y="403848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129" name="njm-trs-teaching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6248520" y="2209680"/>
            <a:ext cx="2514600" cy="15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9E7E-E8C4-441E-8AB4-EE13944843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rchitecture of JSU Distance Educ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16765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523880"/>
            <a:ext cx="1363680" cy="74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2767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 Tang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_OEQ127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135" name="B_OEQ127" descr=""/>
          <p:cNvPicPr/>
          <p:nvPr/>
        </p:nvPicPr>
        <p:blipFill>
          <a:blip r:embed="rId2"/>
          <a:stretch/>
        </p:blipFill>
        <p:spPr>
          <a:xfrm>
            <a:off x="28728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36" name="B_OEQ127" descr=""/>
          <p:cNvPicPr/>
          <p:nvPr/>
        </p:nvPicPr>
        <p:blipFill>
          <a:blip r:embed="rId3"/>
          <a:stretch/>
        </p:blipFill>
        <p:spPr>
          <a:xfrm>
            <a:off x="162396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37" name="B_OEQ127" descr=""/>
          <p:cNvPicPr/>
          <p:nvPr/>
        </p:nvPicPr>
        <p:blipFill>
          <a:blip r:embed="rId4"/>
          <a:stretch/>
        </p:blipFill>
        <p:spPr>
          <a:xfrm>
            <a:off x="9525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63880" y="454248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_OEQ127" descr=""/>
          <p:cNvPicPr/>
          <p:nvPr/>
        </p:nvPicPr>
        <p:blipFill>
          <a:blip r:embed="rId5"/>
          <a:stretch/>
        </p:blipFill>
        <p:spPr>
          <a:xfrm>
            <a:off x="37623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238880" y="2438280"/>
            <a:ext cx="1800" cy="2119320"/>
          </a:xfrm>
          <a:prstGeom prst="line">
            <a:avLst/>
          </a:prstGeom>
          <a:ln w="5724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94920" y="4038480"/>
            <a:ext cx="685800" cy="68580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5440" y="1522800"/>
            <a:ext cx="21268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are URL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dio 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t 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ite Board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93920" y="3035160"/>
            <a:ext cx="3754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480" y="3962160"/>
            <a:ext cx="1067040" cy="639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3160" y="2362320"/>
            <a:ext cx="1135080" cy="2344680"/>
          </a:xfrm>
          <a:prstGeom prst="line">
            <a:avLst/>
          </a:prstGeom>
          <a:ln w="3816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7240" y="3259800"/>
            <a:ext cx="214524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64160" y="2942280"/>
            <a:ext cx="21481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7640" y="2513520"/>
            <a:ext cx="21085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080" y="5561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51960" y="55249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58020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276720" y="4038120"/>
            <a:ext cx="76176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40600" y="469764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27920" y="5027760"/>
            <a:ext cx="682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446360" y="5073120"/>
            <a:ext cx="493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6DC4-1A06-4234-BB68-12C3591499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JSU CSC 499: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for the Web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1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in Spring 98 (started during Yr2). Repeat of Fall 97 class, popular at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SU faculty attended to “learn”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Web architecture, CGI programming and Jav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ditional refinements of architecture with proxy web  server to avoid copying of materia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8" name="jsu-students1" descr=""/>
          <p:cNvPicPr/>
          <p:nvPr/>
        </p:nvPicPr>
        <p:blipFill>
          <a:blip r:embed="rId1"/>
          <a:srcRect l="0" t="16941" r="0" b="0"/>
          <a:stretch/>
        </p:blipFill>
        <p:spPr>
          <a:xfrm>
            <a:off x="1905120" y="2057400"/>
            <a:ext cx="2097000" cy="2676600"/>
          </a:xfrm>
          <a:prstGeom prst="rect">
            <a:avLst/>
          </a:prstGeom>
          <a:ln w="0">
            <a:noFill/>
          </a:ln>
        </p:spPr>
      </p:pic>
      <p:pic>
        <p:nvPicPr>
          <p:cNvPr id="159" name="jsu-students3" descr=""/>
          <p:cNvPicPr/>
          <p:nvPr/>
        </p:nvPicPr>
        <p:blipFill>
          <a:blip r:embed="rId2"/>
          <a:srcRect l="0" t="14544" r="0" b="0"/>
          <a:stretch/>
        </p:blipFill>
        <p:spPr>
          <a:xfrm>
            <a:off x="457200" y="4343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605E-0B59-469C-AA03-10E044053C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JSU CSC 539:  Computational Science for Simulation Applications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434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parallel computing architecture, scientific applications and algorithms, parallel programming in C/MPI.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Material on CD-ROM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an on-line “Virtual Programming Lab” to compute with NPAC parallel computing resourc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eaching graduate students led to additional kinds of feedback for Tango and style of distance teaching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2" name="jsufall98" descr=""/>
          <p:cNvPicPr/>
          <p:nvPr/>
        </p:nvPicPr>
        <p:blipFill>
          <a:blip r:embed="rId1"/>
          <a:stretch/>
        </p:blipFill>
        <p:spPr>
          <a:xfrm>
            <a:off x="76320" y="1979640"/>
            <a:ext cx="4343400" cy="409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44D8-F4C3-482D-9A1C-762D1B3DB7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routinely posted on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Tango enhancements &amp; releas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 (increased robustness) Oct’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1 (extensive rewrites, added functionality based on experience and user feedback) internal now, public by end of Februa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base/asynch collab linkage availab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4862-6DFE-4617-BACB-6D64F8E70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port presented at SC98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paper “Synchronous Learning at a Distance:  Experiences with Tango Interactive” was presented at the education sessions of SC98 in November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5" name="sc98-cover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85632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sc98-tango-paper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97692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6D52-FDAF-4983-A892-836D423B91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ditional Course in Spring 99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 have just begun teaching a distance education course based on the Syracuse course CPS616 Web Software Technologi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Given at JSU to 9 students for credit.   Also attended by 10 students at Mississippi State and 2 students from Clark Atlanta University for certifica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course will include multi-tier web architecture, web-linked databases, user interfaces with JavaScript and DHTML, distributed objects with RMI and CORBA, XML, and security issu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9" name="jsufpring99" descr=""/>
          <p:cNvPicPr/>
          <p:nvPr/>
        </p:nvPicPr>
        <p:blipFill>
          <a:blip r:embed="rId1"/>
          <a:stretch/>
        </p:blipFill>
        <p:spPr>
          <a:xfrm>
            <a:off x="0" y="1940040"/>
            <a:ext cx="4191120" cy="40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9D05-D956-45C4-8E4F-3BD435D68B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w in fourth semester of course delivery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edu. opportunities for stud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ives local faculty a head start developing new courses (i.e. JSU now teaching “Programming for the Web” via Tango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stance education tools &amp; techniques being adopted by JSU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E9D3-5B52-4A3B-9347-595009EC9A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approach to dist. edu. is now in some sense “routine”, but active support still valuable (in addition to education aspe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derstanding of human factors in dist. edu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rives requirements for Tango capabilities &amp; robustness also relevant to training &amp; collab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sting ground for new Tango releas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kes extensive use of DR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EC1F-3EA1-47B0-8D67-3879600549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operation of web-linked database apps, assistance with transfer to CEW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arch Engines, WSMS working at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isting with WSMS installation now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 has account after 11 month wait for N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raining at CEWES (Nov’98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umerous Tango trainings elsewhere open to DoD research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657A-6E83-405C-BD1E-B0CEB356C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utorial on installation and operation at JSU, assistance with CEWES Tango installation (7 person-day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inued user support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going involvement in national activities (such as DoD users meeting and NPACI/NSCA PACI Leading Edge Sites and Partners) leads to continuing better understanding of collaborative technologies and how to meet PET nee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1595-7E68-47E2-895D-226A5D50A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Technical Progres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ented together with closely related Training Core technical progre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7A4E-1382-4530-9AEE-9767749BF0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in Jianxia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rka Lucen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oman Mark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Stachowia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476B-4CD3-4246-A41C-6821940525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9-01-30T16:45:36Z</cp:lastPrinted>
  <dcterms:modified xsi:type="dcterms:W3CDTF">1999-02-09T14:09:33Z</dcterms:modified>
  <cp:revision>79</cp:revision>
  <dc:subject/>
  <dc:title>No Slide Title</dc:title>
</cp:coreProperties>
</file>