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894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4920" y="0"/>
            <a:ext cx="29890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move the slide</a:t>
            </a:r>
            <a:endParaRPr b="1" lang="en-US" sz="4400" spc="-1" strike="noStrike">
              <a:solidFill>
                <a:srgbClr val="808000"/>
              </a:solidFill>
              <a:latin typeface="Arial"/>
            </a:endParaRPr>
          </a:p>
        </p:txBody>
      </p:sp>
      <p:sp>
        <p:nvSpPr>
          <p:cNvPr id="49" name="PlaceHolder 4"/>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854920"/>
            <a:ext cx="298944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4920" y="8854920"/>
            <a:ext cx="29890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B362-FC53-4970-9432-69DCA56BE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17440" y="698400"/>
            <a:ext cx="4662720" cy="3497400"/>
          </a:xfrm>
          <a:prstGeom prst="rect">
            <a:avLst/>
          </a:prstGeom>
          <a:ln w="0">
            <a:noFill/>
          </a:ln>
        </p:spPr>
      </p:sp>
      <p:sp>
        <p:nvSpPr>
          <p:cNvPr id="72"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R. Markowski, M. Podgorny, N. J. McCracken, D. E. Bernholdt,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 </a:t>
            </a:r>
            <a:r>
              <a:rPr b="0" lang="en-US" sz="1200" spc="-1" strike="noStrike">
                <a:solidFill>
                  <a:srgbClr val="000000"/>
                </a:solidFill>
                <a:latin typeface="Times New Roman"/>
              </a:rPr>
              <a:t>The Tango Interactive network-based collaboration tool is used to deliver audio, video, and lecture slides to remote classrooms around the country.  Lecture material is typically prepared as a PowerPoint presentation or as a collection of HTML pages, perhaps containing Java applets to demonstrate concepts.  During CPS640, Fall 1999, lectures were also recorded using Syracuse’s LecCorder tool and made available for asynchronous playback by those unable to participate in the live (synchronous) session. In the Spring 2000 class, we are experimenting with supporting “mobile” instructors, lecturing from multiple site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arkowski, M. Podgorny, D. E. Bernholdt, N. J. McCracken, and G. C. Fox, “Is Interactive Synchronous Network-Based Distance Learning a Matter of Routine?” ERDC PET Preprint (in prepa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1DA77-7A84-4FAD-98FB-5DC2EB5DE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13DC2-C2C4-4D10-89B1-44F94D5E0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35CBFA-592C-42FF-B559-2B04072515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5BF258-68A3-4701-ADCF-4EE63B965C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8337E-FC8B-428A-9E87-A075AF8C6E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BA45-D7BD-4B70-9CA2-13A4D22F0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F0C25-BF05-4A0F-9E1F-4A25FDEB0E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 name="PlaceHolder 2"/>
          <p:cNvSpPr>
            <a:spLocks noGrp="1"/>
          </p:cNvSpPr>
          <p:nvPr>
            <p:ph type="sldNum" idx="1"/>
          </p:nvPr>
        </p:nvSpPr>
        <p:spPr/>
        <p:txBody>
          <a:bodyPr/>
          <a:p>
            <a:fld id="{B2B2485C-CF10-4A56-A3FB-003D2E653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0BD4D89-DFC3-4EE1-A9E5-B12D4E001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7785C-9821-4664-9785-8B4A5F8F6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8586C-051B-4B63-9D65-7B8AF69A43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E362B-AFCB-4BB7-B587-5D0E3A1802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edit the title text format</a:t>
            </a:r>
            <a:endParaRPr b="1" lang="en-US" sz="4400" spc="-1" strike="noStrike">
              <a:solidFill>
                <a:srgbClr val="808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6825-36FF-4CBA-BE20-BEF0DFEA2AF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raining Technologies</a:t>
            </a:r>
            <a:endParaRPr b="1" lang="en-US" sz="4400" spc="-1" strike="noStrike">
              <a:solidFill>
                <a:srgbClr val="808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ffrey C Fox</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east Parallel Architectures Center at Syracuse Univers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D459-439B-48EF-B72F-D0D15D2677F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raining Core Support</a:t>
            </a:r>
            <a:endParaRPr b="1" lang="en-US" sz="4400" spc="-1" strike="noStrike">
              <a:solidFill>
                <a:srgbClr val="808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Track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nd training technologi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in PET Program-Wide Training 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ms to be dorma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each and Trai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tools for distance education and training (primarily Tango Interactiv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Transfer and Suppor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ngo Interactive for use in PET training and educatio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EFB91-5B77-42E4-B5A2-3D4D37CC07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a:t>
            </a:r>
            <a:endParaRPr b="1" lang="en-US" sz="4400" spc="-1" strike="noStrike">
              <a:solidFill>
                <a:srgbClr val="808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l-based model for distance education and trai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basic asynchronous capabilities (education portal). Courseware, glossaries, quizzes, discussion forums, etc. are all fundamentally asynchronous.  Using them in lecture is synchron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ppropriate components synchronously collaborative, or add new synchronous componen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asynchronous web-based distance education tools: Blackboard, WebCT, et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starting points for collaborative education portal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DF121-9E75-4026-8EA6-FCA7E57115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 (2)</a:t>
            </a:r>
            <a:endParaRPr b="1" lang="en-US" sz="4400" spc="-1" strike="noStrike">
              <a:solidFill>
                <a:srgbClr val="808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different collaboration models in education (especially for demonstrative applet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event (i.e. Tango Interactive)</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display (i.e. NetMeeting)</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ared canvas” (i.e. SV2)</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lass, usually teacher wants to control applet.  Students can experiment later on their own, so applets don’t </a:t>
            </a:r>
            <a:r>
              <a:rPr b="0" i="1" lang="en-US" sz="2000" spc="-1" strike="noStrike">
                <a:solidFill>
                  <a:srgbClr val="000000"/>
                </a:solidFill>
                <a:latin typeface="Arial"/>
              </a:rPr>
              <a:t>really</a:t>
            </a:r>
            <a:r>
              <a:rPr b="0" lang="en-US" sz="2000" spc="-1" strike="noStrike">
                <a:solidFill>
                  <a:srgbClr val="000000"/>
                </a:solidFill>
                <a:latin typeface="Arial"/>
              </a:rPr>
              <a:t> need to be collaborative</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via shared event model is most “intrusive” compared to “collaboration unaware” applet</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interactivity in Tango-delivered classes seems to be declining.  Wh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A4B38-19BE-4F98-B4D5-19EE5099B0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Outreach and Training</a:t>
            </a:r>
            <a:endParaRPr b="1" lang="en-US" sz="4400" spc="-1" strike="noStrike">
              <a:solidFill>
                <a:srgbClr val="808000"/>
              </a:solidFill>
              <a:latin typeface="Arial"/>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on basic Tango Interactive (half-day) and its use in distance education and training (half-day) at DoD HPC User Group Conference (Jun’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plenary session on distance training and education at DoD HPC UGC (Jun’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Training Workshop (Jul’99, sponsored by ASC)</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Education Workshop, JSU (Aug’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Training Workshop, ERDC (Sep’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Interactive 2.0 Training, Syracuse (Dec’99)</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y, many, many talks by Geoffrey Fox to the larger communit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55EB5-F9C8-419F-9C90-C4B7DCC56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a:t>
            </a:r>
            <a:br>
              <a:rPr sz="4400"/>
            </a:br>
            <a:r>
              <a:rPr b="1" lang="en-US" sz="4400" spc="-1" strike="noStrike">
                <a:solidFill>
                  <a:srgbClr val="808000"/>
                </a:solidFill>
                <a:latin typeface="Arial"/>
              </a:rPr>
              <a:t>Transfer and Support</a:t>
            </a:r>
            <a:endParaRPr b="1" lang="en-US" sz="4400" spc="-1" strike="noStrike">
              <a:solidFill>
                <a:srgbClr val="808000"/>
              </a:solidFill>
              <a:latin typeface="Arial"/>
            </a:endParaRPr>
          </a:p>
        </p:txBody>
      </p:sp>
      <p:sp>
        <p:nvSpPr>
          <p:cNvPr id="63" name="PlaceHolder 2"/>
          <p:cNvSpPr>
            <a:spLocks noGrp="1"/>
          </p:cNvSpPr>
          <p:nvPr>
            <p:ph/>
          </p:nvPr>
        </p:nvSpPr>
        <p:spPr>
          <a:xfrm>
            <a:off x="685800" y="2152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Tango Interactive 2.0 for Spring 2000 distance learning class.  Training for support personnel provided at Syracus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T trainings made available to other sites via Tango</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Cray T3E for Code Development and Analysis (OSC, May’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Use Parallel Linear Algebra Library Routines (OSC, Sep’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ther trainings which instructors had expressed interest in delivering via Tango were not delivered at all this ye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73F50-41D1-48AF-954E-C09335A10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180960" y="628560"/>
            <a:ext cx="5372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Distance Education</a:t>
            </a:r>
            <a:endParaRPr b="1" lang="en-US" sz="4400" spc="-1" strike="noStrike">
              <a:solidFill>
                <a:srgbClr val="808000"/>
              </a:solidFill>
              <a:latin typeface="Arial"/>
            </a:endParaRPr>
          </a:p>
        </p:txBody>
      </p:sp>
      <p:sp>
        <p:nvSpPr>
          <p:cNvPr id="65" name="PlaceHolder 2"/>
          <p:cNvSpPr>
            <a:spLocks noGrp="1"/>
          </p:cNvSpPr>
          <p:nvPr>
            <p:ph/>
          </p:nvPr>
        </p:nvSpPr>
        <p:spPr>
          <a:xfrm>
            <a:off x="228600" y="933120"/>
            <a:ext cx="5524560" cy="53341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ckson State U., Miss. State U., WES Graduate Inst.</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lvl="1" marL="2214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computational science courses to PET partner institutions, enhancing their curricula and the education of the next generation of DoD computational scientists</a:t>
            </a:r>
            <a:endParaRPr b="0" lang="en-US" sz="1800" spc="-1" strike="noStrike">
              <a:solidFill>
                <a:srgbClr val="000000"/>
              </a:solidFill>
              <a:latin typeface="Arial"/>
            </a:endParaRPr>
          </a:p>
          <a:p>
            <a:pPr lvl="1" marL="221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ot tools (Tango Interactive) and techniques for the delivery of interactive synchronous distance learning in other DoD contexts</a:t>
            </a:r>
            <a:endParaRPr b="0" lang="en-US" sz="1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Arial"/>
            </a:endParaRPr>
          </a:p>
          <a:p>
            <a:pPr lvl="1" marL="2214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mester-long academic courses delivered to three universities and four DoD labs during current year, reaching a record number of students</a:t>
            </a:r>
            <a:endParaRPr b="0" lang="en-US" sz="1800" spc="-1" strike="noStrike">
              <a:solidFill>
                <a:srgbClr val="000000"/>
              </a:solidFill>
              <a:latin typeface="Arial"/>
            </a:endParaRPr>
          </a:p>
          <a:p>
            <a:pPr lvl="1" marL="221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lso being used in PET training program</a:t>
            </a:r>
            <a:endParaRPr b="0" lang="en-US" sz="1800" spc="-1" strike="noStrike">
              <a:solidFill>
                <a:srgbClr val="000000"/>
              </a:solidFill>
              <a:latin typeface="Arial"/>
            </a:endParaRPr>
          </a:p>
        </p:txBody>
      </p:sp>
      <p:grpSp>
        <p:nvGrpSpPr>
          <p:cNvPr id="66" name=""/>
          <p:cNvGrpSpPr/>
          <p:nvPr/>
        </p:nvGrpSpPr>
        <p:grpSpPr>
          <a:xfrm>
            <a:off x="5742000" y="1428840"/>
            <a:ext cx="3340080" cy="4694760"/>
            <a:chOff x="5742000" y="1428840"/>
            <a:chExt cx="3340080" cy="4694760"/>
          </a:xfrm>
        </p:grpSpPr>
        <p:grpSp>
          <p:nvGrpSpPr>
            <p:cNvPr id="67" name=""/>
            <p:cNvGrpSpPr/>
            <p:nvPr/>
          </p:nvGrpSpPr>
          <p:grpSpPr>
            <a:xfrm>
              <a:off x="5850000" y="1428840"/>
              <a:ext cx="3124080" cy="3403440"/>
              <a:chOff x="5850000" y="1428840"/>
              <a:chExt cx="3124080" cy="3403440"/>
            </a:xfrm>
          </p:grpSpPr>
          <p:pic>
            <p:nvPicPr>
              <p:cNvPr id="68" name="cps640-1" descr=""/>
              <p:cNvPicPr/>
              <p:nvPr/>
            </p:nvPicPr>
            <p:blipFill>
              <a:blip r:embed="rId1"/>
              <a:stretch/>
            </p:blipFill>
            <p:spPr>
              <a:xfrm>
                <a:off x="5850000" y="1428840"/>
                <a:ext cx="2650680" cy="2881080"/>
              </a:xfrm>
              <a:prstGeom prst="rect">
                <a:avLst/>
              </a:prstGeom>
              <a:ln w="0">
                <a:noFill/>
              </a:ln>
            </p:spPr>
          </p:pic>
          <p:pic>
            <p:nvPicPr>
              <p:cNvPr id="69" name="cps640-2" descr=""/>
              <p:cNvPicPr/>
              <p:nvPr/>
            </p:nvPicPr>
            <p:blipFill>
              <a:blip r:embed="rId2"/>
              <a:stretch/>
            </p:blipFill>
            <p:spPr>
              <a:xfrm>
                <a:off x="7080840" y="2995560"/>
                <a:ext cx="1893240" cy="1836720"/>
              </a:xfrm>
              <a:prstGeom prst="rect">
                <a:avLst/>
              </a:prstGeom>
              <a:ln w="0">
                <a:noFill/>
              </a:ln>
            </p:spPr>
          </p:pic>
        </p:grpSp>
        <p:sp>
          <p:nvSpPr>
            <p:cNvPr id="70" name=""/>
            <p:cNvSpPr/>
            <p:nvPr/>
          </p:nvSpPr>
          <p:spPr>
            <a:xfrm>
              <a:off x="5742000" y="4932360"/>
              <a:ext cx="334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mepage and lecture material from CPS640 “Topics in Networking and Multimedia Applications”, taught Fall 1999</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4D19882A-35CB-4E9B-8F41-93EE68011C43}"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2T18:57:45Z</dcterms:created>
  <dc:creator>David E Bernholdt</dc:creator>
  <dc:description/>
  <dc:language>en-US</dc:language>
  <cp:lastModifiedBy>David E Bernholdt</cp:lastModifiedBy>
  <cp:lastPrinted>2000-01-10T15:01:45Z</cp:lastPrinted>
  <dcterms:modified xsi:type="dcterms:W3CDTF">2000-02-04T23:29:40Z</dcterms:modified>
  <cp:revision>102</cp:revision>
  <dc:subject/>
  <dc:title>No Slide Title</dc:title>
</cp:coreProperties>
</file>