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77B9-63E3-4C1B-9CD4-091B720C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49320" y="0"/>
            <a:ext cx="804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36720" y="866520"/>
            <a:ext cx="8207280" cy="26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36720" y="3742920"/>
            <a:ext cx="8207280" cy="26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86B3-011E-4A0B-9ED4-1F221F07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49320" y="0"/>
            <a:ext cx="804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36720" y="866520"/>
            <a:ext cx="4005000" cy="26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2240" y="866520"/>
            <a:ext cx="4005000" cy="26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36720" y="3742920"/>
            <a:ext cx="4005000" cy="26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2240" y="3742920"/>
            <a:ext cx="4005000" cy="26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95DA-83F7-4E5E-89D0-501769DA9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49320" y="0"/>
            <a:ext cx="804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36720" y="866520"/>
            <a:ext cx="2642400" cy="26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1600" y="866520"/>
            <a:ext cx="2642400" cy="26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86480" y="866520"/>
            <a:ext cx="2642400" cy="26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36720" y="3742920"/>
            <a:ext cx="2642400" cy="26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1600" y="3742920"/>
            <a:ext cx="2642400" cy="26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86480" y="3742920"/>
            <a:ext cx="2642400" cy="26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3194-8EDB-4B7F-9C68-7B88A459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5562-5607-43A4-9404-F0CE126C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49320" y="0"/>
            <a:ext cx="804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36720" y="866520"/>
            <a:ext cx="8207280" cy="55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7AC8-40DA-47AC-929F-730E8EFC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49320" y="0"/>
            <a:ext cx="804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36720" y="866520"/>
            <a:ext cx="820728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0291-8263-4B50-A0E7-A1B2E86C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49320" y="0"/>
            <a:ext cx="804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36720" y="866520"/>
            <a:ext cx="400500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2240" y="866520"/>
            <a:ext cx="400500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E302-4BA6-40D5-84B3-80D242D0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49320" y="0"/>
            <a:ext cx="804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21BB-35E6-4A39-BCC7-DB11417D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49320" y="0"/>
            <a:ext cx="8043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F656-3223-43D7-9D96-0AEDCAA2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49320" y="0"/>
            <a:ext cx="804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36720" y="866520"/>
            <a:ext cx="4005000" cy="26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2240" y="866520"/>
            <a:ext cx="400500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36720" y="3742920"/>
            <a:ext cx="4005000" cy="26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CC25-F31E-4397-90AC-375ECE8F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49320" y="0"/>
            <a:ext cx="804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36720" y="866520"/>
            <a:ext cx="8207280" cy="55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91DE-3BEE-430E-A8A0-EFBA99AA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49320" y="0"/>
            <a:ext cx="804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36720" y="866520"/>
            <a:ext cx="400500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2240" y="866520"/>
            <a:ext cx="4005000" cy="26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2240" y="3742920"/>
            <a:ext cx="4005000" cy="26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8DFC-57C1-4AB2-93BA-38C824B6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49320" y="0"/>
            <a:ext cx="804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36720" y="866520"/>
            <a:ext cx="4005000" cy="26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2240" y="866520"/>
            <a:ext cx="4005000" cy="26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36720" y="3742920"/>
            <a:ext cx="8207280" cy="26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43A8-9FA4-4CF2-AE9D-41A211B5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49320" y="0"/>
            <a:ext cx="804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36720" y="866520"/>
            <a:ext cx="8207280" cy="26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36720" y="3742920"/>
            <a:ext cx="8207280" cy="26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6A87-15D2-40B6-81F0-2FBCD707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49320" y="0"/>
            <a:ext cx="804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36720" y="866520"/>
            <a:ext cx="4005000" cy="26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2240" y="866520"/>
            <a:ext cx="4005000" cy="26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36720" y="3742920"/>
            <a:ext cx="4005000" cy="26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2240" y="3742920"/>
            <a:ext cx="4005000" cy="26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8F02-2346-46A7-B927-1029F6EF5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49320" y="0"/>
            <a:ext cx="804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36720" y="866520"/>
            <a:ext cx="2642400" cy="26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1600" y="866520"/>
            <a:ext cx="2642400" cy="26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86480" y="866520"/>
            <a:ext cx="2642400" cy="26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36720" y="3742920"/>
            <a:ext cx="2642400" cy="26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1600" y="3742920"/>
            <a:ext cx="2642400" cy="26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86480" y="3742920"/>
            <a:ext cx="2642400" cy="26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B49D-8253-4933-AEE7-47C5B2C0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49320" y="0"/>
            <a:ext cx="804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36720" y="866520"/>
            <a:ext cx="820728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769B-0CF2-43C4-B8B7-79B2C451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49320" y="0"/>
            <a:ext cx="804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36720" y="866520"/>
            <a:ext cx="400500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2240" y="866520"/>
            <a:ext cx="400500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FB88-5612-422E-BCDB-C7DB4A7F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49320" y="0"/>
            <a:ext cx="804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5DAB-2769-4961-9E45-0FE8111F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49320" y="0"/>
            <a:ext cx="8043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B5A4-3FDE-4835-A994-736CBB2E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49320" y="0"/>
            <a:ext cx="804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36720" y="866520"/>
            <a:ext cx="4005000" cy="26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2240" y="866520"/>
            <a:ext cx="400500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36720" y="3742920"/>
            <a:ext cx="4005000" cy="26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E19A-E792-49FE-B9C2-01F5330D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49320" y="0"/>
            <a:ext cx="804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36720" y="866520"/>
            <a:ext cx="400500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2240" y="866520"/>
            <a:ext cx="4005000" cy="26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2240" y="3742920"/>
            <a:ext cx="4005000" cy="26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0A21-8958-4D10-8AA5-46D09932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49320" y="0"/>
            <a:ext cx="804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36720" y="866520"/>
            <a:ext cx="4005000" cy="26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2240" y="866520"/>
            <a:ext cx="4005000" cy="26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36720" y="3742920"/>
            <a:ext cx="8207280" cy="26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F45B-23EA-41F6-85A5-5BECD050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49320" y="0"/>
            <a:ext cx="804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36720" y="866520"/>
            <a:ext cx="820728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49320" y="651996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65E9-781E-46A4-847A-ECAD159D95EF}" type="datetime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5280" y="6532200"/>
            <a:ext cx="289584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27920" y="6521400"/>
            <a:ext cx="19051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0D34-FCD3-4FC0-918F-AEA9517EE861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949320" y="651996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C5FA-BE2D-4866-9B36-184D2721BF47}" type="datetime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635280" y="6532200"/>
            <a:ext cx="289584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27920" y="6521400"/>
            <a:ext cx="19051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B382-365F-4941-979E-B45B2A7E08D5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83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Collaborative Portals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for Education and Computing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61468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Geoffrey Fox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lorida State Universi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Department of Computer Science 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CSIT (School of Computational Science and Information Technology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400 Dirac Science Libra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allahasse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allahassee Florida 32306-413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gcf@cs.fsu.edu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rldreamsapril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4E6F-B423-48CE-9496-A7FB78E07FA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02DA7CF-517A-4A47-9DB3-71B407EEFD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85320" y="-360"/>
            <a:ext cx="8277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66"/>
                </a:solidFill>
                <a:latin typeface="Times New Roman"/>
              </a:rPr>
              <a:t>Capabilities of a Collaborative Portal I</a:t>
            </a:r>
            <a:endParaRPr b="1" lang="en-US" sz="3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36720" y="644400"/>
            <a:ext cx="8207280" cy="55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upport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ollaborative Universit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(Training Organizations) Networ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urriculum Modules are developed collaboratively and placed in standards compliant reposit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ach University packages its programs separately according to requirements of students and stakehold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University or specialized organization delivers mater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ortal provides access to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Shared repositor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for developers and users (teacher/students) in a learning ins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upports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user customiz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of objects (and tools) to be accessed in terms of what they are; parameters; how and where they are rendered (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layou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tandard Web versions of desktop tools, security, performance, transfer  of information between objects (“computing”), composition et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dreamsapril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E0C8-CAAB-48CC-9065-BAC7CC6CEDD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10AC5A-3936-401F-A0F2-43F0920D06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699120" y="563400"/>
            <a:ext cx="8445960" cy="6098760"/>
            <a:chOff x="699120" y="563400"/>
            <a:chExt cx="8445960" cy="6098760"/>
          </a:xfrm>
        </p:grpSpPr>
        <p:sp>
          <p:nvSpPr>
            <p:cNvPr id="87" name=""/>
            <p:cNvSpPr/>
            <p:nvPr/>
          </p:nvSpPr>
          <p:spPr>
            <a:xfrm>
              <a:off x="7225560" y="3000240"/>
              <a:ext cx="1919520" cy="155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ar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naged b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ne univers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12800" y="1173240"/>
              <a:ext cx="4724640" cy="472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288240" y="5592600"/>
              <a:ext cx="13420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nto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204080" y="5364000"/>
              <a:ext cx="11851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each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27200" y="5288040"/>
              <a:ext cx="10998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live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70000" y="1630440"/>
              <a:ext cx="3733920" cy="373356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84200" y="944640"/>
              <a:ext cx="5181840" cy="5181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27200" y="2087640"/>
              <a:ext cx="2895840" cy="2895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03520" y="3382920"/>
              <a:ext cx="30492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41800" y="3382920"/>
              <a:ext cx="30492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84400" y="2697120"/>
              <a:ext cx="30492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22840" y="2316240"/>
              <a:ext cx="30456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60920" y="2697120"/>
              <a:ext cx="30492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34880" y="3002040"/>
              <a:ext cx="16682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llaborativ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niversity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0737600">
              <a:off x="4656240" y="4052160"/>
              <a:ext cx="30456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0737600">
              <a:off x="3825360" y="4447440"/>
              <a:ext cx="30492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0737600">
              <a:off x="2979360" y="4082760"/>
              <a:ext cx="30492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32120" y="368784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37040" y="4221000"/>
              <a:ext cx="7617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3975120" y="4221000"/>
              <a:ext cx="8380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4813200" y="3611160"/>
              <a:ext cx="3812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4812840" y="284940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4051440" y="2468520"/>
              <a:ext cx="7617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2755800" y="2849040"/>
              <a:ext cx="38124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3137040" y="246852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03320" y="563400"/>
              <a:ext cx="5943600" cy="5943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17920" y="6202440"/>
              <a:ext cx="1249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arn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 rot="91200">
              <a:off x="2390400" y="1923840"/>
              <a:ext cx="3143160" cy="22939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5885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Shareable Courseware Repository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5106960" y="2849400"/>
              <a:ext cx="3124080" cy="609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94440" y="3687840"/>
              <a:ext cx="2895480" cy="1143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1231920" y="3916440"/>
              <a:ext cx="16002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9120" y="3306600"/>
              <a:ext cx="162252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ssessmen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eedb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844056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Collaborative University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dreamsapril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2692-D24E-414E-978F-C3FEF234D53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8BF1F-FCFA-4D24-A3F3-C6DB0A6BCA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48880" y="0"/>
            <a:ext cx="8394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66"/>
                </a:solidFill>
                <a:latin typeface="Times New Roman"/>
              </a:rPr>
              <a:t>Capabilities of a Collaborative Portal II</a:t>
            </a:r>
            <a:endParaRPr b="1" lang="en-US" sz="3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36720" y="714240"/>
            <a:ext cx="8207280" cy="55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s an integrate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llabora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ynchrono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synchrono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where latter includes not just Web Site but also archived synchronous sess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hared displ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different versions of 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hared ev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so that we can have for any application, “easy sharing” (no changes in application) and more powerful but harder to implement customized sh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terac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s Buena Vista) and Buffered (one to a few seconds as in RealMedia) audio/video conferen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st classes over 90% of audio/video can use the much more reliable buffered ver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ssess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rough archived events describing s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dreamsapril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C90F-F740-4DA8-B979-633EE27FCC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2965D9-C08E-4B8F-A734-BB708299C5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5040" y="-360"/>
            <a:ext cx="82389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Capabilities of a Collaborative Portal III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36720" y="795240"/>
            <a:ext cx="8207280" cy="55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lity to suppor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ultiple display devi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cluding hand held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niversal Acc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separation of session logic from rendering logic and ability to map session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obu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minimizing code in brow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ultiple object mode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W3C, Java, COM and CORBA) with common XML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uthoring suppo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efers documents using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3C D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dreamsapril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AF72-B3BB-4A3C-9690-4C6BE02688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D046D-EDEC-404D-95AC-2F863CF585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2960" y="905040"/>
            <a:ext cx="804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aborative Por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78120" y="3849840"/>
            <a:ext cx="350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35480" y="4738680"/>
            <a:ext cx="4609800" cy="11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559320" y="4923000"/>
            <a:ext cx="228600" cy="609480"/>
            <a:chOff x="3559320" y="4923000"/>
            <a:chExt cx="228600" cy="609480"/>
          </a:xfrm>
        </p:grpSpPr>
        <p:grpSp>
          <p:nvGrpSpPr>
            <p:cNvPr id="129" name=""/>
            <p:cNvGrpSpPr/>
            <p:nvPr/>
          </p:nvGrpSpPr>
          <p:grpSpPr>
            <a:xfrm>
              <a:off x="3580200" y="4923000"/>
              <a:ext cx="185760" cy="304920"/>
              <a:chOff x="3580200" y="4923000"/>
              <a:chExt cx="185760" cy="304920"/>
            </a:xfrm>
          </p:grpSpPr>
          <p:sp>
            <p:nvSpPr>
              <p:cNvPr id="130" name=""/>
              <p:cNvSpPr/>
              <p:nvPr/>
            </p:nvSpPr>
            <p:spPr>
              <a:xfrm>
                <a:off x="3580200" y="4982040"/>
                <a:ext cx="185760" cy="1864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639240" y="4923000"/>
                <a:ext cx="67320" cy="304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3559320" y="5303880"/>
              <a:ext cx="228600" cy="228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651120" y="3849840"/>
            <a:ext cx="0" cy="1044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830840" y="4923000"/>
            <a:ext cx="228600" cy="609480"/>
            <a:chOff x="4830840" y="4923000"/>
            <a:chExt cx="228600" cy="609480"/>
          </a:xfrm>
        </p:grpSpPr>
        <p:grpSp>
          <p:nvGrpSpPr>
            <p:cNvPr id="135" name=""/>
            <p:cNvGrpSpPr/>
            <p:nvPr/>
          </p:nvGrpSpPr>
          <p:grpSpPr>
            <a:xfrm>
              <a:off x="4851720" y="4923000"/>
              <a:ext cx="185760" cy="304920"/>
              <a:chOff x="4851720" y="4923000"/>
              <a:chExt cx="185760" cy="304920"/>
            </a:xfrm>
          </p:grpSpPr>
          <p:sp>
            <p:nvSpPr>
              <p:cNvPr id="136" name=""/>
              <p:cNvSpPr/>
              <p:nvPr/>
            </p:nvSpPr>
            <p:spPr>
              <a:xfrm>
                <a:off x="4851720" y="4982040"/>
                <a:ext cx="185760" cy="1864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910760" y="4923000"/>
                <a:ext cx="67320" cy="304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4830840" y="5303880"/>
              <a:ext cx="228600" cy="228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flipH="1">
            <a:off x="4933440" y="3849840"/>
            <a:ext cx="1800" cy="10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102360" y="4923000"/>
            <a:ext cx="228600" cy="609480"/>
            <a:chOff x="6102360" y="4923000"/>
            <a:chExt cx="228600" cy="609480"/>
          </a:xfrm>
        </p:grpSpPr>
        <p:grpSp>
          <p:nvGrpSpPr>
            <p:cNvPr id="141" name=""/>
            <p:cNvGrpSpPr/>
            <p:nvPr/>
          </p:nvGrpSpPr>
          <p:grpSpPr>
            <a:xfrm>
              <a:off x="6123240" y="4923000"/>
              <a:ext cx="185760" cy="304920"/>
              <a:chOff x="6123240" y="4923000"/>
              <a:chExt cx="185760" cy="304920"/>
            </a:xfrm>
          </p:grpSpPr>
          <p:sp>
            <p:nvSpPr>
              <p:cNvPr id="142" name=""/>
              <p:cNvSpPr/>
              <p:nvPr/>
            </p:nvSpPr>
            <p:spPr>
              <a:xfrm>
                <a:off x="6123240" y="4982040"/>
                <a:ext cx="185760" cy="1864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182280" y="4923000"/>
                <a:ext cx="67320" cy="304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6102360" y="5303880"/>
              <a:ext cx="228600" cy="228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205680" y="3995640"/>
            <a:ext cx="0" cy="89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086600" y="3849840"/>
            <a:ext cx="228600" cy="1682640"/>
            <a:chOff x="7086600" y="3849840"/>
            <a:chExt cx="228600" cy="1682640"/>
          </a:xfrm>
        </p:grpSpPr>
        <p:grpSp>
          <p:nvGrpSpPr>
            <p:cNvPr id="147" name=""/>
            <p:cNvGrpSpPr/>
            <p:nvPr/>
          </p:nvGrpSpPr>
          <p:grpSpPr>
            <a:xfrm>
              <a:off x="7086600" y="4923000"/>
              <a:ext cx="228600" cy="609480"/>
              <a:chOff x="7086600" y="4923000"/>
              <a:chExt cx="228600" cy="60948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7107480" y="4923000"/>
                <a:ext cx="185760" cy="304920"/>
                <a:chOff x="7107480" y="4923000"/>
                <a:chExt cx="185760" cy="3049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7107480" y="4982040"/>
                  <a:ext cx="185760" cy="18648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166520" y="4923000"/>
                  <a:ext cx="67320" cy="304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>
                <a:off x="7086600" y="5303880"/>
                <a:ext cx="228600" cy="22860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7201080" y="3849840"/>
              <a:ext cx="0" cy="10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529400" y="2733840"/>
            <a:ext cx="1331640" cy="228600"/>
            <a:chOff x="7529400" y="2733840"/>
            <a:chExt cx="1331640" cy="228600"/>
          </a:xfrm>
        </p:grpSpPr>
        <p:grpSp>
          <p:nvGrpSpPr>
            <p:cNvPr id="154" name=""/>
            <p:cNvGrpSpPr/>
            <p:nvPr/>
          </p:nvGrpSpPr>
          <p:grpSpPr>
            <a:xfrm>
              <a:off x="8251560" y="2733840"/>
              <a:ext cx="609480" cy="228600"/>
              <a:chOff x="8251560" y="2733840"/>
              <a:chExt cx="609480" cy="22860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8251560" y="2754720"/>
                <a:ext cx="304920" cy="185760"/>
                <a:chOff x="8251560" y="2754720"/>
                <a:chExt cx="304920" cy="185760"/>
              </a:xfrm>
            </p:grpSpPr>
            <p:sp>
              <p:nvSpPr>
                <p:cNvPr id="156" name=""/>
                <p:cNvSpPr/>
                <p:nvPr/>
              </p:nvSpPr>
              <p:spPr>
                <a:xfrm flipH="1" rot="16200000">
                  <a:off x="8310960" y="2754360"/>
                  <a:ext cx="185760" cy="18648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 rot="16200000">
                  <a:off x="8370000" y="2694960"/>
                  <a:ext cx="67320" cy="304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 flipH="1" rot="16200000">
                <a:off x="8632080" y="2733840"/>
                <a:ext cx="228600" cy="22860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7529400" y="2847960"/>
              <a:ext cx="69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 flipH="1" flipV="1">
            <a:off x="7991640" y="2549160"/>
            <a:ext cx="2880" cy="2219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499520" y="3490920"/>
            <a:ext cx="1331280" cy="228600"/>
            <a:chOff x="7499520" y="3490920"/>
            <a:chExt cx="1331280" cy="228600"/>
          </a:xfrm>
        </p:grpSpPr>
        <p:grpSp>
          <p:nvGrpSpPr>
            <p:cNvPr id="162" name=""/>
            <p:cNvGrpSpPr/>
            <p:nvPr/>
          </p:nvGrpSpPr>
          <p:grpSpPr>
            <a:xfrm>
              <a:off x="8221320" y="3490920"/>
              <a:ext cx="609480" cy="228600"/>
              <a:chOff x="8221320" y="3490920"/>
              <a:chExt cx="609480" cy="22860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8221320" y="3511800"/>
                <a:ext cx="304920" cy="185760"/>
                <a:chOff x="8221320" y="3511800"/>
                <a:chExt cx="304920" cy="185760"/>
              </a:xfrm>
            </p:grpSpPr>
            <p:sp>
              <p:nvSpPr>
                <p:cNvPr id="164" name=""/>
                <p:cNvSpPr/>
                <p:nvPr/>
              </p:nvSpPr>
              <p:spPr>
                <a:xfrm flipH="1" rot="16200000">
                  <a:off x="8280720" y="3511440"/>
                  <a:ext cx="185760" cy="18648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 rot="16200000">
                  <a:off x="8339760" y="3452040"/>
                  <a:ext cx="67320" cy="304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 flipH="1" rot="16200000">
                <a:off x="8601840" y="3490920"/>
                <a:ext cx="228600" cy="22860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7499520" y="3605040"/>
              <a:ext cx="69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628040" y="4457880"/>
            <a:ext cx="1368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al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855960" y="3720240"/>
            <a:ext cx="862200" cy="257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130560" y="235080"/>
            <a:ext cx="3614760" cy="1020600"/>
            <a:chOff x="3130560" y="235080"/>
            <a:chExt cx="3614760" cy="1020600"/>
          </a:xfrm>
        </p:grpSpPr>
        <p:grpSp>
          <p:nvGrpSpPr>
            <p:cNvPr id="171" name=""/>
            <p:cNvGrpSpPr/>
            <p:nvPr/>
          </p:nvGrpSpPr>
          <p:grpSpPr>
            <a:xfrm>
              <a:off x="3130560" y="235080"/>
              <a:ext cx="1067040" cy="1020600"/>
              <a:chOff x="3130560" y="235080"/>
              <a:chExt cx="1067040" cy="1020600"/>
            </a:xfrm>
          </p:grpSpPr>
          <p:sp>
            <p:nvSpPr>
              <p:cNvPr id="172" name=""/>
              <p:cNvSpPr/>
              <p:nvPr/>
            </p:nvSpPr>
            <p:spPr>
              <a:xfrm>
                <a:off x="3130560" y="844560"/>
                <a:ext cx="1067040" cy="411120"/>
              </a:xfrm>
              <a:prstGeom prst="ellipse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197600" y="433080"/>
                <a:ext cx="0" cy="640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408480" y="661680"/>
                <a:ext cx="0" cy="18288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733920" y="661680"/>
                <a:ext cx="0" cy="18288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594240" y="661680"/>
                <a:ext cx="139680" cy="54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733920" y="615960"/>
                <a:ext cx="138240" cy="593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408480" y="661680"/>
                <a:ext cx="185760" cy="5018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130560" y="479160"/>
                <a:ext cx="185760" cy="5940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316320" y="569880"/>
                <a:ext cx="185760" cy="593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872160" y="569880"/>
                <a:ext cx="139680" cy="593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011840" y="525240"/>
                <a:ext cx="139680" cy="593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057920" y="479160"/>
                <a:ext cx="139680" cy="5940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130560" y="250560"/>
                <a:ext cx="1067040" cy="41112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130560" y="433080"/>
                <a:ext cx="0" cy="640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273840" y="235080"/>
                <a:ext cx="807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Dat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bas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678640" y="235080"/>
              <a:ext cx="1066680" cy="1020600"/>
              <a:chOff x="5678640" y="235080"/>
              <a:chExt cx="1066680" cy="1020600"/>
            </a:xfrm>
          </p:grpSpPr>
          <p:sp>
            <p:nvSpPr>
              <p:cNvPr id="188" name=""/>
              <p:cNvSpPr/>
              <p:nvPr/>
            </p:nvSpPr>
            <p:spPr>
              <a:xfrm>
                <a:off x="5678640" y="844560"/>
                <a:ext cx="1066680" cy="411120"/>
              </a:xfrm>
              <a:prstGeom prst="ellipse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745320" y="433080"/>
                <a:ext cx="0" cy="640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956200" y="661680"/>
                <a:ext cx="0" cy="18288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281640" y="661680"/>
                <a:ext cx="0" cy="18288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141960" y="661680"/>
                <a:ext cx="139320" cy="54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281640" y="615960"/>
                <a:ext cx="137880" cy="593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956200" y="661680"/>
                <a:ext cx="185400" cy="5018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678640" y="479160"/>
                <a:ext cx="185400" cy="5940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864040" y="569880"/>
                <a:ext cx="185400" cy="593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419880" y="569880"/>
                <a:ext cx="139320" cy="593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559560" y="525240"/>
                <a:ext cx="139320" cy="593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05640" y="479160"/>
                <a:ext cx="139320" cy="5940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678640" y="250560"/>
                <a:ext cx="1066680" cy="41112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678640" y="433080"/>
                <a:ext cx="0" cy="640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821560" y="235080"/>
                <a:ext cx="807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Dat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bas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4286520" y="750600"/>
              <a:ext cx="135396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 flipV="1">
            <a:off x="5761080" y="3720240"/>
            <a:ext cx="861840" cy="257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6545160" y="3063960"/>
            <a:ext cx="862200" cy="257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761000" y="2077200"/>
            <a:ext cx="861840" cy="257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31200" y="283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7098840" y="3338640"/>
            <a:ext cx="390600" cy="247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5586480" y="2225160"/>
            <a:ext cx="1920960" cy="62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86480" y="2290680"/>
            <a:ext cx="1262160" cy="779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38600" y="1808280"/>
            <a:ext cx="4609800" cy="11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51560" y="1609560"/>
            <a:ext cx="1773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52880" y="2379600"/>
            <a:ext cx="173160" cy="131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587760" y="2117880"/>
            <a:ext cx="861840" cy="257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67200" y="1617840"/>
            <a:ext cx="0" cy="490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146200" y="1598760"/>
            <a:ext cx="1800" cy="46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66640" y="4230720"/>
            <a:ext cx="2713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chronous Le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61080" y="1393920"/>
            <a:ext cx="28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ynchronou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ve and Ac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4800" y="184320"/>
            <a:ext cx="256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istent Store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ed Course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s, User 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10920" y="333072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time Sh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30480" y="4508640"/>
            <a:ext cx="838080" cy="838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96880" y="4241880"/>
            <a:ext cx="30492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01600" y="5841360"/>
            <a:ext cx="725400" cy="881280"/>
            <a:chOff x="201600" y="5841360"/>
            <a:chExt cx="725400" cy="881280"/>
          </a:xfrm>
        </p:grpSpPr>
        <p:pic>
          <p:nvPicPr>
            <p:cNvPr id="224" name="B_OEQ127" descr=""/>
            <p:cNvPicPr/>
            <p:nvPr/>
          </p:nvPicPr>
          <p:blipFill>
            <a:blip r:embed="rId2"/>
            <a:stretch/>
          </p:blipFill>
          <p:spPr>
            <a:xfrm>
              <a:off x="201600" y="5891400"/>
              <a:ext cx="725400" cy="83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246960" y="5841360"/>
              <a:ext cx="651600" cy="64260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Times New Roman"/>
                </a:rPr>
                <a:t>Web</a:t>
              </a:r>
              <a:br>
                <a:rPr sz="1800"/>
              </a:br>
              <a:r>
                <a:rPr b="1" lang="en-US" sz="1800" spc="-1" strike="noStrike">
                  <a:solidFill>
                    <a:srgbClr val="ffff00"/>
                  </a:solidFill>
                  <a:latin typeface="Times New Roman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6" name="rocketebook" descr=""/>
          <p:cNvPicPr/>
          <p:nvPr/>
        </p:nvPicPr>
        <p:blipFill>
          <a:blip r:embed="rId3"/>
          <a:stretch/>
        </p:blipFill>
        <p:spPr>
          <a:xfrm>
            <a:off x="1344600" y="6070680"/>
            <a:ext cx="588960" cy="787320"/>
          </a:xfrm>
          <a:prstGeom prst="rect">
            <a:avLst/>
          </a:prstGeom>
          <a:ln w="0">
            <a:noFill/>
          </a:ln>
        </p:spPr>
      </p:pic>
      <p:pic>
        <p:nvPicPr>
          <p:cNvPr id="227" name="inka" descr=""/>
          <p:cNvPicPr/>
          <p:nvPr/>
        </p:nvPicPr>
        <p:blipFill>
          <a:blip r:embed="rId4"/>
          <a:stretch/>
        </p:blipFill>
        <p:spPr>
          <a:xfrm>
            <a:off x="2411280" y="5994360"/>
            <a:ext cx="685800" cy="484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 flipH="1">
            <a:off x="658800" y="5232240"/>
            <a:ext cx="5335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030400" y="530856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49520" y="568944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0" y="4259160"/>
            <a:ext cx="123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18680" y="47131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60" y="3100320"/>
            <a:ext cx="2148120" cy="1008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Event Queu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pecific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ssion Lo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028680" y="5597640"/>
            <a:ext cx="763560" cy="1125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39920" y="2960640"/>
            <a:ext cx="1305000" cy="1612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5775480"/>
            <a:ext cx="7326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61080" y="5864400"/>
            <a:ext cx="33462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 WML W3C WAI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dering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2935440"/>
            <a:ext cx="2281320" cy="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07640" y="2717640"/>
            <a:ext cx="901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dreamsapril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336B-F396-4E85-B631-E3098BCAB6B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AC56A9-4984-4D02-85EB-8FD97865F8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240200" y="3145320"/>
            <a:ext cx="6361920" cy="3192840"/>
            <a:chOff x="1240200" y="3145320"/>
            <a:chExt cx="6361920" cy="3192840"/>
          </a:xfrm>
        </p:grpSpPr>
        <p:pic>
          <p:nvPicPr>
            <p:cNvPr id="241" name="B_OEQ127" descr=""/>
            <p:cNvPicPr/>
            <p:nvPr/>
          </p:nvPicPr>
          <p:blipFill>
            <a:blip r:embed="rId2"/>
            <a:stretch/>
          </p:blipFill>
          <p:spPr>
            <a:xfrm>
              <a:off x="1460520" y="3873240"/>
              <a:ext cx="858600" cy="98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B_OEQ128" descr=""/>
            <p:cNvPicPr/>
            <p:nvPr/>
          </p:nvPicPr>
          <p:blipFill>
            <a:blip r:embed="rId3"/>
            <a:stretch/>
          </p:blipFill>
          <p:spPr>
            <a:xfrm>
              <a:off x="3392280" y="3608280"/>
              <a:ext cx="109548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2395440" y="4363920"/>
              <a:ext cx="96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81360" y="4363920"/>
              <a:ext cx="96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40200" y="492768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Client(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213000" y="496548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Server(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5695920" y="3325680"/>
              <a:ext cx="1906200" cy="2077560"/>
              <a:chOff x="5695920" y="3325680"/>
              <a:chExt cx="1906200" cy="2077560"/>
            </a:xfrm>
          </p:grpSpPr>
          <p:sp>
            <p:nvSpPr>
              <p:cNvPr id="248" name=""/>
              <p:cNvSpPr/>
              <p:nvPr/>
            </p:nvSpPr>
            <p:spPr>
              <a:xfrm>
                <a:off x="5702040" y="3459240"/>
                <a:ext cx="1881360" cy="493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9" name=""/>
              <p:cNvGrpSpPr/>
              <p:nvPr/>
            </p:nvGrpSpPr>
            <p:grpSpPr>
              <a:xfrm>
                <a:off x="5695920" y="3325680"/>
                <a:ext cx="1904760" cy="1219320"/>
                <a:chOff x="5695920" y="3325680"/>
                <a:chExt cx="1904760" cy="121932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771880" y="3325680"/>
                  <a:ext cx="1752840" cy="4572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771880" y="4087800"/>
                  <a:ext cx="1752840" cy="4572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695920" y="3935520"/>
                  <a:ext cx="1904760" cy="380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3" name=""/>
              <p:cNvSpPr/>
              <p:nvPr/>
            </p:nvSpPr>
            <p:spPr>
              <a:xfrm>
                <a:off x="7524720" y="3554280"/>
                <a:ext cx="0" cy="838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772240" y="3554280"/>
                <a:ext cx="0" cy="838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5695920" y="3612960"/>
                <a:ext cx="1904760" cy="1219320"/>
                <a:chOff x="5695920" y="3612960"/>
                <a:chExt cx="1904760" cy="1219320"/>
              </a:xfrm>
            </p:grpSpPr>
            <p:grpSp>
              <p:nvGrpSpPr>
                <p:cNvPr id="256" name=""/>
                <p:cNvGrpSpPr/>
                <p:nvPr/>
              </p:nvGrpSpPr>
              <p:grpSpPr>
                <a:xfrm>
                  <a:off x="5695920" y="3612960"/>
                  <a:ext cx="1904760" cy="1219320"/>
                  <a:chOff x="5695920" y="3612960"/>
                  <a:chExt cx="1904760" cy="121932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5771880" y="3612960"/>
                    <a:ext cx="1752840" cy="457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5771880" y="4375080"/>
                    <a:ext cx="1752840" cy="457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5695920" y="4222800"/>
                    <a:ext cx="1904760" cy="3808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0" name=""/>
                <p:cNvSpPr/>
                <p:nvPr/>
              </p:nvSpPr>
              <p:spPr>
                <a:xfrm>
                  <a:off x="7524720" y="3841560"/>
                  <a:ext cx="0" cy="838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771880" y="3841560"/>
                  <a:ext cx="0" cy="838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5697360" y="3851280"/>
                <a:ext cx="1904760" cy="1266120"/>
                <a:chOff x="5697360" y="3851280"/>
                <a:chExt cx="1904760" cy="1266120"/>
              </a:xfrm>
            </p:grpSpPr>
            <p:grpSp>
              <p:nvGrpSpPr>
                <p:cNvPr id="263" name=""/>
                <p:cNvGrpSpPr/>
                <p:nvPr/>
              </p:nvGrpSpPr>
              <p:grpSpPr>
                <a:xfrm>
                  <a:off x="5697360" y="3851280"/>
                  <a:ext cx="1904760" cy="1266120"/>
                  <a:chOff x="5697360" y="3851280"/>
                  <a:chExt cx="1904760" cy="126612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5773320" y="3851280"/>
                    <a:ext cx="1752840" cy="47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773320" y="4642560"/>
                    <a:ext cx="1752840" cy="47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697360" y="4484520"/>
                    <a:ext cx="1904760" cy="395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7" name=""/>
                <p:cNvSpPr/>
                <p:nvPr/>
              </p:nvSpPr>
              <p:spPr>
                <a:xfrm>
                  <a:off x="7526160" y="4088520"/>
                  <a:ext cx="0" cy="870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773320" y="4088520"/>
                  <a:ext cx="0" cy="870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5697360" y="4184640"/>
                <a:ext cx="1904760" cy="1218600"/>
                <a:chOff x="5697360" y="4184640"/>
                <a:chExt cx="1904760" cy="1218600"/>
              </a:xfrm>
            </p:grpSpPr>
            <p:grpSp>
              <p:nvGrpSpPr>
                <p:cNvPr id="270" name=""/>
                <p:cNvGrpSpPr/>
                <p:nvPr/>
              </p:nvGrpSpPr>
              <p:grpSpPr>
                <a:xfrm>
                  <a:off x="5697360" y="4184640"/>
                  <a:ext cx="1904760" cy="1218600"/>
                  <a:chOff x="5697360" y="4184640"/>
                  <a:chExt cx="1904760" cy="121860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5773320" y="4184640"/>
                    <a:ext cx="1752840" cy="456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5773320" y="4946400"/>
                    <a:ext cx="1752840" cy="456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5697360" y="4794120"/>
                    <a:ext cx="1904760" cy="380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4" name=""/>
                <p:cNvSpPr/>
                <p:nvPr/>
              </p:nvSpPr>
              <p:spPr>
                <a:xfrm>
                  <a:off x="7526160" y="4412880"/>
                  <a:ext cx="0" cy="838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773320" y="4412880"/>
                  <a:ext cx="0" cy="838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5876280" y="4657680"/>
                <a:ext cx="15462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Resourc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and Servic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2892240" y="3325680"/>
              <a:ext cx="0" cy="26240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75200" y="5634360"/>
              <a:ext cx="1305360" cy="703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User Vi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portalM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118120" y="3332160"/>
              <a:ext cx="0" cy="26240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26040" y="5634360"/>
              <a:ext cx="1595160" cy="703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System Vi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ResourceM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032280" y="3145320"/>
              <a:ext cx="192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XML Interfa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3033720" y="3543120"/>
              <a:ext cx="320400" cy="2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57680" y="3514680"/>
              <a:ext cx="301680" cy="32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48960" y="0"/>
            <a:ext cx="81946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Technical Features of Collaborative Portals I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36720" y="736200"/>
            <a:ext cx="820728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XML Interfaces (portalML and resourceML -- latter is Grid Forum for  Comput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C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ain education standards) take a client server view define the objects with 1 interf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dreamsapril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E9CD-9B76-410F-A2D8-38B4770A20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51A0A5-4825-4DA5-94E7-CD00A67D56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48960" y="0"/>
            <a:ext cx="8194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Technical Features of Collaborative Portals II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36720" y="701280"/>
            <a:ext cx="820728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a “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ersonal serv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(logically on client) to separate rendering and user/session log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ortalM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nterface supported by this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pplic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iddle tier) server maps between portalML and resource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can use man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bject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middle t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use emerging technologies such as E-Speak, Ninja, Jini, SOAP or “just” CORBA, Java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initially built from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atew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uting portal as this used two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dreamsapril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4601-FA57-4139-AD92-B3C891B8D97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1CCEBC-886E-4790-A7CE-EEBA2CB467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18640" y="0"/>
            <a:ext cx="8542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Technical Features of Collaborative Portals III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36720" y="701280"/>
            <a:ext cx="820728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outsid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udio-Vide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ferencing (initial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ccess Gr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lMed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em good cho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ight integ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in Tango’s BuenaVista and LecCorder seem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w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day as prevents use of powerful emerging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vent syst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pports and integrates events from all sub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M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vents (information nuggets) used for all user  and dnamic information generated in a 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shared in real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be stored robustly for late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synchronous vie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vent que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licated for performance as in classic distributed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dreamsapril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A785-41DF-4BDB-B5F6-D357F58B0CC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16A251-92C8-480B-BDD6-B34BBD9E1D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3T02:17:47Z</dcterms:created>
  <dc:creator>Geoffrey Fox</dc:creator>
  <dc:description/>
  <dc:language>en-US</dc:language>
  <cp:lastModifiedBy>npac</cp:lastModifiedBy>
  <dcterms:modified xsi:type="dcterms:W3CDTF">2000-04-12T17:17:09Z</dcterms:modified>
  <cp:revision>25</cp:revision>
  <dc:subject/>
  <dc:title>PowerPoint Presentation</dc:title>
</cp:coreProperties>
</file>