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A58-6FED-4B74-918E-4B603BE2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C12-DC5A-43F5-9191-D796C96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0F2-43A6-4928-B97A-7EB7B42D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F43-B367-4A65-9154-08DA522D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E20D9-61EF-466C-B19D-D31C80A1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DA1FA-D00B-44AF-AE37-19A795B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F36C-F218-42E9-9188-3EEEE695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C5E7-2627-4FC2-BFE4-2D01D598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2CF39-36C0-4B10-BAFB-CC1187C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85A44-3845-4143-843F-CAE1BDE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981B-1864-428B-8914-5AD9767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CCB-9173-4DD8-A132-24E466AB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2EE41-B9B6-442B-B6CD-C23FFD98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C2FF-20EB-4E83-A535-9BC2852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BF9F-F8B6-4BE2-B277-E5DDDD8D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2D53-94E7-49D2-8020-1ECB238F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06D1-D9DC-4857-BD79-5E493F98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993-E192-408E-872F-9B807368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08F-5975-4E26-9F9B-3F5A079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F59-4762-4C4F-B231-DE09129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207-C0F2-4905-AC58-AB737642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061-D642-4E72-BE9D-B59C5A2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CA8-D052-4A40-9860-724A192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1EF-7CE7-4CF1-A71A-0A20B14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3619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8CB3-5A8E-4975-B4A1-EFD0EC53C680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D63-661A-4DD8-A218-B2563A2BF2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616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4382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64767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2DC-F62C-405E-B0B7-27DC9F96A7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472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F21-887F-4495-97C4-237CE4685886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ultiMedia Databases for Train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cture Recorder and Player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3657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Presentation May 6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y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ffrey Fox, Marek Podgor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3476-D538-4C9B-99C5-8BE5D3572F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6B9E199-C244-4396-9982-2D13AD8F9F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sic Technical Approach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 the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gg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(educational objects) into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 either directly or as URL pointers to HTML or Images on a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ord audio/vide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either by shooting lectures or from audio-video conferencing), time stamp, digitize into high (MPEG 1,2) and low resolution (H263)ver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 if requir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e pointers to file system store in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ctu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now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y-li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f multiple linked objects arranged in or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“curricula nuggets” (&gt;1 at a time in general) and multiple digitized A/V str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l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ols to vie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0E3-566D-4BE7-AA5E-0689CBB788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8A861FB-D763-45AB-8113-604B1513E1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bstract of NPAC Project Re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an interim report on an NPAC activity to generate multimedia database support for ASC as part of DoD Modernization 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wishes to use their in class video cameras and audio recorders to archive training materia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’s task was the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this informatio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A8F-8D6B-4BD9-BC98-8C575DBA5F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CEE4EC-C1BA-458F-9034-65EE4D5601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ject Go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cla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componen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pture station with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 convers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apabil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ublish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quick Web deploy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i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two-way video/foils synchron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rchable audio/video and presentati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posit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set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yback too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streaming delivery of foils over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393-444B-4C7F-9B4D-177F421705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62D4421-E831-4B4F-9BDF-634448AC8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urseware Conversion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version of the existing recorded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ck Koelbel’s MPI class has been digitized and converted as follow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ire 2-day course recorded on tape has been digitized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-quality MPEG1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net-quality (H263) vid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entire course has been produc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entation slid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have been converted to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-complian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entire class has bee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 foils over video playbac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re package ready for Web publication now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EAE-303F-4B48-AA0A-4DBF352374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6BCDA3-094D-4A5A-8617-7FE1511CB6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Java audio/video and audio play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and ADPCM aud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eaming play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either http protocol or local data files as data sour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deo server support will be available in the next ph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le in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nd-al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 (same set of tools for synchronous and asynchronous delive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/event index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44E-A6BF-404E-87D9-6F3B3CB050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994C38-EBDE-4BA4-ADBB-B675508159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nt development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 Media Framewor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audio and video playback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ets available for playback o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PEG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26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l Audio/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S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itial evalu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y NPAC researcher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esting, but bug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y high startup times (3-4 times longer compared to tools implemented by NP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73A-919B-4DC9-8AF4-737AB3D773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A5CD81-3ED8-4236-BB92-0CDD133275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atus Review: Slide playback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support for the following tool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active Java whiteboar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ys arbitrary images in multiple formats, including GIF, JPEG, and highly-compressed wavelets, as well as standard tex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PowerPoint sli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drawings created in collaborative synchronous ses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-Scene PointPlus Java PowerPoint play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ressed, “streaming” PowerPoint presentatio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delivery does not include contents in this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 yet supported: arbitrary HTML pag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29A-E7D4-4B16-99C6-0EE2E5CEF4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DF8BB5-196D-4827-A50A-AA5DD4964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Video conversion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MPEG1 to H.263/ADPCM convert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ff-line audio/vide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ormat re-encod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for Win 95/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ultiple qualiti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of H.263 video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justable frame size and frame rat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ull set of advanced encoding op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andom-access stream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Bef>
                <a:spcPts val="64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ptional I-frames and frame/file offset look-up tabl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atible with output format of the MPEG1 real-time encod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 Process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GSM/CELP/MPEG4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udio encod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signed for low bit rate Tango A/V conferenc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EC4-8E71-4422-9074-C0B2333704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B3170F-62EE-4F7A-951C-003979B85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Web Publish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urpose: one stop interface for automated Web publishing of “video over foils” l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mbl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elem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lecture from local dis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er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cont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lected HTTP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creates HTTP server directory structure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needed HTML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HTT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e button cli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2nd version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interim solution: should be replaced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base backe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3BF-5143-4F32-9218-5204BDE5CA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CB5464-CBF3-43BB-B02D-36EE08E03D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hat is needed for publishing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lements needed to publish the cours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 and ADPCM audio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se files do not need to be chopped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Point presentation converted via Internet Assista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x file (time stamp/foil # pair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must be created manual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l be created automatically by lecture record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ool for semi-automatic creation for legacy material is op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0C2-8F95-4177-BD4B-4BAA57CD82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C52755-76D9-4463-BB7A-2F0E953476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360" y="1343160"/>
            <a:ext cx="9144360" cy="4759200"/>
            <a:chOff x="-360" y="1343160"/>
            <a:chExt cx="9144360" cy="4759200"/>
          </a:xfrm>
        </p:grpSpPr>
        <p:sp>
          <p:nvSpPr>
            <p:cNvPr id="97" name=""/>
            <p:cNvSpPr/>
            <p:nvPr/>
          </p:nvSpPr>
          <p:spPr>
            <a:xfrm>
              <a:off x="0" y="1343160"/>
              <a:ext cx="9144000" cy="4759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52480" y="2104920"/>
              <a:ext cx="5775480" cy="318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97080" y="2913120"/>
              <a:ext cx="2992680" cy="16185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8400" y="3001680"/>
              <a:ext cx="2887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r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cur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eblinked 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606920" y="212220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606920" y="454464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3705120"/>
              <a:ext cx="140652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687680" y="3705120"/>
              <a:ext cx="143640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100000">
              <a:off x="1751400" y="2592360"/>
              <a:ext cx="2968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llabo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100000">
              <a:off x="4551480" y="4165200"/>
              <a:ext cx="322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mmunic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560000">
              <a:off x="4637520" y="2708280"/>
              <a:ext cx="277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Serv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320000">
              <a:off x="1768680" y="4238280"/>
              <a:ext cx="271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asic Web 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86000" y="1647360"/>
              <a:ext cx="58104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916240" y="5154120"/>
              <a:ext cx="50652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81680" y="1875960"/>
              <a:ext cx="67788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438280" y="5000400"/>
              <a:ext cx="457200" cy="830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080" y="1523880"/>
              <a:ext cx="409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urseware -- 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260000">
              <a:off x="6928200" y="2792520"/>
              <a:ext cx="22957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nchronou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 A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livery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9880" y="5259240"/>
              <a:ext cx="31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Autho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d Editing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440000">
              <a:off x="228600" y="2485440"/>
              <a:ext cx="251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dminist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820000">
              <a:off x="284760" y="4561920"/>
              <a:ext cx="246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ssess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-360" y="3705120"/>
              <a:ext cx="170028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440120" y="4163400"/>
              <a:ext cx="941400" cy="836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620000">
              <a:off x="6114240" y="4800240"/>
              <a:ext cx="1920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nvert Lega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WebWisdom Architecture</a:t>
            </a:r>
            <a:endParaRPr b="1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908-9ED4-422C-9B6C-FC5C792038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249CF9D-6F30-485B-9917-3D5CD683A5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quirements for lecturer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ation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ectronic for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urned in few hours (a day?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fore the cla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for automatic recording, as automatic index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ll not 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electronic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SRC staf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convert the presentation to one of the supported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r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e one of the tools provided with the package to deliver their presen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 PC in the delivery room with pre-installed S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cturer laptops can be accommodated as presentation/ recording tools download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246-1508-4582-BF62-D5B7EFC79D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E2EB521-71D3-4C88-8EFF-DD4B6F69BA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ormats we will sup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or do suppor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suasion, PowerPoint, series of Imag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As exported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ramemak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, lists of URL’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T support forma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t can not be described in terms of information nugge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“Spaghetti” HTML files with or without anchor addresses,  where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cturers use scrollba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navig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AB7-FF09-40B6-83ED-9147E4228B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3F59A58-1BEF-4A37-95FA-C82A908A5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PEG1 f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EN and intranet distribu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1.5 M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0fps, CD quality audio, SIF (320x240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ceptual quality equivalent to VH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ual performance CPU-depend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ActiveMovie, PC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eds video server support (no http streaming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works: Java Media Framework play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tform-independent, internally uses platform-specific C implem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8E0-6B3C-4387-8023-BE57DE7CD7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3EBA75-D197-44E1-9061-BD2B97951E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ideo and audio forma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.263 for low-bitrate (Internet) vide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/encoder enhanced to accommodate random access and error tolerance by adding I-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width: variable, but starts at 9 Kb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: 3-10 fps, QCIF-CIF (9 Kbps=10 fps, QCI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player: both ActiveMovie and Java appl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udio: ADPCM, GSM, MPEG-4 CE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PCM: done, 32 Kbp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M: codec done, integration in progress (13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PEG-4: ongoing, slated for early July (4 - 6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CC5-37A2-4EA4-9303-FF198F2E57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42C932-A57E-452A-B03C-F69949A08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vigation and random acce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deo or audio stream drives slidesh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y, stop, rewi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bu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random se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: uses HTTP protocol for continuous media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facilitate random access, video segmentation is necessary (can be labor intensive; tools may be provi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do this segmentation for Real Audio n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version: two-way navigation with random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less video stream edited/segmented, need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deo server support for random stream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: needs random access protocol such as RTS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59C-740C-4CD1-AE27-798D221DD7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7471779-B5F9-4BDC-95D6-D166562E4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ess since last demonst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utomatic publishing to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prov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ror and special situations hand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forces creation of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HTML files with more descriptiv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yback tool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d protocol for video/slideshow tools communication (now supports pre-fetch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ils over audio for low-performance platfor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video player version for SGI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dified object handling to circumvent garbage collection problems in SGI Java V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8B5-73EF-438D-803F-D72D7F4A96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F141CA-3D5E-4BC8-B246-263F199D6F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coding st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MPEG1 encoder provided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pti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 time encoder of industrial qu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rchival quality digital video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 allows remote control of the encod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coding daemon socket-connected to the presentation tool on the presentation works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creation of indexing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rdware delivered a week a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AB1-F39B-4809-B07D-976DB115FB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9DD3FA-5280-473F-8099-B062472BD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authoring tools do not or poorly suppor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urseware reu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: in 20 minutes, build, publish, and print handouts of a new module consisting of parts of five other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all slides related to a particular topic in presentations delivered during last 6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ow for search of the educational nuggets according to the standard metadata attribu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61B-5B7B-436A-A140-D4E047B79D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A13F10-F019-49BF-A631-C67135BE68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PAC WebWisdom database sup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vers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ols for transformation of legacy formats into self-describing educational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al database loading tool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data creation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esentation management 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reate and edit new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mpl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utomatic creation of Web presentation layer from  database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s recorded using NPAC technology can be immediately loaded in the databa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1D7-3C97-4580-9A2C-B38180CA4A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FF9CC61-7D13-4944-A739-D003DD525E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cture recording for linking synchronous and asynchronous collabo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cture record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a special case of the general session recording capability in the virtual and desktop collaborative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TANGO Interactive session recording capability assumes session recording on the client side (as opposed to the central server record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ssion record re-assembly is done in the central repository with the clients uploading end-user recording information at session termina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350-3E68-40E4-8A85-C359AAB894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CC79B5-05DC-49FD-B54F-D71AA22DF8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atabase Architecture for WebWisdom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B_OEQ127" descr=""/>
          <p:cNvPicPr/>
          <p:nvPr/>
        </p:nvPicPr>
        <p:blipFill>
          <a:blip r:embed="rId1"/>
          <a:stretch/>
        </p:blipFill>
        <p:spPr>
          <a:xfrm>
            <a:off x="7742160" y="1890720"/>
            <a:ext cx="858960" cy="984240"/>
          </a:xfrm>
          <a:prstGeom prst="rect">
            <a:avLst/>
          </a:prstGeom>
          <a:ln w="0">
            <a:noFill/>
          </a:ln>
        </p:spPr>
      </p:pic>
      <p:pic>
        <p:nvPicPr>
          <p:cNvPr id="124" name="B_OEQ128" descr=""/>
          <p:cNvPicPr/>
          <p:nvPr/>
        </p:nvPicPr>
        <p:blipFill>
          <a:blip r:embed="rId2"/>
          <a:stretch/>
        </p:blipFill>
        <p:spPr>
          <a:xfrm>
            <a:off x="5450040" y="1563840"/>
            <a:ext cx="109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12920" y="1411200"/>
            <a:ext cx="1752480" cy="1676160"/>
            <a:chOff x="412920" y="1411200"/>
            <a:chExt cx="1752480" cy="1676160"/>
          </a:xfrm>
        </p:grpSpPr>
        <p:grpSp>
          <p:nvGrpSpPr>
            <p:cNvPr id="126" name=""/>
            <p:cNvGrpSpPr/>
            <p:nvPr/>
          </p:nvGrpSpPr>
          <p:grpSpPr>
            <a:xfrm>
              <a:off x="412920" y="1411200"/>
              <a:ext cx="1752480" cy="1676160"/>
              <a:chOff x="412920" y="1411200"/>
              <a:chExt cx="1752480" cy="1676160"/>
            </a:xfrm>
          </p:grpSpPr>
          <p:sp>
            <p:nvSpPr>
              <p:cNvPr id="127" name=""/>
              <p:cNvSpPr/>
              <p:nvPr/>
            </p:nvSpPr>
            <p:spPr>
              <a:xfrm>
                <a:off x="412920" y="240156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5400" y="1715760"/>
                <a:ext cx="0" cy="106704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70120" y="2097000"/>
                <a:ext cx="0" cy="30456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03280" y="2097000"/>
                <a:ext cx="0" cy="30456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74680" y="2097000"/>
                <a:ext cx="228600" cy="914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03280" y="20206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0120" y="2097000"/>
                <a:ext cx="304560" cy="838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920" y="1792080"/>
                <a:ext cx="30456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480" y="1944360"/>
                <a:ext cx="30492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1880" y="194436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60480" y="1868400"/>
                <a:ext cx="228600" cy="99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36800" y="1792080"/>
                <a:ext cx="228600" cy="99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2920" y="1411200"/>
                <a:ext cx="175248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2920" y="1715760"/>
                <a:ext cx="0" cy="106704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84280" y="22942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6720" y="4418280"/>
            <a:ext cx="1873440" cy="1923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al Obj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.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Defining Content of Curricula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600200"/>
            <a:ext cx="1992240" cy="1279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891000"/>
            <a:ext cx="18734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89160" y="1890720"/>
            <a:ext cx="779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2400" y="2589120"/>
            <a:ext cx="743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9600" y="61524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306440" y="2865600"/>
            <a:ext cx="0" cy="1522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5280" y="2235240"/>
            <a:ext cx="682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608120" y="2832120"/>
            <a:ext cx="2208240" cy="138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2640" y="4286520"/>
            <a:ext cx="3800520" cy="1313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ventional HTML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ally Gene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ing XML synta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blin Core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155920" y="2287440"/>
            <a:ext cx="865080" cy="194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81400" y="7963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225520"/>
            <a:ext cx="1301760" cy="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2292120"/>
            <a:ext cx="1041480" cy="1942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256280"/>
            <a:ext cx="1873080" cy="1618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mplat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ining How educational data stored in 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254240" y="1081080"/>
            <a:ext cx="552240" cy="584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1087560"/>
            <a:ext cx="0" cy="48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37440" y="1263600"/>
            <a:ext cx="1800" cy="595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48F-21CD-425E-91B9-F07F05006E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629D08-8A1B-4B32-84F7-D864282FA5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ical Tools and Services in WebWisdom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query and acc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ing indexed video cli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i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luding specialized VRML, GIS (virtual worlds), Simulations as well as classic 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sharing of interactiv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nchronous and Synchrono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disabled individuals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al acc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urit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proprietary material and personal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 of Servi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replication and bandwidth trade-off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nchronous has less demands than synchrono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sion and Integr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gacy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ho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object creation)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sess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ration and Logging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cializ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s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gramming laborator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22D-4D19-4E6F-A0D4-8EF0BD5971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9763138-7379-4A17-911B-918BC3A955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273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SC499 at Jackson Stat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ught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go/WebWisd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ver Internet (now DREN via CEWES) every Tuesday and Thursday from Syracu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urse material based on Syracuse Senior Undergraduate class ECS406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ckson State major HBC Univers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many computer science gradua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not compete with base courses but off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ddon-on cour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“leading edge” material (Web Technology) which give JSU graduates skills that are important in their care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ob fair employers liked Java Programming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eds guaranteed 30 (audio) to 100 (two wa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kilobits per second bandwidth assuming course material mirrored at JS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n be offered using CD-ROM’s to homes with audio only link an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8.8 kbaud mode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pe to offer our analogous K-12 Java Academy to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ddle and high school stud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us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ango/WebWisd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each to other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-- tra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rain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274-CC48-4AF5-BA78-2362184A2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5CD365C-99E1-4F87-A8F9-98881AC7B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ngo WebWisdom Model Collaborative University model for Education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ies “specializ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deliver courses in areas of experti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all student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facul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ccess to broader range of leading-edge cour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lea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BC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de deploy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PAC will attempt to us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nation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lo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anc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rain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DoD user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njm-trs-teaching" descr=""/>
          <p:cNvPicPr/>
          <p:nvPr/>
        </p:nvPicPr>
        <p:blipFill>
          <a:blip r:embed="rId1"/>
          <a:srcRect l="0" t="20000" r="0" b="0"/>
          <a:stretch/>
        </p:blipFill>
        <p:spPr>
          <a:xfrm>
            <a:off x="6248520" y="182880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67" name="jsu-students2" descr=""/>
          <p:cNvPicPr/>
          <p:nvPr/>
        </p:nvPicPr>
        <p:blipFill>
          <a:blip r:embed="rId2"/>
          <a:srcRect l="0" t="0" r="27827" b="0"/>
          <a:stretch/>
        </p:blipFill>
        <p:spPr>
          <a:xfrm>
            <a:off x="7238880" y="3505320"/>
            <a:ext cx="1905120" cy="1782720"/>
          </a:xfrm>
          <a:prstGeom prst="rect">
            <a:avLst/>
          </a:prstGeom>
          <a:ln w="0">
            <a:noFill/>
          </a:ln>
        </p:spPr>
      </p:pic>
      <p:pic>
        <p:nvPicPr>
          <p:cNvPr id="168" name="jsu-students3" descr=""/>
          <p:cNvPicPr/>
          <p:nvPr/>
        </p:nvPicPr>
        <p:blipFill>
          <a:blip r:embed="rId3"/>
          <a:srcRect l="0" t="14544" r="0" b="0"/>
          <a:stretch/>
        </p:blipFill>
        <p:spPr>
          <a:xfrm>
            <a:off x="5410080" y="48006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jsu-students1" descr=""/>
          <p:cNvPicPr/>
          <p:nvPr/>
        </p:nvPicPr>
        <p:blipFill>
          <a:blip r:embed="rId4"/>
          <a:srcRect l="0" t="16941" r="0" b="0"/>
          <a:stretch/>
        </p:blipFill>
        <p:spPr>
          <a:xfrm>
            <a:off x="4419720" y="2362320"/>
            <a:ext cx="2097000" cy="26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2E8-70A2-4DD7-B2DA-3F2D3137A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DA5211-5E71-4CE6-9387-0423F3865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rent Architecture of JSU Distance Educ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46960" y="183528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AC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97160" y="1447920"/>
            <a:ext cx="13636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We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60560" y="3235320"/>
            <a:ext cx="1363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B_OEQ127" descr=""/>
          <p:cNvPicPr/>
          <p:nvPr/>
        </p:nvPicPr>
        <p:blipFill>
          <a:blip r:embed="rId1"/>
          <a:stretch/>
        </p:blipFill>
        <p:spPr>
          <a:xfrm>
            <a:off x="6910560" y="4373640"/>
            <a:ext cx="85860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B_OEQ127" descr=""/>
          <p:cNvPicPr/>
          <p:nvPr/>
        </p:nvPicPr>
        <p:blipFill>
          <a:blip r:embed="rId2"/>
          <a:stretch/>
        </p:blipFill>
        <p:spPr>
          <a:xfrm>
            <a:off x="38088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77" name="B_OEQ127" descr=""/>
          <p:cNvPicPr/>
          <p:nvPr/>
        </p:nvPicPr>
        <p:blipFill>
          <a:blip r:embed="rId3"/>
          <a:stretch/>
        </p:blipFill>
        <p:spPr>
          <a:xfrm>
            <a:off x="171756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78" name="B_OEQ127" descr=""/>
          <p:cNvPicPr/>
          <p:nvPr/>
        </p:nvPicPr>
        <p:blipFill>
          <a:blip r:embed="rId4"/>
          <a:stretch/>
        </p:blipFill>
        <p:spPr>
          <a:xfrm>
            <a:off x="104616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7440" y="49186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B_OEQ127" descr=""/>
          <p:cNvPicPr/>
          <p:nvPr/>
        </p:nvPicPr>
        <p:blipFill>
          <a:blip r:embed="rId5"/>
          <a:stretch/>
        </p:blipFill>
        <p:spPr>
          <a:xfrm>
            <a:off x="307980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176960" y="2673360"/>
            <a:ext cx="0" cy="16606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960200" y="4097160"/>
            <a:ext cx="142920" cy="1132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9520" y="4095720"/>
            <a:ext cx="126180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4640" y="4307040"/>
            <a:ext cx="3652560" cy="82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65640" y="3957480"/>
            <a:ext cx="3590640" cy="7606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7880" y="3624120"/>
            <a:ext cx="3706560" cy="84960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3960" y="3854520"/>
            <a:ext cx="1209600" cy="132552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4680" y="2284560"/>
            <a:ext cx="1120680" cy="2935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49600" y="2902320"/>
            <a:ext cx="21452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dress at JSU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8120" y="3054960"/>
            <a:ext cx="21481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080" y="2423160"/>
            <a:ext cx="2108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" y="5931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249-C491-4B99-9488-5A80544C0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C23F54-2F4E-4D4A-954E-F1F9F429CE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 Backend for Synchronous or Asynchronous Learning</a:t>
            </a:r>
            <a:endParaRPr b="1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0560" y="3235320"/>
            <a:ext cx="1363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JSU Tang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B_OEQ127" descr=""/>
          <p:cNvPicPr/>
          <p:nvPr/>
        </p:nvPicPr>
        <p:blipFill>
          <a:blip r:embed="rId1"/>
          <a:stretch/>
        </p:blipFill>
        <p:spPr>
          <a:xfrm>
            <a:off x="6910560" y="4373640"/>
            <a:ext cx="858600" cy="984240"/>
          </a:xfrm>
          <a:prstGeom prst="rect">
            <a:avLst/>
          </a:prstGeom>
          <a:ln w="0">
            <a:noFill/>
          </a:ln>
        </p:spPr>
      </p:pic>
      <p:pic>
        <p:nvPicPr>
          <p:cNvPr id="198" name="B_OEQ127" descr=""/>
          <p:cNvPicPr/>
          <p:nvPr/>
        </p:nvPicPr>
        <p:blipFill>
          <a:blip r:embed="rId2"/>
          <a:stretch/>
        </p:blipFill>
        <p:spPr>
          <a:xfrm>
            <a:off x="38088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199" name="B_OEQ127" descr=""/>
          <p:cNvPicPr/>
          <p:nvPr/>
        </p:nvPicPr>
        <p:blipFill>
          <a:blip r:embed="rId3"/>
          <a:stretch/>
        </p:blipFill>
        <p:spPr>
          <a:xfrm>
            <a:off x="1717560" y="5276880"/>
            <a:ext cx="486000" cy="557280"/>
          </a:xfrm>
          <a:prstGeom prst="rect">
            <a:avLst/>
          </a:prstGeom>
          <a:ln w="0">
            <a:noFill/>
          </a:ln>
        </p:spPr>
      </p:pic>
      <p:pic>
        <p:nvPicPr>
          <p:cNvPr id="200" name="B_OEQ127" descr=""/>
          <p:cNvPicPr/>
          <p:nvPr/>
        </p:nvPicPr>
        <p:blipFill>
          <a:blip r:embed="rId4"/>
          <a:stretch/>
        </p:blipFill>
        <p:spPr>
          <a:xfrm>
            <a:off x="104616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87440" y="49186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B_OEQ127" descr=""/>
          <p:cNvPicPr/>
          <p:nvPr/>
        </p:nvPicPr>
        <p:blipFill>
          <a:blip r:embed="rId5"/>
          <a:stretch/>
        </p:blipFill>
        <p:spPr>
          <a:xfrm>
            <a:off x="3079800" y="5276880"/>
            <a:ext cx="485640" cy="557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76960" y="2673360"/>
            <a:ext cx="0" cy="16606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60200" y="4097160"/>
            <a:ext cx="142920" cy="1132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39520" y="4095720"/>
            <a:ext cx="1261800" cy="11318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14640" y="4307040"/>
            <a:ext cx="3652560" cy="82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dio Video Conferencing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hat Rooms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65640" y="3957480"/>
            <a:ext cx="3590640" cy="7606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7880" y="3624120"/>
            <a:ext cx="3706560" cy="84960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23960" y="3854520"/>
            <a:ext cx="1209600" cy="132552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9480" y="2286000"/>
            <a:ext cx="51120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2640" y="2902320"/>
            <a:ext cx="22791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base Entry for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8120" y="3054960"/>
            <a:ext cx="21481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acher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080" y="2423160"/>
            <a:ext cx="2108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udent’s View o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P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7680" y="5931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nts at J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91640" y="54820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er/Lecturer at N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747880" y="457200"/>
            <a:ext cx="2892240" cy="2209320"/>
            <a:chOff x="2747880" y="457200"/>
            <a:chExt cx="2892240" cy="2209320"/>
          </a:xfrm>
        </p:grpSpPr>
        <p:sp>
          <p:nvSpPr>
            <p:cNvPr id="217" name=""/>
            <p:cNvSpPr/>
            <p:nvPr/>
          </p:nvSpPr>
          <p:spPr>
            <a:xfrm>
              <a:off x="2747880" y="1762560"/>
              <a:ext cx="2892240" cy="903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0120" y="858600"/>
              <a:ext cx="0" cy="140652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2440" y="1361160"/>
              <a:ext cx="0" cy="4014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82280" y="1361160"/>
              <a:ext cx="0" cy="4014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05000" y="1361160"/>
              <a:ext cx="377280" cy="120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82280" y="126036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2440" y="1361160"/>
              <a:ext cx="502560" cy="1104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7880" y="959040"/>
              <a:ext cx="50256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0440" y="1159920"/>
              <a:ext cx="50292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59560" y="115992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36840" y="1059840"/>
              <a:ext cx="377280" cy="130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62840" y="959040"/>
              <a:ext cx="377280" cy="130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7880" y="457200"/>
              <a:ext cx="2892240" cy="903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7880" y="858600"/>
              <a:ext cx="0" cy="140652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817720" y="1294200"/>
            <a:ext cx="270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assic Distribut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licated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d Administra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990720"/>
            <a:ext cx="1992240" cy="1660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PAC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779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990720"/>
            <a:ext cx="743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533520"/>
            <a:ext cx="1992600" cy="1660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SU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 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ava(JDBC)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ve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5D5-9EF2-4179-942E-120CDC0E7D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859E429-3700-4790-80BB-146057061A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Global Issu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are man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ferent video and audio encoding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de variation and tradeoff betwe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, bandwid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ed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PU deman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encoding and deco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r ones (Real Audio, Real Video)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 designed for audio video conferenc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ut rather asynchronous stream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age qua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quires that one take “foils” from computer and not video shots. This is impossible unless lecture delineated into “nuggets” and beginning and end of each nugge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 stamp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very goo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 synchroniz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video and computer and between different participants in distance deli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recorded lectures is often poor and suggests need for edi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one associate audio/video with a “nugget” or a lectur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ytonma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1CF-3F10-4601-A1D8-3C8EA9F6AB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179A50-E9CC-405E-9644-A908119D61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5-05T17:01:00Z</cp:lastPrinted>
  <dcterms:modified xsi:type="dcterms:W3CDTF">1998-05-06T11:41:56Z</dcterms:modified>
  <cp:revision>32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