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llaboration and Training with Tango-Interac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81640" y="609480"/>
            <a:ext cx="3762000" cy="1586160"/>
            <a:chOff x="5381640" y="609480"/>
            <a:chExt cx="3762000" cy="1586160"/>
          </a:xfrm>
        </p:grpSpPr>
        <p:pic>
          <p:nvPicPr>
            <p:cNvPr id="78" name="tango7" descr=""/>
            <p:cNvPicPr/>
            <p:nvPr/>
          </p:nvPicPr>
          <p:blipFill>
            <a:blip r:embed="rId2"/>
            <a:stretch/>
          </p:blipFill>
          <p:spPr>
            <a:xfrm>
              <a:off x="5991120" y="609480"/>
              <a:ext cx="2463840" cy="1586160"/>
            </a:xfrm>
            <a:prstGeom prst="rect">
              <a:avLst/>
            </a:prstGeom>
            <a:ln w="9360">
              <a:solidFill>
                <a:srgbClr val="578963"/>
              </a:solidFill>
              <a:miter/>
            </a:ln>
          </p:spPr>
        </p:pic>
        <p:sp>
          <p:nvSpPr>
            <p:cNvPr id="79" name=""/>
            <p:cNvSpPr/>
            <p:nvPr/>
          </p:nvSpPr>
          <p:spPr>
            <a:xfrm flipV="1">
              <a:off x="7693200" y="899640"/>
              <a:ext cx="330120" cy="25560"/>
            </a:xfrm>
            <a:prstGeom prst="line">
              <a:avLst/>
            </a:prstGeom>
            <a:ln w="57240">
              <a:solidFill>
                <a:srgbClr val="2b4c7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81640" y="609480"/>
              <a:ext cx="1018800" cy="30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Web Page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33920" y="990720"/>
              <a:ext cx="540360" cy="30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59400" y="1447920"/>
              <a:ext cx="557280" cy="30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++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8400" y="1179360"/>
              <a:ext cx="609480" cy="51120"/>
            </a:xfrm>
            <a:prstGeom prst="line">
              <a:avLst/>
            </a:prstGeom>
            <a:ln w="57240">
              <a:solidFill>
                <a:srgbClr val="2b4c7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092640" y="1179360"/>
              <a:ext cx="787320" cy="51120"/>
            </a:xfrm>
            <a:prstGeom prst="line">
              <a:avLst/>
            </a:prstGeom>
            <a:ln w="57240">
              <a:solidFill>
                <a:srgbClr val="304d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6422760" y="874440"/>
              <a:ext cx="431640" cy="50760"/>
            </a:xfrm>
            <a:prstGeom prst="line">
              <a:avLst/>
            </a:prstGeom>
            <a:ln w="57240">
              <a:solidFill>
                <a:srgbClr val="2b4c7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067440" y="1332000"/>
              <a:ext cx="736560" cy="304560"/>
            </a:xfrm>
            <a:prstGeom prst="line">
              <a:avLst/>
            </a:prstGeom>
            <a:ln w="57240">
              <a:solidFill>
                <a:srgbClr val="304d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94720" y="1332000"/>
              <a:ext cx="533160" cy="304560"/>
            </a:xfrm>
            <a:prstGeom prst="line">
              <a:avLst/>
            </a:prstGeom>
            <a:ln w="57240">
              <a:solidFill>
                <a:srgbClr val="304d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24840" y="609480"/>
              <a:ext cx="1018800" cy="30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Web Page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3080" y="1066680"/>
              <a:ext cx="540360" cy="30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54880" y="1523880"/>
              <a:ext cx="557280" cy="30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++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60" y="685800"/>
            <a:ext cx="55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go is a fully web integrat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that can share general cli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de applications, web pages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 from databases and other server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28600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DoD PET program TangoInteractive is being deployed to support two types of applica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ance Education and Trai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ve Support for MSRC Operations including research, management and user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re Activ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Shared among all MSRC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ic Collaborat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AR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ducation and Train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mainly CEWES but all 4 involv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cludes distance teaching at HBCU, Curricula on CDROM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vanced Collaborat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ARL (Shared Visualization at NCSA) and CEWES (Program Developmen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media and Comput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 Backen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AS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ance Lear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1160" y="14400"/>
            <a:ext cx="8963640" cy="1434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Distance Learning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Electronic Communities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Web-linked Database 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_OEQ127" descr=""/>
          <p:cNvPicPr/>
          <p:nvPr/>
        </p:nvPicPr>
        <p:blipFill>
          <a:blip r:embed="rId2"/>
          <a:stretch/>
        </p:blipFill>
        <p:spPr>
          <a:xfrm>
            <a:off x="7751880" y="1890720"/>
            <a:ext cx="858600" cy="984240"/>
          </a:xfrm>
          <a:prstGeom prst="rect">
            <a:avLst/>
          </a:prstGeom>
          <a:ln w="0">
            <a:noFill/>
          </a:ln>
        </p:spPr>
      </p:pic>
      <p:pic>
        <p:nvPicPr>
          <p:cNvPr id="101" name="B_OEQ128" descr=""/>
          <p:cNvPicPr/>
          <p:nvPr/>
        </p:nvPicPr>
        <p:blipFill>
          <a:blip r:embed="rId3"/>
          <a:stretch/>
        </p:blipFill>
        <p:spPr>
          <a:xfrm>
            <a:off x="5450040" y="1563840"/>
            <a:ext cx="109512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412920" y="1411200"/>
            <a:ext cx="1752480" cy="1676160"/>
            <a:chOff x="412920" y="1411200"/>
            <a:chExt cx="1752480" cy="1676160"/>
          </a:xfrm>
        </p:grpSpPr>
        <p:grpSp>
          <p:nvGrpSpPr>
            <p:cNvPr id="103" name=""/>
            <p:cNvGrpSpPr/>
            <p:nvPr/>
          </p:nvGrpSpPr>
          <p:grpSpPr>
            <a:xfrm>
              <a:off x="412920" y="1411200"/>
              <a:ext cx="1752480" cy="1676160"/>
              <a:chOff x="412920" y="1411200"/>
              <a:chExt cx="1752480" cy="1676160"/>
            </a:xfrm>
          </p:grpSpPr>
          <p:sp>
            <p:nvSpPr>
              <p:cNvPr id="104" name=""/>
              <p:cNvSpPr/>
              <p:nvPr/>
            </p:nvSpPr>
            <p:spPr>
              <a:xfrm>
                <a:off x="412920" y="240156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65400" y="1715760"/>
                <a:ext cx="0" cy="1067040"/>
              </a:xfrm>
              <a:prstGeom prst="line">
                <a:avLst/>
              </a:prstGeom>
              <a:ln w="1908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0120" y="2097000"/>
                <a:ext cx="0" cy="304560"/>
              </a:xfrm>
              <a:prstGeom prst="line">
                <a:avLst/>
              </a:prstGeom>
              <a:ln w="1908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03280" y="2097000"/>
                <a:ext cx="0" cy="304560"/>
              </a:xfrm>
              <a:prstGeom prst="line">
                <a:avLst/>
              </a:prstGeom>
              <a:ln w="1908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74680" y="2097000"/>
                <a:ext cx="228600" cy="91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03280" y="202068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70120" y="2097000"/>
                <a:ext cx="304560" cy="838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2920" y="1792080"/>
                <a:ext cx="30456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7480" y="1944360"/>
                <a:ext cx="3049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31880" y="194436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60480" y="1868400"/>
                <a:ext cx="228600" cy="99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36800" y="179208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2920" y="141120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2920" y="1715760"/>
                <a:ext cx="0" cy="1067040"/>
              </a:xfrm>
              <a:prstGeom prst="line">
                <a:avLst/>
              </a:prstGeom>
              <a:ln w="1908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84280" y="22942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71360" y="3735720"/>
            <a:ext cx="2264040" cy="25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cational Objects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i.e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ata Defining Curricula Material at all levels from “University” to “foil”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523880"/>
            <a:ext cx="2070000" cy="14479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rver sid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ava(JDBC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/XML Parser)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rvl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77920" y="818280"/>
            <a:ext cx="1873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89160" y="1890720"/>
            <a:ext cx="779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92400" y="2589120"/>
            <a:ext cx="743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5520" y="689760"/>
            <a:ext cx="2971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/Video Serv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06440" y="28652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2096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461600" y="2722680"/>
            <a:ext cx="1854360" cy="51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5275440"/>
            <a:ext cx="380052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onventional HTML Pag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ynamically Generate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S/ADL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) Meta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treaming Audio/Video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952880" y="2285640"/>
            <a:ext cx="15264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81400" y="796320"/>
            <a:ext cx="2259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553080" y="2209680"/>
            <a:ext cx="129564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34120" y="2292120"/>
            <a:ext cx="1879560" cy="28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0680" y="3125880"/>
            <a:ext cx="1873080" cy="192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mplat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ining in XML How educational data stored in  Pag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034640" y="1276200"/>
            <a:ext cx="552600" cy="58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35720" y="1220760"/>
            <a:ext cx="426960" cy="45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37440" y="1263600"/>
            <a:ext cx="1800" cy="59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B_OEQ127" descr=""/>
          <p:cNvPicPr/>
          <p:nvPr/>
        </p:nvPicPr>
        <p:blipFill>
          <a:blip r:embed="rId4"/>
          <a:stretch/>
        </p:blipFill>
        <p:spPr>
          <a:xfrm>
            <a:off x="7751880" y="5105520"/>
            <a:ext cx="858600" cy="984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53280" y="2895480"/>
            <a:ext cx="0" cy="2210040"/>
          </a:xfrm>
          <a:prstGeom prst="line">
            <a:avLst/>
          </a:prstGeom>
          <a:ln w="38160">
            <a:solidFill>
              <a:srgbClr val="333333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9" name="tango7" descr=""/>
          <p:cNvPicPr/>
          <p:nvPr/>
        </p:nvPicPr>
        <p:blipFill>
          <a:blip r:embed="rId5"/>
          <a:stretch/>
        </p:blipFill>
        <p:spPr>
          <a:xfrm>
            <a:off x="7620120" y="3276720"/>
            <a:ext cx="1066680" cy="68580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6553080" y="2378160"/>
            <a:ext cx="1295640" cy="318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71440" y="3962520"/>
            <a:ext cx="1363320" cy="703800"/>
          </a:xfrm>
          <a:prstGeom prst="rect">
            <a:avLst/>
          </a:prstGeom>
          <a:solidFill>
            <a:srgbClr val="a9b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hare with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ang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9:10:24Z</dcterms:created>
  <dc:creator>Geoffrey C. Fox</dc:creator>
  <dc:description/>
  <dc:language>en-US</dc:language>
  <cp:lastModifiedBy>David E Bernholdt</cp:lastModifiedBy>
  <cp:lastPrinted>1998-08-24T13:34:56Z</cp:lastPrinted>
  <dcterms:modified xsi:type="dcterms:W3CDTF">1998-08-24T13:35:07Z</dcterms:modified>
  <cp:revision>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