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179DD4-D0ED-4888-B025-9582E2DC2BB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CF4383-6710-42F4-8E0E-4368C01C480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7F0C30-3F5C-43C3-883B-C6C1F61C7D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7DC517-3781-48C1-801F-D084B8CEA88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3681FB-4B07-483E-AB20-0A28174BF00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771FDA-A5B0-47D7-B9BB-2039F4051A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6A031D-8A16-434C-BF2E-E606F26B951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A97749-B2AC-4755-A210-4B388447517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8EF866-67E7-41E5-BAA0-3A7A1CF318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BA0853-BC73-43C6-A2BE-D6A47810E3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7659B3-6BEA-4C5F-AB46-D2403E6423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1E8A46-FC20-4E42-9EC0-E4326EB32EF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99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99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D2598-4ACA-423C-9838-715EC1A85243}" type="slidenum">
              <a:rPr b="0" lang="en-US" sz="900" spc="-1" strike="noStrike">
                <a:solidFill>
                  <a:srgbClr val="ff9933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PETIMAGE" descr=""/>
          <p:cNvPicPr/>
          <p:nvPr/>
        </p:nvPicPr>
        <p:blipFill>
          <a:blip r:embed="rId2"/>
          <a:stretch/>
        </p:blipFill>
        <p:spPr>
          <a:xfrm>
            <a:off x="504720" y="0"/>
            <a:ext cx="8334360" cy="533520"/>
          </a:xfrm>
          <a:prstGeom prst="rect">
            <a:avLst/>
          </a:prstGeom>
          <a:ln w="0">
            <a:noFill/>
          </a:ln>
        </p:spPr>
      </p:pic>
      <p:pic>
        <p:nvPicPr>
          <p:cNvPr id="4" name="Nrclogo" descr=""/>
          <p:cNvPicPr/>
          <p:nvPr/>
        </p:nvPicPr>
        <p:blipFill>
          <a:blip r:embed="rId3"/>
          <a:stretch/>
        </p:blipFill>
        <p:spPr>
          <a:xfrm>
            <a:off x="0" y="6149880"/>
            <a:ext cx="1892160" cy="708120"/>
          </a:xfrm>
          <a:prstGeom prst="rect">
            <a:avLst/>
          </a:prstGeom>
          <a:ln w="0">
            <a:noFill/>
          </a:ln>
        </p:spPr>
      </p:pic>
      <p:pic>
        <p:nvPicPr>
          <p:cNvPr id="5" name="newmsrclogo" descr=""/>
          <p:cNvPicPr/>
          <p:nvPr/>
        </p:nvPicPr>
        <p:blipFill>
          <a:blip r:embed="rId4"/>
          <a:stretch/>
        </p:blipFill>
        <p:spPr>
          <a:xfrm>
            <a:off x="6705720" y="6122880"/>
            <a:ext cx="2133360" cy="735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Times New Roman"/>
              </a:rPr>
              <a:t>T</a:t>
            </a: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ANGO</a:t>
            </a:r>
            <a:r>
              <a:rPr b="1" lang="en-US" sz="4000" spc="-1" strike="noStrike">
                <a:solidFill>
                  <a:srgbClr val="ffcc66"/>
                </a:solidFill>
                <a:latin typeface="Times New Roman"/>
              </a:rPr>
              <a:t> On-going Enhancements</a:t>
            </a: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80773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Main focus on: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system robustness and maintainability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enhancements for collaborative and educational functions (new and improved applications)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linkage of synchronous and asynchronous modes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linkage to asynchronous document repositories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lvl="2" marL="1108440" indent="-221400">
              <a:spcBef>
                <a:spcPts val="601"/>
              </a:spcBef>
              <a:buClr>
                <a:srgbClr val="ff99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databases and W3C object model sharing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system programmability (APIs)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documentation and training material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375D69-89DD-4E43-8C2A-6DA7FDB5109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Robustness and Stability</a:t>
            </a:r>
            <a:endParaRPr b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Extensive in-house and field testing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bug submission and fix tracing procedures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In-depth study of underlying (undocumented) browser technology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Dozens of bugs uncovered and fixed</a:t>
            </a: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Improvements to protocols and architectural modifications in multithreaded design of server and client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Robust installation procedures implemented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F625D3-87BF-4A6B-A8E5-127FC5FD086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Universal Browser Support</a:t>
            </a:r>
            <a:endParaRPr b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SoW stipulates support for Internet Explorer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not completed as of today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Alternative approach studied, designed, and implemented (prototype completed)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Browsers critical but extremely unfriendly for developers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Performance problems under UNIX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Development and maintenance of  two different technologies too expensive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928CF0-CA3C-4BE7-9094-E792302CB4E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Solution: Browser-less T</a:t>
            </a:r>
            <a:r>
              <a:rPr b="1" lang="en-US" sz="4000" spc="-1" strike="noStrike">
                <a:solidFill>
                  <a:srgbClr val="ffcc66"/>
                </a:solidFill>
                <a:latin typeface="Times New Roman"/>
              </a:rPr>
              <a:t>ANGO</a:t>
            </a:r>
            <a:endParaRPr b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440" y="1371240"/>
            <a:ext cx="79246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99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We implemented in-browser Java functionality outside of the browser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700"/>
              </a:spcBef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modified JDK applet viewer, truly platform-independent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700"/>
              </a:spcBef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high-performance, very robust and stable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700"/>
              </a:spcBef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unmodified Java and local applications (!)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Browser still supported via LiveConnect emulator - no functionality loss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Much easier to accommodate ANY browser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expect simpler port of complex Javascript/W3C DOM applications to MS IE 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1D38A9-816C-40DB-8731-54C505DFDA4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Programming Interfaces</a:t>
            </a:r>
            <a:endParaRPr b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059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To enable 3rd-party application development, a set of new APIs was designed and documented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http://www.npac.syr.edu/tango/Developers_pages/developers_pages.html</a:t>
            </a:r>
            <a:endParaRPr b="0" lang="en-US" sz="1400" spc="-1" strike="noStrike">
              <a:solidFill>
                <a:srgbClr val="ff9933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ANGO</a:t>
            </a: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 runtime functionality encapsulated in a system proxy agent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proxy methods callable from any language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ANGO</a:t>
            </a: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Bean enables visual programming of collaborative applications (no extra coding!)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New APIs support embedding of </a:t>
            </a:r>
            <a:r>
              <a:rPr b="0" i="1" lang="en-US" sz="3200" spc="-1" strike="noStrike">
                <a:solidFill>
                  <a:srgbClr val="ff9933"/>
                </a:solidFill>
                <a:latin typeface="Times New Roman"/>
              </a:rPr>
              <a:t>active shared objects</a:t>
            </a: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 in Web pages!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F6B28B-C7C8-4181-B947-A6D4E5378A7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Towards Virtual Civilization</a:t>
            </a:r>
            <a:endParaRPr b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80010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Personal Identity Module for T</a:t>
            </a: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ANGO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Database backend (relational or LDAP) to hold user identities and information, interfaced to collaboratory server (70% completed)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supports authentication, security, assessment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necessary for sync/async integration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ANGO</a:t>
            </a: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/Mail/Listserv interface implemented, being integrated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Local storage and file distribution interface implemented, being integrated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D7C2E1-AAEB-4B54-A828-957256CE255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Customizability</a:t>
            </a:r>
            <a:endParaRPr b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New client  supports configurable, domain-specific interfaces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selection of collaborative tools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predefined, automatically started session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hidden agents (faceless application)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multi-frame integrated interfaces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administrative interfaces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all aspects under external control of system administrator/end user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BEE8DA-F70C-42EC-843B-9D40B0CAC6D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Virtual Space Navigation</a:t>
            </a:r>
            <a:endParaRPr b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Support for run-time server hoping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Support for communities/interest groups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Hierarchical visualization of the “collaboration space”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Server/community/session/user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More granular, “per-session” floor control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New session control paradigm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Comprehensive, multi-level access to user information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B37D35-B321-44F1-8B15-4064B2E53B3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Shared Access to Databases</a:t>
            </a:r>
            <a:endParaRPr b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New shared browser supports shared access to pages of arbitrary complexity, including CSS-based contents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Sharing of XML-compliant documents is fully supported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Shared access to relational courseware repositories is implemented via server-side extensions implementing XML-style tags (WebWisdom NT 2.1)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8A8FBB-DB30-4BAD-8C17-DDA8F41AC8C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T</a:t>
            </a: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ANGO</a:t>
            </a: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 Deployment Status</a:t>
            </a:r>
            <a:endParaRPr b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Support for education: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Jackson State University (full installation)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Morgan State University (full installation)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Clark Atlanta, Houston, MSU  (client side)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Support for training: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CEWES (full installation)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ARL/HEAT center (full installation)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OSC (client and collaboratory server)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ASC (client side)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92A78A-A6FA-44B2-AE88-9AA339A916F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System Releases</a:t>
            </a:r>
            <a:endParaRPr b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ANGO</a:t>
            </a: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 1.0 released in May 98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packaged servers for both UNIX and Windows NT platforms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99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automated, industrial grade installation procedures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99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industrial grade stability and robustness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packaging for the complete application suite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system deployed at CEWES and ARL and at several HBCUs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used by several universities in US and abroad (~ 1000 downloads)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67D4B2-92AB-48C1-876A-87AD8A85294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Times New Roman"/>
              </a:rPr>
              <a:t>ANGO</a:t>
            </a: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 1.1 Release</a:t>
            </a:r>
            <a:endParaRPr b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Radically improved system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available internally in NPAC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public release expected mid-February 99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employs newest Java and browser technology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incorporates all “lessons learned” from T</a:t>
            </a: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ANGO</a:t>
            </a: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 1.0 deployment and use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new paradigm for “collaboration space” navigation, session handling, and floor control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99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hierarchical view of the “interaction space”, “Metaverse traversing” support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71C246-FD85-4FD5-AA5D-66917C45E1D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newca2" descr=""/>
          <p:cNvPicPr/>
          <p:nvPr/>
        </p:nvPicPr>
        <p:blipFill>
          <a:blip r:embed="rId1"/>
          <a:stretch/>
        </p:blipFill>
        <p:spPr>
          <a:xfrm>
            <a:off x="685800" y="685800"/>
            <a:ext cx="5153040" cy="3019320"/>
          </a:xfrm>
          <a:prstGeom prst="rect">
            <a:avLst/>
          </a:prstGeom>
          <a:ln w="0">
            <a:noFill/>
          </a:ln>
        </p:spPr>
      </p:pic>
      <p:pic>
        <p:nvPicPr>
          <p:cNvPr id="49" name="newca3" descr=""/>
          <p:cNvPicPr/>
          <p:nvPr/>
        </p:nvPicPr>
        <p:blipFill>
          <a:blip r:embed="rId2"/>
          <a:stretch/>
        </p:blipFill>
        <p:spPr>
          <a:xfrm>
            <a:off x="6019920" y="1295280"/>
            <a:ext cx="2438280" cy="3743280"/>
          </a:xfrm>
          <a:prstGeom prst="rect">
            <a:avLst/>
          </a:prstGeom>
          <a:ln w="0">
            <a:noFill/>
          </a:ln>
        </p:spPr>
      </p:pic>
      <p:pic>
        <p:nvPicPr>
          <p:cNvPr id="50" name="newca4" descr=""/>
          <p:cNvPicPr/>
          <p:nvPr/>
        </p:nvPicPr>
        <p:blipFill>
          <a:blip r:embed="rId3"/>
          <a:stretch/>
        </p:blipFill>
        <p:spPr>
          <a:xfrm>
            <a:off x="2971800" y="3733920"/>
            <a:ext cx="248616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533520" y="3962520"/>
            <a:ext cx="2286000" cy="18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9933"/>
                </a:solidFill>
                <a:latin typeface="Times New Roman"/>
              </a:rPr>
              <a:t>ANGO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 1.1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Graphical Us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33"/>
                </a:solidFill>
                <a:latin typeface="Times New Roman"/>
              </a:rPr>
              <a:t>(based on Java Swing class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4F8A4C-8364-4E12-BAEC-749EA99DE9F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Enhanced Support for Collaboration</a:t>
            </a:r>
            <a:endParaRPr b="1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Application improvements: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lvl="1" marL="690840" indent="-265680">
              <a:lnSpc>
                <a:spcPct val="80000"/>
              </a:lnSpc>
              <a:spcBef>
                <a:spcPts val="700"/>
              </a:spcBef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BuenaVista 3.0 (T</a:t>
            </a: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ANGO</a:t>
            </a: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 videoconferencing agent) completely rewritten for PCs and SGIs platforms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lvl="2" marL="1062720" indent="-212400">
              <a:lnSpc>
                <a:spcPct val="80000"/>
              </a:lnSpc>
              <a:spcBef>
                <a:spcPts val="601"/>
              </a:spcBef>
              <a:buClr>
                <a:srgbClr val="ff99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robust multithreaded implementation, extensively tested for stability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2" marL="1062720" indent="-212400">
              <a:lnSpc>
                <a:spcPct val="80000"/>
              </a:lnSpc>
              <a:spcBef>
                <a:spcPts val="601"/>
              </a:spcBef>
              <a:buClr>
                <a:srgbClr val="ff99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improved audio and video quality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2" marL="1062720" indent="-212400">
              <a:lnSpc>
                <a:spcPct val="80000"/>
              </a:lnSpc>
              <a:spcBef>
                <a:spcPts val="601"/>
              </a:spcBef>
              <a:buClr>
                <a:srgbClr val="ff99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support for multiple audio and video cards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2" marL="1062720" indent="-212400">
              <a:lnSpc>
                <a:spcPct val="80000"/>
              </a:lnSpc>
              <a:spcBef>
                <a:spcPts val="601"/>
              </a:spcBef>
              <a:buClr>
                <a:srgbClr val="ff99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re-implemented robust session control protocol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2" marL="1062720" indent="-212400">
              <a:lnSpc>
                <a:spcPct val="80000"/>
              </a:lnSpc>
              <a:spcBef>
                <a:spcPts val="601"/>
              </a:spcBef>
              <a:buClr>
                <a:srgbClr val="ff99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redesigned user interface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2" marL="1062720" indent="-212400">
              <a:lnSpc>
                <a:spcPct val="80000"/>
              </a:lnSpc>
              <a:spcBef>
                <a:spcPts val="601"/>
              </a:spcBef>
              <a:buClr>
                <a:srgbClr val="ff99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detailed documentation 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2" marL="1062720" indent="-212400">
              <a:lnSpc>
                <a:spcPct val="80000"/>
              </a:lnSpc>
              <a:spcBef>
                <a:spcPts val="601"/>
              </a:spcBef>
              <a:buClr>
                <a:srgbClr val="ff99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Linux implementation ongoing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1" marL="690840" indent="-265680">
              <a:lnSpc>
                <a:spcPct val="80000"/>
              </a:lnSpc>
              <a:spcBef>
                <a:spcPts val="700"/>
              </a:spcBef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BV has been critical for remote class and training delivery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lvl="3" marL="1487880" indent="-212400">
              <a:lnSpc>
                <a:spcPct val="80000"/>
              </a:lnSpc>
              <a:spcBef>
                <a:spcPts val="499"/>
              </a:spcBef>
              <a:buClr>
                <a:srgbClr val="ff9933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Times New Roman"/>
              </a:rPr>
              <a:t>Version 3.0 will be released with T</a:t>
            </a:r>
            <a:r>
              <a:rPr b="0" lang="en-US" sz="1800" spc="-1" strike="noStrike">
                <a:solidFill>
                  <a:srgbClr val="ff9933"/>
                </a:solidFill>
                <a:latin typeface="Times New Roman"/>
              </a:rPr>
              <a:t>ANGO</a:t>
            </a:r>
            <a:r>
              <a:rPr b="0" lang="en-US" sz="2000" spc="-1" strike="noStrike">
                <a:solidFill>
                  <a:srgbClr val="ff9933"/>
                </a:solidFill>
                <a:latin typeface="Times New Roman"/>
              </a:rPr>
              <a:t> 1.1</a:t>
            </a:r>
            <a:endParaRPr b="0" lang="en-US" sz="20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78BA33-D880-4454-AF28-38B0C7D4215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BV7pc" descr=""/>
          <p:cNvPicPr/>
          <p:nvPr/>
        </p:nvPicPr>
        <p:blipFill>
          <a:blip r:embed="rId1"/>
          <a:stretch/>
        </p:blipFill>
        <p:spPr>
          <a:xfrm>
            <a:off x="304920" y="762120"/>
            <a:ext cx="8534160" cy="5638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2EDCD9-8E17-46B7-8011-11D9B7C001B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Enhanced Support for Collaboration</a:t>
            </a:r>
            <a:endParaRPr b="1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Application improvements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Improvements to WebWisdom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New DHTML shared browser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I expect GCF will have foils for this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D04CDD-937A-4470-A30E-778A4528AAA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Enhanced Support for Collaboration</a:t>
            </a:r>
            <a:endParaRPr b="1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81532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New applications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Layered whiteboard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ff99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used in several applications, advanced authoring mode, import/export/save support, telecursor, scriptable external interface, advanced image compression, ….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Shared browser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ff99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robust, supports frames and embedded MM objects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Chat tools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ff99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advanced avatar 2.5D chat for “telepresence”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ff99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new professional text chat with many advanced features, including clipboard, session save/mail, and latecomers support, fully customizable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792D30-09E8-4BD6-B359-02D1931E6D2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Enhanced Support for Collaboration</a:t>
            </a:r>
            <a:endParaRPr b="1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8001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New applications, cont.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Shared Telnet tool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601"/>
              </a:spcBef>
              <a:buClr>
                <a:srgbClr val="ff99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enhances Year 2 remote consulting tools suite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601"/>
              </a:spcBef>
              <a:buClr>
                <a:srgbClr val="ff99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deployed during remote training sessions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New  “instructor feedback” tool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601"/>
              </a:spcBef>
              <a:buClr>
                <a:srgbClr val="ff99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continuous audience feedback pooling and visualization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601"/>
              </a:spcBef>
              <a:buClr>
                <a:srgbClr val="ff99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instructor alert tools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Shared streaming media tools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601"/>
              </a:spcBef>
              <a:buClr>
                <a:srgbClr val="ff99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Java H263/GSM video viewer with database interface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601"/>
              </a:spcBef>
              <a:buClr>
                <a:srgbClr val="ff99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RealVideo player (use and distribution agreed with supported by Progressive Networks)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2" marL="111996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BFA32B-E2A0-4EEF-957A-BEDAC6047D4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2-07T15:05:40Z</dcterms:created>
  <dc:creator>John T. Eberle</dc:creator>
  <dc:description/>
  <dc:language>en-US</dc:language>
  <cp:lastModifiedBy>Marek Podgorny</cp:lastModifiedBy>
  <cp:lastPrinted>1998-08-05T13:41:55Z</cp:lastPrinted>
  <dcterms:modified xsi:type="dcterms:W3CDTF">1999-01-29T05:54:14Z</dcterms:modified>
  <cp:revision>10</cp:revision>
  <dc:subject/>
  <dc:title>No Slide Title</dc:title>
</cp:coreProperties>
</file>