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767513" cy="9334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F8C97-374D-4ED3-AA07-A5463E143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9349F-4929-46E3-BB4F-3B74C8C1B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8C0A3-DCB8-40CD-9D31-CB72B6579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73BC2-B25E-4A61-8E72-417E6499A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7579F-B12F-457A-9122-A44D5341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A7378-5C46-4063-A70B-44EAF8AB0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F8188-858B-40D7-989C-B4C255BF6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20F76-75E8-47F7-903D-493A35C2B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75C4A-FD67-43DA-A0AD-8C8F5541D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2FB55-4FFD-499A-8808-29316733D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E941C-6F67-4DDD-848F-ABEEF5979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67F89-CDD7-4056-9B8B-D5299B2D9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EFBE-FC1C-4BDD-887B-C2F1FA354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4122360" cy="6568920"/>
            <a:chOff x="0" y="0"/>
            <a:chExt cx="4122360" cy="6568920"/>
          </a:xfrm>
        </p:grpSpPr>
        <p:grpSp>
          <p:nvGrpSpPr>
            <p:cNvPr id="42" name=""/>
            <p:cNvGrpSpPr/>
            <p:nvPr/>
          </p:nvGrpSpPr>
          <p:grpSpPr>
            <a:xfrm>
              <a:off x="0" y="0"/>
              <a:ext cx="4122360" cy="693720"/>
              <a:chOff x="0" y="0"/>
              <a:chExt cx="4122360" cy="693720"/>
            </a:xfrm>
          </p:grpSpPr>
          <p:pic>
            <p:nvPicPr>
              <p:cNvPr id="43" name="Logo" descr=""/>
              <p:cNvPicPr/>
              <p:nvPr/>
            </p:nvPicPr>
            <p:blipFill>
              <a:blip r:embed="rId1"/>
              <a:stretch/>
            </p:blipFill>
            <p:spPr>
              <a:xfrm>
                <a:off x="0" y="0"/>
                <a:ext cx="1170000" cy="693720"/>
              </a:xfrm>
              <a:prstGeom prst="rect">
                <a:avLst/>
              </a:prstGeom>
              <a:ln w="0">
                <a:noFill/>
              </a:ln>
            </p:spPr>
          </p:pic>
          <p:pic>
            <p:nvPicPr>
              <p:cNvPr id="44" name="banner" descr=""/>
              <p:cNvPicPr/>
              <p:nvPr/>
            </p:nvPicPr>
            <p:blipFill>
              <a:blip r:embed="rId2"/>
              <a:stretch/>
            </p:blipFill>
            <p:spPr>
              <a:xfrm>
                <a:off x="1142640" y="81720"/>
                <a:ext cx="2979720" cy="612000"/>
              </a:xfrm>
              <a:prstGeom prst="rect">
                <a:avLst/>
              </a:prstGeom>
              <a:ln w="0">
                <a:noFill/>
              </a:ln>
            </p:spPr>
          </p:pic>
        </p:grpSp>
        <p:sp>
          <p:nvSpPr>
            <p:cNvPr id="45" name=""/>
            <p:cNvSpPr/>
            <p:nvPr/>
          </p:nvSpPr>
          <p:spPr>
            <a:xfrm>
              <a:off x="0" y="1266840"/>
              <a:ext cx="4113360" cy="14349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view of Computational Scie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PCC Technology and Applications</a:t>
              </a:r>
              <a:endParaRPr b="0" lang="en-US" sz="1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ond Edition (June 1999)</a:t>
              </a:r>
              <a:endParaRPr b="0" lang="en-US" sz="1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ducational CD-ROM -- Copies Available</a:t>
              </a:r>
              <a:endParaRPr b="0" lang="en-US" sz="16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sit </a:t>
              </a:r>
              <a:r>
                <a:rPr b="1" i="1" lang="en-US" sz="1600" spc="-1" strike="noStrike">
                  <a:solidFill>
                    <a:srgbClr val="000000"/>
                  </a:solidFill>
                  <a:latin typeface="Times New Roman"/>
                </a:rPr>
                <a:t>http://www.npac.syr/edu/erdc-cdrom/</a:t>
              </a:r>
              <a:endParaRPr b="0" lang="en-US" sz="1600" spc="-1" strike="noStrike">
                <a:solidFill>
                  <a:srgbClr val="000000"/>
                </a:solidFill>
                <a:latin typeface="Times New Roman"/>
              </a:endParaRPr>
            </a:p>
          </p:txBody>
        </p:sp>
        <p:sp>
          <p:nvSpPr>
            <p:cNvPr id="46" name=""/>
            <p:cNvSpPr/>
            <p:nvPr/>
          </p:nvSpPr>
          <p:spPr>
            <a:xfrm>
              <a:off x="0" y="3276720"/>
              <a:ext cx="4113360" cy="329220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wo disc set of CD-ROMs contains a variety of educational and reference materials in the general area of high performance computing and communications (HPCC) and is designed to serve as both a resource and a reference for educators and researchers in the HPCC area.</a:t>
              </a:r>
              <a:endParaRPr b="0" lang="en-US" sz="1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re material includes the lectures for Syracuse University’s course CPS 615: Computational Science for Simulation Applications, as taught by Prof. Geoffrey C. Fox, and other premier resources, collected technical reports, and standards documents.  Though the core material is designed to be largely self-contained, it also includes hyperlinks to a wide range of resources available on the Internet.</a:t>
              </a:r>
              <a:endParaRPr b="0" lang="en-US" sz="1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resource was compiled by the Northeast Parallel Architectures Center at Syracuse University for the ERDC Major Shared Resource Center (formerly CEWES MSRC), as part of the Dept. of Defense’s High Performance Computing Modernization Program.</a:t>
              </a:r>
              <a:endParaRPr b="0" lang="en-US" sz="1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pleased to be able to offer this two CD-ROM set to the public free of charge (for educational use only, while supplies last).  To request your copy or browse the table of contents of the two discs, please visit the URL above.</a:t>
              </a:r>
              <a:endParaRPr b="0" lang="en-US" sz="1000" spc="-1" strike="noStrike">
                <a:solidFill>
                  <a:srgbClr val="000000"/>
                </a:solidFill>
                <a:latin typeface="Times New Roman"/>
              </a:endParaRPr>
            </a:p>
          </p:txBody>
        </p:sp>
      </p:grpSp>
      <p:grpSp>
        <p:nvGrpSpPr>
          <p:cNvPr id="47" name=""/>
          <p:cNvGrpSpPr/>
          <p:nvPr/>
        </p:nvGrpSpPr>
        <p:grpSpPr>
          <a:xfrm>
            <a:off x="5021280" y="0"/>
            <a:ext cx="4122360" cy="6568920"/>
            <a:chOff x="5021280" y="0"/>
            <a:chExt cx="4122360" cy="6568920"/>
          </a:xfrm>
        </p:grpSpPr>
        <p:grpSp>
          <p:nvGrpSpPr>
            <p:cNvPr id="48" name=""/>
            <p:cNvGrpSpPr/>
            <p:nvPr/>
          </p:nvGrpSpPr>
          <p:grpSpPr>
            <a:xfrm>
              <a:off x="5021280" y="0"/>
              <a:ext cx="4122360" cy="693720"/>
              <a:chOff x="5021280" y="0"/>
              <a:chExt cx="4122360" cy="693720"/>
            </a:xfrm>
          </p:grpSpPr>
          <p:pic>
            <p:nvPicPr>
              <p:cNvPr id="49" name="Logo" descr=""/>
              <p:cNvPicPr/>
              <p:nvPr/>
            </p:nvPicPr>
            <p:blipFill>
              <a:blip r:embed="rId3"/>
              <a:stretch/>
            </p:blipFill>
            <p:spPr>
              <a:xfrm>
                <a:off x="5021280" y="0"/>
                <a:ext cx="1170000" cy="693720"/>
              </a:xfrm>
              <a:prstGeom prst="rect">
                <a:avLst/>
              </a:prstGeom>
              <a:ln w="0">
                <a:noFill/>
              </a:ln>
            </p:spPr>
          </p:pic>
          <p:pic>
            <p:nvPicPr>
              <p:cNvPr id="50" name="banner" descr=""/>
              <p:cNvPicPr/>
              <p:nvPr/>
            </p:nvPicPr>
            <p:blipFill>
              <a:blip r:embed="rId4"/>
              <a:stretch/>
            </p:blipFill>
            <p:spPr>
              <a:xfrm>
                <a:off x="6163920" y="81720"/>
                <a:ext cx="2979720" cy="612000"/>
              </a:xfrm>
              <a:prstGeom prst="rect">
                <a:avLst/>
              </a:prstGeom>
              <a:ln w="0">
                <a:noFill/>
              </a:ln>
            </p:spPr>
          </p:pic>
        </p:grpSp>
        <p:sp>
          <p:nvSpPr>
            <p:cNvPr id="51" name=""/>
            <p:cNvSpPr/>
            <p:nvPr/>
          </p:nvSpPr>
          <p:spPr>
            <a:xfrm>
              <a:off x="5021280" y="1266840"/>
              <a:ext cx="4113360" cy="14349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view of Computational Scie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PCC Technology and Applications</a:t>
              </a:r>
              <a:endParaRPr b="0" lang="en-US" sz="1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ond Edition (June 1999)</a:t>
              </a:r>
              <a:endParaRPr b="0" lang="en-US" sz="1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ducational CD-ROM -- Copies Available</a:t>
              </a:r>
              <a:endParaRPr b="0" lang="en-US" sz="16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sit </a:t>
              </a:r>
              <a:r>
                <a:rPr b="1" i="1" lang="en-US" sz="1600" spc="-1" strike="noStrike">
                  <a:solidFill>
                    <a:srgbClr val="000000"/>
                  </a:solidFill>
                  <a:latin typeface="Times New Roman"/>
                </a:rPr>
                <a:t>http://www.npac.syr/edu/erdc-cdrom/</a:t>
              </a:r>
              <a:endParaRPr b="0" lang="en-US" sz="1600" spc="-1" strike="noStrike">
                <a:solidFill>
                  <a:srgbClr val="000000"/>
                </a:solidFill>
                <a:latin typeface="Times New Roman"/>
              </a:endParaRPr>
            </a:p>
          </p:txBody>
        </p:sp>
        <p:sp>
          <p:nvSpPr>
            <p:cNvPr id="52" name=""/>
            <p:cNvSpPr/>
            <p:nvPr/>
          </p:nvSpPr>
          <p:spPr>
            <a:xfrm>
              <a:off x="5021280" y="3276720"/>
              <a:ext cx="4113360" cy="329220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wo disc set of CD-ROMs contains a variety of educational and reference materials in the general area of high performance computing and communications (HPCC) and is designed to serve as both a resource and a reference for educators and researchers in the HPCC area.</a:t>
              </a:r>
              <a:endParaRPr b="0" lang="en-US" sz="1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re material includes the lectures for Syracuse University’s course CPS 615: Computational Science for Simulation Applications, as taught by Prof. Geoffrey C. Fox, and other premier resources, collected technical reports, and standards documents.  Though the core material is designed to be largely self-contained, it also includes hyperlinks to a wide range of resources available on the Internet.</a:t>
              </a:r>
              <a:endParaRPr b="0" lang="en-US" sz="1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resource was compiled by the Northeast Parallel Architectures Center at Syracuse University for the ERDC Major Shared Resource Center (formerly CEWES MSRC), as part of the Dept. of Defense’s High Performance Computing Modernization Program.</a:t>
              </a:r>
              <a:endParaRPr b="0" lang="en-US" sz="1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pleased to be able to offer this two CD-ROM set to the public free of charge (for educational use only, while supplies last).  To request your copy or browse the table of contents of the two discs, please visit the URL above.</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2T18:03:00Z</dcterms:created>
  <dc:creator>David E Bernholdt</dc:creator>
  <dc:description/>
  <dc:language>en-US</dc:language>
  <cp:lastModifiedBy>David E Bernholdt</cp:lastModifiedBy>
  <cp:lastPrinted>1999-11-12T21:06:43Z</cp:lastPrinted>
  <dcterms:modified xsi:type="dcterms:W3CDTF">1999-11-12T21:06:51Z</dcterms:modified>
  <cp:revision>8</cp:revision>
  <dc:subject/>
  <dc:title>No Slide Title</dc:title>
</cp:coreProperties>
</file>