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881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A1B-70CE-485A-8168-D986C380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CEF-FF70-4D64-A7D2-08503128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2BA-BB9C-434A-948F-4E7C803E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342-80C8-4B26-B3F8-4013E5D4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77BE8-B1C8-418F-A706-B3D420CE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CA167-BAD8-4174-A49A-D088946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B0D5F-495C-4F44-A311-12F9CF6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4D98-CCC6-4E6F-99D5-E092A42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0AE6F-24C7-4008-95B4-21424088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36825-0790-4FC6-97C4-834D083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510C7-D256-4202-8D6B-C72E915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48F-6527-4571-B770-CFCA25A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1A7EA-8468-4D22-A137-49BDF0F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6E52C-2649-42DE-B3A3-9F93BDD5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4F17-F737-4223-AF15-D8305BA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9538-0ABC-4907-89A5-A269B074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0BBBC-533A-413A-893C-55614125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C10-9487-4EDA-BDCE-CA3B739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2DE-7700-4B8F-9BBA-38070600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FBB-A7A1-404C-BF6E-454FC55D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B0E-9BD9-4E9E-B902-912568C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31F-44A0-4EAB-9030-BB3AB7F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C11-7E96-4C19-9014-FA88B0C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467-DD9F-491B-B83E-832B8F4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4300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361960" y="66290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62940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8052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3920-8CCA-481F-9A0F-9902A43D3FFE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48720" y="662940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50C-4578-4A33-A6AB-3D9AC4E1D8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662616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624720"/>
            <a:ext cx="761760" cy="223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236196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5438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0DC-1D9B-41FF-B967-2AF01339F7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624720"/>
            <a:ext cx="1143000" cy="2286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304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AD3-BA3B-44A3-91F4-467F42FF3766}" type="datetime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fo-Comm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urseware Recording, Storage, and Retrieval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962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ek Podgorny, David E. Bernholdt, and Geoffrey C.F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 MSRC PET Annual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umbus, July 2,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DA713-E983-489B-B09E-8919FC9D99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95017CE0-9226-449A-B7FC-E411091B6D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Playback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Java audio/video and audio play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.263 video (~8 kbps) and ADPCM audio (~32 kbp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SM audio coming (~13 kbp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eaming play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ing either http protocol or local data files as data sour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deo server support will be available in the next pha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le in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nd-alo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ersions (same set of tools for synchronous and asynchronous deliver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me/event index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AA4-7D1F-411B-9858-E68A758F6C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DFCC81-FD34-496F-BF2B-FBD8D03725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us Review: Slide playback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urrent support for the following tool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ve Java whitebo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plays arbitrary images in multiple formats, including GIF, JPEG, and highly-compressed wavelets, as well as standard 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s PowerPoint slid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s drawings created in collaborative synchronous sess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-Scene PointPlus Java PowerPoint play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ressed, “streaming” PowerPoint presentation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bitrary HTML pages displayed via standard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F89-1F71-4BAD-90F2-97C574FEBD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3B70611-0DE7-4DC6-A844-F7D1313A65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us Review: Video conversion tool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MPEG1 to H.263/ADPCM conver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-line audio/vide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mat re-encod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Win 95/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ple qualit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H.263 vide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justable frame size and frame ra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ll set of advanced encoding op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andom-access strea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onal I-frames and frame/file offset look-up tabl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tible with output format of the MPEG1 real-time enco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 hour MPI course by Chuck Koebel converted, (manually) indexed, and ready for web publicatio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5BB-7432-4137-B06E-E6CA132910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572B551-C9BD-47B5-B18A-026C843B01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Review: Web Publisher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urpose: one stop interface for automated Web publishing of “video over foils” lect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mbli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elem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lecture from local dis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fer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cont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selected HTTP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ally creates HTTP server directory structures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needed HTML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HTT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e button cli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us: 3rd version avail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594-C35C-4F1F-8C78-D4669F1914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3B89C1A-42C8-45F0-B016-F4E27D75F9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quirements for lecturer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ation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ectronic for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urned in few hours (a day?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fore the cla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for automatic recording, as automatic index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ll not 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out electronic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SRC staf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ll convert the presentation to one of the supported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r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use one of the tools provided with the package to deliver their present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ggest a PC in the delivery room with pre-installed S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cturer laptops can be accommodated as presentation/ recording tools download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60B-4D10-454D-9309-43461FA443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187F0BD-87E4-4569-B27B-2620A08AE9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ncoding st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ware MPEG1 encoder provided by Opti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 time encoder of industrial qua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rchival quality digital video stre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 allows remote control of the encod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coding daemon socket-connected to the presentation tool on the presentation works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creation of indexing inform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us: slated deployable mid-August ‘9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4C9-0AEC-41C8-A7D8-48E81B540F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778931-8D0F-4FF0-AF8B-4538898550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authoring tools do not 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orly support courseware reu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20 minutes, build, publish, and print handouts of a new module consisting of parts of five other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ind all slides related to a particular topic in presentations delivered during last 6 month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llow for search of the educational nuggets according to the standard metadata attribu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-based repositorie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n-port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n-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yond a handful of presentations; contents management nightma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EC0-1EE4-4738-B0AB-37D512556E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9306EDB-13B1-43EE-BBE9-25BC05F13D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tabase support for cours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 WebWisdo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base suppo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sion tools for transforma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gacy forma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to self-describing edu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lational database loading to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metadata creation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esentation management to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reate and edit new presen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mpla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utomatic creation of Web presentation layer from  database conten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a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ctures recorded using NPAC Lecture Recorder can be immediately loaded in the databa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6B7-C7EB-4B1F-9D21-673F2D76D7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6EE70F-E4D3-4ECF-8677-45745A6304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Lecture recording and asynchronous collaboration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cture recording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specia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genera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ssion recording capa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virtual and desktop collaborative environ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PAC TANGO Interactive session recording capability perform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ssion recording on the client sid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as opposed to the central server record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ssion recor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-assemb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done in the central repository with the clients uploading end-user recording information at session termin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ce, Lecture Recorder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ati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the grand vis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 sync/async integr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collaboratory/distance learning systems implemented in N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F16-9E1B-4DE9-9275-FEE69D7807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39EA4A-4A50-4630-98BB-3254A9B5C6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ject Goa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esign, implementation, and deployment of automated system for capture, storage, indexing and retrieval of classes, lectures, and semin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componen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pture station with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mat convers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apabil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ublish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quick Web deploy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ic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exing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two-way video/foils synchron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archab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udio/video and presentati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posit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set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yback too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asynchronous streaming delivery of foils over vid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with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ous distance learning syste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D64-2FE9-495B-BE61-558EFC2341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FFA4E2-C378-4DA9-94B9-A864910E3D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WebWisdom Architecture</a:t>
            </a:r>
            <a:endParaRPr b="1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360" y="1343160"/>
            <a:ext cx="9144360" cy="4759200"/>
            <a:chOff x="-360" y="1343160"/>
            <a:chExt cx="9144360" cy="4759200"/>
          </a:xfrm>
        </p:grpSpPr>
        <p:sp>
          <p:nvSpPr>
            <p:cNvPr id="100" name=""/>
            <p:cNvSpPr/>
            <p:nvPr/>
          </p:nvSpPr>
          <p:spPr>
            <a:xfrm>
              <a:off x="0" y="1343160"/>
              <a:ext cx="9144000" cy="4759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2104920"/>
              <a:ext cx="5775480" cy="318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97080" y="2913120"/>
              <a:ext cx="2992680" cy="16185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28400" y="3001680"/>
              <a:ext cx="2887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r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ecur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eblinked Datab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606920" y="212220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06920" y="4544640"/>
              <a:ext cx="0" cy="77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3705120"/>
              <a:ext cx="140652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687680" y="3705120"/>
              <a:ext cx="143640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100000">
              <a:off x="1751400" y="2592360"/>
              <a:ext cx="2968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llabo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100000">
              <a:off x="4551480" y="4165200"/>
              <a:ext cx="3220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mmunic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560000">
              <a:off x="4637520" y="2708280"/>
              <a:ext cx="2771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Serv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20000">
              <a:off x="1768680" y="4238280"/>
              <a:ext cx="271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asic Web 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286000" y="1647360"/>
              <a:ext cx="58104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916240" y="5154120"/>
              <a:ext cx="50652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781680" y="1875960"/>
              <a:ext cx="677880" cy="774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438280" y="5000400"/>
              <a:ext cx="457200" cy="830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01080" y="1523880"/>
              <a:ext cx="4092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urseware -- 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4260000">
              <a:off x="6928200" y="2792520"/>
              <a:ext cx="22957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nchronou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nd Asynchron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livery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9880" y="5259240"/>
              <a:ext cx="314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media Autho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d Editing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440000">
              <a:off x="228600" y="2485440"/>
              <a:ext cx="251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dministr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820000">
              <a:off x="284760" y="4561920"/>
              <a:ext cx="246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ssess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-360" y="3705120"/>
              <a:ext cx="1700280" cy="1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440120" y="4163400"/>
              <a:ext cx="941400" cy="836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620000">
              <a:off x="6114240" y="4800240"/>
              <a:ext cx="1920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nvert Lega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38080" y="380880"/>
            <a:ext cx="754380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C51-EBBE-44A6-9A36-56286655C9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49A128-77BB-49DE-9A28-BD870BB38A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ypical usage scenario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class module 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par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using a standard presentation authoring tool, such as PowerPoi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ule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r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a set of URL-addressable nuggets (optional storage in databas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lass is delivered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cord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audio and vide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lass (presentation+audio/video)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ublish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the We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lass is asynchronousl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trie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ia Web browser or re-used in synchronous distance learning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6A4-543F-4B84-90DA-ABF665FA93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32FA20B-01D5-4143-9DE1-F112332740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epare cla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ass is prepared us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ndard, popular authoring pack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ed forma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soft’s PowerPoi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ML edito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te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ies of imag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binations thereo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ss material may include add-ons (examples, movies, animations, interactive apple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BDB-27E7-4729-9214-30F391F148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10D7B0-6C45-487C-8FE1-816592965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vert cla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original format to the URL-addressable set of “educational nuggets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 Assistant and RTF for PowerPoi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Wisdom conversion tools for all other forma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converted material on an HTTP server or local disk dr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temporary repository will be used to deliver the cla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tionally, upload the converted class to the relationa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base backe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Wisdom NT database support for courseware will be discussed la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06A-27C2-40B2-91CF-EDBD188826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421D957-EEF5-4A11-B2DB-F71315ED96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cord cla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lass is be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livered and record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gh-quality audio and vide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master copy - MPEG1, 30 fps, full-screen video and CD quality aud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-time encoding supported by dedicated hardwa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tionally, one may us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wer quality RealVide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indexing and encoding contro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ss is being delivered from the converted format using the tools provided with the Lecture Recorde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deo encod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ex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utomatically controlled by the Lecture Recor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human action neede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4CB-6F74-4254-82CA-E11F5F3EC1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EAFE3D-E21B-4F43-9EE7-63B12328A4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ublish cla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ter class is completed, audio/video conversion process starts automatical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 audio/video forma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ndards-complia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GSM/ADPCM/H.263, playback using Java play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rietary RealAudio/Video (optional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e-click ex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entire package, including textual material, audio and video, and all necessary software, to a selected HTTP serve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omatic creation of HTML pages from course information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pages can be further customized using standard authoring too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A40-785F-4B33-AD80-945B1FACEF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28AFC0-BD5E-423A-A921-687A391426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trieve clas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ynchronous retrieval via Web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ides-over-video mode fully support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eaming, high-quality Internet vide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synchronized slide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entations may include complex edu objects such as animations or interactive applets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playback too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 on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no software installation needed, platform-independ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/video server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tional, not requir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shed class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atibl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can be re-used with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nchronous distance learning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lumbusjuly98 http://www.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863-B79F-4B1C-BF54-22D33B570A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25F05FD-C4B9-4D9B-BA3F-3583EAA7D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David E Bernholdt</cp:lastModifiedBy>
  <cp:lastPrinted>1998-06-29T21:54:04Z</cp:lastPrinted>
  <dcterms:modified xsi:type="dcterms:W3CDTF">1998-06-30T21:55:34Z</dcterms:modified>
  <cp:revision>41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