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move the slide</a:t>
            </a:r>
            <a:endParaRPr b="1" lang="en-US" sz="4400" spc="-1" strike="noStrike">
              <a:solidFill>
                <a:srgbClr val="808000"/>
              </a:solidFill>
              <a:latin typeface="Arial"/>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71C4-6D56-44AB-A59F-982814B86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17440" y="698400"/>
            <a:ext cx="4662720" cy="3497400"/>
          </a:xfrm>
          <a:prstGeom prst="rect">
            <a:avLst/>
          </a:prstGeom>
          <a:ln w="0">
            <a:noFill/>
          </a:ln>
        </p:spPr>
      </p:sp>
      <p:sp>
        <p:nvSpPr>
          <p:cNvPr id="72"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R. Markowski, M. Podgorny, N. J. McCracken, D. E. Bernholdt,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The Tango Interactive network-based collaboration tool is used to deliver audio, video, and lecture slides to remote classrooms around the country.  Lecture material is typically prepared as a PowerPoint presentation or as a collection of HTML pages, perhaps containing Java applets to demonstrate concepts.  During CPS640, Fall 1999, lectures were also recorded using Syracuse’s LecCorder tool and made available for asynchronous playback by those unable to participate in the live (synchronous) session. In the Spring 2000 class, we are experimenting with supporting “mobile” instructors, lecturing from multiple site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arkowski, M. Podgorny, D. E. Bernholdt, N. J. McCracken, and G. C. Fox, “Is Interactive Synchronous Network-Based Distance Learning a Matter of Routine?” ERDC PET Preprint (in prepa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C653B-1540-413A-BDC9-D5676A2B0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F121D-462E-407B-BE13-B122D73989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FBD32-E3B7-42E6-979C-CE4BD44731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D4E25-7A44-40AD-B6AF-3B857D81D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82740-6E07-4498-81B8-C4F2D3D04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6EE3-9F55-43C7-BFD1-D40B6709A9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6B832-97A8-4F9F-8A70-1DC9691A0D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 name="PlaceHolder 2"/>
          <p:cNvSpPr>
            <a:spLocks noGrp="1"/>
          </p:cNvSpPr>
          <p:nvPr>
            <p:ph type="sldNum" idx="1"/>
          </p:nvPr>
        </p:nvSpPr>
        <p:spPr/>
        <p:txBody>
          <a:bodyPr/>
          <a:p>
            <a:fld id="{515F8C8B-2734-41E7-A091-E50A1ABAE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C08813-2DAB-408C-990E-86077337A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A0468-E6E9-4126-AAB4-E06D1F4E27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28F4B-0371-4F89-AC7F-401BADEC93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FB049-D6BC-4F4C-B1AE-B1CC481A3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edit the title text format</a:t>
            </a:r>
            <a:endParaRPr b="1" lang="en-US" sz="4400" spc="-1" strike="noStrike">
              <a:solidFill>
                <a:srgbClr val="808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CF0B-6C63-44B2-99D8-E0263F267AF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raining Technologies</a:t>
            </a:r>
            <a:endParaRPr b="1" lang="en-US" sz="4400" spc="-1" strike="noStrike">
              <a:solidFill>
                <a:srgbClr val="808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rey C Fox</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ast Parallel Architectures Center at Syracuse Univers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D38C-BC5A-44F9-88BE-DB659DAC14E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raining Core Support</a:t>
            </a:r>
            <a:endParaRPr b="1" lang="en-US" sz="4400" spc="-1" strike="noStrike">
              <a:solidFill>
                <a:srgbClr val="808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ack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nd training technolog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in PET Program-Wide Training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ms to be dorma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 and Trai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tools for distance education and training (primarily Tango Interactiv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ansfer and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go Interactive for use in PET training and educatio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94F4C-CB2A-49EC-83DE-FFAE9D6CC0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a:t>
            </a:r>
            <a:endParaRPr b="1" lang="en-US" sz="4400" spc="-1" strike="noStrike">
              <a:solidFill>
                <a:srgbClr val="808000"/>
              </a:solidFill>
              <a:latin typeface="Arial"/>
            </a:endParaRPr>
          </a:p>
        </p:txBody>
      </p:sp>
      <p:sp>
        <p:nvSpPr>
          <p:cNvPr id="57" name="PlaceHolder 2"/>
          <p:cNvSpPr>
            <a:spLocks noGrp="1"/>
          </p:cNvSpPr>
          <p:nvPr>
            <p:ph/>
          </p:nvPr>
        </p:nvSpPr>
        <p:spPr>
          <a:xfrm>
            <a:off x="246240" y="1760400"/>
            <a:ext cx="889776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based model for distance education and training</a:t>
            </a:r>
            <a:endParaRPr b="0" lang="en-US" sz="24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basic asynchronous capabilities (education portal). Courseware, glossaries, quizzes, discussion forums, etc. are all fundamentally asynchronous.  Using them in lecture is synchronous.</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ppropriate components synchronously collaborative, or add new synchronous components</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objects and their properties (layout, parameters, user customization, collaborative structure) in XML</a:t>
            </a:r>
            <a:endParaRPr b="0" lang="en-US" sz="20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asynchronous web-based distance education tools: Blackboard (heavily used at FSU), WebCT (NCSA), etc.</a:t>
            </a:r>
            <a:endParaRPr b="0" lang="en-US" sz="24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essons in collaborative education portals</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st with commercial Enterprise Information Portals such as iPlanet from Su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6BF1-E24E-4684-9E16-7C82AAC9CD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 (2)</a:t>
            </a:r>
            <a:endParaRPr b="1" lang="en-US" sz="4400" spc="-1" strike="noStrike">
              <a:solidFill>
                <a:srgbClr val="808000"/>
              </a:solidFill>
              <a:latin typeface="Arial"/>
            </a:endParaRPr>
          </a:p>
        </p:txBody>
      </p:sp>
      <p:sp>
        <p:nvSpPr>
          <p:cNvPr id="59" name="PlaceHolder 2"/>
          <p:cNvSpPr>
            <a:spLocks noGrp="1"/>
          </p:cNvSpPr>
          <p:nvPr>
            <p:ph/>
          </p:nvPr>
        </p:nvSpPr>
        <p:spPr>
          <a:xfrm>
            <a:off x="318600" y="1724040"/>
            <a:ext cx="8542440" cy="4114800"/>
          </a:xfrm>
          <a:prstGeom prst="rect">
            <a:avLst/>
          </a:prstGeom>
          <a:noFill/>
          <a:ln w="0">
            <a:noFill/>
          </a:ln>
        </p:spPr>
        <p:txBody>
          <a:bodyPr lIns="90000" rIns="90000" tIns="46800" bIns="4680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different collaboration models in education (especially for demonstrative applets)</a:t>
            </a:r>
            <a:endParaRPr b="0" lang="en-US" sz="24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event (i.e. Tango Interactive)</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display (i.e. NetMeeting)</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ared canvas” (i.e. SV2)</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lass, usually teacher wants to control applet.  Students can experiment later on their own, so applets don’t </a:t>
            </a:r>
            <a:r>
              <a:rPr b="0" i="1" lang="en-US" sz="2000" spc="-1" strike="noStrike">
                <a:solidFill>
                  <a:srgbClr val="000000"/>
                </a:solidFill>
                <a:latin typeface="Arial"/>
              </a:rPr>
              <a:t>really</a:t>
            </a:r>
            <a:r>
              <a:rPr b="0" lang="en-US" sz="2000" spc="-1" strike="noStrike">
                <a:solidFill>
                  <a:srgbClr val="000000"/>
                </a:solidFill>
                <a:latin typeface="Arial"/>
              </a:rPr>
              <a:t> need to be collaborative</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via shared event model is most “intrusive” compared to “collaboration unaware” applet</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Instruction Support with brainstorming tool</a:t>
            </a:r>
            <a:endParaRPr b="0" lang="en-US" sz="20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interactivity in Tango-delivered classes seems to be declining.  Wh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A87C-2B83-4398-8682-EF4EDDD57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Outreach and Training</a:t>
            </a:r>
            <a:endParaRPr b="1" lang="en-US" sz="4400" spc="-1" strike="noStrike">
              <a:solidFill>
                <a:srgbClr val="808000"/>
              </a:solidFill>
              <a:latin typeface="Arial"/>
            </a:endParaRPr>
          </a:p>
        </p:txBody>
      </p:sp>
      <p:sp>
        <p:nvSpPr>
          <p:cNvPr id="61" name="PlaceHolder 2"/>
          <p:cNvSpPr>
            <a:spLocks noGrp="1"/>
          </p:cNvSpPr>
          <p:nvPr>
            <p:ph/>
          </p:nvPr>
        </p:nvSpPr>
        <p:spPr>
          <a:xfrm>
            <a:off x="196560" y="1536840"/>
            <a:ext cx="84582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on basic Tango Interactive (half-day) and its use in distance education and training (half-day) at DoD HPC User Group Conference (Jun’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plenary session on distance training and education at DoD HPC UGC (Jun’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Training Workshop (Jul’99, sponsored by ASC)</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Education Workshop, JSU (Aug’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Training Workshop, ERDC (Sep’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Interactive 2.0 Training, Syracuse (Dec’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y, many, many talks by Geoffrey Fox to the larger community -- lot of industry interest at NCSA Partners Meet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318D9-B2FD-403B-8B1A-CC19580F7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a:t>
            </a:r>
            <a:br>
              <a:rPr sz="4400"/>
            </a:br>
            <a:r>
              <a:rPr b="1" lang="en-US" sz="4400" spc="-1" strike="noStrike">
                <a:solidFill>
                  <a:srgbClr val="808000"/>
                </a:solidFill>
                <a:latin typeface="Arial"/>
              </a:rPr>
              <a:t>Transfer and Support</a:t>
            </a:r>
            <a:endParaRPr b="1" lang="en-US" sz="4400" spc="-1" strike="noStrike">
              <a:solidFill>
                <a:srgbClr val="808000"/>
              </a:solidFill>
              <a:latin typeface="Arial"/>
            </a:endParaRPr>
          </a:p>
        </p:txBody>
      </p:sp>
      <p:sp>
        <p:nvSpPr>
          <p:cNvPr id="63" name="PlaceHolder 2"/>
          <p:cNvSpPr>
            <a:spLocks noGrp="1"/>
          </p:cNvSpPr>
          <p:nvPr>
            <p:ph/>
          </p:nvPr>
        </p:nvSpPr>
        <p:spPr>
          <a:xfrm>
            <a:off x="685800" y="2152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Tango Interactive 2.0 for Spring 2000 distance learning class.  Training for support personnel provided at Syracus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T trainings made available to other sites via Tango</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Cray T3E for Code Development and Analysis (OSC, May’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Use Parallel Linear Algebra Library Routines (OSC, Sep’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ther trainings which instructors had expressed interest in delivering via Tango were not delivered at all this ye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BC2D5-A541-48AB-9AB8-7ED02A4B7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180960" y="628560"/>
            <a:ext cx="5372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Distance Education</a:t>
            </a:r>
            <a:endParaRPr b="1" lang="en-US" sz="4400" spc="-1" strike="noStrike">
              <a:solidFill>
                <a:srgbClr val="808000"/>
              </a:solidFill>
              <a:latin typeface="Arial"/>
            </a:endParaRPr>
          </a:p>
        </p:txBody>
      </p:sp>
      <p:sp>
        <p:nvSpPr>
          <p:cNvPr id="65" name="PlaceHolder 2"/>
          <p:cNvSpPr>
            <a:spLocks noGrp="1"/>
          </p:cNvSpPr>
          <p:nvPr>
            <p:ph/>
          </p:nvPr>
        </p:nvSpPr>
        <p:spPr>
          <a:xfrm>
            <a:off x="228600" y="933120"/>
            <a:ext cx="5524560" cy="53341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kson State U., Miss. State U., WES Graduate Inst.</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214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omputational science courses to PET partner institutions, enhancing their curricula and the education of the next generation of DoD computational scientists</a:t>
            </a:r>
            <a:endParaRPr b="0" lang="en-US" sz="1800" spc="-1" strike="noStrike">
              <a:solidFill>
                <a:srgbClr val="000000"/>
              </a:solidFill>
              <a:latin typeface="Arial"/>
            </a:endParaRPr>
          </a:p>
          <a:p>
            <a:pPr lvl="1" marL="221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ot tools (Tango Interactive) and techniques for the delivery of interactive synchronous distance learning in other DoD contexts</a:t>
            </a:r>
            <a:endParaRPr b="0" lang="en-US" sz="1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14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mester-long academic courses delivered to three universities and four DoD labs during current year, reaching a record number of students</a:t>
            </a:r>
            <a:endParaRPr b="0" lang="en-US" sz="1800" spc="-1" strike="noStrike">
              <a:solidFill>
                <a:srgbClr val="000000"/>
              </a:solidFill>
              <a:latin typeface="Arial"/>
            </a:endParaRPr>
          </a:p>
          <a:p>
            <a:pPr lvl="1" marL="221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lso being used in PET training program</a:t>
            </a:r>
            <a:endParaRPr b="0" lang="en-US" sz="1800" spc="-1" strike="noStrike">
              <a:solidFill>
                <a:srgbClr val="000000"/>
              </a:solidFill>
              <a:latin typeface="Arial"/>
            </a:endParaRPr>
          </a:p>
        </p:txBody>
      </p:sp>
      <p:grpSp>
        <p:nvGrpSpPr>
          <p:cNvPr id="66" name=""/>
          <p:cNvGrpSpPr/>
          <p:nvPr/>
        </p:nvGrpSpPr>
        <p:grpSpPr>
          <a:xfrm>
            <a:off x="5742000" y="1428840"/>
            <a:ext cx="3340080" cy="4694760"/>
            <a:chOff x="5742000" y="1428840"/>
            <a:chExt cx="3340080" cy="4694760"/>
          </a:xfrm>
        </p:grpSpPr>
        <p:grpSp>
          <p:nvGrpSpPr>
            <p:cNvPr id="67" name=""/>
            <p:cNvGrpSpPr/>
            <p:nvPr/>
          </p:nvGrpSpPr>
          <p:grpSpPr>
            <a:xfrm>
              <a:off x="5850000" y="1428840"/>
              <a:ext cx="3124080" cy="3403440"/>
              <a:chOff x="5850000" y="1428840"/>
              <a:chExt cx="3124080" cy="3403440"/>
            </a:xfrm>
          </p:grpSpPr>
          <p:pic>
            <p:nvPicPr>
              <p:cNvPr id="68" name="cps640-1" descr=""/>
              <p:cNvPicPr/>
              <p:nvPr/>
            </p:nvPicPr>
            <p:blipFill>
              <a:blip r:embed="rId1"/>
              <a:stretch/>
            </p:blipFill>
            <p:spPr>
              <a:xfrm>
                <a:off x="5850000" y="1428840"/>
                <a:ext cx="2650680" cy="2881080"/>
              </a:xfrm>
              <a:prstGeom prst="rect">
                <a:avLst/>
              </a:prstGeom>
              <a:ln w="0">
                <a:noFill/>
              </a:ln>
            </p:spPr>
          </p:pic>
          <p:pic>
            <p:nvPicPr>
              <p:cNvPr id="69" name="cps640-2" descr=""/>
              <p:cNvPicPr/>
              <p:nvPr/>
            </p:nvPicPr>
            <p:blipFill>
              <a:blip r:embed="rId2"/>
              <a:stretch/>
            </p:blipFill>
            <p:spPr>
              <a:xfrm>
                <a:off x="7080840" y="2995560"/>
                <a:ext cx="1893240" cy="1836720"/>
              </a:xfrm>
              <a:prstGeom prst="rect">
                <a:avLst/>
              </a:prstGeom>
              <a:ln w="0">
                <a:noFill/>
              </a:ln>
            </p:spPr>
          </p:pic>
        </p:grpSp>
        <p:sp>
          <p:nvSpPr>
            <p:cNvPr id="70" name=""/>
            <p:cNvSpPr/>
            <p:nvPr/>
          </p:nvSpPr>
          <p:spPr>
            <a:xfrm>
              <a:off x="5742000" y="4932360"/>
              <a:ext cx="334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mepage and lecture material from CPS640 “Topics in Networking and Multimedia Applications”, taught Fall 1999</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73CF4CDE-4783-42E5-A3EB-00789EFEC75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18:57:45Z</dcterms:created>
  <dc:creator>David E Bernholdt</dc:creator>
  <dc:description/>
  <dc:language>en-US</dc:language>
  <cp:lastModifiedBy>David E Bernholdt</cp:lastModifiedBy>
  <cp:lastPrinted>2000-01-10T15:01:45Z</cp:lastPrinted>
  <dcterms:modified xsi:type="dcterms:W3CDTF">2000-02-05T16:12:54Z</dcterms:modified>
  <cp:revision>103</cp:revision>
  <dc:subject/>
  <dc:title>No Slide Title</dc:title>
</cp:coreProperties>
</file>