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5226-1D07-4F75-B62D-A915C6E03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E5A7-C431-454C-A07B-BD2713C23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3025-BB48-44E8-ADDE-CC544C7B5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B5D9-46E5-4A45-8945-8D2D958D2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438EF-8481-444C-9A69-470B7FAE0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019CF-DA3F-47E4-82AF-FEFA41455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38D05-2ECE-47EA-89B2-962BA3999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EABA2-EAE9-4835-8A6C-9CEE7B203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98FED-B8CE-4FAC-9C4C-15D9A9017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E408F-44E0-4609-904B-A5DBDF1A4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C91EF-1B68-4F52-B2D6-0485CFBC6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38F4-D522-4E48-86F4-11C606FC6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52028-54BD-418F-A4C4-BE7104A5C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8C8CE-760A-4799-B21D-00C574BC5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02D97-ACCE-4F1F-B996-1490B6947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29150-44F3-4690-AA56-515EA2B92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01820-66D9-4D03-A1AB-FB2AEAB35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3480-22FC-42E3-907A-904C05D50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F6B2-6817-45B0-9757-31CC1BFE3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5DF3-5AC0-49E6-8AF8-5EDC75197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2FFA-C2D5-4C69-BC3F-A484C2B9D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5AD1-C62C-47C4-9BFD-A706D9CCF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72AA-2FF0-4D4C-BE70-CE78DE0FC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6735-3ED9-4AF2-A232-FC51180CB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minispir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47E2B-943C-46F3-80CD-2AEF1E954954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minispir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04DFF-916A-48B0-BC97-673C60CC2265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Intranet Operating Environmen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Purpose:  IOE for ARL and ASC that facilitates day-to-day operations with focus on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PET project management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Remote collaboration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Effective dissemination of information to member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Tools to support application access, database access, document repositorie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Phase I - PET activities, 15 month project, started end of June 1999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Phase II - MSRC activities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IOE Requirement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Web browser independent (Netscape, Internet Explorer, Applications)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Desktop and Operation System Independen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urity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Interface to  Object Relational Databas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apabilities: Master Training Calendar, Master Events Calendar, Operating and Collaboration Tools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IOE Capabilities Defined in SoW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581280" y="1676520"/>
            <a:ext cx="1752840" cy="533160"/>
          </a:xfrm>
          <a:prstGeom prst="rect">
            <a:avLst/>
          </a:prstGeom>
          <a:solidFill>
            <a:srgbClr val="c7f3d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IOE (ARL, ASC)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447920" y="2362320"/>
            <a:ext cx="1295280" cy="609480"/>
          </a:xfrm>
          <a:prstGeom prst="rect">
            <a:avLst/>
          </a:prstGeom>
          <a:solidFill>
            <a:srgbClr val="c7f3d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MSRC PET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Management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238880" y="2362320"/>
            <a:ext cx="1295640" cy="609480"/>
          </a:xfrm>
          <a:prstGeom prst="rect">
            <a:avLst/>
          </a:prstGeom>
          <a:solidFill>
            <a:srgbClr val="c7f3d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HPC Users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Support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791320" y="2362320"/>
            <a:ext cx="1295280" cy="609480"/>
          </a:xfrm>
          <a:prstGeom prst="rect">
            <a:avLst/>
          </a:prstGeom>
          <a:solidFill>
            <a:srgbClr val="c7f3d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Collaboration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Tools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343400" y="2362320"/>
            <a:ext cx="1295280" cy="609480"/>
          </a:xfrm>
          <a:prstGeom prst="rect">
            <a:avLst/>
          </a:prstGeom>
          <a:solidFill>
            <a:srgbClr val="c7f3d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Computational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Tech. Areas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895480" y="2362320"/>
            <a:ext cx="1295640" cy="609480"/>
          </a:xfrm>
          <a:prstGeom prst="rect">
            <a:avLst/>
          </a:prstGeom>
          <a:solidFill>
            <a:srgbClr val="c7f3d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MSRC PET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Communication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467480" y="3505320"/>
            <a:ext cx="1067040" cy="1600200"/>
          </a:xfrm>
          <a:prstGeom prst="rect">
            <a:avLst/>
          </a:prstGeom>
          <a:solidFill>
            <a:srgbClr val="c7f3d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Help Desk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Software Rep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Resource Info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Job Statu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Training Info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Usage Data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248520" y="3505320"/>
            <a:ext cx="1066680" cy="685800"/>
          </a:xfrm>
          <a:prstGeom prst="rect">
            <a:avLst/>
          </a:prstGeom>
          <a:solidFill>
            <a:srgbClr val="c7f3d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Tango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NetMeeting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IChat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029200" y="3505320"/>
            <a:ext cx="1066680" cy="1295280"/>
          </a:xfrm>
          <a:prstGeom prst="rect">
            <a:avLst/>
          </a:prstGeom>
          <a:solidFill>
            <a:srgbClr val="c7f3d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Links to: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CSM, CFD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CCM,CEA,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CWO,SIP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FMS,EQM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CEN,IMT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809880" y="3505320"/>
            <a:ext cx="1143000" cy="1752480"/>
          </a:xfrm>
          <a:prstGeom prst="rect">
            <a:avLst/>
          </a:prstGeom>
          <a:solidFill>
            <a:srgbClr val="c7f3d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Calendar of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Event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Announcement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Email Aliase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Membership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List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Repository of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Technical 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Publications 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971800" y="3505320"/>
            <a:ext cx="685800" cy="685800"/>
          </a:xfrm>
          <a:prstGeom prst="rect">
            <a:avLst/>
          </a:prstGeom>
          <a:solidFill>
            <a:srgbClr val="c7f3d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Training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Mgmt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505320"/>
            <a:ext cx="685800" cy="685800"/>
          </a:xfrm>
          <a:prstGeom prst="rect">
            <a:avLst/>
          </a:prstGeom>
          <a:solidFill>
            <a:srgbClr val="c7f3d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Program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Mgmt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3505320"/>
            <a:ext cx="685800" cy="685800"/>
          </a:xfrm>
          <a:prstGeom prst="rect">
            <a:avLst/>
          </a:prstGeom>
          <a:solidFill>
            <a:srgbClr val="c7f3d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Project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Mgmt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971800" y="4343400"/>
            <a:ext cx="685800" cy="533520"/>
          </a:xfrm>
          <a:prstGeom prst="rect">
            <a:avLst/>
          </a:prstGeom>
          <a:solidFill>
            <a:srgbClr val="c7f3d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Training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database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971800" y="4876920"/>
            <a:ext cx="685800" cy="533160"/>
          </a:xfrm>
          <a:prstGeom prst="rect">
            <a:avLst/>
          </a:prstGeom>
          <a:solidFill>
            <a:srgbClr val="c7f3d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Calendar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981080" y="4343400"/>
            <a:ext cx="914400" cy="2133720"/>
          </a:xfrm>
          <a:prstGeom prst="rect">
            <a:avLst/>
          </a:prstGeom>
          <a:solidFill>
            <a:srgbClr val="c7f3d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Budget 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Mgmt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Status 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Report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Project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Planing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Document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Database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Travel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Notification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Trip Report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4343400"/>
            <a:ext cx="914400" cy="1143000"/>
          </a:xfrm>
          <a:prstGeom prst="rect">
            <a:avLst/>
          </a:prstGeom>
          <a:solidFill>
            <a:srgbClr val="c7f3d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Database of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Proposal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SoW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Budget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Document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Report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90720" y="5486400"/>
            <a:ext cx="914400" cy="457200"/>
          </a:xfrm>
          <a:prstGeom prst="rect">
            <a:avLst/>
          </a:prstGeom>
          <a:solidFill>
            <a:srgbClr val="c7f3d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Report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Generator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90720" y="5943600"/>
            <a:ext cx="914400" cy="457200"/>
          </a:xfrm>
          <a:prstGeom prst="rect">
            <a:avLst/>
          </a:prstGeom>
          <a:solidFill>
            <a:srgbClr val="c7f3d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Discussion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Forum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371600" y="3276720"/>
            <a:ext cx="190512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133720" y="2971800"/>
            <a:ext cx="0" cy="30492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371600" y="3276720"/>
            <a:ext cx="0" cy="22860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438280" y="3276720"/>
            <a:ext cx="0" cy="22860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276720" y="3276720"/>
            <a:ext cx="0" cy="22860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038480" y="2971800"/>
            <a:ext cx="0" cy="53352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410080" y="2971800"/>
            <a:ext cx="0" cy="53352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705720" y="2971800"/>
            <a:ext cx="0" cy="53352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924680" y="2971800"/>
            <a:ext cx="0" cy="53352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71600" y="4191120"/>
            <a:ext cx="0" cy="15228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362320" y="4191120"/>
            <a:ext cx="0" cy="15228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276720" y="4191120"/>
            <a:ext cx="0" cy="15228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IOE Portal Topology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133720" y="1905120"/>
            <a:ext cx="5029200" cy="838080"/>
          </a:xfrm>
          <a:prstGeom prst="rect">
            <a:avLst/>
          </a:prstGeom>
          <a:solidFill>
            <a:srgbClr val="abedb9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Web Browser or Other XML interaction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058840" y="182880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2000"/>
                </a:solidFill>
                <a:latin typeface="Times New Roman"/>
              </a:rPr>
              <a:t>Client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14400" y="3048120"/>
            <a:ext cx="7848720" cy="1752480"/>
          </a:xfrm>
          <a:prstGeom prst="rect">
            <a:avLst/>
          </a:prstGeom>
          <a:solidFill>
            <a:srgbClr val="b5cdf9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133720" y="3200400"/>
            <a:ext cx="5029200" cy="762120"/>
          </a:xfrm>
          <a:prstGeom prst="rect">
            <a:avLst/>
          </a:prstGeom>
          <a:solidFill>
            <a:srgbClr val="e5c8ab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HTTP and XML Server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38080" y="2971800"/>
            <a:ext cx="135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2000"/>
                </a:solidFill>
                <a:latin typeface="Times New Roman"/>
              </a:rPr>
              <a:t>Middle Tier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133720" y="4038480"/>
            <a:ext cx="5029200" cy="609840"/>
          </a:xfrm>
          <a:prstGeom prst="rect">
            <a:avLst/>
          </a:prstGeom>
          <a:solidFill>
            <a:srgbClr val="e5c8ab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Data Access Servlet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523880" y="4952880"/>
            <a:ext cx="3048120" cy="1295640"/>
          </a:xfrm>
          <a:prstGeom prst="rect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Data Source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52880" y="4952880"/>
            <a:ext cx="3048120" cy="1295640"/>
          </a:xfrm>
          <a:prstGeom prst="rect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Application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2438280"/>
            <a:ext cx="914400" cy="91440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bfae2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38280" y="4343400"/>
            <a:ext cx="914400" cy="91440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bfae2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343400"/>
            <a:ext cx="914400" cy="91440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bfae2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5680" y="4952880"/>
            <a:ext cx="98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2000"/>
                </a:solidFill>
                <a:latin typeface="Times New Roman"/>
              </a:rPr>
              <a:t>Database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IOE PortalAtchitectur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1676520"/>
            <a:ext cx="5029200" cy="838080"/>
          </a:xfrm>
          <a:prstGeom prst="rect">
            <a:avLst/>
          </a:prstGeom>
          <a:solidFill>
            <a:srgbClr val="abedb9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92160" y="190512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2000"/>
                </a:solidFill>
                <a:latin typeface="Times New Roman"/>
              </a:rPr>
              <a:t>Client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14400" y="2971800"/>
            <a:ext cx="7848720" cy="1676520"/>
          </a:xfrm>
          <a:prstGeom prst="rect">
            <a:avLst/>
          </a:prstGeom>
          <a:solidFill>
            <a:srgbClr val="b5cdf9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38080" y="2666880"/>
            <a:ext cx="135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2000"/>
                </a:solidFill>
                <a:latin typeface="Times New Roman"/>
              </a:rPr>
              <a:t>Middle Tier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066680" y="5029200"/>
            <a:ext cx="5029200" cy="1295280"/>
          </a:xfrm>
          <a:prstGeom prst="rect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324480" y="5029200"/>
            <a:ext cx="2438640" cy="1295280"/>
          </a:xfrm>
          <a:prstGeom prst="rect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Application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402000"/>
                </a:solidFill>
                <a:latin typeface="Times New Roman"/>
              </a:rPr>
              <a:t>Report Generators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402000"/>
                </a:solidFill>
                <a:latin typeface="Times New Roman"/>
              </a:rPr>
              <a:t>Help Desk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5005440"/>
            <a:ext cx="10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2000"/>
                </a:solidFill>
                <a:latin typeface="Times New Roman"/>
              </a:rPr>
              <a:t>Oracle 8i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26160" y="1676520"/>
            <a:ext cx="511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2000"/>
                </a:solidFill>
                <a:latin typeface="Times New Roman"/>
              </a:rPr>
              <a:t>Client User Interface: Web Browser, Application, Palm Pilot, etc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362320" y="1981080"/>
            <a:ext cx="1600200" cy="304920"/>
          </a:xfrm>
          <a:prstGeom prst="roundRect">
            <a:avLst>
              <a:gd name="adj" fmla="val 37500"/>
            </a:avLst>
          </a:prstGeom>
          <a:solidFill>
            <a:srgbClr val="f7eee5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XML parser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90720" y="3048120"/>
            <a:ext cx="3276360" cy="990360"/>
          </a:xfrm>
          <a:prstGeom prst="roundRect">
            <a:avLst>
              <a:gd name="adj" fmla="val 16667"/>
            </a:avLst>
          </a:prstGeom>
          <a:solidFill>
            <a:srgbClr val="f7eee5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7040" y="3048120"/>
            <a:ext cx="155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2000"/>
                </a:solidFill>
                <a:latin typeface="Times New Roman"/>
              </a:rPr>
              <a:t>XML Server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419720" y="30481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7eee5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4114800"/>
            <a:ext cx="7620120" cy="457200"/>
          </a:xfrm>
          <a:prstGeom prst="roundRect">
            <a:avLst>
              <a:gd name="adj" fmla="val 16667"/>
            </a:avLst>
          </a:prstGeom>
          <a:solidFill>
            <a:srgbClr val="f7eee5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2000"/>
                </a:solidFill>
                <a:latin typeface="Times New Roman"/>
              </a:rPr>
              <a:t>Data Access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400800" y="3048120"/>
            <a:ext cx="2286000" cy="990360"/>
          </a:xfrm>
          <a:prstGeom prst="roundRect">
            <a:avLst>
              <a:gd name="adj" fmla="val 16667"/>
            </a:avLst>
          </a:prstGeom>
          <a:solidFill>
            <a:srgbClr val="f7eee5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477840" y="3048120"/>
            <a:ext cx="165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2000"/>
                </a:solidFill>
                <a:latin typeface="Times New Roman"/>
              </a:rPr>
              <a:t>HTTP Server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419720" y="3048120"/>
            <a:ext cx="104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2000"/>
                </a:solidFill>
                <a:latin typeface="Times New Roman"/>
              </a:rPr>
              <a:t>Servlets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477120" y="3429000"/>
            <a:ext cx="1295280" cy="533520"/>
          </a:xfrm>
          <a:prstGeom prst="roundRect">
            <a:avLst>
              <a:gd name="adj" fmla="val 37500"/>
            </a:avLst>
          </a:prstGeom>
          <a:solidFill>
            <a:srgbClr val="f7eee5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2000"/>
                </a:solidFill>
                <a:latin typeface="Times New Roman"/>
              </a:rPr>
              <a:t>XML parser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2000"/>
                </a:solidFill>
                <a:latin typeface="Times New Roman"/>
              </a:rPr>
              <a:t>applet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066680" y="3581280"/>
            <a:ext cx="1600200" cy="381240"/>
          </a:xfrm>
          <a:prstGeom prst="roundRect">
            <a:avLst>
              <a:gd name="adj" fmla="val 37500"/>
            </a:avLst>
          </a:prstGeom>
          <a:solidFill>
            <a:srgbClr val="f7eee5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2000"/>
                </a:solidFill>
                <a:latin typeface="Times New Roman"/>
              </a:rPr>
              <a:t>Document Handler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743200" y="3124080"/>
            <a:ext cx="1371600" cy="838440"/>
          </a:xfrm>
          <a:prstGeom prst="roundRect">
            <a:avLst>
              <a:gd name="adj" fmla="val 37500"/>
            </a:avLst>
          </a:prstGeom>
          <a:solidFill>
            <a:srgbClr val="f7eee5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2000"/>
                </a:solidFill>
                <a:latin typeface="Times New Roman"/>
              </a:rPr>
              <a:t>XML Services: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2000"/>
                </a:solidFill>
                <a:latin typeface="Times New Roman"/>
              </a:rPr>
              <a:t>Parser, DOM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2000"/>
                </a:solidFill>
                <a:latin typeface="Times New Roman"/>
              </a:rPr>
              <a:t>XSL,SAX,XQL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495680" y="3429000"/>
            <a:ext cx="1676520" cy="533520"/>
          </a:xfrm>
          <a:prstGeom prst="roundRect">
            <a:avLst>
              <a:gd name="adj" fmla="val 37500"/>
            </a:avLst>
          </a:prstGeom>
          <a:solidFill>
            <a:srgbClr val="f7eee5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2000"/>
                </a:solidFill>
                <a:latin typeface="Times New Roman"/>
              </a:rPr>
              <a:t>XSQL Servlet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2000"/>
                </a:solidFill>
                <a:latin typeface="Times New Roman"/>
              </a:rPr>
              <a:t>SQL Utilities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295280" y="4191120"/>
            <a:ext cx="2590920" cy="304560"/>
          </a:xfrm>
          <a:prstGeom prst="roundRect">
            <a:avLst>
              <a:gd name="adj" fmla="val 37500"/>
            </a:avLst>
          </a:prstGeom>
          <a:solidFill>
            <a:srgbClr val="f7eee5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2000"/>
                </a:solidFill>
                <a:latin typeface="Times New Roman"/>
              </a:rPr>
              <a:t>Metadata manager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4191120"/>
            <a:ext cx="2590560" cy="304560"/>
          </a:xfrm>
          <a:prstGeom prst="roundRect">
            <a:avLst>
              <a:gd name="adj" fmla="val 37500"/>
            </a:avLst>
          </a:prstGeom>
          <a:solidFill>
            <a:srgbClr val="f7eee5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2000"/>
                </a:solidFill>
                <a:latin typeface="Times New Roman"/>
              </a:rPr>
              <a:t>Application Manager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419720" y="5715000"/>
            <a:ext cx="1600200" cy="533520"/>
          </a:xfrm>
          <a:prstGeom prst="roundRect">
            <a:avLst>
              <a:gd name="adj" fmla="val 37500"/>
            </a:avLst>
          </a:prstGeom>
          <a:solidFill>
            <a:srgbClr val="f7eee5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2000"/>
                </a:solidFill>
                <a:latin typeface="Times New Roman"/>
              </a:rPr>
              <a:t>User profiles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2000"/>
                </a:solidFill>
                <a:latin typeface="Times New Roman"/>
              </a:rPr>
              <a:t>Public Keys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666880" y="5105520"/>
            <a:ext cx="1676520" cy="1143000"/>
          </a:xfrm>
          <a:prstGeom prst="roundRect">
            <a:avLst>
              <a:gd name="adj" fmla="val 37500"/>
            </a:avLst>
          </a:prstGeom>
          <a:solidFill>
            <a:srgbClr val="f7eee5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2000"/>
                </a:solidFill>
                <a:latin typeface="Times New Roman"/>
              </a:rPr>
              <a:t>Data: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2000"/>
                </a:solidFill>
                <a:latin typeface="Times New Roman"/>
              </a:rPr>
              <a:t>Document Rep.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2000"/>
                </a:solidFill>
                <a:latin typeface="Times New Roman"/>
              </a:rPr>
              <a:t>Project Repository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2000"/>
                </a:solidFill>
                <a:latin typeface="Times New Roman"/>
              </a:rPr>
              <a:t>Training Rep.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143000" y="5943600"/>
            <a:ext cx="1447920" cy="304920"/>
          </a:xfrm>
          <a:prstGeom prst="roundRect">
            <a:avLst>
              <a:gd name="adj" fmla="val 37500"/>
            </a:avLst>
          </a:prstGeom>
          <a:solidFill>
            <a:srgbClr val="f7eee5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2000"/>
                </a:solidFill>
                <a:latin typeface="Times New Roman"/>
              </a:rPr>
              <a:t>JVM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143000" y="5334120"/>
            <a:ext cx="1447920" cy="533160"/>
          </a:xfrm>
          <a:prstGeom prst="roundRect">
            <a:avLst>
              <a:gd name="adj" fmla="val 37500"/>
            </a:avLst>
          </a:prstGeom>
          <a:solidFill>
            <a:srgbClr val="f7eee5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2000"/>
                </a:solidFill>
                <a:latin typeface="Times New Roman"/>
              </a:rPr>
              <a:t>Stored Java,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2000"/>
                </a:solidFill>
                <a:latin typeface="Times New Roman"/>
              </a:rPr>
              <a:t>PL/SQL proc.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495680" y="5410080"/>
            <a:ext cx="1447920" cy="228600"/>
          </a:xfrm>
          <a:prstGeom prst="roundRect">
            <a:avLst>
              <a:gd name="adj" fmla="val 37500"/>
            </a:avLst>
          </a:prstGeom>
          <a:solidFill>
            <a:srgbClr val="f7eee5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2000"/>
                </a:solidFill>
                <a:latin typeface="Times New Roman"/>
              </a:rPr>
              <a:t>State Update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495680" y="5105520"/>
            <a:ext cx="1447920" cy="228600"/>
          </a:xfrm>
          <a:prstGeom prst="roundRect">
            <a:avLst>
              <a:gd name="adj" fmla="val 37500"/>
            </a:avLst>
          </a:prstGeom>
          <a:solidFill>
            <a:srgbClr val="f7eee5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2000"/>
                </a:solidFill>
                <a:latin typeface="Times New Roman"/>
              </a:rPr>
              <a:t>XSL Templates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429000" y="4495680"/>
            <a:ext cx="1371600" cy="68580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6f3c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2000"/>
                </a:solidFill>
                <a:latin typeface="Times New Roman"/>
              </a:rPr>
              <a:t>JDBC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324480" y="4495680"/>
            <a:ext cx="1371600" cy="68580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6f3c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95880" y="2209680"/>
            <a:ext cx="1371600" cy="91440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6f3c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2000"/>
                </a:solidFill>
                <a:latin typeface="Times New Roman"/>
              </a:rPr>
              <a:t>HTTP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2000"/>
                </a:solidFill>
                <a:latin typeface="Times New Roman"/>
              </a:rPr>
              <a:t>HTML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819520" y="2286000"/>
            <a:ext cx="1371600" cy="91440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6f3c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2000"/>
                </a:solidFill>
                <a:latin typeface="Times New Roman"/>
              </a:rPr>
              <a:t>XML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2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2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620120" y="3429000"/>
            <a:ext cx="990360" cy="533520"/>
          </a:xfrm>
          <a:prstGeom prst="roundRect">
            <a:avLst>
              <a:gd name="adj" fmla="val 37500"/>
            </a:avLst>
          </a:prstGeom>
          <a:solidFill>
            <a:srgbClr val="f7eee5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2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2000"/>
                </a:solidFill>
                <a:latin typeface="Times New Roman"/>
              </a:rPr>
              <a:t>engine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NCSA Progress on DOD-IO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Prototype of User Interface System (Portal model) http://aim.ncsa.uiuc.edu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Hardware Purchasing : Production and Testing HP server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Software Purchasing: Apache Stronghold secure web server and Oracle 8i license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Testing Security Infrastructure: Kerberos API for authentication, PKI for encryption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Testing Interaction between applets (client side) and servlets (middle tier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NPAC Progress on DOD-IO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4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oftware installation and testing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653760" indent="-251280">
              <a:spcBef>
                <a:spcPts val="45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Oracle 8i Database Server  for Solaris,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lvl="1" marL="653760" indent="-251280">
              <a:spcBef>
                <a:spcPts val="45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Oracle Enterprise Manager 2.0 for Solaris and NT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lvl="1" marL="653760" indent="-251280">
              <a:spcBef>
                <a:spcPts val="45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Oracle Application Server 4.0 for Solaris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lvl="1" marL="653760" indent="-251280">
              <a:spcBef>
                <a:spcPts val="45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WebDB 2.0.5,  interMedia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lvl="1" marL="653760" indent="-251280">
              <a:spcBef>
                <a:spcPts val="45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Apache Server 1.3.6 with servlet support (Jserv 1.0)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01680" indent="-301680">
              <a:spcBef>
                <a:spcPts val="4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Testing and prototyping (demo version prepared)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653760" indent="-251280">
              <a:spcBef>
                <a:spcPts val="45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XSQL Servlet (DB table converted to XML and displayed by IE)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lvl="1" marL="653760" indent="-251280">
              <a:spcBef>
                <a:spcPts val="45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XML SQL Utility (client and server side conversion of DB table into XML file and vice versa)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lvl="1" marL="653760" indent="-251280">
              <a:spcBef>
                <a:spcPts val="45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XML Parser for Java with DOM, SAX and XSL interfaces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lvl="1" marL="653760" indent="-251280">
              <a:spcBef>
                <a:spcPts val="45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Thin JDBC and OCI8 drivers for access to the Database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lvl="1" marL="653760" indent="-251280">
              <a:spcBef>
                <a:spcPts val="45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Loading formatted documents (Word, PPT, PDF) into database table with BLOB column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30T11:29:39Z</dcterms:created>
  <dc:creator>Roman Markowski</dc:creator>
  <dc:description/>
  <dc:language>en-US</dc:language>
  <cp:lastModifiedBy>David E Bernholdt</cp:lastModifiedBy>
  <dcterms:modified xsi:type="dcterms:W3CDTF">1999-07-31T20:33:32Z</dcterms:modified>
  <cp:revision>5</cp:revision>
  <dc:subject/>
  <dc:title>IOE Capabilities Defined in SoW</dc:title>
</cp:coreProperties>
</file>