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881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9BF-DC6C-4FED-BC61-2DA5329A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63C-0D44-4639-A0F2-AB5FD2BD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1D8-3D7F-49F1-8C33-BC4772A2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8CD-B1AB-44DB-975C-FB4CDDB8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2BAFC-395A-4875-B184-4088152B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33EC-C95E-438B-B3EB-923EB02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042A-ACD2-420E-B55B-B16B4BE6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CBBB-12D6-4A82-A7B4-FF9428F4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BDE6-6CDE-42E3-A4C2-162B24B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6D4CE-A621-4CD0-B588-6ABDB1C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88AEA-32D2-4714-B7BA-A194563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949-FAEB-475A-BF4E-0939D4E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9CB53-BDB7-4263-9C40-CB1FEB9F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D106F-952B-4819-ADC1-0FFAAA7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2A1F1-205F-4085-8860-262DF267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F9C31-54A4-411F-A7E8-F98E1733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369C3-16F7-4068-9BAE-51238657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FB0-A16A-4F99-A00F-15F6672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DE4-90B5-4047-A497-203D799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85F-537A-4410-A860-827F014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938-8FC4-4AAA-9E3E-B2142F5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18E-6252-45A8-A762-5079BA6B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CF2-8FFF-4A43-9AE5-8651A6E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CB0-A9C7-4C54-9ECE-1B64D8D7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4300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0" y="6629400"/>
            <a:ext cx="380988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90560" y="66290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629400"/>
            <a:ext cx="144756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80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48720" y="662940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AD4-D39F-44CE-A046-A256796692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6629400"/>
            <a:ext cx="403848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62472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5438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661-BCAB-4529-9EC3-CE27947C7C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629400"/>
            <a:ext cx="137160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fo-Comm PET Activity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offrey C.F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 College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cf@npac.syr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L MSRC PET Annual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erdeen, 29-30 Ju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C6D7-783D-43BC-AA39-AF8B3E1725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fo-Comm Team Struc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int between NPAC and NCSA, with Geoffrey Fox (NPAC) Academic Le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PAC tea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lu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offrey Fox, David Bernholdt, Deepak Ramanathan, Marek Podgorny and Tango/Systems teams (for database etc. support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CSA tea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lu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x Lane, Sandie Kappes, Lisa Gatzke, ……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PAC emphasis on development and assess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collaboration, multimedia database &amp; train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CSA emphasis on assessment &amp; deploy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C &amp; T, and non-C &amp; T aspects (i.e. web sit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les not rig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7C2-D7A8-4C36-9320-AEEC433C47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ar 2 Highlights 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 NPAC only started 7 months ago and much work generic, hard to estimate impact on users numerical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b log analysis syst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ased on Java GUI to Oracle or Illustra database developed and ready for deploy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ployment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llaboration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rek trained in Tango Dec’97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 functionality enhancements, improved architecture and major effort to remove bugs (mainly "Netscape features"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ngo 1.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leased July 98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 server to be deployed on site in August 98 as we develop "beta site" support team in NPAC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llaborative Visualiz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o be discussed by SciVis team?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38E-6D7C-4647-9444-7A4CA0420A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ar 2 Highlights I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ining &amp; PET-Related Meet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ngo trainin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NPAC, Dec 97; NCSA, April 98; SDSC, June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 Interfaces to Relational Databases (ARL, Feb and ITEA July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od UG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vited Presentation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TEA pap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n Tang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C Training Worksho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May 98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SF CILT projec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May 98) include lead of distance learning requirements eff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PCA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Symposium (CAU, Ma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T Webmast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Meeting (NCSA, Feb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ip reports (http://www.npac.syr.edu/users/bernhold/trip-reports/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 conferences strongly InfoComm-related (13 total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PET funding of these trip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ance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cle 8 RDBM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stallation at AR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T wide  Training and Collaboration Planning Summa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www.npac.syr.edu/users/gcf/petcandt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393-7C84-41E9-B716-E8C626EB60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ar 3 and Beyond 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L pla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art of (proposed) PET-wide C &amp; T implementation plan derived from PET Exec. Committee Vision document which is consisten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SF PAC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SF Education Researc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ILT)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DL)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ust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Microsoft, Centra, Placeware, Docent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www.npac.syr.edu/users/bernhold/petcandt/arltasks.html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integrates NPAC and NCSA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 of InfoComm Year 3-5 Activ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ar 3 prototype deploy, Year 4 evaluate and extend, year 5 produ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adjustments for rapidly chang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nitor ongoing progress in InfoComm technolog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transfer as appropriate to DoD Modernization community through training and deployment activ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Microsof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romeEffec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"battle" with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ava3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RM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s doomed?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3AA-3472-4007-B0D5-E191E465A8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ucture of InfoComm Year 3-5 Activities II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2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ployment in Staged Fashion of basic RESEARCH and MANAGEMENT collabor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gradual broadening of user community and addition of advanced features. This would be supported by training and evaluation function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Tango for synchronous and a selection of Asynchronous tools including databases and Lotus No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3) Produce an evaluation and associated training to allow us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media (audio/video over foils) enhancements to training materi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Phase in use of databases as back-end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lPlayer, NCSA Webcast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4) Deployment of prov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ngo education and training capabilit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enhancement with especially addition of integrat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ckend database support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PA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5) Evaluate and deplo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horing techniqu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both training and other web pages.  (NCSA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C1C-D8AA-40FD-A0A7-D2C0F87003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6-29T21:54:04Z</cp:lastPrinted>
  <dcterms:modified xsi:type="dcterms:W3CDTF">1998-07-26T15:34:57Z</dcterms:modified>
  <cp:revision>56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