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DA42E-A2A3-499A-8EA5-03F8D28733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1CBA9-1708-45AF-891A-E6255F503D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0B1E0-D7ED-4035-B7F2-B7A3551309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EC60E-45D9-40B9-8DE2-C7CDA59923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7CB20-2ED6-4FD3-92E6-67D17AAECB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CB82F-9278-4E73-BEDF-518CCCC2A9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2EA53-37F0-4B35-BAB4-F41E716A52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E6DD5-1A45-4586-8E19-816EFBA77B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0A975-1E63-4679-812D-C72F3C4EE4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42BAB-30BE-4047-8A37-4AC00BBE6F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B4371-F89E-4354-87A3-77EF7F44D9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04895-59A6-4BC8-AEBB-90C16DD9BD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58AD-1443-48D2-B97D-4B654AC451CA}" type="slidenum">
              <a:rPr b="0" lang="en-US" sz="9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ETIMAGE" descr=""/>
          <p:cNvPicPr/>
          <p:nvPr/>
        </p:nvPicPr>
        <p:blipFill>
          <a:blip r:embed="rId2"/>
          <a:stretch/>
        </p:blipFill>
        <p:spPr>
          <a:xfrm>
            <a:off x="504720" y="0"/>
            <a:ext cx="8334360" cy="533520"/>
          </a:xfrm>
          <a:prstGeom prst="rect">
            <a:avLst/>
          </a:prstGeom>
          <a:ln w="0">
            <a:noFill/>
          </a:ln>
        </p:spPr>
      </p:pic>
      <p:pic>
        <p:nvPicPr>
          <p:cNvPr id="4" name="Nrclogo" descr=""/>
          <p:cNvPicPr/>
          <p:nvPr/>
        </p:nvPicPr>
        <p:blipFill>
          <a:blip r:embed="rId3"/>
          <a:stretch/>
        </p:blipFill>
        <p:spPr>
          <a:xfrm>
            <a:off x="0" y="6149880"/>
            <a:ext cx="1892160" cy="708120"/>
          </a:xfrm>
          <a:prstGeom prst="rect">
            <a:avLst/>
          </a:prstGeom>
          <a:ln w="0">
            <a:noFill/>
          </a:ln>
        </p:spPr>
      </p:pic>
      <p:pic>
        <p:nvPicPr>
          <p:cNvPr id="5" name="newmsrclogo" descr=""/>
          <p:cNvPicPr/>
          <p:nvPr/>
        </p:nvPicPr>
        <p:blipFill>
          <a:blip r:embed="rId4"/>
          <a:stretch/>
        </p:blipFill>
        <p:spPr>
          <a:xfrm>
            <a:off x="6705720" y="6122880"/>
            <a:ext cx="213336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Web Interfaces for Computational Module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(Tomasz Haupt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fig2a" descr=""/>
          <p:cNvPicPr/>
          <p:nvPr/>
        </p:nvPicPr>
        <p:blipFill>
          <a:blip r:embed="rId1"/>
          <a:stretch/>
        </p:blipFill>
        <p:spPr>
          <a:xfrm>
            <a:off x="3581280" y="1371600"/>
            <a:ext cx="5154840" cy="51544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Data Retrieval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360" y="1336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371600"/>
            <a:ext cx="3124080" cy="510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The data wizard 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allows the user to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interactively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select the data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download them to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the local machine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The raw data are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then fed to the 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WMS system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launched from 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the browser to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generate input files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for simul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LMS01a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6553440" cy="6191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04920" y="1371600"/>
            <a:ext cx="3124080" cy="2057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1511280"/>
            <a:ext cx="297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Launching coupled simulations on different back-end computational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4920" y="4495680"/>
            <a:ext cx="2286000" cy="2133720"/>
            <a:chOff x="304920" y="4495680"/>
            <a:chExt cx="2286000" cy="2133720"/>
          </a:xfrm>
        </p:grpSpPr>
        <p:sp>
          <p:nvSpPr>
            <p:cNvPr id="135" name=""/>
            <p:cNvSpPr/>
            <p:nvPr/>
          </p:nvSpPr>
          <p:spPr>
            <a:xfrm>
              <a:off x="304920" y="4495680"/>
              <a:ext cx="175248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lect 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4920" y="5054760"/>
              <a:ext cx="190476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lect mod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4920" y="5613480"/>
              <a:ext cx="20574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t paramet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04920" y="6172200"/>
              <a:ext cx="22860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 flipV="1">
            <a:off x="2057400" y="4343400"/>
            <a:ext cx="3049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209680" y="4343400"/>
            <a:ext cx="25146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362320" y="5181480"/>
            <a:ext cx="251460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632448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WMS based Visualizations</a:t>
            </a:r>
            <a:br>
              <a:rPr sz="4400"/>
            </a:b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44" name="fig4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6049800" cy="48290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105520" y="1523880"/>
            <a:ext cx="3733560" cy="2895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The results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simulations are se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back to the front e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and can be visualiz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using tools inclu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in  WMS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837720"/>
            <a:ext cx="4343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Mobility Systems Application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28600" y="2133720"/>
            <a:ext cx="3276720" cy="4038120"/>
            <a:chOff x="228600" y="2133720"/>
            <a:chExt cx="3276720" cy="4038120"/>
          </a:xfrm>
        </p:grpSpPr>
        <p:grpSp>
          <p:nvGrpSpPr>
            <p:cNvPr id="148" name=""/>
            <p:cNvGrpSpPr/>
            <p:nvPr/>
          </p:nvGrpSpPr>
          <p:grpSpPr>
            <a:xfrm>
              <a:off x="1905120" y="3352680"/>
              <a:ext cx="1523880" cy="1218960"/>
              <a:chOff x="1905120" y="3352680"/>
              <a:chExt cx="1523880" cy="1218960"/>
            </a:xfrm>
          </p:grpSpPr>
          <p:sp>
            <p:nvSpPr>
              <p:cNvPr id="149" name=""/>
              <p:cNvSpPr/>
              <p:nvPr/>
            </p:nvSpPr>
            <p:spPr>
              <a:xfrm>
                <a:off x="1905120" y="3352680"/>
                <a:ext cx="1523880" cy="1218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50" name="msd01" descr=""/>
              <p:cNvPicPr/>
              <p:nvPr/>
            </p:nvPicPr>
            <p:blipFill>
              <a:blip r:embed="rId1"/>
              <a:stretch/>
            </p:blipFill>
            <p:spPr>
              <a:xfrm>
                <a:off x="2009880" y="3428640"/>
                <a:ext cx="1314360" cy="1056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1" name=""/>
            <p:cNvSpPr/>
            <p:nvPr/>
          </p:nvSpPr>
          <p:spPr>
            <a:xfrm>
              <a:off x="1905120" y="5257800"/>
              <a:ext cx="1523880" cy="91404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ordinates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ransform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28600" y="3047760"/>
              <a:ext cx="1155960" cy="1675800"/>
              <a:chOff x="228600" y="3047760"/>
              <a:chExt cx="1155960" cy="1675800"/>
            </a:xfrm>
          </p:grpSpPr>
          <p:sp>
            <p:nvSpPr>
              <p:cNvPr id="153" name=""/>
              <p:cNvSpPr/>
              <p:nvPr/>
            </p:nvSpPr>
            <p:spPr>
              <a:xfrm>
                <a:off x="396720" y="3047760"/>
                <a:ext cx="914040" cy="60912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96720" y="4114080"/>
                <a:ext cx="914040" cy="60948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28600" y="3671280"/>
                <a:ext cx="1155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9933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1752480" y="2133720"/>
              <a:ext cx="76212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43200" y="2133720"/>
              <a:ext cx="76212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66880" y="45720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09680" y="2743200"/>
              <a:ext cx="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48120" y="2743200"/>
              <a:ext cx="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95280" y="3352680"/>
              <a:ext cx="6098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1295280" y="4114440"/>
              <a:ext cx="60984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648320" y="3733920"/>
            <a:ext cx="4343400" cy="228852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Prog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- object oriented approach 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- implementation: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 - CORBA based middle-tier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 - bean-box type API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 - JDBC proxy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19720" y="685800"/>
            <a:ext cx="4724280" cy="28954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Web interface to store data in DB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in variable forma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Data transfer from DB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a visualization 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Coordinates transformations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remote serv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Launching simulations on rem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sts with interactive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228600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Remote HPCC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Value MSRC received for the money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Activities and Deliverable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demonstration of WebFlow capabilities to build webflow interfaces and to provide access to remote resources for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Landscape Management System (completed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Mobility System Division applications (in progress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WebFlow documentation, developers guide and user training (to be delivered on March 9, 1999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Other metric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5 visits to CEWE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Web-based LMS prototype: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demonstrated at SC ‘98 and included in SC’98 technical presentation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installed at CEWES MSRC and delivered to 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J. Holland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ollaboration with Mobility System Division </a:t>
            </a:r>
            <a:br>
              <a:rPr sz="2800"/>
            </a:b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(N. Deliman, B.Gates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echnical report and tutorial (by March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WebFlow Architecture</a:t>
            </a:r>
            <a:br>
              <a:rPr sz="4400"/>
            </a:b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modern three-tier system</a:t>
            </a: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2514600"/>
            <a:ext cx="3353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er 1 is a high-level 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ront-en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or visu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gramming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tributed object-based, scalable, and reusable Web server and Object broke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orms Tier 2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ack-en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ervices comprise Tier 3. 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50" name="sc98fig1" descr=""/>
          <p:cNvPicPr/>
          <p:nvPr/>
        </p:nvPicPr>
        <p:blipFill>
          <a:blip r:embed="rId1"/>
          <a:stretch/>
        </p:blipFill>
        <p:spPr>
          <a:xfrm>
            <a:off x="3533760" y="1828800"/>
            <a:ext cx="561024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762120" y="2514600"/>
            <a:ext cx="3504960" cy="2743200"/>
            <a:chOff x="762120" y="2514600"/>
            <a:chExt cx="3504960" cy="2743200"/>
          </a:xfrm>
        </p:grpSpPr>
        <p:pic>
          <p:nvPicPr>
            <p:cNvPr id="52" name="dataflow" descr=""/>
            <p:cNvPicPr/>
            <p:nvPr/>
          </p:nvPicPr>
          <p:blipFill>
            <a:blip r:embed="rId1"/>
            <a:stretch/>
          </p:blipFill>
          <p:spPr>
            <a:xfrm>
              <a:off x="1219320" y="2514600"/>
              <a:ext cx="2466720" cy="27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762120" y="2514600"/>
              <a:ext cx="3504960" cy="27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80720" y="54860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Middle-Tier is given by a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Mesh of Web Servers running servlets that manage and coordinate distributed computation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3429000"/>
            <a:ext cx="38098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029200" y="1066680"/>
            <a:ext cx="3429000" cy="4110120"/>
            <a:chOff x="5029200" y="1066680"/>
            <a:chExt cx="3429000" cy="4110120"/>
          </a:xfrm>
        </p:grpSpPr>
        <p:sp>
          <p:nvSpPr>
            <p:cNvPr id="57" name=""/>
            <p:cNvSpPr/>
            <p:nvPr/>
          </p:nvSpPr>
          <p:spPr>
            <a:xfrm>
              <a:off x="5029200" y="3200400"/>
              <a:ext cx="457200" cy="4572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172200" y="3200400"/>
              <a:ext cx="457200" cy="4572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486400" y="3886200"/>
              <a:ext cx="457200" cy="457200"/>
            </a:xfrm>
            <a:prstGeom prst="cube">
              <a:avLst>
                <a:gd name="adj" fmla="val 25000"/>
              </a:avLst>
            </a:prstGeom>
            <a:solidFill>
              <a:srgbClr val="72c0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705720" y="3886200"/>
              <a:ext cx="457200" cy="457200"/>
            </a:xfrm>
            <a:prstGeom prst="cube">
              <a:avLst>
                <a:gd name="adj" fmla="val 25000"/>
              </a:avLst>
            </a:prstGeom>
            <a:solidFill>
              <a:srgbClr val="dde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239240" y="3200400"/>
              <a:ext cx="457200" cy="4572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10440" y="342900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440" y="34290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67640" y="411480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5943240" y="3504960"/>
              <a:ext cx="3812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7086240" y="3504960"/>
              <a:ext cx="3049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81840" y="3504960"/>
              <a:ext cx="30456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334120" y="4647960"/>
              <a:ext cx="228600" cy="223920"/>
            </a:xfrm>
            <a:prstGeom prst="can">
              <a:avLst>
                <a:gd name="adj" fmla="val 24967"/>
              </a:avLst>
            </a:prstGeom>
            <a:solidFill>
              <a:srgbClr val="72c0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486400" y="4952880"/>
              <a:ext cx="228600" cy="223920"/>
            </a:xfrm>
            <a:prstGeom prst="can">
              <a:avLst>
                <a:gd name="adj" fmla="val 24967"/>
              </a:avLst>
            </a:prstGeom>
            <a:solidFill>
              <a:srgbClr val="72c0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29200" y="4952880"/>
              <a:ext cx="228600" cy="223920"/>
            </a:xfrm>
            <a:prstGeom prst="can">
              <a:avLst>
                <a:gd name="adj" fmla="val 24967"/>
              </a:avLst>
            </a:prstGeom>
            <a:solidFill>
              <a:srgbClr val="72c0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782040" y="4952880"/>
              <a:ext cx="228600" cy="223920"/>
            </a:xfrm>
            <a:prstGeom prst="can">
              <a:avLst>
                <a:gd name="adj" fmla="val 24967"/>
              </a:avLst>
            </a:prstGeom>
            <a:solidFill>
              <a:srgbClr val="dde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91320" y="4724280"/>
              <a:ext cx="228600" cy="223920"/>
            </a:xfrm>
            <a:prstGeom prst="can">
              <a:avLst>
                <a:gd name="adj" fmla="val 33333"/>
              </a:avLst>
            </a:prstGeom>
            <a:solidFill>
              <a:srgbClr val="72c0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400800" y="4952880"/>
              <a:ext cx="228600" cy="223920"/>
            </a:xfrm>
            <a:prstGeom prst="can">
              <a:avLst>
                <a:gd name="adj" fmla="val 24967"/>
              </a:avLst>
            </a:prstGeom>
            <a:solidFill>
              <a:srgbClr val="dde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705720" y="4647960"/>
              <a:ext cx="228600" cy="223920"/>
            </a:xfrm>
            <a:prstGeom prst="can">
              <a:avLst>
                <a:gd name="adj" fmla="val 24967"/>
              </a:avLst>
            </a:prstGeom>
            <a:solidFill>
              <a:srgbClr val="dde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62920" y="4800600"/>
              <a:ext cx="228600" cy="223560"/>
            </a:xfrm>
            <a:prstGeom prst="can">
              <a:avLst>
                <a:gd name="adj" fmla="val 24967"/>
              </a:avLst>
            </a:prstGeom>
            <a:solidFill>
              <a:srgbClr val="dde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5410440" y="434340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5639040" y="43430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5790960" y="4343400"/>
              <a:ext cx="152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5181840" y="4343040"/>
              <a:ext cx="4572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6782040" y="4343400"/>
              <a:ext cx="759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6553440" y="4343040"/>
              <a:ext cx="228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6934320" y="43430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flipV="1">
              <a:off x="7010280" y="434340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10640" y="1066680"/>
              <a:ext cx="1143000" cy="1066680"/>
            </a:xfrm>
            <a:prstGeom prst="cube">
              <a:avLst>
                <a:gd name="adj" fmla="val 249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86600" y="1447560"/>
              <a:ext cx="762120" cy="6098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2133360"/>
              <a:ext cx="1600200" cy="228600"/>
            </a:xfrm>
            <a:prstGeom prst="cube">
              <a:avLst>
                <a:gd name="adj" fmla="val 79583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20120" y="1828800"/>
              <a:ext cx="838080" cy="1600200"/>
            </a:xfrm>
            <a:custGeom>
              <a:avLst/>
              <a:gdLst/>
              <a:ahLst/>
              <a:rect l="l" t="t" r="r" b="b"/>
              <a:pathLst>
                <a:path w="528" h="1008">
                  <a:moveTo>
                    <a:pt x="288" y="0"/>
                  </a:moveTo>
                  <a:lnTo>
                    <a:pt x="528" y="0"/>
                  </a:lnTo>
                  <a:lnTo>
                    <a:pt x="528" y="1008"/>
                  </a:lnTo>
                  <a:lnTo>
                    <a:pt x="0" y="1008"/>
                  </a:lnTo>
                  <a:lnTo>
                    <a:pt x="48" y="100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228600" y="533520"/>
            <a:ext cx="6781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Flow applications are composed of independent   reusable mo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dules are written by module developers who have only  limited knowledge of the system on which the modules will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WebFlow system hides module management and coordination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LMS Objective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o develop a web based system that implements  a “navigate-and-choose” paradigm and  allows the end user to: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Select (a set of) computational modules that provide answers to the problem at hand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Retrieve input data sets from remote sourc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Use adequate (remote) computational resourc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Visualize and analyze output data on the local host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nytime, anywhere, using any platform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(e.g., a connected to the internet laptop PC)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LMS: Changes in Vegetation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9933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 decision maker (the end user of the system) wants to evaluate changes in vegetation in some geographical region over a long time period caused by some short term disturbances such as a fire or human’s activities.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9933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One of the critical parameters of the vegetation model (EDYS) is soil condition at the time of the disturbance.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9933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This in turn is dominated by rainfalls that possibly occur at that time (CASC2D simulation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9933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Input data for the simulations are available from the Internet, such as Data Elevation Models (DEM) from USGS web site or from custom databases (spieces characteristics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LMS: Changes in Vegetation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884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Data retrieval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Data preprocessing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imulation: two interacting code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Monotype Sort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EDYS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Monotype Sor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ASC2D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Visualization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914400" y="1523880"/>
            <a:ext cx="3809880" cy="3276720"/>
            <a:chOff x="914400" y="1523880"/>
            <a:chExt cx="3809880" cy="3276720"/>
          </a:xfrm>
        </p:grpSpPr>
        <p:sp>
          <p:nvSpPr>
            <p:cNvPr id="96" name=""/>
            <p:cNvSpPr/>
            <p:nvPr/>
          </p:nvSpPr>
          <p:spPr>
            <a:xfrm>
              <a:off x="1981080" y="2666880"/>
              <a:ext cx="1828800" cy="68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23880" y="4114800"/>
              <a:ext cx="121932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DY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71800" y="4114800"/>
              <a:ext cx="1218960" cy="457200"/>
            </a:xfrm>
            <a:prstGeom prst="rect">
              <a:avLst/>
            </a:prstGeom>
            <a:solidFill>
              <a:srgbClr val="fe040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ASC2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438280" y="38862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3828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5268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3526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38280" y="48006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2438280" y="4571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09680" y="33526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81280" y="33526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14400" y="1523880"/>
              <a:ext cx="838080" cy="380880"/>
            </a:xfrm>
            <a:prstGeom prst="rect">
              <a:avLst/>
            </a:prstGeom>
            <a:solidFill>
              <a:srgbClr val="dde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04760" y="1523880"/>
              <a:ext cx="838440" cy="380880"/>
            </a:xfrm>
            <a:prstGeom prst="rect">
              <a:avLst/>
            </a:prstGeom>
            <a:solidFill>
              <a:srgbClr val="12f10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and U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95480" y="1523880"/>
              <a:ext cx="838080" cy="380880"/>
            </a:xfrm>
            <a:prstGeom prst="rect">
              <a:avLst/>
            </a:prstGeom>
            <a:solidFill>
              <a:srgbClr val="190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oi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ex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1523880"/>
              <a:ext cx="838080" cy="380880"/>
            </a:xfrm>
            <a:prstGeom prst="rect">
              <a:avLst/>
            </a:prstGeom>
            <a:solidFill>
              <a:srgbClr val="f10d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Vege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71600" y="1904760"/>
              <a:ext cx="9903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3429000" y="1904760"/>
              <a:ext cx="9144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3047400" y="1904760"/>
              <a:ext cx="3049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361960" y="1904760"/>
              <a:ext cx="38124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839160" y="5257800"/>
            <a:ext cx="33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EDYS: vegeta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22960" y="5257800"/>
            <a:ext cx="37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CASC2D: watershed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4400" y="5638680"/>
            <a:ext cx="48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WMS: Watershed Model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LMS Front End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20" name="lms01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343920" cy="4848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42670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Data retrieval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66520" y="6035760"/>
            <a:ext cx="217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Data pre-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post-pro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51800" y="6172200"/>
            <a:ext cx="164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Sim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4648320"/>
            <a:ext cx="25146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648320" y="4876920"/>
            <a:ext cx="99036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943600" y="4876920"/>
            <a:ext cx="9144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06:44:25Z</dcterms:created>
  <dc:creator>Tomasz Haupt</dc:creator>
  <dc:description/>
  <dc:language>en-US</dc:language>
  <cp:lastModifiedBy>David E Bernholdt</cp:lastModifiedBy>
  <dcterms:modified xsi:type="dcterms:W3CDTF">1999-01-29T04:01:39Z</dcterms:modified>
  <cp:revision>14</cp:revision>
  <dc:subject/>
  <dc:title>Web Interfaces for Computational Modules</dc:title>
</cp:coreProperties>
</file>