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8650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5A87-5BC9-4908-A592-C045309F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5236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7703-34C7-4B48-A30A-4E81DFF9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1E6F-A57A-41D2-B070-5C1DA4C4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5236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5236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5236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4D0E-67B3-4E27-9610-7B8F8BE5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A1FC3-BE3F-42DB-A108-B5088B2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FA323-BCEC-4236-ACDD-BC1A86AC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BE500-94EE-48E0-875D-113E62DB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A6CE8-79A9-4AC1-B591-AA855575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B92D3-6273-4F47-AA2B-4398DE8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6726A-82C4-4761-BC3F-B146B9A6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52F41-E574-4236-AF90-5A0BED5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65C7-D31C-42C8-8D84-4845D19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78C42-0925-4788-B018-FF00622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5236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DF026-7912-49A9-9EF9-71F6B6B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5236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82054-F9C4-4530-BEF8-2F4A8D9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D336-E356-4D06-8C5B-27ABDFF9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5236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5236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5236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5680B-10F2-4D80-90DE-B68D14E9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3C37-C2B5-4324-BF7E-94FFC90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D936-579E-4565-B303-ADDC5FDF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B72C-90CF-4586-875E-E0AA90F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FF1D-4CD0-4F67-998C-B13B16E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C4EC-6819-46E6-A4F4-0316564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5236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9AA3-A403-4597-97F4-71EFC5A8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5236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97AE-84C9-43CF-AE65-9D878C8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048120" y="655272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48A4-FCA9-4B5D-B440-58528CF8292C}" type="slidenum"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7200" y="652104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5E51-5680-4132-9D63-C91034A4C0C7}" type="datetime">
              <a:rPr b="1" lang="en-US" sz="16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4"/>
          </p:nvPr>
        </p:nvSpPr>
        <p:spPr>
          <a:xfrm>
            <a:off x="3048120" y="651996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5"/>
          </p:nvPr>
        </p:nvSpPr>
        <p:spPr>
          <a:xfrm>
            <a:off x="7238880" y="651996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334F-0FF7-45CE-A713-669C47B2CAE1}" type="slidenum"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6"/>
          </p:nvPr>
        </p:nvSpPr>
        <p:spPr>
          <a:xfrm>
            <a:off x="380880" y="652104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9DF-4756-4EDF-AF42-9E92A3060A6E}" type="datetime">
              <a:rPr b="1" lang="en-US" sz="16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APINT and Gateway</a:t>
            </a:r>
            <a:endParaRPr b="1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RL-ASC Review Meeting Feb 24 1999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offrey F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ortheast Parallel Architectures Cente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yracuse Univers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11 College Pla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yracuse N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cf@npac.syr.edu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ww.npac.syr.edu/users/gcf/mapintasc99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ww.asc.hpc.mil/Mapint98/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mic Sans MS"/>
              </a:rPr>
              <a:t>http://www.asc.hpc.mil/PET/PTES/index.html (for Mapint 97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fig3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2895840" cy="1481400"/>
          </a:xfrm>
          <a:prstGeom prst="rect">
            <a:avLst/>
          </a:prstGeom>
          <a:ln w="0">
            <a:noFill/>
          </a:ln>
        </p:spPr>
      </p:pic>
      <p:pic>
        <p:nvPicPr>
          <p:cNvPr id="101" name="image1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971800" cy="13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1306-61FE-40FD-A2B5-95A75E8F2C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6C5F9E3-58A2-4649-8581-E11EFE2730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743200" y="3056040"/>
            <a:ext cx="6172200" cy="1484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79880" y="3649680"/>
            <a:ext cx="1931400" cy="519120"/>
            <a:chOff x="3179880" y="3649680"/>
            <a:chExt cx="1931400" cy="519120"/>
          </a:xfrm>
        </p:grpSpPr>
        <p:sp>
          <p:nvSpPr>
            <p:cNvPr id="311" name=""/>
            <p:cNvSpPr/>
            <p:nvPr/>
          </p:nvSpPr>
          <p:spPr>
            <a:xfrm>
              <a:off x="3179880" y="3649680"/>
              <a:ext cx="435960" cy="519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78480" y="3649680"/>
              <a:ext cx="435960" cy="519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76720" y="3649680"/>
              <a:ext cx="435960" cy="519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75320" y="3649680"/>
              <a:ext cx="435960" cy="519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985000" y="3649680"/>
            <a:ext cx="2680920" cy="446040"/>
            <a:chOff x="5985000" y="3649680"/>
            <a:chExt cx="2680920" cy="446040"/>
          </a:xfrm>
        </p:grpSpPr>
        <p:sp>
          <p:nvSpPr>
            <p:cNvPr id="316" name=""/>
            <p:cNvSpPr/>
            <p:nvPr/>
          </p:nvSpPr>
          <p:spPr>
            <a:xfrm>
              <a:off x="5985000" y="3649680"/>
              <a:ext cx="436320" cy="446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29600" y="3649680"/>
              <a:ext cx="436320" cy="446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5880" y="3649680"/>
              <a:ext cx="436320" cy="446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07120" y="3649680"/>
              <a:ext cx="436320" cy="446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68360" y="3649680"/>
              <a:ext cx="436320" cy="446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79880" y="3203640"/>
            <a:ext cx="1931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3203640"/>
            <a:ext cx="2681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r Modu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43200" y="5486400"/>
            <a:ext cx="6109920" cy="1039680"/>
            <a:chOff x="2743200" y="5486400"/>
            <a:chExt cx="6109920" cy="1039680"/>
          </a:xfrm>
        </p:grpSpPr>
        <p:sp>
          <p:nvSpPr>
            <p:cNvPr id="324" name=""/>
            <p:cNvSpPr/>
            <p:nvPr/>
          </p:nvSpPr>
          <p:spPr>
            <a:xfrm>
              <a:off x="2743200" y="548640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89880" y="548640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6920" y="548640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3960" y="548640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31000" y="5486400"/>
              <a:ext cx="1122120" cy="10396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>
            <a:off x="4425840" y="2016000"/>
            <a:ext cx="3616560" cy="1633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925520" y="2016000"/>
            <a:ext cx="3116520" cy="1633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18560" y="2016000"/>
            <a:ext cx="123840" cy="1633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42400" y="2016000"/>
            <a:ext cx="374400" cy="1633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419360" y="4168800"/>
            <a:ext cx="6120" cy="1317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543800" y="3871800"/>
            <a:ext cx="125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19" idx="4"/>
            <a:endCxn id="312" idx="2"/>
          </p:cNvCxnSpPr>
          <p:nvPr/>
        </p:nvCxnSpPr>
        <p:spPr>
          <a:xfrm rot="5400000">
            <a:off x="5574600" y="2417400"/>
            <a:ext cx="73800" cy="3429720"/>
          </a:xfrm>
          <a:prstGeom prst="bentConnector3">
            <a:avLst>
              <a:gd name="adj1" fmla="val 400000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4862520" y="4168800"/>
            <a:ext cx="14400" cy="1317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81280" y="4168800"/>
            <a:ext cx="222480" cy="1317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05120" y="2610000"/>
            <a:ext cx="2244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9040" y="457200"/>
            <a:ext cx="1684440" cy="15588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2760" y="531720"/>
            <a:ext cx="1557360" cy="1409760"/>
          </a:xfrm>
          <a:prstGeom prst="roundRect">
            <a:avLst>
              <a:gd name="adj" fmla="val 16667"/>
            </a:avLst>
          </a:prstGeom>
          <a:solidFill>
            <a:srgbClr val="22001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ont-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4191120"/>
            <a:ext cx="0" cy="12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305560" y="4114800"/>
            <a:ext cx="152280" cy="1371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DATORR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Interfac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nd 3 Tier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457200"/>
            <a:ext cx="1684440" cy="15588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3960" y="531720"/>
            <a:ext cx="1557360" cy="14097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ont-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52520" y="2057400"/>
            <a:ext cx="685800" cy="1600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2057400"/>
            <a:ext cx="533520" cy="1600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2057400"/>
            <a:ext cx="1067040" cy="1600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105520" y="388620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2362320"/>
            <a:ext cx="609588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sk 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4724280"/>
            <a:ext cx="61722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tacomputing Serv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ATOR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2" idx="0"/>
            <a:endCxn id="350" idx="1"/>
          </p:cNvCxnSpPr>
          <p:nvPr/>
        </p:nvCxnSpPr>
        <p:spPr>
          <a:xfrm flipH="1" flipV="1" rot="5400000">
            <a:off x="1409400" y="2399760"/>
            <a:ext cx="1143720" cy="1524600"/>
          </a:xfrm>
          <a:prstGeom prst="bentConnector2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2" idx="2"/>
            <a:endCxn id="351" idx="1"/>
          </p:cNvCxnSpPr>
          <p:nvPr/>
        </p:nvCxnSpPr>
        <p:spPr>
          <a:xfrm flipH="1" rot="16200000">
            <a:off x="1611360" y="3859920"/>
            <a:ext cx="738720" cy="1524600"/>
          </a:xfrm>
          <a:prstGeom prst="bentConnector2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4343400" y="6477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ack-End Resourc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rchitecture of Gateway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7" name="fig2" descr=""/>
          <p:cNvPicPr/>
          <p:nvPr/>
        </p:nvPicPr>
        <p:blipFill>
          <a:blip r:embed="rId1"/>
          <a:stretch/>
        </p:blipFill>
        <p:spPr>
          <a:xfrm>
            <a:off x="0" y="41400"/>
            <a:ext cx="8534520" cy="68166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86728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lob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84880" y="2658960"/>
            <a:ext cx="173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160020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OM/X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04DD-03CF-4E5B-96A8-B516405A23D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56B446-9E7E-4EC2-86E0-6D6A06C0BA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Gatekeeper and Clien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2" name="MTfig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4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2574-AC7D-4531-BFF1-02B980CC2A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8EC3D3-DDCD-40E3-896A-D7EC891F25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924680" y="3429000"/>
            <a:ext cx="30492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857640" y="3429000"/>
            <a:ext cx="106668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952880" y="1981080"/>
            <a:ext cx="2362320" cy="11430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3295800"/>
            <a:ext cx="5562720" cy="28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CIOP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29718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ecurity Model in Gateway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0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485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01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5029200"/>
            <a:ext cx="12193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1676520"/>
            <a:ext cx="2514600" cy="38088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16002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nt End App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057400"/>
            <a:ext cx="0" cy="9144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5000" y="22860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0680" y="3886200"/>
            <a:ext cx="193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&amp; author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18800" y="2666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76400" y="27432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1676520"/>
            <a:ext cx="2514600" cy="38088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kehold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373392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8720" y="51814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PCC re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572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4572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yer 1: secure 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2160" y="32004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yer 2: secure CORB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870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yer 3: Secure access to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4876920"/>
            <a:ext cx="73152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0840" y="594360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icies defined by resource ow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2971800"/>
            <a:ext cx="45720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ww.datorr.org</a:t>
            </a:r>
            <a:endParaRPr b="1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We will set up a process to define key properties of major HPCC machines as an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database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-22860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IBM SP, SGI Origin 2000, Cray T3E, Cluster of Workstations/PC’s, Tera MT, Sun E10000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-22860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Many projects currently have competing and incomplete databases which will include properties such a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-22860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number of nodes, memory size, network QoS, CPU Type ...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 unifying concept for resource database i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www.datorr.org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which web site(s) will support registration , lookup and display of world’s compute resour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-22860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It will hav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 search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engine and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-22860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nd a simple interface allowing one to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query and display status of registered machin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-22860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Globus Condor Legion will provide richer interfa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594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DF11-D01A-4F62-9B68-3A6747EF5B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00E6D2-B8F7-4C53-9104-08BEBE65D0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ebFlow Application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uantum Simul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lliance/NCSA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emonstrated at Alliance ‘98 meeting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echnical paper presented at SC’98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ndscape Management System LM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EWES: MSRC/PE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llustrate Gateway Concept as end to end system with similar architecture but not with reproducible architecture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6A65-4B44-4858-B7E0-3616F1E3CB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993D01-CA19-415B-87F9-184169D02C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WebFlow + High Performance Backend Functional Architectur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990720"/>
            <a:ext cx="9144000" cy="5398920"/>
            <a:chOff x="0" y="990720"/>
            <a:chExt cx="9144000" cy="5398920"/>
          </a:xfrm>
        </p:grpSpPr>
        <p:pic>
          <p:nvPicPr>
            <p:cNvPr id="400" name="sc98fig3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914400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PlaceHolder 2"/>
            <p:cNvSpPr>
              <a:spLocks noGrp="1"/>
            </p:cNvSpPr>
            <p:nvPr>
              <p:ph/>
            </p:nvPr>
          </p:nvSpPr>
          <p:spPr>
            <a:xfrm>
              <a:off x="4800600" y="2743200"/>
              <a:ext cx="838080" cy="91440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txBody>
            <a:bodyPr anchor="t">
              <a:normAutofit fontScale="89000"/>
            </a:bodyPr>
            <a:p>
              <a:pPr marL="305280" indent="0">
                <a:lnSpc>
                  <a:spcPct val="100000"/>
                </a:lnSpc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IIOP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305280" indent="0">
                <a:lnSpc>
                  <a:spcPct val="100000"/>
                </a:lnSpc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/RMI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86440" y="5872320"/>
              <a:ext cx="4158360" cy="459720"/>
            </a:xfrm>
            <a:prstGeom prst="rect">
              <a:avLst/>
            </a:prstGeom>
            <a:solidFill>
              <a:srgbClr val="220011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High Performance Backen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83160" y="1072080"/>
              <a:ext cx="2925360" cy="398880"/>
            </a:xfrm>
            <a:prstGeom prst="rect">
              <a:avLst/>
            </a:prstGeom>
            <a:solidFill>
              <a:srgbClr val="220011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Java Applets Fronten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22120" y="2900880"/>
              <a:ext cx="1817640" cy="703800"/>
            </a:xfrm>
            <a:prstGeom prst="rect">
              <a:avLst/>
            </a:prstGeom>
            <a:solidFill>
              <a:srgbClr val="220011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Java Serve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in Middle Ti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4720" y="4729680"/>
              <a:ext cx="1314720" cy="398880"/>
            </a:xfrm>
            <a:prstGeom prst="rect">
              <a:avLst/>
            </a:prstGeom>
            <a:solidFill>
              <a:srgbClr val="220011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Databas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93560" y="4653360"/>
              <a:ext cx="1523520" cy="398880"/>
            </a:xfrm>
            <a:prstGeom prst="rect">
              <a:avLst/>
            </a:prstGeom>
            <a:solidFill>
              <a:srgbClr val="220011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ut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72080" y="4653360"/>
              <a:ext cx="1735200" cy="398880"/>
            </a:xfrm>
            <a:prstGeom prst="rect">
              <a:avLst/>
            </a:prstGeom>
            <a:solidFill>
              <a:srgbClr val="220011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Visualizat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0790-8BB0-4FC1-AE32-3F76A40B79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6330FE-0146-4DAD-8602-201134045F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sc98fig2" descr=""/>
          <p:cNvPicPr/>
          <p:nvPr/>
        </p:nvPicPr>
        <p:blipFill>
          <a:blip r:embed="rId1"/>
          <a:stretch/>
        </p:blipFill>
        <p:spPr>
          <a:xfrm>
            <a:off x="2743200" y="0"/>
            <a:ext cx="6202440" cy="6553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895480" cy="53341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WebFlow over Globus for NCSA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lliance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Quantum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Chemistry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pplication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View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46DA-6554-49F1-92D5-FC60540416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B73C90-ADA2-4F46-B47D-B73778D282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newfrontend-a" descr=""/>
          <p:cNvPicPr/>
          <p:nvPr/>
        </p:nvPicPr>
        <p:blipFill>
          <a:blip r:embed="rId1"/>
          <a:stretch/>
        </p:blipFill>
        <p:spPr>
          <a:xfrm>
            <a:off x="0" y="-6480"/>
            <a:ext cx="8610480" cy="68644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solidFill>
            <a:srgbClr val="220011"/>
          </a:solidFill>
          <a:ln w="9360">
            <a:solidFill>
              <a:srgbClr val="22001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uantum Chemistry: Front-End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24F3-FE9D-42DC-AC37-4F85FF92D3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C87259-DF15-4E8D-B438-202609A8FB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LMS: Changes in Vegetation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 decision maker (the end user of the system) wants to evaluate changes in vegetation in some geographical region over a long time period caused by some short term disturbances such as a fire or human’s activities.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ne of the critical parameters of the vegetation model is soil condition at the time of the disturbance.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is in turn is dominated by rainfalls that possibly occur at that tim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mponents of Application Include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retrieva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preprocess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ulation: two interacting cod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DY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SC2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DF95-4C64-4BD3-8B85-8EB76F3FAB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7B31FA-6BC3-44B5-8B31-528268430A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bstract of MAPINT/Gateway Presenta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 describe 1998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PINT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Conference and plans for 1999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 describ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OR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-- a national activity to set standards to allow general clien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amless acces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to general backend compute resour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ww-fp.mcs.anl.gov/~gregor/datorr/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 descri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- a ASC MSRC PET Project to provide a specific realization of DATORR with a rich web launching environment for each CTA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volves Nicholls (ASC), OSC, NPAC, in Core project an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ennessee, NCSA and OSU in associated activiti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 descri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- an NPAC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agmatic Object Web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” technology used in NCSA Alliance and CEWES projects to develop prototype web launching (web PSE’s) environmen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ww.npac.syr.edu/users/haupt/WebFlow/papers/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EB38-786B-455B-B1C1-A6F2DD2AEB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2F2A85-C172-4705-9F72-0D647C87C9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WebFlow on Globus -- LMS at CEWES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762120"/>
            <a:ext cx="9144000" cy="5333760"/>
          </a:xfrm>
          <a:prstGeom prst="rect">
            <a:avLst/>
          </a:prstGeom>
          <a:solidFill>
            <a:srgbClr val="22001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57440" y="1147680"/>
            <a:ext cx="1782720" cy="1622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11520" y="1554120"/>
            <a:ext cx="1473120" cy="1054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152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384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9616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2912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2144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51680" y="3986280"/>
            <a:ext cx="108432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9360" y="5527800"/>
            <a:ext cx="1084320" cy="40644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89280" y="398628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Data Retriev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5105520"/>
            <a:ext cx="2743200" cy="97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0920" y="518148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igh Performance Sub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9360" y="3986280"/>
            <a:ext cx="1084320" cy="649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x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02240" y="4635360"/>
            <a:ext cx="0" cy="487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00640" y="310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91800" y="11476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Times New Roman"/>
              </a:rPr>
              <a:t>Web Brows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9280" y="1554120"/>
            <a:ext cx="1373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Data Wiz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WMS interfa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Toolb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57440" y="2851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89280" y="4392720"/>
            <a:ext cx="108576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89280" y="479736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51680" y="4392720"/>
            <a:ext cx="108432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80000" y="4716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9920" y="2770200"/>
            <a:ext cx="0" cy="4874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0" y="1147680"/>
            <a:ext cx="2014200" cy="1865160"/>
            <a:chOff x="0" y="1147680"/>
            <a:chExt cx="2014200" cy="1865160"/>
          </a:xfrm>
        </p:grpSpPr>
        <p:sp>
          <p:nvSpPr>
            <p:cNvPr id="440" name=""/>
            <p:cNvSpPr/>
            <p:nvPr/>
          </p:nvSpPr>
          <p:spPr>
            <a:xfrm>
              <a:off x="0" y="114768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GIS &amp; DE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163404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011"/>
                  </a:solidFill>
                  <a:latin typeface="Times New Roman"/>
                </a:rPr>
                <a:t>Soils &amp; Land Us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212076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Weather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260712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Vegetation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H="1">
            <a:off x="1008000" y="4149720"/>
            <a:ext cx="178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08000" y="4311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008000" y="3012840"/>
            <a:ext cx="0" cy="113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843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modu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back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2666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middle-ti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371600"/>
            <a:ext cx="18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appl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front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541008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D299-239F-48B3-AA5B-D534E5DF2C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06E1A7-A71E-4D1D-AC05-49A250F6E1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LMS Front-End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53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454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455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pic>
        <p:nvPicPr>
          <p:cNvPr id="456" name="lms04a" descr=""/>
          <p:cNvPicPr/>
          <p:nvPr/>
        </p:nvPicPr>
        <p:blipFill>
          <a:blip r:embed="rId4"/>
          <a:stretch/>
        </p:blipFill>
        <p:spPr>
          <a:xfrm>
            <a:off x="4559400" y="68580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13F4-E2EE-4649-9D21-193FEDDD90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95D29C-D985-4971-B26E-A101770317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PINT Conference Seri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ccessful conference held in 1997 and 1998 in Dayton with 1998 objectives of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vide an overview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disciplinary design and analysis environments.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itiat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interactio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between multidisciplinary tool developers and users.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imulate thinking abou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tential multidisciplinary application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o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dvanced computing syste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here multidisciplinary applications are likely to be executed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ssion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ed Framework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block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for them; distributed and collaborati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cluded special workshop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DIC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-- a particular CFD framework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rganizing committee chair in 1998 was Dr. Ruth Pachter ASC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0F93-B658-4974-8BF0-85D59AB084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EAB31E-71E7-4D3F-8B6D-D7C6E325E4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MAPINT 99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 1999, PET leadership of MAPINT will be Dr. Richar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Luczak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Geoffre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x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asic Parameters as before : (end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Summer 1999 Dayt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ilar objectives but maturing of ideas allows some focussed sessions -- these are very preliminary sugges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utorial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using/build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blem Solving Environmen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ssion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n same topic but emphasizing people outside ou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ssion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merging advanced algorith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ro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s sess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ssion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Machine Room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C Clust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Help Please!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8003-A9F6-426E-AF0D-F45626DAA4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5E524-2AE8-4F6E-A856-BFBF42E6F3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Java Grande Activity DATORR</a:t>
            </a: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sktop Access to Remote Resource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evelopment of ASC Gateway coincides with DATORR standardization initiative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ATORR Could lead to definition of CORBA facilities or Java framework for computing servic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ATORR Defines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bstract Task Specification (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r view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”)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tacomputing Services API (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stem view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”)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s includes definitions of properties of a computer/database/network and establishing Security Standard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C335-5E50-439E-8008-51D423254E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BAF09E-CF6D-489C-A95A-BEA2361F26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otivation for Datorr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hy desktop access? 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ery many machines, platforms, Operating System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ough a good/necessary thing, using them in changing environment becomes difficult for users.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oal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nable Uniform 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amless access to general backend compute, communication and information resour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ide details and satisfy “majority of” custom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orr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ill help metacomputing but goals are focussed on a subset of issues and aimed at establishing interoperability standards -- reference implementations may follow but are not direct goa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438D-B6A4-4517-BD64-85593301CB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D17D5D-3578-47F8-ABFA-16942F6ABE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H="1">
            <a:off x="837720" y="2209680"/>
            <a:ext cx="2590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38080" y="3124080"/>
            <a:ext cx="22860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7720" y="4038480"/>
            <a:ext cx="21337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863640" y="5027760"/>
            <a:ext cx="218448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61760" y="6019920"/>
            <a:ext cx="251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B_OEQ127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18" name="B_OEQ127" descr=""/>
          <p:cNvPicPr/>
          <p:nvPr/>
        </p:nvPicPr>
        <p:blipFill>
          <a:blip r:embed="rId2"/>
          <a:stretch/>
        </p:blipFill>
        <p:spPr>
          <a:xfrm>
            <a:off x="457200" y="29512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19" name="B_OEQ127" descr=""/>
          <p:cNvPicPr/>
          <p:nvPr/>
        </p:nvPicPr>
        <p:blipFill>
          <a:blip r:embed="rId3"/>
          <a:stretch/>
        </p:blipFill>
        <p:spPr>
          <a:xfrm>
            <a:off x="457200" y="38656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20" name="B_OEQ127" descr=""/>
          <p:cNvPicPr/>
          <p:nvPr/>
        </p:nvPicPr>
        <p:blipFill>
          <a:blip r:embed="rId4"/>
          <a:stretch/>
        </p:blipFill>
        <p:spPr>
          <a:xfrm>
            <a:off x="457200" y="48560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21" name="B_OEQ127" descr=""/>
          <p:cNvPicPr/>
          <p:nvPr/>
        </p:nvPicPr>
        <p:blipFill>
          <a:blip r:embed="rId5"/>
          <a:stretch/>
        </p:blipFill>
        <p:spPr>
          <a:xfrm>
            <a:off x="457200" y="58467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8120" y="1676520"/>
            <a:ext cx="1904760" cy="4800600"/>
          </a:xfrm>
          <a:prstGeom prst="ellipse">
            <a:avLst/>
          </a:prstGeom>
          <a:solidFill>
            <a:srgbClr val="c7c200"/>
          </a:solidFill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eamless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676520"/>
            <a:ext cx="1523880" cy="772920"/>
          </a:xfrm>
          <a:prstGeom prst="ellipse">
            <a:avLst/>
          </a:prstGeom>
          <a:solidFill>
            <a:srgbClr val="c7c2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477120" y="5257800"/>
            <a:ext cx="753480" cy="837720"/>
            <a:chOff x="6477120" y="5257800"/>
            <a:chExt cx="753480" cy="837720"/>
          </a:xfrm>
        </p:grpSpPr>
        <p:grpSp>
          <p:nvGrpSpPr>
            <p:cNvPr id="125" name=""/>
            <p:cNvGrpSpPr/>
            <p:nvPr/>
          </p:nvGrpSpPr>
          <p:grpSpPr>
            <a:xfrm>
              <a:off x="6477120" y="5938560"/>
              <a:ext cx="753480" cy="156960"/>
              <a:chOff x="6477120" y="5938560"/>
              <a:chExt cx="753480" cy="156960"/>
            </a:xfrm>
          </p:grpSpPr>
          <p:sp>
            <p:nvSpPr>
              <p:cNvPr id="126" name=""/>
              <p:cNvSpPr/>
              <p:nvPr/>
            </p:nvSpPr>
            <p:spPr>
              <a:xfrm>
                <a:off x="6477120" y="593856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76200" y="593856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74920" y="593856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74000" y="5938560"/>
                <a:ext cx="15660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477120" y="5711760"/>
              <a:ext cx="753480" cy="156960"/>
              <a:chOff x="6477120" y="5711760"/>
              <a:chExt cx="753480" cy="156960"/>
            </a:xfrm>
          </p:grpSpPr>
          <p:sp>
            <p:nvSpPr>
              <p:cNvPr id="131" name=""/>
              <p:cNvSpPr/>
              <p:nvPr/>
            </p:nvSpPr>
            <p:spPr>
              <a:xfrm>
                <a:off x="6477120" y="571176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76200" y="571176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74920" y="571176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4000" y="5711760"/>
                <a:ext cx="15660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477120" y="5484600"/>
              <a:ext cx="753480" cy="156960"/>
              <a:chOff x="6477120" y="5484600"/>
              <a:chExt cx="753480" cy="156960"/>
            </a:xfrm>
          </p:grpSpPr>
          <p:sp>
            <p:nvSpPr>
              <p:cNvPr id="136" name=""/>
              <p:cNvSpPr/>
              <p:nvPr/>
            </p:nvSpPr>
            <p:spPr>
              <a:xfrm>
                <a:off x="6477120" y="548460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76200" y="548460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74920" y="548460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74000" y="5484600"/>
                <a:ext cx="15660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477120" y="5257800"/>
              <a:ext cx="753480" cy="156960"/>
              <a:chOff x="6477120" y="5257800"/>
              <a:chExt cx="753480" cy="156960"/>
            </a:xfrm>
          </p:grpSpPr>
          <p:sp>
            <p:nvSpPr>
              <p:cNvPr id="141" name=""/>
              <p:cNvSpPr/>
              <p:nvPr/>
            </p:nvSpPr>
            <p:spPr>
              <a:xfrm>
                <a:off x="6477120" y="525780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76200" y="525780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74920" y="5257800"/>
                <a:ext cx="15696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74000" y="5257800"/>
                <a:ext cx="156600" cy="156960"/>
              </a:xfrm>
              <a:prstGeom prst="ellipse">
                <a:avLst/>
              </a:prstGeom>
              <a:solidFill>
                <a:srgbClr val="c7c200"/>
              </a:solidFill>
              <a:ln w="2844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560640" y="6017400"/>
              <a:ext cx="5864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60640" y="5786640"/>
              <a:ext cx="5864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60640" y="5556240"/>
              <a:ext cx="5864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60640" y="5325840"/>
              <a:ext cx="5864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147080" y="5325480"/>
              <a:ext cx="0" cy="712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951600" y="5325480"/>
              <a:ext cx="0" cy="712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756120" y="5325480"/>
              <a:ext cx="0" cy="712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560640" y="5325480"/>
              <a:ext cx="0" cy="712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019920" y="2743200"/>
            <a:ext cx="1523880" cy="674640"/>
          </a:xfrm>
          <a:prstGeom prst="ellipse">
            <a:avLst/>
          </a:prstGeom>
          <a:solidFill>
            <a:srgbClr val="c7c2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24280" y="2133720"/>
            <a:ext cx="1447920" cy="5331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52520" y="3200400"/>
            <a:ext cx="1143000" cy="304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477120" y="4567320"/>
            <a:ext cx="753480" cy="156960"/>
            <a:chOff x="6477120" y="4567320"/>
            <a:chExt cx="753480" cy="156960"/>
          </a:xfrm>
        </p:grpSpPr>
        <p:sp>
          <p:nvSpPr>
            <p:cNvPr id="157" name=""/>
            <p:cNvSpPr/>
            <p:nvPr/>
          </p:nvSpPr>
          <p:spPr>
            <a:xfrm>
              <a:off x="6477120" y="4567320"/>
              <a:ext cx="15696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6200" y="4567320"/>
              <a:ext cx="15696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74920" y="4567320"/>
              <a:ext cx="15696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4000" y="4567320"/>
              <a:ext cx="15660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477120" y="4340160"/>
            <a:ext cx="753480" cy="157320"/>
            <a:chOff x="6477120" y="4340160"/>
            <a:chExt cx="753480" cy="157320"/>
          </a:xfrm>
        </p:grpSpPr>
        <p:sp>
          <p:nvSpPr>
            <p:cNvPr id="162" name=""/>
            <p:cNvSpPr/>
            <p:nvPr/>
          </p:nvSpPr>
          <p:spPr>
            <a:xfrm>
              <a:off x="6477120" y="4340160"/>
              <a:ext cx="15696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76200" y="4340160"/>
              <a:ext cx="15696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4920" y="4340160"/>
              <a:ext cx="15696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74000" y="4340160"/>
              <a:ext cx="15660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477120" y="4113360"/>
            <a:ext cx="753480" cy="156960"/>
            <a:chOff x="6477120" y="4113360"/>
            <a:chExt cx="753480" cy="156960"/>
          </a:xfrm>
        </p:grpSpPr>
        <p:sp>
          <p:nvSpPr>
            <p:cNvPr id="167" name=""/>
            <p:cNvSpPr/>
            <p:nvPr/>
          </p:nvSpPr>
          <p:spPr>
            <a:xfrm>
              <a:off x="6477120" y="4113360"/>
              <a:ext cx="15696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76200" y="4113360"/>
              <a:ext cx="15696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4920" y="4113360"/>
              <a:ext cx="15696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4000" y="4113360"/>
              <a:ext cx="156600" cy="15696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477120" y="3886200"/>
            <a:ext cx="753480" cy="157320"/>
            <a:chOff x="6477120" y="3886200"/>
            <a:chExt cx="753480" cy="157320"/>
          </a:xfrm>
        </p:grpSpPr>
        <p:sp>
          <p:nvSpPr>
            <p:cNvPr id="172" name=""/>
            <p:cNvSpPr/>
            <p:nvPr/>
          </p:nvSpPr>
          <p:spPr>
            <a:xfrm>
              <a:off x="6477120" y="3886200"/>
              <a:ext cx="15696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76200" y="3886200"/>
              <a:ext cx="15696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74920" y="3886200"/>
              <a:ext cx="15696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74000" y="3886200"/>
              <a:ext cx="156600" cy="157320"/>
            </a:xfrm>
            <a:prstGeom prst="ellipse">
              <a:avLst/>
            </a:prstGeom>
            <a:solidFill>
              <a:srgbClr val="c7c200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561000" y="4646520"/>
            <a:ext cx="586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61000" y="4414680"/>
            <a:ext cx="586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61000" y="4184640"/>
            <a:ext cx="586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61000" y="3954600"/>
            <a:ext cx="586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47080" y="3954600"/>
            <a:ext cx="0" cy="712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951600" y="3954600"/>
            <a:ext cx="0" cy="712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56480" y="3954600"/>
            <a:ext cx="0" cy="712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61000" y="3954600"/>
            <a:ext cx="0" cy="712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52880" y="4267080"/>
            <a:ext cx="1524240" cy="2286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5562720"/>
            <a:ext cx="1752840" cy="2286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eamless Interfac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1371600"/>
            <a:ext cx="0" cy="48769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0" cy="48769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16160" y="838080"/>
            <a:ext cx="1526400" cy="459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ser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97440" y="838080"/>
            <a:ext cx="1849680" cy="459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ystem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85480" y="152280"/>
            <a:ext cx="1499040" cy="1557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2 working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roups 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ATORR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et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34320" y="1066680"/>
            <a:ext cx="38088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00C9-B045-469F-B190-655AFF20A9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C7EC9D-29B9-4173-AF63-D095FBACEC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52280" y="1219680"/>
            <a:ext cx="1350720" cy="4374360"/>
            <a:chOff x="152280" y="1219680"/>
            <a:chExt cx="1350720" cy="4374360"/>
          </a:xfrm>
        </p:grpSpPr>
        <p:sp>
          <p:nvSpPr>
            <p:cNvPr id="194" name=""/>
            <p:cNvSpPr/>
            <p:nvPr/>
          </p:nvSpPr>
          <p:spPr>
            <a:xfrm rot="16200000">
              <a:off x="544680" y="46357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545040" y="3683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544680" y="27313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544680" y="177876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545040" y="8265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010280" y="1219320"/>
            <a:ext cx="1350720" cy="4372920"/>
            <a:chOff x="7010280" y="1219320"/>
            <a:chExt cx="1350720" cy="4372920"/>
          </a:xfrm>
        </p:grpSpPr>
        <p:sp>
          <p:nvSpPr>
            <p:cNvPr id="200" name=""/>
            <p:cNvSpPr/>
            <p:nvPr/>
          </p:nvSpPr>
          <p:spPr>
            <a:xfrm rot="5400000">
              <a:off x="7403040" y="82620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7403040" y="17780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7403040" y="27302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7403040" y="36824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7403040" y="46342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066680" y="228600"/>
            <a:ext cx="5907240" cy="63802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6380280"/>
              <a:gd name="textAreaBottom" fmla="*/ 6091920 h 6380280"/>
            </a:gdLst>
            <a:ahLst/>
            <a:rect l="textAreaLeft" t="textAreaTop" r="textAreaRight" b="textAreaBottom"/>
            <a:pathLst>
              <a:path w="21600" h="23330">
                <a:moveTo>
                  <a:pt x="3600" y="0"/>
                </a:moveTo>
                <a:arcTo wR="3600" hR="3600" stAng="16200000" swAng="-5400000"/>
                <a:lnTo>
                  <a:pt x="0" y="19730"/>
                </a:lnTo>
                <a:arcTo wR="3600" hR="3600" stAng="10800000" swAng="-5400000"/>
                <a:lnTo>
                  <a:pt x="18000" y="23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2001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784920" y="14860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84920" y="246060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784920" y="339084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784920" y="43354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784920" y="529416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57200" y="1523880"/>
            <a:ext cx="19051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2400" y="243828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82400" y="338940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82760" y="4341960"/>
            <a:ext cx="14983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80880" y="5334120"/>
            <a:ext cx="18288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B_OEQ127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217" name="B_OEQ127" descr=""/>
          <p:cNvPicPr/>
          <p:nvPr/>
        </p:nvPicPr>
        <p:blipFill>
          <a:blip r:embed="rId2"/>
          <a:stretch/>
        </p:blipFill>
        <p:spPr>
          <a:xfrm>
            <a:off x="76320" y="22654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218" name="B_OEQ127" descr=""/>
          <p:cNvPicPr/>
          <p:nvPr/>
        </p:nvPicPr>
        <p:blipFill>
          <a:blip r:embed="rId3"/>
          <a:stretch/>
        </p:blipFill>
        <p:spPr>
          <a:xfrm>
            <a:off x="76320" y="31798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219" name="B_OEQ127" descr=""/>
          <p:cNvPicPr/>
          <p:nvPr/>
        </p:nvPicPr>
        <p:blipFill>
          <a:blip r:embed="rId4"/>
          <a:stretch/>
        </p:blipFill>
        <p:spPr>
          <a:xfrm>
            <a:off x="76320" y="41702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220" name="B_OEQ127" descr=""/>
          <p:cNvPicPr/>
          <p:nvPr/>
        </p:nvPicPr>
        <p:blipFill>
          <a:blip r:embed="rId5"/>
          <a:stretch/>
        </p:blipFill>
        <p:spPr>
          <a:xfrm>
            <a:off x="76320" y="51609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153280" y="1219320"/>
            <a:ext cx="990720" cy="533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24680" y="4038480"/>
            <a:ext cx="1219320" cy="59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153280" y="4876920"/>
            <a:ext cx="754200" cy="837720"/>
            <a:chOff x="8153280" y="4876920"/>
            <a:chExt cx="754200" cy="837720"/>
          </a:xfrm>
        </p:grpSpPr>
        <p:grpSp>
          <p:nvGrpSpPr>
            <p:cNvPr id="224" name=""/>
            <p:cNvGrpSpPr/>
            <p:nvPr/>
          </p:nvGrpSpPr>
          <p:grpSpPr>
            <a:xfrm>
              <a:off x="8153280" y="5557680"/>
              <a:ext cx="754200" cy="156960"/>
              <a:chOff x="8153280" y="5557680"/>
              <a:chExt cx="754200" cy="156960"/>
            </a:xfrm>
          </p:grpSpPr>
          <p:sp>
            <p:nvSpPr>
              <p:cNvPr id="225" name=""/>
              <p:cNvSpPr/>
              <p:nvPr/>
            </p:nvSpPr>
            <p:spPr>
              <a:xfrm>
                <a:off x="815328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236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5144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5052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153280" y="5330880"/>
              <a:ext cx="754200" cy="156960"/>
              <a:chOff x="8153280" y="5330880"/>
              <a:chExt cx="75420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815328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236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5144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75052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153280" y="5103720"/>
              <a:ext cx="754200" cy="156960"/>
              <a:chOff x="8153280" y="5103720"/>
              <a:chExt cx="754200" cy="15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815328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236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5144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5052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153280" y="4876920"/>
              <a:ext cx="754200" cy="156960"/>
              <a:chOff x="8153280" y="4876920"/>
              <a:chExt cx="754200" cy="156960"/>
            </a:xfrm>
          </p:grpSpPr>
          <p:sp>
            <p:nvSpPr>
              <p:cNvPr id="240" name=""/>
              <p:cNvSpPr/>
              <p:nvPr/>
            </p:nvSpPr>
            <p:spPr>
              <a:xfrm>
                <a:off x="815328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5236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5144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5052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8236800" y="563652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36800" y="54057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36800" y="51753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36800" y="49449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8236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62812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43264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2368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53280" y="2971800"/>
            <a:ext cx="754200" cy="837720"/>
            <a:chOff x="8153280" y="2971800"/>
            <a:chExt cx="754200" cy="837720"/>
          </a:xfrm>
        </p:grpSpPr>
        <p:grpSp>
          <p:nvGrpSpPr>
            <p:cNvPr id="253" name=""/>
            <p:cNvGrpSpPr/>
            <p:nvPr/>
          </p:nvGrpSpPr>
          <p:grpSpPr>
            <a:xfrm>
              <a:off x="8153280" y="3652560"/>
              <a:ext cx="754200" cy="156960"/>
              <a:chOff x="8153280" y="3652560"/>
              <a:chExt cx="754200" cy="156960"/>
            </a:xfrm>
          </p:grpSpPr>
          <p:sp>
            <p:nvSpPr>
              <p:cNvPr id="254" name=""/>
              <p:cNvSpPr/>
              <p:nvPr/>
            </p:nvSpPr>
            <p:spPr>
              <a:xfrm>
                <a:off x="815328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5236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5144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75052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153280" y="3425760"/>
              <a:ext cx="754200" cy="156960"/>
              <a:chOff x="8153280" y="3425760"/>
              <a:chExt cx="754200" cy="156960"/>
            </a:xfrm>
          </p:grpSpPr>
          <p:sp>
            <p:nvSpPr>
              <p:cNvPr id="259" name=""/>
              <p:cNvSpPr/>
              <p:nvPr/>
            </p:nvSpPr>
            <p:spPr>
              <a:xfrm>
                <a:off x="815328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35236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55144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5052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8153280" y="3198600"/>
              <a:ext cx="754200" cy="156960"/>
              <a:chOff x="8153280" y="3198600"/>
              <a:chExt cx="754200" cy="156960"/>
            </a:xfrm>
          </p:grpSpPr>
          <p:sp>
            <p:nvSpPr>
              <p:cNvPr id="264" name=""/>
              <p:cNvSpPr/>
              <p:nvPr/>
            </p:nvSpPr>
            <p:spPr>
              <a:xfrm>
                <a:off x="815328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5236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5144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5052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153280" y="2971800"/>
              <a:ext cx="754200" cy="156960"/>
              <a:chOff x="8153280" y="2971800"/>
              <a:chExt cx="754200" cy="156960"/>
            </a:xfrm>
          </p:grpSpPr>
          <p:sp>
            <p:nvSpPr>
              <p:cNvPr id="269" name=""/>
              <p:cNvSpPr/>
              <p:nvPr/>
            </p:nvSpPr>
            <p:spPr>
              <a:xfrm>
                <a:off x="815328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5236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55144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75052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8236800" y="373140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36800" y="35006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36800" y="32702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36800" y="30398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8236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62812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43264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2368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620120" y="2122560"/>
            <a:ext cx="1523880" cy="674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34680" y="58784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3320" y="3733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066680"/>
            <a:ext cx="1298520" cy="69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2057400"/>
            <a:ext cx="1603440" cy="8049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308124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886200"/>
            <a:ext cx="1298520" cy="898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6000" y="23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ulti-Server Middle Tier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502920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990720"/>
            <a:ext cx="1981440" cy="4800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Supporting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69080" y="4330080"/>
            <a:ext cx="2252880" cy="1036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Arial"/>
              </a:rPr>
              <a:t>Agent-based</a:t>
            </a:r>
            <a:br>
              <a:rPr sz="1400"/>
            </a:br>
            <a:r>
              <a:rPr b="1" lang="en-US" sz="1400" spc="-1" strike="noStrike">
                <a:solidFill>
                  <a:srgbClr val="220011"/>
                </a:solidFill>
                <a:latin typeface="Arial"/>
              </a:rPr>
              <a:t>Choice of</a:t>
            </a:r>
            <a:br>
              <a:rPr sz="1400"/>
            </a:br>
            <a:r>
              <a:rPr b="1" lang="en-US" sz="1400" spc="-1" strike="noStrike">
                <a:solidFill>
                  <a:srgbClr val="220011"/>
                </a:solidFill>
                <a:latin typeface="Arial"/>
              </a:rPr>
              <a:t>Compute Engin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168800">
            <a:off x="3786480" y="738000"/>
            <a:ext cx="857160" cy="2370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Arial"/>
              </a:rPr>
              <a:t>Multidisciplinary</a:t>
            </a:r>
            <a:br>
              <a:rPr sz="1400"/>
            </a:br>
            <a:r>
              <a:rPr b="1" lang="en-US" sz="1400" spc="-1" strike="noStrike">
                <a:solidFill>
                  <a:srgbClr val="220011"/>
                </a:solidFill>
                <a:latin typeface="Arial"/>
              </a:rPr>
              <a:t>Control (WebFlow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92880" y="5550840"/>
            <a:ext cx="2134440" cy="820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 Analysis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181840" y="1451880"/>
            <a:ext cx="309960" cy="2138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5028840" y="2209320"/>
            <a:ext cx="152280" cy="2286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419720" y="3429000"/>
            <a:ext cx="914400" cy="9144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047760" y="3733560"/>
            <a:ext cx="685800" cy="6858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952880" y="4343400"/>
            <a:ext cx="533520" cy="1522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4571640" y="2285640"/>
            <a:ext cx="762120" cy="11430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800600" y="5410080"/>
            <a:ext cx="533520" cy="3812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047760" y="2286000"/>
            <a:ext cx="685800" cy="11430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819160" y="5028840"/>
            <a:ext cx="533160" cy="6094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333760" y="4952880"/>
            <a:ext cx="685800" cy="76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DE75-1427-4522-BEA8-3FC705CE2F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5C3788-6840-4A20-97A2-B3B4976F2F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486040" y="3045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Gateway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410080" y="8377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vides infrastructure supporting development of problem solving environments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SE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reate user spa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define proble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dentify resour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vides seamless and secure access to remote  resour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llocate resour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monitor resour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itial PSE is CCM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his will provide template for others -- early on CEA CE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7" name="ccm-kenf" descr=""/>
          <p:cNvPicPr/>
          <p:nvPr/>
        </p:nvPicPr>
        <p:blipFill>
          <a:blip r:embed="rId1"/>
          <a:stretch/>
        </p:blipFill>
        <p:spPr>
          <a:xfrm>
            <a:off x="0" y="0"/>
            <a:ext cx="5384880" cy="6296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4840" y="6400800"/>
            <a:ext cx="570060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Ken Flurchick, http://www.osc.edu/~kenf/Gatew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copedec98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A3B5-9950-41EB-9938-F6E4D68497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697170-8B7F-426B-946D-4EC1C63208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8:22:08Z</dcterms:created>
  <dc:creator/>
  <dc:description/>
  <dc:language>en-US</dc:language>
  <cp:lastModifiedBy>David E Bernholdt</cp:lastModifiedBy>
  <cp:lastPrinted>1998-06-22T15:13:12Z</cp:lastPrinted>
  <dcterms:modified xsi:type="dcterms:W3CDTF">1999-02-19T19:34:28Z</dcterms:modified>
  <cp:revision>18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