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4.jpeg" ContentType="image/jpeg"/>
  <Override PartName="/ppt/media/image5.png" ContentType="image/png"/>
  <Override PartName="/ppt/media/image3.jpeg" ContentType="image/jpeg"/>
  <Override PartName="/ppt/media/image1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6C8-1CBB-4010-9B47-92EFCB5A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E2F-CC20-4B6B-994B-1DD50FBC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917-7CF3-4B77-9DCE-458125A6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4EF-044F-47E1-8118-DB1B9C3E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38C-7470-4B04-8FA9-9BFFC319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8EB-2324-4173-B15B-510AA156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96F-572D-45FE-B30F-669462A1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11B-93B4-49A9-BCE8-9F9236E5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999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A33-0710-4E32-8B8F-E4E28136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B50-ACF8-445A-A2FA-1EF051E0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E37-6D06-4EFD-BA7B-AF009D33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3B1-41F4-4950-A211-60CA1B4D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94BD-8ABA-4EDD-8343-FD2C1A199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95480" y="158760"/>
            <a:ext cx="328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nformation and Commun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arl-msrc-logo" descr=""/>
          <p:cNvPicPr/>
          <p:nvPr/>
        </p:nvPicPr>
        <p:blipFill>
          <a:blip r:embed="rId2"/>
          <a:stretch/>
        </p:blipFill>
        <p:spPr>
          <a:xfrm>
            <a:off x="0" y="19080"/>
            <a:ext cx="1836720" cy="647640"/>
          </a:xfrm>
          <a:prstGeom prst="rect">
            <a:avLst/>
          </a:prstGeom>
          <a:ln w="0">
            <a:noFill/>
          </a:ln>
        </p:spPr>
      </p:pic>
      <p:pic>
        <p:nvPicPr>
          <p:cNvPr id="7" name="asc-msrc-logo" descr=""/>
          <p:cNvPicPr/>
          <p:nvPr/>
        </p:nvPicPr>
        <p:blipFill>
          <a:blip r:embed="rId3"/>
          <a:stretch/>
        </p:blipFill>
        <p:spPr>
          <a:xfrm>
            <a:off x="7261200" y="0"/>
            <a:ext cx="1882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formation and Communic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RL and ASC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PAC/Syracuse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C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asc" descr=""/>
          <p:cNvPicPr/>
          <p:nvPr/>
        </p:nvPicPr>
        <p:blipFill>
          <a:blip r:embed="rId1"/>
          <a:stretch/>
        </p:blipFill>
        <p:spPr>
          <a:xfrm>
            <a:off x="0" y="3551400"/>
            <a:ext cx="4325760" cy="3306600"/>
          </a:xfrm>
          <a:prstGeom prst="rect">
            <a:avLst/>
          </a:prstGeom>
          <a:ln w="0">
            <a:noFill/>
          </a:ln>
        </p:spPr>
      </p:pic>
      <p:pic>
        <p:nvPicPr>
          <p:cNvPr id="47" name="arl" descr=""/>
          <p:cNvPicPr/>
          <p:nvPr/>
        </p:nvPicPr>
        <p:blipFill>
          <a:blip r:embed="rId2"/>
          <a:stretch/>
        </p:blipFill>
        <p:spPr>
          <a:xfrm>
            <a:off x="4876920" y="3605040"/>
            <a:ext cx="4267080" cy="3252960"/>
          </a:xfrm>
          <a:prstGeom prst="rect">
            <a:avLst/>
          </a:prstGeom>
          <a:ln w="0">
            <a:noFill/>
          </a:ln>
        </p:spPr>
      </p:pic>
      <p:pic>
        <p:nvPicPr>
          <p:cNvPr id="48" name="newca4" descr=""/>
          <p:cNvPicPr/>
          <p:nvPr/>
        </p:nvPicPr>
        <p:blipFill>
          <a:blip r:embed="rId3"/>
          <a:stretch/>
        </p:blipFill>
        <p:spPr>
          <a:xfrm>
            <a:off x="6705720" y="1371600"/>
            <a:ext cx="1780920" cy="2205000"/>
          </a:xfrm>
          <a:prstGeom prst="rect">
            <a:avLst/>
          </a:prstGeom>
          <a:ln w="0">
            <a:noFill/>
          </a:ln>
        </p:spPr>
      </p:pic>
      <p:pic>
        <p:nvPicPr>
          <p:cNvPr id="49" name="Image8" descr=""/>
          <p:cNvPicPr/>
          <p:nvPr/>
        </p:nvPicPr>
        <p:blipFill>
          <a:blip r:embed="rId4"/>
          <a:stretch/>
        </p:blipFill>
        <p:spPr>
          <a:xfrm>
            <a:off x="380880" y="1447920"/>
            <a:ext cx="20210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0"/>
          <a:ext cx="64008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40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35520"/>
            <a:ext cx="8888400" cy="106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arly XML Template exporting from databas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3760" y="2971800"/>
            <a:ext cx="276552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ill replace by n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ynamic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WisdomNT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F61-7A86-4274-A5C3-D9FE5B680B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raining Management Web-linked Databas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ment of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T Training Sess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volves many time-intensive and error prone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e by coupling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procedu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ith user database information and web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- automatic registration, confirmation, remi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tructo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- automate announcements, course materials, student background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r Servic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- account creation and clean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T Staf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- inquire about reg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d on existing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PAC course manageme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0A4-5065-4F33-A5B4-269D9D6EC4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7-certificatenamecheck" descr=""/>
          <p:cNvPicPr/>
          <p:nvPr/>
        </p:nvPicPr>
        <p:blipFill>
          <a:blip r:embed="rId1"/>
          <a:stretch/>
        </p:blipFill>
        <p:spPr>
          <a:xfrm>
            <a:off x="5802480" y="0"/>
            <a:ext cx="3341520" cy="2265480"/>
          </a:xfrm>
          <a:prstGeom prst="rect">
            <a:avLst/>
          </a:prstGeom>
          <a:ln w="0">
            <a:noFill/>
          </a:ln>
        </p:spPr>
      </p:pic>
      <p:pic>
        <p:nvPicPr>
          <p:cNvPr id="79" name="09-courselist" descr=""/>
          <p:cNvPicPr/>
          <p:nvPr/>
        </p:nvPicPr>
        <p:blipFill>
          <a:blip r:embed="rId2"/>
          <a:stretch/>
        </p:blipFill>
        <p:spPr>
          <a:xfrm>
            <a:off x="4267080" y="1676520"/>
            <a:ext cx="4876920" cy="5181480"/>
          </a:xfrm>
          <a:prstGeom prst="rect">
            <a:avLst/>
          </a:prstGeom>
          <a:ln w="0">
            <a:noFill/>
          </a:ln>
        </p:spPr>
      </p:pic>
      <p:pic>
        <p:nvPicPr>
          <p:cNvPr id="80" name="10-greenpage" descr=""/>
          <p:cNvPicPr/>
          <p:nvPr/>
        </p:nvPicPr>
        <p:blipFill>
          <a:blip r:embed="rId3"/>
          <a:stretch/>
        </p:blipFill>
        <p:spPr>
          <a:xfrm>
            <a:off x="0" y="1143000"/>
            <a:ext cx="487692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74160"/>
            <a:ext cx="5791320" cy="137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urrent NPAC Grading Database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used to register Syracuse 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nd Online Cours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57B-6E1E-4B8D-9844-D962C0BCED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ngoInteractive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On-going Enhancements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 focus 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obustn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maintain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hancements for collaborative and educational functions 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and improved applica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ll support fo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3C document object model sha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a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nchrono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ynchrono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odes including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atabas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orm bas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erver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programmability 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fafd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va, Javabean, JavaScript, C++, Li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cumentation and trai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2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NGO 1.0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leased in July 98 was first deployable 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age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both UNIX and Windows NT platfo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aging for the complete application suite on CD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several universities in US and abroad (~ 1000 downloa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2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ngo 1.0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inal maintenance release this we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F47-DD66-486E-976F-AF111F78A8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GO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1.1 Releas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rporates hosts of improvements in GUI and Fun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ternally in NP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release expected in beta version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ch 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s newest Java (Swing) and browser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rporates all “lessons learned” from TANGO 1.0 deployment and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paradigm for “collaboration space” navigation, session handling, and floor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client  supports configurable,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main-specific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ion of collaborative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edefin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utomatically started s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dden ag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aceless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frame integrated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nistrative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aspects under external control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 administrator/end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980-5026-42F8-A8A5-F60EABCE7E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newca2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3394080"/>
          </a:xfrm>
          <a:prstGeom prst="rect">
            <a:avLst/>
          </a:prstGeom>
          <a:ln w="0">
            <a:noFill/>
          </a:ln>
        </p:spPr>
      </p:pic>
      <p:pic>
        <p:nvPicPr>
          <p:cNvPr id="87" name="newca3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3332160" cy="5114880"/>
          </a:xfrm>
          <a:prstGeom prst="rect">
            <a:avLst/>
          </a:prstGeom>
          <a:ln w="0">
            <a:noFill/>
          </a:ln>
        </p:spPr>
      </p:pic>
      <p:pic>
        <p:nvPicPr>
          <p:cNvPr id="88" name="newca4" descr=""/>
          <p:cNvPicPr/>
          <p:nvPr/>
        </p:nvPicPr>
        <p:blipFill>
          <a:blip r:embed="rId3"/>
          <a:stretch/>
        </p:blipFill>
        <p:spPr>
          <a:xfrm>
            <a:off x="2666880" y="2895480"/>
            <a:ext cx="3202200" cy="3962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2666880" cy="350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ANGO 1.1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Graphical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Us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nterfac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based 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Java Swing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asses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779-F246-43FF-879C-8B58EFBCFB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BV7p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6278040"/>
            <a:ext cx="8991720" cy="57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ew Buena Vista Audio/Video Conferencing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322-F246-42AD-8A8B-7EBBBE1ECA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6105600" cy="488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ew Shared Browser with Dynamic HTM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1120" y="3504960"/>
            <a:ext cx="49528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hared Pointer added to Internet Assistant PowerPoint on the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Illustrates sharing of W3C Object Model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internal to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66680" y="3733920"/>
            <a:ext cx="32767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600200"/>
            <a:ext cx="5029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DHTML “Heartbeat” recording shared events in last 60 seconds on application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pecific “bar” which is locked above all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windows -- addresses window clut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2666520" y="1676160"/>
            <a:ext cx="1600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273-87CE-43DE-B3CC-782E6EB4E7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577800"/>
            <a:ext cx="7848720" cy="6280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5668200"/>
            <a:ext cx="7772400" cy="118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ared Form Illustrated by Shared Access to NCSA Biology Workbench showing how general server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s can be shared from web interfa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2960" y="3886200"/>
            <a:ext cx="2709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hared Multiple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hared But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hared Text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hared Check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733920"/>
            <a:ext cx="1447560" cy="10666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743200"/>
            <a:ext cx="1219320" cy="1371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809880"/>
            <a:ext cx="2590560" cy="1371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505320"/>
            <a:ext cx="1447920" cy="99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D57-7823-4AD6-8C37-BF64F44DA4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ew and Improved Applica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74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enaVista 3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TANGO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ideoconferenc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gent) completely rewritten for PC and SGI platfo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ha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ced avatar base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.5D cha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“telepresenc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profession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ext cha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th many advanced features, including clipboard, session save/mail, and latecomers support, fully customiz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 “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structor feedbac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 t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ous audience feedback with polling and al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yered white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in several applications, advanced authoring mode, import/export/save support, telecursor, scriptable external interface, advanced image compression,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d Telnet t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d streaming media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74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va H263/GS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ideo viewer with database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74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alVide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layer (use and distribution agreed with supported by Progressive Networ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740-903F-4139-8EA0-5146E85987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rganiz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eoffrey Fo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cademic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Leaders for I/C-related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avid Bernhold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Syrac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m Haup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Syracu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PSE/Gateway -- to be presented later with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P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ndie Kap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NC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ancy McCrack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Syrac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ek Podgor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Syrac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ek Mo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RL on-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ey Smi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C on-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peration with Training staff at both MSR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028-81F0-49A5-85ED-D9185CF915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ngoing Work to Integrate Asynchronous and Synchronous Collaboration and Community suppor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sonal Identity Modu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r TA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atabase backe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relational or LDAP) to hold user identities and information, interfaced to collaboratory ser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uthent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security,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NGO/Mail/Listser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terf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ngo can mail to to other Tango users and to others not in session via listserv, ordinary 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CSA Lotus Notes Intranet has difficulty that discussion lists not linked to “ordinary” 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al stora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file distribu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4AE-E5E2-496A-B08C-DCBB838434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ngoInteractive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Deployment Statu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451"/>
              </a:spcBef>
              <a:spcAft>
                <a:spcPts val="15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utine u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TangoInteractive by broad spectrum of users is appropriate; deployment/acceptance is next iss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451"/>
              </a:spcBef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fo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du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337"/>
              </a:spcBef>
              <a:spcAft>
                <a:spcPts val="113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ckson State University (full install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337"/>
              </a:spcBef>
              <a:spcAft>
                <a:spcPts val="113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rgan State University (full install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337"/>
              </a:spcBef>
              <a:spcAft>
                <a:spcPts val="113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rk Atlanta, Houston, MSU  (client si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451"/>
              </a:spcBef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fo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i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337"/>
              </a:spcBef>
              <a:spcAft>
                <a:spcPts val="113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WES (full install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337"/>
              </a:spcBef>
              <a:spcAft>
                <a:spcPts val="113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L/HEAT center (full install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337"/>
              </a:spcBef>
              <a:spcAft>
                <a:spcPts val="113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C (client and collaboratory serv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337"/>
              </a:spcBef>
              <a:spcAft>
                <a:spcPts val="113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C, NAVO, NRL (client si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451"/>
              </a:spcBef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“free” Tango Classes being taught right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337"/>
              </a:spcBef>
              <a:spcAft>
                <a:spcPts val="113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PS61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raduate Advanced web Technologies: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JSU MSU C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337"/>
              </a:spcBef>
              <a:spcAft>
                <a:spcPts val="113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Java Academ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middle and high school students: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oston Houston Starkvi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5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E05-E0A5-45AD-9AC2-A4B04733A8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synchronous Web-based Training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Provide PET with capability to deliver any-time, anywhere, any-pace training via the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ynchrono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eb-based training tool, WebCT, recommended and demonstrated in Year 2 for use in delivering CTA cour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bility tech transferred to PET via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i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December at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NCSA and January at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determine effectiveness will be conducted as CTA courses ar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angoInteractive can shar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b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ourse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ll package tools to add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hared pointer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HTML inde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65E-E11D-4E19-83A7-DB150D90D1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llaboration &amp; Training Suppor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-site I/C staff support routine operations of training ro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L Distance Trai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orkshop: Tango Interactive and Web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icipated in CEWES-sponsored prototype distance training classes: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tran9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RL),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nM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RL, A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on of asynchronous (web-based) training resources using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cCorde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F06-8958-49E1-AF43-0FFEBB6D35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eb Site Suppor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SRC and PET web si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 primary tool for user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n-site sta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Moses, Smith) responsible for day to day operation and management of web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-site staff worked with NCSA staff on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eb site re-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n-site I/C sta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vide training and assistance with HTML, web tools, etc. for other MSRC &amp; PET staff (AR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s to install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eb/database tool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rch engine, eventually WSMS (AR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ing for account for develo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251-4B1C-48E6-A51B-1F94C4635B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ET Web-sites Redesig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19920" y="167616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sign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ual Consistency within and across PET 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ified Content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ual Distinction between Subject A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Navigation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1066680"/>
          <a:ext cx="60199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60199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5867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ployed at ASC, CEWES while ARL deployment is pe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EB0-9FC9-457E-B42E-46B28580EF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ture Activities - I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ngoInterac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asonable ba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frastructure which will improve over next 3 months as Tango1.1 is deployed and t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here will b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lic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duc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rain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- improved function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eeting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riefing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eminars and eventually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brainsto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cientific collabor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cluding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s built in Gate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c Principles of TangoInte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ynchronou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synchronou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odels by sharing distributed objects and web p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 to support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ructure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.g. database backend) and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structur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ew pages put together by harried faculty just before clas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structur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upport either through mapping pages by a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lt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manently changing web pages or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ynamicall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by mapping in a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1A6-DC26-44C0-83AA-20BFF02ACF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ture Activities - II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eneral Capabilities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curity, better community support, improve mail linkage, link to archived multi-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to asynchronous collaboration is well archiv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emai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b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side DoD, study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versal acce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sharing of both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M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needed for shared PSE’s?) and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3C D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HTML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ducation and Training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d authoring styles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izzes, glossaries, not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elecurso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th dynamic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 with eith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l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ynamic 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dding DHTML lay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loy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bWisdom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ructured database with XML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upports authoring with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TML, PowerPoi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b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 to improve support for share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va simula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into share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romedia Author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high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3A7-A661-4F6A-96A1-47CE80716E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ture Activities - III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iefing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meetings require extension of teacher-student to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icher role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ainstorm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ill be studied from functionality of non Internet version at Cew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need to start test deployment of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ngoInterac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scientific collabo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 capabilities such as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ared visualiz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several prototyp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ewa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s a clear plan with a demonstration at SC99 and it only got properly started a month ago -- we should monitor carefully but clear plan to add functionality at all three tiers -- se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rt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iscussion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 to establish good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SE document object mod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optimize sh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779-4361-4A07-91C2-8981D824C5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ture Activities - IV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SRC Port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tegrating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Problem Solving Environment),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aNe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Management) and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b Si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unctiona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d on and learn from existing designs (such as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SC Chemistry P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and develop in staged fash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 with ASC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ateway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SE a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 and Development of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nagement Information Syste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support management of the PET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 integration of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ortal servic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veloped by other PET researchers and so build up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olki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portal services to enable general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ynchronou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synchronou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ollab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SRC PET Gri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volves low level (National Machine Room -- Globus) and high level software (Gateway to be describ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able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amless acces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and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etacomput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between MSRC 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639-1E28-4A6B-A52A-9233B26834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 PET and Modernization Program activities through ideas, tools, and technologies derived from the rapidly advancing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et/web/distribut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omputing ar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s of application includ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PET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s well a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action with us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technological aspects of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i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well as I/C issues relating to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ftware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llaborat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ies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hasiz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dit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standards-based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BCA-2AEF-482E-AA27-19BBF1792C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SRC PET Portal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447920"/>
          <a:ext cx="571500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571500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86400" y="14479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bjective: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Facilitate access to information and applications relevant to the PET Community by providing a 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ingle web gateway to PET/HPC information and application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ample of Proposed Capabiliti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Management information system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to facilitate PET management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ollaboration tool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to support development of Virtual Communities and provide online meeting and training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nks to </a:t>
            </a: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omputational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nks to </a:t>
            </a: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data reposito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943600"/>
            <a:ext cx="3375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John Melchi will exp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C7A-34C2-4B4F-AECA-0F0F1BBD61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rimary Activiti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cCord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utomatic production of asynch training resources from live train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bWisdom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multimedia database for coursewa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ining Manag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ngoInterac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Collaboration and 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ynchrono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-Based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Collaboration &amp; Training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b Si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T Web Si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RC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T 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BF7-CF26-4DE0-8784-00E8239804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LecCorder Lecture Recorder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81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ed hardware &amp; softwar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 live trainings &amp; publish on web quickly and easily as 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ils over audio/vide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al human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ava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rogres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deo server back-end for random access &amp; search cap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rter for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al Audio/Vide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ion with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ebWisdom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rseware databas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chuck" descr=""/>
          <p:cNvPicPr/>
          <p:nvPr/>
        </p:nvPicPr>
        <p:blipFill>
          <a:blip r:embed="rId1"/>
          <a:stretch/>
        </p:blipFill>
        <p:spPr>
          <a:xfrm>
            <a:off x="5029200" y="1339920"/>
            <a:ext cx="4114800" cy="3984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5257800"/>
            <a:ext cx="26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led at ASC, available to other sites on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6BD-19CE-4963-A2A0-939636C26D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ebWisdomNT Web linked Databas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 the last 2.5 years I have put 715 foilsets and over 28000 foils on the web supported by Perl Scripts and JavaScript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d “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lay lis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,”multiple views”,”integration with Tang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 to manage and deploy elsew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WisdomNT abstracts lessons to a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acle databa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ackend and a dynamic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TML front-e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see l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tores W3C 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cument Object Model Compone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 including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werPoi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each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lide separate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tored and editable from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nstruc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ynamic pages using XML tem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ava Manag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support play list and arrangement in hierarchical 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ilWorld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395-43BD-4208-B1D8-7B2DB8BA67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-15840"/>
          <a:ext cx="9144000" cy="68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84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43040" y="5957640"/>
            <a:ext cx="5700600" cy="8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om PowerPoint to Database To Web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33D-0183-4B92-A224-9589DFC3D6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1255680"/>
          <a:ext cx="91440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5680"/>
                    <a:ext cx="91440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0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etting Presentation Attributes in the Java Manager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913-EA3A-4163-AB7E-68AACF0BA3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5943600"/>
            <a:ext cx="8489880" cy="64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diting PowerPoint from the Databas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6600" y="1793880"/>
            <a:ext cx="222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oilWorld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65F-90C8-4BEA-9965-E63B12BFAD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7T20:51:10Z</dcterms:created>
  <dc:creator>David E Bernholdt</dc:creator>
  <dc:description/>
  <dc:language>en-US</dc:language>
  <cp:lastModifiedBy>Geoffrey Fox</cp:lastModifiedBy>
  <cp:lastPrinted>1996-06-19T17:53:30Z</cp:lastPrinted>
  <dcterms:modified xsi:type="dcterms:W3CDTF">1999-02-22T03:38:50Z</dcterms:modified>
  <cp:revision>53</cp:revision>
  <dc:subject/>
  <dc:title>Information and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