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4D1354-F583-4535-B01F-FA64BBA5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N connections will in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appropriate hardware for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support requirements for the delivery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 collecting student feedback and overall assessment of the trainin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down for the instructor, facilities, and proced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8E0-2176-4628-A954-E39A66BF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A6A-C230-403C-A7FF-B09E136B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CFC-D61D-4AB4-A952-226EB8E3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CD6-EF63-40F2-94EF-ACBA0F31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2CA3-AC7F-4E98-A9C5-4BD823BE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F091-64DC-44F7-B5FA-432D8901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E5E-31B7-4E74-9966-AE1D65B5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7B11-01A4-47F3-97F8-9F851C05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495A-9539-4E07-9EE7-E37CD262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FF68-6BD1-4B2F-A5C2-78021818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7755-2527-41B2-B338-F8614418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870-1686-42F7-9077-6FD507AC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4F2C-B14E-4D5C-AF6A-EFDC957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5B7C-004D-48C6-A33F-E255434A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D667-2EDF-4112-A9C4-5E19B27E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56CD-71B5-4A83-852F-BB90F04C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2409-45C6-4CF0-B458-EDA17138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70C-3E79-4830-8622-69AF5CD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25F-D064-4C67-A9C6-487CA544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415-22FF-4CE4-84F1-9EC1D514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B0D-93B5-4940-A80D-CD8B08FF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4DD-CE99-40AA-9DDF-235D184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D8B-7BD2-4092-B4CC-575C831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664-21A1-4B13-B76B-AAF9E12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totype Distance HPC Trai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David Bernholdt, bernhold@postoffice.npac.syr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Charlie Bender, bender@osc.e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. Leslie Southern, leslie@osc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ocused Effor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CEWES MSRC users training courses via Tango collaborative environ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 TANGO capabilities to be develop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 training material management approaches within TAN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guidelines for Tango-based class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ance Education with Tango demonstrated between SU and JS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-based Distance Training to CEWES MSRC user commun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s for successful direct-to-desktop delivery of distance tr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mis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te facilities with DREN conn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room environmen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training for just one or two s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equent trainings for more recipient s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though not yet finalized, ARL, ASC, and NRL have expressed a willingness to particip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liverab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least 2 </a:t>
            </a: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ining courses for CEWES MSRC user commun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ngo training and set up for recipient s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 and Instructor Guidel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dministrator Guidel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ining Offering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AY T3E Operating and Programming Environ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U, support circuitry, network router, memory, I/o controll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 management, compilers, debugging tools, performance analysis tools, timing routines, numerical libraries, fine-grained parallelism, data locality, streams, shared memory pool, buffers, collective commun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llel Programming Optim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C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or develop the training materials and in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Syracuse, incorporate materials into Tan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racus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OSC, identify prototype capab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ango tool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4280" y="1984320"/>
          <a:ext cx="6078600" cy="864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984320"/>
                    <a:ext cx="6078600" cy="86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east Parallel Architectures Center -- Tango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npac.syr.edu/tango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io Supercomputer Center -- Train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oscinfo.osc.edu/trainin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22:49:02Z</dcterms:created>
  <dc:creator>Leslie Southern</dc:creator>
  <dc:description/>
  <dc:language>en-US</dc:language>
  <cp:lastModifiedBy>Leslie Southern</cp:lastModifiedBy>
  <cp:lastPrinted>1998-02-13T01:38:52Z</cp:lastPrinted>
  <dcterms:modified xsi:type="dcterms:W3CDTF">1998-02-13T02:53:02Z</dcterms:modified>
  <cp:revision>8</cp:revision>
  <dc:subject/>
  <dc:title>Prototype Distance HPC Training for DoD Users</dc:title>
</cp:coreProperties>
</file>