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44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120" y="0"/>
            <a:ext cx="304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25000" y="685440"/>
            <a:ext cx="467388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2960" y="4419720"/>
            <a:ext cx="517824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40880"/>
            <a:ext cx="30448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120" y="8840880"/>
            <a:ext cx="30466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7D82CE0-9B0A-476C-B71C-81FDC6ACF3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25360" y="685800"/>
            <a:ext cx="4673880" cy="350532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2960" y="4419720"/>
            <a:ext cx="517824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Purpose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socialize and inform you  of current techniques and technologie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he DoD, that could be leveraged to interface with, and make readily  available to people who have a need to know,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program related informa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The information would include existing and any future data information initiativ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dditionally to receive constructive and creative feedback 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also to open an opportunity , if  you are interested to influence, steer requir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to make a soft sale for support to anyone interested in becoming a stack holder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25360" y="685800"/>
            <a:ext cx="4673880" cy="35053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2960" y="4419720"/>
            <a:ext cx="517824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Purpose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socialize and inform you  of current techniques and technologie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he DoD, that could be leveraged to interface with, and make readily  available to people who have a need to know,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program related informa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The information would include existing and any future data information initiativ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dditionally to receive constructive and creative feedback 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also to open an opportunity , if  you are interested to influence, steer requir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to make a soft sale for support to anyone interested in becoming a stack holder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25360" y="685800"/>
            <a:ext cx="4673880" cy="35053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2960" y="4419720"/>
            <a:ext cx="517824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Purpose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socialize and inform you  of current techniques and technologie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he DoD, that could be leveraged to interface with, and make readily  available to people who have a need to know,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program related informa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The information would include existing and any future data information initiativ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dditionally to receive constructive and creative feedback 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also to open an opportunity , if  you are interested to influence, steer requir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to make a soft sale for support to anyone interested in becoming a stack holder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25360" y="685800"/>
            <a:ext cx="4673880" cy="35053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2960" y="4419720"/>
            <a:ext cx="517824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Purpose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socialize and inform you  of current techniques and technologie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he DoD, that could be leveraged to interface with, and make readily  available to people who have a need to know,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program related informa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The information would include existing and any future data information initiativ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dditionally to receive constructive and creative feedback 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also to open an opportunity , if  you are interested to influence, steer requir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to make a soft sale for support to anyone interested in becoming a stack holder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25360" y="685800"/>
            <a:ext cx="4673880" cy="35053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2960" y="4419720"/>
            <a:ext cx="517824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Purpose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socialize and inform you  of current techniques and technologie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he DoD, that could be leveraged to interface with, and make readily  available to people who have a need to know,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program related informa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The information would include existing and any future data information initiativ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dditionally to receive constructive and creative feedback 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also to open an opportunity , if  you are interested to influence, steer requir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to make a soft sale for support to anyone interested in becoming a stack holder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25360" y="685800"/>
            <a:ext cx="4673880" cy="35053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2960" y="4419720"/>
            <a:ext cx="517824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Purpose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socialize and inform you  of current techniques and technologie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he DoD, that could be leveraged to interface with, and make readily  available to people who have a need to know,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program related informa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The information would include existing and any future data information initiativ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dditionally to receive constructive and creative feedback 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also to open an opportunity , if  you are interested to influence, steer requir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to make a soft sale for support to anyone interested in becoming a stack holder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25360" y="685800"/>
            <a:ext cx="4673880" cy="35053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2960" y="4419720"/>
            <a:ext cx="517824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Purpose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socialize and inform you  of current techniques and technologie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he DoD, that could be leveraged to interface with, and make readily  available to people who have a need to know,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program related informa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The information would include existing and any future data information initiativ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dditionally to receive constructive and creative feedback 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also to open an opportunity , if  you are interested to influence, steer requir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to make a soft sale for support to anyone interested in becoming a stack holder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25360" y="685800"/>
            <a:ext cx="4673880" cy="350532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2960" y="4419720"/>
            <a:ext cx="517824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Purpose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socialize and inform you  of current techniques and technologie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he DoD, that could be leveraged to interface with, and make readily  available to people who have a need to know,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program related informa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The information would include existing and any future data information initiativ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dditionally to receive constructive and creative feedback 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also to open an opportunity , if  you are interested to influence, steer requir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to make a soft sale for support to anyone interested in becoming a stack holder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25360" y="685800"/>
            <a:ext cx="4673880" cy="350532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2960" y="4419720"/>
            <a:ext cx="517824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Purpose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socialize and inform you  of current techniques and technologie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he DoD, that could be leveraged to interface with, and make readily  available to people who have a need to know,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program related informa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The information would include existing and any future data information initiativ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dditionally to receive constructive and creative feedback 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also to open an opportunity , if  you are interested to influence, steer requir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to make a soft sale for support to anyone interested in becoming a stack holder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25360" y="685800"/>
            <a:ext cx="4673880" cy="350532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2960" y="4419720"/>
            <a:ext cx="517824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Purpose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socialize and inform you  of current techniques and technologie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he DoD, that could be leveraged to interface with, and make readily  available to people who have a need to know,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program related informa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The information would include existing and any future data information initiativ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dditionally to receive constructive and creative feedback 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also to open an opportunity , if  you are interested to influence, steer requir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to make a soft sale for support to anyone interested in becoming a stack holder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25360" y="685800"/>
            <a:ext cx="4673880" cy="35053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2960" y="4419720"/>
            <a:ext cx="517824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Purpose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socialize and inform you  of current techniques and technologie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he DoD, that could be leveraged to interface with, and make readily  available to people who have a need to know,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program related informa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The information would include existing and any future data information initiativ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dditionally to receive constructive and creative feedback 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also to open an opportunity , if  you are interested to influence, steer requir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to make a soft sale for support to anyone interested in becoming a stack holder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25360" y="685800"/>
            <a:ext cx="4673880" cy="350532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2960" y="4419720"/>
            <a:ext cx="517824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Purpose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socialize and inform you  of current techniques and technologie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he DoD, that could be leveraged to interface with, and make readily  available to people who have a need to know,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program related informa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The information would include existing and any future data information initiativ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dditionally to receive constructive and creative feedback 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also to open an opportunity , if  you are interested to influence, steer requir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to make a soft sale for support to anyone interested in becoming a stack holder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25360" y="685800"/>
            <a:ext cx="4673880" cy="350532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2960" y="4419720"/>
            <a:ext cx="517824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Purpose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socialize and inform you  of current techniques and technologie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he DoD, that could be leveraged to interface with, and make readily  available to people who have a need to know,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program related informa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The information would include existing and any future data information initiativ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dditionally to receive constructive and creative feedback 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also to open an opportunity , if  you are interested to influence, steer requir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to make a soft sale for support to anyone interested in becoming a stack holder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25360" y="685800"/>
            <a:ext cx="4673880" cy="35053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2960" y="4419720"/>
            <a:ext cx="517824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Purpose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socialize and inform you  of current techniques and technologie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he DoD, that could be leveraged to interface with, and make readily  available to people who have a need to know,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program related informa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The information would include existing and any future data information initiativ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dditionally to receive constructive and creative feedback 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also to open an opportunity , if  you are interested to influence, steer requir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to make a soft sale for support to anyone interested in becoming a stack holder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25360" y="685800"/>
            <a:ext cx="4673880" cy="350532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2960" y="4419720"/>
            <a:ext cx="517824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Purpose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socialize and inform you  of current techniques and technologie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he DoD, that could be leveraged to interface with, and make readily  available to people who have a need to know,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program related informa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The information would include existing and any future data information initiativ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dditionally to receive constructive and creative feedback 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also to open an opportunity , if  you are interested to influence, steer requir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to make a soft sale for support to anyone interested in becoming a stack holder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25360" y="685800"/>
            <a:ext cx="4673880" cy="350532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2960" y="4419720"/>
            <a:ext cx="517824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Purpose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socialize and inform you  of current techniques and technologie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he DoD, that could be leveraged to interface with, and make readily  available to people who have a need to know,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program related informa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The information would include existing and any future data information initiativ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dditionally to receive constructive and creative feedback 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also to open an opportunity , if  you are interested to influence, steer requir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to make a soft sale for support to anyone interested in becoming a stack holder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25360" y="685800"/>
            <a:ext cx="4673880" cy="350532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2960" y="4419720"/>
            <a:ext cx="517824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Purpose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socialize and inform you  of current techniques and technologie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he DoD, that could be leveraged to interface with, and make readily  available to people who have a need to know,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program related informa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The information would include existing and any future data information initiativ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dditionally to receive constructive and creative feedback 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also to open an opportunity , if  you are interested to influence, steer requir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to make a soft sale for support to anyone interested in becoming a stack holder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25360" y="685800"/>
            <a:ext cx="4673880" cy="35053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2960" y="4419720"/>
            <a:ext cx="517824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Purpose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socialize and inform you  of current techniques and technologie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he DoD, that could be leveraged to interface with, and make readily  available to people who have a need to know,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program related informa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The information would include existing and any future data information initiativ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dditionally to receive constructive and creative feedback 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also to open an opportunity , if  you are interested to influence, steer requir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to make a soft sale for support to anyone interested in becoming a stack holder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25360" y="685800"/>
            <a:ext cx="4673880" cy="35053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2960" y="4419720"/>
            <a:ext cx="517824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Purpose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socialize and inform you  of current techniques and technologie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he DoD, that could be leveraged to interface with, and make readily  available to people who have a need to know,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program related informa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The information would include existing and any future data information initiativ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dditionally to receive constructive and creative feedback 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also to open an opportunity , if  you are interested to influence, steer requir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to make a soft sale for support to anyone interested in becoming a stack holder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E34A-8DF4-44EE-921F-7E9A0DD69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12EB-2FD2-4312-B519-B2A2C5585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23BC-CA08-460F-BE1B-52FEBFF26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9804-916D-43D8-9B87-64E82F4B1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95E9-EF63-4A8C-9EAA-A1B7388CC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6248-2D4E-489F-86C5-6165CA3C8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519F-B809-47DC-951B-7FF489C50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3434-DCB6-4179-9755-B232B444E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4A7F-F092-4AF8-B6C0-D765C851A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A2BD-B6B0-4B76-900E-E4912DEC0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86B5-DEAF-4593-B164-DE6E74E7C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23BB-2883-4819-BBB8-1871D35AD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A64E2-3636-445E-BB75-B1EE2D2520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8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9.wmf"/><Relationship Id="rId7" Type="http://schemas.openxmlformats.org/officeDocument/2006/relationships/image" Target="../media/image16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ation Environment </a:t>
            </a:r>
            <a:br>
              <a:rPr sz="4400"/>
            </a:b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Intranet  / Extrane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505320" y="4038480"/>
            <a:ext cx="2181240" cy="2152800"/>
          </a:xfrm>
          <a:prstGeom prst="rect">
            <a:avLst/>
          </a:prstGeom>
          <a:ln w="0">
            <a:noFill/>
          </a:ln>
        </p:spPr>
      </p:pic>
      <p:grpSp>
        <p:nvGrpSpPr>
          <p:cNvPr id="50" name=""/>
          <p:cNvGrpSpPr/>
          <p:nvPr/>
        </p:nvGrpSpPr>
        <p:grpSpPr>
          <a:xfrm>
            <a:off x="4038480" y="3200400"/>
            <a:ext cx="1371600" cy="703440"/>
            <a:chOff x="4038480" y="3200400"/>
            <a:chExt cx="1371600" cy="703440"/>
          </a:xfrm>
        </p:grpSpPr>
        <p:sp>
          <p:nvSpPr>
            <p:cNvPr id="51" name=""/>
            <p:cNvSpPr/>
            <p:nvPr/>
          </p:nvSpPr>
          <p:spPr>
            <a:xfrm>
              <a:off x="4800600" y="32004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038480" y="320040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"/>
                </a:rPr>
                <a:t>(I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952880" y="3200400"/>
              <a:ext cx="45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ation Requirements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er Servi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315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g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ss Mailing Li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ject , Utilization Information Across MSRCs and D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s associated with expiring SecurID Ca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C holders or non-hol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earance holders or non-hol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twork, Queue, and System 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620120" y="228600"/>
            <a:ext cx="8413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ation Requirements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erberized Us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8960" y="2133720"/>
            <a:ext cx="6553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g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ject All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ject Util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ice Ticket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eue, and System 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Specific Project Information / Prog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rdware and Software Avail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620120" y="228600"/>
            <a:ext cx="8413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ation Requirements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ystem Administ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g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Contact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eue Wait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ze of Jo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active Usage and Response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ansion Factor(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ob Request Time and Actually Job Exec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Memory Usage of Proc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twork, Queue, and System Statu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620120" y="228600"/>
            <a:ext cx="8413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ation Requirements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gram Manag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6553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g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tilization for hardware and soft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eue wait time / Job through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ancial Data (currently in MSAcce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st/CPU hr of COTS Soft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rdware and Software Inventor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620120" y="228600"/>
            <a:ext cx="8413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ation Requirements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26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g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ource Utilization per Technology Area (hardware and softwa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ource Allo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ect Activities and St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W/Proposals Doc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vel Notification / Trip Repo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endar of Ev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ository  of Documents and Repo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dget Allocation and Uti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mail Al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cussion 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laboration To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620120" y="228600"/>
            <a:ext cx="8413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face Requirement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42640" y="1676160"/>
            <a:ext cx="71629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How T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ew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ipul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t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or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038480" y="2590920"/>
            <a:ext cx="533520" cy="2514600"/>
          </a:xfrm>
          <a:custGeom>
            <a:avLst/>
            <a:gdLst>
              <a:gd name="textAreaLeft" fmla="*/ 0 w 533520"/>
              <a:gd name="textAreaRight" fmla="*/ 192600 w 53352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053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/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019920" y="1447920"/>
            <a:ext cx="172404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Current Initi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ining Management Database (AS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anet Operating Environment (AR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tion Environment SOW (AS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teway Problem Solving Environment (AS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371600" y="15228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 Environmen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E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0880" y="2209680"/>
            <a:ext cx="84582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2120" y="5791320"/>
            <a:ext cx="1447560" cy="459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irements dB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HPC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248520" y="76212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505320" y="3657600"/>
            <a:ext cx="1981080" cy="1143000"/>
            <a:chOff x="3505320" y="3657600"/>
            <a:chExt cx="1981080" cy="1143000"/>
          </a:xfrm>
        </p:grpSpPr>
        <p:grpSp>
          <p:nvGrpSpPr>
            <p:cNvPr id="130" name=""/>
            <p:cNvGrpSpPr/>
            <p:nvPr/>
          </p:nvGrpSpPr>
          <p:grpSpPr>
            <a:xfrm>
              <a:off x="3810240" y="3809880"/>
              <a:ext cx="1523160" cy="825120"/>
              <a:chOff x="3810240" y="3809880"/>
              <a:chExt cx="1523160" cy="825120"/>
            </a:xfrm>
          </p:grpSpPr>
          <p:sp>
            <p:nvSpPr>
              <p:cNvPr id="131" name=""/>
              <p:cNvSpPr/>
              <p:nvPr/>
            </p:nvSpPr>
            <p:spPr>
              <a:xfrm>
                <a:off x="4656600" y="3809880"/>
                <a:ext cx="592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810240" y="3809880"/>
                <a:ext cx="101556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4800" spc="-1" strike="noStrike">
                    <a:solidFill>
                      <a:srgbClr val="000000"/>
                    </a:solidFill>
                    <a:latin typeface="Times New Roman"/>
                  </a:rPr>
                  <a:t>(IE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825800" y="3809880"/>
                <a:ext cx="5076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48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505320" y="3657600"/>
              <a:ext cx="1981080" cy="1143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1828800" y="2590920"/>
            <a:ext cx="5334120" cy="523800"/>
            <a:chOff x="1828800" y="2590920"/>
            <a:chExt cx="5334120" cy="523800"/>
          </a:xfrm>
        </p:grpSpPr>
        <p:pic>
          <p:nvPicPr>
            <p:cNvPr id="136" name="" descr=""/>
            <p:cNvPicPr/>
            <p:nvPr/>
          </p:nvPicPr>
          <p:blipFill>
            <a:blip r:embed="rId1"/>
            <a:stretch/>
          </p:blipFill>
          <p:spPr>
            <a:xfrm>
              <a:off x="1828800" y="2590920"/>
              <a:ext cx="5334120" cy="5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4114800" y="262404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WW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7162920" y="5791320"/>
            <a:ext cx="1295280" cy="459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llocation dB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HPC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62520" y="5791320"/>
            <a:ext cx="1295280" cy="459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taqueuing dB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ERDC/A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38080" y="5181480"/>
            <a:ext cx="1295640" cy="27648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R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162920" y="5181480"/>
            <a:ext cx="1295280" cy="27648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AV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562720" y="5867280"/>
            <a:ext cx="1295280" cy="27648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2K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438280" y="5181480"/>
            <a:ext cx="1295640" cy="27648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HPC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962520" y="5181480"/>
            <a:ext cx="1295280" cy="27648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ED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562720" y="5181480"/>
            <a:ext cx="1295280" cy="27648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NRL-D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438280" y="5867280"/>
            <a:ext cx="1295640" cy="27648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BM S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1523880" y="4723920"/>
            <a:ext cx="190512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3124080" y="487656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4572000" y="4876560"/>
            <a:ext cx="0" cy="228600"/>
          </a:xfrm>
          <a:prstGeom prst="line">
            <a:avLst/>
          </a:prstGeom>
          <a:ln w="64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5257800" y="4876920"/>
            <a:ext cx="99072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5562360" y="4723920"/>
            <a:ext cx="205740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914480" y="4920480"/>
            <a:ext cx="2111400" cy="820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224880" y="4914360"/>
            <a:ext cx="1087560" cy="909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4876920" y="48769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5105160" y="4876920"/>
            <a:ext cx="106668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5486400" y="4800600"/>
            <a:ext cx="274320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4495680" y="31240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4114800" y="31240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3733920" y="31240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4876920" y="31240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5257800" y="31240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304920" y="1905120"/>
            <a:ext cx="1295280" cy="838080"/>
            <a:chOff x="304920" y="1905120"/>
            <a:chExt cx="1295280" cy="838080"/>
          </a:xfrm>
        </p:grpSpPr>
        <p:pic>
          <p:nvPicPr>
            <p:cNvPr id="163" name="" descr=""/>
            <p:cNvPicPr/>
            <p:nvPr/>
          </p:nvPicPr>
          <p:blipFill>
            <a:blip r:embed="rId2"/>
            <a:stretch/>
          </p:blipFill>
          <p:spPr>
            <a:xfrm>
              <a:off x="304920" y="2103480"/>
              <a:ext cx="7617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609480" y="1905120"/>
              <a:ext cx="99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PCM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3048120" y="1523880"/>
            <a:ext cx="838080" cy="8017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1676520" y="1676520"/>
            <a:ext cx="761760" cy="7347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5"/>
          <a:stretch/>
        </p:blipFill>
        <p:spPr>
          <a:xfrm>
            <a:off x="5562720" y="1600200"/>
            <a:ext cx="855720" cy="7509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3124080" y="13716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/AA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34120" y="13716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 Administ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523880" y="144792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r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934320" y="1295280"/>
            <a:ext cx="190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gramming Environment &amp; Training (PE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038480" y="12193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rberized U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6"/>
          <a:stretch/>
        </p:blipFill>
        <p:spPr>
          <a:xfrm>
            <a:off x="4343400" y="1523880"/>
            <a:ext cx="838080" cy="7416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 flipH="1" flipV="1">
            <a:off x="1066680" y="2590560"/>
            <a:ext cx="914400" cy="2286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2286000" y="2437920"/>
            <a:ext cx="457200" cy="3049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428640" y="2362320"/>
            <a:ext cx="228600" cy="3808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4800600" y="228564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5562720" y="2361960"/>
            <a:ext cx="228600" cy="2286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6934320" y="2590560"/>
            <a:ext cx="380880" cy="1522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7"/>
          <a:stretch/>
        </p:blipFill>
        <p:spPr>
          <a:xfrm>
            <a:off x="7620120" y="1905120"/>
            <a:ext cx="75240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914400" y="2209680"/>
            <a:ext cx="82296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ed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portunities to influence, steer, and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3000" y="685800"/>
            <a:ext cx="739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edback/Questions/Support 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6477120" y="1981080"/>
            <a:ext cx="14666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609480" y="2438280"/>
            <a:ext cx="7925040" cy="14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formation is the oxygen of the modern age, but the sheer volume of it can suffoc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447920" y="1219320"/>
            <a:ext cx="571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ote  .  .  .  .  . 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914400" y="2209680"/>
            <a:ext cx="82296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cialize and In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e feed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 opportunities to influence, steer, and support initiative from initial stages to it's suc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752480" y="762120"/>
            <a:ext cx="571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rpose of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477120" y="1981080"/>
            <a:ext cx="14666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1752480"/>
            <a:ext cx="8686800" cy="31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nowledge . . . an informational commodity, indispensable to productive power is already, and will continue to be, a major— perhaps the major— stake in the worldwide competition for power. It is conceivable that . . . One will one day fight for control of information, just as they battled in the past for control over territory,  . . .   raw materials and cheap labo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an François Lyota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b. 1924), French philosopher. (q.197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76520" y="685800"/>
            <a:ext cx="571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ote  .  .  .  .  . 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676520" y="1600200"/>
            <a:ext cx="5943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f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tion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rent Initia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324480" y="2514600"/>
            <a:ext cx="120996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600" y="1522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br>
              <a:rPr sz="36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 Environmen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E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8458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428400">
            <a:off x="2217240" y="3124080"/>
            <a:ext cx="4876920" cy="1905120"/>
          </a:xfrm>
          <a:prstGeom prst="irregularSeal2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24080" y="373392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00400" y="3733920"/>
            <a:ext cx="2590920" cy="7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al Databases 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ation Serv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858000" y="2133720"/>
            <a:ext cx="1504800" cy="14382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733920" y="1600200"/>
            <a:ext cx="1285920" cy="12412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3733920" y="5105520"/>
            <a:ext cx="1447560" cy="14256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609480" y="5029200"/>
            <a:ext cx="1828800" cy="13381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 rot="19515000">
            <a:off x="1800000" y="4800240"/>
            <a:ext cx="853920" cy="247680"/>
          </a:xfrm>
          <a:prstGeom prst="leftRightArrow">
            <a:avLst>
              <a:gd name="adj1" fmla="val 50000"/>
              <a:gd name="adj2" fmla="val 6863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962600">
            <a:off x="2057400" y="3048120"/>
            <a:ext cx="853920" cy="247680"/>
          </a:xfrm>
          <a:prstGeom prst="leftRightArrow">
            <a:avLst>
              <a:gd name="adj1" fmla="val 50000"/>
              <a:gd name="adj2" fmla="val 6863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20335200">
            <a:off x="6172200" y="3048120"/>
            <a:ext cx="853920" cy="247680"/>
          </a:xfrm>
          <a:prstGeom prst="leftRightArrow">
            <a:avLst>
              <a:gd name="adj1" fmla="val 50000"/>
              <a:gd name="adj2" fmla="val 6863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2062800">
            <a:off x="6095520" y="4952520"/>
            <a:ext cx="854280" cy="247680"/>
          </a:xfrm>
          <a:prstGeom prst="leftRightArrow">
            <a:avLst>
              <a:gd name="adj1" fmla="val 50000"/>
              <a:gd name="adj2" fmla="val 6866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6234200">
            <a:off x="4154400" y="4912920"/>
            <a:ext cx="684360" cy="306360"/>
          </a:xfrm>
          <a:prstGeom prst="leftRightArrow">
            <a:avLst>
              <a:gd name="adj1" fmla="val 50000"/>
              <a:gd name="adj2" fmla="val 444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rot="16234200">
            <a:off x="4078080" y="3008160"/>
            <a:ext cx="684000" cy="306360"/>
          </a:xfrm>
          <a:prstGeom prst="leftRightArrow">
            <a:avLst>
              <a:gd name="adj1" fmla="val 50000"/>
              <a:gd name="adj2" fmla="val 4444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467480" y="19051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/AA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657600" y="640080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 Administ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9880" y="13716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r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762120" y="1752480"/>
            <a:ext cx="1269720" cy="1905120"/>
            <a:chOff x="762120" y="1752480"/>
            <a:chExt cx="1269720" cy="1905120"/>
          </a:xfrm>
        </p:grpSpPr>
        <p:pic>
          <p:nvPicPr>
            <p:cNvPr id="82" name="" descr=""/>
            <p:cNvPicPr/>
            <p:nvPr/>
          </p:nvPicPr>
          <p:blipFill>
            <a:blip r:embed="rId5"/>
            <a:stretch/>
          </p:blipFill>
          <p:spPr>
            <a:xfrm>
              <a:off x="762120" y="2057400"/>
              <a:ext cx="126972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762120" y="1752480"/>
              <a:ext cx="83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PCM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304920" y="4495680"/>
            <a:ext cx="190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gram Management / Configuration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315200" y="49528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rberized U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7086600" y="5334120"/>
            <a:ext cx="1295280" cy="11458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248520" y="76212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8229600" cy="54766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 interface to allow easy input, storage, and retrieval of  data within existing databases and information services, based on access permiss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age, Report, Collect, and Disseminate site and program, activities and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d enough to provide consistent reports to the HPC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by MSRCs, DCs, Users, Program Community and HPC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2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Imprint MT Shadow"/>
              </a:rPr>
              <a:t>Benefi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ilitate day-to-day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 Configuration Manage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ilitate document sharing internally and extern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lve service tickets quickly and more efficien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 consistent/transparent access to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collection tool for report prepa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ing information to the users’ deskto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781680" y="533520"/>
            <a:ext cx="1514520" cy="19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Requi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1629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 to End Kerberized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rtificate authentication access “Ready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face to central and distributed data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 browser and Platform Indepen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 data maintenance cap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 Legacy Information Ser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Friend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019920" y="4495680"/>
            <a:ext cx="2438280" cy="18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ation Requirements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/AA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1629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g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ect Number (pars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 Contact 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ource Allocation (initial requirement, request; transact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ource Utilization (hardware and softwa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rberos Princi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 Ticket Inform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o issued N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ility to swap allocations within S/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620120" y="228600"/>
            <a:ext cx="8413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5T15:47:43Z</dcterms:created>
  <dc:creator>Tracey Smith</dc:creator>
  <dc:description/>
  <dc:language>en-US</dc:language>
  <cp:lastModifiedBy>USAF</cp:lastModifiedBy>
  <cp:lastPrinted>1999-09-08T13:17:37Z</cp:lastPrinted>
  <dcterms:modified xsi:type="dcterms:W3CDTF">1999-09-08T13:27:45Z</dcterms:modified>
  <cp:revision>37</cp:revision>
  <dc:subject/>
  <dc:title>Information Management &amp; Activity System (IMAS)</dc:title>
</cp:coreProperties>
</file>