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DE2-6D5A-425C-8247-8CAAC4FC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881-3F8E-4ECC-B796-195F1748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DA1-895D-4286-88BE-CD56F9D7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016-C7B1-4EFD-8823-CB3E99DF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97705-AE05-4D4B-B3A0-86B5E2B1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3DDE2-AAF8-4A4E-9D71-E2C7F76E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FE89F-623F-44E0-B602-4A2AB34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95D9B-5AC9-4827-A632-89347D5F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F9A08-4DA5-4827-A43A-199FEAE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F9A0F-9E8F-4229-AEF1-0C57E7E4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A8401-35A2-4E13-9A4E-B6660288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5C5-7C82-4CE8-A5B9-201123E7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F610-1EF4-4788-B812-EF70B8E3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FC74D-C33D-44C2-8375-5F48BA8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6DD87-622C-4AA8-889F-86428AF1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D989D-7949-4975-B95F-81268F87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CE080-618E-43E4-971F-32ACD0D2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71D-D599-4E39-98D6-82E95F7B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751-818A-4662-8E6F-690837E9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7C7-A686-462E-BCF8-433A3A9F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C90-BB23-4FA5-83A5-7D9909C8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F80-E3C2-4CEE-851B-B932D29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875-B89E-4DF4-9D4C-B7AEE30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5FF-083F-44D4-901A-2F6055DB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0" y="663084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361960" y="662904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62940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80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0017-79D2-48F9-9799-DD54BAD15773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848720" y="662940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E2A0-C7E8-470E-A585-7E75201DF5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662616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62472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24382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64767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EAA4-DD01-4C60-96BE-17D3889884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62472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304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34B-9BB7-48B3-94D2-BA2D2E0EA8FC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PAC Technology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ecture Recorder and Player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 Presentation April 3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y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ek Podgor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1DE6C-0858-4E28-ADF5-05E0AF6FFD4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AB1F10C-3BE3-4D22-AA66-80861A8247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hat is needed for publishing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lements needed to publish the cours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.263 video  and ADPCM audio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se files do not need to be chopped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Point presentation converted via Internet Assista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x file (time stamp/foil # pair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ly must be created manuall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l be created automatically by lecture record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ool for semi-automatic creation for legacy material is option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ACD-9EB0-4057-89C8-3DF8512A29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74351DB-514F-42A0-B43B-3AE8EF5612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quirements for lecturer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ation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ectronic for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urned in few hours (a day?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fore the cla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for automatic recording, as automatic index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ll not 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out electronic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SRC staf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ll convert the presentation to one of the supported forma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r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use one of the tools provided with the package to deliver their present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ggest a PC in the delivery room with pre-installed S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cturer laptops can be accommodated as presentation/ recording tools download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C4A-CD05-444A-8F47-7F06A50665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D4D962-1AB4-4CAF-B004-CF01F51095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upported forma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82560" y="2362320"/>
          <a:ext cx="7561440" cy="57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2362320"/>
                    <a:ext cx="756144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6BD-D12F-4869-9279-947E2D08FD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B9D8D6-116D-48C1-9FFC-E288296A88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Formats we will not sup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ts that can not be described in terms of information nugge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ghetti” HTML files with or without anchor addresses,  where the lecturers use scrollbars to navig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C57-8DCE-455A-A11E-77F46B41FA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5090E8-6C18-4CA2-857A-3D5F5466A6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PEG1 for DREN and intranet distribu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dwidth: 1.5 Mb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: 30fps, CD quality audio, SIF (320x240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ceptual quality equivalent to VH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ual performance CPU-depend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player: ActiveMovie, PC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eds video server support (no http streaming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e works: Java Media Framework play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tform-independent, internally uses platform-specific C implem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A39-C4FC-4BB3-8A2F-6710058FAD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2514A9-EAF9-4665-9B4C-B4834CC2DE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.263 for low-bitrate (Internet) vide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/encoder enhanced to accommodate random access and error tolerance by adding I-fram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dwidth: variable, but starts at 9 Kb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: 3-10 fps, QCIF-CIF (9 Kbps=10 fps, QCIF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player: both ActiveMovie and Java appl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dio: ADPCM, GSM, MPEG-4 CE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PCM: done, 32 Kbp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M: codec done, integration in progress (13 Kbp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PEG-4: ongoing, slated for early July (4 - 6 Kbp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145-04E3-4320-AF56-62BBDB6C4A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911A3C-C3F7-4723-9D78-3DFE98339D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avigation and random acce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version: video or audio stream drives slidesh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: play, stop, rewind - but no random se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son: uses HTTP protocol for continuous media strea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facilitate random access, manual video segmentation is necessary (labor intensive; tools may be provid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rget version: two-way navigation with random ac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less video stream edited/segmented, needs video server support for random stream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son: needs random access protocol such as RTS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7E6-53BE-4408-B621-BD693D192B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F6AF99-2A2C-414D-8B3E-26A50BA143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gress since last demonst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publishing tool improve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ror and special situations hand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forces creation of meta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HTML files with more descriptive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yback tool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d protocol for video/slideshow tools communication (now supports pre-fetch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ils over audio for low-performance platfor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video player version for SGI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dified object handling to circumvent garbage collection problems in SGI Java V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F4C-3403-4E6C-AFAC-07D6A34B66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E3D2A7-EC87-4A9B-82F8-6F1C39AC8C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ncoding st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ware MPEG1 encoder provided by Opti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 time encoder of industrial qua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rchival quality digital video stre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 allows remote control of the encod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coding daemon socket-connected to the presentation tool on the presentation works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creation of indexing inform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ware delivered a week a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E6A-7216-46BC-A3FB-CE54C92694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D5ECE3-1511-49E1-BF40-48D450901C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authoring tools do not or poorly support courseware reu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blem: in 20 minutes, build, publish, and print handouts of a new module consisting of parts of five other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d all slides related to a particular topic in presentations delivered during last 6 month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ow for search of the educational nuggets according to the standard metadata attribu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F14-66D9-416D-85E0-FE97B27C40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856E9F7-38FB-4C41-8B64-26AC517019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bstract of NPAC Project Re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an interim report on an NPAC activity to generate multimedia database support for ASC as part of DoD Modernization progr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 wishes to use their in class video cameras and audio recorders to archive training material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’s task was the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esign, implementation, and deployment of automated system for capture, storage, indexing and retrieval of this information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20B-5F0E-4160-8FF7-023157202C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8AFF4A-DE6A-45C9-B40E-9D206EC01B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 WebWisdom database suppo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sion tools for transformation of legacy formats into self-describing edu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ional database loading tools with metadata creation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ntation management tools to create and edit new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mplates for automatic creation of Web presentation layer from  database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s recorded using NPAC technology can be immediately loaded in the databa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F24-252F-46C2-928B-F31E7A49CC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731F7D-A23F-490D-A57D-672E7B263A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Lecture recording and asynchronous collabo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 recording is a special case of the general session recording capability in the virtual and desktop collaborative environ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 TANGO Interactive session recording capability assumes session recording on the client side (as opposed to the central server record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ssion record re-assembly is done in the central repository with the clients uploading end-user recording information at session termina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1B3-C4C3-45E8-877D-C439C7C3DC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E79A02-CD85-4A16-9E7A-BFDDD60652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ject Goa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esign, implementation, and deployment of automated system for capture, storage, indexing and retrieval of clas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componen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pture station with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mat convers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apabil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ublish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quick Web deploy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ic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ex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two-way video/foils synchron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rchable audio/video and presentati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posit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set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yback too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streaming delivery of foils over 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2CC-A41A-4118-AF3B-11FEDD96CE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EB63DA-42BF-435C-9E1D-08FBB8DE1D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urseware Conversion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version of the existing recorded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uck Koelbel’s MPI class has been digitized and converted as follow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ire 2-day course recorded on tape has been digitized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gh-quality MPEG1 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net-quality (H263) vid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the entire course has been produc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sentation slid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have been converted to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-complian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entire class has bee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ex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ous foils over video playbac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ire package ready for Web publication now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2BC-FEFB-4B37-9D72-E61879AE2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F58BEA5-BE11-4577-96C1-0A3862C25D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Playback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Java audio/video and audio play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.263 video and ADPCM aud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eaming play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ing either http protocol or local data files as data sour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deo server support will be available in the next pha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le in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nd-alo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ersions (same set of tools for synchronous and asynchronous deliver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/event index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101-C571-4A84-B5D2-AA6CB238A3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2E1EDC2-680B-4AC2-897E-DE7F2AE92C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Playback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ent development: Java Media Framewor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audio and video playback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ets available for playback o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PEG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26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l Audio/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S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 evaluation by NPAC researcher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esting, but bugg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ry high startup times (3-4 times longer compared to tools implemented by NPA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08B-F1C1-4C75-8FEE-005A93DC0D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DA0896-C34A-4046-8916-87A0CD0310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us Review: Slide playback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urrent support for the following tool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active Java whitebo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plays arbitrary images in multiple formats, including GIF, JPEG, and highly-compressed wavelets, as well as standard tex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s PowerPoint slid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s drawings created in collaborative synchronous sess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-Scene PointPlus Java PowerPoint play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ressed, “streaming” PowerPoint presentation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 delivery does not include contents in this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yet supported: arbitrary HTML p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2E5-566D-4369-B547-6EAE29044F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F65346-2E9B-4966-B301-368E62D5C5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us Review: Video conversion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MPEG1 to H.263/ADPCM conver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-line audio/vide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mat re-encod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Win 95/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ple qualit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H.263 vide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justable frame size and frame ra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ull set of advanced encoding opt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andom-access strea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onal I-frames and frame/file offset look-up tabl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tible with output format of the MPEG1 real-time enco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ng: GSM/CELP/MPEG4 audio enco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C5A-EA28-4D0C-BE7E-1D259C4990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E470D5-CD67-4061-8F18-78A6356C17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Web Publisher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urpose: one stop interface for automated Web publishing of “video over foils” lect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mbli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elem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lecture from local dis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fer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cont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selected HTTP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ally creates HTTP server directory structures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needed HTML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HTT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e button cli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2nd version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april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77D-0B70-4A62-9724-87721BC5D7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31440C-634C-491E-8893-EE3960F6E7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marek</cp:lastModifiedBy>
  <cp:lastPrinted>1998-05-05T17:01:00Z</cp:lastPrinted>
  <dcterms:modified xsi:type="dcterms:W3CDTF">1998-05-05T18:58:52Z</dcterms:modified>
  <cp:revision>29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