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E05-6FF8-4520-B25D-271079D5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69C-17FF-4281-9973-96938B90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C79-7C7F-430B-B315-4B412177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930-34BC-47E6-AA70-4CF3F812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EE4-A708-4C7C-B4C9-0EF1FF2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D1C-1DDA-4460-BE1C-2F50DA4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602-3108-448A-8FF0-1A6FB3E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277-BA34-43AD-BBE7-CFCB457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220-865C-4915-BE9B-D0D3752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9D7-EE77-424A-BE30-3345954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690-3ED0-419C-B892-DEA65CD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9A1-7A10-4A3A-ACEE-60F43A1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F9F-654F-4036-B8A6-678D70E023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T FMS (Forces Modeling and Simulation)  Status Repor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jtek Furman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L/ASC Joint Review and Planning Workshop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erdeen, MD, February 23-25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492-94C7-476D-A7AB-F2E11099A8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HLA Component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JWORB, OWRTI, 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ebFlow Authoring, DirectX  Front-E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jworb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3047760" cy="2633760"/>
          </a:xfrm>
          <a:prstGeom prst="rect">
            <a:avLst/>
          </a:prstGeom>
          <a:ln w="0">
            <a:noFill/>
          </a:ln>
        </p:spPr>
      </p:pic>
      <p:pic>
        <p:nvPicPr>
          <p:cNvPr id="69" name="owrti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3429000" cy="2733840"/>
          </a:xfrm>
          <a:prstGeom prst="rect">
            <a:avLst/>
          </a:prstGeom>
          <a:ln w="0">
            <a:noFill/>
          </a:ln>
        </p:spPr>
      </p:pic>
      <p:pic>
        <p:nvPicPr>
          <p:cNvPr id="70" name="omdt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3352680" cy="2718000"/>
          </a:xfrm>
          <a:prstGeom prst="rect">
            <a:avLst/>
          </a:prstGeom>
          <a:ln w="0">
            <a:noFill/>
          </a:ln>
        </p:spPr>
      </p:pic>
      <p:pic>
        <p:nvPicPr>
          <p:cNvPr id="71" name="aof3" descr=""/>
          <p:cNvPicPr/>
          <p:nvPr/>
        </p:nvPicPr>
        <p:blipFill>
          <a:blip r:embed="rId4"/>
          <a:stretch/>
        </p:blipFill>
        <p:spPr>
          <a:xfrm>
            <a:off x="4343400" y="3733920"/>
            <a:ext cx="3429000" cy="25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ABC-4BBF-42BF-80E7-CFD4438DFD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108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114800" cy="3084480"/>
          </a:xfrm>
          <a:prstGeom prst="rect">
            <a:avLst/>
          </a:prstGeom>
          <a:ln w="0">
            <a:noFill/>
          </a:ln>
        </p:spPr>
      </p:pic>
      <p:pic>
        <p:nvPicPr>
          <p:cNvPr id="73" name="Image81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73536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Image78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4114800" cy="333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228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MBuilder for WebFlow based Visual HLA Auth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A3B-B121-4C67-9B26-30FE0A17F6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8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77" name="Image83" descr=""/>
          <p:cNvPicPr/>
          <p:nvPr/>
        </p:nvPicPr>
        <p:blipFill>
          <a:blip r:embed="rId2"/>
          <a:stretch/>
        </p:blipFill>
        <p:spPr>
          <a:xfrm>
            <a:off x="3903840" y="152280"/>
            <a:ext cx="5240160" cy="3930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228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authoring tools: WebFlow + OMBuilder for DMSO Jager HLA application/demon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2C3-7FDC-4875-AAEA-1AAB460F26A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rect X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Component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9080" cy="21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82" name="DirectX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9811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3" name="DXF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19480" cy="1791000"/>
          </a:xfrm>
          <a:prstGeom prst="rect">
            <a:avLst/>
          </a:prstGeom>
          <a:ln w="32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84" name="DXM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3019320" cy="1800360"/>
          </a:xfrm>
          <a:prstGeom prst="rect">
            <a:avLst/>
          </a:prstGeom>
          <a:ln w="324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 flipV="1">
            <a:off x="4952880" y="1600200"/>
            <a:ext cx="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60020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14800" y="236196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200400" y="23623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8098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480" y="472428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819520" y="3124080"/>
            <a:ext cx="3657600" cy="2743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0" y="2133720"/>
            <a:ext cx="197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abor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62920" y="380880"/>
            <a:ext cx="175248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tream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00800" y="1219320"/>
            <a:ext cx="108576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D Worl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5410080" cy="1600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LA/RTI 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object/databas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MT, OML, FOMs, SO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CCE-8697-4D2E-9A14-010F2B6F15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c98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16800" cy="4341960"/>
          </a:xfrm>
          <a:prstGeom prst="rect">
            <a:avLst/>
          </a:prstGeom>
          <a:ln w="0">
            <a:noFill/>
          </a:ln>
        </p:spPr>
      </p:pic>
      <p:pic>
        <p:nvPicPr>
          <p:cNvPr id="97" name="Jager-donuts" descr=""/>
          <p:cNvPicPr/>
          <p:nvPr/>
        </p:nvPicPr>
        <p:blipFill>
          <a:blip r:embed="rId2"/>
          <a:stretch/>
        </p:blipFill>
        <p:spPr>
          <a:xfrm>
            <a:off x="3886200" y="2762280"/>
            <a:ext cx="4952880" cy="3713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867280" y="53352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X based SimVis Commodity Tools for CMS (left) and Jager (belo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B34-A988-4DF7-A402-14A1033ECB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erence Presentation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10 papers publish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PC D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ser Group Conference, Rice U., June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TE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PC Conf, Aberdeen, MD, 4 papers, July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HLA conf by DMSO/SISO), Orlando, FL, Sept 98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 paper awarded as recommended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S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ebSim’99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, San Francisco, CA, Jan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PC confs (EuroPar, Wisconsin, ICA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E46-396E-40B9-A725-1FEFAF6430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monstration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HLA/OWRTI presentation at SPAWAR, Aug 98, as part of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JSI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Panda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Demonstration of Parallel CMS in th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PCMO boo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Supercomputing ‘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s for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P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ec ‘98, Feb ‘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DBC-5D60-4702-A702-7329D8B972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rawing1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581280" cy="2718000"/>
          </a:xfrm>
          <a:prstGeom prst="rect">
            <a:avLst/>
          </a:prstGeom>
          <a:ln w="0">
            <a:noFill/>
          </a:ln>
        </p:spPr>
      </p:pic>
      <p:pic>
        <p:nvPicPr>
          <p:cNvPr id="104" name="cms_with_veh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733920" cy="2738520"/>
          </a:xfrm>
          <a:prstGeom prst="rect">
            <a:avLst/>
          </a:prstGeom>
          <a:ln w="0">
            <a:noFill/>
          </a:ln>
        </p:spPr>
      </p:pic>
      <p:pic>
        <p:nvPicPr>
          <p:cNvPr id="105" name="modsaf" descr=""/>
          <p:cNvPicPr/>
          <p:nvPr/>
        </p:nvPicPr>
        <p:blipFill>
          <a:blip r:embed="rId3"/>
          <a:stretch/>
        </p:blipFill>
        <p:spPr>
          <a:xfrm>
            <a:off x="914400" y="3657600"/>
            <a:ext cx="3581280" cy="2627280"/>
          </a:xfrm>
          <a:prstGeom prst="rect">
            <a:avLst/>
          </a:prstGeom>
          <a:ln w="0">
            <a:noFill/>
          </a:ln>
        </p:spPr>
      </p:pic>
      <p:pic>
        <p:nvPicPr>
          <p:cNvPr id="106" name="snap1" descr=""/>
          <p:cNvPicPr/>
          <p:nvPr/>
        </p:nvPicPr>
        <p:blipFill>
          <a:blip r:embed="rId4"/>
          <a:stretch/>
        </p:blipFill>
        <p:spPr>
          <a:xfrm>
            <a:off x="4572000" y="3657600"/>
            <a:ext cx="3352680" cy="2612880"/>
          </a:xfrm>
          <a:prstGeom prst="rect">
            <a:avLst/>
          </a:prstGeom>
          <a:ln w="0">
            <a:noFill/>
          </a:ln>
        </p:spPr>
      </p:pic>
      <p:pic>
        <p:nvPicPr>
          <p:cNvPr id="107" name="stealth_1" descr=""/>
          <p:cNvPicPr/>
          <p:nvPr/>
        </p:nvPicPr>
        <p:blipFill>
          <a:blip r:embed="rId5"/>
          <a:stretch/>
        </p:blipFill>
        <p:spPr>
          <a:xfrm>
            <a:off x="6934320" y="4981680"/>
            <a:ext cx="2209680" cy="1876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allel CMS Demo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PCMO Booth, SC’98, Orlando, F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576-81B8-4939-A164-926A96CA415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 (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torial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FMS JSU, SPEEDES at JN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ing Full Day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M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JSU Summer Institute, June 98; included morning presentation and afternoon lab with hands-on WebHLA de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EEDES Tutor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Metron, Inc. at the Joint National Test Facility at Colorado Springs, CO, June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ing WebHLA based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MS Training Sp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pport for and planning PET FMS Tuto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85B-2621-4A68-82F2-92018D8707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3581280" cy="286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581280" cy="2865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581280" cy="2865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343400" y="335268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MS Training Space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LA, SPEEDES, ModSAF, C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A4F-FE7C-4E53-99A7-25FA4C5DE02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: </a:t>
            </a: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ynerg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tween Web, HPC and HLA technologies for FMS and Meta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WebH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Integration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 selected HPC M&amp;S Applications (such a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arallel C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using WebH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e with and provide training for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FMS CHS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ystems (SPEEDES, IMPORT, HPC RTI, E-ModSAF, Tempo/Th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8B0-A202-4F8D-A329-D066118AAF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5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 Developme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Pragmatic Object Web, Wiley ‘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C. Fox, W. Furmanski, S. Pallickara and H. Timucin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uilding Distributed Systems on Pragmatic Object Web -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he Best of Java, CORBA, COM, XML and 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ook in progres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ey ‘9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izes our recent work on Web based HPC and proposes dual-use of WebHLA for several Internet application domains 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irtual communiti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line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ultiplayer gaming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BA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istance training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elemedic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BFD-941B-4CD3-A0C9-45DF05B765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6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isting FMS CHSSI Team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FMS-3, FMS-4, FMS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MS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Jeff Steinman/Mark Roberts regarding SPEEDES/E-ModSAF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MS-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Interacting with Larry Peterson and Jeff Wallace re Parallel IMPORT support in WebH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MS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ntributing our HLA expertise in HPC RTI project;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Web RTI to be certified by DMSO as the first non-DMSO R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216-EE61-4CFB-9958-34FE4D996F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7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2 submit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ela M. Jacobs/Ft. Belvoir, Wojtek Furmanski/Translet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ebHLA Toolkit for Metacomputing based 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ry J. Peterson/SPAWAR, Chris Wallace/TRW, Wojtek Furmanski/Translet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PC for Scalable Cognitive Entities in Forces Modeling and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8B6-1F0D-49DE-A10E-410F6E0959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8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100+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both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 detail) and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HS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t the summary level) FMS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sion, component technologies, prototypes, demonst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early support for FMS Training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ite at NPAC -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ttp://bombay.npac.syr.edu/f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mmary sites being installed at CEWES and 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7A8-0420-4A64-A1AC-3FE0204DE0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9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llel =&gt; Metacomputing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M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(HLA conver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ebHLA ap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uilds on JWORB/OWRTI Middle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ule as HPC Fed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odSAF, SimVis, Playb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tc. Fede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WebHLA demos (Jager) - Summer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arallel C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mo at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C’9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all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obile laptop d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vent playback) - Feb ‘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LA conver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all modules (CMS, ModSAF) - Feb ‘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ulti-MSRC Metacomputing dem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work in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nal goal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calability up to 1M+ mine objects (by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B43-A01C-4654-A6A6-382FEB67E8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la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342900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jdis3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3429000" cy="2517840"/>
          </a:xfrm>
          <a:prstGeom prst="rect">
            <a:avLst/>
          </a:prstGeom>
          <a:ln w="0">
            <a:noFill/>
          </a:ln>
        </p:spPr>
      </p:pic>
      <p:pic>
        <p:nvPicPr>
          <p:cNvPr id="128" name="sc982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342900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sc985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3429000" cy="260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allel CM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DIS/HLA Bridge, Playback, DirX Sim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694-1629-46E1-9AF9-560D8D86743E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DIS - DIS/HLA Bridge &amp; I/O  in Jav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jdis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038840" cy="2997360"/>
          </a:xfrm>
          <a:prstGeom prst="rect">
            <a:avLst/>
          </a:prstGeom>
          <a:ln w="0">
            <a:noFill/>
          </a:ln>
        </p:spPr>
      </p:pic>
      <p:pic>
        <p:nvPicPr>
          <p:cNvPr id="133" name="jdis2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4033800" cy="2960640"/>
          </a:xfrm>
          <a:prstGeom prst="rect">
            <a:avLst/>
          </a:prstGeom>
          <a:ln w="0">
            <a:noFill/>
          </a:ln>
        </p:spPr>
      </p:pic>
      <p:pic>
        <p:nvPicPr>
          <p:cNvPr id="134" name="jdis3" descr=""/>
          <p:cNvPicPr/>
          <p:nvPr/>
        </p:nvPicPr>
        <p:blipFill>
          <a:blip r:embed="rId3"/>
          <a:stretch/>
        </p:blipFill>
        <p:spPr>
          <a:xfrm>
            <a:off x="4419720" y="838080"/>
            <a:ext cx="4038480" cy="2963880"/>
          </a:xfrm>
          <a:prstGeom prst="rect">
            <a:avLst/>
          </a:prstGeom>
          <a:ln w="0">
            <a:noFill/>
          </a:ln>
        </p:spPr>
      </p:pic>
      <p:pic>
        <p:nvPicPr>
          <p:cNvPr id="135" name="jdis4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403848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C4D-BBEE-437A-838F-4F592BDF598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enefits of PET FMS for D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ress in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eveloping WebHL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potential new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reakthrough technology from FMS 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ubl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emonst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fforts (SC98 and JSIMS demos,  papers, book, FMS Web site) generat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road visibility for 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solid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el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Ft. Belvoir and SPAWAR (via joi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HSS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jects / proposal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interest of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JSI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ff Wallace) and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MS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udith Dahmann) in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ebH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CC0-2252-4678-B6A4-3C5DE042B4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WebHLA based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ulti-MSRC Metacompu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pport, starting from ARL &amp; CEWES in the FMS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FMS Training Space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eploy advanced distance trai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SPEEDES, IMPORT, HPC RTI, E-ModSAF, Tempo/T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PC Intelligent Ag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HSSI and JSIMS/Mari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ual-use of WebHL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eneral purpose Metacomputing  (DoE/Sandia, NSF/Alliance, Indust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A68-02ED-4382-929E-3808D23F8F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wards Multi-MSRC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ebHLA based Metacompu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rti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343400" cy="3579840"/>
          </a:xfrm>
          <a:prstGeom prst="rect">
            <a:avLst/>
          </a:prstGeom>
          <a:ln w="0">
            <a:noFill/>
          </a:ln>
        </p:spPr>
      </p:pic>
      <p:pic>
        <p:nvPicPr>
          <p:cNvPr id="143" name="fig1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572000" cy="37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9DB-91A3-4CAC-9B3E-D3756EAF4E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: </a:t>
            </a: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Main Thru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WebH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Web based HLA compliant multi-MSRC Metacomputing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etacomputing C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WebHLA applied for large scale (1M+ mines) minefield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FMS Training Sp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WebHLA applied for real-time interactive training for FMS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42F-CDA2-47AE-8E37-7CB25DC14B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HLA based Cluster Manag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clustermng1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276720" cy="2573280"/>
          </a:xfrm>
          <a:prstGeom prst="rect">
            <a:avLst/>
          </a:prstGeom>
          <a:ln w="0">
            <a:noFill/>
          </a:ln>
        </p:spPr>
      </p:pic>
      <p:pic>
        <p:nvPicPr>
          <p:cNvPr id="146" name="tree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50532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ring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3276720" cy="2495520"/>
          </a:xfrm>
          <a:prstGeom prst="rect">
            <a:avLst/>
          </a:prstGeom>
          <a:ln w="0">
            <a:noFill/>
          </a:ln>
        </p:spPr>
      </p:pic>
      <p:pic>
        <p:nvPicPr>
          <p:cNvPr id="148" name="hbmonitor" descr=""/>
          <p:cNvPicPr/>
          <p:nvPr/>
        </p:nvPicPr>
        <p:blipFill>
          <a:blip r:embed="rId4"/>
          <a:stretch/>
        </p:blipFill>
        <p:spPr>
          <a:xfrm>
            <a:off x="4343400" y="3733920"/>
            <a:ext cx="411480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21A-AA20-465C-BAF5-26F98A4643E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long term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mmercial supp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base FMS technologies such as WebHLA via SU/NPAC spin-off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ranslet, In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Translet activitie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otiating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licen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University for: WebFlow, JWORB, OWRTI, WebH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ing small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support for FMS P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ia synergy with other Translet contracts (from Web indust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ng in FMS-5 and two new FMS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HSSI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ing other (private/industry) funding sources for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roduct develop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20D-4EF3-4372-A944-4805409F59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ET FMS vs other CTA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MS Community takes the lead in use of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distributed object technolo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rough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LA/R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ebHL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ingle stop sh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convert legacy codes simultaneously to HLA, Web, HPC 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use 3 tier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ragmatic Object We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ich links distributed object technology to both "ordinary HPCC" (see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atew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alk by Fox) and 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our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MS Strate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nks HPC Web and HLA in an elegant clean fashion t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pplicable o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ll CTA'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23B-9177-48ED-9FDB-59C4F8F091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ET FMS vs  Classic HPC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LA is a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istributed object technolo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DOT)  for Modeling and Simul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ATOR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ffort from Java Grande forum trying to address similar DOT for classic HP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R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o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M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vent driven simulations) a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P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o Classic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HP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time-stepped sim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WebH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from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an also extend /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dd val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lassic HPC (most other CTA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132-5248-439C-B333-B2AE05A78D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chitecture of HLA/RTI Servi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rti-arch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0076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6D6-99E8-45FA-972F-7500EACAFD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MS PET Roadmap: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ebHLA on PO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dis-corba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581640" cy="2658960"/>
          </a:xfrm>
          <a:prstGeom prst="rect">
            <a:avLst/>
          </a:prstGeom>
          <a:ln w="0">
            <a:noFill/>
          </a:ln>
        </p:spPr>
      </p:pic>
      <p:pic>
        <p:nvPicPr>
          <p:cNvPr id="55" name="top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05320" cy="2690640"/>
          </a:xfrm>
          <a:prstGeom prst="rect">
            <a:avLst/>
          </a:prstGeom>
          <a:ln w="0">
            <a:noFill/>
          </a:ln>
        </p:spPr>
      </p:pic>
      <p:pic>
        <p:nvPicPr>
          <p:cNvPr id="56" name="WebFlowHPCC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3581640" cy="271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295280" y="3809880"/>
            <a:ext cx="3048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Visual FOM/SOM Autho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4724280"/>
            <a:ext cx="31240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Object Web (Java/CORBA) R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5943600"/>
            <a:ext cx="1295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NT Clus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5638680"/>
            <a:ext cx="1752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Origin2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pic>
        <p:nvPicPr>
          <p:cNvPr id="61" name="fig1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3276360" cy="27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000-F664-47C9-A5FD-776001D006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: </a:t>
            </a: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Accomplish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OWRTI, CMS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Presentation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10 papers publish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ion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JSIMS/Panda @ SPAWAR, SC’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torial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FMS at JSU, SPEEDES at JN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In Progres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Pragmatic Object Web, Wiley 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sting FMS CHSSI Team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FMS-3, FMS-4, FMS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with FMS CHSSI ‘99 Proposal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2 submit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 FMS Web Site Developme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100+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=&gt;Metacomputing CM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HLA conver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F31-80CA-4558-8C77-CB594D3431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ET FMS Accomplishment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HLA Modules Development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OWRTI, CMS etc.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JWORB , OWRTI , OMBuild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 2 Core; now focus on CMS 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imV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X based 3D simulation visualization front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arallal C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gin2000 port of Comprehensive Mine Simulator from Ft. Belvo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J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parallel performance monitor and PDU probing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JD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Java based DIS=&gt;HLA bridge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odSAF/H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upport for ModSAF node to act as HLA fede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ogger Federa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to save HLA interactions (events) in a relational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layback Feder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used to replay a simulation from an event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Review &amp; Planning Workshop, Feb 23-25 '99,  Aberdeen, M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200-3317-4B83-9252-8BD5D23CF6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ET F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8:22:08Z</dcterms:created>
  <dc:creator/>
  <dc:description/>
  <dc:language>en-US</dc:language>
  <cp:lastModifiedBy>David E Bernholdt</cp:lastModifiedBy>
  <cp:lastPrinted>1999-02-19T18:00:02Z</cp:lastPrinted>
  <dcterms:modified xsi:type="dcterms:W3CDTF">1999-02-19T18:17:57Z</dcterms:modified>
  <cp:revision>112</cp:revision>
  <dc:subject/>
  <dc:title>No Slide Title</dc:title>
</cp:coreProperties>
</file>