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0ED-B246-48BD-9D0A-9DD79FB1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D73-604B-4271-A693-EDC56B39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ABD-C139-4A7D-91FD-3A0B59EE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34A-EC20-4D90-AA7B-0A722A6F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8BAB-7C3E-413E-B317-24F69F88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CE0E-A7AE-401A-A1AB-50670573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AE2-8A75-409C-A3F2-9B309BC4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631-EAFD-47CA-9514-3F0EB27D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0980-87EA-4B9A-A12B-E3B64F6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DF5-A2CD-4BBB-B230-6C06B1D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8B89-67DC-4668-9E91-56A37CA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D44-D419-49A9-AB21-ABF4C78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A4DD-D6EF-49EE-97F7-B0F05256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E137-BFD6-4243-8A50-7521244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0ACB-7CFD-40B3-A606-5DDF41C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6228-A2F7-4544-9A0E-BD7DAF81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529F-34D2-4843-9F48-32DA0E0C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312-FDD9-49A5-88B2-B3652FD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408-CA76-4D81-B358-0CEA4375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0F2-CAB0-4D66-AC4D-BDBA279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49F-0EFD-4421-A328-910EA31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61B-4B43-4DFE-AD0B-AD62EF4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172-E11F-4A41-8892-68F3F52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9E6-1854-489D-B6E8-F9A48D0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1EDB-E5C9-4957-B1DE-85015137A05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F682-0571-4F9B-8B53-2FE5336E4A0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SC Projects and Initiati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I/E Teleconference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Oct 18, 1999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Training Management Database System 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ovides web access to course informatio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udents can enroll in courses, view class inform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structors can provide course information and view registration lis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dministrators can add/delete cour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signed in a three-tiered archite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rowser front-e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ava servlets comprise the middle tier, transfer user requests to a back-end Oracle data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l three tiers can be distribut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Web Security Issu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C is designing an Extranet and an Intranet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th will have restricted acc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rberos credentials for Intran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tranet will grant certificates as well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C is producing a kerberos module for Apach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C is purchasing Oracle Advanced Networ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formation Environmen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/E will provide web access to databases and to application tools like document viewers and collaboration tools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e will concentrate on remote database access.  We defer to ARL for discussion on other tool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e envision access to both MSRC and PET dat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/AAA’s, User Services, System Administrators, HPC users, PET personnel are all potential use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ll have both legacy and new da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: Program Managem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gacy Dat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lo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rdware and software utiliz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Queue wait-time and job throughp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nancial da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Data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st/CPU hr of COTS softwa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rdware and software invento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22:06:56Z</dcterms:created>
  <dc:creator>Marlon Pierce</dc:creator>
  <dc:description/>
  <dc:language>en-US</dc:language>
  <cp:lastModifiedBy>Marlon Pierce</cp:lastModifiedBy>
  <dcterms:modified xsi:type="dcterms:W3CDTF">1999-10-18T15:30:43Z</dcterms:modified>
  <cp:revision>3</cp:revision>
  <dc:subject/>
  <dc:title>ASC Projects and Initiatives</dc:title>
</cp:coreProperties>
</file>