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C381F-DE1F-40A7-8192-11B0D9BF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67C40-8D65-48E8-A733-7A7A1EEE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7812E-3E44-48CA-8095-D7576774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B0928-45AE-4016-A3E5-AF6D78A5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EF127-56C1-4640-95B0-2C39A0D9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4AA06-0CD3-4BAF-9907-BCF765E4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33CE4-FD81-4D91-B381-CD0F55E3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FB83A-F384-49CB-AD43-B1F0F26E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2D2E7-B6B1-4F59-8D54-53E19F22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C0185-2D4A-4B67-93A1-FB4A9601D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C08B-2483-4AE2-9174-36396191E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74EE-23FF-4D76-B62C-8D8E160C2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82A8-F745-479C-969A-A791205DC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8C03-0546-4746-9A7E-8E7DB9F9F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30FA-28F9-452C-9795-DC654505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265D4-9EEC-4C6C-9938-67915E44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B6F00-ED07-4EFF-B483-A97E3FB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4F4EB-3AE3-493F-B999-EAC71B1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D3910-0F8C-4CF0-B09A-7816A21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E8CE2-E5BC-4F6F-9603-FE18D7B6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2EC92-41E1-45A9-8DDD-ADA94C7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3229-0A27-4913-9D02-41DA39909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AEC4-796B-4F76-9708-FB1BCE2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0BCB-0EF5-402E-8A31-24FA0F2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62894-DFAF-4BAA-ACDF-1FCF701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7AAAE-1958-426F-94BD-617CCAD3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47A80-ACC8-455E-BA2D-6E00E6C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673F-0DFF-4997-9EF6-51965F794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A334-44F8-485D-A2F2-30C303569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6270-3EC4-4283-968F-ED6EBEA9B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FE6C-2634-48F8-9129-AFB51519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3250-0C3E-4C11-9347-51C1FEBBC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379E-8262-4B34-AB22-B97BCF333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4FB7-97F8-42B2-A1B4-B1253BBEE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878D-765D-4844-92AA-990424B405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2F2-E7F2-4A5F-B16E-110B3779F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Training Sess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velopment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tango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581280" cy="2133360"/>
          </a:xfrm>
          <a:prstGeom prst="rect">
            <a:avLst/>
          </a:prstGeom>
          <a:ln w="0">
            <a:noFill/>
          </a:ln>
        </p:spPr>
      </p:pic>
      <p:pic>
        <p:nvPicPr>
          <p:cNvPr id="99" name="tango2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8E7A7-1FC1-4890-88A7-1C036661D7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 Virtual University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WebWisdom hierarchical system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igating through 20,000 foils and 500 foil se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Raise Hands" Applet to help teacher-student synchronous interac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Virtual University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Java applets to teach physics (spring, planets, vector cross product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Java Applets used to teach Java!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SmartDesk system aimed at activities useful in special education with built in assess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063D-5397-4520-B9A1-4CA0BED71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some fun with multi-player gam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RML2 Ches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r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llo (Jav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bric's Cube (Jav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develop snakes and ladders and bunch of similar "grid" gam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"Other"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sim command and control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shared tools (e.g. mapping, weather) to  use in scripted crisis manage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A56A-B6E7-4354-9EB6-5E18DE5C3E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ersions of the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system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version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ta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release version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May ‘98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 for IE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Summer ‘98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pcoming version will be discus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7BB8-887D-4F28-A9EF-9AAA5D8B1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 beta 4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1.x requires browser plug-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tible with Netscape Navigat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0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compatible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02 and 3.0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due to incoherent security model). There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these versions of the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compatible with MS Internet Explor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1 us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veConnect and plug-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chitecture. Both these technolog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vailable for Internet Explorer, but MS implementation of LiveConnect is not fully compati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ed platforms: Windows’95/NT, IRIX, Solaris, Linu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C281-19B5-40DF-BCF4-1A941A7B42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 beta 4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tible with Netscape Communicator 4.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security model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tscape 3 and Netscape 4 brow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gitally sig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lug-in Java class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or version explicitly requires access to privileged oper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’s consent necess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ru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t  needed only once per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ystem is availabl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w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ttp://www.npac.syr.edu/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28C6-5C7D-4F0F-90E1-E6E704EB3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pports all the same features as 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1.0 beta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ploy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ified protoc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tween the plug-in and the collaboratory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 protocol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patible with version 1.0 beta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API is modified (registering application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modifications improve syste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reli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sion 1.0 requir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-install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both server and client softw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sion 1.0 will support MS Internet Explorer 4.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E9EF-96EE-4E83-837A-D13C19819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Serv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appli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s JDK 1.1 or high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 maintenance fre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ustry-strength st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-independ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ed on IRIX 5/6, Solaris, Linux, Windows 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also run  on Widows’95 (not recomme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ailable for download from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ttp://www.npac.syr.edu/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A20C-D366-4233-AB42-5C9FCDC34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2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 radically improved version of the entire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“lessons learned”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om TANGO 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orporated into design and imple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r more powerful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many new capab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the vis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communiti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lectronic civil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e plug-in technology, hence no client instal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l asynchronous database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 details will be released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ested part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3Q9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e system implement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F784-14A9-4CB6-87E8-F9169AA6F2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Local Daemon’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in task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intaining two-way communi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user applications, applets and central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unch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ocal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ssing mess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applications running on the same n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ing certain system level functionality not normally available to Java applets, such as file access or prin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aemon is implemented as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ug-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Web browser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aemon i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ly operating system depend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re part of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2F29-7C54-4E89-91DB-A6ED3AB952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entral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the main communication elemen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cal daem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municate with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ntral serv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 maintain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stat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utes  mess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applications participating in each sess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 protoc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aq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ly,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ystem is restricted to only one collaborator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easy server switch mechani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A29C-E86C-4C98-B657-873BA2F81E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unctiona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urrent Capab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er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ication Protoc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ession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7758-A80B-49F5-A414-1FAC9998A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Java appl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applications written in Java,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ownloa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an HTTP server, and executed in browser environ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between Java applets and central server is also maintained by the local daemons. Java applets communicate with local daemon by calling its method fun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ocal Applications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applications which run as standalone programs are called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ocal app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Local application may be written i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gramming languag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 with the local daemon using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o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The daemon is responsible for starting these applications and routing messages to and from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CFCF-C8D8-43E1-8F12-05B7F56626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mplementation Detai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0" y="12189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aem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provides a mechanism for TANGO components such as Java applets, central server, JavaScript scripts etc. to talk to each other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NGO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aem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has been implemented as a plug-in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LiveConnec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mechanisms, each applet residing in the same page with the plug-in may obtain its handle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ssage passing between plug-in and an applet is achieved by calling appropriate methods of each oth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1523880"/>
            <a:ext cx="4484520" cy="49532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2002-F7F9-4AF4-8778-41C4F7CB10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Times New Roman"/>
              </a:rPr>
              <a:t>Control Applicati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provides TANGO GUI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ovides uniform application session and floor control for all TANGO application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aunches applications locally or remotely, creates and connects to existing sessions, exits applications, logs into the system, etc.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Routes messages between applications on the same node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Monitor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distributed system integrity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ser interface to the control application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auto-adjust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to the operating system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 communicates with the system via LD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communication between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control applicati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local daem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differ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than in the case of standard Java applets since control application can also generate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system message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EC49-4DC7-44B3-8FB8-73D12ADD64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Events and Dat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nce TANGO uses central server architecture, there are system scalability concerns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ystem makes careful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tincti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betwee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ven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at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distribution pathway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vent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re always distributed via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llaboratory serv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at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y be distributed via collaboratory server for thin data stream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voluminous dat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re either distributed directly between application instances or delivered from  HTTP serve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eer-to-peer application data exchange may us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if necessary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ertain TANGO applications are therefore implemented as Web browsers for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pecialized data type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e.g., GIS Open Inventor Web browser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80CA-25BB-48E6-9561-57C4BDCDD6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Media Streams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57440" y="1066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or scaleability reasons,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al time multimedia streams are not sent via central server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ead, we use a distributed architecture akin to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soft’s OpenDV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 architecture support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ession control remains with the TANGO session manage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NGO VTC supports stream recording, storage, and retriev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417680"/>
            <a:ext cx="5181480" cy="51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0A0D-BD1B-44B1-87C4-BE25856B9E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pplication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 blueprint for a truly successful collaboratory system does not exist. Henc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a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xtensible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very few limitation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ust 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 application specific protocols, application programming language, or limit in whatever way functionality of 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ssence of each collaboratory function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ust be defined by appli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by application on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does not define any application protoc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F6A0-B7DC-46FF-90AC-F170F22E16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pplication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API requires application developer to implement application protocol conversion to byte strea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advanced APIs handle more complex situ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initial state for ‘latecomers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change of any complex data struct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 programming with Java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2A1C-944E-4014-B3AE-157DE74496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ess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group of application instances currently working together in the collaborative mode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(and only) applications belonging to the same session exchange information and may share behavior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particular application operates in collaborative mode depends on this application characteristic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ll sessions there is one master user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ter of the session has special privileges of controlling access of other users to this session and/or controlling the application behavior. The privileges depend on the application typ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90D1-1B45-44A3-B59C-F4EBAF1495E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ter status is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ynamically transferable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loor control allows for both master-master and master-slave relationsh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oes not restri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number of concurrent sessions. There may be multiple independent sessions of applications of the same typ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ssages from one application compatible with application of another type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ll be distributed transparently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680F-2119-4A51-91A7-C2E3F6DF60A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ly supported opera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o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open (opens an instance on remote machin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and limited remote open (open an instance on a group of machine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jo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cl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close, including global remote cl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quire and grant session master stat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 implements “intelligent interface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6AB5-8226-4783-96BB-D320D2014B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t Does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t lets applications controlled by your browser to talk to  Web application run by other peop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few mouse clicks,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teracti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you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ference room, or a classroom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tools from a long list of collaboratory mod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you have your tools, with another mouse click you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m to your partners’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body c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y of the application sessi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b contr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leave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en a private channe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re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other ch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oom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 private or public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s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y a video other people see, or start and share any “legacy” application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1E02-81E2-4308-85A2-4D7C13694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duct Sup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eneral ques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ek Podgorny, marek@npac.syr.ed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chitecture, client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nrad Olszewski, konrad@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k Beca, beca@npac.syr.ed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m Jurga (CA), toju@npac, Tom Stachowiak (BV), stach@npac, Remek Trzaska (GIS), remek@npac, Bart Winnowicz (VoD, MS apps), bartw@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npac.syr.edu/tan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03A8-9FDB-4C58-B601-482DB895D6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t Does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turns a web browser into a communication 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 lim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ny way current browser function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mless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r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munication and database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means for send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 only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ut als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thei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play and manipu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comple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ory run-ti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powerful session and floor contro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en integration platform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FF33-8B1D-4AF9-89B1-2C9C4CA69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s It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ly, it is a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multiparty, multi-session, multiplatform, multimedia collaboratory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also a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oftware integ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framewor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y kind of CSC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but it is particularly well suited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ance learn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s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Web infrastru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provides dozens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media collaboratory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quire an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pensive infrastruct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yond a standard PC or Unix workstation and a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2611-3031-44CA-AD74-7B4C73C08D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stem Architec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0" y="2285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: Netscape Brows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D: Local Daem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: Control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: Apple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: Local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S: Central Ser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: Back-end Datab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 Web ser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6037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395B-EF61-4C07-B0F9-9A1303BEC9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 System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must be competitive with best available collaborative tools and so its multi-language interface allows us to interface to other systems with Tango supplying Integrated Session Control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interfaces to Microsoft NetMeet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model is that of a room which is a group of people getting together for a clas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2 (Summer 98) will support a very powerful persistent multi-room paradigm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room supports a collection of shared objects chosen by teacher/students/administrato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0C52-554A-4F55-BA21-001A0C68F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upports over 40 appl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e Collaboration Capabiliti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-Video Conferencing multicast between room participan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 chat rooms with various tradeoffs between "coolness", ease of use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Browser (Synchronized view of Web Page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Web Search (becomes shared database query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lide Show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 Boa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BC3A-B34D-4BC4-A9E9-6876D59A23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ice and Authoring Tool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Point via shared display or shared Java viewer (collaboration with Net-Scen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oft Exce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oft Wo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visual C++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bined Whiteboard/ Java object based PowerPoint like authoring system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XEmacs edito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BF92-E391-413A-9FC8-A8F45F571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4-26T01:14:25Z</cp:lastPrinted>
  <dcterms:modified xsi:type="dcterms:W3CDTF">1998-04-26T01:19:06Z</dcterms:modified>
  <cp:revision>48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