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2388-4BD3-4342-87BC-75C54E433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CD6F-4BA0-4324-B4B6-B7F2D8307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7484-677E-403A-8D4E-B812851E4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8DC7-AFCE-4D30-9521-13B1627638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7EE2-5AF7-4913-B44E-D5D8F46806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AE0F-8998-4F8B-8525-9F5836B3B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3BF8-E6D4-49B4-AE62-983AC0069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B976-7598-40C1-AD19-F12CA0672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492F-EA8F-41D1-9EB2-554E49055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3995-DE81-493E-9F37-E88EF3CAF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01DE-84A5-4717-9760-1FD673B07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D176-FA23-4D6D-ACE9-831798EF4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38C4-EE53-453B-BA3E-E059EE4ABE46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ET Collaboration and Training Implementation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ffrey F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AC/Syracus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ynchronous Support for Training &amp; Educ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egrate Tango with WebWisdom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mpler look &amp; feel for 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2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-examine “Raise Hand” applet for student-teacher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goin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vestigate different modes of distance teaching, roles for teacher, support perso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E7E1-E5E7-4DD3-9D64-0F53E4BEA4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ynchronous Support for Collaborato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2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ploy Tango as a collaboratory in staged, supportable/supported fash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ploy selected core tools from outside Tango for evaluation, I.e. MS NetMeeting, Palace chat-ro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6, ongoin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dd/deploy specialized tools incl shared vis &amp; prog dev a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8BD0-533F-49DF-A908-672143BA9A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eb Resources &amp; Async Too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2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Management System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ango -- bug/feature database, allow PET users to find current known bugs, prognosis for f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4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University Server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- WebWisdom NT w/ database back-end for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3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Multimedia Database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- eval/deploy a-v over fo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12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egrate above after testing to get tru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Training/University Serv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A119-93F1-43BD-86A7-B323EC13BE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eb Resources &amp; Asynchronous  Tool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goin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mpare various asynch tools/capabilities (I.e. Lotus Notes, TappedIn, Netscape, netWorkPlace); evaluate &amp; deploy a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TBD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vestigate assessment based on database storage of student access patterns.  Work with Assessment experts (I.e. LEAD center at Wiscons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7C65-56BF-48FF-A98A-FD8388AD24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ining Content Specific Technology Task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goin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dentify relevant core info resources (I.e. glossaries, HPC system descrip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goin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view WebWisdom NT education object definition in light of IMS, AD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2, ongoin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sign XML structure of core info resources (glossaries, etc.) and sophisticated curricula structures (I.e. Cornell Virtual Worksh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A48F-392C-40F4-B07D-F5403CA7CB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eneric Cont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future CD-ROM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ified glossary for HPC PET incl technology &amp; application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pdate HPC system descri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goin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k w/ training groups to identify add’l similar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goin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velop/deliver training lectures on all technology, XML/database structure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7E14-CDB5-4277-A816-47A41A6968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ggested Task Breakdow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ased on interests exhibited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re activities -- all MSR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ngo support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du &amp; Training -- CEW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collaboratory -- A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v. Collaborat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ization -- A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 development -- CEW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media database/back-end web technologies -- AS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ployment -- all MSR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C0B9-B763-4A70-A2C8-4E4D9E918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ussion Welco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levant UR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ttp://www.npac.syr.edu/users/gcf/petcand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collaboration &amp; training li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 issues for P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 plan for P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1F01-56D4-428D-8DAF-C8F73B7AB2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 Executive Committee Vision whitepaper includes a section on Collaboration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oordinated plan to turn Vision into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 all Centers have been moving forward, and areas of interest seem to have emerg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0812-7EEF-40D1-8430-219E141E4F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ckground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 C &amp; T Implementation Plan proposes a coordinated approach to address ExComm 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es only “Collaboration &amp; Training” which is essentially tools &amp; technologies at intersection of C/C and Training -- not basic web, for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-wide as proposed; some tasks for all sites, others (initially)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ED41-D60C-4033-AE46-B64912DC8C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rmin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chronous 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ynchronous teac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.e. SU-JSU exper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ynchronous collabo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cientific research, administration; less structured than 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ophisticated systems, such as NPAC Crisis Management (Command &amp; Control) demo, constructivist educational approach, shared computational steering or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B682-99AC-4CAA-A23B-E9D993A888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rmin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ynchronous 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raining or University Ser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personal &amp; performance data (PAPI), educational objects, storage of homework, notes, etc., support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ized servers, I.e. “Virtual Programming Labora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-linked database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ynch support tools, I.e. email, threaded discussion lists, shared calendars, document pr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4173-0114-4CFE-987F-D0BAA530D5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eneral Remark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imes estimated in months from N=1 July 19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assume “integrated system” is only necessary for synchronous col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ynch collab systems (i.e. Lotus Notes) do not seem to be of interest in PET, but isolated capabilities may be use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9126-5DD8-48C0-9CDF-199DA517CF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ic Synchronous Collaboration Capabili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available core collab tools.  Re-examine choices made in Tango if alternative versions clearly sup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3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mple ability to save whiteboard to local files &amp; transfer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12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dv archiving capabilities for a-v and shared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goin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xamine supporting add’l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A8A3-E35C-4075-A990-AF595F7ACD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ic Synchronous Collaboration Capabiliti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8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xamine/implement more powerful shared PowerPoint, Excel, Word via MS open Visual Basic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xamine/implement simpler desirable features, I.e. better URL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N+12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xamine/implement difficult desirable features, I.e. annotation support, window manager, session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goin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egrate Tango with asynch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91F2-8D23-45A7-8B39-3618E3D359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5T13:40:19Z</dcterms:created>
  <dc:creator>John T. Eberle</dc:creator>
  <dc:description/>
  <dc:language>en-US</dc:language>
  <cp:lastModifiedBy>David E Bernholdt</cp:lastModifiedBy>
  <cp:lastPrinted>1998-08-05T13:41:55Z</cp:lastPrinted>
  <dcterms:modified xsi:type="dcterms:W3CDTF">1998-09-07T18:54:31Z</dcterms:modified>
  <cp:revision>28</cp:revision>
  <dc:subject/>
  <dc:title>No Slide Title</dc:title>
</cp:coreProperties>
</file>