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5F1-9060-4D7E-A3CA-A57432BB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8A0-3F49-418F-86C5-8C0DB90E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DD1-7B58-4D79-AA2D-D6C91CDF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E49-EA06-40D9-BC54-FED27FF8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5D9-65FE-4C05-9E8B-83B881A6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F3D-5E53-4F21-8A0E-7D9E93EE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5F3-8554-4E4B-AD05-F717C92A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66E-4BE5-443F-A7E5-85DAC2F0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848-28E5-4C71-99D6-E295EDCF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B36-E6E2-4854-B19E-B4DAD6AF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152-33B6-477A-8548-80958A24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477-5040-4C4F-8791-AA955AB6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56A6-49D8-4A91-9D46-471CF95E7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71520" y="1843200"/>
            <a:ext cx="7913520" cy="4681440"/>
            <a:chOff x="371520" y="1843200"/>
            <a:chExt cx="7913520" cy="4681440"/>
          </a:xfrm>
        </p:grpSpPr>
        <p:grpSp>
          <p:nvGrpSpPr>
            <p:cNvPr id="43" name=""/>
            <p:cNvGrpSpPr/>
            <p:nvPr/>
          </p:nvGrpSpPr>
          <p:grpSpPr>
            <a:xfrm>
              <a:off x="2647800" y="3384720"/>
              <a:ext cx="3735360" cy="1528200"/>
              <a:chOff x="2647800" y="3384720"/>
              <a:chExt cx="3735360" cy="1528200"/>
            </a:xfrm>
          </p:grpSpPr>
          <p:sp>
            <p:nvSpPr>
              <p:cNvPr id="44" name=""/>
              <p:cNvSpPr/>
              <p:nvPr/>
            </p:nvSpPr>
            <p:spPr>
              <a:xfrm>
                <a:off x="2649600" y="3824280"/>
                <a:ext cx="3733560" cy="639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ddle-Ti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649600" y="4532040"/>
                <a:ext cx="373356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ource Specif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647800" y="3384720"/>
                <a:ext cx="3733920" cy="3805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bstract Task Specif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617400" y="1843200"/>
              <a:ext cx="1447920" cy="10252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l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viron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03560" y="1843200"/>
              <a:ext cx="1299960" cy="10252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O Vis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uth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43200" y="1843200"/>
              <a:ext cx="1300320" cy="10252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-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s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uth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3200" y="1843200"/>
              <a:ext cx="1299960" cy="10252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st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523200" y="1843200"/>
              <a:ext cx="1299960" cy="10252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68840" y="5484960"/>
              <a:ext cx="1122480" cy="10396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16600" y="5484960"/>
              <a:ext cx="1120680" cy="10396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62920" y="5484960"/>
              <a:ext cx="1122120" cy="10396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87400" y="5484960"/>
              <a:ext cx="1122480" cy="10396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5160" y="5484960"/>
              <a:ext cx="1120680" cy="10396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1480" y="5484960"/>
              <a:ext cx="1122120" cy="10396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45" idx="2"/>
              <a:endCxn id="55" idx="0"/>
            </p:cNvCxnSpPr>
            <p:nvPr/>
          </p:nvCxnSpPr>
          <p:spPr>
            <a:xfrm rot="5400000">
              <a:off x="2696040" y="3665160"/>
              <a:ext cx="572400" cy="3067920"/>
            </a:xfrm>
            <a:prstGeom prst="bentConnector3">
              <a:avLst>
                <a:gd name="adj1" fmla="val 500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45" idx="2"/>
              <a:endCxn id="56" idx="0"/>
            </p:cNvCxnSpPr>
            <p:nvPr/>
          </p:nvCxnSpPr>
          <p:spPr>
            <a:xfrm rot="5400000">
              <a:off x="3319560" y="4288320"/>
              <a:ext cx="572400" cy="1821240"/>
            </a:xfrm>
            <a:prstGeom prst="bentConnector3">
              <a:avLst>
                <a:gd name="adj1" fmla="val 500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5" idx="2"/>
              <a:endCxn id="57" idx="0"/>
            </p:cNvCxnSpPr>
            <p:nvPr/>
          </p:nvCxnSpPr>
          <p:spPr>
            <a:xfrm rot="5400000">
              <a:off x="3943080" y="4911840"/>
              <a:ext cx="572400" cy="574200"/>
            </a:xfrm>
            <a:prstGeom prst="bentConnector3">
              <a:avLst>
                <a:gd name="adj1" fmla="val 500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45" idx="2"/>
              <a:endCxn id="52" idx="0"/>
            </p:cNvCxnSpPr>
            <p:nvPr/>
          </p:nvCxnSpPr>
          <p:spPr>
            <a:xfrm flipH="1" rot="16200000">
              <a:off x="4587120" y="4841640"/>
              <a:ext cx="572400" cy="714240"/>
            </a:xfrm>
            <a:prstGeom prst="bentConnector3">
              <a:avLst>
                <a:gd name="adj1" fmla="val 500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45" idx="2"/>
              <a:endCxn id="53" idx="0"/>
            </p:cNvCxnSpPr>
            <p:nvPr/>
          </p:nvCxnSpPr>
          <p:spPr>
            <a:xfrm flipH="1" rot="16200000">
              <a:off x="5210640" y="4218480"/>
              <a:ext cx="572400" cy="1960920"/>
            </a:xfrm>
            <a:prstGeom prst="bentConnector3">
              <a:avLst>
                <a:gd name="adj1" fmla="val 500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45" idx="2"/>
              <a:endCxn id="54" idx="0"/>
            </p:cNvCxnSpPr>
            <p:nvPr/>
          </p:nvCxnSpPr>
          <p:spPr>
            <a:xfrm flipH="1" rot="16200000">
              <a:off x="5834160" y="3594960"/>
              <a:ext cx="572400" cy="3207960"/>
            </a:xfrm>
            <a:prstGeom prst="bentConnector3">
              <a:avLst>
                <a:gd name="adj1" fmla="val 500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47" idx="2"/>
              <a:endCxn id="46" idx="0"/>
            </p:cNvCxnSpPr>
            <p:nvPr/>
          </p:nvCxnSpPr>
          <p:spPr>
            <a:xfrm flipH="1" rot="16200000">
              <a:off x="2669760" y="1539720"/>
              <a:ext cx="516600" cy="3173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48" idx="2"/>
              <a:endCxn id="46" idx="0"/>
            </p:cNvCxnSpPr>
            <p:nvPr/>
          </p:nvCxnSpPr>
          <p:spPr>
            <a:xfrm flipH="1" rot="16200000">
              <a:off x="3425760" y="2295720"/>
              <a:ext cx="516600" cy="1661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49" idx="2"/>
              <a:endCxn id="46" idx="0"/>
            </p:cNvCxnSpPr>
            <p:nvPr/>
          </p:nvCxnSpPr>
          <p:spPr>
            <a:xfrm flipH="1" rot="16200000">
              <a:off x="4145760" y="3015720"/>
              <a:ext cx="516600" cy="221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>
              <a:stCxn id="49" idx="2"/>
              <a:endCxn id="46" idx="0"/>
            </p:cNvCxnSpPr>
            <p:nvPr/>
          </p:nvCxnSpPr>
          <p:spPr>
            <a:xfrm flipH="1" rot="16200000">
              <a:off x="4145760" y="3015720"/>
              <a:ext cx="516600" cy="221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0" idx="2"/>
              <a:endCxn id="46" idx="0"/>
            </p:cNvCxnSpPr>
            <p:nvPr/>
          </p:nvCxnSpPr>
          <p:spPr>
            <a:xfrm rot="5400000">
              <a:off x="4865760" y="2517480"/>
              <a:ext cx="516600" cy="1218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1" idx="2"/>
              <a:endCxn id="46" idx="0"/>
            </p:cNvCxnSpPr>
            <p:nvPr/>
          </p:nvCxnSpPr>
          <p:spPr>
            <a:xfrm rot="5400000">
              <a:off x="5585760" y="1797480"/>
              <a:ext cx="516600" cy="2658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"/>
            <p:cNvSpPr/>
            <p:nvPr/>
          </p:nvSpPr>
          <p:spPr>
            <a:xfrm>
              <a:off x="371520" y="3747960"/>
              <a:ext cx="158256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b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90800" y="3997440"/>
              <a:ext cx="419040" cy="349200"/>
            </a:xfrm>
            <a:custGeom>
              <a:avLst/>
              <a:gdLst>
                <a:gd name="textAreaLeft" fmla="*/ 52200 w 419040"/>
                <a:gd name="textAreaRight" fmla="*/ 366840 w 419040"/>
                <a:gd name="textAreaTop" fmla="*/ 87120 h 349200"/>
                <a:gd name="textAreaBottom" fmla="*/ 262080 h 3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82560" y="5802480"/>
              <a:ext cx="617400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ck-End Re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152280" y="1468800"/>
            <a:ext cx="1350720" cy="4374360"/>
            <a:chOff x="152280" y="1468800"/>
            <a:chExt cx="1350720" cy="4374360"/>
          </a:xfrm>
        </p:grpSpPr>
        <p:sp>
          <p:nvSpPr>
            <p:cNvPr id="542" name=""/>
            <p:cNvSpPr/>
            <p:nvPr/>
          </p:nvSpPr>
          <p:spPr>
            <a:xfrm rot="16200000">
              <a:off x="544680" y="488484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6200000">
              <a:off x="545040" y="393264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16200000">
              <a:off x="544680" y="298044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6200000">
              <a:off x="544680" y="202788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6200000">
              <a:off x="545040" y="107568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7010280" y="1468440"/>
            <a:ext cx="1350720" cy="4373280"/>
            <a:chOff x="7010280" y="1468440"/>
            <a:chExt cx="1350720" cy="4373280"/>
          </a:xfrm>
        </p:grpSpPr>
        <p:sp>
          <p:nvSpPr>
            <p:cNvPr id="548" name=""/>
            <p:cNvSpPr/>
            <p:nvPr/>
          </p:nvSpPr>
          <p:spPr>
            <a:xfrm rot="5400000">
              <a:off x="7403040" y="107532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5400000">
              <a:off x="7403040" y="202752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5400000">
              <a:off x="7403040" y="297972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5400000">
              <a:off x="7403040" y="393192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5400000">
              <a:off x="7403040" y="488376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1066680" y="706320"/>
            <a:ext cx="5907240" cy="6151680"/>
          </a:xfrm>
          <a:custGeom>
            <a:avLst/>
            <a:gdLst>
              <a:gd name="textAreaLeft" fmla="*/ 288360 w 5907240"/>
              <a:gd name="textAreaRight" fmla="*/ 5618880 w 5907240"/>
              <a:gd name="textAreaTop" fmla="*/ 288360 h 6151680"/>
              <a:gd name="textAreaBottom" fmla="*/ 5863320 h 6151680"/>
            </a:gdLst>
            <a:ahLst/>
            <a:rect l="textAreaLeft" t="textAreaTop" r="textAreaRight" b="textAreaBottom"/>
            <a:pathLst>
              <a:path w="21600" h="22494">
                <a:moveTo>
                  <a:pt x="3600" y="0"/>
                </a:moveTo>
                <a:arcTo wR="3600" hR="3600" stAng="16200000" swAng="-5400000"/>
                <a:lnTo>
                  <a:pt x="0" y="18894"/>
                </a:lnTo>
                <a:arcTo wR="3600" hR="3600" stAng="10800000" swAng="-5400000"/>
                <a:lnTo>
                  <a:pt x="18000" y="22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784920" y="1735200"/>
            <a:ext cx="134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6784920" y="2709720"/>
            <a:ext cx="134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784920" y="3639960"/>
            <a:ext cx="134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784920" y="4584600"/>
            <a:ext cx="134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784920" y="5543640"/>
            <a:ext cx="134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57200" y="177336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82400" y="2687760"/>
            <a:ext cx="134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82400" y="3638520"/>
            <a:ext cx="134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482760" y="4591080"/>
            <a:ext cx="1498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80880" y="55832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B_OEQ127" descr=""/>
          <p:cNvPicPr/>
          <p:nvPr/>
        </p:nvPicPr>
        <p:blipFill>
          <a:blip r:embed="rId1"/>
          <a:stretch/>
        </p:blipFill>
        <p:spPr>
          <a:xfrm>
            <a:off x="76320" y="162072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565" name="B_OEQ127" descr=""/>
          <p:cNvPicPr/>
          <p:nvPr/>
        </p:nvPicPr>
        <p:blipFill>
          <a:blip r:embed="rId2"/>
          <a:stretch/>
        </p:blipFill>
        <p:spPr>
          <a:xfrm>
            <a:off x="76320" y="251460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566" name="B_OEQ127" descr=""/>
          <p:cNvPicPr/>
          <p:nvPr/>
        </p:nvPicPr>
        <p:blipFill>
          <a:blip r:embed="rId3"/>
          <a:stretch/>
        </p:blipFill>
        <p:spPr>
          <a:xfrm>
            <a:off x="76320" y="342900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567" name="B_OEQ127" descr=""/>
          <p:cNvPicPr/>
          <p:nvPr/>
        </p:nvPicPr>
        <p:blipFill>
          <a:blip r:embed="rId4"/>
          <a:stretch/>
        </p:blipFill>
        <p:spPr>
          <a:xfrm>
            <a:off x="76320" y="441972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568" name="B_OEQ127" descr=""/>
          <p:cNvPicPr/>
          <p:nvPr/>
        </p:nvPicPr>
        <p:blipFill>
          <a:blip r:embed="rId5"/>
          <a:stretch/>
        </p:blipFill>
        <p:spPr>
          <a:xfrm>
            <a:off x="76320" y="5410080"/>
            <a:ext cx="326880" cy="3747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8153280" y="1468440"/>
            <a:ext cx="990720" cy="5335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24680" y="4287960"/>
            <a:ext cx="1219320" cy="5983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trix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8153280" y="5126040"/>
            <a:ext cx="754200" cy="837720"/>
            <a:chOff x="8153280" y="5126040"/>
            <a:chExt cx="754200" cy="837720"/>
          </a:xfrm>
        </p:grpSpPr>
        <p:grpSp>
          <p:nvGrpSpPr>
            <p:cNvPr id="572" name=""/>
            <p:cNvGrpSpPr/>
            <p:nvPr/>
          </p:nvGrpSpPr>
          <p:grpSpPr>
            <a:xfrm>
              <a:off x="8153280" y="5806800"/>
              <a:ext cx="754200" cy="156960"/>
              <a:chOff x="8153280" y="5806800"/>
              <a:chExt cx="754200" cy="156960"/>
            </a:xfrm>
          </p:grpSpPr>
          <p:sp>
            <p:nvSpPr>
              <p:cNvPr id="573" name=""/>
              <p:cNvSpPr/>
              <p:nvPr/>
            </p:nvSpPr>
            <p:spPr>
              <a:xfrm>
                <a:off x="8153280" y="580680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352360" y="580680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551440" y="580680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750520" y="580680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8153280" y="5580000"/>
              <a:ext cx="754200" cy="156960"/>
              <a:chOff x="8153280" y="5580000"/>
              <a:chExt cx="754200" cy="156960"/>
            </a:xfrm>
          </p:grpSpPr>
          <p:sp>
            <p:nvSpPr>
              <p:cNvPr id="578" name=""/>
              <p:cNvSpPr/>
              <p:nvPr/>
            </p:nvSpPr>
            <p:spPr>
              <a:xfrm>
                <a:off x="8153280" y="558000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352360" y="558000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551440" y="558000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750520" y="558000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8153280" y="5352840"/>
              <a:ext cx="754200" cy="156960"/>
              <a:chOff x="8153280" y="5352840"/>
              <a:chExt cx="754200" cy="156960"/>
            </a:xfrm>
          </p:grpSpPr>
          <p:sp>
            <p:nvSpPr>
              <p:cNvPr id="583" name=""/>
              <p:cNvSpPr/>
              <p:nvPr/>
            </p:nvSpPr>
            <p:spPr>
              <a:xfrm>
                <a:off x="8153280" y="535284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352360" y="535284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551440" y="535284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750520" y="535284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8153280" y="5126040"/>
              <a:ext cx="754200" cy="156960"/>
              <a:chOff x="8153280" y="5126040"/>
              <a:chExt cx="754200" cy="156960"/>
            </a:xfrm>
          </p:grpSpPr>
          <p:sp>
            <p:nvSpPr>
              <p:cNvPr id="588" name=""/>
              <p:cNvSpPr/>
              <p:nvPr/>
            </p:nvSpPr>
            <p:spPr>
              <a:xfrm>
                <a:off x="8153280" y="512604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352360" y="512604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551440" y="512604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750520" y="512604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236800" y="5885640"/>
              <a:ext cx="586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236800" y="5654880"/>
              <a:ext cx="586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236800" y="5424480"/>
              <a:ext cx="586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236800" y="5194080"/>
              <a:ext cx="586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8823600" y="5193720"/>
              <a:ext cx="0" cy="712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8628120" y="5193720"/>
              <a:ext cx="0" cy="712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8432640" y="5193720"/>
              <a:ext cx="0" cy="712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8236800" y="5193720"/>
              <a:ext cx="0" cy="712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8153280" y="3220920"/>
            <a:ext cx="754200" cy="838080"/>
            <a:chOff x="8153280" y="3220920"/>
            <a:chExt cx="754200" cy="838080"/>
          </a:xfrm>
        </p:grpSpPr>
        <p:grpSp>
          <p:nvGrpSpPr>
            <p:cNvPr id="601" name=""/>
            <p:cNvGrpSpPr/>
            <p:nvPr/>
          </p:nvGrpSpPr>
          <p:grpSpPr>
            <a:xfrm>
              <a:off x="8153280" y="3902040"/>
              <a:ext cx="754200" cy="156960"/>
              <a:chOff x="8153280" y="3902040"/>
              <a:chExt cx="754200" cy="156960"/>
            </a:xfrm>
          </p:grpSpPr>
          <p:sp>
            <p:nvSpPr>
              <p:cNvPr id="602" name=""/>
              <p:cNvSpPr/>
              <p:nvPr/>
            </p:nvSpPr>
            <p:spPr>
              <a:xfrm>
                <a:off x="8153280" y="390204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352360" y="390204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551440" y="390204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50520" y="390204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8153280" y="3674880"/>
              <a:ext cx="754200" cy="156960"/>
              <a:chOff x="8153280" y="3674880"/>
              <a:chExt cx="754200" cy="156960"/>
            </a:xfrm>
          </p:grpSpPr>
          <p:sp>
            <p:nvSpPr>
              <p:cNvPr id="607" name=""/>
              <p:cNvSpPr/>
              <p:nvPr/>
            </p:nvSpPr>
            <p:spPr>
              <a:xfrm>
                <a:off x="8153280" y="367488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352360" y="367488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551440" y="367488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50520" y="367488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8153280" y="3447720"/>
              <a:ext cx="754200" cy="156960"/>
              <a:chOff x="8153280" y="3447720"/>
              <a:chExt cx="754200" cy="156960"/>
            </a:xfrm>
          </p:grpSpPr>
          <p:sp>
            <p:nvSpPr>
              <p:cNvPr id="612" name=""/>
              <p:cNvSpPr/>
              <p:nvPr/>
            </p:nvSpPr>
            <p:spPr>
              <a:xfrm>
                <a:off x="8153280" y="344772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352360" y="344772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551440" y="344772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50520" y="344772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8153280" y="3220920"/>
              <a:ext cx="754200" cy="156960"/>
              <a:chOff x="8153280" y="3220920"/>
              <a:chExt cx="754200" cy="156960"/>
            </a:xfrm>
          </p:grpSpPr>
          <p:sp>
            <p:nvSpPr>
              <p:cNvPr id="617" name=""/>
              <p:cNvSpPr/>
              <p:nvPr/>
            </p:nvSpPr>
            <p:spPr>
              <a:xfrm>
                <a:off x="8153280" y="322092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352360" y="322092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551440" y="322092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50520" y="3220920"/>
                <a:ext cx="156960" cy="156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8236800" y="3980520"/>
              <a:ext cx="586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236800" y="3750120"/>
              <a:ext cx="586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36800" y="3519360"/>
              <a:ext cx="586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236800" y="3288960"/>
              <a:ext cx="586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8823600" y="3288960"/>
              <a:ext cx="0" cy="71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8628120" y="3288960"/>
              <a:ext cx="0" cy="71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8432640" y="3288960"/>
              <a:ext cx="0" cy="71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236800" y="3288960"/>
              <a:ext cx="0" cy="71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7620120" y="2371680"/>
            <a:ext cx="1523880" cy="674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ptimization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34680" y="6127920"/>
            <a:ext cx="730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393320" y="3983040"/>
            <a:ext cx="730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86400" y="1316160"/>
            <a:ext cx="1298520" cy="691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arallel DB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306520"/>
            <a:ext cx="1603440" cy="8049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EOS Control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pti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4120" y="3330720"/>
            <a:ext cx="1450800" cy="618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rigin 2000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4135320"/>
            <a:ext cx="1298520" cy="898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etSolve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inear Alg.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4120" y="5278320"/>
            <a:ext cx="1450800" cy="6192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BM SP2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295280" y="1239840"/>
            <a:ext cx="1752840" cy="4800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ateway 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69080" y="4579200"/>
            <a:ext cx="2252880" cy="1036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gent-based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hoice of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ompute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16168800">
            <a:off x="3786480" y="987480"/>
            <a:ext cx="857160" cy="23702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ultidisciplinary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ontrol (WebFl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92880" y="5800320"/>
            <a:ext cx="2134440" cy="820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ata Analysis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181840" y="1701360"/>
            <a:ext cx="309960" cy="213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 flipV="1">
            <a:off x="5028840" y="2458800"/>
            <a:ext cx="15228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4419720" y="3678120"/>
            <a:ext cx="9144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3047760" y="3982680"/>
            <a:ext cx="68580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952880" y="4592520"/>
            <a:ext cx="533520" cy="152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4571640" y="2534760"/>
            <a:ext cx="762120" cy="114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800600" y="565956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047760" y="2535120"/>
            <a:ext cx="685800" cy="114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819160" y="5278320"/>
            <a:ext cx="533160" cy="609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5333760" y="5202000"/>
            <a:ext cx="685800" cy="75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Server Web Computing System or Portal to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3" name=""/>
          <p:cNvCxnSpPr>
            <a:stCxn id="74" idx="2"/>
            <a:endCxn id="75" idx="0"/>
          </p:cNvCxnSpPr>
          <p:nvPr/>
        </p:nvCxnSpPr>
        <p:spPr>
          <a:xfrm flipH="1" rot="16200000">
            <a:off x="5772240" y="2941200"/>
            <a:ext cx="434160" cy="116640"/>
          </a:xfrm>
          <a:prstGeom prst="bentConnector3">
            <a:avLst>
              <a:gd name="adj1" fmla="val 497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5075280" y="3216240"/>
            <a:ext cx="1942560" cy="1287000"/>
            <a:chOff x="5075280" y="3216240"/>
            <a:chExt cx="1942560" cy="1287000"/>
          </a:xfrm>
        </p:grpSpPr>
        <p:sp>
          <p:nvSpPr>
            <p:cNvPr id="77" name=""/>
            <p:cNvSpPr/>
            <p:nvPr/>
          </p:nvSpPr>
          <p:spPr>
            <a:xfrm>
              <a:off x="5076000" y="3586320"/>
              <a:ext cx="1941840" cy="538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ddle-T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76000" y="4182480"/>
              <a:ext cx="1941840" cy="32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ource Spe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5280" y="3216240"/>
              <a:ext cx="1942200" cy="320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Task Spe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019400" y="1919160"/>
            <a:ext cx="752760" cy="863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3440" y="1919160"/>
            <a:ext cx="676440" cy="863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92600" y="1919160"/>
            <a:ext cx="676440" cy="863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42120" y="1919160"/>
            <a:ext cx="676080" cy="863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91280" y="1919160"/>
            <a:ext cx="676440" cy="863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26120" y="4984920"/>
            <a:ext cx="584280" cy="874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75560" y="4984920"/>
            <a:ext cx="582480" cy="874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3200" y="4984920"/>
            <a:ext cx="584280" cy="874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59080" y="4984920"/>
            <a:ext cx="584280" cy="874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8520" y="4984920"/>
            <a:ext cx="582480" cy="874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56160" y="4984920"/>
            <a:ext cx="584280" cy="874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78" idx="2"/>
            <a:endCxn id="86" idx="0"/>
          </p:cNvCxnSpPr>
          <p:nvPr/>
        </p:nvCxnSpPr>
        <p:spPr>
          <a:xfrm rot="5400000">
            <a:off x="5007960" y="3946320"/>
            <a:ext cx="482040" cy="1596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2"/>
            <a:endCxn id="87" idx="0"/>
          </p:cNvCxnSpPr>
          <p:nvPr/>
        </p:nvCxnSpPr>
        <p:spPr>
          <a:xfrm rot="5400000">
            <a:off x="5332320" y="4270680"/>
            <a:ext cx="482040" cy="94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8" idx="2"/>
            <a:endCxn id="88" idx="0"/>
          </p:cNvCxnSpPr>
          <p:nvPr/>
        </p:nvCxnSpPr>
        <p:spPr>
          <a:xfrm rot="5400000">
            <a:off x="5656320" y="4594680"/>
            <a:ext cx="482040" cy="29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8" idx="2"/>
            <a:endCxn id="83" idx="0"/>
          </p:cNvCxnSpPr>
          <p:nvPr/>
        </p:nvCxnSpPr>
        <p:spPr>
          <a:xfrm flipH="1" rot="16200000">
            <a:off x="5991840" y="4557960"/>
            <a:ext cx="482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8" idx="2"/>
            <a:endCxn id="84" idx="0"/>
          </p:cNvCxnSpPr>
          <p:nvPr/>
        </p:nvCxnSpPr>
        <p:spPr>
          <a:xfrm flipH="1" rot="16200000">
            <a:off x="6315480" y="4233600"/>
            <a:ext cx="482040" cy="1021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8" idx="2"/>
            <a:endCxn id="85" idx="0"/>
          </p:cNvCxnSpPr>
          <p:nvPr/>
        </p:nvCxnSpPr>
        <p:spPr>
          <a:xfrm flipH="1" rot="16200000">
            <a:off x="6640200" y="3909600"/>
            <a:ext cx="482040" cy="1668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9" idx="2"/>
            <a:endCxn id="75" idx="0"/>
          </p:cNvCxnSpPr>
          <p:nvPr/>
        </p:nvCxnSpPr>
        <p:spPr>
          <a:xfrm flipH="1" rot="16200000">
            <a:off x="5004720" y="2173680"/>
            <a:ext cx="434160" cy="1651680"/>
          </a:xfrm>
          <a:prstGeom prst="bentConnector3">
            <a:avLst>
              <a:gd name="adj1" fmla="val 497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0" idx="2"/>
            <a:endCxn id="75" idx="0"/>
          </p:cNvCxnSpPr>
          <p:nvPr/>
        </p:nvCxnSpPr>
        <p:spPr>
          <a:xfrm flipH="1" rot="16200000">
            <a:off x="5397480" y="2567520"/>
            <a:ext cx="434160" cy="864360"/>
          </a:xfrm>
          <a:prstGeom prst="bentConnector3">
            <a:avLst>
              <a:gd name="adj1" fmla="val 497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4" idx="2"/>
            <a:endCxn id="75" idx="0"/>
          </p:cNvCxnSpPr>
          <p:nvPr/>
        </p:nvCxnSpPr>
        <p:spPr>
          <a:xfrm flipH="1" rot="16200000">
            <a:off x="5772240" y="2941200"/>
            <a:ext cx="434160" cy="116640"/>
          </a:xfrm>
          <a:prstGeom prst="bentConnector3">
            <a:avLst>
              <a:gd name="adj1" fmla="val 497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1" idx="2"/>
            <a:endCxn id="75" idx="0"/>
          </p:cNvCxnSpPr>
          <p:nvPr/>
        </p:nvCxnSpPr>
        <p:spPr>
          <a:xfrm rot="5400000">
            <a:off x="6145920" y="2682720"/>
            <a:ext cx="434160" cy="633960"/>
          </a:xfrm>
          <a:prstGeom prst="bentConnector3">
            <a:avLst>
              <a:gd name="adj1" fmla="val 497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2" idx="2"/>
            <a:endCxn id="75" idx="0"/>
          </p:cNvCxnSpPr>
          <p:nvPr/>
        </p:nvCxnSpPr>
        <p:spPr>
          <a:xfrm rot="5400000">
            <a:off x="6520680" y="2307960"/>
            <a:ext cx="434160" cy="1383480"/>
          </a:xfrm>
          <a:prstGeom prst="bentConnector3">
            <a:avLst>
              <a:gd name="adj1" fmla="val 497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241280" y="3510000"/>
            <a:ext cx="11336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b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41280" y="3192480"/>
            <a:ext cx="23371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RR, Al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41280" y="4098960"/>
            <a:ext cx="23371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RR, Al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41280" y="4726080"/>
            <a:ext cx="2202120" cy="322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PCC: 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41280" y="5880240"/>
            <a:ext cx="2202120" cy="322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41280" y="5106960"/>
            <a:ext cx="2202120" cy="322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: 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41280" y="5492880"/>
            <a:ext cx="2202120" cy="322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tasks: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3"/>
          </p:cNvCxnSpPr>
          <p:nvPr/>
        </p:nvCxnSpPr>
        <p:spPr>
          <a:xfrm flipV="1">
            <a:off x="3443400" y="4762080"/>
            <a:ext cx="713520" cy="506880"/>
          </a:xfrm>
          <a:prstGeom prst="bentConnector3">
            <a:avLst>
              <a:gd name="adj1" fmla="val 49873"/>
            </a:avLst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4" idx="3"/>
          </p:cNvCxnSpPr>
          <p:nvPr/>
        </p:nvCxnSpPr>
        <p:spPr>
          <a:xfrm flipV="1">
            <a:off x="3443040" y="4762080"/>
            <a:ext cx="354600" cy="1280160"/>
          </a:xfrm>
          <a:prstGeom prst="bentConnector2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09" name=""/>
          <p:cNvCxnSpPr>
            <a:stCxn id="106" idx="3"/>
          </p:cNvCxnSpPr>
          <p:nvPr/>
        </p:nvCxnSpPr>
        <p:spPr>
          <a:xfrm flipV="1">
            <a:off x="3443040" y="4762080"/>
            <a:ext cx="354600" cy="892800"/>
          </a:xfrm>
          <a:prstGeom prst="bentConnector2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10" name=""/>
          <p:cNvCxnSpPr>
            <a:stCxn id="103" idx="3"/>
          </p:cNvCxnSpPr>
          <p:nvPr/>
        </p:nvCxnSpPr>
        <p:spPr>
          <a:xfrm flipV="1">
            <a:off x="3443040" y="4885560"/>
            <a:ext cx="354600" cy="2520"/>
          </a:xfrm>
          <a:prstGeom prst="bentConnector3">
            <a:avLst>
              <a:gd name="adj1" fmla="val 49695"/>
            </a:avLst>
          </a:prstGeom>
          <a:ln w="9360">
            <a:solidFill>
              <a:srgbClr val="0000cc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613400" y="5257800"/>
            <a:ext cx="32288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27440" y="3389400"/>
            <a:ext cx="11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27440" y="3849840"/>
            <a:ext cx="11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4287960"/>
            <a:ext cx="11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95560" y="2728800"/>
            <a:ext cx="2201760" cy="3222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s, IIOP/SEC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1560" y="1327320"/>
            <a:ext cx="2201760" cy="322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I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20680" y="934920"/>
            <a:ext cx="2202120" cy="3225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6520" y="554040"/>
            <a:ext cx="2202120" cy="322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CSA Al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27160" y="163440"/>
            <a:ext cx="2201760" cy="322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L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3"/>
            <a:endCxn id="81" idx="0"/>
          </p:cNvCxnSpPr>
          <p:nvPr/>
        </p:nvCxnSpPr>
        <p:spPr>
          <a:xfrm>
            <a:off x="3328560" y="325080"/>
            <a:ext cx="3351960" cy="1594440"/>
          </a:xfrm>
          <a:prstGeom prst="bentConnector2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8" idx="3"/>
            <a:endCxn id="74" idx="0"/>
          </p:cNvCxnSpPr>
          <p:nvPr/>
        </p:nvCxnSpPr>
        <p:spPr>
          <a:xfrm>
            <a:off x="3338280" y="716040"/>
            <a:ext cx="2592720" cy="1203840"/>
          </a:xfrm>
          <a:prstGeom prst="bentConnector2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7" idx="3"/>
            <a:endCxn id="80" idx="0"/>
          </p:cNvCxnSpPr>
          <p:nvPr/>
        </p:nvCxnSpPr>
        <p:spPr>
          <a:xfrm>
            <a:off x="3322440" y="1096920"/>
            <a:ext cx="1859400" cy="822960"/>
          </a:xfrm>
          <a:prstGeom prst="bentConnector2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6" idx="3"/>
            <a:endCxn id="79" idx="0"/>
          </p:cNvCxnSpPr>
          <p:nvPr/>
        </p:nvCxnSpPr>
        <p:spPr>
          <a:xfrm>
            <a:off x="3343320" y="1488600"/>
            <a:ext cx="1053360" cy="430920"/>
          </a:xfrm>
          <a:prstGeom prst="bentConnector2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735360" y="2882880"/>
            <a:ext cx="458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41280" y="3510000"/>
            <a:ext cx="11336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b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41280" y="3192480"/>
            <a:ext cx="23371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RR, Al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41280" y="4098960"/>
            <a:ext cx="23371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RR, Al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41280" y="4726080"/>
            <a:ext cx="2202120" cy="322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PCC: 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41280" y="5880240"/>
            <a:ext cx="2202120" cy="322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41280" y="5106960"/>
            <a:ext cx="2202120" cy="322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: 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41280" y="5492880"/>
            <a:ext cx="2202120" cy="322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tasks: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30" idx="3"/>
          </p:cNvCxnSpPr>
          <p:nvPr/>
        </p:nvCxnSpPr>
        <p:spPr>
          <a:xfrm flipV="1">
            <a:off x="3443400" y="4762080"/>
            <a:ext cx="713520" cy="506880"/>
          </a:xfrm>
          <a:prstGeom prst="bentConnector3">
            <a:avLst>
              <a:gd name="adj1" fmla="val 49873"/>
            </a:avLst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3"/>
          </p:cNvCxnSpPr>
          <p:nvPr/>
        </p:nvCxnSpPr>
        <p:spPr>
          <a:xfrm flipV="1">
            <a:off x="3443040" y="4762080"/>
            <a:ext cx="354600" cy="1280160"/>
          </a:xfrm>
          <a:prstGeom prst="bentConnector2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34" name=""/>
          <p:cNvCxnSpPr>
            <a:stCxn id="131" idx="3"/>
          </p:cNvCxnSpPr>
          <p:nvPr/>
        </p:nvCxnSpPr>
        <p:spPr>
          <a:xfrm flipV="1">
            <a:off x="3443040" y="4762080"/>
            <a:ext cx="354600" cy="892800"/>
          </a:xfrm>
          <a:prstGeom prst="bentConnector2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35" name=""/>
          <p:cNvCxnSpPr>
            <a:stCxn id="128" idx="3"/>
          </p:cNvCxnSpPr>
          <p:nvPr/>
        </p:nvCxnSpPr>
        <p:spPr>
          <a:xfrm flipV="1">
            <a:off x="3443040" y="4885560"/>
            <a:ext cx="354600" cy="2520"/>
          </a:xfrm>
          <a:prstGeom prst="bentConnector3">
            <a:avLst>
              <a:gd name="adj1" fmla="val 49695"/>
            </a:avLst>
          </a:prstGeom>
          <a:ln w="9360">
            <a:solidFill>
              <a:srgbClr val="0000cc"/>
            </a:solidFill>
            <a:miter/>
          </a:ln>
        </p:spPr>
      </p:cxnSp>
      <p:grpSp>
        <p:nvGrpSpPr>
          <p:cNvPr id="136" name=""/>
          <p:cNvGrpSpPr/>
          <p:nvPr/>
        </p:nvGrpSpPr>
        <p:grpSpPr>
          <a:xfrm>
            <a:off x="4019400" y="1919160"/>
            <a:ext cx="3988080" cy="3940200"/>
            <a:chOff x="4019400" y="1919160"/>
            <a:chExt cx="3988080" cy="3940200"/>
          </a:xfrm>
        </p:grpSpPr>
        <p:cxnSp>
          <p:nvCxnSpPr>
            <p:cNvPr id="137" name=""/>
            <p:cNvCxnSpPr>
              <a:stCxn id="138" idx="2"/>
              <a:endCxn id="139" idx="0"/>
            </p:cNvCxnSpPr>
            <p:nvPr/>
          </p:nvCxnSpPr>
          <p:spPr>
            <a:xfrm flipH="1" rot="16200000">
              <a:off x="5772240" y="2941200"/>
              <a:ext cx="434160" cy="1166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40" name=""/>
            <p:cNvGrpSpPr/>
            <p:nvPr/>
          </p:nvGrpSpPr>
          <p:grpSpPr>
            <a:xfrm>
              <a:off x="5075280" y="3216240"/>
              <a:ext cx="1942560" cy="1287000"/>
              <a:chOff x="5075280" y="3216240"/>
              <a:chExt cx="1942560" cy="1287000"/>
            </a:xfrm>
          </p:grpSpPr>
          <p:sp>
            <p:nvSpPr>
              <p:cNvPr id="141" name=""/>
              <p:cNvSpPr/>
              <p:nvPr/>
            </p:nvSpPr>
            <p:spPr>
              <a:xfrm>
                <a:off x="5076000" y="3586320"/>
                <a:ext cx="1941840" cy="5385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ddle-Ti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76000" y="4182480"/>
                <a:ext cx="1941840" cy="320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ource Spec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75280" y="3216240"/>
                <a:ext cx="1942200" cy="320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. Task Spec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019400" y="1919160"/>
              <a:ext cx="752760" cy="8636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43440" y="1919160"/>
              <a:ext cx="676440" cy="8636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92600" y="1919160"/>
              <a:ext cx="676440" cy="8636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42120" y="1919160"/>
              <a:ext cx="676080" cy="8636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ust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1280" y="1919160"/>
              <a:ext cx="676440" cy="8636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26120" y="4984920"/>
              <a:ext cx="584280" cy="8744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75560" y="4984920"/>
              <a:ext cx="582480" cy="8744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23200" y="4984920"/>
              <a:ext cx="584280" cy="8744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59080" y="4984920"/>
              <a:ext cx="584280" cy="8744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8520" y="4984920"/>
              <a:ext cx="582480" cy="8744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56160" y="4984920"/>
              <a:ext cx="584280" cy="8744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42" idx="2"/>
              <a:endCxn id="150" idx="0"/>
            </p:cNvCxnSpPr>
            <p:nvPr/>
          </p:nvCxnSpPr>
          <p:spPr>
            <a:xfrm rot="5400000">
              <a:off x="5007960" y="3946320"/>
              <a:ext cx="482040" cy="1596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2" idx="2"/>
              <a:endCxn id="151" idx="0"/>
            </p:cNvCxnSpPr>
            <p:nvPr/>
          </p:nvCxnSpPr>
          <p:spPr>
            <a:xfrm rot="5400000">
              <a:off x="5332320" y="4270680"/>
              <a:ext cx="482040" cy="947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2" idx="2"/>
              <a:endCxn id="152" idx="0"/>
            </p:cNvCxnSpPr>
            <p:nvPr/>
          </p:nvCxnSpPr>
          <p:spPr>
            <a:xfrm rot="5400000">
              <a:off x="5656320" y="4594680"/>
              <a:ext cx="482040" cy="299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2" idx="2"/>
              <a:endCxn id="147" idx="0"/>
            </p:cNvCxnSpPr>
            <p:nvPr/>
          </p:nvCxnSpPr>
          <p:spPr>
            <a:xfrm flipH="1" rot="16200000">
              <a:off x="5991840" y="4557960"/>
              <a:ext cx="482040" cy="372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2" idx="2"/>
              <a:endCxn id="148" idx="0"/>
            </p:cNvCxnSpPr>
            <p:nvPr/>
          </p:nvCxnSpPr>
          <p:spPr>
            <a:xfrm flipH="1" rot="16200000">
              <a:off x="6315480" y="4233600"/>
              <a:ext cx="482040" cy="1021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2" idx="2"/>
              <a:endCxn id="149" idx="0"/>
            </p:cNvCxnSpPr>
            <p:nvPr/>
          </p:nvCxnSpPr>
          <p:spPr>
            <a:xfrm flipH="1" rot="16200000">
              <a:off x="6640200" y="3909600"/>
              <a:ext cx="482040" cy="1668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43" idx="2"/>
              <a:endCxn id="139" idx="0"/>
            </p:cNvCxnSpPr>
            <p:nvPr/>
          </p:nvCxnSpPr>
          <p:spPr>
            <a:xfrm flipH="1" rot="16200000">
              <a:off x="5004720" y="2173680"/>
              <a:ext cx="434160" cy="165168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44" idx="2"/>
              <a:endCxn id="139" idx="0"/>
            </p:cNvCxnSpPr>
            <p:nvPr/>
          </p:nvCxnSpPr>
          <p:spPr>
            <a:xfrm flipH="1" rot="16200000">
              <a:off x="5397480" y="2567520"/>
              <a:ext cx="434160" cy="86436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38" idx="2"/>
              <a:endCxn id="139" idx="0"/>
            </p:cNvCxnSpPr>
            <p:nvPr/>
          </p:nvCxnSpPr>
          <p:spPr>
            <a:xfrm flipH="1" rot="16200000">
              <a:off x="5772240" y="2941200"/>
              <a:ext cx="434160" cy="1166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45" idx="2"/>
              <a:endCxn id="139" idx="0"/>
            </p:cNvCxnSpPr>
            <p:nvPr/>
          </p:nvCxnSpPr>
          <p:spPr>
            <a:xfrm rot="5400000">
              <a:off x="6145920" y="2682720"/>
              <a:ext cx="434160" cy="63396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46" idx="2"/>
              <a:endCxn id="139" idx="0"/>
            </p:cNvCxnSpPr>
            <p:nvPr/>
          </p:nvCxnSpPr>
          <p:spPr>
            <a:xfrm rot="5400000">
              <a:off x="6520680" y="2307960"/>
              <a:ext cx="434160" cy="138348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" name=""/>
            <p:cNvSpPr/>
            <p:nvPr/>
          </p:nvSpPr>
          <p:spPr>
            <a:xfrm>
              <a:off x="4613400" y="5257800"/>
              <a:ext cx="322884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c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727440" y="3389400"/>
            <a:ext cx="11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27440" y="3849840"/>
            <a:ext cx="11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27440" y="4287960"/>
            <a:ext cx="11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95560" y="2728800"/>
            <a:ext cx="2201760" cy="3222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s, IIOP/SEC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1560" y="1327320"/>
            <a:ext cx="2201760" cy="322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I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20680" y="934920"/>
            <a:ext cx="2202120" cy="3225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36520" y="554040"/>
            <a:ext cx="2202120" cy="322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CSA Al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7160" y="163440"/>
            <a:ext cx="2201760" cy="322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L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3"/>
            <a:endCxn id="145" idx="0"/>
          </p:cNvCxnSpPr>
          <p:nvPr/>
        </p:nvCxnSpPr>
        <p:spPr>
          <a:xfrm>
            <a:off x="3328560" y="325080"/>
            <a:ext cx="3351960" cy="1594440"/>
          </a:xfrm>
          <a:prstGeom prst="bentConnector2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1" idx="3"/>
            <a:endCxn id="138" idx="0"/>
          </p:cNvCxnSpPr>
          <p:nvPr/>
        </p:nvCxnSpPr>
        <p:spPr>
          <a:xfrm>
            <a:off x="3338280" y="716040"/>
            <a:ext cx="2592720" cy="1203840"/>
          </a:xfrm>
          <a:prstGeom prst="bentConnector2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0" idx="3"/>
            <a:endCxn id="144" idx="0"/>
          </p:cNvCxnSpPr>
          <p:nvPr/>
        </p:nvCxnSpPr>
        <p:spPr>
          <a:xfrm>
            <a:off x="3322440" y="1096920"/>
            <a:ext cx="1859400" cy="822960"/>
          </a:xfrm>
          <a:prstGeom prst="bentConnector2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9" idx="3"/>
            <a:endCxn id="143" idx="0"/>
          </p:cNvCxnSpPr>
          <p:nvPr/>
        </p:nvCxnSpPr>
        <p:spPr>
          <a:xfrm>
            <a:off x="3343320" y="1488600"/>
            <a:ext cx="1053360" cy="430920"/>
          </a:xfrm>
          <a:prstGeom prst="bentConnector2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733920" y="2882880"/>
            <a:ext cx="46008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Middle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905120" y="1523880"/>
            <a:ext cx="4952880" cy="4876920"/>
            <a:chOff x="1905120" y="1523880"/>
            <a:chExt cx="4952880" cy="4876920"/>
          </a:xfrm>
        </p:grpSpPr>
        <p:grpSp>
          <p:nvGrpSpPr>
            <p:cNvPr id="181" name=""/>
            <p:cNvGrpSpPr/>
            <p:nvPr/>
          </p:nvGrpSpPr>
          <p:grpSpPr>
            <a:xfrm>
              <a:off x="4953240" y="1523880"/>
              <a:ext cx="1904760" cy="1447920"/>
              <a:chOff x="4953240" y="1523880"/>
              <a:chExt cx="1904760" cy="1447920"/>
            </a:xfrm>
          </p:grpSpPr>
          <p:sp>
            <p:nvSpPr>
              <p:cNvPr id="182" name=""/>
              <p:cNvSpPr/>
              <p:nvPr/>
            </p:nvSpPr>
            <p:spPr>
              <a:xfrm>
                <a:off x="4953240" y="1523880"/>
                <a:ext cx="1904760" cy="14479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09760" y="1642320"/>
                <a:ext cx="811080" cy="94932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33880" y="1642320"/>
                <a:ext cx="811080" cy="94932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7560" y="1689840"/>
                <a:ext cx="735120" cy="1897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71680" y="1689840"/>
                <a:ext cx="735120" cy="1897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047560" y="1879920"/>
                <a:ext cx="753840" cy="379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047560" y="2283480"/>
                <a:ext cx="753840" cy="284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348600" y="1879920"/>
                <a:ext cx="358200" cy="688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52600" y="1879920"/>
                <a:ext cx="377280" cy="688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66280" y="1903680"/>
                <a:ext cx="716400" cy="946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066280" y="2307240"/>
                <a:ext cx="716400" cy="946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386760" y="1927080"/>
                <a:ext cx="301680" cy="946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71680" y="1927080"/>
                <a:ext cx="320400" cy="946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04080" y="206964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254920" y="214092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386680" y="244944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03440" y="225972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79040" y="2402280"/>
                <a:ext cx="7524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028200" y="240228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1" name=""/>
              <p:cNvCxnSpPr>
                <a:stCxn id="202" idx="2"/>
                <a:endCxn id="198" idx="0"/>
              </p:cNvCxnSpPr>
              <p:nvPr/>
            </p:nvCxnSpPr>
            <p:spPr>
              <a:xfrm>
                <a:off x="6140880" y="2212200"/>
                <a:ext cx="1080" cy="4824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cxnSp>
            <p:nvCxnSpPr>
              <p:cNvPr id="203" name=""/>
              <p:cNvCxnSpPr>
                <a:stCxn id="198" idx="1"/>
                <a:endCxn id="200" idx="0"/>
              </p:cNvCxnSpPr>
              <p:nvPr/>
            </p:nvCxnSpPr>
            <p:spPr>
              <a:xfrm flipV="1" rot="10800000">
                <a:off x="6065280" y="2295000"/>
                <a:ext cx="37800" cy="107280"/>
              </a:xfrm>
              <a:prstGeom prst="bentConnector2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cxnSp>
            <p:nvCxnSpPr>
              <p:cNvPr id="204" name=""/>
              <p:cNvCxnSpPr>
                <a:stCxn id="198" idx="3"/>
                <a:endCxn id="199" idx="0"/>
              </p:cNvCxnSpPr>
              <p:nvPr/>
            </p:nvCxnSpPr>
            <p:spPr>
              <a:xfrm>
                <a:off x="6178680" y="2295360"/>
                <a:ext cx="38520" cy="107280"/>
              </a:xfrm>
              <a:prstGeom prst="bentConnector2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sp>
            <p:nvSpPr>
              <p:cNvPr id="202" name=""/>
              <p:cNvSpPr/>
              <p:nvPr/>
            </p:nvSpPr>
            <p:spPr>
              <a:xfrm>
                <a:off x="6103440" y="214092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05120" y="2188440"/>
                <a:ext cx="263880" cy="2847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555960" y="228348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7" name=""/>
              <p:cNvCxnSpPr>
                <a:stCxn id="208" idx="2"/>
                <a:endCxn id="205" idx="0"/>
              </p:cNvCxnSpPr>
              <p:nvPr/>
            </p:nvCxnSpPr>
            <p:spPr>
              <a:xfrm>
                <a:off x="6537240" y="2140920"/>
                <a:ext cx="1080" cy="4824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sp>
            <p:nvSpPr>
              <p:cNvPr id="208" name=""/>
              <p:cNvSpPr/>
              <p:nvPr/>
            </p:nvSpPr>
            <p:spPr>
              <a:xfrm>
                <a:off x="6499800" y="206964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9" name=""/>
              <p:cNvCxnSpPr>
                <a:stCxn id="210" idx="3"/>
                <a:endCxn id="206" idx="0"/>
              </p:cNvCxnSpPr>
              <p:nvPr/>
            </p:nvCxnSpPr>
            <p:spPr>
              <a:xfrm>
                <a:off x="6499800" y="2247840"/>
                <a:ext cx="95040" cy="36000"/>
              </a:xfrm>
              <a:prstGeom prst="bentConnector2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cxnSp>
            <p:nvCxnSpPr>
              <p:cNvPr id="211" name=""/>
              <p:cNvCxnSpPr>
                <a:stCxn id="206" idx="2"/>
                <a:endCxn id="212" idx="3"/>
              </p:cNvCxnSpPr>
              <p:nvPr/>
            </p:nvCxnSpPr>
            <p:spPr>
              <a:xfrm rot="5400000">
                <a:off x="6528600" y="2324880"/>
                <a:ext cx="36360" cy="95040"/>
              </a:xfrm>
              <a:prstGeom prst="bentConnector2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sp>
            <p:nvSpPr>
              <p:cNvPr id="210" name=""/>
              <p:cNvSpPr/>
              <p:nvPr/>
            </p:nvSpPr>
            <p:spPr>
              <a:xfrm>
                <a:off x="6424560" y="221220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24560" y="235440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05760" y="204588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537520" y="216468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651280" y="202212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6" name=""/>
              <p:cNvCxnSpPr>
                <a:stCxn id="195" idx="3"/>
                <a:endCxn id="213" idx="1"/>
              </p:cNvCxnSpPr>
              <p:nvPr/>
            </p:nvCxnSpPr>
            <p:spPr>
              <a:xfrm flipV="1">
                <a:off x="5178960" y="2081160"/>
                <a:ext cx="227160" cy="244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7" name=""/>
              <p:cNvCxnSpPr>
                <a:stCxn id="195" idx="2"/>
                <a:endCxn id="196" idx="1"/>
              </p:cNvCxnSpPr>
              <p:nvPr/>
            </p:nvCxnSpPr>
            <p:spPr>
              <a:xfrm flipH="1" rot="16200000">
                <a:off x="5180400" y="2101680"/>
                <a:ext cx="36360" cy="113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8" name=""/>
              <p:cNvCxnSpPr>
                <a:stCxn id="196" idx="3"/>
                <a:endCxn id="214" idx="1"/>
              </p:cNvCxnSpPr>
              <p:nvPr/>
            </p:nvCxnSpPr>
            <p:spPr>
              <a:xfrm>
                <a:off x="5330160" y="2176560"/>
                <a:ext cx="208080" cy="24480"/>
              </a:xfrm>
              <a:prstGeom prst="bentConnector3">
                <a:avLst>
                  <a:gd name="adj1" fmla="val 49913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stCxn id="196" idx="3"/>
                <a:endCxn id="213" idx="2"/>
              </p:cNvCxnSpPr>
              <p:nvPr/>
            </p:nvCxnSpPr>
            <p:spPr>
              <a:xfrm flipV="1">
                <a:off x="5329800" y="2116800"/>
                <a:ext cx="114120" cy="59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0" name=""/>
              <p:cNvCxnSpPr>
                <a:stCxn id="214" idx="3"/>
                <a:endCxn id="215" idx="2"/>
              </p:cNvCxnSpPr>
              <p:nvPr/>
            </p:nvCxnSpPr>
            <p:spPr>
              <a:xfrm flipV="1">
                <a:off x="5613480" y="2093040"/>
                <a:ext cx="75600" cy="107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1" name=""/>
              <p:cNvCxnSpPr>
                <a:stCxn id="215" idx="1"/>
                <a:endCxn id="213" idx="3"/>
              </p:cNvCxnSpPr>
              <p:nvPr/>
            </p:nvCxnSpPr>
            <p:spPr>
              <a:xfrm flipV="1" rot="10800000">
                <a:off x="5480280" y="2056680"/>
                <a:ext cx="170640" cy="24120"/>
              </a:xfrm>
              <a:prstGeom prst="bentConnector3">
                <a:avLst>
                  <a:gd name="adj1" fmla="val 49894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22" name=""/>
              <p:cNvGrpSpPr/>
              <p:nvPr/>
            </p:nvGrpSpPr>
            <p:grpSpPr>
              <a:xfrm>
                <a:off x="5028120" y="2781720"/>
                <a:ext cx="1697400" cy="130320"/>
                <a:chOff x="5028120" y="2781720"/>
                <a:chExt cx="1697400" cy="13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028120" y="2781720"/>
                  <a:ext cx="16992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283000" y="2781720"/>
                  <a:ext cx="16920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537160" y="2781720"/>
                  <a:ext cx="16992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92400" y="2781720"/>
                  <a:ext cx="16956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046560" y="2781720"/>
                  <a:ext cx="16992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301440" y="2781720"/>
                  <a:ext cx="16956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555960" y="2781720"/>
                  <a:ext cx="16956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5126400" y="2663280"/>
                <a:ext cx="1529640" cy="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953240" y="3200400"/>
              <a:ext cx="1904760" cy="1447560"/>
              <a:chOff x="4953240" y="3200400"/>
              <a:chExt cx="1904760" cy="1447560"/>
            </a:xfrm>
          </p:grpSpPr>
          <p:sp>
            <p:nvSpPr>
              <p:cNvPr id="232" name=""/>
              <p:cNvSpPr/>
              <p:nvPr/>
            </p:nvSpPr>
            <p:spPr>
              <a:xfrm>
                <a:off x="4953240" y="3200400"/>
                <a:ext cx="1904760" cy="14475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09760" y="3318840"/>
                <a:ext cx="811080" cy="94932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933880" y="3318840"/>
                <a:ext cx="811080" cy="94932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47560" y="3366360"/>
                <a:ext cx="735120" cy="1897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71680" y="3366360"/>
                <a:ext cx="735120" cy="1897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47560" y="3556080"/>
                <a:ext cx="753840" cy="379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47560" y="3959640"/>
                <a:ext cx="753840" cy="284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48600" y="3556080"/>
                <a:ext cx="358200" cy="6879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52600" y="3556080"/>
                <a:ext cx="377280" cy="6879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66280" y="3579840"/>
                <a:ext cx="716400" cy="946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066280" y="3983400"/>
                <a:ext cx="716400" cy="946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86760" y="3603600"/>
                <a:ext cx="301680" cy="946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71680" y="3603600"/>
                <a:ext cx="320400" cy="946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04080" y="374616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254920" y="381744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386680" y="412596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103440" y="393588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79040" y="4078440"/>
                <a:ext cx="7524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407844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1" name=""/>
              <p:cNvCxnSpPr>
                <a:stCxn id="252" idx="2"/>
                <a:endCxn id="248" idx="0"/>
              </p:cNvCxnSpPr>
              <p:nvPr/>
            </p:nvCxnSpPr>
            <p:spPr>
              <a:xfrm>
                <a:off x="6140880" y="3888360"/>
                <a:ext cx="1080" cy="4824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cxnSp>
            <p:nvCxnSpPr>
              <p:cNvPr id="253" name=""/>
              <p:cNvCxnSpPr>
                <a:stCxn id="248" idx="1"/>
                <a:endCxn id="250" idx="0"/>
              </p:cNvCxnSpPr>
              <p:nvPr/>
            </p:nvCxnSpPr>
            <p:spPr>
              <a:xfrm flipV="1" rot="10800000">
                <a:off x="6065280" y="3971160"/>
                <a:ext cx="37800" cy="107280"/>
              </a:xfrm>
              <a:prstGeom prst="bentConnector2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cxnSp>
            <p:nvCxnSpPr>
              <p:cNvPr id="254" name=""/>
              <p:cNvCxnSpPr>
                <a:stCxn id="248" idx="3"/>
                <a:endCxn id="249" idx="0"/>
              </p:cNvCxnSpPr>
              <p:nvPr/>
            </p:nvCxnSpPr>
            <p:spPr>
              <a:xfrm>
                <a:off x="6178680" y="3971520"/>
                <a:ext cx="38520" cy="107280"/>
              </a:xfrm>
              <a:prstGeom prst="bentConnector2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sp>
            <p:nvSpPr>
              <p:cNvPr id="252" name=""/>
              <p:cNvSpPr/>
              <p:nvPr/>
            </p:nvSpPr>
            <p:spPr>
              <a:xfrm>
                <a:off x="6103440" y="381744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05120" y="3864960"/>
                <a:ext cx="263880" cy="2847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55960" y="395964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7" name=""/>
              <p:cNvCxnSpPr>
                <a:stCxn id="258" idx="2"/>
                <a:endCxn id="255" idx="0"/>
              </p:cNvCxnSpPr>
              <p:nvPr/>
            </p:nvCxnSpPr>
            <p:spPr>
              <a:xfrm>
                <a:off x="6537240" y="3817440"/>
                <a:ext cx="1080" cy="4824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sp>
            <p:nvSpPr>
              <p:cNvPr id="258" name=""/>
              <p:cNvSpPr/>
              <p:nvPr/>
            </p:nvSpPr>
            <p:spPr>
              <a:xfrm>
                <a:off x="6499800" y="374616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9" name=""/>
              <p:cNvCxnSpPr>
                <a:stCxn id="260" idx="3"/>
                <a:endCxn id="256" idx="0"/>
              </p:cNvCxnSpPr>
              <p:nvPr/>
            </p:nvCxnSpPr>
            <p:spPr>
              <a:xfrm>
                <a:off x="6499800" y="3924000"/>
                <a:ext cx="95040" cy="36000"/>
              </a:xfrm>
              <a:prstGeom prst="bentConnector2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cxnSp>
            <p:nvCxnSpPr>
              <p:cNvPr id="261" name=""/>
              <p:cNvCxnSpPr>
                <a:stCxn id="256" idx="2"/>
                <a:endCxn id="262" idx="3"/>
              </p:cNvCxnSpPr>
              <p:nvPr/>
            </p:nvCxnSpPr>
            <p:spPr>
              <a:xfrm rot="5400000">
                <a:off x="6528600" y="4001400"/>
                <a:ext cx="36360" cy="95040"/>
              </a:xfrm>
              <a:prstGeom prst="bentConnector2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424560" y="388836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24560" y="403092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05760" y="372240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37520" y="384120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651280" y="369864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6" name=""/>
              <p:cNvCxnSpPr>
                <a:stCxn id="245" idx="3"/>
                <a:endCxn id="263" idx="1"/>
              </p:cNvCxnSpPr>
              <p:nvPr/>
            </p:nvCxnSpPr>
            <p:spPr>
              <a:xfrm flipV="1">
                <a:off x="5178960" y="3757680"/>
                <a:ext cx="227160" cy="244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>
                <a:stCxn id="245" idx="2"/>
                <a:endCxn id="246" idx="1"/>
              </p:cNvCxnSpPr>
              <p:nvPr/>
            </p:nvCxnSpPr>
            <p:spPr>
              <a:xfrm flipH="1" rot="16200000">
                <a:off x="5180400" y="3778200"/>
                <a:ext cx="36360" cy="113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8" name=""/>
              <p:cNvCxnSpPr>
                <a:stCxn id="246" idx="3"/>
                <a:endCxn id="264" idx="1"/>
              </p:cNvCxnSpPr>
              <p:nvPr/>
            </p:nvCxnSpPr>
            <p:spPr>
              <a:xfrm>
                <a:off x="5330160" y="3853080"/>
                <a:ext cx="208080" cy="24480"/>
              </a:xfrm>
              <a:prstGeom prst="bentConnector3">
                <a:avLst>
                  <a:gd name="adj1" fmla="val 49913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>
                <a:stCxn id="246" idx="3"/>
                <a:endCxn id="263" idx="2"/>
              </p:cNvCxnSpPr>
              <p:nvPr/>
            </p:nvCxnSpPr>
            <p:spPr>
              <a:xfrm flipV="1">
                <a:off x="5329800" y="3793320"/>
                <a:ext cx="114120" cy="59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70" name=""/>
              <p:cNvCxnSpPr>
                <a:stCxn id="264" idx="3"/>
                <a:endCxn id="265" idx="2"/>
              </p:cNvCxnSpPr>
              <p:nvPr/>
            </p:nvCxnSpPr>
            <p:spPr>
              <a:xfrm flipV="1">
                <a:off x="5613480" y="3769560"/>
                <a:ext cx="75600" cy="107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71" name=""/>
              <p:cNvCxnSpPr>
                <a:stCxn id="265" idx="1"/>
                <a:endCxn id="263" idx="3"/>
              </p:cNvCxnSpPr>
              <p:nvPr/>
            </p:nvCxnSpPr>
            <p:spPr>
              <a:xfrm flipV="1" rot="10800000">
                <a:off x="5480280" y="3733200"/>
                <a:ext cx="170640" cy="24120"/>
              </a:xfrm>
              <a:prstGeom prst="bentConnector3">
                <a:avLst>
                  <a:gd name="adj1" fmla="val 49894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72" name=""/>
              <p:cNvGrpSpPr/>
              <p:nvPr/>
            </p:nvGrpSpPr>
            <p:grpSpPr>
              <a:xfrm>
                <a:off x="5028120" y="4458240"/>
                <a:ext cx="1697400" cy="130320"/>
                <a:chOff x="5028120" y="4458240"/>
                <a:chExt cx="1697400" cy="1303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028120" y="4458240"/>
                  <a:ext cx="16992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283000" y="4458240"/>
                  <a:ext cx="16920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537160" y="4458240"/>
                  <a:ext cx="16992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92400" y="4458240"/>
                  <a:ext cx="16956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046560" y="4458240"/>
                  <a:ext cx="16992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301440" y="4458240"/>
                  <a:ext cx="16956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555960" y="4458240"/>
                  <a:ext cx="16956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5126400" y="4339440"/>
                <a:ext cx="1529640" cy="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953240" y="4952880"/>
              <a:ext cx="1904760" cy="1447920"/>
              <a:chOff x="4953240" y="4952880"/>
              <a:chExt cx="1904760" cy="1447920"/>
            </a:xfrm>
          </p:grpSpPr>
          <p:sp>
            <p:nvSpPr>
              <p:cNvPr id="282" name=""/>
              <p:cNvSpPr/>
              <p:nvPr/>
            </p:nvSpPr>
            <p:spPr>
              <a:xfrm>
                <a:off x="4953240" y="4952880"/>
                <a:ext cx="1904760" cy="14479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09760" y="5071320"/>
                <a:ext cx="811080" cy="94932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33880" y="5071320"/>
                <a:ext cx="811080" cy="94932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47560" y="5118840"/>
                <a:ext cx="735120" cy="1897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71680" y="5118840"/>
                <a:ext cx="735120" cy="1897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47560" y="5308920"/>
                <a:ext cx="753840" cy="379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47560" y="5712480"/>
                <a:ext cx="753840" cy="284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48600" y="5308920"/>
                <a:ext cx="358200" cy="688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52600" y="5308920"/>
                <a:ext cx="377280" cy="688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066280" y="5332680"/>
                <a:ext cx="716400" cy="946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066280" y="5736240"/>
                <a:ext cx="716400" cy="946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86760" y="5356080"/>
                <a:ext cx="301680" cy="946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71680" y="5356080"/>
                <a:ext cx="320400" cy="946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104080" y="549864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54920" y="556992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386680" y="587844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103440" y="568872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179040" y="5831280"/>
                <a:ext cx="7524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028200" y="583128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302" idx="2"/>
                <a:endCxn id="298" idx="0"/>
              </p:cNvCxnSpPr>
              <p:nvPr/>
            </p:nvCxnSpPr>
            <p:spPr>
              <a:xfrm>
                <a:off x="6140880" y="5641200"/>
                <a:ext cx="1080" cy="4824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cxnSp>
            <p:nvCxnSpPr>
              <p:cNvPr id="303" name=""/>
              <p:cNvCxnSpPr>
                <a:stCxn id="298" idx="1"/>
                <a:endCxn id="300" idx="0"/>
              </p:cNvCxnSpPr>
              <p:nvPr/>
            </p:nvCxnSpPr>
            <p:spPr>
              <a:xfrm flipV="1" rot="10800000">
                <a:off x="6065280" y="5724000"/>
                <a:ext cx="37800" cy="107280"/>
              </a:xfrm>
              <a:prstGeom prst="bentConnector2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cxnSp>
            <p:nvCxnSpPr>
              <p:cNvPr id="304" name=""/>
              <p:cNvCxnSpPr>
                <a:stCxn id="298" idx="3"/>
                <a:endCxn id="299" idx="0"/>
              </p:cNvCxnSpPr>
              <p:nvPr/>
            </p:nvCxnSpPr>
            <p:spPr>
              <a:xfrm>
                <a:off x="6178680" y="5724360"/>
                <a:ext cx="38520" cy="107280"/>
              </a:xfrm>
              <a:prstGeom prst="bentConnector2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sp>
            <p:nvSpPr>
              <p:cNvPr id="302" name=""/>
              <p:cNvSpPr/>
              <p:nvPr/>
            </p:nvSpPr>
            <p:spPr>
              <a:xfrm>
                <a:off x="6103440" y="556992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405120" y="5617440"/>
                <a:ext cx="263880" cy="2847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55960" y="571248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7" name=""/>
              <p:cNvCxnSpPr>
                <a:stCxn id="308" idx="2"/>
                <a:endCxn id="305" idx="0"/>
              </p:cNvCxnSpPr>
              <p:nvPr/>
            </p:nvCxnSpPr>
            <p:spPr>
              <a:xfrm>
                <a:off x="6537240" y="5569920"/>
                <a:ext cx="1080" cy="4824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6499800" y="549864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9" name=""/>
              <p:cNvCxnSpPr>
                <a:stCxn id="310" idx="3"/>
                <a:endCxn id="306" idx="0"/>
              </p:cNvCxnSpPr>
              <p:nvPr/>
            </p:nvCxnSpPr>
            <p:spPr>
              <a:xfrm>
                <a:off x="6499800" y="5676840"/>
                <a:ext cx="95040" cy="36000"/>
              </a:xfrm>
              <a:prstGeom prst="bentConnector2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cxnSp>
            <p:nvCxnSpPr>
              <p:cNvPr id="311" name=""/>
              <p:cNvCxnSpPr>
                <a:stCxn id="306" idx="2"/>
                <a:endCxn id="312" idx="3"/>
              </p:cNvCxnSpPr>
              <p:nvPr/>
            </p:nvCxnSpPr>
            <p:spPr>
              <a:xfrm rot="5400000">
                <a:off x="6528600" y="5753880"/>
                <a:ext cx="36360" cy="95040"/>
              </a:xfrm>
              <a:prstGeom prst="bentConnector2">
                <a:avLst/>
              </a:prstGeom>
              <a:ln w="28440">
                <a:solidFill>
                  <a:srgbClr val="ffff00"/>
                </a:solidFill>
                <a:miter/>
              </a:ln>
            </p:spPr>
          </p:cxnSp>
          <p:sp>
            <p:nvSpPr>
              <p:cNvPr id="310" name=""/>
              <p:cNvSpPr/>
              <p:nvPr/>
            </p:nvSpPr>
            <p:spPr>
              <a:xfrm>
                <a:off x="6424560" y="564120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24560" y="578340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05760" y="547488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37520" y="5593680"/>
                <a:ext cx="7560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51280" y="5451120"/>
                <a:ext cx="74880" cy="70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6" name=""/>
              <p:cNvCxnSpPr>
                <a:stCxn id="295" idx="3"/>
                <a:endCxn id="313" idx="1"/>
              </p:cNvCxnSpPr>
              <p:nvPr/>
            </p:nvCxnSpPr>
            <p:spPr>
              <a:xfrm flipV="1">
                <a:off x="5178960" y="5510160"/>
                <a:ext cx="227160" cy="244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7" name=""/>
              <p:cNvCxnSpPr>
                <a:stCxn id="295" idx="2"/>
                <a:endCxn id="296" idx="1"/>
              </p:cNvCxnSpPr>
              <p:nvPr/>
            </p:nvCxnSpPr>
            <p:spPr>
              <a:xfrm flipH="1" rot="16200000">
                <a:off x="5180400" y="5530680"/>
                <a:ext cx="36360" cy="113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8" name=""/>
              <p:cNvCxnSpPr>
                <a:stCxn id="296" idx="3"/>
                <a:endCxn id="314" idx="1"/>
              </p:cNvCxnSpPr>
              <p:nvPr/>
            </p:nvCxnSpPr>
            <p:spPr>
              <a:xfrm>
                <a:off x="5330160" y="5605560"/>
                <a:ext cx="208080" cy="24480"/>
              </a:xfrm>
              <a:prstGeom prst="bentConnector3">
                <a:avLst>
                  <a:gd name="adj1" fmla="val 49913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9" name=""/>
              <p:cNvCxnSpPr>
                <a:stCxn id="296" idx="3"/>
                <a:endCxn id="313" idx="2"/>
              </p:cNvCxnSpPr>
              <p:nvPr/>
            </p:nvCxnSpPr>
            <p:spPr>
              <a:xfrm flipV="1">
                <a:off x="5329800" y="5545800"/>
                <a:ext cx="114120" cy="59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20" name=""/>
              <p:cNvCxnSpPr>
                <a:stCxn id="314" idx="3"/>
                <a:endCxn id="315" idx="2"/>
              </p:cNvCxnSpPr>
              <p:nvPr/>
            </p:nvCxnSpPr>
            <p:spPr>
              <a:xfrm flipV="1">
                <a:off x="5613480" y="5522040"/>
                <a:ext cx="75600" cy="107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21" name=""/>
              <p:cNvCxnSpPr>
                <a:stCxn id="315" idx="1"/>
                <a:endCxn id="313" idx="3"/>
              </p:cNvCxnSpPr>
              <p:nvPr/>
            </p:nvCxnSpPr>
            <p:spPr>
              <a:xfrm flipV="1" rot="10800000">
                <a:off x="5480280" y="5485680"/>
                <a:ext cx="170640" cy="24120"/>
              </a:xfrm>
              <a:prstGeom prst="bentConnector3">
                <a:avLst>
                  <a:gd name="adj1" fmla="val 49894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322" name=""/>
              <p:cNvGrpSpPr/>
              <p:nvPr/>
            </p:nvGrpSpPr>
            <p:grpSpPr>
              <a:xfrm>
                <a:off x="5028120" y="6210720"/>
                <a:ext cx="1697400" cy="130320"/>
                <a:chOff x="5028120" y="6210720"/>
                <a:chExt cx="1697400" cy="1303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028120" y="6210720"/>
                  <a:ext cx="16992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283000" y="6210720"/>
                  <a:ext cx="16920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537160" y="6210720"/>
                  <a:ext cx="16992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792400" y="6210720"/>
                  <a:ext cx="16956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046560" y="6210720"/>
                  <a:ext cx="16992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301440" y="6210720"/>
                  <a:ext cx="16956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555960" y="6210720"/>
                  <a:ext cx="169560" cy="130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5126400" y="6092280"/>
                <a:ext cx="1529640" cy="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257800" y="2209680"/>
              <a:ext cx="228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181840" y="3885840"/>
              <a:ext cx="75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6240" y="411480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05120" y="2666880"/>
              <a:ext cx="1828800" cy="2057400"/>
              <a:chOff x="1905120" y="2666880"/>
              <a:chExt cx="1828800" cy="2057400"/>
            </a:xfrm>
          </p:grpSpPr>
          <p:sp>
            <p:nvSpPr>
              <p:cNvPr id="335" name=""/>
              <p:cNvSpPr/>
              <p:nvPr/>
            </p:nvSpPr>
            <p:spPr>
              <a:xfrm>
                <a:off x="1905120" y="2666880"/>
                <a:ext cx="1828800" cy="1295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aster    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ebFlow    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rver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353040" y="3581280"/>
                <a:ext cx="2286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353040" y="3200400"/>
                <a:ext cx="2286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353040" y="2819160"/>
                <a:ext cx="2286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05120" y="3962160"/>
                <a:ext cx="1828800" cy="762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b 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flipV="1">
              <a:off x="3581640" y="2133000"/>
              <a:ext cx="144756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640" y="3352680"/>
              <a:ext cx="144756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81640" y="3733560"/>
              <a:ext cx="1447560" cy="175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533520" y="3505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4419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6204800">
            <a:off x="-951120" y="36158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6825960" y="322992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Back-End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0" y="2133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3886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0" y="56386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7240" y="411480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1640" y="16765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FlowCon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053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28320" y="2932920"/>
            <a:ext cx="1815840" cy="398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ask Descri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4874040" y="3501360"/>
            <a:ext cx="563724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rid Interface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JBDC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Information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5715000"/>
            <a:ext cx="170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ave”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Flow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6019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Flow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sc98fig1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102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7696080" y="457200"/>
            <a:ext cx="990720" cy="7621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19920" y="457200"/>
            <a:ext cx="990360" cy="7621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62520" y="457200"/>
            <a:ext cx="990360" cy="7621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67480" y="1905120"/>
            <a:ext cx="1295640" cy="36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Portal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67480" y="4800600"/>
            <a:ext cx="1067040" cy="36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Grid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457200"/>
            <a:ext cx="990720" cy="7621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1752480"/>
            <a:ext cx="54100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57400" y="4495680"/>
            <a:ext cx="54100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2590920"/>
            <a:ext cx="5410080" cy="1828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5791320"/>
            <a:ext cx="1067040" cy="761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14600" y="5791320"/>
            <a:ext cx="762120" cy="761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91520" y="5791320"/>
            <a:ext cx="914400" cy="761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5791320"/>
            <a:ext cx="761760" cy="761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362320" y="609480"/>
            <a:ext cx="5331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ayered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191120" y="609480"/>
            <a:ext cx="533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WebFl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Object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Orient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72200" y="609480"/>
            <a:ext cx="609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WebFlow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ata Flow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924680" y="609480"/>
            <a:ext cx="609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ust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GU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1905120"/>
            <a:ext cx="1523880" cy="304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52880" y="2209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Abstract Task 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09880" y="2666880"/>
            <a:ext cx="1447920" cy="685800"/>
          </a:xfrm>
          <a:prstGeom prst="rect">
            <a:avLst/>
          </a:prstGeom>
          <a:solidFill>
            <a:srgbClr val="ff66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19920" y="2666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User 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38098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33"/>
                </a:solidFill>
                <a:latin typeface="Times New Roman"/>
              </a:rPr>
              <a:t>Pro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91320" y="2895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86400" y="609588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AUSSIAN, GAMESS, MDS, GRAM G,A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191120" y="6019920"/>
            <a:ext cx="380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96080" y="6095880"/>
            <a:ext cx="428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PSS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666880" y="5943600"/>
            <a:ext cx="443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BMS</a:t>
            </a:r>
            <a:endParaRPr b="0" lang="en-US" sz="1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715000" y="586728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PCC</a:t>
            </a:r>
            <a:endParaRPr b="0" lang="en-US" sz="1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9" name=""/>
          <p:cNvSpPr/>
          <p:nvPr/>
        </p:nvSpPr>
        <p:spPr>
          <a:xfrm>
            <a:off x="5181480" y="2514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81480" y="4419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2193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66720" y="12952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876920" y="11430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181480" y="990720"/>
            <a:ext cx="2819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00400" y="3733920"/>
            <a:ext cx="9907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48320" y="3733920"/>
            <a:ext cx="99036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48520" y="3733920"/>
            <a:ext cx="99036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3200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77120" y="34290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04812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86600" y="327672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77120" y="3048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33"/>
                </a:solidFill>
                <a:latin typeface="Times New Roman"/>
              </a:rPr>
              <a:t>Pro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32004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33"/>
                </a:solidFill>
                <a:latin typeface="Times New Roman"/>
              </a:rPr>
              <a:t>Pro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4480" y="33526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33"/>
                </a:solidFill>
                <a:latin typeface="Times New Roman"/>
              </a:rPr>
              <a:t>Pro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34320" y="3276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33"/>
                </a:solidFill>
                <a:latin typeface="Times New Roman"/>
              </a:rPr>
              <a:t>Pro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28954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33"/>
                </a:solidFill>
                <a:latin typeface="Times New Roman"/>
              </a:rPr>
              <a:t>Pro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191120" y="22096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4800600"/>
            <a:ext cx="990720" cy="380880"/>
          </a:xfrm>
          <a:prstGeom prst="rect">
            <a:avLst/>
          </a:prstGeom>
          <a:solidFill>
            <a:srgbClr val="ff9999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91120" y="4800600"/>
            <a:ext cx="1143000" cy="380880"/>
          </a:xfrm>
          <a:prstGeom prst="rect">
            <a:avLst/>
          </a:prstGeom>
          <a:solidFill>
            <a:srgbClr val="ff9999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id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3600" y="3124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2485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0" y="3200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57800" y="28954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504960" y="42670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266720" y="42670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571640" y="419112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3885840" y="327672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486040" y="34290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857640" y="3505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581280" y="3352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895480" y="5181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343400" y="5181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52880" y="51814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57800" y="5181480"/>
            <a:ext cx="25146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685800"/>
            <a:ext cx="990360" cy="30492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3124080"/>
            <a:ext cx="1066680" cy="30492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5943600"/>
            <a:ext cx="990360" cy="30492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6095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524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838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53840" y="4495680"/>
            <a:ext cx="21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Resource 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5486400"/>
            <a:ext cx="77724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85800" y="304920"/>
            <a:ext cx="8458200" cy="6324480"/>
          </a:xfrm>
          <a:prstGeom prst="rect">
            <a:avLst/>
          </a:prstGeom>
          <a:solidFill>
            <a:srgbClr val="fbfa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304920"/>
            <a:ext cx="83818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SE Layered User View (AT Team Depend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3280" y="5651640"/>
            <a:ext cx="1676520" cy="760320"/>
          </a:xfrm>
          <a:prstGeom prst="flowChartMulti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sult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cri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5560" y="1871640"/>
            <a:ext cx="1524240" cy="903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560" y="3938760"/>
            <a:ext cx="1524240" cy="610920"/>
          </a:xfrm>
          <a:prstGeom prst="flowChartDocumen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sk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cri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560" y="2922480"/>
            <a:ext cx="1524240" cy="723960"/>
          </a:xfrm>
          <a:prstGeom prst="flowChartDocumen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bstract Task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cri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5560" y="4713120"/>
            <a:ext cx="1524240" cy="755640"/>
          </a:xfrm>
          <a:prstGeom prst="flowChartDocumen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ob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cri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5560" y="838080"/>
            <a:ext cx="1524240" cy="611280"/>
          </a:xfrm>
          <a:prstGeom prst="flowChartDocumen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/Grou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179800" y="1861920"/>
            <a:ext cx="1692000" cy="423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ccm-kenf" descr=""/>
          <p:cNvPicPr/>
          <p:nvPr/>
        </p:nvPicPr>
        <p:blipFill>
          <a:blip r:embed="rId1"/>
          <a:stretch/>
        </p:blipFill>
        <p:spPr>
          <a:xfrm>
            <a:off x="3943440" y="673200"/>
            <a:ext cx="5094360" cy="56512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 flipV="1">
            <a:off x="2228760" y="1099800"/>
            <a:ext cx="1614600" cy="12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36880" y="2116080"/>
            <a:ext cx="6480" cy="28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03640" y="6012000"/>
            <a:ext cx="14094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91120" y="6172200"/>
            <a:ext cx="3504960" cy="42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ent Side User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2298240" y="3494160"/>
            <a:ext cx="1552680" cy="1582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228760" y="2327400"/>
            <a:ext cx="1149120" cy="594720"/>
            <a:chOff x="2228760" y="2327400"/>
            <a:chExt cx="1149120" cy="594720"/>
          </a:xfrm>
        </p:grpSpPr>
        <p:sp>
          <p:nvSpPr>
            <p:cNvPr id="450" name=""/>
            <p:cNvSpPr/>
            <p:nvPr/>
          </p:nvSpPr>
          <p:spPr>
            <a:xfrm>
              <a:off x="2291400" y="2327400"/>
              <a:ext cx="1086480" cy="594720"/>
            </a:xfrm>
            <a:prstGeom prst="flowChartMulti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28760" y="2344320"/>
              <a:ext cx="86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bDe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536200" y="3025800"/>
            <a:ext cx="892800" cy="489240"/>
            <a:chOff x="2536200" y="3025800"/>
            <a:chExt cx="892800" cy="489240"/>
          </a:xfrm>
        </p:grpSpPr>
        <p:sp>
          <p:nvSpPr>
            <p:cNvPr id="453" name=""/>
            <p:cNvSpPr/>
            <p:nvPr/>
          </p:nvSpPr>
          <p:spPr>
            <a:xfrm>
              <a:off x="2604960" y="3025800"/>
              <a:ext cx="824040" cy="452520"/>
            </a:xfrm>
            <a:prstGeom prst="flowChartMulti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36200" y="3056040"/>
              <a:ext cx="861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de 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 flipH="1">
            <a:off x="3144960" y="2679840"/>
            <a:ext cx="72864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143160" y="3462480"/>
            <a:ext cx="72864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120" y="2774880"/>
            <a:ext cx="4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66760" y="4191120"/>
            <a:ext cx="1440" cy="2473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6760" y="838080"/>
            <a:ext cx="1440" cy="184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 Tier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95280" y="1828800"/>
            <a:ext cx="7239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5562720"/>
            <a:ext cx="7239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95280" y="2514600"/>
            <a:ext cx="7239240" cy="2666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88560" y="251460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09680" y="419112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77120" y="3733920"/>
            <a:ext cx="914400" cy="838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327672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3581280"/>
            <a:ext cx="91440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327672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67280" y="3429000"/>
            <a:ext cx="914400" cy="8380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ru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91320" y="3962520"/>
            <a:ext cx="914400" cy="838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473200" y="1262160"/>
            <a:ext cx="4421160" cy="5105160"/>
          </a:xfrm>
          <a:custGeom>
            <a:avLst/>
            <a:gdLst>
              <a:gd name="textAreaLeft" fmla="*/ 215640 w 4421160"/>
              <a:gd name="textAreaRight" fmla="*/ 4205520 w 4421160"/>
              <a:gd name="textAreaTop" fmla="*/ 215640 h 5105160"/>
              <a:gd name="textAreaBottom" fmla="*/ 4889520 h 5105160"/>
            </a:gdLst>
            <a:ahLst/>
            <a:rect l="textAreaLeft" t="textAreaTop" r="textAreaRight" b="textAreaBottom"/>
            <a:pathLst>
              <a:path w="21600" h="24941">
                <a:moveTo>
                  <a:pt x="3600" y="0"/>
                </a:moveTo>
                <a:arcTo wR="3600" hR="3600" stAng="16200000" swAng="-5400000"/>
                <a:lnTo>
                  <a:pt x="0" y="21341"/>
                </a:lnTo>
                <a:arcTo wR="3600" hR="3600" stAng="10800000" swAng="-5400000"/>
                <a:lnTo>
                  <a:pt x="18000" y="249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894360" y="2104920"/>
            <a:ext cx="1080720" cy="3500280"/>
            <a:chOff x="6894360" y="2104920"/>
            <a:chExt cx="1080720" cy="3500280"/>
          </a:xfrm>
        </p:grpSpPr>
        <p:sp>
          <p:nvSpPr>
            <p:cNvPr id="474" name=""/>
            <p:cNvSpPr/>
            <p:nvPr/>
          </p:nvSpPr>
          <p:spPr>
            <a:xfrm rot="5400000">
              <a:off x="7208280" y="1790640"/>
              <a:ext cx="452520" cy="1080720"/>
            </a:xfrm>
            <a:prstGeom prst="triangle">
              <a:avLst>
                <a:gd name="adj" fmla="val 48801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5400000">
              <a:off x="7208640" y="2552760"/>
              <a:ext cx="452160" cy="1080720"/>
            </a:xfrm>
            <a:prstGeom prst="triangle">
              <a:avLst>
                <a:gd name="adj" fmla="val 48801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5400000">
              <a:off x="7208280" y="3314520"/>
              <a:ext cx="452520" cy="1080720"/>
            </a:xfrm>
            <a:prstGeom prst="triangle">
              <a:avLst>
                <a:gd name="adj" fmla="val 48801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5400000">
              <a:off x="7208280" y="4076640"/>
              <a:ext cx="452520" cy="1080720"/>
            </a:xfrm>
            <a:prstGeom prst="triangle">
              <a:avLst>
                <a:gd name="adj" fmla="val 48801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5400000">
              <a:off x="7208640" y="4838760"/>
              <a:ext cx="452160" cy="1080720"/>
            </a:xfrm>
            <a:prstGeom prst="triangle">
              <a:avLst>
                <a:gd name="adj" fmla="val 48801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392120" y="2103120"/>
            <a:ext cx="1080720" cy="3500280"/>
            <a:chOff x="1392120" y="2103120"/>
            <a:chExt cx="1080720" cy="3500280"/>
          </a:xfrm>
        </p:grpSpPr>
        <p:sp>
          <p:nvSpPr>
            <p:cNvPr id="480" name=""/>
            <p:cNvSpPr/>
            <p:nvPr/>
          </p:nvSpPr>
          <p:spPr>
            <a:xfrm rot="16200000">
              <a:off x="1706040" y="4836600"/>
              <a:ext cx="452520" cy="1080720"/>
            </a:xfrm>
            <a:prstGeom prst="triangle">
              <a:avLst>
                <a:gd name="adj" fmla="val 48801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6200000">
              <a:off x="1706400" y="4074840"/>
              <a:ext cx="452160" cy="1080720"/>
            </a:xfrm>
            <a:prstGeom prst="triangle">
              <a:avLst>
                <a:gd name="adj" fmla="val 48801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6200000">
              <a:off x="1706040" y="3312720"/>
              <a:ext cx="452520" cy="1080720"/>
            </a:xfrm>
            <a:prstGeom prst="triangle">
              <a:avLst>
                <a:gd name="adj" fmla="val 48801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6200000">
              <a:off x="1706040" y="2550600"/>
              <a:ext cx="452520" cy="1080720"/>
            </a:xfrm>
            <a:prstGeom prst="triangle">
              <a:avLst>
                <a:gd name="adj" fmla="val 48801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6200000">
              <a:off x="1706400" y="1788840"/>
              <a:ext cx="452160" cy="1080720"/>
            </a:xfrm>
            <a:prstGeom prst="triangle">
              <a:avLst>
                <a:gd name="adj" fmla="val 48801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4805280" y="5227560"/>
            <a:ext cx="387360" cy="38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04040" y="4689360"/>
            <a:ext cx="387000" cy="38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845480" y="2254320"/>
            <a:ext cx="23184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797280" y="2935440"/>
            <a:ext cx="387360" cy="380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845480" y="2938320"/>
            <a:ext cx="23184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845480" y="3703680"/>
            <a:ext cx="23184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845480" y="4537080"/>
            <a:ext cx="23184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845480" y="5299200"/>
            <a:ext cx="23184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00360" y="2104920"/>
            <a:ext cx="387360" cy="38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00360" y="2867040"/>
            <a:ext cx="387360" cy="380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00360" y="3632040"/>
            <a:ext cx="387360" cy="38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00360" y="4465800"/>
            <a:ext cx="387360" cy="380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0360" y="5227560"/>
            <a:ext cx="387360" cy="38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84640" y="4772160"/>
            <a:ext cx="387360" cy="380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97280" y="3855960"/>
            <a:ext cx="387360" cy="38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9760" y="3244680"/>
            <a:ext cx="388800" cy="38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49760" y="2254320"/>
            <a:ext cx="388800" cy="380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04040" y="3016080"/>
            <a:ext cx="387000" cy="38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43160" y="2209680"/>
            <a:ext cx="23328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43160" y="2971800"/>
            <a:ext cx="23328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43160" y="3733920"/>
            <a:ext cx="23328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43160" y="4495680"/>
            <a:ext cx="23328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43160" y="5299200"/>
            <a:ext cx="23328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78400" y="2104920"/>
            <a:ext cx="389160" cy="38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78400" y="2867040"/>
            <a:ext cx="389160" cy="380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78400" y="3632040"/>
            <a:ext cx="389160" cy="38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78400" y="4465800"/>
            <a:ext cx="389160" cy="380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78400" y="5227560"/>
            <a:ext cx="389160" cy="38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667560" y="2328840"/>
            <a:ext cx="107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6667560" y="3090960"/>
            <a:ext cx="107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667560" y="3852720"/>
            <a:ext cx="107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6667560" y="4614840"/>
            <a:ext cx="107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667560" y="5376960"/>
            <a:ext cx="107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623960" y="2328840"/>
            <a:ext cx="107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623960" y="3090960"/>
            <a:ext cx="107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623960" y="3852720"/>
            <a:ext cx="107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623960" y="4614840"/>
            <a:ext cx="107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623960" y="5376960"/>
            <a:ext cx="107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3087360" y="2328480"/>
            <a:ext cx="3190680" cy="68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087360" y="2482920"/>
            <a:ext cx="1562040" cy="60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038560" y="2328840"/>
            <a:ext cx="12398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087360" y="3166920"/>
            <a:ext cx="709560" cy="60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087360" y="4084560"/>
            <a:ext cx="709560" cy="60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087360" y="4084560"/>
            <a:ext cx="709560" cy="12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106880" y="3090600"/>
            <a:ext cx="542880" cy="30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038200" y="3244680"/>
            <a:ext cx="465480" cy="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184640" y="4012920"/>
            <a:ext cx="77760" cy="82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533840" y="5034240"/>
            <a:ext cx="30924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5192640" y="5452920"/>
            <a:ext cx="1085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038200" y="4995720"/>
            <a:ext cx="465480" cy="30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5812920" y="3243240"/>
            <a:ext cx="543240" cy="52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891040" y="4691160"/>
            <a:ext cx="38736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7880" y="922320"/>
            <a:ext cx="181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s 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697840" y="1312920"/>
            <a:ext cx="39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dle Tier Custom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09000" y="914400"/>
            <a:ext cx="190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erver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erging Object Web Multi-Server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5:10:01Z</dcterms:created>
  <dc:creator>Tomasz Haupt</dc:creator>
  <dc:description/>
  <dc:language>en-US</dc:language>
  <cp:lastModifiedBy>David E Bernholdt</cp:lastModifiedBy>
  <dcterms:modified xsi:type="dcterms:W3CDTF">2000-04-10T17:51:06Z</dcterms:modified>
  <cp:revision>2</cp:revision>
  <dc:subject/>
  <dc:title>Target Architecture</dc:title>
</cp:coreProperties>
</file>