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283B-D382-44ED-8A5B-53D1A18E0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5803-7339-49EB-815B-C749CAAAE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0F63-DEF2-4A93-8C5E-3367D3F1D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672D-B6C1-4FA3-9233-F9E6A30E17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D6D1-76A0-4329-A964-9D6DEC3E11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853C-D48C-42B1-ACB3-6D64ED1EE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B3BE-E3B2-4D8B-8564-934A9FFD7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59BF-A30E-4B4C-8121-3A49F82C2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6D98-3CC8-49D5-8E75-B59CA6361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7E09-9A55-43FC-BF39-A2A8ADE67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3449-AD21-4A06-9233-188938421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4427-28AC-4F2A-B6FE-26B6D1C23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6C7B-CFAC-43C9-BEFE-9A5229F659C0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rclogo" descr=""/>
          <p:cNvPicPr/>
          <p:nvPr/>
        </p:nvPicPr>
        <p:blipFill>
          <a:blip r:embed="rId3"/>
          <a:stretch/>
        </p:blipFill>
        <p:spPr>
          <a:xfrm>
            <a:off x="0" y="6149880"/>
            <a:ext cx="1892160" cy="708120"/>
          </a:xfrm>
          <a:prstGeom prst="rect">
            <a:avLst/>
          </a:prstGeom>
          <a:ln w="0">
            <a:noFill/>
          </a:ln>
        </p:spPr>
      </p:pic>
      <p:pic>
        <p:nvPicPr>
          <p:cNvPr id="5" name="newmsrclogo" descr=""/>
          <p:cNvPicPr/>
          <p:nvPr/>
        </p:nvPicPr>
        <p:blipFill>
          <a:blip r:embed="rId4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Prototype Distance HPC Training for DoD User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60" y="26665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862956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eslie Souther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862956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hio Supercomputer Center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862956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avid Bernhold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862956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86295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862956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nnual Review 9-10 Febr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Training -- NPAC Statu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vid Bernhold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Jin Jianxia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rka Lucen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m Majo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arek Podgorn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m Stachowiak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mek Trzask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8DD8-52E6-4E92-B990-1AC672D1B4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Training -- NPAC Travel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raining: Installation and Operational Support of Tango, JSU, Aug. (6 person-day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Help with CEWES MSRC Tango server installation, September (1 person-day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Both trips also contributed to C/C, Distance Education, and Distance Training goal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85DF-E3ED-4EE7-B713-F975CBEDA9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ango Improvements for Distance Training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Used during second training…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ew, more sophisticated ‘chat’ too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Java-based shared telnet/terminal emulato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rthcoming improvements dictated in whole or in part by distance training requiremen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ew BuenaVista (a/v conferencing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designed Control Applicatio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reatly enhanced overall stabilit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619B-5C68-4E5B-A2D3-A843ACCEB0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econd Prototype Distance Training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6-27 Jan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SC’s Dave Ennis presented new class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arallel Programming on the Origin2000 Using OpenMP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ore than 30 students at 6 sit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EWES, ARL, ASC, NAVO, NRL, OS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E7D7-B868-488A-816D-B3C425F403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ango-based distance training for the PET program has been successfully demonstra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n-NPAC instructor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ll four MSRCs and a DC involved (plus OSC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essons learned will help contribute to guidelines for instructors, students, and support staff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03C7-8D8C-4A56-86CD-299CFEC85E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se distance training exercises were relatively expensive, but show that approach can be made more routine -- especially w/ “experienced” support staff at all MSRC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irect to the desktop” delivery will be feasible, but will require good support network until users are more familiar with Tango or similar tool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29E3-3BE9-4B33-811B-8C74B273AA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 (3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ordinating training room &amp; support staff schedules at recipient sites is perhaps the single hardest aspect of distance training :-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uring Year 4, NPAC encourages anyone giving a training to consider making it a distance training &amp; will assis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4E6B-DF17-4FA6-BEB2-1F03D64870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4T20:49:46Z</dcterms:created>
  <dc:creator>David E Bernholdt</dc:creator>
  <dc:description/>
  <dc:language>en-US</dc:language>
  <cp:lastModifiedBy>David E Bernholdt</cp:lastModifiedBy>
  <cp:lastPrinted>1998-08-05T13:41:55Z</cp:lastPrinted>
  <dcterms:modified xsi:type="dcterms:W3CDTF">1999-01-28T20:07:15Z</dcterms:modified>
  <cp:revision>30</cp:revision>
  <dc:subject/>
  <dc:title>No Slide Title</dc:title>
</cp:coreProperties>
</file>