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1A10-79AD-4456-B900-B5E6DF5B4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D357-662E-42B9-968F-053D8D91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2FE7-1B61-48CC-A6AF-E1010857B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7CDD-3DF8-4273-86A9-CDCBA3DCC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98AD-8DBA-41FA-8B2E-C2C94D3A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2445-8511-491E-89CC-D8588F11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F2B3-945A-485B-9693-CED60D5C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C7B5-97AB-447D-BB07-7E335D9B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BEC8-5FE6-413D-966F-90D57BBE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502E-F5D5-4EF5-AF26-2C4E76AA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37DC-35D1-417E-9CE5-068A6720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2836-350A-445C-97FF-6667B5C2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3CD5-FBDF-4C03-B31F-EC209ED56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3920" y="1447920"/>
            <a:ext cx="792504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>
            <a:stCxn id="43" idx="2"/>
            <a:endCxn id="44" idx="0"/>
          </p:cNvCxnSpPr>
          <p:nvPr/>
        </p:nvCxnSpPr>
        <p:spPr>
          <a:xfrm>
            <a:off x="1828800" y="1992600"/>
            <a:ext cx="360" cy="1589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" name=""/>
          <p:cNvSpPr/>
          <p:nvPr/>
        </p:nvSpPr>
        <p:spPr>
          <a:xfrm>
            <a:off x="3033720" y="1468440"/>
            <a:ext cx="103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1828800"/>
            <a:ext cx="2185920" cy="1273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57680" y="2819520"/>
            <a:ext cx="203652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86200" y="2819520"/>
            <a:ext cx="32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8880" y="2819520"/>
            <a:ext cx="132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ased front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124080" y="1523880"/>
            <a:ext cx="2186280" cy="127188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6324480" y="1905120"/>
            <a:ext cx="1066680" cy="396720"/>
            <a:chOff x="6324480" y="1905120"/>
            <a:chExt cx="1066680" cy="396720"/>
          </a:xfrm>
        </p:grpSpPr>
        <p:grpSp>
          <p:nvGrpSpPr>
            <p:cNvPr id="52" name=""/>
            <p:cNvGrpSpPr/>
            <p:nvPr/>
          </p:nvGrpSpPr>
          <p:grpSpPr>
            <a:xfrm>
              <a:off x="6324480" y="1905120"/>
              <a:ext cx="1066680" cy="396720"/>
              <a:chOff x="6324480" y="1905120"/>
              <a:chExt cx="1066680" cy="396720"/>
            </a:xfrm>
          </p:grpSpPr>
          <p:sp>
            <p:nvSpPr>
              <p:cNvPr id="53" name=""/>
              <p:cNvSpPr/>
              <p:nvPr/>
            </p:nvSpPr>
            <p:spPr>
              <a:xfrm>
                <a:off x="6324480" y="1905120"/>
                <a:ext cx="1066680" cy="396720"/>
              </a:xfrm>
              <a:custGeom>
                <a:avLst/>
                <a:gdLst/>
                <a:ahLst/>
                <a:rect l="l" t="t" r="r" b="b"/>
                <a:pathLst>
                  <a:path w="68" h="32">
                    <a:moveTo>
                      <a:pt x="34" y="0"/>
                    </a:moveTo>
                    <a:cubicBezTo>
                      <a:pt x="15" y="0"/>
                      <a:pt x="0" y="2"/>
                      <a:pt x="0" y="5"/>
                    </a:cubicBezTo>
                    <a:lnTo>
                      <a:pt x="0" y="27"/>
                    </a:lnTo>
                    <a:cubicBezTo>
                      <a:pt x="0" y="30"/>
                      <a:pt x="15" y="32"/>
                      <a:pt x="34" y="32"/>
                    </a:cubicBezTo>
                    <a:cubicBezTo>
                      <a:pt x="53" y="32"/>
                      <a:pt x="68" y="30"/>
                      <a:pt x="68" y="27"/>
                    </a:cubicBezTo>
                    <a:lnTo>
                      <a:pt x="68" y="5"/>
                    </a:lnTo>
                    <a:cubicBezTo>
                      <a:pt x="68" y="2"/>
                      <a:pt x="53" y="0"/>
                      <a:pt x="34" y="0"/>
                    </a:cubicBez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24480" y="1905120"/>
                <a:ext cx="1066680" cy="396720"/>
              </a:xfrm>
              <a:custGeom>
                <a:avLst/>
                <a:gdLst/>
                <a:ahLst/>
                <a:rect l="l" t="t" r="r" b="b"/>
                <a:pathLst>
                  <a:path w="68" h="32">
                    <a:moveTo>
                      <a:pt x="34" y="0"/>
                    </a:moveTo>
                    <a:cubicBezTo>
                      <a:pt x="15" y="0"/>
                      <a:pt x="0" y="2"/>
                      <a:pt x="0" y="5"/>
                    </a:cubicBezTo>
                    <a:lnTo>
                      <a:pt x="0" y="27"/>
                    </a:lnTo>
                    <a:cubicBezTo>
                      <a:pt x="0" y="30"/>
                      <a:pt x="15" y="32"/>
                      <a:pt x="34" y="32"/>
                    </a:cubicBezTo>
                    <a:cubicBezTo>
                      <a:pt x="53" y="32"/>
                      <a:pt x="68" y="30"/>
                      <a:pt x="68" y="27"/>
                    </a:cubicBezTo>
                    <a:lnTo>
                      <a:pt x="68" y="5"/>
                    </a:lnTo>
                    <a:cubicBezTo>
                      <a:pt x="68" y="2"/>
                      <a:pt x="53" y="0"/>
                      <a:pt x="34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24480" y="1967040"/>
                <a:ext cx="1066680" cy="61920"/>
              </a:xfrm>
              <a:custGeom>
                <a:avLst/>
                <a:gdLst/>
                <a:ahLst/>
                <a:rect l="l" t="t" r="r" b="b"/>
                <a:pathLst>
                  <a:path w="68" h="5">
                    <a:moveTo>
                      <a:pt x="0" y="0"/>
                    </a:moveTo>
                    <a:cubicBezTo>
                      <a:pt x="0" y="3"/>
                      <a:pt x="15" y="5"/>
                      <a:pt x="34" y="5"/>
                    </a:cubicBezTo>
                    <a:cubicBezTo>
                      <a:pt x="53" y="5"/>
                      <a:pt x="68" y="3"/>
                      <a:pt x="68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6446160" y="205740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ocal stor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914400" y="1523880"/>
            <a:ext cx="1828800" cy="1523880"/>
            <a:chOff x="914400" y="1523880"/>
            <a:chExt cx="1828800" cy="1523880"/>
          </a:xfrm>
        </p:grpSpPr>
        <p:sp>
          <p:nvSpPr>
            <p:cNvPr id="43" name=""/>
            <p:cNvSpPr/>
            <p:nvPr/>
          </p:nvSpPr>
          <p:spPr>
            <a:xfrm>
              <a:off x="914400" y="1523880"/>
              <a:ext cx="1828800" cy="4687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cision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14400" y="2051280"/>
              <a:ext cx="1828800" cy="4687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a Wiz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14400" y="2579040"/>
              <a:ext cx="1828800" cy="4687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Job Wiz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241040" y="106668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nt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3581280"/>
            <a:ext cx="7940880" cy="1143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09920" y="320040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8080" y="472428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k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53920" y="5105520"/>
            <a:ext cx="7925040" cy="1600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330720" y="5257800"/>
            <a:ext cx="2057400" cy="990360"/>
            <a:chOff x="3330720" y="5257800"/>
            <a:chExt cx="2057400" cy="990360"/>
          </a:xfrm>
        </p:grpSpPr>
        <p:sp>
          <p:nvSpPr>
            <p:cNvPr id="66" name=""/>
            <p:cNvSpPr/>
            <p:nvPr/>
          </p:nvSpPr>
          <p:spPr>
            <a:xfrm>
              <a:off x="3330720" y="5257800"/>
              <a:ext cx="914400" cy="9320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73720" y="5257800"/>
              <a:ext cx="914400" cy="9320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40200" y="5316120"/>
              <a:ext cx="914400" cy="9320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275640" y="6324480"/>
            <a:ext cx="23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tributed Data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B_OEQ128" descr=""/>
          <p:cNvPicPr/>
          <p:nvPr/>
        </p:nvPicPr>
        <p:blipFill>
          <a:blip r:embed="rId2"/>
          <a:stretch/>
        </p:blipFill>
        <p:spPr>
          <a:xfrm>
            <a:off x="6188040" y="5257800"/>
            <a:ext cx="1095480" cy="1117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805360" y="6324480"/>
            <a:ext cx="18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PCC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295280" y="5257800"/>
            <a:ext cx="1371600" cy="1066680"/>
            <a:chOff x="1295280" y="5257800"/>
            <a:chExt cx="1371600" cy="1066680"/>
          </a:xfrm>
        </p:grpSpPr>
        <p:sp>
          <p:nvSpPr>
            <p:cNvPr id="73" name=""/>
            <p:cNvSpPr/>
            <p:nvPr/>
          </p:nvSpPr>
          <p:spPr>
            <a:xfrm>
              <a:off x="1600200" y="5562720"/>
              <a:ext cx="1066680" cy="76176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447560" y="5410080"/>
              <a:ext cx="1067040" cy="7621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5280" y="5257800"/>
              <a:ext cx="1066680" cy="7621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855000" y="6324480"/>
            <a:ext cx="224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net Reposit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511800" y="3733920"/>
            <a:ext cx="3804840" cy="946800"/>
            <a:chOff x="3511800" y="3733920"/>
            <a:chExt cx="3804840" cy="946800"/>
          </a:xfrm>
        </p:grpSpPr>
        <p:sp>
          <p:nvSpPr>
            <p:cNvPr id="78" name=""/>
            <p:cNvSpPr/>
            <p:nvPr/>
          </p:nvSpPr>
          <p:spPr>
            <a:xfrm>
              <a:off x="4343400" y="3886200"/>
              <a:ext cx="60984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57600" y="3733920"/>
              <a:ext cx="60984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0" y="3733920"/>
              <a:ext cx="60984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334120" y="3733920"/>
              <a:ext cx="60948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91320" y="3962520"/>
              <a:ext cx="60948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72200" y="3733920"/>
              <a:ext cx="60984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11800" y="4343400"/>
              <a:ext cx="380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ebFlow modules: proxies of BE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914400" y="3581280"/>
            <a:ext cx="182880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XML based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4419720"/>
            <a:ext cx="182880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XML based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58" idx="3"/>
            <a:endCxn id="50" idx="1"/>
          </p:cNvCxnSpPr>
          <p:nvPr/>
        </p:nvCxnSpPr>
        <p:spPr>
          <a:xfrm flipV="1">
            <a:off x="2743200" y="2159640"/>
            <a:ext cx="381240" cy="126360"/>
          </a:xfrm>
          <a:prstGeom prst="bentConnector3">
            <a:avLst>
              <a:gd name="adj1" fmla="val 5066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" name=""/>
          <p:cNvCxnSpPr>
            <a:stCxn id="43" idx="3"/>
            <a:endCxn id="50" idx="1"/>
          </p:cNvCxnSpPr>
          <p:nvPr/>
        </p:nvCxnSpPr>
        <p:spPr>
          <a:xfrm>
            <a:off x="2743200" y="1758240"/>
            <a:ext cx="381240" cy="401760"/>
          </a:xfrm>
          <a:prstGeom prst="bentConnector3">
            <a:avLst>
              <a:gd name="adj1" fmla="val 5066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59" idx="3"/>
            <a:endCxn id="50" idx="1"/>
          </p:cNvCxnSpPr>
          <p:nvPr/>
        </p:nvCxnSpPr>
        <p:spPr>
          <a:xfrm flipV="1">
            <a:off x="2743200" y="2159640"/>
            <a:ext cx="381240" cy="654120"/>
          </a:xfrm>
          <a:prstGeom prst="bentConnector3">
            <a:avLst>
              <a:gd name="adj1" fmla="val 5066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9" name=""/>
          <p:cNvSpPr/>
          <p:nvPr/>
        </p:nvSpPr>
        <p:spPr>
          <a:xfrm>
            <a:off x="5257800" y="2133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5" idx="2"/>
            <a:endCxn id="75" idx="0"/>
          </p:cNvCxnSpPr>
          <p:nvPr/>
        </p:nvCxnSpPr>
        <p:spPr>
          <a:xfrm rot="16200000">
            <a:off x="1562040" y="4991040"/>
            <a:ext cx="533880" cy="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85" idx="2"/>
            <a:endCxn id="68" idx="1"/>
          </p:cNvCxnSpPr>
          <p:nvPr/>
        </p:nvCxnSpPr>
        <p:spPr>
          <a:xfrm flipH="1" rot="16200000">
            <a:off x="2817000" y="3735720"/>
            <a:ext cx="592200" cy="2568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2" name=""/>
          <p:cNvCxnSpPr>
            <a:stCxn id="85" idx="2"/>
            <a:endCxn id="70" idx="0"/>
          </p:cNvCxnSpPr>
          <p:nvPr/>
        </p:nvCxnSpPr>
        <p:spPr>
          <a:xfrm flipH="1" rot="16200000">
            <a:off x="4015440" y="2537640"/>
            <a:ext cx="533880" cy="4907160"/>
          </a:xfrm>
          <a:prstGeom prst="bentConnector3">
            <a:avLst>
              <a:gd name="adj1" fmla="val 5047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3" name=""/>
          <p:cNvSpPr/>
          <p:nvPr/>
        </p:nvSpPr>
        <p:spPr>
          <a:xfrm>
            <a:off x="4496400" y="16002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W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3886200"/>
            <a:ext cx="1828800" cy="152280"/>
          </a:xfrm>
          <a:custGeom>
            <a:avLst/>
            <a:gdLst/>
            <a:ahLst/>
            <a:rect l="l" t="t" r="r" b="b"/>
            <a:pathLst>
              <a:path w="1152" h="96">
                <a:moveTo>
                  <a:pt x="0" y="0"/>
                </a:moveTo>
                <a:lnTo>
                  <a:pt x="0" y="96"/>
                </a:lnTo>
                <a:lnTo>
                  <a:pt x="1152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4191120"/>
            <a:ext cx="2514600" cy="228600"/>
          </a:xfrm>
          <a:custGeom>
            <a:avLst/>
            <a:gdLst/>
            <a:ahLst/>
            <a:rect l="l" t="t" r="r" b="b"/>
            <a:pathLst>
              <a:path w="1584" h="144">
                <a:moveTo>
                  <a:pt x="0" y="144"/>
                </a:moveTo>
                <a:lnTo>
                  <a:pt x="0" y="0"/>
                </a:lnTo>
                <a:lnTo>
                  <a:pt x="15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67080" y="3809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3962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41911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25840" y="225360"/>
            <a:ext cx="416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MS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30:01Z</dcterms:created>
  <dc:creator>Tomasz Haupt</dc:creator>
  <dc:description/>
  <dc:language>en-US</dc:language>
  <cp:lastModifiedBy>David E Bernholdt</cp:lastModifiedBy>
  <dcterms:modified xsi:type="dcterms:W3CDTF">2000-02-03T17:59:03Z</dcterms:modified>
  <cp:revision>2</cp:revision>
  <dc:subject/>
  <dc:title>No Slide Title</dc:title>
</cp:coreProperties>
</file>