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423-93F3-48E6-8C50-1A5E3172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DFB-C755-4A39-8438-DFBFB4F0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64F-18FB-467C-ADF3-6D6F5D48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D69-9A31-4A30-82F8-E004799D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331-5355-4EC3-81E2-E14890EA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7E5-5917-41CF-84AB-5BDADA21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B412-D100-4E36-AF75-E5E22601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EC2-F729-48E9-B408-6F7EC6EB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999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31C-2077-4985-9DD4-F56FA18A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A0B-774C-444E-9B46-B67E8799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655-3789-494A-94D5-F31F4423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598-1A8A-4FE2-8440-6DCC2F58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943E-CE13-465A-A7CC-E6334EBC9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895480" y="158760"/>
            <a:ext cx="328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nformation and Commun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arl-msrc-logo" descr=""/>
          <p:cNvPicPr/>
          <p:nvPr/>
        </p:nvPicPr>
        <p:blipFill>
          <a:blip r:embed="rId2"/>
          <a:stretch/>
        </p:blipFill>
        <p:spPr>
          <a:xfrm>
            <a:off x="0" y="19080"/>
            <a:ext cx="1836720" cy="647640"/>
          </a:xfrm>
          <a:prstGeom prst="rect">
            <a:avLst/>
          </a:prstGeom>
          <a:ln w="0">
            <a:noFill/>
          </a:ln>
        </p:spPr>
      </p:pic>
      <p:pic>
        <p:nvPicPr>
          <p:cNvPr id="7" name="asc-msrc-logo" descr=""/>
          <p:cNvPicPr/>
          <p:nvPr/>
        </p:nvPicPr>
        <p:blipFill>
          <a:blip r:embed="rId3"/>
          <a:stretch/>
        </p:blipFill>
        <p:spPr>
          <a:xfrm>
            <a:off x="7261200" y="0"/>
            <a:ext cx="18828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formation and Communica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PAC/Syracuse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C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ET Web-sites Redesig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62720" y="213372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 Objec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sual Consistency within and across PET 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ified Content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sual Distinction between Subject Ar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Navigation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loyed at ASC, CEW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L deployment is p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2133720"/>
          <a:ext cx="480060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480060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FD8-CE98-4BE0-9C54-0420E32E0C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synchronous Web-based Training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Provide PET with capability to deliver any-time, anywhere, any-pace training via the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ynchronous web-based training tool, WebCT, recommended and demonstrated in Year 2 for use in delivering CTA cour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bility tech transferred to PET via training in December at ARL and NCSA and January at AS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s to determine effectiveness will be conducted as CTA courses are develo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5E1-EFD7-4B53-99D4-B78C105420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SRC PET Portal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1676520"/>
          <a:ext cx="571500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571500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86400" y="18288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bjectiv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acilitate access to information and applications relevant to the PET Community by providing a single web gateway to PET/HPC information and application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ample of Proposed Capabilit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nagement information systems to facilitate PET management activi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llaboration tools to support development of Virtual Communities and provide online meeting and training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ks to Computational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ks to data repositor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B4A3-CD19-40F2-AED0-83DD87F63A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f7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pproach to the Fu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 and expand the “depth” of the MSRC PET portal by providing additional services to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focus on Computational Chemistry will leverage NCSA efforts with PET input and dir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ment of Management Information Systems to support management of the PET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ilitate integration of portal services developed by other PET researc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RC PET Gr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SRC Grid Model and road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type grid capability within MSRC PET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L/ASC Joint Review and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F33-F474-46BB-A05E-0ADDEFBD89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5 Febr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6T20:19:25Z</dcterms:created>
  <dc:creator>Sandra Kappes</dc:creator>
  <dc:description/>
  <dc:language>en-US</dc:language>
  <cp:lastModifiedBy>Sandra Kappes</cp:lastModifiedBy>
  <cp:lastPrinted>1996-06-19T17:53:30Z</cp:lastPrinted>
  <dcterms:modified xsi:type="dcterms:W3CDTF">1999-02-18T19:34:28Z</dcterms:modified>
  <cp:revision>14</cp:revision>
  <dc:subject/>
  <dc:title>Information and Communications</dc:title>
</cp:coreProperties>
</file>