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5997E-42B2-471D-9D0D-8604AEFA4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990F-A4C6-4575-90E2-2F6F882F6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C1FA-07D6-4F7C-AC87-15B037DE6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E725-461D-4DBC-B06A-AD2FD04D2D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696C9-A46C-4DD9-A98F-960BA92F65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CAA3-996D-4F4B-8E3C-1FC3D073A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6497-8F4D-4E4B-9916-D4CA6D7C0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E2800-8BC7-4BC4-A7B1-C2CF8A27F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EA47F-328B-4E11-8696-972E88B8C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E3070-3468-4A4E-A119-2DFB1890C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776F9-A649-4EF3-A9D7-2510A635C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238A-409F-47DF-B857-B4EF0E770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BCC6-70D5-4271-842B-7C126CE36D0B}" type="slidenum">
              <a:rPr b="0" lang="en-US" sz="9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ETIMAGE" descr=""/>
          <p:cNvPicPr/>
          <p:nvPr/>
        </p:nvPicPr>
        <p:blipFill>
          <a:blip r:embed="rId2"/>
          <a:stretch/>
        </p:blipFill>
        <p:spPr>
          <a:xfrm>
            <a:off x="504720" y="0"/>
            <a:ext cx="8334360" cy="533520"/>
          </a:xfrm>
          <a:prstGeom prst="rect">
            <a:avLst/>
          </a:prstGeom>
          <a:ln w="0">
            <a:noFill/>
          </a:ln>
        </p:spPr>
      </p:pic>
      <p:pic>
        <p:nvPicPr>
          <p:cNvPr id="4" name="Nrclogo" descr=""/>
          <p:cNvPicPr/>
          <p:nvPr/>
        </p:nvPicPr>
        <p:blipFill>
          <a:blip r:embed="rId3"/>
          <a:stretch/>
        </p:blipFill>
        <p:spPr>
          <a:xfrm>
            <a:off x="0" y="6149880"/>
            <a:ext cx="1892160" cy="708120"/>
          </a:xfrm>
          <a:prstGeom prst="rect">
            <a:avLst/>
          </a:prstGeom>
          <a:ln w="0">
            <a:noFill/>
          </a:ln>
        </p:spPr>
      </p:pic>
      <p:pic>
        <p:nvPicPr>
          <p:cNvPr id="5" name="newmsrclogo" descr=""/>
          <p:cNvPicPr/>
          <p:nvPr/>
        </p:nvPicPr>
        <p:blipFill>
          <a:blip r:embed="rId4"/>
          <a:stretch/>
        </p:blipFill>
        <p:spPr>
          <a:xfrm>
            <a:off x="6705720" y="6122880"/>
            <a:ext cx="2133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ance Education -- Technical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go installation &amp; training at JSU 19-21 August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lecture delivered 25 August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ne JSU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 ~3 casual students to join from CEWES T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4AC65-F642-40DF-93A7-A74FA5F5D7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jsu-cps615-2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248160" cy="5000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SU Class in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A15F-7B49-48B1-929D-3D867AED03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ance Training--Technical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go client &amp; server installed at O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C’s Troy Baer attended JSU Tango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training, Fortran 90 (2 days), to be delivered by Troy Baer (OSC) in September.  Courseware in Tango-compatible format.  ARL, OSC to rece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training probably on Origin 2000 (2-2.5 days), being schedu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49FE-66FA-4A9F-BE4F-6400DBC71B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ance Training Course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osc-f90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248160" cy="499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EBAB-F21C-47C5-81CC-CF51168BAA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6T15:04:48Z</dcterms:created>
  <dc:creator>David E Bernholdt</dc:creator>
  <dc:description/>
  <dc:language>en-US</dc:language>
  <cp:lastModifiedBy>David E Bernholdt</cp:lastModifiedBy>
  <cp:lastPrinted>1998-08-05T13:41:55Z</cp:lastPrinted>
  <dcterms:modified xsi:type="dcterms:W3CDTF">1998-08-26T17:04:50Z</dcterms:modified>
  <cp:revision>7</cp:revision>
  <dc:subject/>
  <dc:title>No Slide Title</dc:title>
</cp:coreProperties>
</file>