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AEBB-964F-454D-B1AB-82397EE7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FFB1-3F36-4F35-B337-9B3CB486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23D7-A9A2-452F-879D-6086EBD3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46D7-F1BC-461B-A74F-6DC2F45B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003-BBE9-46FC-BCFA-C1009324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240-533E-4ADA-8560-DAECB55B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E70-2923-4513-994B-8F4FB071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105-5AA7-4561-A07E-50C3E8E6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999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2B88-959A-4B03-A458-F953994D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B68-2D96-47F4-8A3C-82C1651F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8EC-D0B7-414F-A0A2-02A821AA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CE6-94E3-4EE7-923E-305660A4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7E6E-AA1D-4BF1-8F13-6BD01B340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895480" y="158760"/>
            <a:ext cx="328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nformation and Commun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arl-msrc-logo" descr=""/>
          <p:cNvPicPr/>
          <p:nvPr/>
        </p:nvPicPr>
        <p:blipFill>
          <a:blip r:embed="rId2"/>
          <a:stretch/>
        </p:blipFill>
        <p:spPr>
          <a:xfrm>
            <a:off x="0" y="19080"/>
            <a:ext cx="1836720" cy="647640"/>
          </a:xfrm>
          <a:prstGeom prst="rect">
            <a:avLst/>
          </a:prstGeom>
          <a:ln w="0">
            <a:noFill/>
          </a:ln>
        </p:spPr>
      </p:pic>
      <p:pic>
        <p:nvPicPr>
          <p:cNvPr id="7" name="asc-msrc-logo" descr=""/>
          <p:cNvPicPr/>
          <p:nvPr/>
        </p:nvPicPr>
        <p:blipFill>
          <a:blip r:embed="rId3"/>
          <a:stretch/>
        </p:blipFill>
        <p:spPr>
          <a:xfrm>
            <a:off x="7261200" y="0"/>
            <a:ext cx="18828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Report from Breakout Sess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formation and Communic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RL and ASC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PAC/Syracuse University(David Bernholdt, Geoffrey Fo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CSA(Sandie Kapp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L (Derek Mo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C(Tracey Smi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asc" descr=""/>
          <p:cNvPicPr/>
          <p:nvPr/>
        </p:nvPicPr>
        <p:blipFill>
          <a:blip r:embed="rId1"/>
          <a:stretch/>
        </p:blipFill>
        <p:spPr>
          <a:xfrm>
            <a:off x="0" y="4818240"/>
            <a:ext cx="2743200" cy="2039760"/>
          </a:xfrm>
          <a:prstGeom prst="rect">
            <a:avLst/>
          </a:prstGeom>
          <a:ln w="0">
            <a:noFill/>
          </a:ln>
        </p:spPr>
      </p:pic>
      <p:pic>
        <p:nvPicPr>
          <p:cNvPr id="47" name="arl" descr=""/>
          <p:cNvPicPr/>
          <p:nvPr/>
        </p:nvPicPr>
        <p:blipFill>
          <a:blip r:embed="rId2"/>
          <a:stretch/>
        </p:blipFill>
        <p:spPr>
          <a:xfrm>
            <a:off x="6400800" y="4767120"/>
            <a:ext cx="2743200" cy="2090880"/>
          </a:xfrm>
          <a:prstGeom prst="rect">
            <a:avLst/>
          </a:prstGeom>
          <a:ln w="0">
            <a:noFill/>
          </a:ln>
        </p:spPr>
      </p:pic>
      <p:pic>
        <p:nvPicPr>
          <p:cNvPr id="48" name="newca4" descr=""/>
          <p:cNvPicPr/>
          <p:nvPr/>
        </p:nvPicPr>
        <p:blipFill>
          <a:blip r:embed="rId3"/>
          <a:stretch/>
        </p:blipFill>
        <p:spPr>
          <a:xfrm>
            <a:off x="4724280" y="4800600"/>
            <a:ext cx="166212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Image8" descr=""/>
          <p:cNvPicPr/>
          <p:nvPr/>
        </p:nvPicPr>
        <p:blipFill>
          <a:blip r:embed="rId4"/>
          <a:stretch/>
        </p:blipFill>
        <p:spPr>
          <a:xfrm>
            <a:off x="2703600" y="4800600"/>
            <a:ext cx="2020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reas Discussed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ucture of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PI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actions with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tewa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roject and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ian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“Post Web Computing Environment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e of TangoInteractive and other collaboration tools in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ientific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ance of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tacomput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ng the PET MSRC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discussion of use of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ngoInteractive in train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was in training breakout sessions -- we discussed use of TangoInteractive in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iefing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min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discussion of Web pages,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T IntraNe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r Management Informatio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/C Breakout  Summary ARL/ASC Joint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12B-60CC-4A7C-B827-A6D51BA638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tructure of MAPINT Workshop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eement on suggested topics: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teway, National Machine Room (metacomputing infrastruc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ight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especially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S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Technolog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disciplinary Optimization (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D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s in Boeing and Langle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ion of experimental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ata and sim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areas: CFD and Grids were covered last time so choose other fo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I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Deeply Buried Structures (with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EN and CE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I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Realtime target simulations for ATR (with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CE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XPATCH program and DEMACO company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time link to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DI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workshop not clear as we don’t expect to feature C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/C Breakout  Summary ARL/ASC Joint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CBF-90AC-41B0-9072-C9E48623D6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volvement with Gatewa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must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t up a proces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llow interested groups (particular CTA’s and providers of services) to interact with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337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EA CEN CCM SI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articularly interested (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M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s “already” Gatew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C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n important opport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provides a “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iddle tier servic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-- a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ata hu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r visualization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a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l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a choice of visualization renderers and fil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rify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ole of RI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- tentative claim that RIB fits well with Gateway and Gateway standards will build on RIB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does on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k with existing system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uch a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CCE (CCM) from PN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with DICE, eventually break up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xisting system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to “XML” components but initially integrate as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ndalon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ation at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P For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ay 25-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still beginning -- premature to involve with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/C Breakout  Summary ARL/ASC Joint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83D-64AE-4451-AE73-261CF0BFDB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king with TangoInteractiv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P suggests use in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SSI te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eetings which involve briefings and demonstrations of programs 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L Suggests use in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mina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Fox talk in April?),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L Users Group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D Users Gro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perhaps for selected tutorials and some sess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E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y interested in use in using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ngoInteracti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ientific collabor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etween NCSA and A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ay Boris (CFD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was interested last June in this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stantial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in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ussion with C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/C Breakout  Summary ARL/ASC Joint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5B3-A779-478A-9DDC-1F2AAC52DD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Other Issu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expect improved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ultica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upport on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R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linked network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 it will be about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mon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finish/tes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ulticast version of audio-video conferencing in TangoInter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clear if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ur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mplications of Gateway are fully understood -- need to involve those responsible for certify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acomputing (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ational Machine Room at low leve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probably doe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t have necessary resourc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implement(at least at AR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ld Sun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1000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which has T &amp; E, S &amp; T, Test domains be useful in areas like FMS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/C Breakout  Summary ARL/ASC Joint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FE8-3767-4CA3-BD67-BCCC559A95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7T20:51:10Z</dcterms:created>
  <dc:creator>David E Bernholdt</dc:creator>
  <dc:description/>
  <dc:language>en-US</dc:language>
  <cp:lastModifiedBy>David E Bernholdt</cp:lastModifiedBy>
  <cp:lastPrinted>1996-06-19T17:53:30Z</cp:lastPrinted>
  <dcterms:modified xsi:type="dcterms:W3CDTF">1999-02-25T15:51:20Z</dcterms:modified>
  <cp:revision>59</cp:revision>
  <dc:subject/>
  <dc:title>Information and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