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D50-2316-4050-AE4A-E72DC0E5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0A3-6BFC-4CBF-953D-78CAA6FC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5F5-E42D-4A52-979D-644FD05A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11D-3917-4732-B122-594B348E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2D4-D5E1-4EB8-A1BD-2F5516A3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5BD-8DFD-4378-AFDB-0578B131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90F-8462-410C-A19B-64B0DCF7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BB1-9B76-4BBE-8D4A-E07F758A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425-06D7-44AD-A2D1-0005305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111-9429-4251-B51D-D6CE4BF1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259-11D4-41F0-85BE-29CD5DDD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9EF-2B2C-4B39-A67A-AFA088CC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236A-A984-4B53-8D97-10256D61B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lace App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gmin K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md@npac.syr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876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Scr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St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Data se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1854360"/>
            <a:ext cx="54864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St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Data Recei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836720"/>
            <a:ext cx="54864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Communication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21:50:08Z</dcterms:created>
  <dc:creator>kimd</dc:creator>
  <dc:description/>
  <dc:language>en-US</dc:language>
  <cp:lastModifiedBy>kimd</cp:lastModifiedBy>
  <dcterms:modified xsi:type="dcterms:W3CDTF">2000-04-05T22:07:37Z</dcterms:modified>
  <cp:revision>1</cp:revision>
  <dc:subject/>
  <dc:title>Laplace Applet</dc:title>
</cp:coreProperties>
</file>