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E8C0-7844-4194-A4F7-FCBAFB6AD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6323-72F1-48D6-B239-B45077157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ECC6-8C26-4DC8-AB69-756EC99F2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D1E9-6ED0-4051-BA3B-58865D407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5E84-F47B-4DBD-9224-68A42D059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918D-E0CB-4E0B-95D9-C9214A919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1B6A-B7F7-4874-8439-F8DC80459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B32B-7858-42AE-BA62-AAA4FB7D0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60DA-1493-40F8-9389-93F5ACC39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48F4-0DB7-4963-93F9-DA9DE53C3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EAC7-0732-4193-916C-AC3C19745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3E29-BD69-4B29-9AE1-C55B240F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7A4D9-CFC1-4DC6-83B5-2DAC4105CD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84872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ET</a:t>
            </a:r>
            <a:br>
              <a:rPr sz="48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ation Management &amp; Activity System (IMA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365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r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r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Entry Activity T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omplishment/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sues/Conce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ccess S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Outreach/Assi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Support to DoD HPC U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gramming Environm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rov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/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Trai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ductivity Advanc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343400" y="1523880"/>
            <a:ext cx="4648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cription /Objective /Scope of Research /Methodolo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 to War Fighter /Signific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ture Pl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s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r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m /Direct Support /Affiliates /Key Clients / Colleagu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jects (CTA specifi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BCU/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liminary Design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ttach Docu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user has the ability to attach graphics or whole docu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ached graphics or documents can be associated with entered activities or attached to reports to  be publish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liminary Design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rite Repor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selects the type of report. The system provides a pre-agreed upon form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can choose to include data entries from other existing reports, and/or other activity ent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can choose to  attach documents, and/or write new sections to the repo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port/Activity is hidden from other users until the user chooses to publish i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ort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ct De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TA Week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cess St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TA Month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 Month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 Quarter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W/RF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 Annu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C and ARL have met to Identify common go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C is defining requirements and rough desig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CSA is developing an exploratory prototyp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of Technical and User data tracks will be left until la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MAS will aid the PET Program at the MSRCs in managing data, tracking projects, and reporting progr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C and ARL have agreed to cooperate in putting IMAS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oking for buy in from CEWES, NAVO, and the HPC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liminary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MAS is a database driven system to manage the collection and dissemination of data for the PET progr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will allow PET tech staff to input data in a free format style and yet tie the activities to program objecti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will improve the ability to report PET activities to the MSRCs and to the HPC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hn Grosh requested in Dec98 Cross-MSRC meeting, to suggest an approach to manage PET Inform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C (Charlotte) was assigned to investigate and repo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L (E.J.) volunteered to hel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 design includes ASC and ARL ideas, but will accommodate CEWES and NAVO requir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b interface to a DB to allow easy input, storage, and retrieval of PET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ic enough to be used by all 4 cen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ctured enough to provide consistent data to the HPC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liminary Design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er Entry and Identif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s enter the system through Kerberized log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then identify their MSRC, and PET area of interest (CTA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lly they select the information track that they want to follow, management, technical, or user. (Only the management track is discussed he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liminary Design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Management Tra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ce in the Management track the user can select one of the following function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 repo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er activ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ach doc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 re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of these functions will be addressed be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liminary Design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ew Repor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ce a report is published it will be available for all of the users to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orts can be searched for by report type (monthly, etc.), by date, or by topic area (CTA, etc.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liminary Design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er Activ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has a free form text box in which he/she enters the activity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enters a date (current date is defaul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enters hours expended (option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describes the category of data by selecting one or more activity tags from drop down men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5T15:47:43Z</dcterms:created>
  <dc:creator>Tracey Smith</dc:creator>
  <dc:description/>
  <dc:language>en-US</dc:language>
  <cp:lastModifiedBy>colemacd</cp:lastModifiedBy>
  <cp:lastPrinted>1999-02-16T14:19:41Z</cp:lastPrinted>
  <dcterms:modified xsi:type="dcterms:W3CDTF">1999-02-16T19:27:57Z</dcterms:modified>
  <cp:revision>8</cp:revision>
  <dc:subject/>
  <dc:title>Information Management &amp; Activity System (IMAS)</dc:title>
</cp:coreProperties>
</file>