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F403-ACB5-4331-A15F-BD14398C5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ABAB-5169-49CB-82B9-B6359305E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D557-DD22-46D3-AD35-3E4912973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AADF-835F-4574-9E6D-B94DE0F5AA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7A6E-9E02-492A-AC54-A4FF10A69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8E95-F17E-4234-B435-E21C8A466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F004-22EA-4152-9638-76D1B6DB4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6174-6F0F-4A82-9AFB-48606949A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4C6D-A63F-4340-A598-15AC45082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005D-BDEA-44C5-8B59-AA5918210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7CDA-7895-4744-9F9D-C48D89160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7854-EB2C-4331-BAEE-DE6E72DBB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362320" y="609480"/>
            <a:ext cx="5105160" cy="0"/>
          </a:xfrm>
          <a:prstGeom prst="line">
            <a:avLst/>
          </a:prstGeom>
          <a:ln w="7632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1520" y="228600"/>
            <a:ext cx="1447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rogramming Environment &amp; Training (PE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6324480"/>
            <a:ext cx="5867280" cy="0"/>
          </a:xfrm>
          <a:prstGeom prst="line">
            <a:avLst/>
          </a:prstGeom>
          <a:ln w="7632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172200"/>
            <a:ext cx="1752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4 - 15 Sep 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msrcerdc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210040" cy="712800"/>
          </a:xfrm>
          <a:prstGeom prst="rect">
            <a:avLst/>
          </a:prstGeom>
          <a:ln w="0">
            <a:noFill/>
          </a:ln>
        </p:spPr>
      </p:pic>
      <p:pic>
        <p:nvPicPr>
          <p:cNvPr id="7" name="NLogo" descr=""/>
          <p:cNvPicPr/>
          <p:nvPr/>
        </p:nvPicPr>
        <p:blipFill>
          <a:blip r:embed="rId3"/>
          <a:stretch/>
        </p:blipFill>
        <p:spPr>
          <a:xfrm>
            <a:off x="7543800" y="6019920"/>
            <a:ext cx="1066680" cy="533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5638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F500-B10D-4ABF-A812-C2DF3C163089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MS Core Sup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ffrey C. Fox and Wojtek Furman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AC at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0C1A-F033-4B3F-9A28-19F419D2E3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bstacles and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 CMS delivery for Ft. Belvoir and FMS CHSSI Beta Review Reports - both turned out to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bor int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sequence, the planned/proposed work on WebHLA training was delayed 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chedul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all/winter ‘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082C-9BDD-492C-A5D6-6D2B842F44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nforcing Scalability of Parallel CM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ffrey C. Fox and Wojtek Furman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AC at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9DC3-0943-4C17-8EAE-7E2E37033C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aly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alability strategies for Origin2000 (including MPI, threads, pragmas, OpenMP, SPEED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st approach for Parallel C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hie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near speedup for a broad (ideally full) processor range on O2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2554-B9B4-41A4-B46B-9520BA318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Accomplishments (1):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PEEDES-like approach selecte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EEDES-li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pproach selected as most promising since full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tabl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nl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UNIX/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tructs such as fork, shmem =&gt; same code will run for Origin2000 and workstation/PC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 CMS to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at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but not dependent on SPEEDES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B734-1797-40B7-89F3-97A09E2F4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ccomplishments (2)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w Parallel CMS Code In Progres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tial CMS code fully understood and represented 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ML Diagr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attered Decompos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Minefields designed and partially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ES-lik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re support prototyp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being t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764F-40BF-42AF-A245-4379BCD4DD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93600" y="0"/>
            <a:ext cx="9237600" cy="7183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8600" y="3962520"/>
            <a:ext cx="8653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ML Source Code Analysis Using UML Class Diagra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1B1F-8DF3-48D3-95DE-BDCA537E4E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152640" y="990720"/>
            <a:ext cx="929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nefields - Scattered (Cyclic) Decomposi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snap1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800600" cy="4518000"/>
          </a:xfrm>
          <a:prstGeom prst="rect">
            <a:avLst/>
          </a:prstGeom>
          <a:ln w="0">
            <a:noFill/>
          </a:ln>
        </p:spPr>
      </p:pic>
      <p:pic>
        <p:nvPicPr>
          <p:cNvPr id="92" name="snap3" descr=""/>
          <p:cNvPicPr/>
          <p:nvPr/>
        </p:nvPicPr>
        <p:blipFill>
          <a:blip r:embed="rId2"/>
          <a:stretch/>
        </p:blipFill>
        <p:spPr>
          <a:xfrm>
            <a:off x="6553080" y="1600200"/>
            <a:ext cx="1657440" cy="1433520"/>
          </a:xfrm>
          <a:prstGeom prst="rect">
            <a:avLst/>
          </a:prstGeom>
          <a:ln w="0">
            <a:noFill/>
          </a:ln>
        </p:spPr>
      </p:pic>
      <p:pic>
        <p:nvPicPr>
          <p:cNvPr id="93" name="snap3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1657440" cy="14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971800" y="4191120"/>
            <a:ext cx="26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quent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562720" y="2437920"/>
            <a:ext cx="99036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581280"/>
            <a:ext cx="99036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581280"/>
            <a:ext cx="99036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238880" y="1981080"/>
            <a:ext cx="1409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de =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238880" y="3505320"/>
            <a:ext cx="14097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de =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DB44-B035-4BAD-B216-BDDDA9AE91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attered Minefields on Origin200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snap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02" name="snap3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03" name="snap3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04" name="snap3" descr=""/>
          <p:cNvPicPr/>
          <p:nvPr/>
        </p:nvPicPr>
        <p:blipFill>
          <a:blip r:embed="rId4"/>
          <a:stretch/>
        </p:blipFill>
        <p:spPr>
          <a:xfrm>
            <a:off x="6248520" y="13716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05" name="snap3" descr=""/>
          <p:cNvPicPr/>
          <p:nvPr/>
        </p:nvPicPr>
        <p:blipFill>
          <a:blip r:embed="rId5"/>
          <a:stretch/>
        </p:blipFill>
        <p:spPr>
          <a:xfrm>
            <a:off x="762120" y="29718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06" name="snap3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07" name="snap3" descr=""/>
          <p:cNvPicPr/>
          <p:nvPr/>
        </p:nvPicPr>
        <p:blipFill>
          <a:blip r:embed="rId7"/>
          <a:stretch/>
        </p:blipFill>
        <p:spPr>
          <a:xfrm>
            <a:off x="4419720" y="29718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08" name="snap3" descr=""/>
          <p:cNvPicPr/>
          <p:nvPr/>
        </p:nvPicPr>
        <p:blipFill>
          <a:blip r:embed="rId8"/>
          <a:stretch/>
        </p:blipFill>
        <p:spPr>
          <a:xfrm>
            <a:off x="6248520" y="29718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09" name="snap3" descr=""/>
          <p:cNvPicPr/>
          <p:nvPr/>
        </p:nvPicPr>
        <p:blipFill>
          <a:blip r:embed="rId9"/>
          <a:stretch/>
        </p:blipFill>
        <p:spPr>
          <a:xfrm>
            <a:off x="762120" y="45720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10" name="snap3" descr=""/>
          <p:cNvPicPr/>
          <p:nvPr/>
        </p:nvPicPr>
        <p:blipFill>
          <a:blip r:embed="rId10"/>
          <a:stretch/>
        </p:blipFill>
        <p:spPr>
          <a:xfrm>
            <a:off x="2590920" y="45720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11" name="snap3" descr=""/>
          <p:cNvPicPr/>
          <p:nvPr/>
        </p:nvPicPr>
        <p:blipFill>
          <a:blip r:embed="rId11"/>
          <a:stretch/>
        </p:blipFill>
        <p:spPr>
          <a:xfrm>
            <a:off x="4419720" y="457200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12" name="snap3" descr=""/>
          <p:cNvPicPr/>
          <p:nvPr/>
        </p:nvPicPr>
        <p:blipFill>
          <a:blip r:embed="rId12"/>
          <a:stretch/>
        </p:blipFill>
        <p:spPr>
          <a:xfrm>
            <a:off x="6248520" y="4572000"/>
            <a:ext cx="1657080" cy="1433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1295280"/>
            <a:ext cx="73915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295280"/>
            <a:ext cx="0" cy="4800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1295280"/>
            <a:ext cx="0" cy="487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95880"/>
            <a:ext cx="73915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295280"/>
            <a:ext cx="0" cy="4800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1295280"/>
            <a:ext cx="0" cy="4800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1295280"/>
            <a:ext cx="0" cy="4800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1295280"/>
            <a:ext cx="0" cy="4800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1295280"/>
            <a:ext cx="0" cy="4800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95480"/>
            <a:ext cx="73915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419720"/>
            <a:ext cx="365760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495680"/>
            <a:ext cx="73915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5515-33A0-439A-B1C3-41418E5318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to DoD Mi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 CMS brings HPC to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vanced object-orien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&amp;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ization of such cod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t-triv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for exampl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ModSA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FMS CHSSI failed to achieve scalability and was ter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elieve our new Parallel CMS will succeed and offe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nts for other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A61E-037E-4A7D-82BA-733057D0A0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LA Integration for HPC Applications Applied to C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ffrey C. Fox and Wojtek Furman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AC at Syracuse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80A1-CC2D-4D8B-BB8F-DBA1F15539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(Modified/Extended) Pla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allel C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Ft. Belvoi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ne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fo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MS CHSS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ne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w FMS us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rojects and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WebHL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152B-4FD8-4AA4-86DC-6D3EBF180E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d extend  WebHLA framework to suppor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acomputing F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 JWORB/OWRTI fo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a-Cluster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tributed C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commodity clusters (UNIX/NT works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acomputing C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app testbed for WebHLA based Metacomputing F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BDE7-6CF5-42E4-B6A9-B9BC6E923E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ccomplishments (1)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WORB/OWRTI based Cluster Management Service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 JWORB/OWRTI based cluster management servic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toty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itial tes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formed  using NPAC NT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ed port to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W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51BF-365C-4975-A88F-66C2B95AFF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bHLA based (Meta)Cluster Manage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clustermng1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276720" cy="2573280"/>
          </a:xfrm>
          <a:prstGeom prst="rect">
            <a:avLst/>
          </a:prstGeom>
          <a:ln w="0">
            <a:noFill/>
          </a:ln>
        </p:spPr>
      </p:pic>
      <p:pic>
        <p:nvPicPr>
          <p:cNvPr id="135" name="tree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505320" cy="2536920"/>
          </a:xfrm>
          <a:prstGeom prst="rect">
            <a:avLst/>
          </a:prstGeom>
          <a:ln w="0">
            <a:noFill/>
          </a:ln>
        </p:spPr>
      </p:pic>
      <p:pic>
        <p:nvPicPr>
          <p:cNvPr id="136" name="ring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3276720" cy="2495520"/>
          </a:xfrm>
          <a:prstGeom prst="rect">
            <a:avLst/>
          </a:prstGeom>
          <a:ln w="0">
            <a:noFill/>
          </a:ln>
        </p:spPr>
      </p:pic>
      <p:pic>
        <p:nvPicPr>
          <p:cNvPr id="137" name="hbmonitor" descr=""/>
          <p:cNvPicPr/>
          <p:nvPr/>
        </p:nvPicPr>
        <p:blipFill>
          <a:blip r:embed="rId4"/>
          <a:stretch/>
        </p:blipFill>
        <p:spPr>
          <a:xfrm>
            <a:off x="4343400" y="3733920"/>
            <a:ext cx="4114800" cy="24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8EA4-01EB-4074-8262-5D34B4E706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Accomplishments (2)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acomputing CMS Design &amp; Prototyp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HLA based Parallel CM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perat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ARL and CEW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t to CEWES June ‘99 to discuss MSRC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stem sup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JWORB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design of WebHLA + SPEEDES base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acomputing F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pro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9BDA-1D58-4E62-87D8-606B9E25D2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meta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578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D03A-B212-4A7E-88F4-A7677BC089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op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61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7D38-3E61-4FF6-9078-FA0EEFF79B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to DoD Mi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acomputing F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amework would enabl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erg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DoD and Web/Commodity (COTS)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H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pport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roperabilit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MPP and clusters and offers seamless Web interfaces for DoD us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3475-EF80-4941-9525-E2F25D9E34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al Observations on NACs and MSRC Accoun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 requirement &amp; processing backlog may impact some NPAC PE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t NAC applications also contribute to delays/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MS very vulnerable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tudents --&gt; more frequent changes (masters students --&gt; one year cy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fficient access to alternative hardware (especially O2Ks) if lose MSRC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8B91-4A43-48A0-82F5-2FEEA80FCF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Accomplishments (1): 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allel CMS Delivery for Ft. Belvoi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t. Belvoi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ques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ull Parallel CMS software release in Jun ‘99  - Interested both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P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omponents of WebHLA based Parallel CMS tested, packaged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live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l ‘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j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release: 60Meg tar.gz fil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769A-2B19-4BC4-B38B-5F18A6671A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la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895840" cy="2129040"/>
          </a:xfrm>
          <a:prstGeom prst="rect">
            <a:avLst/>
          </a:prstGeom>
          <a:ln w="0">
            <a:noFill/>
          </a:ln>
        </p:spPr>
      </p:pic>
      <p:pic>
        <p:nvPicPr>
          <p:cNvPr id="52" name="jdis3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2895840" cy="2127240"/>
          </a:xfrm>
          <a:prstGeom prst="rect">
            <a:avLst/>
          </a:prstGeom>
          <a:ln w="0">
            <a:noFill/>
          </a:ln>
        </p:spPr>
      </p:pic>
      <p:pic>
        <p:nvPicPr>
          <p:cNvPr id="53" name="sc982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2895840" cy="2200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allel CMS Delivery for Ft. Bel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cms_with_veh" descr=""/>
          <p:cNvPicPr/>
          <p:nvPr/>
        </p:nvPicPr>
        <p:blipFill>
          <a:blip r:embed="rId4"/>
          <a:stretch/>
        </p:blipFill>
        <p:spPr>
          <a:xfrm>
            <a:off x="6095880" y="1523880"/>
            <a:ext cx="2819520" cy="2067120"/>
          </a:xfrm>
          <a:prstGeom prst="rect">
            <a:avLst/>
          </a:prstGeom>
          <a:ln w="0">
            <a:noFill/>
          </a:ln>
        </p:spPr>
      </p:pic>
      <p:pic>
        <p:nvPicPr>
          <p:cNvPr id="56" name="modsaf" descr=""/>
          <p:cNvPicPr/>
          <p:nvPr/>
        </p:nvPicPr>
        <p:blipFill>
          <a:blip r:embed="rId5"/>
          <a:stretch/>
        </p:blipFill>
        <p:spPr>
          <a:xfrm>
            <a:off x="6095880" y="3657600"/>
            <a:ext cx="2819520" cy="2068560"/>
          </a:xfrm>
          <a:prstGeom prst="rect">
            <a:avLst/>
          </a:prstGeom>
          <a:ln w="0">
            <a:noFill/>
          </a:ln>
        </p:spPr>
      </p:pic>
      <p:pic>
        <p:nvPicPr>
          <p:cNvPr id="57" name="snap1" descr=""/>
          <p:cNvPicPr/>
          <p:nvPr/>
        </p:nvPicPr>
        <p:blipFill>
          <a:blip r:embed="rId6"/>
          <a:stretch/>
        </p:blipFill>
        <p:spPr>
          <a:xfrm>
            <a:off x="3124080" y="3733920"/>
            <a:ext cx="2895840" cy="2255760"/>
          </a:xfrm>
          <a:prstGeom prst="rect">
            <a:avLst/>
          </a:prstGeom>
          <a:ln w="0">
            <a:noFill/>
          </a:ln>
        </p:spPr>
      </p:pic>
      <p:pic>
        <p:nvPicPr>
          <p:cNvPr id="58" name="sc985" descr=""/>
          <p:cNvPicPr/>
          <p:nvPr/>
        </p:nvPicPr>
        <p:blipFill>
          <a:blip r:embed="rId7"/>
          <a:stretch/>
        </p:blipFill>
        <p:spPr>
          <a:xfrm flipH="1">
            <a:off x="2133720" y="5105520"/>
            <a:ext cx="213336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stealth_1" descr=""/>
          <p:cNvPicPr/>
          <p:nvPr/>
        </p:nvPicPr>
        <p:blipFill>
          <a:blip r:embed="rId8"/>
          <a:stretch/>
        </p:blipFill>
        <p:spPr>
          <a:xfrm>
            <a:off x="4343400" y="5410080"/>
            <a:ext cx="16002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F7E2-4CF5-45FE-8256-CEBAD73BDA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ccomplishments (2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T Support for CHSSI Beta Review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Beta Review Reports for Parallel IMPORT and Parallel NSS FMS CHSSI projects - bot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EE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E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stall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ARL, CEWES, NRL, NPAC workstations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ion runs at NRL (und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S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chedul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scaling up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NSS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ron reports now scaling up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M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F833-FB7E-4901-881E-D6965F7C96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638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F09D-50FA-4922-870D-2F9C3A89E1B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rallel NSS Performance  (100,000 Object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57400" y="1447920"/>
          <a:ext cx="5396040" cy="27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39604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981080" y="4267080"/>
          <a:ext cx="5631120" cy="152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267080"/>
                    <a:ext cx="5631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Accomplishments (3)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 New Users/Projects/Tech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C (SIMAF, ENM), DARPA/Teknowledge Co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jec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isual SPEEDES/IMPORT, Parallel Thunder/STORM, HPC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i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bFlow/UML =&gt; XMI =&gt; IMPORT =&gt; SPEEDES =&gt; H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uca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sentation at JSU Summer In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2E3A-FD4C-4848-8D97-6C7FCDCDA7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isual FMS Authoring Laborato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gefdemo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33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1143000"/>
            <a:ext cx="3606840" cy="2114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666880" y="167652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M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95480" y="5867280"/>
            <a:ext cx="1371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eb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486400" y="3200400"/>
            <a:ext cx="22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sual SPEED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C329-4D30-48D6-A208-9FAD158448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to DoD Mi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allel C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fers HPC support for new countermine engineering  at Ft. Belvo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EE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fers next generation platform for a broad range of DoD HPC M&amp;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H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egrates DoD and Web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Flow/UM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offer seamless access to HPC resource for FMS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341F-520E-4947-B1C9-39AB7906DE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8T21:40:03Z</dcterms:created>
  <dc:creator>David E Bernholdt</dc:creator>
  <dc:description/>
  <dc:language>en-US</dc:language>
  <cp:lastModifiedBy>David E Bernholdt</cp:lastModifiedBy>
  <cp:lastPrinted>1999-08-31T19:31:50Z</cp:lastPrinted>
  <dcterms:modified xsi:type="dcterms:W3CDTF">1999-08-31T22:17:39Z</dcterms:modified>
  <cp:revision>26</cp:revision>
  <dc:subject/>
  <dc:title>No Slide Title</dc:title>
</cp:coreProperties>
</file>