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BDC-805B-4061-91A2-FC79158B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D9B-67ED-4C28-AC39-C578645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B2C-72E3-4DB8-8A86-3D33C34E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CB5-5C2F-44D1-9EF8-406DEF8E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00C9-AB9C-4BF8-A55E-870A0FF8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5FC-7D43-4D12-9FFD-68BF586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E906-211F-43FA-98F3-BCDF44B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6824-F923-4605-8ECB-8E127BC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B536-5880-4801-9B4E-BE87804B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AAD3-2208-44B6-ADF8-0FD65E5F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8C7E-CE6A-4951-A69F-44CC9EE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381-82AF-45DC-90FF-DBDD992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E5F-9849-497C-8FEA-A9D3EB7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EB95-FC1A-42DD-B052-2979BA3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D8E8-ECF5-40BA-972F-1CD0AA06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9C4-8A6E-4755-9FC9-8C234549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99E-C6EA-42AF-BDFA-B10221F4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655-E17B-4DD6-B3BC-4ED0198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E9D-0D7E-440D-940A-8701A1D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89F-DE25-4E78-8AE6-164A6B3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DD9-B9EB-4ED7-AF8B-3F31C8B4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77C-6815-4BAA-9D61-648FAE2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165-BF4E-4E5E-AAE7-F5B6DE2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46E-3CD6-4F97-917D-15C31087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4858-3890-4DA6-8CA0-6B7C2F0747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E13-D846-4C2E-B9C2-03E6B0E3B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Tutorial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verview of Collaboration System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4114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ed by Geoffrey Fox, Marek Podgorny and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iance ‘98, April 2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‘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tango5" descr=""/>
          <p:cNvPicPr/>
          <p:nvPr/>
        </p:nvPicPr>
        <p:blipFill>
          <a:blip r:embed="rId1"/>
          <a:stretch/>
        </p:blipFill>
        <p:spPr>
          <a:xfrm>
            <a:off x="5562720" y="341280"/>
            <a:ext cx="3429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0663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RPA’s Vis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080" y="5904000"/>
            <a:ext cx="197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7760" y="5904000"/>
            <a:ext cx="3009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33520"/>
            <a:ext cx="7961400" cy="516564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149760" y="308304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6080" y="60580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505800" y="4235760"/>
            <a:ext cx="269136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89160" y="538200"/>
            <a:ext cx="10823400" cy="848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5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52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1520" y="3832200"/>
            <a:ext cx="187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The Industr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Client-Server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4957920"/>
            <a:ext cx="237960" cy="30924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512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19760" y="868320"/>
            <a:ext cx="2365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70400" y="1701720"/>
            <a:ext cx="23796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61040" y="58248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4880" y="45720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552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908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980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2088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3028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6880" y="5329080"/>
            <a:ext cx="29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MUDs/MBone/Standard VT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840" y="4206960"/>
            <a:ext cx="183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Web-bas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59960" y="833400"/>
            <a:ext cx="1777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7960" y="2408400"/>
            <a:ext cx="1855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1371600"/>
            <a:ext cx="16131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990720"/>
            <a:ext cx="1573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/a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3797280"/>
            <a:ext cx="8800920" cy="177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71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711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59240" y="3852720"/>
            <a:ext cx="23652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1360" y="3936960"/>
            <a:ext cx="1215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Vir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Re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MU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6800" y="362916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7960" y="4653000"/>
            <a:ext cx="214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Standard Sh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White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447920"/>
            <a:ext cx="1792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The DARP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Distribu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8600" y="3564000"/>
            <a:ext cx="23796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037040"/>
            <a:ext cx="17424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Group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Propri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5160" y="4368960"/>
            <a:ext cx="238320" cy="30924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6400800"/>
            <a:ext cx="2362320" cy="33732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ICV, DAR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563760"/>
            <a:ext cx="1289160" cy="812520"/>
            <a:chOff x="914400" y="563760"/>
            <a:chExt cx="1289160" cy="812520"/>
          </a:xfrm>
        </p:grpSpPr>
        <p:grpSp>
          <p:nvGrpSpPr>
            <p:cNvPr id="147" name=""/>
            <p:cNvGrpSpPr/>
            <p:nvPr/>
          </p:nvGrpSpPr>
          <p:grpSpPr>
            <a:xfrm>
              <a:off x="914400" y="563760"/>
              <a:ext cx="1289160" cy="812520"/>
              <a:chOff x="914400" y="563760"/>
              <a:chExt cx="1289160" cy="812520"/>
            </a:xfrm>
          </p:grpSpPr>
          <p:sp>
            <p:nvSpPr>
              <p:cNvPr id="148" name=""/>
              <p:cNvSpPr/>
              <p:nvPr/>
            </p:nvSpPr>
            <p:spPr>
              <a:xfrm>
                <a:off x="946440" y="641160"/>
                <a:ext cx="1185840" cy="696960"/>
              </a:xfrm>
              <a:prstGeom prst="ellipse">
                <a:avLst/>
              </a:prstGeom>
              <a:noFill/>
              <a:ln w="507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46440" y="641160"/>
                <a:ext cx="1174680" cy="684360"/>
              </a:xfrm>
              <a:prstGeom prst="ellipse">
                <a:avLst/>
              </a:prstGeom>
              <a:noFill/>
              <a:ln w="50760">
                <a:solidFill>
                  <a:srgbClr val="558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5800" y="641160"/>
                <a:ext cx="1152360" cy="684360"/>
              </a:xfrm>
              <a:prstGeom prst="ellipse">
                <a:avLst/>
              </a:prstGeom>
              <a:noFill/>
              <a:ln w="50760">
                <a:solidFill>
                  <a:srgbClr val="5d8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0200" y="657000"/>
                <a:ext cx="1128600" cy="652680"/>
              </a:xfrm>
              <a:prstGeom prst="ellipse">
                <a:avLst/>
              </a:prstGeom>
              <a:noFill/>
              <a:ln w="50760">
                <a:solidFill>
                  <a:srgbClr val="669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79560" y="657000"/>
                <a:ext cx="1106640" cy="652680"/>
              </a:xfrm>
              <a:prstGeom prst="ellipse">
                <a:avLst/>
              </a:prstGeom>
              <a:noFill/>
              <a:ln w="50760">
                <a:solidFill>
                  <a:srgbClr val="6e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2160" y="672840"/>
                <a:ext cx="1081080" cy="622440"/>
              </a:xfrm>
              <a:prstGeom prst="ellipse">
                <a:avLst/>
              </a:prstGeom>
              <a:noFill/>
              <a:ln w="50760">
                <a:solidFill>
                  <a:srgbClr val="77a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05120" y="672840"/>
                <a:ext cx="1057320" cy="622440"/>
              </a:xfrm>
              <a:prstGeom prst="ellipse">
                <a:avLst/>
              </a:prstGeom>
              <a:noFill/>
              <a:ln w="50760">
                <a:solidFill>
                  <a:srgbClr val="7fa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6280" y="685800"/>
                <a:ext cx="1033200" cy="593640"/>
              </a:xfrm>
              <a:prstGeom prst="ellipse">
                <a:avLst/>
              </a:prstGeom>
              <a:noFill/>
              <a:ln w="50760">
                <a:solidFill>
                  <a:srgbClr val="88a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880" y="685800"/>
                <a:ext cx="1009440" cy="593640"/>
              </a:xfrm>
              <a:prstGeom prst="ellipse">
                <a:avLst/>
              </a:prstGeom>
              <a:noFill/>
              <a:ln w="50760">
                <a:solidFill>
                  <a:srgbClr val="91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8240" y="703080"/>
                <a:ext cx="989280" cy="560520"/>
              </a:xfrm>
              <a:prstGeom prst="ellipse">
                <a:avLst/>
              </a:prstGeom>
              <a:noFill/>
              <a:ln w="50760">
                <a:solidFill>
                  <a:srgbClr val="99b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51200" y="703080"/>
                <a:ext cx="961920" cy="560520"/>
              </a:xfrm>
              <a:prstGeom prst="ellipse">
                <a:avLst/>
              </a:prstGeom>
              <a:noFill/>
              <a:ln w="50760">
                <a:solidFill>
                  <a:srgbClr val="a2b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63800" y="716040"/>
                <a:ext cx="939600" cy="534960"/>
              </a:xfrm>
              <a:prstGeom prst="ellipse">
                <a:avLst/>
              </a:prstGeom>
              <a:noFill/>
              <a:ln w="50760">
                <a:solidFill>
                  <a:srgbClr val="aac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74960" y="716040"/>
                <a:ext cx="915840" cy="534960"/>
              </a:xfrm>
              <a:prstGeom prst="ellipse">
                <a:avLst/>
              </a:prstGeom>
              <a:noFill/>
              <a:ln w="50760">
                <a:solidFill>
                  <a:srgbClr val="b3c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7560" y="716040"/>
                <a:ext cx="892080" cy="517320"/>
              </a:xfrm>
              <a:prstGeom prst="ellipse">
                <a:avLst/>
              </a:prstGeom>
              <a:noFill/>
              <a:ln w="50760">
                <a:solidFill>
                  <a:srgbClr val="bb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98720" y="731880"/>
                <a:ext cx="869760" cy="501480"/>
              </a:xfrm>
              <a:prstGeom prst="ellipse">
                <a:avLst/>
              </a:prstGeom>
              <a:noFill/>
              <a:ln w="50760">
                <a:solidFill>
                  <a:srgbClr val="c4d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09880" y="731880"/>
                <a:ext cx="844560" cy="4888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23920" y="747720"/>
                <a:ext cx="820800" cy="4730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3640" y="747720"/>
                <a:ext cx="798480" cy="4572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6240" y="761760"/>
                <a:ext cx="774720" cy="4431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57400" y="761760"/>
                <a:ext cx="750960" cy="4273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70000" y="777600"/>
                <a:ext cx="725760" cy="4114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82960" y="777600"/>
                <a:ext cx="703080" cy="397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92320" y="790560"/>
                <a:ext cx="681120" cy="384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04920" y="790560"/>
                <a:ext cx="657360" cy="36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6080" y="806400"/>
                <a:ext cx="63360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16080" y="806400"/>
                <a:ext cx="62064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28680" y="806400"/>
                <a:ext cx="596880" cy="33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41640" y="823680"/>
                <a:ext cx="573120" cy="3225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1000" y="823680"/>
                <a:ext cx="552600" cy="3063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63600" y="836640"/>
                <a:ext cx="527040" cy="29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74760" y="836640"/>
                <a:ext cx="503280" cy="276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7720" y="852480"/>
                <a:ext cx="479160" cy="260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00320" y="852480"/>
                <a:ext cx="453960" cy="2476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09680" y="865080"/>
                <a:ext cx="435240" cy="235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24080" y="865080"/>
                <a:ext cx="407880" cy="2192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33440" y="880920"/>
                <a:ext cx="385920" cy="20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6400" y="880920"/>
                <a:ext cx="361800" cy="190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59000" y="896760"/>
                <a:ext cx="336600" cy="1746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70160" y="896760"/>
                <a:ext cx="31428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82760" y="896760"/>
                <a:ext cx="29052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93920" y="911160"/>
                <a:ext cx="26676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5080" y="911160"/>
                <a:ext cx="24444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17680" y="927000"/>
                <a:ext cx="21924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28840" y="927000"/>
                <a:ext cx="19692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1440" y="939600"/>
                <a:ext cx="17316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52600" y="939600"/>
                <a:ext cx="14760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63760" y="955440"/>
                <a:ext cx="12708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78160" y="955440"/>
                <a:ext cx="10008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87520" y="971280"/>
                <a:ext cx="7956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0120" y="971280"/>
                <a:ext cx="5400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74920" y="946080"/>
                <a:ext cx="92160" cy="60120"/>
              </a:xfrm>
              <a:prstGeom prst="ellipse">
                <a:avLst/>
              </a:prstGeom>
              <a:solidFill>
                <a:srgbClr val="c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27360" y="622080"/>
                <a:ext cx="1223640" cy="735120"/>
              </a:xfrm>
              <a:prstGeom prst="ellipse">
                <a:avLst/>
              </a:prstGeom>
              <a:noFill/>
              <a:ln w="12600">
                <a:solidFill>
                  <a:srgbClr val="d2f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20880" y="644400"/>
                <a:ext cx="1224000" cy="69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14400" y="976320"/>
                <a:ext cx="121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92240" y="623880"/>
                <a:ext cx="89676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6" y="21583"/>
                    </a:moveTo>
                    <a:arcTo wR="10800" hR="10800" stAng="5595391" swAng="21477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6" y="21583"/>
                    </a:moveTo>
                    <a:arcTo wR="10800" hR="10800" stAng="5595391" swAng="21477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70080" y="623880"/>
                <a:ext cx="52848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50" y="21580"/>
                    </a:moveTo>
                    <a:arcTo wR="10800" hR="10800" stAng="5607172" swAng="21537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50" y="21580"/>
                    </a:moveTo>
                    <a:arcTo wR="10800" hR="10800" stAng="5607172" swAng="2153793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46480" y="623880"/>
                <a:ext cx="17424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4" y="21593"/>
                    </a:moveTo>
                    <a:arcTo wR="10800" hR="10800" stAng="5274471" swAng="21537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4" y="21593"/>
                    </a:moveTo>
                    <a:arcTo wR="10800" hR="10800" stAng="5274471" swAng="21537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39920" y="608400"/>
                <a:ext cx="39744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75" y="12994"/>
                    </a:moveTo>
                    <a:arcTo wR="10800" hR="10800" stAng="703147" swAng="100968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75" y="12994"/>
                    </a:moveTo>
                    <a:arcTo wR="10800" hR="10800" stAng="703147" swAng="1009685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1400" y="579600"/>
                <a:ext cx="6346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7"/>
                    </a:moveTo>
                    <a:arcTo wR="10800" hR="10800" stAng="-112319" swAng="11024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7"/>
                    </a:moveTo>
                    <a:arcTo wR="10800" hR="10800" stAng="-112319" swAng="1102407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33560" y="696600"/>
                <a:ext cx="9997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41720" y="1284120"/>
                <a:ext cx="39780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09960" y="1179360"/>
                <a:ext cx="634320" cy="19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49"/>
                    </a:moveTo>
                    <a:arcTo wR="10800" hR="10800" stAng="-10688242" swAng="105759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49"/>
                    </a:moveTo>
                    <a:arcTo wR="10800" hR="10800" stAng="-10688242" swAng="1057592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33560" y="1089000"/>
                <a:ext cx="99972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2"/>
                    </a:moveTo>
                    <a:arcTo wR="10800" hR="10800" stAng="-10733898" swAng="1066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2"/>
                    </a:moveTo>
                    <a:arcTo wR="10800" hR="10800" stAng="-10733898" swAng="106675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27360" y="960480"/>
                <a:ext cx="121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92240" y="609480"/>
                <a:ext cx="89676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5" y="21582"/>
                    </a:moveTo>
                    <a:arcTo wR="10800" hR="10800" stAng="5595844" swAng="214776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5" y="21582"/>
                    </a:moveTo>
                    <a:arcTo wR="10800" hR="10800" stAng="5595844" swAng="214776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82680" y="609480"/>
                <a:ext cx="5284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8" y="21580"/>
                    </a:moveTo>
                    <a:arcTo wR="10800" hR="10800" stAng="5607653" swAng="21537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8" y="21580"/>
                    </a:moveTo>
                    <a:arcTo wR="10800" hR="10800" stAng="5607653" swAng="2153779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6480" y="609480"/>
                <a:ext cx="17424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5" y="21593"/>
                    </a:moveTo>
                    <a:arcTo wR="10800" hR="10800" stAng="5274179" swAng="215371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5" y="21593"/>
                    </a:moveTo>
                    <a:arcTo wR="10800" hR="10800" stAng="5274179" swAng="215371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39920" y="595440"/>
                <a:ext cx="39780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4" y="13047"/>
                    </a:moveTo>
                    <a:arcTo wR="10800" hR="10800" stAng="720659" swAng="10254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4" y="13047"/>
                    </a:moveTo>
                    <a:arcTo wR="10800" hR="10800" stAng="720659" swAng="1025478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24000" y="563760"/>
                <a:ext cx="63324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6"/>
                    </a:moveTo>
                    <a:arcTo wR="10800" hR="10800" stAng="-112603" swAng="110240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6"/>
                    </a:moveTo>
                    <a:arcTo wR="10800" hR="10800" stAng="-112603" swAng="1102408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33560" y="666720"/>
                <a:ext cx="999720" cy="18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2"/>
                    </a:moveTo>
                    <a:arcTo wR="10800" hR="10800" stAng="-59781" swAng="10919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2"/>
                    </a:moveTo>
                    <a:arcTo wR="10800" hR="10800" stAng="-59781" swAng="1091956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41720" y="1253880"/>
                <a:ext cx="397800" cy="6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25800" y="1163520"/>
                <a:ext cx="6328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50"/>
                    </a:moveTo>
                    <a:arcTo wR="10800" hR="10800" stAng="-10688522" swAng="105759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50"/>
                    </a:moveTo>
                    <a:arcTo wR="10800" hR="10800" stAng="-10688522" swAng="105759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33560" y="1058760"/>
                <a:ext cx="99972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612"/>
                    </a:moveTo>
                    <a:arcTo wR="10800" hR="10800" stAng="-10740219" swAng="106804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612"/>
                    </a:moveTo>
                    <a:arcTo wR="10800" hR="10800" stAng="-10740219" swAng="1068043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47880" y="803160"/>
                <a:ext cx="125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33480" y="614160"/>
                <a:ext cx="1224000" cy="708120"/>
              </a:xfrm>
              <a:prstGeom prst="ellipse">
                <a:avLst/>
              </a:prstGeom>
              <a:noFill/>
              <a:ln w="255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045800" y="78588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91320" y="205740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ANG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active ‘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C88-569C-4F0E-8246-8B41A60BB7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Specific Darpa objective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access via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diverse portal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, from hand-held through room-siz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interoperabilit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cross diverse encoding formats, coordination and consistency protocols, and real-time servic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Sca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collaborations to 10 active contributors, 100 questioners, and 1,000 observe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needed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generate collaborative applicat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real-time discover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relevant collaborators and information within task contex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establish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llaborative sessions across heterogeneous environm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review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collaborative sess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Improve task-based perform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collaborators by two orders of magnitud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6324480"/>
            <a:ext cx="2361960" cy="33732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ICV, DAR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62920" y="716400"/>
            <a:ext cx="1288440" cy="812520"/>
            <a:chOff x="7162920" y="716400"/>
            <a:chExt cx="1288440" cy="812520"/>
          </a:xfrm>
        </p:grpSpPr>
        <p:grpSp>
          <p:nvGrpSpPr>
            <p:cNvPr id="229" name=""/>
            <p:cNvGrpSpPr/>
            <p:nvPr/>
          </p:nvGrpSpPr>
          <p:grpSpPr>
            <a:xfrm>
              <a:off x="7162920" y="716400"/>
              <a:ext cx="1288440" cy="812520"/>
              <a:chOff x="7162920" y="716400"/>
              <a:chExt cx="1288440" cy="812520"/>
            </a:xfrm>
          </p:grpSpPr>
          <p:sp>
            <p:nvSpPr>
              <p:cNvPr id="230" name=""/>
              <p:cNvSpPr/>
              <p:nvPr/>
            </p:nvSpPr>
            <p:spPr>
              <a:xfrm>
                <a:off x="7194600" y="793800"/>
                <a:ext cx="1185480" cy="696960"/>
              </a:xfrm>
              <a:prstGeom prst="ellipse">
                <a:avLst/>
              </a:prstGeom>
              <a:noFill/>
              <a:ln w="507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94600" y="793800"/>
                <a:ext cx="1174320" cy="684360"/>
              </a:xfrm>
              <a:prstGeom prst="ellipse">
                <a:avLst/>
              </a:prstGeom>
              <a:noFill/>
              <a:ln w="50760">
                <a:solidFill>
                  <a:srgbClr val="558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03960" y="793800"/>
                <a:ext cx="1152000" cy="684360"/>
              </a:xfrm>
              <a:prstGeom prst="ellipse">
                <a:avLst/>
              </a:prstGeom>
              <a:noFill/>
              <a:ln w="50760">
                <a:solidFill>
                  <a:srgbClr val="5d8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8360" y="809640"/>
                <a:ext cx="1128240" cy="652680"/>
              </a:xfrm>
              <a:prstGeom prst="ellipse">
                <a:avLst/>
              </a:prstGeom>
              <a:noFill/>
              <a:ln w="50760">
                <a:solidFill>
                  <a:srgbClr val="669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27720" y="809640"/>
                <a:ext cx="1106280" cy="652680"/>
              </a:xfrm>
              <a:prstGeom prst="ellipse">
                <a:avLst/>
              </a:prstGeom>
              <a:noFill/>
              <a:ln w="50760">
                <a:solidFill>
                  <a:srgbClr val="6e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40320" y="825480"/>
                <a:ext cx="1080720" cy="622440"/>
              </a:xfrm>
              <a:prstGeom prst="ellipse">
                <a:avLst/>
              </a:prstGeom>
              <a:noFill/>
              <a:ln w="50760">
                <a:solidFill>
                  <a:srgbClr val="77a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53280" y="825480"/>
                <a:ext cx="1056960" cy="622440"/>
              </a:xfrm>
              <a:prstGeom prst="ellipse">
                <a:avLst/>
              </a:prstGeom>
              <a:noFill/>
              <a:ln w="50760">
                <a:solidFill>
                  <a:srgbClr val="7fa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64440" y="838440"/>
                <a:ext cx="1032840" cy="593640"/>
              </a:xfrm>
              <a:prstGeom prst="ellipse">
                <a:avLst/>
              </a:prstGeom>
              <a:noFill/>
              <a:ln w="50760">
                <a:solidFill>
                  <a:srgbClr val="88a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77040" y="838440"/>
                <a:ext cx="1009080" cy="593640"/>
              </a:xfrm>
              <a:prstGeom prst="ellipse">
                <a:avLst/>
              </a:prstGeom>
              <a:noFill/>
              <a:ln w="50760">
                <a:solidFill>
                  <a:srgbClr val="91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6400" y="855720"/>
                <a:ext cx="988920" cy="560520"/>
              </a:xfrm>
              <a:prstGeom prst="ellipse">
                <a:avLst/>
              </a:prstGeom>
              <a:noFill/>
              <a:ln w="50760">
                <a:solidFill>
                  <a:srgbClr val="99b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99360" y="855720"/>
                <a:ext cx="961560" cy="560520"/>
              </a:xfrm>
              <a:prstGeom prst="ellipse">
                <a:avLst/>
              </a:prstGeom>
              <a:noFill/>
              <a:ln w="50760">
                <a:solidFill>
                  <a:srgbClr val="a2b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11960" y="868680"/>
                <a:ext cx="939240" cy="534960"/>
              </a:xfrm>
              <a:prstGeom prst="ellipse">
                <a:avLst/>
              </a:prstGeom>
              <a:noFill/>
              <a:ln w="50760">
                <a:solidFill>
                  <a:srgbClr val="aac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23120" y="868680"/>
                <a:ext cx="915480" cy="534960"/>
              </a:xfrm>
              <a:prstGeom prst="ellipse">
                <a:avLst/>
              </a:prstGeom>
              <a:noFill/>
              <a:ln w="50760">
                <a:solidFill>
                  <a:srgbClr val="b3c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35720" y="868680"/>
                <a:ext cx="891720" cy="517320"/>
              </a:xfrm>
              <a:prstGeom prst="ellipse">
                <a:avLst/>
              </a:prstGeom>
              <a:noFill/>
              <a:ln w="50760">
                <a:solidFill>
                  <a:srgbClr val="bb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46880" y="884520"/>
                <a:ext cx="869400" cy="501480"/>
              </a:xfrm>
              <a:prstGeom prst="ellipse">
                <a:avLst/>
              </a:prstGeom>
              <a:noFill/>
              <a:ln w="50760">
                <a:solidFill>
                  <a:srgbClr val="c4d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58040" y="884520"/>
                <a:ext cx="844200" cy="4888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72080" y="900360"/>
                <a:ext cx="820440" cy="4730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81800" y="900360"/>
                <a:ext cx="798120" cy="4572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94400" y="914400"/>
                <a:ext cx="774360" cy="4431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05560" y="914400"/>
                <a:ext cx="750600" cy="4273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18160" y="930240"/>
                <a:ext cx="725400" cy="4114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31120" y="930240"/>
                <a:ext cx="702720" cy="397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40480" y="943200"/>
                <a:ext cx="680760" cy="384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53080" y="943200"/>
                <a:ext cx="657000" cy="36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4240" y="959040"/>
                <a:ext cx="63324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4240" y="959040"/>
                <a:ext cx="62028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76840" y="959040"/>
                <a:ext cx="596520" cy="33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89800" y="976320"/>
                <a:ext cx="572760" cy="3225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99160" y="976320"/>
                <a:ext cx="552240" cy="3063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11760" y="989280"/>
                <a:ext cx="526680" cy="29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22920" y="989280"/>
                <a:ext cx="502920" cy="276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35880" y="1005120"/>
                <a:ext cx="478800" cy="260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48480" y="1005120"/>
                <a:ext cx="453600" cy="2476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57840" y="1017720"/>
                <a:ext cx="434880" cy="235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72240" y="1017720"/>
                <a:ext cx="407520" cy="2192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81600" y="1033560"/>
                <a:ext cx="385560" cy="20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94560" y="1033560"/>
                <a:ext cx="361440" cy="190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07160" y="1049400"/>
                <a:ext cx="336240" cy="1746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18320" y="1049400"/>
                <a:ext cx="31392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30920" y="1049400"/>
                <a:ext cx="29016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42080" y="1063800"/>
                <a:ext cx="26640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3240" y="1063800"/>
                <a:ext cx="24408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65840" y="1079640"/>
                <a:ext cx="21888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77000" y="1079640"/>
                <a:ext cx="19656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89600" y="1092240"/>
                <a:ext cx="17280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00760" y="1092240"/>
                <a:ext cx="14724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11920" y="1108080"/>
                <a:ext cx="12672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26320" y="1108080"/>
                <a:ext cx="9972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35680" y="1123920"/>
                <a:ext cx="7920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48280" y="1123920"/>
                <a:ext cx="5364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23080" y="1098720"/>
                <a:ext cx="91800" cy="60120"/>
              </a:xfrm>
              <a:prstGeom prst="ellipse">
                <a:avLst/>
              </a:prstGeom>
              <a:solidFill>
                <a:srgbClr val="c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5520" y="774720"/>
                <a:ext cx="1223280" cy="735120"/>
              </a:xfrm>
              <a:prstGeom prst="ellipse">
                <a:avLst/>
              </a:prstGeom>
              <a:noFill/>
              <a:ln w="12600">
                <a:solidFill>
                  <a:srgbClr val="d2f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69040" y="797040"/>
                <a:ext cx="1223640" cy="69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62920" y="1128960"/>
                <a:ext cx="121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40400" y="776520"/>
                <a:ext cx="89640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6" y="21583"/>
                    </a:moveTo>
                    <a:arcTo wR="10800" hR="10800" stAng="5595391" swAng="21477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6" y="21583"/>
                    </a:moveTo>
                    <a:arcTo wR="10800" hR="10800" stAng="5595391" swAng="21477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18240" y="776520"/>
                <a:ext cx="52812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50" y="21580"/>
                    </a:moveTo>
                    <a:arcTo wR="10800" hR="10800" stAng="5607172" swAng="21537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50" y="21580"/>
                    </a:moveTo>
                    <a:arcTo wR="10800" hR="10800" stAng="5607172" swAng="2153793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94640" y="776520"/>
                <a:ext cx="17388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4" y="21593"/>
                    </a:moveTo>
                    <a:arcTo wR="10800" hR="10800" stAng="5274471" swAng="21537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4" y="21593"/>
                    </a:moveTo>
                    <a:arcTo wR="10800" hR="10800" stAng="5274471" swAng="21537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88080" y="761040"/>
                <a:ext cx="3970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75" y="12994"/>
                    </a:moveTo>
                    <a:arcTo wR="10800" hR="10800" stAng="703147" swAng="100968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75" y="12994"/>
                    </a:moveTo>
                    <a:arcTo wR="10800" hR="10800" stAng="703147" swAng="1009685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59560" y="732240"/>
                <a:ext cx="6343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7"/>
                    </a:moveTo>
                    <a:arcTo wR="10800" hR="10800" stAng="-112319" swAng="11024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7"/>
                    </a:moveTo>
                    <a:arcTo wR="10800" hR="10800" stAng="-112319" swAng="1102407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81720" y="849240"/>
                <a:ext cx="99936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89880" y="1436760"/>
                <a:ext cx="39744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58120" y="1332000"/>
                <a:ext cx="633960" cy="19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49"/>
                    </a:moveTo>
                    <a:arcTo wR="10800" hR="10800" stAng="-10688242" swAng="105759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49"/>
                    </a:moveTo>
                    <a:arcTo wR="10800" hR="10800" stAng="-10688242" swAng="1057592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81720" y="1241640"/>
                <a:ext cx="99936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2"/>
                    </a:moveTo>
                    <a:arcTo wR="10800" hR="10800" stAng="-10733898" swAng="1066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2"/>
                    </a:moveTo>
                    <a:arcTo wR="10800" hR="10800" stAng="-10733898" swAng="106675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75520" y="1113120"/>
                <a:ext cx="121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40400" y="762120"/>
                <a:ext cx="89640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5" y="21582"/>
                    </a:moveTo>
                    <a:arcTo wR="10800" hR="10800" stAng="5595844" swAng="214776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5" y="21582"/>
                    </a:moveTo>
                    <a:arcTo wR="10800" hR="10800" stAng="5595844" swAng="214776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30840" y="762120"/>
                <a:ext cx="52812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8" y="21580"/>
                    </a:moveTo>
                    <a:arcTo wR="10800" hR="10800" stAng="5607653" swAng="21537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8" y="21580"/>
                    </a:moveTo>
                    <a:arcTo wR="10800" hR="10800" stAng="5607653" swAng="2153779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94640" y="762120"/>
                <a:ext cx="1738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5" y="21593"/>
                    </a:moveTo>
                    <a:arcTo wR="10800" hR="10800" stAng="5274179" swAng="215371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5" y="21593"/>
                    </a:moveTo>
                    <a:arcTo wR="10800" hR="10800" stAng="5274179" swAng="215371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88080" y="748080"/>
                <a:ext cx="3974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4" y="13047"/>
                    </a:moveTo>
                    <a:arcTo wR="10800" hR="10800" stAng="720659" swAng="10254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4" y="13047"/>
                    </a:moveTo>
                    <a:arcTo wR="10800" hR="10800" stAng="720659" swAng="1025478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72160" y="716400"/>
                <a:ext cx="6325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6"/>
                    </a:moveTo>
                    <a:arcTo wR="10800" hR="10800" stAng="-112603" swAng="110240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6"/>
                    </a:moveTo>
                    <a:arcTo wR="10800" hR="10800" stAng="-112603" swAng="1102408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1720" y="819360"/>
                <a:ext cx="999360" cy="18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2"/>
                    </a:moveTo>
                    <a:arcTo wR="10800" hR="10800" stAng="-59781" swAng="10919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2"/>
                    </a:moveTo>
                    <a:arcTo wR="10800" hR="10800" stAng="-59781" swAng="1091956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89880" y="1406520"/>
                <a:ext cx="397440" cy="6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73960" y="1316160"/>
                <a:ext cx="6325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50"/>
                    </a:moveTo>
                    <a:arcTo wR="10800" hR="10800" stAng="-10688522" swAng="105759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50"/>
                    </a:moveTo>
                    <a:arcTo wR="10800" hR="10800" stAng="-10688522" swAng="105759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281720" y="1211400"/>
                <a:ext cx="99936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612"/>
                    </a:moveTo>
                    <a:arcTo wR="10800" hR="10800" stAng="-10740219" swAng="106804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612"/>
                    </a:moveTo>
                    <a:arcTo wR="10800" hR="10800" stAng="-10740219" swAng="1068043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96040" y="955800"/>
                <a:ext cx="1255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81640" y="766800"/>
                <a:ext cx="1223640" cy="708120"/>
              </a:xfrm>
              <a:prstGeom prst="ellipse">
                <a:avLst/>
              </a:prstGeom>
              <a:noFill/>
              <a:ln w="255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293960" y="93852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580-89AF-4A1B-815C-64C3D3435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ercial systems -- Netscap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1295280"/>
            <a:ext cx="9143640" cy="5140080"/>
            <a:chOff x="0" y="1295280"/>
            <a:chExt cx="9143640" cy="5140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7311960" cy="51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1374120" y="1646640"/>
              <a:ext cx="6854760" cy="45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2765520" y="1815120"/>
              <a:ext cx="6157800" cy="43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554720" y="3058200"/>
              <a:ext cx="4588920" cy="334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4C7-D05B-42AB-B3DE-91F2B78F1F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etscape Communicator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ware support: e-mail, discussion groups (Collabra), calendar, and conference ag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erence agent: 2-party Internet phone, chat, whiteboard, shared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ot ther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curity, multi-application session control, multiparty audio/video, session recording, extensi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us: a loosely coupled collection of well-known Internet communication tools with slightly improved, coherent look-end-feel  interfac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F68-3DDE-4CD4-9A25-9FCCF2D10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mmunicator: Future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scape declares XML and RDF, i.e. metadata applications, to be the next fronti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-time customizable netcasting paradigm with event-notification that triggers automatic alarms for different event categ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space customization (response to MS Windows 98?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one of these thrusts addresses synchronous collaboration - is is all “better asynchronous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B6E-B4D2-4DE0-8ACB-4C22A1AF3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mercial systems - Microsof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985680"/>
            <a:ext cx="9143640" cy="5600160"/>
            <a:chOff x="0" y="985680"/>
            <a:chExt cx="9143640" cy="560016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985680"/>
              <a:ext cx="7857360" cy="52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2712960" y="1453320"/>
              <a:ext cx="5600520" cy="38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3274200" y="2669040"/>
              <a:ext cx="5869440" cy="391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D7D-422C-45ED-B68A-637D860C45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icrosoft NetMeeting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icrosoft NetMee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a PC desktop conferencing system that provid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 sha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y replicating display and input to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icrosoft single-user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ncrypted, point-to-poi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dio/video conferenc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.32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ard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-user whiteboar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ext chat and file transfer, using T.120 standard for data conferenc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ory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map names to network address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8D7-836D-4DDB-955E-E5EA38181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icrosoft NetMeeting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can only participate in one conference at a time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upport is provided for the conference reco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interface to any asynchronous  groupwa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/Video point-to-point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C-only 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10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tensi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Meeting API allows integration of NM functionality in 3rd part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7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es interface to T.120 channe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M itself cannot be expanded at pres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C73-1FFC-4E1C-9BBF-BADF7760F9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icrosoft NetMeeting futur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Meeting will be included as part of all Microsoft operating system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urprise, surprise...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brace  (T.120, H.320, H.323 and H.324) and extend standards (T.share)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 API to allow third party developers to build value added NetMeeting add-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directory services (proprietary and standard) to dynamically locate collaborato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ome projec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6EF-F179-4B1D-ACE1-F4B89FBCFE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aboratory systems: Taxonomy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archit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ared display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ingle instance of appli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user input &amp; display replicated via conference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Entire functionalit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application is shar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amples: Shared X (HP), NetMeeting (MS), ProShare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 (Intel), ShowMe (Sun), Timbuktu (Farallo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simple to impl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Dis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functio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simplistic, inflexible, awkward session control model, insecure (no data access control), no support for asynchronous collabora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perform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generate significant data traffic, unsuitable for  WA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incompati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with Web programming model assuming local intelligenc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9B4-7D44-4093-8324-6CCE5C42D5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ory systems - an overvie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ynchronous and synchronous groupwa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 domains of 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functiona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 modu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kaging, installation, and mainten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ment for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terac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C19-8862-49EB-A016-A70235F1B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aboratory systems: Taxonomy I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asic architectur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vent broadcasting: each workstation runs its </a:t>
            </a:r>
            <a:r>
              <a:rPr b="1" lang="en-US" sz="2600" spc="-1" strike="noStrike">
                <a:solidFill>
                  <a:srgbClr val="ffcc00"/>
                </a:solidFill>
                <a:latin typeface="Times New Roman"/>
              </a:rPr>
              <a:t>own copy of applica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(A) Virtual inst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all events shared (</a:t>
            </a:r>
            <a:r>
              <a:rPr b="1" lang="en-US" sz="2200" spc="-1" strike="noStrike">
                <a:solidFill>
                  <a:srgbClr val="cbcbcb"/>
                </a:solidFill>
                <a:latin typeface="Times New Roman"/>
              </a:rPr>
              <a:t>collaboration transparenc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(B) Independent data view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cbcbcb"/>
                </a:solidFill>
                <a:latin typeface="Times New Roman"/>
              </a:rPr>
              <a:t>som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events shar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amples: Habanero (NCSA - B), Java Collab. Toolset (Old Dominion - A ), ProMondia (Univ. of Nuernberg - B), DISCIPLE (Rutgers University - A/B), TANGO (NPAC - A/B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Dis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new category of SW, 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ifficult to impl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infinitely flexible and adaptable, generate little network traffic, perfectly fit Web/Java paradigm, can implement security, can support asynchronous collaboration…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672-CBCB-44E1-85C4-F1F975351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llaboration Transparency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ign a system that allows using an applicatio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esigned for a single individu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be used by a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roup of peo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changing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yth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applic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display applications implement collaboration transparenc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osed extension of the paradigm to the event broadcasting architectures (Old Dominions’ JCT, Virginia Tech’s JAM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pproach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ification of the Java AW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automatically distribute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A89-D169-4D70-8EC8-AFDDC51A70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nt Broadcasting: Criticism and Answers?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ing possible only if applications deterministi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pplications ARE deterministic or can be made s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s of applications must be present everywhe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but they are, being applets or downloaded via a push chann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s must be identic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Java VM takes care about th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state of a newcomer impossible to defi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ot so for good OO design and object serialization mechani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 maintain consistency among cop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ifficult </a:t>
            </a: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Impossible. Variety of sync mechanisms available based on JavaBeans/RMI/CORBA et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6172200"/>
            <a:ext cx="62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Web model enables event broadcasting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48E-5B0A-4DA6-87DF-025EC5E597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vs. Synchrono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relationship for Web collaborat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 primary Web function is asynchronous information publishing, Web-based collaboratories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nherently lin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wo mod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th modes focus on the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basic concept of a “shared object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h modes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h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esentation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ous mode may create or persistently enhance/modify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database linkage technology (based on JDBC/ Enterprise JavaBeans) promotes complex asynchronous collaboration by exposing rich data models of industrial-strength relational and OO DBMS’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Both! Tango will be link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tus No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is summ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520-F20B-4336-BF61-82CDC82144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vs. Synchrono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-oriented middleware can  easily be used in synchronous m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ce, Web three-tier database architecture with i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Bean/CORBA/C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iddleware forms an ideal foundation for synchronous sharing of self-describing obj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Brows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the simplest example of the general idea of Web-based integrated sync/async collaborat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Wisd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discussed later) is a an example of customized web linkage of synchronous and asynchronous collab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st mature Integrated Collaboration Environments (ICEs) will be Web-ba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13C-24AD-4FB2-B942-88DD5E04F5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focus for ICE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ut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reation of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ication of OO software engineering methodologies, such as JavaBeans or CORB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dap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ssion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of QoS support and Integrated Services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nteropera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accessibility via different port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xt-base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ecord retrie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 informal collaboration sessions in multimedia arch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relevant indexing, search  and browsing capabilit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multimedia presentation an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not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901-FE04-45C7-8524-AE856C9898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focus for ICEs II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-base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ollaborators disco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 of shared  workspaces based on shared-interest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-search engine with security and access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ive Team Dynamic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, remember, modify, and reproduce on demand session sett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ffectiveness assessment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e role-based view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data views syste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bedding active elements in collaborative applications as need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/security/access/display contro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CD0-CAC5-48CF-836A-F84DF7CECA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daptive 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mal lo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information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coding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portal capab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 gateways to translate encodings between various standar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ssion-based resource allo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ccording to task complexity, priorities, available bandwidth and connectiv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ority reservation of bandwidth based on user initiated requests (RSVP protoco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, multi-point adaptation of resources (session bandwidth, display transcoding, and object placement) within a multi-user session based on task, resource availability, connectivity, and access port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5C2-7EAA-410D-9866-6D9910E1A7A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nchronous collaboratory and persiste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ure of informal collaborations in multiple med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ure  of session semantic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 of rich semantic indices of multi-media archi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dat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synchronous m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tion of  threaded discussions through user provided semantic ta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etadata-oriented search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und doc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on of compound documents with multiple media no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ing of compound documents with active, collaborative compon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lingu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rch of text repositori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ext Based Record Retriev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733-8007-4E03-845A-CA405F37801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ask-Based Collaborator Discovery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tool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ual and automatic creation of shared, multi-user worksp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shared-interest communiti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search eng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bined with meta-data re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e session capt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dynamic creation of interest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user-searchable distributed directory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-oriented disco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 and model user’s task-based interests in real-ti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re and contrast a user’s task-based interest model against the interest models of other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ify potential collaborators about possibly effective match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062-B4B7-4E6B-A924-D09AFA589E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roupware Defini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 basic components of groupware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nowledge base - technically, a data repository of any kin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 - a set of rules describing the activity in which a group of people participates and therefore defining the scope of collaboration pro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on - a process of exchanging messages between group membe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components are intertwin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tasks employ three components to a various degre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414-1FCD-4DE1-BE13-0252A1A83D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daptive Team Dynamic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g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kflow scripting langu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ied to asynchronous repositor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stig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kflow issues for  mobile t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automated support for adjusting workflow in response to changing situation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meta-rule system (rules for changing the rules) that allows a team to evolve their own process model over time in response to changing team composition, situation, and t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 team dynamics in real-time to detect when the current  process model is becoming ineffect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utomatically appropriate process models based upon team composition, situation, and t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D7D-B171-49B3-95CA-4BE663AE60B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ctive, Role-Based View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interaction in 3-D virtual reality view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s for shared control of single us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d control of browsers, including support for sharing of embedd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control of replicated, time-aware, self-rendering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chitectures for shared application viewing using embedded or linked application objects and/or application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of role-based application views from a shared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-controlled viewing of simulation outputs in interactive environ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1BE-3E0A-4983-A91D-C0077A71258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ANGO is more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han a LOGO?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e will now see ...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trurl.npac.syr.edu/tan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tango1" descr=""/>
          <p:cNvPicPr/>
          <p:nvPr/>
        </p:nvPicPr>
        <p:blipFill>
          <a:blip r:embed="rId1"/>
          <a:stretch/>
        </p:blipFill>
        <p:spPr>
          <a:xfrm>
            <a:off x="0" y="2651040"/>
            <a:ext cx="4419720" cy="2633760"/>
          </a:xfrm>
          <a:prstGeom prst="rect">
            <a:avLst/>
          </a:prstGeom>
          <a:ln w="0">
            <a:noFill/>
          </a:ln>
        </p:spPr>
      </p:pic>
      <p:pic>
        <p:nvPicPr>
          <p:cNvPr id="361" name="tango8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572000" cy="2624400"/>
          </a:xfrm>
          <a:prstGeom prst="rect">
            <a:avLst/>
          </a:prstGeom>
          <a:ln w="0">
            <a:noFill/>
          </a:ln>
        </p:spPr>
      </p:pic>
      <p:pic>
        <p:nvPicPr>
          <p:cNvPr id="362" name="tango7" descr=""/>
          <p:cNvPicPr/>
          <p:nvPr/>
        </p:nvPicPr>
        <p:blipFill>
          <a:blip r:embed="rId3"/>
          <a:stretch/>
        </p:blipFill>
        <p:spPr>
          <a:xfrm>
            <a:off x="4952880" y="0"/>
            <a:ext cx="3886200" cy="25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FEF-8FD5-4FAD-937A-CE24DDC8FE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eb Impact on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ss to data repositories has been revolutioniz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“globalized” knowledge base is unstructur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to implement metadata and divorce structure from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ce, XML and RDF initiatives critical for internet groupware (not a subject of this tutoria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ttle impact on the workflow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enables synchronous collaboratory - as we will show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79B-232E-46B7-8417-3B2ABE473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ditional approach is to support asynchronous collabo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onic mail, including mailing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ed discussion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to document management syste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media mail exten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calendar and schedu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ynchronous process is self-document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mendously successful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d not supplant phone though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340-002A-4CB7-A28B-12ADD3F9E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nchronous collabo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ynchronous collabo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process of a computer-mediated exchange of information in which messages are being transmitted and presented to the user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tantaneous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presentation tools designed to convey message semantics in the most efficient wa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the notion of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ynchronous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being extended to also denote the proces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ynchronous retrieval of the sessions of synchronous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ssions (record and playback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 plain Englis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replace phone/fax by desktop 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525-8888-4C37-BAC5-626640F5EE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nchronous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ditionally, this includes desktop videoconferencing + ameniti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board for simple draw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t as audio/video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times, limited-functionality shared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conferencing” : ability to share 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ed as “shared application” using one of very general “display sharing”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4F8-AC82-45D0-BB58-92B598CAB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ynchronous groupware: state of the art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teleconferencing supporting a few coding standards,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.323 complia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cast Backbone with related tools for session notification, video, audio, and shared whiteboa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BONE architecture is very multicast-oriented…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User Domains (MUDs) with either text-based or 3-D graphical interfac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cult technology, Metaverse rather than collabor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X and Windows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-purpose custom-made Shar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ercial packages (to be discussed separatel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A41-48D4-446F-A754-A671E43A0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e of the art - Limit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lability: never proven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support for different user categ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operability still a problem after a decade of “open systems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or no support for asynchronous collabor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 either sense of the ter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flexible process suppor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dimentary session control and community/group dynamics supp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upport for context-based discovery of relevant collaborators and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93D-0F87-47FC-9184-6175A5959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4-26T01:13:39Z</cp:lastPrinted>
  <dcterms:modified xsi:type="dcterms:W3CDTF">1998-04-26T01:13:45Z</dcterms:modified>
  <cp:revision>3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