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32B9F-E510-4B25-9993-34AAED6EB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EC57A-EA5D-4887-92E6-B471A9705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BA3DF-8CED-4224-9D6A-CEFB7048A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ADA4-9EBB-4FCB-A8F6-C0124A716E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1C704-6498-4FBE-958B-B75A047766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70357-0878-4F22-91CC-31411AD32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465C-DC57-4E82-B674-160D99DB7F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F4D05-72B4-44F6-9FB5-D49FA86D4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797B-7A28-4AE3-ADA5-C5364F058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C1FA4-9287-4C78-B86A-C63BFDE8E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A79C0-5814-4B0F-B1CA-2D5F236FE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9E5F-27B0-4C43-80B0-825CBD6E7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6760-5715-4457-B47A-4C715F8EBF62}" type="slidenum">
              <a:rPr b="0" lang="en-US" sz="9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ETIMAGE" descr=""/>
          <p:cNvPicPr/>
          <p:nvPr/>
        </p:nvPicPr>
        <p:blipFill>
          <a:blip r:embed="rId2"/>
          <a:stretch/>
        </p:blipFill>
        <p:spPr>
          <a:xfrm>
            <a:off x="504720" y="0"/>
            <a:ext cx="8334360" cy="533520"/>
          </a:xfrm>
          <a:prstGeom prst="rect">
            <a:avLst/>
          </a:prstGeom>
          <a:ln w="0">
            <a:noFill/>
          </a:ln>
        </p:spPr>
      </p:pic>
      <p:pic>
        <p:nvPicPr>
          <p:cNvPr id="4" name="Nrclogo" descr=""/>
          <p:cNvPicPr/>
          <p:nvPr/>
        </p:nvPicPr>
        <p:blipFill>
          <a:blip r:embed="rId3"/>
          <a:stretch/>
        </p:blipFill>
        <p:spPr>
          <a:xfrm>
            <a:off x="0" y="6149880"/>
            <a:ext cx="1892160" cy="708120"/>
          </a:xfrm>
          <a:prstGeom prst="rect">
            <a:avLst/>
          </a:prstGeom>
          <a:ln w="0">
            <a:noFill/>
          </a:ln>
        </p:spPr>
      </p:pic>
      <p:pic>
        <p:nvPicPr>
          <p:cNvPr id="5" name="newmsrclogo" descr=""/>
          <p:cNvPicPr/>
          <p:nvPr/>
        </p:nvPicPr>
        <p:blipFill>
          <a:blip r:embed="rId4"/>
          <a:stretch/>
        </p:blipFill>
        <p:spPr>
          <a:xfrm>
            <a:off x="6705720" y="6122880"/>
            <a:ext cx="213336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Prototype Distance HPC Training for DoD User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Leslie Souther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hio Supercomputer Center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avid Bernhold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/Syracuse Univer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nnual Review 9-10 February 1999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8839-414F-477F-8A8B-34166CD139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58800" y="611280"/>
          <a:ext cx="7864560" cy="63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611280"/>
                    <a:ext cx="7864560" cy="63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488CC-18B5-4E0A-947C-45E3D1F1D9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343400" cy="4610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Financial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PAC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SC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800600" y="2209680"/>
          <a:ext cx="3886200" cy="388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2209680"/>
                    <a:ext cx="388620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EA4F-6037-4552-AC82-84F4415B0B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taffing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PAC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avid Bernhold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Jin Jianxia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orka Lucen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om Major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arek Podgorn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om Stachowiak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emek Trzask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SC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Leslie Souther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roy Baer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avid Enni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Jim Giuliani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BB28A-7AC8-43DB-BCAC-C084683221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ango Improvements for Distance Training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Used during second training…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-277200">
              <a:spcBef>
                <a:spcPts val="176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ew, more sophisticated ‘chat’ too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-277200">
              <a:spcBef>
                <a:spcPts val="176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Java-based shared telnet/terminal emulato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spcBef>
                <a:spcPts val="2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rthcoming improvements dictated in whole or in part by distance training requirement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-277200">
              <a:spcBef>
                <a:spcPts val="176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ew Buena Vista (a/v conferencing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-277200">
              <a:spcBef>
                <a:spcPts val="176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edesigned Control Application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-277200">
              <a:spcBef>
                <a:spcPts val="176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reatly enhanced overall stabilit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B0AC-BF13-4DA0-8C21-8A6DFDFC95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us_state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5138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1905120"/>
            <a:ext cx="4343400" cy="42390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uccessfully demonst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rogram-wide MS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emote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xperienced” support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irect to desktop” given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good support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2514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3886200"/>
            <a:ext cx="38088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4267080"/>
            <a:ext cx="38088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2590920"/>
            <a:ext cx="381240" cy="304560"/>
          </a:xfrm>
          <a:prstGeom prst="star5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2514600"/>
            <a:ext cx="38124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2438280"/>
            <a:ext cx="38124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18148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ing Year 4, NPAC encourages anyone giving training to consider making it a distance training &amp; will assist. Thanks to NPAC, OSC instructors are experienced Tango users and can offer their courses using Tang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562720" y="2742840"/>
            <a:ext cx="685800" cy="1143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562720" y="2742840"/>
            <a:ext cx="838080" cy="1143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562720" y="1904760"/>
            <a:ext cx="1676160" cy="19810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2742840"/>
            <a:ext cx="1676160" cy="1143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562720" y="2895480"/>
            <a:ext cx="1752480" cy="990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4191120"/>
            <a:ext cx="7632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233BA-20C4-435C-B6C0-1D5A25F9C4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ango-based distance training for the PET program has been successfully demonstrated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on-NPAC instructor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ll four MSRCs and a DC involved (plus OSC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Lessons Learned will help contribute to guidelines for instructors, students, and support staff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73BD-7AE6-4BD8-B18D-551437379D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Summary (2)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ese distance training exercises were relatively expensive, but show that approach can be made more routine -- especially w/ “experienced” support staff at all MSRC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oordinating training room &amp; support staff schedules at recipient sites is perhaps the single hardest aspect of distance training :-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E51DB-7950-4527-AE57-CC52C12FF8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Summary (3)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irect to the desktop” delivery will be feasible, but will require good support network until users are more familiar with Tango or similar tool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2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uring Year 4, NPAC encourages anyone giving a training to consider making it a distance training &amp; will assist.  Thanks to NPAC, OSC instructors are experienced Tango users and can offer their courses using Tango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AF88-F0DA-4A84-810F-66197F621A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7T15:05:40Z</dcterms:created>
  <dc:creator>John T. Eberle</dc:creator>
  <dc:description/>
  <dc:language>en-US</dc:language>
  <cp:lastModifiedBy>David E Bernholdt</cp:lastModifiedBy>
  <cp:lastPrinted>1999-01-29T20:10:42Z</cp:lastPrinted>
  <dcterms:modified xsi:type="dcterms:W3CDTF">1999-01-29T21:21:11Z</dcterms:modified>
  <cp:revision>11</cp:revision>
  <dc:subject/>
  <dc:title>No Slide Title</dc:title>
</cp:coreProperties>
</file>