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485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D848-7199-4DE8-B573-E594AEB25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ADF4-9251-4B5F-830A-7D2EA3D3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F80F-292A-4BFC-9C5F-1E2B9F1F2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46A9-09C2-45CF-901A-27D8D3D17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CF5DC-5C5C-4148-8237-E7A162F5A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7A4FB-265C-4348-93DD-A06E8E41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0F2FB-019A-4A6C-AB92-44F8BB7F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A9E71-1C4E-48F4-B226-0AA148AC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FA4E3A-27F6-4F79-9863-5093BA9E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55D80-0162-4B79-BDE2-32F106DE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C8B77-0958-4C44-B91A-37DC6394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0C40-833E-484F-82A8-D8F1AACB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2FB18-609B-4B04-BFCA-C0D85226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2BF20-5645-4254-8DE7-8C38619D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6383E-8EC2-45C3-8C49-4C14FF5E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70A07A-364A-4C5E-B557-3AB904FF3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ED54C7-2B31-4EE3-8A3A-12675C24F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10B4-4FFD-4728-9727-C5615927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1AB1-0C67-41A6-AFF5-6CE2515C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82BE-09AC-4397-B2FA-E07D615C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1060-2FD4-43F6-BBF5-3CB34946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0C52-0E1A-4F12-AF73-8B3FF959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A712-126D-4CF6-9DC0-40D3CFB1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C952-9768-480C-8168-94C61303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0" y="663084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2361960" y="6629040"/>
            <a:ext cx="34290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6629400"/>
            <a:ext cx="1143000" cy="22860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380520" y="662904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46AD-EB7E-4B88-AE36-337E98497523}" type="datetime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848720" y="6629400"/>
            <a:ext cx="761760" cy="223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629400" y="662904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5796-2B20-4664-B7DD-D32FCF78A1E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0" y="662616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848720" y="6624720"/>
            <a:ext cx="761760" cy="223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4"/>
          </p:nvPr>
        </p:nvSpPr>
        <p:spPr>
          <a:xfrm>
            <a:off x="24382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5"/>
          </p:nvPr>
        </p:nvSpPr>
        <p:spPr>
          <a:xfrm>
            <a:off x="6476760" y="662904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6830-98F9-4156-8CE9-D4709E419A3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6624720"/>
            <a:ext cx="1143000" cy="22860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dt" idx="6"/>
          </p:nvPr>
        </p:nvSpPr>
        <p:spPr>
          <a:xfrm>
            <a:off x="304560" y="662904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909E-2C4F-492B-B54E-465B57777436}" type="datetime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1447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MultiMedia Databases for Training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Lecture Recorder and Player</a:t>
            </a:r>
            <a:endParaRPr b="1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1760" y="36576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C Presentation May 6 19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ayt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eoffrey Fox, Marek Podgor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PA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racuse Univer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B0214-0715-4498-B198-0CE20DA314D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2F6DA4F1-87C0-4FBA-8795-92521370F9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asic Technical Approach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t the “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ugge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” (educational objects) into a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atabas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- either directly or as URL pointers to HTML or Images on a file syste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cord audio/vide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(either by shooting lectures or from audio-video conferencing), time stamp, digitize into high (MPEG 1,2) and low resolution (H263)vers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dit if require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ore pointers to file system store in databas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ectur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re now “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lay-lis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” of multiple linked objects arranged in ord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ink “curricula nuggets” (&gt;1 at a time in general) and multiple digitized A/V stream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upply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ols to view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materi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65D4-ECCB-4843-B958-875656BF007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D0A2EBE-8746-4E31-A4EB-A067665EF94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Abstract of NPAC Project Repor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s is an interim report on an NPAC activity to generate multimedia database support for ASC as part of DoD Modernization program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C wishes to use their in class video cameras and audio recorders to archive training material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PAC’s task was the 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Design, implementation, and deployment of automated system for capture, storage, indexing and retrieval of this information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7813-B7DA-40E8-AB62-97463AB2336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1DF097E-65F1-4689-B2FE-7348386B80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Project Goal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07696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Design, implementation, and deployment of automated system for capture, storage, indexing and retrieval of class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stem components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apture station with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ormat conversio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capability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utomated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ublishing system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for quick Web deploymen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utomatic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dexing system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for two-way video/foils synchroniza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archable audio/video and presentation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epository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set of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layback tool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for streaming delivery of foils over vide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B02D-914E-47BE-8329-51C0C668DCB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B8764FA-CFB5-4023-B087-C5AC7F4510E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ourseware Conversion 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Conversion of the existing recorded materi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uck Koelbel’s MPI class has been digitized and converted as follows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ntire 2-day course recorded on tape has been digitized to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high-quality MPEG1 vide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ternet-quality (H263) video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of the entire course has been produced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l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resentation slide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have been converted to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eb-compliant forma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entire class has been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dexe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to provid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ynchronous foils over video playback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tire package ready for Web publication now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5E1F-A931-4A48-9DAD-7762CABB035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DE0CF10-38A6-42DC-9D6C-469AB2D7F91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tatus Review: Playback tool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Java audio/video and audio player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.263 video and ADPCM audi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treaming player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using either http protocol or local data files as data sourc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ideo server support will be available in the next phas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vailable in bot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tand-alon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llaborativ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versions (same set of tools for synchronous and asynchronous delivery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pport fo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ime/event index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tatus: availab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38EA-AFCB-4FEF-8F06-725381B7241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C84BF0B-9B76-4C0E-98AB-B2551C9EF5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tatus Review: Playback tool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cent development: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Java Media Framework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pport for audio and video playback applic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pplets available for playback of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PEG1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263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al Audio/Vide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SM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itial evalua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by NPAC researchers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resting, but bugg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ery high startup times (3-4 times longer compared to tools implemented by NPAC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16A3-859E-405A-9F8A-C5E09E6C11A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F381B77-BC28-4F61-929A-654EBBF1506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tatus Review: Slide playback tools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urrent support for the following tools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teractive Java whiteboar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ys arbitrary images in multiple formats, including GIF, JPEG, and highly-compressed wavelets, as well as standard tex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pports PowerPoint slid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pports drawings created in collaborative synchronous sess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t-Scene PointPlus Java PowerPoint play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ressed, “streaming” PowerPoint presentations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urrent delivery does not include contents in this forma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t yet supported: arbitrary HTML pag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6AD2-41AB-4929-9B8A-D45086C7CD5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27C63BC-B8A6-4A13-AE41-8F54C0C9D61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Status Review: Video conversion tools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Times New Roman"/>
              </a:rPr>
              <a:t>MPEG1 to H.263/ADPCM converter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Off-line audio/video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format re-encoder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for Win 95/NT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upports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multiple qualities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of H.263 video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891360" indent="-178200">
              <a:spcBef>
                <a:spcPts val="64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adjustable frame size and frame rate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891360" indent="-178200">
              <a:spcBef>
                <a:spcPts val="64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full set of advanced encoding option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upports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random-access stream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891360" indent="-178200">
              <a:spcBef>
                <a:spcPts val="64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optional I-frames and frame/file offset look-up table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compatible with output format of the MPEG1 real-time encoder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spcBef>
                <a:spcPts val="64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Status: available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In Process: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GSM/CELP/MPEG4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audio encoder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Designed for low bit rate Tango A/V conferencing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8D3C-9A7B-4EA9-91D1-AE8F1E8F33C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88972E9-A9F4-49CF-BC54-EA18A5A7B4F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tatus Review: Web Publisher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Purpose: one stop interface for automated Web publishing of “video over foils” lectur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ssemblie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ll elemen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f the lecture from local disk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ansfer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ll conten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the selected HTTP serv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tomatically creates HTTP server directory structures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ll needed HTML fil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orks wit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ll HTTP serv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ne button clic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” oper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tatus: 2nd version availab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s is interim solution: should be replaced by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atabase backen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6C87-0766-48C4-9768-0AAD4D60E6A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1EC8B77-4AEC-4A5B-B421-EDC4A7C74D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What is needed for publishing?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Elements needed to publish the course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.263 video  and ADPCM audio fil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se files do not need to be chopped!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werPoint presentation converted via Internet Assista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dex file (time stamp/foil # pairs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urrently must be created manually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ill be created automatically by lecture recorder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tool for semi-automatic creation for legacy material is optiona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ABC8-931F-40D7-8272-3B71F3E9F70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CDA93A2-7F2E-4888-B7F4-3AA2F5667F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-360" y="1343160"/>
            <a:ext cx="9144360" cy="4759200"/>
            <a:chOff x="-360" y="1343160"/>
            <a:chExt cx="9144360" cy="4759200"/>
          </a:xfrm>
        </p:grpSpPr>
        <p:sp>
          <p:nvSpPr>
            <p:cNvPr id="97" name=""/>
            <p:cNvSpPr/>
            <p:nvPr/>
          </p:nvSpPr>
          <p:spPr>
            <a:xfrm>
              <a:off x="0" y="1343160"/>
              <a:ext cx="9144000" cy="475920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52480" y="2104920"/>
              <a:ext cx="5775480" cy="318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97080" y="2913120"/>
              <a:ext cx="2992680" cy="1618560"/>
            </a:xfrm>
            <a:prstGeom prst="ellipse">
              <a:avLst/>
            </a:prstGeom>
            <a:solidFill>
              <a:srgbClr val="80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28400" y="3001680"/>
              <a:ext cx="28872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ore System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ecur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Weblinked Databa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4606920" y="2122200"/>
              <a:ext cx="0" cy="7758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4606920" y="4544640"/>
              <a:ext cx="0" cy="7758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95880" y="3705120"/>
              <a:ext cx="1406520" cy="17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1687680" y="3705120"/>
              <a:ext cx="1436400" cy="17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20100000">
              <a:off x="1751400" y="2592360"/>
              <a:ext cx="2968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Collaboration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20100000">
              <a:off x="4551480" y="4165200"/>
              <a:ext cx="3220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Communicat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560000">
              <a:off x="4637520" y="2708280"/>
              <a:ext cx="2771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Multimedia Serv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320000">
              <a:off x="1768680" y="4238280"/>
              <a:ext cx="2710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Basic Web Servi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2286000" y="1647360"/>
              <a:ext cx="581040" cy="7743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>
              <a:off x="5916240" y="5154120"/>
              <a:ext cx="506520" cy="7110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6781680" y="1875960"/>
              <a:ext cx="677880" cy="7743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2438280" y="5000400"/>
              <a:ext cx="457200" cy="8301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080" y="1523880"/>
              <a:ext cx="4092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Courseware -- Reposito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4260000">
              <a:off x="6928200" y="2792520"/>
              <a:ext cx="2295720" cy="10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ynchronous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and Asynchronou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Delivery Syste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99880" y="5259240"/>
              <a:ext cx="3143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Multimedia Author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nd Editing Tool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9440000">
              <a:off x="228600" y="2485440"/>
              <a:ext cx="2518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Administrat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2820000">
              <a:off x="284760" y="4561920"/>
              <a:ext cx="2464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ssessment Tool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-360" y="3705120"/>
              <a:ext cx="1700280" cy="17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7440120" y="4163400"/>
              <a:ext cx="941400" cy="836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9620000">
              <a:off x="6114240" y="4800240"/>
              <a:ext cx="192096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onvert Lega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ystem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bcbcb"/>
                </a:solidFill>
                <a:latin typeface="Times New Roman"/>
              </a:rPr>
              <a:t>WebWisdom Architecture</a:t>
            </a:r>
            <a:endParaRPr b="1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30C7-AFF5-491C-88AB-D58F42ED74B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9423088-10E7-4451-B4AF-6683914D63A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Requirements for lecturer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esentation i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lectronic for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urned in few hours (a day?)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efore the clas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itical for automatic recording, as automatic indexing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ill not wor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ithout electronic present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SRC staff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ill convert the presentation to one of the supported forma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cturer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U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use one of the tools provided with the package to deliver their presentat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ggest a PC in the delivery room with pre-installed SW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cturer laptops can be accommodated as presentation/ recording tools downloadab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369B-5A6C-4AE5-A32C-172295F4619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0DC152F-207B-4F95-BD21-4147864D310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Formats we will suppor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e will or do support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ersuasion, PowerPoint, series of Image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As exported by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ramemake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, lists of URL’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e will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OT support format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that can not be described in terms of information nugget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.g. “Spaghetti” HTML files with or without anchor addresses,  where th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ecturers use scrollbar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o navigat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EB37-3330-4736-BCB8-23BE447CEF7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4DE4A45-83F9-40A1-8FEB-3F302FCD373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Video and audio format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PEG1 fo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DREN and intranet distribu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ndwidth: 1.5 Mbp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ality: 30fps, CD quality audio, SIF (320x240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erceptual quality equivalent to VH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ctual performance CPU-depend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urrent player: ActiveMovie, PC onl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eeds video server support (no http streaming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 the works: Java Media Framework play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latform-independent, internally uses platform-specific C implementa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5C08-24ED-4693-8D92-1F235FA8597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B79B3A0-71BD-4068-B1B9-58E14B5817D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Video and audio format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.263 for low-bitrate (Internet) vide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rmat/encoder enhanced to accommodate random access and error tolerance by adding I-fram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ndwidth: variable, but starts at 9 Kbp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ality: 3-10 fps, QCIF-CIF (9 Kbps=10 fps, QCIF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urrent player: both ActiveMovie and Java apple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udio: ADPCM, GSM, MPEG-4 CELP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PCM: done, 32 Kbp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SM: codec done, integration in progress (13 Kbps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PEG-4: ongoing, slated for early July (4 - 6 Kbps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DB32-EE53-476F-80EC-C21BA93EBB8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09BD49E-0E7E-4C00-AB60-7D4A1C7BB8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Navigation and random acces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urrent version: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ideo or audio stream drives slideshow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rol: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lay, stop, rewin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bu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o random see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ason: uses HTTP protocol for continuous media strea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facilitate random access, video segmentation is necessary (can be labor intensive; tools may be provided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e do this segmentation for Real Audio now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rget version: two-way navigation with random acces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nless video stream edited/segmented, need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ideo server support for random stream acces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ason: needs random access protocol such as RTSP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12D8-AD96-4CB7-A387-AE7EC8602CB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2EE1C73-85B3-4B89-89BC-9C22D202C83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ogress since last demonstration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utomatic publishing too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mproved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rror and special situations handl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forces creation of metadat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eated HTML files with more descriptive conten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layback tools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proved protocol for video/slideshow tools communication (now supports pre-fetch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ils over audio for low-performance platform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ava video player version for SGI machin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dified object handling to circumvent garbage collection problems in SGI Java VM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7A38-340B-4121-AE1A-69B4C83ACAA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E90EB4E-B520-44A2-80EB-ED13E6AB48A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ncoding station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ardware MPEG1 encoder provided by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Optibas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al time encoder of industrial qualit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vides archival quality digital video strea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PI allows remote control of the encodi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ces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coding daemon socket-connected to the presentation tool on the presentation workst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utomatic creation of indexing inform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ardware delivered a week ag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6FEE-3EEF-479A-896E-13D10F261D1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B9D2023-349D-4EFD-A074-17E7D92DB9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atabase support for coursewar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urrent authoring tools do not or poorly support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urseware reus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blem: in 20 minutes, build, publish, and print handouts of a new module consisting of parts of five other present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nd all slides related to a particular topic in presentations delivered during last 6 month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low for search of the educational nuggets according to the standard metadata attribut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3470-3C2C-483E-8916-C16B8DCCC73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BC97B83-CDC0-4AB2-B2B7-046003770E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Database support for coursewar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PAC WebWisdom database suppor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nversi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ols for transformation of legacy formats into self-describing educational objec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lational database loading tools wit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etadata creation suppor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resentation management tool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create and edit new present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emplat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for automatic creation of Web presentation layer from  database conten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ctures recorded using NPAC technology can be immediately loaded in the database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592C-1E61-40D2-8843-10D97A47447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238A61A-54F8-4E7F-AA53-0951B9654A0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ecture recording for linking synchronous and asynchronous collaboration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ecture recordin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s a special case of the general session recording capability in the virtual and desktop collaborative environme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PAC TANGO Interactive session recording capability assumes session recording on the client side (as opposed to the central server recording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ssion record re-assembly is done in the central repository with the clients uploading end-user recording information at session termination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5917-540A-4C36-9D64-F79C3CA58AE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D0006A7-D657-4CD5-9F69-24D2FE7DF9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atabase Architecture for WebWisdom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3" name="B_OEQ127" descr=""/>
          <p:cNvPicPr/>
          <p:nvPr/>
        </p:nvPicPr>
        <p:blipFill>
          <a:blip r:embed="rId1"/>
          <a:stretch/>
        </p:blipFill>
        <p:spPr>
          <a:xfrm>
            <a:off x="7742160" y="1890720"/>
            <a:ext cx="858960" cy="984240"/>
          </a:xfrm>
          <a:prstGeom prst="rect">
            <a:avLst/>
          </a:prstGeom>
          <a:ln w="0">
            <a:noFill/>
          </a:ln>
        </p:spPr>
      </p:pic>
      <p:pic>
        <p:nvPicPr>
          <p:cNvPr id="124" name="B_OEQ128" descr=""/>
          <p:cNvPicPr/>
          <p:nvPr/>
        </p:nvPicPr>
        <p:blipFill>
          <a:blip r:embed="rId2"/>
          <a:stretch/>
        </p:blipFill>
        <p:spPr>
          <a:xfrm>
            <a:off x="5450040" y="1563840"/>
            <a:ext cx="1095120" cy="1557360"/>
          </a:xfrm>
          <a:prstGeom prst="rect">
            <a:avLst/>
          </a:prstGeom>
          <a:ln w="0">
            <a:noFill/>
          </a:ln>
        </p:spPr>
      </p:pic>
      <p:grpSp>
        <p:nvGrpSpPr>
          <p:cNvPr id="125" name=""/>
          <p:cNvGrpSpPr/>
          <p:nvPr/>
        </p:nvGrpSpPr>
        <p:grpSpPr>
          <a:xfrm>
            <a:off x="412920" y="1411200"/>
            <a:ext cx="1752480" cy="1676160"/>
            <a:chOff x="412920" y="1411200"/>
            <a:chExt cx="1752480" cy="1676160"/>
          </a:xfrm>
        </p:grpSpPr>
        <p:grpSp>
          <p:nvGrpSpPr>
            <p:cNvPr id="126" name=""/>
            <p:cNvGrpSpPr/>
            <p:nvPr/>
          </p:nvGrpSpPr>
          <p:grpSpPr>
            <a:xfrm>
              <a:off x="412920" y="1411200"/>
              <a:ext cx="1752480" cy="1676160"/>
              <a:chOff x="412920" y="1411200"/>
              <a:chExt cx="1752480" cy="1676160"/>
            </a:xfrm>
          </p:grpSpPr>
          <p:sp>
            <p:nvSpPr>
              <p:cNvPr id="127" name=""/>
              <p:cNvSpPr/>
              <p:nvPr/>
            </p:nvSpPr>
            <p:spPr>
              <a:xfrm>
                <a:off x="412920" y="2401560"/>
                <a:ext cx="1752480" cy="6858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165400" y="1715760"/>
                <a:ext cx="0" cy="1067040"/>
              </a:xfrm>
              <a:prstGeom prst="line">
                <a:avLst/>
              </a:prstGeom>
              <a:ln w="1908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70120" y="2097000"/>
                <a:ext cx="0" cy="304560"/>
              </a:xfrm>
              <a:prstGeom prst="line">
                <a:avLst/>
              </a:prstGeom>
              <a:ln w="1908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403280" y="2097000"/>
                <a:ext cx="0" cy="304560"/>
              </a:xfrm>
              <a:prstGeom prst="line">
                <a:avLst/>
              </a:prstGeom>
              <a:ln w="1908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174680" y="2097000"/>
                <a:ext cx="228600" cy="914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403280" y="2020680"/>
                <a:ext cx="228600" cy="990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70120" y="2097000"/>
                <a:ext cx="304560" cy="838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12920" y="1792080"/>
                <a:ext cx="304560" cy="990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17480" y="1944360"/>
                <a:ext cx="304920" cy="990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631880" y="1944360"/>
                <a:ext cx="228600" cy="990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860480" y="1868400"/>
                <a:ext cx="228600" cy="990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936800" y="1792080"/>
                <a:ext cx="228600" cy="990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12920" y="1411200"/>
                <a:ext cx="1752480" cy="6858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12920" y="1715760"/>
                <a:ext cx="0" cy="1067040"/>
              </a:xfrm>
              <a:prstGeom prst="line">
                <a:avLst/>
              </a:prstGeom>
              <a:ln w="1908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584280" y="229428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396720" y="4418280"/>
            <a:ext cx="1873440" cy="1923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ducational Object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i.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ata Defining Content of Curricula P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1600200"/>
            <a:ext cx="1992240" cy="12794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rver si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ava(JDBC) 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iveWi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36720" y="891000"/>
            <a:ext cx="1873440" cy="3988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eta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89160" y="1890720"/>
            <a:ext cx="779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92400" y="2589120"/>
            <a:ext cx="7430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9600" y="615240"/>
            <a:ext cx="198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eb 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306440" y="2865600"/>
            <a:ext cx="0" cy="1522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5280" y="2235240"/>
            <a:ext cx="6825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1608120" y="2832120"/>
            <a:ext cx="2208240" cy="1388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92640" y="4286520"/>
            <a:ext cx="3800520" cy="13136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ventional HTML P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ynamically Gener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cluding XML syntax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ublin Core (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M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5155920" y="2287440"/>
            <a:ext cx="865080" cy="1943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81400" y="796320"/>
            <a:ext cx="225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eb Brow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53080" y="2225520"/>
            <a:ext cx="1301760" cy="12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6172200" y="2292120"/>
            <a:ext cx="1041480" cy="1942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8120" y="4256280"/>
            <a:ext cx="1873080" cy="16185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emplates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fining How educational data stored in  P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254240" y="1081080"/>
            <a:ext cx="552240" cy="584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57760" y="1087560"/>
            <a:ext cx="0" cy="488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137440" y="1263600"/>
            <a:ext cx="1800" cy="595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07B4-5F38-4CA9-9E89-09BAC3AD71A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84C3CDA-F66D-4150-B429-A235FA0F82F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8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ritical Tools and Services in WebWisdom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atabase query and acces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ncluding indexed video clip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eliver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ncluding specialized VRML, GIS (virtual worlds), Simulations as well as classic HTM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llabor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r sharing of interactive objec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synchronous and Synchronou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ser interfac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for disabled individuals (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iversal acces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curity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r proprietary material and personal inform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ality of Servic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based on replication and bandwidth trade-off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synchronous has less demands than synchronou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version and Integration of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egacy</a:t>
            </a:r>
            <a:r>
              <a:rPr b="1" lang="en-US" sz="2400" spc="-1" strike="noStrike">
                <a:solidFill>
                  <a:srgbClr val="ff7c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teria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uthoring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(object creation) tool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ssessment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ministration and Logging Tool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pecialized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rvices such a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rogramming laboratori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474B-415A-4647-890C-F5E3BD0EEA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D40FE64-DF97-439A-B2D4-FF466934719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273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SC499 at Jackson Stat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ught using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ango/WebWisdom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ver Internet (now DREN via CEWES) every Tuesday and Thursday from Syracus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ourse material based on Syracuse Senior Undergraduate class ECS406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Jackson State major HBC Universit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ith many computer science graduat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 not compete with base courses but offe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ddon-on cours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ith “leading edge” material (Web Technology) which give JSU graduates skills that are important in their care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Job fair employers liked Java Programming!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eeds guaranteed 30 (audio) to 100 (two way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kilobits per second bandwidth assuming course material mirrored at JSU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an be offered using CD-ROM’s to homes with audio only link and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28.8 kbaud modem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ope to offer our analogous K-12 Java Academy to</a:t>
            </a:r>
            <a:r>
              <a:rPr b="1" lang="en-US" sz="2400" spc="-1" strike="noStrike">
                <a:solidFill>
                  <a:srgbClr val="ff7c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iddle and high school studen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JSU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ll use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Tango/WebWisdom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teach to others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-- trai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train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CFA6-2AC6-489A-925B-5ED89D747E8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9DE9AFF-A394-49EC-B06B-2E57B76C25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ango WebWisdom Model Collaborative University model for Education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36836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iversities “specialize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d deliver courses in areas of expertis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vide all students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nd facul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with access to broader range of leading-edge cours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JSU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ill lea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BCU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ide deploym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PAC will attempt to us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ternationall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ilot fo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istance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raining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f DoD users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njm-trs-teaching" descr=""/>
          <p:cNvPicPr/>
          <p:nvPr/>
        </p:nvPicPr>
        <p:blipFill>
          <a:blip r:embed="rId1"/>
          <a:srcRect l="0" t="20000" r="0" b="0"/>
          <a:stretch/>
        </p:blipFill>
        <p:spPr>
          <a:xfrm>
            <a:off x="6248520" y="1828800"/>
            <a:ext cx="2514600" cy="1508040"/>
          </a:xfrm>
          <a:prstGeom prst="rect">
            <a:avLst/>
          </a:prstGeom>
          <a:ln w="0">
            <a:noFill/>
          </a:ln>
        </p:spPr>
      </p:pic>
      <p:pic>
        <p:nvPicPr>
          <p:cNvPr id="167" name="jsu-students2" descr=""/>
          <p:cNvPicPr/>
          <p:nvPr/>
        </p:nvPicPr>
        <p:blipFill>
          <a:blip r:embed="rId2"/>
          <a:srcRect l="0" t="0" r="27827" b="0"/>
          <a:stretch/>
        </p:blipFill>
        <p:spPr>
          <a:xfrm>
            <a:off x="7238880" y="3505320"/>
            <a:ext cx="1905120" cy="1782720"/>
          </a:xfrm>
          <a:prstGeom prst="rect">
            <a:avLst/>
          </a:prstGeom>
          <a:ln w="0">
            <a:noFill/>
          </a:ln>
        </p:spPr>
      </p:pic>
      <p:pic>
        <p:nvPicPr>
          <p:cNvPr id="168" name="jsu-students3" descr=""/>
          <p:cNvPicPr/>
          <p:nvPr/>
        </p:nvPicPr>
        <p:blipFill>
          <a:blip r:embed="rId3"/>
          <a:srcRect l="0" t="14544" r="0" b="0"/>
          <a:stretch/>
        </p:blipFill>
        <p:spPr>
          <a:xfrm>
            <a:off x="5410080" y="4800600"/>
            <a:ext cx="2743200" cy="1600200"/>
          </a:xfrm>
          <a:prstGeom prst="rect">
            <a:avLst/>
          </a:prstGeom>
          <a:ln w="0">
            <a:noFill/>
          </a:ln>
        </p:spPr>
      </p:pic>
      <p:pic>
        <p:nvPicPr>
          <p:cNvPr id="169" name="jsu-students1" descr=""/>
          <p:cNvPicPr/>
          <p:nvPr/>
        </p:nvPicPr>
        <p:blipFill>
          <a:blip r:embed="rId4"/>
          <a:srcRect l="0" t="16941" r="0" b="0"/>
          <a:stretch/>
        </p:blipFill>
        <p:spPr>
          <a:xfrm>
            <a:off x="4419720" y="2362320"/>
            <a:ext cx="2097000" cy="267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7C9A-9C2A-48F6-96FE-43A778CE9F1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AFE8D18-5CFB-4E88-A8C9-3E12550E232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urrent Architecture of JSU Distance Education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46960" y="1835280"/>
            <a:ext cx="1363680" cy="823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PAC Web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97160" y="1447920"/>
            <a:ext cx="1363680" cy="823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JSU Web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60560" y="3235320"/>
            <a:ext cx="13636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JSU Tango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B_OEQ127" descr=""/>
          <p:cNvPicPr/>
          <p:nvPr/>
        </p:nvPicPr>
        <p:blipFill>
          <a:blip r:embed="rId1"/>
          <a:stretch/>
        </p:blipFill>
        <p:spPr>
          <a:xfrm>
            <a:off x="6910560" y="4373640"/>
            <a:ext cx="858600" cy="984240"/>
          </a:xfrm>
          <a:prstGeom prst="rect">
            <a:avLst/>
          </a:prstGeom>
          <a:ln w="0">
            <a:noFill/>
          </a:ln>
        </p:spPr>
      </p:pic>
      <p:pic>
        <p:nvPicPr>
          <p:cNvPr id="176" name="B_OEQ127" descr=""/>
          <p:cNvPicPr/>
          <p:nvPr/>
        </p:nvPicPr>
        <p:blipFill>
          <a:blip r:embed="rId2"/>
          <a:stretch/>
        </p:blipFill>
        <p:spPr>
          <a:xfrm>
            <a:off x="380880" y="5276880"/>
            <a:ext cx="486000" cy="557280"/>
          </a:xfrm>
          <a:prstGeom prst="rect">
            <a:avLst/>
          </a:prstGeom>
          <a:ln w="0">
            <a:noFill/>
          </a:ln>
        </p:spPr>
      </p:pic>
      <p:pic>
        <p:nvPicPr>
          <p:cNvPr id="177" name="B_OEQ127" descr=""/>
          <p:cNvPicPr/>
          <p:nvPr/>
        </p:nvPicPr>
        <p:blipFill>
          <a:blip r:embed="rId3"/>
          <a:stretch/>
        </p:blipFill>
        <p:spPr>
          <a:xfrm>
            <a:off x="1717560" y="5276880"/>
            <a:ext cx="486000" cy="557280"/>
          </a:xfrm>
          <a:prstGeom prst="rect">
            <a:avLst/>
          </a:prstGeom>
          <a:ln w="0">
            <a:noFill/>
          </a:ln>
        </p:spPr>
      </p:pic>
      <p:pic>
        <p:nvPicPr>
          <p:cNvPr id="178" name="B_OEQ127" descr=""/>
          <p:cNvPicPr/>
          <p:nvPr/>
        </p:nvPicPr>
        <p:blipFill>
          <a:blip r:embed="rId4"/>
          <a:stretch/>
        </p:blipFill>
        <p:spPr>
          <a:xfrm>
            <a:off x="1046160" y="5276880"/>
            <a:ext cx="485640" cy="5572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287440" y="4918680"/>
            <a:ext cx="87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7c80"/>
                </a:solidFill>
                <a:latin typeface="Times New Roman"/>
              </a:rPr>
              <a:t>…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B_OEQ127" descr=""/>
          <p:cNvPicPr/>
          <p:nvPr/>
        </p:nvPicPr>
        <p:blipFill>
          <a:blip r:embed="rId5"/>
          <a:stretch/>
        </p:blipFill>
        <p:spPr>
          <a:xfrm>
            <a:off x="3079800" y="5276880"/>
            <a:ext cx="485640" cy="557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176960" y="2673360"/>
            <a:ext cx="0" cy="166068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960200" y="4097160"/>
            <a:ext cx="142920" cy="113220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839520" y="4095720"/>
            <a:ext cx="1261800" cy="113184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14640" y="4307040"/>
            <a:ext cx="3652560" cy="82548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Audio Video Conferencing</a:t>
            </a:r>
            <a:br>
              <a:rPr sz="2400"/>
            </a:b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Chat Rooms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65640" y="3957480"/>
            <a:ext cx="3590640" cy="76068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87880" y="3624120"/>
            <a:ext cx="3706560" cy="849600"/>
          </a:xfrm>
          <a:prstGeom prst="line">
            <a:avLst/>
          </a:prstGeom>
          <a:ln cap="rnd" w="57240">
            <a:solidFill>
              <a:srgbClr val="ffff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23960" y="3854520"/>
            <a:ext cx="1209600" cy="1325520"/>
          </a:xfrm>
          <a:prstGeom prst="line">
            <a:avLst/>
          </a:prstGeom>
          <a:ln cap="rnd" w="57240">
            <a:solidFill>
              <a:srgbClr val="ffff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34680" y="2284560"/>
            <a:ext cx="1120680" cy="293508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49600" y="2902320"/>
            <a:ext cx="214524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ddress at JSU of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urriculum P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58120" y="3054960"/>
            <a:ext cx="214812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eacher’s View of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urriculum P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0080" y="2423160"/>
            <a:ext cx="210852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tudent’s View of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urriculum P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7680" y="593136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ticipants at JS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91640" y="5482080"/>
            <a:ext cx="37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acher/Lecturer at NPA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3006-4DC0-4A01-9786-AB47D9A3739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90B4C95-CA01-42EB-B00A-8DC68BD300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atabase Backend for Synchronous or Asynchronous Learning</a:t>
            </a:r>
            <a:endParaRPr b="1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60560" y="3235320"/>
            <a:ext cx="13636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JSU Tango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B_OEQ127" descr=""/>
          <p:cNvPicPr/>
          <p:nvPr/>
        </p:nvPicPr>
        <p:blipFill>
          <a:blip r:embed="rId1"/>
          <a:stretch/>
        </p:blipFill>
        <p:spPr>
          <a:xfrm>
            <a:off x="6910560" y="4373640"/>
            <a:ext cx="858600" cy="984240"/>
          </a:xfrm>
          <a:prstGeom prst="rect">
            <a:avLst/>
          </a:prstGeom>
          <a:ln w="0">
            <a:noFill/>
          </a:ln>
        </p:spPr>
      </p:pic>
      <p:pic>
        <p:nvPicPr>
          <p:cNvPr id="198" name="B_OEQ127" descr=""/>
          <p:cNvPicPr/>
          <p:nvPr/>
        </p:nvPicPr>
        <p:blipFill>
          <a:blip r:embed="rId2"/>
          <a:stretch/>
        </p:blipFill>
        <p:spPr>
          <a:xfrm>
            <a:off x="380880" y="5276880"/>
            <a:ext cx="486000" cy="557280"/>
          </a:xfrm>
          <a:prstGeom prst="rect">
            <a:avLst/>
          </a:prstGeom>
          <a:ln w="0">
            <a:noFill/>
          </a:ln>
        </p:spPr>
      </p:pic>
      <p:pic>
        <p:nvPicPr>
          <p:cNvPr id="199" name="B_OEQ127" descr=""/>
          <p:cNvPicPr/>
          <p:nvPr/>
        </p:nvPicPr>
        <p:blipFill>
          <a:blip r:embed="rId3"/>
          <a:stretch/>
        </p:blipFill>
        <p:spPr>
          <a:xfrm>
            <a:off x="1717560" y="5276880"/>
            <a:ext cx="486000" cy="557280"/>
          </a:xfrm>
          <a:prstGeom prst="rect">
            <a:avLst/>
          </a:prstGeom>
          <a:ln w="0">
            <a:noFill/>
          </a:ln>
        </p:spPr>
      </p:pic>
      <p:pic>
        <p:nvPicPr>
          <p:cNvPr id="200" name="B_OEQ127" descr=""/>
          <p:cNvPicPr/>
          <p:nvPr/>
        </p:nvPicPr>
        <p:blipFill>
          <a:blip r:embed="rId4"/>
          <a:stretch/>
        </p:blipFill>
        <p:spPr>
          <a:xfrm>
            <a:off x="1046160" y="5276880"/>
            <a:ext cx="485640" cy="5572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287440" y="4918680"/>
            <a:ext cx="87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7c80"/>
                </a:solidFill>
                <a:latin typeface="Times New Roman"/>
              </a:rPr>
              <a:t>…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B_OEQ127" descr=""/>
          <p:cNvPicPr/>
          <p:nvPr/>
        </p:nvPicPr>
        <p:blipFill>
          <a:blip r:embed="rId5"/>
          <a:stretch/>
        </p:blipFill>
        <p:spPr>
          <a:xfrm>
            <a:off x="3079800" y="5276880"/>
            <a:ext cx="485640" cy="5572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7176960" y="2673360"/>
            <a:ext cx="0" cy="166068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960200" y="4097160"/>
            <a:ext cx="142920" cy="113220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839520" y="4095720"/>
            <a:ext cx="1261800" cy="113184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14640" y="4307040"/>
            <a:ext cx="3652560" cy="82548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Audio Video Conferencing</a:t>
            </a:r>
            <a:br>
              <a:rPr sz="2400"/>
            </a:b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Chat Rooms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365640" y="3957480"/>
            <a:ext cx="3590640" cy="76068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87880" y="3624120"/>
            <a:ext cx="3706560" cy="849600"/>
          </a:xfrm>
          <a:prstGeom prst="line">
            <a:avLst/>
          </a:prstGeom>
          <a:ln cap="rnd" w="57240">
            <a:solidFill>
              <a:srgbClr val="ffff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723960" y="3854520"/>
            <a:ext cx="1209600" cy="1325520"/>
          </a:xfrm>
          <a:prstGeom prst="line">
            <a:avLst/>
          </a:prstGeom>
          <a:ln cap="rnd" w="57240">
            <a:solidFill>
              <a:srgbClr val="ffff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09480" y="2286000"/>
            <a:ext cx="511200" cy="289548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82640" y="2902320"/>
            <a:ext cx="227916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atabase Entry for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urriculum P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558120" y="3054960"/>
            <a:ext cx="214812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eacher’s View of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urriculum P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0080" y="2423160"/>
            <a:ext cx="210852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tudent’s View of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urriculum P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7680" y="593136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ticipants at JS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291640" y="5482080"/>
            <a:ext cx="37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acher/Lecturer at NPA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2747880" y="457200"/>
            <a:ext cx="2892240" cy="2209320"/>
            <a:chOff x="2747880" y="457200"/>
            <a:chExt cx="2892240" cy="2209320"/>
          </a:xfrm>
        </p:grpSpPr>
        <p:sp>
          <p:nvSpPr>
            <p:cNvPr id="217" name=""/>
            <p:cNvSpPr/>
            <p:nvPr/>
          </p:nvSpPr>
          <p:spPr>
            <a:xfrm>
              <a:off x="2747880" y="1762560"/>
              <a:ext cx="2892240" cy="903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640120" y="858600"/>
              <a:ext cx="0" cy="140652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02440" y="1361160"/>
              <a:ext cx="0" cy="40140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382280" y="1361160"/>
              <a:ext cx="0" cy="40140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05000" y="1361160"/>
              <a:ext cx="377280" cy="120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382280" y="1260360"/>
              <a:ext cx="377280" cy="1305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02440" y="1361160"/>
              <a:ext cx="502560" cy="1104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747880" y="959040"/>
              <a:ext cx="502560" cy="1305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50440" y="1159920"/>
              <a:ext cx="502920" cy="1305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759560" y="1159920"/>
              <a:ext cx="377280" cy="1305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136840" y="1059840"/>
              <a:ext cx="377280" cy="1305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62840" y="959040"/>
              <a:ext cx="377280" cy="1305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47880" y="457200"/>
              <a:ext cx="2892240" cy="903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47880" y="858600"/>
              <a:ext cx="0" cy="140652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817720" y="1294200"/>
            <a:ext cx="2704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lassic Distributed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plicated Curricul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nd Administrativ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248520" y="990720"/>
            <a:ext cx="1992240" cy="16603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PAC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rver si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ava(JDBC) 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iveWi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7797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57400" y="990720"/>
            <a:ext cx="7430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533520"/>
            <a:ext cx="1992600" cy="16603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SU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rver si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ava(JDBC) 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iveWi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023A-67E4-4DD5-ACAA-EF0EBBE86D0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8113C66-0B4B-4EEF-BB2B-71A8A51CDE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ome Global Issue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240" y="6858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re are many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ifferent video and audio encoding forma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de variation and tradeoff betwee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ality, bandwidt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needs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PU demand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for encoding and decod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pular ones (Real Audio, Real Video) ar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ot designed for audio video conferencing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but rather asynchronous stream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mage qualit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requires that one take “foils” from computer and not video shots. This is impossible unless lecture delineated into “nuggets” and beginning and end of each nugge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ime stampe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ed very goo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ime synchronizati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between video and computer and between different participants in distance deliver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alit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f recorded lectures is often poor and suggests need for edit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ould one associate audio/video with a “nugget” or a lecture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7D31-121F-4C9D-A1F6-7BF58DCEC81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7EBB1F1-B93C-4FA1-9DFD-35C3658D12D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4T01:11:54Z</dcterms:created>
  <dc:creator>Marek Podgorny</dc:creator>
  <dc:description/>
  <dc:language>en-US</dc:language>
  <cp:lastModifiedBy>Geoffrey C. Fox</cp:lastModifiedBy>
  <cp:lastPrinted>1998-05-05T17:01:00Z</cp:lastPrinted>
  <dcterms:modified xsi:type="dcterms:W3CDTF">1998-05-06T11:41:56Z</dcterms:modified>
  <cp:revision>32</cp:revision>
  <dc:subject/>
  <dc:title>TANGO for Distance Lear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npac.syr.edu</vt:lpwstr>
  </property>
  <property fmtid="{D5CDD505-2E9C-101B-9397-08002B2CF9AE}" pid="9" name="LinkColor">
    <vt:r8>16711782</vt:r8>
  </property>
  <property fmtid="{D5CDD505-2E9C-101B-9397-08002B2CF9AE}" pid="10" name="MailAddress">
    <vt:lpwstr>gcf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temp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