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D36-631B-4C17-A9AB-7E55C798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923-AD32-4E8D-9348-61B3A1B1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F94-73B8-48FE-9236-3D88ABC5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191-7D7B-4816-8B42-9CF77390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505-E7BE-4F13-ACA3-2614CC00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A9A-CCCB-485F-BF6B-17041CE8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AEF-D53D-4350-B167-C163BD33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C4F-D6D4-4EBB-9A01-2FA1FFA2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A14-51A2-4078-B41D-8197567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077-021A-4E51-AF64-72E675E6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3AC-295E-4041-8066-508CB1B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164-CCFB-4A1A-A6FB-41B9B7F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117F-0445-4128-8577-C56C11CBC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3352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PCMP Information Environment Teleconference Brief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533520"/>
            <a:ext cx="830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613320" y="3029040"/>
            <a:ext cx="73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ations to the Center Directors and Modernization Offi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rse Information Environment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unding to port current site-specific projects to all interested ce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/Utilization Reporting System - $200K (FY00,QTR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 Status/ Process Status Tool - $200K (FY00, QTR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 Exchange/ Matchmaker System - $200K (T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rse Out Year Extensibi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information architecture standards for state of the practic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/ Identify site sustainment and enhancement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5335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00200"/>
            <a:ext cx="7925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spcBef>
                <a:spcPts val="250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e a center-wide information infrastructure that will benefit both the user community and the center support staf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5335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econference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600200"/>
            <a:ext cx="792504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spcBef>
                <a:spcPts val="2375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mprove awareness of funded activities at specific cent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80000"/>
              </a:lnSpc>
              <a:spcBef>
                <a:spcPts val="2375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rage current projects into a HPCMP-wide syst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commonly desired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problems related to delivery, compatibility,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spcBef>
                <a:spcPts val="1749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long-range vision for Informa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335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FP Section 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600200"/>
            <a:ext cx="79250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spcBef>
                <a:spcPts val="250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resource usage accounting information for the HPC computer systems and MSAS, including compute time, memory usage, and file space usage, as a minimum.  Government management organization personnel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sers shall have on-line read-only query access to this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ould Benef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in easier access to relevant information. (e.g. allocation, service ticke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interactions with center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RCs and D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 and standardize information exchange/ interaction with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efficiency and effectiveness of center support staff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/A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access to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PC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of the practice information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 data exchange,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286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re Others 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95280"/>
            <a:ext cx="914400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spcBef>
                <a:spcPts val="250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F has a $23 million dollar program called "Enhancing Infrastructure for the Social and Behavioral Sciences."  One researcher was awarded $3.5 million (over 5 years) to develop a database of uniformly coded historical censuses for 20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10000"/>
              </a:lnSpc>
              <a:spcBef>
                <a:spcPts val="250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portals generate billions in revenue, will triple by 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scussion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90720"/>
            <a:ext cx="7924680" cy="57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rberos, P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spcBef>
                <a:spcPts val="1749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tool are desired by all sit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bility/ 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is needed for current and new projects to be adapted to individual si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spcBef>
                <a:spcPts val="1749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, Software, Peo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spcBef>
                <a:spcPts val="1749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, Sustainment, Custo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formation Feat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92468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 Project Proposal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 Technical Report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/Process Status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/Utilization Repor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hop/ Conference/ Calendaring Tools(3/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Management Database (3/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Point Presentation Management Tool (6/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 Exchange/ Matchmaker System(6/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ontact Informatio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Ticket Query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Information T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172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o be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6172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w/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1523880"/>
          <a:ext cx="8153640" cy="417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15364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124080" y="6172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o be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6172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ew/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492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iority of Action &amp; Fu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2:14:04Z</dcterms:created>
  <dc:creator>msrc</dc:creator>
  <dc:description/>
  <dc:language>en-US</dc:language>
  <cp:lastModifiedBy>David E Bernholdt</cp:lastModifiedBy>
  <cp:lastPrinted>1999-11-01T20:00:30Z</cp:lastPrinted>
  <dcterms:modified xsi:type="dcterms:W3CDTF">1999-11-12T22:58:28Z</dcterms:modified>
  <cp:revision>5</cp:revision>
  <dc:subject/>
  <dc:title>No Slide Title</dc:title>
</cp:coreProperties>
</file>