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F63-3601-4378-9649-31AE71A4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3984840"/>
            <a:ext cx="9144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1B7-AE7F-4862-B03B-F4422EA1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398484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398484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339-FA21-45C6-B11E-1580D982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167652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167652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398484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398484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398484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43C-61BD-4568-9CF9-8AC598E1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3DEB-CFA4-4375-9169-B887D8AE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28C8-ADA7-4890-B752-35EFC3F6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133C-5203-4D10-8302-8A03A3D7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09EE-FC82-420C-9827-02066481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7B17-3BF1-4976-A1F9-4790B72A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8EB8-794C-4789-A8E6-3B81DF2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98484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D22F-60B4-41C4-99BC-5D95C3C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7AE-2A48-4C88-8E60-C33A532F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760" y="398484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5C78-5FFE-4AD1-A947-0BC3AA60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3984840"/>
            <a:ext cx="9144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0653-81E2-4832-BF7E-5CC0AC01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0" y="3984840"/>
            <a:ext cx="9144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5DF8-0D3D-4C56-8A02-066D724A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0" y="398484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760" y="398484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F46E-79FE-4502-A6BD-150D2072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91680" y="167652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3360" y="167652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0" y="398484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091680" y="398484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3360" y="3984840"/>
            <a:ext cx="2944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428E-D6D8-494C-A8A9-D9E5FC1E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2F6-84BA-4C96-B57F-9E196EE8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770-3A39-40F6-9E8A-CB760CB5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14F-B4C6-45E5-B4FB-B67FB57F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EAD-3EF0-4223-AB90-DAF0D53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98484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C39-EB25-401A-8E85-0496FAC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398484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129-509F-476E-A1EC-5E7F1A2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676520"/>
            <a:ext cx="4462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984840"/>
            <a:ext cx="9144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4C2-81A6-472E-BF42-77F1C71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2880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91880" y="6210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2FCF-C734-444F-8D40-42F0B2D67D2A}" type="datetime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A3C5-4DBE-41FF-93F3-70009C2F2EDF}" type="slidenum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83960" y="6210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958-882A-4BAC-BF3C-25DE00B0A238}" type="datetime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43E9-F289-460A-9EC4-E511D122F169}" type="slidenum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rogramming for the Web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General Introduction</a:t>
            </a: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urse at Jackson State University Fall 97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68236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ttp://www.npac.syr.edu/users/gcf/jsufall97intr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ncy McCrac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offrey Fox, Tom Scav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racuse University NP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1 College Plac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racuse NY 13244 4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15443216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221600" y="3303720"/>
            <a:ext cx="1174320" cy="1407240"/>
            <a:chOff x="7221600" y="3303720"/>
            <a:chExt cx="1174320" cy="1407240"/>
          </a:xfrm>
        </p:grpSpPr>
        <p:sp>
          <p:nvSpPr>
            <p:cNvPr id="103" name=""/>
            <p:cNvSpPr/>
            <p:nvPr/>
          </p:nvSpPr>
          <p:spPr>
            <a:xfrm>
              <a:off x="7221600" y="3307320"/>
              <a:ext cx="1168200" cy="14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" name="Darkleaf" descr=""/>
            <p:cNvPicPr/>
            <p:nvPr/>
          </p:nvPicPr>
          <p:blipFill>
            <a:blip r:embed="rId1"/>
            <a:stretch/>
          </p:blipFill>
          <p:spPr>
            <a:xfrm>
              <a:off x="7242840" y="3303720"/>
              <a:ext cx="1153080" cy="139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552600" y="3281400"/>
            <a:ext cx="1653840" cy="1686960"/>
            <a:chOff x="552600" y="3281400"/>
            <a:chExt cx="1653840" cy="1686960"/>
          </a:xfrm>
        </p:grpSpPr>
        <p:sp>
          <p:nvSpPr>
            <p:cNvPr id="106" name=""/>
            <p:cNvSpPr/>
            <p:nvPr/>
          </p:nvSpPr>
          <p:spPr>
            <a:xfrm>
              <a:off x="552600" y="3315600"/>
              <a:ext cx="1648080" cy="158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" name="jsulogo" descr=""/>
            <p:cNvPicPr/>
            <p:nvPr/>
          </p:nvPicPr>
          <p:blipFill>
            <a:blip r:embed="rId2"/>
            <a:stretch/>
          </p:blipFill>
          <p:spPr>
            <a:xfrm>
              <a:off x="563760" y="3281400"/>
              <a:ext cx="1642680" cy="168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maple-lgtyL" descr=""/>
          <p:cNvPicPr/>
          <p:nvPr/>
        </p:nvPicPr>
        <p:blipFill>
          <a:blip r:embed="rId3"/>
          <a:stretch/>
        </p:blipFill>
        <p:spPr>
          <a:xfrm>
            <a:off x="595440" y="5181480"/>
            <a:ext cx="1631880" cy="1016280"/>
          </a:xfrm>
          <a:prstGeom prst="rect">
            <a:avLst/>
          </a:prstGeom>
          <a:ln w="0">
            <a:noFill/>
          </a:ln>
        </p:spPr>
      </p:pic>
      <p:pic>
        <p:nvPicPr>
          <p:cNvPr id="109" name="orgpic1" descr=""/>
          <p:cNvPicPr/>
          <p:nvPr/>
        </p:nvPicPr>
        <p:blipFill>
          <a:blip r:embed="rId4"/>
          <a:stretch/>
        </p:blipFill>
        <p:spPr>
          <a:xfrm>
            <a:off x="6329520" y="5489640"/>
            <a:ext cx="2647800" cy="728640"/>
          </a:xfrm>
          <a:prstGeom prst="rect">
            <a:avLst/>
          </a:prstGeom>
          <a:ln w="0">
            <a:noFill/>
          </a:ln>
        </p:spPr>
      </p:pic>
      <p:pic>
        <p:nvPicPr>
          <p:cNvPr id="110" name="IMG00001" descr=""/>
          <p:cNvPicPr/>
          <p:nvPr/>
        </p:nvPicPr>
        <p:blipFill>
          <a:blip r:embed="rId5"/>
          <a:stretch/>
        </p:blipFill>
        <p:spPr>
          <a:xfrm>
            <a:off x="3540240" y="5707080"/>
            <a:ext cx="211428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21F-D942-4865-8554-2C6CA4FCA97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AA9247A-A224-4B13-B89D-49299FC2D9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dern 3 Tier Computing Architectur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4440" y="4560480"/>
            <a:ext cx="2840040" cy="119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s runs you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and JavaScrip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62120" y="1066680"/>
            <a:ext cx="7696080" cy="1938600"/>
            <a:chOff x="762120" y="1066680"/>
            <a:chExt cx="7696080" cy="1938600"/>
          </a:xfrm>
        </p:grpSpPr>
        <p:pic>
          <p:nvPicPr>
            <p:cNvPr id="246" name="B_OEQ127" descr="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85860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B_OEQ128" descr=""/>
            <p:cNvPicPr/>
            <p:nvPr/>
          </p:nvPicPr>
          <p:blipFill>
            <a:blip r:embed="rId2"/>
            <a:stretch/>
          </p:blipFill>
          <p:spPr>
            <a:xfrm>
              <a:off x="4038480" y="1447920"/>
              <a:ext cx="1095480" cy="155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6705720" y="1066680"/>
              <a:ext cx="1752480" cy="1676160"/>
              <a:chOff x="6705720" y="1066680"/>
              <a:chExt cx="1752480" cy="1676160"/>
            </a:xfrm>
          </p:grpSpPr>
          <p:sp>
            <p:nvSpPr>
              <p:cNvPr id="249" name=""/>
              <p:cNvSpPr/>
              <p:nvPr/>
            </p:nvSpPr>
            <p:spPr>
              <a:xfrm>
                <a:off x="6705720" y="205704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458200" y="1371240"/>
                <a:ext cx="0" cy="1067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62920" y="1752480"/>
                <a:ext cx="0" cy="304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96080" y="1752480"/>
                <a:ext cx="0" cy="304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67480" y="1752480"/>
                <a:ext cx="228600" cy="914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96080" y="167616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62920" y="1752480"/>
                <a:ext cx="304560" cy="838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05720" y="1447560"/>
                <a:ext cx="30456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10280" y="1599840"/>
                <a:ext cx="3049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924680" y="159984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53280" y="1523880"/>
                <a:ext cx="228600" cy="99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229600" y="144756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05720" y="106668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05720" y="1371240"/>
                <a:ext cx="0" cy="1067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877800" y="195012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2480" y="2133720"/>
              <a:ext cx="221004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2133720"/>
              <a:ext cx="13716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326760" y="3859560"/>
            <a:ext cx="2858400" cy="22885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 Server access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HTML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your Perl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er Sid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1640" y="4205880"/>
            <a:ext cx="2266920" cy="1922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s -- of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acy”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Window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646760" y="2803320"/>
            <a:ext cx="12600" cy="1355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43000" y="2971800"/>
            <a:ext cx="0" cy="1447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572000" y="3048120"/>
            <a:ext cx="0" cy="761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9120" y="962280"/>
            <a:ext cx="1532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GI enable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this li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246-956B-4E17-804B-FDB3FBCD0F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E485C-1CCA-4E33-9E60-F8E928A890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chitecture of JSU Distance Educat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88280" y="1182600"/>
            <a:ext cx="13633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38120" y="795240"/>
            <a:ext cx="1363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JSU We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1880" y="2583000"/>
            <a:ext cx="136368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JSU Tango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B_OEQ127" descr=""/>
          <p:cNvPicPr/>
          <p:nvPr/>
        </p:nvPicPr>
        <p:blipFill>
          <a:blip r:embed="rId1"/>
          <a:stretch/>
        </p:blipFill>
        <p:spPr>
          <a:xfrm>
            <a:off x="6851520" y="3720960"/>
            <a:ext cx="858960" cy="984240"/>
          </a:xfrm>
          <a:prstGeom prst="rect">
            <a:avLst/>
          </a:prstGeom>
          <a:ln w="0">
            <a:noFill/>
          </a:ln>
        </p:spPr>
      </p:pic>
      <p:pic>
        <p:nvPicPr>
          <p:cNvPr id="277" name="B_OEQ127" descr=""/>
          <p:cNvPicPr/>
          <p:nvPr/>
        </p:nvPicPr>
        <p:blipFill>
          <a:blip r:embed="rId2"/>
          <a:stretch/>
        </p:blipFill>
        <p:spPr>
          <a:xfrm>
            <a:off x="322200" y="4624560"/>
            <a:ext cx="486000" cy="556920"/>
          </a:xfrm>
          <a:prstGeom prst="rect">
            <a:avLst/>
          </a:prstGeom>
          <a:ln w="0">
            <a:noFill/>
          </a:ln>
        </p:spPr>
      </p:pic>
      <p:pic>
        <p:nvPicPr>
          <p:cNvPr id="278" name="B_OEQ127" descr=""/>
          <p:cNvPicPr/>
          <p:nvPr/>
        </p:nvPicPr>
        <p:blipFill>
          <a:blip r:embed="rId3"/>
          <a:stretch/>
        </p:blipFill>
        <p:spPr>
          <a:xfrm>
            <a:off x="1658880" y="4624560"/>
            <a:ext cx="486000" cy="556920"/>
          </a:xfrm>
          <a:prstGeom prst="rect">
            <a:avLst/>
          </a:prstGeom>
          <a:ln w="0">
            <a:noFill/>
          </a:ln>
        </p:spPr>
      </p:pic>
      <p:pic>
        <p:nvPicPr>
          <p:cNvPr id="279" name="B_OEQ127" descr=""/>
          <p:cNvPicPr/>
          <p:nvPr/>
        </p:nvPicPr>
        <p:blipFill>
          <a:blip r:embed="rId4"/>
          <a:stretch/>
        </p:blipFill>
        <p:spPr>
          <a:xfrm>
            <a:off x="987480" y="4624560"/>
            <a:ext cx="485640" cy="556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28760" y="426600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B_OEQ127" descr=""/>
          <p:cNvPicPr/>
          <p:nvPr/>
        </p:nvPicPr>
        <p:blipFill>
          <a:blip r:embed="rId5"/>
          <a:stretch/>
        </p:blipFill>
        <p:spPr>
          <a:xfrm>
            <a:off x="3021120" y="4624560"/>
            <a:ext cx="485640" cy="556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118280" y="2021040"/>
            <a:ext cx="0" cy="16603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901520" y="3444840"/>
            <a:ext cx="142920" cy="11318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80840" y="3443400"/>
            <a:ext cx="1261800" cy="11318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5960" y="3654720"/>
            <a:ext cx="3652560" cy="825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udio Video Conferencing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hat Rooms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06600" y="3305160"/>
            <a:ext cx="3591000" cy="7603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8840" y="2971800"/>
            <a:ext cx="3706920" cy="84924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5280" y="3201480"/>
            <a:ext cx="1209600" cy="132588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76000" y="1631880"/>
            <a:ext cx="1120680" cy="2935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99080" y="2402280"/>
            <a:ext cx="21481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1400" y="1770480"/>
            <a:ext cx="2108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6400" y="56646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47760" y="518004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Scrip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62120" y="5406480"/>
            <a:ext cx="36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GO Server Client Chat etc.</a:t>
            </a:r>
            <a:br>
              <a:rPr sz="20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888840" y="3693600"/>
            <a:ext cx="76320" cy="1814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97360" y="4105080"/>
            <a:ext cx="863280" cy="1376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7165800" y="2941560"/>
            <a:ext cx="115920" cy="2239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8040" y="858960"/>
            <a:ext cx="136368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AC CGI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840" y="1758960"/>
            <a:ext cx="1917720" cy="19065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6120" y="2156400"/>
            <a:ext cx="21679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g of Access to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57000" y="775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15120" y="987480"/>
            <a:ext cx="2279520" cy="117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DC8-E7D5-4B4F-A5DC-915997F841D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E7837-B666-4445-8E9C-8018D5C712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bstract of Web Programming Course Taught Using Distance Education between Syracuse and Jacks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0044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introduces the course which covers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ssential programming skills needed for We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/ Internet / Intranet Programm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rst we need to thank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D modernization program and the CEWES cen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sponsoring thi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fessor Willie Brow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t Jackson State for bravely volunteering to be an earlier user of our WebWisdom technolog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racuse’s College of Engineering and Computer Sci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re the Curricula was Develop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y technologies were developed in a research project fund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me Labora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 technologies came from collaboration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P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- an NSF center led by Rice Univers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D13-8659-4C86-9294-D8972BB7E3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00B73-737D-4F35-8CB5-6284650E1F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chitecture of JSU Distance Educat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7760" y="1309680"/>
            <a:ext cx="8325000" cy="4387680"/>
            <a:chOff x="347760" y="1309680"/>
            <a:chExt cx="8325000" cy="4387680"/>
          </a:xfrm>
        </p:grpSpPr>
        <p:sp>
          <p:nvSpPr>
            <p:cNvPr id="115" name=""/>
            <p:cNvSpPr/>
            <p:nvPr/>
          </p:nvSpPr>
          <p:spPr>
            <a:xfrm>
              <a:off x="6513480" y="1697040"/>
              <a:ext cx="136368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PAC Web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63680" y="1309680"/>
              <a:ext cx="136368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JSU Web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27080" y="3097440"/>
              <a:ext cx="1363680" cy="82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JSU Tango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" name="B_OEQ127" descr=""/>
            <p:cNvPicPr/>
            <p:nvPr/>
          </p:nvPicPr>
          <p:blipFill>
            <a:blip r:embed="rId1"/>
            <a:stretch/>
          </p:blipFill>
          <p:spPr>
            <a:xfrm>
              <a:off x="6877080" y="4235400"/>
              <a:ext cx="85896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B_OEQ127" descr=""/>
            <p:cNvPicPr/>
            <p:nvPr/>
          </p:nvPicPr>
          <p:blipFill>
            <a:blip r:embed="rId2"/>
            <a:stretch/>
          </p:blipFill>
          <p:spPr>
            <a:xfrm>
              <a:off x="347760" y="5139000"/>
              <a:ext cx="48564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B_OEQ127" descr=""/>
            <p:cNvPicPr/>
            <p:nvPr/>
          </p:nvPicPr>
          <p:blipFill>
            <a:blip r:embed="rId3"/>
            <a:stretch/>
          </p:blipFill>
          <p:spPr>
            <a:xfrm>
              <a:off x="1684440" y="5139000"/>
              <a:ext cx="48564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B_OEQ127" descr=""/>
            <p:cNvPicPr/>
            <p:nvPr/>
          </p:nvPicPr>
          <p:blipFill>
            <a:blip r:embed="rId4"/>
            <a:stretch/>
          </p:blipFill>
          <p:spPr>
            <a:xfrm>
              <a:off x="1012680" y="5139000"/>
              <a:ext cx="4860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254320" y="4780440"/>
              <a:ext cx="86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B_OEQ127" descr=""/>
            <p:cNvPicPr/>
            <p:nvPr/>
          </p:nvPicPr>
          <p:blipFill>
            <a:blip r:embed="rId5"/>
            <a:stretch/>
          </p:blipFill>
          <p:spPr>
            <a:xfrm>
              <a:off x="3046320" y="5139000"/>
              <a:ext cx="4860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143840" y="2535480"/>
              <a:ext cx="0" cy="1660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926720" y="3959280"/>
              <a:ext cx="142920" cy="1131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06400" y="3957840"/>
              <a:ext cx="1262160" cy="1131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81160" y="4169160"/>
              <a:ext cx="3652560" cy="825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udio Video Conferencing</a:t>
              </a:r>
              <a:br>
                <a:rPr sz="2400"/>
              </a:b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Chat Rooms et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2160" y="3819600"/>
              <a:ext cx="3591000" cy="7603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54400" y="3486240"/>
              <a:ext cx="3706920" cy="849240"/>
            </a:xfrm>
            <a:prstGeom prst="line">
              <a:avLst/>
            </a:prstGeom>
            <a:ln cap="rnd" w="38160">
              <a:solidFill>
                <a:srgbClr val="ffff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90480" y="3715920"/>
              <a:ext cx="1209600" cy="1325880"/>
            </a:xfrm>
            <a:prstGeom prst="line">
              <a:avLst/>
            </a:prstGeom>
            <a:ln cap="rnd" w="38160">
              <a:solidFill>
                <a:srgbClr val="ffff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01560" y="2146320"/>
              <a:ext cx="1121040" cy="2935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6120" y="2764440"/>
              <a:ext cx="214524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Address at JSU of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urriculum P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4640" y="2916720"/>
              <a:ext cx="21481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Teacher’s View of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urriculum P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6960" y="2284920"/>
              <a:ext cx="21085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Student’s View of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urriculum P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4560" y="57931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91640" y="54820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5F8-5793-4B26-8770-BABE8CC963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E7484-1F99-474B-82CE-61B34DA2F2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67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 Reasons to Learn or Use Web Technologi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27800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rld Wide Web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erne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self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use i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terprise/Corpor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formation Syste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.e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rane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U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of Web Technology a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se software Infrastructu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RML f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vaBea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information packets such as foils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(distance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duc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pproaches such 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n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8E4-932C-4054-BB69-44DDCBCA8D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A231A-3ECA-4C40-BFB5-263E9E11DF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WebWindows Revolution!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WebWindow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enotes the emerging architecture for essentially ALL modern software whether fo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y now “traditional”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lient serve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computing mod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ew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nterne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based applications such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digital video services, commerce, electronic societi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ve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ainframe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are included as server in client- server mod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raditionally Software is written for a particular operating system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.g. for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Windows 95/NT UNIX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acintosh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WebWindow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, one writes for the “Interface” defined by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eb Standards such a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TML Java VRML HTTP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.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mplementation on top of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eb Server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lien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7C4-21CD-43D8-90A3-D8457FA478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E1EEC-5B11-4260-9E71-C7A0DBB68E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Windows Computing Architectur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720" y="4743360"/>
            <a:ext cx="2332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 runs Jav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Script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1066680"/>
            <a:ext cx="7696080" cy="1938240"/>
            <a:chOff x="762120" y="1066680"/>
            <a:chExt cx="7696080" cy="1938240"/>
          </a:xfrm>
        </p:grpSpPr>
        <p:pic>
          <p:nvPicPr>
            <p:cNvPr id="144" name="B_OEQ127" descr="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85860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B_OEQ128" descr=""/>
            <p:cNvPicPr/>
            <p:nvPr/>
          </p:nvPicPr>
          <p:blipFill>
            <a:blip r:embed="rId2"/>
            <a:stretch/>
          </p:blipFill>
          <p:spPr>
            <a:xfrm>
              <a:off x="4038480" y="1447560"/>
              <a:ext cx="1095480" cy="155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6705720" y="1066680"/>
              <a:ext cx="1752480" cy="1676160"/>
              <a:chOff x="6705720" y="1066680"/>
              <a:chExt cx="1752480" cy="1676160"/>
            </a:xfrm>
          </p:grpSpPr>
          <p:sp>
            <p:nvSpPr>
              <p:cNvPr id="147" name=""/>
              <p:cNvSpPr/>
              <p:nvPr/>
            </p:nvSpPr>
            <p:spPr>
              <a:xfrm>
                <a:off x="6705720" y="205704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458200" y="1371240"/>
                <a:ext cx="0" cy="1067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62920" y="1752480"/>
                <a:ext cx="0" cy="304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96080" y="1752480"/>
                <a:ext cx="0" cy="304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67480" y="1752480"/>
                <a:ext cx="228600" cy="914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96080" y="167616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62920" y="1752480"/>
                <a:ext cx="304560" cy="838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05720" y="1447560"/>
                <a:ext cx="30456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10280" y="1599840"/>
                <a:ext cx="3049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24680" y="159984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153280" y="1523880"/>
                <a:ext cx="228600" cy="99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29600" y="144756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106668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05720" y="1371240"/>
                <a:ext cx="0" cy="1067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877800" y="19497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52480" y="2133360"/>
              <a:ext cx="221004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57800" y="2133360"/>
              <a:ext cx="13716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763800" y="4199760"/>
            <a:ext cx="187020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 Server Enhanced with Perl Java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44360" y="4636800"/>
            <a:ext cx="2468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end Servic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ch as 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16800" y="284112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43000" y="2971800"/>
            <a:ext cx="0" cy="1447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3048120"/>
            <a:ext cx="0" cy="761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C0F-7C06-47D4-A0FC-70220CBCA6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CD954-B4FD-45E2-B5CC-1A04D405F7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730600" y="901800"/>
            <a:ext cx="3657600" cy="52578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Web-based 3-Tier Computing System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B_OEQ127" descr=""/>
          <p:cNvPicPr/>
          <p:nvPr/>
        </p:nvPicPr>
        <p:blipFill>
          <a:blip r:embed="rId1"/>
          <a:stretch/>
        </p:blipFill>
        <p:spPr>
          <a:xfrm>
            <a:off x="203040" y="2506680"/>
            <a:ext cx="858960" cy="98424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7010280" y="4540320"/>
            <a:ext cx="1752480" cy="1676160"/>
            <a:chOff x="7010280" y="4540320"/>
            <a:chExt cx="1752480" cy="1676160"/>
          </a:xfrm>
        </p:grpSpPr>
        <p:grpSp>
          <p:nvGrpSpPr>
            <p:cNvPr id="173" name=""/>
            <p:cNvGrpSpPr/>
            <p:nvPr/>
          </p:nvGrpSpPr>
          <p:grpSpPr>
            <a:xfrm>
              <a:off x="7010280" y="4540320"/>
              <a:ext cx="1752480" cy="1676160"/>
              <a:chOff x="7010280" y="4540320"/>
              <a:chExt cx="1752480" cy="1676160"/>
            </a:xfrm>
          </p:grpSpPr>
          <p:sp>
            <p:nvSpPr>
              <p:cNvPr id="174" name=""/>
              <p:cNvSpPr/>
              <p:nvPr/>
            </p:nvSpPr>
            <p:spPr>
              <a:xfrm>
                <a:off x="7010280" y="553068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762760" y="4844880"/>
                <a:ext cx="0" cy="1067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67480" y="5226120"/>
                <a:ext cx="0" cy="304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00640" y="5226120"/>
                <a:ext cx="0" cy="304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72040" y="5226120"/>
                <a:ext cx="228600" cy="914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0640" y="514980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467480" y="5226120"/>
                <a:ext cx="304560" cy="838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10280" y="4921200"/>
                <a:ext cx="30456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14840" y="5073480"/>
                <a:ext cx="3049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229240" y="507348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57840" y="4997520"/>
                <a:ext cx="228600" cy="99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34160" y="492120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010280" y="454032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10280" y="4844880"/>
                <a:ext cx="0" cy="1067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7241040" y="537732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81160" y="3144960"/>
            <a:ext cx="220968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1905120"/>
            <a:ext cx="99036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29680"/>
            <a:ext cx="2075040" cy="947160"/>
          </a:xfrm>
          <a:prstGeom prst="rect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Basic We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46440" y="4858560"/>
            <a:ext cx="2075040" cy="947160"/>
          </a:xfrm>
          <a:prstGeom prst="rect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Custom We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1694520"/>
            <a:ext cx="2075040" cy="520560"/>
          </a:xfrm>
          <a:prstGeom prst="rect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TP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910560" y="963720"/>
            <a:ext cx="1911960" cy="1676160"/>
            <a:chOff x="6910560" y="963720"/>
            <a:chExt cx="1911960" cy="1676160"/>
          </a:xfrm>
        </p:grpSpPr>
        <p:grpSp>
          <p:nvGrpSpPr>
            <p:cNvPr id="195" name=""/>
            <p:cNvGrpSpPr/>
            <p:nvPr/>
          </p:nvGrpSpPr>
          <p:grpSpPr>
            <a:xfrm>
              <a:off x="6910560" y="963720"/>
              <a:ext cx="1883160" cy="1676160"/>
              <a:chOff x="6910560" y="963720"/>
              <a:chExt cx="1883160" cy="1676160"/>
            </a:xfrm>
          </p:grpSpPr>
          <p:sp>
            <p:nvSpPr>
              <p:cNvPr id="196" name=""/>
              <p:cNvSpPr/>
              <p:nvPr/>
            </p:nvSpPr>
            <p:spPr>
              <a:xfrm>
                <a:off x="6910560" y="1954080"/>
                <a:ext cx="188316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3720" y="1268280"/>
                <a:ext cx="0" cy="1067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401600" y="1649520"/>
                <a:ext cx="0" cy="304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74720" y="1649520"/>
                <a:ext cx="0" cy="304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29200" y="1649520"/>
                <a:ext cx="245520" cy="914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74720" y="1573200"/>
                <a:ext cx="2455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401600" y="1649520"/>
                <a:ext cx="327240" cy="838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10560" y="1344600"/>
                <a:ext cx="32724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37800" y="1496880"/>
                <a:ext cx="327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20600" y="1496880"/>
                <a:ext cx="2455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66120" y="1420920"/>
                <a:ext cx="245520" cy="99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548200" y="1344600"/>
                <a:ext cx="2455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10560" y="963720"/>
                <a:ext cx="188316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10560" y="1268280"/>
                <a:ext cx="0" cy="1067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988320" y="1800720"/>
              <a:ext cx="183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bject Sto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144440" y="3400560"/>
            <a:ext cx="2568600" cy="126684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03400" y="2057400"/>
            <a:ext cx="2325600" cy="64440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057400"/>
            <a:ext cx="914400" cy="259092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3505320"/>
            <a:ext cx="1143000" cy="144756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791320" y="2209320"/>
            <a:ext cx="914400" cy="297180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572000" y="4106520"/>
            <a:ext cx="0" cy="68580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72000" y="2361960"/>
            <a:ext cx="0" cy="68580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840" y="76968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6680" y="4278960"/>
            <a:ext cx="2433600" cy="1922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ou Write Softw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t Client and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l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60680" y="5181480"/>
            <a:ext cx="969840" cy="190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90640" y="1390680"/>
            <a:ext cx="811440" cy="42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21360" y="2825280"/>
            <a:ext cx="20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ld and New Usefu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end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4120" y="3565080"/>
            <a:ext cx="4680" cy="76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EE4-BED8-40BB-864A-356738E8FA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A337E-E39B-4B55-BE27-AB368FD17E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is WebWindows a Good Idea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importantly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fines a muc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igher level and service-oriented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the programm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 are perhap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tor of 10 more “productive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an when programming directly to guts of UNIX or Window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based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en interf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so instead of one entity producing a complete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 Microsoft does with Microsoft Wo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can build a complete application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set of modu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re each module comes from a different vendor/internet programmer and they inter-operate through comm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Interf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RML, HTML, JavaB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u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 one person builds basic system; another the spell-checker; a third the fancy alphabet; another the graphics subsystem and so on!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AA4-03C1-40FD-8102-1061F103AF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47D47-44D4-4474-87F4-E44B33D3A1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sic Client Server Structure of World Wide Web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91764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mplified to illustrate technologies described in cour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600" y="2909880"/>
            <a:ext cx="1814400" cy="160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owser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pr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ML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83120" y="2700360"/>
            <a:ext cx="238104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 Server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rming off CGI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quests and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cessing other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pler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13520" y="1415880"/>
            <a:ext cx="2678040" cy="836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ML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06600" y="3745080"/>
            <a:ext cx="167472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37520" y="4761000"/>
            <a:ext cx="1596960" cy="12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l or Java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ustom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50120" y="4248000"/>
            <a:ext cx="1001520" cy="4636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92800" y="4876920"/>
            <a:ext cx="1001880" cy="4633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67200" y="3757680"/>
            <a:ext cx="772920" cy="16351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5080" y="1635120"/>
            <a:ext cx="1544400" cy="784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TTP M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66920" y="2625840"/>
            <a:ext cx="0" cy="1003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89720" y="2265480"/>
            <a:ext cx="976320" cy="912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3040" y="1791000"/>
            <a:ext cx="1346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9320" y="1711440"/>
            <a:ext cx="1413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181480"/>
            <a:ext cx="3089160" cy="91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RML etc Helper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plications (Plugi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90760" y="4551480"/>
            <a:ext cx="1440" cy="63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UFall97Master    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2E8-84DD-4896-8EE5-062942D200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9FC0A-EA12-40E9-8A26-F77FD87091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Fox</cp:lastModifiedBy>
  <cp:lastPrinted>1997-06-11T16:20:28Z</cp:lastPrinted>
  <dcterms:modified xsi:type="dcterms:W3CDTF">1997-08-19T21:38:52Z</dcterms:modified>
  <cp:revision>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