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PET TACTIC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6520" y="1319040"/>
            <a:ext cx="69991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TICAL PLA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682640"/>
            <a:ext cx="62802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C MSRC</dc:creator>
  <dc:description/>
  <dc:language>en-US</dc:language>
  <cp:lastModifiedBy>ASC MSRC</cp:lastModifiedBy>
  <cp:revision>0</cp:revision>
  <dc:subject/>
  <dc:title>OUTLINE OF PET TACTICAL PLAN</dc:title>
</cp:coreProperties>
</file>