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523D-F94B-418D-ABEB-D805A9C57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9FB2-F7F7-4F81-B1B0-4043EF686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5E38-0988-4E1C-B3FF-76F9BC6EA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5246-EBF6-4B9E-8DAC-FE1DC81B5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458A-69EB-4F5F-81A6-6BF0DA23E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1D2F-1177-4886-A2B1-47CD6624C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D258-90F1-4D00-9BD9-8B580B3C8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FFFB-ECB7-4DE2-85D7-98B8B89F5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C663-A38F-4205-B6EB-0C605225E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54A0-E4D5-4CFA-8F06-C76771538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9C55-1F63-42CB-9181-10721CD91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327-282A-4F9B-8AF8-40938C182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57E-6480-432F-811B-DEEC39FF6C34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of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ear 4 Proposal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and 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highly successful efforts during Years 2 and 3 (four courses delivered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Year 4 extend in several way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mote increased understanding &amp; use of distance education at JSU &amp; other institutions via summer worksho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velop new, more sophisticated course materials &amp; Tango support for th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iver new &amp; existing courseware as class and 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5C83-B770-4B95-AA78-402A0F60E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New Coursewa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and WebWisdom currently handles relatively “low-end” media (HTML, PowerPoint).  Common in academics, especially for rapidly changing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ny areas are better developed pedagogically, and could take advantage of more sophisticated (“flashy”) materials (ie embedded applets, Macromedia Authorware…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2ECF-C262-4E98-A8EF-678C6993C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New Coursewa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velop higher-level course materials in basic parallel computing.  Based on existing NPAC courseware (during summer’99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rk with Mississippi State U to develop high-level materials in CFD (spring’00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64D8-22FB-43C2-9624-5A9484368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Tango Enhance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glossaries and interactive quizz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mbedded Javabeans and Java appl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high-end authoring tools, such as Macromedia Authorwa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n to leverage support from other centers to broaden high-end supp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F7E8-7E5A-4D6A-A81F-91EDB2D333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. Edu. -- Class Delive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ummer’99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JSU workshop on distance ed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Fall’99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prototype parallel computing mat’l delivered to JSU &amp; others as academic class.  (Feedback used to improve material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pring’00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final version of parallel computing mat’l delivered as dist. training for CEWES MSRC users &amp; ot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pring’00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-- Syracuse CPS616 offered to JSU and others (repeat of Spring’99 “gift”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67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D-ROM w/ coursewa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649B-9565-4B23-A8DD-090C8DC39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Collaboration/Commun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llaborative Computing Environments (Web Interface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1325-36B8-4EC1-A29E-8D1EFC6B1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tracking, trip reports, technology bulletins, etc. as appropria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gular reporting &amp; review briefing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ining: Tango “Open House” and Tutori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ssessment of asynchronous collaboration tools and their possible roles within the CEWES MSRC and PET organiz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2C39-484D-46CC-9D11-3C4F95C78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ango Enhance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secur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eeting supp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 number of small but important features to facilitate formal meetings &amp; briefing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cilitate off-site involvement in MY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-of-browser Tango (prototyped already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is tightly integrated with browser -- good and bad (each new release introduces new &amp; exciting bugs; releases </a:t>
            </a:r>
            <a:r>
              <a:rPr b="0" i="1" lang="en-US" sz="2800" spc="-1" strike="noStrike">
                <a:solidFill>
                  <a:srgbClr val="ff9933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frequent lately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ows easier support of other brows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750F-59D7-4612-A268-6A8F57DE5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ve Computing Environm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 collaborative framework like Tango can also be used to “share” HPC applications in addition to the familiar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HPC applications can be useful in education, collaborative research, etc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llaboratization” is application-specific, but principles are gener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 plan to “collaboratize” two applications as demos &amp; document approach for others to follow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F6C6-5FD0-4FF3-A901-C119673652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Forces Modeling and Simulation/C4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HLA Integration for HPC Applications, Applied to C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F3D1-F98C-4956-A234-EACB6330A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st three years have seen unprecedented progress in distributed object and web tech. &amp; thei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bject web technologies offer a unique way to learn, to work together, and to construct large-scale compute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sequently, object web technologies can and should play a major role in improving access and ease of use in HPCC-related areas, just as in the world at larg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MS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Convergence Roadmap” still on track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pid evolution in both DoD M&amp;S and web/commodity computing worlds -- tracking changes very importa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asic FMS training materials will be developed in a various formats (web-based training very important to FMS CHSSI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ports, reviews, scientific papers, etc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A492-0740-4559-83C3-00A8FA5D2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mprehensive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e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ulator (Ft. Belvoir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dely-used FMS applic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urrently runs on uniprocessor SGI systems, up to 50,000 min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rget of 1,000,000 mines -- requires HP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MS work also supported by AR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-memory parallel on SGI up to 4 CP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formance deteriorates beyond 8 CP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9AA6-6605-4A76-9D61-37D0512FAD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arallel CM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MS is strongly object-oriented (as is much modern FMS cod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urrent OO structure at odds with better scalability.  Need to restructure inner loops and some data storage &amp; data distribu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llowing proposal will use shared-memory parallel CMS as elements in larger distributed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DBE1-7CA8-4DED-BB04-783D2356C3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LA Integration for HPC Appl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LA is DoD mandated way of connecting M&amp;S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t limited to “FMS” apps. Increasingly, high-fidelity physical simulations will be coupled with “FMS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CEWES and ARL supported work on “webHLA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/Web/Object Request Broker (JWORB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TI implementation (component of HLA) on top of JWORB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38F2-DD60-4086-A94C-FCCC540FC1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LA Integration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s WebHLA to provide HLA-based metacomputing environment capable of coupling HPC applications on different computers into single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ith parallel CMS and previously developed visualization tools, will be able to demonstrate large-scale distributed minefield simul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ame tools/techniques for other HPC apps which need HLA integr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5FA7-A255-4978-BCD9-392D680487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 Problem Solving Environment (PSE) for CWO Modeling Systems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joint project with OSU and OSC,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presented by OSU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8ADD-A103-4D72-B595-27B2009260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 commodity/standard software tools to develop a system to make easier..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gration of complex applications to HP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of diverse and specialized HPC resour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uple applications together to meet demand for higher-fidelity model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594360" indent="-2286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cilitate separation of front-end user interface and computational back-e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ome of above possible with Java &amp; CGI but cumbersome and hard to generaliz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74320" indent="-2743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Java, CORBA &amp; WebFlow better approach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B506-0A8E-420D-9FAE-3CC706589B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llow-on to Year 3 effo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nd Management System (EQM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bility Assessment (Logistics/FM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Year 4 expand to other CTAs and other types of HPC applications to broaden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ynergistic with new ASC “Gateway” project (NPAC, OSC, Nichols).  There NPAC focus is on “middleware”, here on supporting applications and CT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9BD9-A836-459E-BFE2-8909EA6C5E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lement basic WebFlow infrastructure at CEWES, including security enhancements from ASC Gatewa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n is to work with 2-3 CTA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sign and implement API to allow applications to interface with WebFlow servi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appl. areas not supported at CEW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ed broad spectrum of apps early to insure “universal” suppor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231D-BBEC-4414-AC25-C011BA5A5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rections in Dist. Education and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35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Integration for HPC Applic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Collaboration and Communica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e Support: C/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llaborative Computing Environmen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Problem Solving Environment for CW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069A-2D7A-4817-B6C1-5878A57CA1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Use of commodity- and standards-based software facilitates maintenance, interoperability, and future developm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 has substantial experience in coupling object web technologies with HPCC- and education-related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r long-range vision is to make the use of advanced web technologies to facilitate all aspects of DoD computational science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sion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reas addressed in Year 4 proposals (nearly all based on web and distributed object technology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llaboration and Communica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rces Modeling and Simulation/C4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ergent Technologies for HPC Migration and Productiv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remely high leverage for PET $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vantages to the Warfighter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 of productivity in access to HPCC resources and personnel (especially off-site user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ke advantage of computers and networks to collaborate more efficient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d training capabil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omote new ways of approaching problem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omote commodity- and standards-based solu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00" y="6489720"/>
            <a:ext cx="194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ategic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Core Support: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New Directions in Distance Education and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1AA5-06FD-4D71-A3A6-78BD1D4BF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cus on technological tools for training and education.  Training activities at CEWES still handled by John Eberle &amp; Wayne Mast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echnology tracking, trip reports, technology bulletins, etc. as appropria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gular reporting &amp; review briefing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volvement in program-wide Training Group meetings  &amp; activ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FF86-8582-451F-8707-B1BB9EAA5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distance training activities (build on successful Yr 3 Focused Effort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stance Training Workshop to be organized this sp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T partners have committed to seven training classes to be delivered with Tango during Yr 4 (more welcome), plus JSU course delivery!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 with development/conversion of course materials, delivery of c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st keep Tango up to date with new releases of Java, browsers, operating systems,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25ED-0CAB-477F-84B5-F75726E78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 install LecCorder system at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riginally developed for ASC, and related to an idea put forward by John Eber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tegrated hardware/software syst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cord live trainings &amp; publish on web quickly and easily as “foils over audio/video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ewable with Java play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expensively produce asynchronous training resources from live training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79B3-BFFC-4587-A478-53CBB251B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05:40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9-01-30T15:57:12Z</dcterms:modified>
  <cp:revision>49</cp:revision>
  <dc:subject/>
  <dc:title>No Slide Title</dc:title>
</cp:coreProperties>
</file>