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13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AA71-A393-4A3D-8F57-3C626E7BD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CC86-DDF5-46A0-BB4F-0579BDE2D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7C76-65B4-47BC-BA8C-EAC93BA06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444D-8581-47E9-9371-413F3EC4B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A83D-0681-459E-A33B-79A22FCC8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46F6-C911-4AF1-84CF-917D2F4F7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99BE-890B-4E25-9F8D-279EA187D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D697-E77E-482E-8061-3E720D948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B7A8-E0AA-4170-B731-70AA4F874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8ED0-53CD-4BBE-9583-9735D19C1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5AE1-F613-47BE-A47D-AD9EFF55B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76B0-A96E-4A90-8A5E-C0D8164CB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D640-2716-4B3A-8A28-4CEDF32EED2B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obustness and Stabil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ensive in-house and field tes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g submission and fix tracing procedur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-depth study of underlying (undocumented) browser technolog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ozens of bugs uncovered and fixed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rovements to protocols and architectural modifications in multithreaded design of server and cli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obust installation procedures imple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FBCD-8027-418C-86CB-0584DEF895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zgur Balsoy, Saleh Elmohamed, Geoffrey Fox, Meryem Ispirli, Jin Jianxiang, Norka Lucena, Tom Major, Roman Markowski, Nancy McCracken, Marek Podgorny, Tom Scavo, Mehmet Sen, Tom Stachowiak, Remek Trzask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DBE3-0F51-4E7B-A6A2-BB4CC4DCBF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ctivities/Deliverab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ught distance course at Jackson Sta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499 “Programming for the Web” in Spring 98 (started during Year 2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539 “Computational Science for Simulation Applications” in Fall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PS616 “Web Software Technologies” Spr’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ffered for free to all PET partners (not actually a deliverable of any PET project)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FCB7-DFDA-4673-84E8-4B710255AE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4 trips to JSU by NPAC instructors, 1 for Tango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pring 98 class: 8 students,  Fall 98 class: 7 students, Spring 99 class: 21 students (3 school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esentation at SC98:  </a:t>
            </a:r>
            <a:r>
              <a:rPr b="0" i="1" lang="en-US" sz="2800" spc="-1" strike="noStrike">
                <a:solidFill>
                  <a:srgbClr val="ff9933"/>
                </a:solidFill>
                <a:latin typeface="Times New Roman"/>
              </a:rPr>
              <a:t>Synchronous Learning at a Distance:  Experiences with Tango Interactiv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talled Student (grading, homework, registration) Database System (web-linked Oracle database written at NPAC) at JSU for use with other dist. edu. courses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xtensive &amp; regular use of DREN &amp; interactions with DREN staff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25DA-A73C-4C36-B30A-20FEC641C4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533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search” universities deliver courses over the network to “teaching focused” universit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rovide students and faculty with access to leading-edge cours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jump start” local courses based on material originally delivered remotel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 TangoInteractive/ WebWisdom for synchronous delivery of lectures from SU to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ilot for distance training of DoD us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71" name="jsu-students2" descr=""/>
          <p:cNvPicPr/>
          <p:nvPr/>
        </p:nvPicPr>
        <p:blipFill>
          <a:blip r:embed="rId1"/>
          <a:srcRect l="0" t="0" r="27827" b="0"/>
          <a:stretch/>
        </p:blipFill>
        <p:spPr>
          <a:xfrm>
            <a:off x="6553080" y="4038480"/>
            <a:ext cx="1905120" cy="1782720"/>
          </a:xfrm>
          <a:prstGeom prst="rect">
            <a:avLst/>
          </a:prstGeom>
          <a:ln w="0">
            <a:noFill/>
          </a:ln>
        </p:spPr>
      </p:pic>
      <p:pic>
        <p:nvPicPr>
          <p:cNvPr id="72" name="njm-trs-teaching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6248520" y="2209680"/>
            <a:ext cx="2514600" cy="15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2897-F910-4E27-9B8E-3957C9382E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rchitecture of JSU Distance Educ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6765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PAC Web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523880"/>
            <a:ext cx="1363680" cy="74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SU  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32767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 Tang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_OEQ127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858960" cy="984240"/>
          </a:xfrm>
          <a:prstGeom prst="rect">
            <a:avLst/>
          </a:prstGeom>
          <a:ln w="0">
            <a:noFill/>
          </a:ln>
        </p:spPr>
      </p:pic>
      <p:pic>
        <p:nvPicPr>
          <p:cNvPr id="78" name="B_OEQ127" descr=""/>
          <p:cNvPicPr/>
          <p:nvPr/>
        </p:nvPicPr>
        <p:blipFill>
          <a:blip r:embed="rId2"/>
          <a:stretch/>
        </p:blipFill>
        <p:spPr>
          <a:xfrm>
            <a:off x="28728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79" name="B_OEQ127" descr=""/>
          <p:cNvPicPr/>
          <p:nvPr/>
        </p:nvPicPr>
        <p:blipFill>
          <a:blip r:embed="rId3"/>
          <a:stretch/>
        </p:blipFill>
        <p:spPr>
          <a:xfrm>
            <a:off x="162396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80" name="B_OEQ127" descr=""/>
          <p:cNvPicPr/>
          <p:nvPr/>
        </p:nvPicPr>
        <p:blipFill>
          <a:blip r:embed="rId4"/>
          <a:stretch/>
        </p:blipFill>
        <p:spPr>
          <a:xfrm>
            <a:off x="9525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63880" y="454248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_OEQ127" descr=""/>
          <p:cNvPicPr/>
          <p:nvPr/>
        </p:nvPicPr>
        <p:blipFill>
          <a:blip r:embed="rId5"/>
          <a:stretch/>
        </p:blipFill>
        <p:spPr>
          <a:xfrm>
            <a:off x="37623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238880" y="2438280"/>
            <a:ext cx="1800" cy="2119320"/>
          </a:xfrm>
          <a:prstGeom prst="line">
            <a:avLst/>
          </a:prstGeom>
          <a:ln w="5724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94920" y="4038480"/>
            <a:ext cx="685800" cy="68580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5440" y="1522800"/>
            <a:ext cx="212688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are URL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dio 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t Roo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ite Board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93920" y="3035160"/>
            <a:ext cx="3754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09480" y="3962160"/>
            <a:ext cx="1067040" cy="6397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33160" y="2362320"/>
            <a:ext cx="1135080" cy="2344680"/>
          </a:xfrm>
          <a:prstGeom prst="line">
            <a:avLst/>
          </a:prstGeom>
          <a:ln w="3816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7240" y="3259800"/>
            <a:ext cx="214524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ress at JSU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64160" y="2942280"/>
            <a:ext cx="21481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7640" y="2513520"/>
            <a:ext cx="21085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4080" y="5561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51960" y="552492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58020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276720" y="4038120"/>
            <a:ext cx="761760" cy="685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40600" y="4697640"/>
            <a:ext cx="21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127920" y="5027760"/>
            <a:ext cx="682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46360" y="5073120"/>
            <a:ext cx="493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58BE-DD28-4816-941E-AC8041FFF5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JSU CSC 499: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gramming for the Web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112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in Spring 98 (started during Yr2). Repeat of Fall 97 class, popular at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SU faculty attended to “learn” materia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Web architecture, CGI programming and Jav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ditional refinements of architecture with proxy web  server to avoid copying of materia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1" name="jsu-students1" descr=""/>
          <p:cNvPicPr/>
          <p:nvPr/>
        </p:nvPicPr>
        <p:blipFill>
          <a:blip r:embed="rId1"/>
          <a:srcRect l="0" t="16941" r="0" b="0"/>
          <a:stretch/>
        </p:blipFill>
        <p:spPr>
          <a:xfrm>
            <a:off x="1905120" y="2057400"/>
            <a:ext cx="2097000" cy="2676600"/>
          </a:xfrm>
          <a:prstGeom prst="rect">
            <a:avLst/>
          </a:prstGeom>
          <a:ln w="0">
            <a:noFill/>
          </a:ln>
        </p:spPr>
      </p:pic>
      <p:pic>
        <p:nvPicPr>
          <p:cNvPr id="102" name="jsu-students3" descr=""/>
          <p:cNvPicPr/>
          <p:nvPr/>
        </p:nvPicPr>
        <p:blipFill>
          <a:blip r:embed="rId2"/>
          <a:srcRect l="0" t="14544" r="0" b="0"/>
          <a:stretch/>
        </p:blipFill>
        <p:spPr>
          <a:xfrm>
            <a:off x="457200" y="4343400"/>
            <a:ext cx="2743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8042-15F4-4486-BE1A-C2237DDC34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JSU CSC 539:  Computational Science for Simulation Applications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43400" y="16002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parallel computing architecture, scientific applications and algorithms, parallel programming in C/MPI.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Material on CD-ROM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an on-line “Virtual Programming Lab” to compute with NPAC parallel computing resourc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eaching graduate students led to additional kinds of feedback for Tango and style of distance teaching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5" name="jsufall98" descr=""/>
          <p:cNvPicPr/>
          <p:nvPr/>
        </p:nvPicPr>
        <p:blipFill>
          <a:blip r:embed="rId1"/>
          <a:stretch/>
        </p:blipFill>
        <p:spPr>
          <a:xfrm>
            <a:off x="76320" y="1979640"/>
            <a:ext cx="4343400" cy="409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F9D4-6940-49D3-AD30-5CF5A12E1A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eport presented at SC98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paper “Synchronous Learning at a Distance:  Experiences with Tango Interactive” was presented at the education sessions of SC98 in November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8" name="sc98-cover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3856320" cy="5257800"/>
          </a:xfrm>
          <a:prstGeom prst="rect">
            <a:avLst/>
          </a:prstGeom>
          <a:ln w="0">
            <a:noFill/>
          </a:ln>
        </p:spPr>
      </p:pic>
      <p:pic>
        <p:nvPicPr>
          <p:cNvPr id="109" name="sc98-tango-paper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976920" cy="42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D24D-0B2A-4512-9C21-FDAE072DA4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dditional Course in Spring 99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We have just begun teaching a distance education course based on the Syracuse course CPS616 Web Software Technologi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Given at JSU to 9 students for credit.   Also attended by 10 students at Mississippi State and 2 students from Clark Atlanta University for certificat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The course will include multi-tier web architecture, web-linked databases, user interfaces with JavaScript and DHTML, distributed objects with RMI and CORBA, XML, and security issu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12" name="jsufpring99" descr=""/>
          <p:cNvPicPr/>
          <p:nvPr/>
        </p:nvPicPr>
        <p:blipFill>
          <a:blip r:embed="rId1"/>
          <a:stretch/>
        </p:blipFill>
        <p:spPr>
          <a:xfrm>
            <a:off x="0" y="1940040"/>
            <a:ext cx="4191120" cy="40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9756-4881-4052-B5BB-2AD8750906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Universal Browser Suppor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oW stipulates support for Internet Explore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termined to be very expensive and time consuming and not easy to maintain concurrently with Netscape version, so we found another approach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5800" indent="-3258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lternative approach studied, designed, and prototyped (full implementation proposed for Year 4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olution also helps with some problems of browsers relative to Tang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1708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rowsers critical but nonstandard Java and bugs implies extremely unfriendly for develop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1708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rformance problems under UNI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1708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velopment and maintenance of  two different technologies very expensiv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1A9F-27EB-4881-BDD1-963BC619B2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w in fourth semester of course delivery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nhanced edu. opportunities for stud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ives local faculty a head start developing new courses (i.e. JSU now teaching “Programming for the Web” via Tango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istance education tools &amp; techniques being adopted by JSU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E27D-B7FB-41B3-8854-9FBEB6AD42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approach to dist. edu. is now in some sense “routine”, but active support still valuable (in addition to education aspect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nderstanding of human factors in dist. edu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rives requirements for Tango capabilities &amp; robustness also relevant to training &amp; collab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esting ground for new Tango releas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kes extensive use of DR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27E3-B1EA-4C58-A2C7-ABD389BEBB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gramming Interfac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 enable 3rd-party application development, a set of new APIs was designed and docu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ttp://www.npac.syr.edu/tango/Developers_pages/developers_pages.html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runtime functionality encapsulated in a system proxy ag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oxy methods callable from any langu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ean enables visual programming of collaborative applications (no extra coding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Is support embedding of </a:t>
            </a: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active shared objects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in Web pages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CB9F-22DE-49AE-A79A-11D8A5653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owards Virtual Civiliz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rsonal Identity Module for 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base backend (relational or LDAP) to hold user identities and information, interfaced to collaboratory server (70% complet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upports authentication, security, assessm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cessary for sync/async integr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/Mail/Listserv interface implemented, being integrated (critical synchronous/Asynchronous capability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CSA Lotus Notes Intranet has major difficulty that discussion lists not linked to “ordinary” emai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ocal storage and file distribution interface implemented, being integrate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87DE-C533-40C3-B880-BD770D7BF0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ustomizabil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client  supports configurable, domain-specific interfac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lection of collaborative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edefined, automatically started sess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dden agents (faceless applic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ulti-frame integrated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dministrative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l aspects under external control of system administrator/end 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CDA3-D606-459B-9E9D-624B279577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rtual Space Navig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run-time server hop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communities/interest grou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ierarchical visualization of the “collaboration space”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rver/community/session/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re granular, “per-session” floor contro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ession control paradig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mprehensive, multi-level access to user inform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459D-0A42-4561-8FB8-CBC91D885E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hared Access to Databas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hared browser supports shared access to pages of arbitrary complexity, including CSS-based cont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ing of XML-compliant documents is fully suppor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ed access to relational courseware repositories is implemented via server-side extensions implementing XML-style tags (WebWisdom NT 2.1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1A93-0024-4E64-BD1A-752249D7FD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Deployment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educa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ckso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orga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lark Atlanta, Houston, MSU 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training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EWES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RL/HEAT center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SC (client and collaboratory server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, NAVO, NRL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199E-93EE-4A7E-8A2D-0FFC544B75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ntributed substantially to tracking of technology and progress in broad area (not limited to C/C &amp; Training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bstantial enhancement of Tango to meet requirements of PET education, training and collaboration activities. 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ols are now in a position where routine use by broad spectrum of users is appropriate; deployment/acceptance is next issu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001F-438E-4B1C-B7FD-2B07F26154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4T20:49:46Z</dcterms:created>
  <dc:creator>David E Bernholdt</dc:creator>
  <dc:description/>
  <dc:language>en-US</dc:language>
  <cp:lastModifiedBy>David E Bernholdt</cp:lastModifiedBy>
  <cp:lastPrinted>1999-01-30T16:45:36Z</cp:lastPrinted>
  <dcterms:modified xsi:type="dcterms:W3CDTF">1999-02-09T14:36:37Z</dcterms:modified>
  <cp:revision>80</cp:revision>
  <dc:subject/>
  <dc:title>No Slide Title</dc:title>
</cp:coreProperties>
</file>