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09A-B27A-4AF9-9752-80BB89BD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28D-66AC-4E17-A6FE-23812EF9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821-A904-40F9-8805-5E16E68F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95B-15CF-4F08-A1D6-D30E92D6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361-DCE4-4017-9889-4E03DFF7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222-7C43-43C3-B71C-B6A797FE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FB7-8DBE-481B-AC28-B196A1F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EF5-8FC8-425D-B8F0-23DB2B1B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4B9-3FA0-4658-90BB-92E61E65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A89-2225-45E4-B7F0-D70F54F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3F2-8A4F-45C1-BF3F-1CD5031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5CD-208E-4160-A967-1D64DB0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2F4-51D7-4080-9B51-6AC1F75B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ntrolvtk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86728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5440" y="44607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oleculePic0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03880" y="30891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oleculePic1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8620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oleculePic2" descr=""/>
          <p:cNvPicPr/>
          <p:nvPr/>
        </p:nvPicPr>
        <p:blipFill>
          <a:blip r:embed="rId1"/>
          <a:stretch/>
        </p:blipFill>
        <p:spPr>
          <a:xfrm>
            <a:off x="1646280" y="50328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91120" y="38098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oleculePic3" descr=""/>
          <p:cNvPicPr/>
          <p:nvPr/>
        </p:nvPicPr>
        <p:blipFill>
          <a:blip r:embed="rId1"/>
          <a:stretch/>
        </p:blipFill>
        <p:spPr>
          <a:xfrm>
            <a:off x="1646280" y="50328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62520" y="39625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MoleculePic4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426708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leculePic5" descr=""/>
          <p:cNvPicPr/>
          <p:nvPr/>
        </p:nvPicPr>
        <p:blipFill>
          <a:blip r:embed="rId1"/>
          <a:stretch/>
        </p:blipFill>
        <p:spPr>
          <a:xfrm>
            <a:off x="1646280" y="50328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41960" y="39276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88620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7524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Geometr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16:57:48Z</dcterms:created>
  <dc:creator>Administrator</dc:creator>
  <dc:description/>
  <dc:language>en-US</dc:language>
  <cp:lastModifiedBy>Administrator</cp:lastModifiedBy>
  <dcterms:modified xsi:type="dcterms:W3CDTF">2001-01-16T21:24:16Z</dcterms:modified>
  <cp:revision>2</cp:revision>
  <dc:subject/>
  <dc:title>PowerPoint Presentation</dc:title>
</cp:coreProperties>
</file>