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9B10-92A5-4E20-912E-D372D4D319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an overview of the talk.  I will discuss motivations for the project, the various pieces (PSE, WebFlow, backend resources), and how they fit together.  Once all the pieces of the architecture are put together, I will describe the security needs of the system and how they are m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eet our goals we need to use the appropriate tool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body has heard of java, but some points I want to emphasize are that it is safe, easy to learn and (re) use to build complex applic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BA is the Common Object Request Broker Architecture.  An object is an entity that encapsulates both data and methods that use and modify the data.  Ex. A vector.  CORBA is a specification for allowing programs to access remote objects on other machi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ML is the extensible markup language and defines how you can create your own structured, human-readable da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teway is a science portal, and so we need to break the design into relatively independent compone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 will describe next each of the three constituent pieces and then show how they are put together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2EE2-6D6D-47F3-8413-8930D8535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823E-0F06-4D3C-AE56-00DAC6887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734C-EF0C-45F6-AC50-5C73D6EE0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1D77-1F1F-491A-BD86-809591B18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932A5-5EBC-4EC5-B8C1-AA378CAB3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CCE39-A284-4BFC-B757-190CEB065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0D157-E18D-452D-A8F1-C8841BF0F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78884-2EF1-42DC-834A-59D8924D1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01111-DE5C-4A32-AA67-592AECB0D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C4198-163E-40DD-AFAB-7BD68D733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4E3F8-27AC-4334-AFD6-6B442F18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67C2-51CD-4557-A383-AB2784DB0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F3421-D3A4-40A9-AE5A-62C1A934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82CC3-6ABD-4874-83D7-ACE252A3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65964-68FC-4AB5-B7FE-A5B3616D5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4C9BF-C479-4F74-BCCB-3D1DB6664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7E7EB-E629-4907-84AC-D56A83749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5DFC-74BF-46ED-92C6-08875555A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E1F9-ED9C-4474-94AC-A6D737BDB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2989-3B4A-47AA-8FA1-9D86E8786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50FC-4219-49C9-98DC-F69FC36F7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6B28-CDAD-4767-AE7E-6C486354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F505-8D0A-43F7-8543-B6D7CB4F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8FE8-588F-4EA0-AEAF-488DD265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B45D6-EF91-4BF2-ABEC-2731E058660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9162B-DB11-428A-B558-331AD0D110E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pierceme@asc.hpc.mil" TargetMode="External"/><Relationship Id="rId2" Type="http://schemas.openxmlformats.org/officeDocument/2006/relationships/hyperlink" Target="http://www.gatewayportal.org/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74880" y="819000"/>
            <a:ext cx="746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Gateway Science Porta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50120" y="2206800"/>
            <a:ext cx="7635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llaborative Technologies Semin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RL MSRC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10960" y="4129200"/>
            <a:ext cx="6598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lon Pierce and Choonhan Y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ool of Computational Science and Information 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orida State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nuary 18,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SM Portal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31280" y="19051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TA specific portals can be built on top of generic servi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ristina Beldica (NCSA) and Marlon Pierce (FSU) will develop CSM specific port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l capability will be support for parameter studies with preexisting input fi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ced capability will provide access to pre- and post-processing softwa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be installed at ARL and AS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cientific Visualiz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ng range goal: use WebFlow middle tier software to provide remote visualiz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rrent projects are stand-alon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3D-based Molecular Viewer for CC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2D and SVG-based viewer and whiteboar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olecular Viewer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cture shows methylene, silyl anion, and formamide optimized geometries (calculated by GAMESS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allows multiple molecules to be rotated, translated, etc., with outputs sav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plays animations of normal mod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ages can be saved as jpeg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controlvtk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8077320" cy="57909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733920" y="5867280"/>
            <a:ext cx="21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rol Pa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65440" y="446076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3DGeometry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71600" y="3657600"/>
            <a:ext cx="123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3DGeometry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038480" y="19810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3DGeometry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tact Inform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rlon Pierc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ail: </a:t>
            </a:r>
            <a:r>
              <a:rPr b="0" lang="en-US" sz="2800" spc="-1" strike="noStrike" u="sng">
                <a:solidFill>
                  <a:srgbClr val="996633"/>
                </a:solidFill>
                <a:uFillTx/>
                <a:latin typeface="Tahoma"/>
                <a:hlinkClick r:id="rId1"/>
              </a:rPr>
              <a:t>pierceme@asc.hpc.m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: (937) 904-514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ateway Web Sit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 u="sng">
                <a:solidFill>
                  <a:srgbClr val="996633"/>
                </a:solidFill>
                <a:uFillTx/>
                <a:latin typeface="Tahoma"/>
                <a:hlinkClick r:id="rId2"/>
              </a:rPr>
              <a:t>www.gatewayportal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rtal Screen Sho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llab. Tech. Semina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R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January 18, 2001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rtal Tool Ba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ns locally on client’s desktop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ous components written as applets, so we can switch easily to a completely downloadable version.  Toolbar would be in a frame in browser window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shown: file browser and job monitor applets.  File browser allows you to view local (right hand side) and remote (left hand side) fi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ToolBar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7944120" cy="1069920"/>
          </a:xfrm>
          <a:prstGeom prst="rect">
            <a:avLst/>
          </a:prstGeom>
          <a:ln w="0">
            <a:noFill/>
          </a:ln>
        </p:spPr>
      </p:pic>
      <p:pic>
        <p:nvPicPr>
          <p:cNvPr id="152" name="FileBrowser" descr=""/>
          <p:cNvPicPr/>
          <p:nvPr/>
        </p:nvPicPr>
        <p:blipFill>
          <a:blip r:embed="rId2"/>
          <a:stretch/>
        </p:blipFill>
        <p:spPr>
          <a:xfrm>
            <a:off x="533520" y="1905120"/>
            <a:ext cx="815328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JobMon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4953240" cy="37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in Portal Pa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 frame identifies three track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Selection” for starting a new proble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Archive” for reviewing, editing old problem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rtal Administration” for administrators to add/modify/delete information on applications and host machines (edits our application description xml file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ew of Activ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bFlow module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infrastructure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rrent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ic portal for job submission and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ientific visu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 Por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Portal De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Welcome" descr=""/>
          <p:cNvPicPr/>
          <p:nvPr/>
        </p:nvPicPr>
        <p:blipFill>
          <a:blip r:embed="rId1"/>
          <a:stretch/>
        </p:blipFill>
        <p:spPr>
          <a:xfrm>
            <a:off x="590400" y="343080"/>
            <a:ext cx="79632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de Selection Pa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plays available applications and platform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play is dynamically generated from the Application Description XML data recor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CodeSelect" descr=""/>
          <p:cNvPicPr/>
          <p:nvPr/>
        </p:nvPicPr>
        <p:blipFill>
          <a:blip r:embed="rId1"/>
          <a:stretch/>
        </p:blipFill>
        <p:spPr>
          <a:xfrm>
            <a:off x="595440" y="343080"/>
            <a:ext cx="79531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Job Script Input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SP is used to create forms based on information about codes (where is executable? How does code handle I/O?) in Application Description xml fi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from this page is used to create a job script for the selected platform’s queuing syste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shown: user can review and edit generated scrip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JobScript" descr=""/>
          <p:cNvPicPr/>
          <p:nvPr/>
        </p:nvPicPr>
        <p:blipFill>
          <a:blip r:embed="rId1"/>
          <a:stretch/>
        </p:blipFill>
        <p:spPr>
          <a:xfrm>
            <a:off x="576360" y="338040"/>
            <a:ext cx="7991280" cy="618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blem Archiv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r can go back to old problems and edit th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mit to new hos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script parameters such as number of nodes and so 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problem sessions are archived, so editing a problem creates two sessions (the old one and the new, modified one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roblemSelect" descr=""/>
          <p:cNvPicPr/>
          <p:nvPr/>
        </p:nvPicPr>
        <p:blipFill>
          <a:blip r:embed="rId1"/>
          <a:stretch/>
        </p:blipFill>
        <p:spPr>
          <a:xfrm>
            <a:off x="623880" y="361800"/>
            <a:ext cx="7896240" cy="613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dministrator Interfa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rtal administrators can add applications and host machin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zard” can verify that the admin provided the correct information (did not mistype path to executable, for example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xmldb" descr=""/>
          <p:cNvPicPr/>
          <p:nvPr/>
        </p:nvPicPr>
        <p:blipFill>
          <a:blip r:embed="rId1"/>
          <a:stretch/>
        </p:blipFill>
        <p:spPr>
          <a:xfrm>
            <a:off x="604800" y="371520"/>
            <a:ext cx="793440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: Adding a hos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page shows the forms the admin would fill out to add a new host machine for a particular application (like Gaussian) to the port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 this isn’t for installing applications themselves.  It just makes them available to portal users by updating the XML data recor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odule Development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extManag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developer-friendly API for manipulating WebFlow contex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to support Gateway’s problem-session-application hierarch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r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module for accessing web content with Keberos securit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NewHost" descr=""/>
          <p:cNvPicPr/>
          <p:nvPr/>
        </p:nvPicPr>
        <p:blipFill>
          <a:blip r:embed="rId1"/>
          <a:stretch/>
        </p:blipFill>
        <p:spPr>
          <a:xfrm>
            <a:off x="595440" y="385920"/>
            <a:ext cx="7953120" cy="60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curity Infrastructu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Flow parent and child servers use Kerberos authentic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on provides secure browser acces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’ve implemented secure delegation and access control between WebFlow parent and child serv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ild servers run with user’s I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x file permissions protect fi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obs submitted as user, so no allocation proble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model reviewed with ASC MSR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ateway Architectu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2666880"/>
            <a:ext cx="1371600" cy="106704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62520" y="4648320"/>
            <a:ext cx="941400" cy="304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R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629400" y="2057400"/>
            <a:ext cx="1523880" cy="365760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urc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ag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1932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5320" y="36576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64680" y="464832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I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95480" y="1905120"/>
            <a:ext cx="0" cy="4190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1905120"/>
            <a:ext cx="0" cy="4190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3809880"/>
            <a:ext cx="1600200" cy="129564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F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2514600"/>
            <a:ext cx="1295640" cy="129528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mc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19720" y="2514600"/>
            <a:ext cx="1295280" cy="129528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48320" y="3352680"/>
            <a:ext cx="76176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R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14800" y="4648320"/>
            <a:ext cx="762120" cy="304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R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4114440" y="36572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800600" y="36572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53560" y="525780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I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26708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" name=""/>
          <p:cNvCxnSpPr>
            <a:stCxn id="114" idx="6"/>
            <a:endCxn id="104" idx="2"/>
          </p:cNvCxnSpPr>
          <p:nvPr/>
        </p:nvCxnSpPr>
        <p:spPr>
          <a:xfrm>
            <a:off x="4876560" y="4800600"/>
            <a:ext cx="2515320" cy="915120"/>
          </a:xfrm>
          <a:prstGeom prst="bentConnector4">
            <a:avLst>
              <a:gd name="adj1" fmla="val 34841"/>
              <a:gd name="adj2" fmla="val 124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6017400" y="6095880"/>
            <a:ext cx="12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rsh, kr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4114800"/>
            <a:ext cx="1371600" cy="106668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4800600"/>
            <a:ext cx="76212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R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4"/>
            <a:endCxn id="114" idx="4"/>
          </p:cNvCxnSpPr>
          <p:nvPr/>
        </p:nvCxnSpPr>
        <p:spPr>
          <a:xfrm flipH="1" flipV="1" rot="5400000">
            <a:off x="2818800" y="3428640"/>
            <a:ext cx="153360" cy="3201120"/>
          </a:xfrm>
          <a:prstGeom prst="bentConnector3">
            <a:avLst>
              <a:gd name="adj1" fmla="val -1498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stallation and Testing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rly release of OSC PSE installed and tested at AS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ness tested with multiple (simultaneous) user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SP-based Generic Portal Services have been installed and tested at AS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bFlow middle tier software installed at AR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eneric Portal Development Goals 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concentrate on core services any portal would ne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or CTA-specific portals can be built on top of these vanilla servi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e servic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e log 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 scrip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ob submiss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ob monitoring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file transf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ption: users know their codes but not always different queuing systems and other available resour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pplication Descrip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ML description of computational resour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her all information needed to run co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have developed a flexible description for many applica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use an XML dialect called XSIL for thi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SIL (http://www.cacr.edu/XSI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ML description of scientific da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DTD and powerful Java-XML interf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extend it for sophisticated support for specific co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eneric Services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cript gener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structure for multiple queuing systems develop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have implemented this for PBS, DQ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easily extended to other queuing syste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b submission on remote HPC from desktop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file uploading/download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b monitor GUI and infrastructure for checking job status on multiple hos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BS currently implemen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7T23:58:21Z</dcterms:created>
  <dc:creator>John</dc:creator>
  <dc:description/>
  <dc:language>en-US</dc:language>
  <cp:lastModifiedBy>Marlon Pierce</cp:lastModifiedBy>
  <dcterms:modified xsi:type="dcterms:W3CDTF">2001-01-17T01:59:48Z</dcterms:modified>
  <cp:revision>43</cp:revision>
  <dc:subject/>
  <dc:title>Some title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aspen.csit.fsu.edu</vt:lpwstr>
  </property>
  <property fmtid="{D5CDD505-2E9C-101B-9397-08002B2CF9AE}" pid="9" name="LinkColor">
    <vt:r8>16711782</vt:r8>
  </property>
  <property fmtid="{D5CDD505-2E9C-101B-9397-08002B2CF9AE}" pid="10" name="MailAddress">
    <vt:lpwstr>fox@csit.fsu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gcftemp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