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30EF-621C-4066-B9FB-8C361787C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an overview of the talk.  I will discuss motivations for the project, the various pieces (PSE, WebFlow, backend resources), and how they fit together.  Once all the pieces of the architecture are put together, I will describe the security needs of the system and how they are m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our goals we need to use the appropriate tool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body has heard of java, but some points I want to emphasize are that it is safe, easy to learn and (re) use to build complex applic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BA is the Common Object Request Broker Architecture.  An object is an entity that encapsulates both data and methods that use and modify the data.  Ex. A vector.  CORBA is a specification for allowing programs to access remote objects on other machi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 is the extensible markup language and defines how you can create your own structured, human-readable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teway is a science portal, and so we need to break the design into relatively independent compon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will describe next each of the three constituent pieces and then show how they are put together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3CE1-AFBC-42CD-8431-6968C98BB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DD29-40E0-4C38-A9A6-7297381E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4432-3FB2-4731-906A-04C76EC1F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8D74-5577-4BA7-80B1-FB099139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F9BC-BE9B-4F81-A598-BDB3D37CC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D7A2-B979-4353-B50F-C5FB0668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7146-A45D-4582-BED1-DA0CAB83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58AE-25F2-4978-A82D-4E60621B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033F-70E9-4AD9-BEB6-AB7BC685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8723-7A60-437F-8CDC-389BBA44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64A0-EB7E-4DEB-8A1D-4C3B3D70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6F3A-ACBD-4AA0-AF81-D35D6E13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3213-743C-4DB3-8BB0-0BD30A12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F7216-BE54-44BA-AAD3-89F46B91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8E19-4281-4703-97F2-CC2FB57A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B0B8-C78E-4809-81C2-4F24D0745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FAE2-37FA-4A3F-922C-DF44BDBAC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471F-E348-4E06-8856-EE56FA3C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92D4-9A4D-490D-91E8-FADBB060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E134-63BC-402C-94BE-5B544925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9085-EB76-4502-8139-CE40CB48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70F7-D08C-4EEA-AE18-E1C65A34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E8A9-30D3-452B-AFF3-42170600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C0FF-7100-42EA-B5DF-3B8F8FBF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8A8C-E1D3-4602-B2AD-4C1A32890F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6743-3F7C-446E-8818-7998681100C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pierceme@asc.hpc.mil" TargetMode="External"/><Relationship Id="rId2" Type="http://schemas.openxmlformats.org/officeDocument/2006/relationships/hyperlink" Target="http://www.gatewayportal.org/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74880" y="819000"/>
            <a:ext cx="746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Gateway Science Port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50120" y="2206800"/>
            <a:ext cx="7635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llaborative Technologies Semin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L MSRC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10960" y="4129200"/>
            <a:ext cx="6598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lon Pierce and Choonhan Yo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ool of Computational Science and Information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rida State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nuary 18,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SM Portal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3128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TA specific portals can be built on top of generic servi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ristina Beldica (NCSA) and Marlon Pierce (FSU) will develop CSM specific port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l capability will be support for parameter studies with preexisting input fi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ced capability will provide access to pre- and post-processing softw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be installed at ARL and AS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ientific Visualiz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ng range goal: use WebFlow middle tier software to provide remote visualiz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rrent projects are stand-alon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3D-based Molecular Viewer for CC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2D and SVG-based viewer and whiteboar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lecular Viewer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cture shows methylene, silyl anion, and formamide optimized geometries (calculated by GAMES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allows multiple molecules to be rotated, translated, etc., with outputs sav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plays animations of normal mo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ages can be saved as jpeg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controlvtk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077320" cy="57909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733920" y="5867280"/>
            <a:ext cx="21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ol 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65440" y="44607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3DGeometry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1600" y="3657600"/>
            <a:ext cx="123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3DGeometry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38480" y="1981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3DGeometry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act Inform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lon Pier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ail: </a:t>
            </a:r>
            <a:r>
              <a:rPr b="0" lang="en-US" sz="28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pierceme@asc.hpc.m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: (937) 904-514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teway Web Si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www.gatewayportal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rtal Screen Sho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llab. Tech. Semina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R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January 18, 2001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rtal Tool Ba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ns locally on client’s desktop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ous components written as applets, so we can switch easily to a completely downloadable version.  Toolbar would be in a frame in browser windo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shown: file browser and job monitor applets.  File browser allows you to view local (right hand side) and remote (left hand side) fi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ToolBar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944120" cy="1069920"/>
          </a:xfrm>
          <a:prstGeom prst="rect">
            <a:avLst/>
          </a:prstGeom>
          <a:ln w="0">
            <a:noFill/>
          </a:ln>
        </p:spPr>
      </p:pic>
      <p:pic>
        <p:nvPicPr>
          <p:cNvPr id="152" name="FileBrowser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815328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JobMon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495324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in Portal P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 frame identifies three track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Selection” for starting a new probl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Archive” for reviewing, editing old proble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rtal Administration” for administrators to add/modify/delete information on applications and host machines (edits our application description xml file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ew of Activ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bFlow module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infrastructure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ic portal for job submission and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ientific visu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 Por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Portal De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Welcome" descr=""/>
          <p:cNvPicPr/>
          <p:nvPr/>
        </p:nvPicPr>
        <p:blipFill>
          <a:blip r:embed="rId1"/>
          <a:stretch/>
        </p:blipFill>
        <p:spPr>
          <a:xfrm>
            <a:off x="590400" y="343080"/>
            <a:ext cx="7963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de Selection P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plays available applications and platfor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play is dynamically generated from the Application Description XML data reco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CodeSelect" descr=""/>
          <p:cNvPicPr/>
          <p:nvPr/>
        </p:nvPicPr>
        <p:blipFill>
          <a:blip r:embed="rId1"/>
          <a:stretch/>
        </p:blipFill>
        <p:spPr>
          <a:xfrm>
            <a:off x="595440" y="343080"/>
            <a:ext cx="79531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Job Script Input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SP is used to create forms based on information about codes (where is executable? How does code handle I/O?) in Application Description xml fi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from this page is used to create a job script for the selected platform’s queuing syst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shown: user can review and edit generated scrip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JobScript" descr=""/>
          <p:cNvPicPr/>
          <p:nvPr/>
        </p:nvPicPr>
        <p:blipFill>
          <a:blip r:embed="rId1"/>
          <a:stretch/>
        </p:blipFill>
        <p:spPr>
          <a:xfrm>
            <a:off x="576360" y="338040"/>
            <a:ext cx="7991280" cy="61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blem Archiv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can go back to old problems and edit th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mit to new ho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script parameters such as number of nodes and so 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problem sessions are archived, so editing a problem creates two sessions (the old one and the new, modified one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roblemSelect" descr=""/>
          <p:cNvPicPr/>
          <p:nvPr/>
        </p:nvPicPr>
        <p:blipFill>
          <a:blip r:embed="rId1"/>
          <a:stretch/>
        </p:blipFill>
        <p:spPr>
          <a:xfrm>
            <a:off x="623880" y="361800"/>
            <a:ext cx="789624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dministrator Interf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rtal administrators can add applications and host machi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zard” can verify that the admin provided the correct information (did not mistype path to executable, for example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xmldb" descr=""/>
          <p:cNvPicPr/>
          <p:nvPr/>
        </p:nvPicPr>
        <p:blipFill>
          <a:blip r:embed="rId1"/>
          <a:stretch/>
        </p:blipFill>
        <p:spPr>
          <a:xfrm>
            <a:off x="604800" y="371520"/>
            <a:ext cx="79344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Adding a ho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page shows the forms the admin would fill out to add a new host machine for a particular application (like Gaussian) to the port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 this isn’t for installing applications themselves.  It just makes them available to portal users by updating the XML data reco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dule Development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xtMana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developer-friendly API for manipulating WebFlow contex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to support Gateway’s problem-session-application hierarch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r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module for accessing web content with Keberos securit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NewHost" descr=""/>
          <p:cNvPicPr/>
          <p:nvPr/>
        </p:nvPicPr>
        <p:blipFill>
          <a:blip r:embed="rId1"/>
          <a:stretch/>
        </p:blipFill>
        <p:spPr>
          <a:xfrm>
            <a:off x="595440" y="385920"/>
            <a:ext cx="7953120" cy="60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curity Infrastru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Flow parent and child servers use Kerberos authentic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on provides secure browser acc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’ve implemented secure delegation and access control between WebFlow parent and child serv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 servers run with user’s I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x file permissions protect fi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bs submitted as user, so no allocation proble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model reviewed with ASC MSR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ateway Archite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2666880"/>
            <a:ext cx="1371600" cy="106704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62520" y="4648320"/>
            <a:ext cx="94140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29400" y="2057400"/>
            <a:ext cx="1523880" cy="36576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5320" y="36576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64680" y="464832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I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3809880"/>
            <a:ext cx="1600200" cy="129564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2514600"/>
            <a:ext cx="1295640" cy="12952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mc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2514600"/>
            <a:ext cx="1295280" cy="12952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3352680"/>
            <a:ext cx="7617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4648320"/>
            <a:ext cx="76212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114440" y="36572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800600" y="36572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53560" y="525780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I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14" idx="6"/>
            <a:endCxn id="104" idx="2"/>
          </p:cNvCxnSpPr>
          <p:nvPr/>
        </p:nvCxnSpPr>
        <p:spPr>
          <a:xfrm>
            <a:off x="4876560" y="4800600"/>
            <a:ext cx="2515320" cy="915120"/>
          </a:xfrm>
          <a:prstGeom prst="bentConnector4">
            <a:avLst>
              <a:gd name="adj1" fmla="val 34841"/>
              <a:gd name="adj2" fmla="val 124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6017400" y="6095880"/>
            <a:ext cx="12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rsh, kr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114800"/>
            <a:ext cx="1371600" cy="1066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4800600"/>
            <a:ext cx="7621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4"/>
            <a:endCxn id="114" idx="4"/>
          </p:cNvCxnSpPr>
          <p:nvPr/>
        </p:nvCxnSpPr>
        <p:spPr>
          <a:xfrm flipH="1" flipV="1" rot="5400000">
            <a:off x="2818800" y="3428640"/>
            <a:ext cx="153360" cy="3201120"/>
          </a:xfrm>
          <a:prstGeom prst="bentConnector3">
            <a:avLst>
              <a:gd name="adj1" fmla="val -1498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stallation and Testing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rly release of OSC PSE installed and tested at AS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ness tested with multiple (simultaneous) user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SP-based Generic Portal Services have been installed and tested at AS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bFlow middle tier software installed at AR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eneric Portal Development Goals 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oncentrate on core services any portal would ne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or CTA-specific portals can be built on top of these vanilla servi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e servic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e log 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 scrip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b submis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b monitoring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file transf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ption: users know their codes but not always different queuing systems and other available resour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pplication Descrip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ML description of computational resour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her all information needed to run co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developed a flexible description for many applic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use an XML dialect called XSIL for thi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SIL (http://www.cacr.edu/XS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ML description of scientific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DTD and powerful Java-XML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extend it for sophisticated support for specific co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eneric Services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cript gener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structure for multiple queuing systems develop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is for PBS, DQ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easily extended to other queuing syste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b submission on remote HPC from deskto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file uploading/download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b monitor GUI and infrastructure for checking job status on multiple hos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BS currently implemen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7T23:58:21Z</dcterms:created>
  <dc:creator>John</dc:creator>
  <dc:description/>
  <dc:language>en-US</dc:language>
  <cp:lastModifiedBy>Marlon Pierce</cp:lastModifiedBy>
  <dcterms:modified xsi:type="dcterms:W3CDTF">2001-01-17T01:59:48Z</dcterms:modified>
  <cp:revision>43</cp:revision>
  <dc:subject/>
  <dc:title>Some title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aspen.csit.fsu.edu</vt:lpwstr>
  </property>
  <property fmtid="{D5CDD505-2E9C-101B-9397-08002B2CF9AE}" pid="9" name="LinkColor">
    <vt:r8>16711782</vt:r8>
  </property>
  <property fmtid="{D5CDD505-2E9C-101B-9397-08002B2CF9AE}" pid="10" name="MailAddress">
    <vt:lpwstr>fox@csit.fsu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gcftemp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