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CAB-8F27-4BE2-94F2-AEEE711C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0B3-BB21-4D1D-AD2D-EA9F7FE9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15E-1DEE-490E-B518-E33705B1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5F0-1CB2-4699-BA4F-89817498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A8E-F756-4055-B5BC-76469F57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B01-8B24-48DE-8AD1-85796E5E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D4C-E428-4668-9466-654EAAFB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C01-BDC0-47B7-8ED1-57924801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52B-41B6-4EA4-8030-5E61F80E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654-E4D0-4FD8-819B-F0991C2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C20-989F-4F8E-8C74-D1278EF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19E-244B-4E7C-834C-B1F72CA3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054B-99B3-430A-B729-FAA2B9C87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ntrolvtk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86728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5440" y="44607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65760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oleculePic0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03880" y="30891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oleculePic1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8620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oleculePic2" descr=""/>
          <p:cNvPicPr/>
          <p:nvPr/>
        </p:nvPicPr>
        <p:blipFill>
          <a:blip r:embed="rId1"/>
          <a:stretch/>
        </p:blipFill>
        <p:spPr>
          <a:xfrm>
            <a:off x="1646280" y="50328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91120" y="38098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oleculePic3" descr=""/>
          <p:cNvPicPr/>
          <p:nvPr/>
        </p:nvPicPr>
        <p:blipFill>
          <a:blip r:embed="rId1"/>
          <a:stretch/>
        </p:blipFill>
        <p:spPr>
          <a:xfrm>
            <a:off x="1646280" y="50328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62520" y="396252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oleculePic4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911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42670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leculePic5" descr=""/>
          <p:cNvPicPr/>
          <p:nvPr/>
        </p:nvPicPr>
        <p:blipFill>
          <a:blip r:embed="rId1"/>
          <a:stretch/>
        </p:blipFill>
        <p:spPr>
          <a:xfrm>
            <a:off x="1646280" y="50328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41960" y="39276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88620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75248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16:57:48Z</dcterms:created>
  <dc:creator>Administrator</dc:creator>
  <dc:description/>
  <dc:language>en-US</dc:language>
  <cp:lastModifiedBy>Administrator</cp:lastModifiedBy>
  <dcterms:modified xsi:type="dcterms:W3CDTF">2001-01-16T21:24:16Z</dcterms:modified>
  <cp:revision>2</cp:revision>
  <dc:subject/>
  <dc:title>PowerPoint Presentation</dc:title>
</cp:coreProperties>
</file>