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4F872-A95B-4527-AA4E-E1D03E2A3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FB13-9138-4B8F-9B00-DB623083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10425-AA28-4AC1-8068-533DCEB88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D6E12-2615-47D0-A257-FB520264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6A56-9F1D-45A0-AF3F-F737DE50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46734-06FE-43EE-93A3-D71F8C18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A2E5-1204-4FA0-A385-9AD360D9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1B1C6-D2E7-44D7-8D39-CDE85AFF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C072-CA05-47DA-A70D-91E6BB861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C39F-3404-4C4A-AF4A-08989BC9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D5B2E-66C0-439B-A21E-84D07DA3E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305D-4C28-4BAF-A61B-FE9193FF5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01C3-4DA3-4177-994A-FD2794460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50" name=""/>
          <p:cNvCxnSpPr>
            <a:stCxn id="349"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51" name=""/>
          <p:cNvCxnSpPr>
            <a:stCxn id="349" idx="2"/>
            <a:endCxn id="348"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52" name=""/>
          <p:cNvCxnSpPr>
            <a:stCxn id="349" idx="2"/>
            <a:endCxn id="332"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53"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4"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57"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8" name=""/>
          <p:cNvCxnSpPr>
            <a:stCxn id="348" idx="2"/>
            <a:endCxn id="355"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59" name=""/>
          <p:cNvCxnSpPr>
            <a:stCxn id="332" idx="3"/>
            <a:endCxn id="348"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60"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61" name=""/>
          <p:cNvCxnSpPr>
            <a:stCxn id="332" idx="2"/>
            <a:endCxn id="355"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62"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3"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5" name=""/>
          <p:cNvGrpSpPr/>
          <p:nvPr/>
        </p:nvGrpSpPr>
        <p:grpSpPr>
          <a:xfrm>
            <a:off x="609480" y="1752480"/>
            <a:ext cx="7856640" cy="4132440"/>
            <a:chOff x="609480" y="1752480"/>
            <a:chExt cx="7856640" cy="4132440"/>
          </a:xfrm>
        </p:grpSpPr>
        <p:sp>
          <p:nvSpPr>
            <p:cNvPr id="366"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3" name=""/>
            <p:cNvCxnSpPr>
              <a:stCxn id="368" idx="2"/>
              <a:endCxn id="369" idx="0"/>
            </p:cNvCxnSpPr>
            <p:nvPr/>
          </p:nvCxnSpPr>
          <p:spPr>
            <a:xfrm flipV="1" rot="10800000">
              <a:off x="1945440" y="2272680"/>
              <a:ext cx="1080" cy="165960"/>
            </a:xfrm>
            <a:prstGeom prst="bentConnector2">
              <a:avLst/>
            </a:prstGeom>
            <a:ln w="38160">
              <a:solidFill>
                <a:srgbClr val="0000ff"/>
              </a:solidFill>
              <a:miter/>
            </a:ln>
          </p:spPr>
        </p:cxnSp>
        <p:cxnSp>
          <p:nvCxnSpPr>
            <p:cNvPr id="374" name=""/>
            <p:cNvCxnSpPr>
              <a:stCxn id="369" idx="2"/>
              <a:endCxn id="372"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5" name=""/>
            <p:cNvCxnSpPr>
              <a:stCxn id="369" idx="2"/>
              <a:endCxn id="371"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6" name=""/>
            <p:cNvCxnSpPr>
              <a:stCxn id="371" idx="2"/>
              <a:endCxn id="370" idx="0"/>
            </p:cNvCxnSpPr>
            <p:nvPr/>
          </p:nvCxnSpPr>
          <p:spPr>
            <a:xfrm flipV="1" rot="10800000">
              <a:off x="2520000" y="3126600"/>
              <a:ext cx="1080" cy="167040"/>
            </a:xfrm>
            <a:prstGeom prst="bentConnector2">
              <a:avLst/>
            </a:prstGeom>
            <a:ln w="38160">
              <a:solidFill>
                <a:srgbClr val="0000ff"/>
              </a:solidFill>
              <a:miter/>
            </a:ln>
          </p:spPr>
        </p:cxnSp>
        <p:sp>
          <p:nvSpPr>
            <p:cNvPr id="377"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8"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80"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81"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3"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6"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7"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9"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1" idx="6"/>
              <a:endCxn id="395" idx="2"/>
            </p:cNvCxnSpPr>
            <p:nvPr/>
          </p:nvCxnSpPr>
          <p:spPr>
            <a:xfrm>
              <a:off x="3332160" y="5463720"/>
              <a:ext cx="250920" cy="91080"/>
            </a:xfrm>
            <a:prstGeom prst="straightConnector1">
              <a:avLst/>
            </a:prstGeom>
            <a:ln w="28440">
              <a:solidFill>
                <a:srgbClr val="000000"/>
              </a:solidFill>
              <a:miter/>
            </a:ln>
          </p:spPr>
        </p:cxnSp>
        <p:cxnSp>
          <p:nvCxnSpPr>
            <p:cNvPr id="397" name=""/>
            <p:cNvCxnSpPr>
              <a:stCxn id="395" idx="7"/>
              <a:endCxn id="392" idx="2"/>
            </p:cNvCxnSpPr>
            <p:nvPr/>
          </p:nvCxnSpPr>
          <p:spPr>
            <a:xfrm flipV="1">
              <a:off x="3763800" y="5381280"/>
              <a:ext cx="164160" cy="95760"/>
            </a:xfrm>
            <a:prstGeom prst="straightConnector1">
              <a:avLst/>
            </a:prstGeom>
            <a:ln w="28440">
              <a:solidFill>
                <a:srgbClr val="000000"/>
              </a:solidFill>
              <a:miter/>
            </a:ln>
          </p:spPr>
        </p:cxnSp>
        <p:cxnSp>
          <p:nvCxnSpPr>
            <p:cNvPr id="398" name=""/>
            <p:cNvCxnSpPr>
              <a:stCxn id="395" idx="6"/>
              <a:endCxn id="393" idx="2"/>
            </p:cNvCxnSpPr>
            <p:nvPr/>
          </p:nvCxnSpPr>
          <p:spPr>
            <a:xfrm>
              <a:off x="3793680" y="5554440"/>
              <a:ext cx="446760" cy="29520"/>
            </a:xfrm>
            <a:prstGeom prst="straightConnector1">
              <a:avLst/>
            </a:prstGeom>
            <a:ln w="28440">
              <a:solidFill>
                <a:srgbClr val="000000"/>
              </a:solidFill>
              <a:miter/>
            </a:ln>
          </p:spPr>
        </p:cxnSp>
        <p:cxnSp>
          <p:nvCxnSpPr>
            <p:cNvPr id="399" name=""/>
            <p:cNvCxnSpPr>
              <a:stCxn id="393" idx="6"/>
              <a:endCxn id="394" idx="3"/>
            </p:cNvCxnSpPr>
            <p:nvPr/>
          </p:nvCxnSpPr>
          <p:spPr>
            <a:xfrm flipV="1">
              <a:off x="4450680" y="5515920"/>
              <a:ext cx="259560" cy="67680"/>
            </a:xfrm>
            <a:prstGeom prst="straightConnector1">
              <a:avLst/>
            </a:prstGeom>
            <a:ln w="28440">
              <a:solidFill>
                <a:srgbClr val="000000"/>
              </a:solidFill>
              <a:miter/>
            </a:ln>
          </p:spPr>
        </p:cxnSp>
        <p:sp>
          <p:nvSpPr>
            <p:cNvPr id="400"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01"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5" idx="1"/>
            <a:endCxn id="40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7" name=""/>
          <p:cNvCxnSpPr>
            <a:endCxn id="40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8" name=""/>
          <p:cNvCxnSpPr>
            <a:endCxn id="40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9" name=""/>
          <p:cNvCxnSpPr>
            <a:stCxn id="42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2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22" name=""/>
          <p:cNvCxnSpPr>
            <a:stCxn id="412" idx="6"/>
            <a:endCxn id="41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3" name=""/>
          <p:cNvCxnSpPr>
            <a:stCxn id="409" idx="0"/>
            <a:endCxn id="41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4" name=""/>
          <p:cNvCxnSpPr>
            <a:stCxn id="414" idx="4"/>
            <a:endCxn id="40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5" name=""/>
          <p:cNvCxnSpPr>
            <a:stCxn id="407" idx="7"/>
            <a:endCxn id="41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6" name=""/>
          <p:cNvCxnSpPr>
            <a:stCxn id="41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2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3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3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3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4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4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4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1" idx="0"/>
            <a:endCxn id="454"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9" name=""/>
          <p:cNvCxnSpPr>
            <a:stCxn id="451" idx="1"/>
            <a:endCxn id="455"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60"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1" name=""/>
          <p:cNvCxnSpPr>
            <a:stCxn id="462" idx="4"/>
            <a:endCxn id="454"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63" name=""/>
          <p:cNvCxnSpPr>
            <a:stCxn id="462" idx="4"/>
            <a:endCxn id="460"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64" name=""/>
          <p:cNvCxnSpPr>
            <a:stCxn id="460" idx="1"/>
            <a:endCxn id="455"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65" name=""/>
          <p:cNvCxnSpPr>
            <a:stCxn id="454" idx="1"/>
            <a:endCxn id="452"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6"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8"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9"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70"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71"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72"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3"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5"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6"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7"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8"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9"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80"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81"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62"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0" name=""/>
          <p:cNvCxnSpPr>
            <a:stCxn id="483" idx="0"/>
            <a:endCxn id="486"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91" name=""/>
          <p:cNvCxnSpPr>
            <a:stCxn id="492" idx="4"/>
            <a:endCxn id="486"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493"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4"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5"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6"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7"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8"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499"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0"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01"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02"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03"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4" name=""/>
          <p:cNvCxnSpPr>
            <a:stCxn id="486" idx="5"/>
            <a:endCxn id="484"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5" name=""/>
          <p:cNvCxnSpPr>
            <a:stCxn id="486" idx="2"/>
            <a:endCxn id="487"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6"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7"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08"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92"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10"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11"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stCxn id="509" idx="2"/>
            <a:endCxn id="513"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5" name=""/>
          <p:cNvCxnSpPr>
            <a:stCxn id="509" idx="2"/>
            <a:endCxn id="512"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6" name=""/>
          <p:cNvCxnSpPr>
            <a:stCxn id="509" idx="2"/>
            <a:endCxn id="511"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7" name=""/>
          <p:cNvCxnSpPr>
            <a:stCxn id="509" idx="2"/>
            <a:endCxn id="510"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8"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21"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2"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3"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4"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5"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6"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7" name=""/>
          <p:cNvCxnSpPr>
            <a:endCxn id="510"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8" name=""/>
          <p:cNvCxnSpPr>
            <a:stCxn id="526" idx="0"/>
            <a:endCxn id="524"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9"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30"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2"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3179880" y="3649680"/>
            <a:ext cx="1931400" cy="519120"/>
            <a:chOff x="3179880" y="3649680"/>
            <a:chExt cx="1931400" cy="519120"/>
          </a:xfrm>
        </p:grpSpPr>
        <p:sp>
          <p:nvSpPr>
            <p:cNvPr id="543"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5985000" y="3649680"/>
            <a:ext cx="2680920" cy="446040"/>
            <a:chOff x="5985000" y="3649680"/>
            <a:chExt cx="2680920" cy="446040"/>
          </a:xfrm>
        </p:grpSpPr>
        <p:sp>
          <p:nvSpPr>
            <p:cNvPr id="548"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4"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5" name=""/>
          <p:cNvGrpSpPr/>
          <p:nvPr/>
        </p:nvGrpSpPr>
        <p:grpSpPr>
          <a:xfrm>
            <a:off x="2743200" y="5486400"/>
            <a:ext cx="6109920" cy="1039680"/>
            <a:chOff x="2743200" y="5486400"/>
            <a:chExt cx="6109920" cy="1039680"/>
          </a:xfrm>
        </p:grpSpPr>
        <p:sp>
          <p:nvSpPr>
            <p:cNvPr id="556"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7" name=""/>
          <p:cNvCxnSpPr>
            <a:stCxn id="551" idx="4"/>
            <a:endCxn id="544"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8"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3"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6"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8"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3"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stCxn id="584" idx="2"/>
            <a:endCxn id="585"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92" name=""/>
          <p:cNvCxnSpPr>
            <a:stCxn id="585" idx="3"/>
            <a:endCxn id="587"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3" name=""/>
          <p:cNvCxnSpPr>
            <a:stCxn id="587" idx="2"/>
            <a:endCxn id="586"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4"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5"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6" name=""/>
          <p:cNvCxnSpPr>
            <a:stCxn id="588" idx="1"/>
            <a:endCxn id="589"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7"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8" name=""/>
          <p:cNvCxnSpPr>
            <a:stCxn id="589" idx="2"/>
            <a:endCxn id="588"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9" name=""/>
          <p:cNvCxnSpPr>
            <a:stCxn id="588" idx="3"/>
            <a:endCxn id="589"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00"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1" name=""/>
          <p:cNvCxnSpPr>
            <a:stCxn id="589" idx="4"/>
            <a:endCxn id="600"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02" name=""/>
          <p:cNvCxnSpPr>
            <a:stCxn id="600"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3" name=""/>
          <p:cNvCxnSpPr>
            <a:stCxn id="585" idx="5"/>
            <a:endCxn id="588"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4" name=""/>
          <p:cNvCxnSpPr>
            <a:endCxn id="588"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6"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9"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10"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11"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12"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3"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4"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5"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6"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7"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8"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9"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20"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21"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2"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3"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4"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5"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6"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7"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8"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9"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30"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3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2" idx="2"/>
            <a:endCxn id="63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9" name=""/>
          <p:cNvCxnSpPr>
            <a:stCxn id="633" idx="3"/>
            <a:endCxn id="63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40" name=""/>
          <p:cNvCxnSpPr>
            <a:stCxn id="635" idx="2"/>
            <a:endCxn id="634"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41"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2" name=""/>
          <p:cNvCxnSpPr>
            <a:stCxn id="637" idx="4"/>
            <a:endCxn id="641"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3" name=""/>
          <p:cNvCxnSpPr>
            <a:endCxn id="636"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5"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7"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8"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9"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50"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5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52" name=""/>
          <p:cNvCxnSpPr>
            <a:stCxn id="641" idx="2"/>
            <a:endCxn id="645"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3" name=""/>
          <p:cNvCxnSpPr>
            <a:stCxn id="636" idx="2"/>
            <a:endCxn id="637"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34" idx="4"/>
            <a:endCxn id="654"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6"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8" name=""/>
          <p:cNvCxnSpPr>
            <a:stCxn id="654" idx="2"/>
            <a:endCxn id="657" idx="0"/>
          </p:cNvCxnSpPr>
          <p:nvPr/>
        </p:nvCxnSpPr>
        <p:spPr>
          <a:xfrm>
            <a:off x="495000" y="5043240"/>
            <a:ext cx="1080" cy="595800"/>
          </a:xfrm>
          <a:prstGeom prst="straightConnector1">
            <a:avLst/>
          </a:prstGeom>
          <a:ln w="9360">
            <a:solidFill>
              <a:srgbClr val="000000"/>
            </a:solidFill>
            <a:miter/>
            <a:tailEnd len="med" type="triangle" w="med"/>
          </a:ln>
        </p:spPr>
      </p:cxnSp>
      <p:sp>
        <p:nvSpPr>
          <p:cNvPr id="65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60"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6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62"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3" name=""/>
          <p:cNvCxnSpPr>
            <a:stCxn id="636" idx="1"/>
            <a:endCxn id="637"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4"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5"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6"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8" name=""/>
          <p:cNvCxnSpPr>
            <a:stCxn id="666" idx="2"/>
            <a:endCxn id="667" idx="0"/>
          </p:cNvCxnSpPr>
          <p:nvPr/>
        </p:nvCxnSpPr>
        <p:spPr>
          <a:xfrm>
            <a:off x="5492520" y="4966920"/>
            <a:ext cx="1080" cy="672120"/>
          </a:xfrm>
          <a:prstGeom prst="straightConnector1">
            <a:avLst/>
          </a:prstGeom>
          <a:ln w="9360">
            <a:solidFill>
              <a:srgbClr val="000000"/>
            </a:solidFill>
            <a:miter/>
            <a:tailEnd len="med" type="triangle" w="med"/>
          </a:ln>
        </p:spPr>
      </p:cxnSp>
      <p:sp>
        <p:nvSpPr>
          <p:cNvPr id="669"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70"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71" name=""/>
          <p:cNvCxnSpPr>
            <a:stCxn id="637" idx="3"/>
            <a:endCxn id="666"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72"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4" name=""/>
          <p:cNvCxnSpPr>
            <a:stCxn id="672" idx="2"/>
            <a:endCxn id="673"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5"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6"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7" name=""/>
          <p:cNvCxnSpPr>
            <a:stCxn id="634" idx="5"/>
            <a:endCxn id="672"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8" name=""/>
          <p:cNvCxnSpPr>
            <a:stCxn id="672" idx="1"/>
            <a:endCxn id="634"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9" name=""/>
          <p:cNvCxnSpPr>
            <a:endCxn id="666"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80" name=""/>
          <p:cNvCxnSpPr>
            <a:stCxn id="666" idx="1"/>
            <a:endCxn id="637"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81" name=""/>
          <p:cNvCxnSpPr>
            <a:stCxn id="637" idx="6"/>
            <a:endCxn id="641"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82"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3"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4"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5" name=""/>
          <p:cNvCxnSpPr>
            <a:stCxn id="633" idx="6"/>
            <a:endCxn id="636"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6" name=""/>
          <p:cNvCxnSpPr>
            <a:stCxn id="635" idx="2"/>
            <a:endCxn id="634"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7"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8"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9"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91" name=""/>
          <p:cNvCxnSpPr>
            <a:stCxn id="690" idx="1"/>
            <a:endCxn id="689"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92"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a:stCxn id="693" idx="2"/>
            <a:endCxn id="6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00" name=""/>
          <p:cNvCxnSpPr>
            <a:stCxn id="694" idx="3"/>
            <a:endCxn id="6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01" name=""/>
          <p:cNvCxnSpPr>
            <a:stCxn id="696" idx="2"/>
            <a:endCxn id="69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0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98" idx="4"/>
            <a:endCxn id="70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4" name=""/>
          <p:cNvCxnSpPr>
            <a:stCxn id="694" idx="5"/>
            <a:endCxn id="69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5" name=""/>
          <p:cNvCxnSpPr>
            <a:endCxn id="69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1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1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4" name=""/>
          <p:cNvCxnSpPr>
            <a:stCxn id="702" idx="2"/>
            <a:endCxn id="70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5" name=""/>
          <p:cNvCxnSpPr>
            <a:stCxn id="697" idx="2"/>
            <a:endCxn id="69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695" idx="4"/>
            <a:endCxn id="71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6" idx="2"/>
            <a:endCxn id="719" idx="0"/>
          </p:cNvCxnSpPr>
          <p:nvPr/>
        </p:nvCxnSpPr>
        <p:spPr>
          <a:xfrm>
            <a:off x="495000" y="5043240"/>
            <a:ext cx="1080" cy="595800"/>
          </a:xfrm>
          <a:prstGeom prst="straightConnector1">
            <a:avLst/>
          </a:prstGeom>
          <a:ln w="9360">
            <a:solidFill>
              <a:srgbClr val="000000"/>
            </a:solidFill>
            <a:miter/>
            <a:tailEnd len="med" type="triangle" w="med"/>
          </a:ln>
        </p:spPr>
      </p:cxnSp>
      <p:sp>
        <p:nvSpPr>
          <p:cNvPr id="72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2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5" name=""/>
          <p:cNvCxnSpPr>
            <a:stCxn id="697" idx="1"/>
            <a:endCxn id="69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6" name=""/>
          <p:cNvCxnSpPr>
            <a:stCxn id="698" idx="2"/>
            <a:endCxn id="71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7" name=""/>
          <p:cNvCxnSpPr>
            <a:stCxn id="698" idx="3"/>
            <a:endCxn id="70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3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3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3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2" name=""/>
          <p:cNvCxnSpPr>
            <a:stCxn id="736" idx="2"/>
            <a:endCxn id="73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3" name=""/>
          <p:cNvCxnSpPr>
            <a:stCxn id="737" idx="3"/>
            <a:endCxn id="73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4" name=""/>
          <p:cNvCxnSpPr>
            <a:stCxn id="739" idx="2"/>
            <a:endCxn id="738"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1" idx="4"/>
            <a:endCxn id="74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7" name=""/>
          <p:cNvCxnSpPr>
            <a:stCxn id="737" idx="5"/>
            <a:endCxn id="74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8" name=""/>
          <p:cNvCxnSpPr>
            <a:endCxn id="74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5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5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7" name=""/>
          <p:cNvCxnSpPr>
            <a:stCxn id="745" idx="2"/>
            <a:endCxn id="75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8" name=""/>
          <p:cNvCxnSpPr>
            <a:stCxn id="740" idx="2"/>
            <a:endCxn id="741"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38" idx="4"/>
            <a:endCxn id="75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6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6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3" name=""/>
          <p:cNvCxnSpPr>
            <a:stCxn id="759" idx="2"/>
            <a:endCxn id="762" idx="0"/>
          </p:cNvCxnSpPr>
          <p:nvPr/>
        </p:nvCxnSpPr>
        <p:spPr>
          <a:xfrm>
            <a:off x="495000" y="5043240"/>
            <a:ext cx="1080" cy="595800"/>
          </a:xfrm>
          <a:prstGeom prst="straightConnector1">
            <a:avLst/>
          </a:prstGeom>
          <a:ln w="9360">
            <a:solidFill>
              <a:srgbClr val="000000"/>
            </a:solidFill>
            <a:miter/>
            <a:tailEnd len="med" type="triangle" w="med"/>
          </a:ln>
        </p:spPr>
      </p:cxnSp>
      <p:sp>
        <p:nvSpPr>
          <p:cNvPr id="76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8" name=""/>
          <p:cNvCxnSpPr>
            <a:stCxn id="740" idx="1"/>
            <a:endCxn id="74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9" name=""/>
          <p:cNvCxnSpPr>
            <a:stCxn id="741" idx="2"/>
            <a:endCxn id="75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70" name=""/>
          <p:cNvCxnSpPr>
            <a:stCxn id="741" idx="3"/>
            <a:endCxn id="74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7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7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1" name=""/>
          <p:cNvCxnSpPr>
            <a:stCxn id="790" idx="1"/>
            <a:endCxn id="78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92" name=""/>
          <p:cNvCxnSpPr>
            <a:endCxn id="78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3" name=""/>
          <p:cNvCxnSpPr>
            <a:endCxn id="78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4" name=""/>
          <p:cNvCxnSpPr>
            <a:stCxn id="79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7" name=""/>
          <p:cNvCxnSpPr>
            <a:stCxn id="787" idx="6"/>
            <a:endCxn id="78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8" name=""/>
          <p:cNvCxnSpPr>
            <a:stCxn id="784" idx="0"/>
            <a:endCxn id="78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9" name=""/>
          <p:cNvCxnSpPr>
            <a:stCxn id="789" idx="4"/>
            <a:endCxn id="78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00" name=""/>
          <p:cNvCxnSpPr>
            <a:stCxn id="782" idx="7"/>
            <a:endCxn id="78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01" name=""/>
          <p:cNvCxnSpPr>
            <a:stCxn id="78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0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1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1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1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5"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6"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8" name=""/>
          <p:cNvCxnSpPr>
            <a:stCxn id="827" idx="2"/>
            <a:endCxn id="82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9" name=""/>
          <p:cNvCxnSpPr>
            <a:stCxn id="826" idx="7"/>
            <a:endCxn id="82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30" name=""/>
          <p:cNvCxnSpPr>
            <a:endCxn id="82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31" name=""/>
          <p:cNvCxnSpPr>
            <a:endCxn id="82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32" name=""/>
          <p:cNvCxnSpPr>
            <a:stCxn id="827" idx="3"/>
            <a:endCxn id="82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4" name=""/>
          <p:cNvCxnSpPr>
            <a:stCxn id="825" idx="3"/>
            <a:endCxn id="833" idx="1"/>
          </p:cNvCxnSpPr>
          <p:nvPr/>
        </p:nvCxnSpPr>
        <p:spPr>
          <a:xfrm>
            <a:off x="5486400" y="1638000"/>
            <a:ext cx="991440" cy="1080"/>
          </a:xfrm>
          <a:prstGeom prst="straightConnector1">
            <a:avLst/>
          </a:prstGeom>
          <a:ln w="9360">
            <a:solidFill>
              <a:srgbClr val="000000"/>
            </a:solidFill>
            <a:miter/>
            <a:tailEnd len="med" type="triangle" w="med"/>
          </a:ln>
        </p:spPr>
      </p:cxnSp>
      <p:sp>
        <p:nvSpPr>
          <p:cNvPr id="83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4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3" name=""/>
          <p:cNvCxnSpPr>
            <a:stCxn id="833" idx="0"/>
            <a:endCxn id="82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5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5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5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838080" y="619200"/>
          <a:ext cx="7543800" cy="6238800"/>
        </p:xfrm>
        <a:graphic>
          <a:graphicData uri="http://schemas.openxmlformats.org/presentationml/2006/ole">
            <p:oleObj progId="Word.Document.12" r:id="rId1" spid="">
              <p:embed/>
              <p:pic>
                <p:nvPicPr>
                  <p:cNvPr id="857"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61" name=""/>
          <p:cNvCxnSpPr>
            <a:endCxn id="85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4" name=""/>
          <p:cNvCxnSpPr>
            <a:endCxn id="86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8"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9" name=""/>
          <p:cNvCxnSpPr>
            <a:stCxn id="873" idx="3"/>
            <a:endCxn id="876"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80" name=""/>
          <p:cNvCxnSpPr>
            <a:stCxn id="874" idx="5"/>
            <a:endCxn id="875"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81"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82"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3" name=""/>
          <p:cNvCxnSpPr>
            <a:stCxn id="882" idx="3"/>
            <a:endCxn id="874"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4" name=""/>
          <p:cNvCxnSpPr>
            <a:stCxn id="882" idx="3"/>
            <a:endCxn id="873"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5" name=""/>
          <p:cNvCxnSpPr>
            <a:stCxn id="875" idx="1"/>
            <a:endCxn id="873"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6" name=""/>
          <p:cNvCxnSpPr>
            <a:stCxn id="873" idx="4"/>
            <a:endCxn id="876"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7" name=""/>
          <p:cNvCxnSpPr>
            <a:stCxn id="876" idx="3"/>
            <a:endCxn id="874"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8" name=""/>
          <p:cNvCxnSpPr>
            <a:stCxn id="874" idx="4"/>
            <a:endCxn id="875"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9"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7"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8"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9"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8"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9"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10"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11"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7"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8"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9"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lms01" descr=""/>
          <p:cNvPicPr/>
          <p:nvPr/>
        </p:nvPicPr>
        <p:blipFill>
          <a:blip r:embed="rId1"/>
          <a:stretch/>
        </p:blipFill>
        <p:spPr>
          <a:xfrm>
            <a:off x="1523880" y="1143000"/>
            <a:ext cx="6343920" cy="4848120"/>
          </a:xfrm>
          <a:prstGeom prst="rect">
            <a:avLst/>
          </a:prstGeom>
          <a:ln w="0">
            <a:noFill/>
          </a:ln>
        </p:spPr>
      </p:pic>
      <p:sp>
        <p:nvSpPr>
          <p:cNvPr id="921"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22"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3"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7"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9" name="fig2a" descr=""/>
          <p:cNvPicPr/>
          <p:nvPr/>
        </p:nvPicPr>
        <p:blipFill>
          <a:blip r:embed="rId1"/>
          <a:stretch/>
        </p:blipFill>
        <p:spPr>
          <a:xfrm>
            <a:off x="3581280" y="1371600"/>
            <a:ext cx="5154840" cy="5154480"/>
          </a:xfrm>
          <a:prstGeom prst="rect">
            <a:avLst/>
          </a:prstGeom>
          <a:ln w="0">
            <a:noFill/>
          </a:ln>
        </p:spPr>
      </p:pic>
      <p:sp>
        <p:nvSpPr>
          <p:cNvPr id="93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3"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5"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7"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42"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2209680" y="1828800"/>
            <a:ext cx="5867640" cy="3897360"/>
          </a:xfrm>
          <a:prstGeom prst="rect">
            <a:avLst/>
          </a:prstGeom>
          <a:ln w="0">
            <a:noFill/>
          </a:ln>
        </p:spPr>
      </p:pic>
      <p:sp>
        <p:nvSpPr>
          <p:cNvPr id="944"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523880" y="2362320"/>
            <a:ext cx="6019920" cy="4024080"/>
          </a:xfrm>
          <a:prstGeom prst="rect">
            <a:avLst/>
          </a:prstGeom>
          <a:ln w="0">
            <a:noFill/>
          </a:ln>
        </p:spPr>
      </p:pic>
      <p:sp>
        <p:nvSpPr>
          <p:cNvPr id="946"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950"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3" descr=""/>
          <p:cNvPicPr/>
          <p:nvPr/>
        </p:nvPicPr>
        <p:blipFill>
          <a:blip r:embed="rId1"/>
          <a:stretch/>
        </p:blipFill>
        <p:spPr>
          <a:xfrm>
            <a:off x="1066680" y="914400"/>
            <a:ext cx="7096320" cy="6896160"/>
          </a:xfrm>
          <a:prstGeom prst="rect">
            <a:avLst/>
          </a:prstGeom>
          <a:ln w="0">
            <a:noFill/>
          </a:ln>
        </p:spPr>
      </p:pic>
      <p:sp>
        <p:nvSpPr>
          <p:cNvPr id="952"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DARP10" descr=""/>
          <p:cNvPicPr/>
          <p:nvPr/>
        </p:nvPicPr>
        <p:blipFill>
          <a:blip r:embed="rId1"/>
          <a:stretch/>
        </p:blipFill>
        <p:spPr>
          <a:xfrm>
            <a:off x="304920" y="1138320"/>
            <a:ext cx="7510320" cy="5719680"/>
          </a:xfrm>
          <a:prstGeom prst="rect">
            <a:avLst/>
          </a:prstGeom>
          <a:ln w="0">
            <a:noFill/>
          </a:ln>
        </p:spPr>
      </p:pic>
      <p:sp>
        <p:nvSpPr>
          <p:cNvPr id="954"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066680" y="228600"/>
          <a:ext cx="6477120" cy="6324480"/>
        </p:xfrm>
        <a:graphic>
          <a:graphicData uri="http://schemas.openxmlformats.org/presentationml/2006/ole">
            <p:oleObj progId="Word.Document.12" r:id="rId1" spid="">
              <p:embed/>
              <p:pic>
                <p:nvPicPr>
                  <p:cNvPr id="956"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1219320" y="1371600"/>
          <a:ext cx="6780240" cy="5006880"/>
        </p:xfrm>
        <a:graphic>
          <a:graphicData uri="http://schemas.openxmlformats.org/presentationml/2006/ole">
            <p:oleObj progId="Word.Document.12" r:id="rId1" spid="">
              <p:embed/>
              <p:pic>
                <p:nvPicPr>
                  <p:cNvPr id="958"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9" name=""/>
          <p:cNvCxnSpPr>
            <a:stCxn id="968" idx="2"/>
            <a:endCxn id="959"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70" name=""/>
          <p:cNvCxnSpPr>
            <a:stCxn id="967" idx="2"/>
            <a:endCxn id="959"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71" name=""/>
          <p:cNvCxnSpPr>
            <a:stCxn id="966" idx="0"/>
            <a:endCxn id="966"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2" name=""/>
          <p:cNvCxnSpPr>
            <a:stCxn id="962" idx="1"/>
            <a:endCxn id="960"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3" name=""/>
          <p:cNvCxnSpPr>
            <a:stCxn id="962" idx="4"/>
            <a:endCxn id="962"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4"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5"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6"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7"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8" name=""/>
          <p:cNvCxnSpPr>
            <a:stCxn id="962" idx="5"/>
            <a:endCxn id="961"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9" name=""/>
          <p:cNvCxnSpPr>
            <a:stCxn id="963" idx="7"/>
            <a:endCxn id="959"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80" name=""/>
          <p:cNvCxnSpPr>
            <a:stCxn id="964" idx="0"/>
            <a:endCxn id="959"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81" name=""/>
          <p:cNvCxnSpPr>
            <a:stCxn id="965" idx="1"/>
            <a:endCxn id="959"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2"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3" name=""/>
          <p:cNvCxnSpPr>
            <a:endCxn id="960"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4"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5" name=""/>
          <p:cNvCxnSpPr>
            <a:stCxn id="984" idx="1"/>
            <a:endCxn id="961"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6"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7"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8" name=""/>
          <p:cNvCxnSpPr>
            <a:stCxn id="987" idx="0"/>
            <a:endCxn id="965"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9" name=""/>
          <p:cNvCxnSpPr>
            <a:stCxn id="987" idx="1"/>
            <a:endCxn id="964"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90"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91" name=""/>
          <p:cNvCxnSpPr>
            <a:endCxn id="968"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2"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3" name=""/>
          <p:cNvCxnSpPr>
            <a:stCxn id="966" idx="2"/>
            <a:endCxn id="959"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4"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6" name=""/>
          <p:cNvGraphicFramePr/>
          <p:nvPr/>
        </p:nvGraphicFramePr>
        <p:xfrm>
          <a:off x="914400" y="304920"/>
          <a:ext cx="7696080" cy="5867280"/>
        </p:xfrm>
        <a:graphic>
          <a:graphicData uri="http://schemas.openxmlformats.org/presentationml/2006/ole">
            <p:oleObj progId="Word.Document.12" r:id="rId1" spid="">
              <p:embed/>
              <p:pic>
                <p:nvPicPr>
                  <p:cNvPr id="997"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
          <p:cNvGraphicFramePr/>
          <p:nvPr/>
        </p:nvGraphicFramePr>
        <p:xfrm>
          <a:off x="533520" y="0"/>
          <a:ext cx="8001000" cy="6172200"/>
        </p:xfrm>
        <a:graphic>
          <a:graphicData uri="http://schemas.openxmlformats.org/presentationml/2006/ole">
            <p:oleObj progId="Word.Document.12" r:id="rId1" spid="">
              <p:embed/>
              <p:pic>
                <p:nvPicPr>
                  <p:cNvPr id="999" name="" descr=""/>
                  <p:cNvPicPr/>
                  <p:nvPr/>
                </p:nvPicPr>
                <p:blipFill>
                  <a:blip r:embed="rId2"/>
                  <a:stretch/>
                </p:blipFill>
                <p:spPr>
                  <a:xfrm>
                    <a:off x="533520" y="0"/>
                    <a:ext cx="8001000" cy="6172200"/>
                  </a:xfrm>
                  <a:prstGeom prst="rect">
                    <a:avLst/>
                  </a:prstGeom>
                  <a:ln w="0">
                    <a:noFill/>
                  </a:ln>
                </p:spPr>
              </p:pic>
            </p:oleObj>
          </a:graphicData>
        </a:graphic>
      </p:graphicFrame>
      <p:sp>
        <p:nvSpPr>
          <p:cNvPr id="1000"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1" name=""/>
          <p:cNvGraphicFramePr/>
          <p:nvPr/>
        </p:nvGraphicFramePr>
        <p:xfrm>
          <a:off x="838080" y="609480"/>
          <a:ext cx="7620120" cy="2971800"/>
        </p:xfrm>
        <a:graphic>
          <a:graphicData uri="http://schemas.openxmlformats.org/presentationml/2006/ole">
            <p:oleObj progId="Word.Document.12" r:id="rId1" spid="">
              <p:embed/>
              <p:pic>
                <p:nvPicPr>
                  <p:cNvPr id="1002"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3"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10-20T16:50:54Z</dcterms:modified>
  <cp:revision>83</cp:revision>
  <dc:subject/>
  <dc:title>The Software architecture for High Performance Commodity Metacomputing</dc:title>
</cp:coreProperties>
</file>