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EC4-B47A-4617-93A5-C6071205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99D-2E06-4FF2-ACB3-F161C29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670-EA38-4C39-825F-87EA7C0D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404-6FD2-46F0-A557-073823D6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BEE-8003-40D4-8AD9-2E5A3B8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63D-A6DB-4D07-8B34-C581928E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8B0-7D25-4374-99FC-D5673135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8D1-CB8D-43DF-9CC9-8D76538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5B1-6245-4719-997D-F69C8F36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D47-4E43-4839-9EFF-C1525ED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0A4-17BF-4A50-9DB5-79CAA38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F6E-C698-452C-A6FE-E0E23CA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E4D-BD84-4FFD-9BFA-02430F863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00Z</dcterms:modified>
  <cp:revision>18</cp:revision>
  <dc:subject/>
  <dc:title>No Slide Title</dc:title>
</cp:coreProperties>
</file>