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2F96-F01F-4D53-9D1A-BCF60D60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11A6-40A6-4BF4-A1D2-45178E09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B952-4D9F-4B2C-81BE-8EA1ED3B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522F-18DC-4691-94B8-35B6C79F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AFB3-CA16-4E68-BD1F-E9108B1C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0A8C-F0A1-4AB4-A5FE-1B21CA1C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D370-E14E-481C-989D-BE215C8B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A9B4-6ACE-489B-9B8C-BCE33CAF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21D2-AE9B-4DDD-AC3B-046F73BD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C2EA-69BC-431A-8A95-F5997948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0C8F-5F98-4AB6-B1D8-A2EA4A33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E065-E442-4A37-954E-FA9E22FC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99CA-024A-4C12-A5E8-82F45DF80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848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ntum Simul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WebFlow - a High Level Visual Interface for Glob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486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 Akarsu, G. Fox, W. Furmanski, T.Haupt, L. Mi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webflow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1666800" cy="809640"/>
          </a:xfrm>
          <a:prstGeom prst="rect">
            <a:avLst/>
          </a:prstGeom>
          <a:ln w="0">
            <a:noFill/>
          </a:ln>
        </p:spPr>
      </p:pic>
      <p:pic>
        <p:nvPicPr>
          <p:cNvPr id="44" name="globus-logo" descr=""/>
          <p:cNvPicPr/>
          <p:nvPr/>
        </p:nvPicPr>
        <p:blipFill>
          <a:blip r:embed="rId2"/>
          <a:stretch/>
        </p:blipFill>
        <p:spPr>
          <a:xfrm>
            <a:off x="2286000" y="7621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45" name="npac_logo" descr=""/>
          <p:cNvPicPr/>
          <p:nvPr/>
        </p:nvPicPr>
        <p:blipFill>
          <a:blip r:embed="rId3"/>
          <a:stretch/>
        </p:blipFill>
        <p:spPr>
          <a:xfrm>
            <a:off x="6324480" y="838080"/>
            <a:ext cx="1781280" cy="552600"/>
          </a:xfrm>
          <a:prstGeom prst="rect">
            <a:avLst/>
          </a:prstGeom>
          <a:ln w="0">
            <a:noFill/>
          </a:ln>
        </p:spPr>
      </p:pic>
      <p:pic>
        <p:nvPicPr>
          <p:cNvPr id="46" name="ncsalogo" descr=""/>
          <p:cNvPicPr/>
          <p:nvPr/>
        </p:nvPicPr>
        <p:blipFill>
          <a:blip r:embed="rId4"/>
          <a:stretch/>
        </p:blipFill>
        <p:spPr>
          <a:xfrm>
            <a:off x="6781680" y="1523880"/>
            <a:ext cx="74304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ig2a" descr=""/>
          <p:cNvPicPr/>
          <p:nvPr/>
        </p:nvPicPr>
        <p:blipFill>
          <a:blip r:embed="rId1"/>
          <a:stretch/>
        </p:blipFill>
        <p:spPr>
          <a:xfrm>
            <a:off x="1219320" y="692280"/>
            <a:ext cx="6858000" cy="535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8237-E4C2-49DB-9D9D-2C1595ED2CD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mitas1" descr=""/>
          <p:cNvPicPr/>
          <p:nvPr/>
        </p:nvPicPr>
        <p:blipFill>
          <a:blip r:embed="rId1"/>
          <a:stretch/>
        </p:blipFill>
        <p:spPr>
          <a:xfrm>
            <a:off x="1338120" y="1090440"/>
            <a:ext cx="6467760" cy="467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F568-8FF3-4C15-ACEC-DC4387FA26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Simulation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blem descri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chain of high performance applications is run repeatedly for different data 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ch application can be run on several different platforms, depending on the problem size and the load of the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 and output files must be moved between the machines, as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 files are visually inspected by the researcher; if necessary applications are rerun with modified input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ically, output files must be converted to a different format before using them as input to the next application in the cha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15B0-D1A3-452C-959E-735B388288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ution using the Web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Flow front-end for visual authoring: drag-and-drop composition of meta-applications from compute-web no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Flow middle-tier implementing distributed object technologies in Java (platform independent, including NT-workstations). The implementation is based on industry standards: currently servlet extended httpd servers, and evolving towards CORB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Flow back-end based on commodity software components, in particular low level matacomputing toolkit Globus for HP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DBB0-02CF-4C2B-A9D1-CAEA531E77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particular,  for Quantum Sim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WebFlow editor to visually compose the ch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integrated with the WebFlow metacomputing directory services (MDS) of Globus to identify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WebFlow proxies to Globus resource allocation manager (GRAM) to allocate the resources, including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high performance data transfer mechanisms of Globus (GASS, 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commodity DBMS or LDAP services to identify and retrieve data set as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6FC7-59EC-47BD-9A45-1C8E7756EF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ntum Simulations using the Web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mitas2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7953120" cy="469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4BEE-34A9-43D1-AE89-D1ED2440FA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sd" descr=""/>
          <p:cNvPicPr/>
          <p:nvPr/>
        </p:nvPicPr>
        <p:blipFill>
          <a:blip r:embed="rId1"/>
          <a:stretch/>
        </p:blipFill>
        <p:spPr>
          <a:xfrm>
            <a:off x="1290600" y="-33480"/>
            <a:ext cx="6562800" cy="692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1F97-FB52-4C6B-86F2-3C634928FEB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5T15:10:20Z</dcterms:created>
  <dc:creator>tomek</dc:creator>
  <dc:description/>
  <dc:language>en-US</dc:language>
  <cp:lastModifiedBy>Tomasz Haupt</cp:lastModifiedBy>
  <dcterms:modified xsi:type="dcterms:W3CDTF">1998-05-05T16:19:22Z</dcterms:modified>
  <cp:revision>1</cp:revision>
  <dc:subject/>
  <dc:title>Quantum Simulations using WebFlow - a High Level Visual Interface for Globus</dc:title>
</cp:coreProperties>
</file>