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BBD-F182-4DDE-BDCF-3D411E09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C68-2737-4CA1-BFB8-60C43F7E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924-A039-47C2-A387-EB33C11C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DCE-5CFB-41AA-8DBC-85D3C876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411-FCDB-4E5F-9ED5-C0549680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602-6543-42B2-9065-58692B7A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C68-AAC3-4ACB-BD67-6EFE255D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69D-08E9-46E0-BCEE-43B0EBA7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99C-E708-4DB3-B434-371FD7C1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CAE-9C72-4F61-9EDD-7214493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C07-1E7D-45F0-A325-2F6DEE81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E51-5BF3-4559-8298-4A000037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2364-0214-4040-B8A2-D7D068D01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934320" cy="586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895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1:40Z</dcterms:modified>
  <cp:revision>3</cp:revision>
  <dc:subject/>
  <dc:title>No Slide Title</dc:title>
</cp:coreProperties>
</file>