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3AF3B-D2AE-44C4-922E-07FAD40D4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4F727-092A-45D7-B581-34E2ECD5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CCF70-D7FE-494F-BAAB-A6BB570EE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F6582-A3A4-4A86-89A8-D57AB14B8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94EC0-B1EA-49B3-AAB2-4541397D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E321A-BC39-4E2B-BB5E-FC84B6072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891D-EB54-41EF-84FD-98DBC895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53C80-C4E5-4DFF-B31C-D248016F9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05F2-C5AB-4367-B9D2-6FC0340B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37C67-DBA4-4A96-B54B-4A3F12C0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6586-703E-43D1-9715-0E426D939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A0B6-AE2B-46EA-BB07-895FEDB55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5BF6-BAC6-40D6-8338-DC51AF29F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haupt</cp:lastModifiedBy>
  <cp:lastPrinted>1999-03-07T15:27:48Z</cp:lastPrinted>
  <dcterms:modified xsi:type="dcterms:W3CDTF">1999-03-07T18:03:29Z</dcterms:modified>
  <cp:revision>24</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