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1F4-CA6E-4245-8672-32C15D36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753-D896-428A-81FA-B96E8ED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92B-64BB-4ABB-8816-73D9486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D02-EDB4-406E-A817-03BABA0D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997-90D3-4C96-83BE-3DB1BEA9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9B0-E0E0-489B-A97E-F668D1D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911-6709-4188-AC08-2C9A229C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861-85E6-4704-8401-BF705E3C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123-C3AA-4A90-8DE1-20C61F8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685-C8AE-49B5-A3B0-C175541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07C-96FC-49AF-9796-1F1FD9D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084-D6C5-4B84-96F0-737A6A5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28A-C1F4-49A8-9F43-0C6A3A286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226440"/>
            <a:ext cx="137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7804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8240" y="319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9000" y="3000600"/>
            <a:ext cx="19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920" y="4387680"/>
            <a:ext cx="230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dPropertyChangeListe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5:41Z</dcterms:modified>
  <cp:revision>6</cp:revision>
  <dc:subject/>
  <dc:title>No Slide Title</dc:title>
</cp:coreProperties>
</file>