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674-7704-4491-A177-37E162C6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03C-191F-425E-8271-3A55ACA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812-88A5-4323-8A3E-95464E80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4C9-ABFD-4C63-9117-8F4D9319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DA8-A5B5-46B5-9C95-4BC8B38E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EF1-AA2D-4051-878B-3CADE7D1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05E-8D3E-443D-89B2-E051A631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22B-5BD6-49DF-9263-60561296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4B0-D6E2-476B-9209-4D1F942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EB5-9B41-4A82-81CD-09C6CADB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E6F-1240-49E4-A737-87C2C73D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6E3-FEC2-4D65-8F64-4DAD5A6D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FC02-8C98-4077-82C2-C0980C023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533520"/>
            <a:ext cx="6628680" cy="5714640"/>
            <a:chOff x="1371600" y="533520"/>
            <a:chExt cx="6628680" cy="5714640"/>
          </a:xfrm>
        </p:grpSpPr>
        <p:sp>
          <p:nvSpPr>
            <p:cNvPr id="42" name=""/>
            <p:cNvSpPr/>
            <p:nvPr/>
          </p:nvSpPr>
          <p:spPr>
            <a:xfrm>
              <a:off x="3227400" y="2526840"/>
              <a:ext cx="3182040" cy="1195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31800" y="5051880"/>
              <a:ext cx="2121480" cy="79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D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1440" y="5051880"/>
              <a:ext cx="2120760" cy="797040"/>
            </a:xfrm>
            <a:prstGeom prst="rect">
              <a:avLst/>
            </a:prstGeom>
            <a:solidFill>
              <a:srgbClr val="fe0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SC2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23000" y="46533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2300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1384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13840" y="584928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23000" y="62481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023000" y="584892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2520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164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533520"/>
              <a:ext cx="1458000" cy="664200"/>
            </a:xfrm>
            <a:prstGeom prst="rect">
              <a:avLst/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94560" y="533520"/>
              <a:ext cx="1458720" cy="664200"/>
            </a:xfrm>
            <a:prstGeom prst="rect">
              <a:avLst/>
            </a:prstGeom>
            <a:solidFill>
              <a:srgbClr val="12f1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nd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18600" y="533520"/>
              <a:ext cx="1458000" cy="664200"/>
            </a:xfrm>
            <a:prstGeom prst="rect">
              <a:avLst/>
            </a:prstGeom>
            <a:solidFill>
              <a:srgbClr val="190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2280" y="533520"/>
              <a:ext cx="1458000" cy="664200"/>
            </a:xfrm>
            <a:prstGeom prst="rect">
              <a:avLst/>
            </a:prstGeom>
            <a:solidFill>
              <a:srgbClr val="f10d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g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66840" y="1197720"/>
              <a:ext cx="172296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746320" y="1197720"/>
              <a:ext cx="159084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83200" y="1197720"/>
              <a:ext cx="53028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90160" y="1197720"/>
              <a:ext cx="66312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37:08Z</dcterms:created>
  <dc:creator>Valued Gateway Customer</dc:creator>
  <dc:description/>
  <dc:language>en-US</dc:language>
  <cp:lastModifiedBy>Valued Gateway Customer</cp:lastModifiedBy>
  <dcterms:modified xsi:type="dcterms:W3CDTF">1999-07-10T20:39:25Z</dcterms:modified>
  <cp:revision>1</cp:revision>
  <dc:subject/>
  <dc:title>No Slide Title</dc:title>
</cp:coreProperties>
</file>