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949-7094-44FA-83B7-FC6D7A4C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D62-CFDE-40A8-A17F-0A55220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523-D49D-4DC5-B3BB-AB74F701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C0F-E2B8-4254-9F87-A53A863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22DF-B8D5-410C-9974-485BE55E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B77E-9921-4199-B301-3BE4962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96D7-673E-43FE-A6D9-53B1AB3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8DCE-A2D8-44D9-AEA4-53FF13D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53D2-2BEA-475B-A387-C8A164A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8CB-0D30-4569-8C93-1BF15B4D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10BA-63F5-4045-B65D-F86D664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DEE-BD14-4933-AFDE-90A0EF2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4CE7-FECD-4664-92CE-D35EEA34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8B4E-930B-416C-B208-3731377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3A95-7535-4B54-9B27-BFA0B27C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2ED-D564-423E-A0C4-52E84053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742F-E54B-470D-99C1-D4C1A146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2D2-C886-4879-BE1E-DE59197F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EDF-6F9D-4763-A5F8-0609C0B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51F-12C5-4384-BCCF-1BBEFF1E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7E5-0959-47F2-BDFF-F9DB91B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750-164B-4CF7-A189-0EFB198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3DE-76CA-4A14-B408-D09CF91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C31-A76E-4BF9-B0F9-AB69D98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4220-BC14-4951-B687-84B6AAD9E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DC23-C9A6-4C91-95F1-2B9A9CE60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800" y="44197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4724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luggable MetaComp  uting Services (Globus Services: GRAM, GSS, GEM and MDS) and binding modules with Distributed Adaptor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onent-Based design of  WebFlow modules (e.g. MetaComponents) with JWO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ile-time and run-time customization of modules trough their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ntrolling the module execution with DARP service which runs in WebFlow server as 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ersistency with XML (Saving composed application with XML and restore i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Modules communicate with each other trough JavaBeans events (Event/Property Bin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Because of using component model, Modules can be nested at arbitrary level. That is, modules can contain other mod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WebFlow server, written in JWOB,  is an extension of module and can be used as a module (surprise !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1981080"/>
            <a:ext cx="6172200" cy="4038840"/>
          </a:xfrm>
          <a:prstGeom prst="ellipse">
            <a:avLst/>
          </a:prstGeom>
          <a:solidFill>
            <a:srgbClr val="ff66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209680"/>
            <a:ext cx="96372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NEX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DAR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2860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VISUAL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057400"/>
            <a:ext cx="96228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9528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1814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029200"/>
            <a:ext cx="53316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95480"/>
            <a:ext cx="3429000" cy="2133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Interaction between WebFlow Services and Webflow Modul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 flipV="1">
            <a:off x="228600" y="3886200"/>
            <a:ext cx="8610840" cy="76680"/>
          </a:xfrm>
          <a:prstGeom prst="straightConnector1">
            <a:avLst/>
          </a:prstGeom>
          <a:ln w="28440">
            <a:solidFill>
              <a:srgbClr val="ffffff"/>
            </a:solidFill>
            <a:prstDash val="lgDash"/>
            <a:miter/>
          </a:ln>
        </p:spPr>
      </p:cxnSp>
      <p:sp>
        <p:nvSpPr>
          <p:cNvPr id="121" name=""/>
          <p:cNvSpPr/>
          <p:nvPr/>
        </p:nvSpPr>
        <p:spPr>
          <a:xfrm>
            <a:off x="75240" y="42591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560" y="22017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BIN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ADAP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sic Principles of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is a component which can include  other components (WebFlow serve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u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on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u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 interchangeab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all obj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located at remote deployment targets, which start WebFlow servers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s have API which can be used directly or by means of one deployment t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advantages of WebFlow component mod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odel helps us create any level of hierarchy of Servers which leads to building applications out of previous composed applications or single 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ng new service to Server is easy, maintaining and updating is not difficult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can be used a module to create applications because it is a component (surprise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s can be written with independent of environment or Container in which it will r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e functions or values  specific to one environment will be put into services which modules can interrogate and us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ervice inside one component  be used for all components nested in service’s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or modules ,written in any language (C++,Java and etc.) CORBA supports, can be replaced with new ones to adapt to new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does Webflow server look lik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22:51Z</dcterms:created>
  <dc:creator>Valued Gateway Customer</dc:creator>
  <dc:description/>
  <dc:language>en-US</dc:language>
  <cp:lastModifiedBy>Valued Gateway Customer</cp:lastModifiedBy>
  <cp:lastPrinted>1998-11-23T17:43:52Z</cp:lastPrinted>
  <dcterms:modified xsi:type="dcterms:W3CDTF">1999-06-16T19:08:53Z</dcterms:modified>
  <cp:revision>10</cp:revision>
  <dc:subject/>
  <dc:title>New WebFlow Middle-Tier</dc:title>
</cp:coreProperties>
</file>