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EB1-7D28-48A1-9A86-35993D6F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4FD-2167-4686-8518-AB88639E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7CF-016D-43BD-81CB-F58EC7D9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366-6776-46D1-A9AF-49AA525D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C57-D2E4-4D61-A10E-74E6131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8D5-01FE-4D9F-A77D-558BF5AC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5EF-9967-4437-B781-4F9ADBB1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8A5-9F8E-4358-943C-6BEB9AF0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363-E730-4F38-8B8C-0CA115D3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F52-1AD2-4337-9069-C7FF85FA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B5F-EA20-48B2-B0C7-20C3A09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906-3A7D-4114-A5FB-6A2311A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22C3-DDD7-43CC-88DD-171200DEB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762120"/>
            <a:ext cx="5410440" cy="411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905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1295280"/>
            <a:ext cx="12189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209680"/>
            <a:ext cx="15238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1720" y="45720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52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9120" y="8762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4" idx="1"/>
          </p:cNvCxnSpPr>
          <p:nvPr/>
        </p:nvCxnSpPr>
        <p:spPr>
          <a:xfrm>
            <a:off x="2190600" y="1099800"/>
            <a:ext cx="166680" cy="124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6" idx="2"/>
            <a:endCxn id="43" idx="0"/>
          </p:cNvCxnSpPr>
          <p:nvPr/>
        </p:nvCxnSpPr>
        <p:spPr>
          <a:xfrm flipH="1">
            <a:off x="4343400" y="520560"/>
            <a:ext cx="24156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2"/>
            <a:endCxn id="42" idx="3"/>
          </p:cNvCxnSpPr>
          <p:nvPr/>
        </p:nvCxnSpPr>
        <p:spPr>
          <a:xfrm flipH="1">
            <a:off x="6705720" y="1518840"/>
            <a:ext cx="12542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741040" y="49528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s of 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ateWayCon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21:36:27Z</dcterms:created>
  <dc:creator>Valued Gateway Customer</dc:creator>
  <dc:description/>
  <dc:language>en-US</dc:language>
  <cp:lastModifiedBy>Valued Gateway Customer</cp:lastModifiedBy>
  <dcterms:modified xsi:type="dcterms:W3CDTF">1999-04-27T21:44:22Z</dcterms:modified>
  <cp:revision>1</cp:revision>
  <dc:subject/>
  <dc:title>No Slide Title</dc:title>
</cp:coreProperties>
</file>