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FE8-B49E-4F24-BFB1-F04674DE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EA1-522A-405E-8A32-5C4CE1E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586-7A8E-4670-AA92-950314D0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7AD-A521-4E22-948B-9CF36506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6FA-08E1-4585-BBE5-7F0F366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5D0-DA3B-4FD8-A3ED-FA08606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1A8-3FC2-4A6C-8A72-6F1CA48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7F5-DC1F-4244-906B-B8BA32F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B4A-6A5A-4B1D-BF61-7B4884B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A1C-E88D-4AF1-8AE4-BBCDA06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9CD-A65B-49F8-A446-F9EEC52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BDA-D35C-44A1-A805-D92380F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7D0-D3F0-4893-99A7-F7C6DC671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533520"/>
            <a:ext cx="6628680" cy="5714640"/>
            <a:chOff x="1371600" y="533520"/>
            <a:chExt cx="6628680" cy="5714640"/>
          </a:xfrm>
        </p:grpSpPr>
        <p:sp>
          <p:nvSpPr>
            <p:cNvPr id="42" name=""/>
            <p:cNvSpPr/>
            <p:nvPr/>
          </p:nvSpPr>
          <p:spPr>
            <a:xfrm>
              <a:off x="3227400" y="2526840"/>
              <a:ext cx="3182040" cy="119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1800" y="5051880"/>
              <a:ext cx="2121480" cy="79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1440" y="5051880"/>
              <a:ext cx="2120760" cy="79704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23000" y="46533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2300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1384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3840" y="58492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3000" y="62481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023000" y="584892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520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164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533520"/>
              <a:ext cx="1458000" cy="66420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4560" y="533520"/>
              <a:ext cx="1458720" cy="66420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8600" y="533520"/>
              <a:ext cx="1458000" cy="66420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2280" y="533520"/>
              <a:ext cx="1458000" cy="66420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66840" y="1197720"/>
              <a:ext cx="172296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746320" y="1197720"/>
              <a:ext cx="15908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83200" y="1197720"/>
              <a:ext cx="53028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0160" y="1197720"/>
              <a:ext cx="66312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37:08Z</dcterms:created>
  <dc:creator>Valued Gateway Customer</dc:creator>
  <dc:description/>
  <dc:language>en-US</dc:language>
  <cp:lastModifiedBy>Valued Gateway Customer</cp:lastModifiedBy>
  <dcterms:modified xsi:type="dcterms:W3CDTF">1999-07-10T20:39:25Z</dcterms:modified>
  <cp:revision>1</cp:revision>
  <dc:subject/>
  <dc:title>No Slide Title</dc:title>
</cp:coreProperties>
</file>