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894D-862F-4385-91FB-A0AB0308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536-4714-4446-BD3D-1EE216DA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D9E-304A-4DDA-8B31-D4F72C5F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C80E-5147-4BA8-9E79-23DF41CF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A05-E408-4930-BDD3-105C799D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6B95-2C2A-446F-817B-13D3DFC8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F574-EE85-4D7A-AE5F-FA5254AE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276-F9CA-48D6-A9BF-AB902445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22C-459A-4E31-ACF4-61D9C799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F0D-7FB2-4B2F-B2EC-CB9BD496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C65-9DF2-4595-BFCF-829B9526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5A5C-B179-4AA5-8805-4551C3C1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D4EB-5948-4A64-8EB7-FCBED2CE4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43400" y="685800"/>
            <a:ext cx="4114800" cy="396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86200" y="3581280"/>
            <a:ext cx="1600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meAccount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62520" y="144792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meRemoteAcc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48769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2240" y="33940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5" idx="2"/>
            <a:endCxn id="44" idx="1"/>
          </p:cNvCxnSpPr>
          <p:nvPr/>
        </p:nvCxnSpPr>
        <p:spPr>
          <a:xfrm>
            <a:off x="1285920" y="3853800"/>
            <a:ext cx="1896480" cy="114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7"/>
            <a:endCxn id="42" idx="2"/>
          </p:cNvCxnSpPr>
          <p:nvPr/>
        </p:nvCxnSpPr>
        <p:spPr>
          <a:xfrm flipV="1">
            <a:off x="3828600" y="3962520"/>
            <a:ext cx="857880" cy="103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endCxn id="42" idx="1"/>
          </p:cNvCxnSpPr>
          <p:nvPr/>
        </p:nvCxnSpPr>
        <p:spPr>
          <a:xfrm>
            <a:off x="1752120" y="3733920"/>
            <a:ext cx="2134440" cy="3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endCxn id="43" idx="2"/>
          </p:cNvCxnSpPr>
          <p:nvPr/>
        </p:nvCxnSpPr>
        <p:spPr>
          <a:xfrm flipH="1" flipV="1">
            <a:off x="4724280" y="1828800"/>
            <a:ext cx="38520" cy="179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5" idx="3"/>
            <a:endCxn id="43" idx="1"/>
          </p:cNvCxnSpPr>
          <p:nvPr/>
        </p:nvCxnSpPr>
        <p:spPr>
          <a:xfrm flipV="1">
            <a:off x="1749600" y="1638360"/>
            <a:ext cx="2213280" cy="198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6477120" y="144792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B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3" idx="3"/>
            <a:endCxn id="51" idx="1"/>
          </p:cNvCxnSpPr>
          <p:nvPr/>
        </p:nvCxnSpPr>
        <p:spPr>
          <a:xfrm>
            <a:off x="5486400" y="1638360"/>
            <a:ext cx="991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5791320" y="12952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3623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25909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38098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44956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114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350532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28600"/>
            <a:ext cx="76320" cy="579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1" idx="0"/>
            <a:endCxn id="41" idx="0"/>
          </p:cNvCxnSpPr>
          <p:nvPr/>
        </p:nvCxnSpPr>
        <p:spPr>
          <a:xfrm flipH="1" flipV="1">
            <a:off x="6400800" y="685800"/>
            <a:ext cx="83844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1512720" y="457200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meAccount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9480" y="472428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meAccount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7000" y="350532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EJB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2438280"/>
            <a:ext cx="93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JB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37720" y="1941480"/>
            <a:ext cx="72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79440" y="1712880"/>
            <a:ext cx="72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e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08600" y="5943600"/>
            <a:ext cx="138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JB Bean Prov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 and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90520" y="5943600"/>
            <a:ext cx="126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EJB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5943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60880" y="914400"/>
            <a:ext cx="7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02240" y="44560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JB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9T22:47:38Z</dcterms:created>
  <dc:creator>Valued Gateway Customer</dc:creator>
  <dc:description/>
  <dc:language>en-US</dc:language>
  <cp:lastModifiedBy>Valued Gateway Customer</cp:lastModifiedBy>
  <dcterms:modified xsi:type="dcterms:W3CDTF">1999-04-30T03:26:44Z</dcterms:modified>
  <cp:revision>2</cp:revision>
  <dc:subject/>
  <dc:title>No Slide Title</dc:title>
</cp:coreProperties>
</file>