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0475E-8833-4BC7-A4E5-026D14F0C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16DDD-1A0F-440A-A361-5FC8FADBE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03F70-58C2-4891-A34C-076113325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79F62-F57D-45B2-A13D-2127EC851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FE574-4A88-447A-8B98-7CE6F712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C17F-F172-4DFB-9D62-87DC5E67A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36D7D-4950-4792-8A0B-C184EA911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ACA4B-EDFC-4AD7-8682-7DF2A9A75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EDC61-9FAD-491F-8E4B-FE8B6CAF4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F939-2402-45C7-9C63-F3100023D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2499-6691-42AE-A055-836AC73EA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F212F-F326-408E-994C-34D9E397B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7C3B-4CB9-44CB-8D4B-808C35FB0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1ACD5C-7B8A-43B9-B1A7-392121A745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33D8D1-D312-4ECF-83C6-9904136D1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B0BEA3-5DAE-418D-BACA-6D0224C98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500F10-154C-431A-94A6-77B414FF10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026810-1736-4A32-9830-BBFBCE46E7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161D2B-2CBA-42A0-99DE-7DBF235F50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0B805AF-5791-4940-9B62-4992B920FB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544E3C-CF65-402D-9443-CEC7A25570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3C65DF-1260-40C8-8242-A060CD984F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EF1C99-07B1-49C6-BDC2-613A6131CF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EEC3EB5-AE94-40A7-9063-A325B9B68D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A06B0D-7F2F-4033-9E22-F8102F8C0A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F029A63-CC39-4D41-9622-0A5A7F0B89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2DC65D-F950-4B21-8148-1D9B01BA61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
        <p:nvSpPr>
          <p:cNvPr id="2" name="PlaceHolder 1"/>
          <p:cNvSpPr>
            <a:spLocks noGrp="1"/>
          </p:cNvSpPr>
          <p:nvPr>
            <p:ph type="sldNum" idx="3"/>
          </p:nvPr>
        </p:nvSpPr>
        <p:spPr/>
        <p:txBody>
          <a:bodyPr/>
          <a:p>
            <a:fld id="{F6A53111-8697-4E79-B61B-521C07298D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5A46EC-A8B5-4EF4-8BE6-88693EC12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717720" y="49356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sp>
        <p:nvSpPr>
          <p:cNvPr id="350" name=""/>
          <p:cNvSpPr/>
          <p:nvPr/>
        </p:nvSpPr>
        <p:spPr>
          <a:xfrm>
            <a:off x="3505320" y="3200400"/>
            <a:ext cx="2819160" cy="485640"/>
          </a:xfrm>
          <a:prstGeom prst="leftRightArrow">
            <a:avLst>
              <a:gd name="adj1" fmla="val 50000"/>
              <a:gd name="adj2" fmla="val 1155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1" name=""/>
          <p:cNvCxnSpPr>
            <a:stCxn id="349" idx="2"/>
            <a:endCxn id="350" idx="0"/>
          </p:cNvCxnSpPr>
          <p:nvPr/>
        </p:nvCxnSpPr>
        <p:spPr>
          <a:xfrm>
            <a:off x="4808520" y="960480"/>
            <a:ext cx="107280" cy="2363040"/>
          </a:xfrm>
          <a:prstGeom prst="straightConnector1">
            <a:avLst/>
          </a:prstGeom>
          <a:ln w="50760">
            <a:solidFill>
              <a:srgbClr val="000000"/>
            </a:solidFill>
            <a:miter/>
            <a:tailEnd len="med" type="triangle" w="med"/>
          </a:ln>
        </p:spPr>
      </p:cxnSp>
      <p:cxnSp>
        <p:nvCxnSpPr>
          <p:cNvPr id="352" name=""/>
          <p:cNvCxnSpPr>
            <a:stCxn id="349" idx="3"/>
            <a:endCxn id="348" idx="0"/>
          </p:cNvCxnSpPr>
          <p:nvPr/>
        </p:nvCxnSpPr>
        <p:spPr>
          <a:xfrm>
            <a:off x="5903640" y="727200"/>
            <a:ext cx="1716840" cy="2092680"/>
          </a:xfrm>
          <a:prstGeom prst="straightConnector1">
            <a:avLst/>
          </a:prstGeom>
          <a:ln w="50760">
            <a:solidFill>
              <a:srgbClr val="000000"/>
            </a:solidFill>
            <a:miter/>
            <a:tailEnd len="med" type="triangle" w="med"/>
          </a:ln>
        </p:spPr>
      </p:cxnSp>
      <p:cxnSp>
        <p:nvCxnSpPr>
          <p:cNvPr id="353" name=""/>
          <p:cNvCxnSpPr>
            <a:stCxn id="349" idx="1"/>
            <a:endCxn id="332" idx="0"/>
          </p:cNvCxnSpPr>
          <p:nvPr/>
        </p:nvCxnSpPr>
        <p:spPr>
          <a:xfrm flipH="1">
            <a:off x="1904760" y="727200"/>
            <a:ext cx="1808640" cy="1559520"/>
          </a:xfrm>
          <a:prstGeom prst="straightConnector1">
            <a:avLst/>
          </a:prstGeom>
          <a:ln w="50760">
            <a:solidFill>
              <a:srgbClr val="000000"/>
            </a:solidFill>
            <a:miter/>
            <a:tailEnd len="med" type="triangle" w="med"/>
          </a:ln>
        </p:spPr>
      </p:cxnSp>
      <p:sp>
        <p:nvSpPr>
          <p:cNvPr id="354"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5" name=""/>
          <p:cNvSpPr/>
          <p:nvPr/>
        </p:nvSpPr>
        <p:spPr>
          <a:xfrm>
            <a:off x="6835320" y="838080"/>
            <a:ext cx="2311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attrib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Modules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038480" y="4419720"/>
            <a:ext cx="493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start application from eit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ateway API or 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the result in XML or Database</a:t>
            </a:r>
            <a:endParaRPr b="0" lang="en-US" sz="2400" spc="-1" strike="noStrike">
              <a:solidFill>
                <a:srgbClr val="000000"/>
              </a:solidFill>
              <a:latin typeface="Times New Roman"/>
            </a:endParaRPr>
          </a:p>
        </p:txBody>
      </p:sp>
      <p:sp>
        <p:nvSpPr>
          <p:cNvPr id="357" name=""/>
          <p:cNvSpPr/>
          <p:nvPr/>
        </p:nvSpPr>
        <p:spPr>
          <a:xfrm>
            <a:off x="1295280" y="5334120"/>
            <a:ext cx="914400" cy="121428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23880" y="4572000"/>
            <a:ext cx="381240" cy="762120"/>
          </a:xfrm>
          <a:prstGeom prst="upDownArrow">
            <a:avLst>
              <a:gd name="adj1" fmla="val 50000"/>
              <a:gd name="adj2" fmla="val 397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360" y="624852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60" name=""/>
          <p:cNvSpPr/>
          <p:nvPr/>
        </p:nvSpPr>
        <p:spPr>
          <a:xfrm>
            <a:off x="381240" y="464832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802AE4-DE15-4C15-985E-E818091448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2" name=""/>
          <p:cNvGrpSpPr/>
          <p:nvPr/>
        </p:nvGrpSpPr>
        <p:grpSpPr>
          <a:xfrm>
            <a:off x="609480" y="1752480"/>
            <a:ext cx="7856640" cy="4132440"/>
            <a:chOff x="609480" y="1752480"/>
            <a:chExt cx="7856640" cy="4132440"/>
          </a:xfrm>
        </p:grpSpPr>
        <p:sp>
          <p:nvSpPr>
            <p:cNvPr id="363"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0" name=""/>
            <p:cNvCxnSpPr>
              <a:stCxn id="365" idx="2"/>
              <a:endCxn id="366" idx="0"/>
            </p:cNvCxnSpPr>
            <p:nvPr/>
          </p:nvCxnSpPr>
          <p:spPr>
            <a:xfrm flipV="1" rot="10800000">
              <a:off x="1945440" y="2272680"/>
              <a:ext cx="1080" cy="165960"/>
            </a:xfrm>
            <a:prstGeom prst="bentConnector2">
              <a:avLst/>
            </a:prstGeom>
            <a:ln w="38160">
              <a:solidFill>
                <a:srgbClr val="0000ff"/>
              </a:solidFill>
              <a:miter/>
            </a:ln>
          </p:spPr>
        </p:cxnSp>
        <p:cxnSp>
          <p:nvCxnSpPr>
            <p:cNvPr id="371" name=""/>
            <p:cNvCxnSpPr>
              <a:stCxn id="366" idx="2"/>
              <a:endCxn id="369"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2" name=""/>
            <p:cNvCxnSpPr>
              <a:stCxn id="366" idx="2"/>
              <a:endCxn id="368"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3" name=""/>
            <p:cNvCxnSpPr>
              <a:stCxn id="368" idx="2"/>
              <a:endCxn id="367" idx="0"/>
            </p:cNvCxnSpPr>
            <p:nvPr/>
          </p:nvCxnSpPr>
          <p:spPr>
            <a:xfrm flipV="1" rot="10800000">
              <a:off x="2520000" y="3126600"/>
              <a:ext cx="1080" cy="167040"/>
            </a:xfrm>
            <a:prstGeom prst="bentConnector2">
              <a:avLst/>
            </a:prstGeom>
            <a:ln w="38160">
              <a:solidFill>
                <a:srgbClr val="0000ff"/>
              </a:solidFill>
              <a:miter/>
            </a:ln>
          </p:spPr>
        </p:cxnSp>
        <p:sp>
          <p:nvSpPr>
            <p:cNvPr id="374"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5"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77"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78"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0"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3"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4"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6"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3" name=""/>
            <p:cNvCxnSpPr>
              <a:stCxn id="388" idx="6"/>
              <a:endCxn id="392" idx="2"/>
            </p:cNvCxnSpPr>
            <p:nvPr/>
          </p:nvCxnSpPr>
          <p:spPr>
            <a:xfrm>
              <a:off x="3332160" y="5463720"/>
              <a:ext cx="250920" cy="91080"/>
            </a:xfrm>
            <a:prstGeom prst="straightConnector1">
              <a:avLst/>
            </a:prstGeom>
            <a:ln w="28440">
              <a:solidFill>
                <a:srgbClr val="000000"/>
              </a:solidFill>
              <a:miter/>
            </a:ln>
          </p:spPr>
        </p:cxnSp>
        <p:cxnSp>
          <p:nvCxnSpPr>
            <p:cNvPr id="394" name=""/>
            <p:cNvCxnSpPr>
              <a:stCxn id="392" idx="7"/>
              <a:endCxn id="389" idx="2"/>
            </p:cNvCxnSpPr>
            <p:nvPr/>
          </p:nvCxnSpPr>
          <p:spPr>
            <a:xfrm flipV="1">
              <a:off x="3763800" y="5381280"/>
              <a:ext cx="164160" cy="95760"/>
            </a:xfrm>
            <a:prstGeom prst="straightConnector1">
              <a:avLst/>
            </a:prstGeom>
            <a:ln w="28440">
              <a:solidFill>
                <a:srgbClr val="000000"/>
              </a:solidFill>
              <a:miter/>
            </a:ln>
          </p:spPr>
        </p:cxnSp>
        <p:cxnSp>
          <p:nvCxnSpPr>
            <p:cNvPr id="395" name=""/>
            <p:cNvCxnSpPr>
              <a:stCxn id="392" idx="6"/>
              <a:endCxn id="390" idx="2"/>
            </p:cNvCxnSpPr>
            <p:nvPr/>
          </p:nvCxnSpPr>
          <p:spPr>
            <a:xfrm>
              <a:off x="3793680" y="5554440"/>
              <a:ext cx="446760" cy="29520"/>
            </a:xfrm>
            <a:prstGeom prst="straightConnector1">
              <a:avLst/>
            </a:prstGeom>
            <a:ln w="28440">
              <a:solidFill>
                <a:srgbClr val="000000"/>
              </a:solidFill>
              <a:miter/>
            </a:ln>
          </p:spPr>
        </p:cxnSp>
        <p:cxnSp>
          <p:nvCxnSpPr>
            <p:cNvPr id="396" name=""/>
            <p:cNvCxnSpPr>
              <a:stCxn id="390" idx="6"/>
              <a:endCxn id="391" idx="3"/>
            </p:cNvCxnSpPr>
            <p:nvPr/>
          </p:nvCxnSpPr>
          <p:spPr>
            <a:xfrm flipV="1">
              <a:off x="4450680" y="5515920"/>
              <a:ext cx="259560" cy="67680"/>
            </a:xfrm>
            <a:prstGeom prst="straightConnector1">
              <a:avLst/>
            </a:prstGeom>
            <a:ln w="28440">
              <a:solidFill>
                <a:srgbClr val="000000"/>
              </a:solidFill>
              <a:miter/>
            </a:ln>
          </p:spPr>
        </p:cxnSp>
        <p:sp>
          <p:nvSpPr>
            <p:cNvPr id="397"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398"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4E8EAA68-1E32-4448-BEF5-41E691B65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5F40C8-B40D-4E8D-87E1-495A311088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12" idx="1"/>
            <a:endCxn id="402"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4" name=""/>
          <p:cNvCxnSpPr>
            <a:endCxn id="404"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5" name=""/>
          <p:cNvCxnSpPr>
            <a:endCxn id="406"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6" name=""/>
          <p:cNvCxnSpPr>
            <a:stCxn id="417"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18"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19" name=""/>
          <p:cNvCxnSpPr>
            <a:stCxn id="409" idx="6"/>
            <a:endCxn id="407"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0" name=""/>
          <p:cNvCxnSpPr>
            <a:stCxn id="406" idx="0"/>
            <a:endCxn id="411"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1" name=""/>
          <p:cNvCxnSpPr>
            <a:stCxn id="411" idx="4"/>
            <a:endCxn id="404"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2" name=""/>
          <p:cNvCxnSpPr>
            <a:stCxn id="404" idx="7"/>
            <a:endCxn id="409"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3" name=""/>
          <p:cNvCxnSpPr>
            <a:stCxn id="409"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4"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17"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6"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27"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28"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29"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0"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1"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2"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3"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4"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5"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6"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37"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38"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39"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0"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1"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2"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3"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4"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4A23E1-3813-4063-8F72-08CE965C59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208436-B48C-450A-A5DC-9784F97D50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6" name=""/>
          <p:cNvCxnSpPr>
            <a:stCxn id="448" idx="0"/>
            <a:endCxn id="451"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7" name=""/>
          <p:cNvCxnSpPr>
            <a:stCxn id="448" idx="1"/>
            <a:endCxn id="452" idx="4"/>
          </p:cNvCxnSpPr>
          <p:nvPr/>
        </p:nvCxnSpPr>
        <p:spPr>
          <a:xfrm flipH="1" flipV="1">
            <a:off x="1294560" y="3085920"/>
            <a:ext cx="2667960" cy="2210400"/>
          </a:xfrm>
          <a:prstGeom prst="straightConnector1">
            <a:avLst/>
          </a:prstGeom>
          <a:ln w="38160">
            <a:solidFill>
              <a:srgbClr val="000000"/>
            </a:solidFill>
            <a:miter/>
            <a:tailEnd len="med" type="triangle" w="med"/>
          </a:ln>
        </p:spPr>
      </p:cxnSp>
      <p:sp>
        <p:nvSpPr>
          <p:cNvPr id="458"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4"/>
            <a:endCxn id="451" idx="1"/>
          </p:cNvCxnSpPr>
          <p:nvPr/>
        </p:nvCxnSpPr>
        <p:spPr>
          <a:xfrm>
            <a:off x="5067000" y="990360"/>
            <a:ext cx="943560" cy="2277000"/>
          </a:xfrm>
          <a:prstGeom prst="straightConnector1">
            <a:avLst/>
          </a:prstGeom>
          <a:ln w="38160">
            <a:solidFill>
              <a:srgbClr val="000000"/>
            </a:solidFill>
            <a:miter/>
            <a:tailEnd len="med" type="triangle" w="med"/>
          </a:ln>
        </p:spPr>
      </p:cxnSp>
      <p:cxnSp>
        <p:nvCxnSpPr>
          <p:cNvPr id="460" name=""/>
          <p:cNvCxnSpPr>
            <a:stCxn id="453" idx="3"/>
            <a:endCxn id="458" idx="0"/>
          </p:cNvCxnSpPr>
          <p:nvPr/>
        </p:nvCxnSpPr>
        <p:spPr>
          <a:xfrm flipH="1">
            <a:off x="3466800" y="867960"/>
            <a:ext cx="1303920" cy="2027520"/>
          </a:xfrm>
          <a:prstGeom prst="straightConnector1">
            <a:avLst/>
          </a:prstGeom>
          <a:ln w="38160">
            <a:solidFill>
              <a:srgbClr val="000000"/>
            </a:solidFill>
            <a:miter/>
            <a:tailEnd len="med" type="triangle" w="med"/>
          </a:ln>
        </p:spPr>
      </p:cxnSp>
      <p:cxnSp>
        <p:nvCxnSpPr>
          <p:cNvPr id="461" name=""/>
          <p:cNvCxnSpPr>
            <a:stCxn id="458" idx="1"/>
          </p:cNvCxnSpPr>
          <p:nvPr/>
        </p:nvCxnSpPr>
        <p:spPr>
          <a:xfrm flipH="1" flipV="1">
            <a:off x="1218600" y="3047400"/>
            <a:ext cx="1905480" cy="153000"/>
          </a:xfrm>
          <a:prstGeom prst="straightConnector1">
            <a:avLst/>
          </a:prstGeom>
          <a:ln w="38160">
            <a:solidFill>
              <a:srgbClr val="000000"/>
            </a:solidFill>
            <a:miter/>
            <a:tailEnd len="med" type="triangle" w="med"/>
          </a:ln>
        </p:spPr>
      </p:cxnSp>
      <p:cxnSp>
        <p:nvCxnSpPr>
          <p:cNvPr id="462" name=""/>
          <p:cNvCxnSpPr>
            <a:stCxn id="451" idx="1"/>
            <a:endCxn id="449"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3"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4"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5"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6"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67" name=""/>
          <p:cNvSpPr/>
          <p:nvPr/>
        </p:nvSpPr>
        <p:spPr>
          <a:xfrm>
            <a:off x="5105880" y="411336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8" name=""/>
          <p:cNvSpPr/>
          <p:nvPr/>
        </p:nvSpPr>
        <p:spPr>
          <a:xfrm>
            <a:off x="548496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69" name=""/>
          <p:cNvSpPr/>
          <p:nvPr/>
        </p:nvSpPr>
        <p:spPr>
          <a:xfrm>
            <a:off x="3201480" y="98928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0" name=""/>
          <p:cNvSpPr/>
          <p:nvPr/>
        </p:nvSpPr>
        <p:spPr>
          <a:xfrm>
            <a:off x="2056680" y="312264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71"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2"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3"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4"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5"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6"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77" name=""/>
          <p:cNvSpPr/>
          <p:nvPr/>
        </p:nvSpPr>
        <p:spPr>
          <a:xfrm>
            <a:off x="6629400" y="2361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78"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59F9E1-779A-436A-A413-880062AE1E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BE0D06-5607-4009-956A-69CD022AA5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87" name=""/>
          <p:cNvCxnSpPr>
            <a:stCxn id="480" idx="0"/>
            <a:endCxn id="483"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88" name=""/>
          <p:cNvCxnSpPr>
            <a:stCxn id="489" idx="4"/>
            <a:endCxn id="483" idx="0"/>
          </p:cNvCxnSpPr>
          <p:nvPr/>
        </p:nvCxnSpPr>
        <p:spPr>
          <a:xfrm>
            <a:off x="5067000" y="990360"/>
            <a:ext cx="114840" cy="1905480"/>
          </a:xfrm>
          <a:prstGeom prst="straightConnector1">
            <a:avLst/>
          </a:prstGeom>
          <a:ln w="38160">
            <a:solidFill>
              <a:srgbClr val="000000"/>
            </a:solidFill>
            <a:miter/>
            <a:tailEnd len="med" type="triangle" w="med"/>
          </a:ln>
        </p:spPr>
      </p:cxnSp>
      <p:sp>
        <p:nvSpPr>
          <p:cNvPr id="490"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1"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2"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3"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4" name=""/>
          <p:cNvSpPr/>
          <p:nvPr/>
        </p:nvSpPr>
        <p:spPr>
          <a:xfrm>
            <a:off x="510408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5" name=""/>
          <p:cNvSpPr/>
          <p:nvPr/>
        </p:nvSpPr>
        <p:spPr>
          <a:xfrm>
            <a:off x="2742480" y="319896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96"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97"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98" name=""/>
          <p:cNvSpPr/>
          <p:nvPr/>
        </p:nvSpPr>
        <p:spPr>
          <a:xfrm>
            <a:off x="69343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99"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489"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1" name=""/>
          <p:cNvCxnSpPr>
            <a:stCxn id="483" idx="5"/>
            <a:endCxn id="481"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2" name=""/>
          <p:cNvCxnSpPr>
            <a:stCxn id="483" idx="2"/>
            <a:endCxn id="484"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3"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4"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5"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2FDC2A-5383-45B3-B97A-312833D686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07"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08"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506" idx="2"/>
            <a:endCxn id="510"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2" name=""/>
          <p:cNvCxnSpPr>
            <a:stCxn id="506" idx="2"/>
            <a:endCxn id="509"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3" name=""/>
          <p:cNvCxnSpPr>
            <a:stCxn id="506" idx="2"/>
            <a:endCxn id="508"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4" name=""/>
          <p:cNvCxnSpPr>
            <a:stCxn id="506" idx="2"/>
            <a:endCxn id="507"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5"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18"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9"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0"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1"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3"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4" name=""/>
          <p:cNvCxnSpPr>
            <a:endCxn id="507"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5" name=""/>
          <p:cNvCxnSpPr>
            <a:stCxn id="523" idx="0"/>
            <a:endCxn id="521"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6"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27"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DD2F30-40AB-49C6-AF04-6214005817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29"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D74292-A82B-48E8-94D6-FC289370F5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7E5FCB-A9DB-43A1-83C3-4B221670DC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54BC88-A67F-41F4-98BA-3847ACC1CA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5D39DB-EAE1-43CA-9484-91D0983A75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008232-21BA-4DB2-BEC9-6F5F5F0F9B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3179880" y="3649680"/>
            <a:ext cx="1931400" cy="519120"/>
            <a:chOff x="3179880" y="3649680"/>
            <a:chExt cx="1931400" cy="519120"/>
          </a:xfrm>
        </p:grpSpPr>
        <p:sp>
          <p:nvSpPr>
            <p:cNvPr id="540"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85000" y="3649680"/>
            <a:ext cx="2680920" cy="446040"/>
            <a:chOff x="5985000" y="3649680"/>
            <a:chExt cx="2680920" cy="446040"/>
          </a:xfrm>
        </p:grpSpPr>
        <p:sp>
          <p:nvSpPr>
            <p:cNvPr id="545"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1"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2" name=""/>
          <p:cNvGrpSpPr/>
          <p:nvPr/>
        </p:nvGrpSpPr>
        <p:grpSpPr>
          <a:xfrm>
            <a:off x="2743200" y="5486400"/>
            <a:ext cx="6109920" cy="1039680"/>
            <a:chOff x="2743200" y="5486400"/>
            <a:chExt cx="6109920" cy="1039680"/>
          </a:xfrm>
        </p:grpSpPr>
        <p:sp>
          <p:nvSpPr>
            <p:cNvPr id="553"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4" name=""/>
          <p:cNvCxnSpPr>
            <a:stCxn id="548" idx="4"/>
            <a:endCxn id="541"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5"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0"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3"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5"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0"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B5CF30-CEB6-44FD-849E-15DED5BC08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81" idx="2"/>
            <a:endCxn id="582"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89" name=""/>
          <p:cNvCxnSpPr>
            <a:stCxn id="582" idx="3"/>
            <a:endCxn id="584"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0" name=""/>
          <p:cNvCxnSpPr>
            <a:stCxn id="584" idx="2"/>
            <a:endCxn id="583"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1"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2"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3" name=""/>
          <p:cNvCxnSpPr>
            <a:stCxn id="585" idx="1"/>
            <a:endCxn id="586"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4"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5" name=""/>
          <p:cNvCxnSpPr>
            <a:stCxn id="586" idx="2"/>
            <a:endCxn id="585"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6" name=""/>
          <p:cNvCxnSpPr>
            <a:stCxn id="585" idx="3"/>
            <a:endCxn id="586" idx="0"/>
          </p:cNvCxnSpPr>
          <p:nvPr/>
        </p:nvCxnSpPr>
        <p:spPr>
          <a:xfrm>
            <a:off x="2986200" y="2095560"/>
            <a:ext cx="824400" cy="1776960"/>
          </a:xfrm>
          <a:prstGeom prst="curvedConnector2">
            <a:avLst/>
          </a:prstGeom>
          <a:ln w="28440">
            <a:solidFill>
              <a:srgbClr val="000000"/>
            </a:solidFill>
            <a:miter/>
            <a:tailEnd len="med" type="triangle" w="med"/>
          </a:ln>
        </p:spPr>
      </p:cxnSp>
      <p:sp>
        <p:nvSpPr>
          <p:cNvPr id="597"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8" name=""/>
          <p:cNvCxnSpPr>
            <a:stCxn id="586" idx="4"/>
            <a:endCxn id="597"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599" name=""/>
          <p:cNvCxnSpPr>
            <a:stCxn id="597"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0" name=""/>
          <p:cNvCxnSpPr>
            <a:stCxn id="582" idx="5"/>
            <a:endCxn id="585"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1" name=""/>
          <p:cNvCxnSpPr>
            <a:endCxn id="585"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2"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3"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4"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6"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07"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08"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9"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0"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1"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2"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3"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4"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5"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6"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17"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18"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19"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0"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1"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2"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3"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4"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5"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6"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27"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A63730-1F4D-4159-8C83-09574751EB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29"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5" name=""/>
          <p:cNvCxnSpPr>
            <a:stCxn id="629" idx="2"/>
            <a:endCxn id="630"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6" name=""/>
          <p:cNvCxnSpPr>
            <a:stCxn id="630" idx="3"/>
            <a:endCxn id="632"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37" name=""/>
          <p:cNvCxnSpPr>
            <a:stCxn id="632" idx="2"/>
            <a:endCxn id="631"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38"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34" idx="4"/>
            <a:endCxn id="638"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0" name=""/>
          <p:cNvCxnSpPr>
            <a:endCxn id="633"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1"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2"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4"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5"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6"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47"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48"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49" name=""/>
          <p:cNvCxnSpPr>
            <a:stCxn id="638" idx="2"/>
            <a:endCxn id="642"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0" name=""/>
          <p:cNvCxnSpPr>
            <a:stCxn id="633" idx="2"/>
            <a:endCxn id="634"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1"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1" idx="4"/>
            <a:endCxn id="651"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3"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4"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51" idx="2"/>
            <a:endCxn id="654" idx="0"/>
          </p:cNvCxnSpPr>
          <p:nvPr/>
        </p:nvCxnSpPr>
        <p:spPr>
          <a:xfrm>
            <a:off x="495000" y="5043240"/>
            <a:ext cx="1080" cy="595800"/>
          </a:xfrm>
          <a:prstGeom prst="straightConnector1">
            <a:avLst/>
          </a:prstGeom>
          <a:ln w="9360">
            <a:solidFill>
              <a:srgbClr val="000000"/>
            </a:solidFill>
            <a:miter/>
            <a:tailEnd len="med" type="triangle" w="med"/>
          </a:ln>
        </p:spPr>
      </p:cxnSp>
      <p:sp>
        <p:nvSpPr>
          <p:cNvPr id="656"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57"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58"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59"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0" name=""/>
          <p:cNvCxnSpPr>
            <a:stCxn id="633" idx="1"/>
            <a:endCxn id="634"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1"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2"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3"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5" name=""/>
          <p:cNvCxnSpPr>
            <a:stCxn id="663" idx="2"/>
            <a:endCxn id="664" idx="0"/>
          </p:cNvCxnSpPr>
          <p:nvPr/>
        </p:nvCxnSpPr>
        <p:spPr>
          <a:xfrm>
            <a:off x="5492520" y="4966920"/>
            <a:ext cx="1080" cy="672120"/>
          </a:xfrm>
          <a:prstGeom prst="straightConnector1">
            <a:avLst/>
          </a:prstGeom>
          <a:ln w="9360">
            <a:solidFill>
              <a:srgbClr val="000000"/>
            </a:solidFill>
            <a:miter/>
            <a:tailEnd len="med" type="triangle" w="med"/>
          </a:ln>
        </p:spPr>
      </p:cxnSp>
      <p:sp>
        <p:nvSpPr>
          <p:cNvPr id="666"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67"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68" name=""/>
          <p:cNvCxnSpPr>
            <a:stCxn id="634" idx="3"/>
            <a:endCxn id="663"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69"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1" name=""/>
          <p:cNvCxnSpPr>
            <a:stCxn id="669" idx="2"/>
            <a:endCxn id="670"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2"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3"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4" name=""/>
          <p:cNvCxnSpPr>
            <a:stCxn id="631" idx="5"/>
            <a:endCxn id="669"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5" name=""/>
          <p:cNvCxnSpPr>
            <a:stCxn id="669" idx="1"/>
            <a:endCxn id="631"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6" name=""/>
          <p:cNvCxnSpPr>
            <a:endCxn id="663"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77" name=""/>
          <p:cNvCxnSpPr>
            <a:stCxn id="663" idx="1"/>
            <a:endCxn id="634"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78" name=""/>
          <p:cNvCxnSpPr>
            <a:stCxn id="634" idx="6"/>
            <a:endCxn id="638"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79"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0"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1"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2" name=""/>
          <p:cNvCxnSpPr>
            <a:stCxn id="630" idx="6"/>
            <a:endCxn id="633"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3" name=""/>
          <p:cNvCxnSpPr>
            <a:stCxn id="632" idx="2"/>
            <a:endCxn id="631"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4"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5"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6"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87"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88" name=""/>
          <p:cNvCxnSpPr>
            <a:stCxn id="687" idx="1"/>
            <a:endCxn id="686"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89"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8D89DD2-E530-4AD7-A3E4-E9F84B75D0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E83CEA-BC29-46A2-8721-47AFDD6759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6" name=""/>
          <p:cNvCxnSpPr>
            <a:stCxn id="690" idx="2"/>
            <a:endCxn id="691"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97" name=""/>
          <p:cNvCxnSpPr>
            <a:stCxn id="691" idx="3"/>
            <a:endCxn id="693"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98" name=""/>
          <p:cNvCxnSpPr>
            <a:stCxn id="693" idx="2"/>
            <a:endCxn id="692" idx="1"/>
          </p:cNvCxnSpPr>
          <p:nvPr/>
        </p:nvCxnSpPr>
        <p:spPr>
          <a:xfrm>
            <a:off x="419040" y="2223720"/>
            <a:ext cx="7200" cy="1083240"/>
          </a:xfrm>
          <a:prstGeom prst="straightConnector1">
            <a:avLst/>
          </a:prstGeom>
          <a:ln w="28440">
            <a:solidFill>
              <a:srgbClr val="000000"/>
            </a:solidFill>
            <a:miter/>
            <a:tailEnd len="med" type="triangle" w="med"/>
          </a:ln>
        </p:spPr>
      </p:cxnSp>
      <p:sp>
        <p:nvSpPr>
          <p:cNvPr id="699"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0" name=""/>
          <p:cNvCxnSpPr>
            <a:stCxn id="695" idx="4"/>
            <a:endCxn id="699"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1" name=""/>
          <p:cNvCxnSpPr>
            <a:stCxn id="691" idx="5"/>
            <a:endCxn id="694"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2" name=""/>
          <p:cNvCxnSpPr>
            <a:endCxn id="694"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3"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4"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6"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07"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08"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09"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0"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1" name=""/>
          <p:cNvCxnSpPr>
            <a:stCxn id="699" idx="2"/>
            <a:endCxn id="704"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2" name=""/>
          <p:cNvCxnSpPr>
            <a:stCxn id="694" idx="2"/>
            <a:endCxn id="695"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3"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692" idx="4"/>
            <a:endCxn id="713"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5"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6"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713" idx="2"/>
            <a:endCxn id="716" idx="0"/>
          </p:cNvCxnSpPr>
          <p:nvPr/>
        </p:nvCxnSpPr>
        <p:spPr>
          <a:xfrm>
            <a:off x="495000" y="5043240"/>
            <a:ext cx="1080" cy="595800"/>
          </a:xfrm>
          <a:prstGeom prst="straightConnector1">
            <a:avLst/>
          </a:prstGeom>
          <a:ln w="9360">
            <a:solidFill>
              <a:srgbClr val="000000"/>
            </a:solidFill>
            <a:miter/>
            <a:tailEnd len="med" type="triangle" w="med"/>
          </a:ln>
        </p:spPr>
      </p:cxnSp>
      <p:sp>
        <p:nvSpPr>
          <p:cNvPr id="718"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19"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0"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1"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2" name=""/>
          <p:cNvCxnSpPr>
            <a:stCxn id="694" idx="1"/>
            <a:endCxn id="695"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3" name=""/>
          <p:cNvCxnSpPr>
            <a:stCxn id="695" idx="2"/>
            <a:endCxn id="713"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4" name=""/>
          <p:cNvCxnSpPr>
            <a:stCxn id="695" idx="3"/>
            <a:endCxn id="699"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5"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6"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27"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28"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29"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0"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1"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2"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D277B3E-53C1-4D77-AF62-CADE93A437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9" name=""/>
          <p:cNvCxnSpPr>
            <a:stCxn id="733" idx="2"/>
            <a:endCxn id="73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0" name=""/>
          <p:cNvCxnSpPr>
            <a:stCxn id="734" idx="3"/>
            <a:endCxn id="73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1" name=""/>
          <p:cNvCxnSpPr>
            <a:stCxn id="736" idx="2"/>
            <a:endCxn id="73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3" name=""/>
          <p:cNvCxnSpPr>
            <a:stCxn id="738" idx="4"/>
            <a:endCxn id="74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4" name=""/>
          <p:cNvCxnSpPr>
            <a:stCxn id="734" idx="5"/>
            <a:endCxn id="73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5" name=""/>
          <p:cNvCxnSpPr>
            <a:endCxn id="73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4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4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0"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4" name=""/>
          <p:cNvCxnSpPr>
            <a:stCxn id="742" idx="2"/>
            <a:endCxn id="74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5" name=""/>
          <p:cNvCxnSpPr>
            <a:stCxn id="737" idx="2"/>
            <a:endCxn id="73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7" name=""/>
          <p:cNvCxnSpPr>
            <a:stCxn id="735" idx="4"/>
            <a:endCxn id="75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5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5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56" idx="2"/>
            <a:endCxn id="759" idx="0"/>
          </p:cNvCxnSpPr>
          <p:nvPr/>
        </p:nvCxnSpPr>
        <p:spPr>
          <a:xfrm>
            <a:off x="495000" y="5043240"/>
            <a:ext cx="1080" cy="595800"/>
          </a:xfrm>
          <a:prstGeom prst="straightConnector1">
            <a:avLst/>
          </a:prstGeom>
          <a:ln w="9360">
            <a:solidFill>
              <a:srgbClr val="000000"/>
            </a:solidFill>
            <a:miter/>
            <a:tailEnd len="med" type="triangle" w="med"/>
          </a:ln>
        </p:spPr>
      </p:cxnSp>
      <p:sp>
        <p:nvSpPr>
          <p:cNvPr id="76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5" name=""/>
          <p:cNvCxnSpPr>
            <a:stCxn id="737" idx="1"/>
            <a:endCxn id="73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6" name=""/>
          <p:cNvCxnSpPr>
            <a:stCxn id="738" idx="2"/>
            <a:endCxn id="75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67" name=""/>
          <p:cNvCxnSpPr>
            <a:stCxn id="738" idx="3"/>
            <a:endCxn id="74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68"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6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1"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2"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3"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4"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5"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1287CA-A07B-4CCB-BCB5-AFF3821538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87" idx="1"/>
            <a:endCxn id="777"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89" name=""/>
          <p:cNvCxnSpPr>
            <a:endCxn id="779"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0" name=""/>
          <p:cNvCxnSpPr>
            <a:endCxn id="781"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1" name=""/>
          <p:cNvCxnSpPr>
            <a:stCxn id="792"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3"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4" name=""/>
          <p:cNvCxnSpPr>
            <a:stCxn id="784" idx="6"/>
            <a:endCxn id="782"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5" name=""/>
          <p:cNvCxnSpPr>
            <a:stCxn id="781" idx="0"/>
            <a:endCxn id="786"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6" name=""/>
          <p:cNvCxnSpPr>
            <a:stCxn id="786" idx="4"/>
            <a:endCxn id="779"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797" name=""/>
          <p:cNvCxnSpPr>
            <a:stCxn id="779" idx="7"/>
            <a:endCxn id="784"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798" name=""/>
          <p:cNvCxnSpPr>
            <a:stCxn id="784"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799"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2"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1"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2"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3"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4"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5"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6"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07"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08"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09"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0"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1"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2"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3"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4"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5"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6"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17"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8"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19"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5D7558-34C1-47E6-9185-02B819A6AF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2"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3"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4"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5" name=""/>
          <p:cNvCxnSpPr>
            <a:stCxn id="824" idx="2"/>
            <a:endCxn id="823"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6" name=""/>
          <p:cNvCxnSpPr>
            <a:stCxn id="823" idx="7"/>
            <a:endCxn id="821"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27" name=""/>
          <p:cNvCxnSpPr>
            <a:endCxn id="821"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28" name=""/>
          <p:cNvCxnSpPr>
            <a:endCxn id="822"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29" name=""/>
          <p:cNvCxnSpPr>
            <a:stCxn id="824" idx="3"/>
            <a:endCxn id="822"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0"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1" name=""/>
          <p:cNvCxnSpPr>
            <a:stCxn id="822" idx="3"/>
            <a:endCxn id="830" idx="1"/>
          </p:cNvCxnSpPr>
          <p:nvPr/>
        </p:nvCxnSpPr>
        <p:spPr>
          <a:xfrm>
            <a:off x="5486400" y="1638000"/>
            <a:ext cx="991440" cy="1080"/>
          </a:xfrm>
          <a:prstGeom prst="straightConnector1">
            <a:avLst/>
          </a:prstGeom>
          <a:ln w="9360">
            <a:solidFill>
              <a:srgbClr val="000000"/>
            </a:solidFill>
            <a:miter/>
            <a:tailEnd len="med" type="triangle" w="med"/>
          </a:ln>
        </p:spPr>
      </p:cxnSp>
      <p:sp>
        <p:nvSpPr>
          <p:cNvPr id="832"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3"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4"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5"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6"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7"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38"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39"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0" name=""/>
          <p:cNvCxnSpPr>
            <a:stCxn id="830" idx="0"/>
            <a:endCxn id="820"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1"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2"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3"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4"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5"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6"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47"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48"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49"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1"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2"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C6A997-F4B7-491A-91C9-FDA7184B7E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3" name=""/>
          <p:cNvGraphicFramePr/>
          <p:nvPr/>
        </p:nvGraphicFramePr>
        <p:xfrm>
          <a:off x="838080" y="619200"/>
          <a:ext cx="7543800" cy="6238800"/>
        </p:xfrm>
        <a:graphic>
          <a:graphicData uri="http://schemas.openxmlformats.org/presentationml/2006/ole">
            <p:oleObj progId="Word.Document.12" r:id="rId1" spid="">
              <p:embed/>
              <p:pic>
                <p:nvPicPr>
                  <p:cNvPr id="854"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5"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AC9C4B-1E72-4D99-AFFF-A13944672A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58" name=""/>
          <p:cNvCxnSpPr>
            <a:endCxn id="856" idx="3"/>
          </p:cNvCxnSpPr>
          <p:nvPr/>
        </p:nvCxnSpPr>
        <p:spPr>
          <a:xfrm flipV="1" rot="16200000">
            <a:off x="6315120" y="3571920"/>
            <a:ext cx="1275480" cy="118188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B1587281-291E-4344-BEA0-749187152C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0"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1" name=""/>
          <p:cNvCxnSpPr>
            <a:endCxn id="860"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2"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3"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184250-4AC6-4D1F-8AFD-D65FD65066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5"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6"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85D4EE-B8F3-4BCD-96C8-580CDF02EE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B3EB8B-0AF0-403C-8109-1BA205A6C4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5"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6" name=""/>
          <p:cNvCxnSpPr>
            <a:stCxn id="870" idx="3"/>
            <a:endCxn id="873"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77" name=""/>
          <p:cNvCxnSpPr>
            <a:stCxn id="871" idx="5"/>
            <a:endCxn id="872"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78"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79"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0" name=""/>
          <p:cNvCxnSpPr>
            <a:stCxn id="879" idx="3"/>
            <a:endCxn id="871"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1" name=""/>
          <p:cNvCxnSpPr>
            <a:stCxn id="879" idx="3"/>
            <a:endCxn id="870"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2" name=""/>
          <p:cNvCxnSpPr>
            <a:stCxn id="872" idx="1"/>
            <a:endCxn id="870"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3" name=""/>
          <p:cNvCxnSpPr>
            <a:stCxn id="870" idx="4"/>
            <a:endCxn id="873"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4" name=""/>
          <p:cNvCxnSpPr>
            <a:stCxn id="873" idx="3"/>
            <a:endCxn id="871"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5" name=""/>
          <p:cNvCxnSpPr>
            <a:stCxn id="871" idx="4"/>
            <a:endCxn id="872"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6"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5FF142F-BA9E-4538-AD15-89F53AB700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5CC3AB-63A8-49B1-817D-B5D0CAC551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4A5FE1-124A-4206-B354-0BBDF3081C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4E430D-475D-4F15-9E3D-5C84C687C8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B61E10-50D0-4434-8ABA-6918868B59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4"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5"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6"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5"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6"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07"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08"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3"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4"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5"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6"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64999A-BF64-461F-8F8E-11AE8A2900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lms01" descr=""/>
          <p:cNvPicPr/>
          <p:nvPr/>
        </p:nvPicPr>
        <p:blipFill>
          <a:blip r:embed="rId1"/>
          <a:stretch/>
        </p:blipFill>
        <p:spPr>
          <a:xfrm>
            <a:off x="1523880" y="1143000"/>
            <a:ext cx="6343920" cy="4848120"/>
          </a:xfrm>
          <a:prstGeom prst="rect">
            <a:avLst/>
          </a:prstGeom>
          <a:ln w="0">
            <a:noFill/>
          </a:ln>
        </p:spPr>
      </p:pic>
      <p:sp>
        <p:nvSpPr>
          <p:cNvPr id="918"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19"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0"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4"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E9F5914-402F-461C-A195-17065F5F36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6" name="fig2a" descr=""/>
          <p:cNvPicPr/>
          <p:nvPr/>
        </p:nvPicPr>
        <p:blipFill>
          <a:blip r:embed="rId1"/>
          <a:stretch/>
        </p:blipFill>
        <p:spPr>
          <a:xfrm>
            <a:off x="3581280" y="1371600"/>
            <a:ext cx="5154840" cy="5154480"/>
          </a:xfrm>
          <a:prstGeom prst="rect">
            <a:avLst/>
          </a:prstGeom>
          <a:ln w="0">
            <a:noFill/>
          </a:ln>
        </p:spPr>
      </p:pic>
      <p:sp>
        <p:nvSpPr>
          <p:cNvPr id="927"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8"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8E079C-75BC-4AE2-809F-3E9638E14F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0"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sldNum" idx="3"/>
          </p:nvPr>
        </p:nvSpPr>
        <p:spPr/>
        <p:txBody>
          <a:bodyPr/>
          <a:p>
            <a:fld id="{E73D6FCE-585A-4A93-AC8D-1F5A5024E4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2" name="mitas2" descr=""/>
          <p:cNvPicPr/>
          <p:nvPr/>
        </p:nvPicPr>
        <p:blipFill>
          <a:blip r:embed="rId1"/>
          <a:stretch/>
        </p:blipFill>
        <p:spPr>
          <a:xfrm>
            <a:off x="762120" y="1905120"/>
            <a:ext cx="7953120" cy="4695840"/>
          </a:xfrm>
          <a:prstGeom prst="rect">
            <a:avLst/>
          </a:prstGeom>
          <a:ln w="0">
            <a:noFill/>
          </a:ln>
        </p:spPr>
      </p:pic>
      <p:sp>
        <p:nvSpPr>
          <p:cNvPr id="3" name="PlaceHolder 2"/>
          <p:cNvSpPr>
            <a:spLocks noGrp="1"/>
          </p:cNvSpPr>
          <p:nvPr>
            <p:ph type="sldNum" idx="3"/>
          </p:nvPr>
        </p:nvSpPr>
        <p:spPr/>
        <p:txBody>
          <a:bodyPr/>
          <a:p>
            <a:fld id="{0DBD2821-3351-4206-AD43-425C2AFECC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4" name="newfrontend" descr=""/>
          <p:cNvPicPr/>
          <p:nvPr/>
        </p:nvPicPr>
        <p:blipFill>
          <a:blip r:embed="rId1"/>
          <a:stretch/>
        </p:blipFill>
        <p:spPr>
          <a:xfrm>
            <a:off x="152280" y="533520"/>
            <a:ext cx="8772480" cy="6581520"/>
          </a:xfrm>
          <a:prstGeom prst="rect">
            <a:avLst/>
          </a:prstGeom>
          <a:ln w="0">
            <a:noFill/>
          </a:ln>
        </p:spPr>
      </p:pic>
      <p:sp>
        <p:nvSpPr>
          <p:cNvPr id="3" name="PlaceHolder 2"/>
          <p:cNvSpPr>
            <a:spLocks noGrp="1"/>
          </p:cNvSpPr>
          <p:nvPr>
            <p:ph type="sldNum" idx="3"/>
          </p:nvPr>
        </p:nvSpPr>
        <p:spPr/>
        <p:txBody>
          <a:bodyPr/>
          <a:p>
            <a:fld id="{B508EF7C-1D7B-4CF5-B737-B778935478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sd" descr=""/>
          <p:cNvPicPr/>
          <p:nvPr/>
        </p:nvPicPr>
        <p:blipFill>
          <a:blip r:embed="rId1"/>
          <a:stretch/>
        </p:blipFill>
        <p:spPr>
          <a:xfrm>
            <a:off x="1295280" y="0"/>
            <a:ext cx="6562800" cy="6924600"/>
          </a:xfrm>
          <a:prstGeom prst="rect">
            <a:avLst/>
          </a:prstGeom>
          <a:ln w="0">
            <a:noFill/>
          </a:ln>
        </p:spPr>
      </p:pic>
      <p:sp>
        <p:nvSpPr>
          <p:cNvPr id="2" name="PlaceHolder 1"/>
          <p:cNvSpPr>
            <a:spLocks noGrp="1"/>
          </p:cNvSpPr>
          <p:nvPr>
            <p:ph type="sldNum" idx="3"/>
          </p:nvPr>
        </p:nvSpPr>
        <p:spPr/>
        <p:txBody>
          <a:bodyPr/>
          <a:p>
            <a:fld id="{DFB431E5-BCFC-4392-A217-CCF69C418B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01DA25-FAC8-46F7-B05C-D704C27F45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7BFDC2-B6CE-4205-919B-59BA385E58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39" name="" descr=""/>
          <p:cNvPicPr/>
          <p:nvPr/>
        </p:nvPicPr>
        <p:blipFill>
          <a:blip r:embed="rId1"/>
          <a:stretch/>
        </p:blipFill>
        <p:spPr>
          <a:xfrm>
            <a:off x="685800" y="2089080"/>
            <a:ext cx="7772400" cy="3898800"/>
          </a:xfrm>
          <a:prstGeom prst="rect">
            <a:avLst/>
          </a:prstGeom>
          <a:ln w="0">
            <a:noFill/>
          </a:ln>
        </p:spPr>
      </p:pic>
      <p:sp>
        <p:nvSpPr>
          <p:cNvPr id="3" name="PlaceHolder 2"/>
          <p:cNvSpPr>
            <a:spLocks noGrp="1"/>
          </p:cNvSpPr>
          <p:nvPr>
            <p:ph type="sldNum" idx="3"/>
          </p:nvPr>
        </p:nvSpPr>
        <p:spPr/>
        <p:txBody>
          <a:bodyPr/>
          <a:p>
            <a:fld id="{78AEC71E-CDD0-4F91-B77F-154B7AB790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2209680" y="1828800"/>
            <a:ext cx="5867640" cy="3897360"/>
          </a:xfrm>
          <a:prstGeom prst="rect">
            <a:avLst/>
          </a:prstGeom>
          <a:ln w="0">
            <a:noFill/>
          </a:ln>
        </p:spPr>
      </p:pic>
      <p:sp>
        <p:nvSpPr>
          <p:cNvPr id="941"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57FE71B-5B29-4113-9587-E3309EC8F8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1523880" y="2362320"/>
            <a:ext cx="6019920" cy="4024080"/>
          </a:xfrm>
          <a:prstGeom prst="rect">
            <a:avLst/>
          </a:prstGeom>
          <a:ln w="0">
            <a:noFill/>
          </a:ln>
        </p:spPr>
      </p:pic>
      <p:sp>
        <p:nvSpPr>
          <p:cNvPr id="943"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EC78CD-AB7F-4AE1-B240-FE1387D0F8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9B2C38-6936-4251-A9D9-2F3DB3EFE4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6" name=""/>
          <p:cNvGraphicFramePr/>
          <p:nvPr/>
        </p:nvGraphicFramePr>
        <p:xfrm>
          <a:off x="533520" y="2209680"/>
          <a:ext cx="7391160" cy="4135680"/>
        </p:xfrm>
        <a:graphic>
          <a:graphicData uri="http://schemas.openxmlformats.org/presentationml/2006/ole">
            <p:oleObj progId="Word.Document.12" r:id="rId1" spid="">
              <p:embed/>
              <p:pic>
                <p:nvPicPr>
                  <p:cNvPr id="947" name="" descr=""/>
                  <p:cNvPicPr/>
                  <p:nvPr/>
                </p:nvPicPr>
                <p:blipFill>
                  <a:blip r:embed="rId2"/>
                  <a:stretch/>
                </p:blipFill>
                <p:spPr>
                  <a:xfrm>
                    <a:off x="533520" y="2209680"/>
                    <a:ext cx="7391160" cy="4135680"/>
                  </a:xfrm>
                  <a:prstGeom prst="rect">
                    <a:avLst/>
                  </a:prstGeom>
                  <a:ln w="0">
                    <a:noFill/>
                  </a:ln>
                </p:spPr>
              </p:pic>
            </p:oleObj>
          </a:graphicData>
        </a:graphic>
      </p:graphicFrame>
      <p:sp>
        <p:nvSpPr>
          <p:cNvPr id="948"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700E6FF-70EB-4A0E-921B-9154137235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DARP13" descr=""/>
          <p:cNvPicPr/>
          <p:nvPr/>
        </p:nvPicPr>
        <p:blipFill>
          <a:blip r:embed="rId1"/>
          <a:stretch/>
        </p:blipFill>
        <p:spPr>
          <a:xfrm>
            <a:off x="990720" y="1295280"/>
            <a:ext cx="7095960" cy="6896160"/>
          </a:xfrm>
          <a:prstGeom prst="rect">
            <a:avLst/>
          </a:prstGeom>
          <a:ln w="0">
            <a:noFill/>
          </a:ln>
        </p:spPr>
      </p:pic>
      <p:sp>
        <p:nvSpPr>
          <p:cNvPr id="950"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722478D-60CA-4009-842E-6AD88E5D99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0" descr=""/>
          <p:cNvPicPr/>
          <p:nvPr/>
        </p:nvPicPr>
        <p:blipFill>
          <a:blip r:embed="rId1"/>
          <a:stretch/>
        </p:blipFill>
        <p:spPr>
          <a:xfrm>
            <a:off x="304920" y="1138320"/>
            <a:ext cx="7510320" cy="5719680"/>
          </a:xfrm>
          <a:prstGeom prst="rect">
            <a:avLst/>
          </a:prstGeom>
          <a:ln w="0">
            <a:noFill/>
          </a:ln>
        </p:spPr>
      </p:pic>
      <p:sp>
        <p:nvSpPr>
          <p:cNvPr id="952"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C41239-939E-4ACD-8C77-060635008E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3" name=""/>
          <p:cNvGraphicFramePr/>
          <p:nvPr/>
        </p:nvGraphicFramePr>
        <p:xfrm>
          <a:off x="1066680" y="228600"/>
          <a:ext cx="6477120" cy="6324480"/>
        </p:xfrm>
        <a:graphic>
          <a:graphicData uri="http://schemas.openxmlformats.org/presentationml/2006/ole">
            <p:oleObj progId="Word.Document.12" r:id="rId1" spid="">
              <p:embed/>
              <p:pic>
                <p:nvPicPr>
                  <p:cNvPr id="954" name="" descr=""/>
                  <p:cNvPicPr/>
                  <p:nvPr/>
                </p:nvPicPr>
                <p:blipFill>
                  <a:blip r:embed="rId2"/>
                  <a:stretch/>
                </p:blipFill>
                <p:spPr>
                  <a:xfrm>
                    <a:off x="1066680" y="228600"/>
                    <a:ext cx="6477120" cy="6324480"/>
                  </a:xfrm>
                  <a:prstGeom prst="rect">
                    <a:avLst/>
                  </a:prstGeom>
                  <a:ln w="0">
                    <a:noFill/>
                  </a:ln>
                </p:spPr>
              </p:pic>
            </p:oleObj>
          </a:graphicData>
        </a:graphic>
      </p:graphicFrame>
      <p:sp>
        <p:nvSpPr>
          <p:cNvPr id="2" name="PlaceHolder 1"/>
          <p:cNvSpPr>
            <a:spLocks noGrp="1"/>
          </p:cNvSpPr>
          <p:nvPr>
            <p:ph type="sldNum" idx="3"/>
          </p:nvPr>
        </p:nvSpPr>
        <p:spPr/>
        <p:txBody>
          <a:bodyPr/>
          <a:p>
            <a:fld id="{B98C2A17-3922-448A-9934-5A98758427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219320" y="1371600"/>
          <a:ext cx="6780240" cy="5006880"/>
        </p:xfrm>
        <a:graphic>
          <a:graphicData uri="http://schemas.openxmlformats.org/presentationml/2006/ole">
            <p:oleObj progId="Word.Document.12" r:id="rId1" spid="">
              <p:embed/>
              <p:pic>
                <p:nvPicPr>
                  <p:cNvPr id="956" name="" descr=""/>
                  <p:cNvPicPr/>
                  <p:nvPr/>
                </p:nvPicPr>
                <p:blipFill>
                  <a:blip r:embed="rId2"/>
                  <a:stretch/>
                </p:blipFill>
                <p:spPr>
                  <a:xfrm>
                    <a:off x="1219320" y="1371600"/>
                    <a:ext cx="6780240" cy="5006880"/>
                  </a:xfrm>
                  <a:prstGeom prst="rect">
                    <a:avLst/>
                  </a:prstGeom>
                  <a:ln w="0">
                    <a:noFill/>
                  </a:ln>
                </p:spPr>
              </p:pic>
            </p:oleObj>
          </a:graphicData>
        </a:graphic>
      </p:graphicFrame>
      <p:sp>
        <p:nvSpPr>
          <p:cNvPr id="2" name="PlaceHolder 1"/>
          <p:cNvSpPr>
            <a:spLocks noGrp="1"/>
          </p:cNvSpPr>
          <p:nvPr>
            <p:ph type="sldNum" idx="3"/>
          </p:nvPr>
        </p:nvSpPr>
        <p:spPr/>
        <p:txBody>
          <a:bodyPr/>
          <a:p>
            <a:fld id="{3AC2B0DD-49E8-46CA-8709-9C155E8CA5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9E7C3DA-D441-42EA-B966-2F7AD3E49D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7" name=""/>
          <p:cNvCxnSpPr>
            <a:stCxn id="966" idx="2"/>
            <a:endCxn id="957"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68" name=""/>
          <p:cNvCxnSpPr>
            <a:stCxn id="965" idx="2"/>
            <a:endCxn id="957"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69" name=""/>
          <p:cNvCxnSpPr>
            <a:stCxn id="964" idx="0"/>
            <a:endCxn id="964"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0" name=""/>
          <p:cNvCxnSpPr>
            <a:stCxn id="960" idx="1"/>
            <a:endCxn id="958"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1" name=""/>
          <p:cNvCxnSpPr>
            <a:stCxn id="960" idx="4"/>
            <a:endCxn id="960"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2"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3"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4"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5"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6" name=""/>
          <p:cNvCxnSpPr>
            <a:stCxn id="960" idx="5"/>
            <a:endCxn id="959"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7" name=""/>
          <p:cNvCxnSpPr>
            <a:stCxn id="961" idx="7"/>
            <a:endCxn id="957"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78" name=""/>
          <p:cNvCxnSpPr>
            <a:stCxn id="962" idx="0"/>
            <a:endCxn id="957"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79" name=""/>
          <p:cNvCxnSpPr>
            <a:stCxn id="963" idx="1"/>
            <a:endCxn id="957"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0"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1" name=""/>
          <p:cNvCxnSpPr>
            <a:endCxn id="958"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2"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3" name=""/>
          <p:cNvCxnSpPr>
            <a:stCxn id="982" idx="1"/>
            <a:endCxn id="959"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4"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5"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6" name=""/>
          <p:cNvCxnSpPr>
            <a:stCxn id="985" idx="0"/>
            <a:endCxn id="963"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7" name=""/>
          <p:cNvCxnSpPr>
            <a:stCxn id="985" idx="1"/>
            <a:endCxn id="962"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88"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89" name=""/>
          <p:cNvCxnSpPr>
            <a:endCxn id="966"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0"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1" name=""/>
          <p:cNvCxnSpPr>
            <a:stCxn id="964" idx="2"/>
            <a:endCxn id="957"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2"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A10DF8-1800-484D-A528-5EFF00DB7D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4" name=""/>
          <p:cNvGraphicFramePr/>
          <p:nvPr/>
        </p:nvGraphicFramePr>
        <p:xfrm>
          <a:off x="914400" y="304920"/>
          <a:ext cx="7696080" cy="5867280"/>
        </p:xfrm>
        <a:graphic>
          <a:graphicData uri="http://schemas.openxmlformats.org/presentationml/2006/ole">
            <p:oleObj progId="Word.Document.12" r:id="rId1" spid="">
              <p:embed/>
              <p:pic>
                <p:nvPicPr>
                  <p:cNvPr id="995" name="" descr=""/>
                  <p:cNvPicPr/>
                  <p:nvPr/>
                </p:nvPicPr>
                <p:blipFill>
                  <a:blip r:embed="rId2"/>
                  <a:stretch/>
                </p:blipFill>
                <p:spPr>
                  <a:xfrm>
                    <a:off x="914400" y="304920"/>
                    <a:ext cx="7696080" cy="5867280"/>
                  </a:xfrm>
                  <a:prstGeom prst="rect">
                    <a:avLst/>
                  </a:prstGeom>
                  <a:ln w="0">
                    <a:noFill/>
                  </a:ln>
                </p:spPr>
              </p:pic>
            </p:oleObj>
          </a:graphicData>
        </a:graphic>
      </p:graphicFrame>
      <p:sp>
        <p:nvSpPr>
          <p:cNvPr id="2" name="PlaceHolder 1"/>
          <p:cNvSpPr>
            <a:spLocks noGrp="1"/>
          </p:cNvSpPr>
          <p:nvPr>
            <p:ph type="sldNum" idx="3"/>
          </p:nvPr>
        </p:nvSpPr>
        <p:spPr/>
        <p:txBody>
          <a:bodyPr/>
          <a:p>
            <a:fld id="{46ADA27F-99D2-413E-A82D-8F293F1E29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6" name=""/>
          <p:cNvGraphicFramePr/>
          <p:nvPr/>
        </p:nvGraphicFramePr>
        <p:xfrm>
          <a:off x="533520" y="0"/>
          <a:ext cx="8001000" cy="6172200"/>
        </p:xfrm>
        <a:graphic>
          <a:graphicData uri="http://schemas.openxmlformats.org/presentationml/2006/ole">
            <p:oleObj progId="Word.Document.12" r:id="rId1" spid="">
              <p:embed/>
              <p:pic>
                <p:nvPicPr>
                  <p:cNvPr id="997" name="" descr=""/>
                  <p:cNvPicPr/>
                  <p:nvPr/>
                </p:nvPicPr>
                <p:blipFill>
                  <a:blip r:embed="rId2"/>
                  <a:stretch/>
                </p:blipFill>
                <p:spPr>
                  <a:xfrm>
                    <a:off x="533520" y="0"/>
                    <a:ext cx="8001000" cy="6172200"/>
                  </a:xfrm>
                  <a:prstGeom prst="rect">
                    <a:avLst/>
                  </a:prstGeom>
                  <a:ln w="0">
                    <a:noFill/>
                  </a:ln>
                </p:spPr>
              </p:pic>
            </p:oleObj>
          </a:graphicData>
        </a:graphic>
      </p:graphicFrame>
      <p:sp>
        <p:nvSpPr>
          <p:cNvPr id="998"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B2D82AC-20E2-4678-891F-276B2DB800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9" name=""/>
          <p:cNvGraphicFramePr/>
          <p:nvPr/>
        </p:nvGraphicFramePr>
        <p:xfrm>
          <a:off x="838080" y="609480"/>
          <a:ext cx="7620120" cy="2971800"/>
        </p:xfrm>
        <a:graphic>
          <a:graphicData uri="http://schemas.openxmlformats.org/presentationml/2006/ole">
            <p:oleObj progId="Word.Document.12" r:id="rId1" spid="">
              <p:embed/>
              <p:pic>
                <p:nvPicPr>
                  <p:cNvPr id="1000"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1"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729BD5-3870-49ED-8907-973C372C22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C2D3D3-5828-4333-9633-90B67E470B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CDCB37-92B3-49E2-B925-0A0D0034DC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D8A1AE-FD74-4E2B-BB08-0EEE70F0E7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A2C437-F374-4263-B90E-07E67ADD6E18}" type="slidenum">
              <a:t>7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AE7C48-DD74-42B7-9AEC-CC641B7B1C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79DA76-20CA-48AD-AD1A-967FDD611A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09-23T16:09:17Z</dcterms:modified>
  <cp:revision>77</cp:revision>
  <dc:subject/>
  <dc:title>The Software architecture for High Performance Commodity Metacomputing</dc:title>
</cp:coreProperties>
</file>