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D00B-8B1A-417D-85F4-BDEEFCD37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2DC9-5EDA-413C-BDCE-7488B4CEB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D345-35FC-49FE-A6E8-716325F2E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620A-3EAD-4041-A1DF-8D3DEBD25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3563-8726-4083-BDB2-11BB2FEA8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15B5-4711-4D7F-9049-63514A2AA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B4F6-088E-4FA0-B35B-0303AE370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33C9-DF7A-4313-9976-6BF1E3700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E476-6B61-49C8-A934-EDDBFE33F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C0F0-FD6A-4FE9-A23A-2000E1D05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F4B8-A242-4E8D-BF79-4495E061C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161E-F300-48BE-9F28-F682FE692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E3464-226E-4CD2-950D-66CA0C45A5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43400" y="685800"/>
            <a:ext cx="4114800" cy="3962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86200" y="3581280"/>
            <a:ext cx="16002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meAccountH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962520" y="1447920"/>
            <a:ext cx="1523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meRemoteAcc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048120" y="4876920"/>
            <a:ext cx="91440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N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22240" y="3394080"/>
            <a:ext cx="9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5" idx="2"/>
            <a:endCxn id="44" idx="1"/>
          </p:cNvCxnSpPr>
          <p:nvPr/>
        </p:nvCxnSpPr>
        <p:spPr>
          <a:xfrm>
            <a:off x="1285920" y="3853800"/>
            <a:ext cx="1896480" cy="1146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stCxn id="44" idx="7"/>
            <a:endCxn id="42" idx="2"/>
          </p:cNvCxnSpPr>
          <p:nvPr/>
        </p:nvCxnSpPr>
        <p:spPr>
          <a:xfrm flipV="1">
            <a:off x="3828600" y="3962520"/>
            <a:ext cx="857880" cy="1037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endCxn id="42" idx="1"/>
          </p:cNvCxnSpPr>
          <p:nvPr/>
        </p:nvCxnSpPr>
        <p:spPr>
          <a:xfrm>
            <a:off x="1752120" y="3733920"/>
            <a:ext cx="2134440" cy="38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endCxn id="43" idx="2"/>
          </p:cNvCxnSpPr>
          <p:nvPr/>
        </p:nvCxnSpPr>
        <p:spPr>
          <a:xfrm flipH="1" flipV="1">
            <a:off x="4724280" y="1828800"/>
            <a:ext cx="38520" cy="179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" name=""/>
          <p:cNvCxnSpPr>
            <a:stCxn id="45" idx="3"/>
            <a:endCxn id="43" idx="1"/>
          </p:cNvCxnSpPr>
          <p:nvPr/>
        </p:nvCxnSpPr>
        <p:spPr>
          <a:xfrm flipV="1">
            <a:off x="1749600" y="1638360"/>
            <a:ext cx="2213280" cy="198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" name=""/>
          <p:cNvSpPr/>
          <p:nvPr/>
        </p:nvSpPr>
        <p:spPr>
          <a:xfrm>
            <a:off x="6477120" y="1447920"/>
            <a:ext cx="1523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countBe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43" idx="3"/>
            <a:endCxn id="51" idx="1"/>
          </p:cNvCxnSpPr>
          <p:nvPr/>
        </p:nvCxnSpPr>
        <p:spPr>
          <a:xfrm>
            <a:off x="5486400" y="1638360"/>
            <a:ext cx="9910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" name=""/>
          <p:cNvSpPr/>
          <p:nvPr/>
        </p:nvSpPr>
        <p:spPr>
          <a:xfrm>
            <a:off x="5791320" y="129528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362320"/>
            <a:ext cx="304920" cy="304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19720" y="2590920"/>
            <a:ext cx="304560" cy="304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95480" y="380988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91120" y="449568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0" y="41148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477120" y="3505320"/>
            <a:ext cx="1523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countH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638680" y="228600"/>
            <a:ext cx="76320" cy="5791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" name=""/>
          <p:cNvCxnSpPr>
            <a:stCxn id="51" idx="0"/>
            <a:endCxn id="41" idx="0"/>
          </p:cNvCxnSpPr>
          <p:nvPr/>
        </p:nvCxnSpPr>
        <p:spPr>
          <a:xfrm flipH="1" flipV="1">
            <a:off x="6400800" y="685800"/>
            <a:ext cx="838440" cy="762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1512720" y="4572000"/>
            <a:ext cx="1430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k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meAccountH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119480" y="4724280"/>
            <a:ext cx="1430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ur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meAccountH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367000" y="350532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EJB Ob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2438280"/>
            <a:ext cx="930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JB Ob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737720" y="1941480"/>
            <a:ext cx="723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779440" y="1712880"/>
            <a:ext cx="72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leg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708600" y="5943600"/>
            <a:ext cx="1386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JB Bean Provid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 and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90520" y="5943600"/>
            <a:ext cx="1265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es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EJB contai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715000" y="59436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60880" y="914400"/>
            <a:ext cx="781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02240" y="4456080"/>
            <a:ext cx="107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JB Contai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29T22:47:38Z</dcterms:created>
  <dc:creator>Valued Gateway Customer</dc:creator>
  <dc:description/>
  <dc:language>en-US</dc:language>
  <cp:lastModifiedBy>Valued Gateway Customer</cp:lastModifiedBy>
  <dcterms:modified xsi:type="dcterms:W3CDTF">1999-04-30T03:26:44Z</dcterms:modified>
  <cp:revision>2</cp:revision>
  <dc:subject/>
  <dc:title>No Slide Title</dc:title>
</cp:coreProperties>
</file>