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65D-8C59-49FD-A9C4-FAAD94F0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4C0-A682-4B8B-B3F3-F8CDFA43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3DB-7A85-4694-996B-7F659BC7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B98-BB36-45C4-9BEC-C5D8DE19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104-933F-42F2-84FB-32A6CACC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94-04E9-4813-87BB-8DEA9C0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8E8-5AB3-45B3-9952-B80669A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4BD-4996-449D-9D53-4A6BD52F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2FF-2FD2-4396-8590-CEA28FC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D8B-5455-4798-8D31-DA62256F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5F8-1F11-4A24-84AE-AF819F1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A5F-C87B-44A2-ADA7-1015FA4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C1F-9E3E-4DFA-A97D-B727A0C9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352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50532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2900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1722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1" idx="3"/>
          </p:cNvCxnSpPr>
          <p:nvPr/>
        </p:nvCxnSpPr>
        <p:spPr>
          <a:xfrm flipH="1">
            <a:off x="5638680" y="1676520"/>
            <a:ext cx="914760" cy="21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41" idx="1"/>
          </p:cNvCxnSpPr>
          <p:nvPr/>
        </p:nvCxnSpPr>
        <p:spPr>
          <a:xfrm>
            <a:off x="1523880" y="1600200"/>
            <a:ext cx="1448280" cy="22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0"/>
            <a:endCxn id="48" idx="3"/>
          </p:cNvCxnSpPr>
          <p:nvPr/>
        </p:nvCxnSpPr>
        <p:spPr>
          <a:xfrm flipH="1" rot="16200000">
            <a:off x="4267080" y="1218960"/>
            <a:ext cx="228960" cy="228960"/>
          </a:xfrm>
          <a:prstGeom prst="curvedConnector4">
            <a:avLst>
              <a:gd name="adj1" fmla="val -1259"/>
              <a:gd name="adj2" fmla="val 10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1"/>
            <a:endCxn id="42" idx="2"/>
          </p:cNvCxnSpPr>
          <p:nvPr/>
        </p:nvCxnSpPr>
        <p:spPr>
          <a:xfrm flipH="1" flipV="1" rot="5400000">
            <a:off x="2133720" y="4192920"/>
            <a:ext cx="1068840" cy="1065240"/>
          </a:xfrm>
          <a:prstGeom prst="curvedConnector3">
            <a:avLst>
              <a:gd name="adj1" fmla="val 30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4"/>
            <a:endCxn id="44" idx="2"/>
          </p:cNvCxnSpPr>
          <p:nvPr/>
        </p:nvCxnSpPr>
        <p:spPr>
          <a:xfrm flipV="1" rot="16200000">
            <a:off x="2057400" y="5447880"/>
            <a:ext cx="267120" cy="267120"/>
          </a:xfrm>
          <a:prstGeom prst="curvedConnector4">
            <a:avLst>
              <a:gd name="adj1" fmla="val -1214"/>
              <a:gd name="adj2" fmla="val 1010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rot="20405400">
            <a:off x="1448280" y="4267080"/>
            <a:ext cx="17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d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3000" y="5892840"/>
            <a:ext cx="174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5720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1052200">
            <a:off x="3123360" y="54100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4" idx="5"/>
            <a:endCxn id="43" idx="2"/>
          </p:cNvCxnSpPr>
          <p:nvPr/>
        </p:nvCxnSpPr>
        <p:spPr>
          <a:xfrm flipV="1">
            <a:off x="2512800" y="4114800"/>
            <a:ext cx="2897640" cy="1522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7"/>
            <a:endCxn id="41" idx="3"/>
          </p:cNvCxnSpPr>
          <p:nvPr/>
        </p:nvCxnSpPr>
        <p:spPr>
          <a:xfrm flipV="1">
            <a:off x="4722480" y="3809880"/>
            <a:ext cx="916560" cy="23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46" idx="0"/>
            <a:endCxn id="41" idx="3"/>
          </p:cNvCxnSpPr>
          <p:nvPr/>
        </p:nvCxnSpPr>
        <p:spPr>
          <a:xfrm flipH="1" flipV="1">
            <a:off x="5638680" y="3809880"/>
            <a:ext cx="419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47" idx="1"/>
            <a:endCxn id="41" idx="3"/>
          </p:cNvCxnSpPr>
          <p:nvPr/>
        </p:nvCxnSpPr>
        <p:spPr>
          <a:xfrm flipH="1" flipV="1">
            <a:off x="5638680" y="3809880"/>
            <a:ext cx="1907280" cy="160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14520" y="3048120"/>
            <a:ext cx="14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42" idx="1"/>
          </p:cNvCxnSpPr>
          <p:nvPr/>
        </p:nvCxnSpPr>
        <p:spPr>
          <a:xfrm>
            <a:off x="1447560" y="3657240"/>
            <a:ext cx="1600920" cy="191160"/>
          </a:xfrm>
          <a:prstGeom prst="curvedConnector3">
            <a:avLst>
              <a:gd name="adj1" fmla="val 248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29760" y="327672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43" idx="0"/>
          </p:cNvCxnSpPr>
          <p:nvPr/>
        </p:nvCxnSpPr>
        <p:spPr>
          <a:xfrm rot="10800000">
            <a:off x="5410080" y="3428640"/>
            <a:ext cx="1220040" cy="138240"/>
          </a:xfrm>
          <a:prstGeom prst="curvedConnector4">
            <a:avLst>
              <a:gd name="adj1" fmla="val 54427"/>
              <a:gd name="adj2" fmla="val 10261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8880" y="3581280"/>
            <a:ext cx="20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ended by DARP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120" y="609588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nning on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47" idx="4"/>
          </p:cNvCxnSpPr>
          <p:nvPr/>
        </p:nvCxnSpPr>
        <p:spPr>
          <a:xfrm flipV="1" rot="16200000">
            <a:off x="7659360" y="5941800"/>
            <a:ext cx="228960" cy="79200"/>
          </a:xfrm>
          <a:prstGeom prst="curvedConnector3">
            <a:avLst>
              <a:gd name="adj1" fmla="val 23464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9" idx="1"/>
            <a:endCxn id="46" idx="6"/>
          </p:cNvCxnSpPr>
          <p:nvPr/>
        </p:nvCxnSpPr>
        <p:spPr>
          <a:xfrm flipV="1" rot="10800000">
            <a:off x="6324480" y="6355440"/>
            <a:ext cx="549000" cy="83520"/>
          </a:xfrm>
          <a:prstGeom prst="curvedConnector3">
            <a:avLst>
              <a:gd name="adj1" fmla="val 24343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47400" y="12193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0" idx="3"/>
          </p:cNvCxnSpPr>
          <p:nvPr/>
        </p:nvCxnSpPr>
        <p:spPr>
          <a:xfrm rot="10800000">
            <a:off x="6781680" y="1447920"/>
            <a:ext cx="685800" cy="360"/>
          </a:xfrm>
          <a:prstGeom prst="curved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3187800" y="229968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t DARP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send_de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8" idx="2"/>
            <a:endCxn id="41" idx="0"/>
          </p:cNvCxnSpPr>
          <p:nvPr/>
        </p:nvCxnSpPr>
        <p:spPr>
          <a:xfrm>
            <a:off x="4267080" y="1676520"/>
            <a:ext cx="38520" cy="167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9:46Z</dcterms:created>
  <dc:creator>Valued Gateway Customer</dc:creator>
  <dc:description/>
  <dc:language>en-US</dc:language>
  <cp:lastModifiedBy>Valued Gateway Customer</cp:lastModifiedBy>
  <cp:lastPrinted>1999-06-02T20:26:13Z</cp:lastPrinted>
  <dcterms:modified xsi:type="dcterms:W3CDTF">1999-06-03T14:14:10Z</dcterms:modified>
  <cp:revision>3</cp:revision>
  <dc:subject/>
  <dc:title>No Slide Title</dc:title>
</cp:coreProperties>
</file>