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135-B65F-42CB-B79F-2814222D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7CB-30E2-45EF-9E88-DA47FED7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D50-991D-4322-A93F-CAFD25B3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FE1-4B88-485A-BCB4-C44983C1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F61-F5D4-402C-A762-3D35371B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554-45D2-4225-AF7C-7C86C6A4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F37-88F1-4737-892E-011C91D0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C6D-2CD9-44FE-BEE0-39039839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547-CFB6-4C4F-B7D2-3C3228C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CE2-7F15-40EA-85ED-BCF937D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ED3-093D-4C95-A72A-97609AB3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6A6-80E2-45C2-BA68-3BE4F66F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3AB6-CBDD-46E1-A068-B1C4FE72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2120" y="226440"/>
            <a:ext cx="1378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7804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8240" y="31996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9000" y="3000600"/>
            <a:ext cx="190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5920" y="4387680"/>
            <a:ext cx="2309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dPropertyChangeListe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5:41Z</dcterms:modified>
  <cp:revision>6</cp:revision>
  <dc:subject/>
  <dc:title>No Slide Title</dc:title>
</cp:coreProperties>
</file>