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476-DC1C-4FC7-B4D1-39B4694B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410-A3E1-41AB-B72F-E4A59979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1F5-46C3-4B99-B962-4D5DD2C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F77-C6D0-422A-83F7-F0C96077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AA6-5CB3-441C-8ED8-55A7A50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351-B898-43A5-B1F4-0EEAE92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F3-2F11-4FF9-A5FA-027BED74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837-E2D0-4B5A-8917-527854BE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F9B-06CD-4337-B52B-7EB98DF9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6E9-BE7E-4CBA-AD59-7D9EC45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20A-8647-4265-B64C-6BA2EEA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8ED-B027-4B3F-BAB3-6174918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AE40-135A-46E2-83FE-42BC32A0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289584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581280"/>
            <a:ext cx="33530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505320"/>
            <a:ext cx="33526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962520"/>
            <a:ext cx="160020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80060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4479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1"/>
            <a:endCxn id="42" idx="0"/>
          </p:cNvCxnSpPr>
          <p:nvPr/>
        </p:nvCxnSpPr>
        <p:spPr>
          <a:xfrm flipH="1">
            <a:off x="1828800" y="1492560"/>
            <a:ext cx="1427760" cy="2089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4" name=""/>
          <p:cNvCxnSpPr>
            <a:endCxn id="44" idx="0"/>
          </p:cNvCxnSpPr>
          <p:nvPr/>
        </p:nvCxnSpPr>
        <p:spPr>
          <a:xfrm flipH="1">
            <a:off x="2095560" y="1980720"/>
            <a:ext cx="1638360" cy="2134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5" name=""/>
          <p:cNvCxnSpPr>
            <a:endCxn id="46" idx="7"/>
          </p:cNvCxnSpPr>
          <p:nvPr/>
        </p:nvCxnSpPr>
        <p:spPr>
          <a:xfrm flipH="1">
            <a:off x="2337840" y="2286000"/>
            <a:ext cx="1856520" cy="2604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6" name=""/>
          <p:cNvCxnSpPr>
            <a:stCxn id="57" idx="5"/>
          </p:cNvCxnSpPr>
          <p:nvPr/>
        </p:nvCxnSpPr>
        <p:spPr>
          <a:xfrm>
            <a:off x="5887800" y="1784160"/>
            <a:ext cx="1734120" cy="1797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409720" y="2057040"/>
            <a:ext cx="1878840" cy="201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49" idx="6"/>
            <a:endCxn id="47" idx="0"/>
          </p:cNvCxnSpPr>
          <p:nvPr/>
        </p:nvCxnSpPr>
        <p:spPr>
          <a:xfrm>
            <a:off x="4952880" y="2210040"/>
            <a:ext cx="1943640" cy="24386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46" idx="0"/>
            <a:endCxn id="51" idx="3"/>
          </p:cNvCxnSpPr>
          <p:nvPr/>
        </p:nvCxnSpPr>
        <p:spPr>
          <a:xfrm flipV="1">
            <a:off x="2095560" y="2089080"/>
            <a:ext cx="1465920" cy="27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4" idx="7"/>
          </p:cNvCxnSpPr>
          <p:nvPr/>
        </p:nvCxnSpPr>
        <p:spPr>
          <a:xfrm flipH="1">
            <a:off x="2661120" y="2133720"/>
            <a:ext cx="1035000" cy="219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4" idx="7"/>
            <a:endCxn id="49" idx="4"/>
          </p:cNvCxnSpPr>
          <p:nvPr/>
        </p:nvCxnSpPr>
        <p:spPr>
          <a:xfrm flipV="1">
            <a:off x="2661120" y="2362320"/>
            <a:ext cx="2101680" cy="196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5"/>
          </p:cNvCxnSpPr>
          <p:nvPr/>
        </p:nvCxnSpPr>
        <p:spPr>
          <a:xfrm>
            <a:off x="4897080" y="2317680"/>
            <a:ext cx="1732680" cy="26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3568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5238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860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8000" y="304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3886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03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49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24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30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0280" y="16765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67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95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2360" y="1523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340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360" y="6172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160" y="6095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0240" y="5335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05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97180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7432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2004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0:42:13Z</dcterms:created>
  <dc:creator>Valued Gateway Customer</dc:creator>
  <dc:description/>
  <dc:language>en-US</dc:language>
  <cp:lastModifiedBy>Valued Gateway Customer</cp:lastModifiedBy>
  <dcterms:modified xsi:type="dcterms:W3CDTF">1999-04-28T01:17:12Z</dcterms:modified>
  <cp:revision>2</cp:revision>
  <dc:subject/>
  <dc:title>No Slide Title</dc:title>
</cp:coreProperties>
</file>