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083A63-132C-407E-B92A-9131582948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F2FF4C-6218-4D4B-8F18-410ECCECF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B95F9E-1911-45E5-BFC9-EB08687E3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4EFEE7-F0EE-4084-998D-39AB59F5E4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C765DA-6C40-48DD-9A17-E121F9AB9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4C9A7-F19C-48DF-BA24-06A0153F7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BAF42-7C47-4135-A28B-7174530CC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8A162-6AFE-4587-BCAC-4A422AD43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810A9-A00E-4C83-8748-B157D972F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AFCE3-1DEE-4B97-A031-4F8B82307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0BA56-68A0-44A0-8C20-1C131FB05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5EF39-6AC3-4202-93B0-F187A8876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50A06-7851-406A-A1F8-3E3B87182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2104E-711E-4175-9568-56D89AA85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F683CD-8498-4287-9BD6-0CA0A63D9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702ACF-4A5E-4784-A696-A640EA2294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E4DC35-D227-43D3-A3D7-469102A63E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3CB12-53AC-4D85-8D94-8299D9EEF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B56B40-F95F-40DA-A27F-DC1AEA3E0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B9ED9C-C916-49DD-A0FC-B5B514ED58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B7655D-485B-4C3A-9B2D-988197D71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FCE226-A927-4980-92B0-3C3B2FBB09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0EED78-8150-4029-B33D-DA1D33630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5928D-7770-4C21-9F78-6B14192607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7785-467B-451A-8E6C-368E834435B6}"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1B8A-7E6C-4516-BA87-8B3EA939B38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0395BE5D-48FB-447D-9366-A4883E4AFA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5BFF213-5DA3-4B38-B7F2-6A4181F99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8D7A6144-ABCE-44F9-81B7-96804EB228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BB92277-E99A-4316-B80C-229B955A56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41A1B18A-A42D-464A-A4A3-DD9241A7C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76DB9562-E6E4-4CB5-9D9B-10D619B81E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88BF704-A231-4789-8BC3-448BA8E67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E0E888C9-F887-46E5-A75F-14BB8E741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A1E800AD-91CB-429A-AD09-875CD4483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F77D777F-B43F-4F9D-8C1C-D0A62BDFF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4ED4AAD3-399F-42F9-9F51-BBE0161E1A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44057673-B576-41DC-B152-05B9B1FE4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BC016415-CAE8-46D9-92B1-343DA51569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6D5FC2B-9CC4-487C-8F52-1ED08B4838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5014BBDB-B93F-4589-BD34-25E08C5CB5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2492144-4ACB-407C-AD1D-0FED9CCC37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05DD583E-A3D3-4393-8725-95F1A4A689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CE363FB-60E3-4662-83E8-C737DBEDFB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906A8BB-EFB5-47D1-B6E3-840FD8C7A7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47B2D56-9C05-4170-89CA-3B456ADCF7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2681F64-3953-4B28-BCA3-804A9F7CF2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82A08BB-3C7A-4534-AB21-8723DED5D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3E453124-51C2-4FB9-B98C-5461ADB3CC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56BEAA5D-60F9-4954-97C5-E3958758B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609480" y="13716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A6457498-ACDC-4DB8-BF68-8AE9D0080A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4531D92-2FE3-4D41-BCCC-E81F2BDD13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5FC49E69-5B79-4BDE-8C4F-4BBA0B11D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Valued Gateway Customer</cp:lastModifiedBy>
  <dcterms:modified xsi:type="dcterms:W3CDTF">1999-06-16T23:39:42Z</dcterms:modified>
  <cp:revision>11</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