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945-6417-4785-9712-667DDBFA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428-D08C-47EB-B897-520E5BCA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F04-1CF6-440E-9E2C-EF888C3D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0B-9F03-4408-AE21-035A17F4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F8F-C84B-4AF7-9D16-1B6E1F8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DC0-104A-467D-A6CC-3E10AE1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750-A9D4-4697-AA49-DA07D0B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82B-954E-4BB1-90F5-12BAA11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358-56FE-40AD-9B9F-4F41470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279-9E3C-40F0-8229-743779B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705-E7AB-477A-8C8E-F8FC3F1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890-C93C-4EB0-B5B7-7E9CC42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471-ED3D-4E7C-B189-63476224A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dcterms:modified xsi:type="dcterms:W3CDTF">1999-09-26T23:27:55Z</dcterms:modified>
  <cp:revision>1</cp:revision>
  <dc:subject/>
  <dc:title>No Slide Title</dc:title>
</cp:coreProperties>
</file>