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473A4-9D98-4289-9641-A7FF0A400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1130D-1689-4BCD-B3B7-8A2E9C7D7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05BF7-A43C-47FA-B8CC-13CEA8A47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5A481-6DC1-42DE-B007-B99656CE8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94D19-944F-4702-A8DB-77997BBC2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EC3B6-A018-4FC9-B5D4-DE260EFAE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F34D7-A356-46C3-AEFF-E8F58551E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FA190-EC54-402E-B718-EF5CD89F9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FE951-9F6A-46E7-BDE6-BBE06DBEA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12B39-D23F-43F2-AE6D-37BCF1B1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C83C-6CDC-4F01-8B89-4F10C9BDF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1E571-0761-49DC-A52C-91CA3261D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C6E9-A510-4E87-AFC2-92505C9D9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575E8EF-10DD-489A-A826-7AD0A48C2578}"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oriented middle tier</a:t>
            </a:r>
            <a:endParaRPr b="0" lang="en-US" sz="28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objects (</a:t>
            </a:r>
            <a:r>
              <a:rPr b="1" i="1" lang="en-US" sz="2400" spc="-1" strike="noStrike">
                <a:solidFill>
                  <a:srgbClr val="3333cc"/>
                </a:solidFill>
                <a:latin typeface="Times New Roman"/>
              </a:rPr>
              <a:t>Gateway Containers</a:t>
            </a:r>
            <a:r>
              <a:rPr b="0" lang="en-US" sz="2400" spc="-1" strike="noStrike">
                <a:solidFill>
                  <a:srgbClr val="000000"/>
                </a:solidFill>
                <a:latin typeface="Times New Roman"/>
              </a:rPr>
              <a:t>, </a:t>
            </a:r>
            <a:r>
              <a:rPr b="1" i="1" lang="en-US" sz="2400" spc="-1" strike="noStrike">
                <a:solidFill>
                  <a:srgbClr val="3333cc"/>
                </a:solidFill>
                <a:latin typeface="Times New Roman"/>
              </a:rPr>
              <a:t>Gateway Modules</a:t>
            </a:r>
            <a:r>
              <a:rPr b="0" lang="en-US" sz="2400" spc="-1" strike="noStrike">
                <a:solidFill>
                  <a:srgbClr val="000000"/>
                </a:solidFill>
                <a:latin typeface="Times New Roman"/>
              </a:rPr>
              <a:t> and </a:t>
            </a:r>
            <a:r>
              <a:rPr b="1" i="1" lang="en-US" sz="2400" spc="-1" strike="noStrike">
                <a:solidFill>
                  <a:srgbClr val="3333cc"/>
                </a:solidFill>
                <a:latin typeface="Times New Roman"/>
              </a:rPr>
              <a:t>Gateway Services</a:t>
            </a:r>
            <a:r>
              <a:rPr b="0" lang="en-US" sz="2400" spc="-1" strike="noStrike">
                <a:solidFill>
                  <a:srgbClr val="000000"/>
                </a:solidFill>
                <a:latin typeface="Times New Roman"/>
              </a:rPr>
              <a:t>) implemented in Java.</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s define the user environment.</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000000"/>
                </a:solidFill>
                <a:latin typeface="Times New Roman"/>
              </a:rPr>
              <a:t>: they accept the user requests (Front End) and delegate them to the Back End.</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upport for distributed, heterogeneous back-end services managed independently from Gatewa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ules can be implemented in C++; also can be DCOM components</a:t>
            </a:r>
            <a:endParaRPr b="0"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E6D6F84-E9E2-496F-9C99-9282D84396AF}" type="slidenum">
              <a:t>1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2)</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operates in a keberized environment</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Support for a seamless acc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ets are generated on the client 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beros-based CORBA security service is used to manage the user s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us GSSAPI implemented over Keberos is used for resource alloc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ED2DD34-B8C6-4DFA-9CC9-61D5C518F05D}" type="slidenum">
              <a:t>1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3)</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Specification is expressed in XML</a:t>
            </a:r>
            <a:endParaRPr b="0" lang="en-US" sz="2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A independent</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uples implementation of the Front End and the Middle Tier</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000000"/>
                </a:solidFill>
                <a:latin typeface="Times New Roman"/>
              </a:rPr>
              <a:t>) task specification, and thus the Middle Tier may act as a </a:t>
            </a:r>
            <a:r>
              <a:rPr b="0" lang="en-US" sz="2000" spc="-1" strike="noStrike" u="sng">
                <a:solidFill>
                  <a:srgbClr val="000000"/>
                </a:solidFill>
                <a:uFillTx/>
                <a:latin typeface="Times New Roman"/>
              </a:rPr>
              <a:t>resource broker</a:t>
            </a:r>
            <a:br>
              <a:rPr sz="2000"/>
            </a:b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Specification is expressed in XML</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match-making and resource discovery</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generating Globus RSL in-the-fly</a:t>
            </a:r>
            <a:endParaRPr b="0" lang="en-US" sz="2000" spc="-1" strike="noStrike">
              <a:solidFill>
                <a:srgbClr val="000000"/>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cc99"/>
                </a:solidFill>
                <a:latin typeface="Times New Roman"/>
              </a:rPr>
              <a:t>Support for distributed, heterogeneous Back-End services; Variable pool of resources; 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CF22A75-CD3E-49C0-A2D0-1D23E21B09E4}" type="slidenum">
              <a:t>1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4)</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based Front-End</a:t>
            </a:r>
            <a:r>
              <a:rPr b="0" lang="en-US" sz="32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cc99"/>
                </a:solidFill>
                <a:latin typeface="Times New Roman"/>
              </a:rPr>
              <a:t>extensib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Components (“toolbox interfaces”) ar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s (interfaces for common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pages or frames</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Web-based, extensible, customizable, self-adjus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ponents (Front End, Middle-Tier) are defined in XML and contain metadata (used for component minin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1C7E81F-B10B-475C-AAEC-230E07CB2D93}"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 End</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8D54F00-FE8C-4238-B744-78CB0DFA22D0}"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A specific knowledge database</a:t>
            </a:r>
            <a:endParaRPr b="0" lang="en-US" sz="4400" spc="-1" strike="noStrike">
              <a:solidFill>
                <a:srgbClr val="000000"/>
              </a:solidFill>
              <a:latin typeface="Times New Roman"/>
            </a:endParaRPr>
          </a:p>
        </p:txBody>
      </p:sp>
      <p:sp>
        <p:nvSpPr>
          <p:cNvPr id="14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of Ken’s tal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ver side support (both the middle tier and the back-end) through well defined interf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constructed from reusable or cloneable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identification of software components best suited to solve the problem at h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CFA6C19-1527-4CA4-9128-2D68051F2907}" type="slidenum">
              <a:t>1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C39F8BF-C5FE-4804-8BB0-FCA2F7F455F9}" type="slidenum">
              <a:t>1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newfrontend-a" descr=""/>
          <p:cNvPicPr/>
          <p:nvPr/>
        </p:nvPicPr>
        <p:blipFill>
          <a:blip r:embed="rId1"/>
          <a:stretch/>
        </p:blipFill>
        <p:spPr>
          <a:xfrm>
            <a:off x="1390680" y="1600200"/>
            <a:ext cx="6362640" cy="507204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FCFE13-AB4D-414C-B3F0-5AF706548B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5"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7896D3B-CFC4-439B-AE43-F176A6281E95}" type="slidenum">
              <a:t>1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6E3A26F-5AEB-4D5E-8526-D5A49C014740}" type="slidenum">
              <a:t>1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FB9C668-65AB-4544-B850-B7F3306C4FE3}"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Identification and Access</a:t>
            </a:r>
            <a:endParaRPr b="0" lang="en-US" sz="4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software, 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ktop applic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s, mass storage, distributed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 data reposito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BEA9A25-4937-4226-97CC-DD393AB449BB}" type="slidenum">
              <a:t>2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ations, Collaboration,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ker/Clarke’s talk on SciV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s talk on Collaborative Tool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streaming” applications as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eterogeneous hardware (capabilities/capacit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664966D-BC6D-4D4B-AF13-0B58FBADAFFC}" type="slidenum">
              <a:t>2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infrastructur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E9B4E4D-78D1-4801-8319-A5180E0B2136}" type="slidenum">
              <a:t>2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Support</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Pag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pple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or (extensible, customizabl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 specific toolbox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Problem Description toolboxes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code toolbox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request toolbox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ostprocessing tool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ollaboration, Visualizatio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C8787A2-3679-4AAF-9E27-92E6546D6C66}" type="slidenum">
              <a:t>2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6BA13A0-67D9-4AF2-AA92-182978485700}" type="slidenum">
              <a:t>2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Contex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Gateway se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ssion is associated with a user (or group) pro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8A38EEC-E43E-4A8E-984C-CE8FBFE1FED8}" type="slidenum">
              <a:t>2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3E9451B-342E-46CA-B0BD-7BE24464A1AE}" type="slidenum">
              <a:t>26</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13B7E0C-67C3-4455-8912-9E208AF97CE4}" type="slidenum">
              <a:t>2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7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0060FDE-4455-4847-A7FB-2AC43DD85619}" type="slidenum">
              <a:t>2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or</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allows the user to select and customize toolbox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in a separate frame, it consists of menus, buttons, links, etc, derived from an XML docu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is a hierarchical, extensible and customizabl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79BF954-59E6-4A28-8A2C-44A51F0A3951}" type="slidenum">
              <a:t>2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257101B-2363-446F-B5A5-5852B34D91B9}"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2A561560-F7AD-4EF1-8EF5-2368F3284E98}" type="slidenum">
              <a:t>30</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escription toolbox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description is application specific, and the Gateway only provides a general framework for creating a PS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part is the specification of what services (middle and back tier) are needed, what is their API, and how to add new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services: access to databases, XML parsing, generating HTML in-the-fly, file servic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43E4010-69A6-4BA0-8712-05A50FDBFD4C}" type="slidenum">
              <a:t>3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 toolbox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87231B1-602C-488E-A1E1-F54898ED3AF5}" type="slidenum">
              <a:t>3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Request Toolbox</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ont-end activities result in an abstract task specif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in the sense that the user may not know nor care what actual resources are u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is composed of independently developed modules and services following different programming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CAD3802-F683-46D1-9814-DF60EB6F182C}" type="slidenum">
              <a:t>3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7DF8A06-28B3-47CC-A39B-ED22F7F70131}" type="slidenum">
              <a:t>3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22DC8C2-7E23-411E-92BF-7294020A9754}" type="slidenum">
              <a:t>3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19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194"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199"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00"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01"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02"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9" idx="2"/>
            <a:endCxn id="205" idx="0"/>
          </p:cNvCxnSpPr>
          <p:nvPr/>
        </p:nvCxnSpPr>
        <p:spPr>
          <a:xfrm>
            <a:off x="6565680" y="4038480"/>
            <a:ext cx="1080" cy="153360"/>
          </a:xfrm>
          <a:prstGeom prst="straightConnector1">
            <a:avLst/>
          </a:prstGeom>
          <a:ln w="28440">
            <a:solidFill>
              <a:srgbClr val="ffff00"/>
            </a:solidFill>
            <a:miter/>
          </a:ln>
        </p:spPr>
      </p:cxnSp>
      <p:cxnSp>
        <p:nvCxnSpPr>
          <p:cNvPr id="210" name=""/>
          <p:cNvCxnSpPr>
            <a:stCxn id="205" idx="1"/>
            <a:endCxn id="207" idx="0"/>
          </p:cNvCxnSpPr>
          <p:nvPr/>
        </p:nvCxnSpPr>
        <p:spPr>
          <a:xfrm flipV="1" rot="10800000">
            <a:off x="6366600" y="4304160"/>
            <a:ext cx="99360" cy="343800"/>
          </a:xfrm>
          <a:prstGeom prst="bentConnector2">
            <a:avLst/>
          </a:prstGeom>
          <a:ln w="28440">
            <a:solidFill>
              <a:srgbClr val="ffff00"/>
            </a:solidFill>
            <a:miter/>
          </a:ln>
        </p:spPr>
      </p:cxnSp>
      <p:cxnSp>
        <p:nvCxnSpPr>
          <p:cNvPr id="211" name=""/>
          <p:cNvCxnSpPr>
            <a:stCxn id="205" idx="3"/>
            <a:endCxn id="206" idx="0"/>
          </p:cNvCxnSpPr>
          <p:nvPr/>
        </p:nvCxnSpPr>
        <p:spPr>
          <a:xfrm>
            <a:off x="6665760" y="4304880"/>
            <a:ext cx="100800" cy="343800"/>
          </a:xfrm>
          <a:prstGeom prst="bentConnector2">
            <a:avLst/>
          </a:prstGeom>
          <a:ln w="28440">
            <a:solidFill>
              <a:srgbClr val="ffff00"/>
            </a:solidFill>
            <a:miter/>
          </a:ln>
        </p:spPr>
      </p:cxnSp>
      <p:sp>
        <p:nvSpPr>
          <p:cNvPr id="209"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stCxn id="215" idx="2"/>
            <a:endCxn id="212" idx="0"/>
          </p:cNvCxnSpPr>
          <p:nvPr/>
        </p:nvCxnSpPr>
        <p:spPr>
          <a:xfrm>
            <a:off x="7611840" y="3809880"/>
            <a:ext cx="1080" cy="153360"/>
          </a:xfrm>
          <a:prstGeom prst="straightConnector1">
            <a:avLst/>
          </a:prstGeom>
          <a:ln w="28440">
            <a:solidFill>
              <a:srgbClr val="ffff00"/>
            </a:solidFill>
            <a:miter/>
          </a:ln>
        </p:spPr>
      </p:cxnSp>
      <p:sp>
        <p:nvSpPr>
          <p:cNvPr id="215"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6" name=""/>
          <p:cNvCxnSpPr>
            <a:stCxn id="217" idx="3"/>
            <a:endCxn id="213" idx="0"/>
          </p:cNvCxnSpPr>
          <p:nvPr/>
        </p:nvCxnSpPr>
        <p:spPr>
          <a:xfrm>
            <a:off x="7512120" y="4152600"/>
            <a:ext cx="249840" cy="114840"/>
          </a:xfrm>
          <a:prstGeom prst="bentConnector2">
            <a:avLst/>
          </a:prstGeom>
          <a:ln w="28440">
            <a:solidFill>
              <a:srgbClr val="ffff00"/>
            </a:solidFill>
            <a:miter/>
          </a:ln>
        </p:spPr>
      </p:cxnSp>
      <p:cxnSp>
        <p:nvCxnSpPr>
          <p:cNvPr id="218" name=""/>
          <p:cNvCxnSpPr>
            <a:stCxn id="213" idx="2"/>
            <a:endCxn id="219" idx="3"/>
          </p:cNvCxnSpPr>
          <p:nvPr/>
        </p:nvCxnSpPr>
        <p:spPr>
          <a:xfrm rot="5400000">
            <a:off x="7578720" y="4428360"/>
            <a:ext cx="115200" cy="249840"/>
          </a:xfrm>
          <a:prstGeom prst="bentConnector2">
            <a:avLst/>
          </a:prstGeom>
          <a:ln w="28440">
            <a:solidFill>
              <a:srgbClr val="ffff00"/>
            </a:solidFill>
            <a:miter/>
          </a:ln>
        </p:spPr>
      </p:cxnSp>
      <p:sp>
        <p:nvSpPr>
          <p:cNvPr id="217"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3" name=""/>
          <p:cNvCxnSpPr>
            <a:stCxn id="202" idx="3"/>
            <a:endCxn id="220"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24" name=""/>
          <p:cNvCxnSpPr>
            <a:stCxn id="202" idx="2"/>
            <a:endCxn id="203"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25" name=""/>
          <p:cNvCxnSpPr>
            <a:stCxn id="203" idx="3"/>
            <a:endCxn id="221"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26" name=""/>
          <p:cNvCxnSpPr>
            <a:stCxn id="203" idx="3"/>
            <a:endCxn id="220"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27" name=""/>
          <p:cNvCxnSpPr>
            <a:stCxn id="221" idx="3"/>
            <a:endCxn id="222"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28" name=""/>
          <p:cNvCxnSpPr>
            <a:stCxn id="222" idx="1"/>
            <a:endCxn id="220"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29" name=""/>
          <p:cNvGrpSpPr/>
          <p:nvPr/>
        </p:nvGrpSpPr>
        <p:grpSpPr>
          <a:xfrm>
            <a:off x="3627360" y="5867280"/>
            <a:ext cx="4481640" cy="419400"/>
            <a:chOff x="3627360" y="5867280"/>
            <a:chExt cx="4481640" cy="419400"/>
          </a:xfrm>
        </p:grpSpPr>
        <p:sp>
          <p:nvSpPr>
            <p:cNvPr id="230"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38"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3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3505320" y="1905120"/>
            <a:ext cx="3352680" cy="4185720"/>
            <a:chOff x="3505320" y="1905120"/>
            <a:chExt cx="3352680" cy="4185720"/>
          </a:xfrm>
        </p:grpSpPr>
        <p:grpSp>
          <p:nvGrpSpPr>
            <p:cNvPr id="243" name=""/>
            <p:cNvGrpSpPr/>
            <p:nvPr/>
          </p:nvGrpSpPr>
          <p:grpSpPr>
            <a:xfrm>
              <a:off x="3505320" y="1905120"/>
              <a:ext cx="3352680" cy="4185720"/>
              <a:chOff x="3505320" y="1905120"/>
              <a:chExt cx="3352680" cy="4185720"/>
            </a:xfrm>
          </p:grpSpPr>
          <p:sp>
            <p:nvSpPr>
              <p:cNvPr id="244"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181480" y="1905120"/>
                <a:ext cx="1371240" cy="1066680"/>
                <a:chOff x="5181480" y="1905120"/>
                <a:chExt cx="1371240" cy="1066680"/>
              </a:xfrm>
            </p:grpSpPr>
            <p:sp>
              <p:nvSpPr>
                <p:cNvPr id="272"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74"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75"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E71F7DB-1E14-44A5-9900-E1008D107EDD}" type="slidenum">
              <a:t>3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81"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98"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99"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00"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01"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04"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08"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15"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737223B-A30B-4638-A87D-6C7EAB1F95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3179880" y="3649680"/>
            <a:ext cx="1931400" cy="519120"/>
            <a:chOff x="3179880" y="3649680"/>
            <a:chExt cx="1931400" cy="519120"/>
          </a:xfrm>
        </p:grpSpPr>
        <p:sp>
          <p:nvSpPr>
            <p:cNvPr id="31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5985000" y="3649680"/>
            <a:ext cx="2680920" cy="446040"/>
            <a:chOff x="5985000" y="3649680"/>
            <a:chExt cx="2680920" cy="446040"/>
          </a:xfrm>
        </p:grpSpPr>
        <p:sp>
          <p:nvSpPr>
            <p:cNvPr id="32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2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30" name=""/>
          <p:cNvGrpSpPr/>
          <p:nvPr/>
        </p:nvGrpSpPr>
        <p:grpSpPr>
          <a:xfrm>
            <a:off x="2743200" y="5486400"/>
            <a:ext cx="6109920" cy="1039680"/>
            <a:chOff x="2743200" y="5486400"/>
            <a:chExt cx="6109920" cy="1039680"/>
          </a:xfrm>
        </p:grpSpPr>
        <p:sp>
          <p:nvSpPr>
            <p:cNvPr id="33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26" idx="4"/>
            <a:endCxn id="31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4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5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5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5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59"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illusion that all resources needed to complete the user tasks are available local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an authorized user can allocate the resources she needs without explicit login to the host controlling th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alogy: NSF mounted disk or a network prin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C0750F3-38EA-4AE0-94B6-7307E386DB90}" type="slidenum">
              <a:t>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a:t>
            </a:r>
            <a:br>
              <a:rPr sz="4400"/>
            </a:b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D8C4AAD-27BB-4DCB-888C-45A6A6655BF3}" type="slidenum">
              <a:t>4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9A60031-44FE-471A-8F2B-432BE634E7D2}" type="slidenum">
              <a:t>4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67"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889821DA-455B-4B96-BE28-BA5B1C684A7B}" type="slidenum">
              <a:t>42</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dd new Back-End hardware resources</a:t>
            </a:r>
            <a:endParaRPr b="0" lang="en-US" sz="32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eng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Globu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 (The Alliance LDAP server) will contain all relevant info, including contact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private” directory, with entries in XML</a:t>
            </a:r>
            <a:br>
              <a:rPr sz="2400"/>
            </a:br>
            <a:r>
              <a:rPr b="0" lang="en-US" sz="2400" spc="-1" strike="noStrike">
                <a:solidFill>
                  <a:srgbClr val="000000"/>
                </a:solidFill>
                <a:latin typeface="Times New Roman"/>
              </a:rPr>
              <a:t>(learn from MDS, CONDOR’s class-add, NPAC’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provided by Keberos (cross MSR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user: Gatewa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80E21C3-37C9-45B9-B9A1-41B04E887A83}" type="slidenum">
              <a:t>4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ecurity</a:t>
            </a:r>
            <a:endParaRPr b="0" lang="en-US" sz="4400" spc="-1" strike="noStrike">
              <a:solidFill>
                <a:srgbClr val="000000"/>
              </a:solidFill>
              <a:latin typeface="Times New Roman"/>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19130BB-F659-498C-ACE7-44D9A90268A0}" type="slidenum">
              <a:t>4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75"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77"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386"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388"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389"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390"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39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39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39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39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39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Gateway Components</a:t>
            </a: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104C951-178D-409E-9F7F-C9A698E32DD9}" type="slidenum">
              <a:t>4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3"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434"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380880" y="2514600"/>
            <a:ext cx="3504960" cy="2743200"/>
            <a:chOff x="380880" y="2514600"/>
            <a:chExt cx="3504960" cy="2743200"/>
          </a:xfrm>
        </p:grpSpPr>
        <p:pic>
          <p:nvPicPr>
            <p:cNvPr id="436" name="dataflow" descr=""/>
            <p:cNvPicPr/>
            <p:nvPr/>
          </p:nvPicPr>
          <p:blipFill>
            <a:blip r:embed="rId1"/>
            <a:stretch/>
          </p:blipFill>
          <p:spPr>
            <a:xfrm>
              <a:off x="838080" y="2514600"/>
              <a:ext cx="2466720" cy="2724120"/>
            </a:xfrm>
            <a:prstGeom prst="rect">
              <a:avLst/>
            </a:prstGeom>
            <a:ln w="0">
              <a:noFill/>
            </a:ln>
          </p:spPr>
        </p:pic>
        <p:sp>
          <p:nvSpPr>
            <p:cNvPr id="437"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teway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FADD48-D2D4-4745-BE59-4CBC034318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develop a Gateway component</a:t>
            </a:r>
            <a:br>
              <a:rPr sz="3600"/>
            </a:br>
            <a:r>
              <a:rPr b="1" lang="en-US" sz="3600" spc="-1" strike="noStrike">
                <a:solidFill>
                  <a:srgbClr val="000000"/>
                </a:solidFill>
                <a:latin typeface="Times New Roman"/>
              </a:rPr>
              <a:t>(or a toolbox)</a:t>
            </a:r>
            <a:endParaRPr b="0" lang="en-US" sz="36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end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tier prox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ontr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29B07F9-A575-4C63-B713-7C9AB905ADD4}" type="slidenum">
              <a:t>48</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convert a legacy (high performance) application into a Gateway Back-End service?</a:t>
            </a:r>
            <a:br>
              <a:rPr sz="3600"/>
            </a:br>
            <a:endParaRPr b="0" lang="en-US" sz="3600" spc="-1" strike="noStrike">
              <a:solidFill>
                <a:srgbClr val="000000"/>
              </a:solidFill>
              <a:latin typeface="Times New Roman"/>
            </a:endParaRPr>
          </a:p>
        </p:txBody>
      </p:sp>
      <p:sp>
        <p:nvSpPr>
          <p:cNvPr id="44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only way we can support commercial codes such as Gaussi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ddle-tier proxy will submit your job for yo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36546C5-A33E-4758-BB24-0E08B3B2CBD8}" type="slidenum">
              <a:t>4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733920" y="457200"/>
            <a:ext cx="5181480" cy="5790960"/>
            <a:chOff x="3733920" y="457200"/>
            <a:chExt cx="5181480" cy="5790960"/>
          </a:xfrm>
        </p:grpSpPr>
        <p:grpSp>
          <p:nvGrpSpPr>
            <p:cNvPr id="50" name=""/>
            <p:cNvGrpSpPr/>
            <p:nvPr/>
          </p:nvGrpSpPr>
          <p:grpSpPr>
            <a:xfrm>
              <a:off x="3733920" y="457200"/>
              <a:ext cx="5181480" cy="5790960"/>
              <a:chOff x="3733920" y="457200"/>
              <a:chExt cx="5181480" cy="5790960"/>
            </a:xfrm>
          </p:grpSpPr>
          <p:grpSp>
            <p:nvGrpSpPr>
              <p:cNvPr id="51" name=""/>
              <p:cNvGrpSpPr/>
              <p:nvPr/>
            </p:nvGrpSpPr>
            <p:grpSpPr>
              <a:xfrm>
                <a:off x="3733920" y="457200"/>
                <a:ext cx="5181480" cy="5790960"/>
                <a:chOff x="3733920" y="457200"/>
                <a:chExt cx="5181480" cy="5790960"/>
              </a:xfrm>
            </p:grpSpPr>
            <p:grpSp>
              <p:nvGrpSpPr>
                <p:cNvPr id="52" name=""/>
                <p:cNvGrpSpPr/>
                <p:nvPr/>
              </p:nvGrpSpPr>
              <p:grpSpPr>
                <a:xfrm>
                  <a:off x="3733920" y="457200"/>
                  <a:ext cx="5181480" cy="5790960"/>
                  <a:chOff x="3733920" y="457200"/>
                  <a:chExt cx="5181480" cy="5790960"/>
                </a:xfrm>
              </p:grpSpPr>
              <p:sp>
                <p:nvSpPr>
                  <p:cNvPr id="53"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4100040" y="3649680"/>
                    <a:ext cx="1622160" cy="519480"/>
                    <a:chOff x="4100040" y="3649680"/>
                    <a:chExt cx="1622160" cy="519480"/>
                  </a:xfrm>
                </p:grpSpPr>
                <p:sp>
                  <p:nvSpPr>
                    <p:cNvPr id="55"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6455160" y="3649680"/>
                    <a:ext cx="2250000" cy="445320"/>
                    <a:chOff x="6455160" y="3649680"/>
                    <a:chExt cx="2250000" cy="445320"/>
                  </a:xfrm>
                </p:grpSpPr>
                <p:sp>
                  <p:nvSpPr>
                    <p:cNvPr id="60"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6"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7" name=""/>
                  <p:cNvGrpSpPr/>
                  <p:nvPr/>
                </p:nvGrpSpPr>
                <p:grpSpPr>
                  <a:xfrm>
                    <a:off x="3733920" y="5208840"/>
                    <a:ext cx="5128560" cy="1039320"/>
                    <a:chOff x="3733920" y="5208840"/>
                    <a:chExt cx="5128560" cy="1039320"/>
                  </a:xfrm>
                </p:grpSpPr>
                <p:sp>
                  <p:nvSpPr>
                    <p:cNvPr id="68"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4"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1" name=""/>
                  <p:cNvCxnSpPr>
                    <a:stCxn id="63" idx="4"/>
                    <a:endCxn id="56"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2"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6"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9"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2"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F5C518D-AFFA-493F-8CFE-9620A9029744}" type="slidenum">
              <a:t>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he Back-End interacts </a:t>
            </a:r>
            <a:br>
              <a:rPr sz="4400"/>
            </a:br>
            <a:r>
              <a:rPr b="1" lang="en-US" sz="4400" spc="-1" strike="noStrike">
                <a:solidFill>
                  <a:srgbClr val="000000"/>
                </a:solidFill>
                <a:latin typeface="Times New Roman"/>
              </a:rPr>
              <a:t>with the rest of the system?</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your job do not need to intera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M and GASS you stage data and executable, submit the job and retrieve out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F runtime will distribute your job and facilitate interprocess commun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656FDC0-6DAA-41FE-8A04-9D4480F18CA5}" type="slidenum">
              <a:t>5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Back-End Services</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to inter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separate module, you may move files between nodes while your jobs are executing</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y be a CORBA client (Java,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5EE5B9B-242E-4A5D-AC9F-FC956ED7EDEC}" type="slidenum">
              <a:t>5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develop a Gateway module  (a proxy)</a:t>
            </a:r>
            <a:r>
              <a:rPr b="1" lang="en-US" sz="40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me as a standard Gateway modul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modu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RBA objec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DL (as an XML document)</a:t>
            </a:r>
            <a:endParaRPr b="0" lang="en-US" sz="24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IDL </a:t>
            </a:r>
            <a:r>
              <a:rPr b="0" lang="en-US" sz="1800" spc="-1" strike="noStrike">
                <a:solidFill>
                  <a:srgbClr val="000000"/>
                </a:solidFill>
                <a:latin typeface="Times New Roman"/>
              </a:rPr>
              <a:t>(in the tie mode)</a:t>
            </a:r>
            <a:endParaRPr b="0" lang="en-US" sz="1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the functionality of the module</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vent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ront-End controls that invoke methods of the module</a:t>
            </a:r>
            <a:endParaRPr b="0" lang="en-US" sz="24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19895D5-DC98-437D-9E6D-3CE37D84574D}" type="slidenum">
              <a:t>5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2"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CAAF75B-DD12-494E-ABF8-2ABF9AF32801}" type="slidenum">
              <a:t>5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56"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57"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58"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60"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61"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62"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3"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64"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66"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76"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802D618-842F-4FB4-876E-922966198640}" type="slidenum">
              <a:t>5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control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in Ken’s tal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ntrol a Middle-Tie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n applet that serves as a CORBA client, and invokes methods of the modu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uild an application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an XML document - task specification and invoke server-side XML parser which will generate CORBA client cod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9887B58-A193-4BA8-BF3E-E27A62A1F72E}" type="slidenum">
              <a:t>5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480" name=""/>
          <p:cNvGrpSpPr/>
          <p:nvPr/>
        </p:nvGrpSpPr>
        <p:grpSpPr>
          <a:xfrm>
            <a:off x="1335240" y="1633680"/>
            <a:ext cx="1855800" cy="2288880"/>
            <a:chOff x="1335240" y="1633680"/>
            <a:chExt cx="1855800" cy="2288880"/>
          </a:xfrm>
        </p:grpSpPr>
        <p:grpSp>
          <p:nvGrpSpPr>
            <p:cNvPr id="481" name=""/>
            <p:cNvGrpSpPr/>
            <p:nvPr/>
          </p:nvGrpSpPr>
          <p:grpSpPr>
            <a:xfrm>
              <a:off x="1335240" y="1633680"/>
              <a:ext cx="1855800" cy="2288880"/>
              <a:chOff x="1335240" y="1633680"/>
              <a:chExt cx="1855800" cy="2288880"/>
            </a:xfrm>
          </p:grpSpPr>
          <p:sp>
            <p:nvSpPr>
              <p:cNvPr id="482"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4" name=""/>
            <p:cNvGrpSpPr/>
            <p:nvPr/>
          </p:nvGrpSpPr>
          <p:grpSpPr>
            <a:xfrm>
              <a:off x="1817640" y="2933640"/>
              <a:ext cx="1063800" cy="608400"/>
              <a:chOff x="1817640" y="2933640"/>
              <a:chExt cx="1063800" cy="608400"/>
            </a:xfrm>
          </p:grpSpPr>
          <p:sp>
            <p:nvSpPr>
              <p:cNvPr id="485"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817640" y="3242520"/>
                <a:ext cx="1041480" cy="299520"/>
                <a:chOff x="1817640" y="3242520"/>
                <a:chExt cx="1041480" cy="299520"/>
              </a:xfrm>
            </p:grpSpPr>
            <p:sp>
              <p:nvSpPr>
                <p:cNvPr id="487"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491"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92"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93"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1C6410C-7F8C-4A3C-A282-60E8FCBBEA3C}" type="slidenum">
              <a:t>57</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499"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392F754-6A0E-4DC9-9749-85D005951FEE}" type="slidenum">
              <a:t>5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50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08" name=""/>
          <p:cNvCxnSpPr>
            <a:stCxn id="503" idx="2"/>
            <a:endCxn id="504" idx="0"/>
          </p:cNvCxnSpPr>
          <p:nvPr/>
        </p:nvCxnSpPr>
        <p:spPr>
          <a:xfrm flipV="1" rot="10800000">
            <a:off x="1978920" y="2709360"/>
            <a:ext cx="1080" cy="165960"/>
          </a:xfrm>
          <a:prstGeom prst="bentConnector2">
            <a:avLst/>
          </a:prstGeom>
          <a:ln w="38160">
            <a:solidFill>
              <a:srgbClr val="0000ff"/>
            </a:solidFill>
            <a:miter/>
          </a:ln>
        </p:spPr>
      </p:cxnSp>
      <p:cxnSp>
        <p:nvCxnSpPr>
          <p:cNvPr id="509" name=""/>
          <p:cNvCxnSpPr>
            <a:stCxn id="504" idx="2"/>
            <a:endCxn id="50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510" name=""/>
          <p:cNvCxnSpPr>
            <a:stCxn id="504" idx="2"/>
            <a:endCxn id="50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511" name=""/>
          <p:cNvCxnSpPr>
            <a:stCxn id="506" idx="2"/>
            <a:endCxn id="505" idx="0"/>
          </p:cNvCxnSpPr>
          <p:nvPr/>
        </p:nvCxnSpPr>
        <p:spPr>
          <a:xfrm flipV="1" rot="10800000">
            <a:off x="2553480" y="3563280"/>
            <a:ext cx="1080" cy="167040"/>
          </a:xfrm>
          <a:prstGeom prst="bentConnector2">
            <a:avLst/>
          </a:prstGeom>
          <a:ln w="38160">
            <a:solidFill>
              <a:srgbClr val="0000ff"/>
            </a:solidFill>
            <a:miter/>
          </a:ln>
        </p:spPr>
      </p:cxnSp>
      <p:sp>
        <p:nvSpPr>
          <p:cNvPr id="51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51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51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51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52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52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52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6" idx="6"/>
            <a:endCxn id="530" idx="2"/>
          </p:cNvCxnSpPr>
          <p:nvPr/>
        </p:nvCxnSpPr>
        <p:spPr>
          <a:xfrm>
            <a:off x="3365640" y="5900400"/>
            <a:ext cx="250920" cy="91080"/>
          </a:xfrm>
          <a:prstGeom prst="straightConnector1">
            <a:avLst/>
          </a:prstGeom>
          <a:ln w="28440">
            <a:solidFill>
              <a:srgbClr val="000000"/>
            </a:solidFill>
            <a:miter/>
          </a:ln>
        </p:spPr>
      </p:cxnSp>
      <p:cxnSp>
        <p:nvCxnSpPr>
          <p:cNvPr id="532" name=""/>
          <p:cNvCxnSpPr>
            <a:stCxn id="530" idx="7"/>
            <a:endCxn id="527" idx="2"/>
          </p:cNvCxnSpPr>
          <p:nvPr/>
        </p:nvCxnSpPr>
        <p:spPr>
          <a:xfrm flipV="1">
            <a:off x="3797280" y="5817960"/>
            <a:ext cx="164160" cy="95760"/>
          </a:xfrm>
          <a:prstGeom prst="straightConnector1">
            <a:avLst/>
          </a:prstGeom>
          <a:ln w="28440">
            <a:solidFill>
              <a:srgbClr val="000000"/>
            </a:solidFill>
            <a:miter/>
          </a:ln>
        </p:spPr>
      </p:cxnSp>
      <p:cxnSp>
        <p:nvCxnSpPr>
          <p:cNvPr id="533" name=""/>
          <p:cNvCxnSpPr>
            <a:stCxn id="530" idx="6"/>
            <a:endCxn id="528" idx="2"/>
          </p:cNvCxnSpPr>
          <p:nvPr/>
        </p:nvCxnSpPr>
        <p:spPr>
          <a:xfrm>
            <a:off x="3827160" y="5991120"/>
            <a:ext cx="446760" cy="29520"/>
          </a:xfrm>
          <a:prstGeom prst="straightConnector1">
            <a:avLst/>
          </a:prstGeom>
          <a:ln w="28440">
            <a:solidFill>
              <a:srgbClr val="000000"/>
            </a:solidFill>
            <a:miter/>
          </a:ln>
        </p:spPr>
      </p:cxnSp>
      <p:cxnSp>
        <p:nvCxnSpPr>
          <p:cNvPr id="534" name=""/>
          <p:cNvCxnSpPr>
            <a:stCxn id="528" idx="6"/>
            <a:endCxn id="529" idx="3"/>
          </p:cNvCxnSpPr>
          <p:nvPr/>
        </p:nvCxnSpPr>
        <p:spPr>
          <a:xfrm flipV="1">
            <a:off x="4484160" y="5952600"/>
            <a:ext cx="259560" cy="67680"/>
          </a:xfrm>
          <a:prstGeom prst="straightConnector1">
            <a:avLst/>
          </a:prstGeom>
          <a:ln w="28440">
            <a:solidFill>
              <a:srgbClr val="000000"/>
            </a:solidFill>
            <a:miter/>
          </a:ln>
        </p:spPr>
      </p:cxnSp>
      <p:sp>
        <p:nvSpPr>
          <p:cNvPr id="53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53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53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53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94"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95"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96"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97"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98"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a:t>
            </a:r>
            <a:endParaRPr b="0" lang="en-US" sz="4400" spc="-1" strike="noStrike">
              <a:solidFill>
                <a:srgbClr val="000000"/>
              </a:solidFill>
              <a:latin typeface="Times New Roman"/>
            </a:endParaRPr>
          </a:p>
        </p:txBody>
      </p:sp>
      <p:pic>
        <p:nvPicPr>
          <p:cNvPr id="100" name="ccm-kenf" descr=""/>
          <p:cNvPicPr/>
          <p:nvPr/>
        </p:nvPicPr>
        <p:blipFill>
          <a:blip r:embed="rId1"/>
          <a:stretch/>
        </p:blipFill>
        <p:spPr>
          <a:xfrm>
            <a:off x="571680" y="1676520"/>
            <a:ext cx="3886200" cy="4543200"/>
          </a:xfrm>
          <a:prstGeom prst="rect">
            <a:avLst/>
          </a:prstGeom>
          <a:ln w="0">
            <a:noFill/>
          </a:ln>
        </p:spPr>
      </p:pic>
      <p:sp>
        <p:nvSpPr>
          <p:cNvPr id="10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0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0BCAC3-A40F-4BFF-8588-20C380C13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05" name=""/>
          <p:cNvGrpSpPr/>
          <p:nvPr/>
        </p:nvGrpSpPr>
        <p:grpSpPr>
          <a:xfrm>
            <a:off x="2647800" y="3384720"/>
            <a:ext cx="3735360" cy="1528200"/>
            <a:chOff x="2647800" y="3384720"/>
            <a:chExt cx="3735360" cy="1528200"/>
          </a:xfrm>
        </p:grpSpPr>
        <p:sp>
          <p:nvSpPr>
            <p:cNvPr id="10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1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1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1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07" idx="2"/>
            <a:endCxn id="11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1" name=""/>
          <p:cNvCxnSpPr>
            <a:stCxn id="107" idx="2"/>
            <a:endCxn id="11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2" name=""/>
          <p:cNvCxnSpPr>
            <a:stCxn id="107" idx="2"/>
            <a:endCxn id="11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3" name=""/>
          <p:cNvCxnSpPr>
            <a:stCxn id="107" idx="2"/>
            <a:endCxn id="11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4" name=""/>
          <p:cNvCxnSpPr>
            <a:stCxn id="107" idx="2"/>
            <a:endCxn id="11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5" name=""/>
          <p:cNvCxnSpPr>
            <a:stCxn id="107" idx="2"/>
            <a:endCxn id="11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6" name=""/>
          <p:cNvCxnSpPr>
            <a:stCxn id="109" idx="2"/>
            <a:endCxn id="10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7" name=""/>
          <p:cNvCxnSpPr>
            <a:stCxn id="110" idx="2"/>
            <a:endCxn id="10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8"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9"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0" name=""/>
          <p:cNvCxnSpPr>
            <a:stCxn id="112" idx="2"/>
            <a:endCxn id="10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3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3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35" name=""/>
          <p:cNvCxnSpPr>
            <a:stCxn id="113" idx="2"/>
            <a:endCxn id="10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0683742-749D-444E-958C-0E6AC4037F40}" type="slidenum">
              <a:t>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5-26T19:59:16Z</dcterms:modified>
  <cp:revision>15</cp:revision>
  <dc:subject/>
  <dc:title>Gateway Architecture</dc:title>
</cp:coreProperties>
</file>