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645A-0CB6-4C97-B620-25549B16C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E787-6C2A-4125-B5CC-FE2EABA3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179E-3E14-45A0-9627-266145ED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1348-13A7-4846-95FE-0325A3202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FAF2-2853-411E-AA9B-A04353C1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9F20-2B8B-4558-B92C-7C8E06D0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0BF7-2FE4-4EBB-9051-97C9B311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44B1-8C2E-4914-9430-5E3587AB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A2DF-5D1F-4E32-A152-A3F6761E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69C6-A478-4723-B125-FB3E8D96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FB82-6878-46B7-93C0-41EDE308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DCA7-7B6A-4631-95F0-CB626286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24EE-97BB-4191-B190-AA700023F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06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3818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20:41:49Z</dcterms:created>
  <dc:creator>Valued Gateway Customer</dc:creator>
  <dc:description/>
  <dc:language>en-US</dc:language>
  <cp:lastModifiedBy>Valued Gateway Customer</cp:lastModifiedBy>
  <dcterms:modified xsi:type="dcterms:W3CDTF">1999-07-10T21:01:58Z</dcterms:modified>
  <cp:revision>5</cp:revision>
  <dc:subject/>
  <dc:title>No Slide Title</dc:title>
</cp:coreProperties>
</file>