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00F0-9A2F-4FD3-B971-693A672BF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EAA7-9C40-4F45-8650-0A816E5BA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93F1-5541-4D50-A220-55FFAE525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8E5D-BA5E-4C57-8886-E9C22AF57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94A8-3EE6-4461-BF2D-7D7118268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95E6-134F-4795-B666-116AFB426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5436-2E0F-4A35-A23B-67DA6A4F5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6152-9016-4993-8B2F-7E7729F15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3975-9B09-4ECE-96C2-DC979D230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6B68-08E2-4F5E-AA65-A5D295A7E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B712-652F-44CE-8F59-7DEEEE269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DAAE-C599-47DA-8A7F-664AD5F91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A0EBF-28F1-4BF7-905C-4F4646CBF1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9880" y="990720"/>
            <a:ext cx="1524240" cy="761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3962520"/>
            <a:ext cx="1523880" cy="761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172200" y="2514600"/>
            <a:ext cx="152388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05120" y="2362320"/>
            <a:ext cx="1523880" cy="761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467480" y="3886200"/>
            <a:ext cx="152424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3"/>
            <a:endCxn id="44" idx="0"/>
          </p:cNvCxnSpPr>
          <p:nvPr/>
        </p:nvCxnSpPr>
        <p:spPr>
          <a:xfrm flipH="1">
            <a:off x="2667240" y="1640880"/>
            <a:ext cx="1366200" cy="72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stCxn id="44" idx="3"/>
            <a:endCxn id="42" idx="0"/>
          </p:cNvCxnSpPr>
          <p:nvPr/>
        </p:nvCxnSpPr>
        <p:spPr>
          <a:xfrm flipH="1">
            <a:off x="1447920" y="3012480"/>
            <a:ext cx="680760" cy="95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5"/>
            <a:endCxn id="43" idx="0"/>
          </p:cNvCxnSpPr>
          <p:nvPr/>
        </p:nvCxnSpPr>
        <p:spPr>
          <a:xfrm>
            <a:off x="5110920" y="1640880"/>
            <a:ext cx="1823760" cy="874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4649760" y="609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058840" y="20570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316640" y="22856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9000" y="365724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B/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231400" y="358092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C/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73440" y="517320"/>
            <a:ext cx="205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ster Gateway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" name=""/>
          <p:cNvCxnSpPr>
            <a:endCxn id="41" idx="1"/>
          </p:cNvCxnSpPr>
          <p:nvPr/>
        </p:nvCxnSpPr>
        <p:spPr>
          <a:xfrm>
            <a:off x="3580920" y="761760"/>
            <a:ext cx="452520" cy="34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228600" y="806760"/>
            <a:ext cx="223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tinguished name (D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6" idx="2"/>
            <a:endCxn id="50" idx="0"/>
          </p:cNvCxnSpPr>
          <p:nvPr/>
        </p:nvCxnSpPr>
        <p:spPr>
          <a:xfrm>
            <a:off x="1346760" y="1723680"/>
            <a:ext cx="972000" cy="33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895480" y="419112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419112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477120" y="419112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259092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10080" y="419112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43" idx="4"/>
            <a:endCxn id="60" idx="0"/>
          </p:cNvCxnSpPr>
          <p:nvPr/>
        </p:nvCxnSpPr>
        <p:spPr>
          <a:xfrm flipH="1">
            <a:off x="6705720" y="3276720"/>
            <a:ext cx="228960" cy="914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43" idx="3"/>
            <a:endCxn id="62" idx="0"/>
          </p:cNvCxnSpPr>
          <p:nvPr/>
        </p:nvCxnSpPr>
        <p:spPr>
          <a:xfrm flipH="1">
            <a:off x="5638680" y="3165120"/>
            <a:ext cx="757080" cy="102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41" idx="4"/>
            <a:endCxn id="61" idx="0"/>
          </p:cNvCxnSpPr>
          <p:nvPr/>
        </p:nvCxnSpPr>
        <p:spPr>
          <a:xfrm>
            <a:off x="4572000" y="1752480"/>
            <a:ext cx="3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44" idx="4"/>
            <a:endCxn id="58" idx="0"/>
          </p:cNvCxnSpPr>
          <p:nvPr/>
        </p:nvCxnSpPr>
        <p:spPr>
          <a:xfrm>
            <a:off x="2667240" y="3124080"/>
            <a:ext cx="457200" cy="1067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44" idx="5"/>
            <a:endCxn id="59" idx="0"/>
          </p:cNvCxnSpPr>
          <p:nvPr/>
        </p:nvCxnSpPr>
        <p:spPr>
          <a:xfrm>
            <a:off x="3205800" y="3012480"/>
            <a:ext cx="757080" cy="117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4267080" y="5775840"/>
            <a:ext cx="98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8" idx="3"/>
            <a:endCxn id="62" idx="2"/>
          </p:cNvCxnSpPr>
          <p:nvPr/>
        </p:nvCxnSpPr>
        <p:spPr>
          <a:xfrm flipV="1">
            <a:off x="5251320" y="4648320"/>
            <a:ext cx="387720" cy="158616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70" name=""/>
          <p:cNvCxnSpPr>
            <a:stCxn id="68" idx="1"/>
            <a:endCxn id="59" idx="2"/>
          </p:cNvCxnSpPr>
          <p:nvPr/>
        </p:nvCxnSpPr>
        <p:spPr>
          <a:xfrm flipH="1" flipV="1">
            <a:off x="3962520" y="4648320"/>
            <a:ext cx="304920" cy="158616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71" name=""/>
          <p:cNvCxnSpPr>
            <a:stCxn id="68" idx="0"/>
            <a:endCxn id="61" idx="2"/>
          </p:cNvCxnSpPr>
          <p:nvPr/>
        </p:nvCxnSpPr>
        <p:spPr>
          <a:xfrm flipH="1" flipV="1">
            <a:off x="4572000" y="3048120"/>
            <a:ext cx="187560" cy="272808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72" name=""/>
          <p:cNvSpPr/>
          <p:nvPr/>
        </p:nvSpPr>
        <p:spPr>
          <a:xfrm>
            <a:off x="4726440" y="228564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M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1840" y="388584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B/M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13120" y="3733560"/>
            <a:ext cx="9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M/M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982040" y="371772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C/M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896440" y="387000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C/M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32120" y="524196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028000" y="524196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7880" y="524196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42" idx="5"/>
            <a:endCxn id="77" idx="0"/>
          </p:cNvCxnSpPr>
          <p:nvPr/>
        </p:nvCxnSpPr>
        <p:spPr>
          <a:xfrm>
            <a:off x="1986480" y="4612680"/>
            <a:ext cx="174600" cy="629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42" idx="3"/>
            <a:endCxn id="79" idx="0"/>
          </p:cNvCxnSpPr>
          <p:nvPr/>
        </p:nvCxnSpPr>
        <p:spPr>
          <a:xfrm flipH="1">
            <a:off x="636480" y="4612680"/>
            <a:ext cx="272880" cy="629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45" idx="4"/>
            <a:endCxn id="78" idx="0"/>
          </p:cNvCxnSpPr>
          <p:nvPr/>
        </p:nvCxnSpPr>
        <p:spPr>
          <a:xfrm>
            <a:off x="8229600" y="4648320"/>
            <a:ext cx="27360" cy="59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715320" y="493668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B/D/M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163240" y="493668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B/D/M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41600" y="492084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C/G/M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" name=""/>
          <p:cNvCxnSpPr>
            <a:stCxn id="43" idx="5"/>
            <a:endCxn id="45" idx="0"/>
          </p:cNvCxnSpPr>
          <p:nvPr/>
        </p:nvCxnSpPr>
        <p:spPr>
          <a:xfrm>
            <a:off x="7472880" y="3165120"/>
            <a:ext cx="757080" cy="72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7T19:42:49Z</dcterms:created>
  <dc:creator>Valued Gateway Customer</dc:creator>
  <dc:description/>
  <dc:language>en-US</dc:language>
  <cp:lastModifiedBy>Valued Gateway Customer</cp:lastModifiedBy>
  <dcterms:modified xsi:type="dcterms:W3CDTF">1999-09-28T01:54:48Z</dcterms:modified>
  <cp:revision>6</cp:revision>
  <dc:subject/>
  <dc:title>No Slide Title</dc:title>
</cp:coreProperties>
</file>