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B3C-9A26-4061-B83A-A39D1F1D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ED4-D25C-4F9C-A8BA-423A8C2F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305-3049-4014-B12B-39C4AD96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24D-F938-4270-B477-81DBA70F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893-2B42-4D8A-932F-306E0066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F7F-1F18-468F-A538-6E8F5E88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F30-3729-409A-BA48-B3D4C730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2DF-1213-40BC-BB65-4D07216A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D89-8113-4989-A588-FB26921A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970-1EFB-41E2-B3B9-34DA8A80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798-947F-436B-9FC8-AC81AB0C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146-2AC3-4700-B96C-B5979384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E4DA-F47A-4AA0-9DA7-963C6902C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69440" y="608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17440" y="17514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72920" y="17514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8080" y="297072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5920" y="29707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84680" y="2970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38200" y="29707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3400" y="47232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0800" y="47232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32560" y="464724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Field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1" idx="1"/>
            <a:endCxn id="42" idx="0"/>
          </p:cNvCxnSpPr>
          <p:nvPr/>
        </p:nvCxnSpPr>
        <p:spPr>
          <a:xfrm flipH="1">
            <a:off x="2594520" y="838080"/>
            <a:ext cx="147528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1" idx="3"/>
            <a:endCxn id="43" idx="0"/>
          </p:cNvCxnSpPr>
          <p:nvPr/>
        </p:nvCxnSpPr>
        <p:spPr>
          <a:xfrm>
            <a:off x="5080680" y="838080"/>
            <a:ext cx="166140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2" idx="2"/>
            <a:endCxn id="45" idx="0"/>
          </p:cNvCxnSpPr>
          <p:nvPr/>
        </p:nvCxnSpPr>
        <p:spPr>
          <a:xfrm>
            <a:off x="2594520" y="2211120"/>
            <a:ext cx="880560" cy="75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3" idx="2"/>
            <a:endCxn id="46" idx="0"/>
          </p:cNvCxnSpPr>
          <p:nvPr/>
        </p:nvCxnSpPr>
        <p:spPr>
          <a:xfrm>
            <a:off x="6741720" y="2211120"/>
            <a:ext cx="1220400" cy="75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2"/>
            <a:endCxn id="44" idx="0"/>
          </p:cNvCxnSpPr>
          <p:nvPr/>
        </p:nvCxnSpPr>
        <p:spPr>
          <a:xfrm rot="5400000">
            <a:off x="1528200" y="1904400"/>
            <a:ext cx="759960" cy="1373400"/>
          </a:xfrm>
          <a:prstGeom prst="curvedConnector3">
            <a:avLst>
              <a:gd name="adj1" fmla="val 250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3" idx="2"/>
            <a:endCxn id="47" idx="0"/>
          </p:cNvCxnSpPr>
          <p:nvPr/>
        </p:nvCxnSpPr>
        <p:spPr>
          <a:xfrm rot="5400000">
            <a:off x="5832720" y="2061720"/>
            <a:ext cx="759960" cy="1058760"/>
          </a:xfrm>
          <a:prstGeom prst="curvedConnector3">
            <a:avLst>
              <a:gd name="adj1" fmla="val 250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5" idx="2"/>
            <a:endCxn id="48" idx="0"/>
          </p:cNvCxnSpPr>
          <p:nvPr/>
        </p:nvCxnSpPr>
        <p:spPr>
          <a:xfrm rot="5400000">
            <a:off x="1913040" y="3161520"/>
            <a:ext cx="1293120" cy="1830600"/>
          </a:xfrm>
          <a:prstGeom prst="curvedConnector3">
            <a:avLst>
              <a:gd name="adj1" fmla="val 249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5" idx="2"/>
            <a:endCxn id="49" idx="0"/>
          </p:cNvCxnSpPr>
          <p:nvPr/>
        </p:nvCxnSpPr>
        <p:spPr>
          <a:xfrm flipH="1" rot="16200000">
            <a:off x="2941920" y="3962880"/>
            <a:ext cx="1293120" cy="227520"/>
          </a:xfrm>
          <a:prstGeom prst="curvedConnector3">
            <a:avLst>
              <a:gd name="adj1" fmla="val 249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6" idx="2"/>
            <a:endCxn id="50" idx="0"/>
          </p:cNvCxnSpPr>
          <p:nvPr/>
        </p:nvCxnSpPr>
        <p:spPr>
          <a:xfrm rot="5400000">
            <a:off x="7054560" y="3740040"/>
            <a:ext cx="1217160" cy="59796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2057400"/>
            <a:ext cx="152388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8960" y="556164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ed 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17:02:21Z</dcterms:created>
  <dc:creator>Valued Gateway Customer</dc:creator>
  <dc:description/>
  <dc:language>en-US</dc:language>
  <cp:lastModifiedBy>Valued Gateway Customer</cp:lastModifiedBy>
  <dcterms:modified xsi:type="dcterms:W3CDTF">1999-03-25T17:45:54Z</dcterms:modified>
  <cp:revision>5</cp:revision>
  <dc:subject/>
  <dc:title>No Slide Title</dc:title>
</cp:coreProperties>
</file>