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173-AE30-493D-9785-935F3022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3BE-26C1-4D84-A737-3DF91306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7F0-E932-4FEA-A656-E9D6EDF1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53B-88C7-47D6-82CF-1D2C06F4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6F-475D-4273-8767-6A80DD3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324-7F92-4179-A5CD-8D0D166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6F0-B0FB-4316-AFA3-908E5A78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50D-B094-478A-99FE-0D60BF09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7AC-867F-4767-B303-7F50FD2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A0F-58DE-4D3D-B884-0778EF9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42E-CAB3-490D-996A-9302E82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C7D-4360-4BED-8863-C55453B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BAA-ACB4-4847-A8BC-BF5F3214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5:48Z</dcterms:modified>
  <cp:revision>4</cp:revision>
  <dc:subject/>
  <dc:title>No Slide Title</dc:title>
</cp:coreProperties>
</file>