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2615-8CBA-45F1-BA42-5EC72EAD3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6576-67EE-4AC8-B3CD-67C3B336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1F45-E022-4C60-A462-6DF4DC99B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9F5C-22C2-4F29-A720-00A753F50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CD86-E7AD-4152-86F4-F5C5BE99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FB52-D41B-49EE-B922-C7547078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6674-6BD8-4FCF-840F-4D0BF28C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AFEA-27FA-408B-8254-46D4C465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B1D8-C673-476F-A66C-29E04388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4F68-E934-43A9-84B7-F064244B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3E37-9395-4F5F-A0DC-32C49E4E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7F86-5921-46E0-BB66-44476D0C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0C87-2C7B-40C2-AA52-A378EDB48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57200" y="685800"/>
            <a:ext cx="8381520" cy="5713560"/>
            <a:chOff x="457200" y="685800"/>
            <a:chExt cx="8381520" cy="5713560"/>
          </a:xfrm>
        </p:grpSpPr>
        <p:grpSp>
          <p:nvGrpSpPr>
            <p:cNvPr id="42" name=""/>
            <p:cNvGrpSpPr/>
            <p:nvPr/>
          </p:nvGrpSpPr>
          <p:grpSpPr>
            <a:xfrm>
              <a:off x="457200" y="685800"/>
              <a:ext cx="8381520" cy="5713560"/>
              <a:chOff x="457200" y="685800"/>
              <a:chExt cx="8381520" cy="571356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457200" y="685800"/>
                <a:ext cx="8381520" cy="5713560"/>
                <a:chOff x="457200" y="685800"/>
                <a:chExt cx="8381520" cy="5713560"/>
              </a:xfrm>
            </p:grpSpPr>
            <p:grpSp>
              <p:nvGrpSpPr>
                <p:cNvPr id="44" name=""/>
                <p:cNvGrpSpPr/>
                <p:nvPr/>
              </p:nvGrpSpPr>
              <p:grpSpPr>
                <a:xfrm>
                  <a:off x="457200" y="685800"/>
                  <a:ext cx="8381520" cy="5713560"/>
                  <a:chOff x="457200" y="685800"/>
                  <a:chExt cx="8381520" cy="5713560"/>
                </a:xfrm>
              </p:grpSpPr>
              <p:sp>
                <p:nvSpPr>
                  <p:cNvPr id="45" name=""/>
                  <p:cNvSpPr/>
                  <p:nvPr/>
                </p:nvSpPr>
                <p:spPr>
                  <a:xfrm>
                    <a:off x="3668760" y="685800"/>
                    <a:ext cx="5169960" cy="5713560"/>
                  </a:xfrm>
                  <a:prstGeom prst="rect">
                    <a:avLst/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821760" y="1153800"/>
                    <a:ext cx="2202120" cy="3746520"/>
                  </a:xfrm>
                  <a:prstGeom prst="rect">
                    <a:avLst/>
                  </a:prstGeom>
                  <a:solidFill>
                    <a:srgbClr val="0000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6330600" y="1153800"/>
                    <a:ext cx="2201040" cy="3746520"/>
                  </a:xfrm>
                  <a:prstGeom prst="rect">
                    <a:avLst/>
                  </a:prstGeom>
                  <a:solidFill>
                    <a:srgbClr val="cc00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924360" y="1342080"/>
                    <a:ext cx="1996920" cy="748440"/>
                  </a:xfrm>
                  <a:prstGeom prst="rect">
                    <a:avLst/>
                  </a:prstGeom>
                  <a:solidFill>
                    <a:srgbClr val="0000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User 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6433200" y="1342080"/>
                    <a:ext cx="1995480" cy="74844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User 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3924360" y="2090520"/>
                    <a:ext cx="2046960" cy="14986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3924360" y="3683520"/>
                    <a:ext cx="2046960" cy="11228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7456680" y="2090520"/>
                    <a:ext cx="972000" cy="27154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6380640" y="2090520"/>
                    <a:ext cx="1025640" cy="27154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3976200" y="2159640"/>
                    <a:ext cx="1945080" cy="547200"/>
                  </a:xfrm>
                  <a:prstGeom prst="rect">
                    <a:avLst/>
                  </a:pr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Application 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3976200" y="3678480"/>
                    <a:ext cx="1945080" cy="596880"/>
                  </a:xfrm>
                  <a:prstGeom prst="rect">
                    <a:avLst/>
                  </a:pr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Application 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7477560" y="2278440"/>
                    <a:ext cx="933480" cy="596880"/>
                  </a:xfrm>
                  <a:prstGeom prst="rect">
                    <a:avLst/>
                  </a:pr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App 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6433200" y="2278440"/>
                    <a:ext cx="870120" cy="621720"/>
                  </a:xfrm>
                  <a:prstGeom prst="rect">
                    <a:avLst/>
                  </a:pr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App 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4078800" y="2839320"/>
                    <a:ext cx="203040" cy="28188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4487760" y="3121200"/>
                    <a:ext cx="204480" cy="28008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4845240" y="4338360"/>
                    <a:ext cx="205560" cy="28188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6790680" y="3589560"/>
                    <a:ext cx="205560" cy="28044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6996240" y="4151880"/>
                    <a:ext cx="204480" cy="28008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6586200" y="4151880"/>
                    <a:ext cx="204120" cy="28008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64" name=""/>
                  <p:cNvCxnSpPr/>
                  <p:nvPr/>
                </p:nvCxnSpPr>
                <p:spPr>
                  <a:xfrm>
                    <a:off x="6893280" y="3401280"/>
                    <a:ext cx="1080" cy="188640"/>
                  </a:xfrm>
                  <a:prstGeom prst="straightConnector1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</p:cxnSp>
              <p:cxnSp>
                <p:nvCxnSpPr>
                  <p:cNvPr id="65" name=""/>
                  <p:cNvCxnSpPr/>
                  <p:nvPr/>
                </p:nvCxnSpPr>
                <p:spPr>
                  <a:xfrm flipV="1" rot="10800000">
                    <a:off x="6689520" y="3729240"/>
                    <a:ext cx="100800" cy="422640"/>
                  </a:xfrm>
                  <a:prstGeom prst="bentConnector2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</p:cxnSp>
              <p:cxnSp>
                <p:nvCxnSpPr>
                  <p:cNvPr id="66" name=""/>
                  <p:cNvCxnSpPr/>
                  <p:nvPr/>
                </p:nvCxnSpPr>
                <p:spPr>
                  <a:xfrm>
                    <a:off x="6995880" y="3729600"/>
                    <a:ext cx="103320" cy="422640"/>
                  </a:xfrm>
                  <a:prstGeom prst="bentConnector2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</p:cxnSp>
              <p:sp>
                <p:nvSpPr>
                  <p:cNvPr id="67" name=""/>
                  <p:cNvSpPr/>
                  <p:nvPr/>
                </p:nvSpPr>
                <p:spPr>
                  <a:xfrm>
                    <a:off x="6790680" y="3121200"/>
                    <a:ext cx="205560" cy="28008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09680" y="3307680"/>
                    <a:ext cx="716400" cy="1124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8020080" y="3683520"/>
                    <a:ext cx="205560" cy="28044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70" name=""/>
                  <p:cNvCxnSpPr/>
                  <p:nvPr/>
                </p:nvCxnSpPr>
                <p:spPr>
                  <a:xfrm>
                    <a:off x="7969320" y="3120840"/>
                    <a:ext cx="1080" cy="186840"/>
                  </a:xfrm>
                  <a:prstGeom prst="straightConnector1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</p:cxnSp>
              <p:cxnSp>
                <p:nvCxnSpPr>
                  <p:cNvPr id="71" name=""/>
                  <p:cNvCxnSpPr/>
                  <p:nvPr/>
                </p:nvCxnSpPr>
                <p:spPr>
                  <a:xfrm>
                    <a:off x="7866720" y="3543480"/>
                    <a:ext cx="255960" cy="140400"/>
                  </a:xfrm>
                  <a:prstGeom prst="bentConnector2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</p:cxnSp>
              <p:cxnSp>
                <p:nvCxnSpPr>
                  <p:cNvPr id="72" name=""/>
                  <p:cNvCxnSpPr/>
                  <p:nvPr/>
                </p:nvCxnSpPr>
                <p:spPr>
                  <a:xfrm rot="5400000">
                    <a:off x="7924320" y="3905640"/>
                    <a:ext cx="140400" cy="255960"/>
                  </a:xfrm>
                  <a:prstGeom prst="bentConnector2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</p:cxnSp>
              <p:sp>
                <p:nvSpPr>
                  <p:cNvPr id="73" name=""/>
                  <p:cNvSpPr/>
                  <p:nvPr/>
                </p:nvSpPr>
                <p:spPr>
                  <a:xfrm>
                    <a:off x="7662240" y="3401280"/>
                    <a:ext cx="204120" cy="28188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662240" y="3963960"/>
                    <a:ext cx="204120" cy="28188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5255280" y="3215160"/>
                    <a:ext cx="205560" cy="28044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76" name=""/>
                  <p:cNvCxnSpPr/>
                  <p:nvPr/>
                </p:nvCxnSpPr>
                <p:spPr>
                  <a:xfrm flipV="1">
                    <a:off x="4282200" y="2886840"/>
                    <a:ext cx="615960" cy="94320"/>
                  </a:xfrm>
                  <a:prstGeom prst="bentConnector3">
                    <a:avLst>
                      <a:gd name="adj1" fmla="val 50000"/>
                    </a:avLst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77" name=""/>
                  <p:cNvCxnSpPr/>
                  <p:nvPr/>
                </p:nvCxnSpPr>
                <p:spPr>
                  <a:xfrm flipH="1" rot="16200000">
                    <a:off x="4264920" y="3037320"/>
                    <a:ext cx="140400" cy="30672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78" name=""/>
                  <p:cNvCxnSpPr/>
                  <p:nvPr/>
                </p:nvCxnSpPr>
                <p:spPr>
                  <a:xfrm>
                    <a:off x="4692240" y="3261600"/>
                    <a:ext cx="563760" cy="94320"/>
                  </a:xfrm>
                  <a:prstGeom prst="bentConnector3">
                    <a:avLst>
                      <a:gd name="adj1" fmla="val 49968"/>
                    </a:avLst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79" name=""/>
                  <p:cNvCxnSpPr/>
                  <p:nvPr/>
                </p:nvCxnSpPr>
                <p:spPr>
                  <a:xfrm flipV="1">
                    <a:off x="4692240" y="3026160"/>
                    <a:ext cx="308880" cy="23508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80" name=""/>
                  <p:cNvCxnSpPr/>
                  <p:nvPr/>
                </p:nvCxnSpPr>
                <p:spPr>
                  <a:xfrm flipV="1">
                    <a:off x="5461200" y="2932920"/>
                    <a:ext cx="203760" cy="42264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grpSp>
                <p:nvGrpSpPr>
                  <p:cNvPr id="81" name=""/>
                  <p:cNvGrpSpPr/>
                  <p:nvPr/>
                </p:nvGrpSpPr>
                <p:grpSpPr>
                  <a:xfrm>
                    <a:off x="3873240" y="5650920"/>
                    <a:ext cx="4606560" cy="514440"/>
                    <a:chOff x="3873240" y="5650920"/>
                    <a:chExt cx="4606560" cy="514440"/>
                  </a:xfrm>
                </p:grpSpPr>
                <p:sp>
                  <p:nvSpPr>
                    <p:cNvPr id="82" name=""/>
                    <p:cNvSpPr/>
                    <p:nvPr/>
                  </p:nvSpPr>
                  <p:spPr>
                    <a:xfrm>
                      <a:off x="3873240" y="5650920"/>
                      <a:ext cx="461520" cy="5144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4565160" y="5650920"/>
                      <a:ext cx="459720" cy="5144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>
                      <a:off x="5255280" y="5650920"/>
                      <a:ext cx="461520" cy="5144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5947200" y="5650920"/>
                      <a:ext cx="460080" cy="5144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" name=""/>
                    <p:cNvSpPr/>
                    <p:nvPr/>
                  </p:nvSpPr>
                  <p:spPr>
                    <a:xfrm>
                      <a:off x="6637320" y="5650920"/>
                      <a:ext cx="461520" cy="5144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7329600" y="5650920"/>
                      <a:ext cx="460080" cy="5144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8019720" y="5650920"/>
                      <a:ext cx="460080" cy="5144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9" name=""/>
                  <p:cNvSpPr/>
                  <p:nvPr/>
                </p:nvSpPr>
                <p:spPr>
                  <a:xfrm>
                    <a:off x="457200" y="685800"/>
                    <a:ext cx="3055320" cy="5713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bFlow server is given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y a hierarchy of container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d components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bFlow server hosts </a:t>
                    </a:r>
                    <a:br>
                      <a:rPr sz="1400"/>
                    </a:b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users and service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ach user maintains</a:t>
                    </a:r>
                    <a:br>
                      <a:rPr sz="1400"/>
                    </a:b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 number of applications</a:t>
                    </a:r>
                    <a:br>
                      <a:rPr sz="1400"/>
                    </a:b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mposed of </a:t>
                    </a:r>
                    <a:br>
                      <a:rPr sz="1400"/>
                    </a:b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ustom modules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br>
                      <a:rPr sz="2000"/>
                    </a:b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d </a:t>
                    </a:r>
                    <a:br>
                      <a:rPr sz="2000"/>
                    </a:b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mmon service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4138920" y="5034240"/>
                    <a:ext cx="4151880" cy="52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bFlow Service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"/>
                <p:cNvSpPr/>
                <p:nvPr/>
              </p:nvSpPr>
              <p:spPr>
                <a:xfrm>
                  <a:off x="7866720" y="2839320"/>
                  <a:ext cx="205560" cy="2818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5563800" y="2652840"/>
                  <a:ext cx="203040" cy="2804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" name=""/>
              <p:cNvSpPr/>
              <p:nvPr/>
            </p:nvSpPr>
            <p:spPr>
              <a:xfrm>
                <a:off x="4897800" y="2747160"/>
                <a:ext cx="203040" cy="280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94" name=""/>
            <p:cNvCxnSpPr/>
            <p:nvPr/>
          </p:nvCxnSpPr>
          <p:spPr>
            <a:xfrm flipV="1" rot="10800000">
              <a:off x="5100480" y="2792160"/>
              <a:ext cx="463320" cy="946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0T20:22:51Z</dcterms:created>
  <dc:creator>Valued Gateway Customer</dc:creator>
  <dc:description/>
  <dc:language>en-US</dc:language>
  <cp:lastModifiedBy>Valued Gateway Customer</cp:lastModifiedBy>
  <dcterms:modified xsi:type="dcterms:W3CDTF">1999-07-10T20:28:00Z</dcterms:modified>
  <cp:revision>2</cp:revision>
  <dc:subject/>
  <dc:title>No Slide Title</dc:title>
</cp:coreProperties>
</file>