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EA7D-38E9-4164-B7C8-F2E15B16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FD8A-F5C3-4D07-8194-55C5118B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EE00-CABE-4E50-A57E-5197780CE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5F84-B212-4BEE-8FBB-0D5FEB916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99E7-37EF-4D09-8D4B-6CD59776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8549-856D-423E-854C-7D816CAE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A458-D5F0-4FCA-8720-C6FAD35E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3B34-50AF-49B2-AA31-CC81972E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8424-C3AC-4919-B4EB-AC99631E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1D16-0D58-45CD-92CC-46F207FC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FB7F-C0C2-44B3-9D45-A5A69F51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9308-2F5B-4D93-BA24-DCF1ACDC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FA91-5AB3-4B66-A943-3911445C2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53040" y="6087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40480" y="179640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05520" y="17964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59880" y="301536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15280" y="30153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96920" y="301536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31800" y="3015360"/>
            <a:ext cx="11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36080" y="47682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93480" y="47682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02200" y="469188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/>
          <p:nvPr/>
        </p:nvCxnSpPr>
        <p:spPr>
          <a:xfrm flipH="1">
            <a:off x="2590200" y="838080"/>
            <a:ext cx="6022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1" idx="3"/>
            <a:endCxn id="43" idx="0"/>
          </p:cNvCxnSpPr>
          <p:nvPr/>
        </p:nvCxnSpPr>
        <p:spPr>
          <a:xfrm>
            <a:off x="4838400" y="792720"/>
            <a:ext cx="1904040" cy="100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2" idx="2"/>
            <a:endCxn id="45" idx="0"/>
          </p:cNvCxnSpPr>
          <p:nvPr/>
        </p:nvCxnSpPr>
        <p:spPr>
          <a:xfrm>
            <a:off x="2598480" y="2164680"/>
            <a:ext cx="875160" cy="85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3" idx="2"/>
            <a:endCxn id="46" idx="0"/>
          </p:cNvCxnSpPr>
          <p:nvPr/>
        </p:nvCxnSpPr>
        <p:spPr>
          <a:xfrm>
            <a:off x="6742080" y="2164680"/>
            <a:ext cx="1219320" cy="85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2"/>
            <a:endCxn id="44" idx="0"/>
          </p:cNvCxnSpPr>
          <p:nvPr/>
        </p:nvCxnSpPr>
        <p:spPr>
          <a:xfrm rot="5400000">
            <a:off x="1482120" y="1899360"/>
            <a:ext cx="851040" cy="1381680"/>
          </a:xfrm>
          <a:prstGeom prst="curvedConnector3">
            <a:avLst>
              <a:gd name="adj1" fmla="val 2496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3" idx="2"/>
            <a:endCxn id="47" idx="0"/>
          </p:cNvCxnSpPr>
          <p:nvPr/>
        </p:nvCxnSpPr>
        <p:spPr>
          <a:xfrm rot="5400000">
            <a:off x="5787000" y="2060280"/>
            <a:ext cx="851040" cy="1059480"/>
          </a:xfrm>
          <a:prstGeom prst="curvedConnector3">
            <a:avLst>
              <a:gd name="adj1" fmla="val 2496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5" idx="2"/>
            <a:endCxn id="48" idx="0"/>
          </p:cNvCxnSpPr>
          <p:nvPr/>
        </p:nvCxnSpPr>
        <p:spPr>
          <a:xfrm rot="5400000">
            <a:off x="1866600" y="3161520"/>
            <a:ext cx="1384920" cy="1829160"/>
          </a:xfrm>
          <a:prstGeom prst="curvedConnector3">
            <a:avLst>
              <a:gd name="adj1" fmla="val 2501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45" idx="2"/>
            <a:endCxn id="49" idx="0"/>
          </p:cNvCxnSpPr>
          <p:nvPr/>
        </p:nvCxnSpPr>
        <p:spPr>
          <a:xfrm flipH="1" rot="16200000">
            <a:off x="2895120" y="3961440"/>
            <a:ext cx="1384920" cy="228960"/>
          </a:xfrm>
          <a:prstGeom prst="curvedConnector3">
            <a:avLst>
              <a:gd name="adj1" fmla="val 2501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46" idx="2"/>
            <a:endCxn id="50" idx="0"/>
          </p:cNvCxnSpPr>
          <p:nvPr/>
        </p:nvCxnSpPr>
        <p:spPr>
          <a:xfrm rot="5400000">
            <a:off x="7005960" y="3737160"/>
            <a:ext cx="1308600" cy="601920"/>
          </a:xfrm>
          <a:prstGeom prst="curvedConnector3">
            <a:avLst>
              <a:gd name="adj1" fmla="val 2501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1523880" y="83808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914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2133720"/>
            <a:ext cx="152388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2057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27840" y="530136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distributed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5T17:02:21Z</dcterms:created>
  <dc:creator>Valued Gateway Customer</dc:creator>
  <dc:description/>
  <dc:language>en-US</dc:language>
  <cp:lastModifiedBy>Valued Gateway Customer</cp:lastModifiedBy>
  <dcterms:modified xsi:type="dcterms:W3CDTF">1999-04-29T21:31:37Z</dcterms:modified>
  <cp:revision>17</cp:revision>
  <dc:subject/>
  <dc:title>No Slide Title</dc:title>
</cp:coreProperties>
</file>