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5F59-5641-40BD-A19D-89D339E3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6AE4-C135-4FF1-BDEE-D922B777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E781-ABFB-477C-875E-8DB579325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B3DB-7154-4C6C-90B7-9E9B1397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4D44-D560-4BF8-9440-576FDF71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944C-A406-4022-94EF-D2910FFB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3362-F6BD-45F6-89FC-BDAB3DA9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55BD-DE2C-4CC2-89AF-5389F4CF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DAC6-D5AE-4F2C-88E2-67632658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F6B2-0298-4677-9A70-78066BDD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9901-9054-4D92-BC24-B5A04654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B627-6C67-47C1-A817-882DE0BB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7913-8511-44B7-A38F-DD671B2A8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380880"/>
          <a:ext cx="7925040" cy="609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0880"/>
                    <a:ext cx="792504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0T20:41:49Z</dcterms:created>
  <dc:creator>Valued Gateway Customer</dc:creator>
  <dc:description/>
  <dc:language>en-US</dc:language>
  <cp:lastModifiedBy>Valued Gateway Customer</cp:lastModifiedBy>
  <dcterms:modified xsi:type="dcterms:W3CDTF">1999-07-10T20:45:34Z</dcterms:modified>
  <cp:revision>2</cp:revision>
  <dc:subject/>
  <dc:title>No Slide Title</dc:title>
</cp:coreProperties>
</file>