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F73926-BDE6-40CA-80E5-F569DD9D0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00EC47-86F1-43D6-99CF-2200E96F6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3A04E1-6840-40AD-A87D-CF81159D8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E9B45A-42B8-41C7-991E-D153AF1F3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E7775-05A1-464C-956B-3B7A8A6D3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78D45-39FA-49C2-B7E1-FC0C9F50C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B9D82-F031-4726-B3D7-CC3D73040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A9A47-C019-49DB-BF69-4B35C8FFF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8DD77-1A67-4F5C-9DB4-8561F06E2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F93BF-D72D-42B1-BBFD-AF10B3DCF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C66F4-AC80-4835-97E3-DED1B5F13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C5BFA6-9962-4AE7-860D-53375C9BF7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5C184-F532-4C6C-9654-23A95B5A2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8D7A9-621B-4F15-BD3C-5AD1E4335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C6EAF-4DA3-40DA-8E0D-31942EEBE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EC517C-5AC3-4C23-8F16-231A801C8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22AED-2C50-447B-94E0-75511EEEA0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9FF9A-66C0-4F04-83F5-BCAA3EFA2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A95C8-62F2-48F0-AB7C-391F06403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DE9C7-2071-427C-B6FE-A9F774AE36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26A10F-9ECC-4F00-9EBB-CA77B823C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5DBB6-DCDC-4529-99CB-9F04AD5000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88CFA3-A2CC-46BD-A014-C54843F18E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CD03B-A79D-4CAE-9096-8D6916EF7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0AB1-D91B-4D20-B6FE-E192FD0F707E}"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30D9-9C78-4768-842C-F6119A48DE9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EF5F6DD9-D6A0-4FC6-94A5-D6B7FEB6A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7D38E06-B504-4205-9B1E-F06D9C7EC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B980C2F-922E-4673-A64B-84C3C44BF7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A2B24A5-9EDE-4174-94C9-BFDBC47B7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C4B772C9-7EF0-48B2-B2AB-4A54A7F507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985E1DD-C99F-4C99-9C67-2916D73EC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08AA385B-E13C-4C1B-B550-DB54DE410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A21AFE52-AEF3-4E6B-ADE4-811ACA63F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C2D32658-A57B-4544-AE78-3B8E4FA0D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4ECFF613-6354-4319-A8EA-119A9AADC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328BD6B-B84A-41C3-9353-E44DC572C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81CA027E-16AD-44BB-806B-1403EDC6C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16DB84C-084D-41DD-A803-B9876D0D8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C510D9FD-E23F-4E0A-BD8A-9AB389AB2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E438DDE-5142-48AE-90B2-32D4EBAB28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B7673FF-5BA9-4C17-801C-93B900303F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3F32EB6-1A40-4F10-9EC6-F5D1F2504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11DBCFCA-5C48-4DFA-BE71-FBFC8C6133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C07D6E7-0547-4572-B1C3-82DCF3C195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9FA55AA-87EA-46C0-B6D3-9A69634455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6D765220-C94C-44FE-9092-8E16E157D4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41046BA-D9EE-4E79-8CFE-B5D157C97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FA53AE9-16C6-40C9-B0F0-86B163F9FE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C7A3DEE-B940-4FE5-8887-4D0EDCFBC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76CD9B6D-7CDD-4D69-81C8-A66D3BE818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411F4E5-662A-4646-AA6A-AF150740E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6B859C9-3105-4E67-865D-11A3A8E3F4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haupt</cp:lastModifiedBy>
  <dcterms:modified xsi:type="dcterms:W3CDTF">1998-11-18T18:44:19Z</dcterms:modified>
  <cp:revision>8</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