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2FB-5B3A-4263-9BD0-88630205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0B7-8FEB-4768-A691-DD0CBDDB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C61-FCDB-441B-A84E-39A81BC7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6E3-2346-41E5-BB43-07E5E417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12D-A9FD-4DE3-8EC9-30A7D853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91E-A34B-49BA-A764-6760B412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E08-832E-4DC8-9992-9924A17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5B6-BE49-41C3-8E36-BCCC1C9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C5E-8F6D-4CE3-A383-C911116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930-3625-4872-A436-D414F776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472-8B77-43D0-80DC-ADE6BFB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2AD-5C8A-497C-9920-6B2CC895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6DA5-7BDC-4D37-86E0-E3F21D31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4654080" y="565560"/>
            <a:ext cx="261000" cy="1790280"/>
          </a:xfrm>
          <a:prstGeom prst="bentConnector4">
            <a:avLst>
              <a:gd name="adj1" fmla="val 801243"/>
              <a:gd name="adj2" fmla="val 1132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458080" y="159480"/>
            <a:ext cx="261000" cy="260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214080" y="915480"/>
            <a:ext cx="261000" cy="109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3934080" y="1285560"/>
            <a:ext cx="261000" cy="350280"/>
          </a:xfrm>
          <a:prstGeom prst="bentConnector4">
            <a:avLst>
              <a:gd name="adj1" fmla="val 801243"/>
              <a:gd name="adj2" fmla="val 2519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8560" y="29520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53" idx="4"/>
          </p:cNvCxnSpPr>
          <p:nvPr/>
        </p:nvCxnSpPr>
        <p:spPr>
          <a:xfrm rot="5400000">
            <a:off x="5374080" y="-163800"/>
            <a:ext cx="270360" cy="3239640"/>
          </a:xfrm>
          <a:prstGeom prst="bentConnector4">
            <a:avLst>
              <a:gd name="adj1" fmla="val 776933"/>
              <a:gd name="adj2" fmla="val 1073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6" idx="2"/>
            <a:endCxn id="84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4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2"/>
            <a:endCxn id="84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2"/>
            <a:endCxn id="84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9" idx="0"/>
            <a:endCxn id="89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8" idx="0"/>
            <a:endCxn id="89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7" idx="0"/>
            <a:endCxn id="89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0"/>
            <a:endCxn id="89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0"/>
            <a:endCxn id="89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6858000" y="51814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2"/>
            <a:endCxn id="84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1"/>
            <a:endCxn id="111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3"/>
            <a:endCxn id="108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8" idx="3"/>
            <a:endCxn id="114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3"/>
            <a:endCxn id="110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2"/>
            <a:endCxn id="115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0" idx="2"/>
            <a:endCxn id="112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115880" y="40384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05" idx="4"/>
          </p:cNvCxnSpPr>
          <p:nvPr/>
        </p:nvCxnSpPr>
        <p:spPr>
          <a:xfrm flipH="1" flipV="1">
            <a:off x="4609800" y="3047400"/>
            <a:ext cx="54720" cy="99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  <a:endCxn id="104" idx="6"/>
          </p:cNvCxnSpPr>
          <p:nvPr/>
        </p:nvCxnSpPr>
        <p:spPr>
          <a:xfrm flipH="1">
            <a:off x="3047400" y="4449600"/>
            <a:ext cx="1067400" cy="84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2"/>
            <a:endCxn id="109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endCxn id="108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endCxn id="114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4" name=""/>
          <p:cNvCxnSpPr>
            <a:stCxn id="132" idx="0"/>
            <a:endCxn id="113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"/>
          <p:cNvCxnSpPr>
            <a:stCxn id="126" idx="3"/>
            <a:endCxn id="106" idx="1"/>
          </p:cNvCxnSpPr>
          <p:nvPr/>
        </p:nvCxnSpPr>
        <p:spPr>
          <a:xfrm flipV="1">
            <a:off x="5213160" y="3936600"/>
            <a:ext cx="1229400" cy="513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2T18:28:52Z</dcterms:modified>
  <cp:revision>8</cp:revision>
  <dc:subject/>
  <dc:title>No Slide Title</dc:title>
</cp:coreProperties>
</file>