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D0F-4271-4C10-8741-36430B2C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F49-6E41-4A25-9B92-78C605BC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536-D237-40ED-8150-8428C13F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CC4-85EF-4AC3-A9A2-2B8F354F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F36-A381-4537-9414-7FA6D2A9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1F2-071F-418A-805A-9C48FAB3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7E0-B1CF-4CE4-8FE8-B6E87F5C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F46-1F0B-420B-B631-40BC9F83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D57-D284-4FC4-9973-AEFB43AA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97E-3C0E-476E-AABD-AB0B4002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DB7-767C-45FC-A4F0-58190EBD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BBD-F87C-4075-AB84-C359A4E3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313B-BDB0-4D83-8C3C-F6E8CF774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0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1:01:58Z</dcterms:modified>
  <cp:revision>5</cp:revision>
  <dc:subject/>
  <dc:title>No Slide Title</dc:title>
</cp:coreProperties>
</file>