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28F-9102-4011-A7A6-244EC797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E79-88C2-4860-9584-333AAB5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48C-7007-4D09-ADC4-B5297F7F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81D-3599-489D-BCED-D5DB99EF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70D-0D96-4F9C-B412-AE4FC5F2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3E9-B91B-4840-9CFC-A0AC968D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5ED-9F54-4530-875B-1761EB92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6ED-7A36-474F-B3AB-3479E62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8A5-6A47-4DDC-90FF-D31702A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BBA-28BF-40B9-9EF4-6FFECFA3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0A1-7A3D-4EC5-9AAB-70524659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8E0-E6A0-446E-B19B-1C26543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ADD8-3389-4540-853C-E38D4CAE9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533520"/>
            <a:ext cx="6628680" cy="5714640"/>
            <a:chOff x="1371600" y="533520"/>
            <a:chExt cx="6628680" cy="5714640"/>
          </a:xfrm>
        </p:grpSpPr>
        <p:sp>
          <p:nvSpPr>
            <p:cNvPr id="42" name=""/>
            <p:cNvSpPr/>
            <p:nvPr/>
          </p:nvSpPr>
          <p:spPr>
            <a:xfrm>
              <a:off x="3227400" y="2526840"/>
              <a:ext cx="3182040" cy="1195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31800" y="5051880"/>
              <a:ext cx="2121480" cy="79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1440" y="5051880"/>
              <a:ext cx="2120760" cy="79704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23000" y="46533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2300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1384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3840" y="584928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23000" y="62481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023000" y="584892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520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164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533520"/>
              <a:ext cx="1458000" cy="66420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94560" y="533520"/>
              <a:ext cx="1458720" cy="66420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18600" y="533520"/>
              <a:ext cx="1458000" cy="66420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2280" y="533520"/>
              <a:ext cx="1458000" cy="66420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66840" y="1197720"/>
              <a:ext cx="172296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746320" y="1197720"/>
              <a:ext cx="159084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83200" y="1197720"/>
              <a:ext cx="53028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90160" y="1197720"/>
              <a:ext cx="66312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37:08Z</dcterms:created>
  <dc:creator>Valued Gateway Customer</dc:creator>
  <dc:description/>
  <dc:language>en-US</dc:language>
  <cp:lastModifiedBy>Valued Gateway Customer</cp:lastModifiedBy>
  <dcterms:modified xsi:type="dcterms:W3CDTF">1999-07-10T20:39:25Z</dcterms:modified>
  <cp:revision>1</cp:revision>
  <dc:subject/>
  <dc:title>No Slide Title</dc:title>
</cp:coreProperties>
</file>