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ADE-265D-4803-BEC2-9EBE1393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D2E-6AE5-433E-80CB-6816AE45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3E9-C2C7-4B2A-A613-6B4AB1E6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376-1275-45EB-B920-A5F1B533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67A-A367-421A-AA97-AF494CC0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B48-4C20-42CC-9348-965C9E20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0A6-C7B5-40DA-B453-8508430A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05F-D921-4F95-8EA4-E1366A36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698-B3C7-4271-8A84-B9B31838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255-E0B9-4EEC-9FD1-3EA71EE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395-C76A-4DA9-8E01-92824DC9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05B-CCE2-47B4-8670-41F0D6D4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225B-DB06-4BA6-BFBA-3C76E63F9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5T03:52:39Z</dcterms:modified>
  <cp:revision>17</cp:revision>
  <dc:subject/>
  <dc:title>No Slide Title</dc:title>
</cp:coreProperties>
</file>