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92B-1FDA-44CB-A54B-946A92B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4A3-4772-43D6-A744-11CB83A3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AFF-601A-4599-921E-2215175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654-699E-48D9-8C4F-5139A25B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C54-4184-41C0-ABD8-DEF7EFE8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402-1557-4C2F-A848-0248708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6C3-2276-4A93-8CA9-CDD76BA3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148-E818-4E78-9592-8B0C3FC5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977-0EEA-43EA-88F0-8C8A645A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E48-1C91-4FEA-BABF-48718B0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BEE-82B2-452F-A057-EC760443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CBA-9692-4DCA-8E25-57A30FE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F4A8-205B-44CB-B1AC-24B8D95DB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dcterms:modified xsi:type="dcterms:W3CDTF">1999-09-26T23:27:55Z</dcterms:modified>
  <cp:revision>1</cp:revision>
  <dc:subject/>
  <dc:title>No Slide Title</dc:title>
</cp:coreProperties>
</file>