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2226-A7F4-4F2B-87BF-BBCB5100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AFD6-AAF7-4190-A08F-73FFBE03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695-40B5-4E54-ACD9-0CA7913A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35C-A30B-4CFE-9768-F0950C61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0D2-EC03-40F8-9541-8C45A7DB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948-3B75-428C-BB78-07FDFF92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7ED-DDC1-4599-A2CC-375A4500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47A-F73A-42DD-BB90-13107630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AA8-2447-4B39-BE49-87321FD4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5FC-F8D2-4F2E-A562-D2CFCC04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631-1EA5-4FC2-AA26-CDEE6073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133-7B41-485C-8631-C0453B1B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CABF-1F3C-4E61-B536-55AC79931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43400" y="685800"/>
            <a:ext cx="4114800" cy="396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86200" y="35812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144792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RemoteAcc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48769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33940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5" idx="2"/>
            <a:endCxn id="44" idx="1"/>
          </p:cNvCxnSpPr>
          <p:nvPr/>
        </p:nvCxnSpPr>
        <p:spPr>
          <a:xfrm>
            <a:off x="1285920" y="3853800"/>
            <a:ext cx="1896480" cy="114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7"/>
            <a:endCxn id="42" idx="2"/>
          </p:cNvCxnSpPr>
          <p:nvPr/>
        </p:nvCxnSpPr>
        <p:spPr>
          <a:xfrm flipV="1">
            <a:off x="3828600" y="3962520"/>
            <a:ext cx="857880" cy="103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endCxn id="42" idx="1"/>
          </p:cNvCxnSpPr>
          <p:nvPr/>
        </p:nvCxnSpPr>
        <p:spPr>
          <a:xfrm>
            <a:off x="1752120" y="3733920"/>
            <a:ext cx="2134440" cy="3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endCxn id="43" idx="2"/>
          </p:cNvCxnSpPr>
          <p:nvPr/>
        </p:nvCxnSpPr>
        <p:spPr>
          <a:xfrm flipH="1" flipV="1">
            <a:off x="4724280" y="1828800"/>
            <a:ext cx="38520" cy="179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5" idx="3"/>
            <a:endCxn id="43" idx="1"/>
          </p:cNvCxnSpPr>
          <p:nvPr/>
        </p:nvCxnSpPr>
        <p:spPr>
          <a:xfrm flipV="1">
            <a:off x="1749600" y="1638360"/>
            <a:ext cx="2213280" cy="198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6477120" y="144792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B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3" idx="3"/>
            <a:endCxn id="51" idx="1"/>
          </p:cNvCxnSpPr>
          <p:nvPr/>
        </p:nvCxnSpPr>
        <p:spPr>
          <a:xfrm>
            <a:off x="5486400" y="1638360"/>
            <a:ext cx="991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791320" y="12952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3623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25909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38098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44956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114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350532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28600"/>
            <a:ext cx="76320" cy="579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1" idx="0"/>
            <a:endCxn id="41" idx="0"/>
          </p:cNvCxnSpPr>
          <p:nvPr/>
        </p:nvCxnSpPr>
        <p:spPr>
          <a:xfrm flipH="1" flipV="1">
            <a:off x="6400800" y="685800"/>
            <a:ext cx="8384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1512720" y="457200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9480" y="472428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7000" y="350532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EJB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243828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B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37720" y="1941480"/>
            <a:ext cx="72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79440" y="1712880"/>
            <a:ext cx="72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8600" y="5943600"/>
            <a:ext cx="138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B Bean Prov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and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90520" y="5943600"/>
            <a:ext cx="126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EJB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5943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0880" y="91440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02240" y="44560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9T22:47:38Z</dcterms:created>
  <dc:creator>Valued Gateway Customer</dc:creator>
  <dc:description/>
  <dc:language>en-US</dc:language>
  <cp:lastModifiedBy>Valued Gateway Customer</cp:lastModifiedBy>
  <dcterms:modified xsi:type="dcterms:W3CDTF">1999-04-30T03:26:44Z</dcterms:modified>
  <cp:revision>2</cp:revision>
  <dc:subject/>
  <dc:title>No Slide Title</dc:title>
</cp:coreProperties>
</file>