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553-B9A9-47E3-9418-448EB005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CF9-E604-4C16-9AED-BCE27ADB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D7B-D276-481C-812B-56A9716E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710-4935-4FDD-93D1-D48CF1DA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FFD-611A-4B33-A1AE-69521538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139-19AF-41F8-B417-3DD1D9E5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55E-2421-4C78-A5F3-07D858C5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756-CBE3-44C5-9589-8FC418FC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79F-AE65-4274-B7F2-6A5577D2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A41-BCB7-4CFE-8DE9-D791CD71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1A7-AFE7-4283-90AA-B2C37FF5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142-FC69-4AA5-A83C-10BD2BE0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8BDA-2A58-4F11-9422-76E6AE0A3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886200"/>
            <a:ext cx="304560" cy="3049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3886200"/>
            <a:ext cx="304920" cy="3049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2666880"/>
            <a:ext cx="609480" cy="6858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3" idx="1"/>
          </p:cNvCxnSpPr>
          <p:nvPr/>
        </p:nvCxnSpPr>
        <p:spPr>
          <a:xfrm flipH="1">
            <a:off x="349560" y="2209680"/>
            <a:ext cx="69840" cy="1721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/>
          <p:nvPr/>
        </p:nvCxnSpPr>
        <p:spPr>
          <a:xfrm flipH="1">
            <a:off x="3885840" y="3352320"/>
            <a:ext cx="2635920" cy="79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/>
          <p:nvPr/>
        </p:nvCxnSpPr>
        <p:spPr>
          <a:xfrm flipH="1" flipV="1" rot="5400000">
            <a:off x="4820040" y="2265840"/>
            <a:ext cx="938880" cy="2959920"/>
          </a:xfrm>
          <a:prstGeom prst="curvedConnector5">
            <a:avLst>
              <a:gd name="adj1" fmla="val -24357"/>
              <a:gd name="adj2" fmla="val 49993"/>
              <a:gd name="adj3" fmla="val -2435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6" idx="3"/>
          </p:cNvCxnSpPr>
          <p:nvPr/>
        </p:nvCxnSpPr>
        <p:spPr>
          <a:xfrm flipH="1" flipV="1" rot="10800000">
            <a:off x="2743200" y="2095200"/>
            <a:ext cx="959400" cy="2051640"/>
          </a:xfrm>
          <a:prstGeom prst="curvedConnector3">
            <a:avLst>
              <a:gd name="adj1" fmla="val -964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/>
          <p:nvPr/>
        </p:nvCxnSpPr>
        <p:spPr>
          <a:xfrm>
            <a:off x="2971800" y="2057400"/>
            <a:ext cx="3582000" cy="572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6" idx="2"/>
            <a:endCxn id="45" idx="2"/>
          </p:cNvCxnSpPr>
          <p:nvPr/>
        </p:nvCxnSpPr>
        <p:spPr>
          <a:xfrm rot="10800000">
            <a:off x="2856960" y="2209320"/>
            <a:ext cx="800640" cy="18295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5" idx="3"/>
            <a:endCxn id="46" idx="0"/>
          </p:cNvCxnSpPr>
          <p:nvPr/>
        </p:nvCxnSpPr>
        <p:spPr>
          <a:xfrm>
            <a:off x="2971800" y="2095200"/>
            <a:ext cx="838800" cy="1791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2004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6" idx="4"/>
            <a:endCxn id="57" idx="0"/>
          </p:cNvCxnSpPr>
          <p:nvPr/>
        </p:nvCxnSpPr>
        <p:spPr>
          <a:xfrm flipH="1">
            <a:off x="3314520" y="4191120"/>
            <a:ext cx="496080" cy="609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7" idx="1"/>
          </p:cNvCxnSpPr>
          <p:nvPr/>
        </p:nvCxnSpPr>
        <p:spPr>
          <a:xfrm flipH="1">
            <a:off x="2819160" y="4914720"/>
            <a:ext cx="3816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179748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endCxn id="45" idx="0"/>
          </p:cNvCxnSpPr>
          <p:nvPr/>
        </p:nvCxnSpPr>
        <p:spPr>
          <a:xfrm>
            <a:off x="2819520" y="609120"/>
            <a:ext cx="3816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5638680"/>
            <a:ext cx="76320" cy="763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5562720"/>
            <a:ext cx="380880" cy="304560"/>
          </a:xfrm>
          <a:prstGeom prst="hexagon">
            <a:avLst>
              <a:gd name="adj" fmla="val 31265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3080" y="90720"/>
            <a:ext cx="176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NewModule(“M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990720"/>
            <a:ext cx="3812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4419720"/>
            <a:ext cx="3812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43434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9810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28195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28954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29718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2920" y="58662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User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ith name “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5720" y="243720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3480" y="26362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68240" y="426600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ntiate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name ‘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6160" y="2818080"/>
            <a:ext cx="129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modu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123000"/>
            <a:ext cx="6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88240" y="152280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Proxy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16720" y="3661200"/>
            <a:ext cx="1011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c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9440" y="152316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uc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4400" y="2361600"/>
            <a:ext cx="142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o “uc_1”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8920" y="4647600"/>
            <a:ext cx="192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inserts new mod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o its children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320" y="3737520"/>
            <a:ext cx="1011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c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7760" y="175176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uc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11:44Z</dcterms:modified>
  <cp:revision>3</cp:revision>
  <dc:subject/>
  <dc:title>No Slide Title</dc:title>
</cp:coreProperties>
</file>