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FF9-8891-493A-B0BD-64A6FD76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233-1A90-4D61-9225-8FA19E5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0A7-DE6A-4B28-90B0-C04189E0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D51-C3AB-4A6E-A0AD-1071C5DC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D29-4A6E-405E-A750-728B0B6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9E9-E135-4240-8121-20A12BCF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4CB-BDDB-4BE3-8571-B6E5228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55F-C559-4751-8AE5-7616955F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D6E-FC32-445D-8911-BBCCA7E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936-DBA3-4412-83C6-81A529D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93F-AADA-47FF-9F4D-DA3418A1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3B4-3416-42FE-8E58-32635DC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BA1F-92D7-4ECB-816D-C16D2846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0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40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 flipH="1">
            <a:off x="196920" y="2209680"/>
            <a:ext cx="22248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978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6292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5" idx="0"/>
          </p:cNvCxnSpPr>
          <p:nvPr/>
        </p:nvCxnSpPr>
        <p:spPr>
          <a:xfrm>
            <a:off x="6216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2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2800" y="546120"/>
            <a:ext cx="15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Module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2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6720" y="20563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6984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40" y="3204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0" idx="2"/>
            <a:endCxn id="55" idx="0"/>
          </p:cNvCxnSpPr>
          <p:nvPr/>
        </p:nvCxnSpPr>
        <p:spPr>
          <a:xfrm>
            <a:off x="7092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2"/>
            <a:endCxn id="46" idx="0"/>
          </p:cNvCxnSpPr>
          <p:nvPr/>
        </p:nvCxnSpPr>
        <p:spPr>
          <a:xfrm>
            <a:off x="6254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3" idx="4"/>
            <a:endCxn id="64" idx="0"/>
          </p:cNvCxnSpPr>
          <p:nvPr/>
        </p:nvCxnSpPr>
        <p:spPr>
          <a:xfrm>
            <a:off x="304920" y="3581280"/>
            <a:ext cx="190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296400" y="267048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2"/>
            <a:endCxn id="67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196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1116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45" idx="1"/>
            <a:endCxn id="46" idx="1"/>
          </p:cNvCxnSpPr>
          <p:nvPr/>
        </p:nvCxnSpPr>
        <p:spPr>
          <a:xfrm flipH="1" flipV="1" rot="10800000">
            <a:off x="6140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673680" y="312408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0680" y="25146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4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2080" y="563868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6" idx="2"/>
            <a:endCxn id="77" idx="0"/>
          </p:cNvCxnSpPr>
          <p:nvPr/>
        </p:nvCxnSpPr>
        <p:spPr>
          <a:xfrm>
            <a:off x="5492520" y="495288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0808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0960" y="5561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46" idx="3"/>
            <a:endCxn id="76" idx="0"/>
          </p:cNvCxnSpPr>
          <p:nvPr/>
        </p:nvCxnSpPr>
        <p:spPr>
          <a:xfrm flipH="1">
            <a:off x="5492520" y="3460680"/>
            <a:ext cx="693000" cy="12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4680" y="570060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905120" y="4952880"/>
            <a:ext cx="38160" cy="74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20320" y="4556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200" y="562356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43" idx="5"/>
            <a:endCxn id="82" idx="0"/>
          </p:cNvCxnSpPr>
          <p:nvPr/>
        </p:nvCxnSpPr>
        <p:spPr>
          <a:xfrm>
            <a:off x="412560" y="3536640"/>
            <a:ext cx="1530720" cy="11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1"/>
            <a:endCxn id="43" idx="5"/>
          </p:cNvCxnSpPr>
          <p:nvPr/>
        </p:nvCxnSpPr>
        <p:spPr>
          <a:xfrm rot="10800000">
            <a:off x="412560" y="3536640"/>
            <a:ext cx="1416600" cy="1302120"/>
          </a:xfrm>
          <a:prstGeom prst="curvedConnector3">
            <a:avLst>
              <a:gd name="adj1" fmla="val 226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89" name=""/>
          <p:cNvCxnSpPr>
            <a:endCxn id="76" idx="1"/>
          </p:cNvCxnSpPr>
          <p:nvPr/>
        </p:nvCxnSpPr>
        <p:spPr>
          <a:xfrm>
            <a:off x="609120" y="3580920"/>
            <a:ext cx="4769640" cy="12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0" name=""/>
          <p:cNvCxnSpPr>
            <a:stCxn id="76" idx="1"/>
            <a:endCxn id="46" idx="2"/>
          </p:cNvCxnSpPr>
          <p:nvPr/>
        </p:nvCxnSpPr>
        <p:spPr>
          <a:xfrm flipH="1" rot="10800000">
            <a:off x="5378040" y="3353040"/>
            <a:ext cx="762480" cy="1485720"/>
          </a:xfrm>
          <a:prstGeom prst="curvedConnector3">
            <a:avLst>
              <a:gd name="adj1" fmla="val -101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1" name=""/>
          <p:cNvCxnSpPr>
            <a:stCxn id="46" idx="6"/>
            <a:endCxn id="50" idx="3"/>
          </p:cNvCxnSpPr>
          <p:nvPr/>
        </p:nvCxnSpPr>
        <p:spPr>
          <a:xfrm>
            <a:off x="6445080" y="3353040"/>
            <a:ext cx="762480" cy="1562040"/>
          </a:xfrm>
          <a:prstGeom prst="curvedConnector3">
            <a:avLst>
              <a:gd name="adj1" fmla="val 109966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7126560" y="2909520"/>
            <a:ext cx="202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local binding 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2 to M3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 proxy 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120" y="3046680"/>
            <a:ext cx="233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e property“beanContex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ev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Chan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>
            <a:off x="380160" y="2209320"/>
            <a:ext cx="5722200" cy="112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42" idx="6"/>
            <a:endCxn id="45" idx="1"/>
          </p:cNvCxnSpPr>
          <p:nvPr/>
        </p:nvCxnSpPr>
        <p:spPr>
          <a:xfrm>
            <a:off x="990720" y="1371600"/>
            <a:ext cx="5150160" cy="72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44" idx="2"/>
            <a:endCxn id="43" idx="7"/>
          </p:cNvCxnSpPr>
          <p:nvPr/>
        </p:nvCxnSpPr>
        <p:spPr>
          <a:xfrm rot="5400000">
            <a:off x="-140040" y="2762280"/>
            <a:ext cx="1112040" cy="6840"/>
          </a:xfrm>
          <a:prstGeom prst="curvedConnector3">
            <a:avLst>
              <a:gd name="adj1" fmla="val 21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5720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898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6576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4280" y="6171120"/>
            <a:ext cx="20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1 to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1"/>
            <a:endCxn id="100" idx="4"/>
          </p:cNvCxnSpPr>
          <p:nvPr/>
        </p:nvCxnSpPr>
        <p:spPr>
          <a:xfrm rot="10800000">
            <a:off x="190440" y="3962160"/>
            <a:ext cx="34200" cy="2468880"/>
          </a:xfrm>
          <a:prstGeom prst="bentConnector4">
            <a:avLst>
              <a:gd name="adj1" fmla="val 671276"/>
              <a:gd name="adj2" fmla="val 5516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895040" y="-1440"/>
            <a:ext cx="353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teps occurred during remo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M2.Suppose there were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-M3 and M1-M2 bef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3:45:08Z</dcterms:modified>
  <cp:revision>8</cp:revision>
  <dc:subject/>
  <dc:title>No Slide Title</dc:title>
</cp:coreProperties>
</file>