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8E7-ED54-46E6-B8AA-9C5D864E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638-A95E-45E5-A428-0C5EF25A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C55-E6A0-4E78-935F-48FA6866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220-F3E9-4616-B01F-A62C6591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75A-DE2C-4072-861E-518E0CE2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BE5-F4EB-43D5-9017-B3D7210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46B-9F00-4585-B9CA-40A30DA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A8D-C3FD-46C8-95B6-250F465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A2D-CB98-4F73-A2DD-BB48D7F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C53-F384-4356-A8EB-287E271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5C3-AFCA-4F2C-B533-F907CDF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292-C7B6-4FC9-A42A-08DDD27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5E2-28E1-48C2-992E-3F3E43D7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teway Syst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top Access to High Performance Computati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z Haupt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ast Parallel Architectures Cent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upt@npac.syr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Akarsu, G. Fox, A. Kalinichenko, K. Kim, P. Sheethaalnath, C. Youn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sbury (ASC), K. Flurchick (O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C62-ADAE-4019-B4A7-469C1A7974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288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1905120"/>
            <a:ext cx="3657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resource id=“ahost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220968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5146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914400"/>
            <a:ext cx="4572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stract task descriptor id=“a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bstract 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03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ask taskid=“taskid”&gt;...&lt;/ta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nection&gt;...&lt;/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76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5257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4648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4114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680240" y="243000"/>
            <a:ext cx="1249200" cy="2195280"/>
            <a:chOff x="7680240" y="243000"/>
            <a:chExt cx="1249200" cy="2195280"/>
          </a:xfrm>
        </p:grpSpPr>
        <p:sp>
          <p:nvSpPr>
            <p:cNvPr id="314" name=""/>
            <p:cNvSpPr/>
            <p:nvPr/>
          </p:nvSpPr>
          <p:spPr>
            <a:xfrm>
              <a:off x="7846920" y="990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6920" y="1981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4" idx="2"/>
              <a:endCxn id="315" idx="0"/>
            </p:cNvCxnSpPr>
            <p:nvPr/>
          </p:nvCxnSpPr>
          <p:spPr>
            <a:xfrm>
              <a:off x="8303760" y="144756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7902720" y="1143000"/>
              <a:ext cx="8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n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56800" y="1905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80240" y="24300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768800" y="31384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441972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240" y="0"/>
                </a:lnTo>
                <a:lnTo>
                  <a:pt x="24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105520"/>
            <a:ext cx="5335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lnTo>
                  <a:pt x="336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3F2-9139-4F98-85AE-6D3220E6F0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838080"/>
            <a:ext cx="4114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sk descriptor id=“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329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276720" y="190512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 id=“resource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0968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task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5146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42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lt;task taskid=“taskid”&gt;...&lt;/tas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&lt;connection&gt;...&lt;/conn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14300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50292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2971800"/>
            <a:ext cx="152424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9" idx="2"/>
            <a:endCxn id="351" idx="0"/>
          </p:cNvCxnSpPr>
          <p:nvPr/>
        </p:nvCxnSpPr>
        <p:spPr>
          <a:xfrm>
            <a:off x="8229240" y="2361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4"/>
            <a:endCxn id="350" idx="0"/>
          </p:cNvCxnSpPr>
          <p:nvPr/>
        </p:nvCxnSpPr>
        <p:spPr>
          <a:xfrm>
            <a:off x="82292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971800" y="129528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task id=“atd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6A0-FCD5-4A3C-A9DD-AF62BC10B6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Task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9480" y="1752480"/>
            <a:ext cx="7856640" cy="4132440"/>
            <a:chOff x="609480" y="1752480"/>
            <a:chExt cx="7856640" cy="4132440"/>
          </a:xfrm>
        </p:grpSpPr>
        <p:sp>
          <p:nvSpPr>
            <p:cNvPr id="357" name=""/>
            <p:cNvSpPr/>
            <p:nvPr/>
          </p:nvSpPr>
          <p:spPr>
            <a:xfrm>
              <a:off x="609480" y="3832200"/>
              <a:ext cx="7854840" cy="2052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080" y="1752480"/>
              <a:ext cx="7844040" cy="207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5560" y="202536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5560" y="243828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0120" y="329400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0120" y="287964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3280" y="287964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59" idx="2"/>
              <a:endCxn id="360" idx="0"/>
            </p:cNvCxnSpPr>
            <p:nvPr/>
          </p:nvCxnSpPr>
          <p:spPr>
            <a:xfrm flipV="1" rot="10800000">
              <a:off x="1945440" y="2272680"/>
              <a:ext cx="1080" cy="1659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5" name=""/>
            <p:cNvCxnSpPr>
              <a:stCxn id="360" idx="2"/>
              <a:endCxn id="363" idx="0"/>
            </p:cNvCxnSpPr>
            <p:nvPr/>
          </p:nvCxnSpPr>
          <p:spPr>
            <a:xfrm rot="5400000">
              <a:off x="1637280" y="2571480"/>
              <a:ext cx="194400" cy="42300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6" name=""/>
            <p:cNvCxnSpPr>
              <a:stCxn id="360" idx="2"/>
              <a:endCxn id="362" idx="0"/>
            </p:cNvCxnSpPr>
            <p:nvPr/>
          </p:nvCxnSpPr>
          <p:spPr>
            <a:xfrm flipH="1" rot="16200000">
              <a:off x="2136600" y="2495160"/>
              <a:ext cx="194400" cy="57528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7" name=""/>
            <p:cNvCxnSpPr>
              <a:stCxn id="362" idx="2"/>
              <a:endCxn id="361" idx="0"/>
            </p:cNvCxnSpPr>
            <p:nvPr/>
          </p:nvCxnSpPr>
          <p:spPr>
            <a:xfrm flipV="1" rot="10800000">
              <a:off x="2520000" y="3126600"/>
              <a:ext cx="1080" cy="1670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6040440" y="2146320"/>
              <a:ext cx="1460520" cy="12175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85840" y="2619360"/>
              <a:ext cx="27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4560" y="2828880"/>
              <a:ext cx="250956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visual represent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 converted into a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38720" y="4475160"/>
              <a:ext cx="1424160" cy="11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3960" y="3427200"/>
              <a:ext cx="0" cy="952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40" y="4078080"/>
              <a:ext cx="1285920" cy="164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5600" y="3427200"/>
              <a:ext cx="0" cy="952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29840" y="4647960"/>
              <a:ext cx="38228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0" y="4278240"/>
              <a:ext cx="1731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Times New Roman"/>
                </a:rPr>
                <a:t>s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40600" y="3919320"/>
              <a:ext cx="10522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p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76520" y="4944960"/>
              <a:ext cx="2968560" cy="79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4680" y="4933800"/>
              <a:ext cx="1706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657400" y="5303880"/>
              <a:ext cx="3826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255400" y="5329080"/>
              <a:ext cx="245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5352840"/>
              <a:ext cx="211320" cy="22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7240" y="527040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0080" y="5472000"/>
              <a:ext cx="21096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79640" y="532764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720" y="544356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2" idx="6"/>
              <a:endCxn id="386" idx="2"/>
            </p:cNvCxnSpPr>
            <p:nvPr/>
          </p:nvCxnSpPr>
          <p:spPr>
            <a:xfrm>
              <a:off x="3332160" y="5463720"/>
              <a:ext cx="250920" cy="9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"/>
            <p:cNvCxnSpPr>
              <a:stCxn id="386" idx="7"/>
              <a:endCxn id="383" idx="2"/>
            </p:cNvCxnSpPr>
            <p:nvPr/>
          </p:nvCxnSpPr>
          <p:spPr>
            <a:xfrm flipV="1">
              <a:off x="3763800" y="5381280"/>
              <a:ext cx="164160" cy="9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>
              <a:stCxn id="386" idx="6"/>
              <a:endCxn id="384" idx="2"/>
            </p:cNvCxnSpPr>
            <p:nvPr/>
          </p:nvCxnSpPr>
          <p:spPr>
            <a:xfrm>
              <a:off x="3793680" y="5554440"/>
              <a:ext cx="446760" cy="2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stCxn id="384" idx="6"/>
              <a:endCxn id="385" idx="3"/>
            </p:cNvCxnSpPr>
            <p:nvPr/>
          </p:nvCxnSpPr>
          <p:spPr>
            <a:xfrm flipV="1">
              <a:off x="4450680" y="5515920"/>
              <a:ext cx="259560" cy="6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2984400" y="1877760"/>
              <a:ext cx="28083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Front-End 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1000" y="3960720"/>
              <a:ext cx="2808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iddle-T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131-2A3A-4561-B66C-4EA980AB29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08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a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395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396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pic>
        <p:nvPicPr>
          <p:cNvPr id="397" name="lms04a" descr=""/>
          <p:cNvPicPr/>
          <p:nvPr/>
        </p:nvPicPr>
        <p:blipFill>
          <a:blip r:embed="rId4"/>
          <a:stretch/>
        </p:blipFill>
        <p:spPr>
          <a:xfrm>
            <a:off x="4559400" y="68580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89640" y="198360"/>
            <a:ext cx="4403520" cy="15591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e and choo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isting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 at han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all necessary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4561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72320"/>
            <a:ext cx="1819440" cy="382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/post-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2895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8320" y="5146560"/>
            <a:ext cx="828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7040" y="5146560"/>
            <a:ext cx="804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2000" y="5146560"/>
            <a:ext cx="841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99" idx="3"/>
            <a:endCxn id="402" idx="2"/>
          </p:cNvCxnSpPr>
          <p:nvPr/>
        </p:nvCxnSpPr>
        <p:spPr>
          <a:xfrm flipV="1">
            <a:off x="1819080" y="5554440"/>
            <a:ext cx="363960" cy="943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6" name=""/>
          <p:cNvCxnSpPr>
            <a:stCxn id="400" idx="3"/>
            <a:endCxn id="403" idx="2"/>
          </p:cNvCxnSpPr>
          <p:nvPr/>
        </p:nvCxnSpPr>
        <p:spPr>
          <a:xfrm flipV="1">
            <a:off x="1819440" y="5554080"/>
            <a:ext cx="1181520" cy="5101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7" name=""/>
          <p:cNvCxnSpPr>
            <a:stCxn id="401" idx="3"/>
            <a:endCxn id="404" idx="2"/>
          </p:cNvCxnSpPr>
          <p:nvPr/>
        </p:nvCxnSpPr>
        <p:spPr>
          <a:xfrm flipV="1">
            <a:off x="1819080" y="5554080"/>
            <a:ext cx="2004120" cy="9277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24560" y="304632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24560" y="35082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24560" y="4008600"/>
            <a:ext cx="1819440" cy="38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24560" y="44784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616360" y="3252960"/>
            <a:ext cx="1670040" cy="2039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70560" y="3724200"/>
            <a:ext cx="952560" cy="1484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568560" y="4218120"/>
            <a:ext cx="754200" cy="16588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83320" y="4862520"/>
            <a:ext cx="0" cy="1781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5D9-0F14-47B5-85F4-DEA74AEEDD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1371600"/>
            <a:ext cx="32004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420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C59-2F75-4D4B-8108-415E3C0AEB3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newfrontend-a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6300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Portal: Data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7C9-543D-421C-BF5C-68AE082F19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Gatew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248-934A-435D-8379-76B558C7860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: logi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066680"/>
            <a:ext cx="1600200" cy="71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2"/>
            <a:endCxn id="434" idx="0"/>
          </p:cNvCxnSpPr>
          <p:nvPr/>
        </p:nvCxnSpPr>
        <p:spPr>
          <a:xfrm>
            <a:off x="8191440" y="1777680"/>
            <a:ext cx="38880" cy="109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981080" y="1066680"/>
            <a:ext cx="2819160" cy="5295960"/>
            <a:chOff x="1981080" y="1066680"/>
            <a:chExt cx="2819160" cy="5295960"/>
          </a:xfrm>
        </p:grpSpPr>
        <p:sp>
          <p:nvSpPr>
            <p:cNvPr id="436" name=""/>
            <p:cNvSpPr/>
            <p:nvPr/>
          </p:nvSpPr>
          <p:spPr>
            <a:xfrm>
              <a:off x="1981080" y="1066680"/>
              <a:ext cx="2819160" cy="2518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585240"/>
              <a:ext cx="2819160" cy="1808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5393880"/>
              <a:ext cx="2819160" cy="96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133720" y="1197000"/>
            <a:ext cx="2438280" cy="22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fine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lect cod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e inpu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dentify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apable to ru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195560"/>
            <a:ext cx="243828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330200"/>
            <a:ext cx="152280" cy="199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3327480"/>
            <a:ext cx="2438280" cy="128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3714840"/>
            <a:ext cx="243828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h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3714840"/>
            <a:ext cx="2438280" cy="129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4295880"/>
            <a:ext cx="2438280" cy="129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55436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bmit jo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554360"/>
            <a:ext cx="2438280" cy="130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513540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558792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process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58792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6168960"/>
            <a:ext cx="2438280" cy="130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133800"/>
            <a:ext cx="1219320" cy="711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3"/>
            <a:endCxn id="440" idx="1"/>
          </p:cNvCxnSpPr>
          <p:nvPr/>
        </p:nvCxnSpPr>
        <p:spPr>
          <a:xfrm flipV="1">
            <a:off x="1219320" y="1260000"/>
            <a:ext cx="915120" cy="22298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52" idx="3"/>
            <a:endCxn id="439" idx="1"/>
          </p:cNvCxnSpPr>
          <p:nvPr/>
        </p:nvCxnSpPr>
        <p:spPr>
          <a:xfrm flipV="1">
            <a:off x="1219320" y="2327400"/>
            <a:ext cx="915120" cy="11624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2" idx="3"/>
            <a:endCxn id="444" idx="1"/>
          </p:cNvCxnSpPr>
          <p:nvPr/>
        </p:nvCxnSpPr>
        <p:spPr>
          <a:xfrm>
            <a:off x="1219320" y="3489120"/>
            <a:ext cx="915120" cy="2912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3"/>
            <a:endCxn id="447" idx="1"/>
          </p:cNvCxnSpPr>
          <p:nvPr/>
        </p:nvCxnSpPr>
        <p:spPr>
          <a:xfrm>
            <a:off x="1219320" y="3489120"/>
            <a:ext cx="915120" cy="113076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3"/>
            <a:endCxn id="450" idx="1"/>
          </p:cNvCxnSpPr>
          <p:nvPr/>
        </p:nvCxnSpPr>
        <p:spPr>
          <a:xfrm>
            <a:off x="1219320" y="3489480"/>
            <a:ext cx="915120" cy="216432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5029200" y="1131840"/>
            <a:ext cx="1676520" cy="5573880"/>
            <a:chOff x="5029200" y="1131840"/>
            <a:chExt cx="1676520" cy="5573880"/>
          </a:xfrm>
        </p:grpSpPr>
        <p:sp>
          <p:nvSpPr>
            <p:cNvPr id="459" name=""/>
            <p:cNvSpPr/>
            <p:nvPr/>
          </p:nvSpPr>
          <p:spPr>
            <a:xfrm>
              <a:off x="5029200" y="594504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216540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480" y="423216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332748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0688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113184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572000" y="12603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617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281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3780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4361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6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520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234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653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339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2035080"/>
            <a:ext cx="609480" cy="452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192" y="0"/>
                </a:lnTo>
                <a:lnTo>
                  <a:pt x="192" y="336"/>
                </a:lnTo>
                <a:lnTo>
                  <a:pt x="38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841400"/>
            <a:ext cx="762120" cy="32400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lnTo>
                  <a:pt x="480" y="0"/>
                </a:lnTo>
                <a:lnTo>
                  <a:pt x="480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2874960"/>
            <a:ext cx="1067040" cy="13572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4" idx="3"/>
            <a:endCxn id="434" idx="1"/>
          </p:cNvCxnSpPr>
          <p:nvPr/>
        </p:nvCxnSpPr>
        <p:spPr>
          <a:xfrm>
            <a:off x="6705360" y="1438200"/>
            <a:ext cx="1146600" cy="16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62" idx="3"/>
            <a:endCxn id="434" idx="2"/>
          </p:cNvCxnSpPr>
          <p:nvPr/>
        </p:nvCxnSpPr>
        <p:spPr>
          <a:xfrm flipV="1">
            <a:off x="6705360" y="3553560"/>
            <a:ext cx="991080" cy="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9" name=""/>
          <p:cNvCxnSpPr>
            <a:stCxn id="459" idx="3"/>
            <a:endCxn id="434" idx="4"/>
          </p:cNvCxnSpPr>
          <p:nvPr/>
        </p:nvCxnSpPr>
        <p:spPr>
          <a:xfrm flipV="1">
            <a:off x="6705360" y="4231440"/>
            <a:ext cx="152460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0" name=""/>
          <p:cNvCxnSpPr>
            <a:stCxn id="463" idx="3"/>
            <a:endCxn id="434" idx="3"/>
          </p:cNvCxnSpPr>
          <p:nvPr/>
        </p:nvCxnSpPr>
        <p:spPr>
          <a:xfrm flipV="1">
            <a:off x="6705360" y="4033080"/>
            <a:ext cx="114660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 flipH="1">
            <a:off x="6705360" y="3780000"/>
            <a:ext cx="106668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552760"/>
            <a:ext cx="990360" cy="70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26160" y="5319720"/>
            <a:ext cx="1454400" cy="136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00A-C1B5-4790-BDF4-1F072D1B0F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21240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Front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88040" y="56386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s methods of the control 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380880"/>
            <a:ext cx="15238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8" idx="3"/>
            <a:endCxn id="486" idx="2"/>
          </p:cNvCxnSpPr>
          <p:nvPr/>
        </p:nvCxnSpPr>
        <p:spPr>
          <a:xfrm flipV="1">
            <a:off x="6381720" y="1523520"/>
            <a:ext cx="1696320" cy="241056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6552720" y="403848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(kerberiz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3720" y="318960"/>
            <a:ext cx="246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hrough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5480" y="5500800"/>
            <a:ext cx="140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333440" y="1981080"/>
            <a:ext cx="5105520" cy="3548880"/>
            <a:chOff x="1333440" y="1981080"/>
            <a:chExt cx="5105520" cy="3548880"/>
          </a:xfrm>
        </p:grpSpPr>
        <p:sp>
          <p:nvSpPr>
            <p:cNvPr id="493" name=""/>
            <p:cNvSpPr/>
            <p:nvPr/>
          </p:nvSpPr>
          <p:spPr>
            <a:xfrm>
              <a:off x="1333440" y="1981080"/>
              <a:ext cx="5105520" cy="3276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90680" y="2050920"/>
              <a:ext cx="4991040" cy="627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0680" y="2747880"/>
              <a:ext cx="3743280" cy="237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rms and resul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48440" y="2747880"/>
              <a:ext cx="1133280" cy="237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2760" y="4495680"/>
              <a:ext cx="137160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"/>
            <p:cNvCxnSpPr>
              <a:stCxn id="496" idx="2"/>
              <a:endCxn id="488" idx="2"/>
            </p:cNvCxnSpPr>
            <p:nvPr/>
          </p:nvCxnSpPr>
          <p:spPr>
            <a:xfrm flipH="1" rot="16200000">
              <a:off x="4405320" y="3709080"/>
              <a:ext cx="241920" cy="2577240"/>
            </a:xfrm>
            <a:prstGeom prst="bentConnector3">
              <a:avLst>
                <a:gd name="adj1" fmla="val 27034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 flipH="1">
              <a:off x="3543120" y="32004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6920" y="278136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 result 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955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27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219320" y="1523880"/>
            <a:ext cx="5333760" cy="384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129528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75200" y="15159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095880" y="46483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72F-89FB-4C6C-882B-8897483F37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compon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81952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is g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hierarchy of contai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user mainta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umber of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odu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9000" y="2819520"/>
            <a:ext cx="5029200" cy="3657600"/>
            <a:chOff x="3429000" y="2819520"/>
            <a:chExt cx="5029200" cy="3657600"/>
          </a:xfrm>
        </p:grpSpPr>
        <p:sp>
          <p:nvSpPr>
            <p:cNvPr id="510" name=""/>
            <p:cNvSpPr/>
            <p:nvPr/>
          </p:nvSpPr>
          <p:spPr>
            <a:xfrm>
              <a:off x="3429000" y="2819520"/>
              <a:ext cx="5029200" cy="3657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119040"/>
              <a:ext cx="2141280" cy="2398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8120" y="3119040"/>
              <a:ext cx="2141640" cy="2398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78120" y="3239280"/>
              <a:ext cx="1941480" cy="4795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18200" y="3239280"/>
              <a:ext cx="1941480" cy="4795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3718800"/>
              <a:ext cx="1990800" cy="95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8120" y="4737960"/>
              <a:ext cx="1990800" cy="71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13600" y="3718800"/>
              <a:ext cx="94608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67440" y="3718800"/>
              <a:ext cx="99684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7440" y="3778920"/>
              <a:ext cx="1892160" cy="239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27440" y="4798080"/>
              <a:ext cx="189216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13680" y="3838680"/>
              <a:ext cx="79668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18200" y="3838680"/>
              <a:ext cx="84600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7520" y="419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26040" y="437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3440" y="515772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65960" y="467820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5037840"/>
              <a:ext cx="19872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67600" y="50378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30" idx="2"/>
              <a:endCxn id="526" idx="0"/>
            </p:cNvCxnSpPr>
            <p:nvPr/>
          </p:nvCxnSpPr>
          <p:spPr>
            <a:xfrm>
              <a:off x="6565680" y="455760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1" name=""/>
            <p:cNvCxnSpPr>
              <a:stCxn id="526" idx="1"/>
              <a:endCxn id="528" idx="0"/>
            </p:cNvCxnSpPr>
            <p:nvPr/>
          </p:nvCxnSpPr>
          <p:spPr>
            <a:xfrm flipV="1" rot="10800000">
              <a:off x="6366600" y="4766760"/>
              <a:ext cx="9936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2" name=""/>
            <p:cNvCxnSpPr>
              <a:stCxn id="526" idx="3"/>
              <a:endCxn id="527" idx="0"/>
            </p:cNvCxnSpPr>
            <p:nvPr/>
          </p:nvCxnSpPr>
          <p:spPr>
            <a:xfrm>
              <a:off x="6665760" y="4767480"/>
              <a:ext cx="10080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0" name=""/>
            <p:cNvSpPr/>
            <p:nvPr/>
          </p:nvSpPr>
          <p:spPr>
            <a:xfrm>
              <a:off x="6465960" y="437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62640" y="4498200"/>
              <a:ext cx="6969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61160" y="473796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6" idx="2"/>
              <a:endCxn id="533" idx="0"/>
            </p:cNvCxnSpPr>
            <p:nvPr/>
          </p:nvCxnSpPr>
          <p:spPr>
            <a:xfrm>
              <a:off x="7611840" y="437796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6" name=""/>
            <p:cNvSpPr/>
            <p:nvPr/>
          </p:nvSpPr>
          <p:spPr>
            <a:xfrm>
              <a:off x="7512120" y="419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8" idx="3"/>
              <a:endCxn id="534" idx="0"/>
            </p:cNvCxnSpPr>
            <p:nvPr/>
          </p:nvCxnSpPr>
          <p:spPr>
            <a:xfrm>
              <a:off x="7512120" y="4647960"/>
              <a:ext cx="249840" cy="9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9" name=""/>
            <p:cNvCxnSpPr>
              <a:stCxn id="534" idx="2"/>
              <a:endCxn id="540" idx="3"/>
            </p:cNvCxnSpPr>
            <p:nvPr/>
          </p:nvCxnSpPr>
          <p:spPr>
            <a:xfrm rot="5400000">
              <a:off x="7590960" y="4838400"/>
              <a:ext cx="9072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7313760" y="455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13760" y="491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4560" y="41385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1960" y="443844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72200" y="40784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23" idx="3"/>
              <a:endCxn id="541" idx="1"/>
            </p:cNvCxnSpPr>
            <p:nvPr/>
          </p:nvCxnSpPr>
          <p:spPr>
            <a:xfrm flipV="1">
              <a:off x="4025520" y="4227840"/>
              <a:ext cx="59940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>
              <a:stCxn id="523" idx="2"/>
              <a:endCxn id="524" idx="1"/>
            </p:cNvCxnSpPr>
            <p:nvPr/>
          </p:nvCxnSpPr>
          <p:spPr>
            <a:xfrm flipH="1" rot="16200000">
              <a:off x="4030920" y="4273920"/>
              <a:ext cx="90720" cy="29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24" idx="3"/>
              <a:endCxn id="542" idx="1"/>
            </p:cNvCxnSpPr>
            <p:nvPr/>
          </p:nvCxnSpPr>
          <p:spPr>
            <a:xfrm>
              <a:off x="4424040" y="4468320"/>
              <a:ext cx="54828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24" idx="3"/>
              <a:endCxn id="541" idx="2"/>
            </p:cNvCxnSpPr>
            <p:nvPr/>
          </p:nvCxnSpPr>
          <p:spPr>
            <a:xfrm flipV="1">
              <a:off x="4424040" y="4318200"/>
              <a:ext cx="300600" cy="15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42" idx="3"/>
              <a:endCxn id="543" idx="2"/>
            </p:cNvCxnSpPr>
            <p:nvPr/>
          </p:nvCxnSpPr>
          <p:spPr>
            <a:xfrm flipV="1">
              <a:off x="5171760" y="4257720"/>
              <a:ext cx="199080" cy="27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43" idx="1"/>
              <a:endCxn id="541" idx="3"/>
            </p:cNvCxnSpPr>
            <p:nvPr/>
          </p:nvCxnSpPr>
          <p:spPr>
            <a:xfrm flipV="1" rot="10800000">
              <a:off x="4822200" y="4168080"/>
              <a:ext cx="450000" cy="604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0" name=""/>
            <p:cNvGrpSpPr/>
            <p:nvPr/>
          </p:nvGrpSpPr>
          <p:grpSpPr>
            <a:xfrm>
              <a:off x="3627360" y="5997240"/>
              <a:ext cx="4481640" cy="329760"/>
              <a:chOff x="3627360" y="5997240"/>
              <a:chExt cx="4481640" cy="329760"/>
            </a:xfrm>
          </p:grpSpPr>
          <p:sp>
            <p:nvSpPr>
              <p:cNvPr id="551" name=""/>
              <p:cNvSpPr/>
              <p:nvPr/>
            </p:nvSpPr>
            <p:spPr>
              <a:xfrm>
                <a:off x="36273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300560" y="5997240"/>
                <a:ext cx="4474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9719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5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3165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897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61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886200" y="5697360"/>
              <a:ext cx="403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4920" y="1066680"/>
            <a:ext cx="8153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nents are software objects that provide implementations of a set of standar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haviors. These behaviors are defined by the component framework to ensur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at components can be composed and interoperate efficiently and without conflict.</a:t>
            </a: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uan Villacis et al., “CAT: High Performance, Distributed Component Architecture…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: BeanContextChild + custom (CORBA3-like) event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336-68A9-4A78-BE07-62D2149221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blem-oriented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eb portal) to more effectively utilize HPC resources from the desktop via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 “point &amp; click” view hides the underlying complexities and details of the HPC resources and create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seamless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user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 on his/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system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mput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PC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supercomputers, mass storage systems, databases, workstation clusters, collaborative tools, and visualization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317-68CA-431E-9392-34C238BD62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96960" y="-3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28600" y="420840"/>
            <a:ext cx="8305920" cy="5541480"/>
            <a:chOff x="228600" y="420840"/>
            <a:chExt cx="8305920" cy="5541480"/>
          </a:xfrm>
        </p:grpSpPr>
        <p:sp>
          <p:nvSpPr>
            <p:cNvPr id="562" name=""/>
            <p:cNvSpPr/>
            <p:nvPr/>
          </p:nvSpPr>
          <p:spPr>
            <a:xfrm>
              <a:off x="2514600" y="1019880"/>
              <a:ext cx="6019920" cy="49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184356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29160" y="201384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86200" y="2213280"/>
              <a:ext cx="312444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2411640"/>
              <a:ext cx="3276720" cy="34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43200" y="1094760"/>
              <a:ext cx="5562720" cy="449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1843560"/>
              <a:ext cx="1371600" cy="52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600" y="420840"/>
              <a:ext cx="1676520" cy="5477400"/>
              <a:chOff x="228600" y="420840"/>
              <a:chExt cx="1676520" cy="547740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600" y="5150880"/>
                <a:ext cx="1676520" cy="747360"/>
              </a:xfrm>
              <a:prstGeom prst="flowChartMultidocumen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Resul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0880" y="1436400"/>
                <a:ext cx="1524240" cy="887400"/>
              </a:xfrm>
              <a:prstGeom prst="flowChartDocumen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blem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880" y="3467520"/>
                <a:ext cx="1524240" cy="600480"/>
              </a:xfrm>
              <a:prstGeom prst="flowChartDocumen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0880" y="2578320"/>
                <a:ext cx="1524240" cy="601920"/>
              </a:xfrm>
              <a:prstGeom prst="flowChartDocumen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stract 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0880" y="4228920"/>
                <a:ext cx="1524240" cy="742320"/>
              </a:xfrm>
              <a:prstGeom prst="flowChartDocumen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0880" y="420840"/>
                <a:ext cx="1524240" cy="600480"/>
              </a:xfrm>
              <a:prstGeom prst="flowChartDocumen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/Group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195880" y="2533320"/>
              <a:ext cx="2743200" cy="29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149800" y="2857680"/>
              <a:ext cx="2990880" cy="2872440"/>
              <a:chOff x="5149800" y="2857680"/>
              <a:chExt cx="2990880" cy="2872440"/>
            </a:xfrm>
          </p:grpSpPr>
          <p:sp>
            <p:nvSpPr>
              <p:cNvPr id="578" name=""/>
              <p:cNvSpPr/>
              <p:nvPr/>
            </p:nvSpPr>
            <p:spPr>
              <a:xfrm>
                <a:off x="5149800" y="285768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49960" y="3054240"/>
                <a:ext cx="242712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26000" y="321336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5713560" y="3411720"/>
                <a:ext cx="2427120" cy="2318400"/>
                <a:chOff x="5713560" y="3411720"/>
                <a:chExt cx="2427120" cy="23184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713560" y="3411720"/>
                  <a:ext cx="2427120" cy="2318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blem Descrip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775480" y="3889080"/>
                  <a:ext cx="2303280" cy="163656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bstract Task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scrip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5899320" y="4591080"/>
                  <a:ext cx="2055600" cy="876600"/>
                  <a:chOff x="5899320" y="4591080"/>
                  <a:chExt cx="2055600" cy="8766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5899320" y="4591080"/>
                    <a:ext cx="2055600" cy="8766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086160" y="4707720"/>
                    <a:ext cx="1681560" cy="1753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ask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023880" y="4941720"/>
                    <a:ext cx="1868760" cy="408960"/>
                  </a:xfrm>
                  <a:prstGeom prst="rect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66"/>
                        </a:solidFill>
                        <a:latin typeface="Times New Roman"/>
                      </a:rPr>
                      <a:t>Job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7394040" y="5000040"/>
                    <a:ext cx="373680" cy="350640"/>
                    <a:chOff x="7394040" y="5000040"/>
                    <a:chExt cx="373680" cy="3506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7394040" y="500004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7456320" y="505800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7518600" y="511668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7580880" y="517536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93" name=""/>
            <p:cNvSpPr/>
            <p:nvPr/>
          </p:nvSpPr>
          <p:spPr>
            <a:xfrm>
              <a:off x="2819520" y="2517480"/>
              <a:ext cx="1371600" cy="32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F4F-AEF0-48A7-A0FD-487B0BCBC3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685800"/>
            <a:ext cx="16002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2133720"/>
            <a:ext cx="25146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Slav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57760" y="5562720"/>
            <a:ext cx="12956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133720"/>
            <a:ext cx="396216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atekee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Flow Master Serv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 Server                           Pro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57600" y="2209680"/>
            <a:ext cx="533520" cy="457200"/>
            <a:chOff x="3657600" y="2209680"/>
            <a:chExt cx="533520" cy="457200"/>
          </a:xfrm>
        </p:grpSpPr>
        <p:sp>
          <p:nvSpPr>
            <p:cNvPr id="600" name=""/>
            <p:cNvSpPr/>
            <p:nvPr/>
          </p:nvSpPr>
          <p:spPr>
            <a:xfrm>
              <a:off x="3657600" y="22096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33920" y="22860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236196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86200" y="24382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2520" y="25146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62280" y="3733920"/>
            <a:ext cx="4191120" cy="914400"/>
            <a:chOff x="2762280" y="3733920"/>
            <a:chExt cx="4191120" cy="914400"/>
          </a:xfrm>
        </p:grpSpPr>
        <p:sp>
          <p:nvSpPr>
            <p:cNvPr id="606" name=""/>
            <p:cNvSpPr/>
            <p:nvPr/>
          </p:nvSpPr>
          <p:spPr>
            <a:xfrm>
              <a:off x="421020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2280" y="3733920"/>
              <a:ext cx="129564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5812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3152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4324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98" idx="3"/>
            <a:endCxn id="596" idx="1"/>
          </p:cNvCxnSpPr>
          <p:nvPr/>
        </p:nvCxnSpPr>
        <p:spPr>
          <a:xfrm>
            <a:off x="4495680" y="2552400"/>
            <a:ext cx="99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596" idx="2"/>
            <a:endCxn id="607" idx="0"/>
          </p:cNvCxnSpPr>
          <p:nvPr/>
        </p:nvCxnSpPr>
        <p:spPr>
          <a:xfrm flipH="1">
            <a:off x="3409200" y="2971440"/>
            <a:ext cx="3334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596" idx="2"/>
            <a:endCxn id="606" idx="0"/>
          </p:cNvCxnSpPr>
          <p:nvPr/>
        </p:nvCxnSpPr>
        <p:spPr>
          <a:xfrm flipH="1">
            <a:off x="4857120" y="2971440"/>
            <a:ext cx="18867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596" idx="2"/>
            <a:endCxn id="608" idx="0"/>
          </p:cNvCxnSpPr>
          <p:nvPr/>
        </p:nvCxnSpPr>
        <p:spPr>
          <a:xfrm flipH="1">
            <a:off x="6305040" y="2971440"/>
            <a:ext cx="4392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7543800" y="2971800"/>
            <a:ext cx="45720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08" idx="2"/>
            <a:endCxn id="597" idx="0"/>
          </p:cNvCxnSpPr>
          <p:nvPr/>
        </p:nvCxnSpPr>
        <p:spPr>
          <a:xfrm>
            <a:off x="6305040" y="4648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06" idx="2"/>
            <a:endCxn id="610" idx="0"/>
          </p:cNvCxnSpPr>
          <p:nvPr/>
        </p:nvCxnSpPr>
        <p:spPr>
          <a:xfrm flipH="1">
            <a:off x="4647960" y="4648320"/>
            <a:ext cx="21024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07" idx="2"/>
            <a:endCxn id="611" idx="0"/>
          </p:cNvCxnSpPr>
          <p:nvPr/>
        </p:nvCxnSpPr>
        <p:spPr>
          <a:xfrm flipH="1">
            <a:off x="2990520" y="4648320"/>
            <a:ext cx="41976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7" idx="2"/>
            <a:endCxn id="612" idx="0"/>
          </p:cNvCxnSpPr>
          <p:nvPr/>
        </p:nvCxnSpPr>
        <p:spPr>
          <a:xfrm flipH="1">
            <a:off x="1333080" y="4648320"/>
            <a:ext cx="20772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1333440" y="1600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905120"/>
            <a:ext cx="830556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640" y="394668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B9B-914D-4DB8-ABF0-F0DAEC1783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95440" y="1133280"/>
            <a:ext cx="77724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edit, move, delete,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, kill, monitor jo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clone, create, delete,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, retrieve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ory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storage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416-D361-4D51-9670-63DAAABDF9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een Dump of the Control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ateway2" descr=""/>
          <p:cNvPicPr/>
          <p:nvPr/>
        </p:nvPicPr>
        <p:blipFill>
          <a:blip r:embed="rId1"/>
          <a:stretch/>
        </p:blipFill>
        <p:spPr>
          <a:xfrm>
            <a:off x="133200" y="600120"/>
            <a:ext cx="887760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F37-20A0-4ED5-B550-72420D17D7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building a Web Portal for high performance comp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and seamless access to resources is provided through the Grid services (Globu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oD users, the security is based on Kerb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mplement the grid environment with the user and application specific services through a customizable, high-level, browser-based front-end that allows the user to specify the computational task and provides access remot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is based on commodity software components: XML, HTML, SSL/Kerberos, Java, CORBA,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070-597B-4990-9B38-64CA561714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a seamless access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stributed, heterogeneous Back-End services (HPCC, DBMS, Internet, ...) managed independently from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ool of resources: support for discovery and dynamical incorporation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, extensible, low-maintenance 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, extensible, customizable, self-adjusting to varying capacities and capabilities of clients (humans, software and hardware)  front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C9E-5462-4028-BC25-E2E1A4DDBF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0520" y="609120"/>
            <a:ext cx="54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mputational Por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50" idx="2"/>
            <a:endCxn id="51" idx="0"/>
          </p:cNvCxnSpPr>
          <p:nvPr/>
        </p:nvCxnSpPr>
        <p:spPr>
          <a:xfrm flipH="1">
            <a:off x="1466280" y="2195280"/>
            <a:ext cx="6840" cy="579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" name=""/>
          <p:cNvGrpSpPr/>
          <p:nvPr/>
        </p:nvGrpSpPr>
        <p:grpSpPr>
          <a:xfrm>
            <a:off x="533520" y="1371600"/>
            <a:ext cx="8083080" cy="4327560"/>
            <a:chOff x="533520" y="1371600"/>
            <a:chExt cx="8083080" cy="4327560"/>
          </a:xfrm>
        </p:grpSpPr>
        <p:sp>
          <p:nvSpPr>
            <p:cNvPr id="51" name=""/>
            <p:cNvSpPr/>
            <p:nvPr/>
          </p:nvSpPr>
          <p:spPr>
            <a:xfrm>
              <a:off x="68076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9856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6"/>
              <a:endCxn id="53" idx="2"/>
            </p:cNvCxnSpPr>
            <p:nvPr/>
          </p:nvCxnSpPr>
          <p:spPr>
            <a:xfrm>
              <a:off x="2251080" y="3528720"/>
              <a:ext cx="4478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6"/>
              <a:endCxn id="56" idx="2"/>
            </p:cNvCxnSpPr>
            <p:nvPr/>
          </p:nvCxnSpPr>
          <p:spPr>
            <a:xfrm>
              <a:off x="4268160" y="3528720"/>
              <a:ext cx="603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704664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6" idx="6"/>
              <a:endCxn id="57" idx="2"/>
            </p:cNvCxnSpPr>
            <p:nvPr/>
          </p:nvCxnSpPr>
          <p:spPr>
            <a:xfrm>
              <a:off x="6441480" y="3528720"/>
              <a:ext cx="605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487188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17800" y="487512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5657400" y="4281120"/>
              <a:ext cx="1080" cy="59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533520" y="137160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0"/>
              <a:endCxn id="50" idx="3"/>
            </p:cNvCxnSpPr>
            <p:nvPr/>
          </p:nvCxnSpPr>
          <p:spPr>
            <a:xfrm flipV="1" rot="16200000">
              <a:off x="4626720" y="-430920"/>
              <a:ext cx="991080" cy="5420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74A-43C8-409C-82B1-4BB33D084F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143000"/>
            <a:ext cx="78483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429000"/>
            <a:ext cx="4743000" cy="1528920"/>
            <a:chOff x="2286000" y="3429000"/>
            <a:chExt cx="4743000" cy="1528920"/>
          </a:xfrm>
        </p:grpSpPr>
        <p:sp>
          <p:nvSpPr>
            <p:cNvPr id="65" name=""/>
            <p:cNvSpPr/>
            <p:nvPr/>
          </p:nvSpPr>
          <p:spPr>
            <a:xfrm>
              <a:off x="2288160" y="3868920"/>
              <a:ext cx="4740840" cy="639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Tier: Framework +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8160" y="4576680"/>
              <a:ext cx="4740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id Services | JDBC | Local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3429000"/>
              <a:ext cx="4741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17400" y="184320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A 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356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3200" y="184320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320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43200"/>
            <a:ext cx="152424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884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660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516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8148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6" idx="2"/>
            <a:endCxn id="76" idx="0"/>
          </p:cNvCxnSpPr>
          <p:nvPr/>
        </p:nvCxnSpPr>
        <p:spPr>
          <a:xfrm rot="5400000">
            <a:off x="2790000" y="3616200"/>
            <a:ext cx="527760" cy="3210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7" idx="0"/>
          </p:cNvCxnSpPr>
          <p:nvPr/>
        </p:nvCxnSpPr>
        <p:spPr>
          <a:xfrm rot="5400000">
            <a:off x="3413160" y="4239360"/>
            <a:ext cx="527760" cy="1964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6" idx="2"/>
            <a:endCxn id="78" idx="0"/>
          </p:cNvCxnSpPr>
          <p:nvPr/>
        </p:nvCxnSpPr>
        <p:spPr>
          <a:xfrm rot="5400000">
            <a:off x="4037040" y="4863240"/>
            <a:ext cx="527760" cy="7167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6" idx="2"/>
            <a:endCxn id="73" idx="0"/>
          </p:cNvCxnSpPr>
          <p:nvPr/>
        </p:nvCxnSpPr>
        <p:spPr>
          <a:xfrm flipH="1" rot="16200000">
            <a:off x="4680720" y="4935600"/>
            <a:ext cx="527760" cy="5720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2"/>
            <a:endCxn id="74" idx="0"/>
          </p:cNvCxnSpPr>
          <p:nvPr/>
        </p:nvCxnSpPr>
        <p:spPr>
          <a:xfrm flipH="1" rot="16200000">
            <a:off x="5303880" y="4312440"/>
            <a:ext cx="527760" cy="18183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2"/>
            <a:endCxn id="75" idx="0"/>
          </p:cNvCxnSpPr>
          <p:nvPr/>
        </p:nvCxnSpPr>
        <p:spPr>
          <a:xfrm flipH="1" rot="16200000">
            <a:off x="5927760" y="3688560"/>
            <a:ext cx="527760" cy="30661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8" idx="2"/>
            <a:endCxn id="67" idx="0"/>
          </p:cNvCxnSpPr>
          <p:nvPr/>
        </p:nvCxnSpPr>
        <p:spPr>
          <a:xfrm flipH="1" rot="16200000">
            <a:off x="2719080" y="1490040"/>
            <a:ext cx="561240" cy="331704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9" idx="2"/>
            <a:endCxn id="67" idx="0"/>
          </p:cNvCxnSpPr>
          <p:nvPr/>
        </p:nvCxnSpPr>
        <p:spPr>
          <a:xfrm flipH="1" rot="16200000">
            <a:off x="3474720" y="2246760"/>
            <a:ext cx="561240" cy="180396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2"/>
            <a:endCxn id="67" idx="0"/>
          </p:cNvCxnSpPr>
          <p:nvPr/>
        </p:nvCxnSpPr>
        <p:spPr>
          <a:xfrm rot="5400000">
            <a:off x="4915080" y="2610360"/>
            <a:ext cx="561240" cy="10771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71520" y="3747960"/>
            <a:ext cx="15825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2560" y="5802480"/>
            <a:ext cx="6174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-E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391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olv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2" idx="2"/>
            <a:endCxn id="67" idx="0"/>
          </p:cNvCxnSpPr>
          <p:nvPr/>
        </p:nvCxnSpPr>
        <p:spPr>
          <a:xfrm rot="5400000">
            <a:off x="5706000" y="1819800"/>
            <a:ext cx="561240" cy="265788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31C-5ABE-4C2E-A94D-9C9571B5AB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ftwa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2133720"/>
            <a:ext cx="2666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6080" y="2933640"/>
            <a:ext cx="2666880" cy="571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86080" y="3733920"/>
            <a:ext cx="26668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6080" y="4533840"/>
            <a:ext cx="2666880" cy="5716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Gri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86080" y="5334120"/>
            <a:ext cx="2666880" cy="6094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5280" y="4079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13372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2"/>
                </a:lnTo>
                <a:cubicBezTo>
                  <a:pt x="10800" y="9992"/>
                  <a:pt x="16200" y="10892"/>
                  <a:pt x="21600" y="10892"/>
                </a:cubicBezTo>
                <a:cubicBezTo>
                  <a:pt x="16200" y="10892"/>
                  <a:pt x="10800" y="11792"/>
                  <a:pt x="10800" y="126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5360" y="3429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53020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, Comput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Instrumen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, schedul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,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200" y="3733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Obj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971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840" y="1827360"/>
            <a:ext cx="32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olving Environment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uthoring Tools, Profil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, 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160" y="32004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840" y="3962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85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lobus,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440" y="2590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veral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0" y="138240"/>
            <a:ext cx="83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f.: Juan Villacis, et.al., “CAT, High Performance, Distributed Component Architecture Toolkit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6AA-ED84-43D8-A648-8B45B5FAB1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BA-based Middle Tie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xy modules - a simplified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2514600"/>
            <a:ext cx="7727040" cy="3276720"/>
            <a:chOff x="838080" y="2514600"/>
            <a:chExt cx="7727040" cy="3276720"/>
          </a:xfrm>
        </p:grpSpPr>
        <p:sp>
          <p:nvSpPr>
            <p:cNvPr id="116" name=""/>
            <p:cNvSpPr/>
            <p:nvPr/>
          </p:nvSpPr>
          <p:spPr>
            <a:xfrm>
              <a:off x="2895480" y="2514600"/>
              <a:ext cx="2895840" cy="32767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590920"/>
              <a:ext cx="2819520" cy="825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 jo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3505320"/>
              <a:ext cx="2895840" cy="22860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Exec(String exec) 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In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Out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() {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enerateRSL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lobusrun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fireEvent(“done”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}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2514600"/>
              <a:ext cx="1524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3352680"/>
              <a:ext cx="15242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352680"/>
              <a:ext cx="15242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1680" y="3733920"/>
              <a:ext cx="15242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680" y="5105520"/>
              <a:ext cx="1524240" cy="6858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4114800"/>
              <a:ext cx="1524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4724280"/>
              <a:ext cx="1524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343400"/>
              <a:ext cx="152424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9" idx="3"/>
              <a:endCxn id="124" idx="3"/>
            </p:cNvCxnSpPr>
            <p:nvPr/>
          </p:nvCxnSpPr>
          <p:spPr>
            <a:xfrm>
              <a:off x="8305920" y="285768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5" idx="3"/>
              <a:endCxn id="123" idx="3"/>
            </p:cNvCxnSpPr>
            <p:nvPr/>
          </p:nvCxnSpPr>
          <p:spPr>
            <a:xfrm>
              <a:off x="8305920" y="4838400"/>
              <a:ext cx="2160" cy="6102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1447920" y="31240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1240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3124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31240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2514600"/>
              <a:ext cx="1219320" cy="1143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181480" y="388584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000" y="2743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4000" y="5257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8040" y="22096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object implemented in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480" y="22096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0F6-4BBE-4A1D-B438-D77BAC6274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162920" y="4267080"/>
            <a:ext cx="1523880" cy="1600200"/>
            <a:chOff x="7162920" y="4267080"/>
            <a:chExt cx="1523880" cy="1600200"/>
          </a:xfrm>
        </p:grpSpPr>
        <p:sp>
          <p:nvSpPr>
            <p:cNvPr id="143" name=""/>
            <p:cNvSpPr/>
            <p:nvPr/>
          </p:nvSpPr>
          <p:spPr>
            <a:xfrm>
              <a:off x="7162920" y="426708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464796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502884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563868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25744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-based Middle Tier (2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; Automatic generation of 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267080"/>
            <a:ext cx="12193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219320"/>
            <a:ext cx="1600200" cy="1981080"/>
            <a:chOff x="380880" y="1219320"/>
            <a:chExt cx="1600200" cy="1981080"/>
          </a:xfrm>
        </p:grpSpPr>
        <p:sp>
          <p:nvSpPr>
            <p:cNvPr id="154" name=""/>
            <p:cNvSpPr/>
            <p:nvPr/>
          </p:nvSpPr>
          <p:spPr>
            <a:xfrm>
              <a:off x="380880" y="1219320"/>
              <a:ext cx="1600200" cy="1981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1295280"/>
              <a:ext cx="1447920" cy="609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Task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09480" y="2209680"/>
              <a:ext cx="1143000" cy="762120"/>
              <a:chOff x="609480" y="2209680"/>
              <a:chExt cx="1143000" cy="762120"/>
            </a:xfrm>
          </p:grpSpPr>
          <p:sp>
            <p:nvSpPr>
              <p:cNvPr id="157" name=""/>
              <p:cNvSpPr/>
              <p:nvPr/>
            </p:nvSpPr>
            <p:spPr>
              <a:xfrm>
                <a:off x="914040" y="220968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040" y="251460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8960" y="2819160"/>
                <a:ext cx="53352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2819160"/>
                <a:ext cx="53316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" name=""/>
              <p:cNvCxnSpPr>
                <a:stCxn id="157" idx="2"/>
                <a:endCxn id="158" idx="0"/>
              </p:cNvCxnSpPr>
              <p:nvPr/>
            </p:nvCxnSpPr>
            <p:spPr>
              <a:xfrm>
                <a:off x="1180440" y="236196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58" idx="2"/>
                <a:endCxn id="160" idx="0"/>
              </p:cNvCxnSpPr>
              <p:nvPr/>
            </p:nvCxnSpPr>
            <p:spPr>
              <a:xfrm rot="5400000">
                <a:off x="951840" y="2590560"/>
                <a:ext cx="153000" cy="305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58" idx="2"/>
                <a:endCxn id="159" idx="0"/>
              </p:cNvCxnSpPr>
              <p:nvPr/>
            </p:nvCxnSpPr>
            <p:spPr>
              <a:xfrm flipH="1" rot="16200000">
                <a:off x="1256040" y="2590200"/>
                <a:ext cx="153000" cy="305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4" name=""/>
          <p:cNvGrpSpPr/>
          <p:nvPr/>
        </p:nvGrpSpPr>
        <p:grpSpPr>
          <a:xfrm>
            <a:off x="2514600" y="1219320"/>
            <a:ext cx="3733560" cy="4343400"/>
            <a:chOff x="2514600" y="1219320"/>
            <a:chExt cx="3733560" cy="4343400"/>
          </a:xfrm>
        </p:grpSpPr>
        <p:grpSp>
          <p:nvGrpSpPr>
            <p:cNvPr id="165" name=""/>
            <p:cNvGrpSpPr/>
            <p:nvPr/>
          </p:nvGrpSpPr>
          <p:grpSpPr>
            <a:xfrm>
              <a:off x="4343400" y="2667240"/>
              <a:ext cx="1904760" cy="2895480"/>
              <a:chOff x="4343400" y="2667240"/>
              <a:chExt cx="1904760" cy="2895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343400" y="2667240"/>
                <a:ext cx="1904760" cy="2895480"/>
                <a:chOff x="4343400" y="2667240"/>
                <a:chExt cx="1904760" cy="2895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343400" y="26672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79480" y="27054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495680" y="47246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5680" y="33530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95680" y="40388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0" idx="2"/>
                <a:endCxn id="171" idx="0"/>
              </p:cNvCxnSpPr>
              <p:nvPr/>
            </p:nvCxnSpPr>
            <p:spPr>
              <a:xfrm>
                <a:off x="5295240" y="38862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73" name=""/>
            <p:cNvGrpSpPr/>
            <p:nvPr/>
          </p:nvGrpSpPr>
          <p:grpSpPr>
            <a:xfrm>
              <a:off x="3657600" y="2210040"/>
              <a:ext cx="1904760" cy="2895480"/>
              <a:chOff x="3657600" y="2210040"/>
              <a:chExt cx="1904760" cy="28954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657600" y="2210040"/>
                <a:ext cx="1904760" cy="2895480"/>
                <a:chOff x="3657600" y="2210040"/>
                <a:chExt cx="1904760" cy="2895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7600" y="22100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793680" y="22482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809880" y="42674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958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09880" y="35816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8" idx="2"/>
                <a:endCxn id="179" idx="0"/>
              </p:cNvCxnSpPr>
              <p:nvPr/>
            </p:nvCxnSpPr>
            <p:spPr>
              <a:xfrm>
                <a:off x="4609440" y="34290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1" name=""/>
            <p:cNvGrpSpPr/>
            <p:nvPr/>
          </p:nvGrpSpPr>
          <p:grpSpPr>
            <a:xfrm>
              <a:off x="3124080" y="1752840"/>
              <a:ext cx="1905120" cy="2895480"/>
              <a:chOff x="3124080" y="1752840"/>
              <a:chExt cx="1905120" cy="28954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124080" y="1752840"/>
                <a:ext cx="1905120" cy="2895480"/>
                <a:chOff x="3124080" y="1752840"/>
                <a:chExt cx="1905120" cy="28954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24080" y="1752840"/>
                  <a:ext cx="190512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260520" y="1791000"/>
                  <a:ext cx="18432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276720" y="3810240"/>
                <a:ext cx="160020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6720" y="2438640"/>
                <a:ext cx="160020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76720" y="3124440"/>
                <a:ext cx="160020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6" idx="2"/>
                <a:endCxn id="187" idx="0"/>
              </p:cNvCxnSpPr>
              <p:nvPr/>
            </p:nvCxnSpPr>
            <p:spPr>
              <a:xfrm>
                <a:off x="4076280" y="29718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9" name=""/>
            <p:cNvGrpSpPr/>
            <p:nvPr/>
          </p:nvGrpSpPr>
          <p:grpSpPr>
            <a:xfrm>
              <a:off x="2514600" y="1219320"/>
              <a:ext cx="1904760" cy="2895480"/>
              <a:chOff x="2514600" y="1219320"/>
              <a:chExt cx="1904760" cy="28954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514600" y="1219320"/>
                <a:ext cx="1904760" cy="2895480"/>
                <a:chOff x="2514600" y="1219320"/>
                <a:chExt cx="1904760" cy="2895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514600" y="121932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50320" y="1257480"/>
                  <a:ext cx="17215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or each modu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666880" y="327672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66880" y="190512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6880" y="259092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4" idx="2"/>
                <a:endCxn id="195" idx="0"/>
              </p:cNvCxnSpPr>
              <p:nvPr/>
            </p:nvCxnSpPr>
            <p:spPr>
              <a:xfrm>
                <a:off x="3466440" y="243828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97" name=""/>
          <p:cNvSpPr/>
          <p:nvPr/>
        </p:nvSpPr>
        <p:spPr>
          <a:xfrm>
            <a:off x="1755720" y="3733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3962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956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495680"/>
            <a:ext cx="1066680" cy="76212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0"/>
                </a:moveTo>
                <a:lnTo>
                  <a:pt x="0" y="480"/>
                </a:lnTo>
                <a:lnTo>
                  <a:pt x="672" y="48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2578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reEvent(“don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1371600" cy="60948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0" y="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38080" y="32000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286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8580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10666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44792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05740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67652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24382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81952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20040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80988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8" idx="3"/>
            <a:endCxn id="212" idx="3"/>
          </p:cNvCxnSpPr>
          <p:nvPr/>
        </p:nvCxnSpPr>
        <p:spPr>
          <a:xfrm>
            <a:off x="8458200" y="2171520"/>
            <a:ext cx="216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3" idx="3"/>
            <a:endCxn id="217" idx="3"/>
          </p:cNvCxnSpPr>
          <p:nvPr/>
        </p:nvCxnSpPr>
        <p:spPr>
          <a:xfrm flipH="1">
            <a:off x="8305200" y="392400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93" idx="3"/>
            <a:endCxn id="206" idx="1"/>
          </p:cNvCxnSpPr>
          <p:nvPr/>
        </p:nvCxnSpPr>
        <p:spPr>
          <a:xfrm flipV="1">
            <a:off x="4266720" y="1256760"/>
            <a:ext cx="2667960" cy="237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85" idx="3"/>
            <a:endCxn id="211" idx="1"/>
          </p:cNvCxnSpPr>
          <p:nvPr/>
        </p:nvCxnSpPr>
        <p:spPr>
          <a:xfrm flipV="1">
            <a:off x="4876560" y="3009240"/>
            <a:ext cx="20577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177" idx="3"/>
            <a:endCxn id="221" idx="1"/>
          </p:cNvCxnSpPr>
          <p:nvPr/>
        </p:nvCxnSpPr>
        <p:spPr>
          <a:xfrm>
            <a:off x="5410080" y="4617720"/>
            <a:ext cx="137232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3"/>
            <a:endCxn id="145" idx="3"/>
          </p:cNvCxnSpPr>
          <p:nvPr/>
        </p:nvCxnSpPr>
        <p:spPr>
          <a:xfrm>
            <a:off x="8457840" y="3924000"/>
            <a:ext cx="229320" cy="1220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69" idx="3"/>
            <a:endCxn id="144" idx="1"/>
          </p:cNvCxnSpPr>
          <p:nvPr/>
        </p:nvCxnSpPr>
        <p:spPr>
          <a:xfrm flipV="1">
            <a:off x="6095880" y="4838040"/>
            <a:ext cx="1067760" cy="23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6781680" y="4191120"/>
            <a:ext cx="1523880" cy="1600200"/>
            <a:chOff x="6781680" y="4191120"/>
            <a:chExt cx="1523880" cy="1600200"/>
          </a:xfrm>
        </p:grpSpPr>
        <p:sp>
          <p:nvSpPr>
            <p:cNvPr id="225" name=""/>
            <p:cNvSpPr/>
            <p:nvPr/>
          </p:nvSpPr>
          <p:spPr>
            <a:xfrm>
              <a:off x="6781680" y="419112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57200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95288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1680" y="556272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518148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575-BF0D-4338-8A45-D02738EE34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3372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:  cluster, machine, network, datab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mass storage, instrument, compil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debugger, application, license, file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 XM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or UML/XMI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772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160" y="495288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ime we 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 (computational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480" y="665280"/>
            <a:ext cx="6887520" cy="4103640"/>
            <a:chOff x="87480" y="665280"/>
            <a:chExt cx="6887520" cy="4103640"/>
          </a:xfrm>
        </p:grpSpPr>
        <p:sp>
          <p:nvSpPr>
            <p:cNvPr id="233" name=""/>
            <p:cNvSpPr/>
            <p:nvPr/>
          </p:nvSpPr>
          <p:spPr>
            <a:xfrm>
              <a:off x="98280" y="665280"/>
              <a:ext cx="6716520" cy="410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7480" y="670320"/>
              <a:ext cx="6887520" cy="4093920"/>
              <a:chOff x="87480" y="670320"/>
              <a:chExt cx="6887520" cy="4093920"/>
            </a:xfrm>
          </p:grpSpPr>
          <p:sp>
            <p:nvSpPr>
              <p:cNvPr id="235" name=""/>
              <p:cNvSpPr/>
              <p:nvPr/>
            </p:nvSpPr>
            <p:spPr>
              <a:xfrm>
                <a:off x="87480" y="6703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computational_resource id=“hostname”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7480" y="11275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ptional tag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360" y="20419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IB&gt; all info needed to retrieve data from RIB &lt;/RIB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360" y="29563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JINI&gt; all info needed to retrieve data &lt;/JINI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8360" y="1584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DS&gt; all info needed to retrieve data from MDS &lt;/MD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360" y="34135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ther sources of data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360" y="3870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GATEWAY id=“Gateway resource id”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8360" y="24991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CLASSAD&gt; all info needed to retrieve data &lt;/CLASSAD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480" y="43279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computational_resource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461880" y="1135080"/>
            <a:ext cx="6880320" cy="4343400"/>
            <a:chOff x="461880" y="1135080"/>
            <a:chExt cx="6880320" cy="4343400"/>
          </a:xfrm>
        </p:grpSpPr>
        <p:sp>
          <p:nvSpPr>
            <p:cNvPr id="245" name=""/>
            <p:cNvSpPr/>
            <p:nvPr/>
          </p:nvSpPr>
          <p:spPr>
            <a:xfrm>
              <a:off x="461880" y="1135080"/>
              <a:ext cx="6880320" cy="43434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1880" y="1135080"/>
              <a:ext cx="6880320" cy="6094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abstract resource id=“abstract resource id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880" y="1744560"/>
              <a:ext cx="688032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quirements&gt;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all tags inside are optio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2440" y="212580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source id=“resource id” /&gt;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2440" y="2506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CPU&gt;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2887560"/>
              <a:ext cx="61308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U characteristics matching MDS/RIB/… spec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440" y="4030560"/>
              <a:ext cx="65394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ther requirements  min=“…” max=“…” preferred=“…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3268800"/>
              <a:ext cx="61308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number of processors n=intege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440" y="3649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CPU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880" y="441180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requirement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880" y="479268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abstract resourc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90640" y="1641600"/>
            <a:ext cx="7894080" cy="3870360"/>
            <a:chOff x="890640" y="1641600"/>
            <a:chExt cx="7894080" cy="3870360"/>
          </a:xfrm>
        </p:grpSpPr>
        <p:sp>
          <p:nvSpPr>
            <p:cNvPr id="257" name=""/>
            <p:cNvSpPr/>
            <p:nvPr/>
          </p:nvSpPr>
          <p:spPr>
            <a:xfrm>
              <a:off x="890640" y="1641600"/>
              <a:ext cx="7894080" cy="38703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9360" y="1655640"/>
              <a:ext cx="787500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file id=filei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1160" y="33681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type type=mime type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1160" y="20836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host host=“resource id”/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 many as needed or Fil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1160" y="25120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name filename=“name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81160" y="294012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ath filepath=“path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1160" y="422496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doc&gt; textual description &lt;/do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1160" y="465300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meta&gt;metadata &lt;/meta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to be defin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2960" y="5081400"/>
              <a:ext cx="78717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/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1160" y="37965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ersistency persistent=yes|no 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82680" y="2103480"/>
            <a:ext cx="7860960" cy="4754520"/>
            <a:chOff x="1282680" y="2103480"/>
            <a:chExt cx="7860960" cy="4754520"/>
          </a:xfrm>
        </p:grpSpPr>
        <p:sp>
          <p:nvSpPr>
            <p:cNvPr id="268" name=""/>
            <p:cNvSpPr/>
            <p:nvPr/>
          </p:nvSpPr>
          <p:spPr>
            <a:xfrm>
              <a:off x="1282680" y="2103480"/>
              <a:ext cx="7837560" cy="4754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295280" y="2103480"/>
              <a:ext cx="7848360" cy="4744080"/>
              <a:chOff x="1295280" y="2103480"/>
              <a:chExt cx="7848360" cy="474408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2103480"/>
                <a:ext cx="7848360" cy="467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application id=“application id” installable=yes|no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0560" y="531108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equirements&gt; resources needed to inst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52480" y="2571120"/>
                <a:ext cx="739116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target machine=“resource id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90560" y="28382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atus  installed=yes|no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39074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derr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31057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xecutable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3373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input file=“file id” /&gt;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90560" y="3640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output file=“file id” /&gt;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0560" y="417492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parameter  name=“name” value=“value”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90560" y="4977000"/>
                <a:ext cx="6553080" cy="33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doc filedoc=“file id” RIB=“rib id”&gt; textual info &lt;/doc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90560" y="44420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vent thrown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560" y="47095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ethods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5578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ch as &lt;memory min=“12MB” preferred=“35MB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90560" y="5845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requirement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52480" y="6112800"/>
                <a:ext cx="739116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target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6380280"/>
                <a:ext cx="7848360" cy="467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application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FDA-A75A-48AE-B55F-1B8F843124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9:29:01Z</dcterms:created>
  <dc:creator>Tomasz</dc:creator>
  <dc:description/>
  <dc:language>en-US</dc:language>
  <cp:lastModifiedBy>haupt</cp:lastModifiedBy>
  <dcterms:modified xsi:type="dcterms:W3CDTF">1999-08-13T18:23:16Z</dcterms:modified>
  <cp:revision>22</cp:revision>
  <dc:subject/>
  <dc:title>Gateway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pac.syr.edu/users/haupt/WebFlow/demo.html</vt:lpwstr>
  </property>
  <property fmtid="{D5CDD505-2E9C-101B-9397-08002B2CF9AE}" pid="9" name="LinkColor">
    <vt:r8>16711782</vt:r8>
  </property>
  <property fmtid="{D5CDD505-2E9C-101B-9397-08002B2CF9AE}" pid="10" name="MailAddress">
    <vt:lpwstr>haupt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haupt\Gateway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