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386-E3B6-4EFE-BD21-35629100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89D-FB00-4726-B979-027299EF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432-4804-4017-BCB2-243EFD4E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C67-310D-4378-863A-5D206E0B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852E-73F0-43E6-B328-3314322E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530E-895F-4A89-B94A-151FB8D5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8752-2520-466A-B022-8508E112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99FA-C9C3-4062-ABDA-7C3F02B9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949D-EC88-4762-940C-A47EADEC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5151-2681-465F-88F9-E157A3EB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14CE-DD4B-4CC8-B722-546AED2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F8F-ACF0-4EF3-95C1-D7F32D33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9A04-D295-4F74-81D9-EDFC114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29C1-F112-4510-91A6-7825A083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BCF4-F4E1-49C2-AC9E-7B038157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C056-C3F3-432B-A436-FD49382A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1A21-067B-41B9-9C67-2C7DC92F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DE7-3DAA-457C-A625-8E15B991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479-5471-4485-B5F0-FFA4CBD5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C1F-23CF-4E5E-AB18-F974CC14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416-33B7-4B3D-88B6-3DD3A2E9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EDB-3C51-45C0-A35C-0360EEFB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D65-3008-4FA1-A148-FAB3E5DF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A8B-496D-4B60-ACFA-5E57555E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A11A-601D-44F1-86BA-052A5DA9F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790D-1EE4-44A1-9207-2D4F0F402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Security in JDK 1.2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Sign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73240" y="16002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Code Signer (Cont`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enerate a file name Count.java and compil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nerate a JAR file containing the Count.class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r cvf Count.jar Count.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nerate keys                                                         keytool -genkey -alias signFiles -keypass kpi135              -keystore susanstore -storepass ab987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the JAR file                                                           jarsigner -keystore susanstore -signedjar sCount.jar Count.jar signF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the public key certificate                                  keytool -export -keystore susanstore -alias signFiles  -file SusanJones.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Receiv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74640" y="1981080"/>
            <a:ext cx="696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Receiver (Cont`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stricted Application                                          java -cp sCount.jar Count C:\TestData\data                 To execute the application within a security manager java -Djava.security.manager -cp sCount.jar Count C:\TestData\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mport the Certificate as a Trusted Certificate          Received files : sCount.jar SusanJones.cer                  keytool -import -alias susan -file SusanJones.cer        -keystore ray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Receiver (Cont`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t Up a Policy File To Grant the Requested Permission   -  to permit the classes signed by susan to read the specifie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olicy File Effects                                                      let the name given in the previous step be raystore                                           java -Djava.security.manager                                       -Djava.security.policy=raypolicy                                   -cp sCount.jar  Count  C:\TestData\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 Next Mee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ing Files (Tools)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for the Contract Sender                                             Steps for the Contrac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and Verifying Signatures (API)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a Digital Signature                                     Verifying a Digital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DK 1.0 Security Model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575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DK 1.1 Security Model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584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DK 1.2 Security Model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74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 The Java application environment maintains a mapping from code (classes and instances) to their protection domains and then to their permis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73240" y="2514600"/>
            <a:ext cx="72849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ertificate Interfaces and Classes</a:t>
            </a:r>
            <a:br>
              <a:rPr sz="3200"/>
            </a:b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java.security.cer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pack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certificate related classe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ypes of certificates (X.509, PGP), share general certificate functionality (encoding, verifying),  types of information (i.e. public k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Fac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fines the functionality of the certificate fa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509Certif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rovides a standard way to access all the attributes of an X.509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Key Management Classes and Interfac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Store class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interfaces to access and modify the information in the keyst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KeyStore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cts each private key with its individual passwor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pecification interfaces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for transparent representation of the key material that constitutes a k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too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anaging keys and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curity-Related Tool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too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to generate pairs of public and private ke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rsigner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s the JAR files and verifies the authenticity of the signature(s) of signed JAR 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too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urity policy i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gning Code and Granting It Permissions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exampl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the Code Si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the Code Recei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1:13:01Z</dcterms:created>
  <dc:creator>Recep ALPER</dc:creator>
  <dc:description/>
  <dc:language>en-US</dc:language>
  <cp:lastModifiedBy>Valued Gateway Customer</cp:lastModifiedBy>
  <dcterms:modified xsi:type="dcterms:W3CDTF">1998-12-10T15:29:32Z</dcterms:modified>
  <cp:revision>12</cp:revision>
  <dc:subject/>
  <dc:title>JDK 1.0 Security Model: </dc:title>
</cp:coreProperties>
</file>