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E13ED-43E8-4082-B6B2-A7D0FF032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9DE37-C506-4123-9D78-3B9DF6B5E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8BA4C-0E3B-4E44-A1E0-4C1A66E6E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FEC4E-FACE-4229-9EFB-83AF17CC3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CA7FE-37DF-4AB0-9DB5-0E6CEE506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24BB1-7C64-4D37-A02F-7E7AC9B88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BBC85-51DE-4AF2-BDFE-BC865177C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325C5-4D79-4282-9E94-62C4148A7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05095-BCBB-47FA-9138-D5EF6F3C1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32196-276E-400A-9B47-AE9181C5A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BEE0F-7842-4820-911B-4AED33C02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80342-9A95-438A-A083-929CE558E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23FCF-A90A-4AF1-8B88-25B823BA6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3CA40-993B-4982-9F24-5E861EDE7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F430D-25CC-4F65-8DAA-A064B444D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2975E-B466-4056-BFDF-865CDB2D5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FE718-F52D-41A2-A1A8-96C205631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B61A1-43A4-4514-B57B-B5B03E43F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F710-6E7A-461E-9D3B-D990D273A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3F49A-587A-47CA-B498-34C19073B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9F88E-E193-4726-93B5-9116277F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007B-2FC6-48E1-8CF0-3F14B9E5F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03D39-D152-418B-BEEA-C2C0DED36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85ABD-B767-4100-9F27-A30FDC41B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E796-6EB6-4838-B236-B3C597E9DF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767E-8A09-40D8-8DA5-9691E1D8F654}"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br>
              <a:rPr sz="5400"/>
            </a:br>
            <a:r>
              <a:rPr b="1" lang="en-US" sz="2800" spc="-1" strike="noStrike">
                <a:solidFill>
                  <a:srgbClr val="ffff00"/>
                </a:solidFill>
                <a:latin typeface="Times New Roman"/>
              </a:rPr>
              <a:t>for Scientific and Engineering communiti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BEBA235-1202-4062-82C3-539760514E52}"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49" name="ccm-kenf" descr=""/>
          <p:cNvPicPr/>
          <p:nvPr/>
        </p:nvPicPr>
        <p:blipFill>
          <a:blip r:embed="rId1"/>
          <a:stretch/>
        </p:blipFill>
        <p:spPr>
          <a:xfrm>
            <a:off x="571680" y="1676520"/>
            <a:ext cx="3886200" cy="4543200"/>
          </a:xfrm>
          <a:prstGeom prst="rect">
            <a:avLst/>
          </a:prstGeom>
          <a:ln w="0">
            <a:noFill/>
          </a:ln>
        </p:spPr>
      </p:pic>
      <p:sp>
        <p:nvSpPr>
          <p:cNvPr id="250"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51"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F19098C-C8E5-4E7E-82DF-85943961B7B0}"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0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9499986-1D8B-4DF1-935E-B77321F56E59}" type="slidenum">
              <a:t>10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6"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059"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061"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70"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072"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73"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74"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75"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7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8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8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82"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2091CB4-B0F0-46C2-B967-58E84507E982}" type="slidenum">
              <a:t>10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0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BF2A5ED-732E-4915-9970-5FBBBABF0B50}" type="slidenum">
              <a:t>10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087"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088"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118"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19" name=""/>
          <p:cNvGrpSpPr/>
          <p:nvPr/>
        </p:nvGrpSpPr>
        <p:grpSpPr>
          <a:xfrm>
            <a:off x="380880" y="2514600"/>
            <a:ext cx="3504960" cy="2743200"/>
            <a:chOff x="380880" y="2514600"/>
            <a:chExt cx="3504960" cy="2743200"/>
          </a:xfrm>
        </p:grpSpPr>
        <p:pic>
          <p:nvPicPr>
            <p:cNvPr id="1120" name="dataflow" descr=""/>
            <p:cNvPicPr/>
            <p:nvPr/>
          </p:nvPicPr>
          <p:blipFill>
            <a:blip r:embed="rId1"/>
            <a:stretch/>
          </p:blipFill>
          <p:spPr>
            <a:xfrm>
              <a:off x="838080" y="2514600"/>
              <a:ext cx="2466720" cy="2724120"/>
            </a:xfrm>
            <a:prstGeom prst="rect">
              <a:avLst/>
            </a:prstGeom>
            <a:ln w="0">
              <a:noFill/>
            </a:ln>
          </p:spPr>
        </p:pic>
        <p:sp>
          <p:nvSpPr>
            <p:cNvPr id="1121"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2"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2CA6762-D1F6-4C86-992C-6E791D53744F}"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124"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30433F5-511A-4BCB-A262-8DCAA5D920A4}"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467FF37-EA07-4F19-8608-EC108DA46503}"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37B963A-4AA0-4D53-89AC-5C604234E5AB}"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85DE2E8-8E50-4BB0-8FD0-42EC71F727DC}"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13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ECA10AC-B329-4ADE-BA2C-B5FAEA437649}" type="slidenum">
              <a:t>10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C07E21F-D584-436D-8CA4-C7BB04A3BA1D}"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53" name="newfrontend" descr=""/>
          <p:cNvPicPr/>
          <p:nvPr/>
        </p:nvPicPr>
        <p:blipFill>
          <a:blip r:embed="rId1"/>
          <a:stretch/>
        </p:blipFill>
        <p:spPr>
          <a:xfrm>
            <a:off x="185760" y="138240"/>
            <a:ext cx="8772480" cy="6581520"/>
          </a:xfrm>
          <a:prstGeom prst="rect">
            <a:avLst/>
          </a:prstGeom>
          <a:ln w="0">
            <a:noFill/>
          </a:ln>
        </p:spPr>
      </p:pic>
      <p:sp>
        <p:nvSpPr>
          <p:cNvPr id="254"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55"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7057D86-9FD0-4FE1-A8E5-194DD2D674A2}"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136"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8D4D374-6787-4150-9CE7-C2BA7FC6CC12}"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257"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9AB1FBA-C96B-4DB1-B452-A226091D51A6}" type="slidenum">
              <a:t>1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259"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260" name=""/>
          <p:cNvGrpSpPr/>
          <p:nvPr/>
        </p:nvGrpSpPr>
        <p:grpSpPr>
          <a:xfrm>
            <a:off x="977760" y="3701880"/>
            <a:ext cx="6894360" cy="1877760"/>
            <a:chOff x="977760" y="3701880"/>
            <a:chExt cx="6894360" cy="1877760"/>
          </a:xfrm>
        </p:grpSpPr>
        <p:sp>
          <p:nvSpPr>
            <p:cNvPr id="261"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64"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65"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66"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67"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9B045E5-8D5E-4EF8-9ACE-F6B0EE1B8FA7}"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270"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B787E93-FAED-4A29-B6E1-08FB9CDBDE1D}" type="slidenum">
              <a:t>1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272"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273"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76"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77"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78"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79"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280"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E38F437-C03C-4C60-85A9-C9420DEF3EFF}" type="slidenum">
              <a:t>1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282"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283"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286"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287"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288"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289"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290"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292"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293"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295" name=""/>
          <p:cNvCxnSpPr>
            <a:stCxn id="294" idx="1"/>
            <a:endCxn id="293"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D2501A8-E294-429D-90B7-8F7774D65034}"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8"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99"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9CAB4F7-F8BD-4122-B2E2-D99CCB00EF0B}"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9375B79-04D5-4E35-A398-8912F8B0A533}"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303"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304"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305"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307"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308"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309"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310"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311"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313"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323"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AFC1750-E29D-432A-8334-1CBB11E052AA}" type="slidenum">
              <a:t>1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26C0ACA-CD9F-4128-B06B-FE59968DE5EF}"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325" name=""/>
          <p:cNvGrpSpPr/>
          <p:nvPr/>
        </p:nvGrpSpPr>
        <p:grpSpPr>
          <a:xfrm>
            <a:off x="1335240" y="1633680"/>
            <a:ext cx="1855800" cy="2288880"/>
            <a:chOff x="1335240" y="1633680"/>
            <a:chExt cx="1855800" cy="2288880"/>
          </a:xfrm>
        </p:grpSpPr>
        <p:grpSp>
          <p:nvGrpSpPr>
            <p:cNvPr id="326" name=""/>
            <p:cNvGrpSpPr/>
            <p:nvPr/>
          </p:nvGrpSpPr>
          <p:grpSpPr>
            <a:xfrm>
              <a:off x="1335240" y="1633680"/>
              <a:ext cx="1855800" cy="2288880"/>
              <a:chOff x="1335240" y="1633680"/>
              <a:chExt cx="1855800" cy="2288880"/>
            </a:xfrm>
          </p:grpSpPr>
          <p:sp>
            <p:nvSpPr>
              <p:cNvPr id="327"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9" name=""/>
            <p:cNvGrpSpPr/>
            <p:nvPr/>
          </p:nvGrpSpPr>
          <p:grpSpPr>
            <a:xfrm>
              <a:off x="1817640" y="2933640"/>
              <a:ext cx="1063800" cy="608400"/>
              <a:chOff x="1817640" y="2933640"/>
              <a:chExt cx="1063800" cy="608400"/>
            </a:xfrm>
          </p:grpSpPr>
          <p:sp>
            <p:nvSpPr>
              <p:cNvPr id="330"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817640" y="3242520"/>
                <a:ext cx="1041480" cy="299520"/>
                <a:chOff x="1817640" y="3242520"/>
                <a:chExt cx="1041480" cy="299520"/>
              </a:xfrm>
            </p:grpSpPr>
            <p:sp>
              <p:nvSpPr>
                <p:cNvPr id="332"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335"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336"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37"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338"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E5A4C28-4E31-49E7-A6E6-2A650F412063}" type="slidenum">
              <a:t>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344"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46"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47"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348"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353"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54"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55"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356"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B3D3D07-F75E-4896-8E6C-D6D79E3AE437}" type="slidenum">
              <a:t>2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8DAD7C6-1D27-4EA3-BB13-18EF8C84B414}" type="slidenum">
              <a:t>2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3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363" name=""/>
          <p:cNvGrpSpPr/>
          <p:nvPr/>
        </p:nvGrpSpPr>
        <p:grpSpPr>
          <a:xfrm>
            <a:off x="3505320" y="1905120"/>
            <a:ext cx="3352680" cy="4185720"/>
            <a:chOff x="3505320" y="1905120"/>
            <a:chExt cx="3352680" cy="4185720"/>
          </a:xfrm>
        </p:grpSpPr>
        <p:grpSp>
          <p:nvGrpSpPr>
            <p:cNvPr id="364" name=""/>
            <p:cNvGrpSpPr/>
            <p:nvPr/>
          </p:nvGrpSpPr>
          <p:grpSpPr>
            <a:xfrm>
              <a:off x="3505320" y="1905120"/>
              <a:ext cx="3352680" cy="4185720"/>
              <a:chOff x="3505320" y="1905120"/>
              <a:chExt cx="3352680" cy="4185720"/>
            </a:xfrm>
          </p:grpSpPr>
          <p:sp>
            <p:nvSpPr>
              <p:cNvPr id="365"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5181480" y="1905120"/>
                <a:ext cx="1371240" cy="1066680"/>
                <a:chOff x="5181480" y="1905120"/>
                <a:chExt cx="1371240" cy="1066680"/>
              </a:xfrm>
            </p:grpSpPr>
            <p:sp>
              <p:nvSpPr>
                <p:cNvPr id="393"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395"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396"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9"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2E08A5E-F7F4-4EFE-9007-E63F63A5E81C}"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BB9F4E6-BA2B-4414-9678-24EC5F7BB394}"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3"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407"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408"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413"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414"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415"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416"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2" name=""/>
          <p:cNvCxnSpPr>
            <a:stCxn id="423" idx="2"/>
            <a:endCxn id="419" idx="0"/>
          </p:cNvCxnSpPr>
          <p:nvPr/>
        </p:nvCxnSpPr>
        <p:spPr>
          <a:xfrm>
            <a:off x="6565680" y="4038480"/>
            <a:ext cx="1080" cy="153360"/>
          </a:xfrm>
          <a:prstGeom prst="straightConnector1">
            <a:avLst/>
          </a:prstGeom>
          <a:ln w="28440">
            <a:solidFill>
              <a:srgbClr val="ffff00"/>
            </a:solidFill>
            <a:miter/>
          </a:ln>
        </p:spPr>
      </p:cxnSp>
      <p:cxnSp>
        <p:nvCxnSpPr>
          <p:cNvPr id="424" name=""/>
          <p:cNvCxnSpPr>
            <a:stCxn id="419" idx="1"/>
            <a:endCxn id="421" idx="0"/>
          </p:cNvCxnSpPr>
          <p:nvPr/>
        </p:nvCxnSpPr>
        <p:spPr>
          <a:xfrm flipV="1" rot="10800000">
            <a:off x="6366600" y="4304160"/>
            <a:ext cx="99360" cy="343800"/>
          </a:xfrm>
          <a:prstGeom prst="bentConnector2">
            <a:avLst/>
          </a:prstGeom>
          <a:ln w="28440">
            <a:solidFill>
              <a:srgbClr val="ffff00"/>
            </a:solidFill>
            <a:miter/>
          </a:ln>
        </p:spPr>
      </p:cxnSp>
      <p:cxnSp>
        <p:nvCxnSpPr>
          <p:cNvPr id="425" name=""/>
          <p:cNvCxnSpPr>
            <a:stCxn id="419" idx="3"/>
            <a:endCxn id="420" idx="0"/>
          </p:cNvCxnSpPr>
          <p:nvPr/>
        </p:nvCxnSpPr>
        <p:spPr>
          <a:xfrm>
            <a:off x="6665760" y="4304880"/>
            <a:ext cx="100800" cy="343800"/>
          </a:xfrm>
          <a:prstGeom prst="bentConnector2">
            <a:avLst/>
          </a:prstGeom>
          <a:ln w="28440">
            <a:solidFill>
              <a:srgbClr val="ffff00"/>
            </a:solidFill>
            <a:miter/>
          </a:ln>
        </p:spPr>
      </p:cxnSp>
      <p:sp>
        <p:nvSpPr>
          <p:cNvPr id="423"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8" name=""/>
          <p:cNvCxnSpPr>
            <a:stCxn id="429" idx="2"/>
            <a:endCxn id="426" idx="0"/>
          </p:cNvCxnSpPr>
          <p:nvPr/>
        </p:nvCxnSpPr>
        <p:spPr>
          <a:xfrm>
            <a:off x="7611840" y="3809880"/>
            <a:ext cx="1080" cy="153360"/>
          </a:xfrm>
          <a:prstGeom prst="straightConnector1">
            <a:avLst/>
          </a:prstGeom>
          <a:ln w="28440">
            <a:solidFill>
              <a:srgbClr val="ffff00"/>
            </a:solidFill>
            <a:miter/>
          </a:ln>
        </p:spPr>
      </p:cxnSp>
      <p:sp>
        <p:nvSpPr>
          <p:cNvPr id="429"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a:stCxn id="431" idx="3"/>
            <a:endCxn id="427" idx="0"/>
          </p:cNvCxnSpPr>
          <p:nvPr/>
        </p:nvCxnSpPr>
        <p:spPr>
          <a:xfrm>
            <a:off x="7512120" y="4152600"/>
            <a:ext cx="249840" cy="114840"/>
          </a:xfrm>
          <a:prstGeom prst="bentConnector2">
            <a:avLst/>
          </a:prstGeom>
          <a:ln w="28440">
            <a:solidFill>
              <a:srgbClr val="ffff00"/>
            </a:solidFill>
            <a:miter/>
          </a:ln>
        </p:spPr>
      </p:cxnSp>
      <p:cxnSp>
        <p:nvCxnSpPr>
          <p:cNvPr id="432" name=""/>
          <p:cNvCxnSpPr>
            <a:stCxn id="427" idx="2"/>
            <a:endCxn id="433" idx="3"/>
          </p:cNvCxnSpPr>
          <p:nvPr/>
        </p:nvCxnSpPr>
        <p:spPr>
          <a:xfrm rot="5400000">
            <a:off x="7578720" y="4428360"/>
            <a:ext cx="115200" cy="249840"/>
          </a:xfrm>
          <a:prstGeom prst="bentConnector2">
            <a:avLst/>
          </a:prstGeom>
          <a:ln w="28440">
            <a:solidFill>
              <a:srgbClr val="ffff00"/>
            </a:solidFill>
            <a:miter/>
          </a:ln>
        </p:spPr>
      </p:cxnSp>
      <p:sp>
        <p:nvSpPr>
          <p:cNvPr id="431"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7" name=""/>
          <p:cNvCxnSpPr>
            <a:stCxn id="416" idx="3"/>
            <a:endCxn id="434"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438" name=""/>
          <p:cNvCxnSpPr>
            <a:stCxn id="416" idx="2"/>
            <a:endCxn id="417"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439" name=""/>
          <p:cNvCxnSpPr>
            <a:stCxn id="417" idx="3"/>
            <a:endCxn id="435"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440" name=""/>
          <p:cNvCxnSpPr>
            <a:stCxn id="417" idx="3"/>
            <a:endCxn id="434"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441" name=""/>
          <p:cNvCxnSpPr>
            <a:stCxn id="435" idx="3"/>
            <a:endCxn id="436"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442" name=""/>
          <p:cNvCxnSpPr>
            <a:stCxn id="436" idx="1"/>
            <a:endCxn id="434"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443" name=""/>
          <p:cNvGrpSpPr/>
          <p:nvPr/>
        </p:nvGrpSpPr>
        <p:grpSpPr>
          <a:xfrm>
            <a:off x="3627360" y="5867280"/>
            <a:ext cx="4481640" cy="419400"/>
            <a:chOff x="3627360" y="5867280"/>
            <a:chExt cx="4481640" cy="419400"/>
          </a:xfrm>
        </p:grpSpPr>
        <p:sp>
          <p:nvSpPr>
            <p:cNvPr id="444"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52"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453"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D13CA26-A9B7-44B0-A653-04B0A8E00F43}" type="slidenum">
              <a:t>2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455"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472"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3"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4"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475"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478"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482"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489"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BAD63EA-0EF7-42F6-943B-2F04BA8C7DA7}"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49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22A2259-6310-4E3B-BA08-AF4A302D883C}" type="slidenum">
              <a:t>2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2"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3" name=""/>
          <p:cNvGrpSpPr/>
          <p:nvPr/>
        </p:nvGrpSpPr>
        <p:grpSpPr>
          <a:xfrm>
            <a:off x="3179880" y="3649680"/>
            <a:ext cx="1931400" cy="519120"/>
            <a:chOff x="3179880" y="3649680"/>
            <a:chExt cx="1931400" cy="519120"/>
          </a:xfrm>
        </p:grpSpPr>
        <p:sp>
          <p:nvSpPr>
            <p:cNvPr id="494"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8" name=""/>
          <p:cNvGrpSpPr/>
          <p:nvPr/>
        </p:nvGrpSpPr>
        <p:grpSpPr>
          <a:xfrm>
            <a:off x="5985000" y="3649680"/>
            <a:ext cx="2680920" cy="446040"/>
            <a:chOff x="5985000" y="3649680"/>
            <a:chExt cx="2680920" cy="446040"/>
          </a:xfrm>
        </p:grpSpPr>
        <p:sp>
          <p:nvSpPr>
            <p:cNvPr id="499"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4"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505"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506" name=""/>
          <p:cNvGrpSpPr/>
          <p:nvPr/>
        </p:nvGrpSpPr>
        <p:grpSpPr>
          <a:xfrm>
            <a:off x="2743200" y="5486400"/>
            <a:ext cx="6109920" cy="1039680"/>
            <a:chOff x="2743200" y="5486400"/>
            <a:chExt cx="6109920" cy="1039680"/>
          </a:xfrm>
        </p:grpSpPr>
        <p:sp>
          <p:nvSpPr>
            <p:cNvPr id="507"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18" name=""/>
          <p:cNvCxnSpPr>
            <a:stCxn id="502" idx="4"/>
            <a:endCxn id="495"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519"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4"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527"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9"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534"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535"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B25F9EC-CD2F-421F-BB7A-895D5159509E}"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A54C8F9-B553-4C3C-801C-5D8F8DD21E71}"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
          <p:cNvGrpSpPr/>
          <p:nvPr/>
        </p:nvGrpSpPr>
        <p:grpSpPr>
          <a:xfrm>
            <a:off x="4668840" y="5208480"/>
            <a:ext cx="3616200" cy="1040040"/>
            <a:chOff x="4668840" y="5208480"/>
            <a:chExt cx="3616200" cy="1040040"/>
          </a:xfrm>
        </p:grpSpPr>
        <p:sp>
          <p:nvSpPr>
            <p:cNvPr id="105"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09"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0" name=""/>
          <p:cNvGrpSpPr/>
          <p:nvPr/>
        </p:nvGrpSpPr>
        <p:grpSpPr>
          <a:xfrm>
            <a:off x="5635800" y="1295280"/>
            <a:ext cx="1684080" cy="1558800"/>
            <a:chOff x="5635800" y="1295280"/>
            <a:chExt cx="1684080" cy="1558800"/>
          </a:xfrm>
        </p:grpSpPr>
        <p:sp>
          <p:nvSpPr>
            <p:cNvPr id="111"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13"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4"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17"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19"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2E67007A-AB41-4952-878F-3ACA32C1EDE6}" type="slidenum">
              <a:t>3</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35863EA-31D9-45FD-B3F5-54F632766096}"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541" name=""/>
          <p:cNvGrpSpPr/>
          <p:nvPr/>
        </p:nvGrpSpPr>
        <p:grpSpPr>
          <a:xfrm>
            <a:off x="3773520" y="3463920"/>
            <a:ext cx="4653000" cy="2967120"/>
            <a:chOff x="3773520" y="3463920"/>
            <a:chExt cx="4653000" cy="2967120"/>
          </a:xfrm>
        </p:grpSpPr>
        <p:sp>
          <p:nvSpPr>
            <p:cNvPr id="542"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3"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544"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546"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547"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548"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CD89902-4BE9-428B-8DAB-203B38F7A7A5}"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5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1"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552"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46E179B2-E8E0-4F24-B01F-DCF92AFDB72E}" type="slidenum">
              <a:t>32</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554"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4AEDF76-93A6-42DB-AA56-8A9269245594}"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36AADF6-6948-4C18-B4D7-DC30F368AFAC}"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7"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561"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563"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572"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574"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575"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576"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577"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578"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580"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1"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2"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583"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584"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585"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587"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6DA9164-6351-4A82-95B6-597C57969B4C}" type="slidenum">
              <a:t>3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86DA8F9-A403-4530-8DEC-AF5378203353}"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90"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592"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593"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594"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595"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596"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597"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598"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599"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00"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601"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602"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610"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51CD181-0D8B-4999-8CBB-42523343CAC0}" type="slidenum">
              <a:t>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614"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15"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616"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617"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18"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19"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21"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630"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631"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A81930F-EC14-4F55-A19D-AA3432E3C0E6}"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633"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634"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7"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38"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9"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0"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1"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2"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3"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644"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645"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ADCF190-FFCF-48A4-BC07-F0559D9F8D6A}"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2571398-00F0-4CF0-BFBB-E6B51F2851EC}"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661"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62"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663"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664"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665"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641757F-3CB0-41E2-BB06-8538CC353238}"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669"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739DEA9B-35F1-44A2-A7E2-90BEC7CD1705}" type="slidenum">
              <a:t>4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1"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C0D62CC-1CF3-4D49-937C-CD4A7997FAF5}"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6A70386-B628-4417-B8C6-817C9132FE81}"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EA16423-1EE9-4022-915F-5ACC14CA40D8}" type="slidenum">
              <a:t>4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BF90429-F54A-4F51-8E4D-96E4556AFB30}"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F206028-7DEF-4299-92EF-A5FD2EA3A5E6}"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68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03EE612-012C-4B9F-B61E-D1B9662B6E9C}"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3CADB2A-A410-4AD9-B7AF-1D6CD5D6DCFD}" type="slidenum">
              <a:t>4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6"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87"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688"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689"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690"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699"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700"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701"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702"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707"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708"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709"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E23CDAD5-C59D-4E0A-9DF8-CF02BE732E6D}" type="slidenum">
              <a:t>49</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26"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27"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28" name=""/>
          <p:cNvGrpSpPr/>
          <p:nvPr/>
        </p:nvGrpSpPr>
        <p:grpSpPr>
          <a:xfrm>
            <a:off x="4006800" y="5173560"/>
            <a:ext cx="3630600" cy="1067040"/>
            <a:chOff x="4006800" y="5173560"/>
            <a:chExt cx="3630600" cy="1067040"/>
          </a:xfrm>
        </p:grpSpPr>
        <p:grpSp>
          <p:nvGrpSpPr>
            <p:cNvPr id="129" name=""/>
            <p:cNvGrpSpPr/>
            <p:nvPr/>
          </p:nvGrpSpPr>
          <p:grpSpPr>
            <a:xfrm>
              <a:off x="4006800" y="5173560"/>
              <a:ext cx="1128960" cy="1067040"/>
              <a:chOff x="4006800" y="5173560"/>
              <a:chExt cx="1128960" cy="1067040"/>
            </a:xfrm>
          </p:grpSpPr>
          <p:sp>
            <p:nvSpPr>
              <p:cNvPr id="130"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2" name=""/>
            <p:cNvGrpSpPr/>
            <p:nvPr/>
          </p:nvGrpSpPr>
          <p:grpSpPr>
            <a:xfrm>
              <a:off x="5261040" y="5173560"/>
              <a:ext cx="1120680" cy="1067040"/>
              <a:chOff x="5261040" y="5173560"/>
              <a:chExt cx="1120680" cy="1067040"/>
            </a:xfrm>
          </p:grpSpPr>
          <p:sp>
            <p:nvSpPr>
              <p:cNvPr id="133"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5" name=""/>
            <p:cNvGrpSpPr/>
            <p:nvPr/>
          </p:nvGrpSpPr>
          <p:grpSpPr>
            <a:xfrm>
              <a:off x="6507360" y="5173560"/>
              <a:ext cx="1130040" cy="1067040"/>
              <a:chOff x="6507360" y="5173560"/>
              <a:chExt cx="1130040" cy="1067040"/>
            </a:xfrm>
          </p:grpSpPr>
          <p:sp>
            <p:nvSpPr>
              <p:cNvPr id="136"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38" name=""/>
          <p:cNvCxnSpPr>
            <a:stCxn id="127" idx="2"/>
            <a:endCxn id="131"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39" name=""/>
          <p:cNvCxnSpPr>
            <a:stCxn id="127" idx="2"/>
            <a:endCxn id="137"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40"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42"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43"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4"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62E4F87-DAF7-44C0-8DFE-BF18AD9A0B79}"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711" name="lms01" descr=""/>
          <p:cNvPicPr/>
          <p:nvPr/>
        </p:nvPicPr>
        <p:blipFill>
          <a:blip r:embed="rId1"/>
          <a:stretch/>
        </p:blipFill>
        <p:spPr>
          <a:xfrm>
            <a:off x="1523880" y="1143000"/>
            <a:ext cx="6343920" cy="4848120"/>
          </a:xfrm>
          <a:prstGeom prst="rect">
            <a:avLst/>
          </a:prstGeom>
          <a:ln w="0">
            <a:noFill/>
          </a:ln>
        </p:spPr>
      </p:pic>
      <p:sp>
        <p:nvSpPr>
          <p:cNvPr id="712"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713"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71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71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8DBF02B-6A05-4BD3-A94D-B6C9892AF2E5}" type="slidenum">
              <a:t>5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18" name="fig2a" descr=""/>
          <p:cNvPicPr/>
          <p:nvPr/>
        </p:nvPicPr>
        <p:blipFill>
          <a:blip r:embed="rId1"/>
          <a:stretch/>
        </p:blipFill>
        <p:spPr>
          <a:xfrm>
            <a:off x="3581280" y="1371600"/>
            <a:ext cx="5154840" cy="5154480"/>
          </a:xfrm>
          <a:prstGeom prst="rect">
            <a:avLst/>
          </a:prstGeom>
          <a:ln w="0">
            <a:noFill/>
          </a:ln>
        </p:spPr>
      </p:pic>
      <p:sp>
        <p:nvSpPr>
          <p:cNvPr id="7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72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21"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B078566-503C-44E4-8400-69840C3D22A4}"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22" name="LMS01a" descr=""/>
          <p:cNvPicPr/>
          <p:nvPr/>
        </p:nvPicPr>
        <p:blipFill>
          <a:blip r:embed="rId1"/>
          <a:stretch/>
        </p:blipFill>
        <p:spPr>
          <a:xfrm>
            <a:off x="1295280" y="304920"/>
            <a:ext cx="6553440" cy="6191280"/>
          </a:xfrm>
          <a:prstGeom prst="rect">
            <a:avLst/>
          </a:prstGeom>
          <a:ln w="0">
            <a:noFill/>
          </a:ln>
        </p:spPr>
      </p:pic>
      <p:sp>
        <p:nvSpPr>
          <p:cNvPr id="723"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725" name=""/>
          <p:cNvGrpSpPr/>
          <p:nvPr/>
        </p:nvGrpSpPr>
        <p:grpSpPr>
          <a:xfrm>
            <a:off x="304920" y="4495680"/>
            <a:ext cx="2286000" cy="2133720"/>
            <a:chOff x="304920" y="4495680"/>
            <a:chExt cx="2286000" cy="2133720"/>
          </a:xfrm>
        </p:grpSpPr>
        <p:sp>
          <p:nvSpPr>
            <p:cNvPr id="726"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727"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728"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729"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730"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FD0FC2D9-521E-46E6-BB3E-7D91449D42E4}" type="slidenum">
              <a:t>5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735" name="fig4" descr=""/>
          <p:cNvPicPr/>
          <p:nvPr/>
        </p:nvPicPr>
        <p:blipFill>
          <a:blip r:embed="rId1"/>
          <a:stretch/>
        </p:blipFill>
        <p:spPr>
          <a:xfrm>
            <a:off x="533520" y="1371600"/>
            <a:ext cx="6049800" cy="4829040"/>
          </a:xfrm>
          <a:prstGeom prst="rect">
            <a:avLst/>
          </a:prstGeom>
          <a:ln w="0">
            <a:noFill/>
          </a:ln>
        </p:spPr>
      </p:pic>
      <p:sp>
        <p:nvSpPr>
          <p:cNvPr id="736"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ABCC9A0-7F37-42D9-9773-172F3EBFCF2B}"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3DB171E-A7F5-486F-AECE-E07C4D5417E1}" type="slidenum">
              <a:t>5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9"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742"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43"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44"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46"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47"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49"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51"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52"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53"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54"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5"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6"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757"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761"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BC479E4-97ED-4B33-81D8-1D74169A4FEC}" type="slidenum">
              <a:t>5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765"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40FE49A-4AF0-40B4-8214-A6466C6AA2EA}" type="slidenum">
              <a:t>5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6"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67"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770"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71"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72"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74"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75"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77"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79"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80"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81"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82"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3"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4"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786"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788"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790"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1"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93"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5"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2C2B959-3A91-45A3-95C0-A47B86FF376A}"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7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C857A78-B4A7-4310-9DA2-2510F396A9EB}" type="slidenum">
              <a:t>5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79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6126BC1-A7A1-44C5-B42F-BD72EDFBA49D}"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46"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47"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48"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49"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50"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0836B1A-7235-45EA-A0D4-F557BBACD75F}"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801"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CCFA488-E547-4265-A096-B3D77B96E449}"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804"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65BEC30-A4F7-4CF5-B521-6D81999B00EF}"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219CB9D-030E-4254-B0F6-71301FB4F1D2}"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807" name="newfrontend-a" descr=""/>
          <p:cNvPicPr/>
          <p:nvPr/>
        </p:nvPicPr>
        <p:blipFill>
          <a:blip r:embed="rId1"/>
          <a:stretch/>
        </p:blipFill>
        <p:spPr>
          <a:xfrm>
            <a:off x="1390680" y="1600200"/>
            <a:ext cx="6362640" cy="5072040"/>
          </a:xfrm>
          <a:prstGeom prst="rect">
            <a:avLst/>
          </a:prstGeom>
          <a:ln w="0">
            <a:noFill/>
          </a:ln>
        </p:spPr>
      </p:pic>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DE5BEC9-9D6F-4EE4-AF98-A6D560A82179}"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810"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817" name=""/>
          <p:cNvCxnSpPr>
            <a:stCxn id="812" idx="2"/>
            <a:endCxn id="813" idx="0"/>
          </p:cNvCxnSpPr>
          <p:nvPr/>
        </p:nvCxnSpPr>
        <p:spPr>
          <a:xfrm flipV="1" rot="10800000">
            <a:off x="1978920" y="2709360"/>
            <a:ext cx="1080" cy="165960"/>
          </a:xfrm>
          <a:prstGeom prst="bentConnector2">
            <a:avLst/>
          </a:prstGeom>
          <a:ln w="38160">
            <a:solidFill>
              <a:srgbClr val="0000ff"/>
            </a:solidFill>
            <a:miter/>
          </a:ln>
        </p:spPr>
      </p:cxnSp>
      <p:cxnSp>
        <p:nvCxnSpPr>
          <p:cNvPr id="818" name=""/>
          <p:cNvCxnSpPr>
            <a:stCxn id="813" idx="2"/>
            <a:endCxn id="816"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819" name=""/>
          <p:cNvCxnSpPr>
            <a:stCxn id="813" idx="2"/>
            <a:endCxn id="815"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820" name=""/>
          <p:cNvCxnSpPr>
            <a:stCxn id="815" idx="2"/>
            <a:endCxn id="814" idx="0"/>
          </p:cNvCxnSpPr>
          <p:nvPr/>
        </p:nvCxnSpPr>
        <p:spPr>
          <a:xfrm flipV="1" rot="10800000">
            <a:off x="2553480" y="3563280"/>
            <a:ext cx="1080" cy="167040"/>
          </a:xfrm>
          <a:prstGeom prst="bentConnector2">
            <a:avLst/>
          </a:prstGeom>
          <a:ln w="38160">
            <a:solidFill>
              <a:srgbClr val="0000ff"/>
            </a:solidFill>
            <a:miter/>
          </a:ln>
        </p:spPr>
      </p:cxnSp>
      <p:sp>
        <p:nvSpPr>
          <p:cNvPr id="821"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822"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824"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825"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827"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830"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831"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833"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40" name=""/>
          <p:cNvCxnSpPr>
            <a:stCxn id="835" idx="6"/>
            <a:endCxn id="839" idx="2"/>
          </p:cNvCxnSpPr>
          <p:nvPr/>
        </p:nvCxnSpPr>
        <p:spPr>
          <a:xfrm>
            <a:off x="3365640" y="5900400"/>
            <a:ext cx="250920" cy="91080"/>
          </a:xfrm>
          <a:prstGeom prst="straightConnector1">
            <a:avLst/>
          </a:prstGeom>
          <a:ln w="28440">
            <a:solidFill>
              <a:srgbClr val="ffffff"/>
            </a:solidFill>
            <a:miter/>
          </a:ln>
        </p:spPr>
      </p:cxnSp>
      <p:cxnSp>
        <p:nvCxnSpPr>
          <p:cNvPr id="841" name=""/>
          <p:cNvCxnSpPr>
            <a:stCxn id="839" idx="7"/>
            <a:endCxn id="836" idx="2"/>
          </p:cNvCxnSpPr>
          <p:nvPr/>
        </p:nvCxnSpPr>
        <p:spPr>
          <a:xfrm flipV="1">
            <a:off x="3797280" y="5817960"/>
            <a:ext cx="164160" cy="95760"/>
          </a:xfrm>
          <a:prstGeom prst="straightConnector1">
            <a:avLst/>
          </a:prstGeom>
          <a:ln w="28440">
            <a:solidFill>
              <a:srgbClr val="ffffff"/>
            </a:solidFill>
            <a:miter/>
          </a:ln>
        </p:spPr>
      </p:cxnSp>
      <p:cxnSp>
        <p:nvCxnSpPr>
          <p:cNvPr id="842" name=""/>
          <p:cNvCxnSpPr>
            <a:stCxn id="839" idx="6"/>
            <a:endCxn id="837" idx="2"/>
          </p:cNvCxnSpPr>
          <p:nvPr/>
        </p:nvCxnSpPr>
        <p:spPr>
          <a:xfrm>
            <a:off x="3827160" y="5991120"/>
            <a:ext cx="446760" cy="29520"/>
          </a:xfrm>
          <a:prstGeom prst="straightConnector1">
            <a:avLst/>
          </a:prstGeom>
          <a:ln w="28440">
            <a:solidFill>
              <a:srgbClr val="ffffff"/>
            </a:solidFill>
            <a:miter/>
          </a:ln>
        </p:spPr>
      </p:cxnSp>
      <p:cxnSp>
        <p:nvCxnSpPr>
          <p:cNvPr id="843" name=""/>
          <p:cNvCxnSpPr>
            <a:stCxn id="837" idx="6"/>
            <a:endCxn id="838" idx="3"/>
          </p:cNvCxnSpPr>
          <p:nvPr/>
        </p:nvCxnSpPr>
        <p:spPr>
          <a:xfrm flipV="1">
            <a:off x="4484160" y="5952600"/>
            <a:ext cx="259560" cy="67680"/>
          </a:xfrm>
          <a:prstGeom prst="straightConnector1">
            <a:avLst/>
          </a:prstGeom>
          <a:ln w="28440">
            <a:solidFill>
              <a:srgbClr val="ffffff"/>
            </a:solidFill>
            <a:miter/>
          </a:ln>
        </p:spPr>
      </p:cxnSp>
      <p:sp>
        <p:nvSpPr>
          <p:cNvPr id="844"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845"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846"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847"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9F41621-A164-42EF-988A-D61449103BD2}" type="slidenum">
              <a:t>6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849"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8E46C6F-CA16-48FE-9DD2-0B0478879F2E}" type="slidenum">
              <a:t>6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851"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D220D61-A4B2-4110-BFB9-45A20A577500}" type="slidenum">
              <a:t>6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785D1849-6179-43B6-A03C-88E5BD27329B}" type="slidenum">
              <a:t>67</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855" name=""/>
          <p:cNvGrpSpPr/>
          <p:nvPr/>
        </p:nvGrpSpPr>
        <p:grpSpPr>
          <a:xfrm>
            <a:off x="1905120" y="3429000"/>
            <a:ext cx="1523880" cy="1219320"/>
            <a:chOff x="1905120" y="3429000"/>
            <a:chExt cx="1523880" cy="1219320"/>
          </a:xfrm>
        </p:grpSpPr>
        <p:sp>
          <p:nvSpPr>
            <p:cNvPr id="856"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7" name="msd01" descr=""/>
            <p:cNvPicPr/>
            <p:nvPr/>
          </p:nvPicPr>
          <p:blipFill>
            <a:blip r:embed="rId1"/>
            <a:stretch/>
          </p:blipFill>
          <p:spPr>
            <a:xfrm>
              <a:off x="2009880" y="3505320"/>
              <a:ext cx="1314360" cy="1057320"/>
            </a:xfrm>
            <a:prstGeom prst="rect">
              <a:avLst/>
            </a:prstGeom>
            <a:ln w="0">
              <a:noFill/>
            </a:ln>
          </p:spPr>
        </p:pic>
      </p:grpSp>
      <p:sp>
        <p:nvSpPr>
          <p:cNvPr id="858"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859" name=""/>
          <p:cNvGrpSpPr/>
          <p:nvPr/>
        </p:nvGrpSpPr>
        <p:grpSpPr>
          <a:xfrm>
            <a:off x="228600" y="3124080"/>
            <a:ext cx="1155960" cy="1676520"/>
            <a:chOff x="228600" y="3124080"/>
            <a:chExt cx="1155960" cy="1676520"/>
          </a:xfrm>
        </p:grpSpPr>
        <p:sp>
          <p:nvSpPr>
            <p:cNvPr id="860"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863"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866"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4038480" y="1447920"/>
            <a:ext cx="4496040" cy="2133360"/>
            <a:chOff x="4038480" y="1447920"/>
            <a:chExt cx="4496040" cy="2133360"/>
          </a:xfrm>
        </p:grpSpPr>
        <p:sp>
          <p:nvSpPr>
            <p:cNvPr id="872"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873"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837A973-CFD5-4066-BCF3-483A95223F90}" type="slidenum">
              <a:t>6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876"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916E303-D735-449A-972B-656E0D319A96}" type="slidenum">
              <a:t>6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1"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54"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1" name=""/>
          <p:cNvGrpSpPr/>
          <p:nvPr/>
        </p:nvGrpSpPr>
        <p:grpSpPr>
          <a:xfrm>
            <a:off x="376200" y="1246320"/>
            <a:ext cx="3616200" cy="4952520"/>
            <a:chOff x="376200" y="1246320"/>
            <a:chExt cx="3616200" cy="4952520"/>
          </a:xfrm>
        </p:grpSpPr>
        <p:grpSp>
          <p:nvGrpSpPr>
            <p:cNvPr id="162" name=""/>
            <p:cNvGrpSpPr/>
            <p:nvPr/>
          </p:nvGrpSpPr>
          <p:grpSpPr>
            <a:xfrm>
              <a:off x="376200" y="1246320"/>
              <a:ext cx="3616200" cy="4952520"/>
              <a:chOff x="376200" y="1246320"/>
              <a:chExt cx="3616200" cy="4952520"/>
            </a:xfrm>
          </p:grpSpPr>
          <p:grpSp>
            <p:nvGrpSpPr>
              <p:cNvPr id="163" name=""/>
              <p:cNvGrpSpPr/>
              <p:nvPr/>
            </p:nvGrpSpPr>
            <p:grpSpPr>
              <a:xfrm>
                <a:off x="376200" y="5159160"/>
                <a:ext cx="3616200" cy="1039680"/>
                <a:chOff x="376200" y="5159160"/>
                <a:chExt cx="3616200" cy="1039680"/>
              </a:xfrm>
            </p:grpSpPr>
            <p:sp>
              <p:nvSpPr>
                <p:cNvPr id="164"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1343160" y="1246320"/>
                <a:ext cx="1684080" cy="1558800"/>
                <a:chOff x="1343160" y="1246320"/>
                <a:chExt cx="1684080" cy="1558800"/>
              </a:xfrm>
            </p:grpSpPr>
            <p:sp>
              <p:nvSpPr>
                <p:cNvPr id="168"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70"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4" name=""/>
          <p:cNvGrpSpPr/>
          <p:nvPr/>
        </p:nvGrpSpPr>
        <p:grpSpPr>
          <a:xfrm>
            <a:off x="4660920" y="1224000"/>
            <a:ext cx="3616200" cy="4952520"/>
            <a:chOff x="4660920" y="1224000"/>
            <a:chExt cx="3616200" cy="4952520"/>
          </a:xfrm>
        </p:grpSpPr>
        <p:grpSp>
          <p:nvGrpSpPr>
            <p:cNvPr id="175" name=""/>
            <p:cNvGrpSpPr/>
            <p:nvPr/>
          </p:nvGrpSpPr>
          <p:grpSpPr>
            <a:xfrm>
              <a:off x="4660920" y="5136840"/>
              <a:ext cx="3616200" cy="1039680"/>
              <a:chOff x="4660920" y="5136840"/>
              <a:chExt cx="3616200" cy="1039680"/>
            </a:xfrm>
          </p:grpSpPr>
          <p:sp>
            <p:nvSpPr>
              <p:cNvPr id="176"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 name=""/>
            <p:cNvGrpSpPr/>
            <p:nvPr/>
          </p:nvGrpSpPr>
          <p:grpSpPr>
            <a:xfrm>
              <a:off x="5627880" y="1224000"/>
              <a:ext cx="1684080" cy="1558800"/>
              <a:chOff x="5627880" y="1224000"/>
              <a:chExt cx="1684080" cy="1558800"/>
            </a:xfrm>
          </p:grpSpPr>
          <p:sp>
            <p:nvSpPr>
              <p:cNvPr id="180"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82" name=""/>
          <p:cNvGrpSpPr/>
          <p:nvPr/>
        </p:nvGrpSpPr>
        <p:grpSpPr>
          <a:xfrm>
            <a:off x="4603680" y="3224160"/>
            <a:ext cx="3735360" cy="1528920"/>
            <a:chOff x="4603680" y="3224160"/>
            <a:chExt cx="3735360" cy="1528920"/>
          </a:xfrm>
        </p:grpSpPr>
        <p:sp>
          <p:nvSpPr>
            <p:cNvPr id="183"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84"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85"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86"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FB66C3C4-02CA-47F4-A726-B56F88A069D6}" type="slidenum">
              <a:t>7</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77"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879" name=""/>
          <p:cNvGrpSpPr/>
          <p:nvPr/>
        </p:nvGrpSpPr>
        <p:grpSpPr>
          <a:xfrm>
            <a:off x="2647800" y="3384720"/>
            <a:ext cx="3735360" cy="1528200"/>
            <a:chOff x="2647800" y="3384720"/>
            <a:chExt cx="3735360" cy="1528200"/>
          </a:xfrm>
        </p:grpSpPr>
        <p:sp>
          <p:nvSpPr>
            <p:cNvPr id="880"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881"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882"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883"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884"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885"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886"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887"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888"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81" idx="2"/>
            <a:endCxn id="891"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895" name=""/>
          <p:cNvCxnSpPr>
            <a:stCxn id="881" idx="2"/>
            <a:endCxn id="892"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896" name=""/>
          <p:cNvCxnSpPr>
            <a:stCxn id="881" idx="2"/>
            <a:endCxn id="893"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897" name=""/>
          <p:cNvCxnSpPr>
            <a:stCxn id="881" idx="2"/>
            <a:endCxn id="888"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898" name=""/>
          <p:cNvCxnSpPr>
            <a:stCxn id="881" idx="2"/>
            <a:endCxn id="889"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899" name=""/>
          <p:cNvCxnSpPr>
            <a:stCxn id="881" idx="2"/>
            <a:endCxn id="890"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900" name=""/>
          <p:cNvCxnSpPr>
            <a:stCxn id="883" idx="2"/>
            <a:endCxn id="882"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901" name=""/>
          <p:cNvCxnSpPr>
            <a:stCxn id="884" idx="2"/>
            <a:endCxn id="882"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902"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3"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4" name=""/>
          <p:cNvCxnSpPr>
            <a:stCxn id="886" idx="2"/>
            <a:endCxn id="882"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90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90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908"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909" name=""/>
          <p:cNvCxnSpPr>
            <a:stCxn id="887" idx="2"/>
            <a:endCxn id="882"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ED24290-158B-46A4-8C6A-D1BBE45FA0B9}" type="slidenum">
              <a:t>7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004FE5F-4C2E-4D30-A1C9-80ACFD3125C1}"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7445AF0-92FA-4AF8-8683-54C3182E5DED}"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9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774B234-8CA1-4884-9025-5852C36AD9B0}" type="slidenum">
              <a:t>7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A00714F-1C5A-4C48-A2AE-CF4695CA9B4B}"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9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D30FCF0-D5E5-4AEE-AB26-6B2DCA945657}"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9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DB1A5BDF-7BA6-400C-A45E-E9F399FC798C}" type="slidenum">
              <a:t>7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9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0DCE688-C42B-4258-B536-6856EBA5CA32}"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9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C4D1C98-530B-4E91-BDB0-F64951A8E608}" type="slidenum">
              <a:t>7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26" name="newfrontend-a" descr=""/>
          <p:cNvPicPr/>
          <p:nvPr/>
        </p:nvPicPr>
        <p:blipFill>
          <a:blip r:embed="rId1"/>
          <a:stretch/>
        </p:blipFill>
        <p:spPr>
          <a:xfrm>
            <a:off x="1390680" y="1600200"/>
            <a:ext cx="6362640" cy="5072040"/>
          </a:xfrm>
          <a:prstGeom prst="rect">
            <a:avLst/>
          </a:prstGeom>
          <a:ln w="0">
            <a:noFill/>
          </a:ln>
        </p:spPr>
      </p:pic>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D06E7A0-4E09-4DE8-B066-DDCBA39A211A}" type="slidenum">
              <a:t>7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2"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94" name=""/>
          <p:cNvGrpSpPr/>
          <p:nvPr/>
        </p:nvGrpSpPr>
        <p:grpSpPr>
          <a:xfrm>
            <a:off x="2647800" y="3384720"/>
            <a:ext cx="3735360" cy="1528200"/>
            <a:chOff x="2647800" y="3384720"/>
            <a:chExt cx="3735360" cy="1528200"/>
          </a:xfrm>
        </p:grpSpPr>
        <p:sp>
          <p:nvSpPr>
            <p:cNvPr id="195"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96"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97"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98"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99"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00"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01"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02"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03"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9" name=""/>
          <p:cNvCxnSpPr>
            <a:stCxn id="196" idx="2"/>
            <a:endCxn id="206"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10" name=""/>
          <p:cNvCxnSpPr>
            <a:stCxn id="196" idx="2"/>
            <a:endCxn id="207"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11" name=""/>
          <p:cNvCxnSpPr>
            <a:stCxn id="196" idx="2"/>
            <a:endCxn id="208"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12" name=""/>
          <p:cNvCxnSpPr>
            <a:stCxn id="196" idx="2"/>
            <a:endCxn id="203"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13" name=""/>
          <p:cNvCxnSpPr>
            <a:stCxn id="196" idx="2"/>
            <a:endCxn id="204"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14" name=""/>
          <p:cNvCxnSpPr>
            <a:stCxn id="196" idx="2"/>
            <a:endCxn id="205"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15" name=""/>
          <p:cNvCxnSpPr>
            <a:stCxn id="198" idx="2"/>
            <a:endCxn id="197"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16" name=""/>
          <p:cNvCxnSpPr>
            <a:stCxn id="199" idx="2"/>
            <a:endCxn id="197"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17"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8"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9" name=""/>
          <p:cNvCxnSpPr>
            <a:stCxn id="201" idx="2"/>
            <a:endCxn id="197"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20"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21"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23"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24" name=""/>
          <p:cNvCxnSpPr>
            <a:stCxn id="202" idx="2"/>
            <a:endCxn id="197"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7CDFB0B-9AD3-4B15-8557-FDD97E0D596E}"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929"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5885C79-0B9D-4830-A62A-C6E50DCF38D7}" type="slidenum">
              <a:t>8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9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761B5D8-DB65-40E9-A560-C654BFDD200C}" type="slidenum">
              <a:t>8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9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8F1A76F-C7DC-4814-9FE5-7758D07E7712}" type="slidenum">
              <a:t>8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9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3BF710EC-1248-4189-BCAE-76465AFDE68B}" type="slidenum">
              <a:t>8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1C6D849-2A5E-44E7-932D-A48E17FF4BA8}" type="slidenum">
              <a:t>8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DCABE4B-41F0-4634-A832-AF5CDE6D1008}" type="slidenum">
              <a:t>8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94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2E63CEB-5328-4108-BCB1-ED12790C9FFC}" type="slidenum">
              <a:t>8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9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BB4CA89-D16E-4120-B543-9ABADBCFB77B}" type="slidenum">
              <a:t>8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94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1785AF1-FD79-4C20-B426-0D896D62FBDC}"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4EA59AD-0170-4292-B026-1C093F389E1D}" type="slidenum">
              <a:t>8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26" name="lms03" descr=""/>
          <p:cNvPicPr/>
          <p:nvPr/>
        </p:nvPicPr>
        <p:blipFill>
          <a:blip r:embed="rId1"/>
          <a:stretch/>
        </p:blipFill>
        <p:spPr>
          <a:xfrm>
            <a:off x="466560" y="1628640"/>
            <a:ext cx="8677440" cy="5229360"/>
          </a:xfrm>
          <a:prstGeom prst="rect">
            <a:avLst/>
          </a:prstGeom>
          <a:ln w="0">
            <a:noFill/>
          </a:ln>
        </p:spPr>
      </p:pic>
      <p:pic>
        <p:nvPicPr>
          <p:cNvPr id="227" name="lms01" descr=""/>
          <p:cNvPicPr/>
          <p:nvPr/>
        </p:nvPicPr>
        <p:blipFill>
          <a:blip r:embed="rId2"/>
          <a:stretch/>
        </p:blipFill>
        <p:spPr>
          <a:xfrm>
            <a:off x="0" y="1523880"/>
            <a:ext cx="4572000" cy="5334120"/>
          </a:xfrm>
          <a:prstGeom prst="rect">
            <a:avLst/>
          </a:prstGeom>
          <a:ln w="0">
            <a:noFill/>
          </a:ln>
        </p:spPr>
      </p:pic>
      <p:pic>
        <p:nvPicPr>
          <p:cNvPr id="228" name="lms07a" descr=""/>
          <p:cNvPicPr/>
          <p:nvPr/>
        </p:nvPicPr>
        <p:blipFill>
          <a:blip r:embed="rId3"/>
          <a:stretch/>
        </p:blipFill>
        <p:spPr>
          <a:xfrm>
            <a:off x="4572000" y="4952880"/>
            <a:ext cx="4357800" cy="1905120"/>
          </a:xfrm>
          <a:prstGeom prst="rect">
            <a:avLst/>
          </a:prstGeom>
          <a:ln w="0">
            <a:noFill/>
          </a:ln>
        </p:spPr>
      </p:pic>
      <p:pic>
        <p:nvPicPr>
          <p:cNvPr id="229" name="lms04a" descr=""/>
          <p:cNvPicPr/>
          <p:nvPr/>
        </p:nvPicPr>
        <p:blipFill>
          <a:blip r:embed="rId4"/>
          <a:stretch/>
        </p:blipFill>
        <p:spPr>
          <a:xfrm>
            <a:off x="4559400" y="685800"/>
            <a:ext cx="4584600" cy="2149560"/>
          </a:xfrm>
          <a:prstGeom prst="rect">
            <a:avLst/>
          </a:prstGeom>
          <a:ln w="0">
            <a:noFill/>
          </a:ln>
        </p:spPr>
      </p:pic>
      <p:sp>
        <p:nvSpPr>
          <p:cNvPr id="230"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31"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32"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33"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34"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7" name=""/>
          <p:cNvCxnSpPr>
            <a:stCxn id="231" idx="3"/>
            <a:endCxn id="234" idx="2"/>
          </p:cNvCxnSpPr>
          <p:nvPr/>
        </p:nvCxnSpPr>
        <p:spPr>
          <a:xfrm flipV="1">
            <a:off x="1819080" y="5554440"/>
            <a:ext cx="363960" cy="94320"/>
          </a:xfrm>
          <a:prstGeom prst="bentConnector2">
            <a:avLst/>
          </a:prstGeom>
          <a:ln w="28440">
            <a:solidFill>
              <a:srgbClr val="ff0000"/>
            </a:solidFill>
            <a:miter/>
          </a:ln>
        </p:spPr>
      </p:cxnSp>
      <p:cxnSp>
        <p:nvCxnSpPr>
          <p:cNvPr id="238" name=""/>
          <p:cNvCxnSpPr>
            <a:stCxn id="232" idx="3"/>
            <a:endCxn id="235" idx="2"/>
          </p:cNvCxnSpPr>
          <p:nvPr/>
        </p:nvCxnSpPr>
        <p:spPr>
          <a:xfrm flipV="1">
            <a:off x="1819440" y="5554080"/>
            <a:ext cx="1181520" cy="510120"/>
          </a:xfrm>
          <a:prstGeom prst="bentConnector2">
            <a:avLst/>
          </a:prstGeom>
          <a:ln w="28440">
            <a:solidFill>
              <a:srgbClr val="ff0000"/>
            </a:solidFill>
            <a:miter/>
          </a:ln>
        </p:spPr>
      </p:cxnSp>
      <p:cxnSp>
        <p:nvCxnSpPr>
          <p:cNvPr id="239" name=""/>
          <p:cNvCxnSpPr>
            <a:stCxn id="233" idx="3"/>
            <a:endCxn id="236" idx="2"/>
          </p:cNvCxnSpPr>
          <p:nvPr/>
        </p:nvCxnSpPr>
        <p:spPr>
          <a:xfrm flipV="1">
            <a:off x="1819080" y="5554080"/>
            <a:ext cx="2004120" cy="927720"/>
          </a:xfrm>
          <a:prstGeom prst="bentConnector2">
            <a:avLst/>
          </a:prstGeom>
          <a:ln w="28440">
            <a:solidFill>
              <a:srgbClr val="ff0000"/>
            </a:solidFill>
            <a:miter/>
          </a:ln>
        </p:spPr>
      </p:cxnSp>
      <p:sp>
        <p:nvSpPr>
          <p:cNvPr id="240"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41"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42"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43"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44"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DA1DBCF-2504-495A-9C9B-C048F7C13CBC}" type="slidenum">
              <a:t>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4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873008BD-ECBA-4CE3-A801-64292DAF60D2}" type="slidenum">
              <a:t>9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0FE09E6-0E6B-4440-9550-BCEA336C9496}" type="slidenum">
              <a:t>9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9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5AE6585-38E9-4E1A-A5A3-319E7141B019}" type="slidenum">
              <a:t>9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66B992E-2FEA-4787-8321-5F4B7F5EEE30}"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9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BF622AE-A8AD-47D3-BA81-426061873918}"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9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702D14D-A921-478D-8634-6F7FA276FA38}" type="slidenum">
              <a:t>9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9"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96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964"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969"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970"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971"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972"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8" name=""/>
          <p:cNvCxnSpPr>
            <a:stCxn id="979" idx="2"/>
            <a:endCxn id="975" idx="0"/>
          </p:cNvCxnSpPr>
          <p:nvPr/>
        </p:nvCxnSpPr>
        <p:spPr>
          <a:xfrm>
            <a:off x="6565680" y="4038480"/>
            <a:ext cx="1080" cy="153360"/>
          </a:xfrm>
          <a:prstGeom prst="straightConnector1">
            <a:avLst/>
          </a:prstGeom>
          <a:ln w="28440">
            <a:solidFill>
              <a:srgbClr val="ffff00"/>
            </a:solidFill>
            <a:miter/>
          </a:ln>
        </p:spPr>
      </p:cxnSp>
      <p:cxnSp>
        <p:nvCxnSpPr>
          <p:cNvPr id="980" name=""/>
          <p:cNvCxnSpPr>
            <a:stCxn id="975" idx="1"/>
            <a:endCxn id="977" idx="0"/>
          </p:cNvCxnSpPr>
          <p:nvPr/>
        </p:nvCxnSpPr>
        <p:spPr>
          <a:xfrm flipV="1" rot="10800000">
            <a:off x="6366600" y="4304160"/>
            <a:ext cx="99360" cy="343800"/>
          </a:xfrm>
          <a:prstGeom prst="bentConnector2">
            <a:avLst/>
          </a:prstGeom>
          <a:ln w="28440">
            <a:solidFill>
              <a:srgbClr val="ffff00"/>
            </a:solidFill>
            <a:miter/>
          </a:ln>
        </p:spPr>
      </p:cxnSp>
      <p:cxnSp>
        <p:nvCxnSpPr>
          <p:cNvPr id="981" name=""/>
          <p:cNvCxnSpPr>
            <a:stCxn id="975" idx="3"/>
            <a:endCxn id="976" idx="0"/>
          </p:cNvCxnSpPr>
          <p:nvPr/>
        </p:nvCxnSpPr>
        <p:spPr>
          <a:xfrm>
            <a:off x="6665760" y="4304880"/>
            <a:ext cx="100800" cy="343800"/>
          </a:xfrm>
          <a:prstGeom prst="bentConnector2">
            <a:avLst/>
          </a:prstGeom>
          <a:ln w="28440">
            <a:solidFill>
              <a:srgbClr val="ffff00"/>
            </a:solidFill>
            <a:miter/>
          </a:ln>
        </p:spPr>
      </p:cxnSp>
      <p:sp>
        <p:nvSpPr>
          <p:cNvPr id="979"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4" name=""/>
          <p:cNvCxnSpPr>
            <a:stCxn id="985" idx="2"/>
            <a:endCxn id="982" idx="0"/>
          </p:cNvCxnSpPr>
          <p:nvPr/>
        </p:nvCxnSpPr>
        <p:spPr>
          <a:xfrm>
            <a:off x="7611840" y="3809880"/>
            <a:ext cx="1080" cy="153360"/>
          </a:xfrm>
          <a:prstGeom prst="straightConnector1">
            <a:avLst/>
          </a:prstGeom>
          <a:ln w="28440">
            <a:solidFill>
              <a:srgbClr val="ffff00"/>
            </a:solidFill>
            <a:miter/>
          </a:ln>
        </p:spPr>
      </p:cxnSp>
      <p:sp>
        <p:nvSpPr>
          <p:cNvPr id="985"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6" name=""/>
          <p:cNvCxnSpPr>
            <a:stCxn id="987" idx="3"/>
            <a:endCxn id="983" idx="0"/>
          </p:cNvCxnSpPr>
          <p:nvPr/>
        </p:nvCxnSpPr>
        <p:spPr>
          <a:xfrm>
            <a:off x="7512120" y="4152600"/>
            <a:ext cx="249840" cy="114840"/>
          </a:xfrm>
          <a:prstGeom prst="bentConnector2">
            <a:avLst/>
          </a:prstGeom>
          <a:ln w="28440">
            <a:solidFill>
              <a:srgbClr val="ffff00"/>
            </a:solidFill>
            <a:miter/>
          </a:ln>
        </p:spPr>
      </p:cxnSp>
      <p:cxnSp>
        <p:nvCxnSpPr>
          <p:cNvPr id="988" name=""/>
          <p:cNvCxnSpPr>
            <a:stCxn id="983" idx="2"/>
            <a:endCxn id="989" idx="3"/>
          </p:cNvCxnSpPr>
          <p:nvPr/>
        </p:nvCxnSpPr>
        <p:spPr>
          <a:xfrm rot="5400000">
            <a:off x="7578720" y="4428360"/>
            <a:ext cx="115200" cy="249840"/>
          </a:xfrm>
          <a:prstGeom prst="bentConnector2">
            <a:avLst/>
          </a:prstGeom>
          <a:ln w="28440">
            <a:solidFill>
              <a:srgbClr val="ffff00"/>
            </a:solidFill>
            <a:miter/>
          </a:ln>
        </p:spPr>
      </p:cxnSp>
      <p:sp>
        <p:nvSpPr>
          <p:cNvPr id="987"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93" name=""/>
          <p:cNvCxnSpPr>
            <a:stCxn id="972" idx="3"/>
            <a:endCxn id="990"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994" name=""/>
          <p:cNvCxnSpPr>
            <a:stCxn id="972" idx="2"/>
            <a:endCxn id="973"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995" name=""/>
          <p:cNvCxnSpPr>
            <a:stCxn id="973" idx="3"/>
            <a:endCxn id="991"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996" name=""/>
          <p:cNvCxnSpPr>
            <a:stCxn id="973" idx="3"/>
            <a:endCxn id="990"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997" name=""/>
          <p:cNvCxnSpPr>
            <a:stCxn id="991" idx="3"/>
            <a:endCxn id="992"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998" name=""/>
          <p:cNvCxnSpPr>
            <a:stCxn id="992" idx="1"/>
            <a:endCxn id="990"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999" name=""/>
          <p:cNvGrpSpPr/>
          <p:nvPr/>
        </p:nvGrpSpPr>
        <p:grpSpPr>
          <a:xfrm>
            <a:off x="3627360" y="5867280"/>
            <a:ext cx="4481640" cy="419400"/>
            <a:chOff x="3627360" y="5867280"/>
            <a:chExt cx="4481640" cy="419400"/>
          </a:xfrm>
        </p:grpSpPr>
        <p:sp>
          <p:nvSpPr>
            <p:cNvPr id="1000"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008"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00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A71BF57-CF7A-449B-8FD4-89DE0624ABEE}"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0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012" name=""/>
          <p:cNvGrpSpPr/>
          <p:nvPr/>
        </p:nvGrpSpPr>
        <p:grpSpPr>
          <a:xfrm>
            <a:off x="3505320" y="1905120"/>
            <a:ext cx="3352680" cy="4185720"/>
            <a:chOff x="3505320" y="1905120"/>
            <a:chExt cx="3352680" cy="4185720"/>
          </a:xfrm>
        </p:grpSpPr>
        <p:grpSp>
          <p:nvGrpSpPr>
            <p:cNvPr id="1013" name=""/>
            <p:cNvGrpSpPr/>
            <p:nvPr/>
          </p:nvGrpSpPr>
          <p:grpSpPr>
            <a:xfrm>
              <a:off x="3505320" y="1905120"/>
              <a:ext cx="3352680" cy="4185720"/>
              <a:chOff x="3505320" y="1905120"/>
              <a:chExt cx="3352680" cy="4185720"/>
            </a:xfrm>
          </p:grpSpPr>
          <p:sp>
            <p:nvSpPr>
              <p:cNvPr id="1014"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5181480" y="1905120"/>
                <a:ext cx="1371240" cy="1066680"/>
                <a:chOff x="5181480" y="1905120"/>
                <a:chExt cx="1371240" cy="1066680"/>
              </a:xfrm>
            </p:grpSpPr>
            <p:sp>
              <p:nvSpPr>
                <p:cNvPr id="1042"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044"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045"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8"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137F2ED-C21E-4BBB-A544-4C60314A5A3C}" type="slidenum">
              <a:t>9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0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F9BDB06-2BFF-4BF6-BE7F-5EFD8CF8FEB7}" type="slidenum">
              <a:t>9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56B5E8E-1CFB-4D20-BC77-D0CBED181EAB}" type="slidenum">
              <a:t>9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14T06:10:42Z</dcterms:modified>
  <cp:revision>39</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