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97A-F071-40FE-84D9-7602D089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9EB2-86E1-4B98-BFAA-5467B60A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9EF-4FAD-4C4B-8747-4001B909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EB75-384D-4F89-9C45-69AC84CA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EB54-93C3-4DA0-9E31-26425735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D947-E24F-4BEB-B85F-C9BDE84D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4CBF-30EE-4B81-9B29-510DC71F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4ED2-535E-4560-92AF-6C644558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BBFC-FF5B-46AC-BE7F-98BD8AE7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3C6C-C3D2-459D-985E-CF1627D6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A1B6-460E-49D4-8A99-08039006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3318-F746-448B-A818-2A8EDD5E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2224-4D83-4887-BC92-26324407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ED5E-6BD9-4E72-A1EC-D27076D3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6F6D-4BE8-4684-A04C-7D382857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E59B-94CC-4D9D-B246-0A4E9828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69CC-FD8D-4F49-B777-F8D08292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88D-8009-4A39-828A-6212F9BD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7C4-B158-465C-BEDB-2892EB6F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94B-AEE4-40B3-A833-C0D314BC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DC00-C6B6-459B-BF7A-AA4A80B3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E29-4AD7-43F2-934C-6EB6FAEF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F2D-9D0C-436D-B4B3-F514CD46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5AE9-B796-41CB-9CC4-C2D819A1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9BE0-355B-4459-9084-D72397F734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248F-DE99-4FDF-8649-5691AFCF3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971800" y="4419720"/>
            <a:ext cx="914400" cy="609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3733920" y="3733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1447920"/>
            <a:ext cx="4724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New WebFlow Middle-Ti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Pluggable MetaComp  uting Services (Globus Services: GRAM, GSS, GEM and MDS) and binding modules with Distributed Adaptor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Component-Based design of  WebFlow modules (e.g. MetaComponents) with JWOR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Compile-time and run-time customization of modules trough their attrib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Controlling the module execution with DARP service which runs in WebFlow server as a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001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New WebFlow Middle-Tier (Cont.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Persistency with XML (Saving composed application with XML and restore i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Modules communicate with each other trough JavaBeans events (Event/Property Bind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Because of using component model, Modules can be nested at arbitrary level. That is, modules can contain other modu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WebFlow server, written in JWOB,  is an extension of module and can be used as a module (surprise !!!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33720" y="1981080"/>
            <a:ext cx="6172200" cy="4038840"/>
          </a:xfrm>
          <a:prstGeom prst="ellipse">
            <a:avLst/>
          </a:prstGeom>
          <a:solidFill>
            <a:srgbClr val="ff66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2209680"/>
            <a:ext cx="96372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GR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2590920"/>
            <a:ext cx="87444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GA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3200400"/>
            <a:ext cx="87480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NEX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590920"/>
            <a:ext cx="87444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DAR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2286000"/>
            <a:ext cx="87480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VISUAL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2057400"/>
            <a:ext cx="96228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4572000"/>
            <a:ext cx="533520" cy="533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952880"/>
            <a:ext cx="533520" cy="533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5181480"/>
            <a:ext cx="533520" cy="533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5029200"/>
            <a:ext cx="533160" cy="533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572000"/>
            <a:ext cx="533520" cy="533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2895480"/>
            <a:ext cx="3429000" cy="2133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Interaction between WebFlow Services and Webflow Modul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cxnSp>
        <p:nvCxnSpPr>
          <p:cNvPr id="120" name=""/>
          <p:cNvCxnSpPr/>
          <p:nvPr/>
        </p:nvCxnSpPr>
        <p:spPr>
          <a:xfrm flipV="1">
            <a:off x="228600" y="3886200"/>
            <a:ext cx="8610840" cy="76680"/>
          </a:xfrm>
          <a:prstGeom prst="straightConnector1">
            <a:avLst/>
          </a:prstGeom>
          <a:ln w="28440">
            <a:solidFill>
              <a:srgbClr val="ffffff"/>
            </a:solidFill>
            <a:prstDash val="lgDash"/>
            <a:miter/>
          </a:ln>
        </p:spPr>
      </p:cxnSp>
      <p:sp>
        <p:nvSpPr>
          <p:cNvPr id="121" name=""/>
          <p:cNvSpPr/>
          <p:nvPr/>
        </p:nvSpPr>
        <p:spPr>
          <a:xfrm>
            <a:off x="75240" y="4259160"/>
            <a:ext cx="19285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99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Web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1560" y="2201760"/>
            <a:ext cx="19285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99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Web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3200400"/>
            <a:ext cx="87480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BIND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ADAP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asic Principles of WebFlow Serv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Flow Server is a component which can include  other components (WebFlow server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ill us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mpon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du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s interchangeab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hav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stall objec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located at remote deployment targets, which start WebFlow servers 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Flow servers have API which can be used directly or by means of one deployment to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enefits of component model for WebFlow Serv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advantages of WebFlow component mod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model helps us create any level of hierarchy of Servers which leads to building applications out of previous composed applications or single 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ing new service to Server is easy, maintaining and updating is not difficult as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Flow server can be used a module to create applications because it is a component (surprise!!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enefits of component model for WebFlow Server (Cont.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ules can be written with independent of environment or Container in which it will ru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e functions or values  specific to one environment will be put into services which modules can interrogate and use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service inside one component  be used for all components nested in service’s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es or modules ,written in any language (C++,Java and etc.) CORBA supports, can be replaced with new ones to adapt to new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How does Webflow server look like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7:22:51Z</dcterms:created>
  <dc:creator>Valued Gateway Customer</dc:creator>
  <dc:description/>
  <dc:language>en-US</dc:language>
  <cp:lastModifiedBy>Valued Gateway Customer</cp:lastModifiedBy>
  <cp:lastPrinted>1998-11-23T17:43:52Z</cp:lastPrinted>
  <dcterms:modified xsi:type="dcterms:W3CDTF">1999-06-16T19:08:53Z</dcterms:modified>
  <cp:revision>10</cp:revision>
  <dc:subject/>
  <dc:title>New WebFlow Middle-Tier</dc:title>
</cp:coreProperties>
</file>