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5DC5F-986C-4E04-9DDD-D2F9A7161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5A195-2B70-406A-88CA-43BE5B555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B21B4-F52D-4F86-B7AF-455008F23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1D326-2744-49CE-BD73-4862D8893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EAED2-CDB3-49EE-99DF-AFA857DC0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1593A-1BDC-422F-8B84-323C02F1B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603D8-A36A-4863-B37D-2610B6FB6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01610-AB06-4165-93E7-4FAADA4CC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789FB-88F3-4638-8080-2051A516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051C1-49F7-4F01-BF74-C9281A3C0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DF8F-8B9A-477A-940D-ED24C83D7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B4C7-0607-40E5-8E19-8237D0281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4FB7-6AAC-46B6-9DE0-A4976BD837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Valued Gateway Customer</cp:lastModifiedBy>
  <cp:lastPrinted>1999-03-07T15:27:48Z</cp:lastPrinted>
  <dcterms:modified xsi:type="dcterms:W3CDTF">1999-06-16T18:11:08Z</dcterms:modified>
  <cp:revision>25</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