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0B0-060B-4B61-B143-1A0A211B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50B-57E5-446D-9BFA-1124530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79E-2122-4F58-940A-ECC57466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41F-1DAC-43A1-B2B3-A9AE3E49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2DC-F395-4CA3-A3C3-97CBAA6D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4C8-1083-4A0E-9C3B-5F6B2644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7E4-5B7E-4CA2-BF6F-5CBC6C77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092-110A-4A4F-83C8-492B38B0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1D0-A752-44ED-8A7E-A86803AE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0B8-8825-45F3-BCF9-8E0ED217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9C1-2029-40A2-8564-8A658A8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74B-EBA8-4064-BFF0-40329F3F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D1BA-F9D9-4486-B536-96C23CDF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4838400" y="792720"/>
            <a:ext cx="1904040" cy="10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8480" y="2164680"/>
            <a:ext cx="87516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2080" y="2164680"/>
            <a:ext cx="121932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482120" y="1899360"/>
            <a:ext cx="851040" cy="13816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787000" y="2060280"/>
            <a:ext cx="851040" cy="10594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866600" y="3161520"/>
            <a:ext cx="1384920" cy="18291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895120" y="3961440"/>
            <a:ext cx="1384920" cy="2289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05960" y="3737160"/>
            <a:ext cx="1308600" cy="60192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13372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4-29T21:31:37Z</dcterms:modified>
  <cp:revision>17</cp:revision>
  <dc:subject/>
  <dc:title>No Slide Title</dc:title>
</cp:coreProperties>
</file>