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21F-7F4F-4C11-8A2B-7A573794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8F6-B5A5-4952-B407-6F623FD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C85-04E4-4E59-A232-89FCEAEB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450-5A86-4498-9082-71581EF3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F0E-21AD-4C7C-A200-36A312A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186-E4B5-4EA9-8005-6755D53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196-6AFC-4EF0-9B65-3B12EE4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BD8-6871-4943-987D-6BBA4DE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F13-7F2F-4CDE-8E67-0BADF0E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DB-291D-4DA8-BB2F-58CA22F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44F-5101-448D-B505-C25952E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0EA-F507-4037-B866-0199511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4B7-3B56-44C7-867D-16AF64C9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86200"/>
            <a:ext cx="30456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886200"/>
            <a:ext cx="30492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666880"/>
            <a:ext cx="609480" cy="6858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3" idx="1"/>
          </p:cNvCxnSpPr>
          <p:nvPr/>
        </p:nvCxnSpPr>
        <p:spPr>
          <a:xfrm flipH="1">
            <a:off x="349560" y="2209680"/>
            <a:ext cx="69840" cy="17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 flipH="1">
            <a:off x="3885840" y="3352320"/>
            <a:ext cx="2635920" cy="79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 flipV="1" rot="5400000">
            <a:off x="4820040" y="2265840"/>
            <a:ext cx="938880" cy="2959920"/>
          </a:xfrm>
          <a:prstGeom prst="curvedConnector5">
            <a:avLst>
              <a:gd name="adj1" fmla="val -24357"/>
              <a:gd name="adj2" fmla="val 49993"/>
              <a:gd name="adj3" fmla="val -2435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6" idx="3"/>
          </p:cNvCxnSpPr>
          <p:nvPr/>
        </p:nvCxnSpPr>
        <p:spPr>
          <a:xfrm flipH="1" flipV="1" rot="10800000">
            <a:off x="2743200" y="2095200"/>
            <a:ext cx="959400" cy="2051640"/>
          </a:xfrm>
          <a:prstGeom prst="curvedConnector3">
            <a:avLst>
              <a:gd name="adj1" fmla="val -96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>
            <a:off x="2971800" y="2057400"/>
            <a:ext cx="3582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5" idx="2"/>
          </p:cNvCxnSpPr>
          <p:nvPr/>
        </p:nvCxnSpPr>
        <p:spPr>
          <a:xfrm rot="10800000">
            <a:off x="2856960" y="2209320"/>
            <a:ext cx="800640" cy="1829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3"/>
            <a:endCxn id="46" idx="0"/>
          </p:cNvCxnSpPr>
          <p:nvPr/>
        </p:nvCxnSpPr>
        <p:spPr>
          <a:xfrm>
            <a:off x="2971800" y="2095200"/>
            <a:ext cx="838800" cy="1791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6" idx="4"/>
            <a:endCxn id="57" idx="0"/>
          </p:cNvCxnSpPr>
          <p:nvPr/>
        </p:nvCxnSpPr>
        <p:spPr>
          <a:xfrm flipH="1">
            <a:off x="3314520" y="4191120"/>
            <a:ext cx="496080" cy="60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</p:cNvCxnSpPr>
          <p:nvPr/>
        </p:nvCxnSpPr>
        <p:spPr>
          <a:xfrm flipH="1">
            <a:off x="2819160" y="4914720"/>
            <a:ext cx="3816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179748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45" idx="0"/>
          </p:cNvCxnSpPr>
          <p:nvPr/>
        </p:nvCxnSpPr>
        <p:spPr>
          <a:xfrm>
            <a:off x="2819520" y="609120"/>
            <a:ext cx="381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6386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56272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90720"/>
            <a:ext cx="17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NewModule(“M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990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19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10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895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9718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2920" y="58662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User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name “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5720" y="243720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636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8240" y="4266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ntiat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name ‘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160" y="281808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modu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1230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88240" y="152280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xy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720" y="366120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9440" y="15231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236160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“uc_1”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920" y="4647600"/>
            <a:ext cx="192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serts new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its children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320" y="373752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7517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11:44Z</dcterms:modified>
  <cp:revision>3</cp:revision>
  <dc:subject/>
  <dc:title>No Slide Title</dc:title>
</cp:coreProperties>
</file>