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784-2A7C-40A7-BB00-35D3B1F7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CFAC-D785-4DD0-9632-913EB6D9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428-F615-47C8-96CD-B37D2D74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021-5A91-463B-83C7-13B6B3AE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CBD-B582-45BA-9505-F34CC782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582-F2D9-4747-9B31-F2D28703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480-EE26-4B43-A96C-66B82AE8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B73-6711-4FB1-924E-CFFF8218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2AE-5059-4ADE-A7DB-E318AA08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3A1-64CB-40CB-82D0-94D43CA2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D9C-222B-49AB-8256-DBEECC33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22B-5D27-4269-817D-91C06BD2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0827-3F7A-42B6-8A2D-DB6D82DBD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886200"/>
            <a:ext cx="304560" cy="3049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3886200"/>
            <a:ext cx="304920" cy="3049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2666880"/>
            <a:ext cx="609480" cy="6858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3" idx="1"/>
          </p:cNvCxnSpPr>
          <p:nvPr/>
        </p:nvCxnSpPr>
        <p:spPr>
          <a:xfrm flipH="1">
            <a:off x="349560" y="2209680"/>
            <a:ext cx="69840" cy="1721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/>
          <p:nvPr/>
        </p:nvCxnSpPr>
        <p:spPr>
          <a:xfrm flipH="1">
            <a:off x="3885840" y="3352320"/>
            <a:ext cx="2635920" cy="79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/>
          <p:nvPr/>
        </p:nvCxnSpPr>
        <p:spPr>
          <a:xfrm flipH="1" flipV="1" rot="5400000">
            <a:off x="4820040" y="2265840"/>
            <a:ext cx="938880" cy="2959920"/>
          </a:xfrm>
          <a:prstGeom prst="curvedConnector5">
            <a:avLst>
              <a:gd name="adj1" fmla="val -24357"/>
              <a:gd name="adj2" fmla="val 49993"/>
              <a:gd name="adj3" fmla="val -2435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1"/>
            <a:endCxn id="46" idx="3"/>
          </p:cNvCxnSpPr>
          <p:nvPr/>
        </p:nvCxnSpPr>
        <p:spPr>
          <a:xfrm flipH="1" flipV="1" rot="10800000">
            <a:off x="2743200" y="2095200"/>
            <a:ext cx="959400" cy="2051640"/>
          </a:xfrm>
          <a:prstGeom prst="curvedConnector3">
            <a:avLst>
              <a:gd name="adj1" fmla="val -964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/>
          <p:nvPr/>
        </p:nvCxnSpPr>
        <p:spPr>
          <a:xfrm>
            <a:off x="2971800" y="2057400"/>
            <a:ext cx="3582000" cy="572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6" idx="2"/>
            <a:endCxn id="45" idx="2"/>
          </p:cNvCxnSpPr>
          <p:nvPr/>
        </p:nvCxnSpPr>
        <p:spPr>
          <a:xfrm rot="10800000">
            <a:off x="2856960" y="2209320"/>
            <a:ext cx="800640" cy="18295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5" idx="3"/>
            <a:endCxn id="46" idx="0"/>
          </p:cNvCxnSpPr>
          <p:nvPr/>
        </p:nvCxnSpPr>
        <p:spPr>
          <a:xfrm>
            <a:off x="2971800" y="2095200"/>
            <a:ext cx="838800" cy="1791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2004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6" idx="4"/>
            <a:endCxn id="57" idx="0"/>
          </p:cNvCxnSpPr>
          <p:nvPr/>
        </p:nvCxnSpPr>
        <p:spPr>
          <a:xfrm flipH="1">
            <a:off x="3314520" y="4191120"/>
            <a:ext cx="496080" cy="609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7" idx="1"/>
          </p:cNvCxnSpPr>
          <p:nvPr/>
        </p:nvCxnSpPr>
        <p:spPr>
          <a:xfrm flipH="1">
            <a:off x="2819160" y="4914720"/>
            <a:ext cx="3816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2" idx="5"/>
            <a:endCxn id="45" idx="1"/>
          </p:cNvCxnSpPr>
          <p:nvPr/>
        </p:nvCxnSpPr>
        <p:spPr>
          <a:xfrm>
            <a:off x="946080" y="1479240"/>
            <a:ext cx="1797480" cy="61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endCxn id="45" idx="0"/>
          </p:cNvCxnSpPr>
          <p:nvPr/>
        </p:nvCxnSpPr>
        <p:spPr>
          <a:xfrm>
            <a:off x="2819520" y="609120"/>
            <a:ext cx="3816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5638680"/>
            <a:ext cx="76320" cy="763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5562720"/>
            <a:ext cx="380880" cy="304560"/>
          </a:xfrm>
          <a:prstGeom prst="hexagon">
            <a:avLst>
              <a:gd name="adj" fmla="val 31265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3080" y="90720"/>
            <a:ext cx="176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NewModule(“M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990720"/>
            <a:ext cx="38124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4419720"/>
            <a:ext cx="38124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43434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3526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9810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28195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28954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29718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02920" y="58662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User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ith name “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5720" y="243720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3480" y="26362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68240" y="426600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ntiate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name ‘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6160" y="2818080"/>
            <a:ext cx="129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modu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123000"/>
            <a:ext cx="66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88240" y="152280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 Proxy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16720" y="3661200"/>
            <a:ext cx="101160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c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9440" y="152316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uc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4400" y="2361600"/>
            <a:ext cx="142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b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o “uc_1”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8920" y="4647600"/>
            <a:ext cx="192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inserts new mod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b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o its children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6320" y="3737520"/>
            <a:ext cx="101160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c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7760" y="175176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uc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2:11:44Z</dcterms:modified>
  <cp:revision>3</cp:revision>
  <dc:subject/>
  <dc:title>No Slide Title</dc:title>
</cp:coreProperties>
</file>