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D51-89FB-4F80-B9A7-FC11C018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A3C-2908-4F2E-9F0E-7AAD5E5A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3F4-011D-410C-ADE8-C94A3D7A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2E3-8772-4735-B1B4-7D38CB65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520F-3EA8-462A-A0B9-FA71CF5B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8253-7C27-4CC8-90B6-1E35CE07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D492-5F10-486D-A3C8-1640EF0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8A2-CC2E-4AF1-82D8-3467A2EF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CFC5-E166-4200-BA79-363E4736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D8B-2CA1-4656-B1FD-FE2A181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9E10-C750-4746-B437-B16329F4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DB3-7DEF-406C-8122-46F523A3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3DD2-7493-4586-8D20-15FAAB7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90C-4319-4D08-8863-6885E1FE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2B58-5639-4B26-B0EF-4B08EDDE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BC86-ECC6-4E02-837D-10AE8546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ECE-1E56-44F4-A30A-CAF96063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645-1401-4684-A4E7-D0E9DA37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A1E-754E-4580-816D-DB5E1653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8EF-FFB2-45DE-8114-743DF98D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CBD-BEFC-4ACB-91AF-E88EB4D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155-869C-47E5-AE57-452F5C2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C4A-2306-4224-8046-8120593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A00-6B20-4B19-9424-A7789A1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F68-E1C1-41C4-87D8-9C6C1A39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5367-965B-404B-AA99-96D40BD5E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Security in JDK 1.2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Sign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73240" y="16002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Code Sign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te a file name Count.java and compi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te a JAR file containing the Count.class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r cvf Count.jar Count.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nerate keys                                                         keytool -genkey -alias signFiles -keypass kpi135              -keystore susanstore -storepass ab98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the JAR file                                                           jarsigner -keystore susanstore -signedjar sCount.jar Count.jar signF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the public key certificate                                  keytool -export -keystore susanstore -alias signFiles  -file SusanJones.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74640" y="1981080"/>
            <a:ext cx="696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tricted Application                                          java -cp sCount.jar Count C:\TestData\data                 To execute the application within a security manager java -Djava.security.manager -cp sCount.jar Count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mport the Certificate as a Trusted Certificate          Received files : sCount.jar SusanJones.cer                  keytool -import -alias susan -file SusanJones.cer        -keystore ray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Up a Policy File To Grant the Requested Permission   -  to permit the classes signed by susan to read the specifi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olicy File Effects                                                      let the name given in the previous step be raystore                                           java -Djava.security.manager                                       -Djava.security.policy=raypolicy                                   -cp sCount.jar  Count 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Next Mee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ing Files (Tools)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for the Contract Sender                                             Steps for the Contrac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and Verifying Signatures (API)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 Digital Signature                                     Verifying a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0 Security Model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57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1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84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2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74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The Java application environment maintains a mapping from code (classes and instances) to their protection domains and then to their permi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73240" y="2514600"/>
            <a:ext cx="72849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ertificate Interfaces and Classes</a:t>
            </a:r>
            <a:br>
              <a:rPr sz="3200"/>
            </a:b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java.security.cer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ack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certificate related class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ypes of certificates (X.509, PGP), share general certificate functionality (encoding, verifying),  types of information (i.e. public k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Fa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es the functionality of the certificate 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509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rovides a standard way to access all the attributes of an X.509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Key Management Classes and Interfac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tore clas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interfaces to access and modify the information in the keyst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KeyStore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cts each private key with its individual passwo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pecification interface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for transparent representation of the key material that constitutes a 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naging keys an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curity-Related Too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to generate pairs of public and private ke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signer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s the JAR files and verifies the authenticity of the signature(s) of signed JAR 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urity policy i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gning Code and Granting It Permissions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xampl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Recei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1:13:01Z</dcterms:created>
  <dc:creator>Recep ALPER</dc:creator>
  <dc:description/>
  <dc:language>en-US</dc:language>
  <cp:lastModifiedBy>Valued Gateway Customer</cp:lastModifiedBy>
  <dcterms:modified xsi:type="dcterms:W3CDTF">1998-12-10T15:29:32Z</dcterms:modified>
  <cp:revision>12</cp:revision>
  <dc:subject/>
  <dc:title>JDK 1.0 Security Model: </dc:title>
</cp:coreProperties>
</file>