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97C-2DC1-4613-AE9C-3AD1E8AC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09E-FBC9-43F4-891B-90204438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928-0BA9-4DB8-B902-00055314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47E-EF8D-4D73-B9B8-F8FCC500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458-C2FC-4A78-9F0B-70A1902E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889-C977-4742-ADE9-26229F97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15E-0263-4978-934C-DCD13C8E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EF9-1C7F-40A8-8A66-1C1134A3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4B9-4B2E-407D-BE99-9DDB9E42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DE1-EC71-441C-B75F-C9CC12D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EE6-0C89-420D-B8DF-2A56C277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88F-F59E-423B-9A80-180905F7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D0A9-95C4-4911-9BB4-245D24407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05T03:52:39Z</dcterms:modified>
  <cp:revision>17</cp:revision>
  <dc:subject/>
  <dc:title>No Slide Title</dc:title>
</cp:coreProperties>
</file>