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80C-2CD4-494D-A281-57436CCE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D36-677F-461E-9D56-CAA9F34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1BD-BB9E-4D07-AE82-8FCF7902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A83-FC84-4497-B35F-B0F0093F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DD1-1A37-4932-9A0E-5FE6FD3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2F5-0F4E-46EB-96A3-CB6D23A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2C3-028D-490A-B0AC-CD4C292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321-87E9-449C-8D00-1E688312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5A7-21DD-4B45-8D64-D0597DA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C3D-A4B0-4516-8024-4FE5E82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87C-27DE-4383-9646-A7FC213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2EA-187F-4689-8775-13D88377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8B6-5C50-4546-B3E1-E39E3BD8F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31Z</dcterms:modified>
  <cp:revision>18</cp:revision>
  <dc:subject/>
  <dc:title>No Slide Title</dc:title>
</cp:coreProperties>
</file>