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C75-8E24-4CB7-AB20-C9C62FDE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771-1E0D-47B5-A419-DA8A5FF7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A0E-3E37-4888-8B93-20B6C58C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D7E-DB34-45FB-8DB3-78D51D93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35A-3BB2-4550-8C4C-D6516680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2D7-B42F-4184-93D4-8247842A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A09-D0E4-4DC8-B482-9AFBE9F8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8EB-A87F-4F7D-A932-11FF95A0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27B-F153-4084-8057-48E3B999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1D7-E750-4CDF-8B81-0951AE8A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FCF-DD48-4470-AD12-1111C71D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56E-91E7-475E-AA4D-A19DAE21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85A9-BD36-4BD8-9FD0-3EAD1C11D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0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1:01:58Z</dcterms:modified>
  <cp:revision>5</cp:revision>
  <dc:subject/>
  <dc:title>No Slide Title</dc:title>
</cp:coreProperties>
</file>