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D867-0A60-43CF-9AAA-139B493EC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A26B-8B83-46FE-8F54-1B7C70D28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2C59-CE10-4265-94E8-86984673F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BAE3-0A03-4D58-880E-466900160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878DB-7EDE-4DC8-A6DE-0602001FF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BFB81-A833-44A6-8687-FB05E78FF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E676B-DA02-46A7-A605-DA0AEF6A1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2921A-5456-44F1-920F-D4459FE88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7E6DB-3C4D-4558-88AF-99BA14333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64233-B6B5-48E1-B85D-0B33A3EE9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A63B0-DCD0-4DB0-A9DB-255CC65D1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ED79-944C-46AA-B5E2-0990014B2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CA218-546F-49FA-BE7E-02EC8F3A9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AF1F0-23B7-4C0F-B646-F807E6F8E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10AC4-ADA2-42B1-B598-64F55EBEC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468FE-E36B-41A0-93F2-70206A301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FCCEB-4A02-4DAD-B7D5-137A1E46F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AC78-C96E-4431-9C65-78125D3D2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DA63-9B4C-432D-93BA-7E1F0FE45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B8B2-8ADC-4480-A89B-CF3A15604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6055-1A38-4D1C-B670-D06E3319C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1F5F-DD5A-4A7F-8779-3B715879D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F64F-A04B-44EC-AAFA-A92199B77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ACED-F3CD-4F8B-A7AF-B91126E40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4EEAB-AEF4-4B54-BC48-AAF6553785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17EAF-954D-4E8F-8800-F3C72D4D8E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971800" y="4419720"/>
            <a:ext cx="914400" cy="60948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>
            <a:hlinkClick r:id="" action="ppaction://hlinkshowjump?jump=previousslide"/>
          </p:cNvPr>
          <p:cNvSpPr/>
          <p:nvPr/>
        </p:nvSpPr>
        <p:spPr>
          <a:xfrm>
            <a:off x="3733920" y="37339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295280" y="1447920"/>
            <a:ext cx="47246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ff"/>
                </a:solidFill>
                <a:latin typeface="Times New Roman"/>
              </a:rPr>
              <a:t>New WebFlow Middle-Tier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ff"/>
                </a:solidFill>
                <a:latin typeface="Times New Roman"/>
              </a:rPr>
              <a:t>Pluggable MetaComp  uting Services (Globus Services: GRAM, GSS, GEM and MDS) and binding modules with Distributed Adaptor servi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ff"/>
                </a:solidFill>
                <a:latin typeface="Times New Roman"/>
              </a:rPr>
              <a:t>Component-Based design of  WebFlow modules (e.g. MetaComponents) with JWOR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ff"/>
                </a:solidFill>
                <a:latin typeface="Times New Roman"/>
              </a:rPr>
              <a:t>Compile-time and run-time customization of modules trough their attribu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ff"/>
                </a:solidFill>
                <a:latin typeface="Times New Roman"/>
              </a:rPr>
              <a:t>Controlling the module execution with DARP service which runs in WebFlow server as a servi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spcBef>
                <a:spcPts val="1001"/>
              </a:spcBef>
              <a:buClr>
                <a:srgbClr val="ff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ff"/>
                </a:solidFill>
                <a:latin typeface="Times New Roman"/>
              </a:rPr>
              <a:t>New WebFlow Middle-Tier (Cont.)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ff"/>
                </a:solidFill>
                <a:latin typeface="Times New Roman"/>
              </a:rPr>
              <a:t>Persistency with XML (Saving composed application with XML and restore it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ff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66ff"/>
                </a:solidFill>
                <a:latin typeface="Times New Roman"/>
              </a:rPr>
              <a:t>Modules communicate with each other trough JavaBeans events (Event/Property Binding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ff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ff"/>
                </a:solidFill>
                <a:latin typeface="Times New Roman"/>
              </a:rPr>
              <a:t>Because of using component model, Modules can be nested at arbitrary level. That is, modules can contain other modul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ff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ff"/>
                </a:solidFill>
                <a:latin typeface="Times New Roman"/>
              </a:rPr>
              <a:t>WebFlow server, written in JWOB,  is an extension of module and can be used as a module (surprise !!!!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133720" y="1981080"/>
            <a:ext cx="6172200" cy="4038840"/>
          </a:xfrm>
          <a:prstGeom prst="ellipse">
            <a:avLst/>
          </a:prstGeom>
          <a:solidFill>
            <a:srgbClr val="ff66ff"/>
          </a:solidFill>
          <a:ln w="2844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657600" y="2209680"/>
            <a:ext cx="963720" cy="484200"/>
          </a:xfrm>
          <a:prstGeom prst="ellipse">
            <a:avLst/>
          </a:prstGeom>
          <a:solidFill>
            <a:srgbClr val="00ffff"/>
          </a:solidFill>
          <a:ln w="2844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GRA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819520" y="2590920"/>
            <a:ext cx="874440" cy="484200"/>
          </a:xfrm>
          <a:prstGeom prst="ellipse">
            <a:avLst/>
          </a:prstGeom>
          <a:solidFill>
            <a:srgbClr val="00ffff"/>
          </a:solidFill>
          <a:ln w="2844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GAS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438280" y="3200400"/>
            <a:ext cx="874800" cy="484200"/>
          </a:xfrm>
          <a:prstGeom prst="ellipse">
            <a:avLst/>
          </a:prstGeom>
          <a:solidFill>
            <a:srgbClr val="00ffff"/>
          </a:solidFill>
          <a:ln w="2844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NEXU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705720" y="2590920"/>
            <a:ext cx="874440" cy="484200"/>
          </a:xfrm>
          <a:prstGeom prst="ellipse">
            <a:avLst/>
          </a:prstGeom>
          <a:solidFill>
            <a:srgbClr val="00ffff"/>
          </a:solidFill>
          <a:ln w="2844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DAR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2286000"/>
            <a:ext cx="874800" cy="484200"/>
          </a:xfrm>
          <a:prstGeom prst="ellipse">
            <a:avLst/>
          </a:prstGeom>
          <a:solidFill>
            <a:srgbClr val="00ffff"/>
          </a:solidFill>
          <a:ln w="2844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VISUALIZ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724280" y="2057400"/>
            <a:ext cx="962280" cy="484200"/>
          </a:xfrm>
          <a:prstGeom prst="ellipse">
            <a:avLst/>
          </a:prstGeom>
          <a:solidFill>
            <a:srgbClr val="00ffff"/>
          </a:solidFill>
          <a:ln w="2844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MD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010280" y="4572000"/>
            <a:ext cx="533520" cy="533520"/>
          </a:xfrm>
          <a:prstGeom prst="ellipse">
            <a:avLst/>
          </a:prstGeom>
          <a:solidFill>
            <a:srgbClr val="00ffff"/>
          </a:solidFill>
          <a:ln w="2844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M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95880" y="4952880"/>
            <a:ext cx="533520" cy="533520"/>
          </a:xfrm>
          <a:prstGeom prst="ellipse">
            <a:avLst/>
          </a:prstGeom>
          <a:solidFill>
            <a:srgbClr val="00ffff"/>
          </a:solidFill>
          <a:ln w="2844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M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800600" y="5181480"/>
            <a:ext cx="533520" cy="533520"/>
          </a:xfrm>
          <a:prstGeom prst="ellipse">
            <a:avLst/>
          </a:prstGeom>
          <a:solidFill>
            <a:srgbClr val="00ffff"/>
          </a:solidFill>
          <a:ln w="2844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M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733920" y="5029200"/>
            <a:ext cx="533160" cy="533520"/>
          </a:xfrm>
          <a:prstGeom prst="ellipse">
            <a:avLst/>
          </a:prstGeom>
          <a:solidFill>
            <a:srgbClr val="00ffff"/>
          </a:solidFill>
          <a:ln w="2844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M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95480" y="4572000"/>
            <a:ext cx="533520" cy="533520"/>
          </a:xfrm>
          <a:prstGeom prst="ellipse">
            <a:avLst/>
          </a:prstGeom>
          <a:solidFill>
            <a:srgbClr val="00ffff"/>
          </a:solidFill>
          <a:ln w="2844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M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352680" y="2895480"/>
            <a:ext cx="3429000" cy="213372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00ffff"/>
          </a:solidFill>
          <a:ln w="2844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ff"/>
                </a:solidFill>
                <a:latin typeface="Times New Roman"/>
              </a:rPr>
              <a:t>Interaction between WebFlow Services and Webflow Modules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cxnSp>
        <p:nvCxnSpPr>
          <p:cNvPr id="120" name=""/>
          <p:cNvCxnSpPr/>
          <p:nvPr/>
        </p:nvCxnSpPr>
        <p:spPr>
          <a:xfrm flipV="1">
            <a:off x="228600" y="3886200"/>
            <a:ext cx="8610840" cy="76680"/>
          </a:xfrm>
          <a:prstGeom prst="straightConnector1">
            <a:avLst/>
          </a:prstGeom>
          <a:ln w="28440">
            <a:solidFill>
              <a:srgbClr val="ffffff"/>
            </a:solidFill>
            <a:prstDash val="lgDash"/>
            <a:miter/>
          </a:ln>
        </p:spPr>
      </p:cxnSp>
      <p:sp>
        <p:nvSpPr>
          <p:cNvPr id="121" name=""/>
          <p:cNvSpPr/>
          <p:nvPr/>
        </p:nvSpPr>
        <p:spPr>
          <a:xfrm>
            <a:off x="75240" y="4259160"/>
            <a:ext cx="192852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99"/>
              </a:spcBef>
              <a:buClr>
                <a:srgbClr val="ff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ff"/>
                </a:solidFill>
                <a:latin typeface="Times New Roman"/>
              </a:rPr>
              <a:t>WebFlo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buClr>
                <a:srgbClr val="ff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ff"/>
                </a:solidFill>
                <a:latin typeface="Times New Roman"/>
              </a:rPr>
              <a:t>Modu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51560" y="2201760"/>
            <a:ext cx="192852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99"/>
              </a:spcBef>
              <a:buClr>
                <a:srgbClr val="ff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ff"/>
                </a:solidFill>
                <a:latin typeface="Times New Roman"/>
              </a:rPr>
              <a:t>WebFlo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buClr>
                <a:srgbClr val="ff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ff"/>
                </a:solidFill>
                <a:latin typeface="Times New Roman"/>
              </a:rPr>
              <a:t>Servi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0" y="3200400"/>
            <a:ext cx="874800" cy="484200"/>
          </a:xfrm>
          <a:prstGeom prst="ellipse">
            <a:avLst/>
          </a:prstGeom>
          <a:solidFill>
            <a:srgbClr val="00ffff"/>
          </a:solidFill>
          <a:ln w="2844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BINDING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ADAPT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Basic Principles of WebFlow Server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bFlow Server is a component which can include  other components (WebFlow servers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 will use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component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d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modul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rms interchangeab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 have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install objec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located at remote deployment targets, which start WebFlow servers ther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bFlow servers have API which can be used directly or by means of one deployment tool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Benefits of component model for WebFlow Server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is the advantages of WebFlow component model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s model helps us create any level of hierarchy of Servers which leads to building applications out of previous composed applications or single on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dding new service to Server is easy, maintaining and updating is not difficult as wel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bFlow server can be used a module to create applications because it is a component (surprise!!!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Benefits of component model for WebFlow Server (Cont.)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dules can be written with independent of environment or Container in which it will ru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 the functions or values  specific to one environment will be put into services which modules can interrogate and use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e service inside one component  be used for all components nested in service’s compon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rvices or modules ,written in any language (C++,Java and etc.) CORBA supports, can be replaced with new ones to adapt to new environ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How does Webflow server look like?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7:22:51Z</dcterms:created>
  <dc:creator>Valued Gateway Customer</dc:creator>
  <dc:description/>
  <dc:language>en-US</dc:language>
  <cp:lastModifiedBy>Valued Gateway Customer</cp:lastModifiedBy>
  <cp:lastPrinted>1998-11-23T17:43:52Z</cp:lastPrinted>
  <dcterms:modified xsi:type="dcterms:W3CDTF">1999-06-16T19:08:53Z</dcterms:modified>
  <cp:revision>10</cp:revision>
  <dc:subject/>
  <dc:title>New WebFlow Middle-Tier</dc:title>
</cp:coreProperties>
</file>