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5CD598-8993-45B3-9232-DC5773F39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4E48FF-DEE8-43CB-8032-32E957387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7A309D-3F67-421B-80CB-370061DDF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CF1830-6796-4944-883E-CC0DE1B4B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862E4A-E5B7-4244-9694-0C0118F7A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AE416-0F3C-4752-B0FA-9B82613ED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4334B-2DCB-4A93-A5FE-750715464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8D8C74-C2DB-4FDB-B6D5-B6F731188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ED022-1009-4AD6-B3D0-38C2C7231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1C50F-9479-4ADE-944B-139E762BA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DF409-C470-4E7B-9F50-13FADF77F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ADBA3-98D6-4E43-878F-E565B18ABB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A9F73-ECCD-49DF-99EE-E16CF9098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B7D17-5FF2-4AAD-89A1-DB59ADC90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7794C-E229-4259-A7C9-33CC5CF27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C4C2BB-AE5E-45AC-B586-DEBC1AAE00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64C22F-A932-4890-B7E5-95C5C53C32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FA7A5C-F470-4AD4-920D-3CDC80BB9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E2E74D-9297-4A5E-AF78-3B527AA00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C4234E-E2C0-4177-AA7B-96D5AFC1CC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AC884C-FD66-4F4D-ADFB-4BA7006A5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865D6-5032-4590-9FCC-4A80E800E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D65010-8B0F-4579-AA6E-0E1C3D2DC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1F4CF-53AB-4606-9641-4A5D0CF63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B5B6-33ED-4EA1-A224-B4FE1582AE5B}"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5520-26C4-4B31-AE33-CFD49052FFF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2C8804EF-D589-4A51-9A68-3AF0C7369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9C66B2C-EB5D-49C1-B71E-F93CAA056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7790498-333C-48C2-A923-3CB0055E0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4F297A31-B283-4A09-9BAE-AF463A454A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6CCF5FBA-6E38-4CF7-80DC-D0FAACDB78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E575519F-43FF-4ED5-9840-288C95614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A9310C0-4649-4493-8E48-7197002847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9A9AF6D4-0048-4170-B691-B525DAE89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FE7A7E01-6198-48B2-BA35-D432A8BA2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E47394E6-0C9A-4536-A174-660CFFCE6A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3246CD6-F34D-4B1F-81D8-7AFA0A72B3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6D376257-BAFC-4FCF-8A8D-BF2D2208DA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EA24908D-3E25-4DAF-BFE2-A360F11AC1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5312912-C566-487F-AA2B-4E09134C8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1492E29-6527-44DC-9780-E943A3274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04570AC7-2D89-47E5-B79E-4CAC2861EE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61906FB5-ABC8-4FE1-B877-65188F95BD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6AC8C5DC-CCBE-4B4E-918F-C621A67EC6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0273A208-50A6-4B9E-9286-B4F7CE49B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5FCFC3E-3B2B-40D2-BEFB-072A64DAE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D6A05AF-1313-418D-828D-A5984E969F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9D10AA9-A4D1-4737-9AC2-8EECDA5D42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A1C9C9F-88B2-47AB-9BAB-05BD9068C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D2C46283-B148-4D4A-9D8E-A48259709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609480" y="13716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29AF4D45-36E8-4B4B-A22F-75689459D6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DF0D4B3-F954-4742-A3CA-23315510A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5D5FF7E-0F23-4291-88D7-3A15D7C3F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Valued Gateway Customer</cp:lastModifiedBy>
  <dcterms:modified xsi:type="dcterms:W3CDTF">1999-06-16T23:39:42Z</dcterms:modified>
  <cp:revision>11</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