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8AD-11B8-4075-B796-AF58FA50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B7A-5634-4751-B375-1F9C8B47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1B6-C18E-47FE-87B2-73FAB39C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9E6-4368-4559-8440-36EF3611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5ED-548D-4B33-8CF1-6394C748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2F5-2563-4279-B285-A857900A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F5A-0300-49A7-A335-BF6C3677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EF4-BD08-4ADE-8DE2-BC4D55ED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B32-FA9D-4B8D-B62D-F31BC7CD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CC5-57A5-4D63-8B81-6ED0572F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CB7-CA89-431C-B5BD-3A0029D4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CC27-D194-4D3D-AFA5-BD8A430E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1846-AE1B-4B55-8F55-63A8A02B2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934320" cy="5867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895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0:51:40Z</dcterms:modified>
  <cp:revision>3</cp:revision>
  <dc:subject/>
  <dc:title>No Slide Title</dc:title>
</cp:coreProperties>
</file>