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E1C-5313-4867-9FA1-8A4DC445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945-8519-4CFE-86A7-6D45ABF4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A66-6FD2-43CE-9453-5E337A89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0FE-7963-462D-87C1-20364894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789-B36A-4808-AAAC-191E14B1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73F-6B51-4541-89A5-282E151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709-9455-43F0-B1D4-633FC11D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ED6-74DD-4004-A477-E55C9E9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087-4987-4F58-95A4-1D31D9D6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72A-E785-4DC8-A821-20F6D15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E8E-4920-4E76-A0C6-26B08098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1C9-91BD-474D-A8A6-0037FC75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34E3-5910-4349-8CA7-438006B59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4654080" y="565560"/>
            <a:ext cx="261000" cy="1790280"/>
          </a:xfrm>
          <a:prstGeom prst="bentConnector4">
            <a:avLst>
              <a:gd name="adj1" fmla="val 801243"/>
              <a:gd name="adj2" fmla="val 1132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458080" y="159480"/>
            <a:ext cx="261000" cy="2602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214080" y="915480"/>
            <a:ext cx="261000" cy="109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3934080" y="1285560"/>
            <a:ext cx="261000" cy="350280"/>
          </a:xfrm>
          <a:prstGeom prst="bentConnector4">
            <a:avLst>
              <a:gd name="adj1" fmla="val 801243"/>
              <a:gd name="adj2" fmla="val 2519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8560" y="29520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53" idx="4"/>
          </p:cNvCxnSpPr>
          <p:nvPr/>
        </p:nvCxnSpPr>
        <p:spPr>
          <a:xfrm rot="5400000">
            <a:off x="5374080" y="-163800"/>
            <a:ext cx="270360" cy="3239640"/>
          </a:xfrm>
          <a:prstGeom prst="bentConnector4">
            <a:avLst>
              <a:gd name="adj1" fmla="val 776933"/>
              <a:gd name="adj2" fmla="val 10733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6" idx="2"/>
            <a:endCxn id="84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4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4" idx="2"/>
            <a:endCxn id="84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5" idx="2"/>
            <a:endCxn id="84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79" idx="0"/>
            <a:endCxn id="89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8" idx="0"/>
            <a:endCxn id="89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7" idx="0"/>
            <a:endCxn id="89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1" idx="0"/>
            <a:endCxn id="89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0" idx="0"/>
            <a:endCxn id="89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6858000" y="51814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2" idx="2"/>
            <a:endCxn id="84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7" idx="3"/>
            <a:endCxn id="109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1"/>
            <a:endCxn id="111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9" idx="2"/>
            <a:endCxn id="113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3"/>
            <a:endCxn id="108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8" idx="3"/>
            <a:endCxn id="114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16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3"/>
            <a:endCxn id="110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0" idx="2"/>
            <a:endCxn id="115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0" idx="2"/>
            <a:endCxn id="112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115880" y="40384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0"/>
            <a:endCxn id="105" idx="4"/>
          </p:cNvCxnSpPr>
          <p:nvPr/>
        </p:nvCxnSpPr>
        <p:spPr>
          <a:xfrm flipH="1" flipV="1">
            <a:off x="4609800" y="3047400"/>
            <a:ext cx="54720" cy="99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8" name=""/>
          <p:cNvCxnSpPr>
            <a:stCxn id="126" idx="1"/>
            <a:endCxn id="104" idx="6"/>
          </p:cNvCxnSpPr>
          <p:nvPr/>
        </p:nvCxnSpPr>
        <p:spPr>
          <a:xfrm flipH="1">
            <a:off x="3047400" y="4449600"/>
            <a:ext cx="1067400" cy="84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2"/>
            <a:endCxn id="109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endCxn id="108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endCxn id="114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4" name=""/>
          <p:cNvCxnSpPr>
            <a:stCxn id="132" idx="0"/>
            <a:endCxn id="113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5" name=""/>
          <p:cNvCxnSpPr>
            <a:stCxn id="126" idx="3"/>
            <a:endCxn id="106" idx="1"/>
          </p:cNvCxnSpPr>
          <p:nvPr/>
        </p:nvCxnSpPr>
        <p:spPr>
          <a:xfrm flipV="1">
            <a:off x="5213160" y="3936600"/>
            <a:ext cx="1229400" cy="513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2T18:28:52Z</dcterms:modified>
  <cp:revision>8</cp:revision>
  <dc:subject/>
  <dc:title>No Slide Title</dc:title>
</cp:coreProperties>
</file>