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1AA-6138-4D0C-B393-442D2E59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3BD-DA3A-4780-B76A-4C8946DD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93F-6C22-4388-B807-49A36A1D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BBC-53A2-4DD4-AAFB-E7435CE5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23F-4F72-4EEE-A3C1-3E7E81D7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B81-1784-4D59-A6E4-81F21883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976-95F3-4ECC-B07E-82E8AB9D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CE0-AF4C-40B1-8C3A-04E53081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C72-AB6A-4F78-B96E-C80B3273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E9C-4495-4B2D-B8F2-22406225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AFE-3F85-4FEF-950C-DA4E533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8C7-4D49-41A9-ACFB-3ED13CDB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0055-88F0-4161-AC0E-696903EFE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762120"/>
            <a:ext cx="5410440" cy="411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90512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1295280"/>
            <a:ext cx="121896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209680"/>
            <a:ext cx="152388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61720" y="45720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522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89120" y="87624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4" idx="1"/>
          </p:cNvCxnSpPr>
          <p:nvPr/>
        </p:nvCxnSpPr>
        <p:spPr>
          <a:xfrm>
            <a:off x="2190600" y="1099800"/>
            <a:ext cx="166680" cy="124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6" idx="2"/>
            <a:endCxn id="43" idx="0"/>
          </p:cNvCxnSpPr>
          <p:nvPr/>
        </p:nvCxnSpPr>
        <p:spPr>
          <a:xfrm flipH="1">
            <a:off x="4343400" y="520560"/>
            <a:ext cx="241560" cy="77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7" idx="2"/>
            <a:endCxn id="42" idx="3"/>
          </p:cNvCxnSpPr>
          <p:nvPr/>
        </p:nvCxnSpPr>
        <p:spPr>
          <a:xfrm flipH="1">
            <a:off x="6705720" y="1518840"/>
            <a:ext cx="12542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741040" y="495288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s of 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ateWayCont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21:36:27Z</dcterms:created>
  <dc:creator>Valued Gateway Customer</dc:creator>
  <dc:description/>
  <dc:language>en-US</dc:language>
  <cp:lastModifiedBy>Valued Gateway Customer</cp:lastModifiedBy>
  <dcterms:modified xsi:type="dcterms:W3CDTF">1999-04-27T21:44:22Z</dcterms:modified>
  <cp:revision>1</cp:revision>
  <dc:subject/>
  <dc:title>No Slide Title</dc:title>
</cp:coreProperties>
</file>