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9766B-C909-4B46-9110-C5E9B2BB3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A815C-16A2-4C16-A4FB-48B5BB375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F63E3-8134-4885-A1FD-884494127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FCF67-C8E4-4BDD-9BB9-C76F7D2F6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ABC8C-5AE2-44BD-B024-F9F51CEA3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C0835-6108-4D8B-A514-DFBE2B963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DEA87-AE98-44EB-A02E-CA231D23B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0B5FF-0EB1-4416-A97C-D5A951E15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AAE11-892C-40D6-A88F-7B40205F2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C5129-3178-4146-9B90-F6E7B3DAD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73CBD-BD21-4394-9B19-59BF947CC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C4F85-C8FA-4281-A7E7-69D1BD748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46BB0-01D1-4BC5-B00F-BCB27FE4CD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ystem</a:t>
            </a:r>
            <a:br>
              <a:rPr sz="4400"/>
            </a:br>
            <a:r>
              <a:rPr b="0" lang="en-US" sz="3200" spc="-1" strike="noStrike">
                <a:solidFill>
                  <a:srgbClr val="000000"/>
                </a:solidFill>
                <a:latin typeface="Times New Roman"/>
              </a:rPr>
              <a:t>(new generation WebFlow)</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PAC</a:t>
            </a:r>
            <a:br>
              <a:rPr sz="3200"/>
            </a:br>
            <a:r>
              <a:rPr b="0" lang="en-US" sz="3200" spc="-1" strike="noStrike">
                <a:solidFill>
                  <a:srgbClr val="000000"/>
                </a:solidFill>
                <a:latin typeface="Times New Roman"/>
              </a:rPr>
              <a:t>Syracuse University</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0"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F28C520-CA2F-4930-804D-59502CE3BAFB}" type="slidenum">
              <a:t>1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ewfrontend-a" descr=""/>
          <p:cNvPicPr/>
          <p:nvPr/>
        </p:nvPicPr>
        <p:blipFill>
          <a:blip r:embed="rId1"/>
          <a:stretch/>
        </p:blipFill>
        <p:spPr>
          <a:xfrm>
            <a:off x="1390680" y="1600200"/>
            <a:ext cx="6362640" cy="5072040"/>
          </a:xfrm>
          <a:prstGeom prst="rect">
            <a:avLst/>
          </a:prstGeom>
          <a:ln w="0">
            <a:noFill/>
          </a:ln>
        </p:spPr>
      </p:pic>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End</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CBDF5DD2-AD86-4BFC-B7EF-73B991E3C77C}" type="slidenum">
              <a:t>1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some geographical region over a long time period caused by some short term disturbances such as a fire or human’s activities.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is soil condition at the time of the disturbance.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s that possibly occur at that ti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034E534-1E4F-4E5B-B30F-63BE3E33C0A8}" type="slidenum">
              <a:t>1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109"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110"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111"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120"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121"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122"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123"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3F69022D-AB84-49B8-997C-3B404FCB780D}" type="slidenum">
              <a:t>13</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End</a:t>
            </a:r>
            <a:endParaRPr b="0" lang="en-US" sz="4000" spc="-1" strike="noStrike">
              <a:solidFill>
                <a:srgbClr val="000000"/>
              </a:solidFill>
              <a:latin typeface="Times New Roman"/>
            </a:endParaRPr>
          </a:p>
        </p:txBody>
      </p:sp>
      <p:pic>
        <p:nvPicPr>
          <p:cNvPr id="128" name="lms03" descr=""/>
          <p:cNvPicPr/>
          <p:nvPr/>
        </p:nvPicPr>
        <p:blipFill>
          <a:blip r:embed="rId1"/>
          <a:stretch/>
        </p:blipFill>
        <p:spPr>
          <a:xfrm>
            <a:off x="466560" y="1628640"/>
            <a:ext cx="8677440" cy="5229360"/>
          </a:xfrm>
          <a:prstGeom prst="rect">
            <a:avLst/>
          </a:prstGeom>
          <a:ln w="0">
            <a:noFill/>
          </a:ln>
        </p:spPr>
      </p:pic>
      <p:pic>
        <p:nvPicPr>
          <p:cNvPr id="129" name="lms01" descr=""/>
          <p:cNvPicPr/>
          <p:nvPr/>
        </p:nvPicPr>
        <p:blipFill>
          <a:blip r:embed="rId2"/>
          <a:stretch/>
        </p:blipFill>
        <p:spPr>
          <a:xfrm>
            <a:off x="0" y="1523880"/>
            <a:ext cx="4572000" cy="5334120"/>
          </a:xfrm>
          <a:prstGeom prst="rect">
            <a:avLst/>
          </a:prstGeom>
          <a:ln w="0">
            <a:noFill/>
          </a:ln>
        </p:spPr>
      </p:pic>
      <p:pic>
        <p:nvPicPr>
          <p:cNvPr id="130" name="lms07a" descr=""/>
          <p:cNvPicPr/>
          <p:nvPr/>
        </p:nvPicPr>
        <p:blipFill>
          <a:blip r:embed="rId3"/>
          <a:stretch/>
        </p:blipFill>
        <p:spPr>
          <a:xfrm>
            <a:off x="4572000" y="4952880"/>
            <a:ext cx="4357800" cy="1905120"/>
          </a:xfrm>
          <a:prstGeom prst="rect">
            <a:avLst/>
          </a:prstGeom>
          <a:ln w="0">
            <a:noFill/>
          </a:ln>
        </p:spPr>
      </p:pic>
      <p:pic>
        <p:nvPicPr>
          <p:cNvPr id="131" name="lms04a" descr=""/>
          <p:cNvPicPr/>
          <p:nvPr/>
        </p:nvPicPr>
        <p:blipFill>
          <a:blip r:embed="rId4"/>
          <a:stretch/>
        </p:blipFill>
        <p:spPr>
          <a:xfrm>
            <a:off x="4559400" y="685800"/>
            <a:ext cx="4584600" cy="2149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F353AB6A-1730-4530-B728-67371AF6F733}" type="slidenum">
              <a:t>1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y do we need to change anything?</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is based on a custom protocol implemented directly on top of socke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scala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to implement security features, fault tolerance, monito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ssible to take advantage of new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standar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A3B9DB2-BE3A-40EC-87D8-E8F7D9D9584E}" type="slidenum">
              <a:t>1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edy</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CORBA based middle ti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bust ORB implementations available now (including JWORB)</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t driven system that follows the JavaBeans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industry standards for distributed objects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JINI and EJB</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B5A3728-F8EA-4E7C-A43A-9D916A1D8B16}" type="slidenum">
              <a:t>1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Grande: DATORR</a:t>
            </a:r>
            <a:br>
              <a:rPr sz="4400"/>
            </a:br>
            <a:r>
              <a:rPr b="0" lang="en-US" sz="3200" spc="-1" strike="noStrike">
                <a:solidFill>
                  <a:srgbClr val="ff0000"/>
                </a:solidFill>
                <a:latin typeface="Times New Roman"/>
              </a:rPr>
              <a:t>Desktop Access to Remote Resources</a:t>
            </a:r>
            <a:endParaRPr b="0" lang="en-US" sz="32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WebFlow coincides with DATORR standardization initi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lead to definition of CORBA facilities or Java framework for computing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stract Task Specification (“user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tacomputing Services API (“system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curity Standard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EB7A942-E7C2-4BEA-BFDD-6653079A9AFE}" type="slidenum">
              <a:t>1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WebFlow</a:t>
            </a:r>
            <a:endParaRPr b="0" lang="en-US" sz="4400" spc="-1" strike="noStrike">
              <a:solidFill>
                <a:srgbClr val="000000"/>
              </a:solidFill>
              <a:latin typeface="Times New Roman"/>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ed Gateway implem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bjective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vide seamless and secure access to remote (HPCC)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point of ac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imposed and monitored by stakehold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odifications of the current security model and implem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on with the existing authoring too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45BB417-985A-4E70-81F6-448046B779B3}" type="slidenum">
              <a:t>19</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WebFlow?</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t with examp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improve a good produ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erging Standards: DATORR</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 of the new WebFl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ateway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liverabl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8922DAE-CE53-4E19-BD6A-6E6DB0B0FAF9}" type="slidenum">
              <a:t>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s: CORBA, Java, JavaBeans, EJB,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https, PKI, GSSAPI, SSL, Keberos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BA services: naming (LDAP), lifecycle, security, transac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ORR, Alliance PK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0226B7A-38B6-43D1-B9A0-328C6EC9AF30}" type="slidenum">
              <a:t>2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commercial and academic). Exampl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e WebServer (Jigsaw, Apache,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B (ORBacus,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2  (EJB, JIN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us, Globus-GSSAP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BS, Condo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7EE9E5B-9BA8-406D-B14F-542E9F1BA948}" type="slidenum">
              <a:t>21</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tier Architecture of Gateway</a:t>
            </a:r>
            <a:endParaRPr b="0" lang="en-US" sz="4000" spc="-1" strike="noStrike">
              <a:solidFill>
                <a:srgbClr val="000000"/>
              </a:solidFill>
              <a:latin typeface="Times New Roman"/>
            </a:endParaRPr>
          </a:p>
        </p:txBody>
      </p:sp>
      <p:pic>
        <p:nvPicPr>
          <p:cNvPr id="147" name="fig2" descr=""/>
          <p:cNvPicPr/>
          <p:nvPr/>
        </p:nvPicPr>
        <p:blipFill>
          <a:blip r:embed="rId1"/>
          <a:stretch/>
        </p:blipFill>
        <p:spPr>
          <a:xfrm>
            <a:off x="1600200" y="1600200"/>
            <a:ext cx="5772240" cy="46101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44F7364B-5F62-44AD-9FD3-44227C74CFCE}" type="slidenum">
              <a:t>22</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Component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 End  </a:t>
            </a:r>
            <a:r>
              <a:rPr b="0" i="1" lang="en-US" sz="2800" spc="-1" strike="noStrike">
                <a:solidFill>
                  <a:srgbClr val="000000"/>
                </a:solidFill>
                <a:latin typeface="Times New Roman"/>
              </a:rPr>
              <a:t>(Java Apple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different “plug-ins” implementing WebFlow AP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a:t>
            </a:r>
            <a:r>
              <a:rPr b="0" i="1" lang="en-US" sz="2800" spc="-1" strike="noStrike">
                <a:solidFill>
                  <a:srgbClr val="000000"/>
                </a:solidFill>
                <a:latin typeface="Times New Roman"/>
              </a:rPr>
              <a:t>(CORBA)</a:t>
            </a:r>
            <a:endParaRPr b="0" lang="en-US" sz="2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End modules </a:t>
            </a:r>
            <a:r>
              <a:rPr b="0" i="1" lang="en-US" sz="2400" spc="-1" strike="noStrike">
                <a:solidFill>
                  <a:srgbClr val="000000"/>
                </a:solidFill>
                <a:latin typeface="Times New Roman"/>
              </a:rPr>
              <a:t>(anything from JBDC to HPF)</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Beans model</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y Modul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remote HPCC resources</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75E1FEC-18C1-4540-9610-93550D3C2D34}" type="slidenum">
              <a:t>2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154"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156"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165"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167"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168"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169"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170"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171"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173"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4"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5"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176"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177"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178"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97797408-24DF-4168-9DE5-35D70D1352E1}" type="slidenum">
              <a:t>2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keeper</a:t>
            </a:r>
            <a:endParaRPr b="0" lang="en-US" sz="4400" spc="-1" strike="noStrike">
              <a:solidFill>
                <a:srgbClr val="000000"/>
              </a:solidFill>
              <a:latin typeface="Times New Roman"/>
            </a:endParaRPr>
          </a:p>
        </p:txBody>
      </p:sp>
      <p:pic>
        <p:nvPicPr>
          <p:cNvPr id="181"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82BB4F38-1E3E-4B42-A07E-C1A3D9FFB5D6}" type="slidenum">
              <a:t>25</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Portal Page</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authenticati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509 certificat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polic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 (LDAP, D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d by stakeholde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front-end applet</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3828623-A748-49BE-854A-B5EE28A70F2A}" type="slidenum">
              <a:t>2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185"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187"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189"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190"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191"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193"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98"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200"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202"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204"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206"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CB44376F-8568-4F08-8A01-FFB8B16C86B6}" type="slidenum">
              <a:t>27</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I</a:t>
            </a:r>
            <a:endParaRPr b="0" lang="en-US" sz="4400" spc="-1" strike="noStrike">
              <a:solidFill>
                <a:srgbClr val="000000"/>
              </a:solidFill>
              <a:latin typeface="Times New Roman"/>
            </a:endParaRPr>
          </a:p>
        </p:txBody>
      </p:sp>
      <p:sp>
        <p:nvSpPr>
          <p:cNvPr id="211" name=""/>
          <p:cNvSpPr/>
          <p:nvPr/>
        </p:nvSpPr>
        <p:spPr>
          <a:xfrm>
            <a:off x="990720" y="4572000"/>
            <a:ext cx="754380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212" name=""/>
          <p:cNvSpPr/>
          <p:nvPr/>
        </p:nvSpPr>
        <p:spPr>
          <a:xfrm>
            <a:off x="18288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0672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3052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5436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8168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523880" y="5791320"/>
            <a:ext cx="6324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218" name=""/>
          <p:cNvSpPr/>
          <p:nvPr/>
        </p:nvSpPr>
        <p:spPr>
          <a:xfrm>
            <a:off x="228600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053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7242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199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388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724280" y="4114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00200" y="2209680"/>
            <a:ext cx="12193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E</a:t>
            </a:r>
            <a:endParaRPr b="0" lang="en-US" sz="2400" spc="-1" strike="noStrike">
              <a:solidFill>
                <a:srgbClr val="000000"/>
              </a:solidFill>
              <a:latin typeface="Times New Roman"/>
            </a:endParaRPr>
          </a:p>
        </p:txBody>
      </p:sp>
      <p:sp>
        <p:nvSpPr>
          <p:cNvPr id="225" name=""/>
          <p:cNvSpPr/>
          <p:nvPr/>
        </p:nvSpPr>
        <p:spPr>
          <a:xfrm>
            <a:off x="3048120" y="2209680"/>
            <a:ext cx="13716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Flow</a:t>
            </a:r>
            <a:endParaRPr b="0" lang="en-US" sz="2400" spc="-1" strike="noStrike">
              <a:solidFill>
                <a:srgbClr val="000000"/>
              </a:solidFill>
              <a:latin typeface="Times New Roman"/>
            </a:endParaRPr>
          </a:p>
        </p:txBody>
      </p:sp>
      <p:sp>
        <p:nvSpPr>
          <p:cNvPr id="226" name=""/>
          <p:cNvSpPr/>
          <p:nvPr/>
        </p:nvSpPr>
        <p:spPr>
          <a:xfrm>
            <a:off x="4648320" y="2209680"/>
            <a:ext cx="121896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O</a:t>
            </a:r>
            <a:endParaRPr b="0" lang="en-US" sz="2400" spc="-1" strike="noStrike">
              <a:solidFill>
                <a:srgbClr val="000000"/>
              </a:solidFill>
              <a:latin typeface="Times New Roman"/>
            </a:endParaRPr>
          </a:p>
        </p:txBody>
      </p:sp>
      <p:sp>
        <p:nvSpPr>
          <p:cNvPr id="227" name=""/>
          <p:cNvSpPr/>
          <p:nvPr/>
        </p:nvSpPr>
        <p:spPr>
          <a:xfrm>
            <a:off x="6095880" y="2209680"/>
            <a:ext cx="14479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t>
            </a:r>
            <a:endParaRPr b="0" lang="en-US" sz="2400" spc="-1" strike="noStrike">
              <a:solidFill>
                <a:srgbClr val="000000"/>
              </a:solidFill>
              <a:latin typeface="Times New Roman"/>
            </a:endParaRPr>
          </a:p>
        </p:txBody>
      </p:sp>
      <p:sp>
        <p:nvSpPr>
          <p:cNvPr id="228" name=""/>
          <p:cNvSpPr/>
          <p:nvPr/>
        </p:nvSpPr>
        <p:spPr>
          <a:xfrm>
            <a:off x="2286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6576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18148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00200" y="3733920"/>
            <a:ext cx="60199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API (Abstract Task Specifica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D105FB2E-D3E7-4682-9202-880BD655AFD8}" type="slidenum">
              <a:t>2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 Tier</a:t>
            </a:r>
            <a:br>
              <a:rPr sz="4400"/>
            </a:br>
            <a:endParaRPr b="0" lang="en-US" sz="4400" spc="-1" strike="noStrike">
              <a:solidFill>
                <a:srgbClr val="000000"/>
              </a:solidFill>
              <a:latin typeface="Times New Roman"/>
            </a:endParaRPr>
          </a:p>
        </p:txBody>
      </p:sp>
      <p:pic>
        <p:nvPicPr>
          <p:cNvPr id="234" name="MTfig2" descr=""/>
          <p:cNvPicPr/>
          <p:nvPr/>
        </p:nvPicPr>
        <p:blipFill>
          <a:blip r:embed="rId1"/>
          <a:stretch/>
        </p:blipFill>
        <p:spPr>
          <a:xfrm>
            <a:off x="1219320" y="1371600"/>
            <a:ext cx="6715080" cy="473400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BEF4BA2A-1845-49C9-94CE-2656018033A9}" type="slidenum">
              <a:t>2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iss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sual HPDC framework that offers an intuitive Web browser based interface and a </a:t>
            </a:r>
            <a:r>
              <a:rPr b="1" lang="en-US" sz="2800" spc="-1" strike="noStrike">
                <a:solidFill>
                  <a:srgbClr val="000000"/>
                </a:solidFill>
                <a:latin typeface="Times New Roman"/>
              </a:rPr>
              <a:t>uniform point of interactive control</a:t>
            </a:r>
            <a:r>
              <a:rPr b="0" lang="en-US" sz="2800" spc="-1" strike="noStrike">
                <a:solidFill>
                  <a:srgbClr val="000000"/>
                </a:solidFill>
                <a:latin typeface="Times New Roman"/>
              </a:rPr>
              <a:t> for a variety of computational modules and applications, running at various labs on different platforms.</a:t>
            </a:r>
            <a:endParaRPr b="0" lang="en-US" sz="28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ur technology goal is to build a high-level user friendly </a:t>
            </a:r>
            <a:r>
              <a:rPr b="1" lang="en-US" sz="2800" spc="-1" strike="noStrike">
                <a:solidFill>
                  <a:srgbClr val="000000"/>
                </a:solidFill>
                <a:latin typeface="Times New Roman"/>
              </a:rPr>
              <a:t>commodity software</a:t>
            </a:r>
            <a:r>
              <a:rPr b="0" lang="en-US" sz="2800" spc="-1" strike="noStrike">
                <a:solidFill>
                  <a:srgbClr val="000000"/>
                </a:solidFill>
                <a:latin typeface="Times New Roman"/>
              </a:rPr>
              <a:t> based visual programming and runtime environment for HPDC.</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868C61D-4A25-40AD-8040-530239D2215D}" type="slidenum">
              <a:t>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236" name=""/>
          <p:cNvSpPr/>
          <p:nvPr/>
        </p:nvSpPr>
        <p:spPr>
          <a:xfrm>
            <a:off x="1224000" y="1757520"/>
            <a:ext cx="2438280" cy="35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913360" y="1731960"/>
            <a:ext cx="2560680" cy="3525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239"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240"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242"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245"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246"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248"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249"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253"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254"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56"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257"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258"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259"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60"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F95C3E08-15DD-4749-8D37-776AD2575739}" type="slidenum">
              <a:t>30</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a remote module</a:t>
            </a:r>
            <a:endParaRPr b="0" lang="en-US" sz="4400" spc="-1" strike="noStrike">
              <a:solidFill>
                <a:srgbClr val="000000"/>
              </a:solidFill>
              <a:latin typeface="Times New Roman"/>
            </a:endParaRPr>
          </a:p>
        </p:txBody>
      </p:sp>
      <p:sp>
        <p:nvSpPr>
          <p:cNvPr id="263" name=""/>
          <p:cNvSpPr/>
          <p:nvPr/>
        </p:nvSpPr>
        <p:spPr>
          <a:xfrm>
            <a:off x="2004840" y="1706400"/>
            <a:ext cx="2498760" cy="441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2190600" y="2473200"/>
            <a:ext cx="2005200" cy="594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65" name=""/>
          <p:cNvSpPr/>
          <p:nvPr/>
        </p:nvSpPr>
        <p:spPr>
          <a:xfrm>
            <a:off x="2203560" y="4008600"/>
            <a:ext cx="19922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66" name=""/>
          <p:cNvSpPr/>
          <p:nvPr/>
        </p:nvSpPr>
        <p:spPr>
          <a:xfrm>
            <a:off x="2252520" y="5319720"/>
            <a:ext cx="1990800" cy="606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Module</a:t>
            </a:r>
            <a:endParaRPr b="0" lang="en-US" sz="2400" spc="-1" strike="noStrike">
              <a:solidFill>
                <a:srgbClr val="000000"/>
              </a:solidFill>
              <a:latin typeface="Times New Roman"/>
            </a:endParaRPr>
          </a:p>
        </p:txBody>
      </p:sp>
      <p:sp>
        <p:nvSpPr>
          <p:cNvPr id="267" name=""/>
          <p:cNvSpPr/>
          <p:nvPr/>
        </p:nvSpPr>
        <p:spPr>
          <a:xfrm>
            <a:off x="3218040" y="3043080"/>
            <a:ext cx="0" cy="9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18040" y="4589640"/>
            <a:ext cx="0" cy="71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789520" y="1706400"/>
            <a:ext cx="2560680" cy="4442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1039680" y="2720880"/>
            <a:ext cx="114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272" name=""/>
          <p:cNvSpPr/>
          <p:nvPr/>
        </p:nvSpPr>
        <p:spPr>
          <a:xfrm>
            <a:off x="6148440" y="2498760"/>
            <a:ext cx="1830240" cy="53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73" name=""/>
          <p:cNvSpPr/>
          <p:nvPr/>
        </p:nvSpPr>
        <p:spPr>
          <a:xfrm>
            <a:off x="6086520" y="4021200"/>
            <a:ext cx="1967040" cy="55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74" name=""/>
          <p:cNvSpPr/>
          <p:nvPr/>
        </p:nvSpPr>
        <p:spPr>
          <a:xfrm>
            <a:off x="6073920" y="5319720"/>
            <a:ext cx="2004840" cy="544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p:txBody>
      </p:sp>
      <p:sp>
        <p:nvSpPr>
          <p:cNvPr id="275" name=""/>
          <p:cNvSpPr/>
          <p:nvPr/>
        </p:nvSpPr>
        <p:spPr>
          <a:xfrm>
            <a:off x="7039080" y="30304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026120" y="4576680"/>
            <a:ext cx="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194000" y="2733840"/>
            <a:ext cx="195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D3A6D38D-6B1C-4359-A667-F0D27EF508E1}" type="slidenum">
              <a:t>3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odules</a:t>
            </a: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CORBA ob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orm to JavaBeans spec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mic Java 1.1 (JavaBeans) event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ed using Dynamic Invocation Interface (DII) and Dynamic Skeleton Interface (DSI) (thus more general than BeanBox, similar to JINI and EJB)</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CAB8275-9EAC-426E-8FB2-6BC7855DBF5F}" type="slidenum">
              <a:t>3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281"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282"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283"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285"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286"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87"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288"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289"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291"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301"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CDFD6A15-434A-4604-9A98-C97FF895C192}" type="slidenum">
              <a:t>33</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303" name=""/>
          <p:cNvGrpSpPr/>
          <p:nvPr/>
        </p:nvGrpSpPr>
        <p:grpSpPr>
          <a:xfrm>
            <a:off x="1335240" y="1633680"/>
            <a:ext cx="1855800" cy="2288880"/>
            <a:chOff x="1335240" y="1633680"/>
            <a:chExt cx="1855800" cy="2288880"/>
          </a:xfrm>
        </p:grpSpPr>
        <p:grpSp>
          <p:nvGrpSpPr>
            <p:cNvPr id="304" name=""/>
            <p:cNvGrpSpPr/>
            <p:nvPr/>
          </p:nvGrpSpPr>
          <p:grpSpPr>
            <a:xfrm>
              <a:off x="1335240" y="1633680"/>
              <a:ext cx="1855800" cy="2288880"/>
              <a:chOff x="1335240" y="1633680"/>
              <a:chExt cx="1855800" cy="2288880"/>
            </a:xfrm>
          </p:grpSpPr>
          <p:sp>
            <p:nvSpPr>
              <p:cNvPr id="305"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07" name=""/>
            <p:cNvGrpSpPr/>
            <p:nvPr/>
          </p:nvGrpSpPr>
          <p:grpSpPr>
            <a:xfrm>
              <a:off x="1817640" y="2933640"/>
              <a:ext cx="1063800" cy="608400"/>
              <a:chOff x="1817640" y="2933640"/>
              <a:chExt cx="1063800" cy="608400"/>
            </a:xfrm>
          </p:grpSpPr>
          <p:sp>
            <p:nvSpPr>
              <p:cNvPr id="308"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1817640" y="3242520"/>
                <a:ext cx="1041480" cy="299520"/>
                <a:chOff x="1817640" y="3242520"/>
                <a:chExt cx="1041480" cy="299520"/>
              </a:xfrm>
            </p:grpSpPr>
            <p:sp>
              <p:nvSpPr>
                <p:cNvPr id="310"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13"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314"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5"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16"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3130AF06-2132-4F07-A3F6-DCFDF7807087}" type="slidenum">
              <a:t>3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JavaBea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power of Java (or C++) to implement functionalit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ncapsulate legacy applic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rve as Proxi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DBC</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computing services (such as Glob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s (such as PBS, CONDOR, et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42BF9FD-135A-47EB-8815-1ED8A0C89C66}" type="slidenum">
              <a:t>3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features</a:t>
            </a: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access via Gateway por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based on standards: https, PKI, </a:t>
            </a:r>
            <a:br>
              <a:rPr sz="2800"/>
            </a:br>
            <a:r>
              <a:rPr b="0" lang="en-US" sz="2800" spc="-1" strike="noStrike">
                <a:solidFill>
                  <a:srgbClr val="000000"/>
                </a:solidFill>
                <a:latin typeface="Times New Roman"/>
              </a:rPr>
              <a:t>secure ORB, GSSAPI (SSL/Keberos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controlled by stakehol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Flow API allows implementation of many different front-e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three-tier architecture (distributed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HPCC through metacomputing servic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E1C9F75-6261-4911-8A71-32ACDA665C17}" type="slidenum">
              <a:t>3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Implement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and OO commodity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object-based, scalable, and reusable Web server and Object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9AA8DB6-9D24-446E-8B85-48BB6B234B69}" type="slidenum">
              <a:t>4</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7086600" y="1295280"/>
            <a:ext cx="1371600" cy="1067040"/>
            <a:chOff x="7086600" y="1295280"/>
            <a:chExt cx="1371600" cy="1067040"/>
          </a:xfrm>
        </p:grpSpPr>
        <p:sp>
          <p:nvSpPr>
            <p:cNvPr id="80" name=""/>
            <p:cNvSpPr/>
            <p:nvPr/>
          </p:nvSpPr>
          <p:spPr>
            <a:xfrm>
              <a:off x="7439040" y="1295280"/>
              <a:ext cx="977400" cy="90288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478280" y="1582560"/>
              <a:ext cx="666000" cy="4924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82" name=""/>
            <p:cNvSpPr/>
            <p:nvPr/>
          </p:nvSpPr>
          <p:spPr>
            <a:xfrm>
              <a:off x="7086600" y="2157120"/>
              <a:ext cx="137160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83" name=""/>
          <p:cNvSpPr/>
          <p:nvPr/>
        </p:nvSpPr>
        <p:spPr>
          <a:xfrm flipV="1">
            <a:off x="7848720" y="297144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848720" y="2971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8763120" y="198108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8305920" y="19810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3597364B-61B5-464E-AE96-941B2C813851}" type="slidenum">
              <a:t>5</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8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90"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2E2E209A-92B7-4757-A7A9-00A59C83B723}" type="slidenum">
              <a:t>6</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plication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um Simul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iance/NCS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d at Alliance ‘98 mee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paper presented at SC’98</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dscape Management Syst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WES: MSRC/P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
          <p:cNvSpPr txBox="1"/>
          <p:nvPr/>
        </p:nvSpPr>
        <p:spPr>
          <a:xfrm>
            <a:off x="1295280" y="5486400"/>
            <a:ext cx="5767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00"/>
                </a:solidFill>
                <a:effectLst>
                  <a:outerShdw dist="17819" dir="2700000" blurRad="0" rotWithShape="0">
                    <a:srgbClr val="c0c0c0"/>
                  </a:outerShdw>
                </a:effectLst>
                <a:latin typeface="Impact"/>
              </a:rPr>
              <a:t>Both require desktop access to remote resources</a:t>
            </a:r>
            <a:endParaRPr b="0" lang="en-US" sz="2000" spc="1" strike="noStrike">
              <a:ln w="9360">
                <a:solidFill>
                  <a:srgbClr val="000000"/>
                </a:solidFill>
                <a:miter/>
              </a:ln>
              <a:solidFill>
                <a:srgbClr val="ff0000"/>
              </a:solidFill>
              <a:effectLst>
                <a:outerShdw dist="17819" dir="2700000" blurRad="0" rotWithShape="0">
                  <a:srgbClr val="c0c0c0"/>
                </a:outerShdw>
              </a:effectLst>
              <a:latin typeface="Impact"/>
              <a:ea typeface="Impact"/>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00B4F87-525F-4048-A093-AE8BE81E379B}" type="slidenum">
              <a:t>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95"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1A32C2F5-6D2C-4074-BCBF-7FF6F5D6B1E1}" type="slidenum">
              <a:t>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97" name="mitas2" descr=""/>
          <p:cNvPicPr/>
          <p:nvPr/>
        </p:nvPicPr>
        <p:blipFill>
          <a:blip r:embed="rId1"/>
          <a:stretch/>
        </p:blipFill>
        <p:spPr>
          <a:xfrm>
            <a:off x="914400" y="1600200"/>
            <a:ext cx="7953480" cy="469584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21F74A2D-0B4E-4540-BD00-20580A569622}" type="slidenum">
              <a:t>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4T23:51:57Z</dcterms:created>
  <dc:creator>Tomasz Haupt</dc:creator>
  <dc:description/>
  <dc:language>en-US</dc:language>
  <cp:lastModifiedBy>haupt</cp:lastModifiedBy>
  <dcterms:modified xsi:type="dcterms:W3CDTF">1999-01-30T20:38:24Z</dcterms:modified>
  <cp:revision>9</cp:revision>
  <dc:subject/>
  <dc:title>Gateway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npac.syr.edu/users/haupt/WebFlow/demo.html</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Gateway</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