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5919-4801-4AB2-B845-02982CD1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1327-D509-432E-B26F-8AC25DA0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45E1-517A-4840-8B51-2265A20A3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8FD5-97C6-4E1E-9407-713175AF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9CB4-0A10-4594-BF4E-1B04C8513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F78E-3970-496A-BC6B-5240348A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5777-6459-4843-8521-B6063D6B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5FD3-7087-4D8C-AFD0-FB4D3964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2E02-9794-4570-86C7-6EBBF08E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1E64-F7F2-4020-A070-B3D7A0E5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F99F-854C-44BD-9248-31BB213F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13AF-E0B1-4D33-BC85-901151FF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C276-806D-4458-B170-A88A53DA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A8C3-0FF8-466E-8808-0254CE30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462A-3D58-4317-AE2B-B7E35256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7D95-5505-42D8-98B7-3DF3498B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A719-2590-4AE8-94B4-8652E5A8F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A83B-EBAD-460B-8140-FF475A6E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3360-1644-445C-9531-978F4D32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176F-BB43-4EDA-814B-D971104C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FB46-26F5-4BED-A7F4-B702C775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A761-53CC-42AA-BFDA-61FAA36C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B8F0-5EB5-4261-B7A1-0345B4F1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DCBA-33CB-4412-9FA7-23A69EBA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4121-1B93-4552-B4EA-4EF61E4E3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A2E0-C9E1-4262-ABE2-E24806CC7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Security in JDK 1.2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teps for the Code Signer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73240" y="160020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teps for Code Signer (Cont`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Generate a file name Count.java and compil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Generate a JAR file containing the Count.class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ar cvf Count.jar Count.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Generate keys                                                         keytool -genkey -alias signFiles -keypass kpi135              -keystore susanstore -storepass ab987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 the JAR file                                                           jarsigner -keystore susanstore -signedjar sCount.jar Count.jar signFi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rt the public key certificate                                  keytool -export -keystore susanstore -alias signFiles  -file SusanJones.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teps for the Code Receiver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74640" y="1981080"/>
            <a:ext cx="6967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teps for the Code Receiver (Cont`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Restricted Application                                          java -cp sCount.jar Count C:\TestData\data                 To execute the application within a security manager java -Djava.security.manager -cp sCount.jar Count C:\TestData\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mport the Certificate as a Trusted Certificate          Received files : sCount.jar SusanJones.cer                  keytool -import -alias susan -file SusanJones.cer        -keystore rays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teps for the Code Receiver (Cont`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et Up a Policy File To Grant the Requested Permission   -  to permit the classes signed by susan to read the specified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olicy File Effects                                                      let the name given in the previous step be raystore                                           java -Djava.security.manager                                       -Djava.security.policy=raypolicy                                   -cp sCount.jar  Count  C:\TestData\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r Next Meet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hanging Files (Tools)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s for the Contract Sender                                             Steps for the Contract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and Verifying Signatures (API)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ng a Digital Signature                                     Verifying a Digital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JDK 1.0 Security Model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81240" y="1981080"/>
            <a:ext cx="575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JDK 1.1 Security Model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5848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JDK 1.2 Security Model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133720" y="1981080"/>
            <a:ext cx="5746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. The Java application environment maintains a mapping from code (classes and instances) to their protection domains and then to their permiss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73240" y="2514600"/>
            <a:ext cx="728496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ertificate Interfaces and Classes</a:t>
            </a:r>
            <a:br>
              <a:rPr sz="3200"/>
            </a:b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java.security.cert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packa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the certificate related classe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types of certificates (X.509, PGP), share general certificate functionality (encoding, verifying),  types of information (i.e. public ke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eFact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fines the functionality of the certificate fa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509Certific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provides a standard way to access all the attributes of an X.509 certif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Key Management Classes and Interfac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Store class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ies interfaces to access and modify the information in the keyst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ault KeyStore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tects each private key with its individual passwor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specification interfaces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d for transparent representation of the key material that constitutes a k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tool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managing keys and certif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ecurity-Related Tool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tool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d to generate pairs of public and private ke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rsigner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s the JAR files and verifies the authenticity of the signature(s) of signed JAR fi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 tool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curity policy is descri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gning Code and Granting It Permissions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example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for the Code Sig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for the Code Recei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9T11:13:01Z</dcterms:created>
  <dc:creator>Recep ALPER</dc:creator>
  <dc:description/>
  <dc:language>en-US</dc:language>
  <cp:lastModifiedBy>Valued Gateway Customer</cp:lastModifiedBy>
  <dcterms:modified xsi:type="dcterms:W3CDTF">1998-12-10T15:29:32Z</dcterms:modified>
  <cp:revision>12</cp:revision>
  <dc:subject/>
  <dc:title>JDK 1.0 Security Model: </dc:title>
</cp:coreProperties>
</file>