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57C1-DDF9-476D-A0D7-FEBEFA968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31AC-3B1E-49BB-9824-A3E7644E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6AE2-1898-44AC-B8A8-9FCF34069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F4D5-531E-4EF0-BE19-5624434E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A1E9-4633-4230-A1E3-C026F9F5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F562-24D4-449C-AB91-7E1CB652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D77A-E1AA-49F9-9EAA-CA1C3901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2A5F-CDC9-4D40-94B0-758EEDE5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8DFE-FED0-4FC7-9BC2-87280F68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665E-EC4A-42A3-BE0F-9EB58316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C7AD-A96D-4906-B291-C5963C19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C8D4-6DD3-46A5-984A-B372E013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FF6E-9BE5-4002-B4A6-C9ECDC57D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69440" y="608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17440" y="175140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72920" y="175140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68080" y="297072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to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05920" y="297072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84680" y="29707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38200" y="297072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ton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23400" y="472320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ton 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80800" y="472320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ton 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32560" y="464724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Field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1" idx="1"/>
            <a:endCxn id="42" idx="0"/>
          </p:cNvCxnSpPr>
          <p:nvPr/>
        </p:nvCxnSpPr>
        <p:spPr>
          <a:xfrm flipH="1">
            <a:off x="2594520" y="838080"/>
            <a:ext cx="147528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1" idx="3"/>
            <a:endCxn id="43" idx="0"/>
          </p:cNvCxnSpPr>
          <p:nvPr/>
        </p:nvCxnSpPr>
        <p:spPr>
          <a:xfrm>
            <a:off x="5080680" y="838080"/>
            <a:ext cx="166140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2" idx="2"/>
            <a:endCxn id="45" idx="0"/>
          </p:cNvCxnSpPr>
          <p:nvPr/>
        </p:nvCxnSpPr>
        <p:spPr>
          <a:xfrm>
            <a:off x="2594520" y="2211120"/>
            <a:ext cx="880560" cy="75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3" idx="2"/>
            <a:endCxn id="46" idx="0"/>
          </p:cNvCxnSpPr>
          <p:nvPr/>
        </p:nvCxnSpPr>
        <p:spPr>
          <a:xfrm>
            <a:off x="6741720" y="2211120"/>
            <a:ext cx="1220400" cy="75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2"/>
            <a:endCxn id="44" idx="0"/>
          </p:cNvCxnSpPr>
          <p:nvPr/>
        </p:nvCxnSpPr>
        <p:spPr>
          <a:xfrm rot="5400000">
            <a:off x="1528200" y="1904400"/>
            <a:ext cx="759960" cy="1373400"/>
          </a:xfrm>
          <a:prstGeom prst="curvedConnector3">
            <a:avLst>
              <a:gd name="adj1" fmla="val 2502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3" idx="2"/>
            <a:endCxn id="47" idx="0"/>
          </p:cNvCxnSpPr>
          <p:nvPr/>
        </p:nvCxnSpPr>
        <p:spPr>
          <a:xfrm rot="5400000">
            <a:off x="5832720" y="2061720"/>
            <a:ext cx="759960" cy="1058760"/>
          </a:xfrm>
          <a:prstGeom prst="curvedConnector3">
            <a:avLst>
              <a:gd name="adj1" fmla="val 2502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5" idx="2"/>
            <a:endCxn id="48" idx="0"/>
          </p:cNvCxnSpPr>
          <p:nvPr/>
        </p:nvCxnSpPr>
        <p:spPr>
          <a:xfrm rot="5400000">
            <a:off x="1913040" y="3161520"/>
            <a:ext cx="1293120" cy="1830600"/>
          </a:xfrm>
          <a:prstGeom prst="curvedConnector3">
            <a:avLst>
              <a:gd name="adj1" fmla="val 249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45" idx="2"/>
            <a:endCxn id="49" idx="0"/>
          </p:cNvCxnSpPr>
          <p:nvPr/>
        </p:nvCxnSpPr>
        <p:spPr>
          <a:xfrm flipH="1" rot="16200000">
            <a:off x="2941920" y="3962880"/>
            <a:ext cx="1293120" cy="227520"/>
          </a:xfrm>
          <a:prstGeom prst="curvedConnector3">
            <a:avLst>
              <a:gd name="adj1" fmla="val 249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46" idx="2"/>
            <a:endCxn id="50" idx="0"/>
          </p:cNvCxnSpPr>
          <p:nvPr/>
        </p:nvCxnSpPr>
        <p:spPr>
          <a:xfrm rot="5400000">
            <a:off x="7054560" y="3740040"/>
            <a:ext cx="1217160" cy="59796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1523880" y="83808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914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62920" y="2057400"/>
            <a:ext cx="152388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2057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98960" y="556164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ed 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5T17:02:21Z</dcterms:created>
  <dc:creator>Valued Gateway Customer</dc:creator>
  <dc:description/>
  <dc:language>en-US</dc:language>
  <cp:lastModifiedBy>Valued Gateway Customer</cp:lastModifiedBy>
  <dcterms:modified xsi:type="dcterms:W3CDTF">1999-03-25T17:45:54Z</dcterms:modified>
  <cp:revision>5</cp:revision>
  <dc:subject/>
  <dc:title>No Slide Title</dc:title>
</cp:coreProperties>
</file>