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951-DABE-475C-82E4-B443F852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CC0-679E-4DB0-9914-208F9A01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3A5-8794-4D2D-BF32-360CF4B7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D01-D331-4FDD-8E51-E4E72492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129-681E-40B3-AEEB-BBBE38A2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E33-CB4B-4F1A-9A4C-75FE4764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223-2A2D-4EFC-A171-44C5EA8C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3F9-B375-42EE-AC6A-DDC4C8CA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6471-D4FB-4FC2-89BB-45A0A001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0761-F8E4-415D-A3DC-06594B6E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8E85-FF52-4419-A6AC-155EED58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18C-BFCF-4747-B09F-27FCC188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5932-8ECA-4D99-B5DB-93AC4FAE5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2767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3200400"/>
            <a:ext cx="30456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838440" y="685800"/>
            <a:ext cx="3816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0"/>
          </p:cNvCxnSpPr>
          <p:nvPr/>
        </p:nvCxnSpPr>
        <p:spPr>
          <a:xfrm flipH="1">
            <a:off x="419040" y="1479240"/>
            <a:ext cx="311760" cy="50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2"/>
            <a:endCxn id="43" idx="1"/>
          </p:cNvCxnSpPr>
          <p:nvPr/>
        </p:nvCxnSpPr>
        <p:spPr>
          <a:xfrm>
            <a:off x="419040" y="2209680"/>
            <a:ext cx="6840" cy="111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594360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4"/>
            <a:endCxn id="50" idx="0"/>
          </p:cNvCxnSpPr>
          <p:nvPr/>
        </p:nvCxnSpPr>
        <p:spPr>
          <a:xfrm>
            <a:off x="5257800" y="3505320"/>
            <a:ext cx="800280" cy="129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2" idx="5"/>
            <a:endCxn id="45" idx="1"/>
          </p:cNvCxnSpPr>
          <p:nvPr/>
        </p:nvCxnSpPr>
        <p:spPr>
          <a:xfrm>
            <a:off x="946080" y="1479240"/>
            <a:ext cx="4159800" cy="616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endCxn id="45" idx="0"/>
          </p:cNvCxnSpPr>
          <p:nvPr/>
        </p:nvCxnSpPr>
        <p:spPr>
          <a:xfrm>
            <a:off x="5181480" y="609120"/>
            <a:ext cx="3852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694080" y="-3132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lue squ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8920" y="7606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reen circ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5715000"/>
            <a:ext cx="381240" cy="304920"/>
          </a:xfrm>
          <a:prstGeom prst="hexagon">
            <a:avLst>
              <a:gd name="adj" fmla="val 3125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14480" y="226440"/>
            <a:ext cx="1413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tachEvent c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paramet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,PM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Name”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Metho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990720"/>
            <a:ext cx="380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1720" y="228492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ontex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480" y="17514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7080" y="29610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2840" y="188964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0" idx="2"/>
            <a:endCxn id="56" idx="0"/>
          </p:cNvCxnSpPr>
          <p:nvPr/>
        </p:nvCxnSpPr>
        <p:spPr>
          <a:xfrm>
            <a:off x="6057720" y="5029200"/>
            <a:ext cx="72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5" idx="2"/>
            <a:endCxn id="46" idx="0"/>
          </p:cNvCxnSpPr>
          <p:nvPr/>
        </p:nvCxnSpPr>
        <p:spPr>
          <a:xfrm>
            <a:off x="5219640" y="2209680"/>
            <a:ext cx="38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8088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43" idx="4"/>
            <a:endCxn id="65" idx="0"/>
          </p:cNvCxnSpPr>
          <p:nvPr/>
        </p:nvCxnSpPr>
        <p:spPr>
          <a:xfrm flipH="1">
            <a:off x="495000" y="3581280"/>
            <a:ext cx="388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5337360" y="27468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638680"/>
            <a:ext cx="380880" cy="304920"/>
          </a:xfrm>
          <a:prstGeom prst="hexagon">
            <a:avLst>
              <a:gd name="adj" fmla="val 3122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5" idx="2"/>
            <a:endCxn id="68" idx="0"/>
          </p:cNvCxnSpPr>
          <p:nvPr/>
        </p:nvCxnSpPr>
        <p:spPr>
          <a:xfrm>
            <a:off x="495000" y="5029200"/>
            <a:ext cx="7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610560" y="4494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3280" y="4570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00" y="540900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5800" y="548532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45" idx="1"/>
            <a:endCxn id="46" idx="1"/>
          </p:cNvCxnSpPr>
          <p:nvPr/>
        </p:nvCxnSpPr>
        <p:spPr>
          <a:xfrm flipH="1" flipV="1" rot="10800000">
            <a:off x="5105520" y="2095200"/>
            <a:ext cx="45000" cy="1150200"/>
          </a:xfrm>
          <a:prstGeom prst="curvedConnector3">
            <a:avLst>
              <a:gd name="adj1" fmla="val -443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6" idx="2"/>
            <a:endCxn id="65" idx="3"/>
          </p:cNvCxnSpPr>
          <p:nvPr/>
        </p:nvCxnSpPr>
        <p:spPr>
          <a:xfrm flipH="1">
            <a:off x="609480" y="3353040"/>
            <a:ext cx="4496400" cy="156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6" idx="3"/>
            <a:endCxn id="50" idx="1"/>
          </p:cNvCxnSpPr>
          <p:nvPr/>
        </p:nvCxnSpPr>
        <p:spPr>
          <a:xfrm flipH="1" rot="16200000">
            <a:off x="4820040" y="3790800"/>
            <a:ext cx="1454400" cy="793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643360" y="3199680"/>
            <a:ext cx="16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this 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mod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and M2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bind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45720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33526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34290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39800" y="2894040"/>
            <a:ext cx="2081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UC1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erty Listeners of  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there are no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er this detach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3440" y="4570200"/>
            <a:ext cx="2081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UC1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erty Listeners of  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there are no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er this detach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27432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7:35:24Z</dcterms:created>
  <dc:creator>Valued Gateway Customer</dc:creator>
  <dc:description/>
  <dc:language>en-US</dc:language>
  <cp:lastModifiedBy>Valued Gateway Customer</cp:lastModifiedBy>
  <dcterms:modified xsi:type="dcterms:W3CDTF">1999-05-24T22:44:37Z</dcterms:modified>
  <cp:revision>7</cp:revision>
  <dc:subject/>
  <dc:title>No Slide Title</dc:title>
</cp:coreProperties>
</file>