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1A0C-FBE4-4ED0-9592-0BC7C4093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5458-FF5A-43C6-A71D-A7F54104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07F8-FF2F-41B8-9FB9-C9DCABE83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1E5C-608A-452D-843A-3F71A6611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107A-B0EC-4C8E-824B-9E4D05AF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20C0-D2E0-4C25-A4F0-8607025A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831B-6493-4F82-803E-F5B015D9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DDFE-0A87-4322-992E-FD8BB06A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35C9-BC28-4007-A67A-6F55E8AA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146B-6AD9-45FB-A6FC-9BA6F012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3890-709B-4019-B469-504817A7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BB1F-22DD-4B8D-8451-CD19F489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43CA-C7D4-4732-82EB-3F4FB726B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69339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0T20:41:49Z</dcterms:created>
  <dc:creator>Valued Gateway Customer</dc:creator>
  <dc:description/>
  <dc:language>en-US</dc:language>
  <cp:lastModifiedBy>Valued Gateway Customer</cp:lastModifiedBy>
  <dcterms:modified xsi:type="dcterms:W3CDTF">1999-07-10T20:55:48Z</dcterms:modified>
  <cp:revision>4</cp:revision>
  <dc:subject/>
  <dc:title>No Slide Title</dc:title>
</cp:coreProperties>
</file>