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78A74-F460-4EE8-B54D-CA537CDB6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D7FD7-6045-462E-81FE-38236F442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75056-F042-4A73-90A4-0042B4C67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6C413-FC05-4473-976A-0BEC54BE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CE8A6-2762-47F3-99B5-2E6295AAF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0E9BD-BBC7-4F05-ADC6-BA8EDDD96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6CEE8-28FD-472B-BD67-AA587691C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00670-E19D-4C92-83D6-7202D53A2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C089A-3230-4B4F-AC2C-BD445DC0B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8DD6F-F3AE-4AB5-B052-182DB123E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1CC4-EE5A-4E4E-B4C6-F82E9029E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8A229-0E5D-4878-BCDF-33B713DBE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0710E-072E-4F6A-B20D-71C364608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A4B00-A56D-466B-8FF3-A90DDFF24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23B85-1B76-45F6-B82E-DE24A43A7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D8313-F41E-4FB8-8208-373836CF1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DC5F8-D698-44BC-BD7E-48E013DA8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0C923-F129-40DB-A746-A1D6100A5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21E8E-B8F6-4670-87EC-313C129C6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5032-EED1-47A4-A712-A01C5D2E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8FCC-7B85-4A25-A6D4-B90BC04FC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070B-1555-4247-88DB-8BA9800A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CDC0-839B-438F-A0F9-949358029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7FF4-B4CE-485E-9E9F-4A932631C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FFB4-35AC-414A-A3B6-0B767E43486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BDF4-4384-4275-912B-53B99805AE4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ovember 18</a:t>
            </a:r>
            <a:endParaRPr b="0" lang="en-US" sz="4400" spc="-1" strike="noStrike">
              <a:solidFill>
                <a:srgbClr val="996633"/>
              </a:solidFill>
              <a:latin typeface="Times New Roman"/>
            </a:endParaRPr>
          </a:p>
        </p:txBody>
      </p:sp>
      <p:sp>
        <p:nvSpPr>
          <p:cNvPr id="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om: Status of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Status of WF releas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aveen: Jigsa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Corba ABC</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signments for the next week</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6)</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results of the middle-tier actions is</a:t>
            </a:r>
            <a:br>
              <a:rPr sz="2400"/>
            </a:br>
            <a:r>
              <a:rPr b="0" lang="en-US" sz="2400" spc="-1" strike="noStrike">
                <a:solidFill>
                  <a:srgbClr val="402000"/>
                </a:solidFill>
                <a:latin typeface="Times New Roman"/>
              </a:rPr>
              <a:t> </a:t>
            </a:r>
            <a:r>
              <a:rPr b="1" lang="en-US" sz="2400" spc="-1" strike="noStrike" u="sng">
                <a:solidFill>
                  <a:srgbClr val="402000"/>
                </a:solidFill>
                <a:uFillTx/>
                <a:latin typeface="Times New Roman"/>
              </a:rPr>
              <a:t>a resource specification</a:t>
            </a:r>
            <a:r>
              <a:rPr b="0" lang="en-US" sz="2400" spc="-1" strike="noStrike">
                <a:solidFill>
                  <a:srgbClr val="402000"/>
                </a:solidFill>
                <a:latin typeface="Times New Roman"/>
              </a:rPr>
              <a:t> to be presented to the resource (co-)allocator (in terms of Globus’ RSL, the Unicore job object, an XML document, etc). </a:t>
            </a:r>
            <a:endParaRPr b="0" lang="en-US" sz="24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This is yet another metacomputing service, kind of a transaction (you want your job to be submitted exactly once or not at all).  </a:t>
            </a: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7)</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676520"/>
            <a:ext cx="7772400" cy="4419360"/>
          </a:xfrm>
          <a:prstGeom prst="rect">
            <a:avLst/>
          </a:prstGeom>
          <a:noFill/>
          <a:ln w="0">
            <a:noFill/>
          </a:ln>
        </p:spPr>
        <p:txBody>
          <a:bodyPr lIns="90000" rIns="90000" tIns="46800" bIns="46800" anchor="t">
            <a:normAutofit fontScale="94000"/>
          </a:bodyPr>
          <a:p>
            <a:pPr marL="322200" indent="-32220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resource allocation includes authorization (and perhaps authentication) and it is layered on top of a job scheduler – a batch system</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ote that the security issues at this stage are different than those discussed in point 1 above. At login time we are addressing a secure web transaction, and a transition from open to a secure environment. </a:t>
            </a:r>
            <a:r>
              <a:rPr b="1" lang="en-US" sz="2000" spc="-1" strike="noStrike">
                <a:solidFill>
                  <a:srgbClr val="402000"/>
                </a:solidFill>
                <a:latin typeface="Times New Roman"/>
              </a:rPr>
              <a:t>It remains to be decided on what side of the firewall the middle-tier operates</a:t>
            </a:r>
            <a:r>
              <a:rPr b="0" lang="en-US" sz="2000" spc="-1" strike="noStrike">
                <a:solidFill>
                  <a:srgbClr val="402000"/>
                </a:solidFill>
                <a:latin typeface="Times New Roman"/>
              </a:rPr>
              <a:t> (and consequently when the keberos ticket is to be issued). The resource allocation is made within the secure environment. However, the user may be allowed to use this system, but she could possibly fail to satisfy criteria to use a particular resource (say because she run out of budget or she did not attended a mandatory training session). This cannot be detected when creating an abstract job specification.  (You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8)</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a phase one we want to deliver a system that allows to reproduce the basic functionality available from the command line while accessing the resources via a web interface satisfying a crude security requirements. We will build a system oriented to a particular (class of) application(s) supporting one particular resource using one particular scheduler. This would simplify steps 5 and 6. </a:t>
            </a:r>
            <a:endParaRPr b="0" lang="en-US" sz="2000" spc="-1" strike="noStrike">
              <a:solidFill>
                <a:srgbClr val="402000"/>
              </a:solidFill>
              <a:latin typeface="Times New Roman"/>
            </a:endParaRPr>
          </a:p>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will start building the middle-tier with a single  ORB based “WebFlow” server and we be adding services to it. At some later phase we will need to address performance and fault tolerance issues which possibly will result in deploying a network of servers  </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ext phases of the project will addres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heterogeneity of resources and schedulers,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upgrading security to a satisfactory level,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dding new services that would simplify use of the metacomputing resources (for example, in Quantum Simulations the user can decide whether to run a job on Origin2000 and wait several days in a batch queue or employ less powerful but less crowded Convex Exemplar and WebFlow transparently moves the data), and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eneralize the front end to become a truly PSE.</a:t>
            </a:r>
            <a:endParaRPr b="0" lang="en-US" sz="20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xt week speakers:</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new middle-tie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Akent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 (continuation)</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SSL</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Condo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JIN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keber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x Globu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eep Yonkoo busy and happy (Tom &amp; Youn)</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bFlow modules: GRAM and GASS (Kim)</a:t>
            </a:r>
            <a:endParaRPr b="0" lang="en-US" sz="20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M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ve implementation from Vicksburg to Syracuse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ports and documentation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mall improvement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target for the new middle-tier (Tom &amp; Erol)</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ait for possible new funding</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 (cont.)</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EWES</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fine it and  start it with the new middle tier (Erol?)</a:t>
            </a:r>
            <a:endParaRPr b="0" lang="en-US" sz="20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livery March 99</a:t>
            </a:r>
            <a:endParaRPr b="0" lang="en-US" sz="20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ateway</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are about to start it</a:t>
            </a:r>
            <a:endParaRPr b="0" lang="en-US" sz="20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chedule</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lpha release January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eta release March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1.0 April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2.0 April 00</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3.0 April 01</a:t>
            </a:r>
            <a:endParaRPr b="0" lang="en-US" sz="1800" spc="-1" strike="noStrike">
              <a:solidFill>
                <a:srgbClr val="402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94" name=""/>
          <p:cNvGrpSpPr/>
          <p:nvPr/>
        </p:nvGrpSpPr>
        <p:grpSpPr>
          <a:xfrm>
            <a:off x="1295280" y="1905120"/>
            <a:ext cx="6957720" cy="3198240"/>
            <a:chOff x="1295280" y="1905120"/>
            <a:chExt cx="6957720" cy="3198240"/>
          </a:xfrm>
        </p:grpSpPr>
        <p:sp>
          <p:nvSpPr>
            <p:cNvPr id="95" name=""/>
            <p:cNvSpPr/>
            <p:nvPr/>
          </p:nvSpPr>
          <p:spPr>
            <a:xfrm>
              <a:off x="1295280" y="4738320"/>
              <a:ext cx="7887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2444400" y="4738320"/>
              <a:ext cx="78912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7" name=""/>
            <p:cNvSpPr/>
            <p:nvPr/>
          </p:nvSpPr>
          <p:spPr>
            <a:xfrm>
              <a:off x="4383000" y="47383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095360" y="4829040"/>
              <a:ext cx="214560" cy="137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9" name=""/>
            <p:cNvSpPr/>
            <p:nvPr/>
          </p:nvSpPr>
          <p:spPr>
            <a:xfrm>
              <a:off x="3808080" y="47383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0" name=""/>
            <p:cNvSpPr/>
            <p:nvPr/>
          </p:nvSpPr>
          <p:spPr>
            <a:xfrm>
              <a:off x="4383000" y="49669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1" name=""/>
            <p:cNvSpPr/>
            <p:nvPr/>
          </p:nvSpPr>
          <p:spPr>
            <a:xfrm>
              <a:off x="3808080" y="49669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2" name=""/>
            <p:cNvSpPr/>
            <p:nvPr/>
          </p:nvSpPr>
          <p:spPr>
            <a:xfrm>
              <a:off x="5243400" y="4738320"/>
              <a:ext cx="7905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3" name=""/>
            <p:cNvSpPr/>
            <p:nvPr/>
          </p:nvSpPr>
          <p:spPr>
            <a:xfrm>
              <a:off x="12952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2444400" y="4327200"/>
              <a:ext cx="71784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38080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5314680" y="4327200"/>
              <a:ext cx="7192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1295280" y="3823920"/>
              <a:ext cx="4738680" cy="365040"/>
            </a:xfrm>
            <a:prstGeom prst="rect">
              <a:avLst/>
            </a:prstGeom>
            <a:solidFill>
              <a:srgbClr val="ff66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1295280" y="3276360"/>
              <a:ext cx="4738680" cy="364680"/>
            </a:xfrm>
            <a:prstGeom prst="rect">
              <a:avLst/>
            </a:prstGeom>
            <a:solidFill>
              <a:srgbClr val="3399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1295280" y="2544480"/>
              <a:ext cx="129204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301752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a:off x="474156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a:off x="6706440" y="259056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lients</a:t>
              </a:r>
              <a:endParaRPr b="0" lang="en-US" sz="1800" spc="-1" strike="noStrike">
                <a:solidFill>
                  <a:srgbClr val="402000"/>
                </a:solidFill>
                <a:latin typeface="Times New Roman"/>
              </a:endParaRPr>
            </a:p>
          </p:txBody>
        </p:sp>
        <p:sp>
          <p:nvSpPr>
            <p:cNvPr id="113" name=""/>
            <p:cNvSpPr/>
            <p:nvPr/>
          </p:nvSpPr>
          <p:spPr>
            <a:xfrm>
              <a:off x="6608520" y="32763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iddle-Tier</a:t>
              </a:r>
              <a:endParaRPr b="0" lang="en-US" sz="1800" spc="-1" strike="noStrike">
                <a:solidFill>
                  <a:srgbClr val="402000"/>
                </a:solidFill>
                <a:latin typeface="Times New Roman"/>
              </a:endParaRPr>
            </a:p>
          </p:txBody>
        </p:sp>
        <p:sp>
          <p:nvSpPr>
            <p:cNvPr id="114" name=""/>
            <p:cNvSpPr/>
            <p:nvPr/>
          </p:nvSpPr>
          <p:spPr>
            <a:xfrm>
              <a:off x="6553080" y="3657240"/>
              <a:ext cx="1631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etacomputing</a:t>
              </a:r>
              <a:endParaRPr b="0" lang="en-US" sz="18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ervices</a:t>
              </a:r>
              <a:endParaRPr b="0" lang="en-US" sz="1800" spc="-1" strike="noStrike">
                <a:solidFill>
                  <a:srgbClr val="402000"/>
                </a:solidFill>
                <a:latin typeface="Times New Roman"/>
              </a:endParaRPr>
            </a:p>
          </p:txBody>
        </p:sp>
        <p:sp>
          <p:nvSpPr>
            <p:cNvPr id="115" name=""/>
            <p:cNvSpPr/>
            <p:nvPr/>
          </p:nvSpPr>
          <p:spPr>
            <a:xfrm>
              <a:off x="6782760" y="42670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chedulers</a:t>
              </a:r>
              <a:endParaRPr b="0" lang="en-US" sz="1800" spc="-1" strike="noStrike">
                <a:solidFill>
                  <a:srgbClr val="402000"/>
                </a:solidFill>
                <a:latin typeface="Times New Roman"/>
              </a:endParaRPr>
            </a:p>
          </p:txBody>
        </p:sp>
        <p:sp>
          <p:nvSpPr>
            <p:cNvPr id="116" name=""/>
            <p:cNvSpPr/>
            <p:nvPr/>
          </p:nvSpPr>
          <p:spPr>
            <a:xfrm>
              <a:off x="6706800" y="4724280"/>
              <a:ext cx="154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PC resources</a:t>
              </a:r>
              <a:endParaRPr b="0" lang="en-US" sz="1800" spc="-1" strike="noStrike">
                <a:solidFill>
                  <a:srgbClr val="402000"/>
                </a:solidFill>
                <a:latin typeface="Times New Roman"/>
              </a:endParaRPr>
            </a:p>
          </p:txBody>
        </p:sp>
        <p:sp>
          <p:nvSpPr>
            <p:cNvPr id="117" name=""/>
            <p:cNvSpPr/>
            <p:nvPr/>
          </p:nvSpPr>
          <p:spPr>
            <a:xfrm>
              <a:off x="1295280" y="1905120"/>
              <a:ext cx="129204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301752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474156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6783840" y="1905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SEs</a:t>
              </a:r>
              <a:endParaRPr b="0" lang="en-US" sz="1800" spc="-1" strike="noStrike">
                <a:solidFill>
                  <a:srgbClr val="402000"/>
                </a:solidFill>
                <a:latin typeface="Times New Roman"/>
              </a:endParaRPr>
            </a:p>
          </p:txBody>
        </p:sp>
      </p:grpSp>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ateway</a:t>
            </a:r>
            <a:endParaRPr b="0"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1)</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user logs into the system presenting her credentials. </a:t>
            </a:r>
            <a:endParaRPr b="0" lang="en-US" sz="28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required credentials are to be agreed. One possible solution is a X.509 certificate (which later during the process of submitting a job will be used to generate a keberos ticket) – this would require establishing CA services. The certificate can be stored on a device such as Java ring or a smart cart, such as that of Litronic. Another example is a cleartext password in connection with SecureID kind of technology; in this case consequences of interception of the password are minimized and the keberos ticked would have to be generated by the middle tier at the beginning of a session. This is a serious design issue that has to be agreed upon with the stakeholder(s).                                               (Youn, Pravee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2)</a:t>
            </a:r>
            <a:endParaRPr b="0" lang="en-US" sz="4400" spc="-1" strike="noStrike">
              <a:solidFill>
                <a:srgbClr val="996633"/>
              </a:solidFill>
              <a:latin typeface="Times New Roman"/>
            </a:endParaRPr>
          </a:p>
        </p:txBody>
      </p:sp>
      <p:sp>
        <p:nvSpPr>
          <p:cNvPr id="125" name="PlaceHolder 2"/>
          <p:cNvSpPr>
            <a:spLocks noGrp="1"/>
          </p:cNvSpPr>
          <p:nvPr>
            <p:ph/>
          </p:nvPr>
        </p:nvSpPr>
        <p:spPr>
          <a:xfrm>
            <a:off x="990720" y="1828800"/>
            <a:ext cx="7772400" cy="27432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fter a successful login a session is established.</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system must support many sessions (many users) simultaneously. We have to define when the session ends. For many reasons (security/existing keberos ticket, fault tolerance, running long batch jobs) it is necessary to allow the user to reconnect/resume the session. The current WebFlow cannot do that.</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6" name=""/>
          <p:cNvSpPr/>
          <p:nvPr/>
        </p:nvSpPr>
        <p:spPr>
          <a:xfrm>
            <a:off x="990720" y="495288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this is something for you!</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3)</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SE allows the user to specify (or compose) her application.</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r the phase I, we can only offer a minimal effort here. For the Alpha release a CGI/JavaScript/Simple Applet form, later an AVS type front-end we use for Quantum Simulations or a customized, application oriented front-end a la LMS. The latter is great for non-experts, and painfully restrictive for experts. We can offer much more, in particular integration with existing (third party) PSE in later phases of the project. Sure, we want to make the front-end as useful as possible (did someone say visualizations?), but we will not be able to impress the computer science community at this time frame.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4)</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ill on the client side, but transparently to the user, the application is translated to an</a:t>
            </a:r>
            <a:br>
              <a:rPr sz="2800"/>
            </a:br>
            <a:r>
              <a:rPr b="0" lang="en-US" sz="2800" spc="-1" strike="noStrike">
                <a:solidFill>
                  <a:srgbClr val="402000"/>
                </a:solidFill>
                <a:latin typeface="Times New Roman"/>
              </a:rPr>
              <a:t> </a:t>
            </a:r>
            <a:r>
              <a:rPr b="1" lang="en-US" sz="2800" spc="-1" strike="noStrike" u="sng">
                <a:solidFill>
                  <a:srgbClr val="402000"/>
                </a:solidFill>
                <a:uFillTx/>
                <a:latin typeface="Times New Roman"/>
              </a:rPr>
              <a:t>abstract job specification</a:t>
            </a:r>
            <a:r>
              <a:rPr b="0" lang="en-US" sz="2800" spc="-1" strike="noStrike">
                <a:solidFill>
                  <a:srgbClr val="402000"/>
                </a:solidFill>
                <a:latin typeface="Times New Roman"/>
              </a:rPr>
              <a:t> (a Java objec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idea behind “abstract” is that the user may want to specify her request as “use any available resources that are capable of  doing the specified work”</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 and Erol: this is something for you</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5)</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abstract job is sent securely to the middle-tier server which serves as a “user agent” or a “job broker”.</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s responsibility is to discover/identify resources, matchmaking, file transfers, monitoring (both system and user level), accounting, logging, scripting etc. These tasks will relay on the metacomputing services.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is a design issue how to organize things. One extreme solution is to include “external” metacomputing services, such as Globus. On the other side of the spectrum is to make these services part of the middle-tier.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Kim, Pravee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7T12:23:32Z</dcterms:created>
  <dc:creator>Tomasz Haupt</dc:creator>
  <dc:description/>
  <dc:language>en-US</dc:language>
  <cp:lastModifiedBy>Valued Gateway Customer</cp:lastModifiedBy>
  <dcterms:modified xsi:type="dcterms:W3CDTF">1998-11-24T19:47:55Z</dcterms:modified>
  <cp:revision>6</cp:revision>
  <dc:subject/>
  <dc:title>No Slide Title</dc:title>
</cp:coreProperties>
</file>