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3283-6D28-42E4-911B-F8C640A2E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6E7F-3C4E-4BA0-A34A-DED9161C6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785C-3F37-45AD-B849-C8BF37D5E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4FA3-E4CB-48FA-B5C1-B86EF2D66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19F6-DF60-4CB8-B07E-2A0CA3C69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0C36-5992-462B-B4D0-A357F256F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D3AA-D484-4F57-B095-18879081C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A1F4-D579-43E2-AA53-EB2CC9EB1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A9CD-8489-41A0-83EE-B13943D84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20E7-44F4-48D1-ADFF-2A304984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1724-FB00-4E4F-8135-4846D6A86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EF66-F504-44B8-BFE8-8CF84A109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1D1D3-589A-4673-A728-6A4CE75346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457200"/>
            <a:ext cx="228600" cy="22860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1219320"/>
            <a:ext cx="304920" cy="30456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3276720"/>
            <a:ext cx="304920" cy="30456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981080"/>
            <a:ext cx="228600" cy="22860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1981080"/>
            <a:ext cx="228600" cy="22860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105520" y="3200400"/>
            <a:ext cx="304560" cy="3049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" name=""/>
          <p:cNvCxnSpPr>
            <a:stCxn id="41" idx="2"/>
            <a:endCxn id="42" idx="0"/>
          </p:cNvCxnSpPr>
          <p:nvPr/>
        </p:nvCxnSpPr>
        <p:spPr>
          <a:xfrm flipH="1">
            <a:off x="838440" y="685800"/>
            <a:ext cx="38160" cy="533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2" idx="3"/>
            <a:endCxn id="44" idx="0"/>
          </p:cNvCxnSpPr>
          <p:nvPr/>
        </p:nvCxnSpPr>
        <p:spPr>
          <a:xfrm flipH="1">
            <a:off x="419040" y="1479240"/>
            <a:ext cx="311760" cy="502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2"/>
            <a:endCxn id="43" idx="1"/>
          </p:cNvCxnSpPr>
          <p:nvPr/>
        </p:nvCxnSpPr>
        <p:spPr>
          <a:xfrm>
            <a:off x="419040" y="2209680"/>
            <a:ext cx="6840" cy="11120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5943600" y="4800600"/>
            <a:ext cx="228600" cy="22860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"/>
          <p:cNvCxnSpPr>
            <a:stCxn id="46" idx="4"/>
            <a:endCxn id="50" idx="0"/>
          </p:cNvCxnSpPr>
          <p:nvPr/>
        </p:nvCxnSpPr>
        <p:spPr>
          <a:xfrm>
            <a:off x="5257800" y="3505320"/>
            <a:ext cx="800280" cy="1295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" name=""/>
          <p:cNvCxnSpPr>
            <a:stCxn id="42" idx="5"/>
            <a:endCxn id="45" idx="1"/>
          </p:cNvCxnSpPr>
          <p:nvPr/>
        </p:nvCxnSpPr>
        <p:spPr>
          <a:xfrm>
            <a:off x="946080" y="1479240"/>
            <a:ext cx="4159800" cy="616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endCxn id="45" idx="0"/>
          </p:cNvCxnSpPr>
          <p:nvPr/>
        </p:nvCxnSpPr>
        <p:spPr>
          <a:xfrm>
            <a:off x="5181480" y="609120"/>
            <a:ext cx="38520" cy="1372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694080" y="-31320"/>
            <a:ext cx="1220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xy obj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Blue squar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88920" y="760680"/>
            <a:ext cx="134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text Obj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Green circl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867280" y="5715000"/>
            <a:ext cx="381240" cy="304920"/>
          </a:xfrm>
          <a:prstGeom prst="hexagon">
            <a:avLst>
              <a:gd name="adj" fmla="val 31257"/>
              <a:gd name="vf" fmla="val 1154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732120" y="226440"/>
            <a:ext cx="13784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ent s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ttachEvent cal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th parameter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M0,PM1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pName”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argetMethod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257800" y="990720"/>
            <a:ext cx="38088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78040" y="2284920"/>
            <a:ext cx="1377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ward 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 context ob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4480" y="1751400"/>
            <a:ext cx="70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C_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7080" y="2961000"/>
            <a:ext cx="1145520" cy="3070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text: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C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92840" y="1889640"/>
            <a:ext cx="75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C_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0" idx="2"/>
            <a:endCxn id="56" idx="0"/>
          </p:cNvCxnSpPr>
          <p:nvPr/>
        </p:nvCxnSpPr>
        <p:spPr>
          <a:xfrm>
            <a:off x="6057720" y="5029200"/>
            <a:ext cx="72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45" idx="2"/>
            <a:endCxn id="46" idx="0"/>
          </p:cNvCxnSpPr>
          <p:nvPr/>
        </p:nvCxnSpPr>
        <p:spPr>
          <a:xfrm>
            <a:off x="5219640" y="2209680"/>
            <a:ext cx="3852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380880" y="4800600"/>
            <a:ext cx="228600" cy="22860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" name=""/>
          <p:cNvCxnSpPr>
            <a:stCxn id="43" idx="4"/>
            <a:endCxn id="65" idx="0"/>
          </p:cNvCxnSpPr>
          <p:nvPr/>
        </p:nvCxnSpPr>
        <p:spPr>
          <a:xfrm flipH="1">
            <a:off x="495000" y="3581280"/>
            <a:ext cx="38880" cy="121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>
            <a:off x="5337360" y="2746800"/>
            <a:ext cx="1145520" cy="3070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text: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C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5638680"/>
            <a:ext cx="380880" cy="304920"/>
          </a:xfrm>
          <a:prstGeom prst="hexagon">
            <a:avLst>
              <a:gd name="adj" fmla="val 31228"/>
              <a:gd name="vf" fmla="val 1154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5" idx="2"/>
            <a:endCxn id="68" idx="0"/>
          </p:cNvCxnSpPr>
          <p:nvPr/>
        </p:nvCxnSpPr>
        <p:spPr>
          <a:xfrm>
            <a:off x="495000" y="5029200"/>
            <a:ext cx="7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610560" y="449460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M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173280" y="457092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M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8400" y="5409000"/>
            <a:ext cx="103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ule:M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175800" y="5485320"/>
            <a:ext cx="103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ule:M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45" idx="1"/>
            <a:endCxn id="46" idx="1"/>
          </p:cNvCxnSpPr>
          <p:nvPr/>
        </p:nvCxnSpPr>
        <p:spPr>
          <a:xfrm flipH="1" flipV="1" rot="10800000">
            <a:off x="5105520" y="2095200"/>
            <a:ext cx="45000" cy="1150200"/>
          </a:xfrm>
          <a:prstGeom prst="curvedConnector3">
            <a:avLst>
              <a:gd name="adj1" fmla="val -4435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46" idx="2"/>
            <a:endCxn id="65" idx="3"/>
          </p:cNvCxnSpPr>
          <p:nvPr/>
        </p:nvCxnSpPr>
        <p:spPr>
          <a:xfrm flipH="1">
            <a:off x="609480" y="3353040"/>
            <a:ext cx="4496400" cy="156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6" idx="3"/>
            <a:endCxn id="50" idx="1"/>
          </p:cNvCxnSpPr>
          <p:nvPr/>
        </p:nvCxnSpPr>
        <p:spPr>
          <a:xfrm flipH="1" rot="16200000">
            <a:off x="4820040" y="3790800"/>
            <a:ext cx="1454400" cy="793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5718240" y="3199680"/>
            <a:ext cx="1445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this conne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ween modu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1 and M2 in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 binding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05520" y="4572000"/>
            <a:ext cx="38088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86200" y="3352680"/>
            <a:ext cx="38088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410080" y="3429000"/>
            <a:ext cx="38124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19000" y="3000600"/>
            <a:ext cx="1905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dd UC1 into Prope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ancontext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steners of module M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995920" y="4387680"/>
            <a:ext cx="2309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dd UC1 into Prope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ancontext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steners of module M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addPropertyChangeListen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648320" y="2743200"/>
            <a:ext cx="38088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24T17:35:24Z</dcterms:created>
  <dc:creator>Valued Gateway Customer</dc:creator>
  <dc:description/>
  <dc:language>en-US</dc:language>
  <cp:lastModifiedBy>Valued Gateway Customer</cp:lastModifiedBy>
  <dcterms:modified xsi:type="dcterms:W3CDTF">1999-05-24T22:45:41Z</dcterms:modified>
  <cp:revision>6</cp:revision>
  <dc:subject/>
  <dc:title>No Slide Title</dc:title>
</cp:coreProperties>
</file>