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01E-C615-4D7E-BAFB-008ACE46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892-48AD-4EB1-861B-240973B3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F2F-92FD-494B-B24C-7200E8F2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A48-7BF8-4751-BE23-08ECF87F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380-228B-4074-A55B-96CA0591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B7A-1DA0-4DE8-9BAA-6121EC1A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3FEC-09AA-4B68-9A99-AB1A7B1E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338-C30A-490D-810D-F59240D9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997-5CD3-42B4-B22E-3E3404CE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44E-A7E3-44CD-AF85-BA15E202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253-9F89-47BD-9E1E-F244FE3F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206-7387-4056-8DDD-A8F6CD1A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B95D-14E8-41F5-8941-6702FF8F6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934320" cy="5867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895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51:40Z</dcterms:modified>
  <cp:revision>3</cp:revision>
  <dc:subject/>
  <dc:title>No Slide Title</dc:title>
</cp:coreProperties>
</file>