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763EB-4465-49C7-BF99-3749655E7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1FB9-D925-4E00-A51D-FCC405351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C973B-3852-4113-9A7B-A61E15F28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30ABA-BC39-4DB2-AB56-DB124D379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CA5A1-4DA5-42EE-9702-EA16C439A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161EB-B82F-4B22-A31B-F95573840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AB78-FD33-4891-8DB5-597171A51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D8D29-D7D2-4796-B4E8-F8705606D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1079-E9E1-43ED-987F-9EAA5A9F2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3E6C9-7663-4DEA-B6C7-FCB95DA5F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AE273-22BD-4881-843E-E8CA11828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98D6-A912-4576-A65C-F56DC10B3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BB6D-F3B4-4977-A1A1-4133653DA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ECBA9E8-EC13-45E3-8FF4-2DF76FD588E0}"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oriented middle tier</a:t>
            </a:r>
            <a:endParaRPr b="0" lang="en-US" sz="28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bjects (</a:t>
            </a:r>
            <a:r>
              <a:rPr b="1" i="1" lang="en-US" sz="2400" spc="-1" strike="noStrike">
                <a:solidFill>
                  <a:srgbClr val="3333cc"/>
                </a:solidFill>
                <a:latin typeface="Times New Roman"/>
              </a:rPr>
              <a:t>Gateway Containers</a:t>
            </a:r>
            <a:r>
              <a:rPr b="0" lang="en-US" sz="2400" spc="-1" strike="noStrike">
                <a:solidFill>
                  <a:srgbClr val="000000"/>
                </a:solidFill>
                <a:latin typeface="Times New Roman"/>
              </a:rPr>
              <a:t>, </a:t>
            </a:r>
            <a:r>
              <a:rPr b="1" i="1" lang="en-US" sz="2400" spc="-1" strike="noStrike">
                <a:solidFill>
                  <a:srgbClr val="3333cc"/>
                </a:solidFill>
                <a:latin typeface="Times New Roman"/>
              </a:rPr>
              <a:t>Gateway Modules</a:t>
            </a:r>
            <a:r>
              <a:rPr b="0" lang="en-US" sz="2400" spc="-1" strike="noStrike">
                <a:solidFill>
                  <a:srgbClr val="000000"/>
                </a:solidFill>
                <a:latin typeface="Times New Roman"/>
              </a:rPr>
              <a:t> and </a:t>
            </a:r>
            <a:r>
              <a:rPr b="1" i="1" lang="en-US" sz="2400" spc="-1" strike="noStrike">
                <a:solidFill>
                  <a:srgbClr val="3333cc"/>
                </a:solidFill>
                <a:latin typeface="Times New Roman"/>
              </a:rPr>
              <a:t>Gateway Services</a:t>
            </a:r>
            <a:r>
              <a:rPr b="0" lang="en-US" sz="2400" spc="-1" strike="noStrike">
                <a:solidFill>
                  <a:srgbClr val="000000"/>
                </a:solidFill>
                <a:latin typeface="Times New Roman"/>
              </a:rPr>
              <a:t>) implemented in Java.</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define the user environment.</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000000"/>
                </a:solidFill>
                <a:latin typeface="Times New Roman"/>
              </a:rPr>
              <a:t>: they accept the user requests (Front End) and delegate them to the Back End.</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upport for distributed, heterogeneous back-end services managed independently from Gatewa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ules can be implemented in C++; also can be DCOM components</a:t>
            </a:r>
            <a:endParaRPr b="0"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80894DB-35B6-4C29-A529-EAE2311848EB}" type="slidenum">
              <a:t>1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2)</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operates in a keberized environment</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Support for a seamless acc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ets are generated on the client 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beros-based CORBA security service is used to manage the user s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us GSSAPI implemented over Keberos is used for resource allo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9180654-E540-44D5-87BD-109052412681}" type="slidenum">
              <a:t>1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3)</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pecification is expressed in XML</a:t>
            </a:r>
            <a:endParaRPr b="0" lang="en-US" sz="2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 independent</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uples implementation of the Front End and the Middle Ti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000000"/>
                </a:solidFill>
                <a:latin typeface="Times New Roman"/>
              </a:rPr>
              <a:t>) task specification, and thus the Middle Tier may act as a </a:t>
            </a:r>
            <a:r>
              <a:rPr b="0" lang="en-US" sz="2000" spc="-1" strike="noStrike" u="sng">
                <a:solidFill>
                  <a:srgbClr val="000000"/>
                </a:solidFill>
                <a:uFillTx/>
                <a:latin typeface="Times New Roman"/>
              </a:rPr>
              <a:t>resource broker</a:t>
            </a:r>
            <a:br>
              <a:rPr sz="2000"/>
            </a:b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Specification is expressed in XML</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match-making and resource discovery</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generating Globus RSL in-the-fly</a:t>
            </a:r>
            <a:endParaRPr b="0" lang="en-US" sz="2000" spc="-1" strike="noStrike">
              <a:solidFill>
                <a:srgbClr val="000000"/>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cc99"/>
                </a:solidFill>
                <a:latin typeface="Times New Roman"/>
              </a:rPr>
              <a:t>Support for distributed, heterogeneous Back-End services; Variable pool of resources; 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6ED093F-2184-4EA3-B77C-40A4F7744576}" type="slidenum">
              <a:t>1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4)</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based Front-End</a:t>
            </a:r>
            <a:r>
              <a:rPr b="0" lang="en-US" sz="32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cc99"/>
                </a:solidFill>
                <a:latin typeface="Times New Roman"/>
              </a:rPr>
              <a:t>extensi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Components (“toolbox interface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s (interfaces for common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ges or frames</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Web-based, extensible, customizable, self-adjus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ponents (Front End, Middle-Tier) are defined in XML and contain metadata (used for component min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BC0CFED-8F12-4F6C-A58F-581910BF6E9C}"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 End</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5FBD81C-EB75-4427-A523-DE5C905AC6F4}"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A specific knowledge database</a:t>
            </a:r>
            <a:endParaRPr b="0" lang="en-US" sz="4400" spc="-1" strike="noStrike">
              <a:solidFill>
                <a:srgbClr val="000000"/>
              </a:solidFill>
              <a:latin typeface="Times New Roman"/>
            </a:endParaRPr>
          </a:p>
        </p:txBody>
      </p:sp>
      <p:sp>
        <p:nvSpPr>
          <p:cNvPr id="14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of Ken’s tal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ver side support (both the middle tier and the back-end) through well defined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constructed from reusable or cloneable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identification of software components best suited to solve the problem at h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0AB276A-6E54-4F9A-A90E-258F31A3CC96}" type="slidenum">
              <a:t>1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0C46A16-65B3-49AC-8DD3-70DE874686B8}" type="slidenum">
              <a:t>1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newfrontend-a" descr=""/>
          <p:cNvPicPr/>
          <p:nvPr/>
        </p:nvPicPr>
        <p:blipFill>
          <a:blip r:embed="rId1"/>
          <a:stretch/>
        </p:blipFill>
        <p:spPr>
          <a:xfrm>
            <a:off x="1390680" y="1600200"/>
            <a:ext cx="6362640" cy="507204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42F496-7893-4540-8C0A-B6EEA80F74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5"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C9D2224-E61B-473B-BD14-85D19BC86D31}" type="slidenum">
              <a:t>1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509A580-2F0B-40F2-BF27-0B2F44E864C8}" type="slidenum">
              <a:t>1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2F45C15-6BA1-4149-BFAC-938977B4D533}"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Identification and Access</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software, 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appli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s, mass storage, distributed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data reposito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B360F2A-5178-4799-AF52-10CDEE26D7D0}" type="slidenum">
              <a:t>2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ations, Collaboration,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ker/Clarke’s talk on SciV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s talk on Collaborative Tool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streaming” applications as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eterogeneous hardware (capabilities/capacit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34F5407-E8BC-4B90-8EDD-6E8B3AA20F73}" type="slidenum">
              <a:t>2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infrastructur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4477855-CCC4-4762-8155-6E9965E3AF5A}" type="slidenum">
              <a:t>2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Support</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Pag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pple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or (extensible, customizabl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 specific toolbox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Problem Description toolboxes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code toolbox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request toolbox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ostprocessing tool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laboration, Visualizatio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65F0AFE-BE7C-4B95-88BF-C20FDE1722D6}" type="slidenum">
              <a:t>2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66F577B-7C39-42BC-B293-B3831648AFC6}" type="slidenum">
              <a:t>2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Contex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Gateway se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ssion is associated with a user (or group) pro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3482192-557C-44C4-A1FF-3A504F49C849}" type="slidenum">
              <a:t>2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EE2EA45-CE09-4430-8CC4-E93312FBA0D6}" type="slidenum">
              <a:t>26</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641EC62-1ED0-44CF-A8A0-23789849635D}" type="slidenum">
              <a:t>2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7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E95497C6-7DC8-44F1-95AF-B3BA1B5D8F70}" type="slidenum">
              <a:t>2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or</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allows the user to select and customize toolbox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in a separate frame, it consists of menus, buttons, links, etc, derived from an XML docu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is a hierarchical, extensible and customizabl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F76A3A0-F06E-4FE6-8D95-63348931672E}" type="slidenum">
              <a:t>2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1FB6E91-6BB9-4D19-9DBC-0E85B5544B33}"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9D0DA0A1-75F5-4B3C-9171-75C40EA7C7E3}" type="slidenum">
              <a:t>30</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scription toolbox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description is application specific, and the Gateway only provides a general framework for creating a P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part is the specification of what services (middle and back tier) are needed, what is their API, and how to add new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services: access to databases, XML parsing, generating HTML in-the-fly, file servic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F7BAF01-CD2F-491D-87F5-8D234B51FAE5}" type="slidenum">
              <a:t>3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 toolbox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78A1C20-C501-4CC4-AE77-A4CA0F210602}" type="slidenum">
              <a:t>3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Request Toolbox</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ont-end activities result in an abstract task specif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in the sense that the user may not know nor care what actual resources are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is composed of independently developed modules and services following different programming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1205857-0B38-4EBD-BBFF-4CEAFC02BEE5}" type="slidenum">
              <a:t>3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0CF74B6-DAC9-4436-93E0-90CA080CBAC9}" type="slidenum">
              <a:t>3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E0C80DF-FF1A-4DDD-9242-F9F88C0B0E74}" type="slidenum">
              <a:t>3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19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194"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199"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00"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01"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02"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9" idx="2"/>
            <a:endCxn id="205" idx="0"/>
          </p:cNvCxnSpPr>
          <p:nvPr/>
        </p:nvCxnSpPr>
        <p:spPr>
          <a:xfrm>
            <a:off x="6565680" y="4038480"/>
            <a:ext cx="1080" cy="153360"/>
          </a:xfrm>
          <a:prstGeom prst="straightConnector1">
            <a:avLst/>
          </a:prstGeom>
          <a:ln w="28440">
            <a:solidFill>
              <a:srgbClr val="ffff00"/>
            </a:solidFill>
            <a:miter/>
          </a:ln>
        </p:spPr>
      </p:cxnSp>
      <p:cxnSp>
        <p:nvCxnSpPr>
          <p:cNvPr id="210" name=""/>
          <p:cNvCxnSpPr>
            <a:stCxn id="205" idx="1"/>
            <a:endCxn id="207" idx="0"/>
          </p:cNvCxnSpPr>
          <p:nvPr/>
        </p:nvCxnSpPr>
        <p:spPr>
          <a:xfrm flipV="1" rot="10800000">
            <a:off x="6366600" y="4304160"/>
            <a:ext cx="99360" cy="343800"/>
          </a:xfrm>
          <a:prstGeom prst="bentConnector2">
            <a:avLst/>
          </a:prstGeom>
          <a:ln w="28440">
            <a:solidFill>
              <a:srgbClr val="ffff00"/>
            </a:solidFill>
            <a:miter/>
          </a:ln>
        </p:spPr>
      </p:cxnSp>
      <p:cxnSp>
        <p:nvCxnSpPr>
          <p:cNvPr id="211" name=""/>
          <p:cNvCxnSpPr>
            <a:stCxn id="205" idx="3"/>
            <a:endCxn id="206" idx="0"/>
          </p:cNvCxnSpPr>
          <p:nvPr/>
        </p:nvCxnSpPr>
        <p:spPr>
          <a:xfrm>
            <a:off x="6665760" y="4304880"/>
            <a:ext cx="100800" cy="343800"/>
          </a:xfrm>
          <a:prstGeom prst="bentConnector2">
            <a:avLst/>
          </a:prstGeom>
          <a:ln w="28440">
            <a:solidFill>
              <a:srgbClr val="ffff00"/>
            </a:solidFill>
            <a:miter/>
          </a:ln>
        </p:spPr>
      </p:cxnSp>
      <p:sp>
        <p:nvSpPr>
          <p:cNvPr id="209"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stCxn id="215" idx="2"/>
            <a:endCxn id="212" idx="0"/>
          </p:cNvCxnSpPr>
          <p:nvPr/>
        </p:nvCxnSpPr>
        <p:spPr>
          <a:xfrm>
            <a:off x="7611840" y="3809880"/>
            <a:ext cx="1080" cy="153360"/>
          </a:xfrm>
          <a:prstGeom prst="straightConnector1">
            <a:avLst/>
          </a:prstGeom>
          <a:ln w="28440">
            <a:solidFill>
              <a:srgbClr val="ffff00"/>
            </a:solidFill>
            <a:miter/>
          </a:ln>
        </p:spPr>
      </p:cxnSp>
      <p:sp>
        <p:nvSpPr>
          <p:cNvPr id="215"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6" name=""/>
          <p:cNvCxnSpPr>
            <a:stCxn id="217" idx="3"/>
            <a:endCxn id="213" idx="0"/>
          </p:cNvCxnSpPr>
          <p:nvPr/>
        </p:nvCxnSpPr>
        <p:spPr>
          <a:xfrm>
            <a:off x="7512120" y="4152600"/>
            <a:ext cx="249840" cy="114840"/>
          </a:xfrm>
          <a:prstGeom prst="bentConnector2">
            <a:avLst/>
          </a:prstGeom>
          <a:ln w="28440">
            <a:solidFill>
              <a:srgbClr val="ffff00"/>
            </a:solidFill>
            <a:miter/>
          </a:ln>
        </p:spPr>
      </p:cxnSp>
      <p:cxnSp>
        <p:nvCxnSpPr>
          <p:cNvPr id="218" name=""/>
          <p:cNvCxnSpPr>
            <a:stCxn id="213" idx="2"/>
            <a:endCxn id="219" idx="3"/>
          </p:cNvCxnSpPr>
          <p:nvPr/>
        </p:nvCxnSpPr>
        <p:spPr>
          <a:xfrm rot="5400000">
            <a:off x="7578720" y="4428360"/>
            <a:ext cx="115200" cy="249840"/>
          </a:xfrm>
          <a:prstGeom prst="bentConnector2">
            <a:avLst/>
          </a:prstGeom>
          <a:ln w="28440">
            <a:solidFill>
              <a:srgbClr val="ffff00"/>
            </a:solidFill>
            <a:miter/>
          </a:ln>
        </p:spPr>
      </p:cxnSp>
      <p:sp>
        <p:nvSpPr>
          <p:cNvPr id="217"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3" name=""/>
          <p:cNvCxnSpPr>
            <a:stCxn id="202" idx="3"/>
            <a:endCxn id="220"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24" name=""/>
          <p:cNvCxnSpPr>
            <a:stCxn id="202" idx="2"/>
            <a:endCxn id="203"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25" name=""/>
          <p:cNvCxnSpPr>
            <a:stCxn id="203" idx="3"/>
            <a:endCxn id="221"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26" name=""/>
          <p:cNvCxnSpPr>
            <a:stCxn id="203" idx="3"/>
            <a:endCxn id="220"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27" name=""/>
          <p:cNvCxnSpPr>
            <a:stCxn id="221" idx="3"/>
            <a:endCxn id="222"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28" name=""/>
          <p:cNvCxnSpPr>
            <a:stCxn id="222" idx="1"/>
            <a:endCxn id="220"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29" name=""/>
          <p:cNvGrpSpPr/>
          <p:nvPr/>
        </p:nvGrpSpPr>
        <p:grpSpPr>
          <a:xfrm>
            <a:off x="3627360" y="5867280"/>
            <a:ext cx="4481640" cy="419400"/>
            <a:chOff x="3627360" y="5867280"/>
            <a:chExt cx="4481640" cy="419400"/>
          </a:xfrm>
        </p:grpSpPr>
        <p:sp>
          <p:nvSpPr>
            <p:cNvPr id="230"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38"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3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3505320" y="1905120"/>
            <a:ext cx="3352680" cy="4185720"/>
            <a:chOff x="3505320" y="1905120"/>
            <a:chExt cx="3352680" cy="4185720"/>
          </a:xfrm>
        </p:grpSpPr>
        <p:grpSp>
          <p:nvGrpSpPr>
            <p:cNvPr id="243" name=""/>
            <p:cNvGrpSpPr/>
            <p:nvPr/>
          </p:nvGrpSpPr>
          <p:grpSpPr>
            <a:xfrm>
              <a:off x="3505320" y="1905120"/>
              <a:ext cx="3352680" cy="4185720"/>
              <a:chOff x="3505320" y="1905120"/>
              <a:chExt cx="3352680" cy="4185720"/>
            </a:xfrm>
          </p:grpSpPr>
          <p:sp>
            <p:nvSpPr>
              <p:cNvPr id="244"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181480" y="1905120"/>
                <a:ext cx="1371240" cy="1066680"/>
                <a:chOff x="5181480" y="1905120"/>
                <a:chExt cx="1371240" cy="1066680"/>
              </a:xfrm>
            </p:grpSpPr>
            <p:sp>
              <p:nvSpPr>
                <p:cNvPr id="272"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74"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75"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3464993-E84C-43E3-B4CC-37F9FC775740}" type="slidenum">
              <a:t>3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81"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98"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99"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00"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01"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04"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08"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15"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9455FD1-B9CE-400A-849E-D64EB81DB9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179880" y="3649680"/>
            <a:ext cx="1931400" cy="519120"/>
            <a:chOff x="3179880" y="3649680"/>
            <a:chExt cx="1931400" cy="519120"/>
          </a:xfrm>
        </p:grpSpPr>
        <p:sp>
          <p:nvSpPr>
            <p:cNvPr id="31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5985000" y="3649680"/>
            <a:ext cx="2680920" cy="446040"/>
            <a:chOff x="5985000" y="3649680"/>
            <a:chExt cx="2680920" cy="446040"/>
          </a:xfrm>
        </p:grpSpPr>
        <p:sp>
          <p:nvSpPr>
            <p:cNvPr id="32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2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30" name=""/>
          <p:cNvGrpSpPr/>
          <p:nvPr/>
        </p:nvGrpSpPr>
        <p:grpSpPr>
          <a:xfrm>
            <a:off x="2743200" y="5486400"/>
            <a:ext cx="6109920" cy="1039680"/>
            <a:chOff x="2743200" y="5486400"/>
            <a:chExt cx="6109920" cy="1039680"/>
          </a:xfrm>
        </p:grpSpPr>
        <p:sp>
          <p:nvSpPr>
            <p:cNvPr id="33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26" idx="4"/>
            <a:endCxn id="31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4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5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5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5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59"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illusion that all resources needed to complete the user tasks are available local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an authorized user can allocate the resources she needs without explicit login to the host controlling th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y: NSF mounted disk or a network prin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D6BE14A-8D49-4B58-9654-DB6F15904541}" type="slidenum">
              <a:t>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a:t>
            </a:r>
            <a:br>
              <a:rPr sz="4400"/>
            </a:b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21B8810-BF09-4E68-BE7C-9EDCF8391B90}" type="slidenum">
              <a:t>4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7609228-BFE2-4B83-8C80-66E3028B7008}" type="slidenum">
              <a:t>4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67"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1F31AC2B-B9D0-48DF-B244-A4967C985418}" type="slidenum">
              <a:t>42</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dd new Back-End hardware resource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eng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Globu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 (The Alliance LDAP server) will contain all relevant info, including contact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private” directory, with entries in XML</a:t>
            </a:r>
            <a:br>
              <a:rPr sz="2400"/>
            </a:br>
            <a:r>
              <a:rPr b="0" lang="en-US" sz="2400" spc="-1" strike="noStrike">
                <a:solidFill>
                  <a:srgbClr val="000000"/>
                </a:solidFill>
                <a:latin typeface="Times New Roman"/>
              </a:rPr>
              <a:t>(learn from MDS, CONDOR’s class-add, NPAC’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provided by Keberos (cross MSR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user: Gatewa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B1BB94C-8B01-4A47-B9FD-6F031C21A715}" type="slidenum">
              <a:t>4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ecurity</a:t>
            </a:r>
            <a:endParaRPr b="0" lang="en-US" sz="4400" spc="-1" strike="noStrike">
              <a:solidFill>
                <a:srgbClr val="000000"/>
              </a:solidFill>
              <a:latin typeface="Times New Roman"/>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A6A720D-4E9F-4BC4-B5DF-494B1D886B32}" type="slidenum">
              <a:t>4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75"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77"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386"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388"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389"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390"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39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39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39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39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39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Gateway Components</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D952073-224D-4F25-A84B-59F297FDF466}" type="slidenum">
              <a:t>4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3"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34"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80880" y="2514600"/>
            <a:ext cx="3504960" cy="2743200"/>
            <a:chOff x="380880" y="2514600"/>
            <a:chExt cx="3504960" cy="2743200"/>
          </a:xfrm>
        </p:grpSpPr>
        <p:pic>
          <p:nvPicPr>
            <p:cNvPr id="436" name="dataflow" descr=""/>
            <p:cNvPicPr/>
            <p:nvPr/>
          </p:nvPicPr>
          <p:blipFill>
            <a:blip r:embed="rId1"/>
            <a:stretch/>
          </p:blipFill>
          <p:spPr>
            <a:xfrm>
              <a:off x="838080" y="2514600"/>
              <a:ext cx="2466720" cy="2724120"/>
            </a:xfrm>
            <a:prstGeom prst="rect">
              <a:avLst/>
            </a:prstGeom>
            <a:ln w="0">
              <a:noFill/>
            </a:ln>
          </p:spPr>
        </p:pic>
        <p:sp>
          <p:nvSpPr>
            <p:cNvPr id="437"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teway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61197B-78C9-46CA-A9D7-40C10A02D7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develop a Gateway component</a:t>
            </a:r>
            <a:br>
              <a:rPr sz="3600"/>
            </a:br>
            <a:r>
              <a:rPr b="1" lang="en-US" sz="3600" spc="-1" strike="noStrike">
                <a:solidFill>
                  <a:srgbClr val="000000"/>
                </a:solidFill>
                <a:latin typeface="Times New Roman"/>
              </a:rPr>
              <a:t>(or a toolbox)</a:t>
            </a:r>
            <a:endParaRPr b="0" lang="en-US" sz="36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end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tier prox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ontr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75A97E3-A0D6-44F8-8C8D-834117B8712B}" type="slidenum">
              <a:t>48</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convert a legacy (high performance) application into a Gateway Back-End service?</a:t>
            </a:r>
            <a:br>
              <a:rPr sz="3600"/>
            </a:br>
            <a:endParaRPr b="0" lang="en-US" sz="3600" spc="-1" strike="noStrike">
              <a:solidFill>
                <a:srgbClr val="000000"/>
              </a:solidFill>
              <a:latin typeface="Times New Roman"/>
            </a:endParaRPr>
          </a:p>
        </p:txBody>
      </p:sp>
      <p:sp>
        <p:nvSpPr>
          <p:cNvPr id="44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only way we can support commercial codes such as Gaussi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ddle-tier proxy will submit your job for yo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6CE1352-0CB8-4E54-A9E9-3B838F708EF7}" type="slidenum">
              <a:t>4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733920" y="457200"/>
            <a:ext cx="5181480" cy="5790960"/>
            <a:chOff x="3733920" y="457200"/>
            <a:chExt cx="5181480" cy="5790960"/>
          </a:xfrm>
        </p:grpSpPr>
        <p:grpSp>
          <p:nvGrpSpPr>
            <p:cNvPr id="50" name=""/>
            <p:cNvGrpSpPr/>
            <p:nvPr/>
          </p:nvGrpSpPr>
          <p:grpSpPr>
            <a:xfrm>
              <a:off x="3733920" y="457200"/>
              <a:ext cx="5181480" cy="5790960"/>
              <a:chOff x="3733920" y="457200"/>
              <a:chExt cx="5181480" cy="5790960"/>
            </a:xfrm>
          </p:grpSpPr>
          <p:grpSp>
            <p:nvGrpSpPr>
              <p:cNvPr id="51" name=""/>
              <p:cNvGrpSpPr/>
              <p:nvPr/>
            </p:nvGrpSpPr>
            <p:grpSpPr>
              <a:xfrm>
                <a:off x="3733920" y="457200"/>
                <a:ext cx="5181480" cy="5790960"/>
                <a:chOff x="3733920" y="457200"/>
                <a:chExt cx="5181480" cy="5790960"/>
              </a:xfrm>
            </p:grpSpPr>
            <p:grpSp>
              <p:nvGrpSpPr>
                <p:cNvPr id="52" name=""/>
                <p:cNvGrpSpPr/>
                <p:nvPr/>
              </p:nvGrpSpPr>
              <p:grpSpPr>
                <a:xfrm>
                  <a:off x="3733920" y="457200"/>
                  <a:ext cx="5181480" cy="5790960"/>
                  <a:chOff x="3733920" y="457200"/>
                  <a:chExt cx="5181480" cy="5790960"/>
                </a:xfrm>
              </p:grpSpPr>
              <p:sp>
                <p:nvSpPr>
                  <p:cNvPr id="53"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4100040" y="3649680"/>
                    <a:ext cx="1622160" cy="519480"/>
                    <a:chOff x="4100040" y="3649680"/>
                    <a:chExt cx="1622160" cy="519480"/>
                  </a:xfrm>
                </p:grpSpPr>
                <p:sp>
                  <p:nvSpPr>
                    <p:cNvPr id="55"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6455160" y="3649680"/>
                    <a:ext cx="2250000" cy="445320"/>
                    <a:chOff x="6455160" y="3649680"/>
                    <a:chExt cx="2250000" cy="445320"/>
                  </a:xfrm>
                </p:grpSpPr>
                <p:sp>
                  <p:nvSpPr>
                    <p:cNvPr id="60"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6"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7" name=""/>
                  <p:cNvGrpSpPr/>
                  <p:nvPr/>
                </p:nvGrpSpPr>
                <p:grpSpPr>
                  <a:xfrm>
                    <a:off x="3733920" y="5208840"/>
                    <a:ext cx="5128560" cy="1039320"/>
                    <a:chOff x="3733920" y="5208840"/>
                    <a:chExt cx="5128560" cy="1039320"/>
                  </a:xfrm>
                </p:grpSpPr>
                <p:sp>
                  <p:nvSpPr>
                    <p:cNvPr id="68"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4"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3" idx="4"/>
                    <a:endCxn id="56"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2"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6"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9"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2"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9843FBD-88AF-4967-90BA-9DE0AF65762F}" type="slidenum">
              <a:t>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he Back-End interacts </a:t>
            </a:r>
            <a:br>
              <a:rPr sz="4400"/>
            </a:br>
            <a:r>
              <a:rPr b="1" lang="en-US" sz="4400" spc="-1" strike="noStrike">
                <a:solidFill>
                  <a:srgbClr val="000000"/>
                </a:solidFill>
                <a:latin typeface="Times New Roman"/>
              </a:rPr>
              <a:t>with the rest of the system?</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your job do not need to intera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M and GASS you stage data and executable, submit the job and retrieve 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F runtime will distribute your job and facilitate interprocess commun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3839E40-7C2D-4BCB-8AF5-5F0D7150B529}" type="slidenum">
              <a:t>5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Back-End Services</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to inter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parate module, you may move files between nodes while your jobs are executing</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y be a CORBA client (Java,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C879AAE-52A8-4EDE-8891-12A79F360EF7}" type="slidenum">
              <a:t>5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develop a Gateway module  (a proxy)</a:t>
            </a:r>
            <a:r>
              <a:rPr b="1" lang="en-US" sz="40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e as a standard Gateway modul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modu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RBA objec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DL (as an XML document)</a:t>
            </a:r>
            <a:endParaRPr b="0" lang="en-US" sz="24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IDL </a:t>
            </a:r>
            <a:r>
              <a:rPr b="0" lang="en-US" sz="1800" spc="-1" strike="noStrike">
                <a:solidFill>
                  <a:srgbClr val="000000"/>
                </a:solidFill>
                <a:latin typeface="Times New Roman"/>
              </a:rPr>
              <a:t>(in the tie mode)</a:t>
            </a:r>
            <a:endParaRPr b="0" lang="en-US" sz="1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functionality of the module</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vent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ront-End controls that invoke methods of the module</a:t>
            </a:r>
            <a:endParaRPr b="0" lang="en-US" sz="24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1C55155-4D77-4929-AE20-2A14B8FC5348}" type="slidenum">
              <a:t>5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2"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BC3365D-0A71-4187-8CCB-F9F26683B95D}" type="slidenum">
              <a:t>5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56"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57"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58"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60"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61"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62"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3"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64"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66"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76"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915995A-334C-45F2-BD13-D9FE06E39A7E}" type="slidenum">
              <a:t>5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control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in Ken’s tal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ntrol a Middle-Tie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n applet that serves as a CORBA client, and invokes methods of the mod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uild an application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n XML document - task specification and invoke server-side XML parser which will generate CORBA client c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4C3A429-DBAB-40D2-A280-144F7CCB507D}" type="slidenum">
              <a:t>5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480" name=""/>
          <p:cNvGrpSpPr/>
          <p:nvPr/>
        </p:nvGrpSpPr>
        <p:grpSpPr>
          <a:xfrm>
            <a:off x="1335240" y="1633680"/>
            <a:ext cx="1855800" cy="2288880"/>
            <a:chOff x="1335240" y="1633680"/>
            <a:chExt cx="1855800" cy="2288880"/>
          </a:xfrm>
        </p:grpSpPr>
        <p:grpSp>
          <p:nvGrpSpPr>
            <p:cNvPr id="481" name=""/>
            <p:cNvGrpSpPr/>
            <p:nvPr/>
          </p:nvGrpSpPr>
          <p:grpSpPr>
            <a:xfrm>
              <a:off x="1335240" y="1633680"/>
              <a:ext cx="1855800" cy="2288880"/>
              <a:chOff x="1335240" y="1633680"/>
              <a:chExt cx="1855800" cy="2288880"/>
            </a:xfrm>
          </p:grpSpPr>
          <p:sp>
            <p:nvSpPr>
              <p:cNvPr id="482"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4" name=""/>
            <p:cNvGrpSpPr/>
            <p:nvPr/>
          </p:nvGrpSpPr>
          <p:grpSpPr>
            <a:xfrm>
              <a:off x="1817640" y="2933640"/>
              <a:ext cx="1063800" cy="608400"/>
              <a:chOff x="1817640" y="2933640"/>
              <a:chExt cx="1063800" cy="608400"/>
            </a:xfrm>
          </p:grpSpPr>
          <p:sp>
            <p:nvSpPr>
              <p:cNvPr id="485"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817640" y="3242520"/>
                <a:ext cx="1041480" cy="299520"/>
                <a:chOff x="1817640" y="3242520"/>
                <a:chExt cx="1041480" cy="299520"/>
              </a:xfrm>
            </p:grpSpPr>
            <p:sp>
              <p:nvSpPr>
                <p:cNvPr id="487"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491"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92"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93"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B928ED7-8CFB-41AD-878C-AB5ADB33D324}" type="slidenum">
              <a:t>57</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499"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B11DBAD-B69F-4EF5-BB5D-468DD029FF99}" type="slidenum">
              <a:t>5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50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08" name=""/>
          <p:cNvCxnSpPr>
            <a:stCxn id="503" idx="2"/>
            <a:endCxn id="504" idx="0"/>
          </p:cNvCxnSpPr>
          <p:nvPr/>
        </p:nvCxnSpPr>
        <p:spPr>
          <a:xfrm flipV="1" rot="10800000">
            <a:off x="1978920" y="2709360"/>
            <a:ext cx="1080" cy="165960"/>
          </a:xfrm>
          <a:prstGeom prst="bentConnector2">
            <a:avLst/>
          </a:prstGeom>
          <a:ln w="38160">
            <a:solidFill>
              <a:srgbClr val="0000ff"/>
            </a:solidFill>
            <a:miter/>
          </a:ln>
        </p:spPr>
      </p:cxnSp>
      <p:cxnSp>
        <p:nvCxnSpPr>
          <p:cNvPr id="509" name=""/>
          <p:cNvCxnSpPr>
            <a:stCxn id="504" idx="2"/>
            <a:endCxn id="50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510" name=""/>
          <p:cNvCxnSpPr>
            <a:stCxn id="504" idx="2"/>
            <a:endCxn id="50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511" name=""/>
          <p:cNvCxnSpPr>
            <a:stCxn id="506" idx="2"/>
            <a:endCxn id="505" idx="0"/>
          </p:cNvCxnSpPr>
          <p:nvPr/>
        </p:nvCxnSpPr>
        <p:spPr>
          <a:xfrm flipV="1" rot="10800000">
            <a:off x="2553480" y="3563280"/>
            <a:ext cx="1080" cy="167040"/>
          </a:xfrm>
          <a:prstGeom prst="bentConnector2">
            <a:avLst/>
          </a:prstGeom>
          <a:ln w="38160">
            <a:solidFill>
              <a:srgbClr val="0000ff"/>
            </a:solidFill>
            <a:miter/>
          </a:ln>
        </p:spPr>
      </p:cxnSp>
      <p:sp>
        <p:nvSpPr>
          <p:cNvPr id="51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51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51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51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52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52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52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6" idx="6"/>
            <a:endCxn id="530" idx="2"/>
          </p:cNvCxnSpPr>
          <p:nvPr/>
        </p:nvCxnSpPr>
        <p:spPr>
          <a:xfrm>
            <a:off x="3365640" y="5900400"/>
            <a:ext cx="250920" cy="91080"/>
          </a:xfrm>
          <a:prstGeom prst="straightConnector1">
            <a:avLst/>
          </a:prstGeom>
          <a:ln w="28440">
            <a:solidFill>
              <a:srgbClr val="000000"/>
            </a:solidFill>
            <a:miter/>
          </a:ln>
        </p:spPr>
      </p:cxnSp>
      <p:cxnSp>
        <p:nvCxnSpPr>
          <p:cNvPr id="532" name=""/>
          <p:cNvCxnSpPr>
            <a:stCxn id="530" idx="7"/>
            <a:endCxn id="527" idx="2"/>
          </p:cNvCxnSpPr>
          <p:nvPr/>
        </p:nvCxnSpPr>
        <p:spPr>
          <a:xfrm flipV="1">
            <a:off x="3797280" y="5817960"/>
            <a:ext cx="164160" cy="95760"/>
          </a:xfrm>
          <a:prstGeom prst="straightConnector1">
            <a:avLst/>
          </a:prstGeom>
          <a:ln w="28440">
            <a:solidFill>
              <a:srgbClr val="000000"/>
            </a:solidFill>
            <a:miter/>
          </a:ln>
        </p:spPr>
      </p:cxnSp>
      <p:cxnSp>
        <p:nvCxnSpPr>
          <p:cNvPr id="533" name=""/>
          <p:cNvCxnSpPr>
            <a:stCxn id="530" idx="6"/>
            <a:endCxn id="528" idx="2"/>
          </p:cNvCxnSpPr>
          <p:nvPr/>
        </p:nvCxnSpPr>
        <p:spPr>
          <a:xfrm>
            <a:off x="3827160" y="5991120"/>
            <a:ext cx="446760" cy="29520"/>
          </a:xfrm>
          <a:prstGeom prst="straightConnector1">
            <a:avLst/>
          </a:prstGeom>
          <a:ln w="28440">
            <a:solidFill>
              <a:srgbClr val="000000"/>
            </a:solidFill>
            <a:miter/>
          </a:ln>
        </p:spPr>
      </p:cxnSp>
      <p:cxnSp>
        <p:nvCxnSpPr>
          <p:cNvPr id="534" name=""/>
          <p:cNvCxnSpPr>
            <a:stCxn id="528" idx="6"/>
            <a:endCxn id="529" idx="3"/>
          </p:cNvCxnSpPr>
          <p:nvPr/>
        </p:nvCxnSpPr>
        <p:spPr>
          <a:xfrm flipV="1">
            <a:off x="4484160" y="5952600"/>
            <a:ext cx="259560" cy="67680"/>
          </a:xfrm>
          <a:prstGeom prst="straightConnector1">
            <a:avLst/>
          </a:prstGeom>
          <a:ln w="28440">
            <a:solidFill>
              <a:srgbClr val="000000"/>
            </a:solidFill>
            <a:miter/>
          </a:ln>
        </p:spPr>
      </p:cxnSp>
      <p:sp>
        <p:nvSpPr>
          <p:cNvPr id="53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53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53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53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94"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95"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96"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97"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98"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a:t>
            </a:r>
            <a:endParaRPr b="0" lang="en-US" sz="4400" spc="-1" strike="noStrike">
              <a:solidFill>
                <a:srgbClr val="000000"/>
              </a:solidFill>
              <a:latin typeface="Times New Roman"/>
            </a:endParaRPr>
          </a:p>
        </p:txBody>
      </p:sp>
      <p:pic>
        <p:nvPicPr>
          <p:cNvPr id="100" name="ccm-kenf" descr=""/>
          <p:cNvPicPr/>
          <p:nvPr/>
        </p:nvPicPr>
        <p:blipFill>
          <a:blip r:embed="rId1"/>
          <a:stretch/>
        </p:blipFill>
        <p:spPr>
          <a:xfrm>
            <a:off x="571680" y="1676520"/>
            <a:ext cx="3886200" cy="4543200"/>
          </a:xfrm>
          <a:prstGeom prst="rect">
            <a:avLst/>
          </a:prstGeom>
          <a:ln w="0">
            <a:noFill/>
          </a:ln>
        </p:spPr>
      </p:pic>
      <p:sp>
        <p:nvSpPr>
          <p:cNvPr id="10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0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C8C73A-8EFE-4265-9B1D-BB436DC5E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05" name=""/>
          <p:cNvGrpSpPr/>
          <p:nvPr/>
        </p:nvGrpSpPr>
        <p:grpSpPr>
          <a:xfrm>
            <a:off x="2647800" y="3384720"/>
            <a:ext cx="3735360" cy="1528200"/>
            <a:chOff x="2647800" y="3384720"/>
            <a:chExt cx="3735360" cy="1528200"/>
          </a:xfrm>
        </p:grpSpPr>
        <p:sp>
          <p:nvSpPr>
            <p:cNvPr id="10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1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1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1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07" idx="2"/>
            <a:endCxn id="11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1" name=""/>
          <p:cNvCxnSpPr>
            <a:stCxn id="107" idx="2"/>
            <a:endCxn id="11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2" name=""/>
          <p:cNvCxnSpPr>
            <a:stCxn id="107" idx="2"/>
            <a:endCxn id="11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3" name=""/>
          <p:cNvCxnSpPr>
            <a:stCxn id="107" idx="2"/>
            <a:endCxn id="11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4" name=""/>
          <p:cNvCxnSpPr>
            <a:stCxn id="107" idx="2"/>
            <a:endCxn id="11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5" name=""/>
          <p:cNvCxnSpPr>
            <a:stCxn id="107" idx="2"/>
            <a:endCxn id="11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6" name=""/>
          <p:cNvCxnSpPr>
            <a:stCxn id="109" idx="2"/>
            <a:endCxn id="10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7" name=""/>
          <p:cNvCxnSpPr>
            <a:stCxn id="110" idx="2"/>
            <a:endCxn id="10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8"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9"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0" name=""/>
          <p:cNvCxnSpPr>
            <a:stCxn id="112" idx="2"/>
            <a:endCxn id="10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3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3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35" name=""/>
          <p:cNvCxnSpPr>
            <a:stCxn id="113" idx="2"/>
            <a:endCxn id="10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49D5A41-C59D-4978-9525-E5233BAA2789}" type="slidenum">
              <a:t>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5-26T19:59:16Z</dcterms:modified>
  <cp:revision>15</cp:revision>
  <dc:subject/>
  <dc:title>Gateway Architecture</dc:title>
</cp:coreProperties>
</file>