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21DE68-CB4E-42E9-B4BC-18109D872E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913681-A280-4806-929E-122EDF2FA7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FB74E9-7F42-47F4-A750-65BE8B140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63C6EC-6A73-4BB8-93EE-07B34CC776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2D306B-EC0A-445C-9254-B0B6FE3AF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C16B3-66B4-4FDE-9C35-B7970989A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36A4DB-F6FD-41D9-8E7B-4D4C3A528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1E079-F68B-43ED-9F93-C51A49DEF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57CD3-F29E-4748-A919-BD583D31A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D4EFF6-A486-48A6-B8B1-F1DA617A1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02033-B9D4-4C89-A100-4BAB2B73B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D2843C-2AF0-4C4F-930B-26E24FA2AC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B9FE0-00AF-4A42-8CFC-1AB4D4038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71014-5C96-4EA8-8589-09322667B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42A80-8A49-4EE6-997C-435B9D2DF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A15B6D-299F-4CDB-A909-D6CA4AF358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3EEE0C-F022-4800-81C2-DE359B8B1B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7BC778-507E-45C7-BCA0-80ACFD09F4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795E7D-AD8D-455F-A038-90C253405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AE65E8-5D5D-4015-8F75-2E8576222F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6AB301-3522-4143-8BCE-3C95D9B1E5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5AD9A-149C-4225-933C-E7B8B0BF2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F3B467-74A9-4261-AEE3-298983E7B4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796B3-0259-435F-A10C-8C45230A91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E12B-6374-428A-9167-69F8F37E65DE}"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E51A-0A15-4CED-9FC0-35263EF4E0A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0A902A96-95ED-499B-BDB6-5A793E8383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2255A17-8554-46FA-8C79-3B884DB1FD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36B1323-667E-4F3A-BC1E-38EFAC2E0D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9172518C-9E70-41B3-A330-B69BD5C21F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AB9A8038-DAE8-4D1C-90AF-028A53D38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F600F2B1-EF3D-4138-97CE-E0976F598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8A302188-DE92-4CFF-853A-5E9507E27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9E90DF31-AE65-407F-A28A-DDAC44BC3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8EE9A38E-5423-4D54-AC09-FB7A9B102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746BE497-2804-4E8A-B4E1-77CFDB475B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07E2517D-D171-48B2-A1ED-9F302E7D22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6F3D9DE2-7E09-4DAE-BCF0-19F103E6F4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AAC30554-6C47-45F6-8245-12A68A43C5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241B14F2-8B44-4A95-BA2C-157DB883F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7D247EDC-47C7-425E-8225-88D138214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7AA63D0F-8321-401C-92CE-2BDBE310CD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099565F-0E65-4CAC-994A-52942BD77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0804C585-B74E-4263-B914-A69C09044D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2CE89CC8-EAF6-4321-9912-0993D43B93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9B99D15E-351D-45AA-BA52-70777C36F3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DABBCD85-23F7-4E4D-A2D7-358E0EF146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32744A34-801B-4B12-894C-4D7F195A7B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A2E25375-49C1-4B30-9DC8-F97224DB40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A0B18D85-53FB-4121-8D03-D333503733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6512D9AE-28F6-4486-84D4-0E17CE2132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DCB818B5-C061-401D-8F19-73AFF6842C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8D0736B-4951-4471-9777-A147A9F84B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haupt</cp:lastModifiedBy>
  <dcterms:modified xsi:type="dcterms:W3CDTF">1998-11-18T18:44:19Z</dcterms:modified>
  <cp:revision>8</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