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3FF-ABC7-4B68-8288-8B999EC2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28D-81CF-4E91-B239-5EA978D5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F12-A90C-4E8D-B54F-85E0C5FF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EE2-0BD0-4F48-A542-31D6BD5F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E12-F830-4FC1-975C-11DFF9BE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E77-298C-411E-B0EA-B7981B81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053-23FB-4CF5-A5E5-A5BB2925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C83-9E1E-483D-B3CB-362DE43E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FFB-4A12-4CE4-A89F-C50403B0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C48-98B7-48FA-B2C0-CB303CDE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1E2-EAF1-44F7-8763-74B81C6C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43A-E6C5-42E9-93C4-87D03EF0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4C95-FBA1-41B5-9F5B-90508F2FD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6933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55:48Z</dcterms:modified>
  <cp:revision>4</cp:revision>
  <dc:subject/>
  <dc:title>No Slide Title</dc:title>
</cp:coreProperties>
</file>