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E1E-FB04-4941-8199-A814E778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311-1AD0-445D-ABEF-D74972D0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EAC-50A4-4DD9-B541-A10C9F7D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CB2-3B00-46CB-8042-8FAFF126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F97-91D5-41E5-8D3D-D8D7DB0F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D4A-2770-4BB2-A414-3B43465B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960-BF29-407F-AF2E-266E9456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20A-153A-42F1-8AED-DADBF451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C05-0822-4CFC-9B5D-E3118F00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F97-E5A2-45F4-9879-B6EA01B7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EDC-0DD1-441A-BA37-C5326D95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CED-18E1-4840-BCE9-0F29A5C3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C1F7-4034-4FD2-89CA-EAAD2045F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380880"/>
          <a:ext cx="7925040" cy="609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9250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45:34Z</dcterms:modified>
  <cp:revision>2</cp:revision>
  <dc:subject/>
  <dc:title>No Slide Title</dc:title>
</cp:coreProperties>
</file>