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47C54-DC3D-477E-BC6D-0087A64C1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42694-8B18-47CA-90F7-9219BE344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82D41-277C-49C3-B612-56171C932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D3111-1359-4CB6-BB7D-146A5CFB6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8AADF-B1DF-4976-B3D5-9B05980A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43533-A8B3-41D7-8963-B58E264AD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91723-BC90-4A15-BA80-95714CC73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938EA-82A3-4ACA-B0E8-642CE1C0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6968-9F65-43CB-BDB0-997201346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ED66-14F0-4546-8138-58AF3A5D4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660F6-7C8D-40F7-99C4-F37F09C3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C434-0585-494E-8FAA-C703C65BA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D0AA-277A-48F3-B075-C471D8FD3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5:08:21Z</dcterms:modified>
  <cp:revision>45</cp:revision>
  <dc:subject/>
  <dc:title>The Software architecture for High Performance Commodity Metacomputing</dc:title>
</cp:coreProperties>
</file>