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C22-7946-4C1C-8C99-2256F42C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AF2-719E-402C-B547-063CD90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3F4-1CA8-41B7-95B0-C2FA745A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FF0-D431-4AFF-86E9-9E27D742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A19-89FA-4E88-B94F-6DEBB7E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CE5-B3DC-438D-8238-E6870B9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B23-A913-4DC5-94E5-A81C15AC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295-887B-4AE3-99A5-FC40C81A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DDB-892E-4B35-A7B1-6E8F8B03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168-0694-4C83-937D-7FD6765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27C-BB1E-48E8-BEDA-809DD49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011-473E-44C9-A380-163C5B6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AAC-C64B-40EA-A5E9-D01B43ECB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541044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905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1295280"/>
            <a:ext cx="12189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0968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1720" y="4572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9120" y="8762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4" idx="1"/>
          </p:cNvCxnSpPr>
          <p:nvPr/>
        </p:nvCxnSpPr>
        <p:spPr>
          <a:xfrm>
            <a:off x="2190600" y="1099800"/>
            <a:ext cx="166680" cy="124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43" idx="0"/>
          </p:cNvCxnSpPr>
          <p:nvPr/>
        </p:nvCxnSpPr>
        <p:spPr>
          <a:xfrm flipH="1">
            <a:off x="4343400" y="520560"/>
            <a:ext cx="24156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2" idx="3"/>
          </p:cNvCxnSpPr>
          <p:nvPr/>
        </p:nvCxnSpPr>
        <p:spPr>
          <a:xfrm flipH="1">
            <a:off x="6705720" y="1518840"/>
            <a:ext cx="12542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741040" y="49528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ateWay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21:36:27Z</dcterms:created>
  <dc:creator>Valued Gateway Customer</dc:creator>
  <dc:description/>
  <dc:language>en-US</dc:language>
  <cp:lastModifiedBy>Valued Gateway Customer</cp:lastModifiedBy>
  <dcterms:modified xsi:type="dcterms:W3CDTF">1999-04-27T21:44:22Z</dcterms:modified>
  <cp:revision>1</cp:revision>
  <dc:subject/>
  <dc:title>No Slide Title</dc:title>
</cp:coreProperties>
</file>