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C82-80A2-4911-A34D-7A3CC35D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C18-E982-4E80-89D6-4AFE8911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6E6-ECCB-4180-A8FF-F77EDBE1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E39-B16C-4203-8AC7-300B4237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E78-7E0B-4003-AD25-D8A47F9D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F17-1FBA-4FA4-B0E0-4D640BFD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42E-0A56-4DA5-AF50-901A18D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9F5-457A-46EE-BD75-37AE65C5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5F8-CC90-45F7-817C-426C289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CEF-827F-4036-AB5F-E1CAAEC1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2BB-C066-4E18-BA46-55761AF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EB7-B32B-45D9-8C84-5C4B36E6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6DD5-BCC2-4195-ABC3-DC13E5B9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31Z</dcterms:modified>
  <cp:revision>18</cp:revision>
  <dc:subject/>
  <dc:title>No Slide Title</dc:title>
</cp:coreProperties>
</file>