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3B2-573D-48BC-BD82-ACC48E89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04D-4A27-4B67-945C-0C2FACE9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28F-0846-44E8-A95D-CEFE771E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1E4-7D04-491B-BDF8-1913F4BD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B5E-E025-4E53-9269-AE2E9ECF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0D2-8454-4DE2-BDB1-58C9235C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259-74B4-4E94-9E73-F862C393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9A3-90E7-4B0C-A1AE-21ADE5DC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746-1C7D-4340-BB3B-59C1B8A2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A2B-E4E8-4BA0-922F-BB3792D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AD0-0052-488A-9BC7-97FA8952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53B-0416-4389-B214-798FD745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D973-222A-415B-8604-17C958C25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685800"/>
            <a:ext cx="8381520" cy="5713560"/>
            <a:chOff x="457200" y="685800"/>
            <a:chExt cx="8381520" cy="5713560"/>
          </a:xfrm>
        </p:grpSpPr>
        <p:grpSp>
          <p:nvGrpSpPr>
            <p:cNvPr id="42" name=""/>
            <p:cNvGrpSpPr/>
            <p:nvPr/>
          </p:nvGrpSpPr>
          <p:grpSpPr>
            <a:xfrm>
              <a:off x="457200" y="685800"/>
              <a:ext cx="8381520" cy="5713560"/>
              <a:chOff x="457200" y="685800"/>
              <a:chExt cx="8381520" cy="57135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457200" y="685800"/>
                <a:ext cx="8381520" cy="5713560"/>
                <a:chOff x="457200" y="685800"/>
                <a:chExt cx="8381520" cy="571356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457200" y="685800"/>
                  <a:ext cx="8381520" cy="5713560"/>
                  <a:chOff x="457200" y="685800"/>
                  <a:chExt cx="8381520" cy="571356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3668760" y="685800"/>
                    <a:ext cx="5169960" cy="571356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821760" y="1153800"/>
                    <a:ext cx="2202120" cy="3746520"/>
                  </a:xfrm>
                  <a:prstGeom prst="rect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6330600" y="1153800"/>
                    <a:ext cx="2201040" cy="3746520"/>
                  </a:xfrm>
                  <a:prstGeom prst="rect">
                    <a:avLst/>
                  </a:pr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924360" y="1342080"/>
                    <a:ext cx="1996920" cy="748440"/>
                  </a:xfrm>
                  <a:prstGeom prst="rect">
                    <a:avLst/>
                  </a:prstGeom>
                  <a:solidFill>
                    <a:srgbClr val="00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User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433200" y="1342080"/>
                    <a:ext cx="1995480" cy="74844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User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3924360" y="2090520"/>
                    <a:ext cx="2046960" cy="14986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924360" y="3683520"/>
                    <a:ext cx="2046960" cy="1122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7456680" y="2090520"/>
                    <a:ext cx="972000" cy="2715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6380640" y="2090520"/>
                    <a:ext cx="1025640" cy="2715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3976200" y="2159640"/>
                    <a:ext cx="1945080" cy="5472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lication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976200" y="3678480"/>
                    <a:ext cx="1945080" cy="59688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lication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7477560" y="2278440"/>
                    <a:ext cx="933480" cy="59688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6433200" y="2278440"/>
                    <a:ext cx="870120" cy="62172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8800" y="2839320"/>
                    <a:ext cx="20304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487760" y="3121200"/>
                    <a:ext cx="20448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4845240" y="4338360"/>
                    <a:ext cx="20556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6790680" y="358956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6996240" y="4151880"/>
                    <a:ext cx="20448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6586200" y="4151880"/>
                    <a:ext cx="20412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64" name=""/>
                  <p:cNvCxnSpPr/>
                  <p:nvPr/>
                </p:nvCxnSpPr>
                <p:spPr>
                  <a:xfrm>
                    <a:off x="6893280" y="3401280"/>
                    <a:ext cx="1080" cy="188640"/>
                  </a:xfrm>
                  <a:prstGeom prst="straightConnector1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65" name=""/>
                  <p:cNvCxnSpPr/>
                  <p:nvPr/>
                </p:nvCxnSpPr>
                <p:spPr>
                  <a:xfrm flipV="1" rot="10800000">
                    <a:off x="6689520" y="3729240"/>
                    <a:ext cx="100800" cy="42264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66" name=""/>
                  <p:cNvCxnSpPr/>
                  <p:nvPr/>
                </p:nvCxnSpPr>
                <p:spPr>
                  <a:xfrm>
                    <a:off x="6995880" y="3729600"/>
                    <a:ext cx="103320" cy="42264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sp>
                <p:nvSpPr>
                  <p:cNvPr id="67" name=""/>
                  <p:cNvSpPr/>
                  <p:nvPr/>
                </p:nvSpPr>
                <p:spPr>
                  <a:xfrm>
                    <a:off x="6790680" y="3121200"/>
                    <a:ext cx="20556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09680" y="3307680"/>
                    <a:ext cx="716400" cy="1124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20080" y="368352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70" name=""/>
                  <p:cNvCxnSpPr/>
                  <p:nvPr/>
                </p:nvCxnSpPr>
                <p:spPr>
                  <a:xfrm>
                    <a:off x="7969320" y="3120840"/>
                    <a:ext cx="1080" cy="186840"/>
                  </a:xfrm>
                  <a:prstGeom prst="straightConnector1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71" name=""/>
                  <p:cNvCxnSpPr/>
                  <p:nvPr/>
                </p:nvCxnSpPr>
                <p:spPr>
                  <a:xfrm>
                    <a:off x="7866720" y="3543480"/>
                    <a:ext cx="255960" cy="14040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72" name=""/>
                  <p:cNvCxnSpPr/>
                  <p:nvPr/>
                </p:nvCxnSpPr>
                <p:spPr>
                  <a:xfrm rot="5400000">
                    <a:off x="7924320" y="3905640"/>
                    <a:ext cx="140400" cy="25596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sp>
                <p:nvSpPr>
                  <p:cNvPr id="73" name=""/>
                  <p:cNvSpPr/>
                  <p:nvPr/>
                </p:nvSpPr>
                <p:spPr>
                  <a:xfrm>
                    <a:off x="7662240" y="3401280"/>
                    <a:ext cx="20412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62240" y="3963960"/>
                    <a:ext cx="20412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5255280" y="321516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76" name=""/>
                  <p:cNvCxnSpPr/>
                  <p:nvPr/>
                </p:nvCxnSpPr>
                <p:spPr>
                  <a:xfrm flipV="1">
                    <a:off x="4282200" y="2886840"/>
                    <a:ext cx="615960" cy="9432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7" name=""/>
                  <p:cNvCxnSpPr/>
                  <p:nvPr/>
                </p:nvCxnSpPr>
                <p:spPr>
                  <a:xfrm flipH="1" rot="16200000">
                    <a:off x="4264920" y="3037320"/>
                    <a:ext cx="140400" cy="3067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8" name=""/>
                  <p:cNvCxnSpPr/>
                  <p:nvPr/>
                </p:nvCxnSpPr>
                <p:spPr>
                  <a:xfrm>
                    <a:off x="4692240" y="3261600"/>
                    <a:ext cx="563760" cy="94320"/>
                  </a:xfrm>
                  <a:prstGeom prst="bentConnector3">
                    <a:avLst>
                      <a:gd name="adj1" fmla="val 49968"/>
                    </a:avLst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9" name=""/>
                  <p:cNvCxnSpPr/>
                  <p:nvPr/>
                </p:nvCxnSpPr>
                <p:spPr>
                  <a:xfrm flipV="1">
                    <a:off x="4692240" y="3026160"/>
                    <a:ext cx="308880" cy="23508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80" name=""/>
                  <p:cNvCxnSpPr/>
                  <p:nvPr/>
                </p:nvCxnSpPr>
                <p:spPr>
                  <a:xfrm flipV="1">
                    <a:off x="5461200" y="2932920"/>
                    <a:ext cx="203760" cy="4226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3873240" y="5650920"/>
                    <a:ext cx="4606560" cy="514440"/>
                    <a:chOff x="3873240" y="5650920"/>
                    <a:chExt cx="4606560" cy="51444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387324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565160" y="5650920"/>
                      <a:ext cx="4597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525528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594720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3732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732960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801972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" name=""/>
                  <p:cNvSpPr/>
                  <p:nvPr/>
                </p:nvSpPr>
                <p:spPr>
                  <a:xfrm>
                    <a:off x="457200" y="685800"/>
                    <a:ext cx="3055320" cy="571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er is give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y a hierarchy of contain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d component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er hosts 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sers and servic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ach user maintains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number of applications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posed of 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ustom modules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d 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mon servic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4138920" y="5034240"/>
                    <a:ext cx="4151880" cy="52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ic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7866720" y="2839320"/>
                  <a:ext cx="205560" cy="2818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63800" y="2652840"/>
                  <a:ext cx="203040" cy="280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4897800" y="2747160"/>
                <a:ext cx="203040" cy="280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" name=""/>
            <p:cNvCxnSpPr/>
            <p:nvPr/>
          </p:nvCxnSpPr>
          <p:spPr>
            <a:xfrm flipV="1" rot="10800000">
              <a:off x="5100480" y="2792160"/>
              <a:ext cx="463320" cy="94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22:51Z</dcterms:created>
  <dc:creator>Valued Gateway Customer</dc:creator>
  <dc:description/>
  <dc:language>en-US</dc:language>
  <cp:lastModifiedBy>Valued Gateway Customer</cp:lastModifiedBy>
  <dcterms:modified xsi:type="dcterms:W3CDTF">1999-07-10T20:28:00Z</dcterms:modified>
  <cp:revision>2</cp:revision>
  <dc:subject/>
  <dc:title>No Slide Title</dc:title>
</cp:coreProperties>
</file>