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C5D-5755-4CC5-B48F-AC4688D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3D-F96F-4B2A-942E-802FE857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E6D-7741-4710-9825-F40B68F1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27E-9E54-4437-AF10-EB7B1A35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15C-3765-46E2-A84A-E331A506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0B1-AAF9-4E13-AE61-2446A82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5C9-1229-4390-B678-30DC4EA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CC-09A3-45AB-89E3-B71B536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9DF-CEEE-4D85-9798-CF0E678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065-E155-4183-BC23-2A365BF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251-DFC4-4973-AA32-27904FB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5B1-6BD5-402C-8626-2B57643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BF60-8F57-4369-A769-E55994E0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0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40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 flipH="1">
            <a:off x="196920" y="2209680"/>
            <a:ext cx="22248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978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6292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5" idx="0"/>
          </p:cNvCxnSpPr>
          <p:nvPr/>
        </p:nvCxnSpPr>
        <p:spPr>
          <a:xfrm>
            <a:off x="6216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2800" y="546120"/>
            <a:ext cx="15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Module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6720" y="20563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984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40" y="3204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0" idx="2"/>
            <a:endCxn id="55" idx="0"/>
          </p:cNvCxnSpPr>
          <p:nvPr/>
        </p:nvCxnSpPr>
        <p:spPr>
          <a:xfrm>
            <a:off x="7092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0"/>
          </p:cNvCxnSpPr>
          <p:nvPr/>
        </p:nvCxnSpPr>
        <p:spPr>
          <a:xfrm>
            <a:off x="6254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3" idx="4"/>
            <a:endCxn id="64" idx="0"/>
          </p:cNvCxnSpPr>
          <p:nvPr/>
        </p:nvCxnSpPr>
        <p:spPr>
          <a:xfrm>
            <a:off x="304920" y="3581280"/>
            <a:ext cx="190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296400" y="267048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2"/>
            <a:endCxn id="67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196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1116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45" idx="1"/>
            <a:endCxn id="46" idx="1"/>
          </p:cNvCxnSpPr>
          <p:nvPr/>
        </p:nvCxnSpPr>
        <p:spPr>
          <a:xfrm flipH="1" flipV="1" rot="10800000">
            <a:off x="6140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673680" y="312408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0680" y="25146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4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563868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6" idx="2"/>
            <a:endCxn id="77" idx="0"/>
          </p:cNvCxnSpPr>
          <p:nvPr/>
        </p:nvCxnSpPr>
        <p:spPr>
          <a:xfrm>
            <a:off x="5492520" y="495288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0808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0960" y="5561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46" idx="3"/>
            <a:endCxn id="76" idx="0"/>
          </p:cNvCxnSpPr>
          <p:nvPr/>
        </p:nvCxnSpPr>
        <p:spPr>
          <a:xfrm flipH="1">
            <a:off x="5492520" y="3460680"/>
            <a:ext cx="693000" cy="12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570060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905120" y="4952880"/>
            <a:ext cx="38160" cy="74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20320" y="4556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200" y="562356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43" idx="5"/>
            <a:endCxn id="82" idx="0"/>
          </p:cNvCxnSpPr>
          <p:nvPr/>
        </p:nvCxnSpPr>
        <p:spPr>
          <a:xfrm>
            <a:off x="412560" y="3536640"/>
            <a:ext cx="1530720" cy="11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1"/>
            <a:endCxn id="43" idx="5"/>
          </p:cNvCxnSpPr>
          <p:nvPr/>
        </p:nvCxnSpPr>
        <p:spPr>
          <a:xfrm rot="10800000">
            <a:off x="412560" y="3536640"/>
            <a:ext cx="1416600" cy="1302120"/>
          </a:xfrm>
          <a:prstGeom prst="curvedConnector3">
            <a:avLst>
              <a:gd name="adj1" fmla="val 226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89" name=""/>
          <p:cNvCxnSpPr>
            <a:endCxn id="76" idx="1"/>
          </p:cNvCxnSpPr>
          <p:nvPr/>
        </p:nvCxnSpPr>
        <p:spPr>
          <a:xfrm>
            <a:off x="609120" y="3580920"/>
            <a:ext cx="4769640" cy="12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" name=""/>
          <p:cNvCxnSpPr>
            <a:stCxn id="76" idx="1"/>
            <a:endCxn id="46" idx="2"/>
          </p:cNvCxnSpPr>
          <p:nvPr/>
        </p:nvCxnSpPr>
        <p:spPr>
          <a:xfrm flipH="1" rot="10800000">
            <a:off x="5378040" y="3353040"/>
            <a:ext cx="762480" cy="1485720"/>
          </a:xfrm>
          <a:prstGeom prst="curvedConnector3">
            <a:avLst>
              <a:gd name="adj1" fmla="val -101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1" name=""/>
          <p:cNvCxnSpPr>
            <a:stCxn id="46" idx="6"/>
            <a:endCxn id="50" idx="3"/>
          </p:cNvCxnSpPr>
          <p:nvPr/>
        </p:nvCxnSpPr>
        <p:spPr>
          <a:xfrm>
            <a:off x="6445080" y="3353040"/>
            <a:ext cx="762480" cy="1562040"/>
          </a:xfrm>
          <a:prstGeom prst="curvedConnector3">
            <a:avLst>
              <a:gd name="adj1" fmla="val 109966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126560" y="2909520"/>
            <a:ext cx="202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local binding 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2 to M3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 proxy 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120" y="3046680"/>
            <a:ext cx="233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 property“beanContex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Chan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>
            <a:off x="380160" y="2209320"/>
            <a:ext cx="5722200" cy="11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42" idx="6"/>
            <a:endCxn id="45" idx="1"/>
          </p:cNvCxnSpPr>
          <p:nvPr/>
        </p:nvCxnSpPr>
        <p:spPr>
          <a:xfrm>
            <a:off x="990720" y="1371600"/>
            <a:ext cx="5150160" cy="72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4" idx="2"/>
            <a:endCxn id="43" idx="7"/>
          </p:cNvCxnSpPr>
          <p:nvPr/>
        </p:nvCxnSpPr>
        <p:spPr>
          <a:xfrm rot="5400000">
            <a:off x="-140040" y="2762280"/>
            <a:ext cx="1112040" cy="6840"/>
          </a:xfrm>
          <a:prstGeom prst="curvedConnector3">
            <a:avLst>
              <a:gd name="adj1" fmla="val 21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20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898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576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4280" y="6171120"/>
            <a:ext cx="20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1 to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1"/>
            <a:endCxn id="100" idx="4"/>
          </p:cNvCxnSpPr>
          <p:nvPr/>
        </p:nvCxnSpPr>
        <p:spPr>
          <a:xfrm rot="10800000">
            <a:off x="190440" y="3962160"/>
            <a:ext cx="34200" cy="2468880"/>
          </a:xfrm>
          <a:prstGeom prst="bentConnector4">
            <a:avLst>
              <a:gd name="adj1" fmla="val 671276"/>
              <a:gd name="adj2" fmla="val 551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895040" y="-144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teps occurred during remo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M2.Suppose there wer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-M3 and M1-M2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3:45:08Z</dcterms:modified>
  <cp:revision>8</cp:revision>
  <dc:subject/>
  <dc:title>No Slide Title</dc:title>
</cp:coreProperties>
</file>