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1DD-E1AC-4D6D-A986-5D3DA16C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1FF-D000-43C8-BE4D-222351FD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A5C-4186-4168-B8A4-E48DB64F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92E-27FB-4BCD-98D0-DAAE0444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CD9-6066-461B-AF6A-62B67E1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E61-A1F6-49D2-ACC6-778DEED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B62-B15C-4480-B0B4-F462C8DF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09B-C5A3-40F0-AAAF-BC8A30A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EA3-A225-4E87-9628-780CDA6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002-D413-4AB8-A8DF-4F88191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B7C-FC9E-4BAA-B01A-2B08F44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2B7-5A81-4EA3-8362-45DF955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4ED4-647C-4B9F-B6B7-733142AAB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dcterms:modified xsi:type="dcterms:W3CDTF">1999-09-26T23:27:55Z</dcterms:modified>
  <cp:revision>1</cp:revision>
  <dc:subject/>
  <dc:title>No Slide Title</dc:title>
</cp:coreProperties>
</file>