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E0F-1FE3-4672-BFE2-8D05E828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16D-BF71-4CEF-9F4D-E2297452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CA1-C546-4785-8ADC-FA0D5829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F80-9174-46D9-8C0A-3DB73980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4BF-1877-481B-936C-0CDB42B6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C97-D7BE-4437-9387-660BCD3E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C4E-8EC9-4AEC-BB83-03FF4406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42A-A6B6-49F2-A719-18FA7BFD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1DA-0152-4BD1-B5A1-301DC343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39D-DC09-47EF-8DA4-F5F2EA6E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0FE-A9B6-43E6-A51D-DAE4473F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D4A-8E48-4736-BBD4-2AA14107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9E11-0CF4-4FD1-847E-2BFDFAF72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um Simul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ebFlow - a High Level Visual Interface for Glo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Akarsu, G. Fox, W. Furmanski, T.Haupt, L. M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bflow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666800" cy="809640"/>
          </a:xfrm>
          <a:prstGeom prst="rect">
            <a:avLst/>
          </a:prstGeom>
          <a:ln w="0">
            <a:noFill/>
          </a:ln>
        </p:spPr>
      </p:pic>
      <p:pic>
        <p:nvPicPr>
          <p:cNvPr id="44" name="globus-logo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45" name="npac_logo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1781280" cy="552600"/>
          </a:xfrm>
          <a:prstGeom prst="rect">
            <a:avLst/>
          </a:prstGeom>
          <a:ln w="0">
            <a:noFill/>
          </a:ln>
        </p:spPr>
      </p:pic>
      <p:pic>
        <p:nvPicPr>
          <p:cNvPr id="46" name="ncsalogo" descr=""/>
          <p:cNvPicPr/>
          <p:nvPr/>
        </p:nvPicPr>
        <p:blipFill>
          <a:blip r:embed="rId4"/>
          <a:stretch/>
        </p:blipFill>
        <p:spPr>
          <a:xfrm>
            <a:off x="6781680" y="1523880"/>
            <a:ext cx="7430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g2a" descr=""/>
          <p:cNvPicPr/>
          <p:nvPr/>
        </p:nvPicPr>
        <p:blipFill>
          <a:blip r:embed="rId1"/>
          <a:stretch/>
        </p:blipFill>
        <p:spPr>
          <a:xfrm>
            <a:off x="1219320" y="692280"/>
            <a:ext cx="6858000" cy="53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795-A6F6-450C-A308-25B494940A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itas1" descr=""/>
          <p:cNvPicPr/>
          <p:nvPr/>
        </p:nvPicPr>
        <p:blipFill>
          <a:blip r:embed="rId1"/>
          <a:stretch/>
        </p:blipFill>
        <p:spPr>
          <a:xfrm>
            <a:off x="1338120" y="1090440"/>
            <a:ext cx="6467760" cy="467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A1A-2B87-4551-ABE4-77FDA6D137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Simul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hain of high performance applications is run repeatedly for different data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application can be run on several different platforms, depending on the problem size and the load of th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and output files must be moved between the machines,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 files are visually inspected by the researcher; if necessary applications are rerun with modified inpu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ically, output files must be converted to a different format before using them as input to the next application in the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1A5-5907-49E6-85B8-31FABB90A6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ution using the Web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front-end for visual authoring: drag-and-drop composition of meta-applications from compute-web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middle-tier implementing distributed object technologies in Java (platform independent, including NT-workstations). The implementation is based on industry standards: currently servlet extended httpd servers, and evolving towards CORB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back-end based on commodity software components, in particular low level matacomputing toolkit Globus for HP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0C6-65B4-4908-A5AC-9EC8597331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articular,  for Quantum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editor to visually compose the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integrated with the WebFlow metacomputing directory services (MDS) of Globus to identify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proxies to Globus resource allocation manager (GRAM) to allocate the resources, including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high performance data transfer mechanisms of Globus (GASS, 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commodity DBMS or LDAP services to identify and retrieve data set a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DCB-337D-4C07-87B2-76235746D5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ntum Simulations using the Web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itas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953120" cy="46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F2E-6BCF-4110-B2F8-E2AD7E72B3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d" descr=""/>
          <p:cNvPicPr/>
          <p:nvPr/>
        </p:nvPicPr>
        <p:blipFill>
          <a:blip r:embed="rId1"/>
          <a:stretch/>
        </p:blipFill>
        <p:spPr>
          <a:xfrm>
            <a:off x="1290600" y="-33480"/>
            <a:ext cx="6562800" cy="692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837-15DC-4946-8898-FF02BD084B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5:10:20Z</dcterms:created>
  <dc:creator>tomek</dc:creator>
  <dc:description/>
  <dc:language>en-US</dc:language>
  <cp:lastModifiedBy>Tomasz Haupt</cp:lastModifiedBy>
  <dcterms:modified xsi:type="dcterms:W3CDTF">1998-05-05T16:19:22Z</dcterms:modified>
  <cp:revision>1</cp:revision>
  <dc:subject/>
  <dc:title>Quantum Simulations using WebFlow - a High Level Visual Interface for Globus</dc:title>
</cp:coreProperties>
</file>