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693D-EFB0-4DDC-B82A-468069C85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5C93-5527-4A27-8BAB-4BB5E216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D5B7-9E51-4374-916E-5E95A525B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A948-CD2C-498F-9210-221899E6E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D23D-E08C-4564-9A0F-781269D3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7335-4E35-462D-A736-D9AB72C3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D187-5FDF-4A12-9466-A067D637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1121-A3A7-49EA-80C4-61A59A23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AB4C-00BD-4059-8895-6DBC677D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7A0B-CE3B-439C-ADF6-53016BA9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41FB-9186-45D3-AECF-901ED1A6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3850-D29E-4CED-B1CC-AB72A658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8581-AE37-4DA2-87CC-DCFB1EABB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380880"/>
          <a:ext cx="7925040" cy="609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80880"/>
                    <a:ext cx="7925040" cy="609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0T20:41:49Z</dcterms:created>
  <dc:creator>Valued Gateway Customer</dc:creator>
  <dc:description/>
  <dc:language>en-US</dc:language>
  <cp:lastModifiedBy>Valued Gateway Customer</cp:lastModifiedBy>
  <dcterms:modified xsi:type="dcterms:W3CDTF">1999-07-10T20:45:34Z</dcterms:modified>
  <cp:revision>2</cp:revision>
  <dc:subject/>
  <dc:title>No Slide Title</dc:title>
</cp:coreProperties>
</file>