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2D04F-9A50-4572-8D2B-0CB4D74F2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7E06-6C91-4D31-BFBF-BF7E0E29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DA01D-53D9-4A31-8964-8E36B6EC8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3FCB1-0283-4FB6-9B9C-60001186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4685-6720-48E6-8FD5-346F943A2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BC08-9982-4DF2-9D15-CACD6021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5E7B-B4EB-4690-985E-389714C09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F539C-C9E1-4BB0-B2E2-876E1581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1B55-9E11-45EE-9527-49F4A714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D39C-D7DB-431E-B9BA-F39440AD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1243-363A-447B-AB52-A55F46A9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6EDE-920E-42FB-AFEC-E02EB8E2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0276-6564-4653-B8ED-8CE5CF194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4:45:02Z</dcterms:modified>
  <cp:revision>45</cp:revision>
  <dc:subject/>
  <dc:title>The Software architecture for High Performance Commodity Metacomputing</dc:title>
</cp:coreProperties>
</file>