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FD1-593F-4A05-A389-28DFA568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1C5-8F6B-47DA-B22C-7E00352D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10B-C5B0-488C-87DE-EF5B2168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F74-140D-4D80-B753-9DCAAECC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2FA-8044-442B-91E5-B3611E6D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93F-E3D8-427C-A22F-B4FF0D13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C71-75B1-4D23-8025-2D56941C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700-8796-470F-B0D4-60FF1197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FA9-D333-4438-AD10-BD02AA4B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CE9-1BF3-4DA3-A1BA-4A6598C1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C7C-C429-41A6-988C-0049CDF2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E6C-8501-40E6-910E-327AA744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8503-7BC2-48DC-94A0-4B6032523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>
            <a:off x="419040" y="2209680"/>
            <a:ext cx="684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943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5257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415980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5" idx="0"/>
          </p:cNvCxnSpPr>
          <p:nvPr/>
        </p:nvCxnSpPr>
        <p:spPr>
          <a:xfrm>
            <a:off x="5181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14480" y="226440"/>
            <a:ext cx="1413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achEvent 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parame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,PM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Name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Meth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1720" y="22849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48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080" y="2961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2"/>
            <a:endCxn id="56" idx="0"/>
          </p:cNvCxnSpPr>
          <p:nvPr/>
        </p:nvCxnSpPr>
        <p:spPr>
          <a:xfrm>
            <a:off x="6057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5" idx="2"/>
            <a:endCxn id="46" idx="0"/>
          </p:cNvCxnSpPr>
          <p:nvPr/>
        </p:nvCxnSpPr>
        <p:spPr>
          <a:xfrm>
            <a:off x="5219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3" idx="4"/>
            <a:endCxn id="65" idx="0"/>
          </p:cNvCxnSpPr>
          <p:nvPr/>
        </p:nvCxnSpPr>
        <p:spPr>
          <a:xfrm flipH="1">
            <a:off x="495000" y="358128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337360" y="27468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5" idx="2"/>
            <a:endCxn id="68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580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5" idx="1"/>
            <a:endCxn id="46" idx="1"/>
          </p:cNvCxnSpPr>
          <p:nvPr/>
        </p:nvCxnSpPr>
        <p:spPr>
          <a:xfrm flipH="1" flipV="1" rot="10800000">
            <a:off x="5105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6" idx="2"/>
            <a:endCxn id="65" idx="3"/>
          </p:cNvCxnSpPr>
          <p:nvPr/>
        </p:nvCxnSpPr>
        <p:spPr>
          <a:xfrm flipH="1">
            <a:off x="609480" y="3353040"/>
            <a:ext cx="4496400" cy="156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6" idx="3"/>
            <a:endCxn id="50" idx="1"/>
          </p:cNvCxnSpPr>
          <p:nvPr/>
        </p:nvCxnSpPr>
        <p:spPr>
          <a:xfrm flipH="1" rot="16200000">
            <a:off x="4820040" y="3790800"/>
            <a:ext cx="1454400" cy="79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643360" y="3199680"/>
            <a:ext cx="16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this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mod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bind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4572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3429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9800" y="2894040"/>
            <a:ext cx="208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UC1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erty Listeners of  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re are no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this 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3440" y="4570200"/>
            <a:ext cx="208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UC1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erty Listeners of  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re are no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this 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44:37Z</dcterms:modified>
  <cp:revision>7</cp:revision>
  <dc:subject/>
  <dc:title>No Slide Title</dc:title>
</cp:coreProperties>
</file>