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594-11EC-4409-9109-48EFB79B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73B-1FAC-4C7C-8442-40CC0745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57B-40A6-41C6-B610-71772E8F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B76-E356-4D04-85F8-29D16C6F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BBD-D09F-4D98-87D5-36847929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057-4EB9-4A74-892A-9AB174AD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054-D7D2-408A-A89C-AEEB5111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6E0-F50C-4972-9620-6828FEF1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EAA-899A-422D-B0BB-6B9953EF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698-1816-4027-B8D5-0E0C4AF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D39-2DE0-4C45-859C-B7055DA8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149-8787-4988-AE8E-51E94EEE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AC95-8810-465A-A6DB-482CD3B97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>
            <a:off x="419040" y="2209680"/>
            <a:ext cx="684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943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5257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415980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5" idx="0"/>
          </p:cNvCxnSpPr>
          <p:nvPr/>
        </p:nvCxnSpPr>
        <p:spPr>
          <a:xfrm>
            <a:off x="5181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14480" y="226440"/>
            <a:ext cx="1413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achEvent 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parame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,PM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Name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Meth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1720" y="22849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48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080" y="2961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2"/>
            <a:endCxn id="56" idx="0"/>
          </p:cNvCxnSpPr>
          <p:nvPr/>
        </p:nvCxnSpPr>
        <p:spPr>
          <a:xfrm>
            <a:off x="6057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5" idx="2"/>
            <a:endCxn id="46" idx="0"/>
          </p:cNvCxnSpPr>
          <p:nvPr/>
        </p:nvCxnSpPr>
        <p:spPr>
          <a:xfrm>
            <a:off x="5219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3" idx="4"/>
            <a:endCxn id="65" idx="0"/>
          </p:cNvCxnSpPr>
          <p:nvPr/>
        </p:nvCxnSpPr>
        <p:spPr>
          <a:xfrm flipH="1">
            <a:off x="495000" y="358128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337360" y="27468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2"/>
            <a:endCxn id="68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80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5" idx="1"/>
            <a:endCxn id="46" idx="1"/>
          </p:cNvCxnSpPr>
          <p:nvPr/>
        </p:nvCxnSpPr>
        <p:spPr>
          <a:xfrm flipH="1" flipV="1" rot="10800000">
            <a:off x="5105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6" idx="2"/>
            <a:endCxn id="65" idx="3"/>
          </p:cNvCxnSpPr>
          <p:nvPr/>
        </p:nvCxnSpPr>
        <p:spPr>
          <a:xfrm flipH="1">
            <a:off x="609480" y="3353040"/>
            <a:ext cx="4496400" cy="156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6" idx="3"/>
            <a:endCxn id="50" idx="1"/>
          </p:cNvCxnSpPr>
          <p:nvPr/>
        </p:nvCxnSpPr>
        <p:spPr>
          <a:xfrm flipH="1" rot="16200000">
            <a:off x="4820040" y="3790800"/>
            <a:ext cx="1454400" cy="79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643360" y="3199680"/>
            <a:ext cx="16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this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mo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bind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3429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9800" y="2894040"/>
            <a:ext cx="208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UC1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 Listeners of 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re are no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this 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3440" y="4570200"/>
            <a:ext cx="208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UC1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 Listeners of  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re are no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this 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44:37Z</dcterms:modified>
  <cp:revision>7</cp:revision>
  <dc:subject/>
  <dc:title>No Slide Title</dc:title>
</cp:coreProperties>
</file>