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46F-2A80-4545-91E2-178C0C32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B73-F5D3-4CB3-8922-B06CBE88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7A3-AFA7-40CA-8E18-254CED75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777-E2B9-4DBA-9AE7-7F7E5816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FA2-B1B5-478C-A165-5246CB1A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70D-7ED2-4B76-8081-AA4F6175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8F4-CD92-4806-955F-2D15B203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D6D-8BB2-4F66-A6CA-47127CAE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B87-07FF-4DA6-946B-82097A7F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14B-CE48-4627-9581-9760B7F1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DF3-7289-44F0-9258-E62B053F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913-E96E-4F19-899F-08F390E0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ABF7-C61F-479B-AC79-C5B4A04C0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um Simul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WebFlow - a High Level Visual Interface for Glo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Akarsu, G. Fox, W. Furmanski, T.Haupt, L. M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webflow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1666800" cy="809640"/>
          </a:xfrm>
          <a:prstGeom prst="rect">
            <a:avLst/>
          </a:prstGeom>
          <a:ln w="0">
            <a:noFill/>
          </a:ln>
        </p:spPr>
      </p:pic>
      <p:pic>
        <p:nvPicPr>
          <p:cNvPr id="44" name="globus-logo" descr=""/>
          <p:cNvPicPr/>
          <p:nvPr/>
        </p:nvPicPr>
        <p:blipFill>
          <a:blip r:embed="rId2"/>
          <a:stretch/>
        </p:blipFill>
        <p:spPr>
          <a:xfrm>
            <a:off x="2286000" y="7621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45" name="npac_logo" descr=""/>
          <p:cNvPicPr/>
          <p:nvPr/>
        </p:nvPicPr>
        <p:blipFill>
          <a:blip r:embed="rId3"/>
          <a:stretch/>
        </p:blipFill>
        <p:spPr>
          <a:xfrm>
            <a:off x="6324480" y="838080"/>
            <a:ext cx="1781280" cy="552600"/>
          </a:xfrm>
          <a:prstGeom prst="rect">
            <a:avLst/>
          </a:prstGeom>
          <a:ln w="0">
            <a:noFill/>
          </a:ln>
        </p:spPr>
      </p:pic>
      <p:pic>
        <p:nvPicPr>
          <p:cNvPr id="46" name="ncsalogo" descr=""/>
          <p:cNvPicPr/>
          <p:nvPr/>
        </p:nvPicPr>
        <p:blipFill>
          <a:blip r:embed="rId4"/>
          <a:stretch/>
        </p:blipFill>
        <p:spPr>
          <a:xfrm>
            <a:off x="6781680" y="1523880"/>
            <a:ext cx="7430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g2a" descr=""/>
          <p:cNvPicPr/>
          <p:nvPr/>
        </p:nvPicPr>
        <p:blipFill>
          <a:blip r:embed="rId1"/>
          <a:stretch/>
        </p:blipFill>
        <p:spPr>
          <a:xfrm>
            <a:off x="1219320" y="692280"/>
            <a:ext cx="6858000" cy="535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C85-954B-498F-A949-E641931719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itas1" descr=""/>
          <p:cNvPicPr/>
          <p:nvPr/>
        </p:nvPicPr>
        <p:blipFill>
          <a:blip r:embed="rId1"/>
          <a:stretch/>
        </p:blipFill>
        <p:spPr>
          <a:xfrm>
            <a:off x="1338120" y="1090440"/>
            <a:ext cx="6467760" cy="467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DE4-A936-48D2-89F0-43B1854815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Simulati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blem descri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hain of high performance applications is run repeatedly for different data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ch application can be run on several different platforms, depending on the problem size and the load of the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 and output files must be moved between the machines,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 files are visually inspected by the researcher; if necessary applications are rerun with modified inpu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ically, output files must be converted to a different format before using them as input to the next application in the ch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CE8A-23D5-4A73-B149-6AA15CF228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ution using the Web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front-end for visual authoring: drag-and-drop composition of meta-applications from compute-web n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middle-tier implementing distributed object technologies in Java (platform independent, including NT-workstations). The implementation is based on industry standards: currently servlet extended httpd servers, and evolving towards CORB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back-end based on commodity software components, in particular low level matacomputing toolkit Globus for HP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EBD-D080-4156-A2DB-DE4B663383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particular,  for Quantum Sim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WebFlow editor to visually compose the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integrated with the WebFlow metacomputing directory services (MDS) of Globus to identify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WebFlow proxies to Globus resource allocation manager (GRAM) to allocate the resources, including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high performance data transfer mechanisms of Globus (GASS, 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commodity DBMS or LDAP services to identify and retrieve data set as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D76-E7C7-450F-A823-26A3D9B9C7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ntum Simulations using the Web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mitas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953120" cy="469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7027-2232-4A50-A589-6260141245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d" descr=""/>
          <p:cNvPicPr/>
          <p:nvPr/>
        </p:nvPicPr>
        <p:blipFill>
          <a:blip r:embed="rId1"/>
          <a:stretch/>
        </p:blipFill>
        <p:spPr>
          <a:xfrm>
            <a:off x="1290600" y="-33480"/>
            <a:ext cx="6562800" cy="692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8F18-C184-4401-BA7D-47347CD756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15:10:20Z</dcterms:created>
  <dc:creator>tomek</dc:creator>
  <dc:description/>
  <dc:language>en-US</dc:language>
  <cp:lastModifiedBy>Tomasz Haupt</cp:lastModifiedBy>
  <dcterms:modified xsi:type="dcterms:W3CDTF">1998-05-05T16:19:22Z</dcterms:modified>
  <cp:revision>1</cp:revision>
  <dc:subject/>
  <dc:title>Quantum Simulations using WebFlow - a High Level Visual Interface for Globus</dc:title>
</cp:coreProperties>
</file>