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A5BF-D576-4C5F-A2ED-97DD9327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92FE-69F9-431E-9268-2E438CE7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D3F-9A2E-4C28-BB23-B2F0D0C1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3B45-1B20-4B09-974E-06794E1C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3E39-FF70-4C86-A93F-C54E9F70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0859-36DB-4A1B-95FC-D3DB1D47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8FE6-CC95-4388-93A6-A4784631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5141-5012-4916-9B9E-9F7D130A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F48F-CE10-4236-8263-12871AE3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7047-1460-437D-8EDC-BE6FCC8A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210F-AFD9-45D4-AF86-D2E9C396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E1CD-CCC9-4709-9F5E-4E340573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4FA2-689C-43DF-8EEB-F7754E4A3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06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81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20:41:49Z</dcterms:created>
  <dc:creator>Valued Gateway Customer</dc:creator>
  <dc:description/>
  <dc:language>en-US</dc:language>
  <cp:lastModifiedBy>Valued Gateway Customer</cp:lastModifiedBy>
  <dcterms:modified xsi:type="dcterms:W3CDTF">1999-07-10T21:01:58Z</dcterms:modified>
  <cp:revision>5</cp:revision>
  <dc:subject/>
  <dc:title>No Slide Title</dc:title>
</cp:coreProperties>
</file>