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FF9-F1BF-4EB4-BDB8-6041C9D6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EC6-9BCE-44CD-A66B-162AE536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7B5-969C-4BD5-A57A-DC75BCE7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D83-197C-4CC6-AF20-FC1171C9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B1B-DA25-480E-BAA5-B08D90A4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F23-819B-4499-B509-91C67107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2BB-38A3-428F-AD31-577ECFE1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81D-3195-4293-9440-8BDD26E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BD8-E53C-45CB-88F9-2FA4A3E9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C2F-8C12-441F-8A87-61E8AFAB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74D-6227-4E20-88BF-F0750D99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422-AFC5-45D8-8F01-071BF3D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7AA0-DA94-4104-B07C-B4598E34B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762120"/>
            <a:ext cx="5410440" cy="411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90512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1295280"/>
            <a:ext cx="121896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209680"/>
            <a:ext cx="15238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1720" y="45720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522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9120" y="87624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4" idx="1"/>
          </p:cNvCxnSpPr>
          <p:nvPr/>
        </p:nvCxnSpPr>
        <p:spPr>
          <a:xfrm>
            <a:off x="2190600" y="1099800"/>
            <a:ext cx="166680" cy="124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6" idx="2"/>
            <a:endCxn id="43" idx="0"/>
          </p:cNvCxnSpPr>
          <p:nvPr/>
        </p:nvCxnSpPr>
        <p:spPr>
          <a:xfrm flipH="1">
            <a:off x="4343400" y="520560"/>
            <a:ext cx="241560" cy="77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7" idx="2"/>
            <a:endCxn id="42" idx="3"/>
          </p:cNvCxnSpPr>
          <p:nvPr/>
        </p:nvCxnSpPr>
        <p:spPr>
          <a:xfrm flipH="1">
            <a:off x="6705720" y="1518840"/>
            <a:ext cx="12542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741040" y="495288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s of 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ateWayCont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7T21:36:27Z</dcterms:created>
  <dc:creator>Valued Gateway Customer</dc:creator>
  <dc:description/>
  <dc:language>en-US</dc:language>
  <cp:lastModifiedBy>Valued Gateway Customer</cp:lastModifiedBy>
  <dcterms:modified xsi:type="dcterms:W3CDTF">1999-04-27T21:44:22Z</dcterms:modified>
  <cp:revision>1</cp:revision>
  <dc:subject/>
  <dc:title>No Slide Title</dc:title>
</cp:coreProperties>
</file>