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A452-14C2-4740-BC80-031437775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6395-D859-4F76-B01B-17EE75F60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4D7D-0704-405C-B117-328176A2B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06C2-10E2-46BA-91E6-9246EBA35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8DF3-9D2F-49BD-8C59-E0CB213B4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D2CC-6BBE-4B47-A3E6-006E79DC3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009C-0B76-45E8-AAF0-8186E0BBB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D65B-32C7-4189-BB74-36CDE8239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B408-3169-46D4-BF81-FA36C1BFE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C402-7FE3-42CB-ADFE-EB1E324C4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E25C-AB77-4019-9455-30BFA6D41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408B-B543-435D-84E3-81C0AA599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9F239-D650-424F-B8EA-9388BFD040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371600" y="533520"/>
            <a:ext cx="6628680" cy="5714640"/>
            <a:chOff x="1371600" y="533520"/>
            <a:chExt cx="6628680" cy="5714640"/>
          </a:xfrm>
        </p:grpSpPr>
        <p:sp>
          <p:nvSpPr>
            <p:cNvPr id="42" name=""/>
            <p:cNvSpPr/>
            <p:nvPr/>
          </p:nvSpPr>
          <p:spPr>
            <a:xfrm>
              <a:off x="3227400" y="2526840"/>
              <a:ext cx="3182040" cy="1195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431800" y="5051880"/>
              <a:ext cx="2121480" cy="7970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DY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951440" y="5051880"/>
              <a:ext cx="2120760" cy="797040"/>
            </a:xfrm>
            <a:prstGeom prst="rect">
              <a:avLst/>
            </a:prstGeom>
            <a:solidFill>
              <a:srgbClr val="fe040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ASC2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023000" y="4653360"/>
              <a:ext cx="1590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023000" y="4653360"/>
              <a:ext cx="0" cy="39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613840" y="4653360"/>
              <a:ext cx="0" cy="39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13840" y="5849280"/>
              <a:ext cx="0" cy="39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023000" y="6248160"/>
              <a:ext cx="1590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4023000" y="5848920"/>
              <a:ext cx="0" cy="39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625200" y="3722760"/>
              <a:ext cx="0" cy="132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11640" y="3722760"/>
              <a:ext cx="0" cy="132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371600" y="533520"/>
              <a:ext cx="1458000" cy="664200"/>
            </a:xfrm>
            <a:prstGeom prst="rect">
              <a:avLst/>
            </a:prstGeom>
            <a:solidFill>
              <a:srgbClr val="dde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94560" y="533520"/>
              <a:ext cx="1458720" cy="664200"/>
            </a:xfrm>
            <a:prstGeom prst="rect">
              <a:avLst/>
            </a:prstGeom>
            <a:solidFill>
              <a:srgbClr val="12f10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and U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818600" y="533520"/>
              <a:ext cx="1458000" cy="664200"/>
            </a:xfrm>
            <a:prstGeom prst="rect">
              <a:avLst/>
            </a:prstGeom>
            <a:solidFill>
              <a:srgbClr val="190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oi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ext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542280" y="533520"/>
              <a:ext cx="1458000" cy="664200"/>
            </a:xfrm>
            <a:prstGeom prst="rect">
              <a:avLst/>
            </a:prstGeom>
            <a:solidFill>
              <a:srgbClr val="f10d7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Veget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166840" y="1197720"/>
              <a:ext cx="1722960" cy="132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5746320" y="1197720"/>
              <a:ext cx="1590840" cy="132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5083200" y="1197720"/>
              <a:ext cx="530280" cy="132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890160" y="1197720"/>
              <a:ext cx="663120" cy="132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0T20:37:08Z</dcterms:created>
  <dc:creator>Valued Gateway Customer</dc:creator>
  <dc:description/>
  <dc:language>en-US</dc:language>
  <cp:lastModifiedBy>Valued Gateway Customer</cp:lastModifiedBy>
  <dcterms:modified xsi:type="dcterms:W3CDTF">1999-07-10T20:39:25Z</dcterms:modified>
  <cp:revision>1</cp:revision>
  <dc:subject/>
  <dc:title>No Slide Title</dc:title>
</cp:coreProperties>
</file>