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46E-4611-4D07-82BA-80C748F6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693-755B-4622-A39B-8BDC141F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5F4-DF4A-4C5C-8C6E-07150F2A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37C-EE3F-468B-BB8C-FB7BF372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94E-06ED-4467-A611-97A49FA7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F9E-C6BE-4962-84F7-7A6FB6AE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19D-FCE7-493F-94FA-AB8C7338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E60-0F78-4809-AF26-F17B9C5D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09A-F26D-449C-91EE-1293956A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A45-93A2-4E83-8EB5-FB06980D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AF7-681F-40AF-A88E-B217082B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B93-13CD-4862-B077-E410D751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48DD-4AE9-4A43-BF72-E4804C42E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69440" y="608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17440" y="17514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72920" y="17514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8080" y="297072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5920" y="29707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84680" y="2970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38200" y="29707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3400" y="47232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0800" y="47232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 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32560" y="464724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Field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1" idx="1"/>
            <a:endCxn id="42" idx="0"/>
          </p:cNvCxnSpPr>
          <p:nvPr/>
        </p:nvCxnSpPr>
        <p:spPr>
          <a:xfrm flipH="1">
            <a:off x="2594520" y="838080"/>
            <a:ext cx="147528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1" idx="3"/>
            <a:endCxn id="43" idx="0"/>
          </p:cNvCxnSpPr>
          <p:nvPr/>
        </p:nvCxnSpPr>
        <p:spPr>
          <a:xfrm>
            <a:off x="5080680" y="838080"/>
            <a:ext cx="166140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2" idx="2"/>
            <a:endCxn id="45" idx="0"/>
          </p:cNvCxnSpPr>
          <p:nvPr/>
        </p:nvCxnSpPr>
        <p:spPr>
          <a:xfrm>
            <a:off x="2594520" y="2211120"/>
            <a:ext cx="880560" cy="75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3" idx="2"/>
            <a:endCxn id="46" idx="0"/>
          </p:cNvCxnSpPr>
          <p:nvPr/>
        </p:nvCxnSpPr>
        <p:spPr>
          <a:xfrm>
            <a:off x="6741720" y="2211120"/>
            <a:ext cx="1220400" cy="75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2"/>
            <a:endCxn id="44" idx="0"/>
          </p:cNvCxnSpPr>
          <p:nvPr/>
        </p:nvCxnSpPr>
        <p:spPr>
          <a:xfrm rot="5400000">
            <a:off x="1528200" y="1904400"/>
            <a:ext cx="759960" cy="1373400"/>
          </a:xfrm>
          <a:prstGeom prst="curvedConnector3">
            <a:avLst>
              <a:gd name="adj1" fmla="val 250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3" idx="2"/>
            <a:endCxn id="47" idx="0"/>
          </p:cNvCxnSpPr>
          <p:nvPr/>
        </p:nvCxnSpPr>
        <p:spPr>
          <a:xfrm rot="5400000">
            <a:off x="5832720" y="2061720"/>
            <a:ext cx="759960" cy="1058760"/>
          </a:xfrm>
          <a:prstGeom prst="curvedConnector3">
            <a:avLst>
              <a:gd name="adj1" fmla="val 250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5" idx="2"/>
            <a:endCxn id="48" idx="0"/>
          </p:cNvCxnSpPr>
          <p:nvPr/>
        </p:nvCxnSpPr>
        <p:spPr>
          <a:xfrm rot="5400000">
            <a:off x="1913040" y="3161520"/>
            <a:ext cx="1293120" cy="1830600"/>
          </a:xfrm>
          <a:prstGeom prst="curvedConnector3">
            <a:avLst>
              <a:gd name="adj1" fmla="val 249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5" idx="2"/>
            <a:endCxn id="49" idx="0"/>
          </p:cNvCxnSpPr>
          <p:nvPr/>
        </p:nvCxnSpPr>
        <p:spPr>
          <a:xfrm flipH="1" rot="16200000">
            <a:off x="2941920" y="3962880"/>
            <a:ext cx="1293120" cy="227520"/>
          </a:xfrm>
          <a:prstGeom prst="curvedConnector3">
            <a:avLst>
              <a:gd name="adj1" fmla="val 249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6" idx="2"/>
            <a:endCxn id="50" idx="0"/>
          </p:cNvCxnSpPr>
          <p:nvPr/>
        </p:nvCxnSpPr>
        <p:spPr>
          <a:xfrm rot="5400000">
            <a:off x="7054560" y="3740040"/>
            <a:ext cx="1217160" cy="59796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2057400"/>
            <a:ext cx="152388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8960" y="556164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ed 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17:02:21Z</dcterms:created>
  <dc:creator>Valued Gateway Customer</dc:creator>
  <dc:description/>
  <dc:language>en-US</dc:language>
  <cp:lastModifiedBy>Valued Gateway Customer</cp:lastModifiedBy>
  <dcterms:modified xsi:type="dcterms:W3CDTF">1999-03-25T17:45:54Z</dcterms:modified>
  <cp:revision>5</cp:revision>
  <dc:subject/>
  <dc:title>No Slide Title</dc:title>
</cp:coreProperties>
</file>