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ED9-796E-4952-A1BB-45A91135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23D-653A-461E-9871-B3210226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BF6-D33E-4175-B5DB-EDC87392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C2E-CBC4-48D9-A358-AB830FEF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504-8642-4763-A7D1-A2AA1218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CFB-2050-421D-801C-FBA7004F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73C-4373-4DAF-A654-AE443FE2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288-B077-49AD-9F70-341A3624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74E-F757-4C4C-BFEB-BAFD4101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05C-0317-47B3-979C-0F126B84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527-FA26-4659-B957-CCAD285D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953-D53A-434A-8E0C-C8403F41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BCE9-607B-4306-BE71-6D691EBFD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934320" cy="5867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895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51:40Z</dcterms:modified>
  <cp:revision>3</cp:revision>
  <dc:subject/>
  <dc:title>No Slide Title</dc:title>
</cp:coreProperties>
</file>