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37D-990A-4ADE-AAD3-3F82798C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F64-E47C-4E1F-949C-896212F2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BB3-5D65-477F-9664-C8FAC729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FCA-234E-4BCE-8795-1DAB352A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FC6-1CC2-4F17-8094-E68D6800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A5C-B7C6-4AFD-9ABC-C11852C6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073-22B2-483B-918D-24DF8A45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0A5-D9A4-4093-A42B-B8A6D4B9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B61-171A-44B2-ABAE-BFF2AC8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8AE-9B35-47A1-9D42-BE2C6AF4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B49-4383-4900-B447-CB8C5B03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93C-9697-4439-8BCB-CB4B51A8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7521-7389-4A18-ACC9-3A015D99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7925040" cy="60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9250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41:49Z</dcterms:created>
  <dc:creator>Valued Gateway Customer</dc:creator>
  <dc:description/>
  <dc:language>en-US</dc:language>
  <cp:lastModifiedBy>Valued Gateway Customer</cp:lastModifiedBy>
  <dcterms:modified xsi:type="dcterms:W3CDTF">1999-07-10T20:45:34Z</dcterms:modified>
  <cp:revision>2</cp:revision>
  <dc:subject/>
  <dc:title>No Slide Title</dc:title>
</cp:coreProperties>
</file>