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8F31-0BA4-442F-8F2A-4B0427275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C17B-BF63-495E-89F0-CB0C2E15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656F-1794-43AF-A7D9-3FEECE64C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B88E-B096-4479-A703-4B688CC6C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820E-A11B-493E-BB4C-0112740F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881A-E8A9-47D4-8E18-32AD2EED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75EF-EB11-47B6-9F90-DC7CBA12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0115-E1FF-4D4E-B8FB-0A8D9E70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BC3E-30BD-4F9F-BC9B-8BC6E8D1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E887-BF2C-47B6-934E-5326E554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D031-99B9-41F1-BE12-02B936AF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3012-D978-4399-856C-3E1828B1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037A-054F-46B9-9239-9ED028521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4572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219320"/>
            <a:ext cx="304920" cy="30456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3886200"/>
            <a:ext cx="304560" cy="30492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98108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43200" y="198108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3886200"/>
            <a:ext cx="304920" cy="30492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48520" y="2666880"/>
            <a:ext cx="609480" cy="68580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1" idx="2"/>
            <a:endCxn id="42" idx="0"/>
          </p:cNvCxnSpPr>
          <p:nvPr/>
        </p:nvCxnSpPr>
        <p:spPr>
          <a:xfrm flipH="1">
            <a:off x="838440" y="685800"/>
            <a:ext cx="38160" cy="533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2" idx="3"/>
            <a:endCxn id="44" idx="0"/>
          </p:cNvCxnSpPr>
          <p:nvPr/>
        </p:nvCxnSpPr>
        <p:spPr>
          <a:xfrm flipH="1">
            <a:off x="419040" y="1479240"/>
            <a:ext cx="311760" cy="502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3" idx="1"/>
          </p:cNvCxnSpPr>
          <p:nvPr/>
        </p:nvCxnSpPr>
        <p:spPr>
          <a:xfrm flipH="1">
            <a:off x="349560" y="2209680"/>
            <a:ext cx="69840" cy="1721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/>
          <p:nvPr/>
        </p:nvCxnSpPr>
        <p:spPr>
          <a:xfrm flipH="1">
            <a:off x="3885840" y="3352320"/>
            <a:ext cx="2635920" cy="794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/>
          <p:nvPr/>
        </p:nvCxnSpPr>
        <p:spPr>
          <a:xfrm flipH="1" flipV="1" rot="5400000">
            <a:off x="4820040" y="2265840"/>
            <a:ext cx="938880" cy="2959920"/>
          </a:xfrm>
          <a:prstGeom prst="curvedConnector5">
            <a:avLst>
              <a:gd name="adj1" fmla="val -24357"/>
              <a:gd name="adj2" fmla="val 49993"/>
              <a:gd name="adj3" fmla="val -2435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1"/>
            <a:endCxn id="46" idx="3"/>
          </p:cNvCxnSpPr>
          <p:nvPr/>
        </p:nvCxnSpPr>
        <p:spPr>
          <a:xfrm flipH="1" flipV="1" rot="10800000">
            <a:off x="2743200" y="2095200"/>
            <a:ext cx="959400" cy="2051640"/>
          </a:xfrm>
          <a:prstGeom prst="curvedConnector3">
            <a:avLst>
              <a:gd name="adj1" fmla="val -964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/>
          <p:nvPr/>
        </p:nvCxnSpPr>
        <p:spPr>
          <a:xfrm>
            <a:off x="2971800" y="2057400"/>
            <a:ext cx="3582000" cy="572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6" idx="2"/>
            <a:endCxn id="45" idx="2"/>
          </p:cNvCxnSpPr>
          <p:nvPr/>
        </p:nvCxnSpPr>
        <p:spPr>
          <a:xfrm rot="10800000">
            <a:off x="2856960" y="2209320"/>
            <a:ext cx="800640" cy="18295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5" idx="3"/>
            <a:endCxn id="46" idx="0"/>
          </p:cNvCxnSpPr>
          <p:nvPr/>
        </p:nvCxnSpPr>
        <p:spPr>
          <a:xfrm>
            <a:off x="2971800" y="2095200"/>
            <a:ext cx="838800" cy="179136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200400" y="4800600"/>
            <a:ext cx="228600" cy="2286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6" idx="4"/>
            <a:endCxn id="57" idx="0"/>
          </p:cNvCxnSpPr>
          <p:nvPr/>
        </p:nvCxnSpPr>
        <p:spPr>
          <a:xfrm flipH="1">
            <a:off x="3314520" y="4191120"/>
            <a:ext cx="496080" cy="609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7" idx="1"/>
          </p:cNvCxnSpPr>
          <p:nvPr/>
        </p:nvCxnSpPr>
        <p:spPr>
          <a:xfrm flipH="1">
            <a:off x="2819160" y="4914720"/>
            <a:ext cx="381600" cy="633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2" idx="5"/>
            <a:endCxn id="45" idx="1"/>
          </p:cNvCxnSpPr>
          <p:nvPr/>
        </p:nvCxnSpPr>
        <p:spPr>
          <a:xfrm>
            <a:off x="946080" y="1479240"/>
            <a:ext cx="1797480" cy="616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endCxn id="45" idx="0"/>
          </p:cNvCxnSpPr>
          <p:nvPr/>
        </p:nvCxnSpPr>
        <p:spPr>
          <a:xfrm>
            <a:off x="2819520" y="609120"/>
            <a:ext cx="38160" cy="1372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694080" y="-31320"/>
            <a:ext cx="122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xy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lue squa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88920" y="760680"/>
            <a:ext cx="134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xt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Green circl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5638680"/>
            <a:ext cx="76320" cy="763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90920" y="5562720"/>
            <a:ext cx="380880" cy="304560"/>
          </a:xfrm>
          <a:prstGeom prst="hexagon">
            <a:avLst>
              <a:gd name="adj" fmla="val 31265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93080" y="90720"/>
            <a:ext cx="1768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ent s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dNewModule(“M”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thod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990720"/>
            <a:ext cx="38124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4419720"/>
            <a:ext cx="38124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434340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335268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198108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33920" y="2819520"/>
            <a:ext cx="38088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289548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297180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02920" y="5866200"/>
            <a:ext cx="175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User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bj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with name “M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5720" y="2437200"/>
            <a:ext cx="137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ward 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context 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83480" y="263628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Fa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68240" y="426600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antiate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th name ‘M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46160" y="2818080"/>
            <a:ext cx="129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modu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ject: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b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3123000"/>
            <a:ext cx="66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b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88240" y="152280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eate Proxy 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b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16720" y="3661200"/>
            <a:ext cx="1011600" cy="2764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xt: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c_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99440" y="1523160"/>
            <a:ext cx="9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y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xt:uc_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4400" y="2361600"/>
            <a:ext cx="142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bj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o “uc_1”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8920" y="4647600"/>
            <a:ext cx="1924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xt inserts new modu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bj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to its children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6320" y="3737520"/>
            <a:ext cx="1011600" cy="2764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xt: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c_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7760" y="1751760"/>
            <a:ext cx="9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y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xt:uc_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4T17:35:24Z</dcterms:created>
  <dc:creator>Valued Gateway Customer</dc:creator>
  <dc:description/>
  <dc:language>en-US</dc:language>
  <cp:lastModifiedBy>Valued Gateway Customer</cp:lastModifiedBy>
  <dcterms:modified xsi:type="dcterms:W3CDTF">1999-05-24T22:11:44Z</dcterms:modified>
  <cp:revision>3</cp:revision>
  <dc:subject/>
  <dc:title>No Slide Title</dc:title>
</cp:coreProperties>
</file>