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06A-5749-41A8-8979-C19B1C03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A57-938F-4BD4-BF58-C8A7F48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29B-51D2-4F52-A153-1B026E39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B71-7B12-4AC2-A58D-18D16D3B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38B-099E-4AED-A89B-68A2FAC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9CB-97C7-4E1C-98EA-898AA02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7EA-4E2B-4E11-9DBD-823AF300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8F7-A724-45C2-B140-7A0BC451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781-7A7A-49BF-B1A0-16E126A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C9F-0251-4133-BB69-A8DCD1C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718-89D0-46CD-887F-33E6F8C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EE8-FEA6-41AB-A990-A28BB4C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FFCF-8F51-46E2-B039-FD3BC8550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2767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200400"/>
            <a:ext cx="30456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2"/>
            <a:endCxn id="43" idx="1"/>
          </p:cNvCxnSpPr>
          <p:nvPr/>
        </p:nvCxnSpPr>
        <p:spPr>
          <a:xfrm>
            <a:off x="419040" y="2209680"/>
            <a:ext cx="6840" cy="11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9436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4"/>
            <a:endCxn id="50" idx="0"/>
          </p:cNvCxnSpPr>
          <p:nvPr/>
        </p:nvCxnSpPr>
        <p:spPr>
          <a:xfrm>
            <a:off x="5257800" y="3505320"/>
            <a:ext cx="800280" cy="129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415980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5" idx="0"/>
          </p:cNvCxnSpPr>
          <p:nvPr/>
        </p:nvCxnSpPr>
        <p:spPr>
          <a:xfrm>
            <a:off x="5181480" y="609120"/>
            <a:ext cx="385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715000"/>
            <a:ext cx="381240" cy="304920"/>
          </a:xfrm>
          <a:prstGeom prst="hexagon">
            <a:avLst>
              <a:gd name="adj" fmla="val 3125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4480" y="226440"/>
            <a:ext cx="141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achEvent 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paramet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,PM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Name”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Meth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9907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1720" y="22849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480" y="17514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080" y="29610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840" y="188964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_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2"/>
            <a:endCxn id="56" idx="0"/>
          </p:cNvCxnSpPr>
          <p:nvPr/>
        </p:nvCxnSpPr>
        <p:spPr>
          <a:xfrm>
            <a:off x="6057720" y="5029200"/>
            <a:ext cx="72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5" idx="2"/>
            <a:endCxn id="46" idx="0"/>
          </p:cNvCxnSpPr>
          <p:nvPr/>
        </p:nvCxnSpPr>
        <p:spPr>
          <a:xfrm>
            <a:off x="5219640" y="2209680"/>
            <a:ext cx="38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088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3" idx="4"/>
            <a:endCxn id="65" idx="0"/>
          </p:cNvCxnSpPr>
          <p:nvPr/>
        </p:nvCxnSpPr>
        <p:spPr>
          <a:xfrm flipH="1">
            <a:off x="495000" y="3581280"/>
            <a:ext cx="388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337360" y="2746800"/>
            <a:ext cx="11455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638680"/>
            <a:ext cx="380880" cy="304920"/>
          </a:xfrm>
          <a:prstGeom prst="hexagon">
            <a:avLst>
              <a:gd name="adj" fmla="val 3122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2"/>
            <a:endCxn id="68" idx="0"/>
          </p:cNvCxnSpPr>
          <p:nvPr/>
        </p:nvCxnSpPr>
        <p:spPr>
          <a:xfrm>
            <a:off x="495000" y="5029200"/>
            <a:ext cx="7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610560" y="4494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4570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00" y="540900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5800" y="54853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: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5" idx="1"/>
            <a:endCxn id="46" idx="1"/>
          </p:cNvCxnSpPr>
          <p:nvPr/>
        </p:nvCxnSpPr>
        <p:spPr>
          <a:xfrm flipH="1" flipV="1" rot="10800000">
            <a:off x="5105520" y="2095200"/>
            <a:ext cx="45000" cy="1150200"/>
          </a:xfrm>
          <a:prstGeom prst="curvedConnector3">
            <a:avLst>
              <a:gd name="adj1" fmla="val -44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6" idx="2"/>
            <a:endCxn id="65" idx="3"/>
          </p:cNvCxnSpPr>
          <p:nvPr/>
        </p:nvCxnSpPr>
        <p:spPr>
          <a:xfrm flipH="1">
            <a:off x="609480" y="3353040"/>
            <a:ext cx="4496400" cy="156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6" idx="3"/>
            <a:endCxn id="50" idx="1"/>
          </p:cNvCxnSpPr>
          <p:nvPr/>
        </p:nvCxnSpPr>
        <p:spPr>
          <a:xfrm flipH="1" rot="16200000">
            <a:off x="4820040" y="3790800"/>
            <a:ext cx="1454400" cy="79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643360" y="31996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this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mod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bind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4572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4290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9404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3440" y="4570200"/>
            <a:ext cx="208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UC1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erty Listeners of  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here are no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this 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44:37Z</dcterms:modified>
  <cp:revision>7</cp:revision>
  <dc:subject/>
  <dc:title>No Slide Title</dc:title>
</cp:coreProperties>
</file>