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5C8-0964-40A0-B06F-FC97D379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846-CA7B-489A-AB0F-CC8D15EB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81B-75BA-44D8-A98C-F3AC72CD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138-3566-4567-B135-AECE87BE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5FE-C197-4B3A-B4B9-F5F75C7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A1E-16CB-454B-9B1B-4C0D55F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21F-48DF-493B-BCCE-3A999AE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54A-6E61-4DE1-A02C-E4798370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771-4193-4125-9143-E6287A23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DDF-250E-487B-A1D0-890DD2A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1F2-1576-4CBF-A957-4F6535B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CD1-AA1E-450A-9083-36D615A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A56-54C7-4DE8-9C22-35D706A9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85800"/>
            <a:ext cx="289584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581280"/>
            <a:ext cx="335304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505320"/>
            <a:ext cx="33526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1480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962520"/>
            <a:ext cx="160020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80060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64832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4479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1"/>
            <a:endCxn id="42" idx="0"/>
          </p:cNvCxnSpPr>
          <p:nvPr/>
        </p:nvCxnSpPr>
        <p:spPr>
          <a:xfrm flipH="1">
            <a:off x="1828800" y="1492560"/>
            <a:ext cx="1427760" cy="2089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4" name=""/>
          <p:cNvCxnSpPr>
            <a:endCxn id="44" idx="0"/>
          </p:cNvCxnSpPr>
          <p:nvPr/>
        </p:nvCxnSpPr>
        <p:spPr>
          <a:xfrm flipH="1">
            <a:off x="2095560" y="1980720"/>
            <a:ext cx="1638360" cy="2134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5" name=""/>
          <p:cNvCxnSpPr>
            <a:endCxn id="46" idx="7"/>
          </p:cNvCxnSpPr>
          <p:nvPr/>
        </p:nvCxnSpPr>
        <p:spPr>
          <a:xfrm flipH="1">
            <a:off x="2337840" y="2286000"/>
            <a:ext cx="1856520" cy="2604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6" name=""/>
          <p:cNvCxnSpPr>
            <a:stCxn id="57" idx="5"/>
          </p:cNvCxnSpPr>
          <p:nvPr/>
        </p:nvCxnSpPr>
        <p:spPr>
          <a:xfrm>
            <a:off x="5887800" y="1784160"/>
            <a:ext cx="1734120" cy="1797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5409720" y="2057040"/>
            <a:ext cx="1878840" cy="201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9" name=""/>
          <p:cNvCxnSpPr>
            <a:stCxn id="49" idx="6"/>
            <a:endCxn id="47" idx="0"/>
          </p:cNvCxnSpPr>
          <p:nvPr/>
        </p:nvCxnSpPr>
        <p:spPr>
          <a:xfrm>
            <a:off x="4952880" y="2210040"/>
            <a:ext cx="1943640" cy="24386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0" name=""/>
          <p:cNvCxnSpPr>
            <a:stCxn id="46" idx="0"/>
            <a:endCxn id="51" idx="3"/>
          </p:cNvCxnSpPr>
          <p:nvPr/>
        </p:nvCxnSpPr>
        <p:spPr>
          <a:xfrm flipV="1">
            <a:off x="2095560" y="2089080"/>
            <a:ext cx="1465920" cy="27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4" idx="7"/>
          </p:cNvCxnSpPr>
          <p:nvPr/>
        </p:nvCxnSpPr>
        <p:spPr>
          <a:xfrm flipH="1">
            <a:off x="2661120" y="2133720"/>
            <a:ext cx="1035000" cy="2193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4" idx="7"/>
            <a:endCxn id="49" idx="4"/>
          </p:cNvCxnSpPr>
          <p:nvPr/>
        </p:nvCxnSpPr>
        <p:spPr>
          <a:xfrm flipV="1">
            <a:off x="2661120" y="2362320"/>
            <a:ext cx="2101680" cy="196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5"/>
          </p:cNvCxnSpPr>
          <p:nvPr/>
        </p:nvCxnSpPr>
        <p:spPr>
          <a:xfrm>
            <a:off x="4897080" y="2317680"/>
            <a:ext cx="1732680" cy="26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3568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5238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860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8000" y="304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3886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280" y="403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/S2/U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9720" y="449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24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308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0280" y="16765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67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9560" y="1752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2360" y="1523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3400" y="12193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360" y="6172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160" y="6095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Server: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0240" y="5335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erver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505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97180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7432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2004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0:42:13Z</dcterms:created>
  <dc:creator>Valued Gateway Customer</dc:creator>
  <dc:description/>
  <dc:language>en-US</dc:language>
  <cp:lastModifiedBy>Valued Gateway Customer</cp:lastModifiedBy>
  <dcterms:modified xsi:type="dcterms:W3CDTF">1999-04-28T01:17:12Z</dcterms:modified>
  <cp:revision>2</cp:revision>
  <dc:subject/>
  <dc:title>No Slide Title</dc:title>
</cp:coreProperties>
</file>