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CA5-3A2B-407C-8A07-E8673F1E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EF9-E2D9-4730-827E-6631578A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CEA-2071-451C-98AE-A1B57EBF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F590-56EC-43BE-9723-E04A560D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13D-9571-4FDF-846A-46BDC8D2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A352-E9CD-4E5F-82CC-BA42ACE3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9823-07F6-42BB-B491-C12B311A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DBA2-D064-4472-BAD4-56255EF3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09AA-21B5-4939-9F82-28B06459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44FC-3B0C-4AA6-9753-4B56A12E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60FC-7988-49E8-BB9F-0535AB6D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79D-CD3B-435E-9369-A61B9D82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8CCA-6FDD-43B5-ACA6-9F0E2FCEE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6933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41:49Z</dcterms:created>
  <dc:creator>Valued Gateway Customer</dc:creator>
  <dc:description/>
  <dc:language>en-US</dc:language>
  <cp:lastModifiedBy>Valued Gateway Customer</cp:lastModifiedBy>
  <dcterms:modified xsi:type="dcterms:W3CDTF">1999-07-10T20:55:48Z</dcterms:modified>
  <cp:revision>4</cp:revision>
  <dc:subject/>
  <dc:title>No Slide Title</dc:title>
</cp:coreProperties>
</file>