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2EA9-9A0A-45CB-B7C8-9288ECE3D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BC8F-436E-4279-A87D-070061CA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A13C-2FD3-466A-8D5D-40CA4E13B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6A84-8FC4-46E0-A5A1-52041C712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6F7C-B582-4188-AA4A-62841929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E57F-42C0-48D4-B803-22CD517D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2BFE-0648-406C-A459-AE9BE07F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2569-8A82-454B-83AA-206362DC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CC99-1C13-45A2-A8F9-831CDDE9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6529-223F-4606-B048-ADE97CFD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2F9C-D406-4912-8D92-12EE395A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EAD7-9C4D-413F-BCB4-7B52D14F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7FF2-BDEF-4DC0-91BB-941186ED0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45720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219320"/>
            <a:ext cx="304920" cy="30456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3276720"/>
            <a:ext cx="304920" cy="30456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98108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198108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3200400"/>
            <a:ext cx="304560" cy="3049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"/>
          <p:cNvCxnSpPr>
            <a:stCxn id="41" idx="2"/>
            <a:endCxn id="42" idx="0"/>
          </p:cNvCxnSpPr>
          <p:nvPr/>
        </p:nvCxnSpPr>
        <p:spPr>
          <a:xfrm flipH="1">
            <a:off x="838440" y="685800"/>
            <a:ext cx="38160" cy="533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2" idx="3"/>
            <a:endCxn id="44" idx="0"/>
          </p:cNvCxnSpPr>
          <p:nvPr/>
        </p:nvCxnSpPr>
        <p:spPr>
          <a:xfrm flipH="1">
            <a:off x="419040" y="1479240"/>
            <a:ext cx="311760" cy="502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2"/>
            <a:endCxn id="43" idx="1"/>
          </p:cNvCxnSpPr>
          <p:nvPr/>
        </p:nvCxnSpPr>
        <p:spPr>
          <a:xfrm>
            <a:off x="419040" y="2209680"/>
            <a:ext cx="6840" cy="1112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5943600" y="480060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6" idx="4"/>
            <a:endCxn id="50" idx="0"/>
          </p:cNvCxnSpPr>
          <p:nvPr/>
        </p:nvCxnSpPr>
        <p:spPr>
          <a:xfrm>
            <a:off x="5257800" y="3505320"/>
            <a:ext cx="800280" cy="129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2" idx="5"/>
            <a:endCxn id="45" idx="1"/>
          </p:cNvCxnSpPr>
          <p:nvPr/>
        </p:nvCxnSpPr>
        <p:spPr>
          <a:xfrm>
            <a:off x="946080" y="1479240"/>
            <a:ext cx="4159800" cy="616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endCxn id="45" idx="0"/>
          </p:cNvCxnSpPr>
          <p:nvPr/>
        </p:nvCxnSpPr>
        <p:spPr>
          <a:xfrm>
            <a:off x="5181480" y="609120"/>
            <a:ext cx="38520" cy="1372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694080" y="-31320"/>
            <a:ext cx="122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xy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Blue squa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88920" y="760680"/>
            <a:ext cx="134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ext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Green circl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5715000"/>
            <a:ext cx="381240" cy="304920"/>
          </a:xfrm>
          <a:prstGeom prst="hexagon">
            <a:avLst>
              <a:gd name="adj" fmla="val 31257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32120" y="226440"/>
            <a:ext cx="1378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ent s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tachEvent ca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th parameter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0,PM1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pName”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rgetMethod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57800" y="990720"/>
            <a:ext cx="38088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78040" y="2284920"/>
            <a:ext cx="137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ward 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context 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4480" y="175140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C_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7080" y="2961000"/>
            <a:ext cx="1145520" cy="30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ext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2840" y="1889640"/>
            <a:ext cx="75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C_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0" idx="2"/>
            <a:endCxn id="56" idx="0"/>
          </p:cNvCxnSpPr>
          <p:nvPr/>
        </p:nvCxnSpPr>
        <p:spPr>
          <a:xfrm>
            <a:off x="6057720" y="5029200"/>
            <a:ext cx="72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5" idx="2"/>
            <a:endCxn id="46" idx="0"/>
          </p:cNvCxnSpPr>
          <p:nvPr/>
        </p:nvCxnSpPr>
        <p:spPr>
          <a:xfrm>
            <a:off x="5219640" y="2209680"/>
            <a:ext cx="38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380880" y="480060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43" idx="4"/>
            <a:endCxn id="65" idx="0"/>
          </p:cNvCxnSpPr>
          <p:nvPr/>
        </p:nvCxnSpPr>
        <p:spPr>
          <a:xfrm flipH="1">
            <a:off x="495000" y="3581280"/>
            <a:ext cx="3888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5337360" y="2746800"/>
            <a:ext cx="1145520" cy="30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ext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5638680"/>
            <a:ext cx="380880" cy="304920"/>
          </a:xfrm>
          <a:prstGeom prst="hexagon">
            <a:avLst>
              <a:gd name="adj" fmla="val 31228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5" idx="2"/>
            <a:endCxn id="68" idx="0"/>
          </p:cNvCxnSpPr>
          <p:nvPr/>
        </p:nvCxnSpPr>
        <p:spPr>
          <a:xfrm>
            <a:off x="495000" y="5029200"/>
            <a:ext cx="7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610560" y="449460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73280" y="457092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8400" y="540900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: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75800" y="548532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: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45" idx="1"/>
            <a:endCxn id="46" idx="1"/>
          </p:cNvCxnSpPr>
          <p:nvPr/>
        </p:nvCxnSpPr>
        <p:spPr>
          <a:xfrm flipH="1" flipV="1" rot="10800000">
            <a:off x="5105520" y="2095200"/>
            <a:ext cx="45000" cy="1150200"/>
          </a:xfrm>
          <a:prstGeom prst="curvedConnector3">
            <a:avLst>
              <a:gd name="adj1" fmla="val -443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46" idx="2"/>
            <a:endCxn id="65" idx="3"/>
          </p:cNvCxnSpPr>
          <p:nvPr/>
        </p:nvCxnSpPr>
        <p:spPr>
          <a:xfrm flipH="1">
            <a:off x="609480" y="3353040"/>
            <a:ext cx="4496400" cy="156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6" idx="3"/>
            <a:endCxn id="50" idx="1"/>
          </p:cNvCxnSpPr>
          <p:nvPr/>
        </p:nvCxnSpPr>
        <p:spPr>
          <a:xfrm flipH="1" rot="16200000">
            <a:off x="4820040" y="3790800"/>
            <a:ext cx="1454400" cy="793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5718240" y="3199680"/>
            <a:ext cx="1445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is conn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modu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 and M2 in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 binding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457200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86200" y="335268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10080" y="3429000"/>
            <a:ext cx="38124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19000" y="3000600"/>
            <a:ext cx="190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d UC1 into Prope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ancontext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steners of module 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95920" y="4387680"/>
            <a:ext cx="2309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d UC1 into Prope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ancontext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steners of module 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addPropertyChangeListen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48320" y="274320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4T17:35:24Z</dcterms:created>
  <dc:creator>Valued Gateway Customer</dc:creator>
  <dc:description/>
  <dc:language>en-US</dc:language>
  <cp:lastModifiedBy>Valued Gateway Customer</cp:lastModifiedBy>
  <dcterms:modified xsi:type="dcterms:W3CDTF">1999-05-24T22:45:41Z</dcterms:modified>
  <cp:revision>6</cp:revision>
  <dc:subject/>
  <dc:title>No Slide Title</dc:title>
</cp:coreProperties>
</file>