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9D4-54FD-441C-A86F-CFE2C718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EA3-0690-486A-9818-CC5ED591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F43-01AF-488E-86C8-75A19532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C36-C4ED-4215-A256-31FE7F07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08A-CC2F-41D4-B83D-0715697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6FA-2086-4AC8-9D51-B4AFFB5F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3AD-2D2A-4557-9611-002E0304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CCC-FBF3-4FA0-BEE1-121DC9BE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13B-1EB3-4BC5-9961-1FAAD0C1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D99-CB27-4160-ADD8-A7025433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74B-2F9A-4FE0-9121-B0C3DBF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BCD-122C-4AE0-B4E4-87627CEF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06CB-B3B9-41FD-8F05-E9FBD3A44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685800"/>
            <a:ext cx="411480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35812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14479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RemoteAcc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48769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33940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2"/>
            <a:endCxn id="44" idx="1"/>
          </p:cNvCxnSpPr>
          <p:nvPr/>
        </p:nvCxnSpPr>
        <p:spPr>
          <a:xfrm>
            <a:off x="1285920" y="3853800"/>
            <a:ext cx="1896480" cy="114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7"/>
            <a:endCxn id="42" idx="2"/>
          </p:cNvCxnSpPr>
          <p:nvPr/>
        </p:nvCxnSpPr>
        <p:spPr>
          <a:xfrm flipV="1">
            <a:off x="3828600" y="3962520"/>
            <a:ext cx="857880" cy="103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endCxn id="42" idx="1"/>
          </p:cNvCxnSpPr>
          <p:nvPr/>
        </p:nvCxnSpPr>
        <p:spPr>
          <a:xfrm>
            <a:off x="1752120" y="3733920"/>
            <a:ext cx="2134440" cy="3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endCxn id="43" idx="2"/>
          </p:cNvCxnSpPr>
          <p:nvPr/>
        </p:nvCxnSpPr>
        <p:spPr>
          <a:xfrm flipH="1" flipV="1">
            <a:off x="4724280" y="1828800"/>
            <a:ext cx="38520" cy="179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5" idx="3"/>
            <a:endCxn id="43" idx="1"/>
          </p:cNvCxnSpPr>
          <p:nvPr/>
        </p:nvCxnSpPr>
        <p:spPr>
          <a:xfrm flipV="1">
            <a:off x="1749600" y="1638360"/>
            <a:ext cx="2213280" cy="198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477120" y="14479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3" idx="3"/>
            <a:endCxn id="51" idx="1"/>
          </p:cNvCxnSpPr>
          <p:nvPr/>
        </p:nvCxnSpPr>
        <p:spPr>
          <a:xfrm>
            <a:off x="5486400" y="1638360"/>
            <a:ext cx="991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791320" y="12952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3623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5909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38098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44956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114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505320"/>
            <a:ext cx="1523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28600"/>
            <a:ext cx="76320" cy="579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1" idx="0"/>
            <a:endCxn id="41" idx="0"/>
          </p:cNvCxnSpPr>
          <p:nvPr/>
        </p:nvCxnSpPr>
        <p:spPr>
          <a:xfrm flipH="1" flipV="1">
            <a:off x="6400800" y="685800"/>
            <a:ext cx="8384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1512720" y="457200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9480" y="472428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meAccount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7000" y="350532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EJB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243828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720" y="1941480"/>
            <a:ext cx="72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79440" y="1712880"/>
            <a:ext cx="72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8600" y="5943600"/>
            <a:ext cx="138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Bean Prov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and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90520" y="594360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EJB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0880" y="91440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02240" y="44560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9T22:47:38Z</dcterms:created>
  <dc:creator>Valued Gateway Customer</dc:creator>
  <dc:description/>
  <dc:language>en-US</dc:language>
  <cp:lastModifiedBy>Valued Gateway Customer</cp:lastModifiedBy>
  <dcterms:modified xsi:type="dcterms:W3CDTF">1999-04-30T03:26:44Z</dcterms:modified>
  <cp:revision>2</cp:revision>
  <dc:subject/>
  <dc:title>No Slide Title</dc:title>
</cp:coreProperties>
</file>