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D79-4FCB-4900-B946-A6BC7326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841-C429-4091-8494-46CED64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9C6-EE1F-47B8-91B8-F8299E11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A4D-B33F-483F-A073-AD33DB79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32F-914D-4842-8D97-B692E15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0AF-B596-4DCB-99F0-BA34E3D6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1ED-4617-4AAD-A8E6-6B2AFF4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CA9-E106-4ADB-A6C7-28718B8F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0A0-23BE-4B76-A95C-35D8454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715-FE17-4D93-BB40-F3ADA4F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8C8-B5EF-46D6-9EAA-B3F7A42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91A-09D0-4B96-962F-DEE87B6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9C43-D467-48C5-B5E5-86860C6F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685800"/>
            <a:ext cx="8381520" cy="5713560"/>
            <a:chOff x="457200" y="685800"/>
            <a:chExt cx="8381520" cy="5713560"/>
          </a:xfrm>
        </p:grpSpPr>
        <p:grpSp>
          <p:nvGrpSpPr>
            <p:cNvPr id="42" name=""/>
            <p:cNvGrpSpPr/>
            <p:nvPr/>
          </p:nvGrpSpPr>
          <p:grpSpPr>
            <a:xfrm>
              <a:off x="457200" y="685800"/>
              <a:ext cx="8381520" cy="5713560"/>
              <a:chOff x="457200" y="685800"/>
              <a:chExt cx="8381520" cy="5713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57200" y="685800"/>
                <a:ext cx="8381520" cy="5713560"/>
                <a:chOff x="457200" y="685800"/>
                <a:chExt cx="8381520" cy="571356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457200" y="685800"/>
                  <a:ext cx="8381520" cy="5713560"/>
                  <a:chOff x="457200" y="685800"/>
                  <a:chExt cx="8381520" cy="57135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3668760" y="685800"/>
                    <a:ext cx="5169960" cy="571356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821760" y="1153800"/>
                    <a:ext cx="2202120" cy="37465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330600" y="1153800"/>
                    <a:ext cx="2201040" cy="3746520"/>
                  </a:xfrm>
                  <a:prstGeom prst="rect">
                    <a:avLst/>
                  </a:pr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924360" y="1342080"/>
                    <a:ext cx="1996920" cy="748440"/>
                  </a:xfrm>
                  <a:prstGeom prst="rect">
                    <a:avLst/>
                  </a:prstGeom>
                  <a:solidFill>
                    <a:srgbClr val="00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33200" y="1342080"/>
                    <a:ext cx="1995480" cy="74844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User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924360" y="2090520"/>
                    <a:ext cx="2046960" cy="14986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924360" y="3683520"/>
                    <a:ext cx="2046960" cy="1122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7456680" y="2090520"/>
                    <a:ext cx="97200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6380640" y="2090520"/>
                    <a:ext cx="1025640" cy="2715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3976200" y="2159640"/>
                    <a:ext cx="1945080" cy="54720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976200" y="3678480"/>
                    <a:ext cx="19450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lication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477560" y="2278440"/>
                    <a:ext cx="933480" cy="596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6433200" y="2278440"/>
                    <a:ext cx="870120" cy="62172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App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8800" y="2839320"/>
                    <a:ext cx="20304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487760" y="312120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845240" y="4338360"/>
                    <a:ext cx="20556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790680" y="35895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996240" y="4151880"/>
                    <a:ext cx="20448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6586200" y="4151880"/>
                    <a:ext cx="20412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64" name=""/>
                  <p:cNvCxnSpPr/>
                  <p:nvPr/>
                </p:nvCxnSpPr>
                <p:spPr>
                  <a:xfrm>
                    <a:off x="6893280" y="3401280"/>
                    <a:ext cx="1080" cy="1886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5" name=""/>
                  <p:cNvCxnSpPr/>
                  <p:nvPr/>
                </p:nvCxnSpPr>
                <p:spPr>
                  <a:xfrm flipV="1" rot="10800000">
                    <a:off x="6689520" y="3729240"/>
                    <a:ext cx="10080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66" name=""/>
                  <p:cNvCxnSpPr/>
                  <p:nvPr/>
                </p:nvCxnSpPr>
                <p:spPr>
                  <a:xfrm>
                    <a:off x="6995880" y="3729600"/>
                    <a:ext cx="103320" cy="42264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67" name=""/>
                  <p:cNvSpPr/>
                  <p:nvPr/>
                </p:nvSpPr>
                <p:spPr>
                  <a:xfrm>
                    <a:off x="6790680" y="3121200"/>
                    <a:ext cx="205560" cy="2800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09680" y="3307680"/>
                    <a:ext cx="716400" cy="1124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20080" y="368352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0" name=""/>
                  <p:cNvCxnSpPr/>
                  <p:nvPr/>
                </p:nvCxnSpPr>
                <p:spPr>
                  <a:xfrm>
                    <a:off x="7969320" y="3120840"/>
                    <a:ext cx="1080" cy="186840"/>
                  </a:xfrm>
                  <a:prstGeom prst="straightConnector1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1" name=""/>
                  <p:cNvCxnSpPr/>
                  <p:nvPr/>
                </p:nvCxnSpPr>
                <p:spPr>
                  <a:xfrm>
                    <a:off x="7866720" y="3543480"/>
                    <a:ext cx="255960" cy="14040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cxnSp>
                <p:nvCxnSpPr>
                  <p:cNvPr id="72" name=""/>
                  <p:cNvCxnSpPr/>
                  <p:nvPr/>
                </p:nvCxnSpPr>
                <p:spPr>
                  <a:xfrm rot="5400000">
                    <a:off x="7924320" y="3905640"/>
                    <a:ext cx="140400" cy="255960"/>
                  </a:xfrm>
                  <a:prstGeom prst="bentConnector2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cxnSp>
              <p:sp>
                <p:nvSpPr>
                  <p:cNvPr id="73" name=""/>
                  <p:cNvSpPr/>
                  <p:nvPr/>
                </p:nvSpPr>
                <p:spPr>
                  <a:xfrm>
                    <a:off x="7662240" y="340128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2240" y="3963960"/>
                    <a:ext cx="204120" cy="2818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5255280" y="3215160"/>
                    <a:ext cx="205560" cy="280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76" name=""/>
                  <p:cNvCxnSpPr/>
                  <p:nvPr/>
                </p:nvCxnSpPr>
                <p:spPr>
                  <a:xfrm flipV="1">
                    <a:off x="4282200" y="2886840"/>
                    <a:ext cx="615960" cy="9432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7" name=""/>
                  <p:cNvCxnSpPr/>
                  <p:nvPr/>
                </p:nvCxnSpPr>
                <p:spPr>
                  <a:xfrm flipH="1" rot="16200000">
                    <a:off x="4264920" y="3037320"/>
                    <a:ext cx="140400" cy="3067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8" name=""/>
                  <p:cNvCxnSpPr/>
                  <p:nvPr/>
                </p:nvCxnSpPr>
                <p:spPr>
                  <a:xfrm>
                    <a:off x="4692240" y="3261600"/>
                    <a:ext cx="563760" cy="94320"/>
                  </a:xfrm>
                  <a:prstGeom prst="bentConnector3">
                    <a:avLst>
                      <a:gd name="adj1" fmla="val 49968"/>
                    </a:avLst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79" name=""/>
                  <p:cNvCxnSpPr/>
                  <p:nvPr/>
                </p:nvCxnSpPr>
                <p:spPr>
                  <a:xfrm flipV="1">
                    <a:off x="4692240" y="3026160"/>
                    <a:ext cx="308880" cy="23508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80" name=""/>
                  <p:cNvCxnSpPr/>
                  <p:nvPr/>
                </p:nvCxnSpPr>
                <p:spPr>
                  <a:xfrm flipV="1">
                    <a:off x="5461200" y="2932920"/>
                    <a:ext cx="203760" cy="4226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3873240" y="5650920"/>
                    <a:ext cx="4606560" cy="514440"/>
                    <a:chOff x="3873240" y="5650920"/>
                    <a:chExt cx="4606560" cy="51444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387324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65160" y="5650920"/>
                      <a:ext cx="4597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25528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59472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7320" y="5650920"/>
                      <a:ext cx="46152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732960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8019720" y="5650920"/>
                      <a:ext cx="460080" cy="5144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" name=""/>
                  <p:cNvSpPr/>
                  <p:nvPr/>
                </p:nvSpPr>
                <p:spPr>
                  <a:xfrm>
                    <a:off x="457200" y="685800"/>
                    <a:ext cx="3055320" cy="571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is give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y a hierarchy of contain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component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er hosts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s and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ach user maintai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 number of applications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osed of </a:t>
                    </a:r>
                    <a:br>
                      <a:rPr sz="1400"/>
                    </a:b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ustom module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d </a:t>
                    </a:r>
                    <a:br>
                      <a:rPr sz="2000"/>
                    </a:b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mon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38920" y="5034240"/>
                    <a:ext cx="4151880" cy="52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bFlow Servic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866720" y="2839320"/>
                  <a:ext cx="205560" cy="2818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63800" y="2652840"/>
                  <a:ext cx="203040" cy="280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4897800" y="2747160"/>
                <a:ext cx="203040" cy="280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" name=""/>
            <p:cNvCxnSpPr/>
            <p:nvPr/>
          </p:nvCxnSpPr>
          <p:spPr>
            <a:xfrm flipV="1" rot="10800000">
              <a:off x="5100480" y="2792160"/>
              <a:ext cx="463320" cy="9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20:22:51Z</dcterms:created>
  <dc:creator>Valued Gateway Customer</dc:creator>
  <dc:description/>
  <dc:language>en-US</dc:language>
  <cp:lastModifiedBy>Valued Gateway Customer</cp:lastModifiedBy>
  <dcterms:modified xsi:type="dcterms:W3CDTF">1999-07-10T20:28:00Z</dcterms:modified>
  <cp:revision>2</cp:revision>
  <dc:subject/>
  <dc:title>No Slide Title</dc:title>
</cp:coreProperties>
</file>