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DE9-2FF1-47A0-AD67-AA64B565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6FD-B248-40F1-ABB2-EF4E3E60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7BB-B33A-45B7-9D64-21294D25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8AF-6991-4EA9-A1E6-BFD7E486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336-FDE0-439E-9654-6F4F597F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509-9DE2-4078-8F66-A2F6E6AD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29A-45BC-490D-A1F8-C35D42D5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077-0CAC-4D90-9D61-AA5D5DB2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2A6-C1B8-4671-9A27-8D0A8624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E05-DF25-46BA-93FD-63C9A410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385-4B42-4C5E-B912-56FAC578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F65-30F2-4307-8720-B326E09D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88DD-1EB7-45CE-9479-16F23B034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um Simul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WebFlow - a High Level Visual Interface for Glo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Akarsu, G. Fox, W. Furmanski, T.Haupt, L. M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ebflow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1666800" cy="809640"/>
          </a:xfrm>
          <a:prstGeom prst="rect">
            <a:avLst/>
          </a:prstGeom>
          <a:ln w="0">
            <a:noFill/>
          </a:ln>
        </p:spPr>
      </p:pic>
      <p:pic>
        <p:nvPicPr>
          <p:cNvPr id="44" name="globus-logo" descr=""/>
          <p:cNvPicPr/>
          <p:nvPr/>
        </p:nvPicPr>
        <p:blipFill>
          <a:blip r:embed="rId2"/>
          <a:stretch/>
        </p:blipFill>
        <p:spPr>
          <a:xfrm>
            <a:off x="2286000" y="7621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45" name="npac_logo" descr=""/>
          <p:cNvPicPr/>
          <p:nvPr/>
        </p:nvPicPr>
        <p:blipFill>
          <a:blip r:embed="rId3"/>
          <a:stretch/>
        </p:blipFill>
        <p:spPr>
          <a:xfrm>
            <a:off x="6324480" y="838080"/>
            <a:ext cx="1781280" cy="552600"/>
          </a:xfrm>
          <a:prstGeom prst="rect">
            <a:avLst/>
          </a:prstGeom>
          <a:ln w="0">
            <a:noFill/>
          </a:ln>
        </p:spPr>
      </p:pic>
      <p:pic>
        <p:nvPicPr>
          <p:cNvPr id="46" name="ncsalogo" descr=""/>
          <p:cNvPicPr/>
          <p:nvPr/>
        </p:nvPicPr>
        <p:blipFill>
          <a:blip r:embed="rId4"/>
          <a:stretch/>
        </p:blipFill>
        <p:spPr>
          <a:xfrm>
            <a:off x="6781680" y="1523880"/>
            <a:ext cx="7430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g2a" descr=""/>
          <p:cNvPicPr/>
          <p:nvPr/>
        </p:nvPicPr>
        <p:blipFill>
          <a:blip r:embed="rId1"/>
          <a:stretch/>
        </p:blipFill>
        <p:spPr>
          <a:xfrm>
            <a:off x="1219320" y="692280"/>
            <a:ext cx="6858000" cy="535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F97-BD0D-47F2-93FE-E2E1D7A016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itas1" descr=""/>
          <p:cNvPicPr/>
          <p:nvPr/>
        </p:nvPicPr>
        <p:blipFill>
          <a:blip r:embed="rId1"/>
          <a:stretch/>
        </p:blipFill>
        <p:spPr>
          <a:xfrm>
            <a:off x="1338120" y="1090440"/>
            <a:ext cx="6467760" cy="467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B79-3A9B-42A3-BC41-CB6AE29BAC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Simula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lem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hain of high performance applications is run repeatedly for different data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application can be run on several different platforms, depending on the problem size and the load of the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 and output files must be moved between the machines,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 files are visually inspected by the researcher; if necessary applications are rerun with modified inpu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ically, output files must be converted to a different format before using them as input to the next application in the ch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613-0A3D-444B-901D-3C2FDCD337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ution using the Web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front-end for visual authoring: drag-and-drop composition of meta-applications from compute-web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middle-tier implementing distributed object technologies in Java (platform independent, including NT-workstations). The implementation is based on industry standards: currently servlet extended httpd servers, and evolving towards CORB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Flow back-end based on commodity software components, in particular low level matacomputing toolkit Globus for HP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3CF-4C82-48CE-BC9B-45F8CEC94C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articular,  for Quantum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editor to visually compose the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integrated with the WebFlow metacomputing directory services (MDS) of Globus to identify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WebFlow proxies to Globus resource allocation manager (GRAM) to allocate the resources, including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high performance data transfer mechanisms of Globus (GASS, 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commodity DBMS or LDAP services to identify and retrieve data set a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1DE-AAE6-448D-B69C-9CA85FB3C3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ntum Simulations using the Web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mitas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953120" cy="46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690-FEC6-49AA-BEC7-04D9260661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d" descr=""/>
          <p:cNvPicPr/>
          <p:nvPr/>
        </p:nvPicPr>
        <p:blipFill>
          <a:blip r:embed="rId1"/>
          <a:stretch/>
        </p:blipFill>
        <p:spPr>
          <a:xfrm>
            <a:off x="1290600" y="-33480"/>
            <a:ext cx="6562800" cy="692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. Haupt, NPAC at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FD5-E9B7-4F79-9C35-18830B5F7E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liance '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15:10:20Z</dcterms:created>
  <dc:creator>tomek</dc:creator>
  <dc:description/>
  <dc:language>en-US</dc:language>
  <cp:lastModifiedBy>Tomasz Haupt</cp:lastModifiedBy>
  <dcterms:modified xsi:type="dcterms:W3CDTF">1998-05-05T16:19:22Z</dcterms:modified>
  <cp:revision>1</cp:revision>
  <dc:subject/>
  <dc:title>Quantum Simulations using WebFlow - a High Level Visual Interface for Globus</dc:title>
</cp:coreProperties>
</file>