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122-C41C-42BB-A2FE-249B5314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090-28FF-4486-93A6-CCAE89B2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24F-7E90-47FC-B8C0-44136E57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31C-CF82-47D0-8A14-C2D0DAA8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A081-FA3A-4AFD-9931-F49DC156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C3C-53D8-487F-BF02-D1DCC320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C50-D538-485C-B569-AD7F49F6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CB6-1B30-411D-BCFB-1978F7F8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A22-E7A0-480A-BC72-AEAFAA06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FF8-A7CE-4A95-A5BF-ABC54122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6AC-821D-4060-8EBB-C4E6BDD8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1060-4364-4E4D-839B-268AC1B1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C342-36DA-4EE5-9666-5A1285C7E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4654080" y="565560"/>
            <a:ext cx="261000" cy="1790280"/>
          </a:xfrm>
          <a:prstGeom prst="bentConnector4">
            <a:avLst>
              <a:gd name="adj1" fmla="val 801243"/>
              <a:gd name="adj2" fmla="val 1132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458080" y="159480"/>
            <a:ext cx="261000" cy="2602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214080" y="915480"/>
            <a:ext cx="261000" cy="1090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3934080" y="1285560"/>
            <a:ext cx="261000" cy="350280"/>
          </a:xfrm>
          <a:prstGeom prst="bentConnector4">
            <a:avLst>
              <a:gd name="adj1" fmla="val 801243"/>
              <a:gd name="adj2" fmla="val 25195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8560" y="29520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2"/>
            <a:endCxn id="53" idx="4"/>
          </p:cNvCxnSpPr>
          <p:nvPr/>
        </p:nvCxnSpPr>
        <p:spPr>
          <a:xfrm rot="5400000">
            <a:off x="5374080" y="-163800"/>
            <a:ext cx="270360" cy="3239640"/>
          </a:xfrm>
          <a:prstGeom prst="bentConnector4">
            <a:avLst>
              <a:gd name="adj1" fmla="val 776933"/>
              <a:gd name="adj2" fmla="val 107334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76" idx="2"/>
            <a:endCxn id="84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4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74" idx="2"/>
            <a:endCxn id="84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5" idx="2"/>
            <a:endCxn id="84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79" idx="0"/>
            <a:endCxn id="89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8" idx="0"/>
            <a:endCxn id="89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7" idx="0"/>
            <a:endCxn id="89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1" idx="0"/>
            <a:endCxn id="89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0" idx="0"/>
            <a:endCxn id="89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6858000" y="51814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102" idx="2"/>
            <a:endCxn id="84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7" idx="3"/>
            <a:endCxn id="109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1"/>
            <a:endCxn id="111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9" idx="2"/>
            <a:endCxn id="113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3"/>
            <a:endCxn id="108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8" idx="3"/>
            <a:endCxn id="114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1" idx="2"/>
            <a:endCxn id="116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1" idx="3"/>
            <a:endCxn id="110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0" idx="2"/>
            <a:endCxn id="115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0" idx="2"/>
            <a:endCxn id="112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115880" y="403848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0"/>
            <a:endCxn id="105" idx="4"/>
          </p:cNvCxnSpPr>
          <p:nvPr/>
        </p:nvCxnSpPr>
        <p:spPr>
          <a:xfrm flipH="1" flipV="1">
            <a:off x="4609800" y="3047400"/>
            <a:ext cx="54720" cy="991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8" name=""/>
          <p:cNvCxnSpPr>
            <a:stCxn id="126" idx="1"/>
            <a:endCxn id="104" idx="6"/>
          </p:cNvCxnSpPr>
          <p:nvPr/>
        </p:nvCxnSpPr>
        <p:spPr>
          <a:xfrm flipH="1">
            <a:off x="3047400" y="4449600"/>
            <a:ext cx="1067400" cy="84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2"/>
            <a:endCxn id="109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endCxn id="108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endCxn id="114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4" name=""/>
          <p:cNvCxnSpPr>
            <a:stCxn id="132" idx="0"/>
            <a:endCxn id="113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5" name=""/>
          <p:cNvCxnSpPr>
            <a:stCxn id="126" idx="3"/>
            <a:endCxn id="106" idx="1"/>
          </p:cNvCxnSpPr>
          <p:nvPr/>
        </p:nvCxnSpPr>
        <p:spPr>
          <a:xfrm flipV="1">
            <a:off x="5213160" y="3936600"/>
            <a:ext cx="1229400" cy="5133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02T18:28:52Z</dcterms:modified>
  <cp:revision>8</cp:revision>
  <dc:subject/>
  <dc:title>No Slide Title</dc:title>
</cp:coreProperties>
</file>