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A84-F74C-4DAB-800B-D5DB36F6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A35-0832-4518-AB0D-7DB1F43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7C9-4284-4C0B-B600-E274DC11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597-236A-4E28-96E6-4DD1B8B6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AC3-7C42-4CFC-943E-A42DC698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06B-E965-4D12-8882-1AC78D2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0AA-5C34-44A9-B5FE-E1DA3209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1E3-1A9B-42CB-9898-D12A9BEB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ADC-C233-485C-96C0-59B2526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0D5-F0B1-473D-BA5B-CF98241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D8E-77E1-48DF-B520-F947E7F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E5-F3C6-444D-9B2A-8658218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D932-FB61-405A-954B-CAA7A97B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4838400" y="792720"/>
            <a:ext cx="1904040" cy="10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8480" y="2164680"/>
            <a:ext cx="87516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2080" y="2164680"/>
            <a:ext cx="1219320" cy="85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482120" y="1899360"/>
            <a:ext cx="851040" cy="13816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787000" y="2060280"/>
            <a:ext cx="851040" cy="1059480"/>
          </a:xfrm>
          <a:prstGeom prst="curvedConnector3">
            <a:avLst>
              <a:gd name="adj1" fmla="val 24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866600" y="3161520"/>
            <a:ext cx="1384920" cy="18291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895120" y="3961440"/>
            <a:ext cx="1384920" cy="22896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05960" y="3737160"/>
            <a:ext cx="1308600" cy="601920"/>
          </a:xfrm>
          <a:prstGeom prst="curvedConnector3">
            <a:avLst>
              <a:gd name="adj1" fmla="val 250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213372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4-29T21:31:37Z</dcterms:modified>
  <cp:revision>17</cp:revision>
  <dc:subject/>
  <dc:title>No Slide Title</dc:title>
</cp:coreProperties>
</file>