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95F-86E9-40F9-85AC-7525CDFF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4FF-9597-4F45-928C-77A2E6F6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0ED-6ED5-4A90-82D9-859DA84A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637-D3AC-461F-BDC5-8377D0E6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741-917E-40D2-9F1C-210C8D4A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CAE-6006-4265-88FF-8F96961F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AFE-39C8-4241-ABCD-13D31E12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363-9DFE-4C08-B7AB-88DB219F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FAE-592C-4D21-A518-07C04B92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1C6-4371-4B5B-9925-9F006F4D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33A-18E5-4D37-9F53-F1053C4B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0F6-8835-4840-AD2A-A81B25C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543-E542-4C29-A3C0-31D7C1C1F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dcterms:modified xsi:type="dcterms:W3CDTF">1999-09-26T23:27:55Z</dcterms:modified>
  <cp:revision>1</cp:revision>
  <dc:subject/>
  <dc:title>No Slide Title</dc:title>
</cp:coreProperties>
</file>