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724-C77D-4810-8D08-8D00F0D2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800-2EBE-42D0-869A-6E5E463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CF5-8A57-456B-8903-943C0435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60B-FFD6-4493-9F31-A6A33A67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6C5-349D-4D9D-9936-750A5BDA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8FB-2099-4B54-B3DB-765904BE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27A-34BB-420B-909C-FC0D0C7A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997-D726-4A2A-BC53-9AE58975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4B3-335D-405B-9519-EC5E00FD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996-55A2-467F-8208-AD88618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3A7-3666-4025-A262-FF6B904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EA8-6951-4605-9FFF-D0E6E63F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9F55-67A9-464A-8C3E-F97EEBB9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0040" y="314280"/>
            <a:ext cx="14479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620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314280"/>
            <a:ext cx="130032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5840" y="31428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08560" y="5537160"/>
            <a:ext cx="112212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68920" y="5537160"/>
            <a:ext cx="11206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784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080" y="5537160"/>
            <a:ext cx="112104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6400" y="5537160"/>
            <a:ext cx="1122480" cy="103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2"/>
            <a:endCxn id="53" idx="0"/>
          </p:cNvCxnSpPr>
          <p:nvPr/>
        </p:nvCxnSpPr>
        <p:spPr>
          <a:xfrm rot="5400000">
            <a:off x="5076720" y="152280"/>
            <a:ext cx="251280" cy="2626560"/>
          </a:xfrm>
          <a:prstGeom prst="bentConnector4">
            <a:avLst>
              <a:gd name="adj1" fmla="val 828407"/>
              <a:gd name="adj2" fmla="val 1090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1" idx="2"/>
            <a:endCxn id="53" idx="1"/>
          </p:cNvCxnSpPr>
          <p:nvPr/>
        </p:nvCxnSpPr>
        <p:spPr>
          <a:xfrm flipH="1" rot="16200000">
            <a:off x="2881440" y="582480"/>
            <a:ext cx="251280" cy="1765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2"/>
            <a:endCxn id="53" idx="2"/>
          </p:cNvCxnSpPr>
          <p:nvPr/>
        </p:nvCxnSpPr>
        <p:spPr>
          <a:xfrm flipH="1" rot="16200000">
            <a:off x="3637440" y="1338480"/>
            <a:ext cx="251280" cy="253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2"/>
            <a:endCxn id="53" idx="3"/>
          </p:cNvCxnSpPr>
          <p:nvPr/>
        </p:nvCxnSpPr>
        <p:spPr>
          <a:xfrm rot="5400000">
            <a:off x="4357080" y="871920"/>
            <a:ext cx="251280" cy="1186920"/>
          </a:xfrm>
          <a:prstGeom prst="bentConnector4">
            <a:avLst>
              <a:gd name="adj1" fmla="val 828407"/>
              <a:gd name="adj2" fmla="val 1200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0"/>
            <a:endCxn id="58" idx="0"/>
          </p:cNvCxnSpPr>
          <p:nvPr/>
        </p:nvCxnSpPr>
        <p:spPr>
          <a:xfrm flipV="1" rot="16200000">
            <a:off x="4893120" y="2940840"/>
            <a:ext cx="1602000" cy="359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58" idx="1"/>
          </p:cNvCxnSpPr>
          <p:nvPr/>
        </p:nvCxnSpPr>
        <p:spPr>
          <a:xfrm flipV="1" rot="16200000">
            <a:off x="4263120" y="3570840"/>
            <a:ext cx="1602000" cy="233064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5" idx="0"/>
            <a:endCxn id="58" idx="2"/>
          </p:cNvCxnSpPr>
          <p:nvPr/>
        </p:nvCxnSpPr>
        <p:spPr>
          <a:xfrm flipV="1" rot="16200000">
            <a:off x="3633480" y="4200840"/>
            <a:ext cx="1602000" cy="1071000"/>
          </a:xfrm>
          <a:prstGeom prst="bentConnector3">
            <a:avLst>
              <a:gd name="adj1" fmla="val 1144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0" idx="0"/>
            <a:endCxn id="58" idx="3"/>
          </p:cNvCxnSpPr>
          <p:nvPr/>
        </p:nvCxnSpPr>
        <p:spPr>
          <a:xfrm flipH="1" flipV="1" rot="5400000">
            <a:off x="3002040" y="4640760"/>
            <a:ext cx="1602000" cy="191520"/>
          </a:xfrm>
          <a:prstGeom prst="bentConnector4">
            <a:avLst>
              <a:gd name="adj1" fmla="val 35648"/>
              <a:gd name="adj2" fmla="val -35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9" idx="0"/>
            <a:endCxn id="58" idx="4"/>
          </p:cNvCxnSpPr>
          <p:nvPr/>
        </p:nvCxnSpPr>
        <p:spPr>
          <a:xfrm flipH="1" flipV="1" rot="5400000">
            <a:off x="2378520" y="4017240"/>
            <a:ext cx="1602000" cy="1438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48" idx="0"/>
            <a:endCxn id="58" idx="5"/>
          </p:cNvCxnSpPr>
          <p:nvPr/>
        </p:nvCxnSpPr>
        <p:spPr>
          <a:xfrm flipH="1" flipV="1" rot="5400000">
            <a:off x="1755000" y="3393720"/>
            <a:ext cx="1602000" cy="2685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7478640" y="501012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9760" y="5006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8160" y="50198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19520" y="50068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53280" y="5002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  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800600"/>
            <a:ext cx="8153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400" y="304920"/>
            <a:ext cx="14479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304920"/>
            <a:ext cx="129996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 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-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1300320" cy="102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428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5943600"/>
            <a:ext cx="11224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4560" y="5943600"/>
            <a:ext cx="112212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5943600"/>
            <a:ext cx="1120680" cy="558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2800" y="3170160"/>
            <a:ext cx="4433760" cy="7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Middle-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3240" y="1811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,and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590840"/>
            <a:ext cx="743040" cy="1593720"/>
          </a:xfrm>
          <a:prstGeom prst="downArrow">
            <a:avLst>
              <a:gd name="adj1" fmla="val 50000"/>
              <a:gd name="adj2" fmla="val 536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4" idx="2"/>
            <a:endCxn id="82" idx="0"/>
          </p:cNvCxnSpPr>
          <p:nvPr/>
        </p:nvCxnSpPr>
        <p:spPr>
          <a:xfrm rot="5400000">
            <a:off x="4839480" y="750960"/>
            <a:ext cx="261360" cy="14198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71" idx="2"/>
            <a:endCxn id="82" idx="1"/>
          </p:cNvCxnSpPr>
          <p:nvPr/>
        </p:nvCxnSpPr>
        <p:spPr>
          <a:xfrm flipH="1" rot="16200000">
            <a:off x="2643840" y="-26640"/>
            <a:ext cx="261360" cy="297432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2" idx="2"/>
            <a:endCxn id="82" idx="2"/>
          </p:cNvCxnSpPr>
          <p:nvPr/>
        </p:nvCxnSpPr>
        <p:spPr>
          <a:xfrm flipH="1" rot="16200000">
            <a:off x="3399480" y="730080"/>
            <a:ext cx="261360" cy="14612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3" idx="2"/>
            <a:endCxn id="82" idx="3"/>
          </p:cNvCxnSpPr>
          <p:nvPr/>
        </p:nvCxnSpPr>
        <p:spPr>
          <a:xfrm flipH="1" rot="16200000">
            <a:off x="4120200" y="1449720"/>
            <a:ext cx="261360" cy="2160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3898800" y="3935520"/>
            <a:ext cx="74304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7" idx="0"/>
            <a:endCxn id="87" idx="0"/>
          </p:cNvCxnSpPr>
          <p:nvPr/>
        </p:nvCxnSpPr>
        <p:spPr>
          <a:xfrm flipV="1" rot="16200000">
            <a:off x="4767480" y="3895920"/>
            <a:ext cx="1550160" cy="2545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6" idx="0"/>
            <a:endCxn id="87" idx="1"/>
          </p:cNvCxnSpPr>
          <p:nvPr/>
        </p:nvCxnSpPr>
        <p:spPr>
          <a:xfrm flipV="1" rot="16200000">
            <a:off x="4137480" y="4525920"/>
            <a:ext cx="1550160" cy="12852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5" idx="0"/>
            <a:endCxn id="87" idx="2"/>
          </p:cNvCxnSpPr>
          <p:nvPr/>
        </p:nvCxnSpPr>
        <p:spPr>
          <a:xfrm flipV="1" rot="16200000">
            <a:off x="3507840" y="5155560"/>
            <a:ext cx="1550160" cy="262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9" idx="0"/>
            <a:endCxn id="87" idx="3"/>
          </p:cNvCxnSpPr>
          <p:nvPr/>
        </p:nvCxnSpPr>
        <p:spPr>
          <a:xfrm flipH="1" flipV="1" rot="5400000">
            <a:off x="2821320" y="4494600"/>
            <a:ext cx="1550160" cy="13485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78" idx="0"/>
            <a:endCxn id="87" idx="4"/>
          </p:cNvCxnSpPr>
          <p:nvPr/>
        </p:nvCxnSpPr>
        <p:spPr>
          <a:xfrm flipH="1" flipV="1" rot="5400000">
            <a:off x="2198160" y="3871440"/>
            <a:ext cx="1550160" cy="2594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6804000" y="54165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120" y="5413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3520" y="5425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6280" y="540864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876920"/>
            <a:ext cx="6324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User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443376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,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1814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O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4880" y="295200"/>
            <a:ext cx="1299960" cy="102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2"/>
            <a:endCxn id="82" idx="4"/>
          </p:cNvCxnSpPr>
          <p:nvPr/>
        </p:nvCxnSpPr>
        <p:spPr>
          <a:xfrm rot="5400000">
            <a:off x="5598000" y="-16560"/>
            <a:ext cx="270720" cy="29451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581280"/>
            <a:ext cx="228600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1430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657600"/>
            <a:ext cx="23623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152388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4197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962520"/>
            <a:ext cx="457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886200"/>
            <a:ext cx="457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3"/>
            <a:endCxn id="107" idx="1"/>
          </p:cNvCxnSpPr>
          <p:nvPr/>
        </p:nvCxnSpPr>
        <p:spPr>
          <a:xfrm>
            <a:off x="4800600" y="1676160"/>
            <a:ext cx="19058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5" idx="1"/>
            <a:endCxn id="109" idx="3"/>
          </p:cNvCxnSpPr>
          <p:nvPr/>
        </p:nvCxnSpPr>
        <p:spPr>
          <a:xfrm flipH="1">
            <a:off x="1828080" y="1676160"/>
            <a:ext cx="2515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7"/>
          </p:cNvCxnSpPr>
          <p:nvPr/>
        </p:nvCxnSpPr>
        <p:spPr>
          <a:xfrm flipH="1">
            <a:off x="6660360" y="4266720"/>
            <a:ext cx="27396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7" idx="3"/>
            <a:endCxn id="106" idx="0"/>
          </p:cNvCxnSpPr>
          <p:nvPr/>
        </p:nvCxnSpPr>
        <p:spPr>
          <a:xfrm>
            <a:off x="7162920" y="411444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6" idx="3"/>
            <a:endCxn id="112" idx="0"/>
          </p:cNvCxnSpPr>
          <p:nvPr/>
        </p:nvCxnSpPr>
        <p:spPr>
          <a:xfrm>
            <a:off x="7695720" y="45720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4" idx="6"/>
          </p:cNvCxnSpPr>
          <p:nvPr/>
        </p:nvCxnSpPr>
        <p:spPr>
          <a:xfrm flipH="1">
            <a:off x="1218960" y="41911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3"/>
            <a:endCxn id="108" idx="0"/>
          </p:cNvCxnSpPr>
          <p:nvPr/>
        </p:nvCxnSpPr>
        <p:spPr>
          <a:xfrm>
            <a:off x="1828440" y="4038120"/>
            <a:ext cx="3056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8" idx="2"/>
            <a:endCxn id="113" idx="7"/>
          </p:cNvCxnSpPr>
          <p:nvPr/>
        </p:nvCxnSpPr>
        <p:spPr>
          <a:xfrm flipH="1">
            <a:off x="1784160" y="464832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2"/>
            <a:endCxn id="110" idx="0"/>
          </p:cNvCxnSpPr>
          <p:nvPr/>
        </p:nvCxnSpPr>
        <p:spPr>
          <a:xfrm>
            <a:off x="2133360" y="4648320"/>
            <a:ext cx="229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5160" y="510552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0"/>
            <a:endCxn id="103" idx="3"/>
          </p:cNvCxnSpPr>
          <p:nvPr/>
        </p:nvCxnSpPr>
        <p:spPr>
          <a:xfrm flipV="1">
            <a:off x="3673440" y="2768040"/>
            <a:ext cx="102240" cy="23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6" name=""/>
          <p:cNvCxnSpPr>
            <a:stCxn id="124" idx="1"/>
            <a:endCxn id="102" idx="6"/>
          </p:cNvCxnSpPr>
          <p:nvPr/>
        </p:nvCxnSpPr>
        <p:spPr>
          <a:xfrm flipH="1" flipV="1">
            <a:off x="3047400" y="4533480"/>
            <a:ext cx="76680" cy="983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164000" y="22860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07" idx="0"/>
          </p:cNvCxnSpPr>
          <p:nvPr/>
        </p:nvCxnSpPr>
        <p:spPr>
          <a:xfrm flipH="1">
            <a:off x="6933960" y="3107880"/>
            <a:ext cx="862560" cy="8550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29" name=""/>
          <p:cNvCxnSpPr>
            <a:endCxn id="106" idx="0"/>
          </p:cNvCxnSpPr>
          <p:nvPr/>
        </p:nvCxnSpPr>
        <p:spPr>
          <a:xfrm flipH="1">
            <a:off x="7466760" y="3123720"/>
            <a:ext cx="30564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401520" y="57913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12" idx="3"/>
          </p:cNvCxnSpPr>
          <p:nvPr/>
        </p:nvCxnSpPr>
        <p:spPr>
          <a:xfrm flipV="1">
            <a:off x="7010280" y="5213160"/>
            <a:ext cx="807120" cy="501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0"/>
            <a:endCxn id="111" idx="4"/>
          </p:cNvCxnSpPr>
          <p:nvPr/>
        </p:nvCxnSpPr>
        <p:spPr>
          <a:xfrm flipH="1" flipV="1">
            <a:off x="6552720" y="4800240"/>
            <a:ext cx="473760" cy="991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3" name=""/>
          <p:cNvCxnSpPr>
            <a:stCxn id="124" idx="3"/>
            <a:endCxn id="104" idx="1"/>
          </p:cNvCxnSpPr>
          <p:nvPr/>
        </p:nvCxnSpPr>
        <p:spPr>
          <a:xfrm flipV="1">
            <a:off x="4222440" y="3936600"/>
            <a:ext cx="2220120" cy="15804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066680" y="609480"/>
            <a:ext cx="23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3"/>
            <a:endCxn id="105" idx="0"/>
          </p:cNvCxnSpPr>
          <p:nvPr/>
        </p:nvCxnSpPr>
        <p:spPr>
          <a:xfrm>
            <a:off x="3373200" y="1020600"/>
            <a:ext cx="1199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038480" y="2362320"/>
            <a:ext cx="1143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4280" y="3290760"/>
            <a:ext cx="9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endCxn id="139" idx="4"/>
          </p:cNvCxnSpPr>
          <p:nvPr/>
        </p:nvCxnSpPr>
        <p:spPr>
          <a:xfrm flipH="1" flipV="1">
            <a:off x="4952520" y="274284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0" idx="4"/>
          </p:cNvCxnSpPr>
          <p:nvPr/>
        </p:nvCxnSpPr>
        <p:spPr>
          <a:xfrm flipH="1" flipV="1">
            <a:off x="4799880" y="2818800"/>
            <a:ext cx="313560" cy="471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41" idx="5"/>
          </p:cNvCxnSpPr>
          <p:nvPr/>
        </p:nvCxnSpPr>
        <p:spPr>
          <a:xfrm flipH="1" flipV="1">
            <a:off x="4625640" y="2872800"/>
            <a:ext cx="488160" cy="417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990720"/>
            <a:ext cx="152424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38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3623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8" idx="3"/>
            <a:endCxn id="151" idx="0"/>
          </p:cNvCxnSpPr>
          <p:nvPr/>
        </p:nvCxnSpPr>
        <p:spPr>
          <a:xfrm flipH="1">
            <a:off x="2666160" y="1641600"/>
            <a:ext cx="1367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49" idx="0"/>
          </p:cNvCxnSpPr>
          <p:nvPr/>
        </p:nvCxnSpPr>
        <p:spPr>
          <a:xfrm flipH="1">
            <a:off x="1447200" y="3012840"/>
            <a:ext cx="68148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5"/>
            <a:endCxn id="150" idx="0"/>
          </p:cNvCxnSpPr>
          <p:nvPr/>
        </p:nvCxnSpPr>
        <p:spPr>
          <a:xfrm>
            <a:off x="5109840" y="1641240"/>
            <a:ext cx="1824840" cy="87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49760" y="60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8840" y="205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6640" y="2285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657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3440" y="51732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Gateway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48" idx="1"/>
          </p:cNvCxnSpPr>
          <p:nvPr/>
        </p:nvCxnSpPr>
        <p:spPr>
          <a:xfrm>
            <a:off x="3580920" y="761760"/>
            <a:ext cx="45324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28600" y="80676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6" idx="0"/>
          </p:cNvCxnSpPr>
          <p:nvPr/>
        </p:nvCxnSpPr>
        <p:spPr>
          <a:xfrm>
            <a:off x="1347480" y="1708200"/>
            <a:ext cx="9723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8954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1911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0" idx="4"/>
            <a:endCxn id="165" idx="0"/>
          </p:cNvCxnSpPr>
          <p:nvPr/>
        </p:nvCxnSpPr>
        <p:spPr>
          <a:xfrm flipH="1">
            <a:off x="6705000" y="3276720"/>
            <a:ext cx="229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0" idx="3"/>
            <a:endCxn id="167" idx="0"/>
          </p:cNvCxnSpPr>
          <p:nvPr/>
        </p:nvCxnSpPr>
        <p:spPr>
          <a:xfrm flipH="1">
            <a:off x="5638320" y="3165120"/>
            <a:ext cx="7581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8" idx="4"/>
            <a:endCxn id="166" idx="0"/>
          </p:cNvCxnSpPr>
          <p:nvPr/>
        </p:nvCxnSpPr>
        <p:spPr>
          <a:xfrm>
            <a:off x="4571640" y="17521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1" idx="4"/>
            <a:endCxn id="163" idx="0"/>
          </p:cNvCxnSpPr>
          <p:nvPr/>
        </p:nvCxnSpPr>
        <p:spPr>
          <a:xfrm>
            <a:off x="2666880" y="3124080"/>
            <a:ext cx="4579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5"/>
            <a:endCxn id="164" idx="0"/>
          </p:cNvCxnSpPr>
          <p:nvPr/>
        </p:nvCxnSpPr>
        <p:spPr>
          <a:xfrm>
            <a:off x="3205080" y="3013200"/>
            <a:ext cx="75816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/>
          <p:nvPr/>
        </p:nvCxnSpPr>
        <p:spPr>
          <a:xfrm flipV="1">
            <a:off x="5257800" y="4647600"/>
            <a:ext cx="3880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" name=""/>
          <p:cNvCxnSpPr>
            <a:endCxn id="164" idx="2"/>
          </p:cNvCxnSpPr>
          <p:nvPr/>
        </p:nvCxnSpPr>
        <p:spPr>
          <a:xfrm flipH="1" flipV="1">
            <a:off x="3962160" y="4647600"/>
            <a:ext cx="305280" cy="1586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flipV="1">
            <a:off x="4571640" y="3047760"/>
            <a:ext cx="187920" cy="27439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26440" y="22856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3885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3120" y="37335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M/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2040" y="37177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96440" y="3870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3212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524196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49" idx="5"/>
            <a:endCxn id="181" idx="0"/>
          </p:cNvCxnSpPr>
          <p:nvPr/>
        </p:nvCxnSpPr>
        <p:spPr>
          <a:xfrm>
            <a:off x="1985760" y="4613400"/>
            <a:ext cx="17532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9" idx="3"/>
            <a:endCxn id="183" idx="0"/>
          </p:cNvCxnSpPr>
          <p:nvPr/>
        </p:nvCxnSpPr>
        <p:spPr>
          <a:xfrm flipH="1">
            <a:off x="635760" y="4613400"/>
            <a:ext cx="2739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82" idx="0"/>
          </p:cNvCxnSpPr>
          <p:nvPr/>
        </p:nvCxnSpPr>
        <p:spPr>
          <a:xfrm>
            <a:off x="8229240" y="4647960"/>
            <a:ext cx="2772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71532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240" y="49366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B/D/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1600" y="49208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/C/G/M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50" idx="5"/>
          </p:cNvCxnSpPr>
          <p:nvPr/>
        </p:nvCxnSpPr>
        <p:spPr>
          <a:xfrm>
            <a:off x="7472160" y="3165480"/>
            <a:ext cx="757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267080" y="5775840"/>
            <a:ext cx="9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53040" y="608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0480" y="17964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5520" y="1796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80" y="301536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5280" y="301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015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xt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31800" y="30153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60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93480" y="47682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2200" y="46918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 flipH="1">
            <a:off x="2590200" y="838080"/>
            <a:ext cx="602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2" idx="3"/>
            <a:endCxn id="194" idx="0"/>
          </p:cNvCxnSpPr>
          <p:nvPr/>
        </p:nvCxnSpPr>
        <p:spPr>
          <a:xfrm>
            <a:off x="4838400" y="793440"/>
            <a:ext cx="19040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3" idx="2"/>
            <a:endCxn id="196" idx="0"/>
          </p:cNvCxnSpPr>
          <p:nvPr/>
        </p:nvCxnSpPr>
        <p:spPr>
          <a:xfrm>
            <a:off x="2598480" y="2163600"/>
            <a:ext cx="87516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4" idx="2"/>
            <a:endCxn id="197" idx="0"/>
          </p:cNvCxnSpPr>
          <p:nvPr/>
        </p:nvCxnSpPr>
        <p:spPr>
          <a:xfrm>
            <a:off x="6741720" y="2163600"/>
            <a:ext cx="1220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2"/>
            <a:endCxn id="195" idx="0"/>
          </p:cNvCxnSpPr>
          <p:nvPr/>
        </p:nvCxnSpPr>
        <p:spPr>
          <a:xfrm rot="5400000">
            <a:off x="1481040" y="1899000"/>
            <a:ext cx="853200" cy="138204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4" idx="2"/>
            <a:endCxn id="198" idx="0"/>
          </p:cNvCxnSpPr>
          <p:nvPr/>
        </p:nvCxnSpPr>
        <p:spPr>
          <a:xfrm rot="5400000">
            <a:off x="5785560" y="2060280"/>
            <a:ext cx="853200" cy="105948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2"/>
            <a:endCxn id="199" idx="0"/>
          </p:cNvCxnSpPr>
          <p:nvPr/>
        </p:nvCxnSpPr>
        <p:spPr>
          <a:xfrm rot="5400000">
            <a:off x="1865160" y="3161520"/>
            <a:ext cx="1386720" cy="1829520"/>
          </a:xfrm>
          <a:prstGeom prst="curvedConnector5">
            <a:avLst>
              <a:gd name="adj1" fmla="val 49935"/>
              <a:gd name="adj2" fmla="val 4999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6" idx="2"/>
            <a:endCxn id="200" idx="0"/>
          </p:cNvCxnSpPr>
          <p:nvPr/>
        </p:nvCxnSpPr>
        <p:spPr>
          <a:xfrm flipH="1" rot="16200000">
            <a:off x="2893680" y="3961440"/>
            <a:ext cx="1386720" cy="22932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7" idx="2"/>
            <a:endCxn id="201" idx="0"/>
          </p:cNvCxnSpPr>
          <p:nvPr/>
        </p:nvCxnSpPr>
        <p:spPr>
          <a:xfrm rot="5400000">
            <a:off x="7004880" y="3736800"/>
            <a:ext cx="1310400" cy="602640"/>
          </a:xfrm>
          <a:prstGeom prst="curvedConnector5">
            <a:avLst>
              <a:gd name="adj1" fmla="val 49931"/>
              <a:gd name="adj2" fmla="val 49970"/>
              <a:gd name="adj3" fmla="val 499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523880" y="83808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914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2057400"/>
            <a:ext cx="152424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7840" y="5301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ed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129528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29528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371600"/>
            <a:ext cx="10666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1371600"/>
            <a:ext cx="106704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352680"/>
            <a:ext cx="3962160" cy="2438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ag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us services: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M,GASS and 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4"/>
            <a:endCxn id="222" idx="1"/>
          </p:cNvCxnSpPr>
          <p:nvPr/>
        </p:nvCxnSpPr>
        <p:spPr>
          <a:xfrm>
            <a:off x="533160" y="2057400"/>
            <a:ext cx="229320" cy="275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4"/>
            <a:endCxn id="222" idx="0"/>
          </p:cNvCxnSpPr>
          <p:nvPr/>
        </p:nvCxnSpPr>
        <p:spPr>
          <a:xfrm>
            <a:off x="1828440" y="2057040"/>
            <a:ext cx="7167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4"/>
            <a:endCxn id="222" idx="0"/>
          </p:cNvCxnSpPr>
          <p:nvPr/>
        </p:nvCxnSpPr>
        <p:spPr>
          <a:xfrm flipH="1">
            <a:off x="2544120" y="2057040"/>
            <a:ext cx="579960" cy="15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2" idx="3"/>
          </p:cNvCxnSpPr>
          <p:nvPr/>
        </p:nvCxnSpPr>
        <p:spPr>
          <a:xfrm>
            <a:off x="4419720" y="2057400"/>
            <a:ext cx="305280" cy="20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528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388620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3886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9" idx="4"/>
            <a:endCxn id="227" idx="0"/>
          </p:cNvCxnSpPr>
          <p:nvPr/>
        </p:nvCxnSpPr>
        <p:spPr>
          <a:xfrm flipH="1">
            <a:off x="5485680" y="2057400"/>
            <a:ext cx="2293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0" idx="4"/>
            <a:endCxn id="228" idx="0"/>
          </p:cNvCxnSpPr>
          <p:nvPr/>
        </p:nvCxnSpPr>
        <p:spPr>
          <a:xfrm>
            <a:off x="693396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1" idx="4"/>
            <a:endCxn id="229" idx="0"/>
          </p:cNvCxnSpPr>
          <p:nvPr/>
        </p:nvCxnSpPr>
        <p:spPr>
          <a:xfrm>
            <a:off x="8229240" y="213372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236400" y="246744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9520" y="21628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9200" y="2315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600" y="2848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4560" y="22690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7160" y="25437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7000" y="2589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038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924360" y="-300996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4228920" y="1866600"/>
            <a:ext cx="609480" cy="8001000"/>
          </a:xfrm>
          <a:custGeom>
            <a:avLst/>
            <a:gdLst>
              <a:gd name="textAreaLeft" fmla="*/ 0 w 609480"/>
              <a:gd name="textAreaRight" fmla="*/ 219960 w 60948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86600" y="6094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5181480"/>
            <a:ext cx="1981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call the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6095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d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1814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286000"/>
            <a:ext cx="2666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343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 flipH="1">
            <a:off x="3161880" y="761760"/>
            <a:ext cx="388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2"/>
            <a:endCxn id="249" idx="1"/>
          </p:cNvCxnSpPr>
          <p:nvPr/>
        </p:nvCxnSpPr>
        <p:spPr>
          <a:xfrm>
            <a:off x="3161880" y="2819520"/>
            <a:ext cx="824760" cy="16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2"/>
            <a:endCxn id="249" idx="6"/>
          </p:cNvCxnSpPr>
          <p:nvPr/>
        </p:nvCxnSpPr>
        <p:spPr>
          <a:xfrm rot="5400000">
            <a:off x="5047560" y="2343240"/>
            <a:ext cx="1829520" cy="2782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7"/>
            <a:endCxn id="250" idx="1"/>
          </p:cNvCxnSpPr>
          <p:nvPr/>
        </p:nvCxnSpPr>
        <p:spPr>
          <a:xfrm flipH="1" flipV="1" rot="5400000">
            <a:off x="4191480" y="2832120"/>
            <a:ext cx="1880280" cy="132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9" idx="5"/>
            <a:endCxn id="246" idx="1"/>
          </p:cNvCxnSpPr>
          <p:nvPr/>
        </p:nvCxnSpPr>
        <p:spPr>
          <a:xfrm>
            <a:off x="4471560" y="4863600"/>
            <a:ext cx="786600" cy="623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6" name=""/>
          <p:cNvCxnSpPr>
            <a:stCxn id="246" idx="2"/>
            <a:endCxn id="245" idx="3"/>
          </p:cNvCxnSpPr>
          <p:nvPr/>
        </p:nvCxnSpPr>
        <p:spPr>
          <a:xfrm flipH="1">
            <a:off x="4799880" y="5790960"/>
            <a:ext cx="122004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7" name=""/>
          <p:cNvCxnSpPr>
            <a:stCxn id="245" idx="1"/>
            <a:endCxn id="244" idx="2"/>
          </p:cNvCxnSpPr>
          <p:nvPr/>
        </p:nvCxnSpPr>
        <p:spPr>
          <a:xfrm flipH="1" flipV="1">
            <a:off x="2285280" y="5790600"/>
            <a:ext cx="1143720" cy="5720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49" idx="2"/>
          </p:cNvCxnSpPr>
          <p:nvPr/>
        </p:nvCxnSpPr>
        <p:spPr>
          <a:xfrm flipV="1">
            <a:off x="2285640" y="464760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-360" y="3038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322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320" y="44946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80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4572000"/>
            <a:ext cx="1218960" cy="380880"/>
          </a:xfrm>
          <a:prstGeom prst="right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6095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3962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7440" y="838080"/>
            <a:ext cx="27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 comman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equence of HPF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61680" y="32907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5080" y="320040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PF St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0160" y="4267080"/>
            <a:ext cx="17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HPF sub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St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3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R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800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438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19047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295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9140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2"/>
            <a:endCxn id="278" idx="7"/>
          </p:cNvCxnSpPr>
          <p:nvPr/>
        </p:nvCxnSpPr>
        <p:spPr>
          <a:xfrm flipH="1">
            <a:off x="1042200" y="2895480"/>
            <a:ext cx="1320120" cy="18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2"/>
            <a:endCxn id="280" idx="0"/>
          </p:cNvCxnSpPr>
          <p:nvPr/>
        </p:nvCxnSpPr>
        <p:spPr>
          <a:xfrm>
            <a:off x="2362320" y="2895480"/>
            <a:ext cx="388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79" idx="0"/>
            <a:endCxn id="277" idx="3"/>
          </p:cNvCxnSpPr>
          <p:nvPr/>
        </p:nvCxnSpPr>
        <p:spPr>
          <a:xfrm flipH="1" flipV="1">
            <a:off x="3199680" y="2666160"/>
            <a:ext cx="801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7" idx="3"/>
            <a:endCxn id="281" idx="1"/>
          </p:cNvCxnSpPr>
          <p:nvPr/>
        </p:nvCxnSpPr>
        <p:spPr>
          <a:xfrm>
            <a:off x="3200040" y="26665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1" idx="3"/>
            <a:endCxn id="282" idx="2"/>
          </p:cNvCxnSpPr>
          <p:nvPr/>
        </p:nvCxnSpPr>
        <p:spPr>
          <a:xfrm>
            <a:off x="5486400" y="2666880"/>
            <a:ext cx="991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641760" y="37180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3886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71600" y="39625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its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9040" y="1980720"/>
            <a:ext cx="13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war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4720" y="1448640"/>
            <a:ext cx="170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for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. Engine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4" idx="3"/>
            <a:endCxn id="281" idx="0"/>
          </p:cNvCxnSpPr>
          <p:nvPr/>
        </p:nvCxnSpPr>
        <p:spPr>
          <a:xfrm>
            <a:off x="2623680" y="1082520"/>
            <a:ext cx="202500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100680" y="686520"/>
            <a:ext cx="221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ization Manag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Vis.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26:40Z</dcterms:created>
  <dc:creator>Valued Gateway Customer</dc:creator>
  <dc:description/>
  <dc:language>en-US</dc:language>
  <cp:lastModifiedBy>Valued Gateway Customer</cp:lastModifiedBy>
  <cp:lastPrinted>1999-09-27T14:21:46Z</cp:lastPrinted>
  <dcterms:modified xsi:type="dcterms:W3CDTF">1999-10-05T03:52:39Z</dcterms:modified>
  <cp:revision>17</cp:revision>
  <dc:subject/>
  <dc:title>No Slide Title</dc:title>
</cp:coreProperties>
</file>