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FEF1-36E1-4C1C-86F7-FEC8F4744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CB84E-CB99-4DC9-B81F-E5BAF974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3C708-BBB7-46F3-9E47-C487242AB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DF6E8-45DA-472A-AF91-F72251610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9115A-85FB-44AF-8263-9F3D4E977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8CD0-21C6-470B-88F0-DF09EDF7B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912C-E10A-478F-81BE-E75FA4DFC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C455-12E1-4185-AA82-D1708BE5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E9AD-6427-4599-9AAD-45518002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0B6F-5876-4C21-81D7-872B8970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D926-D23D-4536-BD8E-53257620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EFB5-60B1-45B7-B026-D8DCA779F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6483-AC25-4541-9E5B-B79D621EC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oundation for processing meta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teroperability between applications that exchange machine-understandable on the We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i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discovery to provide better search engi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ing for describing the content and content relationships at a particular Web site, pag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software agents to facilitate knowledge sharing exchan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ing collections of pages that represent a single loc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sic data model consists of three object typ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ourc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ings being described by RDF expressions are called resources. These may be an entire Web page, a part of Web page, a whole collection of pages, or the entire Web sit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er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roperty is a specific aspect, characteristic, attribute, or relation used to describe a resour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u="sng">
                <a:solidFill>
                  <a:srgbClr val="000000"/>
                </a:solidFill>
                <a:uFillTx/>
                <a:latin typeface="Times New Roman"/>
              </a:rPr>
              <a:t>specific resource</a:t>
            </a:r>
            <a:r>
              <a:rPr b="0" lang="en-US" sz="2000" spc="-1" strike="noStrike">
                <a:solidFill>
                  <a:srgbClr val="000000"/>
                </a:solidFill>
                <a:latin typeface="Times New Roman"/>
              </a:rPr>
              <a:t> together with </a:t>
            </a:r>
            <a:r>
              <a:rPr b="0" lang="en-US" sz="2000" spc="-1" strike="noStrike" u="sng">
                <a:solidFill>
                  <a:srgbClr val="000000"/>
                </a:solidFill>
                <a:uFillTx/>
                <a:latin typeface="Times New Roman"/>
              </a:rPr>
              <a:t>a named property</a:t>
            </a:r>
            <a:r>
              <a:rPr b="0" lang="en-US" sz="2000" spc="-1" strike="noStrike">
                <a:solidFill>
                  <a:srgbClr val="000000"/>
                </a:solidFill>
                <a:latin typeface="Times New Roman"/>
              </a:rPr>
              <a:t> plus </a:t>
            </a:r>
            <a:r>
              <a:rPr b="0" lang="en-US" sz="2000" spc="-1" strike="noStrike" u="sng">
                <a:solidFill>
                  <a:srgbClr val="000000"/>
                </a:solidFill>
                <a:uFillTx/>
                <a:latin typeface="Times New Roman"/>
              </a:rPr>
              <a:t>the value of that property</a:t>
            </a:r>
            <a:r>
              <a:rPr b="0" lang="en-US" sz="2000" spc="-1" strike="noStrike">
                <a:solidFill>
                  <a:srgbClr val="000000"/>
                </a:solidFill>
                <a:latin typeface="Times New Roman"/>
              </a:rPr>
              <a:t> for that resource. These three parts are called, respectively, the subject, the predicate, and the ob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The following a simple sent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ffrey Fox is the instructor of the course http://www.npac.syr.edu/projects/cps714spring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par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bject (Resourc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ttp://www.npac.syr.edu/projects/cps714spring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dicate (Propert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struc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ject (literal)</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ffrey Fo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xample would be represented in a diagra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diagram is represented in RDF/XML as:</a:t>
            </a: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rdf:RDF&g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Description about=”http://www/projects/cps714fall00/”&g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s:Instructor&gt;Geoffrey Fox&lt;/s:Instructor&g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Description&gt;</a:t>
            </a: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rdf:RDF&gt;</a:t>
            </a:r>
            <a:r>
              <a:rPr b="0"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p:txBody>
      </p:sp>
      <p:sp>
        <p:nvSpPr>
          <p:cNvPr id="49" name=""/>
          <p:cNvSpPr/>
          <p:nvPr/>
        </p:nvSpPr>
        <p:spPr>
          <a:xfrm>
            <a:off x="3314880" y="85726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467160" y="872496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19440" y="887724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838080" y="2514600"/>
            <a:ext cx="7543800" cy="1218960"/>
            <a:chOff x="838080" y="2514600"/>
            <a:chExt cx="7543800" cy="1218960"/>
          </a:xfrm>
        </p:grpSpPr>
        <p:sp>
          <p:nvSpPr>
            <p:cNvPr id="53" name=""/>
            <p:cNvSpPr/>
            <p:nvPr/>
          </p:nvSpPr>
          <p:spPr>
            <a:xfrm>
              <a:off x="838080" y="2514600"/>
              <a:ext cx="3157560" cy="121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s/cps714spring00</a:t>
              </a:r>
              <a:endParaRPr b="0" lang="en-US" sz="2400" spc="-1" strike="noStrike">
                <a:solidFill>
                  <a:srgbClr val="000000"/>
                </a:solidFill>
                <a:latin typeface="Times New Roman"/>
              </a:endParaRPr>
            </a:p>
          </p:txBody>
        </p:sp>
        <p:sp>
          <p:nvSpPr>
            <p:cNvPr id="54" name=""/>
            <p:cNvSpPr/>
            <p:nvPr/>
          </p:nvSpPr>
          <p:spPr>
            <a:xfrm>
              <a:off x="6802200" y="2666880"/>
              <a:ext cx="15796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ffrey</a:t>
              </a:r>
              <a:r>
                <a:rPr b="0" lang="en-US" sz="1200" spc="-1" strike="noStrike">
                  <a:solidFill>
                    <a:srgbClr val="000000"/>
                  </a:solidFill>
                  <a:latin typeface="Times New Roman"/>
                </a:rPr>
                <a:t> </a:t>
              </a: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55" name=""/>
            <p:cNvSpPr/>
            <p:nvPr/>
          </p:nvSpPr>
          <p:spPr>
            <a:xfrm>
              <a:off x="3962160" y="3047760"/>
              <a:ext cx="280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876560" y="3200400"/>
              <a:ext cx="129852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onships between the course, instructor and students can be drawn as: </a:t>
            </a:r>
            <a:endParaRPr b="0" lang="en-US" sz="2800" spc="-1" strike="noStrike">
              <a:solidFill>
                <a:srgbClr val="000000"/>
              </a:solidFill>
              <a:latin typeface="Times New Roman"/>
            </a:endParaRPr>
          </a:p>
        </p:txBody>
      </p:sp>
      <p:grpSp>
        <p:nvGrpSpPr>
          <p:cNvPr id="59" name=""/>
          <p:cNvGrpSpPr/>
          <p:nvPr/>
        </p:nvGrpSpPr>
        <p:grpSpPr>
          <a:xfrm>
            <a:off x="838080" y="3505320"/>
            <a:ext cx="7391160" cy="2590560"/>
            <a:chOff x="838080" y="3505320"/>
            <a:chExt cx="7391160" cy="2590560"/>
          </a:xfrm>
        </p:grpSpPr>
        <p:sp>
          <p:nvSpPr>
            <p:cNvPr id="60" name=""/>
            <p:cNvSpPr/>
            <p:nvPr/>
          </p:nvSpPr>
          <p:spPr>
            <a:xfrm>
              <a:off x="3039840" y="3505320"/>
              <a:ext cx="251604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cps714spring00</a:t>
              </a:r>
              <a:endParaRPr b="0" lang="en-US" sz="1200" spc="-1" strike="noStrike">
                <a:solidFill>
                  <a:srgbClr val="000000"/>
                </a:solidFill>
                <a:latin typeface="Times New Roman"/>
              </a:endParaRPr>
            </a:p>
          </p:txBody>
        </p:sp>
        <p:sp>
          <p:nvSpPr>
            <p:cNvPr id="61" name=""/>
            <p:cNvSpPr/>
            <p:nvPr/>
          </p:nvSpPr>
          <p:spPr>
            <a:xfrm>
              <a:off x="838080" y="3505320"/>
              <a:ext cx="125784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ffrey Fox</a:t>
              </a:r>
              <a:endParaRPr b="0" lang="en-US" sz="1400" spc="-1" strike="noStrike">
                <a:solidFill>
                  <a:srgbClr val="000000"/>
                </a:solidFill>
                <a:latin typeface="Times New Roman"/>
              </a:endParaRPr>
            </a:p>
          </p:txBody>
        </p:sp>
        <p:sp>
          <p:nvSpPr>
            <p:cNvPr id="62" name=""/>
            <p:cNvSpPr/>
            <p:nvPr/>
          </p:nvSpPr>
          <p:spPr>
            <a:xfrm flipH="1">
              <a:off x="2095560" y="3809880"/>
              <a:ext cx="94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53240" y="3962520"/>
              <a:ext cx="9435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or</a:t>
              </a:r>
              <a:endParaRPr b="0" lang="en-US" sz="1400" spc="-1" strike="noStrike">
                <a:solidFill>
                  <a:srgbClr val="000000"/>
                </a:solidFill>
                <a:latin typeface="Times New Roman"/>
              </a:endParaRPr>
            </a:p>
          </p:txBody>
        </p:sp>
        <p:sp>
          <p:nvSpPr>
            <p:cNvPr id="64" name=""/>
            <p:cNvSpPr/>
            <p:nvPr/>
          </p:nvSpPr>
          <p:spPr>
            <a:xfrm>
              <a:off x="3511440" y="4724280"/>
              <a:ext cx="157248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499440" y="3962520"/>
              <a:ext cx="172980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df:Bag</a:t>
              </a:r>
              <a:endParaRPr b="0" lang="en-US" sz="1600" spc="-1" strike="noStrike">
                <a:solidFill>
                  <a:srgbClr val="000000"/>
                </a:solidFill>
                <a:latin typeface="Times New Roman"/>
              </a:endParaRPr>
            </a:p>
          </p:txBody>
        </p:sp>
        <p:sp>
          <p:nvSpPr>
            <p:cNvPr id="66" name=""/>
            <p:cNvSpPr/>
            <p:nvPr/>
          </p:nvSpPr>
          <p:spPr>
            <a:xfrm>
              <a:off x="6499440" y="4724280"/>
              <a:ext cx="172980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Amy</a:t>
              </a:r>
              <a:endParaRPr b="0" lang="en-US" sz="1400" spc="-1" strike="noStrike">
                <a:solidFill>
                  <a:srgbClr val="000000"/>
                </a:solidFill>
                <a:latin typeface="Times New Roman"/>
              </a:endParaRPr>
            </a:p>
          </p:txBody>
        </p:sp>
        <p:sp>
          <p:nvSpPr>
            <p:cNvPr id="67" name=""/>
            <p:cNvSpPr/>
            <p:nvPr/>
          </p:nvSpPr>
          <p:spPr>
            <a:xfrm>
              <a:off x="6499440" y="5486400"/>
              <a:ext cx="172980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John</a:t>
              </a:r>
              <a:endParaRPr b="0" lang="en-US" sz="1400" spc="-1" strike="noStrike">
                <a:solidFill>
                  <a:srgbClr val="000000"/>
                </a:solidFill>
                <a:latin typeface="Times New Roman"/>
              </a:endParaRPr>
            </a:p>
          </p:txBody>
        </p:sp>
        <p:sp>
          <p:nvSpPr>
            <p:cNvPr id="68" name=""/>
            <p:cNvSpPr/>
            <p:nvPr/>
          </p:nvSpPr>
          <p:spPr>
            <a:xfrm>
              <a:off x="4298040" y="4114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5084280" y="4267080"/>
              <a:ext cx="14151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084280" y="5029200"/>
              <a:ext cx="141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084280" y="5029200"/>
              <a:ext cx="1415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455360" y="4419720"/>
              <a:ext cx="94320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DF/XML would be:</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rdf:RD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Description about=“http://www/projects/cps714spring00”&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s:Instructor&gt;Geoffrey Fox&lt;/s:Instructor&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s:students&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Bag&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li resources=“/Students/Amy”&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li resources=“/Students/John”&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Bag&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s:students&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rdf:Description&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rdf:RDF&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source Description Framework</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ilarly, the relationships between all the course objects, i.e. courses, users, assignments, quizzes, and surveys can be drawn and converted into equivalent RDF statements. These statements could allow interoperability between other learning management syste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08:24:38Z</dcterms:created>
  <dc:creator>Ozgur Balsoy</dc:creator>
  <dc:description/>
  <dc:language>en-US</dc:language>
  <cp:lastModifiedBy>Ozgur Balsoy</cp:lastModifiedBy>
  <dcterms:modified xsi:type="dcterms:W3CDTF">2000-10-29T17:58:13Z</dcterms:modified>
  <cp:revision>7</cp:revision>
  <dc:subject/>
  <dc:title>Resource Description Framework</dc:title>
</cp:coreProperties>
</file>