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0370-AB48-42BE-A2C9-54EE3F77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B220-361F-4535-90A1-6AADD8B2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8169-8820-411B-B613-19A3B739F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E2AD-E8F9-4130-B6CB-7CD76AB66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17199-3CCE-4CDF-A6B0-2C76FE57C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B64C-3489-4A68-B137-56A9D343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A573-14B2-4292-ADE0-036C51B23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229-F152-403D-9739-910E441A2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8E9A-6B3E-42E9-9B84-FB5A7ED28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8A5-90ED-4A34-ABB9-F6AFADB8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1CA-5EC4-4EF7-B6C8-58F48794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DF87-638F-4DFA-B0EC-0C3089E4A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263A3-B4C9-4B6B-AA77-0BDD72D8B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MS for Event Que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November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e difficulty appears to be that “queue” is not a database and you cannot modify properties of messages – something which can be quite useful as their processing evol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 think that some sort of lightweight database is a natural model for pool of messages used to specify a session on a cl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we efficiently use selector mechanism to drive “subscription to messages” where destination specified in user propert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server side functions such as heartbeat and “restore” which are not sh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ent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24960" y="3660840"/>
            <a:ext cx="129924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68160" y="4252680"/>
            <a:ext cx="226116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vert Ev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o J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914400" y="4952880"/>
            <a:ext cx="838080" cy="533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04560" y="541008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Scrip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06200" y="556272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3124080" y="51814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744280" y="556272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++       …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3809880" y="3962160"/>
            <a:ext cx="2133720" cy="6094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666880" y="190512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9120" y="1374840"/>
            <a:ext cx="45651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4960" y="3733920"/>
            <a:ext cx="10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6858000" y="1295280"/>
            <a:ext cx="0" cy="2286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410800" y="31240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491080" y="5151960"/>
            <a:ext cx="2401560" cy="1383480"/>
          </a:xfrm>
          <a:prstGeom prst="flowChartPunchedTape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cess Events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local server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095880" y="46483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7162920" y="4572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 flipV="1">
            <a:off x="3657240" y="5029200"/>
            <a:ext cx="16002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253400" y="3851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235760" y="765360"/>
            <a:ext cx="478764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Distrib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 flipV="1">
            <a:off x="3429000" y="5105160"/>
            <a:ext cx="380880" cy="1066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27320" y="6095880"/>
            <a:ext cx="20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n Java P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assification of Mess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212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MS Messages have selec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Typ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realtime (for other clients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control (for session control)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profile (specification of user data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foreign (e-mail or other event adapter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Subtype: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shared application nam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type of control/profile message (to be specified)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e-mail versus other adapter name (e.g. web URL to access a specific non shared resour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Destination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hoic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st of Collaborating clients by name , “all Collaborating clients”, “All Collaborating clients for a particular application”, “named list of clients”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a foreign message, destination is what is ever natural (e.g. e-mail address) or automatically converted if one submits Collaboration name not “foreign” na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rver S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65240" y="823680"/>
            <a:ext cx="126180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838080" y="4190760"/>
            <a:ext cx="53352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360" y="3325680"/>
            <a:ext cx="4565160" cy="825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(distributed) Event Rece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Distributer after sel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51920" y="5257800"/>
            <a:ext cx="94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4572000" y="2590560"/>
            <a:ext cx="2438280" cy="11430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29160" y="2060640"/>
            <a:ext cx="218952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eign Adap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4276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280" y="1433520"/>
            <a:ext cx="2423160" cy="908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tabas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rchive Adap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 flipV="1">
            <a:off x="3504960" y="4190760"/>
            <a:ext cx="106668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11948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 flipV="1">
            <a:off x="1371600" y="2286000"/>
            <a:ext cx="76320" cy="99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6840" y="5257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2743200" y="4190760"/>
            <a:ext cx="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90680" y="5718240"/>
            <a:ext cx="927360" cy="4597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201480" y="563868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51200" y="2362320"/>
            <a:ext cx="1186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a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2819520" y="1752480"/>
            <a:ext cx="457200" cy="15242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48360" y="1828800"/>
            <a:ext cx="2248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ontrol event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other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378760" y="1051920"/>
            <a:ext cx="1139040" cy="52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-mai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81440" y="1051920"/>
            <a:ext cx="1794600" cy="520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008480" y="2590920"/>
            <a:ext cx="137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and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478200" y="914400"/>
            <a:ext cx="99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flipV="1">
            <a:off x="5943240" y="1523880"/>
            <a:ext cx="76212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7467480" y="1523880"/>
            <a:ext cx="914400" cy="53352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17560" y="4862880"/>
            <a:ext cx="1261800" cy="1296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du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 flipV="1">
            <a:off x="4571640" y="3962160"/>
            <a:ext cx="1676520" cy="15238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51200" y="152280"/>
            <a:ext cx="1188000" cy="1076400"/>
            <a:chOff x="151200" y="152280"/>
            <a:chExt cx="1188000" cy="1076400"/>
          </a:xfrm>
        </p:grpSpPr>
        <p:sp>
          <p:nvSpPr>
            <p:cNvPr id="98" name=""/>
            <p:cNvSpPr/>
            <p:nvPr/>
          </p:nvSpPr>
          <p:spPr>
            <a:xfrm>
              <a:off x="164880" y="789120"/>
              <a:ext cx="1143000" cy="43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307880" y="3477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3320" y="5922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11080" y="5922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040" y="592200"/>
              <a:ext cx="149040" cy="58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1080" y="544680"/>
              <a:ext cx="149400" cy="63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3320" y="592200"/>
              <a:ext cx="1987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4880" y="396720"/>
              <a:ext cx="19872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63600" y="495360"/>
              <a:ext cx="19836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60480" y="495360"/>
              <a:ext cx="14904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09520" y="446040"/>
              <a:ext cx="149400" cy="63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158840" y="396720"/>
              <a:ext cx="14904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4880" y="152280"/>
              <a:ext cx="1143000" cy="439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164880" y="3477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1200" y="60876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7695000" y="5410080"/>
            <a:ext cx="1188000" cy="1076400"/>
            <a:chOff x="7695000" y="5410080"/>
            <a:chExt cx="1188000" cy="1076400"/>
          </a:xfrm>
        </p:grpSpPr>
        <p:sp>
          <p:nvSpPr>
            <p:cNvPr id="114" name=""/>
            <p:cNvSpPr/>
            <p:nvPr/>
          </p:nvSpPr>
          <p:spPr>
            <a:xfrm>
              <a:off x="7708680" y="6046920"/>
              <a:ext cx="1143000" cy="439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8851680" y="56055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07120" y="58500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54880" y="5850000"/>
              <a:ext cx="0" cy="19692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205840" y="5850000"/>
              <a:ext cx="149040" cy="58716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54880" y="5802480"/>
              <a:ext cx="149400" cy="6346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007120" y="5850000"/>
              <a:ext cx="198720" cy="5382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08680" y="5654520"/>
              <a:ext cx="19872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907400" y="5753160"/>
              <a:ext cx="19836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504280" y="5753160"/>
              <a:ext cx="149040" cy="6350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53320" y="5703840"/>
              <a:ext cx="149400" cy="6364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702640" y="5654520"/>
              <a:ext cx="149040" cy="63684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08680" y="5410080"/>
              <a:ext cx="1143000" cy="439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08680" y="5605560"/>
              <a:ext cx="0" cy="685800"/>
            </a:xfrm>
            <a:prstGeom prst="line">
              <a:avLst/>
            </a:prstGeom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695000" y="5866560"/>
              <a:ext cx="1188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Databas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685800" y="914400"/>
            <a:ext cx="228600" cy="60948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67480" y="5410080"/>
            <a:ext cx="762120" cy="2286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788440" y="3657600"/>
            <a:ext cx="228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bscri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blish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quested by cl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 other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19T19:55:21Z</dcterms:created>
  <dc:creator>Geoffrey C. Fox</dc:creator>
  <dc:description/>
  <dc:language>en-US</dc:language>
  <cp:lastModifiedBy>Geoffrey C. Fox</cp:lastModifiedBy>
  <dcterms:modified xsi:type="dcterms:W3CDTF">2000-11-20T00:04:06Z</dcterms:modified>
  <cp:revision>3</cp:revision>
  <dc:subject/>
  <dc:title>JMS for Event Queue</dc:title>
</cp:coreProperties>
</file>