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FDB3-CB36-4FF3-B630-6CCAE22A1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3013-32BD-44A0-A24E-0F5A2B9E6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7AD5-34A2-4639-A935-290051B8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0F0E-B528-4872-93BF-5527DD8149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D78-602A-43E1-B980-406B475EC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F74C-AE1E-4CB2-BA8D-A4474D1AA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AFDE-4D7F-4811-9135-4697138A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D3F1-47FE-4BF2-9DA1-6AFE70057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30AB1-A633-4D3A-9D52-7275F71E1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8E5A-6C4A-4969-8DE1-D7A9E6228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1D3E7-349E-4018-B62E-19F032223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20E8-8905-4D86-811C-6DA98C5D7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B6204-D306-488E-8EE2-843175483E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32004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17524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52480" y="22096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43200" y="3200400"/>
            <a:ext cx="1066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8098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9880" y="220968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2209680"/>
            <a:ext cx="0" cy="990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32004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762120" y="3962160"/>
            <a:ext cx="190476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666880" y="3962520"/>
            <a:ext cx="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666880" y="3885840"/>
            <a:ext cx="198144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648320" y="3886200"/>
            <a:ext cx="0" cy="1143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4648320" y="3962160"/>
            <a:ext cx="1523880" cy="10666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62120" y="5486400"/>
            <a:ext cx="76176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523880" y="5486400"/>
            <a:ext cx="60984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133720" y="5486400"/>
            <a:ext cx="76176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895480" y="5486400"/>
            <a:ext cx="68580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581280" y="5486400"/>
            <a:ext cx="762120" cy="91440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343400" y="5486400"/>
            <a:ext cx="609480" cy="838080"/>
          </a:xfrm>
          <a:prstGeom prst="line">
            <a:avLst/>
          </a:prstGeom>
          <a:ln w="63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99"/>
                </a:solidFill>
                <a:latin typeface="Times New Roman"/>
              </a:rPr>
              <a:t>Basic SVG 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6T20:41:31Z</dcterms:created>
  <dc:creator>mwang03</dc:creator>
  <dc:description/>
  <dc:language>en-US</dc:language>
  <cp:lastModifiedBy>CSIT</cp:lastModifiedBy>
  <dcterms:modified xsi:type="dcterms:W3CDTF">2001-05-05T22:42:00Z</dcterms:modified>
  <cp:revision>2</cp:revision>
  <dc:subject/>
  <dc:title>Basic SVG Lines </dc:title>
</cp:coreProperties>
</file>