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E0B-08E8-4AF3-A3EC-79DD6900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C13-91AF-412C-9A45-A138F6D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0D3-0762-4B60-B68D-CDDE9A0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E32-5021-4DA1-BA17-4896A9AE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E42-8DCC-4413-9BB0-6C04EC76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187-032F-4CAF-B0BA-66C16E4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137-2E7F-45A6-8074-6D98A58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D77-D607-4B1D-8AAE-5C64EC75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3CB-AC7E-4D76-9203-2233652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713-BB17-42EA-AB76-82D8C15E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BCF-973E-4717-AEAA-0283E74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CCC-EEC6-44C0-B75C-4EB08A0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CFAF-81FE-406F-BB20-EC0F52EA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MS for Event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Novem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fficulty appears to be that “queue” is not a database and you cannot modify properties of messages – something which can be quite useful as their processing e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hink that some sort of lightweight database is a natural model for pool of messages used to specify a session on a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fficiently use selector mechanism to drive “subscription to messages” where destination specified in use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rver side functions such as heartbeat and “restore” which are not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4960" y="3660840"/>
            <a:ext cx="129924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68160" y="4252680"/>
            <a:ext cx="2261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Ev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14400" y="49528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560" y="5410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62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56272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     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9880" y="3962160"/>
            <a:ext cx="2133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19051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1374840"/>
            <a:ext cx="45651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858000" y="12952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800" y="3124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5151960"/>
            <a:ext cx="2401560" cy="138348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Event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local ser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58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16292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657240" y="5029200"/>
            <a:ext cx="160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3400" y="3851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5760" y="765360"/>
            <a:ext cx="4787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Distrib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51051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7320" y="60958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Java 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S Messages have sel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time (for other client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ontrol (for session contro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rofile (specification of user dat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foreign (e-mail or other event adap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ub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applicatio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type of control/profile message (to be specifi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e-mail versus other adapter name (e.g. web URL to access a specific non shared re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in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Collaborating clients by name , “all Collaborating clients”, “All Collaborating clients for a particular application”, “named list of clients”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foreign message, destination is what is ever natural (e.g. e-mail address) or automatically converted if one submits Collaboration name not “foreign”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65240" y="823680"/>
            <a:ext cx="126180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38080" y="4190760"/>
            <a:ext cx="533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60" y="3325680"/>
            <a:ext cx="45651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tributer aft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920" y="5257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590560"/>
            <a:ext cx="243828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9160" y="2060640"/>
            <a:ext cx="21895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76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80" y="1433520"/>
            <a:ext cx="2423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4190760"/>
            <a:ext cx="1066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94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71600" y="22860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6840" y="5257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43200" y="41907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48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00" y="236232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752480"/>
            <a:ext cx="457200" cy="1524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48360" y="1828800"/>
            <a:ext cx="224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trol 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othe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8760" y="1051920"/>
            <a:ext cx="113904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1440" y="1051920"/>
            <a:ext cx="179460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08480" y="2590920"/>
            <a:ext cx="13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8200" y="914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943240" y="1523880"/>
            <a:ext cx="76212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67480" y="1523880"/>
            <a:ext cx="91440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7560" y="4862880"/>
            <a:ext cx="1261800" cy="129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571640" y="3962160"/>
            <a:ext cx="1676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200" y="152280"/>
            <a:ext cx="1188000" cy="1076400"/>
            <a:chOff x="151200" y="152280"/>
            <a:chExt cx="1188000" cy="1076400"/>
          </a:xfrm>
        </p:grpSpPr>
        <p:sp>
          <p:nvSpPr>
            <p:cNvPr id="98" name=""/>
            <p:cNvSpPr/>
            <p:nvPr/>
          </p:nvSpPr>
          <p:spPr>
            <a:xfrm>
              <a:off x="164880" y="7891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7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332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108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040" y="5922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1080" y="5446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20" y="5922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4880" y="3967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600" y="4953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480" y="4953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520" y="4460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8840" y="3967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880" y="1522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4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200" y="6087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95000" y="5410080"/>
            <a:ext cx="1188000" cy="1076400"/>
            <a:chOff x="7695000" y="5410080"/>
            <a:chExt cx="1188000" cy="1076400"/>
          </a:xfrm>
        </p:grpSpPr>
        <p:sp>
          <p:nvSpPr>
            <p:cNvPr id="114" name=""/>
            <p:cNvSpPr/>
            <p:nvPr/>
          </p:nvSpPr>
          <p:spPr>
            <a:xfrm>
              <a:off x="7708680" y="60469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51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712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488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05840" y="58500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54880" y="58024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7120" y="58500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08680" y="56545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7400" y="57531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04280" y="57531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3320" y="57038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02640" y="56545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8680" y="54100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8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5000" y="58665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9144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41008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8440" y="3657600"/>
            <a:ext cx="228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9:55:21Z</dcterms:created>
  <dc:creator>Geoffrey C. Fox</dc:creator>
  <dc:description/>
  <dc:language>en-US</dc:language>
  <cp:lastModifiedBy>Geoffrey C. Fox</cp:lastModifiedBy>
  <dcterms:modified xsi:type="dcterms:W3CDTF">2000-11-20T00:04:06Z</dcterms:modified>
  <cp:revision>3</cp:revision>
  <dc:subject/>
  <dc:title>JMS for Event Queue</dc:title>
</cp:coreProperties>
</file>