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1981-00F4-4FE7-9D97-2802FB2D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7774-E87D-4773-B43F-8FBDDC8A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FC79-4110-4EEA-90A6-D384E7821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DD11-8AE5-45B6-915E-B3969489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08F8-D8C8-4207-AC24-5D17AFAA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BCD3-AFF8-46DB-A947-C9DA61E6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2D6E-6834-469C-8FA4-A6303945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C103-8BE9-43EE-9669-4990D9E1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7B7D-39CE-46FC-A98B-74D225EC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000C-4C07-4750-9756-833CF329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BA4A-6410-40BC-8176-BCF87041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B6F1-6A7A-4934-BD84-A068CE58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9456-E9A3-427C-AC33-BF35223AC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2004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1752480" y="22096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22096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22096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3200" y="32004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809880" y="22096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9880" y="2209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22096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32004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762120" y="3962160"/>
            <a:ext cx="1904760" cy="10666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3962520"/>
            <a:ext cx="0" cy="10666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666880" y="3885840"/>
            <a:ext cx="1981440" cy="1143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3886200"/>
            <a:ext cx="0" cy="1143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648320" y="3962160"/>
            <a:ext cx="1523880" cy="10666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62120" y="5486400"/>
            <a:ext cx="761760" cy="914400"/>
          </a:xfrm>
          <a:prstGeom prst="line">
            <a:avLst/>
          </a:prstGeom>
          <a:ln w="63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5486400"/>
            <a:ext cx="609840" cy="914400"/>
          </a:xfrm>
          <a:prstGeom prst="line">
            <a:avLst/>
          </a:prstGeom>
          <a:ln w="63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133720" y="5486400"/>
            <a:ext cx="761760" cy="914400"/>
          </a:xfrm>
          <a:prstGeom prst="line">
            <a:avLst/>
          </a:prstGeom>
          <a:ln w="63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5486400"/>
            <a:ext cx="685800" cy="914400"/>
          </a:xfrm>
          <a:prstGeom prst="line">
            <a:avLst/>
          </a:prstGeom>
          <a:ln w="63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581280" y="5486400"/>
            <a:ext cx="762120" cy="914400"/>
          </a:xfrm>
          <a:prstGeom prst="line">
            <a:avLst/>
          </a:prstGeom>
          <a:ln w="63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3400" y="5486400"/>
            <a:ext cx="609480" cy="838080"/>
          </a:xfrm>
          <a:prstGeom prst="line">
            <a:avLst/>
          </a:prstGeom>
          <a:ln w="63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Times New Roman"/>
              </a:rPr>
              <a:t>Basic SVG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0:41:31Z</dcterms:created>
  <dc:creator>mwang03</dc:creator>
  <dc:description/>
  <dc:language>en-US</dc:language>
  <cp:lastModifiedBy>CSIT</cp:lastModifiedBy>
  <dcterms:modified xsi:type="dcterms:W3CDTF">2001-05-05T22:42:00Z</dcterms:modified>
  <cp:revision>2</cp:revision>
  <dc:subject/>
  <dc:title>Basic SVG Lines </dc:title>
</cp:coreProperties>
</file>