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39CA-7D33-457D-9465-8D36CB1B79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Meeting Initiation Servlet: User authent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Initiation Servlet: Initializes Meetings by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ing a Meeting Manager Server Instance if first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e a Recording Server Instance if first join and setup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Send client setup information [ role, capabilities, event bus entry poin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: Initializes all serv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apabilities Manag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ommunication Service (Connect to appropriate entry point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Recording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Recording Server: Request playback from last major ev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Synchronizes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: Eventually XML based descriptors.  For now,  Just SharedletInfo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List: Eventually XML or DB based.  For now, hard coded to a single application (Virtual Classro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922-0746-4034-8CB6-DBB42EF9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F47E-B1DF-48DD-A188-63F62EF8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1AF7-49F1-4517-9262-9A73D267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BDC-F15C-49A0-9259-9A2F731C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6D1-F64F-416E-BA90-0CB69D7F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4B1-0A98-4BFE-98BF-DACFEF7C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4B7-1F4E-4C65-BDCD-B18BC257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673-7798-4ABF-882F-70671EEF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1C8-E37F-4A38-AE82-64F1627A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894-6BD0-4E60-85C3-39DB8BFF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8CE-4F1C-4DC4-9590-747E92D0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C3C-FEEB-49B1-8A07-AF24929A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9021-96E7-4414-9DF5-BFCAB990A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6200" y="6480"/>
            <a:ext cx="3257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abas eLearning Product Ph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duct Over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58672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59436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31120" y="602460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1720" y="5943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stru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" y="457200"/>
            <a:ext cx="3661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nstructional Management: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urse Management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Meeting level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Management: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user 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ty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rsonalization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home page to view &amp; mana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 protected/Invitation Only/Public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 via HearMe recorded conference &amp; event playbac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 construction of Meeting materi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 of Meeting material to web si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2819520"/>
            <a:ext cx="20574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/Meet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362320"/>
            <a:ext cx="20574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5" idx="0"/>
            <a:endCxn id="56" idx="3"/>
          </p:cNvCxnSpPr>
          <p:nvPr/>
        </p:nvCxnSpPr>
        <p:spPr>
          <a:xfrm flipV="1" rot="16200000">
            <a:off x="4724280" y="3962160"/>
            <a:ext cx="1143360" cy="228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39676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400800" y="5867280"/>
            <a:ext cx="380880" cy="228600"/>
            <a:chOff x="6400800" y="5867280"/>
            <a:chExt cx="380880" cy="228600"/>
          </a:xfrm>
        </p:grpSpPr>
        <p:sp>
          <p:nvSpPr>
            <p:cNvPr id="61" name=""/>
            <p:cNvSpPr/>
            <p:nvPr/>
          </p:nvSpPr>
          <p:spPr>
            <a:xfrm>
              <a:off x="6400800" y="5867280"/>
              <a:ext cx="3808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5867280"/>
              <a:ext cx="380880" cy="152280"/>
            </a:xfrm>
            <a:prstGeom prst="flowChartMerg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" name=""/>
          <p:cNvCxnSpPr>
            <a:stCxn id="55" idx="3"/>
            <a:endCxn id="50" idx="2"/>
          </p:cNvCxnSpPr>
          <p:nvPr/>
        </p:nvCxnSpPr>
        <p:spPr>
          <a:xfrm>
            <a:off x="5867280" y="5143320"/>
            <a:ext cx="991080" cy="102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55" idx="1"/>
          </p:cNvCxnSpPr>
          <p:nvPr/>
        </p:nvCxnSpPr>
        <p:spPr>
          <a:xfrm flipV="1">
            <a:off x="3505320" y="5143320"/>
            <a:ext cx="1447920" cy="952920"/>
          </a:xfrm>
          <a:prstGeom prst="bentConnector3">
            <a:avLst>
              <a:gd name="adj1" fmla="val 500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28680" y="495288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eates/Modif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6483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49" idx="0"/>
            <a:endCxn id="66" idx="2"/>
          </p:cNvCxnSpPr>
          <p:nvPr/>
        </p:nvCxnSpPr>
        <p:spPr>
          <a:xfrm flipV="1" rot="16200000">
            <a:off x="2305080" y="4895280"/>
            <a:ext cx="609840" cy="1334160"/>
          </a:xfrm>
          <a:prstGeom prst="bentConnector3">
            <a:avLst>
              <a:gd name="adj1" fmla="val 500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1371600" y="2438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0"/>
            <a:endCxn id="68" idx="2"/>
          </p:cNvCxnSpPr>
          <p:nvPr/>
        </p:nvCxnSpPr>
        <p:spPr>
          <a:xfrm rot="16200000">
            <a:off x="1333440" y="4038480"/>
            <a:ext cx="1219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0"/>
            <a:endCxn id="56" idx="2"/>
          </p:cNvCxnSpPr>
          <p:nvPr/>
        </p:nvCxnSpPr>
        <p:spPr>
          <a:xfrm flipH="1" flipV="1" rot="5400000">
            <a:off x="2819160" y="3314880"/>
            <a:ext cx="457560" cy="2210040"/>
          </a:xfrm>
          <a:prstGeom prst="bentConnector5">
            <a:avLst>
              <a:gd name="adj1" fmla="val 50708"/>
              <a:gd name="adj2" fmla="val 36200"/>
              <a:gd name="adj3" fmla="val 493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3"/>
            <a:endCxn id="57" idx="1"/>
          </p:cNvCxnSpPr>
          <p:nvPr/>
        </p:nvCxnSpPr>
        <p:spPr>
          <a:xfrm flipV="1">
            <a:off x="2514600" y="2514600"/>
            <a:ext cx="609840" cy="4194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561400" y="22906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57" idx="2"/>
            <a:endCxn id="56" idx="0"/>
          </p:cNvCxnSpPr>
          <p:nvPr/>
        </p:nvCxnSpPr>
        <p:spPr>
          <a:xfrm rot="16200000">
            <a:off x="4076280" y="2743200"/>
            <a:ext cx="153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533520" y="464832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3520" y="358128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38680" y="5486400"/>
            <a:ext cx="243864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644640" y="158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udio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9132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6111720" y="5581800"/>
            <a:ext cx="381240" cy="253440"/>
            <a:chOff x="6111720" y="5581800"/>
            <a:chExt cx="381240" cy="253440"/>
          </a:xfrm>
        </p:grpSpPr>
        <p:sp>
          <p:nvSpPr>
            <p:cNvPr id="1213" name=""/>
            <p:cNvSpPr/>
            <p:nvPr/>
          </p:nvSpPr>
          <p:spPr>
            <a:xfrm>
              <a:off x="61754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17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54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6568920" y="5581800"/>
            <a:ext cx="381240" cy="253440"/>
            <a:chOff x="6568920" y="5581800"/>
            <a:chExt cx="381240" cy="253440"/>
          </a:xfrm>
        </p:grpSpPr>
        <p:sp>
          <p:nvSpPr>
            <p:cNvPr id="1217" name=""/>
            <p:cNvSpPr/>
            <p:nvPr/>
          </p:nvSpPr>
          <p:spPr>
            <a:xfrm>
              <a:off x="66326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5689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326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026120" y="5581800"/>
            <a:ext cx="381240" cy="253440"/>
            <a:chOff x="7026120" y="5581800"/>
            <a:chExt cx="381240" cy="253440"/>
          </a:xfrm>
        </p:grpSpPr>
        <p:sp>
          <p:nvSpPr>
            <p:cNvPr id="1221" name=""/>
            <p:cNvSpPr/>
            <p:nvPr/>
          </p:nvSpPr>
          <p:spPr>
            <a:xfrm>
              <a:off x="70898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0261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0898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7483320" y="5581800"/>
            <a:ext cx="381240" cy="253440"/>
            <a:chOff x="7483320" y="5581800"/>
            <a:chExt cx="381240" cy="253440"/>
          </a:xfrm>
        </p:grpSpPr>
        <p:sp>
          <p:nvSpPr>
            <p:cNvPr id="1225" name=""/>
            <p:cNvSpPr/>
            <p:nvPr/>
          </p:nvSpPr>
          <p:spPr>
            <a:xfrm>
              <a:off x="75470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833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470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6639480" y="58672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791320" y="6095880"/>
            <a:ext cx="253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STN Connection provided by XO 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86728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94360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1992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01028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16292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23888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962680" y="464832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.711 Mix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8" name=""/>
          <p:cNvCxnSpPr>
            <a:stCxn id="1239" idx="3"/>
            <a:endCxn id="1230" idx="0"/>
          </p:cNvCxnSpPr>
          <p:nvPr/>
        </p:nvCxnSpPr>
        <p:spPr>
          <a:xfrm rot="5400000">
            <a:off x="6342840" y="3295440"/>
            <a:ext cx="305640" cy="572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0" name=""/>
          <p:cNvSpPr/>
          <p:nvPr/>
        </p:nvSpPr>
        <p:spPr>
          <a:xfrm>
            <a:off x="609480" y="388620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324480" y="2438280"/>
            <a:ext cx="914400" cy="99072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men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1" name=""/>
          <p:cNvCxnSpPr>
            <a:stCxn id="1234" idx="0"/>
            <a:endCxn id="1239" idx="3"/>
          </p:cNvCxnSpPr>
          <p:nvPr/>
        </p:nvCxnSpPr>
        <p:spPr>
          <a:xfrm flipV="1" rot="16200000">
            <a:off x="6953040" y="3256920"/>
            <a:ext cx="30564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40" idx="3"/>
            <a:endCxn id="1232" idx="1"/>
          </p:cNvCxnSpPr>
          <p:nvPr/>
        </p:nvCxnSpPr>
        <p:spPr>
          <a:xfrm>
            <a:off x="1676160" y="4152600"/>
            <a:ext cx="43437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3" name=""/>
          <p:cNvSpPr/>
          <p:nvPr/>
        </p:nvSpPr>
        <p:spPr>
          <a:xfrm>
            <a:off x="1753560" y="3886200"/>
            <a:ext cx="13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6K SIP/RTP/G.7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019920" y="4952880"/>
            <a:ext cx="18288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isco VoIP Router/Gate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5" name=""/>
          <p:cNvCxnSpPr>
            <a:stCxn id="1209" idx="0"/>
            <a:endCxn id="1244" idx="2"/>
          </p:cNvCxnSpPr>
          <p:nvPr/>
        </p:nvCxnSpPr>
        <p:spPr>
          <a:xfrm flipH="1" flipV="1" rot="5400000">
            <a:off x="6781680" y="533340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6" name=""/>
          <p:cNvSpPr/>
          <p:nvPr/>
        </p:nvSpPr>
        <p:spPr>
          <a:xfrm>
            <a:off x="6933960" y="5257800"/>
            <a:ext cx="34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7" name=""/>
          <p:cNvCxnSpPr>
            <a:stCxn id="1232" idx="2"/>
            <a:endCxn id="1244" idx="0"/>
          </p:cNvCxnSpPr>
          <p:nvPr/>
        </p:nvCxnSpPr>
        <p:spPr>
          <a:xfrm flipH="1" rot="16200000">
            <a:off x="6381720" y="439992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36" idx="2"/>
            <a:endCxn id="1244" idx="0"/>
          </p:cNvCxnSpPr>
          <p:nvPr/>
        </p:nvCxnSpPr>
        <p:spPr>
          <a:xfrm rot="5400000">
            <a:off x="6990840" y="4362120"/>
            <a:ext cx="53388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9" name=""/>
          <p:cNvSpPr/>
          <p:nvPr/>
        </p:nvSpPr>
        <p:spPr>
          <a:xfrm>
            <a:off x="5715000" y="1143000"/>
            <a:ext cx="2209680" cy="7621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Florid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ipulate HearMe Servers and 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09480" y="495288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1" name=""/>
          <p:cNvCxnSpPr>
            <a:stCxn id="1250" idx="3"/>
            <a:endCxn id="1232" idx="1"/>
          </p:cNvCxnSpPr>
          <p:nvPr/>
        </p:nvCxnSpPr>
        <p:spPr>
          <a:xfrm flipV="1">
            <a:off x="1676160" y="4152240"/>
            <a:ext cx="4343760" cy="1067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52" name=""/>
          <p:cNvSpPr/>
          <p:nvPr/>
        </p:nvSpPr>
        <p:spPr>
          <a:xfrm>
            <a:off x="3200400" y="6858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128040" y="1569600"/>
            <a:ext cx="332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-location @ Exod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38680" y="2209680"/>
            <a:ext cx="2438640" cy="3124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HearMe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5" name=""/>
          <p:cNvCxnSpPr>
            <a:stCxn id="1249" idx="2"/>
            <a:endCxn id="1254" idx="0"/>
          </p:cNvCxnSpPr>
          <p:nvPr/>
        </p:nvCxnSpPr>
        <p:spPr>
          <a:xfrm flipH="1" rot="16200000">
            <a:off x="6686640" y="203796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6" name=""/>
          <p:cNvSpPr/>
          <p:nvPr/>
        </p:nvSpPr>
        <p:spPr>
          <a:xfrm>
            <a:off x="5685840" y="304920"/>
            <a:ext cx="242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remaining(&lt;meeting id&gt;,&lt;position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505320" y="2133720"/>
            <a:ext cx="167616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81280" y="23623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581280" y="28195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505320" y="914400"/>
            <a:ext cx="1676160" cy="838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267080" y="182880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477680" y="183348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3" name=""/>
          <p:cNvCxnSpPr>
            <a:stCxn id="1258" idx="3"/>
            <a:endCxn id="1249" idx="1"/>
          </p:cNvCxnSpPr>
          <p:nvPr/>
        </p:nvCxnSpPr>
        <p:spPr>
          <a:xfrm flipV="1">
            <a:off x="5105160" y="1523520"/>
            <a:ext cx="610200" cy="1029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4" name=""/>
          <p:cNvCxnSpPr>
            <a:stCxn id="1259" idx="3"/>
            <a:endCxn id="1249" idx="1"/>
          </p:cNvCxnSpPr>
          <p:nvPr/>
        </p:nvCxnSpPr>
        <p:spPr>
          <a:xfrm flipV="1">
            <a:off x="5105160" y="1523520"/>
            <a:ext cx="610200" cy="148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5" name=""/>
          <p:cNvSpPr/>
          <p:nvPr/>
        </p:nvSpPr>
        <p:spPr>
          <a:xfrm>
            <a:off x="5257800" y="1676520"/>
            <a:ext cx="397080" cy="459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R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Ex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533520" y="3505320"/>
            <a:ext cx="7543800" cy="2971800"/>
          </a:xfrm>
          <a:prstGeom prst="rect">
            <a:avLst/>
          </a:prstGeom>
          <a:noFill/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 Server “Meeting Logic” Inst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62120" y="4495680"/>
            <a:ext cx="2057400" cy="167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XO Con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22308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507720" y="990720"/>
            <a:ext cx="19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oss system time synchro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120" y="3809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1" name=""/>
          <p:cNvCxnSpPr>
            <a:stCxn id="1270" idx="3"/>
            <a:endCxn id="1272" idx="0"/>
          </p:cNvCxnSpPr>
          <p:nvPr/>
        </p:nvCxnSpPr>
        <p:spPr>
          <a:xfrm>
            <a:off x="1676520" y="4114440"/>
            <a:ext cx="320112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3" name=""/>
          <p:cNvSpPr/>
          <p:nvPr/>
        </p:nvSpPr>
        <p:spPr>
          <a:xfrm>
            <a:off x="3124080" y="4800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124080" y="50292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124080" y="52578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24080" y="54864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124080" y="5715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4080" y="5943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48120" y="43434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1828800"/>
            <a:ext cx="754380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523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27280" y="312408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cord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 = MSGTYPE_MAJOR or MSGTYPE_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523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382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4382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352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352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670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670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1814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1814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95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0102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0102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24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924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600200" y="51814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4724280"/>
            <a:ext cx="9144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43000" y="49528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600200" y="54100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143000" y="56386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2" name=""/>
          <p:cNvCxnSpPr>
            <a:stCxn id="1301" idx="3"/>
            <a:endCxn id="1272" idx="2"/>
          </p:cNvCxnSpPr>
          <p:nvPr/>
        </p:nvCxnSpPr>
        <p:spPr>
          <a:xfrm>
            <a:off x="1828440" y="5715000"/>
            <a:ext cx="3048840" cy="457920"/>
          </a:xfrm>
          <a:prstGeom prst="bentConnector4">
            <a:avLst>
              <a:gd name="adj1" fmla="val 19992"/>
              <a:gd name="adj2" fmla="val 1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3" name=""/>
          <p:cNvCxnSpPr>
            <a:stCxn id="1299" idx="2"/>
            <a:endCxn id="1300" idx="1"/>
          </p:cNvCxnSpPr>
          <p:nvPr/>
        </p:nvCxnSpPr>
        <p:spPr>
          <a:xfrm flipH="1" rot="16200000">
            <a:off x="1351800" y="5238720"/>
            <a:ext cx="3816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4" name=""/>
          <p:cNvCxnSpPr>
            <a:stCxn id="1299" idx="2"/>
            <a:endCxn id="1297" idx="1"/>
          </p:cNvCxnSpPr>
          <p:nvPr/>
        </p:nvCxnSpPr>
        <p:spPr>
          <a:xfrm flipH="1" rot="16200000">
            <a:off x="1465920" y="512424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5" name=""/>
          <p:cNvSpPr/>
          <p:nvPr/>
        </p:nvSpPr>
        <p:spPr>
          <a:xfrm>
            <a:off x="1841400" y="472428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= R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19720" y="3200400"/>
            <a:ext cx="1371600" cy="533520"/>
          </a:xfrm>
          <a:prstGeom prst="wedgeRectCallout">
            <a:avLst>
              <a:gd name="adj1" fmla="val -81597"/>
              <a:gd name="adj2" fmla="val -22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quest/Response should not be MAJOR or MINO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124080" y="4572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8580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9" name=""/>
          <p:cNvCxnSpPr>
            <a:stCxn id="1270" idx="0"/>
            <a:endCxn id="1279" idx="1"/>
          </p:cNvCxnSpPr>
          <p:nvPr/>
        </p:nvCxnSpPr>
        <p:spPr>
          <a:xfrm flipH="1" flipV="1" rot="5400000">
            <a:off x="628200" y="3066480"/>
            <a:ext cx="133416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0" name=""/>
          <p:cNvCxnSpPr>
            <a:stCxn id="1270" idx="1"/>
            <a:endCxn id="1308" idx="1"/>
          </p:cNvCxnSpPr>
          <p:nvPr/>
        </p:nvCxnSpPr>
        <p:spPr>
          <a:xfrm rot="10800000">
            <a:off x="685800" y="685080"/>
            <a:ext cx="76680" cy="3429720"/>
          </a:xfrm>
          <a:prstGeom prst="bentConnector3">
            <a:avLst>
              <a:gd name="adj1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1" name=""/>
          <p:cNvSpPr/>
          <p:nvPr/>
        </p:nvSpPr>
        <p:spPr>
          <a:xfrm>
            <a:off x="387360" y="990720"/>
            <a:ext cx="416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tTimeListener(&lt;meeting id&gt;,&lt;position id&gt;) – Fires off regular audio marke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43828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3" name=""/>
          <p:cNvCxnSpPr>
            <a:stCxn id="1308" idx="3"/>
            <a:endCxn id="1312" idx="1"/>
          </p:cNvCxnSpPr>
          <p:nvPr/>
        </p:nvCxnSpPr>
        <p:spPr>
          <a:xfrm>
            <a:off x="1600200" y="685440"/>
            <a:ext cx="838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914400" y="28195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5" name=""/>
          <p:cNvCxnSpPr>
            <a:stCxn id="1314" idx="3"/>
            <a:endCxn id="1316" idx="1"/>
          </p:cNvCxnSpPr>
          <p:nvPr/>
        </p:nvCxnSpPr>
        <p:spPr>
          <a:xfrm>
            <a:off x="1828440" y="31237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7" name=""/>
          <p:cNvSpPr/>
          <p:nvPr/>
        </p:nvSpPr>
        <p:spPr>
          <a:xfrm>
            <a:off x="2514600" y="2666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514600" y="28954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14600" y="31240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514600" y="33526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14600" y="3581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3809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438280" y="220968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514600" y="2438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0720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629400" y="838080"/>
            <a:ext cx="1905120" cy="266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05720" y="2971800"/>
            <a:ext cx="533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31520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92468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85800" y="4191120"/>
            <a:ext cx="8097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1) JSP initializes recording server t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2) Recording server listens for user jo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3) Web Page initializes virtual classroom client w/ null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4) Meeting manager fires user joi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5) Start reading stream and broadcast on chann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6) On Major event, send command to Audio playback to sync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f small variance, let it play through before sending next maj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0" name=""/>
          <p:cNvCxnSpPr>
            <a:stCxn id="1316" idx="3"/>
            <a:endCxn id="1326" idx="1"/>
          </p:cNvCxnSpPr>
          <p:nvPr/>
        </p:nvCxnSpPr>
        <p:spPr>
          <a:xfrm>
            <a:off x="6095880" y="312408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1" name=""/>
          <p:cNvSpPr/>
          <p:nvPr/>
        </p:nvSpPr>
        <p:spPr>
          <a:xfrm>
            <a:off x="914400" y="3809880"/>
            <a:ext cx="914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SP/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2" name=""/>
          <p:cNvCxnSpPr>
            <a:stCxn id="1331" idx="0"/>
            <a:endCxn id="1314" idx="2"/>
          </p:cNvCxnSpPr>
          <p:nvPr/>
        </p:nvCxnSpPr>
        <p:spPr>
          <a:xfrm flipV="1">
            <a:off x="1371240" y="3428640"/>
            <a:ext cx="108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3" name=""/>
          <p:cNvSpPr/>
          <p:nvPr/>
        </p:nvSpPr>
        <p:spPr>
          <a:xfrm>
            <a:off x="568080" y="3581280"/>
            <a:ext cx="165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 Recording/Playback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914400" y="7621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5" name=""/>
          <p:cNvCxnSpPr>
            <a:stCxn id="1314" idx="0"/>
            <a:endCxn id="1334" idx="2"/>
          </p:cNvCxnSpPr>
          <p:nvPr/>
        </p:nvCxnSpPr>
        <p:spPr>
          <a:xfrm flipV="1">
            <a:off x="1371240" y="1371240"/>
            <a:ext cx="10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6" name=""/>
          <p:cNvSpPr/>
          <p:nvPr/>
        </p:nvSpPr>
        <p:spPr>
          <a:xfrm>
            <a:off x="431280" y="1828800"/>
            <a:ext cx="21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nc &lt;Meeting X recording&gt; To Marker 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 Left untill next Mark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05720" y="1143000"/>
            <a:ext cx="1752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4" idx="3"/>
            <a:endCxn id="1337" idx="1"/>
          </p:cNvCxnSpPr>
          <p:nvPr/>
        </p:nvCxnSpPr>
        <p:spPr>
          <a:xfrm>
            <a:off x="1828440" y="1066320"/>
            <a:ext cx="487764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9" name=""/>
          <p:cNvSpPr/>
          <p:nvPr/>
        </p:nvSpPr>
        <p:spPr>
          <a:xfrm>
            <a:off x="4082400" y="4800600"/>
            <a:ext cx="3106800" cy="131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33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Playback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1) Via Windows Media Player [ Latency issue ]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ost process of voice objects =&gt; streaming audio forma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[Hack] on playback, disable HearMe client, launch W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2) Via HearMe’s clien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Chop up permenant different voice objects.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Update Voice Object DB records to match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layback controlled via recording/playback firing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  reconnect events to HearMe client via its chann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3060720" y="76320"/>
            <a:ext cx="33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te Synchronization on Initi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920" y="762120"/>
            <a:ext cx="78458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ramework States: Initialized in step 4 of previous sli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ole l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Initia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Settings [ Meeting ID, Audio Conference # 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 1: Playback from last major event (Better.  More fault tolerant and classical client/serv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tion 2: Ask master for state dump (master failure, master selection in equal participant mode, complex client logic, 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s Sampl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se content navig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2280" y="5105520"/>
            <a:ext cx="35816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1: Join New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iv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2: First 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current major event segment of the action based recording stream only as fast as possible (broadcast events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3: Re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e as Case 2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2514600"/>
            <a:ext cx="91440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412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33412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33412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00600" y="2209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181480" y="1752480"/>
            <a:ext cx="144792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705720" y="1752480"/>
            <a:ext cx="144756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5800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85800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85800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805440" y="3581280"/>
            <a:ext cx="21358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inuous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recorded at specific time interv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89880" y="3581280"/>
            <a:ext cx="16452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screte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triggered by 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580920" y="220968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rrent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3276720" y="4343400"/>
            <a:ext cx="5028120" cy="989640"/>
            <a:chOff x="3276720" y="4343400"/>
            <a:chExt cx="5028120" cy="989640"/>
          </a:xfrm>
        </p:grpSpPr>
        <p:sp>
          <p:nvSpPr>
            <p:cNvPr id="1357" name=""/>
            <p:cNvSpPr/>
            <p:nvPr/>
          </p:nvSpPr>
          <p:spPr>
            <a:xfrm>
              <a:off x="3276720" y="434340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3276720" y="480888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5340600" y="4648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0" name=""/>
          <p:cNvCxnSpPr>
            <a:stCxn id="1343" idx="3"/>
            <a:endCxn id="1357" idx="0"/>
          </p:cNvCxnSpPr>
          <p:nvPr/>
        </p:nvCxnSpPr>
        <p:spPr>
          <a:xfrm>
            <a:off x="4266720" y="3657240"/>
            <a:ext cx="1659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1" name=""/>
          <p:cNvSpPr/>
          <p:nvPr/>
        </p:nvSpPr>
        <p:spPr>
          <a:xfrm>
            <a:off x="229320" y="59040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n connection to event bus, initialization steps are as follow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724280" y="5943600"/>
            <a:ext cx="10670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724280" y="5791320"/>
            <a:ext cx="10670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181480" y="53341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685800" y="1295280"/>
            <a:ext cx="2438280" cy="2971800"/>
          </a:xfrm>
          <a:custGeom>
            <a:avLst/>
            <a:gdLst/>
            <a:ahLst/>
            <a:rect l="l" t="t" r="r" b="b"/>
            <a:pathLst>
              <a:path w="1536" h="1872">
                <a:moveTo>
                  <a:pt x="0" y="1584"/>
                </a:moveTo>
                <a:lnTo>
                  <a:pt x="96" y="0"/>
                </a:lnTo>
                <a:lnTo>
                  <a:pt x="1536" y="0"/>
                </a:lnTo>
                <a:lnTo>
                  <a:pt x="1536" y="1248"/>
                </a:lnTo>
                <a:lnTo>
                  <a:pt x="576" y="1872"/>
                </a:lnTo>
                <a:lnTo>
                  <a:pt x="0" y="1872"/>
                </a:lnTo>
                <a:lnTo>
                  <a:pt x="0" y="1584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17280" y="7452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80880" y="472428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33520" y="54100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9" name=""/>
          <p:cNvCxnSpPr>
            <a:stCxn id="1370" idx="2"/>
            <a:endCxn id="1368" idx="0"/>
          </p:cNvCxnSpPr>
          <p:nvPr/>
        </p:nvCxnSpPr>
        <p:spPr>
          <a:xfrm rot="5400000">
            <a:off x="418320" y="4685760"/>
            <a:ext cx="114372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0" name=""/>
          <p:cNvSpPr/>
          <p:nvPr/>
        </p:nvSpPr>
        <p:spPr>
          <a:xfrm>
            <a:off x="685800" y="38098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295280" y="1371600"/>
            <a:ext cx="175284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914400" y="1371600"/>
            <a:ext cx="3049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295280" y="2819520"/>
            <a:ext cx="1752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38080" y="1295280"/>
            <a:ext cx="2286000" cy="198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79960" y="1047600"/>
            <a:ext cx="110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295280" y="4343400"/>
            <a:ext cx="175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screen snapshots with incremental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parate segment for each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952880" y="2057400"/>
            <a:ext cx="7621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3581280"/>
            <a:ext cx="12956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ix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5880" y="1905120"/>
            <a:ext cx="7621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029200" y="2133720"/>
            <a:ext cx="609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e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4876920" y="4952880"/>
            <a:ext cx="380880" cy="254160"/>
            <a:chOff x="4876920" y="4952880"/>
            <a:chExt cx="380880" cy="254160"/>
          </a:xfrm>
        </p:grpSpPr>
        <p:sp>
          <p:nvSpPr>
            <p:cNvPr id="1382" name=""/>
            <p:cNvSpPr/>
            <p:nvPr/>
          </p:nvSpPr>
          <p:spPr>
            <a:xfrm>
              <a:off x="49402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8769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9402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334120" y="4952880"/>
            <a:ext cx="380880" cy="254160"/>
            <a:chOff x="5334120" y="4952880"/>
            <a:chExt cx="380880" cy="254160"/>
          </a:xfrm>
        </p:grpSpPr>
        <p:sp>
          <p:nvSpPr>
            <p:cNvPr id="1386" name=""/>
            <p:cNvSpPr/>
            <p:nvPr/>
          </p:nvSpPr>
          <p:spPr>
            <a:xfrm>
              <a:off x="53974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341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974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791320" y="4952880"/>
            <a:ext cx="380880" cy="254160"/>
            <a:chOff x="5791320" y="4952880"/>
            <a:chExt cx="380880" cy="254160"/>
          </a:xfrm>
        </p:grpSpPr>
        <p:sp>
          <p:nvSpPr>
            <p:cNvPr id="1390" name=""/>
            <p:cNvSpPr/>
            <p:nvPr/>
          </p:nvSpPr>
          <p:spPr>
            <a:xfrm>
              <a:off x="58546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913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546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6248520" y="4952880"/>
            <a:ext cx="380880" cy="254160"/>
            <a:chOff x="6248520" y="4952880"/>
            <a:chExt cx="380880" cy="254160"/>
          </a:xfrm>
        </p:grpSpPr>
        <p:sp>
          <p:nvSpPr>
            <p:cNvPr id="1394" name=""/>
            <p:cNvSpPr/>
            <p:nvPr/>
          </p:nvSpPr>
          <p:spPr>
            <a:xfrm>
              <a:off x="63118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2485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18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97" name=""/>
          <p:cNvCxnSpPr>
            <a:stCxn id="1382" idx="0"/>
            <a:endCxn id="1378" idx="2"/>
          </p:cNvCxnSpPr>
          <p:nvPr/>
        </p:nvCxnSpPr>
        <p:spPr>
          <a:xfrm flipH="1" flipV="1" rot="5400000">
            <a:off x="5067360" y="4406040"/>
            <a:ext cx="519840" cy="54648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86" idx="0"/>
            <a:endCxn id="1378" idx="2"/>
          </p:cNvCxnSpPr>
          <p:nvPr/>
        </p:nvCxnSpPr>
        <p:spPr>
          <a:xfrm flipH="1" flipV="1" rot="5400000">
            <a:off x="5296320" y="4634280"/>
            <a:ext cx="519840" cy="8964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90" idx="0"/>
            <a:endCxn id="1378" idx="2"/>
          </p:cNvCxnSpPr>
          <p:nvPr/>
        </p:nvCxnSpPr>
        <p:spPr>
          <a:xfrm flipV="1" rot="16200000">
            <a:off x="5524920" y="4494600"/>
            <a:ext cx="519840" cy="3690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94" idx="0"/>
            <a:endCxn id="1378" idx="2"/>
          </p:cNvCxnSpPr>
          <p:nvPr/>
        </p:nvCxnSpPr>
        <p:spPr>
          <a:xfrm flipV="1" rot="16200000">
            <a:off x="5753520" y="4266000"/>
            <a:ext cx="519840" cy="8262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stCxn id="1380" idx="0"/>
            <a:endCxn id="1379" idx="0"/>
          </p:cNvCxnSpPr>
          <p:nvPr/>
        </p:nvCxnSpPr>
        <p:spPr>
          <a:xfrm flipH="1" flipV="1" rot="5400000">
            <a:off x="5790960" y="1447200"/>
            <a:ext cx="229320" cy="1143720"/>
          </a:xfrm>
          <a:prstGeom prst="bentConnector3">
            <a:avLst>
              <a:gd name="adj1" fmla="val 200000"/>
            </a:avLst>
          </a:prstGeom>
          <a:ln w="9360">
            <a:solidFill>
              <a:srgbClr val="b2b2b2"/>
            </a:solidFill>
            <a:miter/>
          </a:ln>
        </p:spPr>
      </p:cxnSp>
      <p:grpSp>
        <p:nvGrpSpPr>
          <p:cNvPr id="1402" name=""/>
          <p:cNvGrpSpPr/>
          <p:nvPr/>
        </p:nvGrpSpPr>
        <p:grpSpPr>
          <a:xfrm>
            <a:off x="3657600" y="990720"/>
            <a:ext cx="989640" cy="2895120"/>
            <a:chOff x="3657600" y="990720"/>
            <a:chExt cx="989640" cy="2895120"/>
          </a:xfrm>
        </p:grpSpPr>
        <p:sp>
          <p:nvSpPr>
            <p:cNvPr id="1403" name=""/>
            <p:cNvSpPr/>
            <p:nvPr/>
          </p:nvSpPr>
          <p:spPr>
            <a:xfrm rot="16200000">
              <a:off x="247212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 rot="16200000">
              <a:off x="293760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05" name=""/>
          <p:cNvCxnSpPr>
            <a:stCxn id="1374" idx="3"/>
            <a:endCxn id="1403" idx="0"/>
          </p:cNvCxnSpPr>
          <p:nvPr/>
        </p:nvCxnSpPr>
        <p:spPr>
          <a:xfrm>
            <a:off x="3124080" y="2286000"/>
            <a:ext cx="597600" cy="110160"/>
          </a:xfrm>
          <a:prstGeom prst="bentConnector3">
            <a:avLst>
              <a:gd name="adj1" fmla="val 443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6" name=""/>
          <p:cNvCxnSpPr>
            <a:stCxn id="1377" idx="1"/>
            <a:endCxn id="1404" idx="0"/>
          </p:cNvCxnSpPr>
          <p:nvPr/>
        </p:nvCxnSpPr>
        <p:spPr>
          <a:xfrm rot="10800000">
            <a:off x="4579200" y="2394720"/>
            <a:ext cx="373680" cy="272160"/>
          </a:xfrm>
          <a:prstGeom prst="bentConnector3">
            <a:avLst>
              <a:gd name="adj1" fmla="val 407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7" name=""/>
          <p:cNvSpPr/>
          <p:nvPr/>
        </p:nvSpPr>
        <p:spPr>
          <a:xfrm>
            <a:off x="2514600" y="281952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8" name=""/>
          <p:cNvCxnSpPr>
            <a:stCxn id="1407" idx="3"/>
            <a:endCxn id="1378" idx="1"/>
          </p:cNvCxnSpPr>
          <p:nvPr/>
        </p:nvCxnSpPr>
        <p:spPr>
          <a:xfrm>
            <a:off x="3047760" y="3009960"/>
            <a:ext cx="1905480" cy="991440"/>
          </a:xfrm>
          <a:prstGeom prst="bentConnector3">
            <a:avLst>
              <a:gd name="adj1" fmla="val 254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9" name=""/>
          <p:cNvSpPr/>
          <p:nvPr/>
        </p:nvSpPr>
        <p:spPr>
          <a:xfrm>
            <a:off x="3740400" y="2362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0" name=""/>
          <p:cNvCxnSpPr>
            <a:stCxn id="1379" idx="2"/>
            <a:endCxn id="1378" idx="0"/>
          </p:cNvCxnSpPr>
          <p:nvPr/>
        </p:nvCxnSpPr>
        <p:spPr>
          <a:xfrm flipH="1">
            <a:off x="5600520" y="2743200"/>
            <a:ext cx="8769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11" name=""/>
          <p:cNvSpPr/>
          <p:nvPr/>
        </p:nvSpPr>
        <p:spPr>
          <a:xfrm>
            <a:off x="4840920" y="990720"/>
            <a:ext cx="247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isten for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witch voice objects on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5238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096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8954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5" name=""/>
          <p:cNvCxnSpPr>
            <a:stCxn id="1412" idx="3"/>
            <a:endCxn id="1413" idx="1"/>
          </p:cNvCxnSpPr>
          <p:nvPr/>
        </p:nvCxnSpPr>
        <p:spPr>
          <a:xfrm>
            <a:off x="21333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6" name=""/>
          <p:cNvCxnSpPr>
            <a:stCxn id="1413" idx="3"/>
            <a:endCxn id="1414" idx="1"/>
          </p:cNvCxnSpPr>
          <p:nvPr/>
        </p:nvCxnSpPr>
        <p:spPr>
          <a:xfrm>
            <a:off x="28191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7" name=""/>
          <p:cNvCxnSpPr>
            <a:stCxn id="1368" idx="3"/>
            <a:endCxn id="1412" idx="1"/>
          </p:cNvCxnSpPr>
          <p:nvPr/>
        </p:nvCxnSpPr>
        <p:spPr>
          <a:xfrm>
            <a:off x="1143000" y="567648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18" name=""/>
          <p:cNvSpPr/>
          <p:nvPr/>
        </p:nvSpPr>
        <p:spPr>
          <a:xfrm>
            <a:off x="7924680" y="32767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924680" y="38862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924680" y="449568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1" name=""/>
          <p:cNvCxnSpPr>
            <a:stCxn id="1418" idx="2"/>
            <a:endCxn id="1419" idx="0"/>
          </p:cNvCxnSpPr>
          <p:nvPr/>
        </p:nvCxnSpPr>
        <p:spPr>
          <a:xfrm flipV="1" rot="10800000">
            <a:off x="8228880" y="380988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419" idx="2"/>
            <a:endCxn id="1420" idx="0"/>
          </p:cNvCxnSpPr>
          <p:nvPr/>
        </p:nvCxnSpPr>
        <p:spPr>
          <a:xfrm flipV="1" rot="10800000">
            <a:off x="8228880" y="441936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3" name=""/>
          <p:cNvSpPr/>
          <p:nvPr/>
        </p:nvSpPr>
        <p:spPr>
          <a:xfrm>
            <a:off x="7162920" y="2590920"/>
            <a:ext cx="685800" cy="685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4" name=""/>
          <p:cNvCxnSpPr>
            <a:stCxn id="1423" idx="3"/>
            <a:endCxn id="1418" idx="0"/>
          </p:cNvCxnSpPr>
          <p:nvPr/>
        </p:nvCxnSpPr>
        <p:spPr>
          <a:xfrm>
            <a:off x="7848720" y="2933280"/>
            <a:ext cx="38160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5" name=""/>
          <p:cNvCxnSpPr>
            <a:stCxn id="1379" idx="3"/>
            <a:endCxn id="1423" idx="0"/>
          </p:cNvCxnSpPr>
          <p:nvPr/>
        </p:nvCxnSpPr>
        <p:spPr>
          <a:xfrm>
            <a:off x="6857640" y="2323800"/>
            <a:ext cx="6483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6" name=""/>
          <p:cNvSpPr/>
          <p:nvPr/>
        </p:nvSpPr>
        <p:spPr>
          <a:xfrm>
            <a:off x="4865040" y="5619600"/>
            <a:ext cx="348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separate lightweight playback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ilt on top of shared display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ynchronize on each screen &amp; audio on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38828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387200" y="40384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389000" y="464832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634000" y="533520"/>
            <a:ext cx="32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Multi-resolution playback solution: By Florida Sta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380880" y="502920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57150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5238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096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8954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6" name=""/>
          <p:cNvCxnSpPr>
            <a:stCxn id="1433" idx="3"/>
            <a:endCxn id="1434" idx="1"/>
          </p:cNvCxnSpPr>
          <p:nvPr/>
        </p:nvCxnSpPr>
        <p:spPr>
          <a:xfrm>
            <a:off x="21333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7" name=""/>
          <p:cNvCxnSpPr>
            <a:stCxn id="1434" idx="3"/>
            <a:endCxn id="1435" idx="1"/>
          </p:cNvCxnSpPr>
          <p:nvPr/>
        </p:nvCxnSpPr>
        <p:spPr>
          <a:xfrm>
            <a:off x="28191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8" name=""/>
          <p:cNvCxnSpPr>
            <a:stCxn id="1432" idx="3"/>
            <a:endCxn id="1433" idx="1"/>
          </p:cNvCxnSpPr>
          <p:nvPr/>
        </p:nvCxnSpPr>
        <p:spPr>
          <a:xfrm>
            <a:off x="1143000" y="598140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39" name=""/>
          <p:cNvSpPr/>
          <p:nvPr/>
        </p:nvSpPr>
        <p:spPr>
          <a:xfrm>
            <a:off x="228600" y="1295280"/>
            <a:ext cx="13716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52280" y="4343400"/>
            <a:ext cx="1447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ven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1" name=""/>
          <p:cNvCxnSpPr>
            <a:stCxn id="1440" idx="0"/>
            <a:endCxn id="1439" idx="2"/>
          </p:cNvCxnSpPr>
          <p:nvPr/>
        </p:nvCxnSpPr>
        <p:spPr>
          <a:xfrm flipH="1" flipV="1" rot="5400000">
            <a:off x="-133560" y="3295080"/>
            <a:ext cx="2057760" cy="3888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2" name=""/>
          <p:cNvSpPr/>
          <p:nvPr/>
        </p:nvSpPr>
        <p:spPr>
          <a:xfrm>
            <a:off x="2438280" y="1600200"/>
            <a:ext cx="60984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295280" y="1295280"/>
            <a:ext cx="17528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esson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4" name=""/>
          <p:cNvCxnSpPr>
            <a:stCxn id="1443" idx="2"/>
            <a:endCxn id="1442" idx="1"/>
          </p:cNvCxnSpPr>
          <p:nvPr/>
        </p:nvCxnSpPr>
        <p:spPr>
          <a:xfrm flipH="1" rot="16200000">
            <a:off x="2133360" y="1561680"/>
            <a:ext cx="3438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5" name=""/>
          <p:cNvSpPr/>
          <p:nvPr/>
        </p:nvSpPr>
        <p:spPr>
          <a:xfrm>
            <a:off x="894960" y="2666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p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6" name=""/>
          <p:cNvCxnSpPr>
            <a:stCxn id="1439" idx="3"/>
            <a:endCxn id="1447" idx="1"/>
          </p:cNvCxnSpPr>
          <p:nvPr/>
        </p:nvCxnSpPr>
        <p:spPr>
          <a:xfrm>
            <a:off x="1599840" y="1790640"/>
            <a:ext cx="610200" cy="1905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48" name=""/>
          <p:cNvGrpSpPr/>
          <p:nvPr/>
        </p:nvGrpSpPr>
        <p:grpSpPr>
          <a:xfrm>
            <a:off x="2209680" y="2666880"/>
            <a:ext cx="2057400" cy="2286000"/>
            <a:chOff x="2209680" y="2666880"/>
            <a:chExt cx="2057400" cy="2286000"/>
          </a:xfrm>
        </p:grpSpPr>
        <p:sp>
          <p:nvSpPr>
            <p:cNvPr id="1447" name=""/>
            <p:cNvSpPr/>
            <p:nvPr/>
          </p:nvSpPr>
          <p:spPr>
            <a:xfrm>
              <a:off x="2209680" y="2666880"/>
              <a:ext cx="2057400" cy="2057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37120" y="2895480"/>
              <a:ext cx="159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Syllabus: 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Course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2285640" y="2971440"/>
              <a:ext cx="90360" cy="88920"/>
              <a:chOff x="2285640" y="2971440"/>
              <a:chExt cx="90360" cy="88920"/>
            </a:xfrm>
          </p:grpSpPr>
          <p:sp>
            <p:nvSpPr>
              <p:cNvPr id="1451" name=""/>
              <p:cNvSpPr/>
              <p:nvPr/>
            </p:nvSpPr>
            <p:spPr>
              <a:xfrm>
                <a:off x="2285640" y="29714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85640" y="30175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>
              <a:off x="2361240" y="3352680"/>
              <a:ext cx="132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JLayeredPa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364120" y="3657240"/>
              <a:ext cx="98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2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	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J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349720" y="3809880"/>
              <a:ext cx="1527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Spreadshe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285640" y="3733560"/>
              <a:ext cx="90360" cy="91800"/>
              <a:chOff x="2285640" y="3733560"/>
              <a:chExt cx="90360" cy="91800"/>
            </a:xfrm>
          </p:grpSpPr>
          <p:grpSp>
            <p:nvGrpSpPr>
              <p:cNvPr id="1457" name=""/>
              <p:cNvGrpSpPr/>
              <p:nvPr/>
            </p:nvGrpSpPr>
            <p:grpSpPr>
              <a:xfrm>
                <a:off x="2285640" y="3733560"/>
                <a:ext cx="90360" cy="88920"/>
                <a:chOff x="2285640" y="3733560"/>
                <a:chExt cx="90360" cy="8892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2285640" y="373356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2285640" y="377964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0" name=""/>
              <p:cNvSpPr/>
              <p:nvPr/>
            </p:nvSpPr>
            <p:spPr>
              <a:xfrm>
                <a:off x="2331720" y="373356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2285640" y="3885840"/>
              <a:ext cx="90360" cy="88920"/>
              <a:chOff x="2285640" y="3885840"/>
              <a:chExt cx="90360" cy="88920"/>
            </a:xfrm>
          </p:grpSpPr>
          <p:sp>
            <p:nvSpPr>
              <p:cNvPr id="1462" name=""/>
              <p:cNvSpPr/>
              <p:nvPr/>
            </p:nvSpPr>
            <p:spPr>
              <a:xfrm>
                <a:off x="2285640" y="38858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285640" y="39319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4" name=""/>
            <p:cNvSpPr/>
            <p:nvPr/>
          </p:nvSpPr>
          <p:spPr>
            <a:xfrm>
              <a:off x="2561400" y="3200040"/>
              <a:ext cx="105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Polic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554200" y="3047760"/>
              <a:ext cx="1165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General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514240" y="3124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514240" y="32763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46640" y="3962160"/>
              <a:ext cx="134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ubmiss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2514240" y="4038480"/>
              <a:ext cx="90360" cy="91800"/>
              <a:chOff x="2514240" y="4038480"/>
              <a:chExt cx="90360" cy="9180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2514240" y="4038480"/>
                <a:ext cx="90360" cy="88920"/>
                <a:chOff x="2514240" y="4038480"/>
                <a:chExt cx="90360" cy="8892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2514240" y="403848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2514240" y="408456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3" name=""/>
              <p:cNvSpPr/>
              <p:nvPr/>
            </p:nvSpPr>
            <p:spPr>
              <a:xfrm>
                <a:off x="2560320" y="403848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2285640" y="3428640"/>
              <a:ext cx="90360" cy="88920"/>
              <a:chOff x="2285640" y="3428640"/>
              <a:chExt cx="90360" cy="88920"/>
            </a:xfrm>
          </p:grpSpPr>
          <p:sp>
            <p:nvSpPr>
              <p:cNvPr id="1475" name=""/>
              <p:cNvSpPr/>
              <p:nvPr/>
            </p:nvSpPr>
            <p:spPr>
              <a:xfrm>
                <a:off x="2285640" y="34286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285640" y="34747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>
              <a:off x="2574720" y="3504960"/>
              <a:ext cx="15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Recording: 9/7/2000 (1 hou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424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554200" y="4114440"/>
              <a:ext cx="113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olu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514240" y="4190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209680" y="26668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Course Material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90760" y="2819160"/>
              <a:ext cx="76320" cy="190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90760" y="28191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4190760" y="46479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209680" y="4724280"/>
              <a:ext cx="20574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285640" y="4762440"/>
              <a:ext cx="30492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Ed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33560" y="476244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Full Vie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88" name=""/>
          <p:cNvCxnSpPr>
            <a:stCxn id="1442" idx="2"/>
            <a:endCxn id="1477" idx="3"/>
          </p:cNvCxnSpPr>
          <p:nvPr/>
        </p:nvCxnSpPr>
        <p:spPr>
          <a:xfrm flipH="1" rot="16200000">
            <a:off x="2685240" y="2191320"/>
            <a:ext cx="1480320" cy="1364400"/>
          </a:xfrm>
          <a:prstGeom prst="bentConnector4">
            <a:avLst>
              <a:gd name="adj1" fmla="val 26708"/>
              <a:gd name="adj2" fmla="val 1167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89" name=""/>
          <p:cNvGrpSpPr/>
          <p:nvPr/>
        </p:nvGrpSpPr>
        <p:grpSpPr>
          <a:xfrm>
            <a:off x="5715000" y="5181480"/>
            <a:ext cx="2057400" cy="1295280"/>
            <a:chOff x="5715000" y="5181480"/>
            <a:chExt cx="2057400" cy="1295280"/>
          </a:xfrm>
        </p:grpSpPr>
        <p:sp>
          <p:nvSpPr>
            <p:cNvPr id="1490" name=""/>
            <p:cNvSpPr/>
            <p:nvPr/>
          </p:nvSpPr>
          <p:spPr>
            <a:xfrm>
              <a:off x="5715000" y="5181480"/>
              <a:ext cx="2057400" cy="1066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715000" y="51814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Lesson Player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5715000" y="6248160"/>
              <a:ext cx="2057400" cy="228600"/>
              <a:chOff x="5715000" y="6248160"/>
              <a:chExt cx="2057400" cy="228600"/>
            </a:xfrm>
          </p:grpSpPr>
          <p:sp>
            <p:nvSpPr>
              <p:cNvPr id="1493" name=""/>
              <p:cNvSpPr/>
              <p:nvPr/>
            </p:nvSpPr>
            <p:spPr>
              <a:xfrm>
                <a:off x="5715000" y="6248160"/>
                <a:ext cx="2057400" cy="228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791320" y="6286320"/>
                <a:ext cx="30492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Pla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495" name=""/>
          <p:cNvCxnSpPr>
            <a:stCxn id="1477" idx="2"/>
            <a:endCxn id="1490" idx="1"/>
          </p:cNvCxnSpPr>
          <p:nvPr/>
        </p:nvCxnSpPr>
        <p:spPr>
          <a:xfrm flipH="1" rot="16200000">
            <a:off x="3534480" y="3534120"/>
            <a:ext cx="1996200" cy="2365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96" name=""/>
          <p:cNvGrpSpPr/>
          <p:nvPr/>
        </p:nvGrpSpPr>
        <p:grpSpPr>
          <a:xfrm>
            <a:off x="4648320" y="3124080"/>
            <a:ext cx="3961440" cy="989640"/>
            <a:chOff x="4648320" y="3124080"/>
            <a:chExt cx="3961440" cy="989640"/>
          </a:xfrm>
        </p:grpSpPr>
        <p:sp>
          <p:nvSpPr>
            <p:cNvPr id="1497" name=""/>
            <p:cNvSpPr/>
            <p:nvPr/>
          </p:nvSpPr>
          <p:spPr>
            <a:xfrm>
              <a:off x="4648320" y="312408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4648320" y="358956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>
            <a:off x="5715000" y="4952880"/>
            <a:ext cx="2057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0" y="1295280"/>
            <a:ext cx="12193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1" name=""/>
          <p:cNvCxnSpPr>
            <a:stCxn id="1500" idx="2"/>
            <a:endCxn id="1497" idx="0"/>
          </p:cNvCxnSpPr>
          <p:nvPr/>
        </p:nvCxnSpPr>
        <p:spPr>
          <a:xfrm flipH="1" rot="16200000">
            <a:off x="5300640" y="2013120"/>
            <a:ext cx="1003680" cy="1243800"/>
          </a:xfrm>
          <a:prstGeom prst="bentConnector3">
            <a:avLst>
              <a:gd name="adj1" fmla="val 493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2" name=""/>
          <p:cNvCxnSpPr>
            <a:stCxn id="1499" idx="0"/>
            <a:endCxn id="1498" idx="0"/>
          </p:cNvCxnSpPr>
          <p:nvPr/>
        </p:nvCxnSpPr>
        <p:spPr>
          <a:xfrm flipV="1" rot="16200000">
            <a:off x="6156720" y="4365720"/>
            <a:ext cx="853200" cy="321480"/>
          </a:xfrm>
          <a:prstGeom prst="bentConnector3">
            <a:avLst>
              <a:gd name="adj1" fmla="val 4913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03" name=""/>
          <p:cNvSpPr/>
          <p:nvPr/>
        </p:nvSpPr>
        <p:spPr>
          <a:xfrm>
            <a:off x="6645240" y="4038480"/>
            <a:ext cx="244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andard Launch w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r UR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 capabilities repor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Playback server optimiz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as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97520" y="628020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340320" y="6280200"/>
            <a:ext cx="381240" cy="152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ar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924680" y="121932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3600" y="12952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943600" y="6858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019920" y="13716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095880" y="1447920"/>
            <a:ext cx="609840" cy="533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679120" y="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99000" y="919080"/>
            <a:ext cx="754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row Away Work Summ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the course builder (except for part of Meeting document editor).  [ Unless we continue to use this primative method for course material storage 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Servlet/JSP’s will have to be reworked (U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33520" y="533520"/>
            <a:ext cx="1066680" cy="1142640"/>
            <a:chOff x="533520" y="533520"/>
            <a:chExt cx="1066680" cy="1142640"/>
          </a:xfrm>
        </p:grpSpPr>
        <p:grpSp>
          <p:nvGrpSpPr>
            <p:cNvPr id="75" name=""/>
            <p:cNvGrpSpPr/>
            <p:nvPr/>
          </p:nvGrpSpPr>
          <p:grpSpPr>
            <a:xfrm>
              <a:off x="685800" y="686160"/>
              <a:ext cx="914400" cy="990000"/>
              <a:chOff x="685800" y="686160"/>
              <a:chExt cx="914400" cy="990000"/>
            </a:xfrm>
          </p:grpSpPr>
          <p:sp>
            <p:nvSpPr>
              <p:cNvPr id="76" name=""/>
              <p:cNvSpPr/>
              <p:nvPr/>
            </p:nvSpPr>
            <p:spPr>
              <a:xfrm>
                <a:off x="685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09480" y="609840"/>
              <a:ext cx="914400" cy="990720"/>
              <a:chOff x="609480" y="609840"/>
              <a:chExt cx="914400" cy="990720"/>
            </a:xfrm>
          </p:grpSpPr>
          <p:sp>
            <p:nvSpPr>
              <p:cNvPr id="79" name=""/>
              <p:cNvSpPr/>
              <p:nvPr/>
            </p:nvSpPr>
            <p:spPr>
              <a:xfrm>
                <a:off x="609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9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33520" y="533520"/>
              <a:ext cx="914400" cy="990720"/>
              <a:chOff x="533520" y="533520"/>
              <a:chExt cx="914400" cy="990720"/>
            </a:xfrm>
          </p:grpSpPr>
          <p:sp>
            <p:nvSpPr>
              <p:cNvPr id="82" name=""/>
              <p:cNvSpPr/>
              <p:nvPr/>
            </p:nvSpPr>
            <p:spPr>
              <a:xfrm>
                <a:off x="533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3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38088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533520"/>
            <a:ext cx="1066680" cy="1142640"/>
            <a:chOff x="1676520" y="533520"/>
            <a:chExt cx="1066680" cy="1142640"/>
          </a:xfrm>
        </p:grpSpPr>
        <p:grpSp>
          <p:nvGrpSpPr>
            <p:cNvPr id="86" name=""/>
            <p:cNvGrpSpPr/>
            <p:nvPr/>
          </p:nvGrpSpPr>
          <p:grpSpPr>
            <a:xfrm>
              <a:off x="1828800" y="686160"/>
              <a:ext cx="914400" cy="990000"/>
              <a:chOff x="1828800" y="686160"/>
              <a:chExt cx="914400" cy="990000"/>
            </a:xfrm>
          </p:grpSpPr>
          <p:sp>
            <p:nvSpPr>
              <p:cNvPr id="87" name=""/>
              <p:cNvSpPr/>
              <p:nvPr/>
            </p:nvSpPr>
            <p:spPr>
              <a:xfrm>
                <a:off x="1828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28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752480" y="609840"/>
              <a:ext cx="914400" cy="990720"/>
              <a:chOff x="1752480" y="609840"/>
              <a:chExt cx="914400" cy="990720"/>
            </a:xfrm>
          </p:grpSpPr>
          <p:sp>
            <p:nvSpPr>
              <p:cNvPr id="90" name=""/>
              <p:cNvSpPr/>
              <p:nvPr/>
            </p:nvSpPr>
            <p:spPr>
              <a:xfrm>
                <a:off x="1752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52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676520" y="533520"/>
              <a:ext cx="914400" cy="990720"/>
              <a:chOff x="1676520" y="533520"/>
              <a:chExt cx="914400" cy="9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676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676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2819520" y="533520"/>
            <a:ext cx="1066680" cy="1142640"/>
            <a:chOff x="2819520" y="533520"/>
            <a:chExt cx="1066680" cy="1142640"/>
          </a:xfrm>
        </p:grpSpPr>
        <p:grpSp>
          <p:nvGrpSpPr>
            <p:cNvPr id="96" name=""/>
            <p:cNvGrpSpPr/>
            <p:nvPr/>
          </p:nvGrpSpPr>
          <p:grpSpPr>
            <a:xfrm>
              <a:off x="2971800" y="686160"/>
              <a:ext cx="914400" cy="990000"/>
              <a:chOff x="2971800" y="686160"/>
              <a:chExt cx="914400" cy="990000"/>
            </a:xfrm>
          </p:grpSpPr>
          <p:sp>
            <p:nvSpPr>
              <p:cNvPr id="97" name=""/>
              <p:cNvSpPr/>
              <p:nvPr/>
            </p:nvSpPr>
            <p:spPr>
              <a:xfrm>
                <a:off x="2971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971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895480" y="609840"/>
              <a:ext cx="914400" cy="990720"/>
              <a:chOff x="2895480" y="609840"/>
              <a:chExt cx="914400" cy="990720"/>
            </a:xfrm>
          </p:grpSpPr>
          <p:sp>
            <p:nvSpPr>
              <p:cNvPr id="100" name=""/>
              <p:cNvSpPr/>
              <p:nvPr/>
            </p:nvSpPr>
            <p:spPr>
              <a:xfrm>
                <a:off x="2895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95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819520" y="533520"/>
              <a:ext cx="914400" cy="990720"/>
              <a:chOff x="2819520" y="533520"/>
              <a:chExt cx="914400" cy="990720"/>
            </a:xfrm>
          </p:grpSpPr>
          <p:sp>
            <p:nvSpPr>
              <p:cNvPr id="103" name=""/>
              <p:cNvSpPr/>
              <p:nvPr/>
            </p:nvSpPr>
            <p:spPr>
              <a:xfrm>
                <a:off x="2819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19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Japa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962520" y="533520"/>
            <a:ext cx="1066680" cy="1142640"/>
            <a:chOff x="3962520" y="533520"/>
            <a:chExt cx="1066680" cy="1142640"/>
          </a:xfrm>
        </p:grpSpPr>
        <p:grpSp>
          <p:nvGrpSpPr>
            <p:cNvPr id="106" name=""/>
            <p:cNvGrpSpPr/>
            <p:nvPr/>
          </p:nvGrpSpPr>
          <p:grpSpPr>
            <a:xfrm>
              <a:off x="4114800" y="686160"/>
              <a:ext cx="914400" cy="990000"/>
              <a:chOff x="4114800" y="686160"/>
              <a:chExt cx="914400" cy="990000"/>
            </a:xfrm>
          </p:grpSpPr>
          <p:sp>
            <p:nvSpPr>
              <p:cNvPr id="107" name=""/>
              <p:cNvSpPr/>
              <p:nvPr/>
            </p:nvSpPr>
            <p:spPr>
              <a:xfrm>
                <a:off x="4114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038480" y="609840"/>
              <a:ext cx="914400" cy="990720"/>
              <a:chOff x="4038480" y="609840"/>
              <a:chExt cx="914400" cy="990720"/>
            </a:xfrm>
          </p:grpSpPr>
          <p:sp>
            <p:nvSpPr>
              <p:cNvPr id="110" name=""/>
              <p:cNvSpPr/>
              <p:nvPr/>
            </p:nvSpPr>
            <p:spPr>
              <a:xfrm>
                <a:off x="4038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38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962520" y="533520"/>
              <a:ext cx="914400" cy="990720"/>
              <a:chOff x="3962520" y="533520"/>
              <a:chExt cx="914400" cy="99072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62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5105520" y="533520"/>
            <a:ext cx="1066680" cy="1142640"/>
            <a:chOff x="5105520" y="533520"/>
            <a:chExt cx="1066680" cy="1142640"/>
          </a:xfrm>
        </p:grpSpPr>
        <p:grpSp>
          <p:nvGrpSpPr>
            <p:cNvPr id="116" name=""/>
            <p:cNvGrpSpPr/>
            <p:nvPr/>
          </p:nvGrpSpPr>
          <p:grpSpPr>
            <a:xfrm>
              <a:off x="5257800" y="686160"/>
              <a:ext cx="914400" cy="990000"/>
              <a:chOff x="5257800" y="686160"/>
              <a:chExt cx="914400" cy="990000"/>
            </a:xfrm>
          </p:grpSpPr>
          <p:sp>
            <p:nvSpPr>
              <p:cNvPr id="117" name=""/>
              <p:cNvSpPr/>
              <p:nvPr/>
            </p:nvSpPr>
            <p:spPr>
              <a:xfrm>
                <a:off x="5257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181480" y="609840"/>
              <a:ext cx="914400" cy="990720"/>
              <a:chOff x="5181480" y="609840"/>
              <a:chExt cx="914400" cy="990720"/>
            </a:xfrm>
          </p:grpSpPr>
          <p:sp>
            <p:nvSpPr>
              <p:cNvPr id="120" name=""/>
              <p:cNvSpPr/>
              <p:nvPr/>
            </p:nvSpPr>
            <p:spPr>
              <a:xfrm>
                <a:off x="5181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81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105520" y="533520"/>
              <a:ext cx="914400" cy="990720"/>
              <a:chOff x="5105520" y="533520"/>
              <a:chExt cx="914400" cy="990720"/>
            </a:xfrm>
          </p:grpSpPr>
          <p:sp>
            <p:nvSpPr>
              <p:cNvPr id="123" name=""/>
              <p:cNvSpPr/>
              <p:nvPr/>
            </p:nvSpPr>
            <p:spPr>
              <a:xfrm>
                <a:off x="5105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05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6248520" y="533520"/>
            <a:ext cx="1066680" cy="1142640"/>
            <a:chOff x="6248520" y="533520"/>
            <a:chExt cx="1066680" cy="1142640"/>
          </a:xfrm>
        </p:grpSpPr>
        <p:grpSp>
          <p:nvGrpSpPr>
            <p:cNvPr id="126" name=""/>
            <p:cNvGrpSpPr/>
            <p:nvPr/>
          </p:nvGrpSpPr>
          <p:grpSpPr>
            <a:xfrm>
              <a:off x="6400800" y="686160"/>
              <a:ext cx="914400" cy="990000"/>
              <a:chOff x="6400800" y="686160"/>
              <a:chExt cx="914400" cy="990000"/>
            </a:xfrm>
          </p:grpSpPr>
          <p:sp>
            <p:nvSpPr>
              <p:cNvPr id="127" name=""/>
              <p:cNvSpPr/>
              <p:nvPr/>
            </p:nvSpPr>
            <p:spPr>
              <a:xfrm>
                <a:off x="6400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00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324480" y="609840"/>
              <a:ext cx="914400" cy="990720"/>
              <a:chOff x="6324480" y="609840"/>
              <a:chExt cx="914400" cy="990720"/>
            </a:xfrm>
          </p:grpSpPr>
          <p:sp>
            <p:nvSpPr>
              <p:cNvPr id="130" name=""/>
              <p:cNvSpPr/>
              <p:nvPr/>
            </p:nvSpPr>
            <p:spPr>
              <a:xfrm>
                <a:off x="6324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24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248520" y="533520"/>
              <a:ext cx="914400" cy="990720"/>
              <a:chOff x="6248520" y="533520"/>
              <a:chExt cx="914400" cy="990720"/>
            </a:xfrm>
          </p:grpSpPr>
          <p:sp>
            <p:nvSpPr>
              <p:cNvPr id="133" name=""/>
              <p:cNvSpPr/>
              <p:nvPr/>
            </p:nvSpPr>
            <p:spPr>
              <a:xfrm>
                <a:off x="6248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48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Japa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7696080" y="1371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360" y="1143000"/>
            <a:ext cx="131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ized Localiz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77" idx="2"/>
            <a:endCxn id="138" idx="0"/>
          </p:cNvCxnSpPr>
          <p:nvPr/>
        </p:nvCxnSpPr>
        <p:spPr>
          <a:xfrm rot="5400000">
            <a:off x="723240" y="1790280"/>
            <a:ext cx="53388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39" name=""/>
          <p:cNvCxnSpPr>
            <a:stCxn id="88" idx="2"/>
            <a:endCxn id="138" idx="0"/>
          </p:cNvCxnSpPr>
          <p:nvPr/>
        </p:nvCxnSpPr>
        <p:spPr>
          <a:xfrm rot="5400000">
            <a:off x="1294920" y="1218960"/>
            <a:ext cx="53388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0" name=""/>
          <p:cNvCxnSpPr>
            <a:stCxn id="98" idx="2"/>
            <a:endCxn id="138" idx="0"/>
          </p:cNvCxnSpPr>
          <p:nvPr/>
        </p:nvCxnSpPr>
        <p:spPr>
          <a:xfrm rot="5400000">
            <a:off x="1866240" y="647280"/>
            <a:ext cx="533880" cy="2591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1" name=""/>
          <p:cNvCxnSpPr>
            <a:stCxn id="108" idx="2"/>
            <a:endCxn id="138" idx="0"/>
          </p:cNvCxnSpPr>
          <p:nvPr/>
        </p:nvCxnSpPr>
        <p:spPr>
          <a:xfrm rot="5400000">
            <a:off x="2437920" y="75960"/>
            <a:ext cx="533880" cy="3734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2" name=""/>
          <p:cNvCxnSpPr>
            <a:stCxn id="118" idx="2"/>
            <a:endCxn id="138" idx="0"/>
          </p:cNvCxnSpPr>
          <p:nvPr/>
        </p:nvCxnSpPr>
        <p:spPr>
          <a:xfrm rot="5400000">
            <a:off x="3009240" y="-495720"/>
            <a:ext cx="533880" cy="4877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3" name=""/>
          <p:cNvCxnSpPr>
            <a:stCxn id="128" idx="2"/>
            <a:endCxn id="138" idx="0"/>
          </p:cNvCxnSpPr>
          <p:nvPr/>
        </p:nvCxnSpPr>
        <p:spPr>
          <a:xfrm rot="5400000">
            <a:off x="3580920" y="-1067040"/>
            <a:ext cx="533880" cy="6020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144" name=""/>
          <p:cNvGrpSpPr/>
          <p:nvPr/>
        </p:nvGrpSpPr>
        <p:grpSpPr>
          <a:xfrm>
            <a:off x="228600" y="2209680"/>
            <a:ext cx="1219320" cy="990720"/>
            <a:chOff x="228600" y="2209680"/>
            <a:chExt cx="1219320" cy="990720"/>
          </a:xfrm>
        </p:grpSpPr>
        <p:sp>
          <p:nvSpPr>
            <p:cNvPr id="138" name=""/>
            <p:cNvSpPr/>
            <p:nvPr/>
          </p:nvSpPr>
          <p:spPr>
            <a:xfrm>
              <a:off x="228600" y="2209680"/>
              <a:ext cx="12193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roduct 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361960"/>
              <a:ext cx="121932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20" y="2438280"/>
              <a:ext cx="106668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0560" y="281916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391520" y="17524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web pages will adhere to the locale of the parent pages below dotted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6000" y="3809880"/>
            <a:ext cx="1841400" cy="2133720"/>
            <a:chOff x="216000" y="3809880"/>
            <a:chExt cx="1841400" cy="2133720"/>
          </a:xfrm>
        </p:grpSpPr>
        <p:sp>
          <p:nvSpPr>
            <p:cNvPr id="150" name=""/>
            <p:cNvSpPr/>
            <p:nvPr/>
          </p:nvSpPr>
          <p:spPr>
            <a:xfrm>
              <a:off x="228600" y="3962520"/>
              <a:ext cx="182880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1080" y="3962520"/>
              <a:ext cx="76320" cy="1981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" y="3809880"/>
              <a:ext cx="1828800" cy="152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16360" y="4321080"/>
              <a:ext cx="1612440" cy="215640"/>
              <a:chOff x="216360" y="4321080"/>
              <a:chExt cx="1612440" cy="215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16360" y="4321080"/>
                <a:ext cx="73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ir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14400" y="4343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17800" y="4538520"/>
              <a:ext cx="1611000" cy="215640"/>
              <a:chOff x="217800" y="4538520"/>
              <a:chExt cx="1611000" cy="215640"/>
            </a:xfrm>
          </p:grpSpPr>
          <p:sp>
            <p:nvSpPr>
              <p:cNvPr id="157" name=""/>
              <p:cNvSpPr/>
              <p:nvPr/>
            </p:nvSpPr>
            <p:spPr>
              <a:xfrm>
                <a:off x="217800" y="453852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a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4400" y="4560840"/>
                <a:ext cx="9144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30400" y="4756320"/>
              <a:ext cx="1598400" cy="215640"/>
              <a:chOff x="230400" y="4756320"/>
              <a:chExt cx="1598400" cy="215640"/>
            </a:xfrm>
          </p:grpSpPr>
          <p:sp>
            <p:nvSpPr>
              <p:cNvPr id="160" name=""/>
              <p:cNvSpPr/>
              <p:nvPr/>
            </p:nvSpPr>
            <p:spPr>
              <a:xfrm>
                <a:off x="230400" y="4756320"/>
                <a:ext cx="410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itl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14400" y="477828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16000" y="4973760"/>
              <a:ext cx="1612800" cy="215640"/>
              <a:chOff x="216000" y="4973760"/>
              <a:chExt cx="1612800" cy="215640"/>
            </a:xfrm>
          </p:grpSpPr>
          <p:sp>
            <p:nvSpPr>
              <p:cNvPr id="163" name=""/>
              <p:cNvSpPr/>
              <p:nvPr/>
            </p:nvSpPr>
            <p:spPr>
              <a:xfrm>
                <a:off x="216000" y="4973760"/>
                <a:ext cx="66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ompany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14400" y="499572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981080" y="4038480"/>
              <a:ext cx="76320" cy="182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080" y="3962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981080" y="586728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4400" y="571500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27520" y="5191200"/>
              <a:ext cx="1601280" cy="215640"/>
              <a:chOff x="227520" y="5191200"/>
              <a:chExt cx="1601280" cy="215640"/>
            </a:xfrm>
          </p:grpSpPr>
          <p:sp>
            <p:nvSpPr>
              <p:cNvPr id="170" name=""/>
              <p:cNvSpPr/>
              <p:nvPr/>
            </p:nvSpPr>
            <p:spPr>
              <a:xfrm>
                <a:off x="227520" y="5191200"/>
                <a:ext cx="50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-mail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14400" y="521316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20680" y="5410080"/>
              <a:ext cx="1608120" cy="215640"/>
              <a:chOff x="220680" y="5410080"/>
              <a:chExt cx="1608120" cy="2156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0680" y="5410080"/>
                <a:ext cx="515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Phon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14400" y="5432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04920" y="4038480"/>
              <a:ext cx="16002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"/>
          <p:cNvCxnSpPr>
            <a:stCxn id="145" idx="2"/>
            <a:endCxn id="152" idx="0"/>
          </p:cNvCxnSpPr>
          <p:nvPr/>
        </p:nvCxnSpPr>
        <p:spPr>
          <a:xfrm flipH="1" rot="16200000">
            <a:off x="684720" y="3352320"/>
            <a:ext cx="61020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45" idx="2"/>
            <a:endCxn id="178" idx="1"/>
          </p:cNvCxnSpPr>
          <p:nvPr/>
        </p:nvCxnSpPr>
        <p:spPr>
          <a:xfrm flipH="1" rot="16200000">
            <a:off x="1352160" y="2685600"/>
            <a:ext cx="343800" cy="1372320"/>
          </a:xfrm>
          <a:prstGeom prst="bentConnector2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1505880" y="3352680"/>
            <a:ext cx="71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fter 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362320"/>
            <a:ext cx="2401920" cy="2668320"/>
            <a:chOff x="2209680" y="2362320"/>
            <a:chExt cx="2401920" cy="2668320"/>
          </a:xfrm>
        </p:grpSpPr>
        <p:grpSp>
          <p:nvGrpSpPr>
            <p:cNvPr id="181" name=""/>
            <p:cNvGrpSpPr/>
            <p:nvPr/>
          </p:nvGrpSpPr>
          <p:grpSpPr>
            <a:xfrm>
              <a:off x="2209680" y="2514600"/>
              <a:ext cx="2401920" cy="2516040"/>
              <a:chOff x="2209680" y="2514600"/>
              <a:chExt cx="2401920" cy="25160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09680" y="2514600"/>
                <a:ext cx="2209680" cy="20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32000" y="4571640"/>
                <a:ext cx="2379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Additional “Copy” function for convenie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licking on course title goes to course docs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uture Course Scheduler for 1 cour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209680" y="2362320"/>
              <a:ext cx="22096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343040" y="2514600"/>
              <a:ext cx="76320" cy="2056680"/>
              <a:chOff x="4343040" y="2514600"/>
              <a:chExt cx="76320" cy="2056680"/>
            </a:xfrm>
          </p:grpSpPr>
          <p:sp>
            <p:nvSpPr>
              <p:cNvPr id="185" name=""/>
              <p:cNvSpPr/>
              <p:nvPr/>
            </p:nvSpPr>
            <p:spPr>
              <a:xfrm>
                <a:off x="4343040" y="2514600"/>
                <a:ext cx="76320" cy="20566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343040" y="2593440"/>
                <a:ext cx="76320" cy="1898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43040" y="2514600"/>
                <a:ext cx="76320" cy="78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343040" y="4492080"/>
                <a:ext cx="76320" cy="79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285640" y="2590560"/>
              <a:ext cx="1981440" cy="228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lcome &lt;Nam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5640" y="3124080"/>
              <a:ext cx="1981440" cy="15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cheduld Meeting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32763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(Tue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5640" y="37335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7 (Th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Net &amp; I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5640" y="2895480"/>
              <a:ext cx="685800" cy="1519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Add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724280" y="2209680"/>
            <a:ext cx="243864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2057400"/>
            <a:ext cx="2514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/Edit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162920" y="2209680"/>
            <a:ext cx="75960" cy="2209680"/>
            <a:chOff x="7162920" y="2209680"/>
            <a:chExt cx="75960" cy="2209680"/>
          </a:xfrm>
        </p:grpSpPr>
        <p:sp>
          <p:nvSpPr>
            <p:cNvPr id="197" name=""/>
            <p:cNvSpPr/>
            <p:nvPr/>
          </p:nvSpPr>
          <p:spPr>
            <a:xfrm>
              <a:off x="7162920" y="2209680"/>
              <a:ext cx="75960" cy="2209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2294280"/>
              <a:ext cx="75960" cy="2040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920" y="2209680"/>
              <a:ext cx="75960" cy="84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162920" y="4334400"/>
              <a:ext cx="75960" cy="84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1" name=""/>
          <p:cNvCxnSpPr>
            <a:stCxn id="193" idx="3"/>
            <a:endCxn id="194" idx="1"/>
          </p:cNvCxnSpPr>
          <p:nvPr/>
        </p:nvCxnSpPr>
        <p:spPr>
          <a:xfrm>
            <a:off x="2971800" y="2971440"/>
            <a:ext cx="1753200" cy="343800"/>
          </a:xfrm>
          <a:prstGeom prst="bentConnector3">
            <a:avLst>
              <a:gd name="adj1" fmla="val 4998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724280" y="4648320"/>
            <a:ext cx="22100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495680"/>
            <a:ext cx="22100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858000" y="4648320"/>
            <a:ext cx="76320" cy="1828800"/>
            <a:chOff x="6858000" y="4648320"/>
            <a:chExt cx="76320" cy="1828800"/>
          </a:xfrm>
        </p:grpSpPr>
        <p:sp>
          <p:nvSpPr>
            <p:cNvPr id="205" name=""/>
            <p:cNvSpPr/>
            <p:nvPr/>
          </p:nvSpPr>
          <p:spPr>
            <a:xfrm>
              <a:off x="6858000" y="4648320"/>
              <a:ext cx="76320" cy="1828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0" y="4718160"/>
              <a:ext cx="76320" cy="1688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0" y="4648320"/>
              <a:ext cx="76320" cy="69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858000" y="6405840"/>
              <a:ext cx="76320" cy="70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486400" y="6248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p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525780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ed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 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Batch 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47242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101: Meeting 3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50292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800600" y="5410080"/>
            <a:ext cx="1981080" cy="152280"/>
            <a:chOff x="4800600" y="5410080"/>
            <a:chExt cx="1981080" cy="152280"/>
          </a:xfrm>
        </p:grpSpPr>
        <p:sp>
          <p:nvSpPr>
            <p:cNvPr id="216" name=""/>
            <p:cNvSpPr/>
            <p:nvPr/>
          </p:nvSpPr>
          <p:spPr>
            <a:xfrm>
              <a:off x="4800600" y="54100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ohnyin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29040" y="54482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065200" y="6477120"/>
            <a:ext cx="15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uture Course Roster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800600" y="5562720"/>
            <a:ext cx="1981080" cy="152280"/>
            <a:chOff x="4800600" y="5562720"/>
            <a:chExt cx="1981080" cy="152280"/>
          </a:xfrm>
        </p:grpSpPr>
        <p:sp>
          <p:nvSpPr>
            <p:cNvPr id="220" name=""/>
            <p:cNvSpPr/>
            <p:nvPr/>
          </p:nvSpPr>
          <p:spPr>
            <a:xfrm>
              <a:off x="4800600" y="556272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ho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29040" y="560088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800600" y="5715000"/>
            <a:ext cx="1981080" cy="152280"/>
            <a:chOff x="4800600" y="5715000"/>
            <a:chExt cx="1981080" cy="152280"/>
          </a:xfrm>
        </p:grpSpPr>
        <p:sp>
          <p:nvSpPr>
            <p:cNvPr id="223" name=""/>
            <p:cNvSpPr/>
            <p:nvPr/>
          </p:nvSpPr>
          <p:spPr>
            <a:xfrm>
              <a:off x="4800600" y="571500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abrina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29040" y="575316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00600" y="5867280"/>
            <a:ext cx="1981080" cy="152280"/>
            <a:chOff x="4800600" y="5867280"/>
            <a:chExt cx="1981080" cy="152280"/>
          </a:xfrm>
        </p:grpSpPr>
        <p:sp>
          <p:nvSpPr>
            <p:cNvPr id="226" name=""/>
            <p:cNvSpPr/>
            <p:nvPr/>
          </p:nvSpPr>
          <p:spPr>
            <a:xfrm>
              <a:off x="4800600" y="58672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xugeng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9040" y="59054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800600" y="6019920"/>
            <a:ext cx="19810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mes@anabas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29040" y="6058080"/>
            <a:ext cx="66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191" idx="3"/>
            <a:endCxn id="202" idx="1"/>
          </p:cNvCxnSpPr>
          <p:nvPr/>
        </p:nvCxnSpPr>
        <p:spPr>
          <a:xfrm>
            <a:off x="4267080" y="3504960"/>
            <a:ext cx="457920" cy="2057760"/>
          </a:xfrm>
          <a:prstGeom prst="bentConnector3">
            <a:avLst>
              <a:gd name="adj1" fmla="val 4996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6934320" y="4724280"/>
            <a:ext cx="184464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ecurity M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same password to every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 user to login with own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Open to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no passw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pdate Butt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e-mail to new &amp; removed participants w/ embedded password in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15000" y="3703680"/>
            <a:ext cx="1218960" cy="152280"/>
            <a:chOff x="5715000" y="3703680"/>
            <a:chExt cx="1218960" cy="152280"/>
          </a:xfrm>
        </p:grpSpPr>
        <p:sp>
          <p:nvSpPr>
            <p:cNvPr id="233" name=""/>
            <p:cNvSpPr/>
            <p:nvPr/>
          </p:nvSpPr>
          <p:spPr>
            <a:xfrm>
              <a:off x="5715000" y="3703680"/>
              <a:ext cx="10666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assword Protec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1680" y="3703680"/>
              <a:ext cx="1522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9840" y="3741840"/>
              <a:ext cx="76320" cy="75960"/>
            </a:xfrm>
            <a:prstGeom prst="flowChartMerg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64200" y="36734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urit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7360" y="2560680"/>
            <a:ext cx="41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259092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55120" y="278928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Tim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11760" y="28195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0360" y="301788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ur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1760" y="30481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10480" y="3246480"/>
            <a:ext cx="75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1760" y="32767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12000" y="3475080"/>
            <a:ext cx="64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UR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1760" y="35053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92920" y="390204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9322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413064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firm 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41608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28600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 New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18360" y="2514600"/>
            <a:ext cx="184644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d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blan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Add Mee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fi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Edit &lt;Meeting Name&gt;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nk to launch material edit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6680" y="6480"/>
            <a:ext cx="54568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– Product Specification (Host Meeting Management &amp; User Registr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5053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625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6172200"/>
            <a:ext cx="5335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6172200"/>
            <a:ext cx="533520" cy="2286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11160" y="5943600"/>
            <a:ext cx="95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168" idx="2"/>
            <a:endCxn id="256" idx="1"/>
          </p:cNvCxnSpPr>
          <p:nvPr/>
        </p:nvCxnSpPr>
        <p:spPr>
          <a:xfrm flipH="1" rot="16200000">
            <a:off x="1333440" y="5676480"/>
            <a:ext cx="45792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124080" y="60199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0360" y="6481800"/>
            <a:ext cx="85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e Next Sl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3"/>
            <a:endCxn id="260" idx="1"/>
          </p:cNvCxnSpPr>
          <p:nvPr/>
        </p:nvCxnSpPr>
        <p:spPr>
          <a:xfrm>
            <a:off x="2514240" y="63241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97080" y="6480"/>
            <a:ext cx="4629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Participant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4572000"/>
            <a:ext cx="20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ou are invited to “Java 101 – Lesson 3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Ho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fessor Zed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ime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 3:00 – 5:00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e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installment covering Jav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wing and Java AWT bas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419720"/>
            <a:ext cx="2057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ubject: Java 101 – Lesson 3 Invi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cc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Dec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066680"/>
            <a:ext cx="22100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914400"/>
            <a:ext cx="22100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429000" y="1066680"/>
            <a:ext cx="76320" cy="2438280"/>
            <a:chOff x="3429000" y="1066680"/>
            <a:chExt cx="76320" cy="2438280"/>
          </a:xfrm>
        </p:grpSpPr>
        <p:sp>
          <p:nvSpPr>
            <p:cNvPr id="271" name=""/>
            <p:cNvSpPr/>
            <p:nvPr/>
          </p:nvSpPr>
          <p:spPr>
            <a:xfrm>
              <a:off x="3429000" y="1066680"/>
              <a:ext cx="76320" cy="243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9000" y="1159920"/>
              <a:ext cx="76320" cy="2251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1066680"/>
              <a:ext cx="76320" cy="93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429000" y="3411000"/>
              <a:ext cx="76320" cy="93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371600" y="114300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lcome &lt;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1676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Invite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1828800"/>
            <a:ext cx="198108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Decline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 101: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: 3-5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Swing &amp; AW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144792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6" idx="1"/>
            <a:endCxn id="277" idx="1"/>
          </p:cNvCxnSpPr>
          <p:nvPr/>
        </p:nvCxnSpPr>
        <p:spPr>
          <a:xfrm flipH="1" rot="10800000">
            <a:off x="608400" y="2056680"/>
            <a:ext cx="762840" cy="396324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380880" y="21337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s to personal Meeting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3505320"/>
            <a:ext cx="222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me process used for course registration/acceptance (batch acceptance of course Meeting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2520" y="419112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 to particip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5943600"/>
            <a:ext cx="76176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 To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24480" y="3124080"/>
            <a:ext cx="2362320" cy="2362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3" idx="3"/>
            <a:endCxn id="286" idx="1"/>
          </p:cNvCxnSpPr>
          <p:nvPr/>
        </p:nvCxnSpPr>
        <p:spPr>
          <a:xfrm flipV="1">
            <a:off x="2438280" y="5943600"/>
            <a:ext cx="457920" cy="766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581280" y="3886200"/>
            <a:ext cx="12956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3733920"/>
            <a:ext cx="1295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90" idx="3"/>
            <a:endCxn id="288" idx="0"/>
          </p:cNvCxnSpPr>
          <p:nvPr/>
        </p:nvCxnSpPr>
        <p:spPr>
          <a:xfrm>
            <a:off x="3276720" y="2133360"/>
            <a:ext cx="953280" cy="1600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048120" y="205740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371600" y="2971800"/>
            <a:ext cx="1981080" cy="457200"/>
            <a:chOff x="1371600" y="2971800"/>
            <a:chExt cx="1981080" cy="457200"/>
          </a:xfrm>
        </p:grpSpPr>
        <p:sp>
          <p:nvSpPr>
            <p:cNvPr id="292" name=""/>
            <p:cNvSpPr/>
            <p:nvPr/>
          </p:nvSpPr>
          <p:spPr>
            <a:xfrm>
              <a:off x="1371600" y="2971800"/>
              <a:ext cx="198108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Friendly Ch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alk about field tr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8120" y="32004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489480" y="1833480"/>
            <a:ext cx="9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urns red when able to 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7" idx="3"/>
            <a:endCxn id="284" idx="1"/>
          </p:cNvCxnSpPr>
          <p:nvPr/>
        </p:nvCxnSpPr>
        <p:spPr>
          <a:xfrm>
            <a:off x="4876560" y="4304880"/>
            <a:ext cx="1448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486360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0080" y="990720"/>
            <a:ext cx="21337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838080"/>
            <a:ext cx="21337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0666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1523880"/>
            <a:ext cx="1981080" cy="152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167652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182880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1371600"/>
            <a:ext cx="19810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Meeting 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43120" y="609480"/>
            <a:ext cx="304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 Web Page (After publish.  See next sl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77" idx="0"/>
            <a:endCxn id="297" idx="1"/>
          </p:cNvCxnSpPr>
          <p:nvPr/>
        </p:nvCxnSpPr>
        <p:spPr>
          <a:xfrm flipH="1" flipV="1" rot="5400000">
            <a:off x="3733560" y="151920"/>
            <a:ext cx="305640" cy="304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3630600" y="1295280"/>
            <a:ext cx="120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on Meeting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55627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5410080"/>
            <a:ext cx="8384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gistrater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5562720"/>
            <a:ext cx="838440" cy="7617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e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286" idx="3"/>
            <a:endCxn id="307" idx="1"/>
          </p:cNvCxnSpPr>
          <p:nvPr/>
        </p:nvCxnSpPr>
        <p:spPr>
          <a:xfrm>
            <a:off x="3733920" y="594360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8" idx="0"/>
            <a:endCxn id="287" idx="2"/>
          </p:cNvCxnSpPr>
          <p:nvPr/>
        </p:nvCxnSpPr>
        <p:spPr>
          <a:xfrm flipV="1" rot="16200000">
            <a:off x="3999960" y="4952160"/>
            <a:ext cx="686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86" idx="0"/>
            <a:endCxn id="287" idx="1"/>
          </p:cNvCxnSpPr>
          <p:nvPr/>
        </p:nvCxnSpPr>
        <p:spPr>
          <a:xfrm flipH="1" flipV="1" rot="5400000">
            <a:off x="2819160" y="4800240"/>
            <a:ext cx="12582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259800" y="5262480"/>
            <a:ext cx="3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1120" y="57150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371600" y="2286000"/>
            <a:ext cx="1981080" cy="457200"/>
            <a:chOff x="1371600" y="2286000"/>
            <a:chExt cx="1981080" cy="457200"/>
          </a:xfrm>
        </p:grpSpPr>
        <p:sp>
          <p:nvSpPr>
            <p:cNvPr id="315" name=""/>
            <p:cNvSpPr/>
            <p:nvPr/>
          </p:nvSpPr>
          <p:spPr>
            <a:xfrm>
              <a:off x="1371600" y="2286000"/>
              <a:ext cx="1981080" cy="45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Accept</a:t>
              </a:r>
              <a:r>
                <a:rPr b="1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808080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Java Net &amp; 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48120" y="25146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371600" y="2819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Hos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34800" y="3124080"/>
            <a:ext cx="150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c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 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Meeting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account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324480" y="4572000"/>
            <a:ext cx="2057400" cy="1371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llaborative Applicatio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1066680"/>
            <a:ext cx="160020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55800" y="6480"/>
            <a:ext cx="53121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Architecture (Localization, Meeting Document,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44956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80640" y="419112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1219320"/>
            <a:ext cx="12189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pa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28600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l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2209680"/>
            <a:ext cx="83808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9907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ubdirectories of Loc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9" idx="3"/>
            <a:endCxn id="330" idx="1"/>
          </p:cNvCxnSpPr>
          <p:nvPr/>
        </p:nvCxnSpPr>
        <p:spPr>
          <a:xfrm>
            <a:off x="6781320" y="3619440"/>
            <a:ext cx="6865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172200" y="3352680"/>
            <a:ext cx="685800" cy="609840"/>
            <a:chOff x="6172200" y="3352680"/>
            <a:chExt cx="685800" cy="609840"/>
          </a:xfrm>
        </p:grpSpPr>
        <p:sp>
          <p:nvSpPr>
            <p:cNvPr id="332" name=""/>
            <p:cNvSpPr/>
            <p:nvPr/>
          </p:nvSpPr>
          <p:spPr>
            <a:xfrm>
              <a:off x="6248160" y="3429000"/>
              <a:ext cx="60984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72200" y="3352680"/>
              <a:ext cx="60948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3" name=""/>
          <p:cNvCxnSpPr>
            <a:stCxn id="334" idx="2"/>
            <a:endCxn id="329" idx="1"/>
          </p:cNvCxnSpPr>
          <p:nvPr/>
        </p:nvCxnSpPr>
        <p:spPr>
          <a:xfrm flipH="1" rot="16200000">
            <a:off x="5771160" y="3219120"/>
            <a:ext cx="5720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6051600" y="4038480"/>
            <a:ext cx="21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beans should have a Locale proper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ach bean should have local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1066680"/>
            <a:ext cx="685800" cy="2819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ener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5" idx="0"/>
            <a:endCxn id="324" idx="2"/>
          </p:cNvCxnSpPr>
          <p:nvPr/>
        </p:nvCxnSpPr>
        <p:spPr>
          <a:xfrm flipV="1" rot="16200000">
            <a:off x="3066480" y="2113560"/>
            <a:ext cx="30564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48006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2"/>
            <a:endCxn id="340" idx="1"/>
          </p:cNvCxnSpPr>
          <p:nvPr/>
        </p:nvCxnSpPr>
        <p:spPr>
          <a:xfrm flipH="1" rot="16200000">
            <a:off x="5124240" y="971280"/>
            <a:ext cx="648360" cy="766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341" name=""/>
          <p:cNvGrpSpPr/>
          <p:nvPr/>
        </p:nvGrpSpPr>
        <p:grpSpPr>
          <a:xfrm>
            <a:off x="5486400" y="1066680"/>
            <a:ext cx="761760" cy="685800"/>
            <a:chOff x="5486400" y="1066680"/>
            <a:chExt cx="761760" cy="685800"/>
          </a:xfrm>
        </p:grpSpPr>
        <p:sp>
          <p:nvSpPr>
            <p:cNvPr id="340" name=""/>
            <p:cNvSpPr/>
            <p:nvPr/>
          </p:nvSpPr>
          <p:spPr>
            <a:xfrm>
              <a:off x="5486400" y="10666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62360" y="114300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8680" y="121896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4" name=""/>
          <p:cNvCxnSpPr>
            <a:stCxn id="338" idx="1"/>
            <a:endCxn id="336" idx="0"/>
          </p:cNvCxnSpPr>
          <p:nvPr/>
        </p:nvCxnSpPr>
        <p:spPr>
          <a:xfrm flipV="1" rot="10800000">
            <a:off x="4685760" y="609120"/>
            <a:ext cx="11484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6" idx="1"/>
            <a:endCxn id="324" idx="3"/>
          </p:cNvCxnSpPr>
          <p:nvPr/>
        </p:nvCxnSpPr>
        <p:spPr>
          <a:xfrm rot="10800000">
            <a:off x="3809160" y="1599480"/>
            <a:ext cx="534240" cy="87696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6" name=""/>
          <p:cNvGrpSpPr/>
          <p:nvPr/>
        </p:nvGrpSpPr>
        <p:grpSpPr>
          <a:xfrm>
            <a:off x="6858000" y="1143000"/>
            <a:ext cx="761760" cy="685800"/>
            <a:chOff x="6858000" y="1143000"/>
            <a:chExt cx="761760" cy="685800"/>
          </a:xfrm>
        </p:grpSpPr>
        <p:sp>
          <p:nvSpPr>
            <p:cNvPr id="347" name=""/>
            <p:cNvSpPr/>
            <p:nvPr/>
          </p:nvSpPr>
          <p:spPr>
            <a:xfrm>
              <a:off x="6858000" y="1143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33960" y="1219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1295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269400" y="1219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03600" y="838080"/>
            <a:ext cx="46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0480" y="1066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467480" y="3429000"/>
            <a:ext cx="533520" cy="581040"/>
            <a:chOff x="7467480" y="3429000"/>
            <a:chExt cx="533520" cy="581040"/>
          </a:xfrm>
        </p:grpSpPr>
        <p:sp>
          <p:nvSpPr>
            <p:cNvPr id="330" name=""/>
            <p:cNvSpPr/>
            <p:nvPr/>
          </p:nvSpPr>
          <p:spPr>
            <a:xfrm>
              <a:off x="7467480" y="3429000"/>
              <a:ext cx="38124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43800" y="3505320"/>
              <a:ext cx="380880" cy="428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0120" y="3581280"/>
              <a:ext cx="38088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858000" y="2286000"/>
            <a:ext cx="761760" cy="685800"/>
            <a:chOff x="6858000" y="2286000"/>
            <a:chExt cx="761760" cy="685800"/>
          </a:xfrm>
        </p:grpSpPr>
        <p:sp>
          <p:nvSpPr>
            <p:cNvPr id="357" name=""/>
            <p:cNvSpPr/>
            <p:nvPr/>
          </p:nvSpPr>
          <p:spPr>
            <a:xfrm>
              <a:off x="6858000" y="2286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33960" y="2362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10280" y="2438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486400" y="2209680"/>
            <a:ext cx="762120" cy="838080"/>
            <a:chOff x="5486400" y="2209680"/>
            <a:chExt cx="762120" cy="838080"/>
          </a:xfrm>
        </p:grpSpPr>
        <p:sp>
          <p:nvSpPr>
            <p:cNvPr id="361" name=""/>
            <p:cNvSpPr/>
            <p:nvPr/>
          </p:nvSpPr>
          <p:spPr>
            <a:xfrm>
              <a:off x="5486400" y="220968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62720" y="228600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8680" y="2361960"/>
              <a:ext cx="60984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6269400" y="243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38" idx="2"/>
            <a:endCxn id="361" idx="1"/>
          </p:cNvCxnSpPr>
          <p:nvPr/>
        </p:nvCxnSpPr>
        <p:spPr>
          <a:xfrm flipH="1" rot="16200000">
            <a:off x="45147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7696800" y="2209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71280" y="1981080"/>
            <a:ext cx="69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.temp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533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3581280"/>
            <a:ext cx="2895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ache Tomc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25" idx="2"/>
            <a:endCxn id="368" idx="0"/>
          </p:cNvCxnSpPr>
          <p:nvPr/>
        </p:nvCxnSpPr>
        <p:spPr>
          <a:xfrm rot="5400000">
            <a:off x="2685600" y="302868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71" idx="2"/>
            <a:endCxn id="368" idx="0"/>
          </p:cNvCxnSpPr>
          <p:nvPr/>
        </p:nvCxnSpPr>
        <p:spPr>
          <a:xfrm flipH="1" rot="16200000">
            <a:off x="1637280" y="2552400"/>
            <a:ext cx="533880" cy="1524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533520" y="5410080"/>
            <a:ext cx="685800" cy="8384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3993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DB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5486400"/>
            <a:ext cx="609840" cy="762120"/>
          </a:xfrm>
          <a:prstGeom prst="can">
            <a:avLst>
              <a:gd name="adj" fmla="val 20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639936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3581280"/>
            <a:ext cx="685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utbound invi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te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8" idx="2"/>
            <a:endCxn id="347" idx="1"/>
          </p:cNvCxnSpPr>
          <p:nvPr/>
        </p:nvCxnSpPr>
        <p:spPr>
          <a:xfrm flipH="1" rot="16200000">
            <a:off x="6457680" y="1009440"/>
            <a:ext cx="724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78" idx="2"/>
            <a:endCxn id="357" idx="1"/>
          </p:cNvCxnSpPr>
          <p:nvPr/>
        </p:nvCxnSpPr>
        <p:spPr>
          <a:xfrm flipH="1" rot="16200000">
            <a:off x="58863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429000" y="5257800"/>
            <a:ext cx="137160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29000" y="5410080"/>
            <a:ext cx="13716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s: NVARCHAR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257800"/>
            <a:ext cx="1295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5410080"/>
            <a:ext cx="1295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ddle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rga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 &lt;MD5 hash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96600" y="4267080"/>
            <a:ext cx="138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processed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6920" y="450072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2286000"/>
            <a:ext cx="6098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Doc 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71" idx="0"/>
            <a:endCxn id="388" idx="2"/>
          </p:cNvCxnSpPr>
          <p:nvPr/>
        </p:nvCxnSpPr>
        <p:spPr>
          <a:xfrm flipH="1" flipV="1" rot="5400000">
            <a:off x="1257120" y="1942560"/>
            <a:ext cx="22932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990720" y="182880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_Data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19320" y="1219320"/>
            <a:ext cx="761760" cy="609480"/>
          </a:xfrm>
          <a:prstGeom prst="can">
            <a:avLst>
              <a:gd name="adj" fmla="val 145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2286000"/>
            <a:ext cx="6094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e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90" idx="0"/>
            <a:endCxn id="388" idx="2"/>
          </p:cNvCxnSpPr>
          <p:nvPr/>
        </p:nvCxnSpPr>
        <p:spPr>
          <a:xfrm flipV="1" rot="16200000">
            <a:off x="1675800" y="1980360"/>
            <a:ext cx="22932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152280" y="6094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Hacked Document Management S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space created for each Meeting on Meeting cre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uploads for a Meeting goes to that s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447920" y="4648320"/>
            <a:ext cx="533160" cy="457200"/>
            <a:chOff x="1447920" y="4648320"/>
            <a:chExt cx="533160" cy="457200"/>
          </a:xfrm>
        </p:grpSpPr>
        <p:sp>
          <p:nvSpPr>
            <p:cNvPr id="394" name=""/>
            <p:cNvSpPr/>
            <p:nvPr/>
          </p:nvSpPr>
          <p:spPr>
            <a:xfrm>
              <a:off x="144792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2388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0020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657600" y="4648320"/>
            <a:ext cx="533160" cy="457200"/>
            <a:chOff x="3657600" y="4648320"/>
            <a:chExt cx="533160" cy="457200"/>
          </a:xfrm>
        </p:grpSpPr>
        <p:sp>
          <p:nvSpPr>
            <p:cNvPr id="398" name=""/>
            <p:cNvSpPr/>
            <p:nvPr/>
          </p:nvSpPr>
          <p:spPr>
            <a:xfrm>
              <a:off x="365760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356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988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5105520" y="4876920"/>
            <a:ext cx="7617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0" idx="3"/>
            <a:endCxn id="401" idx="1"/>
          </p:cNvCxnSpPr>
          <p:nvPr/>
        </p:nvCxnSpPr>
        <p:spPr>
          <a:xfrm>
            <a:off x="4191120" y="4952520"/>
            <a:ext cx="915120" cy="343800"/>
          </a:xfrm>
          <a:prstGeom prst="bentConnector3">
            <a:avLst>
              <a:gd name="adj1" fmla="val 81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401" idx="3"/>
            <a:endCxn id="319" idx="1"/>
          </p:cNvCxnSpPr>
          <p:nvPr/>
        </p:nvCxnSpPr>
        <p:spPr>
          <a:xfrm flipV="1">
            <a:off x="5867280" y="5257440"/>
            <a:ext cx="457920" cy="388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6324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Application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5" idx="1"/>
            <a:endCxn id="319" idx="1"/>
          </p:cNvCxnSpPr>
          <p:nvPr/>
        </p:nvCxnSpPr>
        <p:spPr>
          <a:xfrm flipH="1" rot="10800000">
            <a:off x="6323400" y="5257080"/>
            <a:ext cx="2520" cy="11818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7467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br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Info F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809880" y="1219320"/>
            <a:ext cx="24386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66360" y="6480"/>
            <a:ext cx="4103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Meeting Material Buil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1600200"/>
            <a:ext cx="1981080" cy="1752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676520"/>
            <a:ext cx="1143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ttp://java.sun.com/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76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86400" y="19051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04920" y="1143000"/>
            <a:ext cx="2514600" cy="2057400"/>
            <a:chOff x="304920" y="1143000"/>
            <a:chExt cx="2514600" cy="2057400"/>
          </a:xfrm>
        </p:grpSpPr>
        <p:sp>
          <p:nvSpPr>
            <p:cNvPr id="416" name=""/>
            <p:cNvSpPr/>
            <p:nvPr/>
          </p:nvSpPr>
          <p:spPr>
            <a:xfrm>
              <a:off x="304920" y="1295280"/>
              <a:ext cx="24382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920" y="1143000"/>
              <a:ext cx="251460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743200" y="1295280"/>
              <a:ext cx="76320" cy="1905120"/>
              <a:chOff x="2743200" y="1295280"/>
              <a:chExt cx="76320" cy="1905120"/>
            </a:xfrm>
          </p:grpSpPr>
          <p:sp>
            <p:nvSpPr>
              <p:cNvPr id="419" name=""/>
              <p:cNvSpPr/>
              <p:nvPr/>
            </p:nvSpPr>
            <p:spPr>
              <a:xfrm>
                <a:off x="2743200" y="1295280"/>
                <a:ext cx="76320" cy="19051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43200" y="1368000"/>
                <a:ext cx="76320" cy="175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43200" y="1295280"/>
                <a:ext cx="76320" cy="72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743200" y="3126240"/>
                <a:ext cx="76320" cy="73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768600" y="1951200"/>
              <a:ext cx="41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itl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46240" y="19810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360" y="2179800"/>
              <a:ext cx="70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tart Tim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43000" y="22096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3:00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1240" y="2408400"/>
              <a:ext cx="63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ura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24382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2 Ho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1720" y="2637000"/>
              <a:ext cx="75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escrip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43000" y="26668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240" y="286560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b URL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3000" y="28954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0880" y="1371600"/>
              <a:ext cx="22860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dit Meeting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080" y="1676520"/>
              <a:ext cx="53352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Upd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1676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809880" y="1066680"/>
            <a:ext cx="2438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Edit 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86400" y="26668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28954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5" idx="3"/>
            <a:endCxn id="411" idx="1"/>
          </p:cNvCxnSpPr>
          <p:nvPr/>
        </p:nvCxnSpPr>
        <p:spPr>
          <a:xfrm>
            <a:off x="2286000" y="1752120"/>
            <a:ext cx="1905840" cy="72468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3886200" y="129528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71840" y="1066680"/>
            <a:ext cx="303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es index of Meeting documents loc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navigator sharedlet uses this local ind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ploads all selected chang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Optimized so only changed documents are uploa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moves all select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ves changes to local fi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23623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elect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867280" y="3886200"/>
            <a:ext cx="2133720" cy="2133720"/>
            <a:chOff x="5867280" y="3886200"/>
            <a:chExt cx="2133720" cy="2133720"/>
          </a:xfrm>
        </p:grpSpPr>
        <p:sp>
          <p:nvSpPr>
            <p:cNvPr id="444" name=""/>
            <p:cNvSpPr/>
            <p:nvPr/>
          </p:nvSpPr>
          <p:spPr>
            <a:xfrm>
              <a:off x="586728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4360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4360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8880" y="4648320"/>
              <a:ext cx="60984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Upload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8880" y="480060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8880" y="4952880"/>
              <a:ext cx="60984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19920" y="464832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19920" y="480060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4952880"/>
              <a:ext cx="12189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ublish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37" idx="3"/>
            <a:endCxn id="447" idx="0"/>
          </p:cNvCxnSpPr>
          <p:nvPr/>
        </p:nvCxnSpPr>
        <p:spPr>
          <a:xfrm>
            <a:off x="6095520" y="2742840"/>
            <a:ext cx="839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"/>
          <p:cNvGrpSpPr/>
          <p:nvPr/>
        </p:nvGrpSpPr>
        <p:grpSpPr>
          <a:xfrm>
            <a:off x="3429000" y="3886200"/>
            <a:ext cx="2133720" cy="2133720"/>
            <a:chOff x="3429000" y="3886200"/>
            <a:chExt cx="2133720" cy="2133720"/>
          </a:xfrm>
        </p:grpSpPr>
        <p:sp>
          <p:nvSpPr>
            <p:cNvPr id="459" name=""/>
            <p:cNvSpPr/>
            <p:nvPr/>
          </p:nvSpPr>
          <p:spPr>
            <a:xfrm>
              <a:off x="342900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0532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8128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2900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112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0532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00600" y="4648320"/>
              <a:ext cx="6094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Remov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00600" y="480060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00600" y="4952880"/>
              <a:ext cx="60948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81280" y="464832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81280" y="480060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81280" y="4952880"/>
              <a:ext cx="1219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8128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mov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2" name=""/>
          <p:cNvCxnSpPr>
            <a:stCxn id="438" idx="2"/>
            <a:endCxn id="462" idx="0"/>
          </p:cNvCxnSpPr>
          <p:nvPr/>
        </p:nvCxnSpPr>
        <p:spPr>
          <a:xfrm rot="5400000">
            <a:off x="4723560" y="2819160"/>
            <a:ext cx="838800" cy="1296360"/>
          </a:xfrm>
          <a:prstGeom prst="bentConnector3">
            <a:avLst>
              <a:gd name="adj1" fmla="val 67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5486400" y="21337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1981080"/>
            <a:ext cx="1143000" cy="15264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7080" y="3124080"/>
            <a:ext cx="114300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1676520"/>
            <a:ext cx="2286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2057400"/>
            <a:ext cx="228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625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962520" y="21330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 rot="5400000">
            <a:off x="7886160" y="621000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7886520" y="567684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7886160" y="487656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7886520" y="434340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97080" y="6480"/>
            <a:ext cx="28296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52680" y="609480"/>
            <a:ext cx="487692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 Launch Area(based on document typ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Powerp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Exc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tsca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351240" y="457200"/>
            <a:ext cx="4876560" cy="153720"/>
            <a:chOff x="3351240" y="457200"/>
            <a:chExt cx="4876560" cy="153720"/>
          </a:xfrm>
        </p:grpSpPr>
        <p:sp>
          <p:nvSpPr>
            <p:cNvPr id="487" name=""/>
            <p:cNvSpPr/>
            <p:nvPr/>
          </p:nvSpPr>
          <p:spPr>
            <a:xfrm>
              <a:off x="3351240" y="457200"/>
              <a:ext cx="4876560" cy="153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10440" y="479880"/>
              <a:ext cx="85680" cy="102600"/>
              <a:chOff x="8110440" y="479880"/>
              <a:chExt cx="85680" cy="102600"/>
            </a:xfrm>
          </p:grpSpPr>
          <p:sp>
            <p:nvSpPr>
              <p:cNvPr id="489" name=""/>
              <p:cNvSpPr/>
              <p:nvPr/>
            </p:nvSpPr>
            <p:spPr>
              <a:xfrm flipV="1">
                <a:off x="8110440" y="479520"/>
                <a:ext cx="85680" cy="102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129520" y="55080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1" name=""/>
          <p:cNvSpPr/>
          <p:nvPr/>
        </p:nvSpPr>
        <p:spPr>
          <a:xfrm>
            <a:off x="275040" y="309600"/>
            <a:ext cx="11818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rioritized Fe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190656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33720" y="611280"/>
            <a:ext cx="114300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205884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209680" y="2440080"/>
            <a:ext cx="990360" cy="761040"/>
            <a:chOff x="2209680" y="2440080"/>
            <a:chExt cx="990360" cy="761040"/>
          </a:xfrm>
        </p:grpSpPr>
        <p:grpSp>
          <p:nvGrpSpPr>
            <p:cNvPr id="496" name=""/>
            <p:cNvGrpSpPr/>
            <p:nvPr/>
          </p:nvGrpSpPr>
          <p:grpSpPr>
            <a:xfrm>
              <a:off x="2209680" y="3049200"/>
              <a:ext cx="990360" cy="151920"/>
              <a:chOff x="2209680" y="3049200"/>
              <a:chExt cx="990360" cy="15192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2209680" y="3049200"/>
                <a:ext cx="75960" cy="151920"/>
                <a:chOff x="2209680" y="3049200"/>
                <a:chExt cx="75960" cy="1519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22096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6200000">
                  <a:off x="22096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286000" y="3049200"/>
                <a:ext cx="75960" cy="151920"/>
                <a:chOff x="2286000" y="3049200"/>
                <a:chExt cx="75960" cy="1519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2860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6200000">
                  <a:off x="22860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361960" y="3049200"/>
                <a:ext cx="75960" cy="151920"/>
                <a:chOff x="2361960" y="3049200"/>
                <a:chExt cx="75960" cy="151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3619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6200000">
                  <a:off x="23619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438280" y="3049200"/>
                <a:ext cx="75960" cy="151920"/>
                <a:chOff x="2438280" y="3049200"/>
                <a:chExt cx="75960" cy="151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4382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16200000">
                  <a:off x="24382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2514600" y="3049200"/>
                <a:ext cx="75960" cy="151920"/>
                <a:chOff x="2514600" y="3049200"/>
                <a:chExt cx="75960" cy="1519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25146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6200000">
                  <a:off x="25146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2590560" y="3049200"/>
                <a:ext cx="75960" cy="151920"/>
                <a:chOff x="2590560" y="3049200"/>
                <a:chExt cx="75960" cy="151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5905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6200000">
                  <a:off x="25905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666880" y="3049200"/>
                <a:ext cx="75960" cy="151920"/>
                <a:chOff x="2666880" y="3049200"/>
                <a:chExt cx="75960" cy="1519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6668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6200000">
                  <a:off x="26668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743200" y="3049200"/>
                <a:ext cx="75960" cy="151920"/>
                <a:chOff x="2743200" y="3049200"/>
                <a:chExt cx="75960" cy="1519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7432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6200000">
                  <a:off x="27432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819160" y="3049200"/>
                <a:ext cx="75960" cy="151920"/>
                <a:chOff x="2819160" y="3049200"/>
                <a:chExt cx="75960" cy="1519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8191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6200000">
                  <a:off x="28191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2895480" y="3049200"/>
                <a:ext cx="75960" cy="151920"/>
                <a:chOff x="2895480" y="3049200"/>
                <a:chExt cx="75960" cy="1519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8954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6200000">
                  <a:off x="28954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2971800" y="3049200"/>
                <a:ext cx="75960" cy="151920"/>
                <a:chOff x="2971800" y="3049200"/>
                <a:chExt cx="75960" cy="1519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9718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16200000">
                  <a:off x="29718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047760" y="3049200"/>
                <a:ext cx="75960" cy="151920"/>
                <a:chOff x="3047760" y="3049200"/>
                <a:chExt cx="75960" cy="1519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0477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6200000">
                  <a:off x="30477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3124080" y="3049200"/>
                <a:ext cx="75960" cy="151920"/>
                <a:chOff x="3124080" y="3049200"/>
                <a:chExt cx="75960" cy="1519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1240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6200000">
                  <a:off x="31240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2209680" y="2846160"/>
              <a:ext cx="75960" cy="151560"/>
              <a:chOff x="2209680" y="2846160"/>
              <a:chExt cx="75960" cy="151560"/>
            </a:xfrm>
          </p:grpSpPr>
          <p:sp>
            <p:nvSpPr>
              <p:cNvPr id="537" name=""/>
              <p:cNvSpPr/>
              <p:nvPr/>
            </p:nvSpPr>
            <p:spPr>
              <a:xfrm>
                <a:off x="22096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6200000">
                <a:off x="22096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286000" y="2846160"/>
              <a:ext cx="75960" cy="151560"/>
              <a:chOff x="2286000" y="2846160"/>
              <a:chExt cx="75960" cy="151560"/>
            </a:xfrm>
          </p:grpSpPr>
          <p:sp>
            <p:nvSpPr>
              <p:cNvPr id="540" name=""/>
              <p:cNvSpPr/>
              <p:nvPr/>
            </p:nvSpPr>
            <p:spPr>
              <a:xfrm>
                <a:off x="22860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22860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2361960" y="2846160"/>
              <a:ext cx="75960" cy="151560"/>
              <a:chOff x="2361960" y="2846160"/>
              <a:chExt cx="75960" cy="151560"/>
            </a:xfrm>
          </p:grpSpPr>
          <p:sp>
            <p:nvSpPr>
              <p:cNvPr id="543" name=""/>
              <p:cNvSpPr/>
              <p:nvPr/>
            </p:nvSpPr>
            <p:spPr>
              <a:xfrm>
                <a:off x="23619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23619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2438280" y="2846160"/>
              <a:ext cx="75960" cy="151560"/>
              <a:chOff x="2438280" y="2846160"/>
              <a:chExt cx="75960" cy="151560"/>
            </a:xfrm>
          </p:grpSpPr>
          <p:sp>
            <p:nvSpPr>
              <p:cNvPr id="546" name=""/>
              <p:cNvSpPr/>
              <p:nvPr/>
            </p:nvSpPr>
            <p:spPr>
              <a:xfrm>
                <a:off x="24382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6200000">
                <a:off x="24382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2514600" y="2846160"/>
              <a:ext cx="75960" cy="151560"/>
              <a:chOff x="2514600" y="2846160"/>
              <a:chExt cx="75960" cy="151560"/>
            </a:xfrm>
          </p:grpSpPr>
          <p:sp>
            <p:nvSpPr>
              <p:cNvPr id="549" name=""/>
              <p:cNvSpPr/>
              <p:nvPr/>
            </p:nvSpPr>
            <p:spPr>
              <a:xfrm>
                <a:off x="25146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6200000">
                <a:off x="25146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2590560" y="2846160"/>
              <a:ext cx="75960" cy="151560"/>
              <a:chOff x="2590560" y="2846160"/>
              <a:chExt cx="75960" cy="151560"/>
            </a:xfrm>
          </p:grpSpPr>
          <p:sp>
            <p:nvSpPr>
              <p:cNvPr id="552" name=""/>
              <p:cNvSpPr/>
              <p:nvPr/>
            </p:nvSpPr>
            <p:spPr>
              <a:xfrm>
                <a:off x="25905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00000">
                <a:off x="25905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666880" y="2846160"/>
              <a:ext cx="75960" cy="151560"/>
              <a:chOff x="2666880" y="2846160"/>
              <a:chExt cx="75960" cy="151560"/>
            </a:xfrm>
          </p:grpSpPr>
          <p:sp>
            <p:nvSpPr>
              <p:cNvPr id="555" name=""/>
              <p:cNvSpPr/>
              <p:nvPr/>
            </p:nvSpPr>
            <p:spPr>
              <a:xfrm>
                <a:off x="26668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6200000">
                <a:off x="26668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2743200" y="2846160"/>
              <a:ext cx="75960" cy="151560"/>
              <a:chOff x="2743200" y="2846160"/>
              <a:chExt cx="75960" cy="151560"/>
            </a:xfrm>
          </p:grpSpPr>
          <p:sp>
            <p:nvSpPr>
              <p:cNvPr id="558" name=""/>
              <p:cNvSpPr/>
              <p:nvPr/>
            </p:nvSpPr>
            <p:spPr>
              <a:xfrm>
                <a:off x="27432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6200000">
                <a:off x="27432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819160" y="2846160"/>
              <a:ext cx="75960" cy="151560"/>
              <a:chOff x="2819160" y="2846160"/>
              <a:chExt cx="75960" cy="151560"/>
            </a:xfrm>
          </p:grpSpPr>
          <p:sp>
            <p:nvSpPr>
              <p:cNvPr id="561" name=""/>
              <p:cNvSpPr/>
              <p:nvPr/>
            </p:nvSpPr>
            <p:spPr>
              <a:xfrm>
                <a:off x="28191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6200000">
                <a:off x="28191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95480" y="2846160"/>
              <a:ext cx="75960" cy="151560"/>
              <a:chOff x="2895480" y="2846160"/>
              <a:chExt cx="75960" cy="151560"/>
            </a:xfrm>
          </p:grpSpPr>
          <p:sp>
            <p:nvSpPr>
              <p:cNvPr id="564" name=""/>
              <p:cNvSpPr/>
              <p:nvPr/>
            </p:nvSpPr>
            <p:spPr>
              <a:xfrm>
                <a:off x="28954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6200000">
                <a:off x="28954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971800" y="2846160"/>
              <a:ext cx="75960" cy="151560"/>
              <a:chOff x="2971800" y="2846160"/>
              <a:chExt cx="75960" cy="151560"/>
            </a:xfrm>
          </p:grpSpPr>
          <p:sp>
            <p:nvSpPr>
              <p:cNvPr id="567" name=""/>
              <p:cNvSpPr/>
              <p:nvPr/>
            </p:nvSpPr>
            <p:spPr>
              <a:xfrm>
                <a:off x="29718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200000">
                <a:off x="29718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3047760" y="2846160"/>
              <a:ext cx="75960" cy="151560"/>
              <a:chOff x="3047760" y="2846160"/>
              <a:chExt cx="75960" cy="151560"/>
            </a:xfrm>
          </p:grpSpPr>
          <p:sp>
            <p:nvSpPr>
              <p:cNvPr id="570" name=""/>
              <p:cNvSpPr/>
              <p:nvPr/>
            </p:nvSpPr>
            <p:spPr>
              <a:xfrm>
                <a:off x="30477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6200000">
                <a:off x="30477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3124080" y="2846160"/>
              <a:ext cx="75960" cy="151560"/>
              <a:chOff x="3124080" y="2846160"/>
              <a:chExt cx="75960" cy="151560"/>
            </a:xfrm>
          </p:grpSpPr>
          <p:sp>
            <p:nvSpPr>
              <p:cNvPr id="573" name=""/>
              <p:cNvSpPr/>
              <p:nvPr/>
            </p:nvSpPr>
            <p:spPr>
              <a:xfrm>
                <a:off x="31240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6200000">
                <a:off x="31240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209680" y="2642760"/>
              <a:ext cx="75960" cy="151920"/>
              <a:chOff x="2209680" y="2642760"/>
              <a:chExt cx="75960" cy="151920"/>
            </a:xfrm>
          </p:grpSpPr>
          <p:sp>
            <p:nvSpPr>
              <p:cNvPr id="576" name=""/>
              <p:cNvSpPr/>
              <p:nvPr/>
            </p:nvSpPr>
            <p:spPr>
              <a:xfrm>
                <a:off x="22096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6200000">
                <a:off x="22096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286000" y="2642760"/>
              <a:ext cx="75960" cy="151920"/>
              <a:chOff x="2286000" y="2642760"/>
              <a:chExt cx="75960" cy="151920"/>
            </a:xfrm>
          </p:grpSpPr>
          <p:sp>
            <p:nvSpPr>
              <p:cNvPr id="579" name=""/>
              <p:cNvSpPr/>
              <p:nvPr/>
            </p:nvSpPr>
            <p:spPr>
              <a:xfrm>
                <a:off x="22860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6200000">
                <a:off x="22860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361960" y="2642760"/>
              <a:ext cx="75960" cy="151920"/>
              <a:chOff x="2361960" y="2642760"/>
              <a:chExt cx="75960" cy="151920"/>
            </a:xfrm>
          </p:grpSpPr>
          <p:sp>
            <p:nvSpPr>
              <p:cNvPr id="582" name=""/>
              <p:cNvSpPr/>
              <p:nvPr/>
            </p:nvSpPr>
            <p:spPr>
              <a:xfrm>
                <a:off x="23619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6200000">
                <a:off x="23619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2438280" y="2642760"/>
              <a:ext cx="75960" cy="151920"/>
              <a:chOff x="2438280" y="2642760"/>
              <a:chExt cx="75960" cy="151920"/>
            </a:xfrm>
          </p:grpSpPr>
          <p:sp>
            <p:nvSpPr>
              <p:cNvPr id="585" name=""/>
              <p:cNvSpPr/>
              <p:nvPr/>
            </p:nvSpPr>
            <p:spPr>
              <a:xfrm>
                <a:off x="24382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6200000">
                <a:off x="24382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514600" y="2642760"/>
              <a:ext cx="75960" cy="151920"/>
              <a:chOff x="2514600" y="2642760"/>
              <a:chExt cx="75960" cy="151920"/>
            </a:xfrm>
          </p:grpSpPr>
          <p:sp>
            <p:nvSpPr>
              <p:cNvPr id="588" name=""/>
              <p:cNvSpPr/>
              <p:nvPr/>
            </p:nvSpPr>
            <p:spPr>
              <a:xfrm>
                <a:off x="25146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200000">
                <a:off x="25146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590560" y="2642760"/>
              <a:ext cx="75960" cy="151920"/>
              <a:chOff x="2590560" y="2642760"/>
              <a:chExt cx="75960" cy="151920"/>
            </a:xfrm>
          </p:grpSpPr>
          <p:sp>
            <p:nvSpPr>
              <p:cNvPr id="591" name=""/>
              <p:cNvSpPr/>
              <p:nvPr/>
            </p:nvSpPr>
            <p:spPr>
              <a:xfrm>
                <a:off x="25905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6200000">
                <a:off x="25905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2666880" y="2642760"/>
              <a:ext cx="75960" cy="151920"/>
              <a:chOff x="2666880" y="2642760"/>
              <a:chExt cx="75960" cy="151920"/>
            </a:xfrm>
          </p:grpSpPr>
          <p:sp>
            <p:nvSpPr>
              <p:cNvPr id="594" name=""/>
              <p:cNvSpPr/>
              <p:nvPr/>
            </p:nvSpPr>
            <p:spPr>
              <a:xfrm>
                <a:off x="26668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200000">
                <a:off x="26668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743200" y="2642760"/>
              <a:ext cx="75960" cy="151920"/>
              <a:chOff x="2743200" y="2642760"/>
              <a:chExt cx="75960" cy="151920"/>
            </a:xfrm>
          </p:grpSpPr>
          <p:sp>
            <p:nvSpPr>
              <p:cNvPr id="597" name=""/>
              <p:cNvSpPr/>
              <p:nvPr/>
            </p:nvSpPr>
            <p:spPr>
              <a:xfrm>
                <a:off x="2743200" y="26427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6200000">
                <a:off x="2743200" y="271872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819160" y="2642760"/>
              <a:ext cx="75960" cy="151920"/>
              <a:chOff x="2819160" y="2642760"/>
              <a:chExt cx="75960" cy="151920"/>
            </a:xfrm>
          </p:grpSpPr>
          <p:sp>
            <p:nvSpPr>
              <p:cNvPr id="600" name=""/>
              <p:cNvSpPr/>
              <p:nvPr/>
            </p:nvSpPr>
            <p:spPr>
              <a:xfrm>
                <a:off x="28191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200000">
                <a:off x="28191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895480" y="2642760"/>
              <a:ext cx="75960" cy="151920"/>
              <a:chOff x="2895480" y="2642760"/>
              <a:chExt cx="75960" cy="151920"/>
            </a:xfrm>
          </p:grpSpPr>
          <p:sp>
            <p:nvSpPr>
              <p:cNvPr id="603" name=""/>
              <p:cNvSpPr/>
              <p:nvPr/>
            </p:nvSpPr>
            <p:spPr>
              <a:xfrm>
                <a:off x="28954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6200000">
                <a:off x="28954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971800" y="2642760"/>
              <a:ext cx="75960" cy="151920"/>
              <a:chOff x="2971800" y="2642760"/>
              <a:chExt cx="75960" cy="151920"/>
            </a:xfrm>
          </p:grpSpPr>
          <p:sp>
            <p:nvSpPr>
              <p:cNvPr id="606" name=""/>
              <p:cNvSpPr/>
              <p:nvPr/>
            </p:nvSpPr>
            <p:spPr>
              <a:xfrm>
                <a:off x="29718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6200000">
                <a:off x="29718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47760" y="2642760"/>
              <a:ext cx="75960" cy="151920"/>
              <a:chOff x="3047760" y="2642760"/>
              <a:chExt cx="75960" cy="151920"/>
            </a:xfrm>
          </p:grpSpPr>
          <p:sp>
            <p:nvSpPr>
              <p:cNvPr id="609" name=""/>
              <p:cNvSpPr/>
              <p:nvPr/>
            </p:nvSpPr>
            <p:spPr>
              <a:xfrm>
                <a:off x="30477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6200000">
                <a:off x="30477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124080" y="2642760"/>
              <a:ext cx="75960" cy="151920"/>
              <a:chOff x="3124080" y="2642760"/>
              <a:chExt cx="75960" cy="151920"/>
            </a:xfrm>
          </p:grpSpPr>
          <p:sp>
            <p:nvSpPr>
              <p:cNvPr id="612" name=""/>
              <p:cNvSpPr/>
              <p:nvPr/>
            </p:nvSpPr>
            <p:spPr>
              <a:xfrm>
                <a:off x="31240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31240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209680" y="2440080"/>
              <a:ext cx="990360" cy="151560"/>
              <a:chOff x="2209680" y="2440080"/>
              <a:chExt cx="990360" cy="15156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209680" y="2440080"/>
                <a:ext cx="75960" cy="151560"/>
                <a:chOff x="2209680" y="2440080"/>
                <a:chExt cx="75960" cy="151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2096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16200000">
                  <a:off x="22096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286000" y="2440080"/>
                <a:ext cx="75960" cy="151560"/>
                <a:chOff x="2286000" y="2440080"/>
                <a:chExt cx="75960" cy="15156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22860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16200000">
                  <a:off x="22860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2361960" y="2440080"/>
                <a:ext cx="75960" cy="151560"/>
                <a:chOff x="2361960" y="2440080"/>
                <a:chExt cx="75960" cy="1515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23619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16200000">
                  <a:off x="23619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2438280" y="2440080"/>
                <a:ext cx="75960" cy="151560"/>
                <a:chOff x="2438280" y="2440080"/>
                <a:chExt cx="75960" cy="15156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4382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rot="16200000">
                  <a:off x="24382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2514600" y="2440080"/>
                <a:ext cx="75960" cy="151560"/>
                <a:chOff x="2514600" y="2440080"/>
                <a:chExt cx="75960" cy="1515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25146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16200000">
                  <a:off x="25146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2590560" y="2440080"/>
                <a:ext cx="75960" cy="151560"/>
                <a:chOff x="2590560" y="2440080"/>
                <a:chExt cx="75960" cy="1515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25905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25905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666880" y="2440080"/>
                <a:ext cx="75960" cy="151560"/>
                <a:chOff x="2666880" y="2440080"/>
                <a:chExt cx="75960" cy="1515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6668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26668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2743200" y="2440080"/>
                <a:ext cx="75960" cy="151560"/>
                <a:chOff x="2743200" y="2440080"/>
                <a:chExt cx="75960" cy="1515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432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6200000">
                  <a:off x="27432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2819160" y="2440080"/>
                <a:ext cx="75960" cy="151560"/>
                <a:chOff x="2819160" y="2440080"/>
                <a:chExt cx="75960" cy="1515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8191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rot="16200000">
                  <a:off x="28191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2895480" y="2440080"/>
                <a:ext cx="75960" cy="151560"/>
                <a:chOff x="2895480" y="2440080"/>
                <a:chExt cx="75960" cy="15156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28954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rot="16200000">
                  <a:off x="28954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2971800" y="2440080"/>
                <a:ext cx="75960" cy="151560"/>
                <a:chOff x="2971800" y="2440080"/>
                <a:chExt cx="75960" cy="15156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29718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16200000">
                  <a:off x="29718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3047760" y="2440080"/>
                <a:ext cx="75960" cy="151560"/>
                <a:chOff x="3047760" y="2440080"/>
                <a:chExt cx="75960" cy="1515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30477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30477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124080" y="2440080"/>
                <a:ext cx="75960" cy="151560"/>
                <a:chOff x="3124080" y="2440080"/>
                <a:chExt cx="75960" cy="15156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1240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16200000">
                  <a:off x="31240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4" name=""/>
          <p:cNvGrpSpPr/>
          <p:nvPr/>
        </p:nvGrpSpPr>
        <p:grpSpPr>
          <a:xfrm>
            <a:off x="2217600" y="2127240"/>
            <a:ext cx="75960" cy="151560"/>
            <a:chOff x="2217600" y="2127240"/>
            <a:chExt cx="75960" cy="151560"/>
          </a:xfrm>
        </p:grpSpPr>
        <p:sp>
          <p:nvSpPr>
            <p:cNvPr id="655" name=""/>
            <p:cNvSpPr/>
            <p:nvPr/>
          </p:nvSpPr>
          <p:spPr>
            <a:xfrm>
              <a:off x="2217600" y="212724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2217600" y="220284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200320" y="232560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781360" y="2104920"/>
            <a:ext cx="499680" cy="215640"/>
            <a:chOff x="2781360" y="2104920"/>
            <a:chExt cx="499680" cy="215640"/>
          </a:xfrm>
        </p:grpSpPr>
        <p:sp>
          <p:nvSpPr>
            <p:cNvPr id="659" name=""/>
            <p:cNvSpPr/>
            <p:nvPr/>
          </p:nvSpPr>
          <p:spPr>
            <a:xfrm>
              <a:off x="2781360" y="217332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009960" y="217332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0548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4236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219400" y="1595520"/>
            <a:ext cx="2858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53753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81240" y="1185840"/>
            <a:ext cx="1076400" cy="142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App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1366920"/>
            <a:ext cx="990360" cy="1522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133720" y="495360"/>
            <a:ext cx="1143000" cy="114120"/>
            <a:chOff x="2133720" y="495360"/>
            <a:chExt cx="1143000" cy="114120"/>
          </a:xfrm>
        </p:grpSpPr>
        <p:sp>
          <p:nvSpPr>
            <p:cNvPr id="667" name=""/>
            <p:cNvSpPr/>
            <p:nvPr/>
          </p:nvSpPr>
          <p:spPr>
            <a:xfrm>
              <a:off x="2133720" y="495360"/>
              <a:ext cx="114300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Control Pan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3171960" y="513720"/>
              <a:ext cx="85680" cy="75960"/>
              <a:chOff x="3171960" y="513720"/>
              <a:chExt cx="85680" cy="75960"/>
            </a:xfrm>
          </p:grpSpPr>
          <p:sp>
            <p:nvSpPr>
              <p:cNvPr id="669" name=""/>
              <p:cNvSpPr/>
              <p:nvPr/>
            </p:nvSpPr>
            <p:spPr>
              <a:xfrm flipV="1">
                <a:off x="3171960" y="51336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91040" y="56628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1" name=""/>
          <p:cNvSpPr/>
          <p:nvPr/>
        </p:nvSpPr>
        <p:spPr>
          <a:xfrm>
            <a:off x="2133720" y="611280"/>
            <a:ext cx="114300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96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670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05240" y="920880"/>
            <a:ext cx="152280" cy="66600"/>
          </a:xfrm>
          <a:custGeom>
            <a:avLst/>
            <a:gdLst/>
            <a:ahLst/>
            <a:rect l="l" t="t" r="r" b="b"/>
            <a:pathLst>
              <a:path w="96" h="42">
                <a:moveTo>
                  <a:pt x="0" y="0"/>
                </a:moveTo>
                <a:lnTo>
                  <a:pt x="96" y="0"/>
                </a:lnTo>
                <a:lnTo>
                  <a:pt x="96" y="42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4320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0" rIns="90000" tIns="273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981160" y="839880"/>
            <a:ext cx="228600" cy="228600"/>
            <a:chOff x="2981160" y="839880"/>
            <a:chExt cx="228600" cy="228600"/>
          </a:xfrm>
        </p:grpSpPr>
        <p:sp>
          <p:nvSpPr>
            <p:cNvPr id="677" name=""/>
            <p:cNvSpPr/>
            <p:nvPr/>
          </p:nvSpPr>
          <p:spPr>
            <a:xfrm>
              <a:off x="2981160" y="839880"/>
              <a:ext cx="228600" cy="228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09600" y="1001880"/>
              <a:ext cx="142920" cy="52560"/>
            </a:xfrm>
            <a:custGeom>
              <a:avLst/>
              <a:gdLst/>
              <a:ahLst/>
              <a:rect l="l" t="t" r="r" b="b"/>
              <a:pathLst>
                <a:path w="90" h="33">
                  <a:moveTo>
                    <a:pt x="0" y="18"/>
                  </a:moveTo>
                  <a:cubicBezTo>
                    <a:pt x="46" y="33"/>
                    <a:pt x="53" y="0"/>
                    <a:pt x="90" y="0"/>
                  </a:cubicBez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2171880" y="649440"/>
            <a:ext cx="1076040" cy="142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190656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2680" y="4229280"/>
            <a:ext cx="4724640" cy="1064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52680" y="407664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Meeting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43400" y="4457880"/>
            <a:ext cx="358128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924680" y="514296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445788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24320" y="4457880"/>
            <a:ext cx="11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43400" y="4457880"/>
            <a:ext cx="358128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4305240"/>
            <a:ext cx="3657600" cy="152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71840" y="47991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29000" y="4305240"/>
            <a:ext cx="804960" cy="150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471840" y="4494240"/>
            <a:ext cx="761760" cy="228600"/>
            <a:chOff x="3471840" y="4494240"/>
            <a:chExt cx="761760" cy="228600"/>
          </a:xfrm>
        </p:grpSpPr>
        <p:sp>
          <p:nvSpPr>
            <p:cNvPr id="692" name=""/>
            <p:cNvSpPr/>
            <p:nvPr/>
          </p:nvSpPr>
          <p:spPr>
            <a:xfrm>
              <a:off x="3929040" y="4494240"/>
              <a:ext cx="30456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3471840" y="4494240"/>
              <a:ext cx="304560" cy="228600"/>
              <a:chOff x="3471840" y="4494240"/>
              <a:chExt cx="304560" cy="228600"/>
            </a:xfrm>
          </p:grpSpPr>
          <p:sp>
            <p:nvSpPr>
              <p:cNvPr id="694" name=""/>
              <p:cNvSpPr/>
              <p:nvPr/>
            </p:nvSpPr>
            <p:spPr>
              <a:xfrm>
                <a:off x="3471840" y="4494240"/>
                <a:ext cx="304560" cy="22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rot="16200000">
                <a:off x="3541680" y="4541760"/>
                <a:ext cx="142920" cy="132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 rot="5400000">
              <a:off x="4009680" y="4541400"/>
              <a:ext cx="14292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471840" y="50277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81200" y="1590840"/>
            <a:ext cx="6224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924680" y="4533840"/>
            <a:ext cx="76320" cy="6098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71880" y="208440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78120" y="376380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74760" y="375768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2680" y="5562720"/>
            <a:ext cx="4724640" cy="1065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2680" y="541008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Commun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00480" y="5638680"/>
            <a:ext cx="8287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Video/Pi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05520" y="5638680"/>
            <a:ext cx="2895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Take a look at </a:t>
            </a: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  <a:ea typeface="宋体"/>
              </a:rPr>
              <a:t>http://www.something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You should pay more attention during class or your grades will suff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Z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6400800"/>
            <a:ext cx="2895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483" idx="0"/>
            <a:endCxn id="480" idx="0"/>
          </p:cNvCxnSpPr>
          <p:nvPr/>
        </p:nvCxnSpPr>
        <p:spPr>
          <a:xfrm>
            <a:off x="8303760" y="4494240"/>
            <a:ext cx="2520" cy="186768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9" name=""/>
          <p:cNvSpPr/>
          <p:nvPr/>
        </p:nvSpPr>
        <p:spPr>
          <a:xfrm>
            <a:off x="173160" y="4114800"/>
            <a:ext cx="2416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 Specifica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should have everything enab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 wil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t see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application disabled unless hav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 annotation tools (disabl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” button grayed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92360" y="5562720"/>
            <a:ext cx="68580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735200" y="5624640"/>
            <a:ext cx="729360" cy="1036080"/>
            <a:chOff x="1735200" y="5624640"/>
            <a:chExt cx="729360" cy="1036080"/>
          </a:xfrm>
        </p:grpSpPr>
        <p:sp>
          <p:nvSpPr>
            <p:cNvPr id="712" name=""/>
            <p:cNvSpPr/>
            <p:nvPr/>
          </p:nvSpPr>
          <p:spPr>
            <a:xfrm>
              <a:off x="1785960" y="562752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43120" y="580860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36680" y="562752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36680" y="57024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36680" y="578016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90880" y="562608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48040" y="580248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35920" y="610884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35800" y="611676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68320" y="632448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35200" y="651672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38080" y="644508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36680" y="58546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36680" y="593244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36680" y="60069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36680" y="6084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19160" y="56246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19160" y="56991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19160" y="577692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19160" y="58514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19160" y="5929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19160" y="60040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19160" y="60818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462480" y="5638680"/>
            <a:ext cx="729360" cy="1036080"/>
            <a:chOff x="3462480" y="5638680"/>
            <a:chExt cx="729360" cy="1036080"/>
          </a:xfrm>
        </p:grpSpPr>
        <p:sp>
          <p:nvSpPr>
            <p:cNvPr id="736" name=""/>
            <p:cNvSpPr/>
            <p:nvPr/>
          </p:nvSpPr>
          <p:spPr>
            <a:xfrm>
              <a:off x="3513240" y="564156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70400" y="582264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963960" y="564156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63960" y="571644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63960" y="57942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8160" y="564012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75320" y="581652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63200" y="612288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63080" y="613080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95600" y="633852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62480" y="653076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65360" y="645912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3960" y="5868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63960" y="59464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63960" y="602100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63960" y="60987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46440" y="56386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46440" y="5713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46440" y="57909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46440" y="586548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46440" y="59432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46440" y="601812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46440" y="60958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191520" y="19098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 Too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int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932560" y="6480"/>
            <a:ext cx="3161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- Sharedl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6094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47920" y="7621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523880" y="1143000"/>
            <a:ext cx="990360" cy="761400"/>
            <a:chOff x="1523880" y="1143000"/>
            <a:chExt cx="990360" cy="761400"/>
          </a:xfrm>
        </p:grpSpPr>
        <p:grpSp>
          <p:nvGrpSpPr>
            <p:cNvPr id="764" name=""/>
            <p:cNvGrpSpPr/>
            <p:nvPr/>
          </p:nvGrpSpPr>
          <p:grpSpPr>
            <a:xfrm>
              <a:off x="1523880" y="1752480"/>
              <a:ext cx="990360" cy="151920"/>
              <a:chOff x="1523880" y="1752480"/>
              <a:chExt cx="990360" cy="151920"/>
            </a:xfrm>
          </p:grpSpPr>
          <p:grpSp>
            <p:nvGrpSpPr>
              <p:cNvPr id="765" name=""/>
              <p:cNvGrpSpPr/>
              <p:nvPr/>
            </p:nvGrpSpPr>
            <p:grpSpPr>
              <a:xfrm>
                <a:off x="1523880" y="1752480"/>
                <a:ext cx="75960" cy="151920"/>
                <a:chOff x="1523880" y="1752480"/>
                <a:chExt cx="75960" cy="1519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15238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16200000">
                  <a:off x="15238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600200" y="1752480"/>
                <a:ext cx="75960" cy="151920"/>
                <a:chOff x="1600200" y="1752480"/>
                <a:chExt cx="75960" cy="15192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6002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rot="16200000">
                  <a:off x="16002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1676160" y="1752480"/>
                <a:ext cx="75960" cy="151920"/>
                <a:chOff x="1676160" y="1752480"/>
                <a:chExt cx="75960" cy="15192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16761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rot="16200000">
                  <a:off x="16761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752480" y="1752480"/>
                <a:ext cx="75960" cy="151920"/>
                <a:chOff x="1752480" y="1752480"/>
                <a:chExt cx="75960" cy="15192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7524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16200000">
                  <a:off x="17524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1828800" y="1752480"/>
                <a:ext cx="75960" cy="151920"/>
                <a:chOff x="1828800" y="1752480"/>
                <a:chExt cx="75960" cy="15192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18288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16200000">
                  <a:off x="18288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1904760" y="1752480"/>
                <a:ext cx="75960" cy="151920"/>
                <a:chOff x="1904760" y="1752480"/>
                <a:chExt cx="75960" cy="15192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19047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rot="16200000">
                  <a:off x="19047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1981080" y="1752480"/>
                <a:ext cx="75960" cy="151920"/>
                <a:chOff x="1981080" y="1752480"/>
                <a:chExt cx="75960" cy="15192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19810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16200000">
                  <a:off x="19810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2057400" y="1752480"/>
                <a:ext cx="75960" cy="151920"/>
                <a:chOff x="2057400" y="1752480"/>
                <a:chExt cx="75960" cy="15192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20574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rot="16200000">
                  <a:off x="20574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133360" y="1752480"/>
                <a:ext cx="75960" cy="151920"/>
                <a:chOff x="2133360" y="1752480"/>
                <a:chExt cx="75960" cy="15192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1333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16200000">
                  <a:off x="21333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2209680" y="1752480"/>
                <a:ext cx="75960" cy="151920"/>
                <a:chOff x="2209680" y="1752480"/>
                <a:chExt cx="75960" cy="15192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22096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16200000">
                  <a:off x="22096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2286000" y="1752480"/>
                <a:ext cx="75960" cy="151920"/>
                <a:chOff x="2286000" y="1752480"/>
                <a:chExt cx="75960" cy="1519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22860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16200000">
                  <a:off x="22860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2361960" y="1752480"/>
                <a:ext cx="75960" cy="151920"/>
                <a:chOff x="2361960" y="1752480"/>
                <a:chExt cx="75960" cy="15192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23619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16200000">
                  <a:off x="23619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2438280" y="1752480"/>
                <a:ext cx="75960" cy="151920"/>
                <a:chOff x="2438280" y="1752480"/>
                <a:chExt cx="75960" cy="15192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24382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16200000">
                  <a:off x="24382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4" name=""/>
            <p:cNvGrpSpPr/>
            <p:nvPr/>
          </p:nvGrpSpPr>
          <p:grpSpPr>
            <a:xfrm>
              <a:off x="1523880" y="1549440"/>
              <a:ext cx="75960" cy="151920"/>
              <a:chOff x="1523880" y="1549440"/>
              <a:chExt cx="75960" cy="151920"/>
            </a:xfrm>
          </p:grpSpPr>
          <p:sp>
            <p:nvSpPr>
              <p:cNvPr id="805" name=""/>
              <p:cNvSpPr/>
              <p:nvPr/>
            </p:nvSpPr>
            <p:spPr>
              <a:xfrm>
                <a:off x="15238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200000">
                <a:off x="15238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1600200" y="1549440"/>
              <a:ext cx="75960" cy="151920"/>
              <a:chOff x="1600200" y="1549440"/>
              <a:chExt cx="75960" cy="151920"/>
            </a:xfrm>
          </p:grpSpPr>
          <p:sp>
            <p:nvSpPr>
              <p:cNvPr id="808" name=""/>
              <p:cNvSpPr/>
              <p:nvPr/>
            </p:nvSpPr>
            <p:spPr>
              <a:xfrm>
                <a:off x="16002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6200000">
                <a:off x="16002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1676160" y="1549440"/>
              <a:ext cx="75960" cy="151920"/>
              <a:chOff x="1676160" y="1549440"/>
              <a:chExt cx="75960" cy="151920"/>
            </a:xfrm>
          </p:grpSpPr>
          <p:sp>
            <p:nvSpPr>
              <p:cNvPr id="811" name=""/>
              <p:cNvSpPr/>
              <p:nvPr/>
            </p:nvSpPr>
            <p:spPr>
              <a:xfrm>
                <a:off x="16761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6200000">
                <a:off x="16761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1752480" y="1549440"/>
              <a:ext cx="75960" cy="151920"/>
              <a:chOff x="1752480" y="1549440"/>
              <a:chExt cx="75960" cy="151920"/>
            </a:xfrm>
          </p:grpSpPr>
          <p:sp>
            <p:nvSpPr>
              <p:cNvPr id="814" name=""/>
              <p:cNvSpPr/>
              <p:nvPr/>
            </p:nvSpPr>
            <p:spPr>
              <a:xfrm>
                <a:off x="17524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6200000">
                <a:off x="17524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828800" y="1549440"/>
              <a:ext cx="75960" cy="151920"/>
              <a:chOff x="1828800" y="1549440"/>
              <a:chExt cx="75960" cy="151920"/>
            </a:xfrm>
          </p:grpSpPr>
          <p:sp>
            <p:nvSpPr>
              <p:cNvPr id="817" name=""/>
              <p:cNvSpPr/>
              <p:nvPr/>
            </p:nvSpPr>
            <p:spPr>
              <a:xfrm>
                <a:off x="18288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6200000">
                <a:off x="18288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904760" y="1549440"/>
              <a:ext cx="75960" cy="151920"/>
              <a:chOff x="1904760" y="1549440"/>
              <a:chExt cx="75960" cy="151920"/>
            </a:xfrm>
          </p:grpSpPr>
          <p:sp>
            <p:nvSpPr>
              <p:cNvPr id="820" name=""/>
              <p:cNvSpPr/>
              <p:nvPr/>
            </p:nvSpPr>
            <p:spPr>
              <a:xfrm>
                <a:off x="19047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6200000">
                <a:off x="19047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1981080" y="1549440"/>
              <a:ext cx="75960" cy="151920"/>
              <a:chOff x="1981080" y="1549440"/>
              <a:chExt cx="75960" cy="151920"/>
            </a:xfrm>
          </p:grpSpPr>
          <p:sp>
            <p:nvSpPr>
              <p:cNvPr id="823" name=""/>
              <p:cNvSpPr/>
              <p:nvPr/>
            </p:nvSpPr>
            <p:spPr>
              <a:xfrm>
                <a:off x="19810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6200000">
                <a:off x="19810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2057400" y="1549440"/>
              <a:ext cx="75960" cy="151920"/>
              <a:chOff x="2057400" y="1549440"/>
              <a:chExt cx="75960" cy="151920"/>
            </a:xfrm>
          </p:grpSpPr>
          <p:sp>
            <p:nvSpPr>
              <p:cNvPr id="826" name=""/>
              <p:cNvSpPr/>
              <p:nvPr/>
            </p:nvSpPr>
            <p:spPr>
              <a:xfrm>
                <a:off x="20574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6200000">
                <a:off x="20574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133360" y="1549440"/>
              <a:ext cx="75960" cy="151920"/>
              <a:chOff x="2133360" y="1549440"/>
              <a:chExt cx="75960" cy="151920"/>
            </a:xfrm>
          </p:grpSpPr>
          <p:sp>
            <p:nvSpPr>
              <p:cNvPr id="829" name=""/>
              <p:cNvSpPr/>
              <p:nvPr/>
            </p:nvSpPr>
            <p:spPr>
              <a:xfrm>
                <a:off x="21333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6200000">
                <a:off x="21333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2209680" y="1549440"/>
              <a:ext cx="75960" cy="151920"/>
              <a:chOff x="2209680" y="1549440"/>
              <a:chExt cx="75960" cy="151920"/>
            </a:xfrm>
          </p:grpSpPr>
          <p:sp>
            <p:nvSpPr>
              <p:cNvPr id="832" name=""/>
              <p:cNvSpPr/>
              <p:nvPr/>
            </p:nvSpPr>
            <p:spPr>
              <a:xfrm>
                <a:off x="22096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6200000">
                <a:off x="22096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2286000" y="1549440"/>
              <a:ext cx="75960" cy="151920"/>
              <a:chOff x="2286000" y="1549440"/>
              <a:chExt cx="75960" cy="151920"/>
            </a:xfrm>
          </p:grpSpPr>
          <p:sp>
            <p:nvSpPr>
              <p:cNvPr id="835" name=""/>
              <p:cNvSpPr/>
              <p:nvPr/>
            </p:nvSpPr>
            <p:spPr>
              <a:xfrm>
                <a:off x="22860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6200000">
                <a:off x="22860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361960" y="1549440"/>
              <a:ext cx="75960" cy="151920"/>
              <a:chOff x="2361960" y="1549440"/>
              <a:chExt cx="75960" cy="151920"/>
            </a:xfrm>
          </p:grpSpPr>
          <p:sp>
            <p:nvSpPr>
              <p:cNvPr id="838" name=""/>
              <p:cNvSpPr/>
              <p:nvPr/>
            </p:nvSpPr>
            <p:spPr>
              <a:xfrm>
                <a:off x="23619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6200000">
                <a:off x="23619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2438280" y="1549440"/>
              <a:ext cx="75960" cy="151920"/>
              <a:chOff x="2438280" y="1549440"/>
              <a:chExt cx="75960" cy="151920"/>
            </a:xfrm>
          </p:grpSpPr>
          <p:sp>
            <p:nvSpPr>
              <p:cNvPr id="841" name=""/>
              <p:cNvSpPr/>
              <p:nvPr/>
            </p:nvSpPr>
            <p:spPr>
              <a:xfrm>
                <a:off x="24382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6200000">
                <a:off x="24382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1523880" y="1346040"/>
              <a:ext cx="75960" cy="151920"/>
              <a:chOff x="1523880" y="1346040"/>
              <a:chExt cx="75960" cy="151920"/>
            </a:xfrm>
          </p:grpSpPr>
          <p:sp>
            <p:nvSpPr>
              <p:cNvPr id="844" name=""/>
              <p:cNvSpPr/>
              <p:nvPr/>
            </p:nvSpPr>
            <p:spPr>
              <a:xfrm>
                <a:off x="15238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6200000">
                <a:off x="15238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1600200" y="1346040"/>
              <a:ext cx="75960" cy="151920"/>
              <a:chOff x="1600200" y="1346040"/>
              <a:chExt cx="75960" cy="151920"/>
            </a:xfrm>
          </p:grpSpPr>
          <p:sp>
            <p:nvSpPr>
              <p:cNvPr id="847" name=""/>
              <p:cNvSpPr/>
              <p:nvPr/>
            </p:nvSpPr>
            <p:spPr>
              <a:xfrm>
                <a:off x="16002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6200000">
                <a:off x="16002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1676160" y="1346040"/>
              <a:ext cx="75960" cy="151920"/>
              <a:chOff x="1676160" y="1346040"/>
              <a:chExt cx="75960" cy="151920"/>
            </a:xfrm>
          </p:grpSpPr>
          <p:sp>
            <p:nvSpPr>
              <p:cNvPr id="850" name=""/>
              <p:cNvSpPr/>
              <p:nvPr/>
            </p:nvSpPr>
            <p:spPr>
              <a:xfrm>
                <a:off x="16761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6200000">
                <a:off x="16761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1752480" y="1346040"/>
              <a:ext cx="75960" cy="151920"/>
              <a:chOff x="1752480" y="1346040"/>
              <a:chExt cx="75960" cy="151920"/>
            </a:xfrm>
          </p:grpSpPr>
          <p:sp>
            <p:nvSpPr>
              <p:cNvPr id="853" name=""/>
              <p:cNvSpPr/>
              <p:nvPr/>
            </p:nvSpPr>
            <p:spPr>
              <a:xfrm>
                <a:off x="17524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17524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28800" y="1346040"/>
              <a:ext cx="75960" cy="151920"/>
              <a:chOff x="1828800" y="1346040"/>
              <a:chExt cx="75960" cy="151920"/>
            </a:xfrm>
          </p:grpSpPr>
          <p:sp>
            <p:nvSpPr>
              <p:cNvPr id="856" name=""/>
              <p:cNvSpPr/>
              <p:nvPr/>
            </p:nvSpPr>
            <p:spPr>
              <a:xfrm>
                <a:off x="18288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18288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904760" y="1346040"/>
              <a:ext cx="75960" cy="151920"/>
              <a:chOff x="1904760" y="1346040"/>
              <a:chExt cx="75960" cy="151920"/>
            </a:xfrm>
          </p:grpSpPr>
          <p:sp>
            <p:nvSpPr>
              <p:cNvPr id="859" name=""/>
              <p:cNvSpPr/>
              <p:nvPr/>
            </p:nvSpPr>
            <p:spPr>
              <a:xfrm>
                <a:off x="19047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19047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1981080" y="1346040"/>
              <a:ext cx="75960" cy="151920"/>
              <a:chOff x="1981080" y="1346040"/>
              <a:chExt cx="75960" cy="151920"/>
            </a:xfrm>
          </p:grpSpPr>
          <p:sp>
            <p:nvSpPr>
              <p:cNvPr id="862" name=""/>
              <p:cNvSpPr/>
              <p:nvPr/>
            </p:nvSpPr>
            <p:spPr>
              <a:xfrm>
                <a:off x="19810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19810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2057400" y="1346040"/>
              <a:ext cx="75960" cy="151920"/>
              <a:chOff x="2057400" y="1346040"/>
              <a:chExt cx="75960" cy="151920"/>
            </a:xfrm>
          </p:grpSpPr>
          <p:sp>
            <p:nvSpPr>
              <p:cNvPr id="865" name=""/>
              <p:cNvSpPr/>
              <p:nvPr/>
            </p:nvSpPr>
            <p:spPr>
              <a:xfrm>
                <a:off x="2057400" y="134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2057400" y="142200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133360" y="1346040"/>
              <a:ext cx="75960" cy="151920"/>
              <a:chOff x="2133360" y="1346040"/>
              <a:chExt cx="75960" cy="151920"/>
            </a:xfrm>
          </p:grpSpPr>
          <p:sp>
            <p:nvSpPr>
              <p:cNvPr id="868" name=""/>
              <p:cNvSpPr/>
              <p:nvPr/>
            </p:nvSpPr>
            <p:spPr>
              <a:xfrm>
                <a:off x="21333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21333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2209680" y="1346040"/>
              <a:ext cx="75960" cy="151920"/>
              <a:chOff x="2209680" y="1346040"/>
              <a:chExt cx="75960" cy="151920"/>
            </a:xfrm>
          </p:grpSpPr>
          <p:sp>
            <p:nvSpPr>
              <p:cNvPr id="871" name=""/>
              <p:cNvSpPr/>
              <p:nvPr/>
            </p:nvSpPr>
            <p:spPr>
              <a:xfrm>
                <a:off x="22096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22096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2286000" y="1346040"/>
              <a:ext cx="75960" cy="151920"/>
              <a:chOff x="2286000" y="1346040"/>
              <a:chExt cx="75960" cy="151920"/>
            </a:xfrm>
          </p:grpSpPr>
          <p:sp>
            <p:nvSpPr>
              <p:cNvPr id="874" name=""/>
              <p:cNvSpPr/>
              <p:nvPr/>
            </p:nvSpPr>
            <p:spPr>
              <a:xfrm>
                <a:off x="22860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22860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2361960" y="1346040"/>
              <a:ext cx="75960" cy="151920"/>
              <a:chOff x="2361960" y="1346040"/>
              <a:chExt cx="75960" cy="151920"/>
            </a:xfrm>
          </p:grpSpPr>
          <p:sp>
            <p:nvSpPr>
              <p:cNvPr id="877" name=""/>
              <p:cNvSpPr/>
              <p:nvPr/>
            </p:nvSpPr>
            <p:spPr>
              <a:xfrm>
                <a:off x="23619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6200000">
                <a:off x="23619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2438280" y="1346040"/>
              <a:ext cx="75960" cy="151920"/>
              <a:chOff x="2438280" y="1346040"/>
              <a:chExt cx="75960" cy="151920"/>
            </a:xfrm>
          </p:grpSpPr>
          <p:sp>
            <p:nvSpPr>
              <p:cNvPr id="880" name=""/>
              <p:cNvSpPr/>
              <p:nvPr/>
            </p:nvSpPr>
            <p:spPr>
              <a:xfrm>
                <a:off x="24382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6200000">
                <a:off x="24382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1523880" y="1143000"/>
              <a:ext cx="990360" cy="151920"/>
              <a:chOff x="1523880" y="1143000"/>
              <a:chExt cx="990360" cy="15192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1523880" y="1143000"/>
                <a:ext cx="75960" cy="151920"/>
                <a:chOff x="1523880" y="1143000"/>
                <a:chExt cx="75960" cy="1519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15238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16200000">
                  <a:off x="15238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1600200" y="1143000"/>
                <a:ext cx="75960" cy="151920"/>
                <a:chOff x="1600200" y="1143000"/>
                <a:chExt cx="75960" cy="1519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16002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16200000">
                  <a:off x="16002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1676160" y="1143000"/>
                <a:ext cx="75960" cy="151920"/>
                <a:chOff x="1676160" y="1143000"/>
                <a:chExt cx="75960" cy="1519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16761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rot="16200000">
                  <a:off x="16761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1752480" y="1143000"/>
                <a:ext cx="75960" cy="151920"/>
                <a:chOff x="1752480" y="1143000"/>
                <a:chExt cx="75960" cy="1519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17524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rot="16200000">
                  <a:off x="17524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1828800" y="1143000"/>
                <a:ext cx="75960" cy="151920"/>
                <a:chOff x="1828800" y="1143000"/>
                <a:chExt cx="75960" cy="1519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18288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rot="16200000">
                  <a:off x="18288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1904760" y="1143000"/>
                <a:ext cx="75960" cy="151920"/>
                <a:chOff x="1904760" y="1143000"/>
                <a:chExt cx="75960" cy="1519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19047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rot="16200000">
                  <a:off x="19047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1981080" y="1143000"/>
                <a:ext cx="75960" cy="151920"/>
                <a:chOff x="1981080" y="1143000"/>
                <a:chExt cx="75960" cy="1519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9810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16200000">
                  <a:off x="19810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2057400" y="1143000"/>
                <a:ext cx="75960" cy="151920"/>
                <a:chOff x="2057400" y="1143000"/>
                <a:chExt cx="75960" cy="1519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20574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rot="16200000">
                  <a:off x="20574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2133360" y="1143000"/>
                <a:ext cx="75960" cy="151920"/>
                <a:chOff x="2133360" y="1143000"/>
                <a:chExt cx="75960" cy="1519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21333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rot="16200000">
                  <a:off x="21333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2209680" y="1143000"/>
                <a:ext cx="75960" cy="151920"/>
                <a:chOff x="2209680" y="1143000"/>
                <a:chExt cx="75960" cy="1519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22096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rot="16200000">
                  <a:off x="22096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2286000" y="1143000"/>
                <a:ext cx="75960" cy="151920"/>
                <a:chOff x="2286000" y="1143000"/>
                <a:chExt cx="75960" cy="1519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22860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rot="16200000">
                  <a:off x="22860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2361960" y="1143000"/>
                <a:ext cx="75960" cy="151920"/>
                <a:chOff x="2361960" y="1143000"/>
                <a:chExt cx="75960" cy="151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3619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16200000">
                  <a:off x="23619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438280" y="1143000"/>
                <a:ext cx="75960" cy="151920"/>
                <a:chOff x="2438280" y="1143000"/>
                <a:chExt cx="75960" cy="1519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24382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rot="16200000">
                  <a:off x="24382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22" name=""/>
          <p:cNvGrpSpPr/>
          <p:nvPr/>
        </p:nvGrpSpPr>
        <p:grpSpPr>
          <a:xfrm>
            <a:off x="1531800" y="830160"/>
            <a:ext cx="75960" cy="152640"/>
            <a:chOff x="1531800" y="830160"/>
            <a:chExt cx="75960" cy="152640"/>
          </a:xfrm>
        </p:grpSpPr>
        <p:sp>
          <p:nvSpPr>
            <p:cNvPr id="923" name=""/>
            <p:cNvSpPr/>
            <p:nvPr/>
          </p:nvSpPr>
          <p:spPr>
            <a:xfrm>
              <a:off x="1531800" y="830160"/>
              <a:ext cx="75960" cy="7632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6200000">
              <a:off x="1531440" y="906480"/>
              <a:ext cx="7632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1514520" y="1028880"/>
            <a:ext cx="990720" cy="759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2095560" y="808200"/>
            <a:ext cx="499680" cy="215640"/>
            <a:chOff x="2095560" y="808200"/>
            <a:chExt cx="499680" cy="215640"/>
          </a:xfrm>
        </p:grpSpPr>
        <p:sp>
          <p:nvSpPr>
            <p:cNvPr id="927" name=""/>
            <p:cNvSpPr/>
            <p:nvPr/>
          </p:nvSpPr>
          <p:spPr>
            <a:xfrm>
              <a:off x="2095560" y="87624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24160" y="87624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1968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656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1447920" y="6094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86080" y="78732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092320" y="2467080"/>
            <a:ext cx="392040" cy="129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488960" y="246060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19063200">
            <a:off x="2133720" y="1445760"/>
            <a:ext cx="142920" cy="238320"/>
          </a:xfrm>
          <a:prstGeom prst="upArrow">
            <a:avLst>
              <a:gd name="adj1" fmla="val 26463"/>
              <a:gd name="adj2" fmla="val 828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286000" y="1598760"/>
            <a:ext cx="9907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No 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657600" y="1600200"/>
            <a:ext cx="129528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352680" y="1674720"/>
            <a:ext cx="228600" cy="152640"/>
          </a:xfrm>
          <a:prstGeom prst="leftRightArrow">
            <a:avLst>
              <a:gd name="adj1" fmla="val 50000"/>
              <a:gd name="adj2" fmla="val 298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60320" y="190800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657600" y="228600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 (for Ho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5200" y="1600200"/>
            <a:ext cx="141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uditorium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lar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47920" y="297180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447920" y="312408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447920" y="297180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86080" y="3352680"/>
            <a:ext cx="1064880" cy="14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92320" y="482904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488960" y="482292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396252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76160" y="419112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42688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5920" y="3200400"/>
            <a:ext cx="142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i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small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collabor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59800" y="312408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057400" y="3124080"/>
            <a:ext cx="499680" cy="215640"/>
            <a:chOff x="2057400" y="3124080"/>
            <a:chExt cx="499680" cy="215640"/>
          </a:xfrm>
        </p:grpSpPr>
        <p:sp>
          <p:nvSpPr>
            <p:cNvPr id="954" name=""/>
            <p:cNvSpPr/>
            <p:nvPr/>
          </p:nvSpPr>
          <p:spPr>
            <a:xfrm>
              <a:off x="2057400" y="319248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86000" y="319248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8152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1840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487520" y="3352680"/>
            <a:ext cx="1063440" cy="152640"/>
            <a:chOff x="1487520" y="3352680"/>
            <a:chExt cx="1063440" cy="152640"/>
          </a:xfrm>
        </p:grpSpPr>
        <p:sp>
          <p:nvSpPr>
            <p:cNvPr id="959" name=""/>
            <p:cNvSpPr/>
            <p:nvPr/>
          </p:nvSpPr>
          <p:spPr>
            <a:xfrm>
              <a:off x="1635120" y="3352680"/>
              <a:ext cx="9158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87520" y="3352680"/>
              <a:ext cx="152280" cy="152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1635120" y="3502080"/>
            <a:ext cx="915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87520" y="350208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35120" y="3654360"/>
            <a:ext cx="91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487520" y="365436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840" y="5345280"/>
            <a:ext cx="373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 responses possible (Should be extensi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Question (Raise H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 am F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eption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problems should be display first in list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Raised hands should be display second(first come first ser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ive Control” should reset “Question” =&gt; “I am fin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665000" y="38088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65000" y="274320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19063200">
            <a:off x="1904760" y="3733560"/>
            <a:ext cx="142920" cy="237960"/>
          </a:xfrm>
          <a:prstGeom prst="upArrow">
            <a:avLst>
              <a:gd name="adj1" fmla="val 26463"/>
              <a:gd name="adj2" fmla="val 827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57400" y="3886200"/>
            <a:ext cx="9907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Who are you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43600" y="76212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943600" y="91440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6019920" y="1295280"/>
            <a:ext cx="990000" cy="761400"/>
            <a:chOff x="6019920" y="1295280"/>
            <a:chExt cx="990000" cy="761400"/>
          </a:xfrm>
        </p:grpSpPr>
        <p:grpSp>
          <p:nvGrpSpPr>
            <p:cNvPr id="973" name=""/>
            <p:cNvGrpSpPr/>
            <p:nvPr/>
          </p:nvGrpSpPr>
          <p:grpSpPr>
            <a:xfrm>
              <a:off x="6019920" y="1904760"/>
              <a:ext cx="990000" cy="151920"/>
              <a:chOff x="6019920" y="1904760"/>
              <a:chExt cx="990000" cy="15192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6019920" y="1904760"/>
                <a:ext cx="75960" cy="151920"/>
                <a:chOff x="6019920" y="1904760"/>
                <a:chExt cx="75960" cy="15192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601992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rot="16200000">
                  <a:off x="601992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6095880" y="1904760"/>
                <a:ext cx="75600" cy="151920"/>
                <a:chOff x="6095880" y="1904760"/>
                <a:chExt cx="75600" cy="15192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60958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16200000">
                  <a:off x="60955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6171840" y="1904760"/>
                <a:ext cx="75960" cy="151920"/>
                <a:chOff x="6171840" y="1904760"/>
                <a:chExt cx="75960" cy="15192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61718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16200000">
                  <a:off x="61718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6248160" y="1904760"/>
                <a:ext cx="75960" cy="151920"/>
                <a:chOff x="6248160" y="1904760"/>
                <a:chExt cx="75960" cy="15192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62481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rot="16200000">
                  <a:off x="62481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6324480" y="1904760"/>
                <a:ext cx="75600" cy="151920"/>
                <a:chOff x="6324480" y="1904760"/>
                <a:chExt cx="75600" cy="1519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63244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rot="16200000">
                  <a:off x="63241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6400440" y="1904760"/>
                <a:ext cx="75960" cy="151920"/>
                <a:chOff x="6400440" y="1904760"/>
                <a:chExt cx="75960" cy="1519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4004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6200000">
                  <a:off x="64004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476760" y="1904760"/>
                <a:ext cx="75960" cy="151920"/>
                <a:chOff x="6476760" y="1904760"/>
                <a:chExt cx="75960" cy="15192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64767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16200000">
                  <a:off x="64767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553080" y="1904760"/>
                <a:ext cx="75600" cy="151920"/>
                <a:chOff x="6553080" y="1904760"/>
                <a:chExt cx="75600" cy="1519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5530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16200000">
                  <a:off x="65527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6629040" y="1904760"/>
                <a:ext cx="75960" cy="151920"/>
                <a:chOff x="6629040" y="1904760"/>
                <a:chExt cx="75960" cy="1519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66290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16200000">
                  <a:off x="66290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6705360" y="1904760"/>
                <a:ext cx="75960" cy="151920"/>
                <a:chOff x="6705360" y="1904760"/>
                <a:chExt cx="75960" cy="15192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67053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16200000">
                  <a:off x="67053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6781680" y="1904760"/>
                <a:ext cx="75600" cy="151920"/>
                <a:chOff x="6781680" y="1904760"/>
                <a:chExt cx="75600" cy="15192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67816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16200000">
                  <a:off x="67813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6857640" y="1904760"/>
                <a:ext cx="75960" cy="151920"/>
                <a:chOff x="6857640" y="1904760"/>
                <a:chExt cx="75960" cy="15192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68576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16200000">
                  <a:off x="68576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6933960" y="1904760"/>
                <a:ext cx="75960" cy="151920"/>
                <a:chOff x="6933960" y="1904760"/>
                <a:chExt cx="75960" cy="15192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69339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16200000">
                  <a:off x="69339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3" name=""/>
            <p:cNvGrpSpPr/>
            <p:nvPr/>
          </p:nvGrpSpPr>
          <p:grpSpPr>
            <a:xfrm>
              <a:off x="6019920" y="1701720"/>
              <a:ext cx="75960" cy="151920"/>
              <a:chOff x="6019920" y="1701720"/>
              <a:chExt cx="75960" cy="151920"/>
            </a:xfrm>
          </p:grpSpPr>
          <p:sp>
            <p:nvSpPr>
              <p:cNvPr id="1014" name=""/>
              <p:cNvSpPr/>
              <p:nvPr/>
            </p:nvSpPr>
            <p:spPr>
              <a:xfrm>
                <a:off x="601992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6200000">
                <a:off x="601992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6095880" y="1701720"/>
              <a:ext cx="75600" cy="151920"/>
              <a:chOff x="6095880" y="1701720"/>
              <a:chExt cx="75600" cy="15192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958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6200000">
                <a:off x="60955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6171840" y="1701720"/>
              <a:ext cx="75960" cy="151920"/>
              <a:chOff x="6171840" y="1701720"/>
              <a:chExt cx="75960" cy="151920"/>
            </a:xfrm>
          </p:grpSpPr>
          <p:sp>
            <p:nvSpPr>
              <p:cNvPr id="1020" name=""/>
              <p:cNvSpPr/>
              <p:nvPr/>
            </p:nvSpPr>
            <p:spPr>
              <a:xfrm>
                <a:off x="61718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6200000">
                <a:off x="61718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248160" y="1701720"/>
              <a:ext cx="75960" cy="151920"/>
              <a:chOff x="6248160" y="1701720"/>
              <a:chExt cx="75960" cy="151920"/>
            </a:xfrm>
          </p:grpSpPr>
          <p:sp>
            <p:nvSpPr>
              <p:cNvPr id="1023" name=""/>
              <p:cNvSpPr/>
              <p:nvPr/>
            </p:nvSpPr>
            <p:spPr>
              <a:xfrm>
                <a:off x="62481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6200000">
                <a:off x="62481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6324480" y="1701720"/>
              <a:ext cx="75600" cy="151920"/>
              <a:chOff x="6324480" y="1701720"/>
              <a:chExt cx="75600" cy="151920"/>
            </a:xfrm>
          </p:grpSpPr>
          <p:sp>
            <p:nvSpPr>
              <p:cNvPr id="1026" name=""/>
              <p:cNvSpPr/>
              <p:nvPr/>
            </p:nvSpPr>
            <p:spPr>
              <a:xfrm>
                <a:off x="63244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6200000">
                <a:off x="63241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6400440" y="1701720"/>
              <a:ext cx="75960" cy="151920"/>
              <a:chOff x="6400440" y="1701720"/>
              <a:chExt cx="75960" cy="151920"/>
            </a:xfrm>
          </p:grpSpPr>
          <p:sp>
            <p:nvSpPr>
              <p:cNvPr id="1029" name=""/>
              <p:cNvSpPr/>
              <p:nvPr/>
            </p:nvSpPr>
            <p:spPr>
              <a:xfrm>
                <a:off x="64004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6200000">
                <a:off x="64004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6476760" y="1701720"/>
              <a:ext cx="75960" cy="151920"/>
              <a:chOff x="6476760" y="1701720"/>
              <a:chExt cx="75960" cy="151920"/>
            </a:xfrm>
          </p:grpSpPr>
          <p:sp>
            <p:nvSpPr>
              <p:cNvPr id="1032" name=""/>
              <p:cNvSpPr/>
              <p:nvPr/>
            </p:nvSpPr>
            <p:spPr>
              <a:xfrm>
                <a:off x="64767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200000">
                <a:off x="64767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6553080" y="1701720"/>
              <a:ext cx="75600" cy="151920"/>
              <a:chOff x="6553080" y="1701720"/>
              <a:chExt cx="75600" cy="151920"/>
            </a:xfrm>
          </p:grpSpPr>
          <p:sp>
            <p:nvSpPr>
              <p:cNvPr id="1035" name=""/>
              <p:cNvSpPr/>
              <p:nvPr/>
            </p:nvSpPr>
            <p:spPr>
              <a:xfrm>
                <a:off x="65530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200000">
                <a:off x="65527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6629040" y="1701720"/>
              <a:ext cx="75960" cy="151920"/>
              <a:chOff x="6629040" y="1701720"/>
              <a:chExt cx="75960" cy="151920"/>
            </a:xfrm>
          </p:grpSpPr>
          <p:sp>
            <p:nvSpPr>
              <p:cNvPr id="1038" name=""/>
              <p:cNvSpPr/>
              <p:nvPr/>
            </p:nvSpPr>
            <p:spPr>
              <a:xfrm>
                <a:off x="66290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6200000">
                <a:off x="66290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6705360" y="1701720"/>
              <a:ext cx="75960" cy="151920"/>
              <a:chOff x="6705360" y="1701720"/>
              <a:chExt cx="75960" cy="151920"/>
            </a:xfrm>
          </p:grpSpPr>
          <p:sp>
            <p:nvSpPr>
              <p:cNvPr id="1041" name=""/>
              <p:cNvSpPr/>
              <p:nvPr/>
            </p:nvSpPr>
            <p:spPr>
              <a:xfrm>
                <a:off x="67053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67053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781680" y="1701720"/>
              <a:ext cx="75600" cy="151920"/>
              <a:chOff x="6781680" y="1701720"/>
              <a:chExt cx="75600" cy="151920"/>
            </a:xfrm>
          </p:grpSpPr>
          <p:sp>
            <p:nvSpPr>
              <p:cNvPr id="1044" name=""/>
              <p:cNvSpPr/>
              <p:nvPr/>
            </p:nvSpPr>
            <p:spPr>
              <a:xfrm>
                <a:off x="67816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6200000">
                <a:off x="67813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6857640" y="1701720"/>
              <a:ext cx="75960" cy="151920"/>
              <a:chOff x="6857640" y="1701720"/>
              <a:chExt cx="75960" cy="151920"/>
            </a:xfrm>
          </p:grpSpPr>
          <p:sp>
            <p:nvSpPr>
              <p:cNvPr id="1047" name=""/>
              <p:cNvSpPr/>
              <p:nvPr/>
            </p:nvSpPr>
            <p:spPr>
              <a:xfrm>
                <a:off x="68576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16200000">
                <a:off x="68576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6933960" y="1701720"/>
              <a:ext cx="75960" cy="151920"/>
              <a:chOff x="6933960" y="1701720"/>
              <a:chExt cx="75960" cy="151920"/>
            </a:xfrm>
          </p:grpSpPr>
          <p:sp>
            <p:nvSpPr>
              <p:cNvPr id="1050" name=""/>
              <p:cNvSpPr/>
              <p:nvPr/>
            </p:nvSpPr>
            <p:spPr>
              <a:xfrm>
                <a:off x="69339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6200000">
                <a:off x="69339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6019920" y="1498320"/>
              <a:ext cx="75960" cy="151920"/>
              <a:chOff x="6019920" y="1498320"/>
              <a:chExt cx="75960" cy="151920"/>
            </a:xfrm>
          </p:grpSpPr>
          <p:sp>
            <p:nvSpPr>
              <p:cNvPr id="1053" name=""/>
              <p:cNvSpPr/>
              <p:nvPr/>
            </p:nvSpPr>
            <p:spPr>
              <a:xfrm>
                <a:off x="601992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6200000">
                <a:off x="601992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95880" y="1498320"/>
              <a:ext cx="75600" cy="151920"/>
              <a:chOff x="6095880" y="1498320"/>
              <a:chExt cx="75600" cy="151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60958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60955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6171840" y="1498320"/>
              <a:ext cx="75960" cy="151920"/>
              <a:chOff x="6171840" y="1498320"/>
              <a:chExt cx="75960" cy="151920"/>
            </a:xfrm>
          </p:grpSpPr>
          <p:sp>
            <p:nvSpPr>
              <p:cNvPr id="1059" name=""/>
              <p:cNvSpPr/>
              <p:nvPr/>
            </p:nvSpPr>
            <p:spPr>
              <a:xfrm>
                <a:off x="61718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61718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248160" y="1498320"/>
              <a:ext cx="75960" cy="151920"/>
              <a:chOff x="6248160" y="1498320"/>
              <a:chExt cx="75960" cy="151920"/>
            </a:xfrm>
          </p:grpSpPr>
          <p:sp>
            <p:nvSpPr>
              <p:cNvPr id="1062" name=""/>
              <p:cNvSpPr/>
              <p:nvPr/>
            </p:nvSpPr>
            <p:spPr>
              <a:xfrm>
                <a:off x="62481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6200000">
                <a:off x="62481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6324480" y="1498320"/>
              <a:ext cx="75600" cy="151920"/>
              <a:chOff x="6324480" y="1498320"/>
              <a:chExt cx="75600" cy="151920"/>
            </a:xfrm>
          </p:grpSpPr>
          <p:sp>
            <p:nvSpPr>
              <p:cNvPr id="1065" name=""/>
              <p:cNvSpPr/>
              <p:nvPr/>
            </p:nvSpPr>
            <p:spPr>
              <a:xfrm>
                <a:off x="63244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6200000">
                <a:off x="63241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6400440" y="1498320"/>
              <a:ext cx="75960" cy="151920"/>
              <a:chOff x="6400440" y="1498320"/>
              <a:chExt cx="75960" cy="151920"/>
            </a:xfrm>
          </p:grpSpPr>
          <p:sp>
            <p:nvSpPr>
              <p:cNvPr id="1068" name=""/>
              <p:cNvSpPr/>
              <p:nvPr/>
            </p:nvSpPr>
            <p:spPr>
              <a:xfrm>
                <a:off x="64004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6200000">
                <a:off x="64004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476760" y="1498320"/>
              <a:ext cx="75960" cy="151920"/>
              <a:chOff x="6476760" y="1498320"/>
              <a:chExt cx="75960" cy="151920"/>
            </a:xfrm>
          </p:grpSpPr>
          <p:sp>
            <p:nvSpPr>
              <p:cNvPr id="1071" name=""/>
              <p:cNvSpPr/>
              <p:nvPr/>
            </p:nvSpPr>
            <p:spPr>
              <a:xfrm>
                <a:off x="64767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6200000">
                <a:off x="64767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553080" y="1498320"/>
              <a:ext cx="75600" cy="151920"/>
              <a:chOff x="6553080" y="1498320"/>
              <a:chExt cx="75600" cy="151920"/>
            </a:xfrm>
          </p:grpSpPr>
          <p:sp>
            <p:nvSpPr>
              <p:cNvPr id="1074" name=""/>
              <p:cNvSpPr/>
              <p:nvPr/>
            </p:nvSpPr>
            <p:spPr>
              <a:xfrm>
                <a:off x="6553080" y="1498320"/>
                <a:ext cx="7560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6200000">
                <a:off x="6552720" y="1574280"/>
                <a:ext cx="75960" cy="7560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629040" y="1498320"/>
              <a:ext cx="75960" cy="151920"/>
              <a:chOff x="6629040" y="1498320"/>
              <a:chExt cx="75960" cy="151920"/>
            </a:xfrm>
          </p:grpSpPr>
          <p:sp>
            <p:nvSpPr>
              <p:cNvPr id="1077" name=""/>
              <p:cNvSpPr/>
              <p:nvPr/>
            </p:nvSpPr>
            <p:spPr>
              <a:xfrm>
                <a:off x="66290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6200000">
                <a:off x="66290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705360" y="1498320"/>
              <a:ext cx="75960" cy="151920"/>
              <a:chOff x="6705360" y="1498320"/>
              <a:chExt cx="75960" cy="151920"/>
            </a:xfrm>
          </p:grpSpPr>
          <p:sp>
            <p:nvSpPr>
              <p:cNvPr id="1080" name=""/>
              <p:cNvSpPr/>
              <p:nvPr/>
            </p:nvSpPr>
            <p:spPr>
              <a:xfrm>
                <a:off x="67053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6200000">
                <a:off x="67053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6781680" y="1498320"/>
              <a:ext cx="75600" cy="151920"/>
              <a:chOff x="6781680" y="1498320"/>
              <a:chExt cx="75600" cy="151920"/>
            </a:xfrm>
          </p:grpSpPr>
          <p:sp>
            <p:nvSpPr>
              <p:cNvPr id="1083" name=""/>
              <p:cNvSpPr/>
              <p:nvPr/>
            </p:nvSpPr>
            <p:spPr>
              <a:xfrm>
                <a:off x="67816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6200000">
                <a:off x="67813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6857640" y="1498320"/>
              <a:ext cx="75960" cy="151920"/>
              <a:chOff x="6857640" y="1498320"/>
              <a:chExt cx="75960" cy="151920"/>
            </a:xfrm>
          </p:grpSpPr>
          <p:sp>
            <p:nvSpPr>
              <p:cNvPr id="1086" name=""/>
              <p:cNvSpPr/>
              <p:nvPr/>
            </p:nvSpPr>
            <p:spPr>
              <a:xfrm>
                <a:off x="68576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6200000">
                <a:off x="68576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6933960" y="1498320"/>
              <a:ext cx="75960" cy="151920"/>
              <a:chOff x="6933960" y="1498320"/>
              <a:chExt cx="75960" cy="151920"/>
            </a:xfrm>
          </p:grpSpPr>
          <p:sp>
            <p:nvSpPr>
              <p:cNvPr id="1089" name=""/>
              <p:cNvSpPr/>
              <p:nvPr/>
            </p:nvSpPr>
            <p:spPr>
              <a:xfrm>
                <a:off x="69339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6200000">
                <a:off x="69339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6019920" y="1295280"/>
              <a:ext cx="990000" cy="151920"/>
              <a:chOff x="6019920" y="1295280"/>
              <a:chExt cx="990000" cy="151920"/>
            </a:xfrm>
          </p:grpSpPr>
          <p:grpSp>
            <p:nvGrpSpPr>
              <p:cNvPr id="1092" name=""/>
              <p:cNvGrpSpPr/>
              <p:nvPr/>
            </p:nvGrpSpPr>
            <p:grpSpPr>
              <a:xfrm>
                <a:off x="6019920" y="1295280"/>
                <a:ext cx="75960" cy="151920"/>
                <a:chOff x="6019920" y="1295280"/>
                <a:chExt cx="75960" cy="15192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601992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6200000">
                  <a:off x="601992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6095880" y="1295280"/>
                <a:ext cx="75600" cy="151920"/>
                <a:chOff x="6095880" y="1295280"/>
                <a:chExt cx="75600" cy="15192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60958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6200000">
                  <a:off x="60955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6171840" y="1295280"/>
                <a:ext cx="75960" cy="151920"/>
                <a:chOff x="6171840" y="1295280"/>
                <a:chExt cx="75960" cy="15192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61718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6200000">
                  <a:off x="61718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6248160" y="1295280"/>
                <a:ext cx="75960" cy="151920"/>
                <a:chOff x="6248160" y="1295280"/>
                <a:chExt cx="75960" cy="15192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62481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6200000">
                  <a:off x="62481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324480" y="1295280"/>
                <a:ext cx="75600" cy="151920"/>
                <a:chOff x="6324480" y="1295280"/>
                <a:chExt cx="75600" cy="15192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3244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16200000">
                  <a:off x="63241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6400440" y="1295280"/>
                <a:ext cx="75960" cy="151920"/>
                <a:chOff x="6400440" y="1295280"/>
                <a:chExt cx="75960" cy="15192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64004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6200000">
                  <a:off x="64004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476760" y="1295280"/>
                <a:ext cx="75960" cy="151920"/>
                <a:chOff x="6476760" y="1295280"/>
                <a:chExt cx="75960" cy="15192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64767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6200000">
                  <a:off x="64767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6553080" y="1295280"/>
                <a:ext cx="75600" cy="151920"/>
                <a:chOff x="6553080" y="1295280"/>
                <a:chExt cx="75600" cy="1519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65530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6200000">
                  <a:off x="65527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6629040" y="1295280"/>
                <a:ext cx="75960" cy="151920"/>
                <a:chOff x="6629040" y="1295280"/>
                <a:chExt cx="75960" cy="1519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66290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6200000">
                  <a:off x="66290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6705360" y="1295280"/>
                <a:ext cx="75960" cy="151920"/>
                <a:chOff x="6705360" y="1295280"/>
                <a:chExt cx="75960" cy="15192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67053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6200000">
                  <a:off x="67053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781680" y="1295280"/>
                <a:ext cx="75600" cy="151920"/>
                <a:chOff x="6781680" y="1295280"/>
                <a:chExt cx="75600" cy="1519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7816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16200000">
                  <a:off x="67813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6857640" y="1295280"/>
                <a:ext cx="75960" cy="151920"/>
                <a:chOff x="6857640" y="1295280"/>
                <a:chExt cx="75960" cy="1519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8576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rot="16200000">
                  <a:off x="68576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6933960" y="1295280"/>
                <a:ext cx="75960" cy="151920"/>
                <a:chOff x="6933960" y="1295280"/>
                <a:chExt cx="75960" cy="1519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69339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6200000">
                  <a:off x="69339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31" name=""/>
          <p:cNvGrpSpPr/>
          <p:nvPr/>
        </p:nvGrpSpPr>
        <p:grpSpPr>
          <a:xfrm>
            <a:off x="6027840" y="982800"/>
            <a:ext cx="75960" cy="151560"/>
            <a:chOff x="6027840" y="982800"/>
            <a:chExt cx="75960" cy="151560"/>
          </a:xfrm>
        </p:grpSpPr>
        <p:sp>
          <p:nvSpPr>
            <p:cNvPr id="1132" name=""/>
            <p:cNvSpPr/>
            <p:nvPr/>
          </p:nvSpPr>
          <p:spPr>
            <a:xfrm>
              <a:off x="6027840" y="98280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6027840" y="105840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6010200" y="118116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6591240" y="960480"/>
            <a:ext cx="499680" cy="215640"/>
            <a:chOff x="6591240" y="960480"/>
            <a:chExt cx="499680" cy="215640"/>
          </a:xfrm>
        </p:grpSpPr>
        <p:sp>
          <p:nvSpPr>
            <p:cNvPr id="1136" name=""/>
            <p:cNvSpPr/>
            <p:nvPr/>
          </p:nvSpPr>
          <p:spPr>
            <a:xfrm>
              <a:off x="6591240" y="102852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819840" y="102852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1536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5224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5943600" y="76212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981760" y="939960"/>
            <a:ext cx="1065240" cy="119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588000" y="2619360"/>
            <a:ext cx="39240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985000" y="2612880"/>
            <a:ext cx="55872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997600" y="533520"/>
            <a:ext cx="92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pa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324480" y="2209680"/>
            <a:ext cx="22860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6629400" y="2209680"/>
            <a:ext cx="228240" cy="152640"/>
            <a:chOff x="6629400" y="2209680"/>
            <a:chExt cx="228240" cy="152640"/>
          </a:xfrm>
        </p:grpSpPr>
        <p:sp>
          <p:nvSpPr>
            <p:cNvPr id="1147" name=""/>
            <p:cNvSpPr/>
            <p:nvPr/>
          </p:nvSpPr>
          <p:spPr>
            <a:xfrm>
              <a:off x="6629400" y="2209680"/>
              <a:ext cx="22824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6019920" y="2209680"/>
            <a:ext cx="2286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7221960" y="2590920"/>
            <a:ext cx="1541160" cy="788400"/>
            <a:chOff x="7221960" y="2590920"/>
            <a:chExt cx="1541160" cy="788400"/>
          </a:xfrm>
        </p:grpSpPr>
        <p:sp>
          <p:nvSpPr>
            <p:cNvPr id="1152" name=""/>
            <p:cNvSpPr/>
            <p:nvPr/>
          </p:nvSpPr>
          <p:spPr>
            <a:xfrm>
              <a:off x="7238880" y="2609640"/>
              <a:ext cx="1524240" cy="769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315200" y="2761920"/>
              <a:ext cx="1371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ho are you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221960" y="25909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Ques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31520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ubm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4872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57" name=""/>
          <p:cNvCxnSpPr>
            <a:stCxn id="1145" idx="2"/>
            <a:endCxn id="1152" idx="0"/>
          </p:cNvCxnSpPr>
          <p:nvPr/>
        </p:nvCxnSpPr>
        <p:spPr>
          <a:xfrm flipH="1" rot="16200000">
            <a:off x="7095240" y="1704960"/>
            <a:ext cx="248400" cy="156276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58" name=""/>
          <p:cNvCxnSpPr>
            <a:stCxn id="1147" idx="2"/>
            <a:endCxn id="1152" idx="0"/>
          </p:cNvCxnSpPr>
          <p:nvPr/>
        </p:nvCxnSpPr>
        <p:spPr>
          <a:xfrm flipH="1" rot="16200000">
            <a:off x="7248600" y="1857240"/>
            <a:ext cx="248400" cy="125784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59" name=""/>
          <p:cNvSpPr/>
          <p:nvPr/>
        </p:nvSpPr>
        <p:spPr>
          <a:xfrm>
            <a:off x="5943600" y="33526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943600" y="35053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943600" y="33526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81760" y="3733920"/>
            <a:ext cx="10652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955480" y="350532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6553080" y="3505320"/>
            <a:ext cx="499680" cy="215640"/>
            <a:chOff x="6553080" y="3505320"/>
            <a:chExt cx="499680" cy="215640"/>
          </a:xfrm>
        </p:grpSpPr>
        <p:sp>
          <p:nvSpPr>
            <p:cNvPr id="1165" name=""/>
            <p:cNvSpPr/>
            <p:nvPr/>
          </p:nvSpPr>
          <p:spPr>
            <a:xfrm>
              <a:off x="6553080" y="357336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81680" y="357336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57720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408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5983200" y="3733920"/>
            <a:ext cx="1063440" cy="152280"/>
            <a:chOff x="5983200" y="3733920"/>
            <a:chExt cx="1063440" cy="152280"/>
          </a:xfrm>
        </p:grpSpPr>
        <p:sp>
          <p:nvSpPr>
            <p:cNvPr id="1170" name=""/>
            <p:cNvSpPr/>
            <p:nvPr/>
          </p:nvSpPr>
          <p:spPr>
            <a:xfrm>
              <a:off x="6130800" y="3733920"/>
              <a:ext cx="915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83200" y="3733920"/>
              <a:ext cx="15228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6130800" y="3882960"/>
            <a:ext cx="916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983200" y="3882960"/>
            <a:ext cx="15264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130800" y="4035600"/>
            <a:ext cx="916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983200" y="40356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161040" y="312408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e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24480" y="48769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629400" y="4876920"/>
            <a:ext cx="228240" cy="152280"/>
            <a:chOff x="6629400" y="4876920"/>
            <a:chExt cx="228240" cy="152280"/>
          </a:xfrm>
        </p:grpSpPr>
        <p:sp>
          <p:nvSpPr>
            <p:cNvPr id="1179" name=""/>
            <p:cNvSpPr/>
            <p:nvPr/>
          </p:nvSpPr>
          <p:spPr>
            <a:xfrm>
              <a:off x="6629400" y="4876920"/>
              <a:ext cx="2282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19920" y="487692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"/>
          <p:cNvCxnSpPr>
            <a:stCxn id="1181" idx="0"/>
            <a:endCxn id="1152" idx="2"/>
          </p:cNvCxnSpPr>
          <p:nvPr/>
        </p:nvCxnSpPr>
        <p:spPr>
          <a:xfrm flipH="1" flipV="1" rot="5400000">
            <a:off x="6603480" y="3632400"/>
            <a:ext cx="1650240" cy="1143720"/>
          </a:xfrm>
          <a:prstGeom prst="bentConnector3">
            <a:avLst>
              <a:gd name="adj1" fmla="val -432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84" name=""/>
          <p:cNvCxnSpPr>
            <a:stCxn id="1177" idx="2"/>
            <a:endCxn id="1152" idx="2"/>
          </p:cNvCxnSpPr>
          <p:nvPr/>
        </p:nvCxnSpPr>
        <p:spPr>
          <a:xfrm flipH="1" flipV="1" rot="5400000">
            <a:off x="6393960" y="3422880"/>
            <a:ext cx="1650240" cy="1562760"/>
          </a:xfrm>
          <a:prstGeom prst="bentConnector3">
            <a:avLst>
              <a:gd name="adj1" fmla="val -490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85" name=""/>
          <p:cNvSpPr/>
          <p:nvPr/>
        </p:nvSpPr>
        <p:spPr>
          <a:xfrm>
            <a:off x="6629400" y="518148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26040" y="517536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5400000">
            <a:off x="4800600" y="19047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1905120"/>
            <a:ext cx="76212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3657600"/>
            <a:ext cx="129564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5400000">
            <a:off x="4724280" y="39621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876920" y="3962520"/>
            <a:ext cx="76176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9120" y="5715000"/>
            <a:ext cx="276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to resiz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ption to turn on audio notification of user ente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ol tip text on all ic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3107160" y="2209680"/>
            <a:ext cx="30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3663000" y="10332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hared Display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0760" y="690480"/>
            <a:ext cx="159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ssues to Resolv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tch up to last XXX slid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eedback on lagging clie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00200" y="3352680"/>
            <a:ext cx="838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3720" y="30481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Reg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Wind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useCapture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48120" y="1219320"/>
            <a:ext cx="3124080" cy="2361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4800600"/>
            <a:ext cx="76201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8480" y="4500720"/>
            <a:ext cx="234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pic “application/x-sharedlet-shareddisplay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9810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2" name=""/>
          <p:cNvCxnSpPr>
            <a:stCxn id="1196" idx="3"/>
            <a:endCxn id="1198" idx="1"/>
          </p:cNvCxnSpPr>
          <p:nvPr/>
        </p:nvCxnSpPr>
        <p:spPr>
          <a:xfrm flipV="1">
            <a:off x="2438280" y="2400120"/>
            <a:ext cx="610560" cy="12960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3" name=""/>
          <p:cNvSpPr/>
          <p:nvPr/>
        </p:nvSpPr>
        <p:spPr>
          <a:xfrm>
            <a:off x="1961280" y="2057400"/>
            <a:ext cx="8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1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pre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200" y="1371600"/>
            <a:ext cx="26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 a vague outline of captured region bord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(Always on to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029680" y="4119480"/>
            <a:ext cx="7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2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23880" y="3048120"/>
            <a:ext cx="9907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NI Wrap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04:29:55Z</dcterms:created>
  <dc:creator>John Yin</dc:creator>
  <dc:description/>
  <dc:language>en-US</dc:language>
  <cp:lastModifiedBy>Dexin Wang</cp:lastModifiedBy>
  <dcterms:modified xsi:type="dcterms:W3CDTF">2001-01-09T23:07:48Z</dcterms:modified>
  <cp:revision>101</cp:revision>
  <dc:subject/>
  <dc:title>PowerPoint Presentation</dc:title>
</cp:coreProperties>
</file>