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9E9-2256-45CF-B6A4-B82CE42B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5E1-2206-478F-993B-5C0B7529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B4E-8037-463C-B252-E2AAE36E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FFD-4426-498F-B779-628B7DC5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53E-1EBD-4176-B67B-89123EFA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502-C7EC-40A8-8E23-5C94F51A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DE2-2003-41C7-9A3B-5B09B539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9B9-815A-40ED-9D53-403722B0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8DF-E012-4402-8A02-3EEFD0F0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FDF-D1E2-4F71-8571-44D5A43F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A03-29CE-417C-9E83-7F020A7F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00F-F7BE-433E-933E-3DF07B53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27C9-3720-45B4-B1AB-40DB0EFDD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75248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22096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3200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80988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3200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762120" y="3962160"/>
            <a:ext cx="1904760" cy="1066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962520"/>
            <a:ext cx="0" cy="1066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666880" y="3885840"/>
            <a:ext cx="198144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886200"/>
            <a:ext cx="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648320" y="3962160"/>
            <a:ext cx="1523880" cy="1066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62120" y="5486400"/>
            <a:ext cx="76176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486400"/>
            <a:ext cx="60984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133720" y="5486400"/>
            <a:ext cx="76176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5486400"/>
            <a:ext cx="68580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81280" y="5486400"/>
            <a:ext cx="76212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486400"/>
            <a:ext cx="609480" cy="83808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imes New Roman"/>
              </a:rPr>
              <a:t>Basic SVG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0:41:31Z</dcterms:created>
  <dc:creator>mwang03</dc:creator>
  <dc:description/>
  <dc:language>en-US</dc:language>
  <cp:lastModifiedBy>CSIT</cp:lastModifiedBy>
  <dcterms:modified xsi:type="dcterms:W3CDTF">2001-05-05T22:42:00Z</dcterms:modified>
  <cp:revision>2</cp:revision>
  <dc:subject/>
  <dc:title>Basic SVG Lines </dc:title>
</cp:coreProperties>
</file>