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2C5-0054-4232-B4E6-657AFF9E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A67-1C31-4990-A317-38ADB2B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FF0-455A-44E1-9C55-0C148D3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53C-B595-4FAD-AAB6-672AF2D6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541-AFB6-440D-91A3-08679BF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0AE-58A2-48A9-A162-B13EC81C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F1E-9659-46AD-8BC0-8BAACD8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60E-3D5E-4F70-99DC-F62AA75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9DC-8784-4250-AAA3-6AA1ECFE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09D-78A2-4D58-9C95-BDAE285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1F7-5B0C-45F2-838A-FFF29C6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2B0-8411-43D7-B8EA-D90AD497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DE70-81F8-4F15-9D34-49A16760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7524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209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098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200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62120" y="3962160"/>
            <a:ext cx="190476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962520"/>
            <a:ext cx="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3885840"/>
            <a:ext cx="19814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88620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3962160"/>
            <a:ext cx="152388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486400"/>
            <a:ext cx="60984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486400"/>
            <a:ext cx="68580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1280" y="5486400"/>
            <a:ext cx="76212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486400"/>
            <a:ext cx="609480" cy="838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Basic SV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0:41:31Z</dcterms:created>
  <dc:creator>mwang03</dc:creator>
  <dc:description/>
  <dc:language>en-US</dc:language>
  <cp:lastModifiedBy>CSIT</cp:lastModifiedBy>
  <dcterms:modified xsi:type="dcterms:W3CDTF">2001-05-05T22:42:00Z</dcterms:modified>
  <cp:revision>2</cp:revision>
  <dc:subject/>
  <dc:title>Basic SVG Lines </dc:title>
</cp:coreProperties>
</file>