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365F-4D72-49CC-9767-3AC3C35A8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8B9F-66A9-422B-B017-2B0C80D6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5190-C4DF-4919-B368-95047ABEF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DDC3-E152-4CB7-8C2B-382CCE06B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BA8F-1D4D-46E3-9F5D-4A21C6DE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419C-5F42-4B36-B2CF-64D7A73D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8A25-EC17-4A16-B211-FF19F768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0D11-F1D3-4BAA-A9A0-989E961D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31E8-2DAC-4D00-8408-4CE66024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6C82-B6FA-4F58-BED9-7C8E4AD0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C12A-DB45-45CE-81BD-B7315804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ED3B-3E55-45FD-AC38-F2001E05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B02F-1805-4388-BC6A-4967F757D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MS for Event Que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November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difficulty appears to be that “queue” is not a database and you cannot modify properties of messages – something which can be quite useful as their processing evol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think that some sort of lightweight database is a natural model for pool of messages used to specify a session on a 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we efficiently use selector mechanism to drive “subscription to messages” where destination specified in user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server side functions such as heartbeat and “restore” which are not sh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24960" y="3660840"/>
            <a:ext cx="1299240" cy="825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68160" y="4252680"/>
            <a:ext cx="2261160" cy="908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vert Ev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J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914400" y="495288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560" y="54100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5181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06200" y="55627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124080" y="5181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4280" y="5562720"/>
            <a:ext cx="17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++       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809880" y="3962160"/>
            <a:ext cx="21337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666880" y="1905120"/>
            <a:ext cx="0" cy="228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120" y="1374840"/>
            <a:ext cx="456516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(distributed) Event Re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4960" y="373392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858000" y="1295280"/>
            <a:ext cx="0" cy="2286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10800" y="31240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cri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91080" y="5151960"/>
            <a:ext cx="2401560" cy="1383480"/>
          </a:xfrm>
          <a:prstGeom prst="flowChartPunchedTap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Events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local serv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09588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7162920" y="4572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657240" y="5029200"/>
            <a:ext cx="1600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53400" y="38512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35760" y="765360"/>
            <a:ext cx="478764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(distributed) Event Distrib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3429000" y="5105160"/>
            <a:ext cx="38088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7320" y="609588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 Java P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fication of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MS Messages have sel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Typ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altime (for other clients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control (for session control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profile (specification of user data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foreign (e-mail or other event adap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ubtyp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hared application nam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type of control/profile message (to be specified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e-mail versus other adapter name (e.g. web URL to access a specific non shared resour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Destin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hoi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st of Collaborating clients by name , “all Collaborating clients”, “All Collaborating clients for a particular application”, “named list of clients”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 foreign message, destination is what is ever natural (e.g. e-mail address) or automatically converted if one submits Collaboration name not “foreign”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65240" y="823680"/>
            <a:ext cx="1261800" cy="908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838080" y="4190760"/>
            <a:ext cx="533520" cy="1523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-360" y="3325680"/>
            <a:ext cx="4565160" cy="825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(distributed) Event Re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istributer after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1920" y="525780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572000" y="2590560"/>
            <a:ext cx="2438280" cy="1143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9160" y="2060640"/>
            <a:ext cx="21895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ign Adap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42760" y="5718240"/>
            <a:ext cx="92736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280" y="1433520"/>
            <a:ext cx="2423160" cy="908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chive Adap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504960" y="4190760"/>
            <a:ext cx="1066680" cy="1523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19480" y="5718240"/>
            <a:ext cx="92736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1371600" y="2286000"/>
            <a:ext cx="7632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6840" y="52578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cri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743200" y="4190760"/>
            <a:ext cx="0" cy="1523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90680" y="5718240"/>
            <a:ext cx="92736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01480" y="56386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1200" y="2362320"/>
            <a:ext cx="118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cri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819520" y="1752480"/>
            <a:ext cx="457200" cy="1524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48360" y="1828800"/>
            <a:ext cx="2248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cri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control ev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 other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78760" y="1051920"/>
            <a:ext cx="1139040" cy="52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81440" y="1051920"/>
            <a:ext cx="1794600" cy="52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08480" y="2590920"/>
            <a:ext cx="137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 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cri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78200" y="91440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5943240" y="1523880"/>
            <a:ext cx="762120" cy="5335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7467480" y="1523880"/>
            <a:ext cx="914400" cy="5335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17560" y="4862880"/>
            <a:ext cx="1261800" cy="1296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4571640" y="3962160"/>
            <a:ext cx="1676520" cy="1523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51200" y="152280"/>
            <a:ext cx="1188000" cy="1076400"/>
            <a:chOff x="151200" y="152280"/>
            <a:chExt cx="1188000" cy="1076400"/>
          </a:xfrm>
        </p:grpSpPr>
        <p:sp>
          <p:nvSpPr>
            <p:cNvPr id="98" name=""/>
            <p:cNvSpPr/>
            <p:nvPr/>
          </p:nvSpPr>
          <p:spPr>
            <a:xfrm>
              <a:off x="164880" y="789120"/>
              <a:ext cx="1143000" cy="439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07880" y="347760"/>
              <a:ext cx="0" cy="68580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3320" y="592200"/>
              <a:ext cx="0" cy="19692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11080" y="592200"/>
              <a:ext cx="0" cy="19692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040" y="592200"/>
              <a:ext cx="149040" cy="587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11080" y="544680"/>
              <a:ext cx="149400" cy="634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3320" y="592200"/>
              <a:ext cx="198720" cy="538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4880" y="396720"/>
              <a:ext cx="198720" cy="636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3600" y="495360"/>
              <a:ext cx="198360" cy="635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60480" y="495360"/>
              <a:ext cx="149040" cy="635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09520" y="446040"/>
              <a:ext cx="149400" cy="63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158840" y="396720"/>
              <a:ext cx="149040" cy="636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4880" y="152280"/>
              <a:ext cx="1143000" cy="439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4880" y="347760"/>
              <a:ext cx="0" cy="68580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1200" y="608760"/>
              <a:ext cx="118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7695000" y="5410080"/>
            <a:ext cx="1188000" cy="1076400"/>
            <a:chOff x="7695000" y="5410080"/>
            <a:chExt cx="1188000" cy="1076400"/>
          </a:xfrm>
        </p:grpSpPr>
        <p:sp>
          <p:nvSpPr>
            <p:cNvPr id="114" name=""/>
            <p:cNvSpPr/>
            <p:nvPr/>
          </p:nvSpPr>
          <p:spPr>
            <a:xfrm>
              <a:off x="7708680" y="6046920"/>
              <a:ext cx="1143000" cy="439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851680" y="5605560"/>
              <a:ext cx="0" cy="68580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07120" y="5850000"/>
              <a:ext cx="0" cy="19692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354880" y="5850000"/>
              <a:ext cx="0" cy="19692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205840" y="5850000"/>
              <a:ext cx="149040" cy="587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54880" y="5802480"/>
              <a:ext cx="149400" cy="634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007120" y="5850000"/>
              <a:ext cx="198720" cy="538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08680" y="5654520"/>
              <a:ext cx="198720" cy="636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907400" y="5753160"/>
              <a:ext cx="198360" cy="635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504280" y="5753160"/>
              <a:ext cx="149040" cy="635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653320" y="5703840"/>
              <a:ext cx="149400" cy="63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702640" y="5654520"/>
              <a:ext cx="149040" cy="636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08680" y="5410080"/>
              <a:ext cx="1143000" cy="439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08680" y="5605560"/>
              <a:ext cx="0" cy="68580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95000" y="5866560"/>
              <a:ext cx="118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685800" y="914400"/>
            <a:ext cx="228600" cy="6094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67480" y="5410080"/>
            <a:ext cx="762120" cy="2286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88440" y="3657600"/>
            <a:ext cx="2288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cri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ed by 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other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9T19:55:21Z</dcterms:created>
  <dc:creator>Geoffrey C. Fox</dc:creator>
  <dc:description/>
  <dc:language>en-US</dc:language>
  <cp:lastModifiedBy>Geoffrey C. Fox</cp:lastModifiedBy>
  <dcterms:modified xsi:type="dcterms:W3CDTF">2000-11-20T00:04:06Z</dcterms:modified>
  <cp:revision>3</cp:revision>
  <dc:subject/>
  <dc:title>JMS for Event Queue</dc:title>
</cp:coreProperties>
</file>