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28C-D6AC-4A3A-9179-E9FECACD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EBC-C5ED-489A-9E93-B80579BD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438-485D-4EB3-BBF0-74241C11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1B93-D540-409C-BF58-C4C8C7B9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BEAA-69BC-4F9D-B258-04DB43B8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DD2-F8B2-4878-BAF3-29EA0FDA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C633-1D9F-47AB-BC1B-8CF87CE5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37B-E23B-4486-80BF-F45D7F10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088-116C-47E6-AD28-99F295FF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214-8B52-4BF6-83FC-1C8AFF42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F55-21DD-4A8E-B43B-C9F61B44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7A8-3E8F-4C54-A69D-542C906A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308C-50B3-4474-9721-42AA5C0E3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MS for Event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November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difficulty appears to be that “queue” is not a database and you cannot modify properties of messages – something which can be quite useful as their processing evo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think that some sort of lightweight database is a natural model for pool of messages used to specify a session on a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fficiently use selector mechanism to drive “subscription to messages” where destination specified in user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rver side functions such as heartbeat and “restore” which are not sh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24960" y="3660840"/>
            <a:ext cx="1299240" cy="82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68160" y="4252680"/>
            <a:ext cx="2261160" cy="90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 Ev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914400" y="49528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560" y="54100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62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1240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4280" y="556272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+      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809880" y="3962160"/>
            <a:ext cx="21337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666880" y="190512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120" y="1374840"/>
            <a:ext cx="45651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(distributed) Event 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4960" y="37339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858000" y="129528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800" y="31240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91080" y="5151960"/>
            <a:ext cx="2401560" cy="1383480"/>
          </a:xfrm>
          <a:prstGeom prst="flowChartPunchedTap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Events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local serv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0958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162920" y="4572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657240" y="5029200"/>
            <a:ext cx="1600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53400" y="3851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35760" y="765360"/>
            <a:ext cx="4787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(distributed) Event Distrib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429000" y="5105160"/>
            <a:ext cx="3808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7320" y="60958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Java P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of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MS Messages have sel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yp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ltime (for other client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ontrol (for session control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profile (specification of user dat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foreign (e-mail or other event adap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ubtyp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ared application na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type of control/profile message (to be specified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e-mail versus other adapter name (e.g. web URL to access a specific non shared resour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stin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oi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 of Collaborating clients by name , “all Collaborating clients”, “All Collaborating clients for a particular application”, “named list of clients”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foreign message, destination is what is ever natural (e.g. e-mail address) or automatically converted if one submits Collaboration name not “foreign”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65240" y="823680"/>
            <a:ext cx="1261800" cy="90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38080" y="4190760"/>
            <a:ext cx="53352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360" y="3325680"/>
            <a:ext cx="4565160" cy="82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(distributed) Event 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stributer after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1920" y="52578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572000" y="2590560"/>
            <a:ext cx="2438280" cy="1143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9160" y="2060640"/>
            <a:ext cx="21895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Ad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2760" y="5718240"/>
            <a:ext cx="9273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80" y="1433520"/>
            <a:ext cx="2423160" cy="90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ve Adap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4190760"/>
            <a:ext cx="106668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9480" y="5718240"/>
            <a:ext cx="9273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371600" y="2286000"/>
            <a:ext cx="7632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6840" y="5257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743200" y="419076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90680" y="5718240"/>
            <a:ext cx="9273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1480" y="56386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200" y="2362320"/>
            <a:ext cx="11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819520" y="1752480"/>
            <a:ext cx="457200" cy="1524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48360" y="1828800"/>
            <a:ext cx="224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ntrol ev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 other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78760" y="1051920"/>
            <a:ext cx="1139040" cy="52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81440" y="1051920"/>
            <a:ext cx="1794600" cy="52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08480" y="2590920"/>
            <a:ext cx="13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8200" y="9144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943240" y="1523880"/>
            <a:ext cx="76212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467480" y="1523880"/>
            <a:ext cx="91440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17560" y="4862880"/>
            <a:ext cx="1261800" cy="1296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571640" y="3962160"/>
            <a:ext cx="167652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51200" y="152280"/>
            <a:ext cx="1188000" cy="1076400"/>
            <a:chOff x="151200" y="152280"/>
            <a:chExt cx="1188000" cy="1076400"/>
          </a:xfrm>
        </p:grpSpPr>
        <p:sp>
          <p:nvSpPr>
            <p:cNvPr id="98" name=""/>
            <p:cNvSpPr/>
            <p:nvPr/>
          </p:nvSpPr>
          <p:spPr>
            <a:xfrm>
              <a:off x="164880" y="789120"/>
              <a:ext cx="1143000" cy="43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7880" y="347760"/>
              <a:ext cx="0" cy="685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3320" y="592200"/>
              <a:ext cx="0" cy="1969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1080" y="592200"/>
              <a:ext cx="0" cy="1969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040" y="592200"/>
              <a:ext cx="149040" cy="587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1080" y="544680"/>
              <a:ext cx="149400" cy="63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320" y="592200"/>
              <a:ext cx="198720" cy="53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4880" y="396720"/>
              <a:ext cx="198720" cy="63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3600" y="495360"/>
              <a:ext cx="198360" cy="63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0480" y="495360"/>
              <a:ext cx="149040" cy="63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520" y="446040"/>
              <a:ext cx="149400" cy="63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58840" y="396720"/>
              <a:ext cx="149040" cy="63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4880" y="152280"/>
              <a:ext cx="1143000" cy="439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4880" y="347760"/>
              <a:ext cx="0" cy="685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200" y="60876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695000" y="5410080"/>
            <a:ext cx="1188000" cy="1076400"/>
            <a:chOff x="7695000" y="5410080"/>
            <a:chExt cx="1188000" cy="1076400"/>
          </a:xfrm>
        </p:grpSpPr>
        <p:sp>
          <p:nvSpPr>
            <p:cNvPr id="114" name=""/>
            <p:cNvSpPr/>
            <p:nvPr/>
          </p:nvSpPr>
          <p:spPr>
            <a:xfrm>
              <a:off x="7708680" y="6046920"/>
              <a:ext cx="1143000" cy="43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851680" y="5605560"/>
              <a:ext cx="0" cy="685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07120" y="5850000"/>
              <a:ext cx="0" cy="1969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54880" y="5850000"/>
              <a:ext cx="0" cy="1969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05840" y="5850000"/>
              <a:ext cx="149040" cy="587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54880" y="5802480"/>
              <a:ext cx="149400" cy="63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7120" y="5850000"/>
              <a:ext cx="198720" cy="53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08680" y="5654520"/>
              <a:ext cx="198720" cy="63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07400" y="5753160"/>
              <a:ext cx="198360" cy="63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04280" y="5753160"/>
              <a:ext cx="149040" cy="63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53320" y="5703840"/>
              <a:ext cx="149400" cy="63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702640" y="5654520"/>
              <a:ext cx="149040" cy="63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08680" y="5410080"/>
              <a:ext cx="1143000" cy="439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08680" y="5605560"/>
              <a:ext cx="0" cy="685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95000" y="586656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85800" y="9144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41008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88440" y="3657600"/>
            <a:ext cx="228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ed by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other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9T19:55:21Z</dcterms:created>
  <dc:creator>Geoffrey C. Fox</dc:creator>
  <dc:description/>
  <dc:language>en-US</dc:language>
  <cp:lastModifiedBy>Geoffrey C. Fox</cp:lastModifiedBy>
  <dcterms:modified xsi:type="dcterms:W3CDTF">2000-11-20T00:04:06Z</dcterms:modified>
  <cp:revision>3</cp:revision>
  <dc:subject/>
  <dc:title>JMS for Event Queue</dc:title>
</cp:coreProperties>
</file>