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81800" cy="9958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82400" cy="99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43360" y="-360"/>
            <a:ext cx="2938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901440" y="7459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04680" y="4729320"/>
            <a:ext cx="497196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9457920"/>
            <a:ext cx="2938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43360" y="9457920"/>
            <a:ext cx="2938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69E3-AE8D-4012-9ACC-85C021A14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01800" y="74628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4680" y="4729320"/>
            <a:ext cx="497196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89A-7035-4865-B53E-7D487FF8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D6F-0273-4FCA-897B-09159978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660-CDFD-4899-89EA-EC086B90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040D-7CD5-4408-BAF3-BC494AD5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7C2A-AA6C-4E44-9910-ED43322D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6062-53FA-4562-B0AA-34F901AD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24AD-2259-4231-BE1F-20966005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BF32-72F9-4E8A-B588-EBE521D6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140A-F6EA-4DEA-9F23-C0115887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CDD0-14C3-4D63-8D4D-A9D2530C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FAA4-D510-44F4-AAB0-B386FB11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A908-F65A-418F-A52B-5A903EF8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DFDC-7F30-4584-88FB-26612E5A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37E9-2C12-4999-B0E4-7BBB14C0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F09C-0E77-41BE-91A2-75810F0F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BD5A-714E-4912-A378-75049832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E2E3-EF5C-43E0-A771-4C88A09D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AB08-D684-4065-875D-445E3E9C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AAEA-31B1-4C78-B8CD-4974E172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185-4A3C-4CD6-B42A-83C9ADE5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DBA-B177-4D2B-9422-B06EFDAB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5FE3-DB7C-4C8A-B9E9-3E4930E6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F8B-4429-4551-8071-320D4864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5795-BAA3-4543-94E1-AA75B7F9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D806-9854-4A91-B84D-EB91393BF4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5111-BD1F-4E1A-BB81-D0822150DB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ebEx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llabo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3920" y="6172200"/>
            <a:ext cx="41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angyoon Oh (soh@csit.fsu.ed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S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Florida State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ebEx: Introdu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Ex is meeting-enable site. (www.webex.c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Ex is on-line Collaboration tool ,which need only Internet Connection and Browsers for Both Host and Attend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rida State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ebEx: Features 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Sh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Sh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ktop Sh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Tour Sh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o-Video Conferen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rida State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ebEx: Features I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z / Live Polling / Raise H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t 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te Bo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rida State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ebEx: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rchitectu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j0212581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1782720" cy="1538280"/>
          </a:xfrm>
          <a:prstGeom prst="rect">
            <a:avLst/>
          </a:prstGeom>
          <a:ln w="0">
            <a:noFill/>
          </a:ln>
        </p:spPr>
      </p:pic>
      <p:pic>
        <p:nvPicPr>
          <p:cNvPr id="159" name="j0212053" descr=""/>
          <p:cNvPicPr/>
          <p:nvPr/>
        </p:nvPicPr>
        <p:blipFill>
          <a:blip r:embed="rId2"/>
          <a:stretch/>
        </p:blipFill>
        <p:spPr>
          <a:xfrm>
            <a:off x="6629400" y="2133720"/>
            <a:ext cx="1819440" cy="1517400"/>
          </a:xfrm>
          <a:prstGeom prst="rect">
            <a:avLst/>
          </a:prstGeom>
          <a:ln w="0">
            <a:noFill/>
          </a:ln>
        </p:spPr>
      </p:pic>
      <p:pic>
        <p:nvPicPr>
          <p:cNvPr id="160" name="j0235463" descr=""/>
          <p:cNvPicPr/>
          <p:nvPr/>
        </p:nvPicPr>
        <p:blipFill>
          <a:blip r:embed="rId3"/>
          <a:stretch/>
        </p:blipFill>
        <p:spPr>
          <a:xfrm>
            <a:off x="3657600" y="4114800"/>
            <a:ext cx="1800360" cy="1798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400800" y="441972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5386800">
            <a:off x="1523520" y="434304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40080" y="21337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14760" y="350532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WebEx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760" y="2133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ttend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rida State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ebEx: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sage for Educ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Ex is appropriate tool of small size distance learning c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doesn’t have to be a expert of Collaboration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lorida State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9T03:47:09Z</dcterms:created>
  <dc:creator>soh</dc:creator>
  <dc:description/>
  <dc:language>en-US</dc:language>
  <cp:lastModifiedBy>soh</cp:lastModifiedBy>
  <dcterms:modified xsi:type="dcterms:W3CDTF">2000-10-23T21:01:48Z</dcterms:modified>
  <cp:revision>7</cp:revision>
  <dc:subject/>
  <dc:title>WebEx</dc:title>
</cp:coreProperties>
</file>