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818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824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4336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901440" y="7459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4336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F719-75E0-401E-B1DA-29E09F4A2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1800" y="74628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1A2-2FF9-4AF6-8629-05BC7BDD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50B-C270-4A00-A08E-5D915E99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000-5B7D-4112-9396-03BAE8AC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9F5-ABAA-4E1D-BB63-6480006F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AFE3-7661-40FE-9E93-707F412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DE97-341E-4381-9510-5CEB1B2A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EEF1-7682-4B20-8EFA-B34B18FE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7859-BB52-46DC-B5A7-83BD72D4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8596-3052-4037-8B68-220BCE55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534D-BFE7-43EF-8CF0-DC1EFE50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5B16-C9EC-44AC-B48F-D648B198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348-0FD6-4094-B0AE-5E5AD36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6D67-51DB-4C2A-BD4E-FD26438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FA07-0CEE-4D03-92E7-A10D0DB1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61B6-5A6D-4B5C-94F8-9EBA4EB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B0E3-B95B-4076-8077-90273EAF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E2C7-67C2-47DD-843D-CE8CB5C2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92B-B838-47A1-B0B2-EFBC38E7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FD7-6AE8-42DC-8FBC-3E4358F8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ED6-1DB6-4997-9883-AA7DCC7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07C-B1D4-49A3-9FBB-AAD90C79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518-6F72-406B-B2F6-6285496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E217-4EB0-47AF-AF22-29A7A0B2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EE3-3376-49DB-A105-C3EC9FD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934E-2AFF-4B5C-ACC4-637A458B0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D59-0E01-4BE3-A89B-16A2488597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labo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3920" y="617220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angyoon Oh (soh@csit.fsu.ed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Introdu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meeting-enable 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on-line Collaboration tool ,which need only Internet Connection and Browsers on Both Meeting Host and Attend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ktop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Tour Sh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o-Video Confere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/ Live Polling / Rais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t 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Bo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sage for Educ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appropriate tool of small size distance learning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doesn’t have to be a expert of Collabo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03:47:09Z</dcterms:created>
  <dc:creator>soh</dc:creator>
  <dc:description/>
  <dc:language>en-US</dc:language>
  <cp:lastModifiedBy>soh</cp:lastModifiedBy>
  <dcterms:modified xsi:type="dcterms:W3CDTF">2000-10-20T16:05:10Z</dcterms:modified>
  <cp:revision>4</cp:revision>
  <dc:subject/>
  <dc:title>WebEx</dc:title>
</cp:coreProperties>
</file>