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715D-AD14-46C0-B06E-C1031D2A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E9D4-4013-4F19-BC66-7338907D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0792-604C-47FC-8DDE-9B10BC4DB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524E-C566-45DF-99BE-7153F535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176E-B884-4F5F-B291-DD63446E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8F66-050E-4CF3-93F8-16C4B8F1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84A9-0C6C-49CB-8BDF-9010A3F8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874F-4C38-44B7-B470-D6F054A9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259C-43F7-4699-9DF5-78F217D6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E0EF-3621-4B5A-888D-F18A5BE9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0AE5-FBEC-4172-A0A0-277769E7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4342-698F-4CE8-8DBA-6B542EDB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01ED-2166-4315-8D1F-C6B3B86E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7F94-3135-4379-83E1-48937007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231B-43C3-4E63-8FF8-DA847538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7111-B2C6-4B7F-B244-5FBC8562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3E69-A257-4BA1-9DEB-127FB4D4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EBDD-DB7E-4737-8C4B-2A27B571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C948-1FD3-4A59-BC07-A32F5FB1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946A-0413-4E71-97BD-72E1789E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75F4-A85F-4652-B8B7-E8EFEF6D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9F59-D987-4F0A-8249-7D22BA5B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70EB-8732-4BA3-BE47-594E1943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65D0-84AF-430B-AE76-D7EC36B7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04B3-6DBF-4F0A-AA77-0B105BCE118D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2758-085C-4D95-BE57-F1D05EE324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A8CB-B1E0-4CED-BD4E-CA9879A96ABD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7C50-B2E9-4794-8890-AA4D31C25C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ava3D Object Controlling over PDA-Server Conne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ngyoon O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h@csit.fsu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cientific Visualiz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va3D Object communicates with Waba Application on PDA over Wireless TCP/IP socke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ba provides Java-like programming environment to P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tific Visualiz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j0212581" descr=""/>
          <p:cNvPicPr/>
          <p:nvPr/>
        </p:nvPicPr>
        <p:blipFill>
          <a:blip r:embed="rId1"/>
          <a:stretch/>
        </p:blipFill>
        <p:spPr>
          <a:xfrm>
            <a:off x="6400800" y="2743200"/>
            <a:ext cx="1782720" cy="1538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124080" y="3505320"/>
            <a:ext cx="2819520" cy="990360"/>
          </a:xfrm>
          <a:custGeom>
            <a:avLst/>
            <a:gdLst/>
            <a:ahLst/>
            <a:rect l="l" t="t" r="r" b="b"/>
            <a:pathLst>
              <a:path w="1776" h="624">
                <a:moveTo>
                  <a:pt x="0" y="624"/>
                </a:moveTo>
                <a:cubicBezTo>
                  <a:pt x="444" y="568"/>
                  <a:pt x="888" y="512"/>
                  <a:pt x="1008" y="432"/>
                </a:cubicBezTo>
                <a:cubicBezTo>
                  <a:pt x="1128" y="352"/>
                  <a:pt x="592" y="216"/>
                  <a:pt x="720" y="144"/>
                </a:cubicBezTo>
                <a:cubicBezTo>
                  <a:pt x="848" y="72"/>
                  <a:pt x="1600" y="24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36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paq" descr=""/>
          <p:cNvPicPr/>
          <p:nvPr/>
        </p:nvPicPr>
        <p:blipFill>
          <a:blip r:embed="rId2"/>
          <a:stretch/>
        </p:blipFill>
        <p:spPr>
          <a:xfrm>
            <a:off x="838080" y="3657600"/>
            <a:ext cx="2092320" cy="1978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8560" y="2819520"/>
            <a:ext cx="299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DA Application send contro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over soc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88800" y="5029200"/>
            <a:ext cx="279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 Get requ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change the property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ava3D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09480" y="3200400"/>
            <a:ext cx="270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cket (over Wireless L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03200" y="76968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tific Visualiz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b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ba programming, which specially designed for smaller devices, is strict-subset of Java Langua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ba is created by Wabasoft and has no connection to Sun Microsyst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ring to KVM from Sun, it has more reliability and larger developers group now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tific Visualiz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ba: Pros and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iciency: It is small enough to fit less powerful P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: Waba shows better performance than KV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rtable: Platform indepen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tific Visualiz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ba: Pros and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ak support of GUI, Events, and Ex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hr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Communication Programming Environment (Byte Buff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tific Visualiz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Stu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ramework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ualization module register to Java Framework/Broker and it waits Waba Clients 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an API to set up the protocols between Controller and Object Broker, between Broker and Waba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cientific Visualiz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5T05:49:17Z</dcterms:created>
  <dc:creator>soh</dc:creator>
  <dc:description/>
  <dc:language>en-US</dc:language>
  <cp:lastModifiedBy>soh</cp:lastModifiedBy>
  <dcterms:modified xsi:type="dcterms:W3CDTF">2000-12-06T17:20:37Z</dcterms:modified>
  <cp:revision>7</cp:revision>
  <dc:subject/>
  <dc:title>Architecture between PDA and Server</dc:title>
</cp:coreProperties>
</file>