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B4C-79DA-47F1-87E5-9A05FAC0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D93-CB15-4E6A-80A5-14AB2C16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804-ED5C-455F-B47B-FF544F58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4E5-3A95-4798-AB3B-98D5F940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572C-14CA-4206-A8C5-1A434EAB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E64B-0ED2-40F3-B28B-E76F3810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225E-FA68-4155-943E-3166206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7A14-39BD-4760-A9E4-3032AA92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985A-CC53-40A4-BE4D-59EAAE17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FB38-5D4A-4D9C-951A-5AFC0DF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341-21BC-453C-8A0A-E04EE27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D40-EBD3-43E0-BA4E-1A35F1EE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DEC-289C-4A81-A4E4-4CA23E8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A4AB-1712-4D7A-B098-2D4A2B3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3191-0EFC-4CA7-A8D1-A85E083B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D549-3CA6-41D4-9A5F-50A1DC1F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6766-B180-49AE-81B2-587C2F1F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401-8816-415F-9435-E1E9DCA7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60E-4301-41AE-9822-03B6FE1D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BE4-3F60-4212-A1D0-1291E073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8E4-7AF1-427C-A399-0D61ACF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382-C2A0-4EEF-B3C8-836185E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4E6-D54B-4124-BBAB-34AAF97F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5A6-9F90-46B5-AA9A-0D762C5D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D6ED-C8E9-4479-97D9-A076D3EDE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2CFC-CA0B-465B-A47D-860BDA222E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ust and the Public Key Infrastructure (PK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ngyoon O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rida State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 Security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S5891-01 Spring 2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KI (Public Key Infrastructure) is the right one? -- Carlisle Adams, Mike Burmester, Yvo Desmedt (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ation of Trust in Open Networks -- Thomas Beth, Malte Borcherding, Birgit Klein (199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communication in an unknownnetwork using certificates. -- M. Burmester and Y. Desmedt. (19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Risks of PKI: What you’re not being told about Public Key Infrastructure. -- Carl Ellison, Bruce Schneier (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in Computing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-- Charles P. Pfle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635-7B0A-4390-BDAE-434980D47E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 Con’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thod for Obtaining Digital Signatures and Public-Key Cryptosystems. -- Rivest, R. L., Shamir, A., and Adleman, L. (1978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KI/SDSI 2.0 A Simple Distributed Security Infrastructure -- Ronald L. Rivest (19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Virtual Private Networks -- Cris Banson (19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VPN? -- Paul Ferguson, Geoff Huston (199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19A-CCE4-4F3A-9F0C-4D7EC42891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on Current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PK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 and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aknesses and Right P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worthiness in open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848-F196-4167-B006-CE7426E0AE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on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s cloud of conn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is responsible for ever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commerce and B2B grow rapid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s framework to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change data and money securely and privatel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148-2BB5-4C05-9721-5CF1663AF5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blic Key Infra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j0212581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107" name="bl00152_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29248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bd06790_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1812960" cy="1498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95480" y="4572000"/>
            <a:ext cx="3048120" cy="485640"/>
          </a:xfrm>
          <a:prstGeom prst="rightArrow">
            <a:avLst>
              <a:gd name="adj1" fmla="val 50000"/>
              <a:gd name="adj2" fmla="val 15691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97000" y="38098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1760" y="1752480"/>
            <a:ext cx="567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83640" y="3809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26668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038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cy: Bob’s publi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666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600" y="236232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b’s publi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26960" y="21337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’s public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3960" y="5181480"/>
            <a:ext cx="361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ce’s privat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C51-5B7B-4C9B-ABFB-73A5CBA988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 and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ical structure: X.5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tty Good Priv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tual Privat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connection over the phone li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 provider &amp; Hardware v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, Encryption, Tunneling,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290-CE8D-4770-BC58-5D2DB6DB64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ak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is as strong as weakest li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computer is not safe: Private 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cker use Root certific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 (certificate content) - CA link is very wea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36A-4E95-4C09-9F61-DD319FA6C3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ght PK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the right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2B, B need Hierarchical structure: X.5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ht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chastic, security policy management prevent reliability failure and low level penat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 Choice of PKI Structure prevent malicious at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7FD-51FC-4287-A25E-46B19DAB61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luation of Trust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바탕"/>
              </a:rPr>
              <a:t>Thomas Beth, Malte Borcherding, Birgit Klein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and Recommended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ing Trust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ation of Trust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: entrust task worth 100 unit, risk 49 un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82A-F5B1-4236-81E0-F613311972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914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바탕"/>
              </a:rPr>
              <a:t>Secure communication in an unknown network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바탕"/>
              </a:rPr>
              <a:t>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바탕"/>
              </a:rPr>
              <a:t>M. Burmester and Y. Desmedt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 of trust graph is not known except attac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query flood, get neighbor l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 the vertex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 a good approximation of the trust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er Secur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F95-144C-4830-A830-C22161FBD5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01:37:03Z</dcterms:created>
  <dc:creator>soh</dc:creator>
  <dc:description/>
  <dc:language>en-US</dc:language>
  <cp:lastModifiedBy>soh</cp:lastModifiedBy>
  <dcterms:modified xsi:type="dcterms:W3CDTF">2001-04-20T18:51:28Z</dcterms:modified>
  <cp:revision>6</cp:revision>
  <dc:subject/>
  <dc:title>Trust and the Public Key Infrastructure (PKI)</dc:title>
</cp:coreProperties>
</file>