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png" ContentType="image/png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81800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782400" cy="9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43360" y="-36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901440" y="74592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04680" y="4729320"/>
            <a:ext cx="497196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945792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43360" y="9457920"/>
            <a:ext cx="2938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5230-B34C-49A2-80A7-6B42DF33B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01800" y="74628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4680" y="4729320"/>
            <a:ext cx="497196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CCF-7AC1-499F-81C2-E69CD44D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127-1ECC-4AF2-86DF-68562110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C63-817D-48E5-8054-CE2D37FF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DDD-7D63-4C4C-BAF0-3BE3BE47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08F6-010D-4B09-8B76-776CD7CD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8E2D-E659-49C4-BBBB-8A1192D9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346A-774E-434C-AD5D-1826119C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AD65-3578-4515-AE6E-C34571AF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49DE-7D28-45F8-BCF9-9E7B9CB8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96CF-CEAE-4374-8ADD-192CF418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46DB-4C6C-40DD-9492-2D65DB10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51BA-CE33-4715-B46E-B4C33C06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310D-3DEC-4F1F-B966-3548515E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24CD-198F-4FE4-8F3F-A7B4F03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94D3-9F24-469F-B9C9-B95DA360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C19E-3C62-4C06-8355-178CA816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8D04-F631-4BC9-BF24-A994D96C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B4B-BFB4-42FF-9F95-09C4D6C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BE0-0F54-4306-ACC9-6BA4FC3C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40F-A667-4BAB-ACFC-6DBDEF8B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8DD-6F12-4183-87D1-92E9C339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764A-36F1-4E8A-A3FA-EA6D9941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19A-46EE-48AB-B6B1-929CCC32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405-98E2-494A-A747-9B086710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A475-AB20-4574-83C1-423011394E5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B032-3EEF-4436-B52B-6F5832E8F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F8FE-E176-403D-9891-60E8CFDDF89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BF98-85C4-446C-ABCF-A45695542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2666880"/>
            <a:ext cx="6400800" cy="16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labor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23400" y="5029200"/>
            <a:ext cx="56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angyoon Oh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(soh@csit.fsu.ed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0148C5C-FD4D-4A8E-8017-9E697D334E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Introdu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Ex is meeting-enabling Web site. (www.webex.c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Ex is on-line Collaboration tool ,which needs only Internet Connection and Browsers for both Host and Attend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Ex is pay-per-use (limited capabilities for free meeting) “ASP” (i.e. provides service not just technolo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Ex has many meeting/class enabling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E185C-D715-4C69-AEAB-01C28E9726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Features 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 Sharing : Support various type of document (.doc .pdf .ppt and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/ Desktop / Web Tour Sharing : Share control of the Application / Desktop / Browser. Attendee given control by H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o-Video Conferencing : Teleconferencing utilize the conventional phone or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218EA-8DB2-49C5-9C82-A280860271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Features I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/ Live Polling :  Give Question to or poll attend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t Room : Chat allows different level of privile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57450-CF9A-4519-8EDC-05ED76B3ED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chitectu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j0212581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1782720" cy="1538280"/>
          </a:xfrm>
          <a:prstGeom prst="rect">
            <a:avLst/>
          </a:prstGeom>
          <a:ln w="0">
            <a:noFill/>
          </a:ln>
        </p:spPr>
      </p:pic>
      <p:pic>
        <p:nvPicPr>
          <p:cNvPr id="159" name="j0212053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1819440" cy="1517400"/>
          </a:xfrm>
          <a:prstGeom prst="rect">
            <a:avLst/>
          </a:prstGeom>
          <a:ln w="0">
            <a:noFill/>
          </a:ln>
        </p:spPr>
      </p:pic>
      <p:pic>
        <p:nvPicPr>
          <p:cNvPr id="160" name="j0235463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400800" y="441972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386800">
            <a:off x="1523520" y="434304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2200" y="20829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74360" y="345456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ebEx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10000" y="208296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ttend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10E48-6EA9-4C65-81BD-4800E2362E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7" name="polling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497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1636F-1D3B-4CE3-9E81-2D3ADBED03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ebEx: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sage for Educ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Ex is appropriate tool for small size distance learning cl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doesn’t have to be a expert at Collabor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2DBEA-7923-4B6D-AD2F-26D6E81311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9T03:47:09Z</dcterms:created>
  <dc:creator>soh</dc:creator>
  <dc:description/>
  <dc:language>en-US</dc:language>
  <cp:lastModifiedBy>soh</cp:lastModifiedBy>
  <dcterms:modified xsi:type="dcterms:W3CDTF">2000-10-25T03:11:38Z</dcterms:modified>
  <cp:revision>17</cp:revision>
  <dc:subject/>
  <dc:title>WebEx</dc:title>
</cp:coreProperties>
</file>