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9D8-D9FC-476F-A8EF-7D6844D3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402-220E-4298-8790-2031804A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C9C-72FC-48E1-93C3-40DF3B1E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996-A325-4310-B92B-2CD41FBA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3ABE-F4DF-4E9C-9AF4-08F6F797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8D55-AE9B-4263-B94C-7C160477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8FA-BC50-4514-8603-940C6859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24B1-6F0A-4662-A4AD-BDF9C491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249-41FD-446B-B214-DFE26C8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8CA-12CD-47FF-8A1B-171E27A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A7D4-5B99-4E11-8CFB-3403DFC8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68C-430D-4B1F-B25C-F2B562F8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035-C6E1-45FA-B399-F165C4B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9D41-4DCC-4DD7-8FA6-346E38D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B8B5-A312-42B3-A0E1-46FBFF2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057B-7002-43CE-BAE5-CBAC4F6C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604F-BDF0-425F-8422-7A9A44D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CEC-8066-441B-AE31-44A839F1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2AF-356A-4A7C-9E55-FBECA009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E1A-9905-427F-9898-1ABD964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8EB-11EB-4F00-8ECF-96325D24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6B-FE5C-43CB-8906-831E172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28B-DABB-4872-A1F5-26A43DB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1E6-43A0-4EFB-9D49-71A67E4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8DDD-0230-4B69-B005-ECB9B5EFF0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425-A6B1-440E-AF9A-0602EC6C8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ONE - Enterprise JavaBea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4/08/98 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vironment to support the execution of applications developed using Enterprise Java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an contai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s the life cycle of the object, implements security for the object, and coordinates distributed transa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management:  data contained within the obj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object: created by a client, in most cases exists only for the duration of a single client/server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ty objects: persistent data that are maintained in a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20C-7138-43D9-9429-C40A9BA4F4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dard contra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ability across different EJ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apping and Intercep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over an enterprise bean through a wrapp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 representation of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ception of all operations made on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a Be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context of each activ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8DD-ABAF-4F0F-8087-BADDEC369D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container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calling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43760" cy="38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FCD-DF23-4CA6-BF04-A8A926790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NDI to locate the container for an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Cycle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tru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ion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Method Invocation (RMI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Java Integration (IIO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ed Transactions (JTS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895-897B-4900-B744-AED7B6DFF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 and authorization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beans do not need to code to the Java Security API direct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F74-28E1-4C51-BA9E-160729541C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JavaBeans Deployment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R fi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ejbjar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4364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B76-2166-46C7-B30C-1603FC645C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home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white pap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products/ejb/white_paper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s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download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ONE reference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javaone/javaone98/tracksTOC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AA6-A259-4A00-94BC-8432B6A897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nent model for development and deployment of Java applications based on multi-tier, distributed object archite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 set of application programming interfaces (APIs) to a core set of enterprise-class infrastructure services, including life cycle, naming, remote invocation, messaging, transactions, database access, and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FE0-66CB-40CD-A5D3-DDC372049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ware for Enterpri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Development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use of Softw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rt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y and Quick Access for Us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tibility with Existing Systems and Stand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Reliability and 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C33-C869-4F59-8B63-4D1819D3E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application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1344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DA-A029-49C1-A1B1-38E2EB416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hort Development Process and Reuse of Softwa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Beans API: pluggable software components, open, portable, platform neu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JavaBeans API: specialized, non-visual JavaBeans, running on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79C-FC5C-4747-8653-360889E9A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Portability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langu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 interfaces specif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117-D7A1-4C55-BF9A-E0737AD459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asy and Quick Access for Use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tier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API: framework for building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let API: components for we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Applet API: client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Pages API: creating clients using script langu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bjects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RMI API: technology for communication between remot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CC3-9443-457E-99E2-01E22C325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mpatibility with Existing Systems and Standar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IDL: standards-base interoperability and connectivity with CORB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DBC API: standard SQL database access interfa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Naming and Directory Interface (JNDI):  unified interface to multiple naming and directory services in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anagement API (JMAPI): objects and methods for development of seamless system, network, and services management solu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583-D93C-4DE0-B85D-1A1AA40892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ecurity and Reliability of Transaction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Transaction Service (JTS): low-level API used by sophisticated transactional application programs, resource managers, transaction processing monitors, transaction-aware communication managers, and transaction manag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essage Service Interface: standard Java API for enterprise messaging servi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Security API: security functionality in applets and appl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69C-2A44-4178-967E-A4101ED13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8-04-08T19:24:58Z</cp:lastPrinted>
  <dcterms:modified xsi:type="dcterms:W3CDTF">1998-04-08T20:29:21Z</dcterms:modified>
  <cp:revision>18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tango.npac.syr.edu</vt:lpwstr>
  </property>
  <property fmtid="{D5CDD505-2E9C-101B-9397-08002B2CF9AE}" pid="9" name="LinkColor">
    <vt:r8>16711782</vt:r8>
  </property>
  <property fmtid="{D5CDD505-2E9C-101B-9397-08002B2CF9AE}" pid="10" name="MailAddress">
    <vt:lpwstr>marek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users\marek\PPTdoc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