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4E0-507C-4661-9BA1-34D6888E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01C-0C5B-4209-B8AB-EFBC7574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E62-425D-473E-B0EE-820D3F10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93A-0150-4F28-92E3-3C7136F6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0263-3DDD-430E-8642-4D51086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3D9-661B-4E3B-A04B-5AB4C7E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7F5-FF50-4E9A-8A9E-E04DB9D2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4A7E-9337-4005-B6C6-E378A3B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9FFB-7A52-4086-9AE8-23F4D063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0A7E-BD4E-4F50-B126-DA9FC81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8533-8013-45D3-96AC-5268288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D2D-8DE9-4AEB-B653-FF23F22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C498-0E36-472D-B7B0-81EBFE1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DCB5-6EA1-4718-BEB3-0A9CA5E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9BE-1BCF-4D52-B9AF-4A0F58C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576-C4EC-4241-AA89-376EFEA3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CC14-40EB-4472-B9B7-850E56F7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661-9BD1-477B-A069-CE23C098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BD8-F461-4204-B553-1290D7A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13B-6DF9-4B15-A058-5D4A88C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3AB-ADDA-4083-B08D-926D286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81D-E797-45C3-B0E0-793E09D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16F-F581-4DF8-A9D4-63F30D8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17C-0B45-4CFD-9FE2-6D843D1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D993-6559-424B-A64E-362B642DD7E6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92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4FA7-29E1-4EA2-ADBF-6268BCA6650C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26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13F-D9D5-4E64-A697-04E0176C930C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889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D99-2976-492F-A6D9-0B491EC1F8C5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Gateway PET Project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nd DoD Metacomputing</a:t>
            </a:r>
            <a:br>
              <a:rPr sz="6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d Modernization Users Group Meet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acomputing Pane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une 9 99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5520" y="420480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University NPAC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54CB-1B41-454F-92CC-EE34001C31C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23E390C-0EBC-40E2-A956-A610E6517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1120" y="837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ateway P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CC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9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211800"/>
            <a:ext cx="847584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n Flurchick, http://www.osc.edu/~kenf/theGatew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0960" y="2612880"/>
            <a:ext cx="3983040" cy="300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Gateway Computing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1. Enter the Gatewa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2. Define your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3. Identify resources</a:t>
            </a:r>
            <a:br>
              <a:rPr sz="2400"/>
            </a:b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  (software and hardwa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4. Create input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5. Run your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6. Analyze resul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3032280"/>
            <a:ext cx="395928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F0A-E039-4E34-8EF4-4DB9C6E592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25920" y="6216120"/>
            <a:ext cx="5518080" cy="6426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Gateway Interfac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1DC-131F-4D82-AE6C-BDA63CCC97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A38B2-4C65-4064-B0EF-02CFF5C45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 Support of Simple Standalone Code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810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re capabilitie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allow simple wrapping of existing cod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Program objects is defined as a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XML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ile e.g. my favorite physics simulation on my PC becomes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program name=“physicssimulation1”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run domain=“npac” machine=“maryland” type=“pc”    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os=“nt” &gt;c:\myprogs\a.out&lt;/run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input button=“prog1” toolbar=“physics” type=“htmlform” 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name&gt;userinput&lt;/name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field default=“10” maximum=“100000” &gt;iterations&lt;/field&gt;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…………   &lt;/input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output&gt; …&lt;/output&gt;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&lt;/program&gt;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Gateway generates a distributed object with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tton prog1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in physics toolbar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is button generate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form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reading parameter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orm input data are checked and backend code activated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ameter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can be accessed by running code through Gateway linked library (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getparm(”iterations”)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etc.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78A-A0C4-499D-92A2-69ACF7C5FA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ADA01-8DBA-4B64-BDC0-E0AA83E3E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and IMT and F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42680"/>
            <a:ext cx="9144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distributed object Middle Tier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pports the Java/CORBA version o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distributed object mode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Run Time Infrastructure to supported distributed modeling and simulation) built by NPAC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 one can naturally build applications th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te HPC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pplic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simul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ing developed as an FMS development enviro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quires real tim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trea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 can provide IMT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echnology that integrates databases with analysis/datamining progr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’s choices allow integration of databases in middle tier using commercial technology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DB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Java Database Connectivity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11F-AD3A-4D02-8B64-3BFF6E3B16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52366-2F93-45EF-AC23-4790D2E65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in Gatewa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2018880"/>
            <a:ext cx="3678120" cy="4667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serv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s given by a hierarchy of containers and compon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ese are CORBA objects written in Java acting if necessary as proxies to backend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Flow server host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rs and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ach user maintains a number of applications composed of custom modules and common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22560" y="2016000"/>
            <a:ext cx="5029200" cy="4648320"/>
            <a:chOff x="3922560" y="2016000"/>
            <a:chExt cx="5029200" cy="4648320"/>
          </a:xfrm>
        </p:grpSpPr>
        <p:sp>
          <p:nvSpPr>
            <p:cNvPr id="293" name=""/>
            <p:cNvSpPr/>
            <p:nvPr/>
          </p:nvSpPr>
          <p:spPr>
            <a:xfrm>
              <a:off x="3922560" y="2016000"/>
              <a:ext cx="5029200" cy="4648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1960" y="2396880"/>
              <a:ext cx="2141280" cy="3048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680" y="2396880"/>
              <a:ext cx="2141640" cy="30481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2549520"/>
              <a:ext cx="1941480" cy="6094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1760" y="2549520"/>
              <a:ext cx="1941480" cy="609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3159000"/>
              <a:ext cx="1990800" cy="1219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4454280"/>
              <a:ext cx="1990800" cy="9144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7160" y="3159000"/>
              <a:ext cx="94608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1000" y="3159000"/>
              <a:ext cx="99684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1000" y="3235320"/>
              <a:ext cx="1892160" cy="3045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1000" y="4530600"/>
              <a:ext cx="189216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7240" y="3311280"/>
              <a:ext cx="79668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11760" y="3311280"/>
              <a:ext cx="84600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1080" y="37684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600" y="39970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7000" y="49878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9520" y="437832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320" y="4835520"/>
              <a:ext cx="198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61160" y="4835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2"/>
              <a:endCxn id="309" idx="0"/>
            </p:cNvCxnSpPr>
            <p:nvPr/>
          </p:nvCxnSpPr>
          <p:spPr>
            <a:xfrm>
              <a:off x="7059240" y="42256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4" name=""/>
            <p:cNvCxnSpPr>
              <a:stCxn id="309" idx="1"/>
              <a:endCxn id="311" idx="0"/>
            </p:cNvCxnSpPr>
            <p:nvPr/>
          </p:nvCxnSpPr>
          <p:spPr>
            <a:xfrm flipV="1" rot="10800000">
              <a:off x="6860160" y="4491360"/>
              <a:ext cx="9936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5" name=""/>
            <p:cNvCxnSpPr>
              <a:stCxn id="309" idx="3"/>
              <a:endCxn id="310" idx="0"/>
            </p:cNvCxnSpPr>
            <p:nvPr/>
          </p:nvCxnSpPr>
          <p:spPr>
            <a:xfrm>
              <a:off x="7159320" y="4492080"/>
              <a:ext cx="10080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6959520" y="39970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6200" y="4149720"/>
              <a:ext cx="69696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4720" y="445428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9" idx="2"/>
              <a:endCxn id="316" idx="0"/>
            </p:cNvCxnSpPr>
            <p:nvPr/>
          </p:nvCxnSpPr>
          <p:spPr>
            <a:xfrm>
              <a:off x="8105400" y="39970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8005680" y="37684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21" idx="3"/>
              <a:endCxn id="317" idx="0"/>
            </p:cNvCxnSpPr>
            <p:nvPr/>
          </p:nvCxnSpPr>
          <p:spPr>
            <a:xfrm>
              <a:off x="8005680" y="4339800"/>
              <a:ext cx="249840" cy="114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22" name=""/>
            <p:cNvCxnSpPr>
              <a:stCxn id="317" idx="2"/>
              <a:endCxn id="323" idx="3"/>
            </p:cNvCxnSpPr>
            <p:nvPr/>
          </p:nvCxnSpPr>
          <p:spPr>
            <a:xfrm rot="5400000">
              <a:off x="8072280" y="4615560"/>
              <a:ext cx="11520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21" name=""/>
            <p:cNvSpPr/>
            <p:nvPr/>
          </p:nvSpPr>
          <p:spPr>
            <a:xfrm>
              <a:off x="7807320" y="42256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07320" y="46828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18120" y="3692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520" y="40734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61620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06" idx="3"/>
              <a:endCxn id="324" idx="1"/>
            </p:cNvCxnSpPr>
            <p:nvPr/>
          </p:nvCxnSpPr>
          <p:spPr>
            <a:xfrm flipV="1">
              <a:off x="4519080" y="3806640"/>
              <a:ext cx="59940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06" idx="2"/>
              <a:endCxn id="307" idx="1"/>
            </p:cNvCxnSpPr>
            <p:nvPr/>
          </p:nvCxnSpPr>
          <p:spPr>
            <a:xfrm flipH="1" rot="16200000">
              <a:off x="4512240" y="3904920"/>
              <a:ext cx="115200" cy="299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07" idx="3"/>
              <a:endCxn id="325" idx="1"/>
            </p:cNvCxnSpPr>
            <p:nvPr/>
          </p:nvCxnSpPr>
          <p:spPr>
            <a:xfrm>
              <a:off x="4917600" y="4111560"/>
              <a:ext cx="54828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07" idx="3"/>
              <a:endCxn id="324" idx="2"/>
            </p:cNvCxnSpPr>
            <p:nvPr/>
          </p:nvCxnSpPr>
          <p:spPr>
            <a:xfrm flipV="1">
              <a:off x="4917600" y="3920400"/>
              <a:ext cx="300600" cy="191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5" idx="3"/>
              <a:endCxn id="326" idx="2"/>
            </p:cNvCxnSpPr>
            <p:nvPr/>
          </p:nvCxnSpPr>
          <p:spPr>
            <a:xfrm flipV="1">
              <a:off x="5665320" y="3844080"/>
              <a:ext cx="199080" cy="34380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1"/>
              <a:endCxn id="324" idx="3"/>
            </p:cNvCxnSpPr>
            <p:nvPr/>
          </p:nvCxnSpPr>
          <p:spPr>
            <a:xfrm flipV="1" rot="10800000">
              <a:off x="5315760" y="3729600"/>
              <a:ext cx="450000" cy="76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grpSp>
          <p:nvGrpSpPr>
            <p:cNvPr id="333" name=""/>
            <p:cNvGrpSpPr/>
            <p:nvPr/>
          </p:nvGrpSpPr>
          <p:grpSpPr>
            <a:xfrm>
              <a:off x="4120920" y="6054480"/>
              <a:ext cx="4481640" cy="419400"/>
              <a:chOff x="4120920" y="6054480"/>
              <a:chExt cx="4481640" cy="4194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209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4120" y="6054480"/>
                <a:ext cx="4474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55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38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01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33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54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379760" y="5673600"/>
              <a:ext cx="4038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bFlow supports bo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 bas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flow computing model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th visual interface at client and both tasks and their interrelationship defined in XM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Times New Roman"/>
              </a:rPr>
              <a:t>SECIO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9840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Security Mode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606680"/>
            <a:ext cx="2514600" cy="45072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5520" y="1587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6440" y="2286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I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1040" y="3940200"/>
            <a:ext cx="262224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erberos 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d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5480" y="3200400"/>
            <a:ext cx="14396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1248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1360" y="448956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1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160" y="32004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2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9765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3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01600" y="59436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600" y="776880"/>
            <a:ext cx="70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an use Public Key Infrastructure but for HPC Moder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 SecurID and Kerberized Works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0" y="4574160"/>
            <a:ext cx="95868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Project in a Nutshel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914400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s on Web-based problem solving environment buil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E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MS Landscape Management Syst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technology synergistic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 FMS PE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distributed object middlewa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SC NPAC Nicho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to produ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infrastructur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secure 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amework for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based problem solving solving environmen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CM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 initial focu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system in alpha tes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99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ll have fully functional demonstr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t with multi tier architecture using secure CORBA at middle tier and sophisticat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 Java front end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llow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 composi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 object interfaces defin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A40-D449-4528-B943-308FBC1FCB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90004-26C9-419C-B50A-58AE00FEF3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600" y="-1440"/>
            <a:ext cx="6435000" cy="16794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Interface Suppor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mulation: two interacting cod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CASC2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86720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MS Goals and Front-E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lms04a" descr=""/>
          <p:cNvPicPr/>
          <p:nvPr/>
        </p:nvPicPr>
        <p:blipFill>
          <a:blip r:embed="rId4"/>
          <a:stretch/>
        </p:blipFill>
        <p:spPr>
          <a:xfrm>
            <a:off x="4559400" y="133668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3CB-FAF2-4E1C-A98B-AC3E8DD670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569E0-EA82-4B11-820E-9C6B2314F5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133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2395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37160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3F8-E631-4564-B0A8-4B3CCD4B2E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7D0F8-D288-4FD3-BC0F-1625DFB28A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does Gateway do for you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886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Toolkit to build high level application specific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eb based problem solving environments 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CM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frame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Uses HPC Specific services and resources provided by other projects such a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Glob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Legion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strategy to conver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existing code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o distributed objects that can be seamlessly launche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defaul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job stat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isplay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rchitecture naturally support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(using shared events and TangoInteractive)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f structured as a multi tier service conforming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ositional Programmin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of modul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MPI HPF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programming tools are either outside Gateway but could be given integrated web interface as part of Gateway -- we demonstrated this for HPF in early WebFlow 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201-C973-41F7-A180-EA187EEA7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30500-05F0-451D-ADDC-D4B0074B13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41280" y="41400"/>
            <a:ext cx="8534520" cy="6816600"/>
            <a:chOff x="341280" y="41400"/>
            <a:chExt cx="8534520" cy="6816600"/>
          </a:xfrm>
        </p:grpSpPr>
        <p:pic>
          <p:nvPicPr>
            <p:cNvPr id="149" name="fig2" descr=""/>
            <p:cNvPicPr/>
            <p:nvPr/>
          </p:nvPicPr>
          <p:blipFill>
            <a:blip r:embed="rId1"/>
            <a:stretch/>
          </p:blipFill>
          <p:spPr>
            <a:xfrm>
              <a:off x="341280" y="41400"/>
              <a:ext cx="853452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494320" y="2954160"/>
              <a:ext cx="1143000" cy="45972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Globu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6680" y="2658960"/>
              <a:ext cx="173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000" y="124776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0640" y="277488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5560" y="282240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760" y="2844720"/>
              <a:ext cx="3421080" cy="129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0320" y="161136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20" y="1633680"/>
              <a:ext cx="3421080" cy="126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44024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” Architectur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368-6E26-4839-AD1D-A75C60D4B6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2FED4-56D7-46FD-ACCD-B4FFF1D2E1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60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166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66680" y="206280"/>
            <a:ext cx="5907240" cy="59104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5910480"/>
              <a:gd name="textAreaBottom" fmla="*/ 5622120 h 591048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200" y="1523880"/>
            <a:ext cx="1657440" cy="658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9960" y="4179960"/>
            <a:ext cx="1322640" cy="185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520" y="4392720"/>
            <a:ext cx="1887480" cy="941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4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5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6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190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191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196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01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06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20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440" y="27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lti Tier Computing Mod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4560" y="2155680"/>
            <a:ext cx="3051000" cy="22258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Grid Gate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0680" y="4106880"/>
            <a:ext cx="2765520" cy="1684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168800">
            <a:off x="3099240" y="15840"/>
            <a:ext cx="1030680" cy="3012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8760" y="1451880"/>
            <a:ext cx="382320" cy="601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959360" y="1726920"/>
            <a:ext cx="434880" cy="4525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789000" y="4005360"/>
            <a:ext cx="390600" cy="2966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430520" y="1944360"/>
            <a:ext cx="1020600" cy="1273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65080" y="2004840"/>
            <a:ext cx="546120" cy="3524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7360" y="5690520"/>
            <a:ext cx="58471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Gateway Programming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240" y="6272640"/>
            <a:ext cx="5487120" cy="5814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Good Old Programming T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70880" y="4397040"/>
            <a:ext cx="3240" cy="1987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31800" y="505296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38760" y="500688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B3D-C888-4978-B74E-29AE8B1A2D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ECBF0-6A40-4F46-8CAD-0666989D97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ramming Middle Tier of a Computational Gri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82760"/>
            <a:ext cx="9144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 will copy a much reviled model -- Microsoft Word or PowerPoint -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document preparation -- for Gateway programming toolb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word" descr=""/>
          <p:cNvPicPr/>
          <p:nvPr/>
        </p:nvPicPr>
        <p:blipFill>
          <a:blip r:embed="rId1"/>
          <a:stretch/>
        </p:blipFill>
        <p:spPr>
          <a:xfrm>
            <a:off x="4925880" y="2600280"/>
            <a:ext cx="4218120" cy="382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525760"/>
            <a:ext cx="4894200" cy="3913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uting abstracted as a set of  hierarchical Toolbars</a:t>
            </a: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olbars are defined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nd rendered in HTML for user interface. XML interpreted on middle tier as some suitable serv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uting Toolba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nclu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ser profile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where “command” could be AVS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ming mode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PF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ource specific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source status, cod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application specifi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FF2-3CDA-47CB-B428-95472C91A1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8C011-F8EF-4FFF-9994-5B713B655A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otyp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NCS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ianc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D65-0CDE-41C3-927E-80C831237C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124E4-BE3A-4090-BA57-57CD48C40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12-25T20:46:20Z</cp:lastPrinted>
  <dcterms:modified xsi:type="dcterms:W3CDTF">1999-06-09T16:17:54Z</dcterms:modified>
  <cp:revision>1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