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25C59-AB1B-4ADA-9E99-964483740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11CBC-2FEB-45DA-BA00-EDCFEB2D2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72840" y="4799160"/>
            <a:ext cx="5576760" cy="41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ldImg"/>
          </p:nvPr>
        </p:nvSpPr>
        <p:spPr>
          <a:xfrm>
            <a:off x="771480" y="312840"/>
            <a:ext cx="5362560" cy="40226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C3966-EF5E-4D5C-937D-A438979666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61680" y="4130640"/>
            <a:ext cx="7373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7F606-BA63-4983-A58C-4D53E243C5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40240" y="198108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40240" y="413064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43B76-3849-4ED0-958A-0853183169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2374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055040" y="1981080"/>
            <a:ext cx="2374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48400" y="1981080"/>
            <a:ext cx="2374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61680" y="4130640"/>
            <a:ext cx="2374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055040" y="4130640"/>
            <a:ext cx="2374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48400" y="4130640"/>
            <a:ext cx="2374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E97D7-B668-4308-BDC3-261E5B0EA8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742B5-8002-41EA-A136-0E0A0A2659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C3A52-050E-4173-B7ED-DC003EEB20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59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40240" y="1981080"/>
            <a:ext cx="359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2BCD7-C669-4B0D-9E04-A688195BEA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AD3D6-ACF8-48C0-8202-F94AF25FD1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61680" y="336240"/>
            <a:ext cx="7373880" cy="627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86FB2-F4A5-435A-BA89-A1E2AB2F8C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40240" y="1981080"/>
            <a:ext cx="359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467CB-1EDC-4496-BF09-7769BC3B7C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59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40240" y="198108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40240" y="413064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63053-5642-404A-88B8-90FB5A14CC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40240" y="198108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7373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CEFE8-1A8B-45A1-9051-6FE1A0B4BC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-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7960" indent="-200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ffffff"/>
              </a:buClr>
              <a:buFont typeface="SunSans-Demi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200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ffffff"/>
              </a:buClr>
              <a:buFont typeface="SunSans-Demi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200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ffffff"/>
              </a:buClr>
              <a:buFont typeface="SunSans-Demi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200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ffffff"/>
              </a:buClr>
              <a:buFont typeface="SunSans-Demi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76040" y="289080"/>
            <a:ext cx="920880" cy="404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1276200" y="0"/>
            <a:ext cx="0" cy="6856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1879560" y="6242040"/>
            <a:ext cx="5043600" cy="4795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>
              <a:lnSpc>
                <a:spcPct val="110000"/>
              </a:lnSpc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0000"/>
              </a:lnSpc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January 26, 1999--Bob Scheifler Copyright 1999 Sun Microsystems, Inc., all rights reserve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664040" y="6191280"/>
            <a:ext cx="1244520" cy="4795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fld id="{447F0045-5DD6-433B-9663-AA60845667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5553000"/>
            <a:ext cx="1738440" cy="130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57360" y="6242040"/>
            <a:ext cx="192060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27320" y="6242040"/>
            <a:ext cx="28796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73200" y="3051000"/>
            <a:ext cx="64720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Jini™ Lookup Servic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538280" y="3892680"/>
            <a:ext cx="644832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0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b Scheif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unSansCondensed-Regular"/>
              </a:rPr>
              <a:t>Senior Staff Engine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unSansCondensed-Regular"/>
              </a:rPr>
              <a:t>Sun Microsystems, In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Service type matching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an match on any Java typ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ncluding superinterface or superclas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an get subinterface or subclass bac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xample: NestableTransactionManager extends TransactionManag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java.lang.Object matches everyth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Service type matching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an match using multiple Java typ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ND semantic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I want a combination TV/VCR”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rg.ce.TV AND org.ce.VC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yellow pag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utomatic placement in all categori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75"/>
              </a:spcBef>
              <a:buClr>
                <a:srgbClr val="000000"/>
              </a:buClr>
              <a:buFont typeface="Times"/>
              <a:buChar char="-"/>
              <a:tabLst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ll superinterfaces and superclass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ach service also registers with attribut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ttributes allow further discrimination between services of the same typ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y end-user or progra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an do lookup using service types and/or attribut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Example generic attribut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loc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anufactur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Example printer attribut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onochrome or colo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resolu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pee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aper siz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Attribute characteristic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ome defined by service itself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ome defined by administrato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values aren’t always string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ultiple values for some attribut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ttributes can have co-dependent valu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Example printer attribut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onochrome, 600 dpi, 10 pp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onochrome, 300 dpi, 15 pp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olor, 300 dpi, 5 pp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10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letter, legal, envelop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61680" y="653760"/>
            <a:ext cx="7373880" cy="71748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Attribute representati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attribute is a public field of a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ttribute name = field nam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ttribute type = field typ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ach class defines an </a:t>
            </a: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attribute se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24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-dependent attributes in the same clas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24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parate classes for orthogonal attribut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service h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t of attribute s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24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nstances of multiple class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24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ultiple instances of same clas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Example attribute class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class PrintAttrs implements net.jini.core.entry.Entry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class PrintEngine extends PrintAttrs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Integer pp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Integer dp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Boolean col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Example attribute class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class PaperSize extends PrintAttrs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PaperType siz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class PaperType implements java.io.Serializab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atic final PaperType Letter = ...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atic final PaperType Legal = ...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atic final PaperType A4 = ...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atic final PaperType Envelope = ...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Jini lookup servic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network servi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r finding other network servic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workgroup”-scale, not the entire Interne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a naming or directory servi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X.500, LDAP, DNS, NDS, RMI registr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cus is on types, not nam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yellow pages, not white pag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both programmatic and end-user acces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Example attribute class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47920" y="1981080"/>
            <a:ext cx="748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class Location implements net.jini.core.entry.Entry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ring flo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ring roo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ring build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class Name implements net.jini.core.entry.Entry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ring nam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Example printer attribut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Engine{color: false, dpi: 600, ppm: 1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Engine{color: false, dpi: 300, ppm: 15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Engine{color: true,  dpi: 300, ppm: 5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perSize{size: PaperType.Letter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perSize{size: PaperType.Legal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perSize{size: PaperType.Envelop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{floor: “1”, room: “1220”, building: “UCHL03”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{name: “narf”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Attribute set matching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atch on attribute set clas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ncluding superclas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atch on attribute valu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exact value match onl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emplate is just an attribute set instan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null field is wildcard = match an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aken from Linda via JavaSpac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Matching exampl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5680" y="2057400"/>
          <a:ext cx="7358040" cy="398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2057400"/>
                    <a:ext cx="7358040" cy="39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Service template matching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rvice template contains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zero or more service typ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zero or more attribute set templat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&lt;proxy, set of attr sets&gt; matches if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proxy is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instanceo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each service type, an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r each attribute set template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75"/>
              </a:spcBef>
              <a:buClr>
                <a:srgbClr val="000000"/>
              </a:buClr>
              <a:buFont typeface="Times"/>
              <a:buChar char="-"/>
              <a:tabLst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re is a matching attribute se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Example queri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ny service named “narf”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ny Printer named “narf” in UCHL03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ll services on floor 2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ny JavaSpace made by Su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omplex queri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between 300 and 600 dpi”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on floor 1, 3, or 7”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rst do template-based match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using wildcards as necessar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en do finer-grained match locall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Attribute modificati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an only be done by service itself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llows service to control polic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rvice is responsible for persistent stor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dd, modify, delete, replace al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ttributes should change infrequentl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primary search ke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query service directly for very dynamic sta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Basic summary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rvice perspectiv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register with desired attribut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keep renewing leas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dd, modify, delete attributes as desir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ent perspectiv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ookup any 1 of, get just proxy objec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ookup up to N of, get proxies and attribut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Leasing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nsures results of client lookup are reasonably up to dat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lookup service imposes maximum lease dur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radeoff between bandwidth (and load on lookup service) and how up to dat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aximum lease will vary with contex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Lookup service is closer to: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IETF Service Location Protoco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OMG Trading Object Servi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Asynchronous event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uses same service template match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nterest registration is also leas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no match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match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new service added or attributes now matc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atch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no match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rvice deleted or attributes no longer matc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atch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match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ttributes changed but still matc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Example uses of event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dmin notified of new servic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dmin notified when service crash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user notified when service is back on lin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dmin notified when printer jam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User perspectiv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upport for incremental brows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y service typ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y attribute set clas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y attribute valu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ccess to service-specific GUI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pplet URL as an attribu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Discovery and selecti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how does a client or service find lookup servic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how does a service know which ones to register with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how does a client know which ones to do lookups i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Lookup group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ach lookup service is configured to be a member of one or more group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group is just an arbitrary string nam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ne standard “public” group, as defaul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ach service is configured to register with one or more group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ach client is configured to use lookup services from one or more group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Initial discovery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ed by both clients and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 multicast request pac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groups you are looking fo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host and TCP port to use to contact you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it for lookup services to connect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nly those in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1 requested groups respon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load lookup service’s proxy o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5000"/>
              </a:lnSpc>
              <a:spcAft>
                <a:spcPts val="624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register with or do lookup i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Latecomer discovery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don’t send multicast requests forev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top after a short wh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listen for multicast announcemen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nt periodically by each lookup servi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groups lookup service is a member o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host and TCP port to contact lookup servi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onnect to if member of desired group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download lookup service prox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Administrative perspectiv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rvice di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ease expires, registration is dropp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network parti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rvices automatically reregister at mer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vailability: replicate lookup servi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rvices automatically register with replic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ailover: start a new lookup servi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rvices automatically register with 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Hierarchy: one opti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DNS-style hierarchical group nam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ach lookup service is also a Jini servi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one set of groups to be a member of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nother set of groups to register with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up and/or down links in hierarch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Feature Comparis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601640" y="1828800"/>
          <a:ext cx="7317000" cy="463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1640" y="1828800"/>
                    <a:ext cx="7317000" cy="463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Jini service structur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rvice is defined by one or more Java interfac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rvice has a front-end </a:t>
            </a: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proxy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RMI stub or custom-coded clas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roxy implements Java interfac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ents only know about Java interfac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Jini service structur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roxy class can be specialize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o particular implementation of servi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network protocol between proxy and service can be private and vari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roxy class is downloaded to clien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asses are annotated with codebase U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ents oblivious to implementation detail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61680" y="678960"/>
            <a:ext cx="7373880" cy="6660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Example: Transaction Manager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rvice interfa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.jini.core.transaction.server.Transaction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RMI-based service implem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.sun.jini.mahalo.TxnManager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roxy class (RMI stub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.sun.jini.mahalo.TxnManagerImpl_St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ent only knows about TransactionManager interfa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Example: JavaSpac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rvice interfa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net.jini.space.JavaSpa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RMI-based service implem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om.sun.jini.outrigger.FrontEndSpa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roxy class (custom-coded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om.sun.jini.outrigger.SpaceProx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ent only knows about JavaSpace interfa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Lookup service 101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ach service registers its proxy objec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ent does lookup by Java typ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instanceo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semantic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PI uses java.lang.Class instances, not string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ent gets proxy object bac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needed classes are automatically download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6T21:01:58Z</dcterms:created>
  <dc:creator>Bob Scheifler</dc:creator>
  <dc:description/>
  <dc:language>en-US</dc:language>
  <cp:lastModifiedBy>Bob Scheifler</cp:lastModifiedBy>
  <cp:lastPrinted>1999-01-06T21:27:33Z</cp:lastPrinted>
  <dcterms:modified xsi:type="dcterms:W3CDTF">1999-01-13T17:42:30Z</dcterms:modified>
  <cp:revision>3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\\~jini\home1\rws\tmp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