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AD8-37CD-48E3-803B-0C40D01D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0DC-1CCD-469F-A2FA-C722DAEB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8500-E64A-4469-B31C-69767CDD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DB6-1025-46EF-B683-C9EEE14A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80B5-D277-43A3-8D7A-6D30374C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5820-91C3-45F2-B090-D5222662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2CBE-01DB-47C0-8B5E-05CCB19C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11E-ACD3-4926-A486-9E4182F2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5E6-4706-400D-A2B4-2E4C1E4A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A4E5-7CEC-4090-95C4-81CB939C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B4B-0AEA-4600-875F-560D8BF6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40B-2EA2-4BFB-83D6-9F03BC1B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C7D9-29CD-4987-88EA-F1AABC9E6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Of PowerPoint To SVG As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666880"/>
            <a:ext cx="220968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952880"/>
            <a:ext cx="762120" cy="13716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2819520"/>
            <a:ext cx="914400" cy="9144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2819520"/>
            <a:ext cx="1218960" cy="914400"/>
          </a:xfrm>
          <a:custGeom>
            <a:avLst/>
            <a:gdLst>
              <a:gd name="textAreaLeft" fmla="*/ 267840 w 1218960"/>
              <a:gd name="textAreaRight" fmla="*/ 951120 w 121896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51814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5029200"/>
            <a:ext cx="2362320" cy="1295280"/>
          </a:xfrm>
          <a:prstGeom prst="ellipse">
            <a:avLst/>
          </a:prstGeom>
          <a:noFill/>
          <a:ln w="1015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5410080"/>
            <a:ext cx="457200" cy="6098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238880" y="4419360"/>
            <a:ext cx="1524240" cy="16002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6T19:48:36Z</dcterms:created>
  <dc:creator>mwang03</dc:creator>
  <dc:description/>
  <dc:language>en-US</dc:language>
  <cp:lastModifiedBy>mwang03</cp:lastModifiedBy>
  <dcterms:modified xsi:type="dcterms:W3CDTF">2001-05-06T19:49:41Z</dcterms:modified>
  <cp:revision>1</cp:revision>
  <dc:subject/>
  <dc:title>This Is An Example Of PowerPoint To SVG As Text</dc:title>
</cp:coreProperties>
</file>