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5330-ACBE-4D0B-8244-86774A5BD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AA0F-EA74-4431-8FA4-465F0FFCF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DB27-8BE3-4F05-8DC2-EC003AC21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6B43-99CC-4964-8717-0371C3E0D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A409-6E13-48E3-AC88-74D34FE60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9DB3-A5D0-491B-BAE4-B159C1944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8B0C-88E4-4A46-97BE-9E08241EB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75ED-3C9F-4992-9D99-3B3960665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AFD2-266E-4CD3-A33E-882045DD9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9A6D-F963-4E14-A216-9B2F371D0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A102-BED3-489F-88FA-B12148D46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D9E5-8133-4960-8ECE-385329F56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8F4CF-70B5-4363-9486-4B1A6F5C0C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Of PowerPoint To SVG As Tex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666880"/>
            <a:ext cx="2209680" cy="144792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143000" y="4952880"/>
            <a:ext cx="762120" cy="1371600"/>
          </a:xfrm>
          <a:prstGeom prst="ellipse">
            <a:avLst/>
          </a:prstGeom>
          <a:solidFill>
            <a:srgbClr val="ffcc00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038480" y="2819520"/>
            <a:ext cx="914400" cy="914400"/>
          </a:xfrm>
          <a:prstGeom prst="plus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477120" y="2819520"/>
            <a:ext cx="1218960" cy="914400"/>
          </a:xfrm>
          <a:custGeom>
            <a:avLst/>
            <a:gdLst>
              <a:gd name="textAreaLeft" fmla="*/ 267840 w 1218960"/>
              <a:gd name="textAreaRight" fmla="*/ 951120 w 1218960"/>
              <a:gd name="textAreaTop" fmla="*/ 200880 h 914400"/>
              <a:gd name="textAreaBottom" fmla="*/ 71352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733920" y="5181480"/>
            <a:ext cx="914400" cy="91440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5880" y="5029200"/>
            <a:ext cx="2362320" cy="1295280"/>
          </a:xfrm>
          <a:prstGeom prst="ellipse">
            <a:avLst/>
          </a:prstGeom>
          <a:noFill/>
          <a:ln w="101520">
            <a:solidFill>
              <a:srgbClr val="ff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781680" y="5410080"/>
            <a:ext cx="457200" cy="60984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7238880" y="4419360"/>
            <a:ext cx="1524240" cy="160020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6T19:48:36Z</dcterms:created>
  <dc:creator>mwang03</dc:creator>
  <dc:description/>
  <dc:language>en-US</dc:language>
  <cp:lastModifiedBy>mwang03</cp:lastModifiedBy>
  <dcterms:modified xsi:type="dcterms:W3CDTF">2001-05-06T19:49:41Z</dcterms:modified>
  <cp:revision>1</cp:revision>
  <dc:subject/>
  <dc:title>This Is An Example Of PowerPoint To SVG As Text</dc:title>
</cp:coreProperties>
</file>