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B70-01B5-489B-A3AC-401B7F30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2FC-21FE-4351-A7C0-4B57AA7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4E3-393F-4969-BE59-7ACACF94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AE0-A535-4D23-AE3E-04CF2A91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D87C-3E3E-4A4A-9C3E-80998DAF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4DB-C853-494A-B10C-BD1507F0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34C-75C8-4F5A-B017-7D083C2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830D-032E-4ED1-88B5-16188F7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1935-1035-4771-BDEC-ADDF7EB0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3FD7-C573-4122-AC22-B277B6A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C25-76AC-47BA-A034-DA455FD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761-3FC3-497D-8F3F-BF4B1CF9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A98A-4ED0-487C-91D4-BDB60E0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C61A-6C99-49C8-BD6E-1701DCD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1F7D-D5DA-47BA-BC09-E624021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B45C-6B71-4BDC-9F30-90B36789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89B-5A32-4AFE-A976-4329F604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5D2-9E97-438E-B741-D349CFE5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F49-3796-47F3-AF68-0235C56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A3F-58D8-4FC5-96C8-7609CDE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1B8-ABD7-4BA2-8CA2-8FC973D7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79A-1349-420B-8F78-962ABBBE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3B0-4AE1-4AF9-A6E3-1F6A4A1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21E-DF47-4C2F-9B76-65C373A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7A0D-F3F2-4046-B22B-0E93D08CE45B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92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BCD-EAD8-4840-BE7E-D640A88B6B77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226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F49C-015A-48EE-8D86-1C4EFDE4711A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889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AAD3-A199-4A09-BF1F-67D406CBD0CF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805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Gateway PET Project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nd DoD Metacomputing</a:t>
            </a:r>
            <a:br>
              <a:rPr sz="6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d Modernization Users Group Meet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acomputing Pane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une 9 99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25520" y="420480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University NPAC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E790-D2E1-414E-AA17-30AAC62134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D795CA7-5317-4139-AF91-6FDCC5F688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1120" y="837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ateway PSE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CC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ccm-kenf" descr=""/>
          <p:cNvPicPr/>
          <p:nvPr/>
        </p:nvPicPr>
        <p:blipFill>
          <a:blip r:embed="rId1"/>
          <a:stretch/>
        </p:blipFill>
        <p:spPr>
          <a:xfrm>
            <a:off x="0" y="0"/>
            <a:ext cx="5124600" cy="599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211800"/>
            <a:ext cx="847584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n Flurchick, http://www.osc.edu/~kenf/theGatew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0960" y="2612880"/>
            <a:ext cx="3983040" cy="300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Gateway Computing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1. Enter the Gatewa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2. Define your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3. Identify resources</a:t>
            </a:r>
            <a:br>
              <a:rPr sz="2400"/>
            </a:b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   (software and hardwa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4. Create input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5. Run your 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6. Analyze resul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4720" y="3032280"/>
            <a:ext cx="395928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635-EC28-430C-83A4-AF2F163362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25920" y="6216120"/>
            <a:ext cx="5518080" cy="6426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Gateway Interfac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EC7-931C-4B42-A007-2C99A9FD5B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85405-CEAF-4A1B-A73A-FE840CB497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 Support of Simple Standalone Code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5810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re capabilitie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allow simple wrapping of existing code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Program objects is defined as a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XML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ile e.g. my favorite physics simulation on my PC becomes: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program name=“physicssimulation1”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run domain=“npac” machine=“maryland” type=“pc”    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os=“nt” &gt;c:\myprogs\a.out&lt;/run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input button=“prog1” toolbar=“physics” type=“htmlform” 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name&gt;userinput&lt;/name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field default=“10” maximum=“100000” &gt;iterations&lt;/field&gt;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…………   &lt;/input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output&gt; …&lt;/output&gt;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&lt;/program&gt;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Gateway generates a distributed object with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tton prog1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in physics toolbar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is button generate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TML form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reading parameter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orm input data are checked and backend code activated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ameter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can be accessed by running code through Gateway linked library (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all getparm(”iterations”)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etc.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C09-6480-46D6-8638-753FD0C2CD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EAD25-8186-4C94-BCE2-276495688C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and IMT and F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42680"/>
            <a:ext cx="9144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distributed object Middle Tier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pports the Java/CORBA version o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distributed object model)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T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Run Time Infrastructure to supported distributed modeling and simulation) built by NPAC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 one can naturally build applications th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te HPC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pplication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simul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being developed as an FMS development enviro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requires real tim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trea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 can provide IMT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interfac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echnology that integrates databases with analysis/datamining progr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’s choices allow integration of databases in middle tier using commercial technology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DB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Java Database Connectivity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778-99AE-4CE4-9E93-F270F9D523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E8C0B-AE17-4DBD-910E-CFDEA93CB5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Flow in Gatewa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2018880"/>
            <a:ext cx="3678120" cy="4667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serve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s given by a hierarchy of containers and component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ese are CORBA objects written in Java acting if necessary as proxies to backend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bFlow server host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rs and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ach user maintains a number of applications composed of custom modules and common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22560" y="2016000"/>
            <a:ext cx="5029200" cy="4648320"/>
            <a:chOff x="3922560" y="2016000"/>
            <a:chExt cx="5029200" cy="4648320"/>
          </a:xfrm>
        </p:grpSpPr>
        <p:sp>
          <p:nvSpPr>
            <p:cNvPr id="293" name=""/>
            <p:cNvSpPr/>
            <p:nvPr/>
          </p:nvSpPr>
          <p:spPr>
            <a:xfrm>
              <a:off x="3922560" y="2016000"/>
              <a:ext cx="5029200" cy="4648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1960" y="2396880"/>
              <a:ext cx="2141280" cy="30481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1680" y="2396880"/>
              <a:ext cx="2141640" cy="30481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71680" y="2549520"/>
              <a:ext cx="1941480" cy="6094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1760" y="2549520"/>
              <a:ext cx="1941480" cy="609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1680" y="3159000"/>
              <a:ext cx="1990800" cy="1219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1680" y="4454280"/>
              <a:ext cx="1990800" cy="9144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7160" y="3159000"/>
              <a:ext cx="94608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61000" y="3159000"/>
              <a:ext cx="99684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1000" y="3235320"/>
              <a:ext cx="1892160" cy="3045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21000" y="4530600"/>
              <a:ext cx="189216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7240" y="3311280"/>
              <a:ext cx="79668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11760" y="3311280"/>
              <a:ext cx="84600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1080" y="37684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600" y="39970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7000" y="49878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59520" y="437832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320" y="4835520"/>
              <a:ext cx="198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61160" y="4835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3" idx="2"/>
              <a:endCxn id="309" idx="0"/>
            </p:cNvCxnSpPr>
            <p:nvPr/>
          </p:nvCxnSpPr>
          <p:spPr>
            <a:xfrm>
              <a:off x="7059240" y="42256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4" name=""/>
            <p:cNvCxnSpPr>
              <a:stCxn id="309" idx="1"/>
              <a:endCxn id="311" idx="0"/>
            </p:cNvCxnSpPr>
            <p:nvPr/>
          </p:nvCxnSpPr>
          <p:spPr>
            <a:xfrm flipV="1" rot="10800000">
              <a:off x="6860160" y="4491360"/>
              <a:ext cx="9936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5" name=""/>
            <p:cNvCxnSpPr>
              <a:stCxn id="309" idx="3"/>
              <a:endCxn id="310" idx="0"/>
            </p:cNvCxnSpPr>
            <p:nvPr/>
          </p:nvCxnSpPr>
          <p:spPr>
            <a:xfrm>
              <a:off x="7159320" y="4492080"/>
              <a:ext cx="10080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6959520" y="39970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6200" y="4149720"/>
              <a:ext cx="69696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4720" y="445428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9" idx="2"/>
              <a:endCxn id="316" idx="0"/>
            </p:cNvCxnSpPr>
            <p:nvPr/>
          </p:nvCxnSpPr>
          <p:spPr>
            <a:xfrm>
              <a:off x="8105400" y="39970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8005680" y="37684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21" idx="3"/>
              <a:endCxn id="317" idx="0"/>
            </p:cNvCxnSpPr>
            <p:nvPr/>
          </p:nvCxnSpPr>
          <p:spPr>
            <a:xfrm>
              <a:off x="8005680" y="4339800"/>
              <a:ext cx="249840" cy="114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22" name=""/>
            <p:cNvCxnSpPr>
              <a:stCxn id="317" idx="2"/>
              <a:endCxn id="323" idx="3"/>
            </p:cNvCxnSpPr>
            <p:nvPr/>
          </p:nvCxnSpPr>
          <p:spPr>
            <a:xfrm rot="5400000">
              <a:off x="8072280" y="4615560"/>
              <a:ext cx="11520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21" name=""/>
            <p:cNvSpPr/>
            <p:nvPr/>
          </p:nvSpPr>
          <p:spPr>
            <a:xfrm>
              <a:off x="7807320" y="42256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07320" y="46828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18120" y="3692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520" y="40734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5760" y="361620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06" idx="3"/>
              <a:endCxn id="324" idx="1"/>
            </p:cNvCxnSpPr>
            <p:nvPr/>
          </p:nvCxnSpPr>
          <p:spPr>
            <a:xfrm flipV="1">
              <a:off x="4519080" y="3806640"/>
              <a:ext cx="59940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06" idx="2"/>
              <a:endCxn id="307" idx="1"/>
            </p:cNvCxnSpPr>
            <p:nvPr/>
          </p:nvCxnSpPr>
          <p:spPr>
            <a:xfrm flipH="1" rot="16200000">
              <a:off x="4512240" y="3904920"/>
              <a:ext cx="115200" cy="299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07" idx="3"/>
              <a:endCxn id="325" idx="1"/>
            </p:cNvCxnSpPr>
            <p:nvPr/>
          </p:nvCxnSpPr>
          <p:spPr>
            <a:xfrm>
              <a:off x="4917600" y="4111560"/>
              <a:ext cx="54828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07" idx="3"/>
              <a:endCxn id="324" idx="2"/>
            </p:cNvCxnSpPr>
            <p:nvPr/>
          </p:nvCxnSpPr>
          <p:spPr>
            <a:xfrm flipV="1">
              <a:off x="4917600" y="3920400"/>
              <a:ext cx="300600" cy="191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5" idx="3"/>
              <a:endCxn id="326" idx="2"/>
            </p:cNvCxnSpPr>
            <p:nvPr/>
          </p:nvCxnSpPr>
          <p:spPr>
            <a:xfrm flipV="1">
              <a:off x="5665320" y="3844080"/>
              <a:ext cx="199080" cy="34380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1"/>
              <a:endCxn id="324" idx="3"/>
            </p:cNvCxnSpPr>
            <p:nvPr/>
          </p:nvCxnSpPr>
          <p:spPr>
            <a:xfrm flipV="1" rot="10800000">
              <a:off x="5315760" y="3729600"/>
              <a:ext cx="450000" cy="76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grpSp>
          <p:nvGrpSpPr>
            <p:cNvPr id="333" name=""/>
            <p:cNvGrpSpPr/>
            <p:nvPr/>
          </p:nvGrpSpPr>
          <p:grpSpPr>
            <a:xfrm>
              <a:off x="4120920" y="6054480"/>
              <a:ext cx="4481640" cy="419400"/>
              <a:chOff x="4120920" y="6054480"/>
              <a:chExt cx="4481640" cy="4194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209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94120" y="6054480"/>
                <a:ext cx="4474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55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38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01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833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54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379760" y="5673600"/>
              <a:ext cx="4038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bFlow supports bo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 bas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flow computing model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ith visual interface at client and both tasks and their interrelationship defined in XM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924680" y="3429000"/>
            <a:ext cx="30492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57640" y="3429000"/>
            <a:ext cx="106668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295800"/>
            <a:ext cx="5562720" cy="28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Times New Roman"/>
              </a:rPr>
              <a:t>SECIO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29718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9840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Security Mode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029200"/>
            <a:ext cx="12193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606680"/>
            <a:ext cx="2514600" cy="45072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5520" y="1587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ont End App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2057400"/>
            <a:ext cx="0" cy="9144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6440" y="2286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I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1040" y="3940200"/>
            <a:ext cx="262224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erberos authent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d author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5480" y="3200400"/>
            <a:ext cx="14396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6400" y="27432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373392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12480" y="51814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PCC re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57200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1360" y="448956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1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160" y="3200400"/>
            <a:ext cx="28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2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CORB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9765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3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access to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876920"/>
            <a:ext cx="73152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01600" y="594360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licies defined by resource ow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600" y="776880"/>
            <a:ext cx="70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an use Public Key Infrastructure but for HPC Moder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 SecurID and Kerberized Works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4400" y="4574160"/>
            <a:ext cx="95868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Project in a Nutshel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914400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s on Web-based problem solving environment buil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ET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MS Landscape Management Syst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technology synergistic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 FMS PE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distributed object middlewa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SC NPAC Nicho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oject fund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to produ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infrastructur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amless secure 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amework for genera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based problem solving solving environmen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CM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 initial focu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system in alpha tes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99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ll have fully functional demonstr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t with multi tier architecture using secure CORBA at middle tier and sophisticat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 Java front end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llow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 composi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 object interfaces defin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B40-E20B-48C8-87D4-9CED8D7568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0B086-5476-4D2D-8E3D-D7C1793A5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600" y="-1440"/>
            <a:ext cx="6435000" cy="16794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Interface Suppor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retriev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pre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imulation: two interacting cod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DYS CASC2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86720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MS Goals and Front-E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lms04a" descr=""/>
          <p:cNvPicPr/>
          <p:nvPr/>
        </p:nvPicPr>
        <p:blipFill>
          <a:blip r:embed="rId4"/>
          <a:stretch/>
        </p:blipFill>
        <p:spPr>
          <a:xfrm>
            <a:off x="4559400" y="133668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EAE-DA9E-49B1-A485-1E97F72D64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E477C-907E-43F2-AAFE-F4C6913D3C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5333760"/>
          </a:xfrm>
          <a:prstGeom prst="rect">
            <a:avLst/>
          </a:prstGeom>
          <a:solidFill>
            <a:srgbClr val="22001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7440" y="1147680"/>
            <a:ext cx="1782720" cy="1622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1520" y="1554120"/>
            <a:ext cx="1473120" cy="1054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912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3986280"/>
            <a:ext cx="108432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9360" y="5527800"/>
            <a:ext cx="1084320" cy="40644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9280" y="398628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Data Retriev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105520"/>
            <a:ext cx="2743200" cy="97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20920" y="518148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igh Performance Sub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9360" y="3986280"/>
            <a:ext cx="1084320" cy="649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x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2240" y="4635360"/>
            <a:ext cx="0" cy="487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0640" y="310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1800" y="11476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Times New Roman"/>
              </a:rPr>
              <a:t>Web Brows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9280" y="1554120"/>
            <a:ext cx="1373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Data Wiz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WMS interfa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Toolb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7440" y="2851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9280" y="4392720"/>
            <a:ext cx="108576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89280" y="479736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1680" y="4392720"/>
            <a:ext cx="108432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716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9920" y="2770200"/>
            <a:ext cx="0" cy="4874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147680"/>
            <a:ext cx="2014200" cy="1865160"/>
            <a:chOff x="0" y="1147680"/>
            <a:chExt cx="2014200" cy="1865160"/>
          </a:xfrm>
        </p:grpSpPr>
        <p:sp>
          <p:nvSpPr>
            <p:cNvPr id="133" name=""/>
            <p:cNvSpPr/>
            <p:nvPr/>
          </p:nvSpPr>
          <p:spPr>
            <a:xfrm>
              <a:off x="0" y="114768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GIS &amp; DE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63404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011"/>
                  </a:solidFill>
                  <a:latin typeface="Times New Roman"/>
                </a:rPr>
                <a:t>Soils &amp; Land Us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12076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Weather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60712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Vegetation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008000" y="4149720"/>
            <a:ext cx="178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8000" y="4311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08000" y="3012840"/>
            <a:ext cx="0" cy="113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43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modu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back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23954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37160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appl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front-en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Flow on Globus -- LMS at CEW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AC8-8A0C-42A5-9C24-CCB8FDB7A7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BAE52-C0C6-480F-8BF9-63F0305432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does Gateway do for you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886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Toolkit to build high level application specific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web based problem solving environments 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CM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frame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Uses HPC Specific services and resources provided by other projects such a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Glob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Legion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strategy to conver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existing code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o distributed objects that can be seamlessly launched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defaul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job stat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display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rchitecture naturally support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(using shared events and TangoInteractive)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f structured as a multi tier service conforming to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erfa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mpositional Programming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of modul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MPI HPF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programming tools are either outside Gateway but could be given integrated web interface as part of Gateway -- we demonstrated this for HPF in early WebFlow 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9FC-4EC1-4B2D-952E-177E828F1C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1AAB8-CF38-46E5-BC81-72058642B5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41280" y="41400"/>
            <a:ext cx="8534520" cy="6816600"/>
            <a:chOff x="341280" y="41400"/>
            <a:chExt cx="8534520" cy="6816600"/>
          </a:xfrm>
        </p:grpSpPr>
        <p:pic>
          <p:nvPicPr>
            <p:cNvPr id="149" name="fig2" descr=""/>
            <p:cNvPicPr/>
            <p:nvPr/>
          </p:nvPicPr>
          <p:blipFill>
            <a:blip r:embed="rId1"/>
            <a:stretch/>
          </p:blipFill>
          <p:spPr>
            <a:xfrm>
              <a:off x="341280" y="41400"/>
              <a:ext cx="8534520" cy="68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494320" y="2954160"/>
              <a:ext cx="1143000" cy="45972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Globu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6680" y="2658960"/>
              <a:ext cx="173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000" y="124776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0640" y="277488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5560" y="282240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760" y="2844720"/>
              <a:ext cx="3421080" cy="1296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0320" y="161136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20" y="1633680"/>
              <a:ext cx="3421080" cy="126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44024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” Architectur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A50-B7CB-4B57-AAEC-CE3AAB3712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4138E-42FD-4CC8-BDBE-6948EA7479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1219680"/>
            <a:ext cx="1350720" cy="4374360"/>
            <a:chOff x="152280" y="1219680"/>
            <a:chExt cx="1350720" cy="4374360"/>
          </a:xfrm>
        </p:grpSpPr>
        <p:sp>
          <p:nvSpPr>
            <p:cNvPr id="160" name=""/>
            <p:cNvSpPr/>
            <p:nvPr/>
          </p:nvSpPr>
          <p:spPr>
            <a:xfrm rot="16200000">
              <a:off x="544680" y="46357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545040" y="3683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44680" y="27313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44680" y="177876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5040" y="8265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10280" y="1219320"/>
            <a:ext cx="1350720" cy="4372920"/>
            <a:chOff x="7010280" y="1219320"/>
            <a:chExt cx="1350720" cy="4372920"/>
          </a:xfrm>
        </p:grpSpPr>
        <p:sp>
          <p:nvSpPr>
            <p:cNvPr id="166" name=""/>
            <p:cNvSpPr/>
            <p:nvPr/>
          </p:nvSpPr>
          <p:spPr>
            <a:xfrm rot="5400000">
              <a:off x="7403040" y="82620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403040" y="17780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403040" y="27302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7403040" y="36824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403040" y="46342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66680" y="206280"/>
            <a:ext cx="5907240" cy="59104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5910480"/>
              <a:gd name="textAreaBottom" fmla="*/ 5622120 h 591048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2001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4920" y="14860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84920" y="246060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84920" y="339084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4920" y="43354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784920" y="529416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57200" y="1523880"/>
            <a:ext cx="1657440" cy="658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2400" y="243828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2400" y="338940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99960" y="4179960"/>
            <a:ext cx="1322640" cy="185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520" y="4392720"/>
            <a:ext cx="1887480" cy="941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B_OEQ127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3" name="B_OEQ127" descr=""/>
          <p:cNvPicPr/>
          <p:nvPr/>
        </p:nvPicPr>
        <p:blipFill>
          <a:blip r:embed="rId2"/>
          <a:stretch/>
        </p:blipFill>
        <p:spPr>
          <a:xfrm>
            <a:off x="76320" y="22654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4" name="B_OEQ127" descr=""/>
          <p:cNvPicPr/>
          <p:nvPr/>
        </p:nvPicPr>
        <p:blipFill>
          <a:blip r:embed="rId3"/>
          <a:stretch/>
        </p:blipFill>
        <p:spPr>
          <a:xfrm>
            <a:off x="76320" y="31798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5" name="B_OEQ127" descr=""/>
          <p:cNvPicPr/>
          <p:nvPr/>
        </p:nvPicPr>
        <p:blipFill>
          <a:blip r:embed="rId4"/>
          <a:stretch/>
        </p:blipFill>
        <p:spPr>
          <a:xfrm>
            <a:off x="76320" y="41702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6" name="B_OEQ127" descr=""/>
          <p:cNvPicPr/>
          <p:nvPr/>
        </p:nvPicPr>
        <p:blipFill>
          <a:blip r:embed="rId5"/>
          <a:stretch/>
        </p:blipFill>
        <p:spPr>
          <a:xfrm>
            <a:off x="76320" y="51609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53280" y="1219320"/>
            <a:ext cx="990720" cy="533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4038480"/>
            <a:ext cx="1219320" cy="59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153280" y="4876920"/>
            <a:ext cx="754200" cy="837720"/>
            <a:chOff x="8153280" y="4876920"/>
            <a:chExt cx="754200" cy="837720"/>
          </a:xfrm>
        </p:grpSpPr>
        <p:grpSp>
          <p:nvGrpSpPr>
            <p:cNvPr id="190" name=""/>
            <p:cNvGrpSpPr/>
            <p:nvPr/>
          </p:nvGrpSpPr>
          <p:grpSpPr>
            <a:xfrm>
              <a:off x="8153280" y="5557680"/>
              <a:ext cx="754200" cy="156960"/>
              <a:chOff x="8153280" y="5557680"/>
              <a:chExt cx="754200" cy="156960"/>
            </a:xfrm>
          </p:grpSpPr>
          <p:sp>
            <p:nvSpPr>
              <p:cNvPr id="191" name=""/>
              <p:cNvSpPr/>
              <p:nvPr/>
            </p:nvSpPr>
            <p:spPr>
              <a:xfrm>
                <a:off x="815328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5236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5144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5052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153280" y="5330880"/>
              <a:ext cx="754200" cy="156960"/>
              <a:chOff x="8153280" y="5330880"/>
              <a:chExt cx="754200" cy="156960"/>
            </a:xfrm>
          </p:grpSpPr>
          <p:sp>
            <p:nvSpPr>
              <p:cNvPr id="196" name=""/>
              <p:cNvSpPr/>
              <p:nvPr/>
            </p:nvSpPr>
            <p:spPr>
              <a:xfrm>
                <a:off x="815328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5236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5144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75052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153280" y="5103720"/>
              <a:ext cx="754200" cy="156960"/>
              <a:chOff x="8153280" y="5103720"/>
              <a:chExt cx="754200" cy="156960"/>
            </a:xfrm>
          </p:grpSpPr>
          <p:sp>
            <p:nvSpPr>
              <p:cNvPr id="201" name=""/>
              <p:cNvSpPr/>
              <p:nvPr/>
            </p:nvSpPr>
            <p:spPr>
              <a:xfrm>
                <a:off x="815328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5236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5144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5052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153280" y="4876920"/>
              <a:ext cx="754200" cy="156960"/>
              <a:chOff x="8153280" y="4876920"/>
              <a:chExt cx="754200" cy="156960"/>
            </a:xfrm>
          </p:grpSpPr>
          <p:sp>
            <p:nvSpPr>
              <p:cNvPr id="206" name=""/>
              <p:cNvSpPr/>
              <p:nvPr/>
            </p:nvSpPr>
            <p:spPr>
              <a:xfrm>
                <a:off x="815328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5236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55144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75052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8236800" y="563652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36800" y="54057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6800" y="51753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36800" y="49449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8236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2812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43264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2368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153280" y="2971800"/>
            <a:ext cx="754200" cy="837720"/>
            <a:chOff x="8153280" y="2971800"/>
            <a:chExt cx="754200" cy="837720"/>
          </a:xfrm>
        </p:grpSpPr>
        <p:grpSp>
          <p:nvGrpSpPr>
            <p:cNvPr id="219" name=""/>
            <p:cNvGrpSpPr/>
            <p:nvPr/>
          </p:nvGrpSpPr>
          <p:grpSpPr>
            <a:xfrm>
              <a:off x="8153280" y="3652560"/>
              <a:ext cx="754200" cy="156960"/>
              <a:chOff x="8153280" y="3652560"/>
              <a:chExt cx="754200" cy="156960"/>
            </a:xfrm>
          </p:grpSpPr>
          <p:sp>
            <p:nvSpPr>
              <p:cNvPr id="220" name=""/>
              <p:cNvSpPr/>
              <p:nvPr/>
            </p:nvSpPr>
            <p:spPr>
              <a:xfrm>
                <a:off x="815328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236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5144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75052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53280" y="3425760"/>
              <a:ext cx="754200" cy="156960"/>
              <a:chOff x="8153280" y="3425760"/>
              <a:chExt cx="754200" cy="156960"/>
            </a:xfrm>
          </p:grpSpPr>
          <p:sp>
            <p:nvSpPr>
              <p:cNvPr id="225" name=""/>
              <p:cNvSpPr/>
              <p:nvPr/>
            </p:nvSpPr>
            <p:spPr>
              <a:xfrm>
                <a:off x="815328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236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5144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5052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153280" y="3198600"/>
              <a:ext cx="754200" cy="156960"/>
              <a:chOff x="8153280" y="3198600"/>
              <a:chExt cx="75420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815328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236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5144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75052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153280" y="2971800"/>
              <a:ext cx="754200" cy="156960"/>
              <a:chOff x="8153280" y="2971800"/>
              <a:chExt cx="754200" cy="15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815328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236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5144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5052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236800" y="373140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6800" y="35006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6800" y="32702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0" y="30398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8236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2812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43264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368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20120" y="2122560"/>
            <a:ext cx="1523880" cy="674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4680" y="58784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3320" y="3733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1066680"/>
            <a:ext cx="1298520" cy="69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2057400"/>
            <a:ext cx="1603440" cy="8049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8124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886200"/>
            <a:ext cx="1298520" cy="898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6000" y="23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440" y="27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lti Tier Computing Mod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502920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4560" y="2155680"/>
            <a:ext cx="3051000" cy="22258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Grid Gatew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upporting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eamless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60680" y="4106880"/>
            <a:ext cx="2765520" cy="1684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Agent-based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hoice of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mpute Eng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168800">
            <a:off x="3099240" y="15840"/>
            <a:ext cx="1030680" cy="3012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Multidisciplinary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ntrol (WebFlow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8760" y="1451880"/>
            <a:ext cx="382320" cy="601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959360" y="1726920"/>
            <a:ext cx="434880" cy="4525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720" y="3429000"/>
            <a:ext cx="914400" cy="9144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789000" y="4005360"/>
            <a:ext cx="390600" cy="2966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4343400"/>
            <a:ext cx="533520" cy="1522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430520" y="1944360"/>
            <a:ext cx="1020600" cy="1273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565080" y="2004840"/>
            <a:ext cx="546120" cy="3524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333760" y="4952880"/>
            <a:ext cx="685800" cy="76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7360" y="5690520"/>
            <a:ext cx="584712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Gateway Programming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240" y="6272640"/>
            <a:ext cx="5487120" cy="5814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Good Old Programming T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570880" y="4397040"/>
            <a:ext cx="3240" cy="1987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531800" y="505296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38760" y="500688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B97-BA5B-4D55-AD15-2C17F7F426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D92F0-8981-4D90-A079-5B74883355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gramming Middle Tier of a Computational Gri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82760"/>
            <a:ext cx="9144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 will copy a much reviled model -- Microsoft Word or PowerPoint -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 Solving Environmen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for document preparation -- for Gateway programming toolb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word" descr=""/>
          <p:cNvPicPr/>
          <p:nvPr/>
        </p:nvPicPr>
        <p:blipFill>
          <a:blip r:embed="rId1"/>
          <a:stretch/>
        </p:blipFill>
        <p:spPr>
          <a:xfrm>
            <a:off x="4925880" y="2600280"/>
            <a:ext cx="4218120" cy="3821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525760"/>
            <a:ext cx="4894200" cy="3913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uting abstracted as a set of  hierarchical Toolbars</a:t>
            </a:r>
            <a:br>
              <a:rPr sz="24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olbars are defined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and rendered in HTML for user interface. XML interpreted on middle tier as some suitable servi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uting Toolbar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nclu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ser profile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where “command” could be AVS)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ming mode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PF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ource specific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source status, cod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application specifi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ACA-18CF-4CB3-A677-256F5F2C28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BF8DA-45BB-43D2-93A6-3C8FBB3161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c98fig2" descr=""/>
          <p:cNvPicPr/>
          <p:nvPr/>
        </p:nvPicPr>
        <p:blipFill>
          <a:blip r:embed="rId1"/>
          <a:stretch/>
        </p:blipFill>
        <p:spPr>
          <a:xfrm>
            <a:off x="2743200" y="0"/>
            <a:ext cx="6202440" cy="6553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895480" cy="53341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otype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nt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st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for NCS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ianc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2BA-66C5-412B-A719-43738B2524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4822F-B903-49F3-8F59-E52766B657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Fox</cp:lastModifiedBy>
  <cp:lastPrinted>1997-12-25T20:46:20Z</cp:lastPrinted>
  <dcterms:modified xsi:type="dcterms:W3CDTF">1999-06-09T16:17:54Z</dcterms:modified>
  <cp:revision>1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