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1D9D-9D04-4E82-93C1-927B06223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35C0-EEB2-46D3-B670-3F29AE6D2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72840" y="4799160"/>
            <a:ext cx="557676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Img"/>
          </p:nvPr>
        </p:nvSpPr>
        <p:spPr>
          <a:xfrm>
            <a:off x="771480" y="312840"/>
            <a:ext cx="5362560" cy="4022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B0939-6AE6-4881-A2C0-7B5A2561A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98813-FB0E-44A8-BDA0-FC9260700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4024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C34C5-5E9B-481E-B081-551E5B29D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5504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4840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5504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4840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69FF4-DBBC-4467-B0EE-404B4C1D6D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2743E-FBD2-4ABE-97D3-6D4484E62A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961FB-0840-440E-AC8F-785366133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59E67-4642-4D31-97DF-1EF2B40FD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39D15-90A8-4DED-8E7C-EFC688A2A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61680" y="336240"/>
            <a:ext cx="737388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C8667-04F0-4478-847A-DFE2232FE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150BB-FA71-4399-8564-E5FF7F8D9A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024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8AEAC-7C23-4B39-8FFC-ACE49C931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FB147-BD41-4881-8A2D-DDAEF3A53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-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6040" y="289080"/>
            <a:ext cx="920880" cy="404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276200" y="0"/>
            <a:ext cx="0" cy="685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879560" y="6242040"/>
            <a:ext cx="5043600" cy="479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>
              <a:lnSpc>
                <a:spcPct val="11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January 26, 1999--Bob Scheifler Copyright 1999 Sun Microsystems, Inc., all rights reser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664040" y="6191280"/>
            <a:ext cx="1244520" cy="479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fld id="{DDE176E8-65C0-4D57-94E3-8CB001D42E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553000"/>
            <a:ext cx="1738440" cy="130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57360" y="6242040"/>
            <a:ext cx="19206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7320" y="6242040"/>
            <a:ext cx="28796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73200" y="3051000"/>
            <a:ext cx="64720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™ Lookup Servi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38280" y="3892680"/>
            <a:ext cx="644832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Scheif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unSansCondensed-Regular"/>
              </a:rPr>
              <a:t>Senior Staff Engine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unSansCondensed-Regular"/>
              </a:rPr>
              <a:t>Sun Microsystems, In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rvice type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match on any Java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cluding superinterface or super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an get subinterface or subclass ba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: NestableTransactionManager extends TransactionManag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java.lang.Object matches everyt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rvice type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match using multiple Java typ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 semant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 want a combination TV/VCR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rg.ce.TV AND org.ce.VC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ellow pag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utomatic placement in all categor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"/>
              <a:buChar char="-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l superinterfaces and super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service also registers with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ttributes allow further discrimination between services of the same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end-user or progra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do lookup using service types and/or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generic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nufactur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printer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nochrome or col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aper siz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characteristic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ome defined by service itsel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ome defined by administrat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values aren’t always string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ultiple values for some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ttributes can have co-dependent valu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printer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nochrome, 600 dpi, 10 pp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nochrome, 300 dpi, 15 pp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lor, 300 dpi, 5 pp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10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etter, legal, envelo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represent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attribute is a public field of a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tribute name = field n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tribute type = field ty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class defines an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attribute se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-dependent attributes in the same cla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parate classes for orthogonal attribu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ervice h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t of attribute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stances of multiple class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ultiple instances of same cla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attribute class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rintAttrs implements net.jini.core.entry.En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rintEngine extends PrintAttr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teger pp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teger dp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Boolean 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attribute class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aperSize extends PrintAttr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PaperType siz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aperType implements java.io.Serializab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Letter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Legal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A4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Envelope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lookup servi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etwork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finding other network servi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orkgroup”-scale, not the entire Intern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a naming or directory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.500, LDAP, DNS, NDS, RMI regist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cus is on types, not nam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yellow pages, not white pag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oth programmatic and end-user acce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attribute class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Location implements net.jini.core.entry.En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flo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roo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buil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Name implements net.jini.core.entry.En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printer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ngine{color: false, dpi: 600, ppm: 1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ngine{color: false, dpi: 300, ppm: 1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ngine{color: true,  dpi: 300, ppm: 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ize{size: PaperType.Lett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ize{size: PaperType.Legal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ize{size: PaperType.Envelop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{floor: “1”, room: “1220”, building: “UCHL03”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{name: “narf”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set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on attribute set cl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cluding super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on attribute valu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xact value match on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emplate is just an attribute set instan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ull field is wildcard = match an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aken from Linda via JavaSp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Matching exampl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5680" y="2057400"/>
          <a:ext cx="7358040" cy="398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057400"/>
                    <a:ext cx="7358040" cy="39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rvice template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template contain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zero or more service typ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zero or more attribute set templa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&lt;proxy, set of attr sets&gt; matches if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oxy is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instance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each service type, a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each attribute set templat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"/>
              <a:buChar char="-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re is a matching attribute se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queri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 service named “narf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 Printer named “narf” in UCHL03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ll services on floor 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 JavaSpace made by Su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omplex queri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etween 300 and 600 dpi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n floor 1, 3, or 7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rst do template-based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sing wildcards as necessa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n do finer-grained match local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modific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only be done by service itsel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llows service to control polic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 is responsible for persistent stor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d, modify, delete, replace al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ttributes should change infrequent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imary search ke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query service directly for very dynamic st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Basic summa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perspecti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egister with desired attribu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keep renewing lea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dd, modify, delete attributes as desir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perspecti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okup any 1 of, get just proxy obje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okup up to N of, get proxies and attribu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eas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nsures results of client lookup are reasonably up to d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ookup service imposes maximum lease dur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radeoff between bandwidth (and load on lookup service) and how up to d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ximum lease will vary with contex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ookup service is closer to: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ETF Service Location Protoco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MG Trading Object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synchronous eve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ses same service template matc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terest registration is also leas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o match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w service added or attributes now m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no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 deleted or attributes no longer m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tributes changed but still m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uses of eve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min notified of new servi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min notified when service crash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ser notified when service is back on li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min notified when printer ja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User perspectiv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upport for incremental brows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service ty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attribute set 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attribute valu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ccess to service-specific GUI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pplet URL as an attribu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Discovery and sele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w does a client or service find lookup servi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w does a service know which ones to register wit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w does a client know which ones to do lookups i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ookup group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lookup service is configured to be a member of one or mor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roup is just an arbitrary string n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e standard “public” group, as defaul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service is configured to register with one or mor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client is configured to use lookup services from one or mor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Initial discove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ed by both clients an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 multicast request pa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roups you are looking f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host and TCP port to use to contact yo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it for lookup services to connect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ly those in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1 requested groups respo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load lookup service’s proxy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gister with or do lookup i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atecomer discove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on’t send multicast requests forev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top after a short wh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isten for multicast announcem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nt periodically by each lookup serv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roups lookup service is a member o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host and TCP port to contact lookup serv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nnect to if member of desired group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ownload lookup service prox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dministrative perspectiv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di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ase expires, registration is dropp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etwork parti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s automatically reregister at mer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vailability: replicate lookup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s automatically register with replic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ilover: start a new lookup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s automatically register with 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Hierarchy: one op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NS-style hierarchical group nam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lookup service is also a Jini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ne set of groups to be a member o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other set of groups to register wit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p and/or down links in hierarch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eature Comparis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01640" y="1828800"/>
          <a:ext cx="7317000" cy="46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1828800"/>
                    <a:ext cx="731700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service structur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is defined by one or more Java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has a front-end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MI stub or custom-coded 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implements Java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s only know about Java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service structur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can be specializ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particular implementation of serv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twork protocol between proxy and service can be private and vari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is downloaded to cli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asses are annotated with codebase U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ents oblivious to implementation detai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61680" y="678960"/>
            <a:ext cx="7373880" cy="6660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Example: Transaction Manag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.jini.core.transaction.server.Transaction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MI-based service implem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.sun.jini.mahalo.TxnManager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(RMI stub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.sun.jini.mahalo.TxnManagerImpl_St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only knows about TransactionManager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: JavaSpa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t.jini.space.Java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MI-based service implem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m.sun.jini.outrigger.FrontEnd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(custom-coded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m.sun.jini.outrigger.SpaceProx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only knows about JavaSpace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ookup service 10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service registers its proxy obj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does lookup by Java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instance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semant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PI uses java.lang.Class instances, not string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ent gets proxy object ba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eded classes are automatically downloa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21:01:58Z</dcterms:created>
  <dc:creator>Bob Scheifler</dc:creator>
  <dc:description/>
  <dc:language>en-US</dc:language>
  <cp:lastModifiedBy>Bob Scheifler</cp:lastModifiedBy>
  <cp:lastPrinted>1999-01-06T21:27:33Z</cp:lastPrinted>
  <dcterms:modified xsi:type="dcterms:W3CDTF">1999-01-13T17:42:30Z</dcterms:modified>
  <cp:revision>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\\~jini\home1\rws\tmp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