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8.xml.rels" ContentType="application/vnd.openxmlformats-package.relationships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10158413" cy="7616825"/>
  <p:notesSz cx="6923088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9228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sldNum" idx="3"/>
          </p:nvPr>
        </p:nvSpPr>
        <p:spPr>
          <a:xfrm>
            <a:off x="5805360" y="4478400"/>
            <a:ext cx="385920" cy="2347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  <a:defRPr b="0" lang="en-US" sz="1000" spc="-1" strike="noStrike">
                <a:solidFill>
                  <a:srgbClr val="000000"/>
                </a:solidFill>
                <a:latin typeface="SunSansCondensed-Dem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fld id="{93DD6076-5D3F-49A0-A115-27855B184DF2}" type="slidenum">
              <a:rPr b="0" lang="en-US" sz="1000" spc="-1" strike="noStrike">
                <a:solidFill>
                  <a:srgbClr val="000000"/>
                </a:solidFill>
                <a:latin typeface="SunSansCondensed-Dem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ldImg"/>
          </p:nvPr>
        </p:nvSpPr>
        <p:spPr>
          <a:xfrm>
            <a:off x="728280" y="320400"/>
            <a:ext cx="5511960" cy="4128840"/>
          </a:xfrm>
          <a:prstGeom prst="rect">
            <a:avLst/>
          </a:prstGeom>
          <a:noFill/>
          <a:ln w="12600">
            <a:solidFill>
              <a:srgbClr val="969696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86720" y="4503600"/>
            <a:ext cx="3074760" cy="2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9320" bIns="49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SunSansCondensed-Demi"/>
              </a:rPr>
              <a:t>Sun Microsystems Inc. Corporate Template  7/98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body"/>
          </p:nvPr>
        </p:nvSpPr>
        <p:spPr>
          <a:xfrm>
            <a:off x="678960" y="4925520"/>
            <a:ext cx="5627880" cy="42260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unSansCondensed-Regular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SunSansCondensed-Regular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3913200" y="-360"/>
            <a:ext cx="3014640" cy="4618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6480" y="8922960"/>
            <a:ext cx="3014640" cy="4618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hdr"/>
          </p:nvPr>
        </p:nvSpPr>
        <p:spPr>
          <a:xfrm>
            <a:off x="-6480" y="-360"/>
            <a:ext cx="3014640" cy="4618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0" y="8915400"/>
            <a:ext cx="29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0" y="8915400"/>
            <a:ext cx="29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0" y="8915400"/>
            <a:ext cx="29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body"/>
          </p:nvPr>
        </p:nvSpPr>
        <p:spPr>
          <a:xfrm>
            <a:off x="678960" y="4925520"/>
            <a:ext cx="5627880" cy="422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1200" spc="-1" strike="noStrike">
              <a:solidFill>
                <a:srgbClr val="000000"/>
              </a:solidFill>
              <a:latin typeface="SunSansCondensed-Regular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ldImg"/>
          </p:nvPr>
        </p:nvSpPr>
        <p:spPr>
          <a:xfrm>
            <a:off x="731880" y="320760"/>
            <a:ext cx="5505480" cy="41288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0" y="8915400"/>
            <a:ext cx="29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0" y="8915400"/>
            <a:ext cx="29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0" y="8915400"/>
            <a:ext cx="29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body"/>
          </p:nvPr>
        </p:nvSpPr>
        <p:spPr>
          <a:xfrm>
            <a:off x="678960" y="4925520"/>
            <a:ext cx="5627880" cy="422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1200" spc="-1" strike="noStrike">
              <a:solidFill>
                <a:srgbClr val="000000"/>
              </a:solidFill>
              <a:latin typeface="SunSansCondensed-Regular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ldImg"/>
          </p:nvPr>
        </p:nvSpPr>
        <p:spPr>
          <a:xfrm>
            <a:off x="731880" y="320760"/>
            <a:ext cx="5505480" cy="41288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0" y="8915400"/>
            <a:ext cx="29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0" y="8915400"/>
            <a:ext cx="29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0" y="8915400"/>
            <a:ext cx="29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body"/>
          </p:nvPr>
        </p:nvSpPr>
        <p:spPr>
          <a:xfrm>
            <a:off x="678960" y="4925520"/>
            <a:ext cx="5627880" cy="422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1200" spc="-1" strike="noStrike">
              <a:solidFill>
                <a:srgbClr val="000000"/>
              </a:solidFill>
              <a:latin typeface="SunSansCondensed-Regular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ldImg"/>
          </p:nvPr>
        </p:nvSpPr>
        <p:spPr>
          <a:xfrm>
            <a:off x="731880" y="320760"/>
            <a:ext cx="5505480" cy="41288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0" y="8915400"/>
            <a:ext cx="29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0" y="8915400"/>
            <a:ext cx="29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0" y="8915400"/>
            <a:ext cx="29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body"/>
          </p:nvPr>
        </p:nvSpPr>
        <p:spPr>
          <a:xfrm>
            <a:off x="678960" y="4925520"/>
            <a:ext cx="5627880" cy="422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1200" spc="-1" strike="noStrike">
              <a:solidFill>
                <a:srgbClr val="000000"/>
              </a:solidFill>
              <a:latin typeface="SunSansCondensed-Regular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ldImg"/>
          </p:nvPr>
        </p:nvSpPr>
        <p:spPr>
          <a:xfrm>
            <a:off x="731880" y="320760"/>
            <a:ext cx="5505480" cy="41288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0" y="8915400"/>
            <a:ext cx="29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0" y="8915400"/>
            <a:ext cx="29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0" y="8915400"/>
            <a:ext cx="29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body"/>
          </p:nvPr>
        </p:nvSpPr>
        <p:spPr>
          <a:xfrm>
            <a:off x="678960" y="4925520"/>
            <a:ext cx="5627880" cy="422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1200" spc="-1" strike="noStrike">
              <a:solidFill>
                <a:srgbClr val="000000"/>
              </a:solidFill>
              <a:latin typeface="SunSansCondensed-Regular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ldImg"/>
          </p:nvPr>
        </p:nvSpPr>
        <p:spPr>
          <a:xfrm>
            <a:off x="731880" y="320760"/>
            <a:ext cx="5505480" cy="41288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0" y="8915400"/>
            <a:ext cx="29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0" y="8915400"/>
            <a:ext cx="29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0" y="8915400"/>
            <a:ext cx="29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body"/>
          </p:nvPr>
        </p:nvSpPr>
        <p:spPr>
          <a:xfrm>
            <a:off x="678960" y="4925520"/>
            <a:ext cx="5627880" cy="422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1200" spc="-1" strike="noStrike">
              <a:solidFill>
                <a:srgbClr val="000000"/>
              </a:solidFill>
              <a:latin typeface="SunSansCondensed-Regular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ldImg"/>
          </p:nvPr>
        </p:nvSpPr>
        <p:spPr>
          <a:xfrm>
            <a:off x="731880" y="320760"/>
            <a:ext cx="5505480" cy="41288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0" y="8915400"/>
            <a:ext cx="29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0" y="8915400"/>
            <a:ext cx="29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0" y="8915400"/>
            <a:ext cx="29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body"/>
          </p:nvPr>
        </p:nvSpPr>
        <p:spPr>
          <a:xfrm>
            <a:off x="678960" y="4925520"/>
            <a:ext cx="5627880" cy="422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1200" spc="-1" strike="noStrike">
              <a:solidFill>
                <a:srgbClr val="000000"/>
              </a:solidFill>
              <a:latin typeface="SunSansCondensed-Regular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ldImg"/>
          </p:nvPr>
        </p:nvSpPr>
        <p:spPr>
          <a:xfrm>
            <a:off x="731880" y="320760"/>
            <a:ext cx="5505480" cy="41288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0" y="8915400"/>
            <a:ext cx="29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0" y="8915400"/>
            <a:ext cx="29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0" y="8915400"/>
            <a:ext cx="29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body"/>
          </p:nvPr>
        </p:nvSpPr>
        <p:spPr>
          <a:xfrm>
            <a:off x="678960" y="4925520"/>
            <a:ext cx="5627880" cy="422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1200" spc="-1" strike="noStrike">
              <a:solidFill>
                <a:srgbClr val="000000"/>
              </a:solidFill>
              <a:latin typeface="SunSansCondensed-Regular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sldImg"/>
          </p:nvPr>
        </p:nvSpPr>
        <p:spPr>
          <a:xfrm>
            <a:off x="731880" y="320760"/>
            <a:ext cx="5505480" cy="41288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0" y="8915400"/>
            <a:ext cx="29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0" y="8915400"/>
            <a:ext cx="29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0" y="8915400"/>
            <a:ext cx="29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body"/>
          </p:nvPr>
        </p:nvSpPr>
        <p:spPr>
          <a:xfrm>
            <a:off x="678960" y="4925520"/>
            <a:ext cx="5627880" cy="422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1200" spc="-1" strike="noStrike">
              <a:solidFill>
                <a:srgbClr val="000000"/>
              </a:solidFill>
              <a:latin typeface="SunSansCondensed-Regular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ldImg"/>
          </p:nvPr>
        </p:nvSpPr>
        <p:spPr>
          <a:xfrm>
            <a:off x="731880" y="320760"/>
            <a:ext cx="5505480" cy="41288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0" y="8915400"/>
            <a:ext cx="29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0" y="8915400"/>
            <a:ext cx="29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0" y="8915400"/>
            <a:ext cx="29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body"/>
          </p:nvPr>
        </p:nvSpPr>
        <p:spPr>
          <a:xfrm>
            <a:off x="678960" y="4925520"/>
            <a:ext cx="5627880" cy="422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1200" spc="-1" strike="noStrike">
              <a:solidFill>
                <a:srgbClr val="000000"/>
              </a:solidFill>
              <a:latin typeface="SunSansCondensed-Regular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sldImg"/>
          </p:nvPr>
        </p:nvSpPr>
        <p:spPr>
          <a:xfrm>
            <a:off x="731880" y="320760"/>
            <a:ext cx="5505480" cy="41288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0" y="8915400"/>
            <a:ext cx="29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0" y="8915400"/>
            <a:ext cx="29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0" y="8915400"/>
            <a:ext cx="29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body"/>
          </p:nvPr>
        </p:nvSpPr>
        <p:spPr>
          <a:xfrm>
            <a:off x="678960" y="4925520"/>
            <a:ext cx="5627880" cy="422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1200" spc="-1" strike="noStrike">
              <a:solidFill>
                <a:srgbClr val="000000"/>
              </a:solidFill>
              <a:latin typeface="SunSansCondensed-Regular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ldImg"/>
          </p:nvPr>
        </p:nvSpPr>
        <p:spPr>
          <a:xfrm>
            <a:off x="731880" y="320760"/>
            <a:ext cx="5505480" cy="41288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0" y="8915400"/>
            <a:ext cx="29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0" y="8915400"/>
            <a:ext cx="29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0" y="8915400"/>
            <a:ext cx="29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body"/>
          </p:nvPr>
        </p:nvSpPr>
        <p:spPr>
          <a:xfrm>
            <a:off x="678960" y="4925520"/>
            <a:ext cx="5627880" cy="422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1200" spc="-1" strike="noStrike">
              <a:solidFill>
                <a:srgbClr val="000000"/>
              </a:solidFill>
              <a:latin typeface="SunSansCondensed-Regular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ldImg"/>
          </p:nvPr>
        </p:nvSpPr>
        <p:spPr>
          <a:xfrm>
            <a:off x="731880" y="320760"/>
            <a:ext cx="5505480" cy="41288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0" y="8915400"/>
            <a:ext cx="29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0" y="8915400"/>
            <a:ext cx="29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0" y="8915400"/>
            <a:ext cx="29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678960" y="4925520"/>
            <a:ext cx="5627880" cy="422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1200" spc="-1" strike="noStrike">
              <a:solidFill>
                <a:srgbClr val="000000"/>
              </a:solidFill>
              <a:latin typeface="SunSansCondensed-Regular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ldImg"/>
          </p:nvPr>
        </p:nvSpPr>
        <p:spPr>
          <a:xfrm>
            <a:off x="731880" y="320760"/>
            <a:ext cx="5505480" cy="41288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0" y="8915400"/>
            <a:ext cx="29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0" y="8915400"/>
            <a:ext cx="29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0" y="8915400"/>
            <a:ext cx="29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body"/>
          </p:nvPr>
        </p:nvSpPr>
        <p:spPr>
          <a:xfrm>
            <a:off x="678960" y="4925520"/>
            <a:ext cx="5627880" cy="422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1200" spc="-1" strike="noStrike">
              <a:solidFill>
                <a:srgbClr val="000000"/>
              </a:solidFill>
              <a:latin typeface="SunSansCondensed-Regular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sldImg"/>
          </p:nvPr>
        </p:nvSpPr>
        <p:spPr>
          <a:xfrm>
            <a:off x="731880" y="320760"/>
            <a:ext cx="5505480" cy="41288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0" y="8915400"/>
            <a:ext cx="29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0" y="8915400"/>
            <a:ext cx="29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0" y="8915400"/>
            <a:ext cx="29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body"/>
          </p:nvPr>
        </p:nvSpPr>
        <p:spPr>
          <a:xfrm>
            <a:off x="678960" y="4925520"/>
            <a:ext cx="5627880" cy="422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1200" spc="-1" strike="noStrike">
              <a:solidFill>
                <a:srgbClr val="000000"/>
              </a:solidFill>
              <a:latin typeface="SunSansCondensed-Regular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ldImg"/>
          </p:nvPr>
        </p:nvSpPr>
        <p:spPr>
          <a:xfrm>
            <a:off x="731880" y="320760"/>
            <a:ext cx="5505480" cy="41288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0" y="8915400"/>
            <a:ext cx="29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0" y="8915400"/>
            <a:ext cx="29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0" y="8915400"/>
            <a:ext cx="29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body"/>
          </p:nvPr>
        </p:nvSpPr>
        <p:spPr>
          <a:xfrm>
            <a:off x="678960" y="4925520"/>
            <a:ext cx="5627880" cy="422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1200" spc="-1" strike="noStrike">
              <a:solidFill>
                <a:srgbClr val="000000"/>
              </a:solidFill>
              <a:latin typeface="SunSansCondensed-Regular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ldImg"/>
          </p:nvPr>
        </p:nvSpPr>
        <p:spPr>
          <a:xfrm>
            <a:off x="731880" y="320760"/>
            <a:ext cx="5505480" cy="412884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708737-839C-4886-8366-F0FB01E89A5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35200" y="378360"/>
            <a:ext cx="8191440" cy="1491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735200" y="2199960"/>
            <a:ext cx="8191440" cy="2179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None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735200" y="4587120"/>
            <a:ext cx="8191440" cy="2179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None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493921-987A-4B35-A5F4-F0ABC3A3E3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35200" y="378360"/>
            <a:ext cx="8191440" cy="1491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735200" y="2199960"/>
            <a:ext cx="3997080" cy="2179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None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932440" y="2199960"/>
            <a:ext cx="3997080" cy="2179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None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735200" y="4587120"/>
            <a:ext cx="3997080" cy="2179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None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932440" y="4587120"/>
            <a:ext cx="3997080" cy="2179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None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177239-703F-4CE8-A69F-5BFD514876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35200" y="378360"/>
            <a:ext cx="8191440" cy="1491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735200" y="2199960"/>
            <a:ext cx="2637360" cy="2179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None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04680" y="2199960"/>
            <a:ext cx="2637360" cy="2179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None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7274520" y="2199960"/>
            <a:ext cx="2637360" cy="2179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None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735200" y="4587120"/>
            <a:ext cx="2637360" cy="2179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None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4504680" y="4587120"/>
            <a:ext cx="2637360" cy="2179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None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7274520" y="4587120"/>
            <a:ext cx="2637360" cy="2179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None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F47E77-B973-4FC1-9174-521406882A8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35200" y="378360"/>
            <a:ext cx="8191440" cy="1491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735200" y="2199960"/>
            <a:ext cx="81914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B7472F-A591-4CAB-8D2C-999F1A6A6FF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35200" y="378360"/>
            <a:ext cx="8191440" cy="1491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35200" y="2199960"/>
            <a:ext cx="8191440" cy="4570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None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FC40AD-9DA2-4B57-9264-948A1AEBE91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35200" y="378360"/>
            <a:ext cx="8191440" cy="1491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735200" y="2199960"/>
            <a:ext cx="3997080" cy="4570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None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932440" y="2199960"/>
            <a:ext cx="3997080" cy="4570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None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845E67-111A-49CB-ACD1-591FC72B8A0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35200" y="378360"/>
            <a:ext cx="8191440" cy="1491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76F6B0-A6B8-43CC-9086-8A7C1F3589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735200" y="378360"/>
            <a:ext cx="8191440" cy="69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B098BC-F1C2-4A9A-9F37-75864F866D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35200" y="378360"/>
            <a:ext cx="8191440" cy="1491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735200" y="2199960"/>
            <a:ext cx="3997080" cy="2179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None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932440" y="2199960"/>
            <a:ext cx="3997080" cy="4570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None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735200" y="4587120"/>
            <a:ext cx="3997080" cy="2179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None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A51864-D153-4685-A1E4-28CA04EACC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35200" y="378360"/>
            <a:ext cx="8191440" cy="1491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735200" y="2199960"/>
            <a:ext cx="3997080" cy="4570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None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932440" y="2199960"/>
            <a:ext cx="3997080" cy="2179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None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932440" y="4587120"/>
            <a:ext cx="3997080" cy="2179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None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018574-57B4-44AA-8360-632AA95716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35200" y="378360"/>
            <a:ext cx="8191440" cy="1491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735200" y="2199960"/>
            <a:ext cx="3997080" cy="2179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None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932440" y="2199960"/>
            <a:ext cx="3997080" cy="2179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None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735200" y="4587120"/>
            <a:ext cx="8191440" cy="2179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None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03A727-C219-44EF-BE62-2C1FBF9CF14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35200" y="378360"/>
            <a:ext cx="8191440" cy="1491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35200" y="2199960"/>
            <a:ext cx="8191440" cy="4570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 fontScale="87000"/>
          </a:bodyPr>
          <a:p>
            <a:pPr marL="331200" indent="-33120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Clr>
                <a:srgbClr val="000000"/>
              </a:buClr>
              <a:buFont typeface="Times"/>
              <a:buChar char="•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7840" indent="-27612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Clr>
                <a:srgbClr val="000000"/>
              </a:buClr>
              <a:buFont typeface="Times"/>
              <a:buChar char="–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4840" indent="-22104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Clr>
                <a:srgbClr val="000000"/>
              </a:buClr>
              <a:buFont typeface="Times"/>
              <a:buChar char="-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lvl="3" marL="1546560" indent="-22104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Clr>
                <a:srgbClr val="ffffff"/>
              </a:buClr>
              <a:buFont typeface="SunSans-Demi"/>
              <a:buChar char="–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lvl="4" marL="1988640" indent="-22104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Clr>
                <a:srgbClr val="ffffff"/>
              </a:buClr>
              <a:buFont typeface="SunSans-Demi"/>
              <a:buChar char="•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lvl="5" marL="1988640" indent="-22104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Clr>
                <a:srgbClr val="ffffff"/>
              </a:buClr>
              <a:buFont typeface="SunSans-Demi"/>
              <a:buChar char="•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lvl="6" marL="1988640" indent="-22104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Clr>
                <a:srgbClr val="ffffff"/>
              </a:buClr>
              <a:buFont typeface="SunSans-Demi"/>
              <a:buChar char="•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95120" y="320760"/>
            <a:ext cx="1024200" cy="44928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1417680" y="0"/>
            <a:ext cx="0" cy="7615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2087640" y="6932520"/>
            <a:ext cx="560376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January 26, 1999--Ann Wollrath Copyright 1999 Sun Microsystems, Inc., 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8515080" y="6875280"/>
            <a:ext cx="138276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241FC-5AD1-4405-915C-C606021E70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0" y="6167520"/>
            <a:ext cx="1930320" cy="1447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30080" y="6932520"/>
            <a:ext cx="2133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473280" y="6932520"/>
            <a:ext cx="3200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47800" y="3391920"/>
            <a:ext cx="7189920" cy="7920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Java</a:t>
            </a:r>
            <a:r>
              <a:rPr b="0" lang="en-US" sz="5400" spc="-1" strike="noStrike" baseline="4000">
                <a:solidFill>
                  <a:srgbClr val="000000"/>
                </a:solidFill>
                <a:latin typeface="Times New Roman"/>
              </a:rPr>
              <a:t>™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RMI Overview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709280" y="4322520"/>
            <a:ext cx="7162920" cy="19047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Autofit/>
          </a:bodyPr>
          <a:p>
            <a:pPr marL="3808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nn Wollrat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ior Staff Engine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un Microsystems, Inc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35200" y="727920"/>
            <a:ext cx="8191440" cy="7920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RMI Application Model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752120" y="1981080"/>
            <a:ext cx="8191800" cy="45705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 fontScale="99000"/>
          </a:bodyPr>
          <a:p>
            <a:pPr marL="376920" indent="-37692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Clr>
                <a:srgbClr val="000000"/>
              </a:buClr>
              <a:buFont typeface="Times"/>
              <a:buChar char="•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Pure RMI solution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lvl="1" marL="817200" indent="-314280">
              <a:lnSpc>
                <a:spcPct val="85000"/>
              </a:lnSpc>
              <a:spcAft>
                <a:spcPts val="751"/>
              </a:spcAft>
              <a:buClr>
                <a:srgbClr val="000000"/>
              </a:buClr>
              <a:buFont typeface="Times"/>
              <a:buChar char="–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lient/serve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817200" indent="-314280">
              <a:lnSpc>
                <a:spcPct val="85000"/>
              </a:lnSpc>
              <a:spcAft>
                <a:spcPts val="751"/>
              </a:spcAft>
              <a:buClr>
                <a:srgbClr val="000000"/>
              </a:buClr>
              <a:buFont typeface="Times"/>
              <a:buChar char="–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Peer-to-pee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817200" indent="-314280">
              <a:lnSpc>
                <a:spcPct val="85000"/>
              </a:lnSpc>
              <a:spcAft>
                <a:spcPts val="751"/>
              </a:spcAft>
              <a:buClr>
                <a:srgbClr val="000000"/>
              </a:buClr>
              <a:buFont typeface="Times"/>
              <a:buChar char="–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gent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76920" indent="-37692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Clr>
                <a:srgbClr val="000000"/>
              </a:buClr>
              <a:buFont typeface="Times"/>
              <a:buChar char="•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Three-tier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lvl="1" marL="817200" indent="-314280">
              <a:lnSpc>
                <a:spcPct val="85000"/>
              </a:lnSpc>
              <a:spcAft>
                <a:spcPts val="751"/>
              </a:spcAft>
              <a:buClr>
                <a:srgbClr val="000000"/>
              </a:buClr>
              <a:buFont typeface="Times"/>
              <a:buChar char="–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RMI --&gt; JDBC --&gt; databas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76920" indent="-37692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Clr>
                <a:srgbClr val="000000"/>
              </a:buClr>
              <a:buFont typeface="Times"/>
              <a:buChar char="•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Connect to legacy systems (via JNI)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lvl="1" marL="817200" indent="-314280">
              <a:lnSpc>
                <a:spcPct val="85000"/>
              </a:lnSpc>
              <a:spcAft>
                <a:spcPts val="751"/>
              </a:spcAft>
              <a:buClr>
                <a:srgbClr val="000000"/>
              </a:buClr>
              <a:buFont typeface="Times"/>
              <a:buChar char="–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RMI --&gt; Java wrapper --&gt; existing system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735200" y="378360"/>
            <a:ext cx="8191440" cy="1491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Distributed Object Application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735200" y="2199960"/>
            <a:ext cx="8191440" cy="4570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80880" indent="-38088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Clr>
                <a:srgbClr val="000000"/>
              </a:buClr>
              <a:buFont typeface="Times"/>
              <a:buChar char="•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Typically, these applications need to: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lvl="1" marL="825480" indent="-317520">
              <a:lnSpc>
                <a:spcPct val="85000"/>
              </a:lnSpc>
              <a:spcAft>
                <a:spcPts val="751"/>
              </a:spcAft>
              <a:buClr>
                <a:srgbClr val="000000"/>
              </a:buClr>
              <a:buFont typeface="Times"/>
              <a:buChar char="–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ocate remote object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825480" indent="-317520">
              <a:lnSpc>
                <a:spcPct val="85000"/>
              </a:lnSpc>
              <a:spcAft>
                <a:spcPts val="751"/>
              </a:spcAft>
              <a:buClr>
                <a:srgbClr val="000000"/>
              </a:buClr>
              <a:buFont typeface="Times"/>
              <a:buChar char="–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ommunicate with remote object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825480" indent="-317520">
              <a:lnSpc>
                <a:spcPct val="85000"/>
              </a:lnSpc>
              <a:spcAft>
                <a:spcPts val="751"/>
              </a:spcAft>
              <a:buClr>
                <a:srgbClr val="000000"/>
              </a:buClr>
              <a:buFont typeface="Times"/>
              <a:buChar char="–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oad class bytecodes for objects that are passed in remote method calls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880" y="6932520"/>
            <a:ext cx="2133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475080" y="6932520"/>
            <a:ext cx="3200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35200" y="727920"/>
            <a:ext cx="8191440" cy="7920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Locating Remote Object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3429000" y="2209320"/>
            <a:ext cx="3505320" cy="1295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057400" y="3276720"/>
            <a:ext cx="1295280" cy="38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715000" y="3200400"/>
            <a:ext cx="1752480" cy="1371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934320" y="1905120"/>
            <a:ext cx="1752480" cy="609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ist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943600" y="3429000"/>
            <a:ext cx="152280" cy="15228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867280" y="4114800"/>
            <a:ext cx="152640" cy="15228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553080" y="4267080"/>
            <a:ext cx="152640" cy="1526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248520" y="3352680"/>
            <a:ext cx="152280" cy="1526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6553080" y="2362320"/>
            <a:ext cx="381240" cy="838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477120" y="2666880"/>
            <a:ext cx="533160" cy="3070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M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029200" y="2666880"/>
            <a:ext cx="533520" cy="3070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M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731880" y="6932520"/>
            <a:ext cx="2133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475080" y="6932520"/>
            <a:ext cx="3200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35200" y="727920"/>
            <a:ext cx="8191440" cy="7920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Remote Communicatio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3429000" y="2209320"/>
            <a:ext cx="3505320" cy="1295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057400" y="3276720"/>
            <a:ext cx="1295280" cy="38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715000" y="3200400"/>
            <a:ext cx="1752480" cy="1371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1905120"/>
            <a:ext cx="1752480" cy="609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ist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352680" y="3505320"/>
            <a:ext cx="2590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943600" y="3429000"/>
            <a:ext cx="152280" cy="15228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867280" y="4114800"/>
            <a:ext cx="152640" cy="15228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553080" y="4267080"/>
            <a:ext cx="152640" cy="1526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248520" y="3352680"/>
            <a:ext cx="152280" cy="1526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6553080" y="2362320"/>
            <a:ext cx="381240" cy="838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477120" y="2666880"/>
            <a:ext cx="533160" cy="3070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M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029200" y="2666880"/>
            <a:ext cx="533520" cy="3070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M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343400" y="3352680"/>
            <a:ext cx="533520" cy="3070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M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731880" y="6932520"/>
            <a:ext cx="2133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475080" y="6932520"/>
            <a:ext cx="3200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35200" y="727920"/>
            <a:ext cx="8191440" cy="7920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Loading Classe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3429000" y="2209320"/>
            <a:ext cx="3505320" cy="1295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057400" y="3276720"/>
            <a:ext cx="1295280" cy="38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715000" y="3200400"/>
            <a:ext cx="1752480" cy="1371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858000" y="5029200"/>
            <a:ext cx="1752480" cy="609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b 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676520" y="5410080"/>
            <a:ext cx="1752480" cy="609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b 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934320" y="1905120"/>
            <a:ext cx="1752480" cy="609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ist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743200" y="3657600"/>
            <a:ext cx="4114800" cy="1676520"/>
          </a:xfrm>
          <a:prstGeom prst="line">
            <a:avLst/>
          </a:prstGeom>
          <a:ln w="12600">
            <a:solidFill>
              <a:srgbClr val="969696"/>
            </a:solidFill>
            <a:prstDash val="sysDot"/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352680" y="3505320"/>
            <a:ext cx="2590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943600" y="3429000"/>
            <a:ext cx="152280" cy="15228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867280" y="4114800"/>
            <a:ext cx="152640" cy="15228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53080" y="4267080"/>
            <a:ext cx="152640" cy="1526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248520" y="3352680"/>
            <a:ext cx="152280" cy="1526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6553080" y="2362320"/>
            <a:ext cx="381240" cy="838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3505320" y="4572000"/>
            <a:ext cx="3124080" cy="1219320"/>
          </a:xfrm>
          <a:prstGeom prst="line">
            <a:avLst/>
          </a:prstGeom>
          <a:ln w="12600">
            <a:solidFill>
              <a:srgbClr val="969696"/>
            </a:solidFill>
            <a:prstDash val="sysDot"/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848720" y="2514600"/>
            <a:ext cx="0" cy="2514600"/>
          </a:xfrm>
          <a:prstGeom prst="line">
            <a:avLst/>
          </a:prstGeom>
          <a:ln w="12600">
            <a:solidFill>
              <a:srgbClr val="969696"/>
            </a:solidFill>
            <a:prstDash val="sysDot"/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351600" y="4038480"/>
            <a:ext cx="1179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imes New Roman"/>
              </a:rPr>
              <a:t>URL protoco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119840" y="5257800"/>
            <a:ext cx="1179000" cy="3070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imes New Roman"/>
              </a:rPr>
              <a:t>URL protoco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77120" y="2666880"/>
            <a:ext cx="533160" cy="3070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M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701120" y="3733920"/>
            <a:ext cx="1179000" cy="3070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imes New Roman"/>
              </a:rPr>
              <a:t>URL protoco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029200" y="2666880"/>
            <a:ext cx="533520" cy="3070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M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343400" y="3352680"/>
            <a:ext cx="533520" cy="3070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M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2554200" y="2151000"/>
            <a:ext cx="6346800" cy="12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Architecture</a:t>
            </a:r>
            <a:endParaRPr b="0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35200" y="727920"/>
            <a:ext cx="8191440" cy="7920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Java RMI API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752120" y="1904760"/>
            <a:ext cx="8191800" cy="4570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 fontScale="93000"/>
          </a:bodyPr>
          <a:p>
            <a:pPr marL="353880" indent="-35388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Clr>
                <a:srgbClr val="000000"/>
              </a:buClr>
              <a:buFont typeface="Arial Narrow"/>
              <a:buChar char="•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 Narrow"/>
              </a:rPr>
              <a:t>java.rmi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lvl="1" marL="767520" indent="-295200">
              <a:lnSpc>
                <a:spcPct val="85000"/>
              </a:lnSpc>
              <a:spcAft>
                <a:spcPts val="751"/>
              </a:spcAft>
              <a:buClr>
                <a:srgbClr val="000000"/>
              </a:buClr>
              <a:buFont typeface="Times"/>
              <a:buChar char="–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lient API, naming, exception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53880" indent="-35388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Clr>
                <a:srgbClr val="000000"/>
              </a:buClr>
              <a:buFont typeface="Arial Narrow"/>
              <a:buChar char="•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 Narrow"/>
              </a:rPr>
              <a:t>java.rmi.registry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lvl="1" marL="767520" indent="-295200">
              <a:lnSpc>
                <a:spcPct val="85000"/>
              </a:lnSpc>
              <a:spcAft>
                <a:spcPts val="751"/>
              </a:spcAft>
              <a:buClr>
                <a:srgbClr val="000000"/>
              </a:buClr>
              <a:buFont typeface="Times"/>
              <a:buChar char="–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registry interface, factory, lookup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53880" indent="-35388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Clr>
                <a:srgbClr val="000000"/>
              </a:buClr>
              <a:buFont typeface="Arial Narrow"/>
              <a:buChar char="•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 Narrow"/>
              </a:rPr>
              <a:t>java.rmi.server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lvl="1" marL="767520" indent="-295200">
              <a:lnSpc>
                <a:spcPct val="85000"/>
              </a:lnSpc>
              <a:spcAft>
                <a:spcPts val="751"/>
              </a:spcAft>
              <a:buClr>
                <a:srgbClr val="000000"/>
              </a:buClr>
              <a:buFont typeface="Times"/>
              <a:buChar char="–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remote object implementation class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53880" indent="-35388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Clr>
                <a:srgbClr val="000000"/>
              </a:buClr>
              <a:buFont typeface="Arial Narrow"/>
              <a:buChar char="•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 Narrow"/>
              </a:rPr>
              <a:t>java.rmi.activation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lvl="1" marL="767520" indent="-295200">
              <a:lnSpc>
                <a:spcPct val="85000"/>
              </a:lnSpc>
              <a:spcAft>
                <a:spcPts val="751"/>
              </a:spcAft>
              <a:buClr>
                <a:srgbClr val="000000"/>
              </a:buClr>
              <a:buFont typeface="Times"/>
              <a:buChar char="–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upports activatable remote object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35200" y="727920"/>
            <a:ext cx="8191440" cy="7920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Components of RMI System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752120" y="1904760"/>
            <a:ext cx="8191800" cy="4570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 fontScale="94000"/>
          </a:bodyPr>
          <a:p>
            <a:pPr marL="357840" indent="-35784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Clr>
                <a:srgbClr val="000000"/>
              </a:buClr>
              <a:buFont typeface="Times"/>
              <a:buChar char="•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RMI runtime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lvl="1" marL="775800" indent="-298440">
              <a:lnSpc>
                <a:spcPct val="85000"/>
              </a:lnSpc>
              <a:spcAft>
                <a:spcPts val="751"/>
              </a:spcAft>
              <a:buClr>
                <a:srgbClr val="000000"/>
              </a:buClr>
              <a:buFont typeface="Times"/>
              <a:buChar char="–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remote referenc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75800" indent="-298440">
              <a:lnSpc>
                <a:spcPct val="85000"/>
              </a:lnSpc>
              <a:spcAft>
                <a:spcPts val="751"/>
              </a:spcAft>
              <a:buClr>
                <a:srgbClr val="000000"/>
              </a:buClr>
              <a:buFont typeface="Times"/>
              <a:buChar char="–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protoco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75800" indent="-298440">
              <a:lnSpc>
                <a:spcPct val="85000"/>
              </a:lnSpc>
              <a:spcAft>
                <a:spcPts val="751"/>
              </a:spcAft>
              <a:buClr>
                <a:srgbClr val="000000"/>
              </a:buClr>
              <a:buFont typeface="Times"/>
              <a:buChar char="–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ranspor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75800" indent="-298440">
              <a:lnSpc>
                <a:spcPct val="85000"/>
              </a:lnSpc>
              <a:spcAft>
                <a:spcPts val="751"/>
              </a:spcAft>
              <a:buClr>
                <a:srgbClr val="000000"/>
              </a:buClr>
              <a:buFont typeface="Times"/>
              <a:buChar char="–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lass loading and DGC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57840" indent="-35784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Clr>
                <a:srgbClr val="000000"/>
              </a:buClr>
              <a:buFont typeface="Arial Narrow"/>
              <a:buChar char="•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 Narrow"/>
              </a:rPr>
              <a:t>rmiregistry</a:t>
            </a: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: the remote object registry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57840" indent="-35784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Clr>
                <a:srgbClr val="000000"/>
              </a:buClr>
              <a:buFont typeface="Arial Narrow"/>
              <a:buChar char="•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 Narrow"/>
              </a:rPr>
              <a:t>rmid</a:t>
            </a: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: the RMI activation daemon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57840" indent="-35784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Clr>
                <a:srgbClr val="000000"/>
              </a:buClr>
              <a:buFont typeface="Arial Narrow"/>
              <a:buChar char="•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 Narrow"/>
              </a:rPr>
              <a:t>rmic</a:t>
            </a: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: the RMI stub compiler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735200" y="727920"/>
            <a:ext cx="8191440" cy="7920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RMI Architectur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arch2" descr=""/>
          <p:cNvPicPr/>
          <p:nvPr/>
        </p:nvPicPr>
        <p:blipFill>
          <a:blip r:embed="rId1"/>
          <a:stretch/>
        </p:blipFill>
        <p:spPr>
          <a:xfrm>
            <a:off x="3425760" y="2270160"/>
            <a:ext cx="3305160" cy="30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731880" y="6932520"/>
            <a:ext cx="2133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475080" y="6932520"/>
            <a:ext cx="3200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735200" y="727920"/>
            <a:ext cx="8191440" cy="7920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Method Invocatio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2057400"/>
            <a:ext cx="2971800" cy="4038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19920" y="2057400"/>
            <a:ext cx="3047760" cy="4038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2286000"/>
            <a:ext cx="2286000" cy="1523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666880" y="3048120"/>
            <a:ext cx="1524240" cy="609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fere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095880" y="5029200"/>
            <a:ext cx="175284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MI run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971800" y="5029200"/>
            <a:ext cx="175248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MI run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363400" y="2362320"/>
            <a:ext cx="68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324480" y="2286000"/>
            <a:ext cx="221004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041200" y="1565280"/>
            <a:ext cx="164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ller’s V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94080" y="1523880"/>
            <a:ext cx="264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ote object’s V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477120" y="23623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ote objec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477120" y="4038480"/>
            <a:ext cx="1523880" cy="609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patch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724280" y="541008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7238880" y="304776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505320" y="373392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6934320" y="46483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048120" y="2666880"/>
            <a:ext cx="45720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057400" y="2133720"/>
            <a:ext cx="3049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35200" y="727920"/>
            <a:ext cx="8191440" cy="7920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Overview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735200" y="2199960"/>
            <a:ext cx="8191440" cy="4570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80880" indent="-38088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Clr>
                <a:srgbClr val="000000"/>
              </a:buClr>
              <a:buFont typeface="Times"/>
              <a:buChar char="•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Clr>
                <a:srgbClr val="000000"/>
              </a:buClr>
              <a:buFont typeface="Times"/>
              <a:buChar char="•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Architecture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Clr>
                <a:srgbClr val="000000"/>
              </a:buClr>
              <a:buFont typeface="Times"/>
              <a:buChar char="•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Clr>
                <a:srgbClr val="000000"/>
              </a:buClr>
              <a:buFont typeface="Times"/>
              <a:buChar char="•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Conclusion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35200" y="727920"/>
            <a:ext cx="8191440" cy="7920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Parameter Passing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752120" y="1904760"/>
            <a:ext cx="8191800" cy="4570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80880" indent="-38088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Clr>
                <a:srgbClr val="000000"/>
              </a:buClr>
              <a:buFont typeface="Times"/>
              <a:buChar char="•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RMI passes objects using Java Object Serialization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lvl="1" marL="825480" indent="-317520">
              <a:lnSpc>
                <a:spcPct val="85000"/>
              </a:lnSpc>
              <a:spcAft>
                <a:spcPts val="751"/>
              </a:spcAft>
              <a:buClr>
                <a:srgbClr val="000000"/>
              </a:buClr>
              <a:buFont typeface="Times"/>
              <a:buChar char="–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Read/write objects and graphs of object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825480" indent="-317520">
              <a:lnSpc>
                <a:spcPct val="85000"/>
              </a:lnSpc>
              <a:spcAft>
                <a:spcPts val="751"/>
              </a:spcAft>
              <a:buClr>
                <a:srgbClr val="000000"/>
              </a:buClr>
              <a:buFont typeface="Times"/>
              <a:buChar char="–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Objects must agree to be serializabl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825480" indent="-317520">
              <a:lnSpc>
                <a:spcPct val="85000"/>
              </a:lnSpc>
              <a:spcAft>
                <a:spcPts val="751"/>
              </a:spcAft>
              <a:buClr>
                <a:srgbClr val="000000"/>
              </a:buClr>
              <a:buFont typeface="Times"/>
              <a:buChar char="–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Preserves cycles (identity of objects within graph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825480" indent="-317520">
              <a:lnSpc>
                <a:spcPct val="85000"/>
              </a:lnSpc>
              <a:spcAft>
                <a:spcPts val="751"/>
              </a:spcAft>
              <a:buClr>
                <a:srgbClr val="000000"/>
              </a:buClr>
              <a:buFont typeface="Times"/>
              <a:buChar char="–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ustomization on a per-class basi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735200" y="727920"/>
            <a:ext cx="8191440" cy="7920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Class Loading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752120" y="1904760"/>
            <a:ext cx="8191800" cy="4570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80880" indent="-38088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Clr>
                <a:srgbClr val="000000"/>
              </a:buClr>
              <a:buFont typeface="Times"/>
              <a:buChar char="•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RMI loads classes if not available locally: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lvl="1" marL="825480" indent="-317520">
              <a:lnSpc>
                <a:spcPct val="85000"/>
              </a:lnSpc>
              <a:spcAft>
                <a:spcPts val="751"/>
              </a:spcAft>
              <a:buClr>
                <a:srgbClr val="000000"/>
              </a:buClr>
              <a:buFont typeface="Times"/>
              <a:buChar char="–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Remote stub, parameter, and return value class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825480" indent="-317520">
              <a:lnSpc>
                <a:spcPct val="85000"/>
              </a:lnSpc>
              <a:spcAft>
                <a:spcPts val="751"/>
              </a:spcAft>
              <a:buClr>
                <a:srgbClr val="000000"/>
              </a:buClr>
              <a:buFont typeface="Times"/>
              <a:buChar char="–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all stream is annotated with URL for class loc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825480" indent="-317520">
              <a:lnSpc>
                <a:spcPct val="85000"/>
              </a:lnSpc>
              <a:spcAft>
                <a:spcPts val="751"/>
              </a:spcAft>
              <a:buClr>
                <a:srgbClr val="000000"/>
              </a:buClr>
              <a:buFont typeface="Times"/>
              <a:buChar char="–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oaded classes subject to installed security manage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735200" y="727920"/>
            <a:ext cx="8191440" cy="7920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554200" y="2151000"/>
            <a:ext cx="6346800" cy="12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735200" y="727920"/>
            <a:ext cx="8191440" cy="7920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Developing Application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752120" y="1904760"/>
            <a:ext cx="8191800" cy="4570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lvl="1" marL="825480" indent="-317520">
              <a:lnSpc>
                <a:spcPct val="85000"/>
              </a:lnSpc>
              <a:spcAft>
                <a:spcPts val="751"/>
              </a:spcAft>
              <a:buClr>
                <a:srgbClr val="000000"/>
              </a:buClr>
              <a:buFont typeface="Times"/>
              <a:buChar char="–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Define the interfaces to your remote object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825480" indent="-317520">
              <a:lnSpc>
                <a:spcPct val="85000"/>
              </a:lnSpc>
              <a:spcAft>
                <a:spcPts val="751"/>
              </a:spcAft>
              <a:buClr>
                <a:srgbClr val="000000"/>
              </a:buClr>
              <a:buFont typeface="Times"/>
              <a:buChar char="–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mplement the remote objects and client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825480" indent="-317520">
              <a:lnSpc>
                <a:spcPct val="85000"/>
              </a:lnSpc>
              <a:spcAft>
                <a:spcPts val="751"/>
              </a:spcAft>
              <a:buClr>
                <a:srgbClr val="000000"/>
              </a:buClr>
              <a:buFont typeface="Times"/>
              <a:buChar char="–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Run </a:t>
            </a:r>
            <a:r>
              <a:rPr b="0" lang="en-US" sz="2900" spc="-1" strike="noStrike">
                <a:solidFill>
                  <a:srgbClr val="000000"/>
                </a:solidFill>
                <a:latin typeface="Courier New"/>
              </a:rPr>
              <a:t>rmic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on remote implementation class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825480" indent="-317520">
              <a:lnSpc>
                <a:spcPct val="85000"/>
              </a:lnSpc>
              <a:spcAft>
                <a:spcPts val="751"/>
              </a:spcAft>
              <a:buClr>
                <a:srgbClr val="000000"/>
              </a:buClr>
              <a:buFont typeface="Times"/>
              <a:buChar char="–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Make code network-accessibl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735200" y="727920"/>
            <a:ext cx="8191440" cy="7920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Compute Engine Servic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752120" y="1904760"/>
            <a:ext cx="8191800" cy="4570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80880" indent="-38088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Clr>
                <a:srgbClr val="000000"/>
              </a:buClr>
              <a:buFont typeface="Times"/>
              <a:buChar char="•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Remote object to compute arbitrary tasks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lvl="1" marL="825480" indent="-317520">
              <a:lnSpc>
                <a:spcPct val="85000"/>
              </a:lnSpc>
              <a:spcAft>
                <a:spcPts val="751"/>
              </a:spcAft>
              <a:buClr>
                <a:srgbClr val="000000"/>
              </a:buClr>
              <a:buFont typeface="Times"/>
              <a:buChar char="–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lient sends task to compute engin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825480" indent="-317520">
              <a:lnSpc>
                <a:spcPct val="85000"/>
              </a:lnSpc>
              <a:spcAft>
                <a:spcPts val="751"/>
              </a:spcAft>
              <a:buClr>
                <a:srgbClr val="000000"/>
              </a:buClr>
              <a:buFont typeface="Times"/>
              <a:buChar char="–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ompute engine runs task and returns resul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825480" indent="-317520">
              <a:lnSpc>
                <a:spcPct val="85000"/>
              </a:lnSpc>
              <a:spcAft>
                <a:spcPts val="751"/>
              </a:spcAft>
              <a:buClr>
                <a:srgbClr val="000000"/>
              </a:buClr>
              <a:buFont typeface="Times"/>
              <a:buChar char="–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RMI loads task code dynamically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743200" y="5257800"/>
            <a:ext cx="1066680" cy="838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781680" y="5181480"/>
            <a:ext cx="1295640" cy="990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ut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gi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809880" y="5410080"/>
            <a:ext cx="2971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H="1">
            <a:off x="3885840" y="6019920"/>
            <a:ext cx="2895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724280" y="5257800"/>
            <a:ext cx="1067040" cy="3070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ubmit task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724280" y="5867280"/>
            <a:ext cx="1067040" cy="3070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turn resul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735200" y="727920"/>
            <a:ext cx="8191440" cy="7920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Compute Remote Interfac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752120" y="1904760"/>
            <a:ext cx="8191800" cy="4570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80880" indent="-3808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Courier New"/>
              <a:buChar char="•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mport java.rmi.*;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ublic interface Compute extends Remote {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Object executeTask(Task t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hrows RemoteException;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735200" y="727920"/>
            <a:ext cx="8191440" cy="7920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Task Interfac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752120" y="1904760"/>
            <a:ext cx="8191800" cy="4570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80880" indent="-3808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Courier New"/>
              <a:buChar char="•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mport java.io.Serializable;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ublic interface Task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tends Serializable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{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Object execute();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735200" y="727920"/>
            <a:ext cx="8191440" cy="7920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Implementation Overview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752120" y="1904760"/>
            <a:ext cx="8191800" cy="4570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80880" indent="-38088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Clr>
                <a:srgbClr val="000000"/>
              </a:buClr>
              <a:buFont typeface="Times"/>
              <a:buChar char="•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For a peer-to-peer remote object: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lvl="1" marL="825480" indent="-317520">
              <a:lnSpc>
                <a:spcPct val="85000"/>
              </a:lnSpc>
              <a:spcAft>
                <a:spcPts val="751"/>
              </a:spcAft>
              <a:buClr>
                <a:srgbClr val="000000"/>
              </a:buClr>
              <a:buFont typeface="Times"/>
              <a:buChar char="–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Extend </a:t>
            </a:r>
            <a:r>
              <a:rPr b="0" lang="en-US" sz="2900" spc="-1" strike="noStrike">
                <a:solidFill>
                  <a:srgbClr val="000000"/>
                </a:solidFill>
                <a:latin typeface="Courier New"/>
              </a:rPr>
              <a:t>UnicastRemoteObject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las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825480" indent="-317520">
              <a:lnSpc>
                <a:spcPct val="85000"/>
              </a:lnSpc>
              <a:spcAft>
                <a:spcPts val="751"/>
              </a:spcAft>
              <a:buClr>
                <a:srgbClr val="000000"/>
              </a:buClr>
              <a:buFont typeface="Times"/>
              <a:buChar char="–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mplement methods of remote interfac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825480" indent="-317520">
              <a:lnSpc>
                <a:spcPct val="85000"/>
              </a:lnSpc>
              <a:spcAft>
                <a:spcPts val="751"/>
              </a:spcAft>
              <a:buClr>
                <a:srgbClr val="000000"/>
              </a:buClr>
              <a:buFont typeface="Times"/>
              <a:buChar char="–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reate and install a security manage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825480" indent="-317520">
              <a:lnSpc>
                <a:spcPct val="85000"/>
              </a:lnSpc>
              <a:spcAft>
                <a:spcPts val="751"/>
              </a:spcAft>
              <a:buClr>
                <a:srgbClr val="000000"/>
              </a:buClr>
              <a:buFont typeface="Times"/>
              <a:buChar char="–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reate remote objec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825480" indent="-317520">
              <a:lnSpc>
                <a:spcPct val="85000"/>
              </a:lnSpc>
              <a:spcAft>
                <a:spcPts val="751"/>
              </a:spcAft>
              <a:buClr>
                <a:srgbClr val="000000"/>
              </a:buClr>
              <a:buFont typeface="Times"/>
              <a:buChar char="–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Register remote object in RMI registry (or other name facility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35200" y="378360"/>
            <a:ext cx="8191440" cy="1491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Compute Engine Implementatio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752120" y="1904760"/>
            <a:ext cx="8191800" cy="4570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 fontScale="89000"/>
          </a:bodyPr>
          <a:p>
            <a:pPr marL="338760" indent="-33876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ourier New"/>
              <a:buChar char="•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mport java.rmi.*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mport java.rmi.server.*;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class ComputeEngine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tends UnicastRemoteObject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mplements Compute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ComputeEngine()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throws RemoteException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super()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Object executeTask(Task t) {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return t.execute()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br>
              <a:rPr sz="2000"/>
            </a:br>
            <a:r>
              <a:rPr b="1" lang="en-US" sz="2000" spc="-1" strike="noStrike">
                <a:solidFill>
                  <a:srgbClr val="00cc99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35200" y="727920"/>
            <a:ext cx="8191440" cy="7920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The main Method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752120" y="1904760"/>
            <a:ext cx="8191800" cy="4570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80880" indent="-3808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ourier New"/>
              <a:buChar char="•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 (System.getSecurityManager() == null) {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System.setSecurityManager(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ew RMISecurityManager())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ry {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Compute engine = new ComputeEngine()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Naming.rebind(“Compute”, engine)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System.out.println(“Engine bound”)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 catch (Exception e) {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System.err.println(“exception: ” +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e.getMessage())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e.printStackTrace()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2000"/>
            </a:br>
            <a:r>
              <a:rPr b="1" lang="en-US" sz="2000" spc="-1" strike="noStrike">
                <a:solidFill>
                  <a:srgbClr val="00cc99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2554200" y="2151000"/>
            <a:ext cx="6346800" cy="12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35200" y="727920"/>
            <a:ext cx="8191440" cy="7920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Client Overview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752120" y="1904760"/>
            <a:ext cx="8191800" cy="4570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80880" indent="-38088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Clr>
                <a:srgbClr val="000000"/>
              </a:buClr>
              <a:buFont typeface="Times"/>
              <a:buChar char="•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Create task to be executed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Clr>
                <a:srgbClr val="000000"/>
              </a:buClr>
              <a:buFont typeface="Times"/>
              <a:buChar char="•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Lookup the compute service by name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Clr>
                <a:srgbClr val="000000"/>
              </a:buClr>
              <a:buFont typeface="Times"/>
              <a:buChar char="•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Send task to compute service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Clr>
                <a:srgbClr val="000000"/>
              </a:buClr>
              <a:buFont typeface="Times"/>
              <a:buChar char="•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Print result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None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735200" y="727920"/>
            <a:ext cx="8191440" cy="7920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Client’s main Method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752120" y="1904760"/>
            <a:ext cx="8191800" cy="4570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 fontScale="95000"/>
          </a:bodyPr>
          <a:p>
            <a:pPr marL="361800" indent="-3618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ourier New"/>
              <a:buChar char="•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 (System.getSecurityManager() == null) {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.setSecurityManager(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new RMISecurityManager())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ry {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ring name = “//” + args[0] + “/Compute”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pute comp =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(Compute) Naming.lookup(name)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i task = new Pi(Integer.parseInt(args[1]))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igDecimal pi =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(BigDecimal) comp.executeTask(task))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System.out.println(pi)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 catch (Exception e) {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.err.println(“exception: ” +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e.getMessage())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.printStackTrace()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735200" y="727920"/>
            <a:ext cx="8191440" cy="7920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Task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752120" y="1904760"/>
            <a:ext cx="8191800" cy="4570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 fontScale="95000"/>
          </a:bodyPr>
          <a:p>
            <a:pPr marL="361800" indent="-3618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ourier New"/>
              <a:buChar char="•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class Pi implements Task {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vate int digits;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Pi(int digits) {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this.digits = digits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Object execute () {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return computePi(digits)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static BigDecimal computePi(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digits)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// exercise left to reader...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731880" y="6932520"/>
            <a:ext cx="2133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475080" y="6932520"/>
            <a:ext cx="3200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735200" y="378360"/>
            <a:ext cx="8191440" cy="1491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Compute Engine: remote communicatio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3429000" y="2209320"/>
            <a:ext cx="3505320" cy="1295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752480" y="3276720"/>
            <a:ext cx="1600200" cy="38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uteP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15000" y="3200400"/>
            <a:ext cx="1752480" cy="1371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934320" y="1905120"/>
            <a:ext cx="1752480" cy="609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ist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352680" y="3505320"/>
            <a:ext cx="2590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3429000"/>
            <a:ext cx="152280" cy="15228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867280" y="4114800"/>
            <a:ext cx="152640" cy="15228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553080" y="4267080"/>
            <a:ext cx="152640" cy="1526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248520" y="3352680"/>
            <a:ext cx="152280" cy="1526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6553080" y="2362320"/>
            <a:ext cx="381240" cy="838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324480" y="2666880"/>
            <a:ext cx="1447920" cy="3070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aming.rebin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419720" y="2666880"/>
            <a:ext cx="1371600" cy="3070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aming.lookup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886200" y="3352680"/>
            <a:ext cx="1600200" cy="3070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mp.executeTask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731880" y="6932520"/>
            <a:ext cx="2133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475080" y="6932520"/>
            <a:ext cx="3200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735200" y="378360"/>
            <a:ext cx="8191440" cy="1491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Compute Engine: class loading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3429000" y="2209320"/>
            <a:ext cx="3505320" cy="1295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752480" y="3276720"/>
            <a:ext cx="1600200" cy="38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uteP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15000" y="3200400"/>
            <a:ext cx="1752480" cy="1371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934320" y="1905120"/>
            <a:ext cx="1752480" cy="609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ist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352680" y="3505320"/>
            <a:ext cx="2590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943600" y="3429000"/>
            <a:ext cx="152280" cy="15228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867280" y="4114800"/>
            <a:ext cx="152640" cy="15228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553080" y="4267080"/>
            <a:ext cx="152640" cy="1526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248520" y="3352680"/>
            <a:ext cx="152280" cy="1526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6553080" y="2362320"/>
            <a:ext cx="381240" cy="838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324480" y="2666880"/>
            <a:ext cx="1447920" cy="3070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aming.rebin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419720" y="2666880"/>
            <a:ext cx="1371600" cy="3070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aming.lookup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886200" y="3352680"/>
            <a:ext cx="1600200" cy="3070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mp.executeTask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858000" y="5029200"/>
            <a:ext cx="1752480" cy="609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b 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676520" y="5410080"/>
            <a:ext cx="1752480" cy="609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b 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590920" y="3733920"/>
            <a:ext cx="4267080" cy="1600200"/>
          </a:xfrm>
          <a:prstGeom prst="line">
            <a:avLst/>
          </a:prstGeom>
          <a:ln w="12600">
            <a:solidFill>
              <a:srgbClr val="969696"/>
            </a:solidFill>
            <a:prstDash val="sysDot"/>
            <a:miter/>
            <a:head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>
            <a:off x="3505320" y="4648320"/>
            <a:ext cx="3124080" cy="1143000"/>
          </a:xfrm>
          <a:prstGeom prst="line">
            <a:avLst/>
          </a:prstGeom>
          <a:ln w="12600">
            <a:solidFill>
              <a:srgbClr val="969696"/>
            </a:solidFill>
            <a:prstDash val="sysDot"/>
            <a:miter/>
            <a:head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848720" y="2590920"/>
            <a:ext cx="0" cy="2438280"/>
          </a:xfrm>
          <a:prstGeom prst="line">
            <a:avLst/>
          </a:prstGeom>
          <a:ln w="12600">
            <a:solidFill>
              <a:srgbClr val="969696"/>
            </a:solidFill>
            <a:prstDash val="sysDot"/>
            <a:miter/>
            <a:head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348000" y="4038480"/>
            <a:ext cx="1764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imes New Roman"/>
              </a:rPr>
              <a:t>ComputeEngine_Stu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122000" y="5257800"/>
            <a:ext cx="330120" cy="3070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imes New Roman"/>
              </a:rPr>
              <a:t>P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7697520" y="3733920"/>
            <a:ext cx="1764000" cy="7333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imes New Roman"/>
              </a:rPr>
              <a:t>ComputeEngine_Stub</a:t>
            </a:r>
            <a:br>
              <a:rPr sz="1400"/>
            </a:br>
            <a:r>
              <a:rPr b="0" lang="en-US" sz="1400" spc="-1" strike="noStrike">
                <a:solidFill>
                  <a:srgbClr val="808080"/>
                </a:solidFill>
                <a:latin typeface="Times New Roman"/>
              </a:rPr>
              <a:t>Compute</a:t>
            </a:r>
            <a:br>
              <a:rPr sz="1400"/>
            </a:br>
            <a:r>
              <a:rPr b="0" lang="en-US" sz="1400" spc="-1" strike="noStrike">
                <a:solidFill>
                  <a:srgbClr val="808080"/>
                </a:solidFill>
                <a:latin typeface="Times New Roman"/>
              </a:rPr>
              <a:t>Task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2554200" y="2151000"/>
            <a:ext cx="6346800" cy="12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Conclusion</a:t>
            </a:r>
            <a:endParaRPr b="0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735200" y="727920"/>
            <a:ext cx="8191440" cy="7920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Future Direction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752120" y="1904760"/>
            <a:ext cx="8191800" cy="4570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80880" indent="-38088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Clr>
                <a:srgbClr val="000000"/>
              </a:buClr>
              <a:buFont typeface="Times"/>
              <a:buChar char="•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Custom remote reference types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Clr>
                <a:srgbClr val="000000"/>
              </a:buClr>
              <a:buFont typeface="Times"/>
              <a:buChar char="•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Secure reference type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Clr>
                <a:srgbClr val="000000"/>
              </a:buClr>
              <a:buFont typeface="Times"/>
              <a:buChar char="•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Dynamically generated stub classes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Clr>
                <a:srgbClr val="000000"/>
              </a:buClr>
              <a:buFont typeface="Times"/>
              <a:buChar char="•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More performance improvements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735200" y="727920"/>
            <a:ext cx="8191440" cy="7920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More Informatio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752120" y="1904760"/>
            <a:ext cx="8191800" cy="4570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80880" indent="-38088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Clr>
                <a:srgbClr val="000000"/>
              </a:buClr>
              <a:buFont typeface="Times"/>
              <a:buChar char="•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Java RMI home page: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lvl="1" marL="825480" indent="-317520">
              <a:lnSpc>
                <a:spcPct val="85000"/>
              </a:lnSpc>
              <a:spcAft>
                <a:spcPts val="751"/>
              </a:spcAft>
              <a:buClr>
                <a:srgbClr val="000000"/>
              </a:buClr>
              <a:buFont typeface="Times"/>
              <a:buChar char="–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http://java.sun.com/products/jdk/rmi/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Clr>
                <a:srgbClr val="000000"/>
              </a:buClr>
              <a:buFont typeface="Times"/>
              <a:buChar char="•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Compute engine tutorial: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lvl="1" marL="825480" indent="-317520">
              <a:lnSpc>
                <a:spcPct val="85000"/>
              </a:lnSpc>
              <a:spcAft>
                <a:spcPts val="751"/>
              </a:spcAft>
              <a:buClr>
                <a:srgbClr val="000000"/>
              </a:buClr>
              <a:buFont typeface="Times"/>
              <a:buChar char="–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http://java.sun.com/tutorial/rmi/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731880" y="6932520"/>
            <a:ext cx="2133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475080" y="6932520"/>
            <a:ext cx="3200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2946240" y="2768760"/>
            <a:ext cx="5384880" cy="236052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735200" y="727920"/>
            <a:ext cx="8191440" cy="7920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Usual RPC Assumption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735200" y="2199960"/>
            <a:ext cx="8191440" cy="4570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80880" indent="-38088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Clr>
                <a:srgbClr val="000000"/>
              </a:buClr>
              <a:buFont typeface="Times"/>
              <a:buChar char="•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Multiple machine instruction sets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Clr>
                <a:srgbClr val="000000"/>
              </a:buClr>
              <a:buFont typeface="Times"/>
              <a:buChar char="•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Multiple implementation languages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Clr>
                <a:srgbClr val="000000"/>
              </a:buClr>
              <a:buFont typeface="Times"/>
              <a:buChar char="•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Multiple object models 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lvl="1" marL="825480" indent="-317520">
              <a:lnSpc>
                <a:spcPct val="85000"/>
              </a:lnSpc>
              <a:spcAft>
                <a:spcPts val="751"/>
              </a:spcAft>
              <a:buClr>
                <a:srgbClr val="000000"/>
              </a:buClr>
              <a:buFont typeface="Times"/>
              <a:buChar char="–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or no object model at al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Clr>
                <a:srgbClr val="000000"/>
              </a:buClr>
              <a:buFont typeface="Times"/>
              <a:buChar char="•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Protocol agreement has to be up front 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lvl="1" marL="825480" indent="-317520">
              <a:lnSpc>
                <a:spcPct val="85000"/>
              </a:lnSpc>
              <a:spcAft>
                <a:spcPts val="751"/>
              </a:spcAft>
              <a:buClr>
                <a:srgbClr val="000000"/>
              </a:buClr>
              <a:buFont typeface="Times"/>
              <a:buChar char="–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perhaps at compile tim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35200" y="378360"/>
            <a:ext cx="8191440" cy="1491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Java Changes Those Assumption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735200" y="2199960"/>
            <a:ext cx="8191440" cy="4570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80880" indent="-38088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Clr>
                <a:srgbClr val="000000"/>
              </a:buClr>
              <a:buFont typeface="Times"/>
              <a:buChar char="•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Java bytecodes give uniform platform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Clr>
                <a:srgbClr val="000000"/>
              </a:buClr>
              <a:buFont typeface="Times"/>
              <a:buChar char="•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Assume that Java is everywhere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Clr>
                <a:srgbClr val="000000"/>
              </a:buClr>
              <a:buFont typeface="Times"/>
              <a:buChar char="•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Environment safe to import code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Clr>
                <a:srgbClr val="000000"/>
              </a:buClr>
              <a:buFont typeface="Times"/>
              <a:buChar char="•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Language-centric approach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735200" y="727920"/>
            <a:ext cx="8191440" cy="7920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Java RMI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735200" y="2199960"/>
            <a:ext cx="8191440" cy="4570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 fontScale="98000"/>
          </a:bodyPr>
          <a:p>
            <a:pPr marL="372960" indent="-37296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Clr>
                <a:srgbClr val="000000"/>
              </a:buClr>
              <a:buFont typeface="Times"/>
              <a:buChar char="•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Enables method invocation between objects in different Java VMs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72960" indent="-37296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Clr>
                <a:srgbClr val="000000"/>
              </a:buClr>
              <a:buFont typeface="Times"/>
              <a:buChar char="•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Uses pure Java interfaces 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8920" indent="-311040">
              <a:lnSpc>
                <a:spcPct val="85000"/>
              </a:lnSpc>
              <a:spcAft>
                <a:spcPts val="751"/>
              </a:spcAft>
              <a:buClr>
                <a:srgbClr val="000000"/>
              </a:buClr>
              <a:buFont typeface="Times"/>
              <a:buChar char="–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no new interface definition languag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72960" indent="-37296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Clr>
                <a:srgbClr val="000000"/>
              </a:buClr>
              <a:buFont typeface="Times"/>
              <a:buChar char="•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Allows passing Java objects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8920" indent="-311040">
              <a:lnSpc>
                <a:spcPct val="85000"/>
              </a:lnSpc>
              <a:spcAft>
                <a:spcPts val="751"/>
              </a:spcAft>
              <a:buClr>
                <a:srgbClr val="000000"/>
              </a:buClr>
              <a:buFont typeface="Times"/>
              <a:buChar char="–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preserves data encapsul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808920" indent="-311040">
              <a:lnSpc>
                <a:spcPct val="85000"/>
              </a:lnSpc>
              <a:spcAft>
                <a:spcPts val="751"/>
              </a:spcAft>
              <a:buClr>
                <a:srgbClr val="000000"/>
              </a:buClr>
              <a:buFont typeface="Times"/>
              <a:buChar char="–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upports polymorphism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808920" indent="-311040">
              <a:lnSpc>
                <a:spcPct val="85000"/>
              </a:lnSpc>
              <a:spcAft>
                <a:spcPts val="751"/>
              </a:spcAft>
              <a:buClr>
                <a:srgbClr val="000000"/>
              </a:buClr>
              <a:buFont typeface="Times"/>
              <a:buChar char="–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dynamically loads class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35200" y="727920"/>
            <a:ext cx="8191440" cy="7920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vantages of RMI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735200" y="2199960"/>
            <a:ext cx="8191440" cy="4570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80880" indent="-38088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Clr>
                <a:srgbClr val="000000"/>
              </a:buClr>
              <a:buFont typeface="Times"/>
              <a:buChar char="•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Capitalizes on the Java object model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Clr>
                <a:srgbClr val="000000"/>
              </a:buClr>
              <a:buFont typeface="Times"/>
              <a:buChar char="•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Minimizes complexity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Clr>
                <a:srgbClr val="000000"/>
              </a:buClr>
              <a:buFont typeface="Times"/>
              <a:buChar char="•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Preserves safety of Java runtime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Clr>
                <a:srgbClr val="000000"/>
              </a:buClr>
              <a:buFont typeface="Times"/>
              <a:buChar char="•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Recognizes distribution differences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lvl="1" marL="825480" indent="-317520">
              <a:lnSpc>
                <a:spcPct val="85000"/>
              </a:lnSpc>
              <a:spcAft>
                <a:spcPts val="751"/>
              </a:spcAft>
              <a:buClr>
                <a:srgbClr val="000000"/>
              </a:buClr>
              <a:buFont typeface="Times"/>
              <a:buChar char="–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partial failur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825480" indent="-317520">
              <a:lnSpc>
                <a:spcPct val="85000"/>
              </a:lnSpc>
              <a:spcAft>
                <a:spcPts val="751"/>
              </a:spcAft>
              <a:buClr>
                <a:srgbClr val="000000"/>
              </a:buClr>
              <a:buFont typeface="Times"/>
              <a:buChar char="–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atency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825480" indent="-317520">
              <a:lnSpc>
                <a:spcPct val="85000"/>
              </a:lnSpc>
              <a:spcAft>
                <a:spcPts val="751"/>
              </a:spcAft>
              <a:buClr>
                <a:srgbClr val="000000"/>
              </a:buClr>
              <a:buFont typeface="Times"/>
              <a:buChar char="–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no global knowledg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35200" y="378360"/>
            <a:ext cx="8191440" cy="1491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Remote Objects are Java Object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35200" y="2199960"/>
            <a:ext cx="8191440" cy="4570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80880" indent="-38088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Clr>
                <a:srgbClr val="000000"/>
              </a:buClr>
              <a:buFont typeface="Times"/>
              <a:buChar char="•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Remote objects extend Java object model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lvl="1" marL="825480" indent="-317520">
              <a:lnSpc>
                <a:spcPct val="85000"/>
              </a:lnSpc>
              <a:spcAft>
                <a:spcPts val="751"/>
              </a:spcAft>
              <a:buClr>
                <a:srgbClr val="000000"/>
              </a:buClr>
              <a:buFont typeface="Courier New"/>
              <a:buChar char="–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ourier New"/>
              </a:rPr>
              <a:t>Remote</a:t>
            </a: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nterfaces to reference object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825480" indent="-317520">
              <a:lnSpc>
                <a:spcPct val="85000"/>
              </a:lnSpc>
              <a:spcAft>
                <a:spcPts val="751"/>
              </a:spcAft>
              <a:buClr>
                <a:srgbClr val="000000"/>
              </a:buClr>
              <a:buFont typeface="Times"/>
              <a:buChar char="–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ll serializable objects can be parameters and return valu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0080" indent="-254160">
              <a:spcBef>
                <a:spcPts val="649"/>
              </a:spcBef>
              <a:buClr>
                <a:srgbClr val="000000"/>
              </a:buClr>
              <a:buFont typeface="Times"/>
              <a:buChar char="-"/>
              <a:tabLst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Remote object referenc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0080" indent="-254160">
              <a:spcBef>
                <a:spcPts val="649"/>
              </a:spcBef>
              <a:buClr>
                <a:srgbClr val="000000"/>
              </a:buClr>
              <a:buFont typeface="Times"/>
              <a:buChar char="-"/>
              <a:tabLst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Java core class objects (e.g., Hashtable), AWT Objects (e.g., Button), JavaBeans, user defined object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35200" y="378360"/>
            <a:ext cx="8191440" cy="1491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Remote Objects are Java Objects (cont’d)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35200" y="2199960"/>
            <a:ext cx="8191440" cy="4570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lvl="1" marL="825480" indent="-317520">
              <a:lnSpc>
                <a:spcPct val="85000"/>
              </a:lnSpc>
              <a:spcAft>
                <a:spcPts val="751"/>
              </a:spcAft>
              <a:buClr>
                <a:srgbClr val="000000"/>
              </a:buClr>
              <a:buFont typeface="Times"/>
              <a:buChar char="–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tub objects have the same remote interfaces as the remote objec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0080" indent="-254160">
              <a:spcBef>
                <a:spcPts val="649"/>
              </a:spcBef>
              <a:buClr>
                <a:srgbClr val="000000"/>
              </a:buClr>
              <a:buFont typeface="Times"/>
              <a:buChar char="-"/>
              <a:tabLst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asting allowed via standard Java cast operator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0080" indent="-25416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-"/>
              <a:tabLst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urier New"/>
              </a:rPr>
              <a:t>instanceof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o check type of interfac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5480" indent="-317520">
              <a:lnSpc>
                <a:spcPct val="85000"/>
              </a:lnSpc>
              <a:spcAft>
                <a:spcPts val="751"/>
              </a:spcAft>
              <a:buClr>
                <a:srgbClr val="000000"/>
              </a:buClr>
              <a:buFont typeface="Times"/>
              <a:buChar char="–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Exceptions to report communication failur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9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24T11:52:18Z</dcterms:created>
  <dc:creator>David Stevens</dc:creator>
  <dc:description/>
  <dc:language>en-US</dc:language>
  <cp:lastModifiedBy>Ann Wollrath</cp:lastModifiedBy>
  <cp:lastPrinted>1999-01-07T16:50:45Z</cp:lastPrinted>
  <dcterms:modified xsi:type="dcterms:W3CDTF">1999-01-24T21:46:30Z</dcterms:modified>
  <cp:revision>15314</cp:revision>
  <dc:subject/>
  <dc:title>No Slide Title</dc:title>
</cp:coreProperties>
</file>