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BDB-3FB7-4BEB-8D28-D70F3AD7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276E-E294-4920-A2F6-D6AEBEB3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B194-79C5-41B2-9E64-3D496C5A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62F-D1EC-42B3-9EC6-583A520C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869-CFD9-4B0C-B8D2-872BA4DD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C133-4FB2-4971-B468-2E30B800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3D87-E8FA-40BC-9A3A-E77D1276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BB4-45AF-4E8D-94D0-A5A257C5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CD00-6039-4125-899A-7EF92492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A63-8752-4018-9DD9-77EB9AFC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239-A2B4-46D4-A878-44375AA3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8C4-5F49-45F2-A2F4-7C786C47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6B69-0D77-4AED-BE17-9C086AC42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Of PowerPoint To SVG As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66880"/>
            <a:ext cx="220968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952880"/>
            <a:ext cx="762120" cy="13716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2819520"/>
            <a:ext cx="914400" cy="9144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2819520"/>
            <a:ext cx="1218960" cy="91440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5181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5029200"/>
            <a:ext cx="2362320" cy="1295280"/>
          </a:xfrm>
          <a:prstGeom prst="ellipse">
            <a:avLst/>
          </a:prstGeom>
          <a:noFill/>
          <a:ln w="1015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410080"/>
            <a:ext cx="457200" cy="6098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238880" y="4419360"/>
            <a:ext cx="152424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19:48:36Z</dcterms:created>
  <dc:creator>mwang03</dc:creator>
  <dc:description/>
  <dc:language>en-US</dc:language>
  <cp:lastModifiedBy>mwang03</cp:lastModifiedBy>
  <dcterms:modified xsi:type="dcterms:W3CDTF">2001-05-06T19:49:41Z</dcterms:modified>
  <cp:revision>1</cp:revision>
  <dc:subject/>
  <dc:title>This Is An Example Of PowerPoint To SVG As Text</dc:title>
</cp:coreProperties>
</file>