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EEF-C5CA-46A3-BC92-B05829E4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175-1D03-420A-97B7-B78C49C0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F51-FC19-4B17-8E0B-7830ECDD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36FA-9444-4699-A154-E04E1341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67F-AB6C-4E8E-9FF4-BB5640CB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E8B-8B19-425A-8026-228D14F6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139-82D8-4067-8C1D-A48DE5A2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C96-7D2F-4C66-9BBB-102B960D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CC52-7E4B-4AAF-AB7C-D60FD847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82C-756C-4589-83C9-117A09BD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A672-2094-4A15-92F3-67DF0533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7C2-995E-4DB7-A086-4FD50E98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8AE1-CB36-4F4D-9ADE-155FCBDBA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Of PowerPoint To SVG As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66880"/>
            <a:ext cx="220968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952880"/>
            <a:ext cx="762120" cy="13716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819520"/>
            <a:ext cx="914400" cy="9144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819520"/>
            <a:ext cx="1218960" cy="91440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181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5029200"/>
            <a:ext cx="2362320" cy="1295280"/>
          </a:xfrm>
          <a:prstGeom prst="ellipse">
            <a:avLst/>
          </a:prstGeom>
          <a:noFill/>
          <a:ln w="1015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410080"/>
            <a:ext cx="457200" cy="6098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238880" y="4419360"/>
            <a:ext cx="152424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19:48:36Z</dcterms:created>
  <dc:creator>mwang03</dc:creator>
  <dc:description/>
  <dc:language>en-US</dc:language>
  <cp:lastModifiedBy>mwang03</cp:lastModifiedBy>
  <dcterms:modified xsi:type="dcterms:W3CDTF">2001-05-06T19:49:41Z</dcterms:modified>
  <cp:revision>1</cp:revision>
  <dc:subject/>
  <dc:title>This Is An Example Of PowerPoint To SVG As Text</dc:title>
</cp:coreProperties>
</file>