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27A2-F428-4A44-AEA4-73F0C3AF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FB6A-BAAE-48E4-AD82-8C2DB3C9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CBE5-45C3-47C4-BEDE-24269018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070-F3AF-4EAB-BAD6-6E86CE94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CF0B-B6C6-4C33-BEFE-7F405DC9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9236-E43D-459D-A564-D365D8E4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AD12-5B8D-4CF1-A2ED-F1E612DC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D06-1813-45D0-8B65-DA9B3DC7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95A7-0EB5-4F91-BBDC-10FEBBC3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18B-6AC9-4B7C-95F9-B497D738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88D6-1328-48EF-9433-CC3807FA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7CD-B173-4910-A01A-1B90AB6B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6909-5BE9-46B4-B5E5-BA7CAFF55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Of PowerPoint To SVG As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666880"/>
            <a:ext cx="220968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952880"/>
            <a:ext cx="762120" cy="13716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2819520"/>
            <a:ext cx="914400" cy="9144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2819520"/>
            <a:ext cx="1218960" cy="914400"/>
          </a:xfrm>
          <a:custGeom>
            <a:avLst/>
            <a:gdLst>
              <a:gd name="textAreaLeft" fmla="*/ 267840 w 1218960"/>
              <a:gd name="textAreaRight" fmla="*/ 951120 w 121896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51814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5029200"/>
            <a:ext cx="2362320" cy="1295280"/>
          </a:xfrm>
          <a:prstGeom prst="ellipse">
            <a:avLst/>
          </a:prstGeom>
          <a:noFill/>
          <a:ln w="1015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5410080"/>
            <a:ext cx="457200" cy="6098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238880" y="4419360"/>
            <a:ext cx="1524240" cy="16002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6T19:48:36Z</dcterms:created>
  <dc:creator>mwang03</dc:creator>
  <dc:description/>
  <dc:language>en-US</dc:language>
  <cp:lastModifiedBy>mwang03</cp:lastModifiedBy>
  <dcterms:modified xsi:type="dcterms:W3CDTF">2001-05-06T19:49:41Z</dcterms:modified>
  <cp:revision>1</cp:revision>
  <dc:subject/>
  <dc:title>This Is An Example Of PowerPoint To SVG As Text</dc:title>
</cp:coreProperties>
</file>