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120-E046-4805-A798-3BAE2369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BB17-4745-49D7-9CA4-C20D8C57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B86F-8632-43F9-B48E-F7ED3CB4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8A2F-2B3B-4B37-8706-D01479CF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1BB-EE2C-42EB-92EC-1E50C692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5C7-5CD4-4E80-828D-E44975FB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597-4BE6-409B-90B4-774D045D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D0E-EDB3-4447-90E4-232361EF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D554-F605-469B-B914-8240F52B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3B7-D178-4A6E-A719-AE2C8DB6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665-DB75-42A8-950A-0C62D2D2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7CE2-D326-4BAA-A81C-7A7310ED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8008-6815-4960-9CF4-EAE76D37E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Of PowerPoint To SVG As 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666880"/>
            <a:ext cx="220968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952880"/>
            <a:ext cx="762120" cy="13716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2819520"/>
            <a:ext cx="914400" cy="9144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2819520"/>
            <a:ext cx="1218960" cy="914400"/>
          </a:xfrm>
          <a:custGeom>
            <a:avLst/>
            <a:gdLst>
              <a:gd name="textAreaLeft" fmla="*/ 267840 w 1218960"/>
              <a:gd name="textAreaRight" fmla="*/ 951120 w 121896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51814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5880" y="5029200"/>
            <a:ext cx="2362320" cy="1295280"/>
          </a:xfrm>
          <a:prstGeom prst="ellipse">
            <a:avLst/>
          </a:prstGeom>
          <a:noFill/>
          <a:ln w="10152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5410080"/>
            <a:ext cx="457200" cy="6098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238880" y="4419360"/>
            <a:ext cx="1524240" cy="16002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6T19:48:36Z</dcterms:created>
  <dc:creator>mwang03</dc:creator>
  <dc:description/>
  <dc:language>en-US</dc:language>
  <cp:lastModifiedBy>mwang03</cp:lastModifiedBy>
  <dcterms:modified xsi:type="dcterms:W3CDTF">2001-05-06T19:49:41Z</dcterms:modified>
  <cp:revision>1</cp:revision>
  <dc:subject/>
  <dc:title>This Is An Example Of PowerPoint To SVG As Text</dc:title>
</cp:coreProperties>
</file>