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9FFE-BB2B-4057-961D-A86924190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E781-BF86-46D3-9E9C-0FBF829A7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2840" y="4799160"/>
            <a:ext cx="557676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771480" y="312840"/>
            <a:ext cx="5362560" cy="4022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1C2F-26C6-4654-864F-F47DA95F3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0FBC-006A-4CB5-BD6A-2A4D87384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AD60A-9D83-45B5-9072-4952EC5C5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5504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4840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5504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4840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BEA8-8C95-4BA2-AA93-154C1356BF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56C3-C5F3-4DC9-9ED9-F1F0429128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4429-02EF-40D2-B690-3AB841672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397F-C1D8-4447-95DC-9836A2BDB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D5BF1-D6BF-4A75-A95C-FCAF80A34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336240"/>
            <a:ext cx="737388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5AE3-120B-4A27-929A-2B4321E97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9D5CF-B5F4-40C5-950A-0830FC912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5D7BC-14A2-4428-A337-A0BAE5F04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6052-A9EF-45F7-8011-3B88DF27D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-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6040" y="289080"/>
            <a:ext cx="920880" cy="404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76200" y="0"/>
            <a:ext cx="0" cy="685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879560" y="6242040"/>
            <a:ext cx="504360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January 26, 1999--Bob Scheifler Copyright 1999 Sun Microsystems, Inc.,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64040" y="6191280"/>
            <a:ext cx="124452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fld id="{E10FC0C5-B4A7-49B2-A203-A654A30FC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553000"/>
            <a:ext cx="1738440" cy="130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57360" y="6242040"/>
            <a:ext cx="19206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7320" y="6242040"/>
            <a:ext cx="2879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3200" y="3051000"/>
            <a:ext cx="64720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™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38280" y="3892680"/>
            <a:ext cx="64483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Sche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enior Staff Engine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un Microsystems, In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on an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interface or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n get subinterface or subclass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: NestableTransactionManager extends TransactionManag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ava.lang.Object matches ever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using multiple Java typ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 want a combination TV/VCR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.ce.TV AND org.ce.VC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utomatic placement in all categ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 superinterfaces and super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also registers with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allow further discrimination between services of the same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end-user or progra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do lookup using service types and/or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generic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 or col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aper siz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characteristic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administrat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alues aren’t always string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ultiple values for some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can have co-dependent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600 dpi, 10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300 dpi, 1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lor, 300 dpi, 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tter, legal, envelo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represent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ttribute is a public field of a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name = field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type = field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ass defines an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attribute s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-dependent attributes in the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parate classes for orthogonal attrib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rvice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 of attribut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stances of multiple clas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ltiple instances of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Attrs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Engin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pp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dp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Boolean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Siz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PaperType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Type implements java.io.Serializab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tter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gal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A4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Envelope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finding other network serv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orkgroup”-scale, not the entire Intern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 naming or directory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.500, LDAP, DNS, NDS, RMI regist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cus is on types, not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yellow pages, not white pag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th programmatic and end-user ac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Location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flo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ro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buil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Name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600, ppm: 1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300, ppm: 1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true,  dpi: 300, ppm: 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tt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gal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Envelop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{floor: “1”, room: “1220”, building: “UCHL03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{name: “narf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set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set cl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act value match on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emplate is just an attribute set insta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ull field is wildcard = match an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aken from Linda via JavaSp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Matching exampl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5680" y="2057400"/>
          <a:ext cx="7358040" cy="39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57400"/>
                    <a:ext cx="73580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emplat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template contai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service typ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attribute set templa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&lt;proxy, set of attr sets&gt; matches if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xy is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ach service type,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ach attribute set templat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 is a matching attribute s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service named “narf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Printer named “narf” in UCHL0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ll services on floor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JavaSpace made by Su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omplex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etween 300 and 600 dpi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 floor 1, 3, or 7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rst do template-based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ing wildcards as necess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n do finer-grained match local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modific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only be done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llows service to control poli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is responsible for persistent stor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d, modify, delete, replace al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should change infrequent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imary search ke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query service directly for very dynamic st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Basic summa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egister with desire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eep renewing lea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d, modify, delete attributes as desi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any 1 of, get just proxy obj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up to N of, get proxies an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nsures results of client lookup are reasonably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okup service imposes maximum lease du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deoff between bandwidth (and load on lookup service) and how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ximum lease will vary with contex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is closer to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ETF Service Location Protoc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MG Trading Object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synchronous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s same service template matc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est registration is also leas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o 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w service added or attributes now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no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deleted or attributes no longer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s changed but still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uses of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of new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service crash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r notified when service is back on li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printer ja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User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upport for incremental brow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service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set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val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ccess to service-specific GU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plet URL as an attribu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Discovery and sel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or service find lookup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service know which one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know which ones to do lookups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grou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configured to be a member of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 is just an arbitrary string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e standard “public” group, as defaul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is configured to register with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ient is configured to use lookup services from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Initial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ed by both client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multicast request 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you are looking f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use to contact yo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for lookup services to connect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ly those i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1 requested groups respo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lookup service’s proxy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gister with or do lookup i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atecomer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on’t send multicast requests forev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op after a short wh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isten for multicast announce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nt periodically by each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lookup service is a member o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contact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nnect to if member of desired grou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ownload lookup service 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dministrative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d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ase expires, registration is dropp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parti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register at mer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vailability: replicate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repli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ilover: start a new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Hierarchy: one op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NS-style hierarchical group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also a Jini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e set of groups to be a member o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other set of group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nd/or down links in hierarch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eature Comparis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01640" y="1828800"/>
          <a:ext cx="731700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828800"/>
                    <a:ext cx="7317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s defined by one or more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has a front-end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MI stub or custom-coded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implements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s only know about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can be specializ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particular implementation of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work protocol between proxy and service can be private and vari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is downloaded to cli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asses are annotated with codebase U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s oblivious to implementation detai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1680" y="678960"/>
            <a:ext cx="7373880" cy="6660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xample: Transaction Manag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.jini.core.transaction.server.Transaction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RMI stub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_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TransactionManager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: JavaSpa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.jini.space.Java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FrontEnd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custom-coded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Space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JavaSpa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10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registers its proxy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does lookup b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I uses java.lang.Class instances, not str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 gets proxy object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eded classes are automatically downloa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01:58Z</dcterms:created>
  <dc:creator>Bob Scheifler</dc:creator>
  <dc:description/>
  <dc:language>en-US</dc:language>
  <cp:lastModifiedBy>Bob Scheifler</cp:lastModifiedBy>
  <cp:lastPrinted>1999-01-06T21:27:33Z</cp:lastPrinted>
  <dcterms:modified xsi:type="dcterms:W3CDTF">1999-01-13T17:42:30Z</dcterms:modified>
  <cp:revision>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~jini\home1\rws\tmp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