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3907-7B24-483B-94D0-751133250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2F05-F6E8-4A81-817E-FA08868885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2840" y="4799160"/>
            <a:ext cx="5576760" cy="41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ldImg"/>
          </p:nvPr>
        </p:nvSpPr>
        <p:spPr>
          <a:xfrm>
            <a:off x="771480" y="312840"/>
            <a:ext cx="5362560" cy="4022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DA79C-DBA9-4D70-8542-69A077888A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45025-7188-4DC7-A964-A8EA548F0E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DE6C-6A3C-4E08-A31C-86CD09FC2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F611F-0A96-4951-951C-B6B23A7B81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5271-C958-4554-B822-D3A03DD2D6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17F2-4F0A-4B30-8C17-80FDE257E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00E52-8871-4495-BE27-B7B2B1B827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12C74-85CA-4A8F-AF6B-77A2F3D37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5279F-E518-4BCF-9AE8-4AC010F5D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6D648-C09C-40E4-9226-F53C1DE476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BF7F-0948-4AA8-B633-D146E6688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C5C3D-0B66-4931-BBF8-0C1855BD85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Bob Scheifler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89F7CD95-0FEF-4241-9B3E-830A1408A8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57360" y="6242040"/>
            <a:ext cx="192060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7320" y="6242040"/>
            <a:ext cx="287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73200" y="3051000"/>
            <a:ext cx="64720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™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38280" y="3892680"/>
            <a:ext cx="644832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80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b Scheif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enior Staff Engine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unSansCondensed-Regular"/>
              </a:rPr>
              <a:t>Sun Microsystems, Inc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on an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interface or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an get subinterface or subclass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ample: NestableTransactionManager extends TransactionMana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.lang.Object matches everyt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yp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match using multiple Java typ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D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 want a combination TV/VCR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rg.ce.TV AND org.ce.VC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ellow pag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utomatic placement in all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all superinterfaces and superclass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also registers with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allow further discrimination between services of the sam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end-user or progra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do lookup using service types and/or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generic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nufactur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 or col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pe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aper siz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characteristic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ome defined by administrato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values aren’t always string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ultiple values for some attribut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can have co-dependent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600 dpi, 10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onochrome, 300 dpi, 1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lor, 300 dpi, 5 pp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10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etter, legal, envelo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represent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attribute is a public field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name = field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 type = field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ass defines an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attribute se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o-dependent attributes in the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eparate classes for orthogonal attribut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ervice h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et of attribute s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nstances of multiple classe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multiple instances of same class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Attrs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rintEngin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pp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Integer dp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Boolean co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Size extends PrintAttrs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PaperType siz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PaperType implements java.io.Serializab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tter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Legal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A4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atic final PaperType Envelope = ...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lookup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finding other network servi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workgroup”-scale, not the entire Intern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 naming or directory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X.500, LDAP, DNS, NDS, RMI regist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cus is on types, not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yellow pages, not white pag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th programmatic and end-user acce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attribute class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748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Location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flo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roo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build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class Name implements net.jini.core.entry.Entry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c String na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printer attribut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600, ppm: 1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false, dpi: 300, ppm: 1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tEngine{color: true,  dpi: 300, ppm: 5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tter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Legal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perSize{size: PaperType.Envelop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{floor: “1”, room: “1220”, building: “UCHL03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{name: “narf”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set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set cl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cluding super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on attribute valu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act value match onl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emplate is just an attribute set instan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ull field is wildcard = match an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aken from Linda via JavaSp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Matching exampl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525680" y="2057400"/>
          <a:ext cx="7358040" cy="398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57400"/>
                    <a:ext cx="7358040" cy="39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ervice template match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template contain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service typ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zero or more attribute set templa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&lt;proxy, set of attr sets&gt; matches if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oxy i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ch service type, a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 each attribute set templat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575"/>
              </a:spcBef>
              <a:buClr>
                <a:srgbClr val="000000"/>
              </a:buClr>
              <a:buFont typeface="Times"/>
              <a:buChar char="-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there is a matching attribute s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service named “narf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Printer named “narf” in UCHL03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 services on floor 2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 JavaSpace made by Su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mplex queri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etween 300 and 600 dpi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 floor 1, 3, or 7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rst do template-based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sing wildcards as necess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n do finer-grained match local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ttribute modifica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an only be done by service itsel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llows service to control poli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is responsible for persistent stor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d, modify, delete, replace al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ttributes should change infrequentl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mary search ke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query service directly for very dynamic st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sic summa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egister with desire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keep renewing leas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, modify, delete attributes as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perspectiv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any 1 of, get just proxy obje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okup up to N of, get proxies and attribut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eas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sures results of client lookup are reasonably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ookup service imposes maximum lease dur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 between bandwidth (and load on lookup service) and how up to dat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ximum lease will vary with contex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is closer to: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ETF Service Location Protoco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MG Trading Object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synchronous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s same service template match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interest registration is also leas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o 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w service added or attributes now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no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 deleted or attributes no longer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atch </a:t>
            </a:r>
            <a:r>
              <a:rPr b="0" lang="en-US" sz="3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ma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ttributes changed but still mat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 uses of event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of new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service crash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user notified when service is back on li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dmin notified when printer ja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er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upport for incremental brow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service typ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set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by attribute val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ccess to service-specific GUI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et URL as an attribu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Discovery and sel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or service find lookup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service know which one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ow does a client know which ones to do lookups 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group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configured to be a member of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 is just an arbitrary string n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e standard “public” group, as defaul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is configured to register with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client is configured to use lookup services from one or more group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itial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ed by both clients and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 multicast request pac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you are looking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use to contact you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it for lookup services to connect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only those in </a:t>
            </a:r>
            <a:r>
              <a:rPr b="0" lang="en-US" sz="27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1 requested groups respon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load lookup service’s proxy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5000"/>
              </a:lnSpc>
              <a:spcAft>
                <a:spcPts val="624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register with or do lookup in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atecomer discovery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on’t send multicast requests forev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top after a short wh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listen for multicast announcem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nt periodically by each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roups lookup service is a member o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st and TCP port to contact lookup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nnect to if member of desired group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download lookup service 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Administrative perspectiv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d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ease expires, registration is dropp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arti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register at mer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vailability: replicate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replic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ailover: start a new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rvices automatically register with 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Hierarchy: one op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NS-style hierarchical group nam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lookup service is also a Jini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one set of groups to be a member o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other set of groups to register wit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up and/or down links in hierarch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eature Comparis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601640" y="1828800"/>
          <a:ext cx="7317000" cy="46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828800"/>
                    <a:ext cx="731700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s defined by one or more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has a front-end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prox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MI stub or custom-coded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implements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only know about Java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service stru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can be specializ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o particular implementation of servi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work protocol between proxy and service can be private and vari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is downloaded to client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sses are annotated with codebase U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s oblivious to implementation detail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61680" y="678960"/>
            <a:ext cx="7373880" cy="66600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xample: Transaction Manag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.jini.core.transaction.server.TransactionMana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RMI stub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5000"/>
              </a:lnSpc>
              <a:spcAft>
                <a:spcPts val="601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.sun.jini.mahalo.TxnManagerImpl_St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TransactionManager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Example: JavaSpa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t.jini.space.Java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MI-based servic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FrontEndSpa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xy class (custom-coded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om.sun.jini.outrigger.SpaceProx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only knows about JavaSpace interfa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61680" y="652320"/>
            <a:ext cx="7373880" cy="71784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Lookup service 101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ach service registers its proxy objec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 does lookup by Java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instanceof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semant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I uses java.lang.Class instances, not str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ent gets proxy object 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needed classes are automatically download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21:01:58Z</dcterms:created>
  <dc:creator>Bob Scheifler</dc:creator>
  <dc:description/>
  <dc:language>en-US</dc:language>
  <cp:lastModifiedBy>Bob Scheifler</cp:lastModifiedBy>
  <cp:lastPrinted>1999-01-06T21:27:33Z</cp:lastPrinted>
  <dcterms:modified xsi:type="dcterms:W3CDTF">1999-01-13T17:42:30Z</dcterms:modified>
  <cp:revision>34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\\~jini\home1\rws\tmp</vt:lpwstr>
  </property>
  <property fmtid="{D5CDD505-2E9C-101B-9397-08002B2CF9AE}" pid="14" name="ScreenSize">
    <vt:r8>2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