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10158413" cy="7616825"/>
  <p:notesSz cx="6923088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9228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Num" idx="3"/>
          </p:nvPr>
        </p:nvSpPr>
        <p:spPr>
          <a:xfrm>
            <a:off x="5805360" y="4478400"/>
            <a:ext cx="385920" cy="2347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US" sz="1000" spc="-1" strike="noStrike">
                <a:solidFill>
                  <a:srgbClr val="000000"/>
                </a:solidFill>
                <a:latin typeface="SunSansCondensed-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5D96F07F-3240-4435-B457-534F79A84DF7}" type="slidenum">
              <a:rPr b="0" lang="en-US" sz="1000" spc="-1" strike="noStrike">
                <a:solidFill>
                  <a:srgbClr val="000000"/>
                </a:solidFill>
                <a:latin typeface="SunSansCondensed-Dem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Img"/>
          </p:nvPr>
        </p:nvSpPr>
        <p:spPr>
          <a:xfrm>
            <a:off x="728280" y="320400"/>
            <a:ext cx="5511960" cy="412884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6720" y="4503600"/>
            <a:ext cx="3074760" cy="2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1000"/>
                <a:tab algn="l" pos="1962000"/>
                <a:tab algn="l" pos="2943360"/>
                <a:tab algn="l" pos="3924360"/>
                <a:tab algn="l" pos="4905360"/>
                <a:tab algn="l" pos="5886360"/>
                <a:tab algn="l" pos="6867360"/>
                <a:tab algn="l" pos="7848720"/>
                <a:tab algn="l" pos="8829720"/>
                <a:tab algn="l" pos="9810720"/>
                <a:tab algn="l" pos="1079172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unSansCondensed-Demi"/>
              </a:rPr>
              <a:t>Sun Microsystems Inc. Corporate Template  7/9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unSansCondensed-Regular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391320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6480" y="89229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hdr"/>
          </p:nvPr>
        </p:nvSpPr>
        <p:spPr>
          <a:xfrm>
            <a:off x="-6480" y="-360"/>
            <a:ext cx="30146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915400"/>
            <a:ext cx="29988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body"/>
          </p:nvPr>
        </p:nvSpPr>
        <p:spPr>
          <a:xfrm>
            <a:off x="678960" y="4925520"/>
            <a:ext cx="5627880" cy="42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endParaRPr b="0" lang="en-US" sz="1200" spc="-1" strike="noStrike">
              <a:solidFill>
                <a:srgbClr val="000000"/>
              </a:solidFill>
              <a:latin typeface="SunSansCondensed-Regular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ldImg"/>
          </p:nvPr>
        </p:nvSpPr>
        <p:spPr>
          <a:xfrm>
            <a:off x="731880" y="320760"/>
            <a:ext cx="5505480" cy="4128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E578E-C3AA-4041-A3EC-1F185363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41FFB-536D-4E7D-91FC-9547D395F6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06244-10B0-42C8-A95B-EC621EB33F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0468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274520" y="219996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73520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0468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274520" y="4587120"/>
            <a:ext cx="263736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BE44B-4ABC-4585-A11B-47ABE58BF6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F8F394-A1DE-4D44-8DB0-AB9A100538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28973-6166-46AD-88A8-1907D1028C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38B86-8185-487B-AADF-28B986229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B17ED-053C-4AD2-AF50-CE15732B1A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35200" y="378360"/>
            <a:ext cx="8191440" cy="691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433FD-4BC5-4685-B6B8-3FA11E6103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31584-6D4E-4E2B-B0F2-AEBB27C37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932440" y="458712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E9D23-430C-4820-8418-B78AD7933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32440" y="2199960"/>
            <a:ext cx="399708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735200" y="4587120"/>
            <a:ext cx="8191440" cy="2179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59A4C-CF4B-451C-9855-AADEBD336A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7000"/>
          </a:bodyPr>
          <a:p>
            <a:pPr marL="331200" indent="-33120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7840" indent="-2761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48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-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56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8640" indent="-2210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ffffff"/>
              </a:buClr>
              <a:buFont typeface="SunSans-Demi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95120" y="320760"/>
            <a:ext cx="1024200" cy="4492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417680" y="0"/>
            <a:ext cx="0" cy="761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2087640" y="6932520"/>
            <a:ext cx="5603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January 26, 1999--Ann Wollrath Copyright 1999 Sun Microsystems, Inc.,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8515080" y="6875280"/>
            <a:ext cx="138276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0B8C-2298-492A-A672-F32982951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67520"/>
            <a:ext cx="1930320" cy="1447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300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32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47800" y="3391920"/>
            <a:ext cx="718992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5400" spc="-1" strike="noStrike" baseline="4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RMI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709280" y="4322520"/>
            <a:ext cx="7162920" cy="19047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Autofit/>
          </a:bodyPr>
          <a:p>
            <a:pPr marL="3808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n Wollr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ior Staff Engin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pplication Model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8191800" cy="45705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ure RMI solu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/serv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er-to-pe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g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hree-ti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DBC --&gt; databa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nect to legacy systems (via JNI)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7200" indent="-31428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--&gt; Java wrapper --&gt; existing syste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istributed Object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Typically, these applications need to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cat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municate with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 class bytecodes for objects that are passed in remote method call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cating Remote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oading Class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3276720"/>
            <a:ext cx="129528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657600"/>
            <a:ext cx="4114800" cy="16765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3505320" y="4572000"/>
            <a:ext cx="3124080" cy="121932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2514600"/>
            <a:ext cx="0" cy="25146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1600" y="4038480"/>
            <a:ext cx="1179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19840" y="525780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666880"/>
            <a:ext cx="5331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01120" y="3733920"/>
            <a:ext cx="11790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URL protoc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26668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43400" y="3352680"/>
            <a:ext cx="5335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M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 AP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API, naming, excepti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ry interface, factory, lookup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serv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object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3880" indent="-353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java.rmi.activ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7520" indent="-29520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activatable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onents of RMI Syste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referen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otoco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ranspor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75800" indent="-2984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 loading and DG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registry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emote object regist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d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activation daem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57840" indent="-35784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Arial Narro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Narrow"/>
              </a:rPr>
              <a:t>rmic</a:t>
            </a: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: the RMI stub compiler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MI Architectur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rch2" descr=""/>
          <p:cNvPicPr/>
          <p:nvPr/>
        </p:nvPicPr>
        <p:blipFill>
          <a:blip r:embed="rId1"/>
          <a:stretch/>
        </p:blipFill>
        <p:spPr>
          <a:xfrm>
            <a:off x="3425760" y="2270160"/>
            <a:ext cx="330516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ethod Invo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2057400"/>
            <a:ext cx="297180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19920" y="2057400"/>
            <a:ext cx="304776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2286000"/>
            <a:ext cx="2286000" cy="1523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666880" y="3048120"/>
            <a:ext cx="152424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5880" y="5029200"/>
            <a:ext cx="175284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5029200"/>
            <a:ext cx="175248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MI run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63400" y="236232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324480" y="2286000"/>
            <a:ext cx="221004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41200" y="1565280"/>
            <a:ext cx="164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ller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080" y="15238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’s V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477120" y="2362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te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4038480"/>
            <a:ext cx="15238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24280" y="5410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7238880" y="30477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73392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6934320" y="4648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26668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57400" y="213372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arameter Pass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passes objects using Java Object Serialization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ad/write objects and graphs of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bjects must agree to be serializa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cycles (identity of objects within graph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ustomization on a per-class basi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MI loads classes if not available locally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mote stub, parameter, and return value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all stream is annotated with URL for class loc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oaded classes subject to installed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Developing Applica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efine the interfaces to your remot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the remote objects and cli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un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rmic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n remote implementation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Make code network-accessibl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Servi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 to compute arbitrary task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ent sends task to compute engi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mpute engine runs task and returns resul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MI loads task code dynamical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5257800"/>
            <a:ext cx="1066680" cy="838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5181480"/>
            <a:ext cx="1295640" cy="99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g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9880" y="54100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885840" y="60199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724280" y="525780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t 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5867280"/>
            <a:ext cx="106704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 resul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Remote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Compute extends Remote 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bject executeTask(Task t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rows RemoteException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 Interfac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mport java.io.Serializable;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ublic interface Tas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tends Serializab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Object execute()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lementation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For a peer-to-peer remote object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tend </a:t>
            </a:r>
            <a:r>
              <a:rPr b="0" lang="en-US" sz="2900" spc="-1" strike="noStrike">
                <a:solidFill>
                  <a:srgbClr val="000000"/>
                </a:solidFill>
                <a:latin typeface="Courier New"/>
              </a:rPr>
              <a:t>UnicastRemoteObject</a:t>
            </a: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a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mplement methods of remote interfa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and install a security mana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reat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Register remote object in RMI registry (or other name facility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 Implement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89000"/>
          </a:bodyPr>
          <a:p>
            <a:pPr marL="338760" indent="-338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*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ort java.rmi.server.*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ComputeEngin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tends UnicastRemoteObject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mplements Compute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omputeEngine(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rows RemoteExcep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uper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Task(Task t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t.execut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he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void main(String[] arg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Compute engine = new ComputeEngin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Naming.rebind(“Compute”, engin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out.println(“Engine bound”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cc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 Overview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reate task to be executed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ookup the compute service by na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nd task to compute servic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int resul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lient’s main Metho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(System.getSecurityManager() == null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setSecurityManager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new RMISecurityManager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name = “//” + args[0] + “/Compute”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 comp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(Compute) Naming.lookup(name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 task = new Pi(Integer.parseInt(args[1]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igDecimal pi =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(BigDecimal) comp.executeTask(task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System.out.println(pi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.err.println(“exception: ” +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e.getMessage()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printStackTrace(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Courier New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class Pi implements Task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ivate int digits;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Pi(int digits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this.digits = digit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Object execute ()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return computePi(digits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 static BigDecimal computePi(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 digits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// exercise left to reader..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remote communic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mpute Engine: class loadi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429000" y="2209320"/>
            <a:ext cx="3505320" cy="129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52480" y="3276720"/>
            <a:ext cx="1600200" cy="380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P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200400"/>
            <a:ext cx="17524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4320" y="190512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is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52680" y="3505320"/>
            <a:ext cx="2590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43600" y="3429000"/>
            <a:ext cx="15228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114800"/>
            <a:ext cx="152640" cy="1522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553080" y="4267080"/>
            <a:ext cx="15264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8520" y="3352680"/>
            <a:ext cx="152280" cy="1526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6553080" y="2362320"/>
            <a:ext cx="38124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324480" y="2666880"/>
            <a:ext cx="14479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rebi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9720" y="2666880"/>
            <a:ext cx="13716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ing.looku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3352680"/>
            <a:ext cx="160020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.execute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5029200"/>
            <a:ext cx="1752480" cy="609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5410080"/>
            <a:ext cx="175248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590920" y="3733920"/>
            <a:ext cx="4267080" cy="16002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505320" y="4648320"/>
            <a:ext cx="3124080" cy="114300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2590920"/>
            <a:ext cx="0" cy="2438280"/>
          </a:xfrm>
          <a:prstGeom prst="line">
            <a:avLst/>
          </a:prstGeom>
          <a:ln w="12600">
            <a:solidFill>
              <a:srgbClr val="969696"/>
            </a:solidFill>
            <a:prstDash val="sysDot"/>
            <a:miter/>
            <a:head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48000" y="4038480"/>
            <a:ext cx="176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122000" y="5257800"/>
            <a:ext cx="33012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97520" y="3733920"/>
            <a:ext cx="1764000" cy="7333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Engine_Stub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Compute</a:t>
            </a:r>
            <a:br>
              <a:rPr sz="1400"/>
            </a:b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Tas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554200" y="2151000"/>
            <a:ext cx="6346800" cy="12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Conclusion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ustom remote reference typ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Secure reference typ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Dynamically generated stub class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ore performance improvemen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ore Informa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752120" y="1904760"/>
            <a:ext cx="819180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RMI home page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products/jdk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ompute engine tutorial: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ttp://java.sun.com/tutorial/rmi/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31880" y="6932520"/>
            <a:ext cx="2133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75080" y="693252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946240" y="2768760"/>
            <a:ext cx="5384880" cy="2360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Usual RPC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machine instruction se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implementation languag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ultiple object model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or no object model at al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otocol agreement has to be up front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erhaps at compile tim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Changes Those Assumpt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Java bytecodes give uniform platform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ssume that Java is everywher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vironment safe to import cod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Language-centric approach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Java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Enables method invocation between objects in different Java VM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Uses pure Java interfaces 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new interface definition langua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Allows passing Java object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erves data encapsul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upports polymorph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8920" indent="-31104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dynamically loads clas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35200" y="727920"/>
            <a:ext cx="8191440" cy="7920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vantages of RM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apitalizes on the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Minimizes complexit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Preserves safety of Java runtime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cognizes distribution differences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artial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enc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no global knowledg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80880" indent="-380880">
              <a:lnSpc>
                <a:spcPct val="90000"/>
              </a:lnSpc>
              <a:spcBef>
                <a:spcPts val="950"/>
              </a:spcBef>
              <a:spcAft>
                <a:spcPts val="950"/>
              </a:spcAft>
              <a:buClr>
                <a:srgbClr val="000000"/>
              </a:buClr>
              <a:buFont typeface="Times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Remote objects extend Java object model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Courier New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urier New"/>
              </a:rPr>
              <a:t>Remote</a:t>
            </a: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terfaces to reference objec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All serializable objects can be parameters and return valu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emote object referenc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Java core class objects (e.g., Hashtable), AWT Objects (e.g., Button), JavaBeans, user defined objec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35200" y="378360"/>
            <a:ext cx="8191440" cy="1491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emote Objects are Java Objects (cont’d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35200" y="2199960"/>
            <a:ext cx="8191440" cy="4570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tub objects have the same remote interfaces as the remote objec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spcBef>
                <a:spcPts val="649"/>
              </a:spcBef>
              <a:buClr>
                <a:srgbClr val="000000"/>
              </a:buClr>
              <a:buFont typeface="Times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asting allowed via standard Java cast opera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0080" indent="-25416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-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urier New"/>
              </a:rPr>
              <a:t>instanceof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o check type of interfac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5480" indent="-317520">
              <a:lnSpc>
                <a:spcPct val="85000"/>
              </a:lnSpc>
              <a:spcAft>
                <a:spcPts val="751"/>
              </a:spcAft>
              <a:buClr>
                <a:srgbClr val="000000"/>
              </a:buClr>
              <a:buFont typeface="Times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ceptions to report communication failu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Ann Wollrath</cp:lastModifiedBy>
  <cp:lastPrinted>1999-01-07T16:50:45Z</cp:lastPrinted>
  <dcterms:modified xsi:type="dcterms:W3CDTF">1999-01-24T21:46:30Z</dcterms:modified>
  <cp:revision>15314</cp:revision>
  <dc:subject/>
  <dc:title>No Slide Title</dc:title>
</cp:coreProperties>
</file>