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10158413" cy="7616825"/>
  <p:notesSz cx="692308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228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Num" idx="3"/>
          </p:nvPr>
        </p:nvSpPr>
        <p:spPr>
          <a:xfrm>
            <a:off x="5805360" y="4478400"/>
            <a:ext cx="385920" cy="234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  <a:defRPr b="0" lang="en-US" sz="1000" spc="-1" strike="noStrike">
                <a:solidFill>
                  <a:srgbClr val="000000"/>
                </a:solidFill>
                <a:latin typeface="SunSansCondensed-Dem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904CF137-6F3A-42EF-B3AE-F4FD1BA8E03C}" type="slidenum">
              <a:rPr b="0" lang="en-US" sz="1000" spc="-1" strike="noStrike">
                <a:solidFill>
                  <a:srgbClr val="000000"/>
                </a:solidFill>
                <a:latin typeface="SunSansCondensed-Dem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728280" y="320400"/>
            <a:ext cx="5511960" cy="4128840"/>
          </a:xfrm>
          <a:prstGeom prst="rect">
            <a:avLst/>
          </a:prstGeom>
          <a:noFill/>
          <a:ln w="1260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6720" y="4503600"/>
            <a:ext cx="307476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unSansCondensed-Demi"/>
              </a:rPr>
              <a:t>Sun Microsystems Inc. Corporate Template  7/9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unSansCondensed-Regular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3913200" y="-3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6480" y="89229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hdr"/>
          </p:nvPr>
        </p:nvSpPr>
        <p:spPr>
          <a:xfrm>
            <a:off x="-6480" y="-3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65601-9197-408B-B7A3-89C64D0181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735200" y="4587120"/>
            <a:ext cx="819144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332CB-8719-4C4D-A229-85D71492AC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932440" y="219996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35200" y="458712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932440" y="458712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E04FB-B31C-4351-8224-9B2930ADE6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263736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04680" y="2199960"/>
            <a:ext cx="263736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274520" y="2199960"/>
            <a:ext cx="263736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735200" y="4587120"/>
            <a:ext cx="263736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04680" y="4587120"/>
            <a:ext cx="263736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274520" y="4587120"/>
            <a:ext cx="263736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72F0A-6773-4A51-BFA2-E72111AC9F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FE311-B042-42F7-9B4D-E28BC93AC7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FF0AF-D0B5-43FC-82BE-BEC16FD8EF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399708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932440" y="2199960"/>
            <a:ext cx="399708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7F2AD-02AA-4C8E-9988-E4F2714320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CB2D4-B62C-4640-9C8B-9572ED62A3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35200" y="378360"/>
            <a:ext cx="8191440" cy="69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3E131-B3A9-4727-B66C-EFE4CE36A0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932440" y="2199960"/>
            <a:ext cx="399708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735200" y="458712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33B5F-08AE-43A2-BB9B-34BB1B1DCA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399708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932440" y="219996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932440" y="458712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92105-8CA4-4BCD-9565-B45A6DA90D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932440" y="219996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735200" y="4587120"/>
            <a:ext cx="819144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75084-364F-4C67-9806-E2DB86FD8B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7000"/>
          </a:bodyPr>
          <a:p>
            <a:pPr marL="331200" indent="-33120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7840" indent="-27612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4840" indent="-2210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-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6560" indent="-2210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ffffff"/>
              </a:buClr>
              <a:buFont typeface="SunSans-Demi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88640" indent="-2210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ffffff"/>
              </a:buClr>
              <a:buFont typeface="SunSans-Demi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5" marL="1988640" indent="-2210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ffffff"/>
              </a:buClr>
              <a:buFont typeface="SunSans-Demi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6" marL="1988640" indent="-2210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ffffff"/>
              </a:buClr>
              <a:buFont typeface="SunSans-Demi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95120" y="320760"/>
            <a:ext cx="1024200" cy="4492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417680" y="0"/>
            <a:ext cx="0" cy="761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2087640" y="6932520"/>
            <a:ext cx="5603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January 26, 1999--Ann Wollrath Copyright 1999 Sun Microsystems, Inc.,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515080" y="6875280"/>
            <a:ext cx="138276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E1ECE-84E2-4EED-A7CE-B4EB77AE8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6167520"/>
            <a:ext cx="1930320" cy="1447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300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32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47800" y="3391920"/>
            <a:ext cx="718992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Java</a:t>
            </a:r>
            <a:r>
              <a:rPr b="0" lang="en-US" sz="5400" spc="-1" strike="noStrike" baseline="4000">
                <a:solidFill>
                  <a:srgbClr val="000000"/>
                </a:solidFill>
                <a:latin typeface="Times New Roman"/>
              </a:rPr>
              <a:t>™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RMI Overvie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709280" y="4322520"/>
            <a:ext cx="7162920" cy="1904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n Wollra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ior Staff Engine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n Microsystems, Inc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MI Application Model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8191800" cy="4570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9000"/>
          </a:bodyPr>
          <a:p>
            <a:pPr marL="376920" indent="-37692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ure RMI solu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200" indent="-31428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ent/serv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200" indent="-31428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eer-to-pe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200" indent="-31428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hree-tier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200" indent="-31428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MI --&gt; JDBC --&gt; databa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onnect to legacy systems (via JNI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200" indent="-31428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MI --&gt; Java wrapper --&gt; existing syst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istributed Object Applica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ypically, these applications need to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ocate remote obj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mmunicate with remote obj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oad class bytecodes for objects that are passed in remote method call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ocating Remote Objec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429000" y="2209320"/>
            <a:ext cx="350532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3276720"/>
            <a:ext cx="12952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3200400"/>
            <a:ext cx="1752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190512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943600" y="3429000"/>
            <a:ext cx="15228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67280" y="4114800"/>
            <a:ext cx="15264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553080" y="4267080"/>
            <a:ext cx="15264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48520" y="3352680"/>
            <a:ext cx="15228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553080" y="2362320"/>
            <a:ext cx="38124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2666880"/>
            <a:ext cx="53316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666880"/>
            <a:ext cx="5335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emote Communic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429000" y="2209320"/>
            <a:ext cx="350532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57400" y="3276720"/>
            <a:ext cx="12952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3200400"/>
            <a:ext cx="1752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190512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350532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3429000"/>
            <a:ext cx="15228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4114800"/>
            <a:ext cx="15264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553080" y="4267080"/>
            <a:ext cx="15264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48520" y="3352680"/>
            <a:ext cx="15228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553080" y="2362320"/>
            <a:ext cx="38124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77120" y="2666880"/>
            <a:ext cx="53316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666880"/>
            <a:ext cx="5335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3352680"/>
            <a:ext cx="5335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oading Class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429000" y="2209320"/>
            <a:ext cx="350532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3276720"/>
            <a:ext cx="12952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3200400"/>
            <a:ext cx="1752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502920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5410080"/>
            <a:ext cx="175248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190512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43200" y="3657600"/>
            <a:ext cx="4114800" cy="167652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52680" y="350532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43600" y="3429000"/>
            <a:ext cx="15228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4114800"/>
            <a:ext cx="15264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53080" y="4267080"/>
            <a:ext cx="15264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48520" y="3352680"/>
            <a:ext cx="15228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553080" y="2362320"/>
            <a:ext cx="38124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505320" y="4572000"/>
            <a:ext cx="3124080" cy="121932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48720" y="2514600"/>
            <a:ext cx="0" cy="251460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51600" y="4038480"/>
            <a:ext cx="1179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URL protoc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19840" y="5257800"/>
            <a:ext cx="11790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URL protoc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2666880"/>
            <a:ext cx="53316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701120" y="3733920"/>
            <a:ext cx="11790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URL protoc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2666880"/>
            <a:ext cx="5335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3352680"/>
            <a:ext cx="5335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554200" y="2151000"/>
            <a:ext cx="63468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Java RMI AP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3000"/>
          </a:bodyPr>
          <a:p>
            <a:pPr marL="353880" indent="-353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java.rmi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7520" indent="-29520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ent API, naming, excep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java.rmi.registr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7520" indent="-29520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gistry interface, factory, looku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java.rmi.server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7520" indent="-29520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mote object implementation clas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java.rmi.activ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7520" indent="-29520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pports activatable remote obj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mponents of RMI Syste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MI runtim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775800" indent="-2984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mote referen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5800" indent="-2984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otoco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5800" indent="-2984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5800" indent="-2984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ass loading and DG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-3578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rmiregistry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the remote object registr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-3578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rmid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the RMI activation daem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-3578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rmic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the RMI stub compiler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MI Architectu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arch2" descr=""/>
          <p:cNvPicPr/>
          <p:nvPr/>
        </p:nvPicPr>
        <p:blipFill>
          <a:blip r:embed="rId1"/>
          <a:stretch/>
        </p:blipFill>
        <p:spPr>
          <a:xfrm>
            <a:off x="3425760" y="2270160"/>
            <a:ext cx="330516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ethod Invoc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2057400"/>
            <a:ext cx="2971800" cy="403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19920" y="2057400"/>
            <a:ext cx="3047760" cy="403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2286000"/>
            <a:ext cx="2286000" cy="1523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3048120"/>
            <a:ext cx="152424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5880" y="5029200"/>
            <a:ext cx="175284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MI run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5029200"/>
            <a:ext cx="17524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MI run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63400" y="236232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24480" y="2286000"/>
            <a:ext cx="221004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41200" y="156528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r’s V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080" y="152388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te object’s V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77120" y="2362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te 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77120" y="4038480"/>
            <a:ext cx="152388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24280" y="54100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238880" y="304776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3733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934320" y="4648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2666880"/>
            <a:ext cx="4572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57400" y="213372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arameter Pass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MI passes objects using Java Object Serializ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ad/write objects and graphs of obj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bjects must agree to be serializ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serves cycles (identity of objects within graph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ustomization on a per-class bas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ass Load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MI loads classes if not available locally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mote stub, parameter, and return value clas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all stream is annotated with URL for class loc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oaded classes subject to installed security manag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54200" y="2151000"/>
            <a:ext cx="63468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eveloping Applica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fine the interfaces to your remote obj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mplement the remote objects and cli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un </a:t>
            </a:r>
            <a:r>
              <a:rPr b="0" lang="en-US" sz="2900" spc="-1" strike="noStrike">
                <a:solidFill>
                  <a:srgbClr val="000000"/>
                </a:solidFill>
                <a:latin typeface="Courier New"/>
              </a:rPr>
              <a:t>rmic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n remote implementation clas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ke code network-accessi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mpute Engine Servi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mote object to compute arbitrary task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ent sends task to compute engi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mpute engine runs task and returns resul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MI loads task code dynamical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5257800"/>
            <a:ext cx="106668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81680" y="5181480"/>
            <a:ext cx="129564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9880" y="541008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88584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24280" y="5257800"/>
            <a:ext cx="106704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mit tas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5867280"/>
            <a:ext cx="106704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resul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mpute Remote Interfa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java.rmi.*;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interface Compute extends Remote 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bject executeTask(Task t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ows RemoteException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ask Interfa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java.io.Serializable;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interface Task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tends Serializab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Object execute();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mplementation Overvie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or a peer-to-peer remote object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xtend </a:t>
            </a:r>
            <a:r>
              <a:rPr b="0" lang="en-US" sz="2900" spc="-1" strike="noStrike">
                <a:solidFill>
                  <a:srgbClr val="000000"/>
                </a:solidFill>
                <a:latin typeface="Courier New"/>
              </a:rPr>
              <a:t>UnicastRemoteObjec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mplement methods of remote interfa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reate and install a security manag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reate remote obje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gister remote object in RMI registry (or other name facility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mpute Engine Implement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9000"/>
          </a:bodyPr>
          <a:p>
            <a:pPr marL="338760" indent="-3387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urier Ne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.rmi.*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.rmi.server.*;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ComputeEngin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nds UnicastRemoteObjec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lements Comput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omputeEngine(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throws RemoteExceptio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super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Object executeTask(Task t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return t.execute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2000"/>
            </a:br>
            <a:r>
              <a:rPr b="1" lang="en-US" sz="2000" spc="-1" strike="noStrike">
                <a:solidFill>
                  <a:srgbClr val="00cc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main Metho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urier Ne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System.getSecurityManager() == null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System.setSecurityManager(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RMISecurityManager()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Compute engine = new ComputeEngine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Naming.rebind(“Compute”, engine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System.out.println(“Engine bound”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catch (Exception e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System.err.println(“exception: ” +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e.getMessage()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e.printStackTrace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cc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54200" y="2151000"/>
            <a:ext cx="63468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ent Overvie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reate task to be executed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ookup the compute service by nam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nd task to compute servic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rint resul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ent’s main Metho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5000"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urier Ne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System.getSecurityManager() == null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setSecurityManager(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new RMISecurityManager()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name = “//” + args[0] + “/Compute”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ute comp =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(Compute) Naming.lookup(name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 task = new Pi(Integer.parseInt(args[1])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igDecimal pi =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(BigDecimal) comp.executeTask(task)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System.out.println(pi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catch (Exception e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err.println(“exception: ” +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e.getMessage()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printStackTrace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5000"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urier Ne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Pi implements Task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int digits;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Pi(int digits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this.digits = digits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Object execute (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return computePi(digits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BigDecimal computePi(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digits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// exercise left to reader..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mpute Engine: remote communic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429000" y="2209320"/>
            <a:ext cx="350532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52480" y="3276720"/>
            <a:ext cx="16002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P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3200400"/>
            <a:ext cx="1752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934320" y="190512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52680" y="350532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429000"/>
            <a:ext cx="15228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867280" y="4114800"/>
            <a:ext cx="15264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53080" y="4267080"/>
            <a:ext cx="15264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3352680"/>
            <a:ext cx="15228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553080" y="2362320"/>
            <a:ext cx="38124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24480" y="2666880"/>
            <a:ext cx="14479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ing.rebi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2666880"/>
            <a:ext cx="13716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ing.look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3352680"/>
            <a:ext cx="16002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.executeTas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mpute Engine: class load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3429000" y="2209320"/>
            <a:ext cx="350532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52480" y="3276720"/>
            <a:ext cx="16002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P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15000" y="3200400"/>
            <a:ext cx="1752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934320" y="190512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52680" y="350532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43600" y="3429000"/>
            <a:ext cx="15228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67280" y="4114800"/>
            <a:ext cx="15264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553080" y="4267080"/>
            <a:ext cx="15264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248520" y="3352680"/>
            <a:ext cx="15228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6553080" y="2362320"/>
            <a:ext cx="38124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24480" y="2666880"/>
            <a:ext cx="14479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ing.rebi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19720" y="2666880"/>
            <a:ext cx="13716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ing.look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3352680"/>
            <a:ext cx="16002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.executeTas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0" y="502920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76520" y="5410080"/>
            <a:ext cx="175248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90920" y="3733920"/>
            <a:ext cx="4267080" cy="160020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3505320" y="4648320"/>
            <a:ext cx="3124080" cy="114300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48720" y="2590920"/>
            <a:ext cx="0" cy="243828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48000" y="4038480"/>
            <a:ext cx="1764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ComputeEngine_Stu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22000" y="5257800"/>
            <a:ext cx="3301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7520" y="3733920"/>
            <a:ext cx="1764000" cy="73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ComputeEngine_Stub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Compute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Tas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554200" y="2151000"/>
            <a:ext cx="63468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ustom remote reference typ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cure reference typ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Dynamically generated stub class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ore performance improvement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ore Inform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Java RMI home page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ttp://java.sun.com/products/jdk/rmi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ompute engine tutorial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ttp://java.sun.com/tutorial/rmi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946240" y="2768760"/>
            <a:ext cx="5384880" cy="2360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sual RPC Assump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ultiple machine instruction set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ultiple implementation languag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ultiple object models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r no object model at al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rotocol agreement has to be up front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erhaps at compile ti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Java Changes Those Assump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Java bytecodes give uniform platform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ssume that Java is everywher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Environment safe to import cod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anguage-centric approach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Java RM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8000"/>
          </a:bodyPr>
          <a:p>
            <a:pPr marL="372960" indent="-37296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Enables method invocation between objects in different Java VM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Uses pure Java interfaces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8920" indent="-3110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o new interface definition langu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llows passing Java object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8920" indent="-3110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serves data encapsul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8920" indent="-3110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pports polymorphis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8920" indent="-3110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ynamically loads clas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vantages of RM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apitalizes on the Java object mod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inimizes complexit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reserves safety of Java runtim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cognizes distribution differenc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artial fail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tenc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o global knowled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emote Objects are Java Objec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mote objects extend Java object mod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Courier New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</a:rPr>
              <a:t>Remote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terfaces to reference obj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ll serializable objects can be parameters and return valu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0080" indent="-254160">
              <a:spcBef>
                <a:spcPts val="649"/>
              </a:spcBef>
              <a:buClr>
                <a:srgbClr val="000000"/>
              </a:buClr>
              <a:buFont typeface="Times"/>
              <a:buChar char="-"/>
              <a:tabLst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mote object referen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0080" indent="-254160">
              <a:spcBef>
                <a:spcPts val="649"/>
              </a:spcBef>
              <a:buClr>
                <a:srgbClr val="000000"/>
              </a:buClr>
              <a:buFont typeface="Times"/>
              <a:buChar char="-"/>
              <a:tabLst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ava core class objects (e.g., Hashtable), AWT Objects (e.g., Button), JavaBeans, user defined obje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emote Objects are Java Objects (cont’d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ub objects have the same remote interfaces as the remote obje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0080" indent="-254160">
              <a:spcBef>
                <a:spcPts val="649"/>
              </a:spcBef>
              <a:buClr>
                <a:srgbClr val="000000"/>
              </a:buClr>
              <a:buFont typeface="Times"/>
              <a:buChar char="-"/>
              <a:tabLst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sting allowed via standard Java cast operato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0080" indent="-254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-"/>
              <a:tabLst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instanceof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check type of interfa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xceptions to report communication fail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24T11:52:18Z</dcterms:created>
  <dc:creator>David Stevens</dc:creator>
  <dc:description/>
  <dc:language>en-US</dc:language>
  <cp:lastModifiedBy>Ann Wollrath</cp:lastModifiedBy>
  <cp:lastPrinted>1999-01-07T16:50:45Z</cp:lastPrinted>
  <dcterms:modified xsi:type="dcterms:W3CDTF">1999-01-24T21:46:30Z</dcterms:modified>
  <cp:revision>15314</cp:revision>
  <dc:subject/>
  <dc:title>No Slide Title</dc:title>
</cp:coreProperties>
</file>