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A29-5020-486E-B07C-D176761EA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FC6-4F7F-4B53-8901-258E91A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9D6-D1C1-4098-8DB9-C491C48E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1DB-9CBD-48F8-B6B6-F7A00423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7398-D7D7-440A-BEDB-3DE53776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7D6F-9679-4801-BDFE-805775B4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5246-CD11-4326-BC19-530BB4B6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BB7-6F8C-42F8-954B-A30DA75C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DA85A-3F62-40D1-8EBD-9F196603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CD5A-FCC3-4895-834E-CE6614F7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AD5B-15B4-49D5-8F27-7EB65CC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13E-AF5D-41B3-9F28-5FEF0C1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6F4A-6AE7-47DA-8D23-D4AA3156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917-4200-4573-816B-6BE7B7C1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5E1B-AC65-4537-B429-A7B46D57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C7D7-08CF-436E-84DE-DEDD1CEF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E823-7AE4-422B-B833-EA6F722A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6AE6-89AC-42DC-A028-46F5328A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067-A1FA-446E-8177-7060F44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B33-634C-4FF1-889A-A51F04D9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7A8-B278-4841-BB41-619F052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0A4-0156-4EC6-ABF8-EA9807DE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AA2-BCAA-47DE-819A-61A6072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75B8-5AC8-46AC-8946-3D12A1B0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24680" y="6630840"/>
            <a:ext cx="68580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990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552720"/>
            <a:ext cx="1828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4D0-BD0E-4B73-B1A3-0A5E54225BE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AFA7-0ED0-4EAB-AEE7-48D9F55BC3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JavaONE - Enterprise JavaBean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ukasz Be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4/08/98 N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serv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vironment to support the execution of applications developed using Enterprise JavaBea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an contain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ages the life cycle of the object, implements security for the object, and coordinates distributed transact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te management:  data contained within the objec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ssion object: created by a client, in most cases exists only for the duration of a single client/server ses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ity objects: persistent data that are maintained in a databas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B38-6EA3-4320-BED0-4927FE5831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ndard contrac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rtability across different EJ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rapping and Intercep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rol over an enterprise bean through a wrapp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ternal representation of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ception of all operations made on th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trolling a Bea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rent context of each active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9D5-3F86-440D-A0D0-4327A9D3D7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container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calling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43760" cy="383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FDC1-61DF-4E38-88DF-3AB770FCF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aming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NDI to locate the container for an enterprise bea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fe Cycle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truc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ion Serv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mote Method Invocation (RMI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-Java Integration (IIOP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Manage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ed Transactions (JTS)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20A5-8347-49DA-A5C6-C15EF11A60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nterprise JavaBeans Architecture 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hentication and authorization servic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beans do not need to code to the Java Security API directl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CB5-E01B-4A14-88D5-3BF2813B72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JavaBeans Deployment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R fi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ejbjar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5543640" cy="399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FE1B-718C-4271-B79D-C76FBE63A4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References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home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terprise JavaBeans white pape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products/ejb/white_paper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Is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marketing/enterprise/download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ONE reference materia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java.sun.com/javaone/javaone98/tracksTOC.htm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2A4-AF88-451F-B816-8065F8F500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1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nent model for development and deployment of Java applications based on multi-tier, distributed object architectur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Computing Platform for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ndard set of application programming interfaces (APIs) to a core set of enterprise-class infrastructure services, including life cycle, naming, remote invocation, messaging, transactions, database access, and manage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0FA-8765-44D4-80DD-932E454395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Motivation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ftware for Enterpris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hort Development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use of Softwa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rtabil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y and Quick Access for Us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atibility with Existing Systems and Standar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nsaction Reliability and Securit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6B8B-3426-4C11-96E8-ED7D12BA40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JB Exampl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application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1344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382-9367-4627-BE8A-B7738C764B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hort Development Process and Reuse of Software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Beans API: pluggable software components, open, portable, platform neutra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erprise JavaBeans API: specialized, non-visual JavaBeans, running on serv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EAA-1757-4025-A7F7-3101AB9C2F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Portability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languag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JB interfaces specif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13A-4DBD-4E28-9612-B30B2B192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Easy and Quick Access for User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tier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API: framework for building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let API: components for web serv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Applet API: client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Server Pages API: creating clients using script languag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tributed Objects Architectur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ava RMI API: technology for communication between remote objec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A628-FB0C-4A4F-BC96-D63FF20CF1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Compatibility with Existing Systems and Standard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IDL: standards-base interoperability and connectivity with CORBA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DBC API: standard SQL database access interfa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Naming and Directory Interface (JNDI):  unified interface to multiple naming and directory services in the enterpris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anagement API (JMAPI): objects and methods for development of seamless system, network, and services management solu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364F-598C-4241-B2F9-4C6917410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Times New Roman"/>
              </a:rPr>
              <a:t>Security and Reliability of Transactions</a:t>
            </a:r>
            <a:endParaRPr b="1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Transaction Service (JTS): low-level API used by sophisticated transactional application programs, resource managers, transaction processing monitors, transaction-aware communication managers, and transaction manage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Message Service Interface: standard Java API for enterprise messaging servic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ava Security API: security functionality in applets and applic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PAC, Syracuse Univers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195C-7D4E-4401-A76B-1AA73206E7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1:11:54Z</dcterms:created>
  <dc:creator>Marek Podgorny</dc:creator>
  <dc:description/>
  <dc:language>en-US</dc:language>
  <cp:lastModifiedBy>beca</cp:lastModifiedBy>
  <cp:lastPrinted>1998-04-08T19:24:58Z</cp:lastPrinted>
  <dcterms:modified xsi:type="dcterms:W3CDTF">1998-04-08T20:29:21Z</dcterms:modified>
  <cp:revision>18</cp:revision>
  <dc:subject/>
  <dc:title>TANGO for Distance Lear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tango.npac.syr.edu</vt:lpwstr>
  </property>
  <property fmtid="{D5CDD505-2E9C-101B-9397-08002B2CF9AE}" pid="9" name="LinkColor">
    <vt:r8>16711782</vt:r8>
  </property>
  <property fmtid="{D5CDD505-2E9C-101B-9397-08002B2CF9AE}" pid="10" name="MailAddress">
    <vt:lpwstr>marek@npac.syr.edu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F:\users\marek\PPTdoc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