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92D-527C-438D-8DB1-FBE30B16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3881-431E-4647-A7CF-E93CC261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972D-F7DB-4DE6-83B9-C6413608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E61-0CEE-43A9-8273-C002BBC4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78C2-E264-48FD-943D-7F5672E4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263C-5152-4232-BEAE-16726790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EB79-77CD-4800-B9A3-12D2C88A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15A4-5292-4734-9DC4-60B94F1B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D0DA-B218-43E6-B5A1-8D1421AB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3D42-F50D-47E1-B767-66AEA567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7859-AA1E-4B4D-ACF5-9FCEBBDA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846D-3F25-4892-9413-2759F687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D0BD-12B0-4704-9319-FC9707ED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500B-F077-48E7-AD28-46C2C98A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4094-01AC-4006-872E-6B0BE8A6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8D3B-F434-40B4-B066-A3BB9701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DE84-03BA-4DBF-A11C-7AED5D65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EB54-460A-47FE-9581-B848E8DB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000-9ED9-4017-8B3E-081A87CA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7898-0DCF-4D53-AF5E-8DCBD528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8D1-EBB9-4B21-8668-7504A70B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83E-9651-468A-B5AA-DF7D38D0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083-4CEA-4775-8139-4C52754F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A806-7FA5-459E-B3F1-0FAE0E70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4680" y="6630840"/>
            <a:ext cx="68580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29400" y="65527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1DC8-BD6F-41F7-9760-4E99FD79708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65D8-5E07-4984-8D2E-C6E09BB336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JavaONE - Enterprise JavaBean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ukasz Be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4/08/98 NP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Enterprise JavaBeans Architecture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prise JavaBeans serv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vironment to support the execution of applications developed using Enterprise JavaBea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an contain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ages the life cycle of the object, implements security for the object, and coordinates distributed transac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te management:  data contained within the objec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ssion object: created by a client, in most cases exists only for the duration of a single client/server sess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tity objects: persistent data that are maintained in a databas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5C6-C058-4F12-AFD6-604B715950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Enterprise JavaBeans Architecture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ndard contrac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rtability across different EJB serv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rapping and Intercep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rol over an enterprise bean through a wrapp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ternal representation of the enterprise be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ception of all operations made on the enterprise be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rolling a Be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 context of each active enterprise be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EF19-27F8-4ED5-A54C-793C5918C1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EJB container example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calling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143760" cy="38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3AF9-B5AA-4E0C-A000-BB4A132F7C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Enterprise JavaBeans Architecture 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m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NDI to locate the container for an enterprise be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fe Cycle Manage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truc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ribution Servi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ote Method Invocation (RMI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n-Java Integration (IIOP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saction Manage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tributed Transactions (JTS)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0D3C-2940-425C-A3BC-8285E05101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Enterprise JavaBeans Architecture 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hentication and authorization servi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terprise beans do not need to code to the Java Security API directl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743-2537-4E10-B038-13FD9AA8AB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JavaBeans Deployment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R fil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ejbjar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543640" cy="399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B73D-3EE8-41BC-AD57-A6904DDE87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Computing Platform for the Enterpri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java.sun.com/marketing/enterprise/home.ht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prise JavaBeans white pap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java.sun.com/products/ejb/white_paper.ht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PIs document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java.sun.com/marketing/enterprise/download.ht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ONE reference materi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java.sun.com/javaone/javaone98/tracksTOC.ht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E25F-E9BE-4F16-AE11-AB8ED05286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J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onent model for development and deployment of Java applications based on multi-tier, distributed object architectur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Computing Platform for the Enterpri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ndard set of application programming interfaces (APIs) to a core set of enterprise-class infrastructure services, including life cycle, naming, remote invocation, messaging, transactions, database access, and manage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49A-8090-4895-8979-D09BBA3BFC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Motivation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ftware for Enterpris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Development Proce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use of Softwa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rtabil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asy and Quick Access for Us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atibility with Existing Systems and Standar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saction Reliability and Secur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4A83-BCBF-490A-A37D-B8B4DC4A77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EJB Example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application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1344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A34-DA7A-440F-8E79-B20768CE3C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Short Development Process and Reuse of Software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onent architectu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Beans API: pluggable software components, open, portable, platform neutra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terprise JavaBeans API: specialized, non-visual JavaBeans, running on ser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BCDE-4B05-4A52-B195-41FA178FA1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Portability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languag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JB interfaces specifica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40E6-2F7F-451D-A452-93976F88FF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Easy and Quick Access for User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lti-tier Architectu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Server API: framework for building serv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Servlet API: components for web serv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Applet API: client develop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Server Pages API: creating clients using script languag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ributed Objects Architectu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RMI API: technology for communication between remote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72D-D331-42AC-8D48-9E696C3E7F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Compatibility with Existing Systems and Standard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IDL: standards-base interoperability and connectivity with CORB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DBC API: standard SQL database access interfac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Naming and Directory Interface (JNDI):  unified interface to multiple naming and directory services in the enterpri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Management API (JMAPI): objects and methods for development of seamless system, network, and services management solu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EAF2-A2D3-4AF3-863F-EF2C62D831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Security and Reliability of Transaction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Transaction Service (JTS): low-level API used by sophisticated transactional application programs, resource managers, transaction processing monitors, transaction-aware communication managers, and transaction manag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Message Service Interface: standard Java API for enterprise messaging servic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Security API: security functionality in applets and applica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66F-8125-48C7-B72E-F0C062D9A9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beca</cp:lastModifiedBy>
  <cp:lastPrinted>1998-04-08T19:24:58Z</cp:lastPrinted>
  <dcterms:modified xsi:type="dcterms:W3CDTF">1998-04-08T20:29:21Z</dcterms:modified>
  <cp:revision>18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tango.npac.syr.edu</vt:lpwstr>
  </property>
  <property fmtid="{D5CDD505-2E9C-101B-9397-08002B2CF9AE}" pid="9" name="LinkColor">
    <vt:r8>16711782</vt:r8>
  </property>
  <property fmtid="{D5CDD505-2E9C-101B-9397-08002B2CF9AE}" pid="10" name="MailAddress">
    <vt:lpwstr>marek@npac.syr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F:\users\marek\PPTdoc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