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60200" y="0"/>
            <a:ext cx="8972640" cy="6845400"/>
            <a:chOff x="160200" y="0"/>
            <a:chExt cx="8972640" cy="6845400"/>
          </a:xfrm>
        </p:grpSpPr>
        <p:sp>
          <p:nvSpPr>
            <p:cNvPr id="2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33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60200" y="1409760"/>
              <a:ext cx="8896320" cy="0"/>
            </a:xfrm>
            <a:prstGeom prst="line">
              <a:avLst/>
            </a:prstGeom>
            <a:ln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1189080" cy="6858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60200" y="0"/>
            <a:ext cx="8982360" cy="6845400"/>
            <a:chOff x="160200" y="0"/>
            <a:chExt cx="8982360" cy="6845400"/>
          </a:xfrm>
        </p:grpSpPr>
        <p:sp>
          <p:nvSpPr>
            <p:cNvPr id="50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9560" y="0"/>
              <a:ext cx="372960" cy="5486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0"/>
              <a:ext cx="254160" cy="4419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2200" y="2610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33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7680" y="247644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0200" y="2476440"/>
              <a:ext cx="8896320" cy="0"/>
            </a:xfrm>
            <a:prstGeom prst="line">
              <a:avLst/>
            </a:prstGeom>
            <a:ln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0200" y="0"/>
            <a:ext cx="8982000" cy="6845400"/>
            <a:chOff x="160200" y="0"/>
            <a:chExt cx="8982000" cy="6845400"/>
          </a:xfrm>
        </p:grpSpPr>
        <p:sp>
          <p:nvSpPr>
            <p:cNvPr id="133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9560" y="0"/>
              <a:ext cx="372960" cy="5486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0"/>
              <a:ext cx="25416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2200" y="2610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880" y="2476440"/>
              <a:ext cx="8626320" cy="13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200" y="2476440"/>
              <a:ext cx="8896320" cy="0"/>
            </a:xfrm>
            <a:prstGeom prst="line">
              <a:avLst/>
            </a:prstGeom>
            <a:ln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 txBox="1"/>
          <p:nvPr/>
        </p:nvSpPr>
        <p:spPr>
          <a:xfrm>
            <a:off x="76212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ing Java</a:t>
            </a:r>
            <a:r>
              <a:rPr b="1" i="1" lang="en-US" sz="2000" spc="-1" strike="noStrike" baseline="54000">
                <a:solidFill>
                  <a:srgbClr val="ffffff"/>
                </a:solidFill>
                <a:latin typeface="Times New Roman"/>
                <a:ea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3880" y="350532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oran Budim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ic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Inl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430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lining has to preserve field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ple idea: inline both methods </a:t>
            </a:r>
            <a:r>
              <a:rPr b="1" i="1" lang="en-US" sz="3200" spc="-1" strike="noStrike">
                <a:solidFill>
                  <a:srgbClr val="00cc99"/>
                </a:solidFill>
                <a:latin typeface="Arial"/>
                <a:ea typeface="Arial"/>
              </a:rPr>
              <a:t>an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can only inline objects that we instant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bine with interprocedur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liminary experiments (Linpack by hand) give ~2 times speed increase, with 20-30% code size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Du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ile and optimize classes assuming static intraclass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ve two versions of each class, one for instantiation, one for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res the run-time environment to know about this and have appropriat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uplicates the cod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it until the whole program is available at the client’s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rform the full range of heavy-duty optimizations, generate nativ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igh performance, loss of por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going research (“classical” optimizations, Jeff Dean’s 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Problem: Exce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Java instructions can cause an 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ct excep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appropriate model for methods with exception handlers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eatly reduces code movement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ions: Possible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termine instructions tha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ll no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ause 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milar to typ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rict the performed optimiz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at if you can’t get cau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close the whole method code in a </a:t>
            </a:r>
            <a:r>
              <a:rPr b="1" i="1" lang="en-US" sz="3200" spc="-1" strike="noStrike">
                <a:solidFill>
                  <a:srgbClr val="00cc99"/>
                </a:solidFill>
                <a:latin typeface="Arial"/>
                <a:ea typeface="Arial"/>
              </a:rPr>
              <a:t>tr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ode the knowledge about performed optimizations in the exception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milar to optimized code 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on HP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43000" y="1828800"/>
            <a:ext cx="7772400" cy="42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 portability and functionality </a:t>
            </a:r>
            <a:r>
              <a:rPr b="0" i="1" lang="en-US" sz="3200" spc="-1" strike="noStrike">
                <a:solidFill>
                  <a:srgbClr val="ff0033"/>
                </a:solidFill>
                <a:latin typeface="Arial"/>
                <a:ea typeface="Arial"/>
              </a:rPr>
              <a:t>ha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be sacrificed for high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thin factor 2 of native C expected for Web bas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th native-code, whole program optimizing Java compiler, very limited use of exceptions in user programs, we should expect getting very close to native C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ava is becoming the language of choice in many applications, from WWW to scientific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has many appealing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fortunately, it is very hard to optim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tunately, it is very hard to optimize, so I can get my thesis out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ava bytecodes are at a higher level than ordinary assembl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ceptions greatly reduce code movement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OP style (lots of method calls) reduces the data flow information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knowledge about the whole program at compil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30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ndard trilema: functionality vs. portability vs.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opt the current javac strategy: one class at a time, no changes to VM, lowes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crifice some portability and functionality for better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crifice a lot of portability and functionality for bes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828800"/>
            <a:ext cx="7772400" cy="42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d on summer work in Java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ndalone, cross-bytecode, one class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ocal and peephole opti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cal CSE, cprop, dead, register allocation, stack allocation, copy propa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SA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 SSA opti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ad and cp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Approach: 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res no changes to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sensitive to the choice of source compiler  and interpreter/JIT comp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interprocedural opti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ow performance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ace for some additional, though limited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and Stack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ava doesn’t have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cal variables are not the s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st 4 (R0-R3) have shorter manipulating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st 64 can fit into the register set on UltraJav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rand stack should be used to shorten the bytecod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ved  in code generation for p-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ond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procedural optimizations of the part of the program that </a:t>
            </a:r>
            <a:r>
              <a:rPr b="1" i="1" lang="en-US" sz="3200" spc="-1" strike="noStrike">
                <a:solidFill>
                  <a:srgbClr val="ff0033"/>
                </a:solidFill>
                <a:latin typeface="Arial"/>
                <a:ea typeface="Arial"/>
              </a:rPr>
              <a:t>i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vail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e some assumptions about the code at a compile time, pass the information about it to the run-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ocedural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43000" y="1828800"/>
            <a:ext cx="77724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OP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ts of shor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ts of method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ynamic binding for intraclass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s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99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e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al methods and classes, instantiated objects, private cla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ran Budimlic</cp:lastModifiedBy>
  <cp:revision>0</cp:revision>
  <dc:subject/>
  <dc:title>No Slide Title</dc:title>
</cp:coreProperties>
</file>