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868-A2BA-4A2E-9DD1-4E8FF75A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F85-6175-4EF2-91E5-79204885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D3E-D585-4768-9754-AE098242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9168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336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9168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336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CAF-31B3-4F03-B64A-23C68497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170E-C667-4830-8E74-F03DEBB3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93B5-3B58-42D3-BF45-8721FE96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B672-5B92-41E0-BDFA-1474F220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1CFA-6ED2-4ACF-988E-A10B6F87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1D10-480B-41DC-BE14-590505E1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161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C01A-FD8F-431F-98E0-8144FC06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EF59-B2BF-4CC0-96DB-AC5C4447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1F6-3C38-42C0-A48E-55F58298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6FC9-AF3B-42D0-BAAB-4C80BED3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12CD-DBA1-4D32-AA3C-C1265007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2327-BD4B-4AFA-ACD1-C6D9BBEE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0B81-EF04-4018-A230-486F3ACF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9168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336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09168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336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7F9C-E956-4C78-A8C1-B7342093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D6D-6E25-4DDC-8374-88A35DA2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D3D-B88C-4124-941D-734EC544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6D7-DBF0-45FE-9EE9-BD455931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161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AEA-6585-4CA3-A8F9-FB2D6AC8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F846-6EF0-4B64-833E-C52E9DD0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78D-4386-4B9A-A51E-1623D907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07F-625D-41EE-A599-6C808B5B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6EF1-9552-4205-9157-56C14D277009}" type="datetime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5892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BA1B-CAAA-48E5-8D2C-FE88545D16C6}" type="slidenum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2268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0465-CE4E-4F67-863E-0911B4DF0200}" type="datetime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889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49D2-D3F5-473B-85D4-C384BF7C98D8}" type="slidenum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88056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Gateway PET Project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nd DoD Metacomputing</a:t>
            </a:r>
            <a:br>
              <a:rPr sz="6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od Modernization Users Group Meet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tacomputing Panel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June 9 99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25520" y="4204800"/>
            <a:ext cx="64008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eoffrey Fox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yracuse University NPAC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11 College Place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yracuse NY 13244 4100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154432163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9729-09B6-4AB4-B7C1-65AE32B7019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55F3E24-3BB8-4EC0-BFC5-804802E969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181120" y="8377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ateway PSE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xample: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CC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0" name="ccm-kenf" descr=""/>
          <p:cNvPicPr/>
          <p:nvPr/>
        </p:nvPicPr>
        <p:blipFill>
          <a:blip r:embed="rId1"/>
          <a:stretch/>
        </p:blipFill>
        <p:spPr>
          <a:xfrm>
            <a:off x="0" y="0"/>
            <a:ext cx="5124600" cy="599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6211800"/>
            <a:ext cx="847584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n Flurchick, http://www.osc.edu/~kenf/theGatew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60960" y="2612880"/>
            <a:ext cx="3983040" cy="3005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Gateway Computing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1. Enter the Gateway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2. Define your probl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3. Identify resources</a:t>
            </a:r>
            <a:br>
              <a:rPr sz="2400"/>
            </a:b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    (software and hardwa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4. Create input f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5. Run your appl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6. Analyze result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84720" y="3032280"/>
            <a:ext cx="3959280" cy="0"/>
          </a:xfrm>
          <a:prstGeom prst="line">
            <a:avLst/>
          </a:prstGeom>
          <a:ln w="381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E51-DADB-4556-BC87-E8AB043727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25920" y="6216120"/>
            <a:ext cx="5518080" cy="6426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urrent Gateway Interfac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E8A-42A0-4B34-83EA-A8964EBFA37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A8EEC-88FE-47F2-915D-D321A48B6E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ateway Support of Simple Standalone Codes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58104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re capabilities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allow simple wrapping of existing codes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Program objects is defined as an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XML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file e.g. my favorite physics simulation on my PC becomes: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program name=“physicssimulation1”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run domain=“npac” machine=“maryland” type=“pc”     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                       os=“nt” &gt;c:\myprogs\a.out&lt;/run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input button=“prog1” toolbar=“physics” type=“htmlform” 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name&gt;userinput&lt;/name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field default=“10” maximum=“100000” &gt;iterations&lt;/field&gt;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…………   &lt;/input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output&gt; …&lt;/output&gt; 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&lt;/program&gt;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Gateway generates a distributed object with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utton prog1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in physics toolbar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This button generates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HTML form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reading parameters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Form input data are checked and backend code activated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arameters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can be accessed by running code through Gateway linked library (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all getparm(”iterations”)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etc.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A0C-002C-4A1D-A3F8-127F71340C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3ECF7-653E-4CD4-A3C8-54829A09F9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ateway and IMT and FM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742680"/>
            <a:ext cx="91440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distributed object Middle Tier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ateway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upports the Java/CORBA version of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HLA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DMSO’s distributed object model)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TI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DMSO’s Run Time Infrastructure to supported distributed modeling and simulation) built by NPAC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o one can naturally build applications tha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ederate HPCC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pplication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M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simulatio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being developed as an FMS development environ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T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requires real tim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 stream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bas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ateway can provide IMT bo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 interface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technology that integrates databases with analysis/datamining program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ateway’s choices allow integration of databases in middle tier using commercial technology such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DBC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Java Database Connectivity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D33-8F6A-4726-ABD4-7AD7BDEB86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B318A-EBE5-4BD2-8C66-92C513527F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bFlow in Gateway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0840" y="2018880"/>
            <a:ext cx="3678120" cy="466776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Flow server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is given by a hierarchy of containers and component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hese are CORBA objects written in Java acting if necessary as proxies to backend resour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WebFlow server hosts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users and servi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Each user maintains a number of applications composed of custom modules and common servi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922560" y="2016000"/>
            <a:ext cx="5029200" cy="4648320"/>
            <a:chOff x="3922560" y="2016000"/>
            <a:chExt cx="5029200" cy="4648320"/>
          </a:xfrm>
        </p:grpSpPr>
        <p:sp>
          <p:nvSpPr>
            <p:cNvPr id="293" name=""/>
            <p:cNvSpPr/>
            <p:nvPr/>
          </p:nvSpPr>
          <p:spPr>
            <a:xfrm>
              <a:off x="3922560" y="2016000"/>
              <a:ext cx="5029200" cy="4648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71960" y="2396880"/>
              <a:ext cx="2141280" cy="30481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11680" y="2396880"/>
              <a:ext cx="2141640" cy="304812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71680" y="2549520"/>
              <a:ext cx="1941480" cy="6094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11760" y="2549520"/>
              <a:ext cx="1941480" cy="6094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71680" y="3159000"/>
              <a:ext cx="1990800" cy="121932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71680" y="4454280"/>
              <a:ext cx="1990800" cy="91440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07160" y="3159000"/>
              <a:ext cx="946080" cy="22096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61000" y="3159000"/>
              <a:ext cx="996840" cy="22096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21000" y="3235320"/>
              <a:ext cx="1892160" cy="30456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21000" y="4530600"/>
              <a:ext cx="1892160" cy="3049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07240" y="3311280"/>
              <a:ext cx="796680" cy="3049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11760" y="3311280"/>
              <a:ext cx="846000" cy="3049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21080" y="37684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19600" y="39970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67000" y="4987800"/>
              <a:ext cx="2001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59520" y="4378320"/>
              <a:ext cx="1998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59320" y="4835520"/>
              <a:ext cx="1987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61160" y="483552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12" name=""/>
            <p:cNvCxnSpPr>
              <a:stCxn id="313" idx="2"/>
              <a:endCxn id="309" idx="0"/>
            </p:cNvCxnSpPr>
            <p:nvPr/>
          </p:nvCxnSpPr>
          <p:spPr>
            <a:xfrm>
              <a:off x="7059240" y="4225680"/>
              <a:ext cx="1080" cy="1533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314" name=""/>
            <p:cNvCxnSpPr>
              <a:stCxn id="309" idx="1"/>
              <a:endCxn id="311" idx="0"/>
            </p:cNvCxnSpPr>
            <p:nvPr/>
          </p:nvCxnSpPr>
          <p:spPr>
            <a:xfrm flipV="1" rot="10800000">
              <a:off x="6860160" y="4491360"/>
              <a:ext cx="99360" cy="34380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315" name=""/>
            <p:cNvCxnSpPr>
              <a:stCxn id="309" idx="3"/>
              <a:endCxn id="310" idx="0"/>
            </p:cNvCxnSpPr>
            <p:nvPr/>
          </p:nvCxnSpPr>
          <p:spPr>
            <a:xfrm>
              <a:off x="7159320" y="4492080"/>
              <a:ext cx="100800" cy="34380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313" name=""/>
            <p:cNvSpPr/>
            <p:nvPr/>
          </p:nvSpPr>
          <p:spPr>
            <a:xfrm>
              <a:off x="6959520" y="3997080"/>
              <a:ext cx="1998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56200" y="4149720"/>
              <a:ext cx="696960" cy="914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54720" y="4454280"/>
              <a:ext cx="2001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18" name=""/>
            <p:cNvCxnSpPr>
              <a:stCxn id="319" idx="2"/>
              <a:endCxn id="316" idx="0"/>
            </p:cNvCxnSpPr>
            <p:nvPr/>
          </p:nvCxnSpPr>
          <p:spPr>
            <a:xfrm>
              <a:off x="8105400" y="3997080"/>
              <a:ext cx="1080" cy="1533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8005680" y="3768480"/>
              <a:ext cx="1998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20" name=""/>
            <p:cNvCxnSpPr>
              <a:stCxn id="321" idx="3"/>
              <a:endCxn id="317" idx="0"/>
            </p:cNvCxnSpPr>
            <p:nvPr/>
          </p:nvCxnSpPr>
          <p:spPr>
            <a:xfrm>
              <a:off x="8005680" y="4339800"/>
              <a:ext cx="249840" cy="11484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322" name=""/>
            <p:cNvCxnSpPr>
              <a:stCxn id="317" idx="2"/>
              <a:endCxn id="323" idx="3"/>
            </p:cNvCxnSpPr>
            <p:nvPr/>
          </p:nvCxnSpPr>
          <p:spPr>
            <a:xfrm rot="5400000">
              <a:off x="8072280" y="4615560"/>
              <a:ext cx="115200" cy="24984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321" name=""/>
            <p:cNvSpPr/>
            <p:nvPr/>
          </p:nvSpPr>
          <p:spPr>
            <a:xfrm>
              <a:off x="7807320" y="42256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07320" y="46828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18120" y="369252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65520" y="4073400"/>
              <a:ext cx="2001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65760" y="361620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27" name=""/>
            <p:cNvCxnSpPr>
              <a:stCxn id="306" idx="3"/>
              <a:endCxn id="324" idx="1"/>
            </p:cNvCxnSpPr>
            <p:nvPr/>
          </p:nvCxnSpPr>
          <p:spPr>
            <a:xfrm flipV="1">
              <a:off x="4519080" y="3806640"/>
              <a:ext cx="599400" cy="76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06" idx="2"/>
              <a:endCxn id="307" idx="1"/>
            </p:cNvCxnSpPr>
            <p:nvPr/>
          </p:nvCxnSpPr>
          <p:spPr>
            <a:xfrm flipH="1" rot="16200000">
              <a:off x="4512240" y="3904920"/>
              <a:ext cx="115200" cy="299160"/>
            </a:xfrm>
            <a:prstGeom prst="bentConnector2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29" name=""/>
            <p:cNvCxnSpPr>
              <a:stCxn id="307" idx="3"/>
              <a:endCxn id="325" idx="1"/>
            </p:cNvCxnSpPr>
            <p:nvPr/>
          </p:nvCxnSpPr>
          <p:spPr>
            <a:xfrm>
              <a:off x="4917600" y="4111560"/>
              <a:ext cx="548280" cy="76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07" idx="3"/>
              <a:endCxn id="324" idx="2"/>
            </p:cNvCxnSpPr>
            <p:nvPr/>
          </p:nvCxnSpPr>
          <p:spPr>
            <a:xfrm flipV="1">
              <a:off x="4917600" y="3920400"/>
              <a:ext cx="300600" cy="191160"/>
            </a:xfrm>
            <a:prstGeom prst="bentConnector2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5" idx="3"/>
              <a:endCxn id="326" idx="2"/>
            </p:cNvCxnSpPr>
            <p:nvPr/>
          </p:nvCxnSpPr>
          <p:spPr>
            <a:xfrm flipV="1">
              <a:off x="5665320" y="3844080"/>
              <a:ext cx="199080" cy="343800"/>
            </a:xfrm>
            <a:prstGeom prst="bentConnector2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1"/>
              <a:endCxn id="324" idx="3"/>
            </p:cNvCxnSpPr>
            <p:nvPr/>
          </p:nvCxnSpPr>
          <p:spPr>
            <a:xfrm flipV="1" rot="10800000">
              <a:off x="5315760" y="3729600"/>
              <a:ext cx="450000" cy="76680"/>
            </a:xfrm>
            <a:prstGeom prst="bentConnector3">
              <a:avLst>
                <a:gd name="adj1" fmla="val 49959"/>
              </a:avLst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grpSp>
          <p:nvGrpSpPr>
            <p:cNvPr id="333" name=""/>
            <p:cNvGrpSpPr/>
            <p:nvPr/>
          </p:nvGrpSpPr>
          <p:grpSpPr>
            <a:xfrm>
              <a:off x="4120920" y="6054480"/>
              <a:ext cx="4481640" cy="419400"/>
              <a:chOff x="4120920" y="6054480"/>
              <a:chExt cx="4481640" cy="419400"/>
            </a:xfrm>
          </p:grpSpPr>
          <p:sp>
            <p:nvSpPr>
              <p:cNvPr id="334" name=""/>
              <p:cNvSpPr/>
              <p:nvPr/>
            </p:nvSpPr>
            <p:spPr>
              <a:xfrm>
                <a:off x="4120920" y="6054480"/>
                <a:ext cx="4492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94120" y="6054480"/>
                <a:ext cx="4474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65520" y="6054480"/>
                <a:ext cx="4492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38720" y="6054480"/>
                <a:ext cx="44784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10120" y="6054480"/>
                <a:ext cx="4492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483320" y="6054480"/>
                <a:ext cx="44784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154720" y="6054480"/>
                <a:ext cx="44784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379760" y="5673600"/>
              <a:ext cx="4038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WebFlow Servic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ebFlow supports both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bject based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ataflow computing model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with visual interface at client and both tasks and their interrelationship defined in XM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924680" y="3429000"/>
            <a:ext cx="304920" cy="1600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857640" y="3429000"/>
            <a:ext cx="1066680" cy="1600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71800" y="3295800"/>
            <a:ext cx="5562720" cy="285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0011"/>
                </a:solidFill>
                <a:latin typeface="Times New Roman"/>
              </a:rPr>
              <a:t>SECIOP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297180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98400" y="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ateway Security Model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812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31240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8520" y="5029200"/>
            <a:ext cx="121896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0120" y="5029200"/>
            <a:ext cx="121896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5029200"/>
            <a:ext cx="121932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1606680"/>
            <a:ext cx="2514600" cy="450720"/>
          </a:xfrm>
          <a:prstGeom prst="roundRect">
            <a:avLst>
              <a:gd name="adj" fmla="val 225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95520" y="1587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ront End Appl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2057400"/>
            <a:ext cx="0" cy="91440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6440" y="22860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CIO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1040" y="3940200"/>
            <a:ext cx="2622240" cy="7038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Kerberos authenti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d author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5480" y="3200400"/>
            <a:ext cx="1439640" cy="3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Gatekeep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76400" y="27432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leg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3733920"/>
            <a:ext cx="0" cy="12952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12480" y="518148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HPCC resour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86600" y="4572000"/>
            <a:ext cx="1101240" cy="3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SSAP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51360" y="4489560"/>
            <a:ext cx="1101240" cy="3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SSAP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2362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yer 1: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secure We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-2160" y="3200400"/>
            <a:ext cx="284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yer 2: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secure CORB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9765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yer 3: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Secure access to resour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76520" y="4876920"/>
            <a:ext cx="7315200" cy="1600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01600" y="594360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olicies defined by resource own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84600" y="776880"/>
            <a:ext cx="70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an use Public Key Infrastructure but for HPC Modern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use SecurID and Kerberized Workst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24400" y="4574160"/>
            <a:ext cx="958680" cy="7038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ateway Project in a Nutshell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53840"/>
            <a:ext cx="9144000" cy="38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uilds on Web-based problem solving environment built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EWE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PET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MS Landscape Management System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re technology synergistic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L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EWES FMS PET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HLA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distributed object middlewar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SC NPAC Nicholl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atewa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project funded b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SC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to produ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re infrastructure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amless secure acces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ramework for genera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 based problem solving solving environment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wi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CCM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s initial focu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re system in alpha tes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oda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C99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will have fully functional demonstr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uilt with multi tier architecture using secure CORBA at middle tier and sophisticate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Flow Java front end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llow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sk composi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ll object interfaces defin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M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6B5-93B6-4951-BFF1-B88E6562FA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3E8BA-2EFA-42A6-B8F7-5C9C047315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lms03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8677440" cy="5229360"/>
          </a:xfrm>
          <a:prstGeom prst="rect">
            <a:avLst/>
          </a:prstGeom>
          <a:ln w="0">
            <a:noFill/>
          </a:ln>
        </p:spPr>
      </p:pic>
      <p:pic>
        <p:nvPicPr>
          <p:cNvPr id="103" name="lms01" descr=""/>
          <p:cNvPicPr/>
          <p:nvPr/>
        </p:nvPicPr>
        <p:blipFill>
          <a:blip r:embed="rId2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104" name="lms07a" descr=""/>
          <p:cNvPicPr/>
          <p:nvPr/>
        </p:nvPicPr>
        <p:blipFill>
          <a:blip r:embed="rId3"/>
          <a:stretch/>
        </p:blipFill>
        <p:spPr>
          <a:xfrm>
            <a:off x="4572000" y="4952880"/>
            <a:ext cx="4357800" cy="1905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3600" y="-1440"/>
            <a:ext cx="6435000" cy="16794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 based Interface Suppor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 retriev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 pre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imulation: two interacting cod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DYS CASC2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sual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033960"/>
            <a:ext cx="4867200" cy="106884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MS Goals and Front-En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lms04a" descr=""/>
          <p:cNvPicPr/>
          <p:nvPr/>
        </p:nvPicPr>
        <p:blipFill>
          <a:blip r:embed="rId4"/>
          <a:stretch/>
        </p:blipFill>
        <p:spPr>
          <a:xfrm>
            <a:off x="4559400" y="1336680"/>
            <a:ext cx="4584600" cy="21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F93-88EE-4278-8631-1E8CD70B45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A1110-3B07-4D7B-985E-CFD2A9E25C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5333760"/>
          </a:xfrm>
          <a:prstGeom prst="rect">
            <a:avLst/>
          </a:prstGeom>
          <a:solidFill>
            <a:srgbClr val="220011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57440" y="1147680"/>
            <a:ext cx="1782720" cy="1622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11520" y="1554120"/>
            <a:ext cx="1473120" cy="1054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1152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384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9616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29120" y="35812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21440" y="35812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51680" y="3986280"/>
            <a:ext cx="108432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DY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9360" y="5527800"/>
            <a:ext cx="1084320" cy="406440"/>
          </a:xfrm>
          <a:prstGeom prst="rect">
            <a:avLst/>
          </a:prstGeom>
          <a:solidFill>
            <a:srgbClr val="9c004e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SC2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89280" y="3986280"/>
            <a:ext cx="108576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Data Retriev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105520"/>
            <a:ext cx="2743200" cy="973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20920" y="5181480"/>
            <a:ext cx="279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High Performance SubSyste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9360" y="3986280"/>
            <a:ext cx="1084320" cy="649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ASC2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x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02240" y="4635360"/>
            <a:ext cx="0" cy="4874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00640" y="31021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91800" y="114768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Times New Roman"/>
              </a:rPr>
              <a:t>Web Brows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89280" y="1554120"/>
            <a:ext cx="13730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Data Wizar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WMS interfac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Toolb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7440" y="2851200"/>
            <a:ext cx="77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89280" y="4392720"/>
            <a:ext cx="1085760" cy="404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89280" y="4797360"/>
            <a:ext cx="108576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File Transf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51680" y="4392720"/>
            <a:ext cx="1084320" cy="404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File Transf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80000" y="471636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GLOBU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09920" y="2770200"/>
            <a:ext cx="0" cy="48744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1147680"/>
            <a:ext cx="2014200" cy="1865160"/>
            <a:chOff x="0" y="1147680"/>
            <a:chExt cx="2014200" cy="1865160"/>
          </a:xfrm>
        </p:grpSpPr>
        <p:sp>
          <p:nvSpPr>
            <p:cNvPr id="133" name=""/>
            <p:cNvSpPr/>
            <p:nvPr/>
          </p:nvSpPr>
          <p:spPr>
            <a:xfrm>
              <a:off x="0" y="114768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GIS &amp; DEM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163404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0011"/>
                  </a:solidFill>
                  <a:latin typeface="Times New Roman"/>
                </a:rPr>
                <a:t>Soils &amp; Land Us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212076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Weather Dat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60712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Vegetation Dat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1008000" y="4149720"/>
            <a:ext cx="17812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08000" y="431172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008000" y="3012840"/>
            <a:ext cx="0" cy="113652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4320" y="414972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ebFlow modu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back-end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78560" y="23954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ddle-ti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1371600"/>
            <a:ext cx="24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Flow appl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front-en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410080"/>
            <a:ext cx="19810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bFlow on Globus -- LMS at CEW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4AD-506C-4670-B8D7-92188E6DDE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6B330-994B-4220-88CF-AE648E6F29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does Gateway do for you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5886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Toolkit to build high level application specific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web based problem solving environments 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CCM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framework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Uses HPC Specific services and resources provided by other projects such as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Globus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Legion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Simple strategy to convert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existing codes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into distributed objects that can be seamlessly launched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Simple default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job status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display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Architecture naturally supports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collaboration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(using shared events and TangoInteractive) and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visualization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if structured as a multi tier service conforming to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XML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interface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Compositional Programming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of module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MPI HPF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programming tools are either outside Gateway but could be given integrated web interface as part of Gateway -- we demonstrated this for HPF in early WebFlow work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E49-25CB-481A-802E-E5B501641C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518EF-6FF0-4E09-A063-FF7FE428B3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41280" y="41400"/>
            <a:ext cx="8534520" cy="6816600"/>
            <a:chOff x="341280" y="41400"/>
            <a:chExt cx="8534520" cy="6816600"/>
          </a:xfrm>
        </p:grpSpPr>
        <p:pic>
          <p:nvPicPr>
            <p:cNvPr id="149" name="fig2" descr=""/>
            <p:cNvPicPr/>
            <p:nvPr/>
          </p:nvPicPr>
          <p:blipFill>
            <a:blip r:embed="rId1"/>
            <a:stretch/>
          </p:blipFill>
          <p:spPr>
            <a:xfrm>
              <a:off x="341280" y="41400"/>
              <a:ext cx="8534520" cy="68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494320" y="2954160"/>
              <a:ext cx="1143000" cy="459720"/>
            </a:xfrm>
            <a:prstGeom prst="rect">
              <a:avLst/>
            </a:prstGeom>
            <a:solidFill>
              <a:srgbClr val="220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Globu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16680" y="2658960"/>
              <a:ext cx="173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67000" y="1247760"/>
              <a:ext cx="775080" cy="398880"/>
            </a:xfrm>
            <a:prstGeom prst="rect">
              <a:avLst/>
            </a:prstGeom>
            <a:solidFill>
              <a:srgbClr val="220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XML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60640" y="2774880"/>
              <a:ext cx="775080" cy="398880"/>
            </a:xfrm>
            <a:prstGeom prst="rect">
              <a:avLst/>
            </a:prstGeom>
            <a:solidFill>
              <a:srgbClr val="220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XML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05560" y="2822400"/>
              <a:ext cx="3808440" cy="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1760" y="2844720"/>
              <a:ext cx="3421080" cy="1296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10320" y="1611360"/>
              <a:ext cx="3808440" cy="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6520" y="1633680"/>
              <a:ext cx="3421080" cy="1260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33960"/>
            <a:ext cx="4440240" cy="106884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ateway” Architectur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9EA-2AA4-41D8-A9F2-B650F66DE5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A431F-ECA0-4C58-A07F-2A57CE2E5B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52280" y="1219680"/>
            <a:ext cx="1350720" cy="4374360"/>
            <a:chOff x="152280" y="1219680"/>
            <a:chExt cx="1350720" cy="4374360"/>
          </a:xfrm>
        </p:grpSpPr>
        <p:sp>
          <p:nvSpPr>
            <p:cNvPr id="160" name=""/>
            <p:cNvSpPr/>
            <p:nvPr/>
          </p:nvSpPr>
          <p:spPr>
            <a:xfrm rot="16200000">
              <a:off x="544680" y="463572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545040" y="368352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544680" y="273132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544680" y="177876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545040" y="82656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010280" y="1219320"/>
            <a:ext cx="1350720" cy="4372920"/>
            <a:chOff x="7010280" y="1219320"/>
            <a:chExt cx="1350720" cy="4372920"/>
          </a:xfrm>
        </p:grpSpPr>
        <p:sp>
          <p:nvSpPr>
            <p:cNvPr id="166" name=""/>
            <p:cNvSpPr/>
            <p:nvPr/>
          </p:nvSpPr>
          <p:spPr>
            <a:xfrm rot="5400000">
              <a:off x="7403040" y="82620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7403040" y="177804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403040" y="273024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7403040" y="368244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7403040" y="463428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066680" y="206280"/>
            <a:ext cx="5907240" cy="5910480"/>
          </a:xfrm>
          <a:custGeom>
            <a:avLst/>
            <a:gdLst>
              <a:gd name="textAreaLeft" fmla="*/ 288360 w 5907240"/>
              <a:gd name="textAreaRight" fmla="*/ 5618880 w 5907240"/>
              <a:gd name="textAreaTop" fmla="*/ 288360 h 5910480"/>
              <a:gd name="textAreaBottom" fmla="*/ 5622120 h 591048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20011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84920" y="148608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784920" y="246060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84920" y="339084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784920" y="433548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784920" y="529416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57200" y="1523880"/>
            <a:ext cx="1657440" cy="6588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2400" y="2438280"/>
            <a:ext cx="13446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82400" y="3389400"/>
            <a:ext cx="13446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99960" y="4179960"/>
            <a:ext cx="1322640" cy="1857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80520" y="4392720"/>
            <a:ext cx="1887480" cy="9414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B_OEQ127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183" name="B_OEQ127" descr=""/>
          <p:cNvPicPr/>
          <p:nvPr/>
        </p:nvPicPr>
        <p:blipFill>
          <a:blip r:embed="rId2"/>
          <a:stretch/>
        </p:blipFill>
        <p:spPr>
          <a:xfrm>
            <a:off x="76320" y="2265480"/>
            <a:ext cx="326880" cy="374400"/>
          </a:xfrm>
          <a:prstGeom prst="rect">
            <a:avLst/>
          </a:prstGeom>
          <a:ln w="0">
            <a:noFill/>
          </a:ln>
        </p:spPr>
      </p:pic>
      <p:pic>
        <p:nvPicPr>
          <p:cNvPr id="184" name="B_OEQ127" descr=""/>
          <p:cNvPicPr/>
          <p:nvPr/>
        </p:nvPicPr>
        <p:blipFill>
          <a:blip r:embed="rId3"/>
          <a:stretch/>
        </p:blipFill>
        <p:spPr>
          <a:xfrm>
            <a:off x="76320" y="3179880"/>
            <a:ext cx="326880" cy="374400"/>
          </a:xfrm>
          <a:prstGeom prst="rect">
            <a:avLst/>
          </a:prstGeom>
          <a:ln w="0">
            <a:noFill/>
          </a:ln>
        </p:spPr>
      </p:pic>
      <p:pic>
        <p:nvPicPr>
          <p:cNvPr id="185" name="B_OEQ127" descr=""/>
          <p:cNvPicPr/>
          <p:nvPr/>
        </p:nvPicPr>
        <p:blipFill>
          <a:blip r:embed="rId4"/>
          <a:stretch/>
        </p:blipFill>
        <p:spPr>
          <a:xfrm>
            <a:off x="76320" y="417024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186" name="B_OEQ127" descr=""/>
          <p:cNvPicPr/>
          <p:nvPr/>
        </p:nvPicPr>
        <p:blipFill>
          <a:blip r:embed="rId5"/>
          <a:stretch/>
        </p:blipFill>
        <p:spPr>
          <a:xfrm>
            <a:off x="76320" y="5160960"/>
            <a:ext cx="326880" cy="374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153280" y="1219320"/>
            <a:ext cx="990720" cy="533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4038480"/>
            <a:ext cx="1219320" cy="598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0011"/>
                </a:solidFill>
                <a:latin typeface="Arial"/>
              </a:rPr>
              <a:t>Matrix </a:t>
            </a:r>
            <a:br>
              <a:rPr sz="1800"/>
            </a:br>
            <a:r>
              <a:rPr b="0" lang="en-US" sz="1800" spc="-1" strike="noStrike">
                <a:solidFill>
                  <a:srgbClr val="220011"/>
                </a:solidFill>
                <a:latin typeface="Arial"/>
              </a:rPr>
              <a:t>Solv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153280" y="4876920"/>
            <a:ext cx="754200" cy="837720"/>
            <a:chOff x="8153280" y="4876920"/>
            <a:chExt cx="754200" cy="837720"/>
          </a:xfrm>
        </p:grpSpPr>
        <p:grpSp>
          <p:nvGrpSpPr>
            <p:cNvPr id="190" name=""/>
            <p:cNvGrpSpPr/>
            <p:nvPr/>
          </p:nvGrpSpPr>
          <p:grpSpPr>
            <a:xfrm>
              <a:off x="8153280" y="5557680"/>
              <a:ext cx="754200" cy="156960"/>
              <a:chOff x="8153280" y="5557680"/>
              <a:chExt cx="754200" cy="156960"/>
            </a:xfrm>
          </p:grpSpPr>
          <p:sp>
            <p:nvSpPr>
              <p:cNvPr id="191" name=""/>
              <p:cNvSpPr/>
              <p:nvPr/>
            </p:nvSpPr>
            <p:spPr>
              <a:xfrm>
                <a:off x="815328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35236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55144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75052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8153280" y="5330880"/>
              <a:ext cx="754200" cy="156960"/>
              <a:chOff x="8153280" y="5330880"/>
              <a:chExt cx="754200" cy="156960"/>
            </a:xfrm>
          </p:grpSpPr>
          <p:sp>
            <p:nvSpPr>
              <p:cNvPr id="196" name=""/>
              <p:cNvSpPr/>
              <p:nvPr/>
            </p:nvSpPr>
            <p:spPr>
              <a:xfrm>
                <a:off x="815328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35236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55144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75052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8153280" y="5103720"/>
              <a:ext cx="754200" cy="156960"/>
              <a:chOff x="8153280" y="5103720"/>
              <a:chExt cx="754200" cy="156960"/>
            </a:xfrm>
          </p:grpSpPr>
          <p:sp>
            <p:nvSpPr>
              <p:cNvPr id="201" name=""/>
              <p:cNvSpPr/>
              <p:nvPr/>
            </p:nvSpPr>
            <p:spPr>
              <a:xfrm>
                <a:off x="815328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5236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55144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5052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8153280" y="4876920"/>
              <a:ext cx="754200" cy="156960"/>
              <a:chOff x="8153280" y="4876920"/>
              <a:chExt cx="754200" cy="156960"/>
            </a:xfrm>
          </p:grpSpPr>
          <p:sp>
            <p:nvSpPr>
              <p:cNvPr id="206" name=""/>
              <p:cNvSpPr/>
              <p:nvPr/>
            </p:nvSpPr>
            <p:spPr>
              <a:xfrm>
                <a:off x="815328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35236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55144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75052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8236800" y="563652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36800" y="54057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36800" y="51753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36800" y="49449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82360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2812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43264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23680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153280" y="2971800"/>
            <a:ext cx="754200" cy="837720"/>
            <a:chOff x="8153280" y="2971800"/>
            <a:chExt cx="754200" cy="837720"/>
          </a:xfrm>
        </p:grpSpPr>
        <p:grpSp>
          <p:nvGrpSpPr>
            <p:cNvPr id="219" name=""/>
            <p:cNvGrpSpPr/>
            <p:nvPr/>
          </p:nvGrpSpPr>
          <p:grpSpPr>
            <a:xfrm>
              <a:off x="8153280" y="3652560"/>
              <a:ext cx="754200" cy="156960"/>
              <a:chOff x="8153280" y="3652560"/>
              <a:chExt cx="754200" cy="156960"/>
            </a:xfrm>
          </p:grpSpPr>
          <p:sp>
            <p:nvSpPr>
              <p:cNvPr id="220" name=""/>
              <p:cNvSpPr/>
              <p:nvPr/>
            </p:nvSpPr>
            <p:spPr>
              <a:xfrm>
                <a:off x="815328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35236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55144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75052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8153280" y="3425760"/>
              <a:ext cx="754200" cy="156960"/>
              <a:chOff x="8153280" y="3425760"/>
              <a:chExt cx="754200" cy="156960"/>
            </a:xfrm>
          </p:grpSpPr>
          <p:sp>
            <p:nvSpPr>
              <p:cNvPr id="225" name=""/>
              <p:cNvSpPr/>
              <p:nvPr/>
            </p:nvSpPr>
            <p:spPr>
              <a:xfrm>
                <a:off x="815328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35236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5144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75052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8153280" y="3198600"/>
              <a:ext cx="754200" cy="156960"/>
              <a:chOff x="8153280" y="3198600"/>
              <a:chExt cx="754200" cy="156960"/>
            </a:xfrm>
          </p:grpSpPr>
          <p:sp>
            <p:nvSpPr>
              <p:cNvPr id="230" name=""/>
              <p:cNvSpPr/>
              <p:nvPr/>
            </p:nvSpPr>
            <p:spPr>
              <a:xfrm>
                <a:off x="815328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35236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55144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75052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8153280" y="2971800"/>
              <a:ext cx="754200" cy="156960"/>
              <a:chOff x="8153280" y="2971800"/>
              <a:chExt cx="754200" cy="156960"/>
            </a:xfrm>
          </p:grpSpPr>
          <p:sp>
            <p:nvSpPr>
              <p:cNvPr id="235" name=""/>
              <p:cNvSpPr/>
              <p:nvPr/>
            </p:nvSpPr>
            <p:spPr>
              <a:xfrm>
                <a:off x="815328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5236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55144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75052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8236800" y="373140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36800" y="35006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36800" y="32702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36800" y="30398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882360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62812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843264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23680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620120" y="2122560"/>
            <a:ext cx="1523880" cy="674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ptimization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34680" y="58784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P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93320" y="37339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P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1066680"/>
            <a:ext cx="1298520" cy="6922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arallel DB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2057400"/>
            <a:ext cx="1603440" cy="8049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NEOS Control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pt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081240"/>
            <a:ext cx="1450800" cy="619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rigin 2000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3886200"/>
            <a:ext cx="1298520" cy="8985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NetSolve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Linear Alg.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16000" y="23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7440" y="2793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ulti Tier Computing Mod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5029200"/>
            <a:ext cx="1450800" cy="619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IBM SP2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14560" y="2155680"/>
            <a:ext cx="3051000" cy="22258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Arial"/>
              </a:rPr>
              <a:t>Grid Gatew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Supporting</a:t>
            </a:r>
            <a:br>
              <a:rPr sz="2000"/>
            </a:b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Seamless</a:t>
            </a:r>
            <a:br>
              <a:rPr sz="2000"/>
            </a:b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60680" y="4106880"/>
            <a:ext cx="2765520" cy="16844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Agent-based</a:t>
            </a:r>
            <a:br>
              <a:rPr sz="1800"/>
            </a:b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Choice of</a:t>
            </a:r>
            <a:br>
              <a:rPr sz="1800"/>
            </a:b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Compute Engi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168800">
            <a:off x="3099240" y="15840"/>
            <a:ext cx="1030680" cy="30124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Multidisciplinary</a:t>
            </a:r>
            <a:br>
              <a:rPr sz="1800"/>
            </a:b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Control (WebFlow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108760" y="1451880"/>
            <a:ext cx="382320" cy="601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959360" y="1726920"/>
            <a:ext cx="434880" cy="4525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419720" y="3429000"/>
            <a:ext cx="914400" cy="91440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789000" y="4005360"/>
            <a:ext cx="390600" cy="29664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52880" y="4343400"/>
            <a:ext cx="533520" cy="15228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4430520" y="1944360"/>
            <a:ext cx="1020600" cy="12733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565080" y="2004840"/>
            <a:ext cx="546120" cy="35244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5333760" y="4952880"/>
            <a:ext cx="685800" cy="763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97360" y="5690520"/>
            <a:ext cx="584712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Times New Roman"/>
              </a:rPr>
              <a:t>Gateway Programming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240" y="6272640"/>
            <a:ext cx="5487120" cy="5814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0011"/>
                </a:solidFill>
                <a:latin typeface="Times New Roman"/>
              </a:rPr>
              <a:t>Good Old Programming To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570880" y="4397040"/>
            <a:ext cx="3240" cy="19875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531800" y="5052960"/>
            <a:ext cx="20880" cy="61128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6638760" y="5006880"/>
            <a:ext cx="20880" cy="61128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EE8-FB25-411A-BB1E-D77C553436E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27B9C-04AF-405F-8734-7253E8478D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gramming Middle Tier of a Computational Grid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482760"/>
            <a:ext cx="91440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e will copy a much reviled model -- Microsoft Word or PowerPoint -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blem Solving Environmen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for document preparation -- for Gateway programming toolbox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5" name="word" descr=""/>
          <p:cNvPicPr/>
          <p:nvPr/>
        </p:nvPicPr>
        <p:blipFill>
          <a:blip r:embed="rId1"/>
          <a:stretch/>
        </p:blipFill>
        <p:spPr>
          <a:xfrm>
            <a:off x="4925880" y="2600280"/>
            <a:ext cx="4218120" cy="3821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2525760"/>
            <a:ext cx="4894200" cy="3913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uting abstracted as a set of  hierarchical Toolbars</a:t>
            </a:r>
            <a:br>
              <a:rPr sz="24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oolbars are defined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XML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and rendered in HTML for user interface. XML interpreted on middle tier as some suitable servic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mputing Toolbar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inclu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ser profile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sualization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where “command” could be AVS)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ogramming model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PF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source specification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resource status, code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application specific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3B0-E350-4399-B8DD-AB3F86435F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E7E7C-1FCB-4E73-AA66-66F0E479F6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sc98fig2" descr=""/>
          <p:cNvPicPr/>
          <p:nvPr/>
        </p:nvPicPr>
        <p:blipFill>
          <a:blip r:embed="rId1"/>
          <a:stretch/>
        </p:blipFill>
        <p:spPr>
          <a:xfrm>
            <a:off x="2743200" y="0"/>
            <a:ext cx="6202440" cy="6553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2895480" cy="533412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othe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atewa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totype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Quantum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emistr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S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for NCSA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ianc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C29-646E-4AD2-9C0F-5E53A18144E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96D16-C0F4-44DA-A282-A7111780B4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20:31:14Z</dcterms:created>
  <dc:creator>Geoffrey Fox</dc:creator>
  <dc:description/>
  <dc:language>en-US</dc:language>
  <cp:lastModifiedBy>Geoffrey Fox</cp:lastModifiedBy>
  <cp:lastPrinted>1997-12-25T20:46:20Z</cp:lastPrinted>
  <dcterms:modified xsi:type="dcterms:W3CDTF">1999-06-09T16:17:54Z</dcterms:modified>
  <cp:revision>12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gcf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