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158413" cy="7616825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5805360" y="4478400"/>
            <a:ext cx="385920" cy="234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000" spc="-1" strike="noStrike">
                <a:solidFill>
                  <a:srgbClr val="000000"/>
                </a:solidFill>
                <a:latin typeface="SunSansCondensed-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6705AA76-EB8E-4E9B-8D6A-13D80D940669}" type="slidenum">
              <a:rPr b="0" lang="en-US" sz="1000" spc="-1" strike="noStrike">
                <a:solidFill>
                  <a:srgbClr val="000000"/>
                </a:solidFill>
                <a:latin typeface="SunSansCondensed-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728280" y="320400"/>
            <a:ext cx="5511960" cy="412884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6720" y="4503600"/>
            <a:ext cx="30747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unSansCondensed-Demi"/>
              </a:rPr>
              <a:t>Sun Microsystems Inc. Corporate Template  7/9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unSansCondensed-Regula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391320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6480" y="89229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hdr"/>
          </p:nvPr>
        </p:nvSpPr>
        <p:spPr>
          <a:xfrm>
            <a:off x="-648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B50F3-F3C7-463B-8738-F70284C2B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2DC86-BA3A-486E-BA97-37B3F1F77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EAD8-8C18-487C-B820-9F0D6B42D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0468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7452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3520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0468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7452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1B408-7089-47FC-991F-90FC843946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99125-6E0B-4DEF-8B9F-D3D8C499ED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B119-AA4A-451B-8FEE-F7D7B8351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A525-017F-4B1F-9037-5BD66A592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537B-60C6-412E-AD97-67590B137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35200" y="378360"/>
            <a:ext cx="8191440" cy="69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77459-2270-47C1-8CE8-61FD2F111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34E5-D1E0-4BD7-AF6F-6C7F84A7B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92997-B546-4259-A90B-959EB30D4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9FCC5-4488-49C3-A988-04D9411A2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7000"/>
          </a:bodyPr>
          <a:p>
            <a:pPr marL="331200" indent="-33120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840" indent="-2761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-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56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95120" y="320760"/>
            <a:ext cx="1024200" cy="449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417680" y="0"/>
            <a:ext cx="0" cy="761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087640" y="6932520"/>
            <a:ext cx="5603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anuary 26, 1999--Ann Wollrath Copyright 1999 Sun Microsystems, Inc.,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15080" y="6875280"/>
            <a:ext cx="13827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193D-9D9A-4A7D-99C2-9502177D0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67520"/>
            <a:ext cx="1930320" cy="14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00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32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7800" y="3391920"/>
            <a:ext cx="718992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5400" spc="-1" strike="noStrike" baseline="4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RMI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09280" y="4322520"/>
            <a:ext cx="7162920" cy="1904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n Wollr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ior Staff Engin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n Microsystems, In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pplication Mode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8191800" cy="4570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ure RMI solu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/ser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ree-ti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DBC --&gt; datab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nect to legacy systems (via JNI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ava wrapper --&gt; existing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istributed Object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ypically, these applications need to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cat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unicate with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 class bytecodes for objects that are passed in remote method call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cating Remote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ading Clas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657600"/>
            <a:ext cx="4114800" cy="16765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505320" y="4572000"/>
            <a:ext cx="3124080" cy="12193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514600"/>
            <a:ext cx="0" cy="25146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1600" y="4038480"/>
            <a:ext cx="117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9840" y="525780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01120" y="373392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 AP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API, naming, exce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ry interface, factory, look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serv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object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activ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activatabl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onents of RMI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 loading and DG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registry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emote object 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d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activation daem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c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stub compil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rchitec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rch2" descr=""/>
          <p:cNvPicPr/>
          <p:nvPr/>
        </p:nvPicPr>
        <p:blipFill>
          <a:blip r:embed="rId1"/>
          <a:stretch/>
        </p:blipFill>
        <p:spPr>
          <a:xfrm>
            <a:off x="3425760" y="2270160"/>
            <a:ext cx="33051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thod Invo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2057400"/>
            <a:ext cx="297180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057400"/>
            <a:ext cx="304776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286000"/>
            <a:ext cx="228600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30481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5029200"/>
            <a:ext cx="1752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029200"/>
            <a:ext cx="1752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2362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286000"/>
            <a:ext cx="22100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200" y="15652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r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080" y="1523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0384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5410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2388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733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934320" y="4648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6668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21337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rameter Pas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passes objects using Java Object Serializ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d/write objects and graphs of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jects must agree to be serializ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cycles (identity of objects within grap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ustomization on a per-class ba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loads classes if not available locally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stub, parameter, and return value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ll stream is annotated with URL for class lo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ed classes subject to installed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veloping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ine the interfaces to your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the remote objects and cli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rmi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remote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 code network-accessi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Serv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 to compute arbitrary ta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sends task to compute eng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ute engine runs task and returns res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loads task code dynamic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5257800"/>
            <a:ext cx="1066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5181480"/>
            <a:ext cx="129564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5410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8584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525780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 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586728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resu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Remote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Compute extends Remote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executeTask(Task t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RemoteException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io.Serializable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Tas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tends Serializa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Object execute()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lementation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r a peer-to-peer remote object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tend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UnicastRemoteObjec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methods of remote inte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and install a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 remote object in RMI registry (or other name facilit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Implem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9000"/>
          </a:bodyPr>
          <a:p>
            <a:pPr marL="338760" indent="-338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server.*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ComputeEngi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UnicastRemote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Compu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mputeEngine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rows RemoteExcep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uper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Task(Task t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t.execut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ompute engine = new ComputeEngin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Naming.rebind(“Compute”, engin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out.println(“Engine bound”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reate task to be execute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ookup the compute service by na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nd task to compute servi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int resul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’s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“//” + args[0] + “/Compute”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 comp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(Compute) Naming.lookup(nam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 task = new Pi(Integer.parseInt(args[1]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gDecimal pi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(BigDecimal) comp.executeTask(task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System.out.println(pi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Pi implements Task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 digits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i(int digit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is.digits = digit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 (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computePi(digits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BigDecimal computePi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igit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// exercise left to reader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733920"/>
            <a:ext cx="4267080" cy="16002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05320" y="4648320"/>
            <a:ext cx="3124080" cy="11430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2590920"/>
            <a:ext cx="0" cy="243828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038480"/>
            <a:ext cx="17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2000" y="5257800"/>
            <a:ext cx="3301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7520" y="3733920"/>
            <a:ext cx="17640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stom remote reference typ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ure reference typ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ynamically generated stub class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re performance improveme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RMI home pag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products/jdk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e engine tutorial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tutorial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946240" y="2768760"/>
            <a:ext cx="5384880" cy="2360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ual RPC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machine instruction se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implementation languag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object model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 no object model at a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tocol agreement has to be up fro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haps at compile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Changes Those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bytecodes give uniform platfor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ssume that Java is everywhe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vironment safe to import co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nguage-centric approac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ables method invocation between objects in different Java V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Uses pure Java interface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new interface definition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llows passing Java objec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data encaps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polymorph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ynamically loads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vantages of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apitalizes on the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inimizes complex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eserves safety of Java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cognizes distribution differen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al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global knowled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s extend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Courier New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</a:rPr>
              <a:t>Remot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faces to referenc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serializable objects can be parameters and return val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mote object refer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 core class objects (e.g., Hashtable), AWT Objects (e.g., Button), JavaBeans, user defined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 (cont’d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b objects have the same remote interfaces as th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sting allowed via standard Java cast oper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heck type of inte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ceptions to report communication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4T11:52:18Z</dcterms:created>
  <dc:creator>David Stevens</dc:creator>
  <dc:description/>
  <dc:language>en-US</dc:language>
  <cp:lastModifiedBy>Ann Wollrath</cp:lastModifiedBy>
  <cp:lastPrinted>1999-01-07T16:50:45Z</cp:lastPrinted>
  <dcterms:modified xsi:type="dcterms:W3CDTF">1999-01-24T21:46:30Z</dcterms:modified>
  <cp:revision>15314</cp:revision>
  <dc:subject/>
  <dc:title>No Slide Title</dc:title>
</cp:coreProperties>
</file>