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BB4C-F47D-4414-92DF-FC710A41E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BD26-CA17-406F-BBC0-D72192122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2840" y="4799160"/>
            <a:ext cx="557676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771480" y="312840"/>
            <a:ext cx="5362560" cy="4022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B633-32D0-4F5F-9234-E53CDB2A0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3C72-E4E9-4C55-B387-826295D1F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742AD-40BE-4EC1-BF49-A02E9167A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C583-825D-400A-A703-3C78E1B6F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9872-A808-453E-8BDE-C1B14E7C3E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446D-C293-460C-BCD2-E1031CB2C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B6A5-C257-42B0-8F12-9013EE7A7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178A-2097-451C-AC74-D3EC1DBB9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5405-BB08-4F0F-A8AE-47752FC63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6C74-F132-4E56-B83A-9DA05C082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1AEF-0D36-4FDE-87D3-9EB7560DF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6B45-4A69-4282-A543-B29A84D7A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Bob Scheifler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7AF5DB07-105F-42EB-A8F8-06C8E5EC5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7360" y="6242040"/>
            <a:ext cx="192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7320" y="6242040"/>
            <a:ext cx="287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3200" y="3051000"/>
            <a:ext cx="64720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™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38280" y="3892680"/>
            <a:ext cx="6448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Sche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enior Staff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un Microsystems, 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on an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interface or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get subinterface or subclass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: NestableTransactionManager extends TransactionMana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.lang.Object matches ever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using multiple Java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 want a combination TV/VC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.ce.TV AND org.ce.VC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utomatic placement in all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 superinterfaces and super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also registers with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allow further discrimination between services of the sam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end-user or pro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do lookup using service types and/or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generic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 or col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aper s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character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administr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alues aren’t always str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ple values for some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can have co-dependent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600 dpi, 10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300 dpi, 1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lor, 300 dpi, 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tter, legal, envelo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represen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s a public field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name = field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type = field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ass defines a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-dependent attributes in the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e classes for orthogonal attrib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ice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f attribut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tances of multiple 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ple instances of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Attrs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Engin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pp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d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Boolean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Siz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PaperType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Type implements java.io.Serializ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tter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gal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A4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Envelope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finding other network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orkgroup”-scale, not the entire 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 naming or directory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.500, LDAP, DNS, NDS, RMI regis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cus is on types, not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yellow pages, not white p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th programmatic and end-user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Location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flo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ro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bui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Name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600, ppm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300, ppm: 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true,  dpi: 300, ppm: 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tt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ga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Envelo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{floor: “1”, room: “1220”, building: “UCHL03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{name: “narf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set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set cl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ct value match on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mplate is just an attribute set inst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ull field is wildcard = match 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aken from Linda via JavaSp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Matching examp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5680" y="2057400"/>
          <a:ext cx="7358040" cy="39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57400"/>
                    <a:ext cx="73580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emplat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template cont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service typ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attribute set templ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proxy, set of attr sets&gt; matches if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xy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ch service type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ach attribute set templat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is a matching attribute 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service named “narf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Printer named “narf” in UCHL0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 services on floo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JavaSpace made by Su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etween 300 and 600 dpi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 floor 1, 3, or 7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rst do template-based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wildcards as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n do finer-grained match lo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modific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only be done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service to control poli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is responsible for persistent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d, modify, delete, replace 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should change infrequ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mary search k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ery service directly for very dynamic 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sic 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gister with desire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renewing le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, modify, delete attributes as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any 1 of, get just proxy ob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up to N of, get proxies an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sures results of client lookup are reasonably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okup service imposes maximum lease du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 between bandwidth (and load on lookup service) and how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ximum lease will vary with contex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is closer to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ETF Service Location Protoc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MG Trading Object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ynchronous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s same service template matc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est registration is also lea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 service added or attributes now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no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deleted or attributes no longer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s changed but still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uses of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of new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service crash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r notified when service is back on l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printer ja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 for incremental brow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service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se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ss to service-specific GU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et URL as an attribu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or service find lookup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service know which one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know which ones to do lookups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configured to be a member of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 is just an arbitrary string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standard “public” group, as defa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is configured to register with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ient is configured to use lookup services from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itial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y both clien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ulticast request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you are looking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use to contact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for lookup services to connec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those 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 requested groups respo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ookup service’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ister with or do lookup 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atecomer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on’t send multicast requests fore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p after a short wh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sten for multicast announc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nt periodically by each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lookup service is a member o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contact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nect to if member of desired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wnload lookup service 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dministrative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ase expires, registration is dropp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art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register at me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ailability: replicate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repli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over: start a new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Hierarchy: one op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NS-style hierarchical group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also a Jini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e set of groups to be a member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other set of group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nd/or down links in hierar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eature Comparis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1640" y="1828800"/>
          <a:ext cx="7317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28800"/>
                    <a:ext cx="7317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s defined by one or more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has a front-e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MI stub or custom-coded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implements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only know about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can be specializ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particular implementation of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work protocol between proxy and service can be private and var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is downloaded to cli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sses are annotated with codebase U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s oblivious to implementation detai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678960"/>
            <a:ext cx="7373880" cy="6660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xample: Transaction Manag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.jini.core.transaction.server.Transaction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RMI stub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_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TransactionManager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: JavaSpa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.jini.space.Java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FrontEnd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custom-cod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Space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JavaSpa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10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registers its proxy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does lookup b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I uses java.lang.Class instances, not str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 gets proxy object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eded classes are automatically downloa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01:58Z</dcterms:created>
  <dc:creator>Bob Scheifler</dc:creator>
  <dc:description/>
  <dc:language>en-US</dc:language>
  <cp:lastModifiedBy>Bob Scheifler</cp:lastModifiedBy>
  <cp:lastPrinted>1999-01-06T21:27:33Z</cp:lastPrinted>
  <dcterms:modified xsi:type="dcterms:W3CDTF">1999-01-13T17:42:30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~jini\home1\rws\tmp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