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F9A-6A0F-4869-BEBA-A4805E0B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995-1AD4-421A-A61D-B8FEEC3D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AC5-FB2B-403E-AAEA-6A8AAAF6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B5C-885F-4C45-AFE6-2F89C1B2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7968-9FA8-430A-805C-2E511B20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06BC-6283-4AB1-957C-4A5F2B8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7901-A3CC-4FEC-B764-89D453A2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23DA-9E72-447E-925E-E3492034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C147-3243-454D-A5E5-A1A1C89E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4807-4475-4139-B582-3FCE02EF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BE5F-79A4-4D80-A3A3-FA078A8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DAC-2974-42BA-B7C7-38A7B75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67EE-936B-48CC-9940-80381F3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75AE-30C5-4E8B-A04A-4A58EC82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8051-DE02-46D3-9F5E-2906C2B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79D3-F1E9-4E4A-A103-B359BE28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D588-8029-47E8-AE3B-26AFDFAE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0A6-511B-47F1-A645-5A10C2C8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F23-5697-481B-8013-479E398F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05C-5D44-41BF-B2E7-78B3BAF4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94A-CB35-44C7-91BF-73511B8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A54-2715-405F-B997-E1EEA98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A0F-DB4B-4018-A894-D70C4E7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DDC-3D54-470D-B885-59AFCBC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5DE5-8DE5-4BE8-8422-8099C9A995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00DF-40E1-4B5E-8A2B-C2FAD691F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 Software Foundation Distributed Computing Environment (OSF DCE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rea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ment in program perform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tform-independent API based on POSIX 1003.4a standard (includes real-time priority schedul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 RPC-based servers to handle multiple clients simultaneously, but also useful in oth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ultiprocessor environments using shar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maphore service for thread synchro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F7B-3A1F-4A9E-AE09-F776655435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Securit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urce prot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 based on Kereberos 5.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uthentication and author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: validates that a principal (user or program) is who or what it claims to be - login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orization: check whether the authenticated principal has permission to access a resource - Access Control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arent access to the security services by the u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Securit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D76-13AC-4B7F-8859-F2804F17A0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Director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ch resource in a cell such as a person, file, service provided by RPC server, etc. has a uniqu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y service returns the network address of the resource with a given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Directory Service: controls naming environment inside a ce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Directory Service: for name lookups across cells,  X.500 and DNS name formats can be u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protects directory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is provided by Cell Directory Server and Global Directory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2C2-59E7-4D9C-B735-5FCDF66C1A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Tim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s the clocks of all computers in the distributed system (c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Coordinated Universal Time (UTC)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applications rely on timestamps to coordinate interdependent events e.g. determination of the most recent version of the file which exists on multiple h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Global Servers and Cou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Servers - can be connected to the external time provider (e.g. NIST) using Time Provider Interface (TP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 by the DCE security and fil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2FD-4DC5-40DC-B402-897A756669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Distributed Fil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wide access to files - single view of all the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s a superset of the POSIX 1003.1 file system stand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existence with a host’s native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files (filesets) as a basic unit of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location location tra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with DFS Distributed Secur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ing used to speed oper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file servers, fileset location servers, and backu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657-79C6-4589-8833-619F4B2C83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057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mplementations are available for all important Unix systems, Windows NT, and other major systems including 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release 1.2.2 available since Dec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teways available to the UNIX Network File System and Novell Ne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Web techn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usually cannot be bought as a separate product but it is a part of many software system: transaction processing monitors (Encina), CORBA implementations (HP), middleware systems (Sybase and Oracle) and Directory and Security servers (IB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798-0695-4DBC-BBE2-F38BAE434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poi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tion of distribut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for organization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ability and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influence on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 of widespread deployment never achie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gnificant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object-oriented distribut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eting technologies: Network File System, Network Time Protocol, CORBA,  new versions of thread APIs, SUN RPC, LD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message queueing and transaction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276-50A4-4E64-B453-B7924D5122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standing DCE” by Ward Rosenberry, David Kenney &amp; Gerry Fis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Applications Frameworks” by Eric Green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on Open Group Web 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opengroup.org/tech/dce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sgrou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.soft-sys.d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quently Asked Ques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usenet.umr.edu/faqs/dce/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376-44DB-4CD2-A4CF-842449BC8B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50A-3112-45F2-BC98-54DD701B58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used computing po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s for increased avail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ve work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age limi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data and program lo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geneous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ignificance of distribut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of event synchronization in distributed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of distributed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4A2-422F-4436-87A5-C2135FEE3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- Introduc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ftware Foundation (OSF) - organization formed in 1988 (goals: research, development, and implementation of vendor-neutral technology and industry standards), became part of the Open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proposed by Digital Equipment Corporation, IBM, Apollo, Transarc and the Locus Computing Corp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F DCE is an industry-standard, vendor-neutral set of distributed comput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s not an application in itself, but is used to build custom applications or to support purchas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637-51F7-4977-8428-9A0BBB30F9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as Middl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d servic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le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ctory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P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hine independent data repres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ltitas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implemented on top of the operating system, although operating system implementations exist (e.g. OSF1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521-462A-4063-BEC2-514DCD960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e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- basic unit of operation and administ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users, systems, and resources that have a common purpose and share common DCE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um configuration: Cell Directory Service, the Security Service and the Time Serv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114800"/>
            <a:ext cx="1828800" cy="76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19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334120"/>
            <a:ext cx="1828800" cy="761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167652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715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8006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191120"/>
            <a:ext cx="182880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495680"/>
            <a:ext cx="16765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105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562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638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3" idx="3"/>
            <a:endCxn id="111" idx="1"/>
          </p:cNvCxnSpPr>
          <p:nvPr/>
        </p:nvCxnSpPr>
        <p:spPr>
          <a:xfrm>
            <a:off x="2895480" y="4495680"/>
            <a:ext cx="915120" cy="648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7" idx="3"/>
            <a:endCxn id="111" idx="1"/>
          </p:cNvCxnSpPr>
          <p:nvPr/>
        </p:nvCxnSpPr>
        <p:spPr>
          <a:xfrm flipV="1">
            <a:off x="2895480" y="5142960"/>
            <a:ext cx="915120" cy="572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8" idx="1"/>
          </p:cNvCxnSpPr>
          <p:nvPr/>
        </p:nvCxnSpPr>
        <p:spPr>
          <a:xfrm>
            <a:off x="5486040" y="5143320"/>
            <a:ext cx="762840" cy="100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57E-AEA7-4A2F-A14C-F393379EF2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4495680"/>
            <a:ext cx="830592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952880"/>
            <a:ext cx="670536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57800"/>
            <a:ext cx="55623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Procedure Call (RP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rectory Service (CDS and G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Time Service (DT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stributed File Service (DF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/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257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867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495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95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Fil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578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2578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86728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1722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9528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4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455-9C45-4D42-A99A-FB7099EA17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2209680"/>
            <a:ext cx="830592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19520"/>
            <a:ext cx="18288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819520"/>
            <a:ext cx="1828800" cy="60948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362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 (clien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895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362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 (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8862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343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962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419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828800" cy="1981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95480"/>
            <a:ext cx="1828800" cy="60984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581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4197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3341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486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46" idx="2"/>
            <a:endCxn id="171" idx="1"/>
          </p:cNvCxnSpPr>
          <p:nvPr/>
        </p:nvCxnSpPr>
        <p:spPr>
          <a:xfrm flipH="1" rot="16200000">
            <a:off x="2305080" y="4476240"/>
            <a:ext cx="876960" cy="15249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1" idx="3"/>
            <a:endCxn id="158" idx="2"/>
          </p:cNvCxnSpPr>
          <p:nvPr/>
        </p:nvCxnSpPr>
        <p:spPr>
          <a:xfrm flipV="1">
            <a:off x="5181480" y="4876560"/>
            <a:ext cx="1448640" cy="800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A7E-BC48-479B-BC42-1066633D1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undation of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Definition Language (IDL) - enables client/serv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DCE security and nam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hentication of the calls: securit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 server location: director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PC Servers use DCE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and network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7EA-8D8D-4D73-8730-D81AED98A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luk1</cp:lastModifiedBy>
  <cp:lastPrinted>1999-04-17T05:21:03Z</cp:lastPrinted>
  <dcterms:modified xsi:type="dcterms:W3CDTF">1999-11-04T19:13:19Z</dcterms:modified>
  <cp:revision>97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