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BA5-1795-4463-8287-9B87861E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BEE-7307-4420-AC4E-32FD336B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2A2-9BA7-4415-B361-1EF41843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73D-DD33-4FF0-BBF0-A3F9D878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7DB-E0C4-4386-B8E3-31D9F6C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930D-7617-4125-A5E6-54093B1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4810-CC85-428A-A79D-8270D85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4202-C8D9-44BA-9982-7C5654A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ABEB-B3B9-4D95-90B5-17372492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C63-D67E-4185-B376-B219503B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023-43D4-4795-B830-6713D10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20E-BF91-40BC-9482-666EA32D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515A-6513-42B1-A8B2-DAABBB1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5309-21CC-4270-B4FD-870A0E9C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5B0-D0F6-4432-8C89-62343AAA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EA82-C360-4EAD-BA2A-9142BFA7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AE8F-3C69-47D2-8EDE-23E2E661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582-BC16-4BD0-8F1D-EF5B55D1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EF0-695A-4EC3-8B58-5B656564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E39-BF59-44AD-884F-BB199FB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DAF-95D6-4F9A-AF7D-CC02014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9F9-D561-4173-95DC-8950F045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127-9C2B-4FA4-B3CE-A53B9AE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B48-EBFE-4BEC-891D-376F193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1943-137C-423A-B5B2-037141B215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688-EDA0-4411-AC10-4CB59B435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ngo Interactive Done Right ……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s on the Web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ay 15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ukasz Beca with additions from Geoffrey F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 Architecture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er high-level collaboration functionality to the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Ag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prets SPDL docu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specific Shared Pl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itializ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os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Frame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ers low-level collaboration services to SP Agent (messaging and event service shared between collaborating clients as in current Tango Ser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9A4-0E34-484E-B1DC-6E9DD6B4B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2057400"/>
            <a:ext cx="79250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 Architecture - continued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590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819520"/>
            <a:ext cx="2133720" cy="28191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8120"/>
            <a:ext cx="182880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3200400"/>
            <a:ext cx="7621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3809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27672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32"/>
                </a:moveTo>
                <a:lnTo>
                  <a:pt x="48" y="288"/>
                </a:lnTo>
                <a:lnTo>
                  <a:pt x="144" y="288"/>
                </a:lnTo>
                <a:lnTo>
                  <a:pt x="240" y="144"/>
                </a:lnTo>
                <a:lnTo>
                  <a:pt x="336" y="96"/>
                </a:lnTo>
                <a:lnTo>
                  <a:pt x="384" y="0"/>
                </a:lnTo>
              </a:path>
            </a:pathLst>
          </a:custGeom>
          <a:noFill/>
          <a:ln cap="sq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5320" y="41148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02920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104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029200"/>
            <a:ext cx="106704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10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 Ag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525780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428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09880" y="3580920"/>
            <a:ext cx="83844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04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C0F-FF5A-4BAD-AAB6-A709F3AFF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ed Places might be seen as a specific implementation of ‘Shippable Places’ presented in “Client/Server Survival Guide” by Robert Orfali, Dan Harkey, and Jeri Edw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ML related resources can be found a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tp://www.w3c.org/XML/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D8B-DB9B-41AC-8F8A-876EE0C1AE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ML is excellent for presentation of information but it does not offer any support for synchronous collab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Web-based collaboration systems are not well integrated with Web content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they imitate plain, standalone applications. They launch separate windows and tool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implem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igid collaboration polic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are not easily customiz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other approach is needed: the objects that offer collaboration functionality must be treated as any other content in the Web page. This approach will enable creation of pure Web-based collaboration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s on the We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where one can share any part of a web p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61B-8B8F-4131-84BD-3EBA9F497A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s and SPDL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Pla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- the virtual place on the Web where people can meet and work together. They can use provided content and tools for collaboration and possibly creating new content. Basically, it is a ordinary Web page with collaboration functionality add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Place Definition Languag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SPDL) is an XML based application that implements the idea of collaboration as a Web page content. It enables creation of Shared Places. SPDL does not replace HTML, but enhances i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ML include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a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le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tive 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PD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fers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ntax for defining collaboration functionality of Web page cont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chanisms for merging seamlessly collaboration content with the regular Web page cont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tructs to customize behavior of collaboration content depending on required polic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C38-9B0C-49F5-9341-06D38B120A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s -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echnology Components 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Definition Langu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language for defining properties of shared places. SPDL conforms to XML specif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piece of software that can be embedded as a part of a Web page content. Shared Objects offer collaboration functionality using mechanisms provided by SP framework. To interact with SP framework, Shared Objects must implement specific SP interface. Examples: Java Applets, Plug-ins, ActiveX objects, JavaScript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Frame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set of mechanisms that implement collaboration services and expose them to Shared Objects using SP interfac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roughly equivalent to Tango ser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959-02E0-42D0-8BC7-8FA58A0935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s - Technology Components I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the entry points for accessing collaboration functionality provided by SP Framework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major extension of functionality provided by Tango API in Java applet, application, C++ and JavaScript)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figuration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ables initialization of Shared Objects based on the content of SPDL docu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haring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ers data passing and synchronization services to the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trol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vides means for accessing and manipulation of  collaboration st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26C-C2AF-40DF-989F-B1DC8DDE35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does SPDL Document Define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functionality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ssion manageme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Shared Objects initiate or join collaborative session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ization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mechanisms for assuring the consistence of data observed by collaborating us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rol mechanisms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behavior of Shared Objects can be controlled and how the state of the collaboration session can be access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hared Object data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itial stat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Shared Object are initialized when they start runn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istenc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whether and how the content of the collaborative session is stor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e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the data to be processed by Shared Objects during collaboration sess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50F-1228-4C40-B404-8C43A1BEFB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SPDL Document Defines- continued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ing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fines user groups with possibility of assigning ro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identity based configuration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possible to define different behavior of Shared Object depending on the user, user group or user ro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c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 ID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PDL uses Shared Object ID to define properties for specific Shared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nularity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possible to define different behavior for individual Shared Objects, classes of Shared Objects or for the whole Shared Pl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B36-8CE9-4594-A48F-569841B15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 Component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ML docum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tain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dinary content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ext, pictures, etc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 content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ared Objects embedded using SPDL ta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ce to valid SPDL docu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DL XML docum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efining collaboration functionality of Shared Objects embedded in the HTML docu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yle Sheet for SPDL XM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le defining applet that interprets p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A38-ECF6-4FAB-9A68-2D11F5831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lationships among Shared Place Component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1981080"/>
            <a:ext cx="7924680" cy="3505320"/>
            <a:chOff x="228600" y="1981080"/>
            <a:chExt cx="7924680" cy="3505320"/>
          </a:xfrm>
        </p:grpSpPr>
        <p:sp>
          <p:nvSpPr>
            <p:cNvPr id="108" name=""/>
            <p:cNvSpPr/>
            <p:nvPr/>
          </p:nvSpPr>
          <p:spPr>
            <a:xfrm>
              <a:off x="228600" y="1981080"/>
              <a:ext cx="7924680" cy="3505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7960" y="2437560"/>
              <a:ext cx="1600200" cy="1541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placedef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/placedef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21031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DL docu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22554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 brow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514600"/>
              <a:ext cx="2133360" cy="28195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2743200"/>
              <a:ext cx="182880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289548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360" y="3886200"/>
              <a:ext cx="7621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360" y="2895480"/>
              <a:ext cx="7621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971800" y="388620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360" y="29718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360" y="30481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3360" y="31240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360" y="32004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360" y="32767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360" y="33526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360" y="28954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360" y="34290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360" y="35053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360" y="35812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360" y="36576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360" y="37339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971800" y="388620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71800" y="39618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971800" y="40384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971800" y="41148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971800" y="41904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971800" y="42670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971800" y="43434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971800" y="38862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971800" y="44190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971800" y="44956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971800" y="45720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971800" y="46476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971800" y="47242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52680" y="3505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360" y="48769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971800" y="48762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71800" y="49528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360" y="49528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7760" y="2971800"/>
              <a:ext cx="60984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48" y="288"/>
                  </a:lnTo>
                  <a:lnTo>
                    <a:pt x="144" y="288"/>
                  </a:lnTo>
                  <a:lnTo>
                    <a:pt x="240" y="144"/>
                  </a:lnTo>
                  <a:lnTo>
                    <a:pt x="336" y="96"/>
                  </a:lnTo>
                  <a:lnTo>
                    <a:pt x="384" y="0"/>
                  </a:lnTo>
                </a:path>
              </a:pathLst>
            </a:custGeom>
            <a:noFill/>
            <a:ln cap="sq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9680" y="403848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208960" y="434340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3505320"/>
              <a:ext cx="8380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160" y="32767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ular 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25603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 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760" y="42368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red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752480" y="3276720"/>
              <a:ext cx="68580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3581280"/>
              <a:ext cx="533520" cy="38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57600" y="3657600"/>
              <a:ext cx="60948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7560" y="2895480"/>
              <a:ext cx="609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3120" y="5637240"/>
            <a:ext cx="821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s exploits very powerful DOM in W3C proposal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th support for well defined sub-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F06-384C-4964-B159-961E45453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Fox</cp:lastModifiedBy>
  <cp:lastPrinted>1999-02-25T22:12:41Z</cp:lastPrinted>
  <dcterms:modified xsi:type="dcterms:W3CDTF">1999-05-25T15:17:40Z</dcterms:modified>
  <cp:revision>84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threads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