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472-75F0-4241-B82C-0ADD8F62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7B0-3982-45B8-AEF4-EF909C0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A86-7842-4A1A-B405-71066E62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B89-17A3-4860-A02B-C3FB2E67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D89-96E7-4A9B-88D8-0C5E9399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663-B6F3-4DBC-ACEC-21BAB7E8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336-5ED2-4B15-B971-3848EB14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318-5BEC-4382-B0D9-6DBEFC59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8B2-A342-470E-85B9-E2396A07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439-7B21-455E-8539-183181A3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E32-811E-49DE-8611-FFC4742A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DB5-AEBC-45D5-91F4-65D9091C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B62F-EBE1-4F99-A585-0C675E703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GO Interactive Se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2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, Configuration, and Execution on Unix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Databas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Management tool should be used for creating and modifying files with user information, to start User Management tool execu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nager.c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ript 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ebWisdom/Tango-server-2.0.1.1/adm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s_portnumber.tu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name format for files with user information Exampl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s_12000.t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le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ebWisdom/Tango-server-2.0.1.1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out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st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exec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ourOS-Tango_start port_number [user_d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IX-Tango_start 12000 user_12000.t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runs as background process under the UID of the user who install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out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termin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ill command to terminate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dministration scripts are plac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admi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cripts require installation 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un_as_ro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_tis port_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p_tis port_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f server running on the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_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_tis port_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bWisd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y and all its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init.d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0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2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/etc/rc3.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Sol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config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on 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logs are stor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log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GO Interactive server - multithreaded Java application running as a backgroun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requir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Development Kit at least version 1.1.6 (check that), see (URL) for instructions on Java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pecific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 by an unprivileged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start after system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 by a system administ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erver restart after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 packages provided for Irix, Linux and Solari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Basic 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install directory, copy the compressed file to selected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mpress and unpack the distribution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unzip Tango-server-2.0.1.1-unix.tar.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r -xvpf Tango-server-2.0.1.1-unix.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directo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bWis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server files is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ose steps the server is installed but it will not be automatically restarted after system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Automatic Re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previous steps of the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as a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etc/yo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y and exec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un_as_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Automatic Re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cript does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n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r and its hom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es the entire server distribution to the server hom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s boot scripts for specific 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init.d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0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2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/etc/rc3.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Sol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config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on 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Automatic Re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system reboot the TI server will be started on the default port number 1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un_as_root_for_extra_instance port_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stall more instances of the TI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cense@webwisdom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obtain the server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receive a response with attached script file. Place the script in t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ebWisdom/Tango-server-2.0.1.1-unix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ory and execute it. The script will install the licens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04:34:07Z</dcterms:created>
  <dc:creator>luk1</dc:creator>
  <dc:description/>
  <dc:language>en-US</dc:language>
  <cp:lastModifiedBy>luk1</cp:lastModifiedBy>
  <dcterms:modified xsi:type="dcterms:W3CDTF">1999-12-15T06:23:33Z</dcterms:modified>
  <cp:revision>2</cp:revision>
  <dc:subject/>
  <dc:title>TANGO Interactive Sever Version 2.0</dc:title>
</cp:coreProperties>
</file>