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DF1-FDE2-4B76-A089-E1523F51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AB3-9447-469E-AE35-825687E6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649E-E14D-430A-B2E1-21F21F79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7F2-60B5-4B84-A267-CD88AF02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8A32-0422-4436-A1DE-4D8830D6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7F6-895F-4810-B664-6EE8D244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548-97FA-4956-961B-A5553FBD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5F02-6BA6-4167-90D6-58B0240C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E80C-9B57-4319-8036-A8CDB070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76F2-3184-4D82-AC3A-471DFAEB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9F9-5A19-4640-982A-2CDE945A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F390-325A-42C9-BED1-BFEFF0E3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aint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FFD1-9DFC-4A33-8BDE-C2F9E77102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aint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4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00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totype of Shared Plac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ukasz Bec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lan of work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description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ifa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interpreter that will turn description into HTML code and property ob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g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 interfaces for tools, artifacts, users and gat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simplified spdl for prototype doc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tifac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rtifacts&gt; gathers information about all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rtifact_def name=“”&gt; - artifact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scription&gt; - artifact descri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rtifact_type&gt; - type of the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vers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uthor&gt; - author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reation_plac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reation_us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ccess&gt; - type of access ( read, write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rtifact_signature&gt; - digital signature by auth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content&gt; - content if inclu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location&gt; - location of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rtifact_tool&gt; - type of tool used for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SPD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_def name=“”&gt; - contains definition of one t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_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yp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rtifact_typ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vers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_acces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_granularit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_cod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ool_item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tool_polic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tool_loca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_parameter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ool_paramet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name&gt;, &lt;value&gt; pai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 id=“tool_name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eigh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widt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a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gates&gt; - container for gates defin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gate_def name=“”&gt; - description of single gate, name identifies g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gate name=“”&gt; - reference to the gate in html docu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stination&gt; - url of spdl document that defines the 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scription&gt; - description of the place (can be retrieved from place descrip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required_artifacts&gt; - required artifacts to use the g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implementation&gt; - archive with gate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hared Plac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scription&gt; - description of the 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ype&gt; type of the 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repositor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server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03:36:30Z</dcterms:created>
  <dc:creator>luk1</dc:creator>
  <dc:description/>
  <dc:language>en-US</dc:language>
  <cp:lastModifiedBy>luk1</cp:lastModifiedBy>
  <dcterms:modified xsi:type="dcterms:W3CDTF">2000-03-05T04:41:24Z</dcterms:modified>
  <cp:revision>10</cp:revision>
  <dc:subject/>
  <dc:title>Prototype of Shared Places</dc:title>
</cp:coreProperties>
</file>