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840" y="4194000"/>
            <a:ext cx="8178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419400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47600" y="419400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633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22360" y="1447560"/>
            <a:ext cx="2633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87880" y="1447560"/>
            <a:ext cx="2633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840" y="4194000"/>
            <a:ext cx="2633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22360" y="4194000"/>
            <a:ext cx="2633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87880" y="4194000"/>
            <a:ext cx="2633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FA16-C1FD-4663-A661-DDC13C7F4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AD28-1955-425A-B577-28B96A8D5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C6DC-73B9-44F6-A4DD-BC97D9176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C1FC-B30A-4B90-AD7D-6BB4D05A9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0594-6430-42AC-A333-BD36189D7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31B2-682E-419C-82F3-4DA4E1D64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19400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49B0-2691-4B2E-9E52-B27C806D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47600" y="419400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8136-02AC-4BCA-AB6E-0B9D5A97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194000"/>
            <a:ext cx="8178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FB39-F52E-4A2C-9260-2E922C9B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194000"/>
            <a:ext cx="8178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5853-BE87-48AB-B149-8B1EB439A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19400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47600" y="419400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0820-8D9D-4C09-AE42-1B0D57134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633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22360" y="1447560"/>
            <a:ext cx="2633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87880" y="1447560"/>
            <a:ext cx="2633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194000"/>
            <a:ext cx="2633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22360" y="4194000"/>
            <a:ext cx="2633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87880" y="4194000"/>
            <a:ext cx="2633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A8F6-53C6-49AB-AB94-D1BD293C4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6840" y="419400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47600" y="419400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94000"/>
            <a:ext cx="8178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paint" descr=""/>
          <p:cNvPicPr/>
          <p:nvPr/>
        </p:nvPicPr>
        <p:blipFill>
          <a:blip r:embed="rId2"/>
          <a:stretch/>
        </p:blipFill>
        <p:spPr>
          <a:xfrm>
            <a:off x="457200" y="106668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ftr" idx="2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sldNum" idx="3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10E44-B9E3-45E4-8316-EB31D5D0918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aint" descr=""/>
          <p:cNvPicPr/>
          <p:nvPr/>
        </p:nvPicPr>
        <p:blipFill>
          <a:blip r:embed="rId2"/>
          <a:stretch/>
        </p:blipFill>
        <p:spPr>
          <a:xfrm>
            <a:off x="60948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34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300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hared Places Paper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Lukasz Beca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HTML - propose SPDL as HTML exten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ansas - world described by specific langu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Ds - ancestor of shared places, MUD langu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RTRE - place oriented environ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mmary of last year WETICE - language for the we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y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nguage - (stress on X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ifa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s/visito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gration with Web archite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ing archite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ntent - cont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ed 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lus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knowledg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eren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1T01:44:18Z</dcterms:created>
  <dc:creator>luk1</dc:creator>
  <dc:description/>
  <dc:language>en-US</dc:language>
  <cp:lastModifiedBy>luk1</cp:lastModifiedBy>
  <dcterms:modified xsi:type="dcterms:W3CDTF">2000-03-01T02:39:07Z</dcterms:modified>
  <cp:revision>2</cp:revision>
  <dc:subject/>
  <dc:title>Shared Places Paper</dc:title>
</cp:coreProperties>
</file>