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88188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A49-C44B-434B-AB55-9F9027B8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505-6CFA-47D7-A880-788A2F5D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D26-A11F-44C2-88D2-4F67E7E3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A0A-0AC0-4C84-9D48-C25662CF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C6AD-880D-47BD-83F2-FD28DA40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F2A3-DA53-485D-99AB-3ADB9C7E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3641-E954-4936-A108-CBC3EA3A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F2C7-C94F-4EFC-A7D3-A3B15542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F5CE-F5D0-4DDF-9B96-6B0449E5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4B13-B307-408F-BB3C-8AD00D3D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D554-8F59-4B8D-A2C6-645203C1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543-F64A-45BC-AC02-27553DD8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2238-E3DC-406D-BCEA-89DB9A58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CF48-CEB9-41E8-AAF9-CD3D09E4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B1BB-8A45-41FA-B01A-D92F0CCF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184B-4664-4D2E-A5FF-598D82A5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1A52-7696-4F2E-B4CA-3C8C2FA4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C02-C579-4DFC-8F9C-0B2249BA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3E0-DE25-446B-8075-6DA706DB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9DC-F0B6-4FAE-9371-5E629C5C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86E-3B7F-48D4-8367-9B2F3680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9221-E1A1-46DC-83B0-8478C083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6F9-5350-44AA-96BA-64894AE9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48B-C884-4F63-8EC3-D873E119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D364-3847-475D-A9E7-B9D6A5B5AF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87CC-7BC7-4E77-ACF7-DB32E06DF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057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en Software Foundation Distributed Computing Environment (OSF DCE)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ukasz Be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eca@npac.syr.e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-287 C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, 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Thread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rovement in program performan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tform-independent API based on POSIX 1003.4a standard (includes real-time priority schedul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able RPC-based servers to handle multiple clients simultaneously, but also useful in other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multiprocessor environments using shared memo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maphore service for thread synchroniz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DB6-AAB1-45C7-BD6F-A5CA78B32D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Security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ource protec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version based on Kereberos 5.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s authentication and authoriz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hentication: validates that a principal (user or program) is who or what it claims to be - login fac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horization: check whether the authenticated principal has permission to access a resource - Access Control Lis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parent access to the security services by the us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Security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3161-BB8A-4215-AC02-E98DF5D768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Directory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ch resource in a cell such as a person, file, service provided by RPC server, etc. has a unique 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ory service returns the network address of the resource with a given 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 Directory Service: controls naming environment inside a cel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Directory Service: for name lookups across cells,  X.500 and DNS name formats can be us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Security Service protects directory inform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is provided by Cell Directory Server and Global Directory Ag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BB68-5C25-4027-9ACD-691428FC59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DCE Time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5960" indent="-3459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chronizes the clocks of all computers in the distributed system (ce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s Coordinated Universal Time (UTC)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y applications rely on timestamps to coordinate interdependent events e.g. determination of the most recent version of the file which exists on multiple h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the Global Servers and Cou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Servers - can be connected to the external time provider (e.g. NIST) using Time Provider Interface (TP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d by the DCE security and file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6EA-0677-4D43-9FC2-BE0ABB3213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DCE Distributed File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wide access to files - single view of all the fi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s a superset of the POSIX 1003.1 file system stand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existence with a host’s native file syste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of files (filesets) as a basic unit of ope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le location location track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omatic back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tion with DFS Distributed Secur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ching used to speed oper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the file servers, fileset location servers, and backup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B10-574B-40A9-B44E-27A3FB2A20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urrent Statu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0574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implementations are available for all important Unix systems, Windows NT, and other major systems including 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release 1.2.2 available since Dec 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teways available to the UNIX Network File System and Novell Ne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 with Web technolog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usually cannot be bought as a separate product but it is a part of many software system: transaction processing monitors (Encina), CORBA implementations (HP), middleware systems (Sybase and Oracle) and directory and security servers (IB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C59-1F0B-46C8-B2B0-44F60E21CC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 poi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gration of distributed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 for organization struc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ca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rtability and interoper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 influence on distributed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al of widespread deployment never achie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gnificant 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support for object-oriented distributed 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peting technologies: Network File System, Network Time Protocol, CORBA,  new versions of thread APIs, SUN RPC, LD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support for message queueing and transaction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237F-C4BC-4E2C-AF8A-80DDD5B90D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ference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ok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derstanding DCE” by Ward Rosenberry, David Kenney &amp; Gerry Fis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work Applications Frameworks” by Eric Greenbe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on Open Group Web 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www.opengroup.org/tech/dce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wsgroup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.soft-sys.d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equently Asked Ques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usenet.umr.edu/faqs/dce/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356-8BAF-4118-BA2D-C8AFACA268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CE Cel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CE Compon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rrent Statu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5EA-1F64-4685-8B71-75FF90BEE4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used computing po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orage limit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mand for increased availa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aborative 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data and program lo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geneous 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significance of distributed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cessity of event synchronization in distributed applic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tion of distributed resour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055-162E-4EBD-A844-2AFC7C3BF2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- Introduc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 Software Foundation (OSF) - organization formed in 1988 (goals: research, development, and implementation of vendor-neutral technology and industry standards), became part of the Open Gro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proposed by Digital Equipment Corporation, IBM, Apollo, Transarc and the Locus Computing Corpo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OSF DCE is an industry-standard, vendor-neutral set of distributed computing technolog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is not an application in itself, but is used to build custom applications or to support purchased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616-799E-4374-B873-F245838FDA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as Middle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d service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le servic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rectory servic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curity manage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P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chine independent data represent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nationaliz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ultitask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ually implemented on top of the operating system, although operating system implementations exist (e.g. OSF1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C54-0684-4613-8B07-DDC4007EF8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Ce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 - basic unit of operation and administ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of users, systems, and resources that have a common purpose and share common DCE servi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nimum configuration: Cell Directory Service, the Security Service and the Time Servi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962520"/>
            <a:ext cx="8305920" cy="2514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114800"/>
            <a:ext cx="1828800" cy="762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1148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4419720"/>
            <a:ext cx="167652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5334120"/>
            <a:ext cx="1828800" cy="761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334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638680"/>
            <a:ext cx="167652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57150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48006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4952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4191120"/>
            <a:ext cx="1828800" cy="1904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4191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4495680"/>
            <a:ext cx="1676520" cy="914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800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51055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urity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5562720"/>
            <a:ext cx="167652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5638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03" idx="3"/>
            <a:endCxn id="111" idx="1"/>
          </p:cNvCxnSpPr>
          <p:nvPr/>
        </p:nvCxnSpPr>
        <p:spPr>
          <a:xfrm>
            <a:off x="2895480" y="4495680"/>
            <a:ext cx="915120" cy="648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07" idx="3"/>
            <a:endCxn id="111" idx="1"/>
          </p:cNvCxnSpPr>
          <p:nvPr/>
        </p:nvCxnSpPr>
        <p:spPr>
          <a:xfrm flipV="1">
            <a:off x="2895480" y="5142960"/>
            <a:ext cx="915120" cy="5720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1" idx="3"/>
            <a:endCxn id="118" idx="1"/>
          </p:cNvCxnSpPr>
          <p:nvPr/>
        </p:nvCxnSpPr>
        <p:spPr>
          <a:xfrm>
            <a:off x="5486040" y="5143320"/>
            <a:ext cx="762840" cy="100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1AA-94E3-40B6-8C5F-C71D020691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4495680"/>
            <a:ext cx="830592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4952880"/>
            <a:ext cx="6705360" cy="1524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257800"/>
            <a:ext cx="5562360" cy="304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Compon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Procedure Call (RPC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rea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Security Servic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Directory Service (CDS and GD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Time Service (DT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Distributed File Service (DF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55627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/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52578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586728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4495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257800"/>
            <a:ext cx="670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4952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File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2578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52578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2578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525780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5867280"/>
            <a:ext cx="6095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6172200"/>
            <a:ext cx="670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4952880"/>
            <a:ext cx="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5334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E48-5FDC-4C81-911A-CF9AD3F4A3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2209680"/>
            <a:ext cx="8305920" cy="4343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819520"/>
            <a:ext cx="1828800" cy="1981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819520"/>
            <a:ext cx="1828800" cy="60948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te Procedure Ca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3623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1 (clien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8954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progra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23623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2 (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388620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b co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434340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9625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PC runtime librar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4419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oftw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1828800" cy="1981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895480"/>
            <a:ext cx="1828800" cy="60984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2971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dur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35812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b co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441972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0384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PC runtime librar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oftw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289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533412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4864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46" idx="2"/>
            <a:endCxn id="171" idx="1"/>
          </p:cNvCxnSpPr>
          <p:nvPr/>
        </p:nvCxnSpPr>
        <p:spPr>
          <a:xfrm flipH="1" rot="16200000">
            <a:off x="2305080" y="4476240"/>
            <a:ext cx="876960" cy="1524960"/>
          </a:xfrm>
          <a:prstGeom prst="bentConnector2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71" idx="3"/>
            <a:endCxn id="158" idx="2"/>
          </p:cNvCxnSpPr>
          <p:nvPr/>
        </p:nvCxnSpPr>
        <p:spPr>
          <a:xfrm flipV="1">
            <a:off x="5181480" y="4876560"/>
            <a:ext cx="1448640" cy="800640"/>
          </a:xfrm>
          <a:prstGeom prst="bentConnector2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BD6-727C-4212-A414-6F7DA6B24B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te Procedure Ca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oundation of distributed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face Definition Language (IDL) - enables client/server 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 with DCE security and naming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thentication of the calls: security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ynamic server location: directory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PC Servers use DCE 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ocol and network indepen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F2F-BF85-4802-86C3-50989829FC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luk1</cp:lastModifiedBy>
  <cp:lastPrinted>1999-04-17T05:21:03Z</cp:lastPrinted>
  <dcterms:modified xsi:type="dcterms:W3CDTF">1999-11-04T21:00:54Z</dcterms:modified>
  <cp:revision>102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eca@npac.syr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WINNT\Profiles\beca\Personal\seminars\xml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