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339-2481-4E37-A315-B0CE2FBD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751-2D27-424B-96BF-21517EC5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AED-BE1D-4AA2-9317-A691F372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6A3-B57C-486A-9F1D-9E5DAD41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31A5-D3CB-41F7-9B2E-A0927174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B76B-64E3-4336-A723-42C32D63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D042-5112-4536-A6BE-398D6B2D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FBFA-C20E-44E6-9AA7-08A5BAD7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6A97-6175-4A2F-8C40-5EC2F5BF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E2A8-DA9D-49BF-B423-1E591F3B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8234-1373-4DE8-846F-C0703D4D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695-7997-4FB4-A2EF-77865039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52E6-1136-4512-A9B7-43B15747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0024-E107-4218-84D9-6C1C1EC0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12CB-FAA4-4998-AF83-CF10269D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6FE5-CA5B-4095-9CA7-7FC5EDBB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AB70-DF77-4706-A2A5-472768FF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3FE-353F-43DD-8DD6-AFDAF7D9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6FF-3DCC-4AFB-BE56-C061F32C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3DB-3CB8-4EE0-839B-39EC5B41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955-BED8-4ACA-BABB-9A4991BA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978-2188-4928-AD3F-50A6451E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922-6896-40A1-AAEA-EF1E294B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F5B-8C77-42D3-A6F4-7A881FF6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F57B-3C2D-4C98-8186-0B46E4B5BE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84A1-8E16-49EB-B9E0-8DCAEEAA99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room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uidelines for Participation in Tango-Based Distance Lear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acher Side - Preferred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057400"/>
            <a:ext cx="8153280" cy="358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352680"/>
            <a:ext cx="17524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4290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enaVista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352680"/>
            <a:ext cx="17524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34290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acher Side-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 as for student mach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memory (256+) recommen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monitor and higher resolution graphics card (1600x1200 True Color) recommen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as for student mach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ort Machine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eaching, support and audio/video tools can be run on the same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and software requirements as for teacher’s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gs to Avo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as using a parallel 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as using a USB port on Windows NT systems (NT does not yet support USB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d (&gt;3 years) Intel Video Smart Recorders (we have found that these tend to crash or hang newer PC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as purchased separately from video capture 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scape version 4.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itical Fac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 audio/video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network connections (shaky connection - choppy aud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s  - Tango client supports SOCKS protocol but should be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TP server with access to the files on student s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software upgrades coordinated with NPAC support sta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scap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ting Up Distance Learning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the course st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ation of technical and faculty points of contact on student and instructor s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ation of required hard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ation of required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ngo se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s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ting Up Distance Learning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ngo se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ation of Tango Interactiv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ation of Session Manager on HTTP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ng Tango User Information file with list of class participants with assigned passwords and r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ting Up Distance Learning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each class s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f network conn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dio/video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al class se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V sessions must be tested before the class star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 Session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ated machines connected to BuenaVista s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articipants connected to other teaching tools (chat, shared browser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personnel on both sides connected to support chat for reporting technical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microphone (except on teaching machine) must be in off position and cannot be used by students during the class 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Watch set to ‘busy’ state on instructor’s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formation Re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als for Tango Interactive Session Manager and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npac.syr.edu/Projects/DoD/edu/participation-guidelines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ing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les in Tango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Machine Se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o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ical F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ting up Distance Learning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gathered during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- important fa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and effort required on both sides for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ngo2  - several differences in the setup, pointed 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aching Tool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t for questions and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enaVista for audio/vide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d Brow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ised Hand - bring at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z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les in Tango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ngo2 only, assigned to class participants using User Manager tool (instead of links to different Session Manag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2057400"/>
            <a:ext cx="8153280" cy="358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udent Side - Preferred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259092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enaVista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42670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34340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42670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434340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267080"/>
            <a:ext cx="17524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3434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2057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udent Side - Hardware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th WindowsNT/95/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MHz Pentium III or fast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8 MB RAM or mo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GB HDD or more (can be IDE or ATA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 card capable of 1240x1024 True color recommended; 1152x864 True Color accept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deo: Winnow PCI Videum Conference P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 Separate card unnecessary if Winnov card installed; otherwise SoundBlaster 64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set + microphone: VXI Parrott 10-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hernet 10/10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D-ROM driv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udent Side - Hardware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2 workstations running IRIX 6.5.4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ux PC requirements as for Windows system (Buena Vista currently not supported, should be available in March 20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intosh platform not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udent Side - Software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ngo Interactive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s NT 4.0 SP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Off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p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Z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TP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scape Communicator 4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Internet Explorer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ed: FTP server to allow access to NPAC support sta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7T02:05:24Z</dcterms:created>
  <dc:creator>luk1</dc:creator>
  <dc:description/>
  <dc:language>en-US</dc:language>
  <cp:lastModifiedBy>luk1</cp:lastModifiedBy>
  <dcterms:modified xsi:type="dcterms:W3CDTF">1999-12-17T06:27:17Z</dcterms:modified>
  <cp:revision>9</cp:revision>
  <dc:subject/>
  <dc:title>Classroom Setup</dc:title>
</cp:coreProperties>
</file>