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7D2-F16C-450D-A6B1-E78227EA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6B7-F92F-44CC-A9EE-A0C10A7C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EDD-7B61-4A3F-A535-6326E23E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896-F811-4596-80F8-76CB90B6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822-966D-48B9-8257-232362B1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852-4B1A-4618-9EF5-283DBFDF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71D-8EAB-44A1-82A4-5C46C74E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CC1-8972-4533-9403-9054C43B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950-0E45-475D-B9B6-BE4CA298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873-873E-40EC-B57E-86A52FEF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59B-1FF7-409E-AB15-7CF2F31D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200-687B-4E88-9EA7-4B7D2488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3F8A-4645-43B4-A2AF-006FA058BE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nguage for Shared Pla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ukasz Be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ination - takes to another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what hides behind the 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general approac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acts - content of the 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- allowed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- tools used to deal with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 - means of transport to other pl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- policy that is defined in specific 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nents of the langu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the place itse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gates to other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defines the purpose of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 e.g. backyard - just short identifi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 e.g. place intended for development of new ideas and exchange of used elepha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the place (‘place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sitory information - where the place artifacts are sto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 - defines users that have access to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s of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with assigned ro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ed/disallowed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ed/disallowe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rights (can store, can retrieve, can modify) with different rights for different types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artifacts - always present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tools - tools assigned to specific types of artifacts in this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s to other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entication - required or not required, can have link to the artifact with allowed users with assigned pass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 - identifies the author of the place and detects mod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oli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for various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 as artifact - control tools operate on the place as artif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- identifies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provides additional information about visi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key - for encrypted messages and artifact signatures generated by the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as artifact ?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- identifies artif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what is in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E type of the artifact - used to assign tool, show ico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 - where create, can be used to tr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- cre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 - type of tool used to cre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E typ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 (places, roles, users, grou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 of creator or modif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line xml - text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to storage - binary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tool: url to the tool with too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out RD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igsaw for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E type - used to associate artifacts with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ths (places, roles, users, grou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dem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es one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ndles collections of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of the tool (usually lin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must have standalone mode to enable access to personal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might have several versions depending on required policy- one tool for specific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as artifacts for other tools (meta-tools) such as control too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05:03:26Z</dcterms:created>
  <dc:creator>luk1</dc:creator>
  <dc:description/>
  <dc:language>en-US</dc:language>
  <cp:lastModifiedBy>luk1</cp:lastModifiedBy>
  <dcterms:modified xsi:type="dcterms:W3CDTF">2000-01-14T05:50:00Z</dcterms:modified>
  <cp:revision>3</cp:revision>
  <dc:subject/>
  <dc:title>Language for Shared Places</dc:title>
</cp:coreProperties>
</file>