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12C-7289-434D-9FE2-23FF2BCB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304-8E80-4D8D-A909-DDFC66C3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54B-2AED-40E4-900C-A89FB1FE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BBB-D403-4C35-A361-61F205F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ACF-50C2-4BDD-B589-65FDCA50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A20-D9D3-4360-84AF-B4BC641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170-9C0D-42D0-82D0-052EFFE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D74-7EEA-4D43-A14D-50C5EBF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9F5-3B94-4402-BFBE-8850877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099-8EAC-47F1-BC1D-6000337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505-5D7E-43F7-B200-CFFE9F96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B1E-66D0-43E4-834D-D67EF77F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0B51-4A20-4427-A394-DDA76E774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tscape 5 and IE evalu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s based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pre-release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ised final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imated sche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-term vision: to find most effective way of integrating Tango with brow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ar-term vision (several months: mid-March, end of May, and la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 capabil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-platform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ity necessary to support Ta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 for XML related technologies in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4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atures available in current Mozilla buil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e scale for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and Mozilla/Navigator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 interface enabled with Sun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igation of Mozillla as far as promised functionality is concer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vered iss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IE &amp; NS separately (as is now being d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 mixture of IE and NS in the same session (same cont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Script and other det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seeable problems in supporting the full functionality of either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y point to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 of the syst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ain browser function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Tango applications implemented as 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provides environment for running Session Manager (implemented as applet) and other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 Virtual Machine integrated with Netscape, with Just-In-Time (JIT) compi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-applet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ession Manager, applet tools and plugin exchange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, close, focus functions, posi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 + JavaScri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communication between tango client and server through fire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SOCKS protocol implemented in Netscape version of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Scrip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Script applications working with Tango (e.g. Shared Brows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Script +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 applets working with Tan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non-Java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Access to the registry, launch of platform dependent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ug-in API for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mitations imposed by current versions of Netscape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 1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un development only for Java1.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table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gs in Java implement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when terminating applet from another app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as a result of Swing library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ava and JavaScript related functionality promised in Mozilla/Netscape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interface to 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ve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wrapper for rendering en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ther necessary changes in tango interacti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rtability of Mozilla/Netscape 5 platfor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95/98/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6:34:49Z</dcterms:created>
  <dc:creator>beca</dc:creator>
  <dc:description/>
  <dc:language>en-US</dc:language>
  <cp:lastModifiedBy>luk1</cp:lastModifiedBy>
  <dcterms:modified xsi:type="dcterms:W3CDTF">2000-01-23T03:25:24Z</dcterms:modified>
  <cp:revision>6</cp:revision>
  <dc:subject/>
  <dc:title>Netscape 5 and IE evaluation</dc:title>
</cp:coreProperties>
</file>