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21C-43C3-4A72-B090-0AF9E34E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036-3E47-42CD-99A3-0CF29D35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7C6-28E4-4FFD-9A1A-D3D4DCEF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533-B754-4F7D-A3A7-5E96DBBB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1F0-7911-4D02-BF84-38ECA239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DBC2-0027-4851-8AA6-DFBA8FDF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8BF4-28FE-47DD-AC6C-AEB0659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2B8C-7A49-4DEF-8C1D-6CE442D7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238E-7D5B-4286-984C-BF67446A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EDA5-C2CD-4CA9-8051-1A04CD06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23A6-7896-4FAF-978B-391DFF0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145-E4D1-4256-96AE-7C43F87C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F6A-0D38-4844-8A7E-C984536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B301-4439-409C-A16D-6CF7A77E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DF7A-1A44-4866-ADAF-C818AED0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C19-6DED-41CC-B9B0-82403A45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333-1B14-4B67-80DE-E8F1D7FA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F99-C2FD-4486-96F0-46964DE9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FD0-70D5-4DBA-90E7-B3ECA4C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3BE-95CE-405F-92C8-CEEB586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5D8-EDF3-44FD-B76C-6AC532AD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FB7-EBE0-423E-B9C1-ECA7FE0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EAE-4C40-4898-B1B6-D90ECB0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78F-5B86-4ADE-B006-4DFAEF0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1376-08C1-474E-9B76-E72B360FC6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3796-0A35-48D3-92FD-095B2EAE6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PS714 - Introduction to XM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2971800"/>
            <a:ext cx="8305920" cy="3657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ocument is an XML element that can (or not) contain other nested XML ele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lip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uthors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Monty Pyth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uthors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ormat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av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ormat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riceinfo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regprice unit=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US dolla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regpric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urprice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urpric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priceinfo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CD2-DC4E-40A4-AA59-74CB3974A8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ell-formed document: obeys the syntax of XM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id documents: a well-formed document that  contains a proper document type declaration and obeys the constraints of that decla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169-5270-4322-A77C-18A8C7A11B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plain XML document displayed in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http://msdn.microsoft.com/xml/samples/transform-viewer/auction1.xm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D28-A39E-4B71-8936-EFDE2638C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 Object Mode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057400"/>
            <a:ext cx="86104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gramming API for XML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scribes logical structure of document and the way a document is accessed and manipu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es naming convention for documen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nables straightforward access to the documen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mplemented by the tools that enable manipulation of XML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FF0-3041-4B04-BD66-5BE2780955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Object Model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514600"/>
          <a:ext cx="585936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59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29C-5EF2-40B3-8C10-32B718F06B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1981080"/>
            <a:ext cx="8305920" cy="4496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Object Model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ot = doc.getDocumentElement(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tag na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ot.getTagNam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get first child element of the roo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cElem = (Node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ot.getFirstChil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tag na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TagNam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element typ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NodeTyp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node value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cElem1 = (Text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FirstChil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1.getNodeValu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7C3-5170-493E-A9B1-182B33674C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9880"/>
            <a:ext cx="8305920" cy="2667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amespa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llection of related XML elements and attribut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ied by a URI refer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chanism for solving elements and attributes name confli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M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Info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ersonInfo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M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A32-812B-4D6A-ACCE-4928A095E2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191120"/>
            <a:ext cx="830592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362320"/>
            <a:ext cx="8305920" cy="1371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amespaces - Decla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ault decla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 xmlns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Clip.org:ClipInf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&lt;/title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plicit decla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clip xmlns:cl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Clip.org:ClipInf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money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Finance:Mon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price money:currency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S doll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14.7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pric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0DD-63E6-451A-81F7-92775BCB0A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86200"/>
            <a:ext cx="8305920" cy="2666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Data Islan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XML code embedded in an HTML pag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nables integration of XML with HTML page (XML data can be accessed by script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ontains well-formed XML document within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&lt;XML&gt; &lt;/XML&gt;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tag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ML ID=”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lipX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ML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XML.documentElement.childNodes.item(0).tex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28E-57B9-4BD9-A959-7FCDBE9840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 Type Defini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Grammar for tag languag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fines the rules governing the relations between elements and attribut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d fo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XML document valid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escribing grammar for other us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&lt;!DOCTYPE clip SYSTEM ”clipdef.dtd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1CA-2B20-4599-A9ED-7D85A15A9F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otivation and Goa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Overvi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Basic Concep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ocument Type Definition (DT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Schem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Style Language (XS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nguages Based on X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u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63B-2FAD-4248-9E90-A71B32DE43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2209680"/>
            <a:ext cx="8305920" cy="3124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Type Definition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DOCTYPE clip [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clip (title,size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title (#PCDATA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size (#PCDATA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ATTLIST siz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t CDATA #REQUIRED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EC8-F7DB-413D-BF00-E2BC800AE4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Schem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ovides nearly the same functionality as Document Type Defini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s XML syntax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chema authors can add their own elements and attributes to XML Schema docu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element and attribute typing and assigning default valu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&lt;clip xmlns="x-schema:clipSchema.xml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A64-3881-46A2-BFC9-7835667C47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1905120"/>
            <a:ext cx="8305920" cy="4647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Schema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chema xmlns="urn:schemas-npac-edu:clip-data"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dt="urn:schemas-microsoft-com:datatypes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ttribute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un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dt:type=“string” required=“yes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textOnly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t:type=“string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textOnly” dt:type=“int”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ttribute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n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lementTyp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cli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eltOnly”&gt;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lementTyp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829-E157-418E-B3F7-742EF0EB1E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Extensible Stylesheet Language (XSL)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display of XML by transforming XML into structure suitable for display, for example 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SL transformations can be executed on the server to provide HTML documents for older browser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ovides  mechanisms for transformation of XML data from one schema to anoth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converting XML documents through querying, sorting, and filt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&lt;?xml-stylesheet type="text/xsl"href="mystyle.xsl"?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CDC-5394-488D-858F-01A2A9BFAF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illustrates how the XSL document is applied to XML document and displayed in the Web brows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must be viewed using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msdn.microsoft.com/xml/samples/transform-viewer/transform-viewer.ht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808-1FEE-45B7-B5CB-7C3644343A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- Style Shee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tain a template of the desired result stru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dentify data in the source document to insert into the templ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ample: Fragments of XSL document define how elements of XML document should be transformed into HTML docu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D1F-078D-4019-9CF5-8178721657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4191120"/>
            <a:ext cx="8305920" cy="2209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Patter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imple query language for identifying nodes in an XML docu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5600" indent="-435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dentify nodes depending o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-2739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ype, name, and value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-2739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lationship of the node to other nodes in the docu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tit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priceinfo/regpr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F14-173D-4705-B5CE-F714291FA2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Patterns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how the parts of the XML document can be identified using XSL patter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must be displayed in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msdn.microsoft.com/xml/samples/authors/author-patterns.ht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745-EBF3-45DF-9A25-1831BD85A2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Languages Based on XM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 Description Framework (RDF) standard for metadata exchange, enables better content searching on the Web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ynchronized Multimedia Integration Language (SMIL) enables simple authoring of TV-like multimedia presentations such as training courses on the Web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calable Vector Graphics (SVG) - a language for describing two-dimensional graphics in X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480-955A-4842-A5A6-EC59F3E6A5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General Inform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ynchronized Multimedia Integration Language - allows integrating a set of multimedia objects into a synchronized multimedia pres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MIL provides mechanisms f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scription of temporal behavior of the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scription of layout of the presentation on the scre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of hyperlinks with media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9B0-BE0F-48F8-90CB-89516E31F3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974960"/>
          <a:ext cx="7772400" cy="39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74960"/>
                    <a:ext cx="7772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B5C-77E8-461E-B09B-1923264442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Basic Concep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ayout: the layout of the visual clips can be defined, the clips can be assigned to the predefined separate reg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p playback: the clips can be played from various sources and in different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p temporal dependency: the clips can be played in parallel or sequential mann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yperlinks: a clip can be connected to another clip or pres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B91-9961-4C27-8998-3EB87208B2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Example Docu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647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mil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layout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oot-layout background-color=“blue” width=“200” height=“300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egion id=“videoregion” top=“10” left=“10” width=“180” height=“180”/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ar repeat=“3”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video src=“video.rm” region=“videoregion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udio src=“audio.rm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par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mil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4E4-2DFF-4AC4-9FA1-113D9F7974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a presentation created using SMI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presentation is displayed using RealPlayer from RealNetwork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file with presentation is available fro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www10.real.com/devzone/library/creating/smil/production.htm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5BB-C0BF-482E-949C-FC2230CE3C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arsers, used for accessing, analyzing and transforming XML documents (Sun, Microsoft, IB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Validating par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n-validating par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ditors, used for creating XML content (Microsoft, IB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ava APIs for XML (Su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9BB-7871-4FF8-8D9F-BBF3CC29F2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Editor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demonstrates abilities of XML Notep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XML Notepad is available fro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msdn.microsoft.com/xml/notepad/download.as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1C2-2B66-465D-BD68-D587C56BA5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Fu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pletion of XML-related specificati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Linking Language (XLL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Stylesheet Language (XS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 Description Framework (RDF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XML as a standard format for data storage and Internet delive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liferation of XML-based languages for various industry and research domai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69C-9A32-40D0-8904-45246D6EE5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sour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ternetExplorer 5.0 and XML/XSL tutorial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msdn.microsoft.com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pecification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w3.or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ore tutorials and informations for developer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zdnet.com/devhead/filters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xml.c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s at NPAC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npac.syr.edu/projects/tutorials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BDE-D2DE-4A5F-9724-673F1CF922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Goa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tter search resul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senting various views for the same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gration of data from different 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sy use over the Intern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sy application development that process 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 readable by huma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 easy to cre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rchange of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33B-EE0C-4470-B76A-563FB066F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tensible Markup Language - Subset of Standard Generalized Markup Language (SGM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iversal format for describing structured data on the We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pecification developed by World Wide Web Consortium (W3C) supervised by XML Working Gro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228-10AD-40AE-ABF4-CB216E447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Basic Concep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le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cessing Instru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 Object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amespa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ata Isla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E66-2630-443E-9A1A-7DB5438A0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4724280"/>
            <a:ext cx="830592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le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rmat: start tag, end tag, and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tags describe the data contained between t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data within the tags is the value of the el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dance&gt;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dance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90F-0F60-454E-9468-72F1A1D11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4343400"/>
            <a:ext cx="8305920" cy="1600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ttribut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232920" indent="-23292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 associate name-value pairs with element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-23292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 may appear only within start-tags and empty-element t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28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2E2-A140-4DE7-9ECE-22A4C80E71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343400"/>
            <a:ext cx="8305920" cy="1600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xml-stylesheet type=“text/xsl” href=“mystyle.xsl”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cessing Instruc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chanism for by-passing the normal operation of an XML processor and delivering instructions directly to a process whose responsibility it is to interpret the instruction and act according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01A-03FF-441A-AED5-43474BB58D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beca</cp:lastModifiedBy>
  <cp:lastPrinted>1999-04-17T05:21:03Z</cp:lastPrinted>
  <dcterms:modified xsi:type="dcterms:W3CDTF">1999-06-09T21:40:58Z</dcterms:modified>
  <cp:revision>121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