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403880"/>
            <a:ext cx="8178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88604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88604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40388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40388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40388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956-C724-4885-A428-0564308D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40C-2487-46C6-BCEA-E20DBC95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E3C-5E87-4EA0-9CF6-C84D4FEA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BF5A-67EB-4F3E-A5B4-C8D42F3E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DF6-DBE2-4E0E-8EB2-A23F3F46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847-B8B4-47B1-867B-B357DADC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1960-9515-4B76-90D8-CCB25C00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4760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A16-DD7B-4E09-A245-A4AB24EB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403880"/>
            <a:ext cx="8178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0C44-6025-457E-A907-0EA93506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403880"/>
            <a:ext cx="8178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F7C-53C3-415D-BBB1-DA54DBC6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4760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948-BE5A-4D79-A6BB-72DCDCA5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2360" y="188604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87880" y="188604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40388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2360" y="440388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87880" y="4403880"/>
            <a:ext cx="263340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9B6-C985-4AC1-81E0-2FC90075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40388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6040"/>
            <a:ext cx="39909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403880"/>
            <a:ext cx="8178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6DD9-1862-42C6-833D-3FF579CABC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tscape 5 and IE evalu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s based 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pre-release capabil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ised final capabil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imated schedu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ng-term vision: to find most effective way of integrating Tango with brow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ar-term vision (several months: mid-March, end of May, and lat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ML capabilit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-platform suppor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ality necessary to support Tan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pport for XML related technologies in Mozilla/Netscape 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ML 4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eatures available in current Mozilla buil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ime scale for Mozilla/Netscape 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ango Interactive and Mozilla/Navigator 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JI interface enabled with Sun virtual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stigation of Mozillla as far as promised functionality is concer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vered issu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of IE &amp; NS separately (as is now being don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ing a mixture of IE and NS in the same session (same cont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for JavaScript and other detai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eseeable problems in supporting the full functionality of either brow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ango Interactive dependency on the browser technology (Netscap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ry point to the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Start of the syste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plain browser function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for Tango applications implemented as app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provides environment for running Session Manager (implemented as applet) and other to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Java Virtual Machine integrated with Netscape, with Just-In-Time (JIT) compi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-applet commun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Session Manager, applet tools and plugin exchange mess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LiveConn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ow mana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start, close, focus functions, positio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LiveConnect + JavaScri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ango dependency on the browser technology (Netscap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Enables communication between tango client and server through fire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SOCKS protocol implemented in Netscape version of 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Script A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Enables implementation of JavaScript applications working with Tango (e.g. Shared Brows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JavaScript + LiveConn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ango dependency on the browser technology (Netscap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et A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Enables implementation of Java applets working with Tang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LiveConn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o non-Java function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: Access to the registry, launch of platform dependent appli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technology: Plug-in API for 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imitations imposed by current versions of Netscape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for Java 1.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un development only for Java1.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ity AP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ther AP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table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gs in Java implementa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owser freeze observed when terminating applet from another appl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owser freeze observed as a result of Swing library exce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ava and JavaScript related functionality promised in Mozilla/Netscape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interface to D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ug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veConn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Conn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wrapper for rendering eng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ther necessary changes in tango interactiv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signa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rtability of Mozilla/Netscape 5 platfor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ows 95/98/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ar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 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S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6:34:49Z</dcterms:created>
  <dc:creator>beca</dc:creator>
  <dc:description/>
  <dc:language>en-US</dc:language>
  <cp:lastModifiedBy>luk1</cp:lastModifiedBy>
  <dcterms:modified xsi:type="dcterms:W3CDTF">2000-01-23T03:25:24Z</dcterms:modified>
  <cp:revision>6</cp:revision>
  <dc:subject/>
  <dc:title>Netscape 5 and IE evaluation</dc:title>
</cp:coreProperties>
</file>