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1F5-3644-4FED-8CF3-F4E6D207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D06-D3A1-46AB-9AF8-89B1ED87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176-F4F2-442B-95DA-03B97DC9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2A2-5088-48B4-B500-36B888F9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9E37-C247-480C-AA35-8CE8DCA3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3696-0A9B-487B-ACFF-10F8C454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519E-5B38-4E6D-9860-515E83D9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5CCF-33DD-4D87-8419-1DB28EEC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C0F1-C310-4079-921F-7B33B22C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A711-D67C-4F45-9F64-7EF2CE2A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EF0C-97A0-45D1-9FC7-CAE83E54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7C7-E1EF-4CD4-AF0F-6F5B0AA8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A64C-7F1B-4FD3-9801-5D60DBD1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E62F-0E48-48F9-8A84-C6ABE970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D115-5674-44F6-8AAA-9E1AC5EE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78C3-D2C2-412C-A857-4B9326EF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C43B-FF7B-4347-B06C-337FDEEA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49C-8149-4EEE-972A-802FA990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88D-6FB0-4B5C-A7C6-08D5F54B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40D-1877-4AD0-ABCB-F86B9960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0C1-6DF2-4D1B-B478-189D4F29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329-843F-43AD-9EED-63140A09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CE5-FC05-4B3C-8439-206B4AD8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88B-1C68-45B3-90FB-EE913596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6C1A-74D2-4F52-A2B5-70F483E68D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10F5-3769-4BBA-8646-59E2F17AD6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room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uidelines for Participation in Tango-Based Distance Lear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acher Side - Preferred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057400"/>
            <a:ext cx="8153280" cy="358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352680"/>
            <a:ext cx="17524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4290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enaVista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352680"/>
            <a:ext cx="17524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34290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acher Side-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 as for student mach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memory (256+) recommen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monitor and higher resolution graphics card (1600x1200 True Color) recommen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as for student mach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ort Machine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eaching, support and audio/video tools can be run on the same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and software requirements as for teacher’s mach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gs to Avo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as using a parallel 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as using a USB port on Windows NT systems (NT does not yet support USB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d (&gt;3 years) Intel Video Smart Recorders (we have found that these tend to crash or hang newer PC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as purchased separately from video capture 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scape version 4.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itical Fac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 audio/video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network connections (shaky connection - choppy aud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s  - Tango client supports SOCKS protocol but should be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TP server with access to the files on student s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software upgrades coordinated with NPAC support sta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scap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ting Up Distance Learning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the course st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ation of technical and faculty points of contact on student and instructor s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ation of required hard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ation of required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ngo se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s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ting Up Distance Learning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ngo se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ation of Tango Interactiv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ation of Session Manager on HTTP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ng Tango User Information file with list of class participants with assigned passwords and r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ting Up Distance Learning Cl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each class s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f network conn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dio/video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al class se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V sessions must be tested before the class star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 Session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ated machines connected to BuenaVista s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articipants connected to other teaching tools (chat, shared browser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personnel on both sides connected to support chat for reporting technical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microphone (except on teaching machine) must be in off position and cannot be used by students during the class 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Watch set to ‘busy’ state on instructor’s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formation Re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als for Tango Interactive Session Manager and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npac.syr.edu/Projects/DoD/edu/participation-guidelines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ing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les in Tango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Machine Se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o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ical F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ting up Distance Learning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gathered during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- important fa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and effort required on both sides for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ngo2  - several differences in the setup, pointed 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aching Tool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t for questions and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enaVista for audio/vide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d Brow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ised Hand - bring at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z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les in Tango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ngo2 only, assigned to class participants using User Manager tool (instead of links to different Session Manag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2057400"/>
            <a:ext cx="8153280" cy="358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udent Side - Preferred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259092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enaVista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42670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34340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42670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434340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267080"/>
            <a:ext cx="17524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3434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2057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udent Side - Hardware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th WindowsNT/95/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MHz Pentium III or fast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8 MB RAM or mo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GB HDD or more (can be IDE or ATA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 card capable of 1240x1024 True color recommended; 1152x864 True Color accept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deo: Winnow PCI Videum Conference P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 Separate card unnecessary if Winnov card installed; otherwise SoundBlaster 64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set + microphone: VXI Parrott 10-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hernet 10/10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D-ROM driv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udent Side - Hardware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2 workstations running IRIX 6.5.4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ux PC requirements as for Windows system (Buena Vista currently not supported, should be available in March 20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intosh platform not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udent Side - Software Requir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ngo Interactive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s NT 4.0 SP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Off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p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Z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TP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scape Communicator 4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Internet Explorer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ed: FTP server to allow access to NPAC support sta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7T02:05:24Z</dcterms:created>
  <dc:creator>luk1</dc:creator>
  <dc:description/>
  <dc:language>en-US</dc:language>
  <cp:lastModifiedBy>luk1</cp:lastModifiedBy>
  <dcterms:modified xsi:type="dcterms:W3CDTF">1999-12-17T06:27:17Z</dcterms:modified>
  <cp:revision>9</cp:revision>
  <dc:subject/>
  <dc:title>Classroom Setup</dc:title>
</cp:coreProperties>
</file>