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88188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A69-4DB2-4EE3-A10D-24F5DE2D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480-3CB7-4766-858D-87C5F90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E68-322F-4A65-AA47-510EA5BB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FB0-9777-4081-B20A-BF156BC7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151-5989-4864-A97E-F8B53527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D576-C497-49E0-B888-44CAD49C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3A3-1101-403C-ACF7-AB4432D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C12-E16A-4BD4-AFF3-D6B7627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1B6-86A5-4206-8D30-2BF00D93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B77-E7E9-4CF0-8D17-FBAE418F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E16E-BDB1-479A-8D54-005CC67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7DD-5298-4333-A93C-6B32864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6247-E7F7-40F7-BC25-F9E6F0E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642-BDBB-4D56-9303-EB4FF169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5AA8-2AA6-4129-B454-ADA6E497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7EFA-DDDF-47BA-8B9D-789C93C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D9C2-AF25-4FDB-A6E9-2EAE5947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069-236F-47CA-A645-71A65372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0C2-F6E9-40BC-B98B-A4FC80C2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6E2-6050-4723-AFEE-42BC9E6D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F92-C8EA-4F0F-BB9D-119EA4F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37B-27E7-4653-B0B7-1E00EBA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5B0-C4DC-41CD-AA83-01478C0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1BE-AAA0-499C-8740-C632638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993C-53E8-4224-B247-753E48314F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CE41-990B-4AC3-AC73-1F2797B58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PS714 - Introduction to XM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beca@npac.syr.e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3-287 CS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PAC, 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2971800"/>
            <a:ext cx="8305920" cy="3657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ocument is an XML element that can (or not) contain other nested XML ele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lip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uthors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Monty Pyth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uthors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ormat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av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ormat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riceinfo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regprice unit=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US dolla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regpric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urprice&gt;</a:t>
            </a: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urprice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priceinfo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D82-E713-4877-A77E-BE788EEF5A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ell-formed document: obeys the syntax of XM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id documents: a well-formed document that  contains a proper document type declaration and obeys the constraints of that decla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B63-5DB2-4F17-9530-CEC0B398E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s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plain XML document displayed in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http://msdn.microsoft.com/xml/samples/transform-viewer/auction1.xm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DF6-7726-4926-9C83-1A4932A45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 Object Mode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057400"/>
            <a:ext cx="86104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gramming API for XML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scribes logical structure of document and the way a document is accessed and manipu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es naming convention for documen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nables straightforward access to the document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mplemented by the tools that enable manipulation of XML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1F0-A27D-4806-BDA5-3A6D7B58E9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Object Model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514600"/>
          <a:ext cx="585936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59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890-E44E-488A-ABEB-D3B96A009B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1981080"/>
            <a:ext cx="8305920" cy="4496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Object Model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ot = doc.getDocumentElement(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tag na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ot.getTagNam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get first child element of the roo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cElem = (Node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ot.getFirstChil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tag nam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TagNam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element typ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NodeTyp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print node value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cElem1 = (Text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.getFirstChil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cElem1.getNodeValu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126-25F1-44F5-A079-46C8B73EE1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9880"/>
            <a:ext cx="8305920" cy="2667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amespa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llection of related XML elements and attribut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ied by a URI refer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chanism for solving elements and attributes name confli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M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Info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ersonInfo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M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022-0E1C-4F58-9DCB-3364345B6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191120"/>
            <a:ext cx="8305920" cy="1904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362320"/>
            <a:ext cx="8305920" cy="1371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amespaces - Decla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ault decla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 xmlns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Clip.org:ClipInf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&lt;/title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plicit decla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clip xmlns:cl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Clip.org:ClipInf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money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rn:Finance:Mon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:price money:currency="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S doll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14.7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pric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: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200-4E01-4D09-8B84-5D3B737963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86200"/>
            <a:ext cx="8305920" cy="2666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Data Island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XML code embedded in an HTML pag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nables integration of XML with HTML page (XML data can be accessed by script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-42516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ontains well-formed XML document within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&lt;XML&gt; &lt;/XML&gt;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tag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ML ID=”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lipXM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lip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ML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XML.documentElement.childNodes.item(0).tex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18D-2520-429C-9FE8-5D508B4361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ocument Type Defini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Grammar for tag languag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fines the rules governing the relations between elements and attribut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d fo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XML document valid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escribing grammar for other us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&lt;!DOCTYPE clip SYSTEM ”clipdef.dtd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5DA-F590-48EA-BAB3-F4E965ED98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otivation and Goa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Overvi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Basic Concep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ocument Type Definition (DT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Schem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Style Language (XS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nguages Based on X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u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ML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09C-A401-4795-92CC-FF9A16813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2209680"/>
            <a:ext cx="8305920" cy="3124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Document Type Definition - Example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DOCTYPE clip [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clip (title,size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title (#PCDATA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ELEMENT size (#PCDATA)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!ATTLIST siz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t CDATA #REQUIRED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5C6-DD8E-4DF6-9760-14EDD0E53D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Schem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ovides nearly the same functionality as Document Type Defini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s XML syntax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chema authors can add their own elements and attributes to XML Schema docu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element and attribute typing and assigning default valu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&lt;clip xmlns="x-schema:clipSchema.xml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691-5C82-447F-A022-30FF5F1EE9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1905120"/>
            <a:ext cx="8305920" cy="4647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Schema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chema xmlns="urn:schemas-npac-edu:clip-data"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dt="urn:schemas-microsoft-com:datatypes"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ttribute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un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dt:type=“string” required=“yes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textOnly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t:type=“string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textOnly” dt:type=“int”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ttribute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n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lementTyp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Type name=“</a:t>
            </a:r>
            <a:r>
              <a:rPr b="1" lang="en-US" sz="2000" spc="-1" strike="noStrike">
                <a:solidFill>
                  <a:srgbClr val="0066cc"/>
                </a:solidFill>
                <a:latin typeface="Courier New"/>
              </a:rPr>
              <a:t>cli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content=“eltOnly”&gt;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lement type=“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lementTyp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2DE-34D1-4FF2-AF2F-67A8D7CB9D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Extensible Stylesheet Language (XSL)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display of XML by transforming XML into structure suitable for display, for example 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XSL transformations can be executed on the server to provide HTML documents for older browser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ovides  mechanisms for transformation of XML data from one schema to anoth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nables converting XML documents through querying, sorting, and filt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with XML document: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&lt;?xml-stylesheet type="text/xsl"href="mystyle.xsl"?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2D7-2830-48C6-9200-1E2B061526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illustrates how the XSL document is applied to XML document and displayed in the Web brows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must be viewed using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msdn.microsoft.com/xml/samples/transform-viewer/transform-viewer.ht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6F5-BFF3-4650-A47A-C9903572D2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- Style Shee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tain a template of the desired result stru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dentify data in the source document to insert into the templ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ample: Fragments of XSL document define how elements of XML document should be transformed into HTML docu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2BC-FC45-4286-AD9D-437B96C7A2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4191120"/>
            <a:ext cx="8305920" cy="2209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Patter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imple query language for identifying nodes in an XML docu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5600" indent="-435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dentify nodes depending o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-2739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ype, name, and value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-2739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lationship of the node to other nodes in the docu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tit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p/priceinfo/regpr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BE9-EDE5-4C61-8D57-EBD6FDA7CD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SL Patterns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how the parts of the XML document can be identified using XSL patter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must be displayed in Internet Explorer 5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RL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msdn.microsoft.com/xml/samples/authors/author-patterns.ht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B9C-6545-4E4C-B8B6-A98ECD374B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Languages Based on XM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 Description Framework (RDF) standard for metadata exchange, enables better content searching on the Web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ynchronized Multimedia Integration Language (SMIL) enables simple authoring of TV-like multimedia presentations such as training courses on the Web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calable Vector Graphics (SVG) - a language for describing two-dimensional graphics in X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FA4-8E39-4506-A286-5FFC36C3F9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General Inform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ynchronized Multimedia Integration Language - allows integrating a set of multimedia objects into a synchronized multimedia pres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MIL provides mechanisms f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scription of temporal behavior of the 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scription of layout of the presentation on the scre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ssociation of hyperlinks with media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61D-8727-4832-836D-A1BD69AFEB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974960"/>
          <a:ext cx="7772400" cy="39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74960"/>
                    <a:ext cx="7772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69C-A56C-4205-92D6-4B35B8BC9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Basic Concep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ayout: the layout of the visual clips can be defined, the clips can be assigned to the predefined separate reg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p playback: the clips can be played from various sources and in different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p temporal dependency: the clips can be played in parallel or sequential mann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yperlinks: a clip can be connected to another clip or pres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706-6D45-4C76-93D2-450246D221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Example Docu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647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mil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layout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oot-layout background-color=“blue” width=“200” height=“300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egion id=“videoregion” top=“10” left=“10” width=“180” height=“180”/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ar repeat=“3”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video src=“video.rm” region=“videoregion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udio src=“audio.rm”/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par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mil&gt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A55-AE25-4270-BBE7-019A452F9D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MIL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shows a presentation created using SMI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presentation is displayed using RealPlayer from RealNetwork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file with presentation is available fro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ttp://www10.real.com/devzone/library/creating/smil/production.htm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FF9-BFEE-4954-8542-FF5F7F5505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To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arsers, used for accessing, analyzing and transforming XML documents (Sun, Microsoft, IB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Validating par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n-validating par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ditors, used for creating XML content (Microsoft, IB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ava APIs for XML (Su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55E-BCAE-41D3-8A8A-E0B293D908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Editor - 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example demonstrates abilities of XML Notep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XML Notepad is available fro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msdn.microsoft.com/xml/notepad/download.as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7E6-4916-4BBE-9DD5-BBA0EDE751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Fu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pletion of XML-related specificati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Linking Language (XLL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nsible Stylesheet Language (XS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 Description Framework (RDF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XML as a standard format for data storage and Internet delive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liferation of XML-based languages for various industry and research domai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CA5-39DC-4942-B3C9-DDC52AEA12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sour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ternetExplorer 5.0 and XML/XSL tutorial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msdn.microsoft.com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pecification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w3.or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ore tutorials and informations for developer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zdnet.com/devhead/filters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xml.c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ources at NPAC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ttp://www.npac.syr.edu/projects/tutorials/XML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1DC-AF0E-405A-8DE1-5679D17E48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Goa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tter search resul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esenting various views for the same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gration of data from different 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sy use over the Intern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sy application development that process 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 readable by huma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 easy to cre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rchange of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B77-E415-4901-803D-792DA33FF6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tensible Markup Language - Subset of Standard Generalized Markup Language (SGM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iversal format for describing structured data on the We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pecification developed by World Wide Web Consortium (W3C) supervised by XML Working Gro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331-2E6C-475D-8D87-82F152343A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XML Basic Concep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le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ocessing Instru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cument Object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amespa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ata Isla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7DA-5D66-44E0-AF3F-97EDBAB2D3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4724280"/>
            <a:ext cx="8305920" cy="152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lem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rmat: start tag, end tag, and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tags describe the data contained between t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 data within the tags is the value of the el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dance&gt;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The Fish Slapping Da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dance&g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726-3D45-4556-A5B3-C69F8F116C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4343400"/>
            <a:ext cx="8305920" cy="1600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ttribut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232920" indent="-23292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 associate name-value pairs with element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-23292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tributes may appear only within start-tags and empty-element t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size unit=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K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”&gt;</a:t>
            </a:r>
            <a:r>
              <a:rPr b="1" lang="en-US" sz="2800" spc="-1" strike="noStrike">
                <a:solidFill>
                  <a:srgbClr val="0066cc"/>
                </a:solidFill>
                <a:latin typeface="Courier New"/>
              </a:rPr>
              <a:t>82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size&gt;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784-C523-45B2-8E8F-73CC0A24C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343400"/>
            <a:ext cx="8305920" cy="1600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?xml-stylesheet type=“text/xsl” href=“mystyle.xsl”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cessing Instruc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chanism for by-passing the normal operation of an XML processor and delivering instructions directly to a process whose responsibility it is to interpret the instruction and act according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120-8C06-4CC1-BE36-8F2C50CC5F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beca</cp:lastModifiedBy>
  <cp:lastPrinted>1999-04-17T05:21:03Z</cp:lastPrinted>
  <dcterms:modified xsi:type="dcterms:W3CDTF">1999-06-09T21:40:58Z</dcterms:modified>
  <cp:revision>121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eca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WINNT\Profiles\beca\Personal\seminars\x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