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9F8-12AD-481B-8617-169307A2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6E6-5597-44F2-8257-D6340198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630-F791-4811-87D2-26223996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AD8-E318-41BB-8A6F-03DC1FE6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A4E3-6051-4AB8-BA58-E91522DC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613A-E4C3-47BC-A559-187D1078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BD2E-01EB-422E-A2CB-CA701495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2886-FA20-4E4D-B8E4-48970CDC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8300-085B-4BF3-8816-13074AC4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7F39-DA3F-4981-A922-1E3F2D1E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B371-02D6-424B-8DE1-F819E94E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9C3-F1A5-426F-8A0C-CED7A3EB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6C9C-2AE1-45FA-9538-2C40CDBE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ACC1-7E8E-4CB0-911C-022F392D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A927-21EA-42EE-94B5-49C3B134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A52D-7C5B-4D62-9780-46815ABD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BCCB-7D0F-4F83-932A-1AFF6917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C04-4C7E-4665-8EA2-28D10B80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8CD-74D4-4912-96E6-464202A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545-6148-4113-8C5C-82321900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722-7B51-4724-AF73-400464B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197-EBA6-4F21-B0BE-D3690D0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0CD-D2A6-4460-826E-C1210EEC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180-2282-456B-8701-19C6F1D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FF2B-8891-44F8-A014-4A4C3885EF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63EC-D6FF-414A-87EA-A9C47A3C1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057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pen Software Foundation Distributed Computing Environment (OSF DCE)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ca@npac.syr.e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-287 C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read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ment in program performa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tform-independent API based on POSIX 1003.4a standard (includes real-time priority schedul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 RPC-based servers to handle multiple clients simultaneously, but also useful in other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multiprocessor environments using shared mem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maphore service for thread synchron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BB8-41CB-4EAD-8429-36AA4C346A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Securit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ource prote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version based on Kereberos 5.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authentication and author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ation: validates that a principal (user or program) is who or what it claims to be - login fac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orization: check whether the authenticated principal has permission to access a resource - Access Control Lis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arent access to the security services by the u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Security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A1E-EC1D-44EA-ACA7-D70786D41A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Directory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ch resource in a cell such as a person, file, service provided by RPC server, etc. has a unique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y service returns the network address of the resource with a given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Directory Service: controls naming environment inside a cel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Directory Service: for name lookups across cells,  X.500 and DNS name formats can be u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protects directory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360" indent="-2973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is provided by Cell Directory Server and Global Directory Ag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C9D-9227-4C92-9200-0BA8606F6C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Tim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5960" indent="-3459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izes the clocks of all computers in the distributed system (c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Coordinated Universal Time (UTC)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applications rely on timestamps to coordinate interdependent events e.g. determination of the most recent version of the file which exists on multiple h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Global Servers and Cou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Servers - can be connected to the external time provider (e.g. NIST) using Time Provider Interface (TP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240" indent="-3182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d by the DCE security and fil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BD6-31B5-41EB-9E7A-AF001240D3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DCE Distributed File Servic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wide access to files - single view of all the fi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s a superset of the POSIX 1003.1 file system stand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existence with a host’s native file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files (filesets) as a basic unit of ope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 location location trac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 back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with DFS Distributed Secur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ching used to speed oper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 provided by the file servers, fileset location servers, and backup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A0B-F765-4E19-B345-1161039656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057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mplementations are available for all important Unix systems, Windows NT, and other major systems including 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release 1.2.2 available since Dec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teways available to the UNIX Network File System and Novell Ne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Web techn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usually cannot be bought as a separate product but it is a part of many software system: transaction processing monitors (Encina), CORBA implementations (HP), middleware systems (Sybase and Oracle) and Directory and Security servers (IB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0AE-3D17-42D5-BF02-1204C48EDA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poi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gration of distributed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 for organization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a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tability and interope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 influence on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 of widespread deployment never achie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gnificant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object-oriented distribut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eting technologies: Network File System, Network Time Protocol, CORBA,  new versions of thread APIs, SUN RPC, LD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upport for message queueing and transaction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962-7F37-450C-B244-B3AC78B08F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derstanding DCE” by Ward Rosenberry, David Kenney &amp; Gerry Fis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 Applications Frameworks” by Eric Green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on Open Group Web 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opengroup.org/tech/dce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sgroup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.soft-sys.d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quently Asked Ques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usenet.umr.edu/faqs/dce/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93A-DB92-4693-AA67-542D23A2F9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142-18F9-4918-AC43-414DA0A41E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used computing po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ands for increased avail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borative work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rage limit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data and program lo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geneous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significance of distribut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cessity of event synchronization in distributed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ion of distributed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AD8-97E4-461A-9F1E-29733B22A1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- Introduc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 Software Foundation (OSF) - organization formed in 1988 (goals: research, development, and implementation of vendor-neutral technology and industry standards), became part of the Open Gro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proposed by Digital Equipment Corporation, IBM, Apollo, Transarc and the Locus Computing Corp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OSF DCE is an industry-standard, vendor-neutral set of distributed computing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is not an application in itself, but is used to build custom applications or to support purchas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25D-92F1-424C-AF8A-CCC6D7A2D2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as Middle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d servic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le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ctory ser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urity manag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P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hine independent data represent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ationaliz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ltitask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implemented on top of the operating system, although operating system implementations exist (e.g. OSF1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18D-5A8F-4508-B3AE-65B43FB0FB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e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- basic unit of operation and administ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users, systems, and resources that have a common purpose and share common DCE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imum configuration: Cell Directory Service, the Security Service and the Time Serv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962520"/>
            <a:ext cx="8305920" cy="2514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114800"/>
            <a:ext cx="1828800" cy="762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19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334120"/>
            <a:ext cx="1828800" cy="761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334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638680"/>
            <a:ext cx="167652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715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8006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952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191120"/>
            <a:ext cx="1828800" cy="1904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191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hos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495680"/>
            <a:ext cx="167652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800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105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urity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562720"/>
            <a:ext cx="167652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5638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E client 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03" idx="3"/>
            <a:endCxn id="111" idx="1"/>
          </p:cNvCxnSpPr>
          <p:nvPr/>
        </p:nvCxnSpPr>
        <p:spPr>
          <a:xfrm>
            <a:off x="2895480" y="4495680"/>
            <a:ext cx="915120" cy="648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7" idx="3"/>
            <a:endCxn id="111" idx="1"/>
          </p:cNvCxnSpPr>
          <p:nvPr/>
        </p:nvCxnSpPr>
        <p:spPr>
          <a:xfrm flipV="1">
            <a:off x="2895480" y="5142960"/>
            <a:ext cx="915120" cy="5720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8" idx="1"/>
          </p:cNvCxnSpPr>
          <p:nvPr/>
        </p:nvCxnSpPr>
        <p:spPr>
          <a:xfrm>
            <a:off x="5486040" y="5143320"/>
            <a:ext cx="762840" cy="100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97F-AEF4-46FF-8D2E-70E0B67BB2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4495680"/>
            <a:ext cx="830592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952880"/>
            <a:ext cx="6705360" cy="152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57800"/>
            <a:ext cx="556236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CE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Procedure Call (RP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Security Servic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rectory Service (CDS and GD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Time Service (DT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E Distributed File Service (DF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562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/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257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8672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495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95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 Fil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578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2578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867280"/>
            <a:ext cx="6095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172200"/>
            <a:ext cx="6705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9528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334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AF2-81E8-494D-A38D-A08738911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2209680"/>
            <a:ext cx="830592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819520"/>
            <a:ext cx="182880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819520"/>
            <a:ext cx="1828800" cy="60948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3623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1 (clien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895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2362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2 (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38862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343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962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419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1828800" cy="1981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95480"/>
            <a:ext cx="1828800" cy="60984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9625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5812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co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441972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038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PC runtime librar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4495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oftw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3341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4864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46" idx="2"/>
            <a:endCxn id="171" idx="1"/>
          </p:cNvCxnSpPr>
          <p:nvPr/>
        </p:nvCxnSpPr>
        <p:spPr>
          <a:xfrm flipH="1" rot="16200000">
            <a:off x="2305080" y="4476240"/>
            <a:ext cx="876960" cy="152496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1" idx="3"/>
            <a:endCxn id="158" idx="2"/>
          </p:cNvCxnSpPr>
          <p:nvPr/>
        </p:nvCxnSpPr>
        <p:spPr>
          <a:xfrm flipV="1">
            <a:off x="5181480" y="4876560"/>
            <a:ext cx="1448640" cy="8006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ABC-259E-4842-BE67-C66B52A545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mote Procedure Cal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oundation of distribut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face Definition Language (IDL) - enables client/serv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with DCE security and naming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thentication of the calls: securit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ynamic server location: director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PC Servers use DCE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ocol and network in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838-1725-46BE-A43C-DD3000E91C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luk1</cp:lastModifiedBy>
  <cp:lastPrinted>1999-04-17T05:21:03Z</cp:lastPrinted>
  <dcterms:modified xsi:type="dcterms:W3CDTF">1999-11-04T19:13:19Z</dcterms:modified>
  <cp:revision>97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eca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x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