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02B-1C43-4D59-A425-D9E83A09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9FD-19BB-49EE-AD7D-73BA0EAC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2BE-95D0-4231-8559-C4522467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B54-B8FE-439D-9CB3-BCD4525A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BA2-BCE6-4117-BC7C-E69F9CCD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B5F-51C2-48CA-A92F-8656E9AB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A58-5010-49DF-B155-B032E982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AA7-25CA-493C-9A7E-8A44E0C0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D69-F0BB-4DFE-9F38-D7F7909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D78-A3E2-4C5F-A657-1D23C14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33E-20B4-430F-BA43-A315F60A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60020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267080"/>
            <a:ext cx="263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BE2-56A0-4080-80F5-072058D9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26708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600200"/>
            <a:ext cx="3990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267080"/>
            <a:ext cx="8178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9236-FB56-44F8-866D-8CB259CD26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nguage for Shared Pla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ukasz Be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ination - takes to another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what hides behind the 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general approac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acts - content of the 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- allowed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- tools used to deal with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 - means of transport to other pl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- policy that is defined in specific 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nents of the langu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the place itse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of gates to other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defines the purpose of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 e.g. backyard - just short identifi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 e.g. place intended for development of new ideas and exchange of used elepha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the place (‘place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sitory information - where the place artifacts are sto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 - defines users that have access to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s of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with assigned ro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ed/disallowed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ed/disallowe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rights (can store, can retrieve, can modify) with different rights for different types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artifacts - always present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tools - tools assigned to specific types of artifacts in this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s to other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entication - required or not required, can have link to the artifact with allowed users with assigned pass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 - identifies the author of the place and detects mod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oli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for various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 as artifact - control tools operate on the place as artif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- identifies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provides additional information about visi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key - for encrypted messages and artifact signatures generated by the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as artifact ?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- identifies artif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 - what is in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E type of the artifact - used to assign tool, show ico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 - where create, can be used to tr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- cre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 - type of tool used to cre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E typ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 (places, roles, users, grou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 of creator or modif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line xml - text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to storage - binary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tool: url to the tool with too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out RD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igsaw for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E type - used to associate artifacts with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ths (places, roles, users, grou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dem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es one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ndles collections of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of the tool (usually lin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rk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must have standalone mode to enable access to personal 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might have several versions depending on required policy- one tool for specific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as artifacts for other tools (meta-tools) such as control too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05:03:26Z</dcterms:created>
  <dc:creator>luk1</dc:creator>
  <dc:description/>
  <dc:language>en-US</dc:language>
  <cp:lastModifiedBy>luk1</cp:lastModifiedBy>
  <dcterms:modified xsi:type="dcterms:W3CDTF">2000-01-14T05:50:00Z</dcterms:modified>
  <cp:revision>3</cp:revision>
  <dc:subject/>
  <dc:title>Language for Shared Places</dc:title>
</cp:coreProperties>
</file>