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840" y="4194000"/>
            <a:ext cx="8178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419400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47600" y="419400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633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22360" y="1447560"/>
            <a:ext cx="2633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87880" y="1447560"/>
            <a:ext cx="2633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840" y="4194000"/>
            <a:ext cx="2633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22360" y="4194000"/>
            <a:ext cx="2633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87880" y="4194000"/>
            <a:ext cx="2633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3A3D-3ABA-41CA-80ED-BB0879B6B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0D7B-DCF0-4D47-AC93-669C6FAF2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7891-5D43-460E-9AEA-AA1F8F156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CB2E-7A46-45F1-BE53-B271110F9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7C88-44F2-40BD-A5B9-0A218DD35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61F0-5862-4192-9B89-ADB18A294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19400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3213-5678-4BC8-8922-569FF68B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47600" y="419400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2CC4-EE22-4966-9A26-421C2C60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194000"/>
            <a:ext cx="8178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6B1F-34C5-48DB-9C8D-83825615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194000"/>
            <a:ext cx="8178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8FC7-7348-4AE7-9C86-DD2F40348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19400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47600" y="419400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32EF-BF90-4E9A-AEB1-9C1A9EA88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633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22360" y="1447560"/>
            <a:ext cx="2633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87880" y="1447560"/>
            <a:ext cx="2633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194000"/>
            <a:ext cx="2633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22360" y="4194000"/>
            <a:ext cx="2633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87880" y="4194000"/>
            <a:ext cx="2633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1CF6-1563-446E-BD4A-129DAE670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6840" y="419400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47600" y="419400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94000"/>
            <a:ext cx="8178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paint" descr=""/>
          <p:cNvPicPr/>
          <p:nvPr/>
        </p:nvPicPr>
        <p:blipFill>
          <a:blip r:embed="rId2"/>
          <a:stretch/>
        </p:blipFill>
        <p:spPr>
          <a:xfrm>
            <a:off x="457200" y="106668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ftr" idx="2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sldNum" idx="3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2C7BF-5033-425A-93DB-06A12ABBCA7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aint" descr=""/>
          <p:cNvPicPr/>
          <p:nvPr/>
        </p:nvPicPr>
        <p:blipFill>
          <a:blip r:embed="rId2"/>
          <a:stretch/>
        </p:blipFill>
        <p:spPr>
          <a:xfrm>
            <a:off x="60948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34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300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hared Places Paper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Lukasz Beca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HTML - propose SPDL as HTML exten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ansas - world described by specific langu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Ds - ancestor of shared places, MUD langu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RTRE - place oriented environ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mmary of last year WETICE - language for the we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y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nguage - (stress on X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ifa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s/visito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gration with Web archite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ing archite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ntent - cont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ed 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lus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knowledg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eren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1T01:44:18Z</dcterms:created>
  <dc:creator>luk1</dc:creator>
  <dc:description/>
  <dc:language>en-US</dc:language>
  <cp:lastModifiedBy>luk1</cp:lastModifiedBy>
  <dcterms:modified xsi:type="dcterms:W3CDTF">2000-03-01T02:39:07Z</dcterms:modified>
  <cp:revision>2</cp:revision>
  <dc:subject/>
  <dc:title>Shared Places Paper</dc:title>
</cp:coreProperties>
</file>