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A96-53DB-4FB6-9C3E-986C046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AEF-124E-44B2-8B32-60BFF7A0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C0C-7CA3-4D36-909C-04452E28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370-76D8-42DB-8C60-04A325FA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D88-4140-409A-AE8E-5B8B0A9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632-749A-4CBB-9B7B-3E178DB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B22-DF36-41A7-A1D1-ACFC7F4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C3F-6FC3-4AAB-85D6-298E1F4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52D-B89D-4D99-9636-BCF18B1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B9A-5B73-482E-85B2-E71399A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423-9504-4DD2-B472-D5ECF89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AB3-41C8-4BD1-A32F-D2C52E4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ACA-6638-449B-90D2-845282AB7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O Interactive S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2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, Configuration, and Execution on Unix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Databas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anagement tool should be used for creating and modifying files with user information, to start User Management tool exec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ager.c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ript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adm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portnumber.tu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name format for files with user information 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s_12000.t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file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xe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rOS-Tango_start port_number [user_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IX-Tango_start 12000 user_12000.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runs as background process under the UID of the user who install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out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ill command to terminate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dministration scripts are plac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adm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cripts require installa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_as_ro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p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with root privil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f server running on the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_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_tis port_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and all its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logs are stor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log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GO Interactive server - multithreaded Java application running as a backgrou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requir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evelopment Kit at least version 1.1.6 (check that), see (URL) for instructions on Java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pecific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n unprivileged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tart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by a system administ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erver restart after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packages provided for Irix, Linux and Solari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Basic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stall directory, copy the compressed file to selecte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press and unpack the distribution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unzip Tango-server-2.0.1.1-unix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r -xvpf Tango-server-2.0.1.1-unix.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directo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ebWis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erver files i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ose steps the server is installed but it will not be automatically restarted after system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previous steps of the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as a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Wisdom/Tango-server-2.0.1.1-unix/etc/yo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and exec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cript doe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n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r and its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the entire server distribution to the server ho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s boot scripts for specific 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init.d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0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rc2.d/*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/etc/rc3.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Sol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config/Tango20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on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- Automatic Re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ystem reboot the TI server will be started on the default port number 1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_as_root_for_extra_instance port_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tall more instances of the TI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cense@webwisdo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obtain the server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receive a response with attached script file. Place the script in t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bWisdom/Tango-server-2.0.1.1-unix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ory and execute it. The script will install the licens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04:34:07Z</dcterms:created>
  <dc:creator>luk1</dc:creator>
  <dc:description/>
  <dc:language>en-US</dc:language>
  <cp:lastModifiedBy>luk1</cp:lastModifiedBy>
  <dcterms:modified xsi:type="dcterms:W3CDTF">1999-12-15T06:23:33Z</dcterms:modified>
  <cp:revision>2</cp:revision>
  <dc:subject/>
  <dc:title>TANGO Interactive Sever Version 2.0</dc:title>
</cp:coreProperties>
</file>