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9E1-D084-4D6D-88CB-3BC70419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BCF8-0C7A-4D6C-9F25-CCF6E26E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343D-DA2D-4D8C-997A-29308F0D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B7C2-3BE5-44B4-A6C3-4E386C48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D58-E2F0-4A02-A562-09A05FEA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ECB6-A094-4489-B84D-4B1E6DAE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D1FE-8987-454F-9DF4-27FB72AF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0837-EFF0-4CE6-A7CF-8275E312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6B6-6D28-4A81-A528-26404312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F5C9-4AC4-4804-908B-9C678ECD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B88A-D9BF-4250-ADB2-21C770DD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AE7D-B99D-49AE-BBC4-A11C212A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aint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E3DA-7448-473D-A1BC-4C7A9CC875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aint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4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00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totype of Shared Plac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ukasz Bec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lan of work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description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ifa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interpreter that will turn description into HTML code and property ob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g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 interfaces for tools, artifacts, users and gat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simplified spdl for prototype doc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tifac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rtifacts&gt; gathers information about all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rtifact_def name=“”&gt; - artifact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scription&gt; - artifact descri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rtifact_type&gt; - type of the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vers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uthor&gt; - author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reation_plac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reation_us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ccess&gt; - type of access ( read, write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rtifact_signature&gt; - digital signature by auth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content&gt; - content if inclu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location&gt; - location of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rtifact_tool&gt; - type of tool used for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SPD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_def name=“”&gt; - contains definition of one t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_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yp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rtifact_typ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vers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_acces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_granularit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_cod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ool_item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tool_polic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tool_loca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_parameter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ool_paramet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name&gt;, &lt;value&gt; pai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ool id=“tool_name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eigh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widt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a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gates&gt; - container for gates defin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gate_def name=“”&gt; - description of single gate, name identifies g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gate name=“”&gt; - reference to the gate in html docu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stination&gt; - url of spdl document that defines the 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scription&gt; - description of the place (can be retrieved from place descrip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required_artifacts&gt; - required artifacts to use the g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implementation&gt; - archive with gate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hared Plac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scription&gt; - description of the 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ype&gt; type of the 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repositor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server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03:36:30Z</dcterms:created>
  <dc:creator>luk1</dc:creator>
  <dc:description/>
  <dc:language>en-US</dc:language>
  <cp:lastModifiedBy>luk1</cp:lastModifiedBy>
  <dcterms:modified xsi:type="dcterms:W3CDTF">2000-03-05T04:41:24Z</dcterms:modified>
  <cp:revision>10</cp:revision>
  <dc:subject/>
  <dc:title>Prototype of Shared Places</dc:title>
</cp:coreProperties>
</file>