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88188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2D1-503E-4CD7-B5B8-7DD35913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C0E-B768-4826-996A-C318B3A0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F47-93BB-4CFD-A519-6F21D202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D22-6F49-497E-AF34-4E304284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862A-A380-429C-81EE-D2D3A04B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E860-4F05-46FC-9CF0-81B07134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16FC-E9B4-4C72-B7C0-78521390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1075-E0A8-4BCE-88C3-41EB31BD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F151-CD73-4409-8695-39F16392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0B8F-5CF5-4046-96FE-DA24B69C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E540-5B2F-41CA-BF28-61BF032B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72D-BDB5-4AAB-83F1-D8FE37C3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2562-F6AA-488A-95F1-6C04FB4C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E543-6FD7-433D-9D20-D4239108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DE96-81F7-4CB9-A2D6-EF83D88B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57ED-A930-4872-92FE-E0068F3D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D415-FAC0-45EC-A811-F8B0CE37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7D16-AC24-47F1-9ECA-EF495DF6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3376-746D-4A98-A323-93FF97A2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73C-AAA2-42A0-AF2D-03CD61B7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510-BE02-4D3F-9F4C-A96C9055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008F-88E0-422B-B9AD-673F4F1E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FA6-54CF-4E76-AD43-80DD41CA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6C1-BC94-4E1E-994B-123288B3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289C-4923-4D1A-9E6F-05D9B8F746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3328-E024-4D24-BC36-FEC6D247F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057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en Software Foundation Distributed Computing Environment (OSF DCE)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ukasz Be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eca@npac.syr.e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-287 C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, 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Thread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rovement in program performa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tform-independent API based on POSIX 1003.4a standard (includes real-time priority schedul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able RPC-based servers to handle multiple clients simultaneously, but also useful in other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multiprocessor environments using shared memo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maphore service for thread synchron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166-8147-4EC7-B686-BAC04684C3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Security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ource protec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version based on Kereberos 5.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authentication and author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entication: validates that a principal (user or program) is who or what it claims to be - login fac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orization: check whether the authenticated principal has permission to access a resource - Access Control Lis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parent access to the security services by the u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Security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D69-D215-44F6-AAF0-516EAEE113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Directory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ch resource in a cell such as a person, file, service provided by RPC server, etc. has a unique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ory service returns the network address of the resource with a given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 Directory Service: controls naming environment inside a cel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Directory Service: for name lookups across cells,  X.500 and DNS name formats can be us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Security Service protects directory inform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is provided by Cell Directory Server and Global Directory Ag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A85-0397-40FC-8CD4-C2FF9BFE8D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CE Time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5960" indent="-3459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chronizes the clocks of all computers in the distributed system (ce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s Coordinated Universal Time (UTC)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y applications rely on timestamps to coordinate interdependent events e.g. determination of the most recent version of the file which exists on multiple h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the Global Servers and Cou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Servers - can be connected to the external time provider (e.g. NIST) using Time Provider Interface (TP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d by the DCE security and file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233-60A5-499B-B058-2F6504BCEF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CE Distributed File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wide access to files - single view of all the fi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s a superset of the POSIX 1003.1 file system stand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existence with a host’s native file syste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files (filesets) as a basic unit of ope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le location location track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atic back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ion with DFS Distributed Secur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ching used to speed oper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the file servers, fileset location servers, and backup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A72-2A71-4B4A-AC38-A445E720D8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urrent Statu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057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implementations are available for all important Unix systems, Windows NT, and other major systems including 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release 1.2.2 available since Dec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teways available to the UNIX Network File System and Novell Ne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with Web technolog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usually cannot be bought as a separate product but it is a part of many software system: transaction processing monitors (Encina), CORBA implementations (HP), middleware systems (Sybase and Oracle) and directory and security servers (IB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EA2-29E7-4BDE-9B11-2C54C218DB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 poi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gration of distributed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 for organization stru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a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rtability and interope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 influence on distributed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al of widespread deployment never achie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gnificant 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support for object-oriented distributed 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eting technologies: Network File System, Network Time Protocol, CORBA,  new versions of thread APIs, SUN RPC, LD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support for message queueing and transaction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D5D-E312-4E36-94B7-C2B1497A3B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ferenc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ok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derstanding DCE” by Ward Rosenberry, David Kenney &amp; Gerry Fis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 Applications Frameworks” by Eric Greenbe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on Open Group Web 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opengroup.org/tech/dce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wsgroup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.soft-sys.d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equently Asked Ques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usenet.umr.edu/faqs/dce/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6A8-0F42-46D8-B16C-EE4B8CAE7D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CE Cel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CE Compon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rrent Statu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098-119E-4642-A6F3-8C689CAFEB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used computing po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orage limit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mand for increased avail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aborative 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data and program lo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geneous 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significance of distributed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cessity of event synchronization in distributed appli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ion of distributed resour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145-49E8-4C70-B628-C0ED6165CA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- Introduc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 Software Foundation (OSF) - organization formed in 1988 (goals: research, development, and implementation of vendor-neutral technology and industry standards), became part of the Open Gro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proposed by Digital Equipment Corporation, IBM, Apollo, Transarc and the Locus Computing Corpo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OSF DCE is an industry-standard, vendor-neutral set of distributed computing technolog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is not an application in itself, but is used to build custom applications or to support purchased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2F66-40B4-47E7-B880-2DFC1FF669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as Middle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d service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le ser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rectory ser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curity manag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P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chine independent data represent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nationaliz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ultitask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ually implemented on top of the operating system, although operating system implementations exist (e.g. OSF1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297-4EF7-4797-BB7D-933D9C7419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Ce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 - basic unit of operation and administ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users, systems, and resources that have a common purpose and share common DCE servi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imum configuration: Cell Directory Service, the Security Service and the Time Servi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962520"/>
            <a:ext cx="8305920" cy="2514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114800"/>
            <a:ext cx="1828800" cy="76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114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419720"/>
            <a:ext cx="167652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5334120"/>
            <a:ext cx="1828800" cy="761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334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638680"/>
            <a:ext cx="167652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7150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48006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952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4191120"/>
            <a:ext cx="1828800" cy="1904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4191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4495680"/>
            <a:ext cx="1676520" cy="914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800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5105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urity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5562720"/>
            <a:ext cx="167652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5638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03" idx="3"/>
            <a:endCxn id="111" idx="1"/>
          </p:cNvCxnSpPr>
          <p:nvPr/>
        </p:nvCxnSpPr>
        <p:spPr>
          <a:xfrm>
            <a:off x="2895480" y="4495680"/>
            <a:ext cx="915120" cy="648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07" idx="3"/>
            <a:endCxn id="111" idx="1"/>
          </p:cNvCxnSpPr>
          <p:nvPr/>
        </p:nvCxnSpPr>
        <p:spPr>
          <a:xfrm flipV="1">
            <a:off x="2895480" y="5142960"/>
            <a:ext cx="915120" cy="5720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1" idx="3"/>
            <a:endCxn id="118" idx="1"/>
          </p:cNvCxnSpPr>
          <p:nvPr/>
        </p:nvCxnSpPr>
        <p:spPr>
          <a:xfrm>
            <a:off x="5486040" y="5143320"/>
            <a:ext cx="762840" cy="100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F67-4DCC-47E1-9CDB-5BB4E5E48F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4495680"/>
            <a:ext cx="830592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4952880"/>
            <a:ext cx="6705360" cy="1524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257800"/>
            <a:ext cx="5562360" cy="304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Procedure Call (RP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rea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Security Servic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Directory Service (CDS and GD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Time Service (DT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Distributed File Service (DF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55627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/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52578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58672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4495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70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4952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File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2578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52578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2578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52578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5867280"/>
            <a:ext cx="6095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172200"/>
            <a:ext cx="670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4952880"/>
            <a:ext cx="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334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59F-5036-4F58-BBA0-1687CFA2F5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2209680"/>
            <a:ext cx="830592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819520"/>
            <a:ext cx="1828800" cy="198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819520"/>
            <a:ext cx="1828800" cy="60948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Procedure Ca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3623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1 (clien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8954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23623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2 (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38862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co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43434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962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PC runtime librar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4419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oftw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1828800" cy="1981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895480"/>
            <a:ext cx="1828800" cy="60984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2971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35812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co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441972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0384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PC runtime librar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oftw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289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533412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4864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46" idx="2"/>
            <a:endCxn id="171" idx="1"/>
          </p:cNvCxnSpPr>
          <p:nvPr/>
        </p:nvCxnSpPr>
        <p:spPr>
          <a:xfrm flipH="1" rot="16200000">
            <a:off x="2305080" y="4476240"/>
            <a:ext cx="876960" cy="1524960"/>
          </a:xfrm>
          <a:prstGeom prst="bentConnector2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71" idx="3"/>
            <a:endCxn id="158" idx="2"/>
          </p:cNvCxnSpPr>
          <p:nvPr/>
        </p:nvCxnSpPr>
        <p:spPr>
          <a:xfrm flipV="1">
            <a:off x="5181480" y="4876560"/>
            <a:ext cx="1448640" cy="800640"/>
          </a:xfrm>
          <a:prstGeom prst="bentConnector2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208-5361-4573-A8B6-AD42AC4BD2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Procedure Ca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oundation of distributed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face Definition Language (IDL) - enables client/server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with DCE security and naming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hentication of the calls: security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ynamic server location: directory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PC Servers use DCE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ocol and network indepen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SF D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38E-7330-4524-AB38-D254F7220B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luk1</cp:lastModifiedBy>
  <cp:lastPrinted>1999-04-17T05:21:03Z</cp:lastPrinted>
  <dcterms:modified xsi:type="dcterms:W3CDTF">1999-11-04T21:00:54Z</dcterms:modified>
  <cp:revision>102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eca@npac.syr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WINNT\Profiles\beca\Personal\seminars\x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