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119-22A5-41A3-9E8B-F089AF7E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77C-E2FC-4E9C-A8C5-148324EE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849-186F-43A2-8C8E-43E27192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A7C0-3A6A-4A71-B66D-48DB743A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3263-2B79-413D-97CE-0242F776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4A50-1B40-42E3-B24E-71220E29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10D6-3922-4C2F-8A70-9A1EADEB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D742-BF36-4428-B8AC-6FB415E5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6933-912F-4215-A4C7-463D1906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BDCF-917F-4933-A06E-39DFE1E3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6749-516F-49F9-A077-FDBD07F7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D3A9-8929-4734-AD35-7EA1E3AB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3764-4909-4402-8C0A-928813A9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8908-6FB5-4849-8034-90339A69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B46B-768F-40AC-B0F3-62F39E0C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B09D-BC62-4AB9-AB99-2A7BFE36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634D-09E2-49A9-BCA7-3D0E1499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624-C035-4C8B-BEA0-1BFC15F3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3A17-CA43-4F96-B5EA-1AA220E3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A7C-273A-4F86-AAC7-26ABE130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4251-4B28-4474-85E9-ED631D32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54E8-C411-489B-90C7-87011BAE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2DD-8EF1-41C2-A9E8-9309EC4D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14C-0B41-40F4-83D7-4454CBD1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12/11/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D297-0F12-4440-BEA9-32F0BDE609D5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9C5B-26A5-446B-AB4C-8C4EDFC267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ideoconferencing Syste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m Stachowia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PS 64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yracuse Univers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ring 1998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ession control standard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ternational Telecommunication Union (ITU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TU Telecommunication Standardization Section (ITU-T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eries H Recommendations - line transmission of non-telephone signal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eries T Recommendations - terminal characteristic and higher level protocols for telematic equipmen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7531-3D9D-4460-B8F2-CB8EF9383E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ession control standard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TU-T H.323 - visual telephone systems and equipment for LAN  without guaranteed quality of servi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09680" y="3505320"/>
          <a:ext cx="5105520" cy="314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3505320"/>
                    <a:ext cx="510552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E1F-FFDC-407C-832B-30EB38F543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ssion control standards 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ITU-T H.323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trol protoco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.245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master/slave determination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capabilities exchang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logical channel signaling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.225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call contro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gatekeeper related function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6BE-C8F5-46FA-B795-A213FA5465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ssion control standards 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ITU-T H.323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Visual telephone system components definitions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terminal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creating two-way, real-time channel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communication contro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indication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udio and video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ata transportation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ED9-9788-4C9E-A3E8-CF0CA42244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ssion control standards 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ITU-T H.323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Gateway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conversion between data formats and control protocol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 bridge between LANs and switched circuit networks (e.g. ISDN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ransparent for endpoint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Gatekeeper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optiona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logically separate component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physically can be combined with terminal, gateway or MCU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0251-C240-489E-A408-8013477140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ssion control standards 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ITU-T H.323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2" marL="1028520" indent="-20556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Gatekeepers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440000" indent="-20556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unctionalit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51480" indent="-20556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ddress translation (alias - transport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51480" indent="-20556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dmission contro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51480" indent="-20556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bandwidth contro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51480" indent="-20556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zone management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51480" indent="-20556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call management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Multipoint Controllers (MC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440000" indent="-20556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creating and managing conferences between three or more endpoint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440000" indent="-20556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capabilities exchang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440000" indent="-20556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located in MCU, terminal, gateway or gatekeeper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832-D8BF-4791-A638-81AEE856FD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ssion control standards 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ITU-T H.323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2" marL="1051560" indent="-210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Multipoint Processors (MP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472040" indent="-21024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converting audio, video and data stream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472040" indent="-21024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rmat change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472040" indent="-21024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multiplexing/demultiplexing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472040" indent="-21024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usually located in MCU together with MC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Multipoint Control Units (MCU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472040" indent="-21024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multipoint conferences support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472040" indent="-21024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consists of MC and several MP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472040" indent="-21024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centralized, decentralized or hybrid multipoint capabilitie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472040" indent="-21024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dditional operations (e.g. rate matching, lip synchronization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4E5-AE1F-4C1E-B5E2-A24F4F5D71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ession control standard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TU-T T.120 - protocol integrating multiple data formats in multipoint confere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ries of recommendations defining multipoint data confere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ession establishmen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articipants identifications and capabilities exchang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ommunication channels managemen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3A9-DFEE-4B47-90DA-981BCDE35E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ITU-T T.120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66680" y="2209680"/>
          <a:ext cx="7239240" cy="3929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209680"/>
                    <a:ext cx="723924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206-2234-40EA-9C01-737824DBD4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ITU-T T.120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057400" y="1981080"/>
          <a:ext cx="5257800" cy="4070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981080"/>
                    <a:ext cx="525780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370F-929C-48FB-B7A5-201589FD18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ideoconferencing Systems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Outlin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ultimedia technolog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ompression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tandard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xisting products overview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ssues in design and implement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ystem objectiv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rchitectur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omponents descrip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http://trurl.npac.syr.edu/toms/Publications/Thesis/Thesis.htm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CDEE-85F0-4182-BBFE-701BD3F015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ITU-T T.120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.120 layered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ultipoint Communication Service (MC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ollects point-to-point connections to form multipoint channel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ree structur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ransparent resource provid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hannel types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92120" indent="-19872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tatic - preassigned definition, open 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392120" indent="-19872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ynamic - created on request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789920" indent="-19872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multicast - open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789920" indent="-19872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private - owner, joining by invitation onl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77E-2EBA-4481-B66A-B4A2DA418D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ITU-T T.120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ultipoint Communication Service (MCS)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ata typ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ordinary data - shortest route, different order possibl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uniform sequenced data - sent through a common point, received in the same order by all user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User applic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generic application templat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et of protocols for the most popular applications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BC7C-3084-4C44-915B-A06853F18B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ITU-T T.120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eneric Conference Control (GCC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et functions for managing conferenc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ombining independent MCS channels into one multipoint domai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entral point for identifying channels, applications and capabiliti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ode controll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user interface for conference management function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66D4-AEC6-4D56-BD8A-798D4E9BEA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ideoconferencing Product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Example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ideotelephone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TP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artial H.323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tel Internet Videophon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BM BambaPhon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DEB-F014-4A1A-9914-A2143B2CC9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ideoconferencing Product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Example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ideoconferencing System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U-SeeM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.323 suppor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flector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irectory servic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ne platform only (Windows 95/NT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Vic/Va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ultiplaform (beta on Windows 95/NT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variety of compression algorithm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odular (SD, Vic, Vat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68D6-9426-4DED-B30B-400571D0A6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ideoconferencing Products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ummary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sadvantage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ingle platfor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oint-to-point on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oprietary compress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ack of flexibil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F700-6D65-40A8-B183-D8E074BF92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ystem Objective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lexi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teropera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latform interoperabil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lementation interoperabil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xtensi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rchiving capa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484F-4C16-4FB6-99B5-BB1357F4BA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ystem Architectur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828800" y="2590920"/>
          <a:ext cx="5249880" cy="3421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90920"/>
                    <a:ext cx="5249880" cy="34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981080" y="19810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ecff"/>
                </a:solidFill>
                <a:latin typeface="Arial"/>
              </a:rPr>
              <a:t>Physical System Componen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AB38-F6CB-46D4-9F26-790D560F3E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ystem Architectur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19810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ecff"/>
                </a:solidFill>
                <a:latin typeface="Arial"/>
              </a:rPr>
              <a:t>Logical System Structur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295280" y="2438280"/>
          <a:ext cx="6553440" cy="3173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438280"/>
                    <a:ext cx="655344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814-7FDA-4222-AB3F-11B5223040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ystem Architectur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ltipoint Communication Layer (MCL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liable multipoint channe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unreliable multipoint channe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ssion Control Layer (SCL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lemented inside the Conference Engin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vents distribution and handling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ference information manage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DC3-6B75-4432-A2CB-C5BF07F82F6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Data Compression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duction of the amount of allocated spa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wo basic classes of compres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dundancy reduction - does not introduce distor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ntropy reduction - information loss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andard algorithms are not efficient for audiovisual signal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CDDE-3897-4EB4-BD8C-63E2DD8C63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ystem Architectur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TP Lay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ffective processing of media stream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oviding useful information for real-time purpos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ssion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unctions for conference creation and manage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vers the internal manager-engine protoco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D7B0-DEB0-4D81-8368-8C79F4F3FE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ystem Architectur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pplication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ovides useful mechanism for creating new conference applic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eveloper is concerned only about the data present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ortant element of system extensibil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E731-7CD5-447E-A73D-91C039B194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ystem Architectur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ssion Control Protocol (SCP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ference participants manage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ference applications manage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aintaining additional information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users directory interconnec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oken mechanism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0C95-272D-47A1-9C97-30C3D770EE8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Conference Applicatio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dio Too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ideo Too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iteboar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ext Ch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chanisms for porting arbitrary appl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7BA-82D1-4D8B-9262-5714E99A6AA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Audio Tool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pressio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SM (13 kbp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DPCM (32 kbp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CM (128 kbp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rchite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alf-duplex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reams buffering and multiplex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114800" y="1600200"/>
          <a:ext cx="4811760" cy="396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600200"/>
                    <a:ext cx="48117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53E-EA70-4A2F-AB9F-092F769B21A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Video Tool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pressio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.263 low bandwidth, CPU intens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.261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.261 intra - only INTRA fram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YUV9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rchitecture similar to Audio Too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rame rate contro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rmats conver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F1A-1751-436C-89E8-A09FF9801FF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Video Tool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dapting H.261/H.263 codec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reating librar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ingle frame procedur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verting I/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ultiple streams handling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erting INTRA frame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erformance improvement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logarithmic searc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AA4-21EC-4CC2-8F45-C1F7346EF7E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Directory Servic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ctive nodes monitor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-going sessions advertis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erence creation facilitat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tection and secur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ssion type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pe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assword protect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aster controll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DE3E-3943-4517-8082-724559D5F54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Archiving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synchronous storage m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ystem integratio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pplication API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ssion API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ngin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tabase integr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419720" y="2819520"/>
          <a:ext cx="4392360" cy="3276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2819520"/>
                    <a:ext cx="4392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A051-BBEF-42D3-BF41-CF5D766ED23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Other issue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Java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xtensibility featur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ultiplatform applic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oof of system flexibil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ssion secur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ose control mod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ata confidential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irectory secur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EA4-62A7-4E68-A86E-5BDE72DEE21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Audio Compress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daptive Differential Pulse Code Modulation (ADPCM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lower variance of difference between sampl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linear predic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locally stationary audio signal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daptive corrections to prediction coefficient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inimizing the Mean Square Error (MSE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DAAD-7EC9-4F1A-B5C3-2B658E2921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and Implementation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Web Integrat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ango as collaborative Java environment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uenaVista vs. Tang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difica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724280" y="3429000"/>
          <a:ext cx="3764160" cy="2687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3429000"/>
                    <a:ext cx="376416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7CD-5392-4A3C-89F1-7CEC87719D9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clusions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ystem Advantage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lti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ltiplatfor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xtensi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dular structur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ultilanguage support (API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1BA2-8B15-4E76-AF42-AC2F3DE44E2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clusions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System Advantage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lexi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veral operating mod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andwidth contro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eb integr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rchiving capabili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teropera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tandard compli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303-C498-4D2D-BB1F-920B88FFC72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clusions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Disadvantages and Future Work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ack of full standard compliance (H.323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one session per hos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raphical User Interface (GUI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B4D3-131C-4957-9A85-FBCE9D92EB2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Audio Compress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SM speech compres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ellular telephony standar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esigned specifically for the speech signal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based on Long-Predictive Coding (LPC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odeling of the human vocal tract with an adaptive filt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ransmitted data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lter coefficient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general characteristics of the signal(e.g. gain, lag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residual pulse excitation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535-CC35-4D89-BCB2-06C325DDD3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Video Compress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TU-T H.261 algorith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iscrete Cosine Transform (DCT) coding techniqu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uses two video compression method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patial redundancy removal (every frame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emporal redundancy removal (INTER frame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wo types of fram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INTRA - coded independentl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INTER - predicted coding based on the previous fram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87D4-2D88-4774-89BF-A974CB7671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H.261 Video Compress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495680" y="2414520"/>
          <a:ext cx="4114800" cy="3095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414520"/>
                    <a:ext cx="41148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Bitstream structur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otion vector searc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ull spiral search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logarithmic search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571500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ecff"/>
                </a:solidFill>
                <a:latin typeface="Arial"/>
              </a:rPr>
              <a:t>INTRA frame cod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3520" y="2514600"/>
          <a:ext cx="3649680" cy="1830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2514600"/>
                    <a:ext cx="364968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C4E9-629A-4364-A41B-1C770B3E8A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H.263 Video Compress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dified version of H.261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rovements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alf-pixel motion vector predic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odified Variable Length Coding (VLC) tabl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gotiable option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unrestricted motion vector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dvanced prediction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rithmetic coding instead of VLC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PB-frame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0155-520C-4819-960A-D52D71BD5C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chnology</a:t>
            </a:r>
            <a:br>
              <a:rPr sz="4400"/>
            </a:br>
            <a:r>
              <a:rPr b="0" i="1" lang="en-US" sz="3600" spc="-1" strike="noStrike">
                <a:solidFill>
                  <a:srgbClr val="ccffff"/>
                </a:solidFill>
                <a:latin typeface="Tahoma"/>
              </a:rPr>
              <a:t>Multimedia standard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ata transmission standar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al-Time Protocol (RTP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407960" indent="-20088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esigned for the audiovisual data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407960" indent="-20088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oes not guarantee quality of servic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407960" indent="-20088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unctionality: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payload type identification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quence numbering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imestamping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elivery monitoring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407960" indent="-20088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ugmented by RTCP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loosely coupled conference contro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10440" indent="-20088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ata transmission report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789A-09DE-4473-B221-BD80F1A38C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1T20:10:48Z</dcterms:created>
  <dc:creator>Tomasz Stachowiak</dc:creator>
  <dc:description/>
  <dc:language>en-US</dc:language>
  <cp:lastModifiedBy>Tomasz Stachowiak</cp:lastModifiedBy>
  <cp:lastPrinted>1997-12-12T23:22:22Z</cp:lastPrinted>
  <dcterms:modified xsi:type="dcterms:W3CDTF">1998-03-26T19:40:56Z</dcterms:modified>
  <cp:revision>15</cp:revision>
  <dc:subject/>
  <dc:title>Videoconferencing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8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trurl.npac.syr.edu/toms/</vt:lpwstr>
  </property>
  <property fmtid="{D5CDD505-2E9C-101B-9397-08002B2CF9AE}" pid="9" name="LinkColor">
    <vt:r8>16711782</vt:r8>
  </property>
  <property fmtid="{D5CDD505-2E9C-101B-9397-08002B2CF9AE}" pid="10" name="MailAddress">
    <vt:lpwstr>stach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WINDOWS\Personal</vt:lpwstr>
  </property>
  <property fmtid="{D5CDD505-2E9C-101B-9397-08002B2CF9AE}" pid="14" name="ScreenSize">
    <vt:r8>3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