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355-C8B1-45A3-99F4-148D200C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04F-F566-47E9-AF44-001EA94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51A-2CF1-41D5-B431-B86B441E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B13-7891-4E63-8E64-C2561147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9AF8-A2B6-497F-8132-42F4F6F0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0705-E31E-407F-B2DA-414C5DE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8E6-3250-40DC-B819-6CCB27A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4FE1-6A07-4E0D-A599-887DAA8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52A4-3AF7-4DB2-A062-FA2D71A6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6C6-A107-4365-9C2B-AE864ECD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22E-14CC-4F22-B908-7A51131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4A1-7F8D-4B65-AA85-7E1AE60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FDDB-594F-48D1-9CA4-D586E2A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E09-049D-4A42-B9D4-BDC2C28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BF82-B39B-4971-ADD5-8C5E3D1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5956-549A-4314-81B9-0753EC42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E518-045B-4AE6-BA6D-7361D737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FF0-5474-4776-8EE8-73BDF66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D43-695A-462B-82EF-F2EFB71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C7C-D707-4C08-AF3A-5BB0E03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13C-96CE-472C-BFE2-2FB9CAFA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307-A986-417C-84AC-28900C5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5A8-BC88-4F1D-9BF8-E37F2CC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7AC-61E7-48CB-8DE7-1E00E10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D071-F6B4-43EF-BEC1-ED48A5990D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16AE-5EDE-4674-AFCE-472AD4ABF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 640 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Network programming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m Stachowi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rin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 oper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nectionless sock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connection establish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 transfer of data packe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dto(s, buf, buflen, flags, destination address, addrl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cvfrom(s, buf, buflen, flags, source address, addrl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9CA-654E-47F1-AC0A-3A0F6E0931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 oper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/O multiple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s that allow to multiplex I/O requests among multiple socke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lect(nfds, &amp;readset, &amp;writeset, &amp;exceptset, &amp;timeout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D_ZERO(&amp;set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D_SET(&amp;set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D_ISSET(s, &amp;set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4D6-2C71-4464-86C6-C79A932BE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 640 projec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lementing simple audio-on-demand system for the Internet using RTP protocol for data transmi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tform: PC Windows 95/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nguage: C+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ket network programming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amework for the system provid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ing the framework with RTP specific fun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0A6-E5F6-4BC3-AC26-9A6109039B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 640 projec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ct task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RTP layer for the provided framework (no RTCP requir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RTP information implement network transmission analysis modu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procedures handling lost or misplaced packets using RTP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ABC-DDD9-4527-A5F9-7DFB81E3D5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PS 640 projec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505320"/>
            <a:ext cx="121896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657600"/>
            <a:ext cx="60948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3505320"/>
            <a:ext cx="144756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962520"/>
            <a:ext cx="1524240" cy="152280"/>
          </a:xfrm>
          <a:prstGeom prst="leftRightArrow">
            <a:avLst>
              <a:gd name="adj1" fmla="val 50000"/>
              <a:gd name="adj2" fmla="val 19926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733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8406"/>
                </a:moveTo>
                <a:lnTo>
                  <a:pt x="9769" y="8406"/>
                </a:lnTo>
                <a:lnTo>
                  <a:pt x="14190" y="3794"/>
                </a:lnTo>
                <a:lnTo>
                  <a:pt x="14190" y="17806"/>
                </a:lnTo>
                <a:lnTo>
                  <a:pt x="9769" y="13194"/>
                </a:lnTo>
                <a:lnTo>
                  <a:pt x="5338" y="13194"/>
                </a:lnTo>
                <a:close/>
              </a:path>
              <a:path fill="darken" w="24690" h="21600">
                <a:moveTo>
                  <a:pt x="15844" y="10800"/>
                </a:moveTo>
                <a:lnTo>
                  <a:pt x="19351" y="10800"/>
                </a:lnTo>
              </a:path>
              <a:path fill="darken" w="24690" h="21600">
                <a:moveTo>
                  <a:pt x="15844" y="8406"/>
                </a:moveTo>
                <a:lnTo>
                  <a:pt x="19351" y="5639"/>
                </a:lnTo>
              </a:path>
              <a:path fill="darken" w="24690" h="21600">
                <a:moveTo>
                  <a:pt x="15844" y="13194"/>
                </a:moveTo>
                <a:lnTo>
                  <a:pt x="19351" y="15961"/>
                </a:lnTo>
              </a:path>
            </a:pathLst>
          </a:cu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962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560" y="36576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0" y="41259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971800"/>
            <a:ext cx="0" cy="2362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971800"/>
            <a:ext cx="0" cy="2362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71800"/>
            <a:ext cx="0" cy="2362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971800"/>
            <a:ext cx="0" cy="2362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34840" y="4583160"/>
            <a:ext cx="92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1280" y="4572000"/>
            <a:ext cx="92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7242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DP/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7640" y="472428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DP/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1080" y="47354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2400" y="4724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1CD-C3E8-4261-BB50-25F2386DA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net protoco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cket programming in C/C++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PS 640 projec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22E-2DE2-4375-B0A5-CD60824B53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nternet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SD model of network layer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590920"/>
            <a:ext cx="3810240" cy="3352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510552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27672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73392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19112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64832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486400"/>
            <a:ext cx="3810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600" y="5562720"/>
            <a:ext cx="15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work hard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94640" y="5105520"/>
            <a:ext cx="23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work driver and contro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4724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6240" y="42670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7320" y="42670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8098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0280" y="335268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work library rout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87320" y="2666880"/>
            <a:ext cx="153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lnet, ftp, rlogin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cp, sendm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6520" y="2819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who, talk, t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59092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1FC-3E88-46D2-BC37-D188632CA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nternet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1920960"/>
          <a:ext cx="7162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20960"/>
                    <a:ext cx="7162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F74-ACFC-49C1-AF35-4D14E7D96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s Basic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ket typ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am sock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tagram sock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w sock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domai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IX domai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et domai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w domai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FF9-BE9F-45A3-8BFB-49F2B8B48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s Basic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cket typ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eam socke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direc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quenc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duplica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record boundari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gram socke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direc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3A2-2F71-42DC-8191-4122F9F5D1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 oper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eating sock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 = socket(domain, type, protoco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nding sock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kets are created without a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kets are bound by associ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&lt;protocol, local address, local port, remote address, remote port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specifies associ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&lt;local address, local port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ind(s, address, addr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F40-F252-4334-BA9B-2B5B9C0D6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 oper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ablishing conne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ymmetrical (client/server) stru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 si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nect(s, server address, addrlen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 si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ady to process incoming reques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isten(s, 5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epting conne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sock = accept(s, from address, addrle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8C9-EF89-4D2F-9B56-62F62BC18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ocket oper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ferring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rite(s, buf, sizeof(buf)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ad(s, buf, sizeof(buf)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arding sock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lose(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864-8877-4E1C-AA3A-E297D644D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0:18:09Z</dcterms:created>
  <dc:creator>Tomasz Stachowiak</dc:creator>
  <dc:description/>
  <dc:language>en-US</dc:language>
  <cp:lastModifiedBy>Tomasz Stachowiak</cp:lastModifiedBy>
  <cp:lastPrinted>1997-12-15T18:34:39Z</cp:lastPrinted>
  <dcterms:modified xsi:type="dcterms:W3CDTF">1998-03-24T13:24:48Z</dcterms:modified>
  <cp:revision>8</cp:revision>
  <dc:subject/>
  <dc:title>CPS 640  Network programm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grzes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InetPub\wwwroot\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