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CF6-595C-43C6-A22E-3A63DD4F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2D3-9991-4EDF-8688-F1D5B285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C63-9932-40F2-89F1-20F08B09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5CB-1BE8-4C99-B3B9-274229DF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4AB1-7342-45FB-9C09-297C7C53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C608-7678-4A84-AC7C-1F82F102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FAB3-1410-49AD-8671-D1379EE2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F594-AE5A-4CF5-A183-BF1B67FF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94E7-C3C5-4369-8640-10F908F1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880E-D4DD-4BCB-8B11-AAB82622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F243-ACB5-40DB-8469-BBADF4DC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23A-1BC0-4915-97F4-87E60DC8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625B-AE68-4F56-B9C6-9393DBBF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BC5F-2C1F-4469-A944-F5D4B76B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90C9-D410-4501-A724-31598A61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A762-9241-4780-A8F4-E13E3064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5048-2964-42D4-8289-596EFCBC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434-CDCB-4D8D-8BCD-45D414B4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47E-73DA-4535-BE04-466E5E01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19ED-1C33-48B1-8108-F4DB14BD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045-3829-46BD-A0F1-2734917D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149-D96A-47A1-994B-FDD6FE1C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87C3-A299-492E-A0A0-528B62CF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70E-E938-4702-BC8D-A37F7C39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12/11/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E39B-4072-476D-9D7A-677D8F3C15FF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8A79-CA29-4C80-8903-3C00322CF6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ideoconferencing Syst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ster’s Thesi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masz Stachowia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Multimedia standar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ata transmission standar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al-Time Protocol (RTP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407960" indent="-20088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esigned for the audiovisual data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407960" indent="-20088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oes not guarantee quality of servic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407960" indent="-20088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unctionality: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ayload type identificati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quence numbering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imestamping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elivery monitoring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407960" indent="-20088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ugmented by RTCP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loosely coupled conference contro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ata transmission report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0D6-C893-4250-B8C3-A780EBA90C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Multimedia standar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ssion control standards 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TU-T H.323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407960" indent="-20088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efines visual telephone system components: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erminal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gateway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gatekeeper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multipoint controller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multipoint processor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multipoint control unit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407960" indent="-20088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pecifies control protocols: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.245 - control function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.225 - channels definition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39A-87E7-4695-B094-D06F14F61B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Multimedia standar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ssion control standards I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TU-T T.120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407960" indent="-20088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ries of recommendations defining multipoint data conferenc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ssion establishmen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articipants identifications and capabilities exchang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ommunication channels managemen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407960" indent="-20088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layered structur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multipoint communication service (MC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generic conference control (GCC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generic application templat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node controller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3BE-400D-460D-995B-493E7025B8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ideoconferencing Products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sadvantage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ingle platfor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oint-to-point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prietary compress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ack of flexibi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D30-85C4-4528-8DDF-8AC7D7A306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Objectiv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lexi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teropera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latform interoperabi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ation interoperabi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tensi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rchiving capa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DDB-74BD-42FB-8872-BEC10DFF80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Architectu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28800" y="2590920"/>
          <a:ext cx="5249880" cy="342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90920"/>
                    <a:ext cx="5249880" cy="34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981080" y="19810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ecff"/>
                </a:solidFill>
                <a:latin typeface="Arial"/>
              </a:rPr>
              <a:t>Physical System Componen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D8E-1793-4BA3-998D-A59C43467A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Architectu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19810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ecff"/>
                </a:solidFill>
                <a:latin typeface="Arial"/>
              </a:rPr>
              <a:t>Logical System Structu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95280" y="2438280"/>
          <a:ext cx="6553440" cy="317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438280"/>
                    <a:ext cx="655344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324-A5FF-4529-B9FB-AE435A7F12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Architectu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ltipoint Communication Layer (MCL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liable multipoint channe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unreliable multipoint channe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ssion Control Layer (SCL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ed inside the Conference Engi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vents distribution and handli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ference information manage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52A-9528-44F8-A8E0-E963295DC9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Architectu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TP Lay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ffective processing of media stream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viding useful information for real-time purpos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ssion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unctions for conference creation and manage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s the internal manager-engine protoco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4A0-ADED-46AD-B25D-F11255DD1B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Architectu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pplication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vides useful mechanism for creating new conference applic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eveloper is concerned only about the data present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ortant element of system extensibi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1A5D-8CC4-4BA6-AF46-58D9824160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ideoconferencing System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Presentation Outlin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ltimedia technolog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mpression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tandard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xisting products overview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esign and implement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ystem objectiv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rchitectur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mponents descrip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91C-3BDA-4E0C-AE8F-CE9F3F4533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Architectu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ssion Control Protocol (SCP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ference participants manage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ference applications manage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intaining additional information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users directory interconnec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oken mechanism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CBC-79AF-40EF-9611-83A76EEDB4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Conference Applicatio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dio Too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ideo Too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iteboar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ext Ch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chanisms for porting arbitrary appl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351-DDE1-4300-88FF-2F7E75F6EF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Audio Tool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pressio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SM (13 kbp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PCM (32 kbp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CM (128 kbp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rchite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alf-duplex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reams buffering and multiplex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114800" y="1600200"/>
          <a:ext cx="4811760" cy="396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600200"/>
                    <a:ext cx="48117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802-2C75-4A9C-9A2D-42B0A836A9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Video Tool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pressio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.263 low bandwidth, CPU intens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.261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.261 intra - only INTRA fram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UV9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rchitecture similar to Audio Too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rame rate contro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mats conver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9A4-A19A-4D4C-9F38-1C1A87825A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Video Tool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apting H.261/H.263 codec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eating librar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ingle frame procedur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verting I/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ltiple streams handli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erting INTRA frame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erformance improvement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logarithmic searc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5A5-3886-4330-9156-137C854A66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Directory Servic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ctive nodes monitor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-going sessions advertis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erence creation facilitat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tection and secur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ssion type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pe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assword protect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ster controll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1CF-CAA8-472A-AB2A-66A572095B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Archiving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synchronous storage m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ystem integratio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pplication AP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ssion AP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ngi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tabase integr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19720" y="2819520"/>
          <a:ext cx="4392360" cy="327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2819520"/>
                    <a:ext cx="4392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E23-FF68-4D20-892D-07B3AEC4B5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Other issu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ava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xtensibility featu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ltiplatform applic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of of system flexibi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ssion secur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ose control mod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ata confidentia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irectory secur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DA4-AF9D-4448-8B80-FAC5BA4CF7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Web Integrat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ango as collaborative Java environment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uenaVista vs. Tang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difica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724280" y="3429000"/>
          <a:ext cx="3764160" cy="2687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3429000"/>
                    <a:ext cx="376416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473-24CB-46F4-A72E-6DDE686679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clusions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Advantag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lti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ltiplatfor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tensi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dular structu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ltilanguage support (API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93A-E66A-45E9-A1B1-C80ECD3DA8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Data Compression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duction of the amount of allocated spa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wo basic classes of compres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dundancy reduction - does not introduce distor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ntropy reduction - information loss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andard algorithms are not efficient for audiovisual signal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0E1-C8C0-475B-929A-36E36B9439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clusions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Advantag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lexi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veral operating mod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andwidth contro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eb integr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rchiving capabili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teropera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andard compli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1D0-43A3-4368-A721-4D37ED396F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clusions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Disadvantages and Future Work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ack of full standard compliance (H.323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one session per hos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raphical User Interface (GUI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83F-6EB8-490A-AB0D-74E9BCE5C5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Audio Compress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aptive Differential Pulse Code Modulation (ADPCM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lower variance of difference between sampl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linear predic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locally stationary audio signal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daptive corrections to prediction coefficien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inimizing the Mean Square Error (MS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72B-EE84-4ECF-81E4-1E80182445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Audio Compress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SM speech compres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ellular telephony standar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esigned specifically for the speech signal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ased on Long-Predictive Coding (LPC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odeling of the human vocal tract with an adaptive filt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ransmitted data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lter coefficient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general characteristics of the signal(e.g. gain, lag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esidual pulse excitati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222-D9FB-46CE-8A36-1DA23326C8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GSM Audio Compress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47920" y="2133720"/>
          <a:ext cx="6249960" cy="412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133720"/>
                    <a:ext cx="6249960" cy="41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C4E-A5CA-4D05-BB0E-4E45A63C8F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Video Compress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TU-T H.261 algorith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iscrete Cosine Transform (DCT) coding techniqu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uses two video compression method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patial redundancy removal (every frame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emporal redundancy removal (INTER frame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wo types of fram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INTRA - coded independentl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INTER - predicted coding based on the previous fram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7F8-0FEF-4EAC-B2FB-2770F323D2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H.261 Video Compress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495680" y="2414520"/>
          <a:ext cx="4114800" cy="309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414520"/>
                    <a:ext cx="4114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itstream structur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otion vector searc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ull spiral search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logarithmic search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57150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ecff"/>
                </a:solidFill>
                <a:latin typeface="Arial"/>
              </a:rPr>
              <a:t>INTRA frame cod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2514600"/>
          <a:ext cx="3649680" cy="1830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514600"/>
                    <a:ext cx="36496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965-A95A-44D8-806E-48A69D84F3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H.263 Video Compress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dified version of H.261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rovements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lf-pixel motion vector predic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odified Variable Length Coding (VLC) tabl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gotiable option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unrestricted motion vector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dvanced predicti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rithmetic coding instead of VLC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B-frame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DF0-B349-4F60-9CD6-3FB863E869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1T20:10:48Z</dcterms:created>
  <dc:creator>Tomasz Stachowiak</dc:creator>
  <dc:description/>
  <dc:language>en-US</dc:language>
  <cp:lastModifiedBy>Tomasz Stachowiak</cp:lastModifiedBy>
  <cp:lastPrinted>1997-12-12T23:22:22Z</cp:lastPrinted>
  <dcterms:modified xsi:type="dcterms:W3CDTF">1997-12-12T23:34:57Z</dcterms:modified>
  <cp:revision>11</cp:revision>
  <dc:subject/>
  <dc:title>Videoconferencing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8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trurl.npac.syr.edu/toms/</vt:lpwstr>
  </property>
  <property fmtid="{D5CDD505-2E9C-101B-9397-08002B2CF9AE}" pid="9" name="LinkColor">
    <vt:r8>16711782</vt:r8>
  </property>
  <property fmtid="{D5CDD505-2E9C-101B-9397-08002B2CF9AE}" pid="10" name="MailAddress">
    <vt:lpwstr>stach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WINDOWS\Personal</vt:lpwstr>
  </property>
  <property fmtid="{D5CDD505-2E9C-101B-9397-08002B2CF9AE}" pid="14" name="ScreenSize">
    <vt:r8>3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