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095880"/>
            <a:ext cx="7772400" cy="7632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enaVista</a:t>
            </a: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NPAC Conferencing System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reliable control protocol(based on 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protocol options for conferenc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full implementation on PC and S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archiving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new Video Tool features: YUV9 codec, statistics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Java API for conferenc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Java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full Tango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enaVista</a:t>
            </a: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ango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800600"/>
            <a:ext cx="15238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95280" y="3429000"/>
            <a:ext cx="914400" cy="3808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pp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81080" y="2819520"/>
            <a:ext cx="990720" cy="3808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pp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57600" y="3200400"/>
            <a:ext cx="1600200" cy="457200"/>
          </a:xfrm>
          <a:prstGeom prst="rect">
            <a:avLst/>
          </a:prstGeom>
          <a:solidFill>
            <a:srgbClr val="ff33cc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629400" y="3124080"/>
            <a:ext cx="129528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9880" y="2057400"/>
            <a:ext cx="1219320" cy="3808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971800" y="2971800"/>
            <a:ext cx="68580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209680" y="3124080"/>
            <a:ext cx="144792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3809880"/>
            <a:ext cx="2438640" cy="990720"/>
          </a:xfrm>
          <a:prstGeom prst="line">
            <a:avLst/>
          </a:prstGeom>
          <a:ln w="255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00400"/>
            <a:ext cx="1828800" cy="1600200"/>
          </a:xfrm>
          <a:prstGeom prst="line">
            <a:avLst/>
          </a:prstGeom>
          <a:ln w="255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429000"/>
            <a:ext cx="1371600" cy="0"/>
          </a:xfrm>
          <a:prstGeom prst="line">
            <a:avLst/>
          </a:prstGeom>
          <a:ln w="255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438280"/>
            <a:ext cx="0" cy="381240"/>
          </a:xfrm>
          <a:prstGeom prst="line">
            <a:avLst/>
          </a:prstGeom>
          <a:ln w="25560">
            <a:solidFill>
              <a:srgbClr val="66ff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5334120"/>
            <a:ext cx="152640" cy="533880"/>
          </a:xfrm>
          <a:custGeom>
            <a:avLst/>
            <a:gdLst/>
            <a:ahLst/>
            <a:rect l="0" t="0" r="r" b="b"/>
            <a:pathLst>
              <a:path fill="none" w="424" h="1483">
                <a:moveTo>
                  <a:pt x="0" y="0"/>
                </a:moveTo>
                <a:lnTo>
                  <a:pt x="0" y="847"/>
                </a:lnTo>
                <a:lnTo>
                  <a:pt x="424" y="636"/>
                </a:lnTo>
                <a:lnTo>
                  <a:pt x="424" y="1483"/>
                </a:lnTo>
              </a:path>
            </a:pathLst>
          </a:custGeom>
          <a:ln w="38160">
            <a:solidFill>
              <a:srgbClr val="ff00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94040" y="4861080"/>
            <a:ext cx="1387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657600" y="2819520"/>
            <a:ext cx="1600200" cy="399960"/>
          </a:xfrm>
          <a:prstGeom prst="rect">
            <a:avLst/>
          </a:prstGeom>
          <a:solidFill>
            <a:srgbClr val="ff33cc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365760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03480" y="47847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666880"/>
            <a:ext cx="2438280" cy="11430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24560" y="2438280"/>
            <a:ext cx="2705400" cy="503640"/>
          </a:xfrm>
          <a:custGeom>
            <a:avLst/>
            <a:gdLst/>
            <a:ahLst/>
            <a:rect l="0" t="0" r="r" b="b"/>
            <a:pathLst>
              <a:path fill="none" w="7515" h="1399">
                <a:moveTo>
                  <a:pt x="127" y="1272"/>
                </a:moveTo>
                <a:lnTo>
                  <a:pt x="0" y="1399"/>
                </a:lnTo>
                <a:lnTo>
                  <a:pt x="2674" y="0"/>
                </a:lnTo>
                <a:lnTo>
                  <a:pt x="7515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61280" y="2155680"/>
            <a:ext cx="1952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ferenc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828800"/>
            <a:ext cx="7848720" cy="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enaVista</a:t>
            </a: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uture work (possible dir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ing existing audio-video applications (new codecs and form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ing archiving capabilities and implementing database back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ing new conference applications (whiteboard, file sharing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rting system to Sun and/or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forming system to Java-Web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horized User</dc:creator>
  <dc:description/>
  <dc:language>en-US</dc:language>
  <cp:lastModifiedBy>Authorized User</cp:lastModifiedBy>
  <cp:revision>0</cp:revision>
  <dc:subject/>
  <dc:title>BuenaVista (NPAC Conferencing System 2.0)</dc:title>
</cp:coreProperties>
</file>