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E62-050D-4F2C-A5B5-73FB03E7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881-706B-486D-85EE-4DF15360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E50-810A-4D5E-90CC-EAD4F84C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6C2-0781-4433-9329-8B383EEF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399-0A99-4B49-926B-FC6317E6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1C2-587E-4067-9261-3B7174B1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FA9-99F6-42CF-B042-5105F3EF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8B0-CD87-4F71-BC3E-6277605B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0A0-C31C-49E2-83BA-F23879D7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D76-A894-4979-A236-F9A12BD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D5B-A7E4-40EC-B3A1-24731512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602-5A49-420C-A65A-745C496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C003-9EC6-4120-99E9-5EAC0D340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loring JSDA, CORBA and HL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   based MuTech's for </a:t>
            </a: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alable Televirtual (TVR) Environm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32767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. Dias[1], G. Fox[2], W. Furmanski[2], V. Mehra[1]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. Natarajan[2], H.T. Ozdemir[2], S. Pallickara[2], Z. Ozdemir[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1] IBM T.J. Watson Research Cen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2] Northeast Parallel Architectures Center(NPAC) at Syracuse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enter : Hasan Timucin Ozdemi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7AA-C4F3-483A-931C-A335F4EABF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alability and Fault-toler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otion of groups within a certain session allows us to define one objec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ach gro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place these objects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fferent machin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asi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Servic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, which is a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istributed directory  serv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llows for migration of sessions to a different participating host in the case that a session terminates unexpectedly on one of the hos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vents can b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or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ly by the Event Channel to ensure that events are not lost on system failur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A6F-93F3-4F87-B29A-EF7FE8C392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BA Event Serv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67080" y="1828440"/>
            <a:ext cx="4724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vent Service introduces the notion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 Chann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li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send events to an Event Channel,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sum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receive these even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channel can hav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umers and suppliers, and all events sent by a supplier are made available to all consumers of that chann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fig2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810240" cy="216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8D3-AC55-4BAF-B67C-2AA08CB0F6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llaboration based on Event Service - 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NPAC, we implemented recently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 Serv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omniORB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hich is a free C++ Object Request Broker  under development by Olivetti and Oracle Research Lab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wrote the standard Event Service with C++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mniThrea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d librar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tested this software with a Chat program using the Netscape 3.0 with OrbixWeb based ORBle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lso start exploring the issues, related to using CORBA Event Service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tributed Interactive Simul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DIS)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D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roadcasting and for HLA/RTI suppor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368-3402-4334-8346-39461CDC9D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llaboration based on Event Service - I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nt Service do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are about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rigina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the event but multi-user environments we need this inform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 Filte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necessary technique to adjust the frequency of events received from the supplier i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arge scale interactive simula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 Chann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hould make th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lte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 that the messages are being handled before they are on the net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0EF-AE98-4AF5-8BAB-E94557E140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llaboration based on Event Service - III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er-to-pe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munication can be done by providing  an Event Channel for eac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ctive 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the virtual environment so that interested parties can subscribe to these chann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also possible to split the Event Channel if it exceeds the certain capacity and connect two Event Channels to each 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A05-4256-41A6-A459-247877E8B3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ing Collaboratory Server Technologies based on DOT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Level Architecture (HLA) is a next generation framework for distributed simulation systems and promoted by DMSO (Defense  Modeling and Simulation Office) to replace the current DIS stand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LA's enabling middleware called Runtime Infrastructure (RTI) is based on Distributed Object Technologies(DOT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M_S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590-F0D6-4EF4-A408-E31D88FC0F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LA/RTI - 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MSO is promoting HLA/RTI within the OMG toward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ertical CORBA Fac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the Interactive Modeling and Simul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NPAC, we are working 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spcAft>
                <a:spcPts val="2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Object Web based implementation of IIOP and HTTP server call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WOR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Java Web Object Request Broke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spcAft>
                <a:spcPts val="24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bject Web based RTI layer to operate on top of JWORB that will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 based Simulation supp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HLA and a natural linkage to front-end technologies such as VRM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7C4-1C2A-4106-802A-7FA52ABED0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LA/RTI -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large  geographically distributed M&amp;S systems, middleware must be given by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sh of scalable collaboratory serv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unning o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terogeneous platfor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upporting specific simulation components written in various langu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Java/CORBA based RTI middleware such as JWORB with VRML front-end seems to offer an attractive pervasive architecture for such sys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7ED-08A2-4D99-8650-662658B4E8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munication loca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necessary element for buildin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calable multi-user virtual environ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n the Internet. This can be achieved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 filte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nt filtering is enabled in terms of JSDA channels, CORBA Event service and RTI routing spaces in these technologi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E81-6D22-4B2F-A577-49D20A7440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 (Continu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hese experiences and DMSO’s last attempt, we conclude that CORBA/DCOM based approaches brings the necessary features such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al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ult-tolera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lows us to define each entity in the virtual environment and to integrate with various communication technologies such as JSDA, CORBA/DCOM, or HLA/R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n these experiments, we are working on simple/thin layer for multi-user systems so that TVR environments can be defined with less effort and without proprietar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311-B1AF-46B2-8846-964BAFB5EB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leVR - Introduc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scripting support in VRML2--&gt;VRML97 set the stage for experimenting with multi-user distributed virtual environments on the Internet, hereafter  referred to as televirtual, or TeleVR, or shortly TVR enviro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ypical multi-user TVR environments on the internet contain a few VRML browsers(clients), downloading a common VRML world, opening Java node based connections to a collaboratory server which maps user's input such as mouse motions on the suitable movements of the corresponding avat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553-FF05-49EB-8687-B57E1AB4B3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L Addr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2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VR Project Page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//osprey7.npac.syr.edu:1998/iwt98/projects/tvr/intropage/tvr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WORB Project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//osprey7.npac.syr.edu:1998/iwt98/projects/worb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HLA Project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//osprey7.npac.syr.edu:1998/iwt98/projects/webhla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D90-0446-4C29-8221-2D93844E40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leVR -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developed a simple prototype TVR environment of this type at Syracuse University within a joint project with IBM T.J. Watson us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S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amework for building Java collaboratory servi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current TVR prototype has two versions of the VRML+Java front-end: one is based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ript Nod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the other is based o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ternal Authoring Interfa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AI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curren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or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taphor is given by a set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o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with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presented by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imple geometrical objec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such as colored cones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20D-838B-412C-8124-1CA3B3E4E7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tvrdemo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6244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54A-1B18-4929-82F2-E79410B790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leVR -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now adding more realism in terms of more human-like avatars with custom behaviors, conforming to the specifications of the Humanoid Working Group Propos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lso exploring add-on audio-conferencing capability using commodity API's like Microsoft NetMeetin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160-1654-42CA-9D93-9F27DE8184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Shared Data Architecture - 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Shared Data Architecture (JSDA) provide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Framework for Ja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the data lev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objec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har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ver specific instances of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hann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broadcast communication paths) between two or more Clients (objects which are the source or destination of data) in a collaboration enviro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JSDA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32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4B9-DFDD-4E8D-ACFE-E58EF8B8F7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va Shared Data Architecture -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DA is a useful framework for prototyping simple collaboratory applic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DA does not offer either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re protoc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a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igh-level AP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client-server communication and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ssag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typically passed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ring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ustom encoded/decoded by JSDA clients/serv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amily of T12x protocols (which in fact influenced the JSDA design and was adopted by Microsoft's NetMeeting) could be a natural candidate for a TVR protoc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704-A6CC-4D4E-8971-25BD3C09BA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BA Shared Objects - I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43400" y="2362320"/>
            <a:ext cx="4648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rototype version of this API using CORBA objects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hared da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CORBA servers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llaboratory serv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Netscape/Visigenic based ORBlet front-ends has been develop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fig3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A99-EEFC-4F66-94AC-16FAE78ABB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RBA Shared Objects -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ient initiates a bind to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tySchedu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ient gets a handle to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ordina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bject throug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tySchedu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the client get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ordinato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then it enters 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istributed Collabo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de, and can invoke operations specifi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ordina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tySchedu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API is also developed by us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M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an underlying technolog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shop on OO and VRML in VRML98 Conferenc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68B-4E39-4179-8152-5671E47A7A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3T17:52:35Z</dcterms:created>
  <dc:creator>Zeynep Odcikin</dc:creator>
  <dc:description/>
  <dc:language>en-US</dc:language>
  <cp:lastModifiedBy>Zeynep Odcikin</cp:lastModifiedBy>
  <cp:lastPrinted>1998-02-14T15:26:23Z</cp:lastPrinted>
  <dcterms:modified xsi:type="dcterms:W3CDTF">1998-02-14T16:51:48Z</dcterms:modified>
  <cp:revision>39</cp:revision>
  <dc:subject/>
  <dc:title>No Slide Title</dc:title>
</cp:coreProperties>
</file>