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C0B-8E50-451A-84A2-13C01EA7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40D-CD1C-40A5-AD07-AC6AC362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F87-096F-4B12-B6D5-8A90073C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299-AE74-4CB0-8E71-3FD5852B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7DE-2B81-4038-9B17-6DD859C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B23-628E-4154-B7DB-0649782E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F89-3FB3-45AE-AAF0-CCFAA09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0C0-FB8B-459F-AD19-432BA634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5D2-3A3C-48CD-B7DA-E2AF0DB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8F5-2088-4FF9-8CAF-D4444408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5B6-0AF0-43D5-ABC0-99E15911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280-250C-4665-BE59-51CFBDD8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FDE-EA0F-485B-8764-75B8C495B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loring JSDA, CORBA and HL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based MuTech's for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alable Televirtual (TVR) Environ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276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. Dias[1], G. Fox[2], W. Furmanski[2], V. Mehra[1]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. Natarajan[2], H.T. Ozdemir[2], S. Pallickara[2], Z. Ozdemir[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1] IBM T.J. Watson Research Cen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2] Northeast Parallel Architectures Center(NPAC) at Syracus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enter : Hasan Timucin Ozdem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808-0358-4A63-906E-188CC07A95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alability and Fault-toler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tion of groups within a certain session allows us to define one objec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ach gro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place these obj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fferent machin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asi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Servi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, which is a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istributed directory  serv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llows for migration of sessions to a different participating host in the case that a session terminates unexpectedly on one of the hos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vents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o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ly by the Event Channel to ensure that events are not lost on system failu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905-77C7-4762-A4A6-94EBFF6927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Event Ser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67080" y="182844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vent Service introduces the no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li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send events to an Event Channel,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sum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receive these even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hannel can ha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umers and suppliers, and all events sent by a supplier are made available to all consumers of that chann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fig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810240" cy="21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29B-C005-4653-8236-FD5B7470B9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llaboration based on Event Service - 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NPAC, we implemented recently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Serv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omniORB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ich is a free C++ Object Request Broker  under development by Olivetti and Oracle Research Lab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rote the standard Event Service with C++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mniThre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 libra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tested this software with a Chat program using the Netscape 3.0 with OrbixWeb based ORBl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lso start exploring the issues, related to using CORBA Event Servic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tributed Interactive Simul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DIS)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D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roadcasting and for HLA/RTI suppor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0CC-B275-4704-BC7B-01A8D6F7C2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llaboration based on Event Service - I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 Service do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re about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igina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event but multi-user environments we need this inform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necessary technique to adjust the frequency of events received from the supplier i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arge scale interactive simul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hould make th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 that the messages are being handled before they are on the net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83D-4635-4710-BE98-A8F32B752B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llaboration based on Event Service - II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er-to-pe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munication can be done by providing  an Event Channel for eac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ctive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virtual environment so that interested parties can subscribe to these chann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lso possible to split the Event Channel if it exceeds the certain capacity and connect two Event Channels to each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7F4-A42C-44E7-8834-43E04FC479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ing Collaboratory Server Technologies based on DOT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Level Architecture (HLA) is a next generation framework for distributed simulation systems and promoted by DMSO (Defense  Modeling and Simulation Office) to replace the current DIS stand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LA's enabling middleware called Runtime Infrastructure (RTI) is based on Distributed Object Technologies(DO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M_S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E11-6445-4FE2-B7F6-B5369FA6EA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LA/RTI -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MSO is promoting HLA/RTI within the OMG toward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ertical CORBA Fac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Interactive Modeling and Simul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NPAC, we are working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bject Web based implementation of IIOP and HTTP server call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WOR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Java Web Object Request Broke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bject Web based RTI layer to operate on top of JWORB that will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Simulation supp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HLA and a natural linkage to front-end technologies such as VR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8A5-D0BF-40BE-9376-3EE4C74134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LA/RTI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large  geographically distributed M&amp;S systems, middleware must be given by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sh of scalable collaboratory serv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ning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terogeneous platfor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upporting specific simulation components written in various langu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Java/CORBA based RTI middleware such as JWORB with VRML front-end seems to offer an attractive pervasive architecture for such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7DD-D327-4E02-8436-66B1E38F05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munication loc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necessary element for buildin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calable multi-user virtual environ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the Internet. This can be achieved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 filtering is enabled in terms of JSDA channels, CORBA Event service and RTI routing spaces in these technologi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AC8-2680-4678-A638-85248E91CE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 (Continu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se experiences and DMSO’s last attempt, we conclude that CORBA/DCOM based approaches brings the necessary features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al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ult-toler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s us to define each entity in the virtual environment and to integrate with various communication technologies such as JSDA, CORBA/DCOM, or HLA/R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these experiments, we are working on simple/thin layer for multi-user systems so that TVR environments can be defined with less effort and without proprietar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C20-8E05-41A4-80D8-B06EB0BCC8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eVR - Introduc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scripting support in VRML2--&gt;VRML97 set the stage for experimenting with multi-user distributed virtual environments on the Internet, hereafter  referred to as televirtual, or TeleVR, or shortly TVR enviro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ical multi-user TVR environments on the internet contain a few VRML browsers(clients), downloading a common VRML world, opening Java node based connections to a collaboratory server which maps user's input such as mouse motions on the suitable movements of the corresponding avat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4A5-6CE1-448A-915D-C6026E6F0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L Addr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VR Project Page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osprey7.npac.syr.edu:1998/iwt98/projects/tvr/intropage/tvr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WORB Project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osprey7.npac.syr.edu:1998/iwt98/projects/worb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HLA Project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osprey7.npac.syr.edu:1998/iwt98/projects/webhla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33A-3D9E-46B1-944E-DAB8DFCADF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eVR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developed a simple prototype TVR environment of this type at Syracuse University within a joint project with IBM T.J. Watson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S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amework for building Java collaboratory serv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current TVR prototype has two versions of the VRML+Java front-end: one is based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ript No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other is based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ternal Authoring Interf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A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curr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aphor is given by a set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with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ed by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imple geometrical obje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such as colored con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48E-49AA-42CC-9BAB-70C5E85D2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tvrdemo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A67-1172-47CA-B5F6-043936FB7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eVR -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now adding more realism in terms of more human-like avatars with custom behaviors, conforming to the specifications of the Humanoid Working Group Propos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lso exploring add-on audio-conferencing capability using commodity API's like Microsoft NetMeetin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EC6-82AA-46DB-9EC7-BB9441EDD2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Shared Data Architecture -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Shared Data Architecture (JSDA) provide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Framework for J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he data le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obje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ar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specific instances of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ann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broadcast communication paths) between two or more Clients (objects which are the source or destination of data) in a collaboration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JSDA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89E-A2E7-4EC0-8D9F-FDEF09DC14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Shared Data Architecture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DA is a useful framework for prototyping simple collaboratory applic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DA does not offer either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re protoc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a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gh-level AP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client-server communication and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ssag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ypically passed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ing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ustom encoded/decoded by JSDA clients/serv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amily of T12x protocols (which in fact influenced the JSDA design and was adopted by Microsoft's NetMeeting) could be a natural candidate for a TVR protoc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615-C539-46F1-B31A-DE39B09A51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Shared Objects - I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43400" y="2362320"/>
            <a:ext cx="4648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ototype version of this API using CORBA objects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hared 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CORBA servers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llaboratory serv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Netscape/Visigenic based ORBlet front-ends has been develop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fig3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A74-38A2-4EAB-B6DE-7249B0AC1C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Shared Objects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ient initiates a bind to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tySchedu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ient gets a handle to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 throug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tySchedu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the client get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t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then it enters 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istributed Collabo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e, and can invoke operations specifi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tySchedu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API is also developed by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M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an underlying technolog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3AB-4F7A-4093-95D2-C4B268C92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3T17:52:35Z</dcterms:created>
  <dc:creator>Zeynep Odcikin</dc:creator>
  <dc:description/>
  <dc:language>en-US</dc:language>
  <cp:lastModifiedBy>Zeynep Odcikin</cp:lastModifiedBy>
  <cp:lastPrinted>1998-02-14T15:26:23Z</cp:lastPrinted>
  <dcterms:modified xsi:type="dcterms:W3CDTF">1998-02-14T17:02:05Z</dcterms:modified>
  <cp:revision>39</cp:revision>
  <dc:subject/>
  <dc:title>No Slide Title</dc:title>
</cp:coreProperties>
</file>