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845-5E66-49A9-8780-0F424D2F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342-918F-4152-BC66-31268FFF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03B-EF59-433D-8F1D-959D8EF1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E7B-C6EB-47C9-B7B8-CFF2BD27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63B7-BDFA-4169-9511-AAEEF24B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3901-A17E-4A91-A662-57AE6383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CF8-EAC7-4447-A2C9-591EB45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0673-AF88-4C16-9560-2F4CF4BC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68B-A76F-49AB-9DA4-41C9AB4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22E8-150E-44B6-83C1-6913F7B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E630-6902-4C18-B74B-AF3B99A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C39-E790-41DE-A902-3E6358D2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C9DF-C6D2-4BBD-ADD5-0351456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3646-6309-4A39-9DC2-AC73243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A363-0404-4ABD-8729-6AB847EF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DB98-2BEB-4EEA-A317-3BF8F75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83B-0EEC-4860-8DAD-D5108309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4C7-43BB-48BC-84DF-1D4E2FC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CF9-B4C6-40F6-B2AA-F90B5F3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3D4-8322-48FB-85EA-316082C0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B07-C579-4B89-A246-11976D7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67F-279B-4728-B330-EE8F5B77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5A0-2600-4F1C-A672-CA591AA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C7F-C495-43ED-9335-BF09593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994-B7C0-42CA-B57B-1A7201963B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E1D-07D3-4901-9F62-FCE3492B019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in Data Parallel Langu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gathering data to one proces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assigngather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769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athering to 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, 50), B(50), C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ALIGN  C(I)  WITH  A(I, 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plic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ollapse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in emitted SPMD program, might be implemented with MPI_ALLGA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s with all-to-all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 A(50, 50), B(50, 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B(BLOCK, *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= 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 A(50), B(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A(BLOCK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!HPF$ DISTRIBUTE  B(CYCLIC)  ONTO 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= 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in emitted SPMD program, might be implemented with MPI_ALLTO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Stencil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s where element updated in terms of fixed “footprint” of neighboring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se in solution of PDEs, cellular automata, image processin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amous example: Jacobi relaxation for Lapl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2:N-1, J =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U(I, J) = 0.25 * (U(I, J-1) + U(I, J+1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                         U(I-1, J) + U(I+1, J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be recast in terms of array assign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(2:N-1, 2:N-1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0.25 * (U(2:N-1, 1:N-2) + U(2:N-1, 3: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amp;             + U(1:N-2, 2:N-1) + U(3:N, 2:N-1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version of Laplace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7080" y="1904760"/>
            <a:ext cx="781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temporaries T1, …, T4 aligned to section U(2:N-1, 2:N-1). 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1 = U(2:N-1, 1: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2 = U(2:N-1, 3: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3 = U(1:N-2,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4 = U(3:N, 2: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(2:N-1, 2:N-1) = 0.25 * (T1 + T2 + T3 + T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s to Ts ne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hift commun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s described earlier.  Final assignment is pure computation—no commun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s with array assignment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 in terms of volume of inter-processor communication, b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tic because it involves multiple memory-memory copies of whole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loop had good cache-localit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tial lo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l lo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into multiple array copies—multiple loops—causes memory cache to be loaded and flushed several ti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side: array syntax and cach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syntax” style of parallel programming evolved to support SIMD and vector 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transcription may lead to poor use of cache on modern micro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modern computers, memory access costs typical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ominate 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sts of arithmet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may have to work hard to fuse sequences of array assignments into loops with good locality…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ctoriz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tter approach: Translation using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:BLK_SIZE1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:BLK_SIZE2+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(BLK_SIZE1, BLK_SIZE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ghost area of U with values from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1 = 1, BLK_COUNT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L2 = 1, BLK_COUNT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(L1, L2) = 0.25 * (U(L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2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U(L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2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1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2) + U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1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2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y T to interior part of U (local copy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s needed to update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updateghost" descr=""/>
          <p:cNvPicPr/>
          <p:nvPr/>
        </p:nvPicPr>
        <p:blipFill>
          <a:blip r:embed="rId1"/>
          <a:stretch/>
        </p:blipFill>
        <p:spPr>
          <a:xfrm>
            <a:off x="1828800" y="2111400"/>
            <a:ext cx="5562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 patterns of communication needed to implement various constructs in High Performance Fortr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some libraries that have been developed to support these communication patter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Reductions and other transformational intri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 intrinsic procedures operating on whole arrays, often returning array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just “reshuffle” elements of arr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SHIFT, EOSHIFT, TRANSPOSE, SPREAD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imilar to array assign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ther important class reduces arrays to scalar or lower-rank arr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M, PRODUCT, MAXVAL, MINVAL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attern quite different.  Similar to MPI_REDU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llel pre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04096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ithmetic operation generalizing reduction.  Different optimal communication patte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 : N)  RES (I) = SUM(A (1 : 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-th element of result contains sum of elements of A up to 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F library function PREFIX_S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pattern like MPI_SC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General subscripting in array parallel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programs execute code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:50)  RES (I) = A (IND (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RES, A, IND all distributed arrays. Subscript not simple linear function of loop index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reduced to simple array assignment of type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expressed in single MPI collective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 phase of communication not en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ALL (I = 1:50)  RES (I) = A (IND (I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IND aligned with RES (if not, do array assignment to make it s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 of RES(I) also owns IND(I), so knows where source element l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wner of source element, A(IND(I)), generally do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now it must be m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unications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e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924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CYCLIC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RES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IND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RES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IND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 = (/ 5, 41, 7, . . . 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ALL (I = 1:50)  RES (I) = A (IND 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with indirect 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assignind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3822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processor can deal with assignment of value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5), A(41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(1), RES(2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c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7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signed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(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first processor, lives on third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processor know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(7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required; third processor, owner, does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two-way communication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izations of subscrip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inear subscript may be on LH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  RES (IND (I)) = A 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pted array multidimens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RES (I) = A (IND1 (I), IND2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pts linear but depend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)  RES (I) = A (I,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oo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ltidimens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50, J = 1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RES (I, J) = A (IND (I, J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cas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rce rank S, dest rank R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special cases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eneral gath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1          R 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RES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SRC(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, … ,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1         R                S    1         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eneral scat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= 1: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 1          S 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RES(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, … ,IND 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)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1         S                R    1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SRC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, …,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         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Accessing remote data from task-parallel code seg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34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DO loop of HP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-uses must have no loop-carried data dependence—can execute in parallel.  B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forces all variables used in given iteration to have same home—communication needed—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control flow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eration.  Cannot predict before execution what accesses actually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190600"/>
            <a:ext cx="7239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terns of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egular array ac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cheduled” access to remote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 for distributed array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OS/PAR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ilar problem calling PURE procedures from FOR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093400"/>
            <a:ext cx="85341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allow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UR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REAL FUNCTION FOO(REAL 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 : N)  RES (I) = FOO(1.0 * 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procedures restricted—no side-effects.  B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to prevent the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lobal data—random element of distributed array in common block, s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es not predictable from parallel points of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e-sided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yond point-to-point communication, apparently need ability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ne-sided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cess memory of remote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needed where parallel tasks are not sharing a single, logical, “loosely synchronous” thread of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I 2 standard add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ne-sided-commun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unctionality to MPI.  Still not widely imple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I. Libraries for distributed array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seen, communication patterns in languages like HPF are quite compl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impractical for compiler to generate low-level MPI calls to execute the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ce development of higher-level libraries—directly support operations on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ction of talk will consi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OS/PAR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CHAOS/PAR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es of libraries developed at University of Maryl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al PARTI primitives designed to deal with irregular scientific comput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includ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ltiblock PAR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—handles problems defined over multiple regular gri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regular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 case: physical problem discretized on unstructured mesh, represented as a gra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rrays X, Y defined ov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graph.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d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graph connects nod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acteristic inne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N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(EDGE1(I)) = Y(EDGE1(I)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   F(X(EDGE1(I)),  X(EDGE2(I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(EDGE2(I)) = Y(EDGE2(I))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&amp;                          G(X(EDGE1(I)),  X(EDGE2(I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 of Y at node is sum of terms, each depending on value of X at ends of edge connected to n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rregular problem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graphpartition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839080" cy="1995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5257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rregu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ion of X, Y—1, 2, 5 on P0; 3, 4, 6 on P1.  Inessential to discussion here—by permuting node labelling could use HPF-like regular block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ity of referenc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2093760"/>
            <a:ext cx="891540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class of physical problems, while irregular, have propert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ity of refer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s go over locally held elements of indirection vecto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suitably partitioning nodes, majority of locally held element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direction ve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ference locally held element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rray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xample, only edge (2,3) held on P0 causes non-local refer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 primitives exploit locality of reference; ghost region method, similar to stencil upd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ion vectors preprocessed to convert global index value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subscrip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ion to non-local element—local subscript goes into ghost region of data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host regions filled or flushed by collective communication routines, called outside local processing lo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ified irregula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6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O I = 1,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(IA(I))  =  X(IA(I))  +  Y(IB(I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spector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distribution of data arrays, global subscripts, and returns local subscript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munication schedu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ecutor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communication schedules.  Collective GATHER fills ghost regions.  Does local arithmetic.  Collective SCATTER_ADD flushes ghost regions back to Y array, accumula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. Patterns of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 lecture gave translations of simple fragments of HPF—involved no inter-processor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c HPF programs translate to SPMD programs with communications for accessing array elements on other 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ake a pattern-oriented look at the required commun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specto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nd executor for simple irregula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Create required schedules (inspec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LL LOCALIZE(DAD_X, SCHED_IA, IA, LOC_IA, I_BLK_COUN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&amp;                       OFF_PROC_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LL LOCALIZE(DAD_Y, SCHED_IB, IB, LOC_IB, I_BLK_COUN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&amp;                       OFF_PROC_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Actual computation (exec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GATHER(Y(Y_BLK_SIZE+1),  Y,  SCHED_I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ZERO_OUT_BUFFER(X(X_BLK_SIZE+1),  OFF_PROC_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O L = 1,  I_BLK_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X(LOC_IA(L))  =  X(LOC_IA(L))  +  Y(LOC_IB(L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LL SCATTER_ADD(X(X_BLK_SIZE+1),  X, SCHED_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schedule created by analysing requested set of ac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sts of accessed elements to processors that own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ropriate aggregations and redundancy elimin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 res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igested list of messages that must be sent, received, with local source and destination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rom CHAOS/PAR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spector-executor 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ion of communication schedules should be separated from execution of sche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benefit: common situation where pattern of subscripting constant over many iterations of an outer lo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pector phase out of main loop.  No need to repeat computations every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Adli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-level runtime library, designed to support translation of data parallel langu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version implemented 1994 in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p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ject at Southampton Univers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 improved version produced during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rallel Compiler Runtime Consorti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PCRC) project at Syrac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-in model of distributed arrays and se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HPF 1.0 model, plus ghost extensions and general block distribution from HPF 2.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ve communication libr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upport for array section assignments, ghost region updates, F90 array intrinsics, general gather/scat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on top of MP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 kernel implemented in C++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based distributed array descriptor (DAD)—see previous lecture.  Schedule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on sche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8120" y="1904760"/>
            <a:ext cx="8116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llective operations based on communica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i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operation has associat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schedu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ular instances—involving specific arrays and other parameters—created by class constru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ecu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chedule object initiates communications, etc, to effect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schedule-based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in CHAOS/PARTI, schedules can be reused in case same pattern of accesses repe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in single-use case, component communications generally have to be aggregated and sorted, for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reation of temporary data structures—essentially the schedu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 only do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sent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timization at schedule creation time.  Supports, but does no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rtization over many execu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ma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acteristic example of communication schedule cla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ass Remap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ap(const DAD* dst, const DAD* src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st int le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id execute(void* dstDat, void* srcDat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 of Re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1800" y="2017440"/>
            <a:ext cx="8193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s the “array assignment” form of commun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ies data between two arrays or sections of same shape and element ty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and destination can have any, unrelated map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operation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ular section mo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Multiblock PAR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s on Rema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AD for destinatio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DAD for sourc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Length in bytes of individual e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ecute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stD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ddress of array of local elem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for sourc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D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ddress of array of local elements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for destination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ying communic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discuss 5 situ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ncil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tions and transformational intrin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ubscripting in array-paralle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ng remote data in task paralle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claim these are exhaustive, but cover many of the cases arising in useful parallel progr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PF example generally needing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BROUTINE ADD_VEC(A, B,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AL A(:), B(:), C(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INHERIT 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ALL (I = 1:SIZE(A))  A(I) = B(I) + C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 arrays A, B, C have different map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copy B, C to temporaries with same mapping as 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lation to C++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addVec(float* a, DAD* a_da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b, DAD* b_dad, float* c, DAD* c_dad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a_dad-&gt;rng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t1 = new float [x.volume()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ap sched1(a_dad, b_dad, sizeof(float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hed1.execute(t1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* t2 = new float [x.volume()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map sched2(a_dad, c_dad, sizeof(float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hed2.execute(t2, 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 to assig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 of local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p = a_dad-&gt;grp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(p.member()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s = a_dad-&gt;str(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.block(&amp;b, x.dim().crd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l = 0 ; l &lt; b.count ; l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 int sub = b.sub_bas + b.sub_stp * 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[s * sub] = t1 [sub] + t2 [sub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faces to kernel Adli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pf Fortran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Fortran 90 interface using a kind of dope v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CRC Fortran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Fortran 77 interface using handles to objects in 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++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A higher-level C++ interface providing distributed arrays as template (container) classes.  Somewhat impractical, but inspiration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PJava interf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See next lectur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lectur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474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e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Pspm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del of parallel computation—a hybrid of the HPF data parallel model with the low-level SPMD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a particular HPspmd languag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PJav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Array assign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28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nts of the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de many communication patter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and B may be any conforming array s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see that communication patterns required encompass most of those occurring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llective communi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MP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with neighbor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), B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1:49)  =  B(2: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mitted SPMD program, communicat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implemented with MPI_SEND, MPI_RECV, or MPI_SENDREC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with shift in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assignshift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assignment with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gathe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(50, 50), B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A(*, 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!HPF$ DISTRIBUTE  B(BLOCK)  ONTO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:, 1)  = 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emitted SPMD program, communicat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implemented with MPI_GA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ssignment direction reversed, might use MPI_SCA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0-01-08T00:13:50Z</dcterms:modified>
  <cp:revision>10</cp:revision>
  <dc:subject/>
  <dc:title>Communication in Data Parallel Languages</dc:title>
</cp:coreProperties>
</file>