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3158-6BC8-4DBA-A27C-51697C96A5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41360" y="9158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1046160" y="4352760"/>
            <a:ext cx="47703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560-7734-49CB-93E9-C20C64F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3B3-B10D-42FB-8043-86D88AD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C61-E78E-4DF3-8D34-DF9473A1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77B-35B5-495C-BDB2-5176A389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2192-0633-4336-9F17-1BF72804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0C3-C437-4212-98E9-92BC6E10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AE3-3248-4610-BD0C-648C4F9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47F-50A1-44C6-9245-2836AB4B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277C-EE8E-409D-A9FC-20CC3D1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5E9-9B74-4470-AD97-2EA48C1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AD2-141C-4E21-928D-ABDC483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A80-CDDC-4330-81A0-C776814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E62-4F74-483F-8D6A-D352A9D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185D-A5C4-4533-B290-ADBE57D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01A-5E5F-4C24-8EF2-01941D8D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F26D-53A6-424F-BC38-AFA7D2CC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7C7-8BC3-4BAE-9414-E8B1036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18A-B2CD-45BC-AAB3-A8BE7A2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4B2-7628-4F31-8A72-36FF8E7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FDC-CE30-4FB4-B63A-AF47EAE2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7A0-47B5-46A5-ADCF-FD7210CF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D81-726A-4B98-9C58-5D23A31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398-1C4C-45F0-9553-A90F21C0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FAA-37B7-405E-94B3-031D0B3E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2B7-8D7C-4C24-B9D4-2B408029D1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290-8AAD-4465-A74D-AAF13A6170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avaGran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ung Hoon 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PIJ  :  Brigham Young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based subset of MPI developed  as part of the Distributed Object Group Meta-computing Architecture(DOG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PI  :  MPI Software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a commercial message-passing framework and parallel support environment for Ja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s to build a pure Java version of MPI-2 standard specialized for commercial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NOW  :  Illinois Institute Te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memory based system and experimental message passing fram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virtual parallel machine like PV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multi-threa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synchro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ssociative shared memory similar to Li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available as standalone software and must be used with a remote (or secure) shell tool in order to run on a network of works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e-processor to create Java 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wn compiler to create Java Byte code or executable code that loose portability of Ja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ta  :  Vrije Univers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-based high-performance Java syst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s native compiler for aggressive optimis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s optimised RMI protocol(Manta RM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tanium  :  UC Berkel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based language for high-performance parallel scientific compu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anium compiler translates Titanium into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Java with additional features lik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mutable classes which behave like existing Java primitive types or C str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dimensional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xplicitly parallel SPMD model of computation with a global address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chanism for programmer to control memory manage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4267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2670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95680"/>
            <a:ext cx="1905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39625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96252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886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648320"/>
            <a:ext cx="7621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505320"/>
            <a:ext cx="16761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4419720"/>
            <a:ext cx="45720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243828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25780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181480"/>
            <a:ext cx="2666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4419720"/>
            <a:ext cx="22100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5181480"/>
            <a:ext cx="380988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5943600"/>
            <a:ext cx="221004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267080"/>
            <a:ext cx="792468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5410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67080" y="4648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648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5562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tend Java Language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Party  :  University of Karlsru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a mechanism for parallel programming on distributed memory mach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generates the appropriate Java code plus RMI hoo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mote keywords is used to identify which objects can be called remot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b orien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ceT  :  Emory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users to share JVMs across a net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ser can upload a class to another virtual machine using a PVM-like interf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explicitly calling send and receive statements, work can be distributed among multiple JV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elin  :  UC Santa Barb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et-based parallel computing using Java by running Java applets in web brows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munication latencies are high since web browsers use RMIs over TCP/IP, typically over slow Ethern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 Serialization and R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 Ser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 program the ability to read or write a whole object to and from a raw byte stre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ssential feature needed by RMI implementation when method arguments are passed by cop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y access to objects existing on remote virtual mach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Client-Server applications over unstable and slow networ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remote method invocations with low latency and high bandwidth are required for high performance compu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erformance Problems of Object Seri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andle float and double types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cast which is implemented in the JNI, requires various time consuming operations for check-pointing and state recove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arrays invokes the above mentioned JNI routine for every single array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ly encoding of typ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type of serialized object, all fields of the type are described verbos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creation takes too l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 output and input should be overlapped to reduce lat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fficient Object Serialization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KA-serialization (as part of JavaPar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m Encoding typ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ach : When objects are being communicated, it can be assumed that all JVMs that collaborate on a parallel applications use the same file system(NS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uch shorter to textually send the name of the class including package prefi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explicit (un)marshaling instead of reflection (by writeObjec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egular users of object serialization, programmers do not implement (un)marshaling, instead they rely on Java’s refl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Efficient Object Serialization(II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A-serialization (as part of JavaParty)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buffer handling and less copying to achieve better perform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DK External Buffering probl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the recipient side, JDK-serialization uses buffered stream implementation that does not know byte representation of objec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can not directly write into External Buffer, instead use special write routin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A-serialization handles the buffering Internally and Publi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making the buffer Public, explicit marshaling routines can write their data immediately into the buffer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anta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rialization code is generated by the compil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akes it possible to avoid the overhead of dynamic inspection of the object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Java for High-Performance Compu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is potentially an excellent platform for developing large-scale science and engineering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has advant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is descendant of C++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omits various features of C and C++ that are considered difficult - e.g poi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comes with built-in multithread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is por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 has advantages in visualisation and user interface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Java Grande F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has some problems that hinder its use for Grande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Grande Forum created to make Java a better platform for Grande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rrently two working groups are ex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eric Work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lex and floating-point arithmetic, mulitidimensional arrays, operator overload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urrency/Applications Work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rformance of RMI and object serialization, benchmarking, computing portal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pproaches to Parallelism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utomatic parallelization of sequential c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VM for SMP can be schedule the threads of a multi-threaded Java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nguage extensions or directive akin to HPF or provision of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ssage Passing with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ttractive to scientific parallel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R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restrictive and overhead is hi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un)marshaling of data is costly than so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ssage passing librarie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ava as wrapper for existing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nly pure Java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08760" cy="83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p>
            <a:pPr algn="ctr">
              <a:buClr>
                <a:srgbClr val="000000"/>
              </a:buClr>
              <a:buSzPct val="75000"/>
              <a:buFont typeface="star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Java Based Frame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80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Java as wrapper for existing framewor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mpiJava, Java/DSM, JavaPV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pure Java librar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287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MPJ, DOGMA, JPVM, JavaN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287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Java language with new key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 preprocessor or own compiler to cre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2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ava(byte) code.  (HPJava, Manta, JavaParty, Titaniu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102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b oriented and use Java applets to excute parallel task.  (WebFlow, IceT, Javelin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Java as wrapper for existing frameworks. (I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MPI  :  U. of Westmin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wrapper to M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appers are automatically generated from the C MPI header using Java-to-C interface generator(JC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lose to C binding, Not Object-orie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JavaPVM(jPVM)  : Georgia Te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 wrapper to P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Java as wrapper for existing frameworks. (II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ava/DSM  :  Rice 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computing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s a JVM on top of a TreadMarks Distributed Shared Memory(DSM)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JVM on each machine. All objects are allocated in the shared memory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ransparency : Java/DSM combination hides the hardware differences from the programm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communication is handled by the underlying DSM, no explicit communic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se pure Java libraries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PVM  :  U. of Virg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implementation of PV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communication over TCP sock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 very poor compared to JavaPV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pi  :  Baskent 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ure Java implementation of MPI built on top of JPV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additional wrapper layer to JPVM routines, its performance is poor compared to JPVM.                         (JavaPVM  &lt;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PVM  &lt;  jm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pku-cs</cp:lastModifiedBy>
  <dcterms:modified xsi:type="dcterms:W3CDTF">2000-01-11T09:03:04Z</dcterms:modified>
  <cp:revision>46</cp:revision>
  <dc:subject/>
  <dc:title>The Development of Data-Parallel Programming</dc:title>
</cp:coreProperties>
</file>