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5440363" cy="8391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12BD-4029-490B-AB48-DB2A3C609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2A62-9482-4197-932F-5E5A4EC1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B7C8-DA3E-4D59-85B5-97FBCA10E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45EE-45CF-4D47-9192-433C88850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BE74-842F-4633-9AA2-7CE84416A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5A13-F481-478C-AAC9-18634355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59C7-174A-47F5-90D4-85F2A0DC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91DC-2132-4CAB-8753-E82EA8F6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6D94-A692-4826-AE31-C325133E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DA4D-28CA-4D67-8553-5B3FF39B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3617-746F-41BC-9F82-B082F687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7605-542D-4D85-87BF-5FAD9AEB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2E04-D61B-42D8-9E36-6F4CDE5C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7E5E-0565-4EBF-B555-72321EDA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112A-BBEC-4D64-98B7-8D79F08B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12DC-7099-44F6-A739-BF1F3F859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1814F-375C-48F6-98F3-3B280FCD1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E71E-BDAD-4FDD-B474-32D6E712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6A00-9182-49B4-A74F-68700270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9C0E-2F55-4033-B566-317AD64E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F425-14C2-4C22-99F4-E8577488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C2D9-9EF7-4139-8344-654422E8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FC40-2150-4786-93EE-0F0AD4A4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CC31-C7DF-432A-AD70-97D3C6CF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9264-FA9A-42D3-B845-122E1641D63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3FFE-525C-4CCD-A0D8-1A2D84350B00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Issues in Translation of High Performance Fortr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Bryan Carpen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NPAC at Syracuse Univers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yracuse, NY 1324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bc@npac.syr.ed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Loop over local ele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ssociated co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TEGER L,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O L = 1, BLK_COU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 = BLK_START * 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(L) = 1.0 *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ND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n HPF proced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3000" y="2017800"/>
            <a:ext cx="78120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uperficially similar progra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UBROUTINE INIT(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AL D(5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!HPF$ INHERIT 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ORALL (I = 1:50)  D(I) = 1.0 *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HERIT directive means mapping of dummy should be same as actual,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whatever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that i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ocedure call with block-distributed actu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351920" cy="29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!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HPF$ PROCESSORS P(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AL A(5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!HPF$ DISTRIBUTE A(BLOCK) ONTO 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LL INIT(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apping of 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callblock" descr=""/>
          <p:cNvPicPr/>
          <p:nvPr/>
        </p:nvPicPr>
        <p:blipFill>
          <a:blip r:embed="rId1"/>
          <a:stretch/>
        </p:blipFill>
        <p:spPr>
          <a:xfrm>
            <a:off x="228600" y="5278320"/>
            <a:ext cx="868680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ocedure call with cyclically distributed actu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351920" cy="29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!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HPF$ PROCESSORS P(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AL A(5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!HPF$ DISTRIBUTE A(CYCLIC) ONTO 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LL INIT(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apping of 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callcyclic" descr=""/>
          <p:cNvPicPr/>
          <p:nvPr/>
        </p:nvPicPr>
        <p:blipFill>
          <a:blip r:embed="rId1"/>
          <a:stretch/>
        </p:blipFill>
        <p:spPr>
          <a:xfrm>
            <a:off x="228600" y="5257800"/>
            <a:ext cx="891540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ocedure call with strided alignment of actu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351920" cy="29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!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HPF$ PROCESSORS P(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AL A(10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!HPF$ DISTRIBUTE A(BLOCK) ONTO 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LL INIT(B(1:100:2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apping of 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callstride" descr=""/>
          <p:cNvPicPr/>
          <p:nvPr/>
        </p:nvPicPr>
        <p:blipFill>
          <a:blip r:embed="rId1"/>
          <a:stretch/>
        </p:blipFill>
        <p:spPr>
          <a:xfrm>
            <a:off x="304920" y="5334120"/>
            <a:ext cx="883908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ocedure call with row-aligned actu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!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HPF$ PROCESSORS Q(2, 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AL A(6, 5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!HPF$ DISTRIBUTE A(BLOCK, BLOCK) ONTO Q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LL INIT(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apping of 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callrow" descr=""/>
          <p:cNvPicPr/>
          <p:nvPr/>
        </p:nvPicPr>
        <p:blipFill>
          <a:blip r:embed="rId1"/>
          <a:stretch/>
        </p:blipFill>
        <p:spPr>
          <a:xfrm>
            <a:off x="1295280" y="4524480"/>
            <a:ext cx="670572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omehow INIT must be translated to deal with data having any of these decompositions, or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any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legal HPF mapping.  Actual mapping not known until run-ti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ot an artificial example.  Libraries that operate on distributed arrays (eg the communication libraries discussed later) must deal with exactly this situ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quirements for an array descrip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eems that to translate procedure calls, need some non-trivial data structure to describe layout of actual argu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ahoma"/>
              </a:rPr>
              <a:t>Distributed Array Descriptor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(DAD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ant to understand requirements and best organization of a DA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dopt object-oriented principles to build an abstract desig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istributed array dimens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bvious structural feature of HPF array: multidimension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ach dimension mapped independently 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llapsed (serial)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imple block distribution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imple cyclic distribution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lock cyclic distribution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eneral block distribution (HPF 2.0)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near alignment to any of abov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nverting block distribution to cyclic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2133360"/>
            <a:ext cx="4419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BLK_SIZE = (N + NP – 1) / N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BLK_START = R * BLK_SIZ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IF (N – BLK_START &gt;= BLK_SIZE) TH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BLK_COUNT = BLK_SIZ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ELSEIF (N – BLK_START &gt; 0) TH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BLK_COUNT = N – BLK_STAR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BLK_COUNT = 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ENDI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I = BLK_START + 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952880" y="2133720"/>
            <a:ext cx="41911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宋体"/>
              </a:rPr>
              <a:t>BLK_SIZE = (N + NP – 1) / N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宋体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宋体"/>
              </a:rPr>
              <a:t>BLK_START =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宋体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宋体"/>
              </a:rPr>
              <a:t>BLK_COUNT = (N – R + NP – 1) / N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宋体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宋体"/>
              </a:rPr>
              <a:t>I = BLK_START + NP * 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67080" y="2286000"/>
            <a:ext cx="838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67080" y="3124080"/>
            <a:ext cx="838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91120" y="441972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14800" y="632448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Goals of this l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iscuss translation of some elementary HPF examples to MPI code.  Illustrate the need for a Distributed Array Descriptor (DAD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evelop an abstract model of a DAD, and show how it can be used to translate simple cod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istributed r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ave different kinds of array dimension (distribution format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ach kind of dimension has a different set of formulae for segment layout, index computation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O interpretation: virtual functions on a class hierarch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mplement as the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Range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ierarch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AD for rank-r array will contain r Range objects, one per dimens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ealing with “hidden” dimensions of se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0470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rray may be mapped to slice of gri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callrow" descr=""/>
          <p:cNvPicPr/>
          <p:nvPr/>
        </p:nvPicPr>
        <p:blipFill>
          <a:blip r:embed="rId1"/>
          <a:stretch/>
        </p:blipFill>
        <p:spPr>
          <a:xfrm>
            <a:off x="1066680" y="2743200"/>
            <a:ext cx="6705720" cy="23335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295280" y="5181480"/>
            <a:ext cx="7047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ank-1 section only has one range object.  Need some other structure to represent embedding in subgr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AD grou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Need a group concept similar to MPI_Grou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ant lightweight structure for representing arbitrary slices of process grid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Object representing grid itself needs multidimensional structure (cf Cartesian Communicator in MPI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presenting processor arrange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2017440"/>
            <a:ext cx="78120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 OO runtime descriptor, expect entity like processor arrangement becomes an objec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se C++ for definitenes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!HPF$ PROCESSORS P(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co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cs1 p(4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!HPF$ PROCESSORS Q(2, 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co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cs2 q(2, 2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Hierarchy of process gri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1" name="procs" descr=""/>
          <p:cNvPicPr/>
          <p:nvPr/>
        </p:nvPicPr>
        <p:blipFill>
          <a:blip r:embed="rId1"/>
          <a:stretch/>
        </p:blipFill>
        <p:spPr>
          <a:xfrm>
            <a:off x="1523880" y="2819520"/>
            <a:ext cx="5859720" cy="26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Interface of Procs and Dimen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5640" y="21337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lass Procs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t member() cons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imension dim(const int d) cons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lass Dimension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t size() cons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t crd() cons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Using Procs in trans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7620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NTEGER W_RANK,  . . 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ALL MPI_COMM_RANK(MPI_COMM_WORLD, W_RANK, ERRCOD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F (W_RANK &lt; 4) TH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BLK_START = W_RANK * BLK_SIZ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NDI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3886200" y="4724280"/>
            <a:ext cx="4724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宋体"/>
              </a:rPr>
              <a:t>Procs1 p(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宋体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宋体"/>
              </a:rPr>
              <a:t>if (p.member(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宋体"/>
              </a:rPr>
              <a:t>blk_start = p.dim(0).crd() * blk_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宋体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57400" y="54100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Becom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stricted process grou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lice of process grid to which array section may be mapp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ortion of grid selected by specifying subset of dimension coordinat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ightweight representation.  Use bitmask to represent dimension se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xample restricted groups in 2-dimensional gri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1" name="restricted" descr=""/>
          <p:cNvPicPr/>
          <p:nvPr/>
        </p:nvPicPr>
        <p:blipFill>
          <a:blip r:embed="rId1"/>
          <a:stretch/>
        </p:blipFill>
        <p:spPr>
          <a:xfrm>
            <a:off x="1905120" y="2133720"/>
            <a:ext cx="5181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presentation of subgri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25142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xample     dimension         lead          tu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et            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)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{dim(0), dim(1)}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0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(p, 11  ,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)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{dim(0)}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8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(p, 10  , 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)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{dim(1)}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1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(p, 01  ,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)                {}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6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(p, 00  ,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ntents of L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troduction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ranslation of simple HPF fragment to SPM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problem of procedu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quirements for an array descriptor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roups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cess gri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tricted group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ange objects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Group cla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lass Group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roup(const Procs&amp; p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oid restrict(Dimension d, const int coord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t member() cons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ightweigh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—i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plementation in about 3 words.  Can freely copy and discard.  DAD contains a Group objec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 DAD, range object describes extent and distribution format of one array dimens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xpect a class hierarchy of rang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ach subclass corresponds to a different kind of distribution format for a dimens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 hierarchy of r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9" name="ranges" descr=""/>
          <p:cNvPicPr/>
          <p:nvPr/>
        </p:nvPicPr>
        <p:blipFill>
          <a:blip r:embed="rId1"/>
          <a:stretch/>
        </p:blipFill>
        <p:spPr>
          <a:xfrm>
            <a:off x="2362320" y="2590920"/>
            <a:ext cx="380988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Interface of the Range cla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520" y="220932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lass rang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t size() cons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imension dim() cons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t volume() cons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ange subrng(const int extent, const int 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nst int stride = 1) cons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oid block(Block* blk, const int crd) cons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oid location(Location* loc, const int glb) cons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ranslating simple HPF program to C++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3886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ourc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!HPF$ PROCESSORS P(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REAL A(50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!HPF$ DISTRIBUTE A(BLOCK) ONTO 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ORALL (I = 1:50)  A(I) = 1.0 * 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4495680" y="1905120"/>
            <a:ext cx="46483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ransl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rocs1  p(4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BlockRange x(p.dim(0), 5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loat* a = new float [x.volume()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if (p.member()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Block b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x.block(&amp;b,  p.dim(0).crd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or (int l = 0; l &lt; b.count; l++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const int i = b.glb_bas + b.glb_stp * l +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a [b.sub_bas + b.sub_stp * l] = 1.0 *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eatures of C++ trans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rguments of BlockRange constructor are process dimension and extent of ran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ields of Block define count of local loop and base and step for local subscript and global index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f distribution directive is changed 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!HPF$ DISTRIBUTE A(CYCLIC) ONTO 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nly change is x declaration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yclicRange x(p.dim(0), 50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—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parently making progress toward writing code that works for any distribu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Block and Location 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truct Block 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t coun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t glb_ba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t glb_stp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t sub_ba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t sub_stp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4876920" y="236232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struct Location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int sub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int cr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Memory stri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240" y="2514600"/>
            <a:ext cx="396252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rtran 90 progra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AL B(100, 10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LL FOO(B(1, :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UBROUTINE FOO(C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AL C(: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0" y="2209680"/>
            <a:ext cx="4267080" cy="43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irst dimension of D most-rapidly-varying in mem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cond dimension has memory stride 100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—inherited by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Fortran compilers normally pass a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dope vecto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containing r extents and r strides for rank-r argu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Stride not really a property of the distributed range.  Store separately in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 D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2743200"/>
            <a:ext cx="7772400" cy="27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bstract DAD for a rank-r array is an object contain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distribution group,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 range objects,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 integer stride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Interface of the DAD cla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ruct DAD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AD(const int _rank, const Group&amp; _group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p _maps []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nst Group&amp; grp() cons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ange rng(const int d) cons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t str(const int d) cons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 simple HPF pro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ere is a simple HPF progra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!HPF$ PROCESSORS P(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AL A(5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!HPF$ DISTRIBUTE A(BLOCK) ONTO 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ORALL (I = 1:50)  A(I) = 1.0 *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e want to translate this to an MPI progra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Map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2743200"/>
            <a:ext cx="71992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truct Map 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ap(Range _range, const int _stride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ange rang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t strid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ranslating HPF program with inherited mapp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3886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ourc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SUBROUTINE INIT(D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REAL D(50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!HPF$ INHERIT 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ORALL (I = 1:50)  D(I) = 1.0 * 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4038480" y="1828800"/>
            <a:ext cx="51055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ransl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void init(float* D, DAD* D_dad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Group p = d_dad-&gt;grp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if (p.member()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Range x = d_dad-&gt;rng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int      s = d_dad-&gt;str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Block b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x.block(&amp;b,  p.dim(0).crd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or (int l = 0; l &lt; b.count; l++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const int i = b.glb_bas + b.glb_stp * l +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d [s * (b.sub_bas + b.sub_stp * l)] = 1.0 *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ranslation of call with block-distributed actu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3886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ourc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!HPF$ PROCESSORS P(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REAL A(50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!HPF$ DISTRIBUTE A(BLOCK) ONTO 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CALL INIT(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1905120"/>
            <a:ext cx="46483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ransl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rocs1  p(4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BlockRange x(p.dim(0), 5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loat* a = new float [x.volume()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Map maps [1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Maps [0] = Map(x,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DAD dad(1, p, map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init(a, &amp;da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ranslation of call with cyclically distributed actu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038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ourc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!HPF$ PROCESSORS P(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REAL A(50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!HPF$ DISTRIBUTE A(CYCLIC) ONTO 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CALL INIT(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1905120"/>
            <a:ext cx="46483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ransl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rocs1  p(4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CyclicRange x(p.dim(0), 5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loat* a = new float [x.volume()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Map maps [1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Maps [0] = Map(x,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DAD dad(1, p, map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init(a, &amp;da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ranslation of call with strided alignment of actu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3886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ourc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!HPF$ PROCESSORS P(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REAL A(100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!HPF$ DISTRIBUTE A(BLOCK) ONTO 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CALL INIT(A(1:100:2)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4495680" y="1905120"/>
            <a:ext cx="46483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ransl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rocs1  p(4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BlockRange x(p.dim(0), 5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loat* a = new float [x.volume()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// Create DAD for section a(::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Range x2 = x.subrng(50, 0, 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Map maps [1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Maps [0] = Map(x2,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DAD dad(1, p, map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init(a, &amp;da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ranslation of call with row-aligned actu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3886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ourc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!HPF$ PROCESSORS Q(2, 2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REAL A(6, 50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!HPF$ DISTRIBUT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A(BLOCK, BLOCK)  ONTO Q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CALL INIT(A(2, :)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4495680" y="1600200"/>
            <a:ext cx="46483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ransl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rocs2  q(2, 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BlockRange x(q.dim(0), 6),  y(q.dim(1), 5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loat* a = new float [x.volume() * y.volume()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// Create DAD for section a(1, :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Location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x.location(&amp;i,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Group p = q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.restrict(q.dim(0), i.cr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Map maps [1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Maps [0] = Map(y, x.volume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DAD dad(1, p, map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init(a + i.sub, &amp;da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Other features of the Adlib D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Support for block-cyclic distribution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.  Local loops traversing distributed data need outer loop over set of local blocks.  LocBlocksIndex iterator class.  offset() method computes overall memory offse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Support for ghost extension, other memory layout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.  Shift in memory for ghost region not in local subscript (universal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—memory-layout-independent).  disp(), offset(), step() methods applied to local subscrip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Other features of the Adlib DAD,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Support for loops over subrange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.  Additional block() methods take triplet argument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—directly traverse subranges.   crds() methods define ranges of coordinates where local blocks exi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Other feature to support communication library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.  AllBlocksIndex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Miscellaneous inquires and predicate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.  Useful in general libraries, and for runtime checking programs for correctn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ranslation of simple pro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0" y="2057400"/>
            <a:ext cx="5410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INTEGER W_RANK, W_SIZE, ERRCOD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INTEGER BLK_SIZ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PARAMETER (BLK_SIZE = (50 + 3)/4)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REAL A(BLK_SIZE)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INTEGER BLK_START, BLK_COUNT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INTEGER L, I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CALL MPI_INIT()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CALL MPI_COMM_RANK(MPI_COMM_WORLD, W_RANK, ERRCODE)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CALL MPI_COMM_SIZE(MPI_COMM_WORLD, W_SIZE, ERRCODE)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IF (W_RANK &lt; 4) THEN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BLK_START = W_RANK * BLK_SIZ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IF (50 – BLK_START &gt;= BLK_SIZE) THEN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BLK_COUNT = BLK_SIZ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ELSEIF (50 – BLK_START &gt; 0) THEN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BLK_COUNT = 50 – BLK_START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BLK_COUNT = 0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ENDIF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DO L = 1, BLK_COUNT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I = BLK_START + L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A(L) = 1.0 * I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ENDIF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CALL MPI_FINALIZE()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etting up the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2362320"/>
            <a:ext cx="8991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ssociated cod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TEGER W_RANK, W_SIZE, ERR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ALL MPI_INIT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ALL MPI_COMM_SIZE(MPI_COMM_WORLD, W_RANK, ERRCO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ALL MPI_COMM_RANK(MPI_COMM_WORLD, W_RANK, ERRCO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ALL MPI_FINALIZE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llocating segment of the distributed arra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ssociated statements ar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TEGER BLK_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ARAMETER (BLK_SIZE = (50 + 3)/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AL A(BLK_SIZ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egment size is  50/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57200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56272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49528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86400" y="49528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esting this processor holds a seg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ssociated code i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F (W_RANK &lt; 4) TH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ssumes number of MPI processes is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at leas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the size of the largest processor arrangement of HPF progra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mputing parameters of locally held seg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88832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ssociated cod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TEGER BLK_START, BLK_COU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K_START = W_RANK * BLK_SIZ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F (50 – BLK_START &gt;= BLK_SIZE) TH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K_COUNT = BLK_SIZE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IF (50 – BLK_START &gt; 0) TH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K_COUNT = 50 – BLK_ST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K_COUNT 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LK_STAR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—position in global index space.  BLK_COUNT—elements in seg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2T14:25:34Z</dcterms:created>
  <dc:creator>Mr &amp; Mrs P Carpenter</dc:creator>
  <dc:description/>
  <dc:language>en-US</dc:language>
  <cp:lastModifiedBy>Li Xiaoming</cp:lastModifiedBy>
  <cp:lastPrinted>2000-01-05T01:12:24Z</cp:lastPrinted>
  <dcterms:modified xsi:type="dcterms:W3CDTF">2000-01-04T14:56:15Z</dcterms:modified>
  <cp:revision>36</cp:revision>
  <dc:subject/>
  <dc:title>The Development of Data-Parallel Programming</dc:title>
</cp:coreProperties>
</file>