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CCC4-A8DE-4A7F-8710-820FA35C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A4F-5E6F-4C7B-861A-7D78DD99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63B-6BB0-48CC-AD7F-D0969699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B093-8099-48A4-897E-40023319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4D8A-87EC-4853-B373-8EF71986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BE33-AF73-45C5-AD11-E917B81A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79A1-1FC1-4CA2-80A4-C80FCED7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E7F1-BA38-4C74-9FF4-E6816E18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7241-A46E-4D82-8427-77C28883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BD6E-B87A-4A7B-9B4A-F8167DD8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CB79-74EF-4342-AE36-EB6F693A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0AA2-EA48-4D39-996F-6B9DA624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CCD0-E04E-4A61-BCED-205E8D9B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0FCB-AAA6-4299-AB32-E6C02FB9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D278-1EC8-42F7-A826-586ED75B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C32E-F986-48EC-A61E-FC5196CE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5F6B-F936-4101-949B-17731C1D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29F-B119-455F-8D1A-4F596F7C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5992-414B-4504-95D6-2B2C4B83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97B-1D10-4AF7-BB7A-CF92C34C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D58-EC76-4011-A075-D237B4F2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447-AAC4-42E9-BACE-67678446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D395-35FC-46D3-809B-632EC3BC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B22C-5FE8-47C6-9BFE-BA882302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E2F4-64FB-4784-8097-D4B5F9F11F1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990C-7F0D-4B6B-BFAA-04129B679E8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n HPspmd Programming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Bryan Carp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PAC at Syracuse Univer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yracuse, NY 1324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bc@npac.syr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n HPspmd pr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2017440"/>
            <a:ext cx="85741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cs  p = new Procs2(P, P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(p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ange x = new ExtBlockRange(N, p.dim(0),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ange y = new ExtBlockRange(N, p.dim(1),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oat [[,]] u = new float [[x, y]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. .  some code to initialize ‘u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(int iter = 0; iter &lt; NITER; iter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lib.writeHalo(u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verall (i = x for 1 : N-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verall (j = y for 1 + (i` + iter) % 2 : N-2 : 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[i, j] = 0.25 * (u[i-1, j] + u[i+1, j] + u[i, j-1] + u[i, j+1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HPspmd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6705720" cy="6640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295280" y="45720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HPspmd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P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anguage for parallel programm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tends Java with syntax for manipulating distributed array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plements the HPspmd mode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—independent processes executing same program, sharing elements of distributed array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cesses operate directly on locally owned elements.  Explicit communication needed in program to permit access to elements owned by other proce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cesses and Process Gr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PJava program started concurrently in some set of proce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cesses named through grid objec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Procs p = new  Procs2(2, 3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sumes program currently executing on 6 or more proce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strict execution to processes within grid by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o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construc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on(p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asic use of gr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5105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PJava progra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cs p = new Procs2(2, 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(p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mension d = p.dim(0),  e = p.dim(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ystem.out.prinln(“My coordinates are(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+ d.crd() + “, “ + e.crd() + “)”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2286000"/>
            <a:ext cx="342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ample 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y coordinates are (0,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y coordinates are (1,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y coordinates are (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y coordinates are (1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y coordinates are (1,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y coordinates are (0,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stributed Arrays in HP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ny differences between distributed arrays and ordinary arrays of Jav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.  New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kind of container class with special synta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ype signatures, constructors use double brackets to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emphasiz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distin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ocs2 p = new Procs2(2, 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on(p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Range x = new BlockRange(N, p.dim(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Range y = new BlockRange(N, p.dim(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float [[,]] a = new float [[x, y]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2-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mensional array distributed over 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array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46452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allel programm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trix add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s2 p = new Procs2(2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n(p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ange x = new BlockRange(N, p.dim(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ange y = new BlockRange(N, p.dim(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loat [[,]]  a = new float [[x, y]],  b = new float [[x, y]]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 = new float [[x, y]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 initialize values in  ‘a’, ‘b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verall (i = x for :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verall (j = y for :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[i, j] = a[i, j] + b[i, j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overall constru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32000" y="1828440"/>
            <a:ext cx="7812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cond special control construct (after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distributed parallel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neral form parametrized by index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triple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overall (i = x for l : u : s) { . . .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 = lower bound, u = upper bound, s = step.  All indices must be within range 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ecial for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overall (i = x for l : u) { . . .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ride defaults to 1, 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overall (i = x for :) { . . .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ower bound = 0, upper bound = x.size() - 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 parallel stencil update pr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oat [[,]]  u = new float [[x, y]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. . initialize values in  ‘u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oat [[,]]  n = new float [[x, y]],  s = new float [[x, y]]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 = new float [[x, y]],  w = new float [[x, y]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lib.shift(n, u,  1,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lib.shift(s, u, -1,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lib.shift(e, u,  1,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lib.shift(w, u, -1,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verall (i = x for 1 : N - 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verall (j = y for 1 : N - 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[i, j] = 0.25 * (n[i, j] + s[i, j] + e[i, j] + w[i, j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oals of this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tivate a parallel programming model that combines data parallel features from HPF with an 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explicitly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PMD programming sty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view in detail a specific 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HPspmd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anguage called HPJa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hift 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, advertised, communication goes through library c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 a binding of the Adlib function,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shif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oid shift(float [[,]] dst, float [[,]] src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nt amount, int dimension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tination and source arrays must be identically align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plements “edge-off” shi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verloaded to apply to different array ranks, typ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bout overall loop index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31640" y="1828800"/>
            <a:ext cx="758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y does language demand use of shift?  Could we just wri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overall (i = x for 1 : N - 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overall (j = y for 1 : N - 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u[i, j] = 0.25 * (u[i-1, j] + u[i+1, j]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                                     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u[i, j-1] + u[i, j+1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enerally,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  Symbols i, j are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integer loop indices.  They are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bound location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locatio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 is an abstract element of a distributed ran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apping of locations to 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locations" descr=""/>
          <p:cNvPicPr/>
          <p:nvPr/>
        </p:nvPicPr>
        <p:blipFill>
          <a:blip r:embed="rId1"/>
          <a:stretch/>
        </p:blipFill>
        <p:spPr>
          <a:xfrm>
            <a:off x="1676520" y="2384280"/>
            <a:ext cx="609588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ound lo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bound location is a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name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o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cations can only be named in overall construct or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a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onstruc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next slid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No location-valued variables; no Java type associated with a lo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In general a subscript in a distributed array element reference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mu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 be a bound location,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 must be a location in the corresponding range of the array dimen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amatically limits patterns of subscrip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demandng" descr=""/>
          <p:cNvPicPr/>
          <p:nvPr/>
        </p:nvPicPr>
        <p:blipFill>
          <a:blip r:embed="rId1"/>
          <a:stretch/>
        </p:blipFill>
        <p:spPr>
          <a:xfrm>
            <a:off x="228600" y="4343400"/>
            <a:ext cx="10573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at constru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5840" y="1828440"/>
            <a:ext cx="84978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f a is a distributed array, generally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anno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ri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 [1,  4]  =  73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ssign one element.  1, 4 not bound loc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f x and y are the ranges of a,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a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ri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t (i = x [1]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  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t (j = y [4]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      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 [i, j]  = 73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s the final special control construct of HPJava.  Similar to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o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—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stricts execution of block to processes holding specified lo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lationship between overall and 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construc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overall (i = x for l : u : s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s equivalent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for (int n = l; (u – n) * sign(s) &gt;= 0; n += 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t (i = x [n]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dex expre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side the body of the construc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t (i = x [n]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expression 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i`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stands for the integer   value, 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st useful in overall.  According to the equivalence in the previous slide, 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i`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is then the global index val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 Comple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cs2 p = new Procs2(P, P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(p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ange x = new BlockRange(N, p.dim(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ange y = new BlockRange(N, p.dim(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oat [[,]]  u = new float [[x, y]]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 = new float [[x, y]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. . Initialize ‘u’, ‘r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oat [[,]]  n = new float [[x, y]],  s = new float [[x, y]]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 = new float [[x, y]],  w = new float [[x, y]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. . Main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lib.printArray(u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itialize ‘u’, ‘r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verall (i = x for :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verall (j = y for :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f (i` == 0 || i` == N - 1 || j` == 0 || j` == N -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[i, j] = (float) (i` * i` - j` * j`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[i, j] = 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[i, j] = 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ain lo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lib.shift(n, u,  1,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lib.shift(s, u, -1,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lib.shift(e, u,  1,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lib.shift(w, u, -1,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verall (i = x for 1 : N - 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verall (j = y for 1 : N -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oat newU =  0.25 * (n[i, j] + s[i, j] + e[i, j] + w[i, j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[i, j] = Math.abs(newU – u[i, j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[i, j] = newU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 while(Adlib.maxval(r) &gt; EP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tents of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roduc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Pspmd language exten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gration of high-level librar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PJava.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cesses and distributed arr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pping arr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rray se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ules an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distributed array communication libr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oad balancing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ahoma"/>
              </a:rPr>
              <a:t>—Mandelbrot set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t of complex numbers, c, such that the limit of the iter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z    =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                     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                                                    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z    = c + (z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                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i+1                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as absolute value less than 2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|z  | 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                           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Tahoma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umerical computation of set: points outside the set are eliminated quickly; points inside or close to the set are computed for many iter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andelbrot set compu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4920" y="2017440"/>
            <a:ext cx="63644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cs2 p = new Procs2(2, 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(p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ange x = new BlockRange(N, p.dim(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ange y = new BlockRange(N, p.dim(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olean [[,]]  set = new boolean [[x, y]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verall (i = x for :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verall (j = y for :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oat cr = (4.0 * i` - 2 * N) / 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oat ci = (4.0 * j` - 2 * N) / 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. . Inner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lib.printArray(se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ner lo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81080" y="2017440"/>
            <a:ext cx="54468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t[i, j] =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 k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ile(zr * zr + zi * zi &lt; 4.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f (k++ == CUTO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t[i, j] =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// z = c + z * 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oat newr = cr + zr * zr – zi * z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loat newi = ci + 2 * zr * z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r = new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i = new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hanging mapping of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lock distribution leads to poor load-balanc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go over to cyclic decomposition, just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Range x = new BlockRange(N, p.dim(0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Range y = new BlockRange(N, p.dim(1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Range x = new CyclicRange(N, p.dim(0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Range y = new CyclicRange(N, p.dim(1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lock-wise decomposition of Mandelbrot s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blockMandelbrot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61484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yclic decomposition of Mandelbrot s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cyclicMandelbrot" descr=""/>
          <p:cNvPicPr/>
          <p:nvPr/>
        </p:nvPicPr>
        <p:blipFill>
          <a:blip r:embed="rId1"/>
          <a:stretch/>
        </p:blipFill>
        <p:spPr>
          <a:xfrm>
            <a:off x="2057400" y="2058840"/>
            <a:ext cx="461484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ghost reg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discussed in previous lecture, ghost regions are extremely useful in parallel stencil upda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in HPJava, distributed array subscripts must be bound locations.  Special syntax extension for subscripting arrays with ghost reg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hifted loca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low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ifted lo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941480"/>
            <a:ext cx="7732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bound location, th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±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shifted location.  Here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 integer, usually a small cons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array, a, has suitable ghost regions, can write, sa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verall (i = x for 1 : N-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verall (j = y for 1 : N-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[i, j] = 0.25 * (a[i-1, j] + a[i+1, j] 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[i, j-1] + a[i, j+1]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rrays with ghost regions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pecial syntax, but new range classes.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tBlockRan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range clas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lignment-equival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lockRan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but with ghost extens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extensions specified in constructor of range objec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ling ghost reg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host regions not magic.  They must be explicitly filled with values from (usually) neighboring proc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lib has a collective communication operation,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riteHal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that does th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PF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andard is more than 6 years ol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ny companies involved in the HPF forum no longer in business; many of those remaining abandoned their HPF proje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nguage too comple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—robust compilers very difficult to imp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erception that language inflexible—limited demand from application develop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Most parallel applications still developed in direct SPMD style, using MPI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place equation using ghost reg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2398320"/>
            <a:ext cx="762012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s2 p = new Procs2(P, 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(p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x = new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tBlockRan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, p.dim(0), 1, 1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y = new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tBlockRan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, p.dim(1), 1, 1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 [[,]] a = new float [[x, y]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boundary values of ‘a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lo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at [[,]] b = new float [[x, y]], r = new float [[x, y]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dlib.writeHalo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(i = x for 1 : N-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(j = y for 1 : N-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[i, j] = 0.25 * (a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j] + a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j] + a[i,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j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 + a[i,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j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[i, j] = Math.abs(b[i, j] - a[i, j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Pspmd.copy(a, b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 while(Adlib.maxval(r) &gt; EP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d-black ver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at [[,]] r = new float [[x, y]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Pspmd.init(r, 0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 iter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lib.writeHalo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(i = x for 1 : N-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(j = y 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1 + (i` + iter) % 2 : N-2 : 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at newA = 0.25 * (a[i-1, j] + a[i+1, j] + a[i, j-1] + a[i, j+1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[i, j] = Math.abs(newA - a[i, j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[i, j] = new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r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 while(Adlib.maxval(r) &gt; EP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way’s Life using ghost reg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2640" y="22093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mode [] = {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dlib.CYC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dlib.CYC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s2 p = new Procs2(P, 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(p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x = new ExtBlockRange(N, p.dim(0), 1, 1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y = new ExtBlockRange(N, p.dim(1), 1, 1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[[,]] state = new int [[x, y]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initial state of Life board, ‘state’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lo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 [[,]] sums = new int [[x, y]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int iter = 0; iter &lt; NITER; iter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lib.writeHalo(state,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(i = x for :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(j = y for :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ms[i, j] = state[i-1,  j-1] + state[i-1,  j] + state[i-1,  j+1]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[i,     j-1] +                      state[i,     j+1]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[i+1, j-1] + state[i+1, j] + state[i+1, j+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(i = x for :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(j = y for :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itch (sums [i, j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2:  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3:  state[i, j] = 1;  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: state[i, j] = 0;  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lapsed Distrib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llapsedRan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bclass of Range stands for range that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istribu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ange x = CollapsedRange(N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ange y = BlockRange(M, p.dim(0)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loat [[,]] a = new float [[x, y]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dimension of a is collaps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quential array dimen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2017440"/>
            <a:ext cx="8726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pts in first dimension of array declared above must still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ound lo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lthough effectively a sequential array w.r.t. that dimen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convenient to use integer subscripts in sequential dimens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“subtypes” of distributed arrays with sequential dimensions.  Exampl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ange y = BlockRange(M, p.dim(0)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loat [[*,]] a = new float [[N, y]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ntax for sequential dimen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81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terisk, *, appears in slot of type signature for sequential dimen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er expression (rather than range) appears in constructor slot.  If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range, the expression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w int [[10, x]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type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t [[*,]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use integer expressions for subscripts in element referenc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licated distrib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84836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apsed distributions mean array rank can be larger than process grid ran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llowed for array rank to be smaller than grid ran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cs2 p = new Procs2(P, 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n(p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ange x = new BlockRange(N, p.dim(0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loat [[]] b = new float [[x]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plicated ov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.dim(1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ide: replicated variables versus replicated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PJav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angu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o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nforce that all copies of replicated variables hold the same value at corresponding points of program execution (variables ar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he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a common programming practice is to maintain same values in all copies (most of the time)—“canonical style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lib communication library, for example, typically broadcasts results to replicated destination arrays if necessa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igh-level SPMD libr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ile the HPF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language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t problems, various data-parallel SPMD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librarie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have been deploy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caLAP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tS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Array Toolk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I/CHA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l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gher-level libraries support programming with distributed arrays in essentially MPI-like enviro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trix multiplication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52120" y="2093760"/>
            <a:ext cx="559908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 [[,]]  c  = new float [[x, y]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 [[,*]] a = new float [[x, N]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 [[*,]] b = new float [[N, y]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e ‘a’, ‘b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ll (i = x for :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ll (j = y for :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[i, j] = 0.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(int k = 0; k &lt; N; k+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[i, j] += a[i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* b[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j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arks on matrix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a very specific set of alignment relations between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dimension of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ligned with first dimension of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second dimension collapsed; whole array replicated over process dimension associated with second dimension of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general matrix multiplication procedure may accept any distributions for arguments, then remap them to the required relat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matrix multipl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matmul(float [[,]] c, float [[,]] a, float [[,]] b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p =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.grp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x =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.rng(0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 =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.rng(1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n =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.rng(1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size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 [[,*]] t1 = new float [[x, n]]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n 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dlib.remap(t1, a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 [[*,]] t2 = new float [[n, y]]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n 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dlib.remap(t2, b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(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ll nest, c = t1 * t2.  As previous ex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ion group of arr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tmu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dure illustrates general form of distributed array constructor, with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a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general this specifies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istribution gro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arr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 group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efaul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ctive process gro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—in all previous examples this was set by an enclosing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nstru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all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ma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sid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n(p){}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ere, becaus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ve elements outside group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Formalize this requirement la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ray se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PJava has a way of representing regular sub-arrays, similar to Fortran 9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 similar to element references, b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ouble brackets,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er rules about subscrip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subscripts can be triple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wo-dimensional FF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d FFT can be implemented simply by applying 1d FFT in parallel to all rows, then in parallel to all colum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eudocode assumes existence of fictitious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ple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imitive type.  For real code, split complex arrays into two float arrays—real and imaginary par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Java Grande Numerics WG drafted proposals for adding complex to Java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d FFT (pseudocod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15760" y="1904760"/>
            <a:ext cx="68943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fft1d(complex [[*]] u) {… Sequential FFT…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 [[,*]] a = new complex [[x, N]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 [[*,]] b = new complex [[N, x]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values in ‘a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ll (i = x for :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ft1d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[[i, :]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lib.remap(b, a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ll(i = x for :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ft1d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[[:, i]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in ‘b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ide: an array section expression is not a variable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240" y="2017440"/>
            <a:ext cx="7583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rray element reference is a variab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[i, j] = 23.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rray section expression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 variab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[[:, 1]] = b;    // Semantic error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one-dimensional array, may copy elements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HPspmd.copy(a[[:, 1]], b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 rule for object-valued express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olesky decomposition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ilar to LU decomposition of earlier lecture, but applie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mmetric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ri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to distribute by columns, instead of 2d decompos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-th column is broadcast by passing sections to rema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olesky decomposition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 [[*,]] a = new float [[N, x]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 to initialize ‘a’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 [[*]] col = new float [[N]];  // Collapsed, repl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nt k = 0; k &lt; N-1; k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k-th column of ‘a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lib.remap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l [[k+1 : N-1]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[[k+1 : N-1,  k]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ll (j = x for k+1 : N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nt i = j`; i &lt; N; i+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i, j] -= col[i] * col[j`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element a[N-1, N-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dea of HPspm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brary approach to distributed arrays clearly works, but lacks uniformity and elegance of data-parallel languages.  No unifying frame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n we take a minimal subset of the ideas from HPF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ahoma"/>
              </a:rPr>
              <a:t>—unified syntax for distributed arrays—to make the library-based SPMD approach more attracti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bd04924_" descr=""/>
          <p:cNvPicPr/>
          <p:nvPr/>
        </p:nvPicPr>
        <p:blipFill>
          <a:blip r:embed="rId1"/>
          <a:stretch/>
        </p:blipFill>
        <p:spPr>
          <a:xfrm>
            <a:off x="7315200" y="609480"/>
            <a:ext cx="84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umn normalization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63840" y="1828440"/>
            <a:ext cx="58276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Normalize k-th column of ‘a’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(j = x[k]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 diag = Math.sqrt(a [k, j]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k, j] = diag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nt i = k+1; i &lt; N; i+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i, j] /= diag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Normalize element a[N-1, N-1]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(j = x[N-1]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N-1, j] = Math.sqrt(a[N-1, j]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ide: correct use of subscrip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assignm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[i, j] -= col[i] * col[j`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write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l[j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location in the range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The array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as a different, collapsed ran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this is not a “type” error, it would be trapped as a runtime exception.  Like array-bound check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r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mension of an array section produced by a triplet subscript is generally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ubran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the range of the par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 for direct creation of subrange objec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ange u = x [0 : N/2 - 1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ange v = y [0 : N-1 : 2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tricted grou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ussed in the context of distributed array descriptors in an earlier le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HPJava a natural characterization of a restricted group is a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ubgrou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which a particula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o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mapp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 for direct creation of a restricted group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 / x [1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 / x [1] / y [4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ining mapping of array se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an array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distribution group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some arbitrary regular section of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reduce section to a standard form as fol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 any integer-valued subscript,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y a location-valued subscript,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.rng(r) [n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Here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position the subscript appears 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 replace any triplet-subscript,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:u: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y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.rng(r) [l:u:s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pping for section in standard 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location-valued subscripts are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, j, ...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distribution group of the section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 / i / j / 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th range of the section is the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th range-value subscrip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mapping of array s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 = new float [[x, y]] on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form of the section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 [[n, l:u]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[[x[n], y[l:u]]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ion group is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 / x[n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nges are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y[l:u]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ules of HP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ous rules are imposed to ensure that all accesses to array elements really are loc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re automatically enforced by compiler or run-time chec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formally def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ctive process gro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active process gro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ing the construc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n(p) {. . .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APG to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bo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current APG is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executing the construc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t (i = x[n]) {. . .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verall (i = x for l : u : s) {. . .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APG to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/ 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bo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ules for distributed control constru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nstruc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n(p) {. . .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contained in the current AP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nstruc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t (i = x[n]) {. . .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verall (i = x for l : u : s) {. . .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only appear if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distributed over a dimension of the AP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eatures of HPspm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dopts ideas, run-time technologies and some compilation techniques from HP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band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ngle, logical, global thread of control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iler-determined placement of computation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iler-generated, automatic insertion of communic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ft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plicitly MIMD (SPMD) programming model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 for representing distributed array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 for expressing placement of compu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ules for distributed array construc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x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new T [[e , . . ., e , . . .]] on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0           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only appear where p is contained in the AP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s that are non-collapsed range objects are distributed over distinct dimensions of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“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n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is omitted, the distribution group defaults to the AP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ules for element reference subscrip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distributed arr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[e , . . ., e , . . .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0           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n integer expression if the dimension has the sequential attribute.  Otherwise it is a bound location in the corresponding range of the arra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rule for element a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distributed array, suppose the location-valued subscripts in the element referen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[e , . . ., e , . . .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0           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, j, ..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me gro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element 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 / i / j / 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may only be accessed when the active process group is contained in the home group of the ele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enefi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9000" y="2017800"/>
            <a:ext cx="7812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lators are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muc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easier to implement than HPF compilers.  No compiler magic need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tractive framework for library development, avoiding inconsistent parametrizations of distributed array argu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tter prospects for handling irregular problem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—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asier to fall back on specialized libraries as requi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ltimate fall-back: can directly call MPI functions from within an HPspmd progr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anguage exten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Pspmd languages extended from standard base languages (Fortran, C++, Java, . . 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program that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esn’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the extensions should be executed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exactl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s a SPMD progra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—in independent processes with their own threads of contro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tributed array types added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rictly separate from sequential arrays of base languag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—no attempt to conceal the disti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istributed contro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struct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 add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Most important is a distributed, data-parallel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14:25:34Z</dcterms:created>
  <dc:creator>Mr &amp; Mrs P Carpenter</dc:creator>
  <dc:description/>
  <dc:language>en-US</dc:language>
  <cp:lastModifiedBy>蔡旭斌</cp:lastModifiedBy>
  <dcterms:modified xsi:type="dcterms:W3CDTF">2000-01-10T09:06:46Z</dcterms:modified>
  <cp:revision>51</cp:revision>
  <dc:subject/>
  <dc:title>The Development of Data-Parallel Programming</dc:title>
</cp:coreProperties>
</file>