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3.png" ContentType="image/png"/>
  <Override PartName="/ppt/media/image8.wmf" ContentType="image/x-wmf"/>
  <Override PartName="/ppt/media/image9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021CC-0AC9-4D82-9155-AD5BDC82A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254D0-E798-4ECA-8187-075C832BB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35718-0A68-43B1-8F6D-33E568061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D9063-8E54-4020-B98E-79859C3A7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EDEC4-33E6-48EA-8872-06199FECA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0A92D-F42A-4471-B9D4-0E2AEF74B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FB374-073B-4D0F-B3C3-CA2F69C39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A82CB-1C4B-4B0A-85D5-1C5AFD66D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438FF-5CBB-4EA6-9F9D-7826DAA87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4FFF4-CBBA-4745-8B8D-C8C254C29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AC0C7-DFD4-461B-84FA-D14AFD2A7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117B2-C4B6-41C4-ADA5-4A7C82F2E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FB697-11D3-42D1-9278-9188B2829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EF507-4A43-43F9-8BE2-1B5A453C7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B233E-4FFD-45FD-9EFC-3B6072AB1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B2C61-A3CA-4E1A-8619-A056452E5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17846-ECE0-4A97-80EC-45ACDDEB8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A8A04-A02B-424A-9256-3CCFF3C3B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3D04A-E1B3-402D-B48C-83E978C92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33DBF-49D3-4B60-9704-4E783FAB9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FDDB0-1E5B-4847-8F80-4B93035EE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9D450-DB83-442B-9166-1A72A0B05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80848-F93A-4F16-95A4-C0974BA47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25CF8-8A14-4B3A-BEE9-D8F153437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7ADB3-EAD6-4F56-8509-8FDDC6841CEF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41421-8904-44F8-BC86-E4273F094BD2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Message-passing programming in Jav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7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ahoma"/>
              </a:rPr>
              <a:t>Bryan Carpent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NPAC at Syracuse Univers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7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Syracuse, NY 1324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7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dbc@npac.syr.ed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Datatyp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1600200" y="2038320"/>
          <a:ext cx="5676840" cy="4210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2038320"/>
                    <a:ext cx="5676840" cy="421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19320" y="380520"/>
            <a:ext cx="761976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mpiJava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implementation issu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mpiJava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is currently implemented as Java interface to an underlying MPI implementation - such as MPICH or some other native MPI implementatio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interface between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mpiJava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the underlying MPI implementation is via the Java Native Interface (JNI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19320" y="3805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mpiJava -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oftware Lay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978200" y="2286000"/>
            <a:ext cx="5195880" cy="2904840"/>
            <a:chOff x="1978200" y="2286000"/>
            <a:chExt cx="5195880" cy="2904840"/>
          </a:xfrm>
        </p:grpSpPr>
        <p:sp>
          <p:nvSpPr>
            <p:cNvPr id="154" name=""/>
            <p:cNvSpPr/>
            <p:nvPr/>
          </p:nvSpPr>
          <p:spPr>
            <a:xfrm>
              <a:off x="2757600" y="2286000"/>
              <a:ext cx="3246480" cy="4158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MPIprog.jav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496960" y="3116160"/>
              <a:ext cx="3899160" cy="4158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Import mpi.*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103480" y="3946320"/>
              <a:ext cx="4761000" cy="4161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JNI C Interfa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978200" y="4776480"/>
              <a:ext cx="5195880" cy="4143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Native Library (MPI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4417560" y="4362480"/>
              <a:ext cx="1800" cy="414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4417560" y="3531960"/>
              <a:ext cx="1800" cy="414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4417560" y="2701800"/>
              <a:ext cx="1800" cy="414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5945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mpiJava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implementation issu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entury Schoolbook"/>
              </a:rPr>
              <a:t>Interfacing Java to MPI not always trivial,  e.g., see low-level conflicts between the Java runtime and interrupts in MPI.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entury Schoolbook"/>
              </a:rPr>
              <a:t>Situation improving as JDK matures - </a:t>
            </a:r>
            <a:r>
              <a:rPr b="0" lang="en-US" sz="2900" spc="-1" strike="noStrike">
                <a:solidFill>
                  <a:srgbClr val="ff3300"/>
                </a:solidFill>
                <a:latin typeface="Century Schoolbook"/>
              </a:rPr>
              <a:t>1.2</a:t>
            </a:r>
            <a:r>
              <a:rPr b="0" lang="en-US" sz="2900" spc="-1" strike="noStrike">
                <a:solidFill>
                  <a:srgbClr val="ff3300"/>
                </a:solidFill>
                <a:latin typeface="Marlett"/>
                <a:ea typeface="Marlett"/>
              </a:rPr>
              <a:t>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entury Schoolbook"/>
              </a:rPr>
              <a:t>Now reliable on Solaris MPI (SunHPC, MPICH), shared memory, NT (WMPI).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entury Schoolbook"/>
              </a:rPr>
              <a:t>Linux - Blackdown JDK 1.2 beta just out and seems OK - other ports in progress.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447560" y="3805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mpiJava -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st Machin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304920" y="2585880"/>
          <a:ext cx="8804160" cy="3129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585880"/>
                    <a:ext cx="8804160" cy="312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47920" y="617040"/>
            <a:ext cx="749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mpiJava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-304920" y="2971800"/>
          <a:ext cx="9769680" cy="1751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04920" y="2971800"/>
                    <a:ext cx="9769680" cy="175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447560" y="304560"/>
            <a:ext cx="662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mpiJava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performance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1. Shared memory m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71" name="image27" descr=""/>
          <p:cNvPicPr/>
          <p:nvPr/>
        </p:nvPicPr>
        <p:blipFill>
          <a:blip r:embed="rId1"/>
          <a:stretch/>
        </p:blipFill>
        <p:spPr>
          <a:xfrm>
            <a:off x="1219320" y="1627200"/>
            <a:ext cx="6629400" cy="51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426680" y="304560"/>
            <a:ext cx="710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mpiJava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performance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2. Distributed memor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73" name="image28" descr=""/>
          <p:cNvPicPr/>
          <p:nvPr/>
        </p:nvPicPr>
        <p:blipFill>
          <a:blip r:embed="rId1"/>
          <a:stretch/>
        </p:blipFill>
        <p:spPr>
          <a:xfrm>
            <a:off x="1143000" y="1584360"/>
            <a:ext cx="6781680" cy="525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mpiJava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demo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1. CFD: inviscid flow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75" name="cfd" descr=""/>
          <p:cNvPicPr/>
          <p:nvPr/>
        </p:nvPicPr>
        <p:blipFill>
          <a:blip r:embed="rId1"/>
          <a:stretch/>
        </p:blipFill>
        <p:spPr>
          <a:xfrm>
            <a:off x="1143000" y="2165400"/>
            <a:ext cx="6934320" cy="41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mpiJava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demo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2. Q-state Potts mode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77" name="pottsdemo" descr=""/>
          <p:cNvPicPr/>
          <p:nvPr/>
        </p:nvPicPr>
        <p:blipFill>
          <a:blip r:embed="rId1"/>
          <a:stretch/>
        </p:blipFill>
        <p:spPr>
          <a:xfrm>
            <a:off x="1676520" y="1981080"/>
            <a:ext cx="5929200" cy="43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Goals of this l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Describe a Java binding of MPI developed in the HPJava project at Syracus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Discuss ongoing activities related to message-passing in the Java Grande Forum—MPJ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90720" y="1828800"/>
            <a:ext cx="8153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333399"/>
                </a:solidFill>
                <a:latin typeface="Tahoma"/>
              </a:rPr>
              <a:t>Object Serialization in mpiJav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380880" y="3733560"/>
            <a:ext cx="876312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ryan Carpenter, Geoffrey Fox, Sung-Hoon Ko, and Sang Li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ww.npac.syr.edu/projects/pcrc/HPJava/mpiJava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ome issues in design of a Java API for MP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lass hierarch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  MPI is already object-based.  “Standard” class hierarchy exists for C++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etailed argument lists for methods.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perties of Java language imply various superficial changes from C/C++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ahoma"/>
              </a:rPr>
              <a:t>Mechanisms for representing message buffers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presenting Message Buffers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3818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wo natural option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llow the MPI standard route: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erived datatypes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cribe buffers consisting of mixed primitive fields scattered in local memory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llow the Java standard route: automatic marshalling of complex structures through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object serializatio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verview of this part of l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830592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scuss incorporation of derived datatypes in the Java API, and limitation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ng object serialization at the API level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cribe implementation using JDK serializatio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nchmarks for naïve implementatio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ptimizing serializatio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Datatyp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1316160" y="2054160"/>
          <a:ext cx="6360840" cy="4143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16160" y="2054160"/>
                    <a:ext cx="6360840" cy="414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rived datatyp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PI derived datatypes have two role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n-contiguous data can be transmitted in one messag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MPI_TYPE_STRUC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llows mixed primitive types in one messag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Java binding doesn’t support second role. All data come from a homogeneous array of elements (no </a:t>
            </a: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MPI_Addres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tricted mode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derived datatype consists o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A base typ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  One of the 9 basic typ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A displacement sequence.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relocatable pattern of integer displacements in the buffer array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disp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,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disp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, . . . ,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disp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}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             1                          n-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mi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’t mix primitive types or fields from different object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splacements only operate within 1d arrays.  Can’t use </a:t>
            </a: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MPI_TYPE_VECTO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o describe sections of multidimensional array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bject datatyp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</a:t>
            </a: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typ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rgument is </a:t>
            </a: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MPI.OBJEC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buf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hould be an array of object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lows to send fields of mixed primitive types, and fields from different objects, in one messag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lows to send multidimensional arrays, because they are arrays of arrays (and arrays are effectively objects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utomatic serial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066680" y="2017800"/>
            <a:ext cx="788832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nd </a:t>
            </a: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buf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hould be an array of objects implementing </a:t>
            </a: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Serializabl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ceive </a:t>
            </a: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buf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hould be an array of compatible reference types (may be null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Java serialization paradigm applied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objects (and objects referenced through them) converted to a byte stream.  Object graph reconstructed at the receiving en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Contents of L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Overview of mpiJav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PI and Implemen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nchmarks and dem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 Serialization in mpiJava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rived datatypes vs object data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Naive and optimized implementation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-passing activities in Java Gran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oughts on a Java Reference Implementation for MPJ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mplementation issues for Object datatyp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066680" y="2017440"/>
            <a:ext cx="788832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itial implementation in mpiJava used </a:t>
            </a: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ObjectOutputStream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ObjectInputStream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classes from JDK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2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ta serialized and sent as a byte vector, using MPI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ngth of byte data not known in advance.  Encoded in a separate header so space can be allocated dynamically in receive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difications to mpiJav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l mpiJava communications, including non-blocking modes and collective operations, now allow objects as base typ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eader + data decomposition complicates, eg, </a:t>
            </a: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wait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</a:t>
            </a: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te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family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rived datatypes complicate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llective comms involve two phases if base type is </a:t>
            </a: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OBJECT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mpiJava with naive serial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143000" y="2017800"/>
            <a:ext cx="78120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ssume in “Grande” applications, critical case is arrays of primitive elemen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sider N x N array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6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loat [] [] buf = new float [N] [N] 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MPI.COMM_WORLD.send(buf, 0, N, MPI.OBJEC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                                                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dst, tag) 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loat [] [] buf = new float [N] [] 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MPI.COMM_WORLD.recv(buf, 0, N, MPI.OBJEC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                                               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rc, tag) 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latfor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uster of 2-processor, 200 Mhz Ultrasparc nod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nATM-155/MMF net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n MPI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n-shared memory” = inter-node com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hared memory” = intra-node com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on-shared memory: byt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08" name="nonsh_byte" descr=""/>
          <p:cNvPicPr/>
          <p:nvPr/>
        </p:nvPicPr>
        <p:blipFill>
          <a:blip r:embed="rId1"/>
          <a:stretch/>
        </p:blipFill>
        <p:spPr>
          <a:xfrm>
            <a:off x="2286000" y="2133720"/>
            <a:ext cx="4371840" cy="40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on-shared memory: flo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10" name="nonsh_float" descr=""/>
          <p:cNvPicPr/>
          <p:nvPr/>
        </p:nvPicPr>
        <p:blipFill>
          <a:blip r:embed="rId1"/>
          <a:stretch/>
        </p:blipFill>
        <p:spPr>
          <a:xfrm>
            <a:off x="2286000" y="1981080"/>
            <a:ext cx="4476600" cy="40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hared memory: byt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12" name="sh_byte" descr=""/>
          <p:cNvPicPr/>
          <p:nvPr/>
        </p:nvPicPr>
        <p:blipFill>
          <a:blip r:embed="rId1"/>
          <a:stretch/>
        </p:blipFill>
        <p:spPr>
          <a:xfrm>
            <a:off x="2362320" y="1905120"/>
            <a:ext cx="4371840" cy="40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hared memory: flo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14" name="sh_float" descr=""/>
          <p:cNvPicPr/>
          <p:nvPr/>
        </p:nvPicPr>
        <p:blipFill>
          <a:blip r:embed="rId1"/>
          <a:stretch/>
        </p:blipFill>
        <p:spPr>
          <a:xfrm>
            <a:off x="2362320" y="1981080"/>
            <a:ext cx="4476600" cy="40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arameters in timing model (microsecond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6840" y="1886040"/>
            <a:ext cx="845820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te                                    flo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     = 0.043         t     = 2.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r                                      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te                                    flo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     = 0.027         t     = 1.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ser                                  un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te                                    flo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     = 0.062         t     = 0.25    (non-shared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                                     co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te                                    flo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     = 0.008         t     = 0.038  (shared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                                    co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 less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st of serializing and unserializing an individual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floa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one to tw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orders of magnitude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reater than communication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rializing subarrays also expensiv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ec                                         ve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    = 100               t     = 5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r                                         un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mpiJava</a:t>
            </a:r>
            <a:r>
              <a:rPr b="0" i="1" lang="en-US" sz="4400" spc="-1" strike="noStrike">
                <a:solidFill>
                  <a:srgbClr val="333399"/>
                </a:solidFill>
                <a:latin typeface="Tahoma"/>
              </a:rPr>
              <a:t>: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i="1" lang="en-US" sz="4400" spc="-1" strike="noStrike">
                <a:solidFill>
                  <a:srgbClr val="333399"/>
                </a:solidFill>
                <a:latin typeface="Tahoma"/>
              </a:rPr>
              <a:t>A Java Interface to MP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762120" y="4019400"/>
            <a:ext cx="8076960" cy="17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rk Baker, Bryan Carpenter, Geoffrey Fox, Guansong Zhang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ww.npac.syr.edu/projects/pcrc/HPJava/mpiJava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mproving serial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urces of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ObjectOutputStream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ObjectInputStream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re available, and format of serialized stream is documente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y overriding performance-critical methods in classes, and modifying critical aspects of the stream format, can hope to solve immediate problem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liminating overheads of element serial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stomized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bjectOutputStrea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replaces primitive arrays with short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rrayProx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bject.  Separate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Vecto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holding the Java arrays is produce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-less” byte stream sent as heade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bjectInputStrea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yields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Vecto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f allocated arrays, not writing element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ments then sent in one comm using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PI_TYPE_STRUC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rom vector inf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mproved protoco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4" name="arrayProtocol" descr=""/>
          <p:cNvPicPr/>
          <p:nvPr/>
        </p:nvPicPr>
        <p:blipFill>
          <a:blip r:embed="rId1"/>
          <a:stretch/>
        </p:blipFill>
        <p:spPr>
          <a:xfrm>
            <a:off x="1066680" y="1905120"/>
            <a:ext cx="7315200" cy="46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ustomized output stream clas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43000" y="2017440"/>
            <a:ext cx="7812000" cy="44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experimental implementation, use inheritance from standard stream class,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ObjectOutputStream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ArrayOutputStrea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extends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ObjectOutputStrea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and defines method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replaceObjec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method tests if argument is a primitive array.  If it is, reference to the array is stored in the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dataVecto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and a small proxy object is placed in the output stream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ustomized input stream clas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143000" y="2017440"/>
            <a:ext cx="7812000" cy="44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ilarly, class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ArrayInputStrea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extends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ObjectInputStrea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and defines method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resolveObjec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method tests if argument is an array proxy.  If it is, a primitive array of the appropriate size and type is created and stored in the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dataVecto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on-shared memory: float (optimized in red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30" name="nonsharedFloatNewOld" descr=""/>
          <p:cNvPicPr/>
          <p:nvPr/>
        </p:nvPicPr>
        <p:blipFill>
          <a:blip r:embed="rId1"/>
          <a:srcRect l="3125" t="5398" r="0" b="0"/>
          <a:stretch/>
        </p:blipFill>
        <p:spPr>
          <a:xfrm>
            <a:off x="1143000" y="1828800"/>
            <a:ext cx="708516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on-shared memory: byte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(optimized in red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32" name="nonsharedByteNewOld" descr=""/>
          <p:cNvPicPr/>
          <p:nvPr/>
        </p:nvPicPr>
        <p:blipFill>
          <a:blip r:embed="rId1"/>
          <a:srcRect l="0" t="6832" r="0" b="0"/>
          <a:stretch/>
        </p:blipFill>
        <p:spPr>
          <a:xfrm>
            <a:off x="1066680" y="1905120"/>
            <a:ext cx="7315200" cy="52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hared memory: float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(optimized in red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34" name="sharedFloatNewOld" descr=""/>
          <p:cNvPicPr/>
          <p:nvPr/>
        </p:nvPicPr>
        <p:blipFill>
          <a:blip r:embed="rId1"/>
          <a:srcRect l="0" t="6832" r="0" b="0"/>
          <a:stretch/>
        </p:blipFill>
        <p:spPr>
          <a:xfrm>
            <a:off x="1066680" y="1828800"/>
            <a:ext cx="7315200" cy="52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hared memory: byte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(optimized in red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36" name="sharedByteNewOld" descr=""/>
          <p:cNvPicPr/>
          <p:nvPr/>
        </p:nvPicPr>
        <p:blipFill>
          <a:blip r:embed="rId1"/>
          <a:srcRect l="0" t="6832" r="0" b="0"/>
          <a:stretch/>
        </p:blipFill>
        <p:spPr>
          <a:xfrm>
            <a:off x="990720" y="1828800"/>
            <a:ext cx="7315200" cy="52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latively easy to get dramatic improvement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ve only truly optimized one dimensional arrays embedded in stream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r work looked at direct optimizations for rectangular multi-dimensional arrays---replace wholesale in stream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</a:t>
            </a: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mpiJava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wrapp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s a Java API for MPI suggested  in late ‘97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uilds on work on Java wrappers for MPI started at NPAC about a year earlie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eopl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Bryan Carpenter, Yuh-Jye Chang, Xinying Li, Sung Hoon Ko, Guansong Zhang, Mark Baker, Sang Lim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s on object serial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761760" y="220932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rived datatypes workable for Java, but slightly limite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ject basic types attractive on grounds of simplicity and generality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aïve implementation too slow for bulk data transfe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ptimizations should bring asymptotic performance in line with C/Fortran MPI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218960" y="1828800"/>
            <a:ext cx="77216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333399"/>
                </a:solidFill>
                <a:latin typeface="Tahoma"/>
              </a:rPr>
              <a:t>Message-passing in Java Grande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ttp://javagrande.or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jects related to MPI and Jav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mpiJava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Syracus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JavaMP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Getov et al, Westminster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JMP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MPI Software Technology)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MPIJ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Judd et al, Brigham Young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jmp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Dincer et al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piJava related work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1. DOGMA MPIJ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ompletely Java-based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implementation of a large subset of MPI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rt of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istributed Object Group Metacomputing Architect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native marshalling of primitive Java types for performanc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Judd, Clement and Snell, 1998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543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mpiJava related work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2. Automatic wrapper gener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JC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Java-to-C interface generator takes input C header and generates stub functions for JNI Java interfac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JavaMP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ndings generated in this way resemble the C interface to MPI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etov and Mintchev, 1997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piJava related work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3. JMPI™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ercial message-passing environment for Java announced by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MPI Software Technolog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rawford, Dandass and Skjellum, 1997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piJava related work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4. jmpi instrumented MP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100%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Java implementation of an MPI subse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yered on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JPVM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rumented for performance analysis and visualizatio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ncer and Kadriy, 1998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ndardization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urrently all implementations of MPI for Java have different API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“official” Java binding for MPI (complementing Fortran, C, C++ bindings) would help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osition paper and draft AP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Carpenter, Getov, Judd, Skjellum and Fox, 1998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Java Grande Foru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219320" y="2017800"/>
            <a:ext cx="77356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of interest in message-passing for Java healthy, but not enough to expect MPI forum to reconve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promising to work within th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Java Grande Foru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  Message-Passing Working Group formed (as a subset of the existing Concurrency and Applications working group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avoid conflicts with MPIF, Java effort renamed to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MPJ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PJ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roup of enthusiasts, informally chaired by Vladimir Getov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etings in last year in San Francisco (Java ‘99), Syracuse, and Portland (SC ‘99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gular attendance by members of SunHPC group, amongst other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mpiJava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features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040" y="2017440"/>
            <a:ext cx="80406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Fully featured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Java interface to MPI 1.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ject-oriented API based on MPI 2 standard C++ interfa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itial implementation through JNI to native MP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omprehensive test suit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ranslated from IBM MPI sui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vailable for Solaris, Windows NT and other plat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218960" y="1828800"/>
            <a:ext cx="77216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333399"/>
                </a:solidFill>
                <a:latin typeface="Tahoma"/>
              </a:rPr>
              <a:t>Thoughts on a Java Reference Implementation for MPJ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1218960" y="3733560"/>
            <a:ext cx="6553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Mark Baker, Bryan Carpent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efits of a pure Java implementation of MPJ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ighly portable.  Assumes only a Java development environmen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erformance: moderate.  May need JNI inserts for marshalling arrays.  Network speed limited by Java socket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ood for education/evaluation.  Vendors provide wrappers to native MPI for ultimate performance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ource discover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chnically, Jini discovery and lookup seems an obvious choice.  Daemons register with lookup servic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“hosts file” may still guide the search for hosts, if preferre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unication bas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43000" y="2209320"/>
            <a:ext cx="7772400" cy="17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ybe, some day, Java VIA??  For now sockets are the only portable option.  RMI surely too slow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ndling “Partial Failures”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useable MPI implementation must deal with unexpected process termination or network failure, without leaving orphan processes, or leaking other resourc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uld reinvent protocols to deal with these situations, but Jini provides a ready-made framework (or, at least, a set of concepts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quiring compute slaves through Jin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70" name="MPJ-Jini" descr=""/>
          <p:cNvPicPr/>
          <p:nvPr/>
        </p:nvPicPr>
        <p:blipFill>
          <a:blip r:embed="rId1"/>
          <a:stretch/>
        </p:blipFill>
        <p:spPr>
          <a:xfrm>
            <a:off x="1523880" y="2057400"/>
            <a:ext cx="6058080" cy="39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ndling failures with Jin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any slave dies, client generates a Jini distributed event, 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MPIAbor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  All slaves are notified and all processes kille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case of other failures (network failure, death of client, death of controlling daemon, …) client leases on slaves expire in a fixed time, and processes are kille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gher lay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74" name="tower" descr=""/>
          <p:cNvPicPr/>
          <p:nvPr/>
        </p:nvPicPr>
        <p:blipFill>
          <a:blip r:embed="rId1"/>
          <a:stretch/>
        </p:blipFill>
        <p:spPr>
          <a:xfrm>
            <a:off x="2133720" y="1828800"/>
            <a:ext cx="4819680" cy="467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295280" y="685800"/>
            <a:ext cx="7010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ahoma"/>
              </a:rPr>
              <a:t>Integration of Jini and MPI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ahoma"/>
              </a:rPr>
              <a:t>         </a:t>
            </a:r>
            <a:r>
              <a:rPr b="1" i="1" lang="en-US" sz="3600" spc="-1" strike="noStrike">
                <a:solidFill>
                  <a:srgbClr val="333399"/>
                </a:solidFill>
                <a:latin typeface="Tahoma"/>
              </a:rPr>
              <a:t>Geoffrey C. Fox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218960" y="2286000"/>
            <a:ext cx="69339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a natural Java framework for parallel computing with the powerful fault tolerance and dynamic characteristics of Jini combined with proven parallel computing functionality and performance of M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152280" y="3657600"/>
            <a:ext cx="8686800" cy="3124080"/>
          </a:xfrm>
          <a:prstGeom prst="rect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828800" y="5105520"/>
            <a:ext cx="5791320" cy="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952880" y="76320"/>
            <a:ext cx="3657600" cy="533160"/>
          </a:xfrm>
          <a:prstGeom prst="rect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-360" y="-672840"/>
            <a:ext cx="4916520" cy="1434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JiniMPI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1" name=""/>
          <p:cNvSpPr/>
          <p:nvPr/>
        </p:nvSpPr>
        <p:spPr>
          <a:xfrm>
            <a:off x="5486400" y="838080"/>
            <a:ext cx="350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s MPI Transport Lay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0" y="6091200"/>
            <a:ext cx="91440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352080" y="4864320"/>
            <a:ext cx="8617320" cy="476280"/>
            <a:chOff x="352080" y="4864320"/>
            <a:chExt cx="8617320" cy="476280"/>
          </a:xfrm>
        </p:grpSpPr>
        <p:sp>
          <p:nvSpPr>
            <p:cNvPr id="284" name=""/>
            <p:cNvSpPr/>
            <p:nvPr/>
          </p:nvSpPr>
          <p:spPr>
            <a:xfrm>
              <a:off x="352080" y="4864320"/>
              <a:ext cx="1530720" cy="476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00"/>
                  </a:solidFill>
                  <a:latin typeface="Arial"/>
                </a:rPr>
                <a:t>PC Prox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714400" y="4864320"/>
              <a:ext cx="1530720" cy="476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00"/>
                  </a:solidFill>
                  <a:latin typeface="Arial"/>
                </a:rPr>
                <a:t>PC Prox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7438680" y="4864320"/>
              <a:ext cx="1530720" cy="476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00"/>
                  </a:solidFill>
                  <a:latin typeface="Arial"/>
                </a:rPr>
                <a:t>PC Prox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229000" y="4864320"/>
              <a:ext cx="1530720" cy="476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00"/>
                  </a:solidFill>
                  <a:latin typeface="Arial"/>
                </a:rPr>
                <a:t>PC Prox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8" name=""/>
          <p:cNvSpPr/>
          <p:nvPr/>
        </p:nvSpPr>
        <p:spPr>
          <a:xfrm>
            <a:off x="4610160" y="4800600"/>
            <a:ext cx="0" cy="914400"/>
          </a:xfrm>
          <a:prstGeom prst="line">
            <a:avLst/>
          </a:prstGeom>
          <a:ln w="76320">
            <a:solidFill>
              <a:srgbClr val="ff7c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474000" y="3796920"/>
            <a:ext cx="2272320" cy="994680"/>
          </a:xfrm>
          <a:prstGeom prst="ellipse">
            <a:avLst/>
          </a:prstGeom>
          <a:solidFill>
            <a:srgbClr val="00e4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ini Lookup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952880" y="1371600"/>
            <a:ext cx="1676520" cy="1905120"/>
          </a:xfrm>
          <a:prstGeom prst="rect">
            <a:avLst/>
          </a:prstGeom>
          <a:solidFill>
            <a:srgbClr val="1c1c1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7315200" y="1371600"/>
            <a:ext cx="1676520" cy="1905120"/>
          </a:xfrm>
          <a:prstGeom prst="rect">
            <a:avLst/>
          </a:prstGeom>
          <a:solidFill>
            <a:srgbClr val="1c1c1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7522920" y="2424600"/>
            <a:ext cx="1261800" cy="82116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Jini PC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mbry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590920" y="1371600"/>
            <a:ext cx="1676160" cy="1905120"/>
          </a:xfrm>
          <a:prstGeom prst="rect">
            <a:avLst/>
          </a:prstGeom>
          <a:solidFill>
            <a:srgbClr val="1c1c1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788560" y="2424600"/>
            <a:ext cx="1261800" cy="82116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Jini PC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mbry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28600" y="1371600"/>
            <a:ext cx="1676520" cy="1905120"/>
          </a:xfrm>
          <a:prstGeom prst="rect">
            <a:avLst/>
          </a:prstGeom>
          <a:solidFill>
            <a:srgbClr val="1c1c1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00160" y="1358640"/>
            <a:ext cx="1733760" cy="9946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SPMD</a:t>
            </a:r>
            <a:br>
              <a:rPr sz="2000"/>
            </a:b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Progr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562120" y="1358640"/>
            <a:ext cx="1733760" cy="9946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SPMD</a:t>
            </a:r>
            <a:br>
              <a:rPr sz="2000"/>
            </a:b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Progr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924440" y="1358640"/>
            <a:ext cx="1733760" cy="9946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SPMD</a:t>
            </a:r>
            <a:br>
              <a:rPr sz="2000"/>
            </a:b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Progr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7286760" y="1358640"/>
            <a:ext cx="1733760" cy="9946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SPMD</a:t>
            </a:r>
            <a:br>
              <a:rPr sz="2000"/>
            </a:b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Progr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295280" y="1855800"/>
            <a:ext cx="6705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26960" y="2424600"/>
            <a:ext cx="1261800" cy="82116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Jini PC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mbry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151240" y="2424600"/>
            <a:ext cx="1261800" cy="82116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Jini PC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mbry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505320" y="5715000"/>
            <a:ext cx="2209680" cy="91440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C Control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d Ser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657600" y="3200400"/>
            <a:ext cx="533520" cy="685800"/>
          </a:xfrm>
          <a:prstGeom prst="line">
            <a:avLst/>
          </a:prstGeom>
          <a:ln w="38160">
            <a:solidFill>
              <a:srgbClr val="00e4a8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143000" y="3276720"/>
            <a:ext cx="2438280" cy="914400"/>
          </a:xfrm>
          <a:prstGeom prst="line">
            <a:avLst/>
          </a:prstGeom>
          <a:ln w="38160">
            <a:solidFill>
              <a:srgbClr val="00e4a8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V="1">
            <a:off x="5715000" y="3276360"/>
            <a:ext cx="2438280" cy="1066680"/>
          </a:xfrm>
          <a:prstGeom prst="line">
            <a:avLst/>
          </a:prstGeom>
          <a:ln w="38160">
            <a:solidFill>
              <a:srgbClr val="00e4a8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 flipH="1">
            <a:off x="5181480" y="3276720"/>
            <a:ext cx="609840" cy="609480"/>
          </a:xfrm>
          <a:prstGeom prst="line">
            <a:avLst/>
          </a:prstGeom>
          <a:ln w="38160">
            <a:solidFill>
              <a:srgbClr val="00e4a8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8839080" y="2133720"/>
            <a:ext cx="0" cy="2895480"/>
          </a:xfrm>
          <a:prstGeom prst="line">
            <a:avLst/>
          </a:prstGeom>
          <a:ln w="5724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553080" y="2057400"/>
            <a:ext cx="0" cy="2895480"/>
          </a:xfrm>
          <a:prstGeom prst="line">
            <a:avLst/>
          </a:prstGeom>
          <a:ln w="5724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19520" y="2133720"/>
            <a:ext cx="0" cy="2895480"/>
          </a:xfrm>
          <a:prstGeom prst="line">
            <a:avLst/>
          </a:prstGeom>
          <a:ln w="5724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57200" y="2133720"/>
            <a:ext cx="0" cy="2895480"/>
          </a:xfrm>
          <a:prstGeom prst="line">
            <a:avLst/>
          </a:prstGeom>
          <a:ln w="5724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467480" y="76320"/>
            <a:ext cx="10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RM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219320" y="5334120"/>
            <a:ext cx="2361960" cy="685800"/>
          </a:xfrm>
          <a:prstGeom prst="line">
            <a:avLst/>
          </a:prstGeom>
          <a:ln w="5724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505320" y="990720"/>
            <a:ext cx="19047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 flipV="1">
            <a:off x="5638680" y="5334120"/>
            <a:ext cx="2590920" cy="838080"/>
          </a:xfrm>
          <a:prstGeom prst="line">
            <a:avLst/>
          </a:prstGeom>
          <a:ln w="5724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105520" y="304920"/>
            <a:ext cx="2286000" cy="0"/>
          </a:xfrm>
          <a:prstGeom prst="line">
            <a:avLst/>
          </a:prstGeom>
          <a:ln w="5724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505320" y="5334120"/>
            <a:ext cx="533160" cy="457200"/>
          </a:xfrm>
          <a:prstGeom prst="line">
            <a:avLst/>
          </a:prstGeom>
          <a:ln w="5724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H="1">
            <a:off x="5333760" y="5334120"/>
            <a:ext cx="685800" cy="457200"/>
          </a:xfrm>
          <a:prstGeom prst="line">
            <a:avLst/>
          </a:prstGeom>
          <a:ln w="5724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34960" y="5943600"/>
            <a:ext cx="200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iddle T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04920" y="838080"/>
            <a:ext cx="2963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C is Parallel Compu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352680" y="838080"/>
            <a:ext cx="556272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0" y="121932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ass hierarch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1084320" y="2463840"/>
            <a:ext cx="7068600" cy="3403440"/>
            <a:chOff x="1084320" y="2463840"/>
            <a:chExt cx="7068600" cy="3403440"/>
          </a:xfrm>
        </p:grpSpPr>
        <p:sp>
          <p:nvSpPr>
            <p:cNvPr id="113" name=""/>
            <p:cNvSpPr/>
            <p:nvPr/>
          </p:nvSpPr>
          <p:spPr>
            <a:xfrm>
              <a:off x="3126960" y="2463840"/>
              <a:ext cx="1209600" cy="365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MP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26960" y="3071880"/>
              <a:ext cx="1255680" cy="365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Grou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126960" y="3679920"/>
              <a:ext cx="1255680" cy="365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om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126960" y="4287960"/>
              <a:ext cx="1255680" cy="365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Datatyp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126960" y="4896000"/>
              <a:ext cx="1255680" cy="365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tatu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126960" y="5504040"/>
              <a:ext cx="1262880" cy="363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Reque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084320" y="4044960"/>
              <a:ext cx="1571040" cy="363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ackage mp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854240" y="3436920"/>
              <a:ext cx="1414440" cy="363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Intracom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854240" y="4044960"/>
              <a:ext cx="1414440" cy="363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Intercom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10840" y="5504040"/>
              <a:ext cx="1571040" cy="363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reque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738480" y="3193920"/>
              <a:ext cx="1414440" cy="363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artcom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738480" y="3679920"/>
              <a:ext cx="1414440" cy="365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Graphcom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811960" y="2586240"/>
              <a:ext cx="0" cy="316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811960" y="2586240"/>
              <a:ext cx="315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811960" y="3314880"/>
              <a:ext cx="315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11960" y="3922920"/>
              <a:ext cx="315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11960" y="4530600"/>
              <a:ext cx="315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811960" y="5138640"/>
              <a:ext cx="315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811960" y="5746680"/>
              <a:ext cx="315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655360" y="4165560"/>
              <a:ext cx="156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383000" y="3922920"/>
              <a:ext cx="314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383000" y="5746680"/>
              <a:ext cx="627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697640" y="3679920"/>
              <a:ext cx="0" cy="48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697640" y="4165560"/>
              <a:ext cx="156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697640" y="3679920"/>
              <a:ext cx="156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268680" y="367992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581880" y="3436920"/>
              <a:ext cx="0" cy="48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581880" y="3922920"/>
              <a:ext cx="156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581880" y="3436920"/>
              <a:ext cx="156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371600" y="990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marks on JiniMPI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0" y="1676160"/>
            <a:ext cx="9144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architecture is more general than that needed to support MPI like parallel compu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t includes ideas present in systems like Condor and Javeli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diagram only shows server (bottom) and service (top) layers. There is of course a client layer which communicates directly with “Parallel Computing (PC) Control and Services module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 assume that each workstation has a “Jini client” called here a “Jini Parallel Computing (PC) Embryo” which registers the availability of that workstation to run either particular or generic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Jini embryo can represent the machine (I.e. ability to run general applications) or particular softwar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Gateway or “Parallel Computing (PC) Control and Services module” queries Jini lookup server to find appropriate service computers to run a particular MPI jo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t could of course use this mechanism “just” to be able to run a single job or to set up a farm of independent worker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marks on JiniMPI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76320" y="8380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standard Jini mechanism is applied for each chosen embryo. This effectively establishes an RMI link from Gateway to (SPMD) node which corresponds to creating a Java proxy (corresponding to RMI stub) for the node program which can be any language (Java, Fortran, C++ etc.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7480" indent="-2674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Gateway--Embryo exchange should also supply to the Gateway any needed data (such as specification of needed parameters and how to input them) for user client lay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7480" indent="-2674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rategy separates control and data transfer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79240" indent="-2228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t supports Jini (registration, lookup and invocation) and advanced services such as load balancing and fault tolerance on control layer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79240" indent="-2228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d MPI style data messages on fast transport lay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79240" indent="-2228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Jini embryo is only used to initiate process. It is not involved in the actual “execution” phas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67480" indent="-2674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ould build a JavaSpace at the Control layer as the basis of a powerful management environ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79240" indent="-2228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is very different from using Linda (JavaSpaces) in execution layer as in Control layer one represents each executing node program by a proxy and normal performance problems with Linda are irreleva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inimal </a:t>
            </a: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mpiJava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progra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"/>
          <p:cNvSpPr/>
          <p:nvPr/>
        </p:nvSpPr>
        <p:spPr>
          <a:xfrm>
            <a:off x="1295280" y="1876320"/>
            <a:ext cx="7696440" cy="508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import mpi.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lass Hello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atic public void main(String[] args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MPI.Init(args) 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 myrank = 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MPI.COMM_WORLD.Rank()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f(myrank == 0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har[] message = “Hello, there”.toCharArray() 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MPI.COMM_WORLD.Send(message, 0, message.length, MPI.CHAR, 1, 99) 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se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har[] message = new char [20] 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MPI.COMM_WORLD.Recv(message, 0, 20, MPI.CHAR, 0, 99) 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ystem.out.println(“received:” + new String(message) + “:”) 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MPI.Finalize() 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PI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datatyp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886040"/>
            <a:ext cx="8534520" cy="47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nd and receive members of </a:t>
            </a: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Comm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void send(Object buf, int offset, int coun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                           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Datatype type, int dst, int tag) 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         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tatus recv(Object buf, int offset, int coun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                              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Datatype type, int src, int tag) 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buf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st be an array.  </a:t>
            </a: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offset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s the element where message starts. </a:t>
            </a: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Datatype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ass describes type of element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22T14:25:34Z</dcterms:created>
  <dc:creator>Mr &amp; Mrs P Carpenter</dc:creator>
  <dc:description/>
  <dc:language>en-US</dc:language>
  <cp:lastModifiedBy>蔡旭斌</cp:lastModifiedBy>
  <dcterms:modified xsi:type="dcterms:W3CDTF">2000-01-11T08:24:29Z</dcterms:modified>
  <cp:revision>56</cp:revision>
  <dc:subject/>
  <dc:title>The Development of Data-Parallel Programming</dc:title>
</cp:coreProperties>
</file>