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970B-95B9-4783-8549-A36E13796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FD0B-F546-498A-A23F-73441A7A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F91F-0EFC-4DF0-AF10-04A225DB3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26AF-E12F-474B-9E6C-49F2BE7CD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CEDF-6CDA-465A-ADAA-0F737F06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D2B2-BC9D-49DD-AAF4-CA317A5C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72DB-4064-4999-961B-2C0AEA41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243F-DA21-4938-BC80-CA469BB0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CFDB-7CDD-49D2-A07D-19BC3EBE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7BDD-A7DE-496F-A252-8DE6009F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06CD-C3E4-4446-AD38-7DCA35D9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50BC-7E98-4DC1-86EB-C8C32BE7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905A-7A95-4A4A-A83D-D0CDC8705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69339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0T20:41:49Z</dcterms:created>
  <dc:creator>Valued Gateway Customer</dc:creator>
  <dc:description/>
  <dc:language>en-US</dc:language>
  <cp:lastModifiedBy>Valued Gateway Customer</cp:lastModifiedBy>
  <dcterms:modified xsi:type="dcterms:W3CDTF">1999-07-10T20:55:48Z</dcterms:modified>
  <cp:revision>4</cp:revision>
  <dc:subject/>
  <dc:title>No Slide Title</dc:title>
</cp:coreProperties>
</file>