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335E-0B77-4BAE-AB0F-66972957A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03EA-48F3-4919-8024-EAA4FB1B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EC8F-D196-474C-8C1B-DBE6F6CA9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4FD5-4600-459B-8860-78722EF21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5907-D800-42BE-816F-503C09FB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473C-831F-46AE-8EB1-23733EBF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9E39-D234-4F96-8635-C48E456B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81C4-EF16-4C3E-BB83-AF76722B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2D93-FA0A-48D8-B7AE-D4548493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3CE9-E5E5-45DA-8E3D-2EC3850A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71C3-A4EE-4A82-825F-70157315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0C74-8A5F-4595-B0BE-EBEF1D5A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B571-2CBE-4CD2-9FFA-5E4477851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4572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219320"/>
            <a:ext cx="304920" cy="30456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3886200"/>
            <a:ext cx="304560" cy="30492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9810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3200" y="19810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3886200"/>
            <a:ext cx="304920" cy="30492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48520" y="2666880"/>
            <a:ext cx="609480" cy="68580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1" idx="2"/>
            <a:endCxn id="42" idx="0"/>
          </p:cNvCxnSpPr>
          <p:nvPr/>
        </p:nvCxnSpPr>
        <p:spPr>
          <a:xfrm flipH="1">
            <a:off x="838440" y="685800"/>
            <a:ext cx="38160" cy="533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2" idx="3"/>
            <a:endCxn id="44" idx="0"/>
          </p:cNvCxnSpPr>
          <p:nvPr/>
        </p:nvCxnSpPr>
        <p:spPr>
          <a:xfrm flipH="1">
            <a:off x="419040" y="1479240"/>
            <a:ext cx="311760" cy="502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3" idx="1"/>
          </p:cNvCxnSpPr>
          <p:nvPr/>
        </p:nvCxnSpPr>
        <p:spPr>
          <a:xfrm flipH="1">
            <a:off x="349560" y="2209680"/>
            <a:ext cx="69840" cy="1721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/>
          <p:nvPr/>
        </p:nvCxnSpPr>
        <p:spPr>
          <a:xfrm flipH="1">
            <a:off x="3885840" y="3352320"/>
            <a:ext cx="2635920" cy="794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/>
          <p:nvPr/>
        </p:nvCxnSpPr>
        <p:spPr>
          <a:xfrm flipH="1" flipV="1" rot="5400000">
            <a:off x="4820040" y="2265840"/>
            <a:ext cx="938880" cy="2959920"/>
          </a:xfrm>
          <a:prstGeom prst="curvedConnector5">
            <a:avLst>
              <a:gd name="adj1" fmla="val -24357"/>
              <a:gd name="adj2" fmla="val 49993"/>
              <a:gd name="adj3" fmla="val -2435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1"/>
            <a:endCxn id="46" idx="3"/>
          </p:cNvCxnSpPr>
          <p:nvPr/>
        </p:nvCxnSpPr>
        <p:spPr>
          <a:xfrm flipH="1" flipV="1" rot="10800000">
            <a:off x="2743200" y="2095200"/>
            <a:ext cx="959400" cy="2051640"/>
          </a:xfrm>
          <a:prstGeom prst="curvedConnector3">
            <a:avLst>
              <a:gd name="adj1" fmla="val -964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/>
          <p:nvPr/>
        </p:nvCxnSpPr>
        <p:spPr>
          <a:xfrm>
            <a:off x="2971800" y="2057400"/>
            <a:ext cx="3582000" cy="572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6" idx="2"/>
            <a:endCxn id="45" idx="2"/>
          </p:cNvCxnSpPr>
          <p:nvPr/>
        </p:nvCxnSpPr>
        <p:spPr>
          <a:xfrm rot="10800000">
            <a:off x="2856960" y="2209320"/>
            <a:ext cx="800640" cy="18295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5" idx="3"/>
            <a:endCxn id="46" idx="0"/>
          </p:cNvCxnSpPr>
          <p:nvPr/>
        </p:nvCxnSpPr>
        <p:spPr>
          <a:xfrm>
            <a:off x="2971800" y="2095200"/>
            <a:ext cx="838800" cy="17913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200400" y="48006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6" idx="4"/>
            <a:endCxn id="57" idx="0"/>
          </p:cNvCxnSpPr>
          <p:nvPr/>
        </p:nvCxnSpPr>
        <p:spPr>
          <a:xfrm flipH="1">
            <a:off x="3314520" y="4191120"/>
            <a:ext cx="496080" cy="609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7" idx="1"/>
          </p:cNvCxnSpPr>
          <p:nvPr/>
        </p:nvCxnSpPr>
        <p:spPr>
          <a:xfrm flipH="1">
            <a:off x="2819160" y="4914720"/>
            <a:ext cx="381600" cy="633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2" idx="5"/>
            <a:endCxn id="45" idx="1"/>
          </p:cNvCxnSpPr>
          <p:nvPr/>
        </p:nvCxnSpPr>
        <p:spPr>
          <a:xfrm>
            <a:off x="946080" y="1479240"/>
            <a:ext cx="1797480" cy="616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endCxn id="45" idx="0"/>
          </p:cNvCxnSpPr>
          <p:nvPr/>
        </p:nvCxnSpPr>
        <p:spPr>
          <a:xfrm>
            <a:off x="2819520" y="609120"/>
            <a:ext cx="38160" cy="1372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694080" y="-31320"/>
            <a:ext cx="122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xy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lue squa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88920" y="760680"/>
            <a:ext cx="134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Green circl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5638680"/>
            <a:ext cx="76320" cy="763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5562720"/>
            <a:ext cx="380880" cy="304560"/>
          </a:xfrm>
          <a:prstGeom prst="hexagon">
            <a:avLst>
              <a:gd name="adj" fmla="val 31265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93080" y="90720"/>
            <a:ext cx="1768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ent s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NewModule(“M”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hod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990720"/>
            <a:ext cx="38124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4419720"/>
            <a:ext cx="38124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43434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335268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198108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33920" y="2819520"/>
            <a:ext cx="38088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289548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29718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02920" y="5866200"/>
            <a:ext cx="175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User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bj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with name “M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5720" y="2437200"/>
            <a:ext cx="137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ward 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context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83480" y="263628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Fa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68240" y="426600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antiate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 name ‘M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46160" y="2818080"/>
            <a:ext cx="129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modu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ject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b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3123000"/>
            <a:ext cx="66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b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88240" y="152280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eate Proxy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b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16720" y="3661200"/>
            <a:ext cx="1011600" cy="27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: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c_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9440" y="1523160"/>
            <a:ext cx="9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y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:uc_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4400" y="2361600"/>
            <a:ext cx="142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bj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o “uc_1”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8920" y="4647600"/>
            <a:ext cx="192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 inserts new modu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bj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to its children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6320" y="3737520"/>
            <a:ext cx="1011600" cy="27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: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c_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7760" y="1751760"/>
            <a:ext cx="9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y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:uc_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4T17:35:24Z</dcterms:created>
  <dc:creator>Valued Gateway Customer</dc:creator>
  <dc:description/>
  <dc:language>en-US</dc:language>
  <cp:lastModifiedBy>Valued Gateway Customer</cp:lastModifiedBy>
  <dcterms:modified xsi:type="dcterms:W3CDTF">1999-05-24T22:11:44Z</dcterms:modified>
  <cp:revision>3</cp:revision>
  <dc:subject/>
  <dc:title>No Slide Title</dc:title>
</cp:coreProperties>
</file>