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7BE-03C0-4C8B-92A7-BB6A8E83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B35-FC64-4F16-B5E2-A7835A9D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4FB-38B5-4501-9435-B22F56CA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64F-5D3B-42C1-A2DA-152AD33B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CC6-EA59-41ED-89A1-363D923F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FF9-5EC7-43CF-A0A4-86283E32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BD7-F811-4BE0-B0F9-22D0835E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336-C6C2-4F8C-BC06-57137F3D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7BE-1D6E-4817-B1F8-29CEC4E1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DA7-7B85-4F8D-B9BC-0A81BE3F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50F-4EBB-487D-9AEC-4B89AB8E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C36-3F8C-4CCB-86AE-41B131A6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4F7C-0DC4-4988-9217-AE81C964C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533520"/>
            <a:ext cx="6628680" cy="5714640"/>
            <a:chOff x="1371600" y="533520"/>
            <a:chExt cx="6628680" cy="5714640"/>
          </a:xfrm>
        </p:grpSpPr>
        <p:sp>
          <p:nvSpPr>
            <p:cNvPr id="42" name=""/>
            <p:cNvSpPr/>
            <p:nvPr/>
          </p:nvSpPr>
          <p:spPr>
            <a:xfrm>
              <a:off x="3227400" y="2526840"/>
              <a:ext cx="3182040" cy="1195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31800" y="5051880"/>
              <a:ext cx="2121480" cy="79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D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51440" y="5051880"/>
              <a:ext cx="2120760" cy="797040"/>
            </a:xfrm>
            <a:prstGeom prst="rect">
              <a:avLst/>
            </a:prstGeom>
            <a:solidFill>
              <a:srgbClr val="fe04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SC2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23000" y="465336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23000" y="4653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13840" y="4653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13840" y="584928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23000" y="624816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023000" y="584892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25200" y="3722760"/>
              <a:ext cx="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1640" y="3722760"/>
              <a:ext cx="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533520"/>
              <a:ext cx="1458000" cy="664200"/>
            </a:xfrm>
            <a:prstGeom prst="rect">
              <a:avLst/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94560" y="533520"/>
              <a:ext cx="1458720" cy="664200"/>
            </a:xfrm>
            <a:prstGeom prst="rect">
              <a:avLst/>
            </a:prstGeom>
            <a:solidFill>
              <a:srgbClr val="12f1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nd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18600" y="533520"/>
              <a:ext cx="1458000" cy="664200"/>
            </a:xfrm>
            <a:prstGeom prst="rect">
              <a:avLst/>
            </a:prstGeom>
            <a:solidFill>
              <a:srgbClr val="190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x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42280" y="533520"/>
              <a:ext cx="1458000" cy="664200"/>
            </a:xfrm>
            <a:prstGeom prst="rect">
              <a:avLst/>
            </a:prstGeom>
            <a:solidFill>
              <a:srgbClr val="f10d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ge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66840" y="1197720"/>
              <a:ext cx="172296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746320" y="1197720"/>
              <a:ext cx="159084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83200" y="1197720"/>
              <a:ext cx="53028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90160" y="1197720"/>
              <a:ext cx="66312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37:08Z</dcterms:created>
  <dc:creator>Valued Gateway Customer</dc:creator>
  <dc:description/>
  <dc:language>en-US</dc:language>
  <cp:lastModifiedBy>Valued Gateway Customer</cp:lastModifiedBy>
  <dcterms:modified xsi:type="dcterms:W3CDTF">1999-07-10T20:39:25Z</dcterms:modified>
  <cp:revision>1</cp:revision>
  <dc:subject/>
  <dc:title>No Slide Title</dc:title>
</cp:coreProperties>
</file>