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E34E-A5D0-4748-9CCE-A0EA50BAD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58B4-6884-493B-AF13-FFDA6B1A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ED3B-BD86-439E-87E7-951CA5346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50BA-B9FC-4260-8F9C-A845B59A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659F-E8B1-42B1-83DA-04DC950F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F1CA-0F4C-4079-B469-0076C671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C877-55D2-49E5-A0EF-7DEFDE5A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954A-B0D9-4C71-9E1C-BC81383D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064E-2BAD-4140-BCF0-199DA1B5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AB2D-7C82-43BA-8442-C36FA309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83D9-1B01-4CCE-88CE-80B99BF6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9D45-91C4-4C99-A59D-68F0D64C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A722-3FF3-4DEE-8450-6A59F8F1F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380880"/>
          <a:ext cx="7925040" cy="609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80880"/>
                    <a:ext cx="7925040" cy="60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0T20:41:49Z</dcterms:created>
  <dc:creator>Valued Gateway Customer</dc:creator>
  <dc:description/>
  <dc:language>en-US</dc:language>
  <cp:lastModifiedBy>Valued Gateway Customer</cp:lastModifiedBy>
  <dcterms:modified xsi:type="dcterms:W3CDTF">1999-07-10T20:45:34Z</dcterms:modified>
  <cp:revision>2</cp:revision>
  <dc:subject/>
  <dc:title>No Slide Title</dc:title>
</cp:coreProperties>
</file>