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0A0B-F940-47EA-A91F-8ADD6DF5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C96E-F1CA-4F42-9B72-9F7B07A3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47B8-F2AB-4811-AC1A-9F26C17A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9AD1-AB09-4769-871D-6BBF954A3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B7E6-38CE-48E5-96FF-DE213947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3B81-2211-48FE-8C80-D144802D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ECBF-4A40-4D95-9088-F0E41723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975B-6CD3-4B67-83E3-7EC4A58F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01F7-A75C-4450-AF0E-80D7B793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FA35-28D3-4C14-A240-1442DF29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A0DF-4966-4653-B755-54C412B2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5E38-25BC-48E4-A49D-28C352F2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8491-E26F-4B71-9A6B-797A870E4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9880" y="2133720"/>
            <a:ext cx="152424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51055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3657600"/>
            <a:ext cx="15238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35053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467480" y="5029200"/>
            <a:ext cx="15242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57800" y="51055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2590920"/>
            <a:ext cx="30492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0600" y="2590920"/>
            <a:ext cx="30492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3962520"/>
            <a:ext cx="30456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3962520"/>
            <a:ext cx="30456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4114800"/>
            <a:ext cx="30492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62920" y="4114800"/>
            <a:ext cx="30456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8" idx="3"/>
            <a:endCxn id="45" idx="0"/>
          </p:cNvCxnSpPr>
          <p:nvPr/>
        </p:nvCxnSpPr>
        <p:spPr>
          <a:xfrm flipH="1">
            <a:off x="2667240" y="2720880"/>
            <a:ext cx="1492560" cy="78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5" name=""/>
          <p:cNvCxnSpPr>
            <a:stCxn id="50" idx="4"/>
            <a:endCxn id="43" idx="0"/>
          </p:cNvCxnSpPr>
          <p:nvPr/>
        </p:nvCxnSpPr>
        <p:spPr>
          <a:xfrm flipH="1">
            <a:off x="1447920" y="4114800"/>
            <a:ext cx="8384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" name=""/>
          <p:cNvCxnSpPr>
            <a:stCxn id="51" idx="5"/>
            <a:endCxn id="42" idx="0"/>
          </p:cNvCxnSpPr>
          <p:nvPr/>
        </p:nvCxnSpPr>
        <p:spPr>
          <a:xfrm>
            <a:off x="3079440" y="4092480"/>
            <a:ext cx="654840" cy="101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" name=""/>
          <p:cNvCxnSpPr>
            <a:stCxn id="52" idx="4"/>
            <a:endCxn id="47" idx="0"/>
          </p:cNvCxnSpPr>
          <p:nvPr/>
        </p:nvCxnSpPr>
        <p:spPr>
          <a:xfrm flipH="1">
            <a:off x="6019920" y="4267080"/>
            <a:ext cx="533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3" idx="4"/>
            <a:endCxn id="46" idx="0"/>
          </p:cNvCxnSpPr>
          <p:nvPr/>
        </p:nvCxnSpPr>
        <p:spPr>
          <a:xfrm>
            <a:off x="7315200" y="4267080"/>
            <a:ext cx="91476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9" name=""/>
          <p:cNvCxnSpPr>
            <a:stCxn id="49" idx="5"/>
            <a:endCxn id="44" idx="0"/>
          </p:cNvCxnSpPr>
          <p:nvPr/>
        </p:nvCxnSpPr>
        <p:spPr>
          <a:xfrm>
            <a:off x="5060880" y="2720880"/>
            <a:ext cx="1873800" cy="93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4649760" y="1752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8840" y="3200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6640" y="34286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9000" y="472392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21680" y="48002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34400" y="48607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31400" y="472392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73840" y="1964880"/>
            <a:ext cx="267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xy objects for slave ser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endCxn id="49" idx="0"/>
          </p:cNvCxnSpPr>
          <p:nvPr/>
        </p:nvCxnSpPr>
        <p:spPr>
          <a:xfrm flipH="1">
            <a:off x="4953240" y="2209320"/>
            <a:ext cx="53352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7" idx="1"/>
            <a:endCxn id="48" idx="7"/>
          </p:cNvCxnSpPr>
          <p:nvPr/>
        </p:nvCxnSpPr>
        <p:spPr>
          <a:xfrm flipH="1">
            <a:off x="4375080" y="2133360"/>
            <a:ext cx="69912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2256840" y="1660320"/>
            <a:ext cx="128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ter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>
            <a:endCxn id="41" idx="1"/>
          </p:cNvCxnSpPr>
          <p:nvPr/>
        </p:nvCxnSpPr>
        <p:spPr>
          <a:xfrm>
            <a:off x="3580920" y="1904760"/>
            <a:ext cx="452520" cy="34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4155480" y="4114440"/>
            <a:ext cx="125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ave ser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72" idx="3"/>
            <a:endCxn id="44" idx="2"/>
          </p:cNvCxnSpPr>
          <p:nvPr/>
        </p:nvCxnSpPr>
        <p:spPr>
          <a:xfrm flipV="1">
            <a:off x="5412240" y="4038840"/>
            <a:ext cx="760320" cy="2444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4" name=""/>
          <p:cNvCxnSpPr>
            <a:stCxn id="72" idx="1"/>
            <a:endCxn id="45" idx="6"/>
          </p:cNvCxnSpPr>
          <p:nvPr/>
        </p:nvCxnSpPr>
        <p:spPr>
          <a:xfrm flipH="1" flipV="1">
            <a:off x="3429000" y="3886200"/>
            <a:ext cx="726840" cy="3970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233280" y="2163600"/>
            <a:ext cx="222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inguished name(D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 a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5" idx="2"/>
            <a:endCxn id="61" idx="0"/>
          </p:cNvCxnSpPr>
          <p:nvPr/>
        </p:nvCxnSpPr>
        <p:spPr>
          <a:xfrm>
            <a:off x="1346760" y="2744280"/>
            <a:ext cx="972000" cy="45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2" idx="1"/>
            <a:endCxn id="43" idx="7"/>
          </p:cNvCxnSpPr>
          <p:nvPr/>
        </p:nvCxnSpPr>
        <p:spPr>
          <a:xfrm flipH="1">
            <a:off x="1986480" y="4282920"/>
            <a:ext cx="2169360" cy="9345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8" name=""/>
          <p:cNvCxnSpPr>
            <a:endCxn id="42" idx="7"/>
          </p:cNvCxnSpPr>
          <p:nvPr/>
        </p:nvCxnSpPr>
        <p:spPr>
          <a:xfrm>
            <a:off x="4114440" y="4419360"/>
            <a:ext cx="158400" cy="7981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9" name=""/>
          <p:cNvCxnSpPr>
            <a:stCxn id="72" idx="2"/>
            <a:endCxn id="47" idx="1"/>
          </p:cNvCxnSpPr>
          <p:nvPr/>
        </p:nvCxnSpPr>
        <p:spPr>
          <a:xfrm>
            <a:off x="4783680" y="4451760"/>
            <a:ext cx="697680" cy="7657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80" name=""/>
          <p:cNvCxnSpPr>
            <a:endCxn id="46" idx="1"/>
          </p:cNvCxnSpPr>
          <p:nvPr/>
        </p:nvCxnSpPr>
        <p:spPr>
          <a:xfrm>
            <a:off x="5409720" y="4419720"/>
            <a:ext cx="2281320" cy="7214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4267080" y="9907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81" idx="2"/>
            <a:endCxn id="41" idx="0"/>
          </p:cNvCxnSpPr>
          <p:nvPr/>
        </p:nvCxnSpPr>
        <p:spPr>
          <a:xfrm>
            <a:off x="4495680" y="1447920"/>
            <a:ext cx="7668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4744080" y="364680"/>
            <a:ext cx="21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xy for Master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3" idx="2"/>
            <a:endCxn id="81" idx="3"/>
          </p:cNvCxnSpPr>
          <p:nvPr/>
        </p:nvCxnSpPr>
        <p:spPr>
          <a:xfrm flipH="1">
            <a:off x="4724280" y="702000"/>
            <a:ext cx="1076040" cy="5176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7T19:42:49Z</dcterms:created>
  <dc:creator>Valued Gateway Customer</dc:creator>
  <dc:description/>
  <dc:language>en-US</dc:language>
  <cp:lastModifiedBy>Valued Gateway Customer</cp:lastModifiedBy>
  <dcterms:modified xsi:type="dcterms:W3CDTF">1999-04-27T22:27:43Z</dcterms:modified>
  <cp:revision>5</cp:revision>
  <dc:subject/>
  <dc:title>No Slide Title</dc:title>
</cp:coreProperties>
</file>