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AF7-64EA-4577-8DED-7A39DC5F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D86-FE3F-490F-8BC2-C259C54B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151-648F-455B-B0A5-1C68FF4E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67F-B1D6-4771-A898-5E294172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953-3C27-4DDE-9140-F60A9434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369-BB71-42E4-9FB2-4BBCDE98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44D-4A73-41AE-BE7E-10CA61E3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005-408E-4262-89B6-534A3AF1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7CB-EC12-4C4F-A7C0-AD5D1CF8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664-127E-4E6C-8395-DFDA4992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31D-8EAF-4631-AE6A-E68A4E60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DFD-0D90-4E59-87A0-4B8445AC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B6CF-3C33-4816-9AF2-8D2FB5AA9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2767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32004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2"/>
            <a:endCxn id="43" idx="1"/>
          </p:cNvCxnSpPr>
          <p:nvPr/>
        </p:nvCxnSpPr>
        <p:spPr>
          <a:xfrm>
            <a:off x="419040" y="2209680"/>
            <a:ext cx="6840" cy="111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9436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4"/>
            <a:endCxn id="50" idx="0"/>
          </p:cNvCxnSpPr>
          <p:nvPr/>
        </p:nvCxnSpPr>
        <p:spPr>
          <a:xfrm>
            <a:off x="5257800" y="3505320"/>
            <a:ext cx="800280" cy="129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2" idx="5"/>
            <a:endCxn id="45" idx="1"/>
          </p:cNvCxnSpPr>
          <p:nvPr/>
        </p:nvCxnSpPr>
        <p:spPr>
          <a:xfrm>
            <a:off x="946080" y="1479240"/>
            <a:ext cx="4159800" cy="61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endCxn id="45" idx="0"/>
          </p:cNvCxnSpPr>
          <p:nvPr/>
        </p:nvCxnSpPr>
        <p:spPr>
          <a:xfrm>
            <a:off x="5181480" y="609120"/>
            <a:ext cx="385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571500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2120" y="226440"/>
            <a:ext cx="1378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Event c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paramet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,PM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Name”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Meth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9907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78040" y="228492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480" y="17514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7080" y="29610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2840" y="188964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2"/>
            <a:endCxn id="56" idx="0"/>
          </p:cNvCxnSpPr>
          <p:nvPr/>
        </p:nvCxnSpPr>
        <p:spPr>
          <a:xfrm>
            <a:off x="6057720" y="502920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5" idx="2"/>
            <a:endCxn id="46" idx="0"/>
          </p:cNvCxnSpPr>
          <p:nvPr/>
        </p:nvCxnSpPr>
        <p:spPr>
          <a:xfrm>
            <a:off x="5219640" y="2209680"/>
            <a:ext cx="38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8088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43" idx="4"/>
            <a:endCxn id="65" idx="0"/>
          </p:cNvCxnSpPr>
          <p:nvPr/>
        </p:nvCxnSpPr>
        <p:spPr>
          <a:xfrm flipH="1">
            <a:off x="495000" y="3581280"/>
            <a:ext cx="388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5337360" y="27468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63868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5" idx="2"/>
            <a:endCxn id="68" idx="0"/>
          </p:cNvCxnSpPr>
          <p:nvPr/>
        </p:nvCxnSpPr>
        <p:spPr>
          <a:xfrm>
            <a:off x="495000" y="5029200"/>
            <a:ext cx="7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61056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3280" y="4570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00" y="540900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5800" y="54853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45" idx="1"/>
            <a:endCxn id="46" idx="1"/>
          </p:cNvCxnSpPr>
          <p:nvPr/>
        </p:nvCxnSpPr>
        <p:spPr>
          <a:xfrm flipH="1" flipV="1" rot="10800000">
            <a:off x="5105520" y="2095200"/>
            <a:ext cx="45000" cy="1150200"/>
          </a:xfrm>
          <a:prstGeom prst="curvedConnector3">
            <a:avLst>
              <a:gd name="adj1" fmla="val -44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6" idx="2"/>
            <a:endCxn id="65" idx="3"/>
          </p:cNvCxnSpPr>
          <p:nvPr/>
        </p:nvCxnSpPr>
        <p:spPr>
          <a:xfrm flipH="1">
            <a:off x="609480" y="3353040"/>
            <a:ext cx="4496400" cy="156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6" idx="3"/>
            <a:endCxn id="50" idx="1"/>
          </p:cNvCxnSpPr>
          <p:nvPr/>
        </p:nvCxnSpPr>
        <p:spPr>
          <a:xfrm flipH="1" rot="16200000">
            <a:off x="4820040" y="3790800"/>
            <a:ext cx="1454400" cy="793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8240" y="3199680"/>
            <a:ext cx="144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is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mod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i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bind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45720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33526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342900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19000" y="3000600"/>
            <a:ext cx="190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UC1 into 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ancontext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eners of module 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95920" y="4387680"/>
            <a:ext cx="2309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UC1 into 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ancontext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eners of module 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ddPropertyChangeListen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27432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2:45:41Z</dcterms:modified>
  <cp:revision>6</cp:revision>
  <dc:subject/>
  <dc:title>No Slide Title</dc:title>
</cp:coreProperties>
</file>