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3D0-F0D5-407D-A7FC-9887111F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A58-FD25-4BD0-85BD-01D8A6FC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CD2-6D2C-440B-BC2F-FD8AD5A7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D1C-CC4D-4E90-A9D5-71D3B11F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899-B7FE-4E01-9A23-A1B86D3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43A-9840-4A32-8E38-6B1DA52B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ABC-7CFD-4806-AC7E-5A06AF7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407-CFD6-41C8-BA20-F9D6627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0E3-A1B1-4C80-9351-86E5904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939-4FB9-4E8F-964A-42E213AC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16C-E838-4D99-BE04-96BC298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347-CFA0-4267-8CDF-7692A12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F92-6BF9-4AFE-A8C4-259FE5C3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dcterms:modified xsi:type="dcterms:W3CDTF">1999-09-26T23:27:55Z</dcterms:modified>
  <cp:revision>1</cp:revision>
  <dc:subject/>
  <dc:title>No Slide Title</dc:title>
</cp:coreProperties>
</file>