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1B55C-A1BF-4233-8FE0-030287E12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9551F-160B-4C50-B1D3-54A8C296A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601DA-C178-4E1E-9F76-D387FF9B6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FEB67-955A-48E1-8BD5-DD8E7659D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67BC2-9EF7-4DD3-BC35-9DCE31AD9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68F43-C660-43CF-9844-74DDA9B2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15078-6FA4-4CA0-B891-FA6B73B2E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A7DF4-E879-4416-BFD1-6889C1411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65153-3C2D-409D-B095-43313AF31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F5D8F-735E-4DD0-8EAB-952C2A94E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AD83-D01B-4AD9-B7B1-FC6FFC10F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969B-C309-4397-9004-B7A23201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DBBDF-6B80-42EA-A670-82D1CD0A1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90538-9D07-4644-9EAC-A9891B756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7D2C-91F3-40C6-B633-B3D7E0838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9EB48-394D-4341-BC8E-D10A99530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EB494-6344-45C3-8202-F1ED5AFE5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4B15-6FCE-48A9-A6CA-13A4AA3B7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F5E03-905B-4E29-9ABE-4C6C5669D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D068F-8FC6-4EB6-BFA8-67FA2AB2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8E90-E363-4276-8F6F-FD8D14E3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1A29-62FF-401C-9B78-7E93F9C12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C10A-046D-46FA-98E9-E8FF6EE0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CB7F-3B85-4C3D-9868-A5AF485D9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4F91-0471-494A-8397-5B29A3B4F1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FA94-7FEC-4E0F-B20E-49D9045A9C7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473B0F0-F58E-4269-BAFF-127C315CAE6B}"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6B2716B-BCB7-485E-8248-97A2CDD30C03}"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BDA5B78-FE30-42E6-AC7D-9285556E0EE6}"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659DC66-4663-4A89-AC60-016080EECCBC}"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3C87D0A-12B6-4944-AFDF-B2CCD0F5F940}"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02C01BE-BC79-4371-96E2-AF7E65F9D534}"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5E3F9FE-D551-4D9A-B38E-D1149A295864}"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DE41026-70AA-4A56-A924-3F30167C4B1D}"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A2A386-3006-4030-8165-A9608C623C8C}"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78DB6EB-74A9-495A-B890-D5D1B6E86886}"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B192BC9-F0B3-460A-AAF4-4C544018BA78}"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8EABB31-1183-42F3-93CE-D54FA18F3D51}"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ED317D5-9491-4302-B8B4-F6CC2FEB3A2C}"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A3AD88A-A3EC-46E8-A86B-41F8FFF13D5E}"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5E6C63C-A07D-4A1C-9415-986C5480F05A}"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D8337D-E5C8-4D11-B67D-E45FD8FD5942}"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9795C0E-F554-459D-8ED7-F03270839433}"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7B85E05-E66A-4EDA-9E3D-DA75CB460537}"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E649AEE-2821-41ED-9E55-1261CB08E117}"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204D2EB-7A76-4866-BAB5-7F4B7879459D}"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E783ECF-9A54-4B0B-BDEE-48671283899E}"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35C716-8CB3-4F32-88CD-2E48B6537EC7}"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B5E670C-B38E-490D-AFB7-E34A7FE377AA}"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D04608E-E115-4EB6-B87C-B9466DBC2E11}"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45DAE72-A779-466D-B962-6D5658A636A7}"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9843D42-F5B3-4F25-B0BD-E051C950B50D}"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1E24938-D5B5-4FBD-8BDD-DB81B5B2E0A2}"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FA8858F-FE2E-4227-9BCA-4876ED4E3872}"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0DF7E94-05AE-4E63-8C5A-71EDB85CEE28}"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5C1CDDC-D185-43BC-8A87-F47939241B42}"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324B046-0DA6-4CE1-8A1E-4D702194CEFB}"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AD6F06-4056-4D45-B8DD-F195F95246E9}"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1C1DF6A-9B1C-4220-A50B-BDA53B1111EC}"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A5E0D254-CE88-45D0-A4E4-F9295D230912}"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615B032-A09D-49CD-95F9-91DCC2DA32F7}"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3D2DA3D-6E41-4CB2-BD0F-56A2D42546D0}"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76569F12-A602-472B-9AEE-FA720E91E3CF}"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0888583-1F42-4816-A2E3-B2C51204F21B}"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64F962A-EC9B-4C21-8114-FE5D2F63BF70}"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C67A343-056A-4B72-B5C3-92C2095A959B}"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833DD03-E2D0-41A9-B7B7-FFF62F68D920}"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08F2B4D-9BED-4070-8286-FDE53B3E0529}"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8B37C0F-E529-4A01-A106-71F95FE68F17}"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70BB32B-934E-40A1-BB49-2FCFD92B6D28}"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E501255-E945-4A06-B515-B940A30D8505}"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8086C08-C3B9-45EF-96C7-2220E5079A26}"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B7B0E8B-16C3-4813-96A2-57FD75255427}"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D99BDE9-FD7D-4EC6-B6DF-82E9C2E5A342}"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53D8308-8585-470E-9C4F-695053EDEE11}"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873B0EE-B8E6-4B5E-B713-285175439794}"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238017B-D81E-42BC-99BD-F4CFF804ADA3}"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C7AE431-FA43-4FB1-A1C2-077EA5082E5E}"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1955EE-F8AF-4CB8-9A6A-3D4E3674C4F1}"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A23BD81-3CCD-40E9-B5AA-59F20B3C656C}"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B4F1EC93-EF74-44A8-9485-F97A654CE9C7}"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842485-597E-4678-B6B9-7A37DCA8A96C}"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63D8298-9510-49C1-B5B2-C077F5BE2E6A}"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97205D0-FD66-4C7E-A3D2-DDBB8C637B38}"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4602C1C-2544-4657-9B2D-A7BC231E5FD3}"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F143EA3-426A-4B7E-B3A3-24438BE55A18}"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E155AF-D95E-4CE7-A8A2-3D3B50035E6E}"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2CDAD74-F1B5-4487-86B5-C0995291FB11}"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3A93CB8-B7D2-4C25-B99E-29097E59B726}"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676A9A4-810F-48AF-909C-A2EAAB9D9CE4}"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A26A048-99D9-4F9F-A31F-3DEE588CB8F1}"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C81CE0-9457-46D0-9072-7A2CBC8BAD0F}"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249C01C-6B91-4649-8079-4BC8EE6E871E}"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BE8BD11-8363-4D80-8B63-D1E646139D7D}"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ABDCC9F-905C-4C5C-AA47-6B7E3A97591E}"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2C05F8-17A1-4202-B49D-C04232FA8E03}"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3E84A64-7CFA-4D00-AFF3-16527DCCA7F0}"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0216E4F-750F-4A83-B743-0A1A74F0DEDC}"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3CA5CB3-7874-4A14-9CCB-7662AC085DBB}"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0205F3F-E94F-4E3C-A5EC-B31960948B9D}"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B2D8771-8F70-43E2-AC9E-E4D3249D9038}"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73A6ED5-000E-40A1-AD9D-3CFCE2EE68CD}"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CE2D432-A5BD-4F41-BE9D-BB862D7788A5}"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008057B-65FE-42E6-8770-65F4C748A7A5}"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9CF3D9F-9AB2-4875-8287-9FECD702F653}"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B1BA954-2B96-40AB-9B52-20F38165CEBF}"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6CF3CA3-075C-498F-899A-95FE1EF9C65A}"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736E3A2-E6AD-48D1-8097-64873EF6628F}"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E8CE185-637B-410D-8772-B0F915638D06}"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99947A9-DA84-4623-A70C-28335FD6AB3A}"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BEA7593-A36F-40AB-8195-BAEE7E353F8B}"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930DFF-49A5-464A-ADF3-350D851E682C}"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2A294D2-AC96-438B-BE1B-282C3E641603}"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649E44E-9FED-4230-A677-0CE4958DA1DB}"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EF4C0E0-A54A-40A1-A071-BF70F1E3AB3C}"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C2AB127-F8F5-4576-941C-4B2847F0E3FD}"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CCFDA52-3A8D-4022-B4C8-BC4136042867}"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C2367E-89F4-4AFB-81F6-201D0C0A3C0F}"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C3D049E-83A2-4A50-BA75-27BBADF17CA9}"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427BEF6-7316-4A79-B9E0-A5A320DAE5A4}"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B183E1F-54D6-4E44-A52D-01734AB9584A}"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1716D4F-4C0F-4223-9C8C-EA737756C9CA}"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83B2BD1-4E83-456F-8420-80BEAA1B6837}"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C780D7D-F142-4F90-BFD3-29308C2EEB56}"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DD45CA3-179F-4324-AD65-F2B3EB3E73A7}"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5FC3385-B948-4C77-9FB5-DAB16D9CE88C}"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4BE11B6B-82D4-40B4-A3CC-7968A6F3AB64}"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922401E-B7DC-4B78-BA2E-5E64BA88EB1B}"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45E138F-D832-4878-8828-E8B498D33A19}"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988D659-54FB-42B5-82BA-25F725E39E53}"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0F36380-DB18-4138-89DE-6723AFE7DF32}"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03FFCAE-4001-4401-AA77-D1D3A2C78AF7}"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7E5989F-4DB8-4A01-AD0C-9FF268DDFED2}"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981E4C-12D6-4F43-BA1D-45256D8D5E7C}"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AAB5FC7-19FF-4632-8DF9-C84772B1E7F3}"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1B63647-5B30-4B18-81C8-FC38786118D6}"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28T19:03:35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Tomasz\Documents\JavaGrandeTu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