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EED-9954-4A75-A4E1-D53D5723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325-11BB-44A1-B076-4A7D117F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2A64-2344-4C9F-95A4-D5EAF473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C990-CD1E-4745-9041-7BC6745C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5FE-9132-401E-8BB4-F5BD3A29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F6E-DA3D-4CDE-8E97-FF9DC84B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D8B-1B28-493B-86C4-AD7D797B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4230-C679-43BA-98B5-71959261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3E3-6812-4B37-98EA-93705CD3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F43-E4B1-40F6-B36D-B6CF87CF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75B-444F-47B6-A89C-0B9AE6F8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010-5A25-4121-B8DE-C80E9021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8E77-6793-43FD-87D9-553454E28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69440" y="608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17440" y="175140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72920" y="17514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8080" y="297072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5920" y="297072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84680" y="2970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38200" y="29707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3400" y="47232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0800" y="47232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32560" y="464724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Field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1" idx="1"/>
            <a:endCxn id="42" idx="0"/>
          </p:cNvCxnSpPr>
          <p:nvPr/>
        </p:nvCxnSpPr>
        <p:spPr>
          <a:xfrm flipH="1">
            <a:off x="2594520" y="838080"/>
            <a:ext cx="147528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1" idx="3"/>
            <a:endCxn id="43" idx="0"/>
          </p:cNvCxnSpPr>
          <p:nvPr/>
        </p:nvCxnSpPr>
        <p:spPr>
          <a:xfrm>
            <a:off x="5080680" y="838080"/>
            <a:ext cx="166140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2" idx="2"/>
            <a:endCxn id="45" idx="0"/>
          </p:cNvCxnSpPr>
          <p:nvPr/>
        </p:nvCxnSpPr>
        <p:spPr>
          <a:xfrm>
            <a:off x="2594520" y="2211120"/>
            <a:ext cx="880560" cy="75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3" idx="2"/>
            <a:endCxn id="46" idx="0"/>
          </p:cNvCxnSpPr>
          <p:nvPr/>
        </p:nvCxnSpPr>
        <p:spPr>
          <a:xfrm>
            <a:off x="6741720" y="2211120"/>
            <a:ext cx="1220400" cy="75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2"/>
            <a:endCxn id="44" idx="0"/>
          </p:cNvCxnSpPr>
          <p:nvPr/>
        </p:nvCxnSpPr>
        <p:spPr>
          <a:xfrm rot="5400000">
            <a:off x="1528200" y="1904400"/>
            <a:ext cx="759960" cy="1373400"/>
          </a:xfrm>
          <a:prstGeom prst="curvedConnector3">
            <a:avLst>
              <a:gd name="adj1" fmla="val 250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3" idx="2"/>
            <a:endCxn id="47" idx="0"/>
          </p:cNvCxnSpPr>
          <p:nvPr/>
        </p:nvCxnSpPr>
        <p:spPr>
          <a:xfrm rot="5400000">
            <a:off x="5832720" y="2061720"/>
            <a:ext cx="759960" cy="1058760"/>
          </a:xfrm>
          <a:prstGeom prst="curvedConnector3">
            <a:avLst>
              <a:gd name="adj1" fmla="val 250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5" idx="2"/>
            <a:endCxn id="48" idx="0"/>
          </p:cNvCxnSpPr>
          <p:nvPr/>
        </p:nvCxnSpPr>
        <p:spPr>
          <a:xfrm rot="5400000">
            <a:off x="1913040" y="3161520"/>
            <a:ext cx="1293120" cy="1830600"/>
          </a:xfrm>
          <a:prstGeom prst="curvedConnector3">
            <a:avLst>
              <a:gd name="adj1" fmla="val 249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5" idx="2"/>
            <a:endCxn id="49" idx="0"/>
          </p:cNvCxnSpPr>
          <p:nvPr/>
        </p:nvCxnSpPr>
        <p:spPr>
          <a:xfrm flipH="1" rot="16200000">
            <a:off x="2941920" y="3962880"/>
            <a:ext cx="1293120" cy="227520"/>
          </a:xfrm>
          <a:prstGeom prst="curvedConnector3">
            <a:avLst>
              <a:gd name="adj1" fmla="val 249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6" idx="2"/>
            <a:endCxn id="50" idx="0"/>
          </p:cNvCxnSpPr>
          <p:nvPr/>
        </p:nvCxnSpPr>
        <p:spPr>
          <a:xfrm rot="5400000">
            <a:off x="7054560" y="3740040"/>
            <a:ext cx="1217160" cy="59796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2057400"/>
            <a:ext cx="152388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98960" y="556164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ed 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5T17:02:21Z</dcterms:created>
  <dc:creator>Valued Gateway Customer</dc:creator>
  <dc:description/>
  <dc:language>en-US</dc:language>
  <cp:lastModifiedBy>Valued Gateway Customer</cp:lastModifiedBy>
  <dcterms:modified xsi:type="dcterms:W3CDTF">1999-03-25T17:45:54Z</dcterms:modified>
  <cp:revision>5</cp:revision>
  <dc:subject/>
  <dc:title>No Slide Title</dc:title>
</cp:coreProperties>
</file>