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360-DE9D-46D6-BDF1-FE0DFC87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CE6-FCB6-440B-B67F-BDF89D3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FAE-37FA-431B-8416-21BF41F3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461-78FB-4942-B168-98B59F99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132-5973-4D28-A6C1-359529C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B8D-312E-4D2C-A78E-09F8D7D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0D2-9417-4036-9813-5F364A46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D53-B5D4-419E-BC0B-B5E91B1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58E-0AAF-42F0-A6DC-74D4C49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85E-6B10-4539-9528-A781566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33A-AB4E-4628-AB2B-5194E69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696-35E3-44F9-A212-A8B9FF5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9FE2-5A73-4B73-B334-54DA5A7F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586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1:40Z</dcterms:modified>
  <cp:revision>3</cp:revision>
  <dc:subject/>
  <dc:title>No Slide Title</dc:title>
</cp:coreProperties>
</file>