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D297AF-9087-4E80-9AB2-010A9E5E8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1A833C-C2D0-45E6-9FB1-709C8CFD8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5DC69F-8006-4CDF-A9E3-594A2341A4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673610-5EBF-4C41-B7B7-4628BF8FF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89698E-1D1A-4C8C-859F-3F20788CC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2D34E-DF0B-4BF2-9EA1-ABAD6B0B9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2DCDD-C939-41AF-93B6-59CB5B5F7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F8D4E-CF33-4DF5-8429-C02D25D04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6E73F-7DF8-4115-B7FE-B7345BB59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8AAE1-7528-4720-A323-71C2E05BB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8235F-576D-4E98-9620-061CF9414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13BB6-F676-4156-85A5-FFE837452C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C1F3A-7678-49B4-BA4F-06466BF61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B2893-9F2E-485F-A8C7-BA43702D2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131C1-ACF6-4DE6-9D6F-1F245DDBA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07E201-B624-4109-9033-623543BB1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2965AA-85BF-4AC1-AF8E-13A73C717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2003ED-710B-4604-BDB5-A4871F86D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05240E-1192-44CF-9CDF-EEF5DD395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B8E3B-8B2B-4B62-9004-89AE65658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552C78-DE51-48C8-AC9C-A0AC09B00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2905F4-BD70-4A8C-85A8-9747977650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3A784-2058-4813-BC9B-7E250CCF6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DCB559-3DB1-4CEC-90EE-665F8CA95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D940-8E92-42BA-9464-D9AF7B5CCBE6}"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5109-6BAA-4682-B9D6-C0C45F4FBBA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2D7F3473-760F-4A6E-A2CE-6615D89D12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78FEF48-F837-44EF-9D06-8C55D78232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243AC3C-B672-4CDD-B7D7-25EAAC4DD9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1FDBD3D-0C6A-447C-8AF8-770BD5648A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F87F49FC-12A4-4A1B-80E3-D96A0E1FDA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A5DC460-FD8D-4640-B403-F808D65A9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72EA3B5-F831-49D6-A2CC-823EC56A8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B0F15745-42ED-48DA-A8A9-E17260E4A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95650F55-A71D-431C-8329-3F1807D4A1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06CA031-CE9B-4EF5-AC34-EBD665DC8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7444B17-00AD-4257-B109-33009B098E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7CDDA20-4200-4A5D-8C37-F3EAC45FB3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21A67F3-5533-4DD8-85DF-6CBDB3D4A1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40210BF2-8C17-4D61-A126-3D27FB159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CF7F9D2-7089-457B-BBA8-3413F6E7B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92F6069-B37D-4AF0-8F1C-49B187A6E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4C310087-B87C-4980-A641-45176FF438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AC53239-5F5A-45EB-A13A-109BA6F64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050747B-AAC7-4016-9CF5-657F417D07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CCB5A7D-9955-4F55-9978-4879E4E2C6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1314CFB-3783-4DD8-B453-83E1C73D95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E30D4D0-8016-471C-B856-E9869B6AD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1B3FB8FF-1B36-47D4-9CAE-A5C0FBD2D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C384BD5-1113-4511-B281-42E8CF7E3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609480" y="13716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4CE10288-2C08-4582-8DA3-4D2A63C7EC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4D7973D-E44D-43DB-ADF2-6E93F53FC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5473B3E-5984-4B76-8AA7-E199D583C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Valued Gateway Customer</cp:lastModifiedBy>
  <dcterms:modified xsi:type="dcterms:W3CDTF">1999-06-16T23:39:42Z</dcterms:modified>
  <cp:revision>11</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