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186-DA34-4B74-8876-548B388A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5A0-5E16-4019-851C-D8AC77ED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ED3-CB13-4EB0-83B3-426117A9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54F-1FD2-4023-AD94-EEFD1F64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9EE-88FD-456E-AAF3-7B56B6C0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13B-5E60-401D-B291-2330E1E2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7D3-43A3-4614-8914-9DDA831F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ACD-6601-41C2-A9AD-6EDA12F2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3A20-E50C-4A25-B281-D40B6E93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216-C33A-464E-9BCD-C14E8EF4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AFF-DB15-4BB4-8F17-E6103926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EAA-0F16-419C-86D2-39DB1A94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7B7D-B4B8-45E0-938C-6ED04E115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762120"/>
            <a:ext cx="5410440" cy="411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190512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1295280"/>
            <a:ext cx="121896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209680"/>
            <a:ext cx="152388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61720" y="45720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522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89120" y="87624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4" idx="1"/>
          </p:cNvCxnSpPr>
          <p:nvPr/>
        </p:nvCxnSpPr>
        <p:spPr>
          <a:xfrm>
            <a:off x="2190600" y="1099800"/>
            <a:ext cx="166680" cy="124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6" idx="2"/>
            <a:endCxn id="43" idx="0"/>
          </p:cNvCxnSpPr>
          <p:nvPr/>
        </p:nvCxnSpPr>
        <p:spPr>
          <a:xfrm flipH="1">
            <a:off x="4343400" y="520560"/>
            <a:ext cx="241560" cy="77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7" idx="2"/>
            <a:endCxn id="42" idx="3"/>
          </p:cNvCxnSpPr>
          <p:nvPr/>
        </p:nvCxnSpPr>
        <p:spPr>
          <a:xfrm flipH="1">
            <a:off x="6705720" y="1518840"/>
            <a:ext cx="125424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741040" y="495288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s of 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ateWayCont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21:36:27Z</dcterms:created>
  <dc:creator>Valued Gateway Customer</dc:creator>
  <dc:description/>
  <dc:language>en-US</dc:language>
  <cp:lastModifiedBy>Valued Gateway Customer</cp:lastModifiedBy>
  <dcterms:modified xsi:type="dcterms:W3CDTF">1999-04-27T21:44:22Z</dcterms:modified>
  <cp:revision>1</cp:revision>
  <dc:subject/>
  <dc:title>No Slide Title</dc:title>
</cp:coreProperties>
</file>