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46B67-B5A0-4474-A8D7-70D3BD34F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CD2E-1949-4F5F-BCAB-BDC47D6BA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FE66E-7028-425D-9E4C-D5887C066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E179E-9EB9-4432-A29B-474FD54A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CA073-E995-4A84-A175-8C27E25C8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52A72-9D17-4FF1-B7BF-E8B1613E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56CA-BF99-4A35-8357-6AB005713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4A12-1682-4544-8046-F47893EA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1F96-ACD3-44B3-9230-1D361615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F2B5-8B6A-46E4-8B02-3BC0D0F6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21EA-EB12-4F24-B53F-03E1947B2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FE3A-BC2E-46A9-B9DE-51AB91EBF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C3AF-5649-4E71-9F44-1120DFA76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Valued Gateway Customer</cp:lastModifiedBy>
  <cp:lastPrinted>1999-03-07T15:27:48Z</cp:lastPrinted>
  <dcterms:modified xsi:type="dcterms:W3CDTF">1999-06-16T18:11:08Z</dcterms:modified>
  <cp:revision>25</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