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F8E-0366-45CD-B4EC-BEF88A23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5A1-CC79-4814-BFD1-39B1E0A8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44A-4219-4BAD-AD48-139D86E9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C66-7CE9-4D8E-AC47-27D58DE1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A11-5AD7-4789-87F7-979C41C3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97C-381A-424B-9444-96E7C5D3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FA8-87FB-497B-B907-E0F32E09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2F0-1EE7-4BC3-BFA1-058AC71B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B7F-FC3F-4CC5-9226-ADF1092C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0F3-B606-4CEB-BF0B-FBAB9E54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AB7-952A-4A09-B76A-E1913CDE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244-4895-405A-87B2-147577B4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8FF1-0B93-453D-BA62-1693B2FD4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05T03:52:39Z</dcterms:modified>
  <cp:revision>17</cp:revision>
  <dc:subject/>
  <dc:title>No Slide Title</dc:title>
</cp:coreProperties>
</file>