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1CE8-849E-4B01-A540-48554E25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C9C9-7C1C-4F6A-B8EE-D6A0FD62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6B55-4483-4670-BD12-BAE578DD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B9CE-373E-45B6-86E8-8C55AF79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9BB2-8FC8-430B-85A3-0F6A2805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B798-E576-4A85-9C37-F31A750D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6C75-FC5C-482C-B513-E6FCBA96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71BB-5A50-4CCE-A3F6-ECE58428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1ADF-B6EC-41CE-B076-1B1FF0D4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A1C1-98F7-4119-B63F-86828CAD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7BCB-5577-4EDC-A722-49A7C8A2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2267-3CBE-4218-9333-527C3F9D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949D-7D9D-4F29-BB49-4561A0A68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ntum Simul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WebFlow - a High Level Visual Interface for Glob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86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 Akarsu, G. Fox, W. Furmanski, T.Haupt, L. Mi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webflow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1666800" cy="809640"/>
          </a:xfrm>
          <a:prstGeom prst="rect">
            <a:avLst/>
          </a:prstGeom>
          <a:ln w="0">
            <a:noFill/>
          </a:ln>
        </p:spPr>
      </p:pic>
      <p:pic>
        <p:nvPicPr>
          <p:cNvPr id="44" name="globus-logo" descr=""/>
          <p:cNvPicPr/>
          <p:nvPr/>
        </p:nvPicPr>
        <p:blipFill>
          <a:blip r:embed="rId2"/>
          <a:stretch/>
        </p:blipFill>
        <p:spPr>
          <a:xfrm>
            <a:off x="2286000" y="7621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45" name="npac_logo" descr=""/>
          <p:cNvPicPr/>
          <p:nvPr/>
        </p:nvPicPr>
        <p:blipFill>
          <a:blip r:embed="rId3"/>
          <a:stretch/>
        </p:blipFill>
        <p:spPr>
          <a:xfrm>
            <a:off x="6324480" y="838080"/>
            <a:ext cx="1781280" cy="552600"/>
          </a:xfrm>
          <a:prstGeom prst="rect">
            <a:avLst/>
          </a:prstGeom>
          <a:ln w="0">
            <a:noFill/>
          </a:ln>
        </p:spPr>
      </p:pic>
      <p:pic>
        <p:nvPicPr>
          <p:cNvPr id="46" name="ncsalogo" descr=""/>
          <p:cNvPicPr/>
          <p:nvPr/>
        </p:nvPicPr>
        <p:blipFill>
          <a:blip r:embed="rId4"/>
          <a:stretch/>
        </p:blipFill>
        <p:spPr>
          <a:xfrm>
            <a:off x="6781680" y="1523880"/>
            <a:ext cx="74304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ig2a" descr=""/>
          <p:cNvPicPr/>
          <p:nvPr/>
        </p:nvPicPr>
        <p:blipFill>
          <a:blip r:embed="rId1"/>
          <a:stretch/>
        </p:blipFill>
        <p:spPr>
          <a:xfrm>
            <a:off x="1219320" y="692280"/>
            <a:ext cx="6858000" cy="535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FF95-9BFB-4F80-924F-7DCA73AE51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itas1" descr=""/>
          <p:cNvPicPr/>
          <p:nvPr/>
        </p:nvPicPr>
        <p:blipFill>
          <a:blip r:embed="rId1"/>
          <a:stretch/>
        </p:blipFill>
        <p:spPr>
          <a:xfrm>
            <a:off x="1338120" y="1090440"/>
            <a:ext cx="6467760" cy="467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407E-3AC9-4693-9014-E9FF510D25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Simulation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blem descri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chain of high performance applications is run repeatedly for different data 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ch application can be run on several different platforms, depending on the problem size and the load of the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 and output files must be moved between the machines, a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 files are visually inspected by the researcher; if necessary applications are rerun with modified input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ically, output files must be converted to a different format before using them as input to the next application in the ch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C48E-B61C-458F-9F25-49879FB45F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ution using the Web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Flow front-end for visual authoring: drag-and-drop composition of meta-applications from compute-web no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Flow middle-tier implementing distributed object technologies in Java (platform independent, including NT-workstations). The implementation is based on industry standards: currently servlet extended httpd servers, and evolving towards CORB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Flow back-end based on commodity software components, in particular low level matacomputing toolkit Globus for HP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E8CF-C653-436D-A1EE-92D0A9A600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particular,  for Quantum Sim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WebFlow editor to visually compose the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integrated with the WebFlow metacomputing directory services (MDS) of Globus to identify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WebFlow proxies to Globus resource allocation manager (GRAM) to allocate the resources, including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high performance data transfer mechanisms of Globus (GASS, 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commodity DBMS or LDAP services to identify and retrieve data set as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E06B-CFCE-44F8-834B-97CF995EF5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ntum Simulations using the Web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mitas2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953120" cy="469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4F91-F190-4660-A323-AC47A2A4A1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sd" descr=""/>
          <p:cNvPicPr/>
          <p:nvPr/>
        </p:nvPicPr>
        <p:blipFill>
          <a:blip r:embed="rId1"/>
          <a:stretch/>
        </p:blipFill>
        <p:spPr>
          <a:xfrm>
            <a:off x="1290600" y="-33480"/>
            <a:ext cx="6562800" cy="692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946C-22A4-482E-B1F7-ADCA4CC131B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5T15:10:20Z</dcterms:created>
  <dc:creator>tomek</dc:creator>
  <dc:description/>
  <dc:language>en-US</dc:language>
  <cp:lastModifiedBy>Tomasz Haupt</cp:lastModifiedBy>
  <dcterms:modified xsi:type="dcterms:W3CDTF">1998-05-05T16:19:22Z</dcterms:modified>
  <cp:revision>1</cp:revision>
  <dc:subject/>
  <dc:title>Quantum Simulations using WebFlow - a High Level Visual Interface for Globus</dc:title>
</cp:coreProperties>
</file>