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79B-3802-4A94-BBDB-26AE8D9C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502-0157-4ED3-8717-82D90B05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BBF-4F03-41DA-9085-A3A66663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58B-B4B7-401C-8B27-505BBD55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93F-4B1E-494A-8749-D6F1BEF2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DA0-4E7F-4F68-A7A7-6E3D8BB2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98B-00C4-4F87-84E9-10843490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DE1-E976-4252-8A6F-E8F6D059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D86-C495-4D68-AC0B-3750D8A3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57F-67B5-4EFA-A15B-DF84438D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C0D-E041-4C53-8D42-E8A34A8E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26F-399D-43E4-A49E-17D12F2E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9475-FF66-41D7-857C-EA0D56DAE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00Z</dcterms:modified>
  <cp:revision>18</cp:revision>
  <dc:subject/>
  <dc:title>No Slide Title</dc:title>
</cp:coreProperties>
</file>