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A56-D156-4F61-A811-FF2243AC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BC9-1BA5-42D6-9E1C-BC76A5F7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9D3-B0C0-4651-B4B2-D89864C9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08B-45BD-42BC-8079-02AF9950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577-BB14-4AFD-813E-12CD951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53E-DCD9-4502-B6FC-8971C97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94D-5315-4441-B772-1AB8267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7E2-F0BD-458D-9F56-A6332FC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7EC-8028-49BD-8359-FE91155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381-913C-483C-8965-7905F75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682-1BC8-44E7-B219-A2DCCAE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B3C-4A79-4805-9E22-716E210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D622-A2BA-439E-9349-C81A5C9D0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4838400" y="792720"/>
            <a:ext cx="1904040" cy="10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8480" y="2164680"/>
            <a:ext cx="87516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2080" y="2164680"/>
            <a:ext cx="121932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482120" y="1899360"/>
            <a:ext cx="851040" cy="13816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787000" y="2060280"/>
            <a:ext cx="851040" cy="10594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866600" y="3161520"/>
            <a:ext cx="1384920" cy="18291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895120" y="3961440"/>
            <a:ext cx="1384920" cy="2289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05960" y="3737160"/>
            <a:ext cx="1308600" cy="60192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13372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4-29T21:31:37Z</dcterms:modified>
  <cp:revision>17</cp:revision>
  <dc:subject/>
  <dc:title>No Slide Title</dc:title>
</cp:coreProperties>
</file>