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02E-C43E-4BE0-8111-F431B866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037-3415-4DA3-848C-3266BF4D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A91-713E-40C0-BE9D-98AC9F97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260-1ADA-474A-A582-73CAD9BB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916-3C64-4E78-BBF8-B032EEDB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D6E-86CB-4828-8DC5-0AAD619E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46E-F420-465B-99CC-FCA1C2DF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BA3-361A-4FC8-B3D8-8D75225E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633-A0C2-4C36-A10D-92A92B5A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6D0-1801-4224-B499-94D61F33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1FA-EBA9-4C91-BA6D-CBAC0CE7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D94-FBB4-4BC1-9E15-F6D0086A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9246-F6FF-454E-ACAD-D2AB37E95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0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1:01:58Z</dcterms:modified>
  <cp:revision>5</cp:revision>
  <dc:subject/>
  <dc:title>No Slide Title</dc:title>
</cp:coreProperties>
</file>