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9DFF5-51C3-4AC7-BD75-0A7700C5F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0BA0-55DB-4C7F-95CA-66160EE05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81842-7DD3-4E82-8B86-8F6F64BA5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A865D-528C-4D95-AD87-FAAF28726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107FD-3BEA-4C8A-90D0-36FB78D09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E4EAB-FE19-4A5C-BDB5-6C0571DCB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3A2E7-D5BB-4038-95C3-7A8B1BD3D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E04D0-CE58-4E85-A69C-0A82D1E64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F9D6D-BDDD-4EF3-9F8D-2D2C4B415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E9DA8-2024-4A68-A3C9-E2BC4DA4F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C2C9A-130E-4F94-B2C9-E63C790AA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09A98-C97D-469A-91C5-63F3EF9F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84F6B-D2F1-4B4B-9C84-00084865C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A7545-2FFC-438C-9221-533D17751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95A89-C506-4553-BF32-8831BD5E9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51BA7-CE1A-4033-9D1D-E8F408381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EB43F-CF7B-4DE7-B0BC-AD90A06D2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8FC73-D763-464A-9AB8-AA77BE0D8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CD90E-C365-4F25-B8F2-E19E02C44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F6748-BCF7-4C60-9BF7-98284D55C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27FB2-93C2-4B16-8653-CCDE16DA4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651FA-7907-488F-866C-3CE59DE54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E1AD-D860-45D3-A909-5CF65FAD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AE1C-097F-4969-997B-B2F04114D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7C89-7807-44AE-8F22-7196F73368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F35D-E740-4352-A406-308A88A5849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72E2D6C-AAD5-4F48-8EFA-8F54DC4F94F5}"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C34969A-A2BD-402C-A00B-CAC12ED3F79C}"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367254F-F2A4-4274-B2C0-C85727BF40F1}"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7E832E6-12B7-4390-90D3-25AD3B8C7183}"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02DF9A9-0F21-4D7C-9220-FB50AEF94219}"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1B3C206-3795-406E-85F1-0EED8C0A4F7D}"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20470FE-E7AE-4E44-A4A5-9A5AB4CD1635}"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6C36874-B292-4914-BA30-7EC4996D6336}"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693568D-C506-4896-9476-2B1C4A4DEB1D}"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8E7AB30-BDEF-4DA5-A8B1-E75D2586CA48}"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C25BEB9-F7C7-4729-BE3D-AD9FC2A1E788}"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B7BD188-D307-48F8-ACED-47A59761BF87}"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5AC7634-7CFA-4B85-A55F-8D8CA8ACD6C7}"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1CBBC73-849E-4C8D-9C1C-A372BA27038A}"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5B3CD2B-29B8-4691-BB2F-EA4845B4FBEF}"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69C68A0-482F-46B9-84EC-3C08EBB61593}"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8FFA41F-63D2-4AF3-ADC5-123A7F729C89}"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5F6F6E9-8107-481D-8877-701327A3D873}"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384C276-0256-43A3-87E9-D0C2FB994E0C}"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8E4C901-990C-4472-B42D-8DA904FCC87C}"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5F7319B-0EF3-44E4-A009-8BB534D683CE}"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813F645-BF9B-489C-9EE8-B81A08C97790}"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BF7486F-D13E-4534-A600-321513D52022}"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393841B-5C0A-4FDF-BE17-3048CC9F0DDB}"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B51834C-06C9-4887-9B3D-6EC737B3E73D}"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AE287E9-7BAB-4C32-A430-1D113DE49110}"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0B72257-87F3-4CEE-A2D4-8066A642E6B7}"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D41E1EE-617D-4C1F-8905-2DDC1619FA01}"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CFD518B-B9E1-4648-99EB-707F6A6B32DD}"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4D365C4-A6A5-4248-83F2-F3C769449902}"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FDB27E8-9906-46F4-A82A-8C4578BB55A3}"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24F733E-D10D-4D4A-B5A5-248004880E2D}"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6D44C02-957A-4030-8669-D85266E61529}"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59759DA3-65A1-4D22-B1A0-B2C0EB6B0906}"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986D724-80D7-4439-94A0-DBCB062487F1}"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20B058F-7A6C-414B-AD86-E869B9AFBFAD}"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3C8C3FBF-A8A2-4D41-BA67-7E9EB7615313}"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54BB1EC-645E-470B-A314-221000B8658D}"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6489E47-8E19-4589-AA43-705DA9E8FAC7}"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EA7E435-DAB0-4D83-8948-35D55279B9ED}"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4BEC973-CDC7-4CBF-BD1F-5799259D65E3}"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3FDCAEA-DD52-4303-BF2D-273A2DFB5CB4}"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F5E6AFC-4D6A-4880-99E4-BC6DD05AA87F}"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0E504FC-7CA2-446B-A09D-1F53A9074355}"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B8085FB-4BA3-4142-86CA-57B03CA821B2}"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5FF5719-A67C-44D2-81AE-F9EF0BDA73A0}"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910187D-A44A-49B9-97E5-1D0E7BBA6EBD}"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76FF6CC-24DA-4EC5-B704-1D6D62AC51F5}"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A1C0011-CC32-4D89-832A-3EAB08F3A450}"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5A12C9D-603F-4758-9CB8-CBF1919E7614}"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37F2175-2F60-4390-B65F-C1DE3AF46E16}"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4113417-DFFE-409E-8797-CE513AB3B211}"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0341517-14C3-4FF4-A7A0-F8ACE9B0168F}"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2C68D1B-C4CD-484D-8CD0-1B73D51B9985}"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E5CB768B-6868-4ECB-A6E1-8FD2A8140CB2}"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E2ABA0A-DA22-4BE4-A85E-A8916A2973E9}"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5EFDB14-B9B8-4857-8942-52156CDB6A06}"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D247A16-253E-4448-9E47-E41749CD336B}"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E0026E41-17A4-4F77-9232-9776C886CCEA}"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2C053C6-4F53-4567-869E-41001A1BE986}"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540B5B3-0A7E-4DB0-9E45-51EA9CD7E47F}"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7112C0A-0779-46C7-885C-65C287683937}"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9FD1B7D-98D7-437C-9C4C-3C21C99ADD07}"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B8430B4-7131-4421-9DF4-AD49CC373FCE}"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DF0D528-AF0C-49BB-8916-78EA0A02700B}"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2856D3B-A4F5-4A49-9C61-951B379832A9}"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AA4096E-D7B6-4B54-AE1F-5C0027E92428}"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C340F5F-54B1-4688-9D7F-46C1ADB2F35A}"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9480E1E-0CB6-424F-8EC0-6B0484C3BF6B}"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516F6A9-C36D-44C6-9761-C17569B14470}"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42D4D9F-4D1B-4F1B-95DD-79E99EDD21E9}"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69AC966-B1B5-40F7-8B31-B0B0F35C97D0}"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7AD7EAD-55F4-4033-9C64-30424E3404E2}"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F8D8297-CB51-419A-9EE9-39332DA0CE07}"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8099684-8009-4C41-813B-5D0062CD51E6}"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04BC51F-AB5D-454D-984B-4DE610AC651C}"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96EA4CD-63D0-4CA7-81D8-9D59077DFFFF}"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B2BA6819-E761-4FF0-AE34-D8F60337044D}"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D8AE30B-2E8A-4557-B0FC-403C5D026806}"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35B9BE2-9A9E-472E-8725-8D1D2AA9B2DA}"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5936FC8-E3EB-47E1-BE47-41B79D26461D}"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0804219-4E20-43DB-AAE2-DFE68EBB6DEF}"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CCB2987-4AED-4CA5-B501-5624FF08FB0E}"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173381E-0006-4303-B703-4071F10B377A}"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A7EADD2-EE80-4AEF-883D-3CDD679FFC61}"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D65660A-AED7-440C-BBC2-B8074E87021C}"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E185E99-67BE-4D9E-BAAB-4A74524671D5}"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11FCCF9-378C-4208-AAD4-F6759F4C64DC}"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E44FA34-DF9A-4901-9503-C9E0584A2C1F}"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CE61534-0AE5-4DCB-BE09-4294706C3B9D}"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5028F8F-413D-4EAD-83D3-0F1AEDBB462A}"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C6FFFC1-5E66-40CB-94D1-06FD7C557681}"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CF50D04-F09E-49A9-97D8-B97FBE55B2EF}"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C052DC6-11F4-4383-9C29-25675826157D}"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E8D288D-61A2-4182-A738-D04A04C006CA}"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6FB111D-8CA9-48C7-BFF0-1052B31658BF}"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DC81279-BE96-44B6-B70C-21EFA45FFC76}"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9E18627-631B-4A74-A47F-87F0A54C153E}"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689A623-2023-43AC-94C3-6535DE83D131}"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D751813-3439-4A51-ADDB-420AE47D6ABB}"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BAB122AE-7E7F-44D9-8FC9-1B9603ACA619}"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2194216-71E9-486A-95C4-89912C007FD5}"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4A7335E-F15A-4322-B903-CD3C6DF6890E}"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B25A25B-08AF-47B0-9392-1178734B55AC}"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48BDACC-D2D7-4774-84BF-45880771395E}"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A28FE3D-EA0D-4F75-A637-869ACC31698A}"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92FBD88-6B6D-4A7F-912C-5ED50CBD9EEF}"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F2CF39E-6A06-4EBB-AAE2-4F6BC718DBCE}"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4C18DB7-0E52-4A1A-A903-8AA65E7A28D3}"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505FFB6-3434-4A77-8EAA-4A1B75281105}"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14T06:10:42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