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810-DF20-4238-B21B-155724F5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CCA-E549-49E0-AE6E-8AA6795F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2A6-439A-4149-82A9-90127568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F51-0FBA-49A6-A72D-8E49CC5B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017A-F6A8-47CC-AC57-027F2D46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B002-4500-4394-BEBA-4ACB3D6E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CB34-5A32-4FFC-902E-280E120D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FE69-86E2-436C-94E4-950088B6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C68F-D9A6-4265-904C-55CCB089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21C3-5126-4239-B906-4B2F0E6D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EC50-EAEA-41D3-A625-C28937ED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AB1-0412-40B0-99D1-E82041AD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1850-6644-463F-AFA2-AAC02147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E71D-F745-49DF-9199-2B998FED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0DED-7F3C-416C-962A-098ADE81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834A-F0C3-4EDE-B5FE-AC0251C5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84D0-26F2-40D8-825C-13D99C5D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4C5-F464-4F9B-9386-B37A5D50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6AE-C0A9-4C3C-9EA8-8E8927F5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AAA-1985-4EC1-A0C9-551B862A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787-FDE2-4813-9240-F5E9AA80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93B-E6A9-4260-9BA9-8FA7B628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6BD-EAAF-4C32-A772-96E36C6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59F-DE18-4300-AE0C-0CA1FC75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EBC9-FED1-4E17-93F0-D4B1783ED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461E-C164-4178-91E0-D00216D96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1800" y="441972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37339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447920"/>
            <a:ext cx="4724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New WebFlow Middle-Ti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Pluggable MetaComp  uting Services (Globus Services: GRAM, GSS, GEM and MDS) and binding modules with Distributed Adaptor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mponent-Based design of  WebFlow modules (e.g. MetaComponents) with JWO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mpile-time and run-time customization of modules trough their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ntrolling the module execution with DARP service which runs in WebFlow server as a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New WebFlow Middle-Tier (Cont.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Persistency with XML (Saving composed application with XML and restore i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Modules communicate with each other trough JavaBeans events (Event/Property Bind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Because of using component model, Modules can be nested at arbitrary level. That is, modules can contain other mod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WebFlow server, written in JWOB,  is an extension of module and can be used as a module (surprise !!!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3720" y="1981080"/>
            <a:ext cx="6172200" cy="4038840"/>
          </a:xfrm>
          <a:prstGeom prst="ellipse">
            <a:avLst/>
          </a:prstGeom>
          <a:solidFill>
            <a:srgbClr val="ff66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209680"/>
            <a:ext cx="96372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2590920"/>
            <a:ext cx="87444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G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2004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NEX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590920"/>
            <a:ext cx="87444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DAR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22860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VISUAL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057400"/>
            <a:ext cx="96228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57200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95288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518148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029200"/>
            <a:ext cx="53316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895480"/>
            <a:ext cx="3429000" cy="2133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Interaction between WebFlow Services and Webflow Modul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 flipV="1">
            <a:off x="228600" y="3886200"/>
            <a:ext cx="8610840" cy="76680"/>
          </a:xfrm>
          <a:prstGeom prst="straightConnector1">
            <a:avLst/>
          </a:prstGeom>
          <a:ln w="28440">
            <a:solidFill>
              <a:srgbClr val="ffffff"/>
            </a:solidFill>
            <a:prstDash val="lgDash"/>
            <a:miter/>
          </a:ln>
        </p:spPr>
      </p:cxnSp>
      <p:sp>
        <p:nvSpPr>
          <p:cNvPr id="121" name=""/>
          <p:cNvSpPr/>
          <p:nvPr/>
        </p:nvSpPr>
        <p:spPr>
          <a:xfrm>
            <a:off x="75240" y="4259160"/>
            <a:ext cx="1928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Web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1560" y="2201760"/>
            <a:ext cx="1928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Web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32004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BIND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ADAP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sic Principles of WebFlow Serv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 is a component which can include  other components (WebFlow serve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us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on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u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 interchangeab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tall objec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located at remote deployment targets, which start WebFlow servers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s have API which can be used directly or by means of one deployment to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enefits of component model for WebFlow Serv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advantages of WebFlow component mod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odel helps us create any level of hierarchy of Servers which leads to building applications out of previous composed applications or single 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ng new service to Server is easy, maintaining and updating is not difficult a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 can be used a module to create applications because it is a component (surprise!!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enefits of component model for WebFlow Server (Cont.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es can be written with independent of environment or Container in which it will r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e functions or values  specific to one environment will be put into services which modules can interrogate and us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service inside one component  be used for all components nested in service’s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or modules ,written in any language (C++,Java and etc.) CORBA supports, can be replaced with new ones to adapt to new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does Webflow server look lik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7:22:51Z</dcterms:created>
  <dc:creator>Valued Gateway Customer</dc:creator>
  <dc:description/>
  <dc:language>en-US</dc:language>
  <cp:lastModifiedBy>Valued Gateway Customer</cp:lastModifiedBy>
  <cp:lastPrinted>1998-11-23T17:43:52Z</cp:lastPrinted>
  <dcterms:modified xsi:type="dcterms:W3CDTF">1999-06-16T19:08:53Z</dcterms:modified>
  <cp:revision>10</cp:revision>
  <dc:subject/>
  <dc:title>New WebFlow Middle-Tier</dc:title>
</cp:coreProperties>
</file>