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030-00C1-4A2C-88AF-72FAB4DD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3E3-DA72-41CE-B58A-C403558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829-3B42-46BF-94B6-47F8869C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989-D5D4-4FBB-A16A-5244EDAD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B91-93B1-4242-B6FC-85127E8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F1D-363D-4D5D-B48D-C475FCF8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D3C-533F-41DE-97FA-F396BFD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C42-1023-4E6D-B84D-55485F3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AE2-C4C6-4CFD-8476-DADA86C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05A-8EEC-45AA-A50B-CC7C8C0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472-4D2C-4FD5-A033-F54E6CF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DEF-227B-4E8E-9995-2FE5D3D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9EC2-F9CF-481C-8B36-BACB19E9C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685800"/>
            <a:ext cx="8381520" cy="5713560"/>
            <a:chOff x="457200" y="685800"/>
            <a:chExt cx="8381520" cy="5713560"/>
          </a:xfrm>
        </p:grpSpPr>
        <p:grpSp>
          <p:nvGrpSpPr>
            <p:cNvPr id="42" name=""/>
            <p:cNvGrpSpPr/>
            <p:nvPr/>
          </p:nvGrpSpPr>
          <p:grpSpPr>
            <a:xfrm>
              <a:off x="457200" y="685800"/>
              <a:ext cx="8381520" cy="5713560"/>
              <a:chOff x="457200" y="685800"/>
              <a:chExt cx="8381520" cy="5713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57200" y="685800"/>
                <a:ext cx="8381520" cy="5713560"/>
                <a:chOff x="457200" y="685800"/>
                <a:chExt cx="8381520" cy="57135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457200" y="685800"/>
                  <a:ext cx="8381520" cy="5713560"/>
                  <a:chOff x="457200" y="685800"/>
                  <a:chExt cx="8381520" cy="57135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668760" y="685800"/>
                    <a:ext cx="5169960" cy="57135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21760" y="1153800"/>
                    <a:ext cx="2202120" cy="37465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330600" y="1153800"/>
                    <a:ext cx="2201040" cy="374652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924360" y="1342080"/>
                    <a:ext cx="1996920" cy="7484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33200" y="1342080"/>
                    <a:ext cx="1995480" cy="74844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924360" y="2090520"/>
                    <a:ext cx="2046960" cy="1498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924360" y="3683520"/>
                    <a:ext cx="2046960" cy="1122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456680" y="2090520"/>
                    <a:ext cx="97200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380640" y="2090520"/>
                    <a:ext cx="102564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976200" y="2159640"/>
                    <a:ext cx="1945080" cy="5472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976200" y="3678480"/>
                    <a:ext cx="19450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477560" y="2278440"/>
                    <a:ext cx="9334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33200" y="2278440"/>
                    <a:ext cx="870120" cy="62172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8800" y="2839320"/>
                    <a:ext cx="20304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487760" y="312120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45240" y="4338360"/>
                    <a:ext cx="20556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790680" y="35895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996240" y="415188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586200" y="4151880"/>
                    <a:ext cx="20412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" name=""/>
                  <p:cNvCxnSpPr/>
                  <p:nvPr/>
                </p:nvCxnSpPr>
                <p:spPr>
                  <a:xfrm>
                    <a:off x="6893280" y="3401280"/>
                    <a:ext cx="1080" cy="1886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5" name=""/>
                  <p:cNvCxnSpPr/>
                  <p:nvPr/>
                </p:nvCxnSpPr>
                <p:spPr>
                  <a:xfrm flipV="1" rot="10800000">
                    <a:off x="6689520" y="3729240"/>
                    <a:ext cx="10080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6" name=""/>
                  <p:cNvCxnSpPr/>
                  <p:nvPr/>
                </p:nvCxnSpPr>
                <p:spPr>
                  <a:xfrm>
                    <a:off x="6995880" y="3729600"/>
                    <a:ext cx="10332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67" name=""/>
                  <p:cNvSpPr/>
                  <p:nvPr/>
                </p:nvSpPr>
                <p:spPr>
                  <a:xfrm>
                    <a:off x="6790680" y="3121200"/>
                    <a:ext cx="20556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09680" y="3307680"/>
                    <a:ext cx="716400" cy="1124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20080" y="368352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0" name=""/>
                  <p:cNvCxnSpPr/>
                  <p:nvPr/>
                </p:nvCxnSpPr>
                <p:spPr>
                  <a:xfrm>
                    <a:off x="7969320" y="3120840"/>
                    <a:ext cx="1080" cy="1868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1" name=""/>
                  <p:cNvCxnSpPr/>
                  <p:nvPr/>
                </p:nvCxnSpPr>
                <p:spPr>
                  <a:xfrm>
                    <a:off x="7866720" y="3543480"/>
                    <a:ext cx="255960" cy="14040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2" name=""/>
                  <p:cNvCxnSpPr/>
                  <p:nvPr/>
                </p:nvCxnSpPr>
                <p:spPr>
                  <a:xfrm rot="5400000">
                    <a:off x="7924320" y="3905640"/>
                    <a:ext cx="140400" cy="25596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73" name=""/>
                  <p:cNvSpPr/>
                  <p:nvPr/>
                </p:nvSpPr>
                <p:spPr>
                  <a:xfrm>
                    <a:off x="7662240" y="340128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2240" y="396396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255280" y="32151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6" name=""/>
                  <p:cNvCxnSpPr/>
                  <p:nvPr/>
                </p:nvCxnSpPr>
                <p:spPr>
                  <a:xfrm flipV="1">
                    <a:off x="4282200" y="2886840"/>
                    <a:ext cx="615960" cy="943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7" name=""/>
                  <p:cNvCxnSpPr/>
                  <p:nvPr/>
                </p:nvCxnSpPr>
                <p:spPr>
                  <a:xfrm flipH="1" rot="16200000">
                    <a:off x="4264920" y="3037320"/>
                    <a:ext cx="140400" cy="30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8" name=""/>
                  <p:cNvCxnSpPr/>
                  <p:nvPr/>
                </p:nvCxnSpPr>
                <p:spPr>
                  <a:xfrm>
                    <a:off x="4692240" y="3261600"/>
                    <a:ext cx="563760" cy="94320"/>
                  </a:xfrm>
                  <a:prstGeom prst="bentConnector3">
                    <a:avLst>
                      <a:gd name="adj1" fmla="val 49968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9" name=""/>
                  <p:cNvCxnSpPr/>
                  <p:nvPr/>
                </p:nvCxnSpPr>
                <p:spPr>
                  <a:xfrm flipV="1">
                    <a:off x="4692240" y="3026160"/>
                    <a:ext cx="308880" cy="23508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80" name=""/>
                  <p:cNvCxnSpPr/>
                  <p:nvPr/>
                </p:nvCxnSpPr>
                <p:spPr>
                  <a:xfrm flipV="1">
                    <a:off x="5461200" y="2932920"/>
                    <a:ext cx="203760" cy="422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873240" y="5650920"/>
                    <a:ext cx="4606560" cy="514440"/>
                    <a:chOff x="3873240" y="5650920"/>
                    <a:chExt cx="4606560" cy="51444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87324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5160" y="5650920"/>
                      <a:ext cx="4597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25528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472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732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3296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801972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457200" y="685800"/>
                    <a:ext cx="3055320" cy="571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is gi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y a hierarchy of contain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component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hosts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s and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ach user maintai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number of applicatio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osed of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stom module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mon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38920" y="5034240"/>
                    <a:ext cx="4151880" cy="52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866720" y="2839320"/>
                  <a:ext cx="205560" cy="281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63800" y="2652840"/>
                  <a:ext cx="203040" cy="28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4897800" y="2747160"/>
                <a:ext cx="203040" cy="28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" name=""/>
            <p:cNvCxnSpPr/>
            <p:nvPr/>
          </p:nvCxnSpPr>
          <p:spPr>
            <a:xfrm flipV="1" rot="10800000">
              <a:off x="5100480" y="2792160"/>
              <a:ext cx="463320" cy="9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22:51Z</dcterms:created>
  <dc:creator>Valued Gateway Customer</dc:creator>
  <dc:description/>
  <dc:language>en-US</dc:language>
  <cp:lastModifiedBy>Valued Gateway Customer</cp:lastModifiedBy>
  <dcterms:modified xsi:type="dcterms:W3CDTF">1999-07-10T20:28:00Z</dcterms:modified>
  <cp:revision>2</cp:revision>
  <dc:subject/>
  <dc:title>No Slide Title</dc:title>
</cp:coreProperties>
</file>