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9A6-84A0-4F81-B163-81DD1F23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F43-9D43-4EA4-99C1-D98BD2CF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65C-30A6-4C92-A8ED-17B5AF92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735-698F-4271-A7AF-A63BC5A0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27B-EBF6-4D2B-A41F-71A20764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044-9255-4443-9A93-2BE8DBAB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399-6C2A-4BF8-8820-9949B2A1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932-5B60-49CF-A205-FBC20699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B09-47B0-4B37-AE7F-75DBB68F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98C-DE30-4089-9FB9-BCFD331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F2A-5488-4265-999D-0661425A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80C-EFE1-4B7B-AD28-B3E60DF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35DE-5F10-4974-9090-43E08B85E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40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40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 flipH="1">
            <a:off x="196920" y="2209680"/>
            <a:ext cx="22248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978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6292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endCxn id="45" idx="0"/>
          </p:cNvCxnSpPr>
          <p:nvPr/>
        </p:nvCxnSpPr>
        <p:spPr>
          <a:xfrm>
            <a:off x="6216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2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72800" y="546120"/>
            <a:ext cx="157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Module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M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92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36720" y="20563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6984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0440" y="3204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0" idx="2"/>
            <a:endCxn id="55" idx="0"/>
          </p:cNvCxnSpPr>
          <p:nvPr/>
        </p:nvCxnSpPr>
        <p:spPr>
          <a:xfrm>
            <a:off x="7092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2"/>
            <a:endCxn id="46" idx="0"/>
          </p:cNvCxnSpPr>
          <p:nvPr/>
        </p:nvCxnSpPr>
        <p:spPr>
          <a:xfrm>
            <a:off x="6254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43" idx="4"/>
            <a:endCxn id="64" idx="0"/>
          </p:cNvCxnSpPr>
          <p:nvPr/>
        </p:nvCxnSpPr>
        <p:spPr>
          <a:xfrm>
            <a:off x="304920" y="3581280"/>
            <a:ext cx="1904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296400" y="267048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2"/>
            <a:endCxn id="67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196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1116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45" idx="1"/>
            <a:endCxn id="46" idx="1"/>
          </p:cNvCxnSpPr>
          <p:nvPr/>
        </p:nvCxnSpPr>
        <p:spPr>
          <a:xfrm flipH="1" flipV="1" rot="10800000">
            <a:off x="6140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6673680" y="312408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0680" y="25146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78400" y="47242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02080" y="563868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6" idx="2"/>
            <a:endCxn id="77" idx="0"/>
          </p:cNvCxnSpPr>
          <p:nvPr/>
        </p:nvCxnSpPr>
        <p:spPr>
          <a:xfrm>
            <a:off x="5492520" y="495288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60808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10960" y="5561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46" idx="3"/>
            <a:endCxn id="76" idx="0"/>
          </p:cNvCxnSpPr>
          <p:nvPr/>
        </p:nvCxnSpPr>
        <p:spPr>
          <a:xfrm flipH="1">
            <a:off x="5492520" y="3460680"/>
            <a:ext cx="693000" cy="12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828800" y="47242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4680" y="570060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83" idx="0"/>
          </p:cNvCxnSpPr>
          <p:nvPr/>
        </p:nvCxnSpPr>
        <p:spPr>
          <a:xfrm flipH="1">
            <a:off x="1905120" y="4952880"/>
            <a:ext cx="38160" cy="74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20320" y="45565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23200" y="562356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43" idx="5"/>
            <a:endCxn id="82" idx="0"/>
          </p:cNvCxnSpPr>
          <p:nvPr/>
        </p:nvCxnSpPr>
        <p:spPr>
          <a:xfrm>
            <a:off x="412560" y="3536640"/>
            <a:ext cx="1530720" cy="11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1"/>
            <a:endCxn id="43" idx="5"/>
          </p:cNvCxnSpPr>
          <p:nvPr/>
        </p:nvCxnSpPr>
        <p:spPr>
          <a:xfrm rot="10800000">
            <a:off x="412560" y="3536640"/>
            <a:ext cx="1416600" cy="1302120"/>
          </a:xfrm>
          <a:prstGeom prst="curvedConnector3">
            <a:avLst>
              <a:gd name="adj1" fmla="val 22648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cxnSp>
        <p:nvCxnSpPr>
          <p:cNvPr id="89" name=""/>
          <p:cNvCxnSpPr>
            <a:endCxn id="76" idx="1"/>
          </p:cNvCxnSpPr>
          <p:nvPr/>
        </p:nvCxnSpPr>
        <p:spPr>
          <a:xfrm>
            <a:off x="609120" y="3580920"/>
            <a:ext cx="4769640" cy="12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0" name=""/>
          <p:cNvCxnSpPr>
            <a:stCxn id="76" idx="1"/>
            <a:endCxn id="46" idx="2"/>
          </p:cNvCxnSpPr>
          <p:nvPr/>
        </p:nvCxnSpPr>
        <p:spPr>
          <a:xfrm flipH="1" rot="10800000">
            <a:off x="5378040" y="3353040"/>
            <a:ext cx="762480" cy="1485720"/>
          </a:xfrm>
          <a:prstGeom prst="curvedConnector3">
            <a:avLst>
              <a:gd name="adj1" fmla="val -10108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1" name=""/>
          <p:cNvCxnSpPr>
            <a:stCxn id="46" idx="6"/>
            <a:endCxn id="50" idx="3"/>
          </p:cNvCxnSpPr>
          <p:nvPr/>
        </p:nvCxnSpPr>
        <p:spPr>
          <a:xfrm>
            <a:off x="6445080" y="3353040"/>
            <a:ext cx="762480" cy="1562040"/>
          </a:xfrm>
          <a:prstGeom prst="curvedConnector3">
            <a:avLst>
              <a:gd name="adj1" fmla="val 109966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7126560" y="2909520"/>
            <a:ext cx="202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connection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local binding t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M2 to M3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M2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s proxy 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7120" y="3046680"/>
            <a:ext cx="233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e property“beanContex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ev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ertyChan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>
            <a:off x="380160" y="2209320"/>
            <a:ext cx="5722200" cy="112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42" idx="6"/>
            <a:endCxn id="45" idx="1"/>
          </p:cNvCxnSpPr>
          <p:nvPr/>
        </p:nvCxnSpPr>
        <p:spPr>
          <a:xfrm>
            <a:off x="990720" y="1371600"/>
            <a:ext cx="5150160" cy="72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44" idx="2"/>
            <a:endCxn id="43" idx="7"/>
          </p:cNvCxnSpPr>
          <p:nvPr/>
        </p:nvCxnSpPr>
        <p:spPr>
          <a:xfrm rot="5400000">
            <a:off x="-140040" y="2762280"/>
            <a:ext cx="1112040" cy="6840"/>
          </a:xfrm>
          <a:prstGeom prst="curvedConnector3">
            <a:avLst>
              <a:gd name="adj1" fmla="val 21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57200" y="26668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5898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6576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4280" y="6171120"/>
            <a:ext cx="206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connection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M1 to 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1" idx="1"/>
            <a:endCxn id="100" idx="4"/>
          </p:cNvCxnSpPr>
          <p:nvPr/>
        </p:nvCxnSpPr>
        <p:spPr>
          <a:xfrm rot="10800000">
            <a:off x="190440" y="3962160"/>
            <a:ext cx="34200" cy="2468880"/>
          </a:xfrm>
          <a:prstGeom prst="bentConnector4">
            <a:avLst>
              <a:gd name="adj1" fmla="val 671276"/>
              <a:gd name="adj2" fmla="val 5516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895040" y="-1440"/>
            <a:ext cx="353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steps occurred during remov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ule M2.Suppose there were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2-M3 and M1-M2 bef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3:45:08Z</dcterms:modified>
  <cp:revision>8</cp:revision>
  <dc:subject/>
  <dc:title>No Slide Title</dc:title>
</cp:coreProperties>
</file>