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E9E-ACE2-4DF2-86A6-E3C6F6CA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D12-8164-4BCA-B9A9-42305FB1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F49-5B4D-4B04-9D0E-2EF7FD1C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EF8-47FF-41C6-9BCC-1C8F44C6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193-F8C8-4FBB-B154-2DC91F1B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296-5C3E-4E4B-8C40-93F0C63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242-FB6C-4216-950A-F404513A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8E2-70DA-4394-B936-BD21AD8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9B0-3560-4C34-8587-5B534D38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99F-FA5F-4433-833F-CAC24E59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AA4-82B3-489A-B3D9-AEF2E5C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7F7-A343-4423-902C-7C7827AE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955-94F4-47E0-AE89-886106803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68580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RemoteAcc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8769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33940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4" idx="1"/>
          </p:cNvCxnSpPr>
          <p:nvPr/>
        </p:nvCxnSpPr>
        <p:spPr>
          <a:xfrm>
            <a:off x="1285920" y="3853800"/>
            <a:ext cx="1896480" cy="11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7"/>
            <a:endCxn id="42" idx="2"/>
          </p:cNvCxnSpPr>
          <p:nvPr/>
        </p:nvCxnSpPr>
        <p:spPr>
          <a:xfrm flipV="1">
            <a:off x="3828600" y="3962520"/>
            <a:ext cx="857880" cy="10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endCxn id="42" idx="1"/>
          </p:cNvCxnSpPr>
          <p:nvPr/>
        </p:nvCxnSpPr>
        <p:spPr>
          <a:xfrm>
            <a:off x="1752120" y="3733920"/>
            <a:ext cx="213444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endCxn id="43" idx="2"/>
          </p:cNvCxnSpPr>
          <p:nvPr/>
        </p:nvCxnSpPr>
        <p:spPr>
          <a:xfrm flipH="1" flipV="1">
            <a:off x="4724280" y="1828800"/>
            <a:ext cx="38520" cy="179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5" idx="3"/>
            <a:endCxn id="43" idx="1"/>
          </p:cNvCxnSpPr>
          <p:nvPr/>
        </p:nvCxnSpPr>
        <p:spPr>
          <a:xfrm flipV="1">
            <a:off x="1749600" y="1638360"/>
            <a:ext cx="2213280" cy="198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771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3" idx="3"/>
            <a:endCxn id="51" idx="1"/>
          </p:cNvCxnSpPr>
          <p:nvPr/>
        </p:nvCxnSpPr>
        <p:spPr>
          <a:xfrm>
            <a:off x="5486400" y="1638360"/>
            <a:ext cx="991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791320" y="12952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362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5909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8098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053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28600"/>
            <a:ext cx="7632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0"/>
            <a:endCxn id="41" idx="0"/>
          </p:cNvCxnSpPr>
          <p:nvPr/>
        </p:nvCxnSpPr>
        <p:spPr>
          <a:xfrm flipH="1" flipV="1">
            <a:off x="6400800" y="685800"/>
            <a:ext cx="8384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512720" y="457200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480" y="47242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7000" y="35053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720" y="194148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9440" y="1712880"/>
            <a:ext cx="72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8600" y="594360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Bean Pro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and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0520" y="59436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0880" y="9144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2240" y="44560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22:47:38Z</dcterms:created>
  <dc:creator>Valued Gateway Customer</dc:creator>
  <dc:description/>
  <dc:language>en-US</dc:language>
  <cp:lastModifiedBy>Valued Gateway Customer</cp:lastModifiedBy>
  <dcterms:modified xsi:type="dcterms:W3CDTF">1999-04-30T03:26:44Z</dcterms:modified>
  <cp:revision>2</cp:revision>
  <dc:subject/>
  <dc:title>No Slide Title</dc:title>
</cp:coreProperties>
</file>