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E6B7-D1DC-4930-8CC0-9D1FB7DC4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85F8-8402-42A3-A169-650EF8026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63B5-7AF1-4064-99D2-D792EB23A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1A73-9B61-4A09-AFD1-16706574E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9918D-4DC7-4C0C-9F6C-090E8D620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20B2E-6C75-4992-9B95-C66BF02FB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D72A2-CB34-4C61-83CE-E43D560EB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9DEC6-51E6-4035-BF55-1F7B6439A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8C680-8AD8-46CF-83D1-8DA40D799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5F9E2-1E2D-465B-8938-E93C4F2F9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31DDD-20EA-4D84-9BD6-804AD453D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26B4-1DD0-46E9-BA4F-6F17712EF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186A3-0676-4A77-8781-28CDC1E51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490E6-684E-4A72-B36D-CA9D11E22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B610B-4ADB-4D9C-B896-E17E1C736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79738-0BC0-45D9-AD0D-0B24EF2E1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25E9E-5BAA-416E-996B-9FBD58F84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CF4E-F39D-4E02-9EA6-8F924CF22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0640-9BB6-4FFA-99C1-F50DF5982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D2B0-45A0-4A0F-B7F9-6AC874FC4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3987-06BF-471B-B068-D3CA18EF6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45A3-C5FF-4E8A-8883-AB9E84345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127E-9578-41F0-B993-353DBD8B8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D48F-2441-4F44-AB7E-52B6F5EED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A6C91-07B7-42E3-B78C-6F43EC5F2B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0DAF3-ED37-44C6-A640-79DB48FDEC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Times New Roman"/>
              </a:rPr>
              <a:t>Security in JDK 1.2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Steps for the Code Signer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173240" y="1600200"/>
            <a:ext cx="7772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Steps for Code Signer (Cont`)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Generate a file name Count.java and compile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Generate a JAR file containing the Count.class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ar cvf Count.jar Count.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Generate keys                                                         keytool -genkey -alias signFiles -keypass kpi135              -keystore susanstore -storepass ab987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 the JAR file                                                           jarsigner -keystore susanstore -signedjar sCount.jar Count.jar signFi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rt the public key certificate                                  keytool -export -keystore susanstore -alias signFiles  -file SusanJones.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Steps for the Code Receiver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74640" y="1981080"/>
            <a:ext cx="6967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Steps for the Code Receiver (Cont`)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Restricted Application                                          java -cp sCount.jar Count C:\TestData\data                 To execute the application within a security manager java -Djava.security.manager -cp sCount.jar Count C:\TestData\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Import the Certificate as a Trusted Certificate          Received files : sCount.jar SusanJones.cer                  keytool -import -alias susan -file SusanJones.cer        -keystore rayst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Steps for the Code Receiver (Cont`)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Set Up a Policy File To Grant the Requested Permission   -  to permit the classes signed by susan to read the specified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Policy File Effects                                                      let the name given in the previous step be raystore                                           java -Djava.security.manager                                       -Djava.security.policy=raypolicy                                   -cp sCount.jar  Count  C:\TestData\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or Next Meet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hanging Files (Tools)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s for the Contract Sender                                             Steps for the Contract Rece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ng and Verifying Signatures (API)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ing a Digital Signature                                     Verifying a Digital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JDK 1.0 Security Model: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181240" y="1981080"/>
            <a:ext cx="575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JDK 1.1 Security Model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209680" y="1905120"/>
            <a:ext cx="58485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JDK 1.2 Security Model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133720" y="1981080"/>
            <a:ext cx="5746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. The Java application environment maintains a mapping from code (classes and instances) to their protection domains and then to their permission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173240" y="2514600"/>
            <a:ext cx="7284960" cy="34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Certificate Interfaces and Classes</a:t>
            </a:r>
            <a:br>
              <a:rPr sz="3200"/>
            </a:b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java.security.cert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packag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of the certificate related classes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ific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types of certificates (X.509, PGP), share general certificate functionality (encoding, verifying),  types of information (i.e. public ke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ificateFactor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defines the functionality of the certificate fa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509Certific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provides a standard way to access all the attributes of an X.509 certific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Key Management Classes and Interface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Store class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lies interfaces to access and modify the information in the keyst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ault KeyStore 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tects each private key with its individual passwor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specification interfaces 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sed for transparent representation of the key material that constitutes a ke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tool 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managing keys and certific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Security-Related Tool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tool 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sed to generate pairs of public and private key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rsigner 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gns the JAR files and verifies the authenticity of the signature(s) of signed JAR fi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cy tool 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curity policy is descri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gning Code and Granting It Permissions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example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s for the Code Sig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s for the Code Recei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09T11:13:01Z</dcterms:created>
  <dc:creator>Recep ALPER</dc:creator>
  <dc:description/>
  <dc:language>en-US</dc:language>
  <cp:lastModifiedBy>Valued Gateway Customer</cp:lastModifiedBy>
  <dcterms:modified xsi:type="dcterms:W3CDTF">1998-12-10T15:29:32Z</dcterms:modified>
  <cp:revision>12</cp:revision>
  <dc:subject/>
  <dc:title>JDK 1.0 Security Model: </dc:title>
</cp:coreProperties>
</file>