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F7C-F25A-4CFA-861E-A438F120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5EE-0563-485B-8021-F25CFB9D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062-E884-49E5-B7E3-F3CA6B2E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D60-4C3A-4B0D-B4A5-47791744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B313-5BB6-4FBE-A33B-EBBAD1E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5B3-F4EA-4A4A-AC2F-9C5177A9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72CB-45FA-4BA7-A361-A23E99D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0C6-04B9-4520-80F6-E7CD7F7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486-BBC4-455B-915A-6BB33DCA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F53E-464D-4BD2-B80C-E35E576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83A-444B-4CA8-A9C9-26AA548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8BF-CE3A-4D08-854F-31AEE463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7062-28FB-4ACC-B97D-8F30193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AC76-2066-4A5F-A49E-444B8DD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3E9A-FA82-411C-94E2-77A73283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847D-F17D-40E8-BAA7-3DC559FE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C7E7-E03D-4BCC-9AA9-E1C97CA8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45A-99EB-46A7-BD8C-F6FC428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587-7D2A-4011-A78F-CEF01C18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888-31CC-447D-AF4F-19A30EF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43080"/>
            <a:ext cx="7772400" cy="33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719-3CCB-4470-93BA-CC10D2D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67F-9E5E-4885-83AA-2AC76E2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007-4214-4EC7-8B1C-5201C0F7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23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178-B494-46AF-8705-E29764D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1751040"/>
            <a:ext cx="253440" cy="4421160"/>
            <a:chOff x="533520" y="1751040"/>
            <a:chExt cx="253440" cy="4421160"/>
          </a:xfrm>
        </p:grpSpPr>
        <p:sp>
          <p:nvSpPr>
            <p:cNvPr id="1" name=""/>
            <p:cNvSpPr/>
            <p:nvPr/>
          </p:nvSpPr>
          <p:spPr>
            <a:xfrm>
              <a:off x="533520" y="1752480"/>
              <a:ext cx="25092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96" y="2784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51040"/>
              <a:ext cx="253440" cy="4421160"/>
            </a:xfrm>
            <a:custGeom>
              <a:avLst/>
              <a:gdLst/>
              <a:ahLst/>
              <a:rect l="l" t="t" r="r" b="b"/>
              <a:pathLst>
                <a:path w="97" h="2785">
                  <a:moveTo>
                    <a:pt x="0" y="2784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380880" y="304920"/>
            <a:ext cx="304920" cy="685800"/>
            <a:chOff x="380880" y="304920"/>
            <a:chExt cx="304920" cy="685800"/>
          </a:xfrm>
        </p:grpSpPr>
        <p:sp>
          <p:nvSpPr>
            <p:cNvPr id="5" name=""/>
            <p:cNvSpPr/>
            <p:nvPr/>
          </p:nvSpPr>
          <p:spPr>
            <a:xfrm>
              <a:off x="380880" y="304920"/>
              <a:ext cx="303480" cy="6850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04920"/>
              <a:ext cx="304920" cy="6858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EB33-4682-4040-B754-654856EC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0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1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55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59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7732-CEAD-40FF-893B-D7E87687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664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V2 - The Collaborative Scientific Data Visualiz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anxiang Jin, Geoffrey F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CC84-FE11-491A-AEF3-2BD74F02A0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Sharing Applet in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(only canvas based so far) can be shared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the initialization of Applet without collaboration-aware for Applet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ynchronization through connection to local disk file.(TCP connection to SV2 server is under coming so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94B-8EDC-44E4-BF32-1F3BABA36F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computing on sv2-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ince some computing should be done on  sv2-server , decreasing this time is critical. We will focus on developing a server on multiple processors using MPI +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complex applet in S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ow to use serialization in java to sharing the view of complex appl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ata must be compressed in order to view data in a “reasonable”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64B-DED3-493A-9865-9C800381C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2 Sample Screen/Window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v2%20screen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4A4-B2C2-41A4-A0FE-07C7249EE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jshot2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088320" cy="48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3EA-0989-4643-B631-B123849BEE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SV2 screen d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untitled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21680" cy="54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D3F-78D4-4785-BF1F-3B4D7F0849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isual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ransformation of data or information into pi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tific Visualiz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passes user interface, data representation, processing algorithms, visual representations, and other sensory pres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ata/information becomes larger, scientist need to collaborate to better understand thi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ava 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tform independence, and ease of use of working with other languages(J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EB6-1D54-4BB2-B4A8-C894EB601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37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Overview of S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cientific visualization system to handle collaborations with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rge data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3-tier architecture combining a data-flow system with an easy to use collaborative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sign a collaborative system to allow users to work together in an efficient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ld visualizatio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DK 1.2, Java 2D, Java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accomplish these goals, we focus on 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multi-casting and com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ystem is composed of a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ava/C++) and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visualization cli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4D7-EC27-4BE1-8770-A9479DD3F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V2 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Server :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Receiving  and multi-casting the data, it  contains two computation engines: geometry and filter engines.Simulator provides real time data to SV2-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-Client :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consists two parts, a client Manager and a Data Viewer. Data Viewer is implemented using JDK1.2 and Java3D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:                                                          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It is a software framework supporting multiplatform collaboration, providing the management of collaborative issues in data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5CD-8D8A-4858-BD6F-A82345C57B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762120"/>
            <a:ext cx="129528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952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57200"/>
            <a:ext cx="121932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62120"/>
            <a:ext cx="129564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12952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View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457200"/>
            <a:ext cx="1218960" cy="1523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236232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1981080"/>
            <a:ext cx="22860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1080"/>
            <a:ext cx="426708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886200"/>
            <a:ext cx="2438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2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4343400"/>
            <a:ext cx="1371600" cy="533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2412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05520" y="1981080"/>
            <a:ext cx="16002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95480" y="1981080"/>
            <a:ext cx="228600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352680"/>
            <a:ext cx="144792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276720"/>
            <a:ext cx="1371600" cy="304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gure 1: SV2 System Architect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7EF-AE0B-4468-9A6F-7F408311E0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llaboration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Multi-user and multi-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Real Time Synchr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Large Data 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ontrol mes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eparated (through SV2 Server and Tango respective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Collaborative to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vailable(Chat, Whiteboard, Shared browser, Videoconferencing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BEC-11FE-4F08-9C44-972E1281B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Multi-casting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casting is a hot research topic .There are many different philosophies to sol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V2,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uild-in Multi-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Java is used when Server broadcasting the large Data sets to Clients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 Synchro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99C-3325-43B7-A0B5-081F50002B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Corporation with C/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uge comp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eded on SV2-Server . This computing time is related to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sponse time of the whole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we need to implements critical routines in C/C++                                                                            Some already exist routines are written in C/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imulator is written in C/C++ instead of Java.In SV2, we provid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 A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imulator to passing Data to SV2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se are reasons for us using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NI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Java in SV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6E6-4D33-4CFA-944B-80999C5215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onnect to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web server database through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ze the server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 some useful information from web server raw data by using some data mining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E09-B7EA-4DD7-BAA4-CF4608EA3F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2:39:23Z</dcterms:created>
  <dc:creator>jjin</dc:creator>
  <dc:description/>
  <dc:language>en-US</dc:language>
  <cp:lastModifiedBy>jjin</cp:lastModifiedBy>
  <dcterms:modified xsi:type="dcterms:W3CDTF">2000-01-30T15:57:10Z</dcterms:modified>
  <cp:revision>19</cp:revision>
  <dc:subject/>
  <dc:title>SV2 - The Collaborative Scientific Data Visualization Framework by using Tango</dc:title>
</cp:coreProperties>
</file>