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B43B25-1464-4452-BCAD-F2A3044CF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720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scape predicts that IIOP will replace HTTP someday. Distributed objects are using the Web to make inroads to distribution applicationdevelopment. Object request brokers such as Microsoft's COM and OMG'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720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 are setting the stage for dynamic application development. One of the shimmering promises of object-oriented technology is the creation of a codeless rapid application development environment - making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720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ssible to quickly string together a selection of prebuilt components to form a robust application. However, developers heading in this direction must proceed with caution. This presentation provides developers and development managers with the key information they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720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 know before moving into the world of the Internet and distributed  object computing. Topics include: IIOP and Corba, DCOM, ActiveX, Java and distributed middleware lay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961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720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720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ZapfDingbats"/>
              <a:buChar char="q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9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6360" y="1324080"/>
            <a:ext cx="855036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3080" y="6537240"/>
            <a:ext cx="41338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279f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279f"/>
                </a:solidFill>
                <a:latin typeface="Arial Narrow"/>
                <a:ea typeface="Arial Narrow"/>
              </a:rPr>
              <a:t>International  Systems Group Inc ,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23240" y="656748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37440" y="6453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80320" y="5867280"/>
            <a:ext cx="1357200" cy="968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9800" y="173160"/>
            <a:ext cx="7142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and Distributed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u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2495520"/>
            <a:ext cx="83250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2190600"/>
            <a:ext cx="8153280" cy="14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x  Dolgicer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dolgicer@isg-inc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rector of Technical Servi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53352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day’s Computing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41360" y="1830240"/>
            <a:ext cx="8207280" cy="3961080"/>
            <a:chOff x="441360" y="1830240"/>
            <a:chExt cx="8207280" cy="3961080"/>
          </a:xfrm>
        </p:grpSpPr>
        <p:sp>
          <p:nvSpPr>
            <p:cNvPr id="205" name=""/>
            <p:cNvSpPr/>
            <p:nvPr/>
          </p:nvSpPr>
          <p:spPr>
            <a:xfrm>
              <a:off x="685800" y="5334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24080" y="5334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5334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5154480" y="4573440"/>
              <a:ext cx="170496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indows NT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Department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191120" y="4721400"/>
              <a:ext cx="260640" cy="446040"/>
              <a:chOff x="4191120" y="4721400"/>
              <a:chExt cx="260640" cy="446040"/>
            </a:xfrm>
          </p:grpSpPr>
          <p:sp>
            <p:nvSpPr>
              <p:cNvPr id="210" name=""/>
              <p:cNvSpPr/>
              <p:nvPr/>
            </p:nvSpPr>
            <p:spPr>
              <a:xfrm>
                <a:off x="4191120" y="4759200"/>
                <a:ext cx="260640" cy="408240"/>
              </a:xfrm>
              <a:custGeom>
                <a:avLst/>
                <a:gdLst/>
                <a:ahLst/>
                <a:rect l="0" t="0" r="r" b="b"/>
                <a:pathLst>
                  <a:path w="724" h="1134">
                    <a:moveTo>
                      <a:pt x="724" y="13"/>
                    </a:moveTo>
                    <a:lnTo>
                      <a:pt x="724" y="935"/>
                    </a:lnTo>
                    <a:lnTo>
                      <a:pt x="710" y="971"/>
                    </a:lnTo>
                    <a:lnTo>
                      <a:pt x="693" y="1002"/>
                    </a:lnTo>
                    <a:lnTo>
                      <a:pt x="666" y="1037"/>
                    </a:lnTo>
                    <a:lnTo>
                      <a:pt x="640" y="1063"/>
                    </a:lnTo>
                    <a:lnTo>
                      <a:pt x="591" y="1094"/>
                    </a:lnTo>
                    <a:lnTo>
                      <a:pt x="543" y="1107"/>
                    </a:lnTo>
                    <a:lnTo>
                      <a:pt x="490" y="1121"/>
                    </a:lnTo>
                    <a:lnTo>
                      <a:pt x="441" y="1125"/>
                    </a:lnTo>
                    <a:lnTo>
                      <a:pt x="397" y="1134"/>
                    </a:lnTo>
                    <a:lnTo>
                      <a:pt x="348" y="1134"/>
                    </a:lnTo>
                    <a:lnTo>
                      <a:pt x="286" y="1125"/>
                    </a:lnTo>
                    <a:lnTo>
                      <a:pt x="238" y="1121"/>
                    </a:lnTo>
                    <a:lnTo>
                      <a:pt x="185" y="1107"/>
                    </a:lnTo>
                    <a:lnTo>
                      <a:pt x="136" y="1094"/>
                    </a:lnTo>
                    <a:lnTo>
                      <a:pt x="101" y="1068"/>
                    </a:lnTo>
                    <a:lnTo>
                      <a:pt x="61" y="1046"/>
                    </a:lnTo>
                    <a:lnTo>
                      <a:pt x="39" y="1015"/>
                    </a:lnTo>
                    <a:lnTo>
                      <a:pt x="26" y="993"/>
                    </a:lnTo>
                    <a:lnTo>
                      <a:pt x="8" y="971"/>
                    </a:lnTo>
                    <a:lnTo>
                      <a:pt x="0" y="931"/>
                    </a:lnTo>
                    <a:lnTo>
                      <a:pt x="0" y="0"/>
                    </a:lnTo>
                    <a:lnTo>
                      <a:pt x="724" y="13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2560" y="4721400"/>
                <a:ext cx="258840" cy="982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3295800" y="5106960"/>
              <a:ext cx="1417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Shipp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41360" y="1830240"/>
              <a:ext cx="8207280" cy="3210480"/>
              <a:chOff x="441360" y="1830240"/>
              <a:chExt cx="8207280" cy="3210480"/>
            </a:xfrm>
          </p:grpSpPr>
          <p:sp>
            <p:nvSpPr>
              <p:cNvPr id="214" name=""/>
              <p:cNvSpPr/>
              <p:nvPr/>
            </p:nvSpPr>
            <p:spPr>
              <a:xfrm flipH="1" flipV="1">
                <a:off x="4268880" y="2906640"/>
                <a:ext cx="1085760" cy="107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2666880" y="2960640"/>
                <a:ext cx="1228680" cy="180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1638360" y="2886120"/>
                <a:ext cx="960480" cy="1338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441360" y="3735360"/>
                <a:ext cx="968400" cy="103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Sun-Solar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HP-Uni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I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Billing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373040" y="4114800"/>
                <a:ext cx="451080" cy="174600"/>
                <a:chOff x="1373040" y="4114800"/>
                <a:chExt cx="451080" cy="174600"/>
              </a:xfrm>
            </p:grpSpPr>
            <p:sp>
              <p:nvSpPr>
                <p:cNvPr id="219" name=""/>
                <p:cNvSpPr txBox="1"/>
                <p:nvPr/>
              </p:nvSpPr>
              <p:spPr>
                <a:xfrm>
                  <a:off x="1378080" y="4121280"/>
                  <a:ext cx="104760" cy="1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 txBox="1"/>
                <p:nvPr/>
              </p:nvSpPr>
              <p:spPr>
                <a:xfrm>
                  <a:off x="1373040" y="4114800"/>
                  <a:ext cx="104760" cy="1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ffff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1467000" y="4121280"/>
                  <a:ext cx="357120" cy="1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>
                  <a:off x="1461960" y="4114800"/>
                  <a:ext cx="357120" cy="1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NIX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981080" y="2465280"/>
                <a:ext cx="1335240" cy="749520"/>
                <a:chOff x="1981080" y="2465280"/>
                <a:chExt cx="1335240" cy="74952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1981080" y="2481120"/>
                  <a:ext cx="57240" cy="723960"/>
                  <a:chOff x="1981080" y="2481120"/>
                  <a:chExt cx="57240" cy="7239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1981080" y="3151080"/>
                    <a:ext cx="57240" cy="54000"/>
                  </a:xfrm>
                  <a:prstGeom prst="round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981080" y="2481120"/>
                    <a:ext cx="57240" cy="54000"/>
                  </a:xfrm>
                  <a:prstGeom prst="round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822400" y="2465280"/>
                  <a:ext cx="493920" cy="743400"/>
                </a:xfrm>
                <a:custGeom>
                  <a:avLst/>
                  <a:gdLst/>
                  <a:ahLst/>
                  <a:rect l="0" t="0" r="r" b="b"/>
                  <a:pathLst>
                    <a:path w="1372" h="2065">
                      <a:moveTo>
                        <a:pt x="0" y="2065"/>
                      </a:moveTo>
                      <a:lnTo>
                        <a:pt x="1372" y="1765"/>
                      </a:lnTo>
                      <a:lnTo>
                        <a:pt x="1372" y="308"/>
                      </a:lnTo>
                      <a:lnTo>
                        <a:pt x="0" y="0"/>
                      </a:lnTo>
                      <a:lnTo>
                        <a:pt x="0" y="206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2009880" y="2468520"/>
                  <a:ext cx="819000" cy="746280"/>
                  <a:chOff x="2009880" y="2468520"/>
                  <a:chExt cx="819000" cy="7462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009880" y="2468520"/>
                    <a:ext cx="819000" cy="7462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2054160" y="2479680"/>
                    <a:ext cx="727200" cy="723960"/>
                    <a:chOff x="2054160" y="2479680"/>
                    <a:chExt cx="727200" cy="7239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2054160" y="2479680"/>
                      <a:ext cx="727200" cy="723960"/>
                    </a:xfrm>
                    <a:prstGeom prst="rect">
                      <a:avLst/>
                    </a:pr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2413080" y="3127320"/>
                      <a:ext cx="266760" cy="6048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2163600" y="3149640"/>
                      <a:ext cx="87480" cy="38160"/>
                    </a:xfrm>
                    <a:prstGeom prst="rect">
                      <a:avLst/>
                    </a:pr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2136600" y="2519280"/>
                  <a:ext cx="279360" cy="652320"/>
                  <a:chOff x="2136600" y="2519280"/>
                  <a:chExt cx="279360" cy="6523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2136600" y="2519280"/>
                    <a:ext cx="279360" cy="652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2157480" y="2532240"/>
                    <a:ext cx="250920" cy="630720"/>
                    <a:chOff x="2157480" y="2532240"/>
                    <a:chExt cx="250920" cy="630720"/>
                  </a:xfrm>
                </p:grpSpPr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2320920" y="2532240"/>
                      <a:ext cx="44640" cy="239400"/>
                      <a:chOff x="2320920" y="2532240"/>
                      <a:chExt cx="44640" cy="23940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2324160" y="2533680"/>
                        <a:ext cx="41400" cy="23796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2324160" y="2563920"/>
                        <a:ext cx="36720" cy="113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2" h="314">
                            <a:moveTo>
                              <a:pt x="0" y="314"/>
                            </a:moveTo>
                            <a:lnTo>
                              <a:pt x="102" y="0"/>
                            </a:lnTo>
                            <a:lnTo>
                              <a:pt x="0" y="0"/>
                            </a:lnTo>
                            <a:lnTo>
                              <a:pt x="0" y="314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2324160" y="2533680"/>
                        <a:ext cx="41400" cy="3636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2320920" y="2532240"/>
                        <a:ext cx="44280" cy="23652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2157480" y="2533680"/>
                      <a:ext cx="159120" cy="629280"/>
                      <a:chOff x="2157480" y="2533680"/>
                      <a:chExt cx="159120" cy="62928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2160720" y="2533680"/>
                        <a:ext cx="15444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29" h="72">
                            <a:moveTo>
                              <a:pt x="0" y="0"/>
                            </a:moveTo>
                            <a:lnTo>
                              <a:pt x="44" y="72"/>
                            </a:lnTo>
                            <a:lnTo>
                              <a:pt x="376" y="72"/>
                            </a:lnTo>
                            <a:lnTo>
                              <a:pt x="42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2157480" y="3137040"/>
                        <a:ext cx="15768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38" h="72">
                            <a:moveTo>
                              <a:pt x="0" y="72"/>
                            </a:moveTo>
                            <a:lnTo>
                              <a:pt x="48" y="0"/>
                            </a:lnTo>
                            <a:lnTo>
                              <a:pt x="381" y="0"/>
                            </a:lnTo>
                            <a:lnTo>
                              <a:pt x="438" y="72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2157480" y="2533680"/>
                        <a:ext cx="25920" cy="619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1721">
                            <a:moveTo>
                              <a:pt x="0" y="1721"/>
                            </a:moveTo>
                            <a:lnTo>
                              <a:pt x="72" y="1690"/>
                            </a:lnTo>
                            <a:lnTo>
                              <a:pt x="72" y="39"/>
                            </a:lnTo>
                            <a:lnTo>
                              <a:pt x="4" y="0"/>
                            </a:lnTo>
                            <a:lnTo>
                              <a:pt x="0" y="1721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2290680" y="2533680"/>
                        <a:ext cx="25920" cy="619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1721">
                            <a:moveTo>
                              <a:pt x="72" y="1721"/>
                            </a:moveTo>
                            <a:lnTo>
                              <a:pt x="4" y="1695"/>
                            </a:lnTo>
                            <a:lnTo>
                              <a:pt x="0" y="44"/>
                            </a:lnTo>
                            <a:lnTo>
                              <a:pt x="63" y="0"/>
                            </a:lnTo>
                            <a:lnTo>
                              <a:pt x="72" y="1721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2174760" y="2548080"/>
                        <a:ext cx="119160" cy="5936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2157480" y="2533680"/>
                        <a:ext cx="158760" cy="620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2319480" y="2533680"/>
                      <a:ext cx="88920" cy="623880"/>
                      <a:chOff x="2319480" y="2533680"/>
                      <a:chExt cx="88920" cy="6238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2319480" y="2825640"/>
                        <a:ext cx="88920" cy="633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2240" bIns="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2371680" y="3048120"/>
                        <a:ext cx="34920" cy="23760"/>
                      </a:xfrm>
                      <a:prstGeom prst="rect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2371680" y="3006720"/>
                        <a:ext cx="34920" cy="2700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2374920" y="2533680"/>
                        <a:ext cx="31680" cy="623880"/>
                        <a:chOff x="2374920" y="2533680"/>
                        <a:chExt cx="31680" cy="62388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2374920" y="314496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2374920" y="31338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374920" y="31226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374920" y="311292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2374920" y="310212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2374920" y="30909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2374920" y="29541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2374920" y="294336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2374920" y="29322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2374920" y="2924280"/>
                          <a:ext cx="31680" cy="1116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2374920" y="290988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2374920" y="289872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2374920" y="288756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2374920" y="28144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2374920" y="280368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2374920" y="279252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2374920" y="27828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2374920" y="27716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2374920" y="27608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2374920" y="274968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>
                          <a:off x="2374920" y="27399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>
                          <a:off x="2374920" y="272736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2374920" y="271764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2374920" y="270828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374920" y="269568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374920" y="268596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374920" y="26766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2374920" y="266400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2374920" y="26528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2374920" y="264312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2374920" y="26352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2374920" y="26226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2374920" y="261000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374920" y="260028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374920" y="259092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374920" y="25797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2374920" y="25686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2374920" y="2557440"/>
                          <a:ext cx="31680" cy="1116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>
                          <a:off x="2374920" y="25448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374920" y="253368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374920" y="30798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374920" y="306864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374920" y="3040200"/>
                          <a:ext cx="31680" cy="1116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374920" y="30272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374920" y="29988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374920" y="29876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374920" y="29750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374920" y="29638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435400" y="2516040"/>
                  <a:ext cx="270000" cy="646200"/>
                  <a:chOff x="2435400" y="2516040"/>
                  <a:chExt cx="270000" cy="6462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2435400" y="2516040"/>
                    <a:ext cx="270000" cy="6462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44760" y="2529000"/>
                    <a:ext cx="245160" cy="626040"/>
                    <a:chOff x="2444760" y="2529000"/>
                    <a:chExt cx="245160" cy="626040"/>
                  </a:xfrm>
                </p:grpSpPr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2482920" y="2529000"/>
                      <a:ext cx="44280" cy="236520"/>
                      <a:chOff x="2482920" y="2529000"/>
                      <a:chExt cx="44280" cy="23652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2484360" y="2532240"/>
                        <a:ext cx="41400" cy="23328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2490840" y="2560680"/>
                        <a:ext cx="33840" cy="113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4" h="314">
                            <a:moveTo>
                              <a:pt x="94" y="314"/>
                            </a:moveTo>
                            <a:lnTo>
                              <a:pt x="0" y="0"/>
                            </a:lnTo>
                            <a:lnTo>
                              <a:pt x="94" y="0"/>
                            </a:lnTo>
                            <a:lnTo>
                              <a:pt x="94" y="314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2484360" y="2532240"/>
                        <a:ext cx="41400" cy="3492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2482920" y="2529000"/>
                        <a:ext cx="44280" cy="23328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2532240" y="2530440"/>
                      <a:ext cx="157680" cy="624600"/>
                      <a:chOff x="2532240" y="2530440"/>
                      <a:chExt cx="157680" cy="624600"/>
                    </a:xfrm>
                  </p:grpSpPr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2533680" y="2532240"/>
                        <a:ext cx="1497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16" h="72">
                            <a:moveTo>
                              <a:pt x="416" y="0"/>
                            </a:moveTo>
                            <a:lnTo>
                              <a:pt x="372" y="72"/>
                            </a:lnTo>
                            <a:lnTo>
                              <a:pt x="52" y="72"/>
                            </a:lnTo>
                            <a:lnTo>
                              <a:pt x="0" y="0"/>
                            </a:lnTo>
                            <a:lnTo>
                              <a:pt x="416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2533680" y="3129120"/>
                        <a:ext cx="15120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20" h="72">
                            <a:moveTo>
                              <a:pt x="420" y="72"/>
                            </a:moveTo>
                            <a:lnTo>
                              <a:pt x="372" y="0"/>
                            </a:lnTo>
                            <a:lnTo>
                              <a:pt x="52" y="0"/>
                            </a:lnTo>
                            <a:lnTo>
                              <a:pt x="0" y="72"/>
                            </a:lnTo>
                            <a:lnTo>
                              <a:pt x="420" y="72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2664000" y="2530440"/>
                        <a:ext cx="25920" cy="6130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1703">
                            <a:moveTo>
                              <a:pt x="72" y="1703"/>
                            </a:moveTo>
                            <a:lnTo>
                              <a:pt x="0" y="1672"/>
                            </a:lnTo>
                            <a:lnTo>
                              <a:pt x="0" y="39"/>
                            </a:lnTo>
                            <a:lnTo>
                              <a:pt x="63" y="0"/>
                            </a:lnTo>
                            <a:lnTo>
                              <a:pt x="72" y="1703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2533680" y="2532240"/>
                        <a:ext cx="25920" cy="61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1699">
                            <a:moveTo>
                              <a:pt x="0" y="1699"/>
                            </a:moveTo>
                            <a:lnTo>
                              <a:pt x="63" y="1673"/>
                            </a:lnTo>
                            <a:lnTo>
                              <a:pt x="72" y="39"/>
                            </a:lnTo>
                            <a:lnTo>
                              <a:pt x="4" y="0"/>
                            </a:lnTo>
                            <a:lnTo>
                              <a:pt x="0" y="1699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2552760" y="2544840"/>
                        <a:ext cx="114480" cy="58752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2532240" y="2530440"/>
                        <a:ext cx="152280" cy="61452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2444760" y="2532240"/>
                      <a:ext cx="84240" cy="615600"/>
                      <a:chOff x="2444760" y="2532240"/>
                      <a:chExt cx="84240" cy="61560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2444760" y="2819520"/>
                        <a:ext cx="84240" cy="633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2240" bIns="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2446200" y="3041640"/>
                        <a:ext cx="33480" cy="22320"/>
                      </a:xfrm>
                      <a:prstGeom prst="rect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2446200" y="2998800"/>
                        <a:ext cx="33480" cy="2700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2446200" y="2532240"/>
                        <a:ext cx="31680" cy="615600"/>
                        <a:chOff x="2446200" y="2532240"/>
                        <a:chExt cx="31680" cy="615600"/>
                      </a:xfrm>
                    </p:grpSpPr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2446200" y="31352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2446200" y="31240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2446200" y="311472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2446200" y="31035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2446200" y="30942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>
                          <a:off x="2446200" y="30830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>
                          <a:off x="2446200" y="29462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>
                          <a:off x="2446200" y="29354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>
                          <a:off x="2446200" y="29242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>
                          <a:off x="2446200" y="29145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2446200" y="290340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2446200" y="28926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2446200" y="28814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446200" y="28083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446200" y="27972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2446200" y="27874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2446200" y="277812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>
                          <a:off x="2446200" y="276696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>
                          <a:off x="2446200" y="27558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2446200" y="274464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>
                          <a:off x="2446200" y="27352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>
                          <a:off x="2446200" y="272412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>
                          <a:off x="2446200" y="271476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>
                          <a:off x="2446200" y="270180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2446200" y="26906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2446200" y="26812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>
                          <a:off x="2446200" y="267192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>
                          <a:off x="2446200" y="266076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>
                          <a:off x="2446200" y="26496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>
                          <a:off x="2446200" y="26384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2446200" y="263052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2446200" y="261792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>
                          <a:off x="2446200" y="26082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2446200" y="259704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>
                          <a:off x="2446200" y="258588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2446200" y="257508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>
                          <a:off x="2446200" y="2563920"/>
                          <a:ext cx="31680" cy="1584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2446200" y="25542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2446200" y="254160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>
                          <a:off x="2446200" y="253224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2446200" y="30718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2446200" y="306072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>
                          <a:off x="2446200" y="30322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>
                          <a:off x="2446200" y="302112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2446200" y="29908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2446200" y="2978280"/>
                          <a:ext cx="31680" cy="144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2446200" y="296856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2446200" y="2957400"/>
                          <a:ext cx="31680" cy="1260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370" name=""/>
              <p:cNvSpPr txBox="1"/>
              <p:nvPr/>
            </p:nvSpPr>
            <p:spPr>
              <a:xfrm>
                <a:off x="2254320" y="1830240"/>
                <a:ext cx="798480" cy="67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MVS/CIC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Unis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852480" y="2592360"/>
                <a:ext cx="11034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Batch Order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3736800" y="1908000"/>
                <a:ext cx="6811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S/4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5720" y="3036960"/>
                <a:ext cx="2114640" cy="122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4421160" y="2135160"/>
                <a:ext cx="12654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Accounting 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59520" y="4016520"/>
                <a:ext cx="1309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7394400" y="2363760"/>
                <a:ext cx="1104840" cy="82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Windows 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Workst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Care 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7621560" y="3735360"/>
                <a:ext cx="102708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Windows 9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  <a:ea typeface="Tahoma"/>
                  </a:rPr>
                  <a:t>Order Ent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99320" y="2630520"/>
                <a:ext cx="711000" cy="1536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5883120" y="2644920"/>
                <a:ext cx="897120" cy="134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6400800" y="2362320"/>
                <a:ext cx="762480" cy="684360"/>
                <a:chOff x="6400800" y="2362320"/>
                <a:chExt cx="762480" cy="68436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6400800" y="2362320"/>
                  <a:ext cx="762480" cy="684360"/>
                  <a:chOff x="6400800" y="2362320"/>
                  <a:chExt cx="762480" cy="6843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6540480" y="2759040"/>
                    <a:ext cx="476280" cy="146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510240" y="2873520"/>
                    <a:ext cx="536400" cy="158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512040" y="2774880"/>
                    <a:ext cx="536400" cy="1033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885000" y="2832120"/>
                    <a:ext cx="147600" cy="270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400800" y="2898720"/>
                    <a:ext cx="762480" cy="125640"/>
                  </a:xfrm>
                  <a:custGeom>
                    <a:avLst/>
                    <a:gdLst/>
                    <a:ahLst/>
                    <a:rect l="0" t="0" r="r" b="b"/>
                    <a:pathLst>
                      <a:path w="2118" h="349">
                        <a:moveTo>
                          <a:pt x="132" y="0"/>
                        </a:moveTo>
                        <a:lnTo>
                          <a:pt x="1959" y="0"/>
                        </a:lnTo>
                        <a:lnTo>
                          <a:pt x="2118" y="349"/>
                        </a:lnTo>
                        <a:lnTo>
                          <a:pt x="0" y="349"/>
                        </a:lnTo>
                        <a:lnTo>
                          <a:pt x="13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400800" y="3024360"/>
                    <a:ext cx="762120" cy="223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486480" y="29383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4" y="0"/>
                        </a:moveTo>
                        <a:lnTo>
                          <a:pt x="72" y="0"/>
                        </a:lnTo>
                        <a:lnTo>
                          <a:pt x="72" y="72"/>
                        </a:lnTo>
                        <a:lnTo>
                          <a:pt x="0" y="7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454800" y="29671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8" y="0"/>
                        </a:moveTo>
                        <a:lnTo>
                          <a:pt x="63" y="0"/>
                        </a:lnTo>
                        <a:lnTo>
                          <a:pt x="72" y="72"/>
                        </a:lnTo>
                        <a:lnTo>
                          <a:pt x="0" y="7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448320" y="2979720"/>
                    <a:ext cx="8136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94">
                        <a:moveTo>
                          <a:pt x="8" y="0"/>
                        </a:moveTo>
                        <a:lnTo>
                          <a:pt x="124" y="0"/>
                        </a:lnTo>
                        <a:lnTo>
                          <a:pt x="137" y="27"/>
                        </a:lnTo>
                        <a:lnTo>
                          <a:pt x="106" y="27"/>
                        </a:lnTo>
                        <a:lnTo>
                          <a:pt x="106" y="53"/>
                        </a:lnTo>
                        <a:lnTo>
                          <a:pt x="222" y="53"/>
                        </a:lnTo>
                        <a:lnTo>
                          <a:pt x="226" y="94"/>
                        </a:lnTo>
                        <a:lnTo>
                          <a:pt x="80" y="94"/>
                        </a:lnTo>
                        <a:lnTo>
                          <a:pt x="93" y="40"/>
                        </a:lnTo>
                        <a:lnTo>
                          <a:pt x="0" y="4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480000" y="2938320"/>
                    <a:ext cx="6084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142">
                        <a:moveTo>
                          <a:pt x="84" y="0"/>
                        </a:moveTo>
                        <a:lnTo>
                          <a:pt x="134" y="0"/>
                        </a:lnTo>
                        <a:lnTo>
                          <a:pt x="143" y="17"/>
                        </a:lnTo>
                        <a:lnTo>
                          <a:pt x="115" y="17"/>
                        </a:lnTo>
                        <a:lnTo>
                          <a:pt x="115" y="39"/>
                        </a:lnTo>
                        <a:lnTo>
                          <a:pt x="160" y="39"/>
                        </a:lnTo>
                        <a:lnTo>
                          <a:pt x="169" y="61"/>
                        </a:lnTo>
                        <a:lnTo>
                          <a:pt x="134" y="61"/>
                        </a:lnTo>
                        <a:lnTo>
                          <a:pt x="115" y="80"/>
                        </a:lnTo>
                        <a:lnTo>
                          <a:pt x="102" y="61"/>
                        </a:lnTo>
                        <a:lnTo>
                          <a:pt x="22" y="61"/>
                        </a:lnTo>
                        <a:lnTo>
                          <a:pt x="13" y="70"/>
                        </a:lnTo>
                        <a:lnTo>
                          <a:pt x="93" y="70"/>
                        </a:lnTo>
                        <a:lnTo>
                          <a:pt x="98" y="98"/>
                        </a:lnTo>
                        <a:lnTo>
                          <a:pt x="80" y="98"/>
                        </a:lnTo>
                        <a:lnTo>
                          <a:pt x="80" y="115"/>
                        </a:lnTo>
                        <a:lnTo>
                          <a:pt x="115" y="115"/>
                        </a:lnTo>
                        <a:lnTo>
                          <a:pt x="124" y="142"/>
                        </a:lnTo>
                        <a:lnTo>
                          <a:pt x="62" y="142"/>
                        </a:lnTo>
                        <a:lnTo>
                          <a:pt x="67" y="115"/>
                        </a:lnTo>
                        <a:lnTo>
                          <a:pt x="53" y="98"/>
                        </a:lnTo>
                        <a:lnTo>
                          <a:pt x="8" y="98"/>
                        </a:lnTo>
                        <a:lnTo>
                          <a:pt x="4" y="70"/>
                        </a:lnTo>
                        <a:lnTo>
                          <a:pt x="0" y="61"/>
                        </a:lnTo>
                        <a:lnTo>
                          <a:pt x="4" y="39"/>
                        </a:lnTo>
                        <a:lnTo>
                          <a:pt x="98" y="39"/>
                        </a:lnTo>
                        <a:lnTo>
                          <a:pt x="102" y="17"/>
                        </a:lnTo>
                        <a:lnTo>
                          <a:pt x="84" y="17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521400" y="2967120"/>
                    <a:ext cx="2574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715" h="129">
                        <a:moveTo>
                          <a:pt x="8" y="0"/>
                        </a:moveTo>
                        <a:lnTo>
                          <a:pt x="52" y="0"/>
                        </a:lnTo>
                        <a:lnTo>
                          <a:pt x="52" y="22"/>
                        </a:lnTo>
                        <a:lnTo>
                          <a:pt x="30" y="22"/>
                        </a:lnTo>
                        <a:lnTo>
                          <a:pt x="30" y="36"/>
                        </a:lnTo>
                        <a:lnTo>
                          <a:pt x="74" y="36"/>
                        </a:lnTo>
                        <a:lnTo>
                          <a:pt x="88" y="62"/>
                        </a:lnTo>
                        <a:lnTo>
                          <a:pt x="44" y="62"/>
                        </a:lnTo>
                        <a:lnTo>
                          <a:pt x="61" y="89"/>
                        </a:lnTo>
                        <a:lnTo>
                          <a:pt x="697" y="89"/>
                        </a:lnTo>
                        <a:lnTo>
                          <a:pt x="715" y="129"/>
                        </a:lnTo>
                        <a:lnTo>
                          <a:pt x="30" y="129"/>
                        </a:lnTo>
                        <a:lnTo>
                          <a:pt x="30" y="89"/>
                        </a:lnTo>
                        <a:lnTo>
                          <a:pt x="17" y="62"/>
                        </a:lnTo>
                        <a:lnTo>
                          <a:pt x="22" y="36"/>
                        </a:lnTo>
                        <a:lnTo>
                          <a:pt x="8" y="22"/>
                        </a:lnTo>
                        <a:lnTo>
                          <a:pt x="0" y="2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537240" y="2938320"/>
                    <a:ext cx="4176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2">
                        <a:moveTo>
                          <a:pt x="0" y="0"/>
                        </a:moveTo>
                        <a:lnTo>
                          <a:pt x="45" y="0"/>
                        </a:lnTo>
                        <a:lnTo>
                          <a:pt x="53" y="17"/>
                        </a:lnTo>
                        <a:lnTo>
                          <a:pt x="31" y="17"/>
                        </a:lnTo>
                        <a:lnTo>
                          <a:pt x="26" y="39"/>
                        </a:lnTo>
                        <a:lnTo>
                          <a:pt x="75" y="39"/>
                        </a:lnTo>
                        <a:lnTo>
                          <a:pt x="75" y="61"/>
                        </a:lnTo>
                        <a:lnTo>
                          <a:pt x="45" y="61"/>
                        </a:lnTo>
                        <a:lnTo>
                          <a:pt x="36" y="70"/>
                        </a:lnTo>
                        <a:lnTo>
                          <a:pt x="75" y="70"/>
                        </a:lnTo>
                        <a:lnTo>
                          <a:pt x="90" y="98"/>
                        </a:lnTo>
                        <a:lnTo>
                          <a:pt x="67" y="98"/>
                        </a:lnTo>
                        <a:lnTo>
                          <a:pt x="58" y="115"/>
                        </a:lnTo>
                        <a:lnTo>
                          <a:pt x="112" y="115"/>
                        </a:lnTo>
                        <a:lnTo>
                          <a:pt x="116" y="142"/>
                        </a:lnTo>
                        <a:lnTo>
                          <a:pt x="58" y="142"/>
                        </a:lnTo>
                        <a:lnTo>
                          <a:pt x="58" y="120"/>
                        </a:lnTo>
                        <a:lnTo>
                          <a:pt x="45" y="98"/>
                        </a:lnTo>
                        <a:lnTo>
                          <a:pt x="31" y="98"/>
                        </a:lnTo>
                        <a:lnTo>
                          <a:pt x="22" y="66"/>
                        </a:lnTo>
                        <a:lnTo>
                          <a:pt x="22" y="48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562800" y="2938320"/>
                    <a:ext cx="4176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2">
                        <a:moveTo>
                          <a:pt x="4" y="0"/>
                        </a:moveTo>
                        <a:lnTo>
                          <a:pt x="49" y="0"/>
                        </a:lnTo>
                        <a:lnTo>
                          <a:pt x="53" y="17"/>
                        </a:lnTo>
                        <a:lnTo>
                          <a:pt x="31" y="17"/>
                        </a:lnTo>
                        <a:lnTo>
                          <a:pt x="31" y="39"/>
                        </a:lnTo>
                        <a:lnTo>
                          <a:pt x="75" y="39"/>
                        </a:lnTo>
                        <a:lnTo>
                          <a:pt x="75" y="61"/>
                        </a:lnTo>
                        <a:lnTo>
                          <a:pt x="40" y="61"/>
                        </a:lnTo>
                        <a:lnTo>
                          <a:pt x="40" y="70"/>
                        </a:lnTo>
                        <a:lnTo>
                          <a:pt x="80" y="70"/>
                        </a:lnTo>
                        <a:lnTo>
                          <a:pt x="84" y="98"/>
                        </a:lnTo>
                        <a:lnTo>
                          <a:pt x="67" y="98"/>
                        </a:lnTo>
                        <a:lnTo>
                          <a:pt x="67" y="115"/>
                        </a:lnTo>
                        <a:lnTo>
                          <a:pt x="107" y="115"/>
                        </a:lnTo>
                        <a:lnTo>
                          <a:pt x="116" y="142"/>
                        </a:lnTo>
                        <a:lnTo>
                          <a:pt x="58" y="142"/>
                        </a:lnTo>
                        <a:lnTo>
                          <a:pt x="58" y="120"/>
                        </a:lnTo>
                        <a:lnTo>
                          <a:pt x="40" y="98"/>
                        </a:lnTo>
                        <a:lnTo>
                          <a:pt x="31" y="98"/>
                        </a:lnTo>
                        <a:lnTo>
                          <a:pt x="22" y="61"/>
                        </a:lnTo>
                        <a:lnTo>
                          <a:pt x="13" y="39"/>
                        </a:lnTo>
                        <a:lnTo>
                          <a:pt x="13" y="17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586560" y="29383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63" y="0"/>
                        </a:lnTo>
                        <a:lnTo>
                          <a:pt x="72" y="36"/>
                        </a:lnTo>
                        <a:lnTo>
                          <a:pt x="36" y="36"/>
                        </a:lnTo>
                        <a:lnTo>
                          <a:pt x="27" y="72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595920" y="2951280"/>
                    <a:ext cx="367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07">
                        <a:moveTo>
                          <a:pt x="4" y="0"/>
                        </a:moveTo>
                        <a:lnTo>
                          <a:pt x="53" y="0"/>
                        </a:lnTo>
                        <a:lnTo>
                          <a:pt x="58" y="22"/>
                        </a:lnTo>
                        <a:lnTo>
                          <a:pt x="22" y="22"/>
                        </a:lnTo>
                        <a:lnTo>
                          <a:pt x="22" y="26"/>
                        </a:lnTo>
                        <a:lnTo>
                          <a:pt x="13" y="36"/>
                        </a:lnTo>
                        <a:lnTo>
                          <a:pt x="67" y="36"/>
                        </a:lnTo>
                        <a:lnTo>
                          <a:pt x="71" y="58"/>
                        </a:lnTo>
                        <a:lnTo>
                          <a:pt x="48" y="58"/>
                        </a:lnTo>
                        <a:lnTo>
                          <a:pt x="39" y="71"/>
                        </a:lnTo>
                        <a:lnTo>
                          <a:pt x="48" y="75"/>
                        </a:lnTo>
                        <a:lnTo>
                          <a:pt x="93" y="75"/>
                        </a:lnTo>
                        <a:lnTo>
                          <a:pt x="102" y="107"/>
                        </a:lnTo>
                        <a:lnTo>
                          <a:pt x="39" y="107"/>
                        </a:lnTo>
                        <a:lnTo>
                          <a:pt x="39" y="99"/>
                        </a:lnTo>
                        <a:lnTo>
                          <a:pt x="22" y="58"/>
                        </a:lnTo>
                        <a:lnTo>
                          <a:pt x="4" y="45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611760" y="2938320"/>
                    <a:ext cx="4644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29" h="142">
                        <a:moveTo>
                          <a:pt x="4" y="0"/>
                        </a:moveTo>
                        <a:lnTo>
                          <a:pt x="49" y="0"/>
                        </a:lnTo>
                        <a:lnTo>
                          <a:pt x="49" y="17"/>
                        </a:lnTo>
                        <a:lnTo>
                          <a:pt x="36" y="17"/>
                        </a:lnTo>
                        <a:lnTo>
                          <a:pt x="30" y="39"/>
                        </a:lnTo>
                        <a:lnTo>
                          <a:pt x="36" y="39"/>
                        </a:lnTo>
                        <a:lnTo>
                          <a:pt x="80" y="39"/>
                        </a:lnTo>
                        <a:lnTo>
                          <a:pt x="80" y="61"/>
                        </a:lnTo>
                        <a:lnTo>
                          <a:pt x="49" y="61"/>
                        </a:lnTo>
                        <a:lnTo>
                          <a:pt x="49" y="70"/>
                        </a:lnTo>
                        <a:lnTo>
                          <a:pt x="93" y="70"/>
                        </a:lnTo>
                        <a:lnTo>
                          <a:pt x="93" y="98"/>
                        </a:lnTo>
                        <a:lnTo>
                          <a:pt x="80" y="98"/>
                        </a:lnTo>
                        <a:lnTo>
                          <a:pt x="67" y="115"/>
                        </a:lnTo>
                        <a:lnTo>
                          <a:pt x="121" y="115"/>
                        </a:lnTo>
                        <a:lnTo>
                          <a:pt x="129" y="142"/>
                        </a:lnTo>
                        <a:lnTo>
                          <a:pt x="67" y="142"/>
                        </a:lnTo>
                        <a:lnTo>
                          <a:pt x="67" y="120"/>
                        </a:lnTo>
                        <a:lnTo>
                          <a:pt x="49" y="98"/>
                        </a:lnTo>
                        <a:lnTo>
                          <a:pt x="36" y="98"/>
                        </a:lnTo>
                        <a:lnTo>
                          <a:pt x="36" y="61"/>
                        </a:lnTo>
                        <a:lnTo>
                          <a:pt x="36" y="57"/>
                        </a:lnTo>
                        <a:lnTo>
                          <a:pt x="13" y="48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638760" y="2938320"/>
                    <a:ext cx="478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33" h="142">
                        <a:moveTo>
                          <a:pt x="4" y="0"/>
                        </a:moveTo>
                        <a:lnTo>
                          <a:pt x="48" y="0"/>
                        </a:lnTo>
                        <a:lnTo>
                          <a:pt x="52" y="17"/>
                        </a:lnTo>
                        <a:lnTo>
                          <a:pt x="35" y="17"/>
                        </a:lnTo>
                        <a:lnTo>
                          <a:pt x="30" y="30"/>
                        </a:lnTo>
                        <a:lnTo>
                          <a:pt x="35" y="39"/>
                        </a:lnTo>
                        <a:lnTo>
                          <a:pt x="80" y="39"/>
                        </a:lnTo>
                        <a:lnTo>
                          <a:pt x="84" y="61"/>
                        </a:lnTo>
                        <a:lnTo>
                          <a:pt x="52" y="61"/>
                        </a:lnTo>
                        <a:lnTo>
                          <a:pt x="48" y="70"/>
                        </a:lnTo>
                        <a:lnTo>
                          <a:pt x="52" y="70"/>
                        </a:lnTo>
                        <a:lnTo>
                          <a:pt x="98" y="70"/>
                        </a:lnTo>
                        <a:lnTo>
                          <a:pt x="98" y="98"/>
                        </a:lnTo>
                        <a:lnTo>
                          <a:pt x="84" y="98"/>
                        </a:lnTo>
                        <a:lnTo>
                          <a:pt x="80" y="111"/>
                        </a:lnTo>
                        <a:lnTo>
                          <a:pt x="80" y="115"/>
                        </a:lnTo>
                        <a:lnTo>
                          <a:pt x="128" y="115"/>
                        </a:lnTo>
                        <a:lnTo>
                          <a:pt x="133" y="142"/>
                        </a:lnTo>
                        <a:lnTo>
                          <a:pt x="71" y="142"/>
                        </a:lnTo>
                        <a:lnTo>
                          <a:pt x="71" y="120"/>
                        </a:lnTo>
                        <a:lnTo>
                          <a:pt x="57" y="98"/>
                        </a:lnTo>
                        <a:lnTo>
                          <a:pt x="39" y="98"/>
                        </a:lnTo>
                        <a:lnTo>
                          <a:pt x="35" y="61"/>
                        </a:lnTo>
                        <a:lnTo>
                          <a:pt x="17" y="35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665760" y="2938320"/>
                    <a:ext cx="496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38" h="142">
                        <a:moveTo>
                          <a:pt x="0" y="0"/>
                        </a:moveTo>
                        <a:lnTo>
                          <a:pt x="45" y="0"/>
                        </a:lnTo>
                        <a:lnTo>
                          <a:pt x="53" y="17"/>
                        </a:lnTo>
                        <a:lnTo>
                          <a:pt x="26" y="17"/>
                        </a:lnTo>
                        <a:lnTo>
                          <a:pt x="26" y="39"/>
                        </a:lnTo>
                        <a:lnTo>
                          <a:pt x="36" y="39"/>
                        </a:lnTo>
                        <a:lnTo>
                          <a:pt x="75" y="39"/>
                        </a:lnTo>
                        <a:lnTo>
                          <a:pt x="75" y="61"/>
                        </a:lnTo>
                        <a:lnTo>
                          <a:pt x="53" y="61"/>
                        </a:lnTo>
                        <a:lnTo>
                          <a:pt x="45" y="70"/>
                        </a:lnTo>
                        <a:lnTo>
                          <a:pt x="98" y="70"/>
                        </a:lnTo>
                        <a:lnTo>
                          <a:pt x="102" y="98"/>
                        </a:lnTo>
                        <a:lnTo>
                          <a:pt x="75" y="98"/>
                        </a:lnTo>
                        <a:lnTo>
                          <a:pt x="71" y="115"/>
                        </a:lnTo>
                        <a:lnTo>
                          <a:pt x="75" y="115"/>
                        </a:lnTo>
                        <a:lnTo>
                          <a:pt x="129" y="115"/>
                        </a:lnTo>
                        <a:lnTo>
                          <a:pt x="138" y="142"/>
                        </a:lnTo>
                        <a:lnTo>
                          <a:pt x="71" y="142"/>
                        </a:lnTo>
                        <a:lnTo>
                          <a:pt x="67" y="115"/>
                        </a:lnTo>
                        <a:lnTo>
                          <a:pt x="53" y="98"/>
                        </a:lnTo>
                        <a:lnTo>
                          <a:pt x="36" y="98"/>
                        </a:lnTo>
                        <a:lnTo>
                          <a:pt x="26" y="57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689880" y="2938320"/>
                    <a:ext cx="496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38" h="142">
                        <a:moveTo>
                          <a:pt x="4" y="0"/>
                        </a:moveTo>
                        <a:lnTo>
                          <a:pt x="45" y="0"/>
                        </a:lnTo>
                        <a:lnTo>
                          <a:pt x="58" y="17"/>
                        </a:lnTo>
                        <a:lnTo>
                          <a:pt x="30" y="17"/>
                        </a:lnTo>
                        <a:lnTo>
                          <a:pt x="30" y="44"/>
                        </a:lnTo>
                        <a:lnTo>
                          <a:pt x="30" y="39"/>
                        </a:lnTo>
                        <a:lnTo>
                          <a:pt x="84" y="39"/>
                        </a:lnTo>
                        <a:lnTo>
                          <a:pt x="84" y="61"/>
                        </a:lnTo>
                        <a:lnTo>
                          <a:pt x="58" y="61"/>
                        </a:lnTo>
                        <a:lnTo>
                          <a:pt x="45" y="70"/>
                        </a:lnTo>
                        <a:lnTo>
                          <a:pt x="93" y="70"/>
                        </a:lnTo>
                        <a:lnTo>
                          <a:pt x="98" y="98"/>
                        </a:lnTo>
                        <a:lnTo>
                          <a:pt x="84" y="98"/>
                        </a:lnTo>
                        <a:lnTo>
                          <a:pt x="84" y="106"/>
                        </a:lnTo>
                        <a:lnTo>
                          <a:pt x="84" y="115"/>
                        </a:lnTo>
                        <a:lnTo>
                          <a:pt x="134" y="115"/>
                        </a:lnTo>
                        <a:lnTo>
                          <a:pt x="138" y="142"/>
                        </a:lnTo>
                        <a:lnTo>
                          <a:pt x="84" y="142"/>
                        </a:lnTo>
                        <a:lnTo>
                          <a:pt x="67" y="115"/>
                        </a:lnTo>
                        <a:lnTo>
                          <a:pt x="58" y="98"/>
                        </a:lnTo>
                        <a:lnTo>
                          <a:pt x="36" y="98"/>
                        </a:lnTo>
                        <a:lnTo>
                          <a:pt x="13" y="39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715080" y="2938320"/>
                    <a:ext cx="5436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142">
                        <a:moveTo>
                          <a:pt x="8" y="0"/>
                        </a:moveTo>
                        <a:lnTo>
                          <a:pt x="49" y="0"/>
                        </a:lnTo>
                        <a:lnTo>
                          <a:pt x="53" y="17"/>
                        </a:lnTo>
                        <a:lnTo>
                          <a:pt x="35" y="17"/>
                        </a:lnTo>
                        <a:lnTo>
                          <a:pt x="26" y="17"/>
                        </a:lnTo>
                        <a:lnTo>
                          <a:pt x="35" y="39"/>
                        </a:lnTo>
                        <a:lnTo>
                          <a:pt x="80" y="39"/>
                        </a:lnTo>
                        <a:lnTo>
                          <a:pt x="84" y="61"/>
                        </a:lnTo>
                        <a:lnTo>
                          <a:pt x="58" y="61"/>
                        </a:lnTo>
                        <a:lnTo>
                          <a:pt x="53" y="70"/>
                        </a:lnTo>
                        <a:lnTo>
                          <a:pt x="106" y="70"/>
                        </a:lnTo>
                        <a:lnTo>
                          <a:pt x="106" y="98"/>
                        </a:lnTo>
                        <a:lnTo>
                          <a:pt x="93" y="98"/>
                        </a:lnTo>
                        <a:lnTo>
                          <a:pt x="84" y="102"/>
                        </a:lnTo>
                        <a:lnTo>
                          <a:pt x="93" y="115"/>
                        </a:lnTo>
                        <a:lnTo>
                          <a:pt x="138" y="115"/>
                        </a:lnTo>
                        <a:lnTo>
                          <a:pt x="151" y="142"/>
                        </a:lnTo>
                        <a:lnTo>
                          <a:pt x="84" y="142"/>
                        </a:lnTo>
                        <a:lnTo>
                          <a:pt x="71" y="120"/>
                        </a:lnTo>
                        <a:lnTo>
                          <a:pt x="62" y="98"/>
                        </a:lnTo>
                        <a:lnTo>
                          <a:pt x="40" y="98"/>
                        </a:lnTo>
                        <a:lnTo>
                          <a:pt x="22" y="44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743880" y="2938320"/>
                    <a:ext cx="3672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16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7"/>
                        </a:lnTo>
                        <a:lnTo>
                          <a:pt x="30" y="17"/>
                        </a:lnTo>
                        <a:lnTo>
                          <a:pt x="26" y="36"/>
                        </a:lnTo>
                        <a:lnTo>
                          <a:pt x="30" y="40"/>
                        </a:lnTo>
                        <a:lnTo>
                          <a:pt x="71" y="40"/>
                        </a:lnTo>
                        <a:lnTo>
                          <a:pt x="75" y="62"/>
                        </a:lnTo>
                        <a:lnTo>
                          <a:pt x="48" y="62"/>
                        </a:lnTo>
                        <a:lnTo>
                          <a:pt x="44" y="80"/>
                        </a:lnTo>
                        <a:lnTo>
                          <a:pt x="89" y="80"/>
                        </a:lnTo>
                        <a:lnTo>
                          <a:pt x="93" y="90"/>
                        </a:lnTo>
                        <a:lnTo>
                          <a:pt x="102" y="99"/>
                        </a:lnTo>
                        <a:lnTo>
                          <a:pt x="80" y="99"/>
                        </a:lnTo>
                        <a:lnTo>
                          <a:pt x="71" y="116"/>
                        </a:lnTo>
                        <a:lnTo>
                          <a:pt x="58" y="99"/>
                        </a:lnTo>
                        <a:lnTo>
                          <a:pt x="44" y="99"/>
                        </a:lnTo>
                        <a:lnTo>
                          <a:pt x="26" y="58"/>
                        </a:lnTo>
                        <a:lnTo>
                          <a:pt x="22" y="49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769080" y="2938320"/>
                    <a:ext cx="3672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24">
                        <a:moveTo>
                          <a:pt x="0" y="0"/>
                        </a:moveTo>
                        <a:lnTo>
                          <a:pt x="44" y="0"/>
                        </a:lnTo>
                        <a:lnTo>
                          <a:pt x="48" y="17"/>
                        </a:lnTo>
                        <a:lnTo>
                          <a:pt x="26" y="17"/>
                        </a:lnTo>
                        <a:lnTo>
                          <a:pt x="30" y="39"/>
                        </a:lnTo>
                        <a:lnTo>
                          <a:pt x="67" y="39"/>
                        </a:lnTo>
                        <a:lnTo>
                          <a:pt x="71" y="61"/>
                        </a:lnTo>
                        <a:lnTo>
                          <a:pt x="67" y="61"/>
                        </a:lnTo>
                        <a:lnTo>
                          <a:pt x="48" y="61"/>
                        </a:lnTo>
                        <a:lnTo>
                          <a:pt x="48" y="71"/>
                        </a:lnTo>
                        <a:lnTo>
                          <a:pt x="98" y="71"/>
                        </a:lnTo>
                        <a:lnTo>
                          <a:pt x="102" y="98"/>
                        </a:lnTo>
                        <a:lnTo>
                          <a:pt x="89" y="98"/>
                        </a:lnTo>
                        <a:lnTo>
                          <a:pt x="84" y="124"/>
                        </a:lnTo>
                        <a:lnTo>
                          <a:pt x="67" y="98"/>
                        </a:lnTo>
                        <a:lnTo>
                          <a:pt x="44" y="98"/>
                        </a:lnTo>
                        <a:lnTo>
                          <a:pt x="26" y="61"/>
                        </a:lnTo>
                        <a:lnTo>
                          <a:pt x="13" y="48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792840" y="2938320"/>
                    <a:ext cx="3672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98">
                        <a:moveTo>
                          <a:pt x="0" y="0"/>
                        </a:moveTo>
                        <a:lnTo>
                          <a:pt x="35" y="0"/>
                        </a:lnTo>
                        <a:lnTo>
                          <a:pt x="44" y="17"/>
                        </a:lnTo>
                        <a:lnTo>
                          <a:pt x="30" y="17"/>
                        </a:lnTo>
                        <a:lnTo>
                          <a:pt x="22" y="35"/>
                        </a:lnTo>
                        <a:lnTo>
                          <a:pt x="44" y="35"/>
                        </a:lnTo>
                        <a:lnTo>
                          <a:pt x="71" y="35"/>
                        </a:lnTo>
                        <a:lnTo>
                          <a:pt x="89" y="62"/>
                        </a:lnTo>
                        <a:lnTo>
                          <a:pt x="48" y="62"/>
                        </a:lnTo>
                        <a:lnTo>
                          <a:pt x="44" y="75"/>
                        </a:lnTo>
                        <a:lnTo>
                          <a:pt x="98" y="75"/>
                        </a:lnTo>
                        <a:lnTo>
                          <a:pt x="102" y="98"/>
                        </a:lnTo>
                        <a:lnTo>
                          <a:pt x="48" y="98"/>
                        </a:lnTo>
                        <a:lnTo>
                          <a:pt x="30" y="80"/>
                        </a:lnTo>
                        <a:lnTo>
                          <a:pt x="30" y="53"/>
                        </a:lnTo>
                        <a:lnTo>
                          <a:pt x="17" y="44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772320" y="2938320"/>
                    <a:ext cx="9396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261" h="182">
                        <a:moveTo>
                          <a:pt x="127" y="0"/>
                        </a:moveTo>
                        <a:lnTo>
                          <a:pt x="212" y="0"/>
                        </a:lnTo>
                        <a:lnTo>
                          <a:pt x="212" y="17"/>
                        </a:lnTo>
                        <a:lnTo>
                          <a:pt x="168" y="17"/>
                        </a:lnTo>
                        <a:lnTo>
                          <a:pt x="172" y="39"/>
                        </a:lnTo>
                        <a:lnTo>
                          <a:pt x="177" y="39"/>
                        </a:lnTo>
                        <a:lnTo>
                          <a:pt x="186" y="71"/>
                        </a:lnTo>
                        <a:lnTo>
                          <a:pt x="230" y="71"/>
                        </a:lnTo>
                        <a:lnTo>
                          <a:pt x="247" y="44"/>
                        </a:lnTo>
                        <a:lnTo>
                          <a:pt x="261" y="111"/>
                        </a:lnTo>
                        <a:lnTo>
                          <a:pt x="217" y="111"/>
                        </a:lnTo>
                        <a:lnTo>
                          <a:pt x="217" y="165"/>
                        </a:lnTo>
                        <a:lnTo>
                          <a:pt x="26" y="165"/>
                        </a:lnTo>
                        <a:lnTo>
                          <a:pt x="22" y="182"/>
                        </a:lnTo>
                        <a:lnTo>
                          <a:pt x="0" y="147"/>
                        </a:lnTo>
                        <a:lnTo>
                          <a:pt x="13" y="111"/>
                        </a:lnTo>
                        <a:lnTo>
                          <a:pt x="57" y="111"/>
                        </a:lnTo>
                        <a:lnTo>
                          <a:pt x="74" y="143"/>
                        </a:lnTo>
                        <a:lnTo>
                          <a:pt x="79" y="111"/>
                        </a:lnTo>
                        <a:lnTo>
                          <a:pt x="199" y="111"/>
                        </a:lnTo>
                        <a:lnTo>
                          <a:pt x="199" y="102"/>
                        </a:lnTo>
                        <a:lnTo>
                          <a:pt x="172" y="71"/>
                        </a:lnTo>
                        <a:lnTo>
                          <a:pt x="168" y="58"/>
                        </a:lnTo>
                        <a:lnTo>
                          <a:pt x="150" y="39"/>
                        </a:lnTo>
                        <a:lnTo>
                          <a:pt x="146" y="17"/>
                        </a:lnTo>
                        <a:lnTo>
                          <a:pt x="123" y="17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897600" y="2938320"/>
                    <a:ext cx="687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72">
                        <a:moveTo>
                          <a:pt x="4" y="0"/>
                        </a:moveTo>
                        <a:lnTo>
                          <a:pt x="53" y="0"/>
                        </a:lnTo>
                        <a:lnTo>
                          <a:pt x="67" y="17"/>
                        </a:lnTo>
                        <a:lnTo>
                          <a:pt x="75" y="0"/>
                        </a:lnTo>
                        <a:lnTo>
                          <a:pt x="133" y="0"/>
                        </a:lnTo>
                        <a:lnTo>
                          <a:pt x="133" y="27"/>
                        </a:lnTo>
                        <a:lnTo>
                          <a:pt x="147" y="0"/>
                        </a:lnTo>
                        <a:lnTo>
                          <a:pt x="191" y="0"/>
                        </a:lnTo>
                        <a:lnTo>
                          <a:pt x="191" y="27"/>
                        </a:lnTo>
                        <a:lnTo>
                          <a:pt x="147" y="27"/>
                        </a:lnTo>
                        <a:lnTo>
                          <a:pt x="133" y="72"/>
                        </a:lnTo>
                        <a:lnTo>
                          <a:pt x="115" y="27"/>
                        </a:lnTo>
                        <a:lnTo>
                          <a:pt x="80" y="27"/>
                        </a:lnTo>
                        <a:lnTo>
                          <a:pt x="67" y="72"/>
                        </a:lnTo>
                        <a:lnTo>
                          <a:pt x="49" y="27"/>
                        </a:lnTo>
                        <a:lnTo>
                          <a:pt x="0" y="2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897600" y="2951280"/>
                    <a:ext cx="73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72">
                        <a:moveTo>
                          <a:pt x="0" y="72"/>
                        </a:moveTo>
                        <a:lnTo>
                          <a:pt x="4" y="0"/>
                        </a:lnTo>
                        <a:lnTo>
                          <a:pt x="58" y="0"/>
                        </a:lnTo>
                        <a:lnTo>
                          <a:pt x="71" y="40"/>
                        </a:lnTo>
                        <a:lnTo>
                          <a:pt x="71" y="27"/>
                        </a:lnTo>
                        <a:lnTo>
                          <a:pt x="80" y="0"/>
                        </a:lnTo>
                        <a:lnTo>
                          <a:pt x="128" y="0"/>
                        </a:lnTo>
                        <a:lnTo>
                          <a:pt x="142" y="40"/>
                        </a:lnTo>
                        <a:lnTo>
                          <a:pt x="156" y="0"/>
                        </a:lnTo>
                        <a:lnTo>
                          <a:pt x="200" y="0"/>
                        </a:lnTo>
                        <a:lnTo>
                          <a:pt x="204" y="72"/>
                        </a:lnTo>
                        <a:lnTo>
                          <a:pt x="146" y="72"/>
                        </a:lnTo>
                        <a:lnTo>
                          <a:pt x="115" y="72"/>
                        </a:lnTo>
                        <a:lnTo>
                          <a:pt x="84" y="72"/>
                        </a:lnTo>
                        <a:lnTo>
                          <a:pt x="35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907320" y="2967120"/>
                    <a:ext cx="766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213" h="94">
                        <a:moveTo>
                          <a:pt x="71" y="0"/>
                        </a:moveTo>
                        <a:lnTo>
                          <a:pt x="115" y="0"/>
                        </a:lnTo>
                        <a:lnTo>
                          <a:pt x="120" y="22"/>
                        </a:lnTo>
                        <a:lnTo>
                          <a:pt x="84" y="22"/>
                        </a:lnTo>
                        <a:lnTo>
                          <a:pt x="84" y="58"/>
                        </a:lnTo>
                        <a:lnTo>
                          <a:pt x="128" y="58"/>
                        </a:lnTo>
                        <a:lnTo>
                          <a:pt x="142" y="72"/>
                        </a:lnTo>
                        <a:lnTo>
                          <a:pt x="150" y="58"/>
                        </a:lnTo>
                        <a:lnTo>
                          <a:pt x="200" y="58"/>
                        </a:lnTo>
                        <a:lnTo>
                          <a:pt x="213" y="94"/>
                        </a:lnTo>
                        <a:lnTo>
                          <a:pt x="0" y="94"/>
                        </a:lnTo>
                        <a:lnTo>
                          <a:pt x="0" y="58"/>
                        </a:lnTo>
                        <a:lnTo>
                          <a:pt x="62" y="58"/>
                        </a:lnTo>
                        <a:lnTo>
                          <a:pt x="67" y="76"/>
                        </a:lnTo>
                        <a:lnTo>
                          <a:pt x="71" y="58"/>
                        </a:lnTo>
                        <a:lnTo>
                          <a:pt x="62" y="22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997680" y="29383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17" y="0"/>
                        </a:moveTo>
                        <a:lnTo>
                          <a:pt x="59" y="0"/>
                        </a:lnTo>
                        <a:lnTo>
                          <a:pt x="72" y="36"/>
                        </a:lnTo>
                        <a:lnTo>
                          <a:pt x="13" y="36"/>
                        </a:lnTo>
                        <a:lnTo>
                          <a:pt x="0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023240" y="2938320"/>
                    <a:ext cx="70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72">
                        <a:moveTo>
                          <a:pt x="26" y="0"/>
                        </a:moveTo>
                        <a:lnTo>
                          <a:pt x="52" y="0"/>
                        </a:lnTo>
                        <a:lnTo>
                          <a:pt x="70" y="27"/>
                        </a:lnTo>
                        <a:lnTo>
                          <a:pt x="79" y="0"/>
                        </a:lnTo>
                        <a:lnTo>
                          <a:pt x="120" y="0"/>
                        </a:lnTo>
                        <a:lnTo>
                          <a:pt x="133" y="27"/>
                        </a:lnTo>
                        <a:lnTo>
                          <a:pt x="142" y="0"/>
                        </a:lnTo>
                        <a:lnTo>
                          <a:pt x="190" y="0"/>
                        </a:lnTo>
                        <a:lnTo>
                          <a:pt x="195" y="27"/>
                        </a:lnTo>
                        <a:lnTo>
                          <a:pt x="146" y="27"/>
                        </a:lnTo>
                        <a:lnTo>
                          <a:pt x="128" y="27"/>
                        </a:lnTo>
                        <a:lnTo>
                          <a:pt x="124" y="27"/>
                        </a:lnTo>
                        <a:lnTo>
                          <a:pt x="79" y="27"/>
                        </a:lnTo>
                        <a:lnTo>
                          <a:pt x="61" y="72"/>
                        </a:lnTo>
                        <a:lnTo>
                          <a:pt x="39" y="27"/>
                        </a:lnTo>
                        <a:lnTo>
                          <a:pt x="8" y="27"/>
                        </a:lnTo>
                        <a:lnTo>
                          <a:pt x="0" y="4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002360" y="2951280"/>
                    <a:ext cx="100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9" h="72">
                        <a:moveTo>
                          <a:pt x="8" y="0"/>
                        </a:moveTo>
                        <a:lnTo>
                          <a:pt x="57" y="0"/>
                        </a:lnTo>
                        <a:lnTo>
                          <a:pt x="71" y="40"/>
                        </a:lnTo>
                        <a:lnTo>
                          <a:pt x="84" y="0"/>
                        </a:lnTo>
                        <a:lnTo>
                          <a:pt x="128" y="0"/>
                        </a:lnTo>
                        <a:lnTo>
                          <a:pt x="150" y="40"/>
                        </a:lnTo>
                        <a:lnTo>
                          <a:pt x="155" y="0"/>
                        </a:lnTo>
                        <a:lnTo>
                          <a:pt x="199" y="0"/>
                        </a:lnTo>
                        <a:lnTo>
                          <a:pt x="218" y="40"/>
                        </a:lnTo>
                        <a:lnTo>
                          <a:pt x="240" y="0"/>
                        </a:lnTo>
                        <a:lnTo>
                          <a:pt x="270" y="0"/>
                        </a:lnTo>
                        <a:lnTo>
                          <a:pt x="279" y="72"/>
                        </a:lnTo>
                        <a:lnTo>
                          <a:pt x="0" y="7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010280" y="2967120"/>
                    <a:ext cx="6876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94">
                        <a:moveTo>
                          <a:pt x="17" y="0"/>
                        </a:moveTo>
                        <a:lnTo>
                          <a:pt x="53" y="0"/>
                        </a:lnTo>
                        <a:lnTo>
                          <a:pt x="75" y="17"/>
                        </a:lnTo>
                        <a:lnTo>
                          <a:pt x="93" y="0"/>
                        </a:lnTo>
                        <a:lnTo>
                          <a:pt x="133" y="0"/>
                        </a:lnTo>
                        <a:lnTo>
                          <a:pt x="147" y="17"/>
                        </a:lnTo>
                        <a:lnTo>
                          <a:pt x="169" y="0"/>
                        </a:lnTo>
                        <a:lnTo>
                          <a:pt x="191" y="0"/>
                        </a:lnTo>
                        <a:lnTo>
                          <a:pt x="191" y="27"/>
                        </a:lnTo>
                        <a:lnTo>
                          <a:pt x="147" y="45"/>
                        </a:lnTo>
                        <a:lnTo>
                          <a:pt x="169" y="72"/>
                        </a:lnTo>
                        <a:lnTo>
                          <a:pt x="17" y="72"/>
                        </a:lnTo>
                        <a:lnTo>
                          <a:pt x="0" y="94"/>
                        </a:lnTo>
                        <a:lnTo>
                          <a:pt x="17" y="45"/>
                        </a:lnTo>
                        <a:lnTo>
                          <a:pt x="75" y="45"/>
                        </a:lnTo>
                        <a:lnTo>
                          <a:pt x="93" y="67"/>
                        </a:lnTo>
                        <a:lnTo>
                          <a:pt x="115" y="45"/>
                        </a:lnTo>
                        <a:lnTo>
                          <a:pt x="147" y="45"/>
                        </a:lnTo>
                        <a:lnTo>
                          <a:pt x="133" y="27"/>
                        </a:lnTo>
                        <a:lnTo>
                          <a:pt x="0" y="27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013520" y="2982960"/>
                    <a:ext cx="113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5">
                        <a:moveTo>
                          <a:pt x="8" y="45"/>
                        </a:moveTo>
                        <a:lnTo>
                          <a:pt x="145" y="45"/>
                        </a:lnTo>
                        <a:lnTo>
                          <a:pt x="164" y="27"/>
                        </a:lnTo>
                        <a:lnTo>
                          <a:pt x="164" y="0"/>
                        </a:lnTo>
                        <a:lnTo>
                          <a:pt x="217" y="0"/>
                        </a:lnTo>
                        <a:lnTo>
                          <a:pt x="217" y="27"/>
                        </a:lnTo>
                        <a:lnTo>
                          <a:pt x="177" y="27"/>
                        </a:lnTo>
                        <a:lnTo>
                          <a:pt x="164" y="45"/>
                        </a:lnTo>
                        <a:lnTo>
                          <a:pt x="177" y="72"/>
                        </a:lnTo>
                        <a:lnTo>
                          <a:pt x="203" y="45"/>
                        </a:lnTo>
                        <a:lnTo>
                          <a:pt x="234" y="45"/>
                        </a:lnTo>
                        <a:lnTo>
                          <a:pt x="256" y="72"/>
                        </a:lnTo>
                        <a:lnTo>
                          <a:pt x="265" y="45"/>
                        </a:lnTo>
                        <a:lnTo>
                          <a:pt x="296" y="45"/>
                        </a:lnTo>
                        <a:lnTo>
                          <a:pt x="314" y="85"/>
                        </a:lnTo>
                        <a:lnTo>
                          <a:pt x="0" y="85"/>
                        </a:lnTo>
                        <a:lnTo>
                          <a:pt x="8" y="45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770520" y="2913120"/>
                    <a:ext cx="97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262" y="0"/>
                        </a:lnTo>
                        <a:lnTo>
                          <a:pt x="270" y="72"/>
                        </a:lnTo>
                        <a:lnTo>
                          <a:pt x="0" y="72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622920" y="2913120"/>
                    <a:ext cx="130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350" y="0"/>
                        </a:lnTo>
                        <a:lnTo>
                          <a:pt x="36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504120" y="2913120"/>
                    <a:ext cx="101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83" h="72">
                        <a:moveTo>
                          <a:pt x="0" y="0"/>
                        </a:moveTo>
                        <a:lnTo>
                          <a:pt x="269" y="0"/>
                        </a:lnTo>
                        <a:lnTo>
                          <a:pt x="28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881760" y="2913120"/>
                    <a:ext cx="97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262" y="0"/>
                        </a:lnTo>
                        <a:lnTo>
                          <a:pt x="270" y="72"/>
                        </a:lnTo>
                        <a:lnTo>
                          <a:pt x="0" y="72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005600" y="2913120"/>
                    <a:ext cx="97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262" y="0"/>
                        </a:lnTo>
                        <a:lnTo>
                          <a:pt x="270" y="72"/>
                        </a:lnTo>
                        <a:lnTo>
                          <a:pt x="0" y="72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540480" y="2362320"/>
                    <a:ext cx="476280" cy="392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576840" y="2401920"/>
                    <a:ext cx="403200" cy="29844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570720" y="2398680"/>
                    <a:ext cx="419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5" h="72">
                        <a:moveTo>
                          <a:pt x="0" y="0"/>
                        </a:moveTo>
                        <a:lnTo>
                          <a:pt x="66" y="72"/>
                        </a:lnTo>
                        <a:lnTo>
                          <a:pt x="971" y="63"/>
                        </a:lnTo>
                        <a:lnTo>
                          <a:pt x="1085" y="72"/>
                        </a:lnTo>
                        <a:lnTo>
                          <a:pt x="116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570720" y="2398680"/>
                    <a:ext cx="25920" cy="31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870">
                        <a:moveTo>
                          <a:pt x="0" y="0"/>
                        </a:moveTo>
                        <a:lnTo>
                          <a:pt x="72" y="57"/>
                        </a:lnTo>
                        <a:lnTo>
                          <a:pt x="72" y="813"/>
                        </a:lnTo>
                        <a:lnTo>
                          <a:pt x="0" y="8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570720" y="2690640"/>
                    <a:ext cx="419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5" h="72">
                        <a:moveTo>
                          <a:pt x="0" y="72"/>
                        </a:moveTo>
                        <a:lnTo>
                          <a:pt x="66" y="0"/>
                        </a:lnTo>
                        <a:lnTo>
                          <a:pt x="971" y="0"/>
                        </a:lnTo>
                        <a:lnTo>
                          <a:pt x="1094" y="0"/>
                        </a:lnTo>
                        <a:lnTo>
                          <a:pt x="1165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962760" y="2398680"/>
                    <a:ext cx="27360" cy="31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870">
                        <a:moveTo>
                          <a:pt x="76" y="0"/>
                        </a:moveTo>
                        <a:lnTo>
                          <a:pt x="0" y="57"/>
                        </a:lnTo>
                        <a:lnTo>
                          <a:pt x="0" y="813"/>
                        </a:lnTo>
                        <a:lnTo>
                          <a:pt x="76" y="87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2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653160" y="2435400"/>
                  <a:ext cx="28260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6" name=""/>
              <p:cNvGrpSpPr/>
              <p:nvPr/>
            </p:nvGrpSpPr>
            <p:grpSpPr>
              <a:xfrm>
                <a:off x="7020000" y="3843360"/>
                <a:ext cx="762480" cy="684360"/>
                <a:chOff x="7020000" y="3843360"/>
                <a:chExt cx="762480" cy="68436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7020000" y="3843360"/>
                  <a:ext cx="762480" cy="684360"/>
                  <a:chOff x="7020000" y="3843360"/>
                  <a:chExt cx="762480" cy="6843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7159680" y="4240080"/>
                    <a:ext cx="476280" cy="146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129440" y="4354560"/>
                    <a:ext cx="536400" cy="158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130880" y="4255920"/>
                    <a:ext cx="536400" cy="1033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504200" y="4313160"/>
                    <a:ext cx="147600" cy="270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20000" y="4379760"/>
                    <a:ext cx="762480" cy="125640"/>
                  </a:xfrm>
                  <a:custGeom>
                    <a:avLst/>
                    <a:gdLst/>
                    <a:ahLst/>
                    <a:rect l="0" t="0" r="r" b="b"/>
                    <a:pathLst>
                      <a:path w="2118" h="349">
                        <a:moveTo>
                          <a:pt x="132" y="0"/>
                        </a:moveTo>
                        <a:lnTo>
                          <a:pt x="1959" y="0"/>
                        </a:lnTo>
                        <a:lnTo>
                          <a:pt x="2118" y="349"/>
                        </a:lnTo>
                        <a:lnTo>
                          <a:pt x="0" y="349"/>
                        </a:lnTo>
                        <a:lnTo>
                          <a:pt x="13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020000" y="4505400"/>
                    <a:ext cx="762120" cy="223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105680" y="44197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4" y="0"/>
                        </a:moveTo>
                        <a:lnTo>
                          <a:pt x="72" y="0"/>
                        </a:lnTo>
                        <a:lnTo>
                          <a:pt x="72" y="72"/>
                        </a:lnTo>
                        <a:lnTo>
                          <a:pt x="0" y="7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7074000" y="44481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8" y="0"/>
                        </a:moveTo>
                        <a:lnTo>
                          <a:pt x="63" y="0"/>
                        </a:lnTo>
                        <a:lnTo>
                          <a:pt x="72" y="72"/>
                        </a:lnTo>
                        <a:lnTo>
                          <a:pt x="0" y="7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067520" y="4460760"/>
                    <a:ext cx="8136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94">
                        <a:moveTo>
                          <a:pt x="8" y="0"/>
                        </a:moveTo>
                        <a:lnTo>
                          <a:pt x="124" y="0"/>
                        </a:lnTo>
                        <a:lnTo>
                          <a:pt x="137" y="27"/>
                        </a:lnTo>
                        <a:lnTo>
                          <a:pt x="106" y="27"/>
                        </a:lnTo>
                        <a:lnTo>
                          <a:pt x="106" y="53"/>
                        </a:lnTo>
                        <a:lnTo>
                          <a:pt x="222" y="53"/>
                        </a:lnTo>
                        <a:lnTo>
                          <a:pt x="226" y="94"/>
                        </a:lnTo>
                        <a:lnTo>
                          <a:pt x="80" y="94"/>
                        </a:lnTo>
                        <a:lnTo>
                          <a:pt x="93" y="40"/>
                        </a:lnTo>
                        <a:lnTo>
                          <a:pt x="0" y="4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099200" y="4419720"/>
                    <a:ext cx="6084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142">
                        <a:moveTo>
                          <a:pt x="84" y="0"/>
                        </a:moveTo>
                        <a:lnTo>
                          <a:pt x="134" y="0"/>
                        </a:lnTo>
                        <a:lnTo>
                          <a:pt x="143" y="17"/>
                        </a:lnTo>
                        <a:lnTo>
                          <a:pt x="115" y="17"/>
                        </a:lnTo>
                        <a:lnTo>
                          <a:pt x="115" y="39"/>
                        </a:lnTo>
                        <a:lnTo>
                          <a:pt x="160" y="39"/>
                        </a:lnTo>
                        <a:lnTo>
                          <a:pt x="169" y="61"/>
                        </a:lnTo>
                        <a:lnTo>
                          <a:pt x="134" y="61"/>
                        </a:lnTo>
                        <a:lnTo>
                          <a:pt x="115" y="80"/>
                        </a:lnTo>
                        <a:lnTo>
                          <a:pt x="102" y="61"/>
                        </a:lnTo>
                        <a:lnTo>
                          <a:pt x="22" y="61"/>
                        </a:lnTo>
                        <a:lnTo>
                          <a:pt x="13" y="70"/>
                        </a:lnTo>
                        <a:lnTo>
                          <a:pt x="93" y="70"/>
                        </a:lnTo>
                        <a:lnTo>
                          <a:pt x="98" y="98"/>
                        </a:lnTo>
                        <a:lnTo>
                          <a:pt x="80" y="98"/>
                        </a:lnTo>
                        <a:lnTo>
                          <a:pt x="80" y="115"/>
                        </a:lnTo>
                        <a:lnTo>
                          <a:pt x="115" y="115"/>
                        </a:lnTo>
                        <a:lnTo>
                          <a:pt x="124" y="142"/>
                        </a:lnTo>
                        <a:lnTo>
                          <a:pt x="62" y="142"/>
                        </a:lnTo>
                        <a:lnTo>
                          <a:pt x="67" y="115"/>
                        </a:lnTo>
                        <a:lnTo>
                          <a:pt x="53" y="98"/>
                        </a:lnTo>
                        <a:lnTo>
                          <a:pt x="8" y="98"/>
                        </a:lnTo>
                        <a:lnTo>
                          <a:pt x="4" y="70"/>
                        </a:lnTo>
                        <a:lnTo>
                          <a:pt x="0" y="61"/>
                        </a:lnTo>
                        <a:lnTo>
                          <a:pt x="4" y="39"/>
                        </a:lnTo>
                        <a:lnTo>
                          <a:pt x="98" y="39"/>
                        </a:lnTo>
                        <a:lnTo>
                          <a:pt x="102" y="17"/>
                        </a:lnTo>
                        <a:lnTo>
                          <a:pt x="84" y="17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140600" y="4448160"/>
                    <a:ext cx="25776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716" h="129">
                        <a:moveTo>
                          <a:pt x="8" y="0"/>
                        </a:moveTo>
                        <a:lnTo>
                          <a:pt x="52" y="0"/>
                        </a:lnTo>
                        <a:lnTo>
                          <a:pt x="52" y="22"/>
                        </a:lnTo>
                        <a:lnTo>
                          <a:pt x="30" y="22"/>
                        </a:lnTo>
                        <a:lnTo>
                          <a:pt x="30" y="36"/>
                        </a:lnTo>
                        <a:lnTo>
                          <a:pt x="74" y="36"/>
                        </a:lnTo>
                        <a:lnTo>
                          <a:pt x="88" y="62"/>
                        </a:lnTo>
                        <a:lnTo>
                          <a:pt x="44" y="62"/>
                        </a:lnTo>
                        <a:lnTo>
                          <a:pt x="61" y="89"/>
                        </a:lnTo>
                        <a:lnTo>
                          <a:pt x="698" y="89"/>
                        </a:lnTo>
                        <a:lnTo>
                          <a:pt x="716" y="129"/>
                        </a:lnTo>
                        <a:lnTo>
                          <a:pt x="30" y="129"/>
                        </a:lnTo>
                        <a:lnTo>
                          <a:pt x="30" y="89"/>
                        </a:lnTo>
                        <a:lnTo>
                          <a:pt x="17" y="62"/>
                        </a:lnTo>
                        <a:lnTo>
                          <a:pt x="22" y="36"/>
                        </a:lnTo>
                        <a:lnTo>
                          <a:pt x="8" y="22"/>
                        </a:lnTo>
                        <a:lnTo>
                          <a:pt x="0" y="2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56440" y="4419720"/>
                    <a:ext cx="4176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2">
                        <a:moveTo>
                          <a:pt x="0" y="0"/>
                        </a:moveTo>
                        <a:lnTo>
                          <a:pt x="45" y="0"/>
                        </a:lnTo>
                        <a:lnTo>
                          <a:pt x="53" y="17"/>
                        </a:lnTo>
                        <a:lnTo>
                          <a:pt x="31" y="17"/>
                        </a:lnTo>
                        <a:lnTo>
                          <a:pt x="26" y="39"/>
                        </a:lnTo>
                        <a:lnTo>
                          <a:pt x="75" y="39"/>
                        </a:lnTo>
                        <a:lnTo>
                          <a:pt x="75" y="61"/>
                        </a:lnTo>
                        <a:lnTo>
                          <a:pt x="45" y="61"/>
                        </a:lnTo>
                        <a:lnTo>
                          <a:pt x="36" y="70"/>
                        </a:lnTo>
                        <a:lnTo>
                          <a:pt x="75" y="70"/>
                        </a:lnTo>
                        <a:lnTo>
                          <a:pt x="90" y="98"/>
                        </a:lnTo>
                        <a:lnTo>
                          <a:pt x="67" y="98"/>
                        </a:lnTo>
                        <a:lnTo>
                          <a:pt x="58" y="115"/>
                        </a:lnTo>
                        <a:lnTo>
                          <a:pt x="112" y="115"/>
                        </a:lnTo>
                        <a:lnTo>
                          <a:pt x="116" y="142"/>
                        </a:lnTo>
                        <a:lnTo>
                          <a:pt x="58" y="142"/>
                        </a:lnTo>
                        <a:lnTo>
                          <a:pt x="58" y="120"/>
                        </a:lnTo>
                        <a:lnTo>
                          <a:pt x="45" y="98"/>
                        </a:lnTo>
                        <a:lnTo>
                          <a:pt x="31" y="98"/>
                        </a:lnTo>
                        <a:lnTo>
                          <a:pt x="22" y="66"/>
                        </a:lnTo>
                        <a:lnTo>
                          <a:pt x="22" y="48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182000" y="4419720"/>
                    <a:ext cx="4176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2">
                        <a:moveTo>
                          <a:pt x="4" y="0"/>
                        </a:moveTo>
                        <a:lnTo>
                          <a:pt x="49" y="0"/>
                        </a:lnTo>
                        <a:lnTo>
                          <a:pt x="53" y="17"/>
                        </a:lnTo>
                        <a:lnTo>
                          <a:pt x="31" y="17"/>
                        </a:lnTo>
                        <a:lnTo>
                          <a:pt x="31" y="39"/>
                        </a:lnTo>
                        <a:lnTo>
                          <a:pt x="75" y="39"/>
                        </a:lnTo>
                        <a:lnTo>
                          <a:pt x="75" y="61"/>
                        </a:lnTo>
                        <a:lnTo>
                          <a:pt x="40" y="61"/>
                        </a:lnTo>
                        <a:lnTo>
                          <a:pt x="40" y="70"/>
                        </a:lnTo>
                        <a:lnTo>
                          <a:pt x="80" y="70"/>
                        </a:lnTo>
                        <a:lnTo>
                          <a:pt x="84" y="98"/>
                        </a:lnTo>
                        <a:lnTo>
                          <a:pt x="67" y="98"/>
                        </a:lnTo>
                        <a:lnTo>
                          <a:pt x="67" y="115"/>
                        </a:lnTo>
                        <a:lnTo>
                          <a:pt x="107" y="115"/>
                        </a:lnTo>
                        <a:lnTo>
                          <a:pt x="116" y="142"/>
                        </a:lnTo>
                        <a:lnTo>
                          <a:pt x="58" y="142"/>
                        </a:lnTo>
                        <a:lnTo>
                          <a:pt x="58" y="120"/>
                        </a:lnTo>
                        <a:lnTo>
                          <a:pt x="40" y="98"/>
                        </a:lnTo>
                        <a:lnTo>
                          <a:pt x="31" y="98"/>
                        </a:lnTo>
                        <a:lnTo>
                          <a:pt x="22" y="61"/>
                        </a:lnTo>
                        <a:lnTo>
                          <a:pt x="13" y="39"/>
                        </a:lnTo>
                        <a:lnTo>
                          <a:pt x="13" y="17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205760" y="44197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63" y="0"/>
                        </a:lnTo>
                        <a:lnTo>
                          <a:pt x="72" y="36"/>
                        </a:lnTo>
                        <a:lnTo>
                          <a:pt x="36" y="36"/>
                        </a:lnTo>
                        <a:lnTo>
                          <a:pt x="27" y="72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215120" y="4432320"/>
                    <a:ext cx="367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07">
                        <a:moveTo>
                          <a:pt x="4" y="0"/>
                        </a:moveTo>
                        <a:lnTo>
                          <a:pt x="53" y="0"/>
                        </a:lnTo>
                        <a:lnTo>
                          <a:pt x="58" y="22"/>
                        </a:lnTo>
                        <a:lnTo>
                          <a:pt x="22" y="22"/>
                        </a:lnTo>
                        <a:lnTo>
                          <a:pt x="22" y="26"/>
                        </a:lnTo>
                        <a:lnTo>
                          <a:pt x="13" y="36"/>
                        </a:lnTo>
                        <a:lnTo>
                          <a:pt x="67" y="36"/>
                        </a:lnTo>
                        <a:lnTo>
                          <a:pt x="71" y="58"/>
                        </a:lnTo>
                        <a:lnTo>
                          <a:pt x="48" y="58"/>
                        </a:lnTo>
                        <a:lnTo>
                          <a:pt x="39" y="71"/>
                        </a:lnTo>
                        <a:lnTo>
                          <a:pt x="48" y="75"/>
                        </a:lnTo>
                        <a:lnTo>
                          <a:pt x="93" y="75"/>
                        </a:lnTo>
                        <a:lnTo>
                          <a:pt x="102" y="107"/>
                        </a:lnTo>
                        <a:lnTo>
                          <a:pt x="39" y="107"/>
                        </a:lnTo>
                        <a:lnTo>
                          <a:pt x="39" y="99"/>
                        </a:lnTo>
                        <a:lnTo>
                          <a:pt x="22" y="58"/>
                        </a:lnTo>
                        <a:lnTo>
                          <a:pt x="4" y="45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230960" y="4419720"/>
                    <a:ext cx="4644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29" h="142">
                        <a:moveTo>
                          <a:pt x="4" y="0"/>
                        </a:moveTo>
                        <a:lnTo>
                          <a:pt x="49" y="0"/>
                        </a:lnTo>
                        <a:lnTo>
                          <a:pt x="49" y="17"/>
                        </a:lnTo>
                        <a:lnTo>
                          <a:pt x="36" y="17"/>
                        </a:lnTo>
                        <a:lnTo>
                          <a:pt x="30" y="39"/>
                        </a:lnTo>
                        <a:lnTo>
                          <a:pt x="36" y="39"/>
                        </a:lnTo>
                        <a:lnTo>
                          <a:pt x="80" y="39"/>
                        </a:lnTo>
                        <a:lnTo>
                          <a:pt x="80" y="61"/>
                        </a:lnTo>
                        <a:lnTo>
                          <a:pt x="49" y="61"/>
                        </a:lnTo>
                        <a:lnTo>
                          <a:pt x="49" y="70"/>
                        </a:lnTo>
                        <a:lnTo>
                          <a:pt x="93" y="70"/>
                        </a:lnTo>
                        <a:lnTo>
                          <a:pt x="93" y="98"/>
                        </a:lnTo>
                        <a:lnTo>
                          <a:pt x="80" y="98"/>
                        </a:lnTo>
                        <a:lnTo>
                          <a:pt x="67" y="115"/>
                        </a:lnTo>
                        <a:lnTo>
                          <a:pt x="121" y="115"/>
                        </a:lnTo>
                        <a:lnTo>
                          <a:pt x="129" y="142"/>
                        </a:lnTo>
                        <a:lnTo>
                          <a:pt x="67" y="142"/>
                        </a:lnTo>
                        <a:lnTo>
                          <a:pt x="67" y="120"/>
                        </a:lnTo>
                        <a:lnTo>
                          <a:pt x="49" y="98"/>
                        </a:lnTo>
                        <a:lnTo>
                          <a:pt x="36" y="98"/>
                        </a:lnTo>
                        <a:lnTo>
                          <a:pt x="36" y="61"/>
                        </a:lnTo>
                        <a:lnTo>
                          <a:pt x="36" y="57"/>
                        </a:lnTo>
                        <a:lnTo>
                          <a:pt x="13" y="48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257960" y="4419720"/>
                    <a:ext cx="478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33" h="142">
                        <a:moveTo>
                          <a:pt x="4" y="0"/>
                        </a:moveTo>
                        <a:lnTo>
                          <a:pt x="48" y="0"/>
                        </a:lnTo>
                        <a:lnTo>
                          <a:pt x="52" y="17"/>
                        </a:lnTo>
                        <a:lnTo>
                          <a:pt x="35" y="17"/>
                        </a:lnTo>
                        <a:lnTo>
                          <a:pt x="30" y="30"/>
                        </a:lnTo>
                        <a:lnTo>
                          <a:pt x="35" y="39"/>
                        </a:lnTo>
                        <a:lnTo>
                          <a:pt x="80" y="39"/>
                        </a:lnTo>
                        <a:lnTo>
                          <a:pt x="84" y="61"/>
                        </a:lnTo>
                        <a:lnTo>
                          <a:pt x="52" y="61"/>
                        </a:lnTo>
                        <a:lnTo>
                          <a:pt x="48" y="70"/>
                        </a:lnTo>
                        <a:lnTo>
                          <a:pt x="52" y="70"/>
                        </a:lnTo>
                        <a:lnTo>
                          <a:pt x="98" y="70"/>
                        </a:lnTo>
                        <a:lnTo>
                          <a:pt x="98" y="98"/>
                        </a:lnTo>
                        <a:lnTo>
                          <a:pt x="84" y="98"/>
                        </a:lnTo>
                        <a:lnTo>
                          <a:pt x="80" y="111"/>
                        </a:lnTo>
                        <a:lnTo>
                          <a:pt x="80" y="115"/>
                        </a:lnTo>
                        <a:lnTo>
                          <a:pt x="128" y="115"/>
                        </a:lnTo>
                        <a:lnTo>
                          <a:pt x="133" y="142"/>
                        </a:lnTo>
                        <a:lnTo>
                          <a:pt x="71" y="142"/>
                        </a:lnTo>
                        <a:lnTo>
                          <a:pt x="71" y="120"/>
                        </a:lnTo>
                        <a:lnTo>
                          <a:pt x="57" y="98"/>
                        </a:lnTo>
                        <a:lnTo>
                          <a:pt x="39" y="98"/>
                        </a:lnTo>
                        <a:lnTo>
                          <a:pt x="35" y="61"/>
                        </a:lnTo>
                        <a:lnTo>
                          <a:pt x="17" y="35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284960" y="4419720"/>
                    <a:ext cx="496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38" h="142">
                        <a:moveTo>
                          <a:pt x="0" y="0"/>
                        </a:moveTo>
                        <a:lnTo>
                          <a:pt x="45" y="0"/>
                        </a:lnTo>
                        <a:lnTo>
                          <a:pt x="53" y="17"/>
                        </a:lnTo>
                        <a:lnTo>
                          <a:pt x="26" y="17"/>
                        </a:lnTo>
                        <a:lnTo>
                          <a:pt x="26" y="39"/>
                        </a:lnTo>
                        <a:lnTo>
                          <a:pt x="36" y="39"/>
                        </a:lnTo>
                        <a:lnTo>
                          <a:pt x="75" y="39"/>
                        </a:lnTo>
                        <a:lnTo>
                          <a:pt x="75" y="61"/>
                        </a:lnTo>
                        <a:lnTo>
                          <a:pt x="53" y="61"/>
                        </a:lnTo>
                        <a:lnTo>
                          <a:pt x="45" y="70"/>
                        </a:lnTo>
                        <a:lnTo>
                          <a:pt x="98" y="70"/>
                        </a:lnTo>
                        <a:lnTo>
                          <a:pt x="102" y="98"/>
                        </a:lnTo>
                        <a:lnTo>
                          <a:pt x="75" y="98"/>
                        </a:lnTo>
                        <a:lnTo>
                          <a:pt x="71" y="115"/>
                        </a:lnTo>
                        <a:lnTo>
                          <a:pt x="75" y="115"/>
                        </a:lnTo>
                        <a:lnTo>
                          <a:pt x="129" y="115"/>
                        </a:lnTo>
                        <a:lnTo>
                          <a:pt x="138" y="142"/>
                        </a:lnTo>
                        <a:lnTo>
                          <a:pt x="71" y="142"/>
                        </a:lnTo>
                        <a:lnTo>
                          <a:pt x="67" y="115"/>
                        </a:lnTo>
                        <a:lnTo>
                          <a:pt x="53" y="98"/>
                        </a:lnTo>
                        <a:lnTo>
                          <a:pt x="36" y="98"/>
                        </a:lnTo>
                        <a:lnTo>
                          <a:pt x="26" y="57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308720" y="4419720"/>
                    <a:ext cx="496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38" h="142">
                        <a:moveTo>
                          <a:pt x="4" y="0"/>
                        </a:moveTo>
                        <a:lnTo>
                          <a:pt x="45" y="0"/>
                        </a:lnTo>
                        <a:lnTo>
                          <a:pt x="58" y="17"/>
                        </a:lnTo>
                        <a:lnTo>
                          <a:pt x="30" y="17"/>
                        </a:lnTo>
                        <a:lnTo>
                          <a:pt x="30" y="44"/>
                        </a:lnTo>
                        <a:lnTo>
                          <a:pt x="30" y="39"/>
                        </a:lnTo>
                        <a:lnTo>
                          <a:pt x="84" y="39"/>
                        </a:lnTo>
                        <a:lnTo>
                          <a:pt x="84" y="61"/>
                        </a:lnTo>
                        <a:lnTo>
                          <a:pt x="58" y="61"/>
                        </a:lnTo>
                        <a:lnTo>
                          <a:pt x="45" y="70"/>
                        </a:lnTo>
                        <a:lnTo>
                          <a:pt x="93" y="70"/>
                        </a:lnTo>
                        <a:lnTo>
                          <a:pt x="98" y="98"/>
                        </a:lnTo>
                        <a:lnTo>
                          <a:pt x="84" y="98"/>
                        </a:lnTo>
                        <a:lnTo>
                          <a:pt x="84" y="106"/>
                        </a:lnTo>
                        <a:lnTo>
                          <a:pt x="84" y="115"/>
                        </a:lnTo>
                        <a:lnTo>
                          <a:pt x="134" y="115"/>
                        </a:lnTo>
                        <a:lnTo>
                          <a:pt x="138" y="142"/>
                        </a:lnTo>
                        <a:lnTo>
                          <a:pt x="84" y="142"/>
                        </a:lnTo>
                        <a:lnTo>
                          <a:pt x="67" y="115"/>
                        </a:lnTo>
                        <a:lnTo>
                          <a:pt x="58" y="98"/>
                        </a:lnTo>
                        <a:lnTo>
                          <a:pt x="36" y="98"/>
                        </a:lnTo>
                        <a:lnTo>
                          <a:pt x="13" y="39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334280" y="4419720"/>
                    <a:ext cx="5436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142">
                        <a:moveTo>
                          <a:pt x="8" y="0"/>
                        </a:moveTo>
                        <a:lnTo>
                          <a:pt x="49" y="0"/>
                        </a:lnTo>
                        <a:lnTo>
                          <a:pt x="53" y="17"/>
                        </a:lnTo>
                        <a:lnTo>
                          <a:pt x="35" y="17"/>
                        </a:lnTo>
                        <a:lnTo>
                          <a:pt x="26" y="17"/>
                        </a:lnTo>
                        <a:lnTo>
                          <a:pt x="35" y="39"/>
                        </a:lnTo>
                        <a:lnTo>
                          <a:pt x="80" y="39"/>
                        </a:lnTo>
                        <a:lnTo>
                          <a:pt x="84" y="61"/>
                        </a:lnTo>
                        <a:lnTo>
                          <a:pt x="58" y="61"/>
                        </a:lnTo>
                        <a:lnTo>
                          <a:pt x="53" y="70"/>
                        </a:lnTo>
                        <a:lnTo>
                          <a:pt x="106" y="70"/>
                        </a:lnTo>
                        <a:lnTo>
                          <a:pt x="106" y="98"/>
                        </a:lnTo>
                        <a:lnTo>
                          <a:pt x="93" y="98"/>
                        </a:lnTo>
                        <a:lnTo>
                          <a:pt x="84" y="102"/>
                        </a:lnTo>
                        <a:lnTo>
                          <a:pt x="93" y="115"/>
                        </a:lnTo>
                        <a:lnTo>
                          <a:pt x="138" y="115"/>
                        </a:lnTo>
                        <a:lnTo>
                          <a:pt x="151" y="142"/>
                        </a:lnTo>
                        <a:lnTo>
                          <a:pt x="84" y="142"/>
                        </a:lnTo>
                        <a:lnTo>
                          <a:pt x="71" y="120"/>
                        </a:lnTo>
                        <a:lnTo>
                          <a:pt x="62" y="98"/>
                        </a:lnTo>
                        <a:lnTo>
                          <a:pt x="40" y="98"/>
                        </a:lnTo>
                        <a:lnTo>
                          <a:pt x="22" y="44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362720" y="4419720"/>
                    <a:ext cx="3672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16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7"/>
                        </a:lnTo>
                        <a:lnTo>
                          <a:pt x="30" y="17"/>
                        </a:lnTo>
                        <a:lnTo>
                          <a:pt x="26" y="36"/>
                        </a:lnTo>
                        <a:lnTo>
                          <a:pt x="30" y="40"/>
                        </a:lnTo>
                        <a:lnTo>
                          <a:pt x="71" y="40"/>
                        </a:lnTo>
                        <a:lnTo>
                          <a:pt x="75" y="62"/>
                        </a:lnTo>
                        <a:lnTo>
                          <a:pt x="48" y="62"/>
                        </a:lnTo>
                        <a:lnTo>
                          <a:pt x="44" y="80"/>
                        </a:lnTo>
                        <a:lnTo>
                          <a:pt x="89" y="80"/>
                        </a:lnTo>
                        <a:lnTo>
                          <a:pt x="93" y="90"/>
                        </a:lnTo>
                        <a:lnTo>
                          <a:pt x="102" y="99"/>
                        </a:lnTo>
                        <a:lnTo>
                          <a:pt x="80" y="99"/>
                        </a:lnTo>
                        <a:lnTo>
                          <a:pt x="71" y="116"/>
                        </a:lnTo>
                        <a:lnTo>
                          <a:pt x="58" y="99"/>
                        </a:lnTo>
                        <a:lnTo>
                          <a:pt x="44" y="99"/>
                        </a:lnTo>
                        <a:lnTo>
                          <a:pt x="26" y="58"/>
                        </a:lnTo>
                        <a:lnTo>
                          <a:pt x="22" y="49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388280" y="4419720"/>
                    <a:ext cx="3672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24">
                        <a:moveTo>
                          <a:pt x="0" y="0"/>
                        </a:moveTo>
                        <a:lnTo>
                          <a:pt x="44" y="0"/>
                        </a:lnTo>
                        <a:lnTo>
                          <a:pt x="48" y="17"/>
                        </a:lnTo>
                        <a:lnTo>
                          <a:pt x="26" y="17"/>
                        </a:lnTo>
                        <a:lnTo>
                          <a:pt x="30" y="39"/>
                        </a:lnTo>
                        <a:lnTo>
                          <a:pt x="67" y="39"/>
                        </a:lnTo>
                        <a:lnTo>
                          <a:pt x="71" y="61"/>
                        </a:lnTo>
                        <a:lnTo>
                          <a:pt x="67" y="61"/>
                        </a:lnTo>
                        <a:lnTo>
                          <a:pt x="48" y="61"/>
                        </a:lnTo>
                        <a:lnTo>
                          <a:pt x="48" y="71"/>
                        </a:lnTo>
                        <a:lnTo>
                          <a:pt x="98" y="71"/>
                        </a:lnTo>
                        <a:lnTo>
                          <a:pt x="102" y="98"/>
                        </a:lnTo>
                        <a:lnTo>
                          <a:pt x="89" y="98"/>
                        </a:lnTo>
                        <a:lnTo>
                          <a:pt x="84" y="124"/>
                        </a:lnTo>
                        <a:lnTo>
                          <a:pt x="67" y="98"/>
                        </a:lnTo>
                        <a:lnTo>
                          <a:pt x="44" y="98"/>
                        </a:lnTo>
                        <a:lnTo>
                          <a:pt x="26" y="61"/>
                        </a:lnTo>
                        <a:lnTo>
                          <a:pt x="13" y="48"/>
                        </a:lnTo>
                        <a:lnTo>
                          <a:pt x="8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412040" y="4419720"/>
                    <a:ext cx="3672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98">
                        <a:moveTo>
                          <a:pt x="0" y="0"/>
                        </a:moveTo>
                        <a:lnTo>
                          <a:pt x="35" y="0"/>
                        </a:lnTo>
                        <a:lnTo>
                          <a:pt x="44" y="17"/>
                        </a:lnTo>
                        <a:lnTo>
                          <a:pt x="30" y="17"/>
                        </a:lnTo>
                        <a:lnTo>
                          <a:pt x="22" y="35"/>
                        </a:lnTo>
                        <a:lnTo>
                          <a:pt x="44" y="35"/>
                        </a:lnTo>
                        <a:lnTo>
                          <a:pt x="71" y="35"/>
                        </a:lnTo>
                        <a:lnTo>
                          <a:pt x="89" y="62"/>
                        </a:lnTo>
                        <a:lnTo>
                          <a:pt x="48" y="62"/>
                        </a:lnTo>
                        <a:lnTo>
                          <a:pt x="44" y="75"/>
                        </a:lnTo>
                        <a:lnTo>
                          <a:pt x="98" y="75"/>
                        </a:lnTo>
                        <a:lnTo>
                          <a:pt x="102" y="98"/>
                        </a:lnTo>
                        <a:lnTo>
                          <a:pt x="48" y="98"/>
                        </a:lnTo>
                        <a:lnTo>
                          <a:pt x="30" y="80"/>
                        </a:lnTo>
                        <a:lnTo>
                          <a:pt x="30" y="53"/>
                        </a:lnTo>
                        <a:lnTo>
                          <a:pt x="17" y="44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391520" y="4419720"/>
                    <a:ext cx="9396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261" h="182">
                        <a:moveTo>
                          <a:pt x="127" y="0"/>
                        </a:moveTo>
                        <a:lnTo>
                          <a:pt x="212" y="0"/>
                        </a:lnTo>
                        <a:lnTo>
                          <a:pt x="212" y="17"/>
                        </a:lnTo>
                        <a:lnTo>
                          <a:pt x="168" y="17"/>
                        </a:lnTo>
                        <a:lnTo>
                          <a:pt x="172" y="39"/>
                        </a:lnTo>
                        <a:lnTo>
                          <a:pt x="177" y="39"/>
                        </a:lnTo>
                        <a:lnTo>
                          <a:pt x="186" y="71"/>
                        </a:lnTo>
                        <a:lnTo>
                          <a:pt x="230" y="71"/>
                        </a:lnTo>
                        <a:lnTo>
                          <a:pt x="247" y="44"/>
                        </a:lnTo>
                        <a:lnTo>
                          <a:pt x="261" y="111"/>
                        </a:lnTo>
                        <a:lnTo>
                          <a:pt x="217" y="111"/>
                        </a:lnTo>
                        <a:lnTo>
                          <a:pt x="217" y="165"/>
                        </a:lnTo>
                        <a:lnTo>
                          <a:pt x="26" y="165"/>
                        </a:lnTo>
                        <a:lnTo>
                          <a:pt x="22" y="182"/>
                        </a:lnTo>
                        <a:lnTo>
                          <a:pt x="0" y="147"/>
                        </a:lnTo>
                        <a:lnTo>
                          <a:pt x="13" y="111"/>
                        </a:lnTo>
                        <a:lnTo>
                          <a:pt x="57" y="111"/>
                        </a:lnTo>
                        <a:lnTo>
                          <a:pt x="74" y="143"/>
                        </a:lnTo>
                        <a:lnTo>
                          <a:pt x="79" y="111"/>
                        </a:lnTo>
                        <a:lnTo>
                          <a:pt x="199" y="111"/>
                        </a:lnTo>
                        <a:lnTo>
                          <a:pt x="199" y="102"/>
                        </a:lnTo>
                        <a:lnTo>
                          <a:pt x="172" y="71"/>
                        </a:lnTo>
                        <a:lnTo>
                          <a:pt x="168" y="58"/>
                        </a:lnTo>
                        <a:lnTo>
                          <a:pt x="150" y="39"/>
                        </a:lnTo>
                        <a:lnTo>
                          <a:pt x="146" y="17"/>
                        </a:lnTo>
                        <a:lnTo>
                          <a:pt x="123" y="17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516800" y="4419720"/>
                    <a:ext cx="687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72">
                        <a:moveTo>
                          <a:pt x="4" y="0"/>
                        </a:moveTo>
                        <a:lnTo>
                          <a:pt x="53" y="0"/>
                        </a:lnTo>
                        <a:lnTo>
                          <a:pt x="67" y="17"/>
                        </a:lnTo>
                        <a:lnTo>
                          <a:pt x="75" y="0"/>
                        </a:lnTo>
                        <a:lnTo>
                          <a:pt x="133" y="0"/>
                        </a:lnTo>
                        <a:lnTo>
                          <a:pt x="133" y="27"/>
                        </a:lnTo>
                        <a:lnTo>
                          <a:pt x="147" y="0"/>
                        </a:lnTo>
                        <a:lnTo>
                          <a:pt x="191" y="0"/>
                        </a:lnTo>
                        <a:lnTo>
                          <a:pt x="191" y="27"/>
                        </a:lnTo>
                        <a:lnTo>
                          <a:pt x="147" y="27"/>
                        </a:lnTo>
                        <a:lnTo>
                          <a:pt x="133" y="72"/>
                        </a:lnTo>
                        <a:lnTo>
                          <a:pt x="115" y="27"/>
                        </a:lnTo>
                        <a:lnTo>
                          <a:pt x="80" y="27"/>
                        </a:lnTo>
                        <a:lnTo>
                          <a:pt x="67" y="72"/>
                        </a:lnTo>
                        <a:lnTo>
                          <a:pt x="49" y="27"/>
                        </a:lnTo>
                        <a:lnTo>
                          <a:pt x="0" y="2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516800" y="4432320"/>
                    <a:ext cx="73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72">
                        <a:moveTo>
                          <a:pt x="0" y="72"/>
                        </a:moveTo>
                        <a:lnTo>
                          <a:pt x="4" y="0"/>
                        </a:lnTo>
                        <a:lnTo>
                          <a:pt x="58" y="0"/>
                        </a:lnTo>
                        <a:lnTo>
                          <a:pt x="71" y="40"/>
                        </a:lnTo>
                        <a:lnTo>
                          <a:pt x="71" y="27"/>
                        </a:lnTo>
                        <a:lnTo>
                          <a:pt x="80" y="0"/>
                        </a:lnTo>
                        <a:lnTo>
                          <a:pt x="128" y="0"/>
                        </a:lnTo>
                        <a:lnTo>
                          <a:pt x="142" y="40"/>
                        </a:lnTo>
                        <a:lnTo>
                          <a:pt x="156" y="0"/>
                        </a:lnTo>
                        <a:lnTo>
                          <a:pt x="200" y="0"/>
                        </a:lnTo>
                        <a:lnTo>
                          <a:pt x="204" y="72"/>
                        </a:lnTo>
                        <a:lnTo>
                          <a:pt x="146" y="72"/>
                        </a:lnTo>
                        <a:lnTo>
                          <a:pt x="115" y="72"/>
                        </a:lnTo>
                        <a:lnTo>
                          <a:pt x="84" y="72"/>
                        </a:lnTo>
                        <a:lnTo>
                          <a:pt x="35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526160" y="4448160"/>
                    <a:ext cx="766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213" h="94">
                        <a:moveTo>
                          <a:pt x="71" y="0"/>
                        </a:moveTo>
                        <a:lnTo>
                          <a:pt x="115" y="0"/>
                        </a:lnTo>
                        <a:lnTo>
                          <a:pt x="120" y="22"/>
                        </a:lnTo>
                        <a:lnTo>
                          <a:pt x="84" y="22"/>
                        </a:lnTo>
                        <a:lnTo>
                          <a:pt x="84" y="58"/>
                        </a:lnTo>
                        <a:lnTo>
                          <a:pt x="128" y="58"/>
                        </a:lnTo>
                        <a:lnTo>
                          <a:pt x="142" y="72"/>
                        </a:lnTo>
                        <a:lnTo>
                          <a:pt x="150" y="58"/>
                        </a:lnTo>
                        <a:lnTo>
                          <a:pt x="200" y="58"/>
                        </a:lnTo>
                        <a:lnTo>
                          <a:pt x="213" y="94"/>
                        </a:lnTo>
                        <a:lnTo>
                          <a:pt x="0" y="94"/>
                        </a:lnTo>
                        <a:lnTo>
                          <a:pt x="0" y="58"/>
                        </a:lnTo>
                        <a:lnTo>
                          <a:pt x="62" y="58"/>
                        </a:lnTo>
                        <a:lnTo>
                          <a:pt x="67" y="76"/>
                        </a:lnTo>
                        <a:lnTo>
                          <a:pt x="71" y="58"/>
                        </a:lnTo>
                        <a:lnTo>
                          <a:pt x="62" y="22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616880" y="44197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17" y="0"/>
                        </a:moveTo>
                        <a:lnTo>
                          <a:pt x="59" y="0"/>
                        </a:lnTo>
                        <a:lnTo>
                          <a:pt x="72" y="36"/>
                        </a:lnTo>
                        <a:lnTo>
                          <a:pt x="13" y="36"/>
                        </a:lnTo>
                        <a:lnTo>
                          <a:pt x="0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642080" y="4419720"/>
                    <a:ext cx="70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72">
                        <a:moveTo>
                          <a:pt x="26" y="0"/>
                        </a:moveTo>
                        <a:lnTo>
                          <a:pt x="52" y="0"/>
                        </a:lnTo>
                        <a:lnTo>
                          <a:pt x="70" y="27"/>
                        </a:lnTo>
                        <a:lnTo>
                          <a:pt x="79" y="0"/>
                        </a:lnTo>
                        <a:lnTo>
                          <a:pt x="120" y="0"/>
                        </a:lnTo>
                        <a:lnTo>
                          <a:pt x="133" y="27"/>
                        </a:lnTo>
                        <a:lnTo>
                          <a:pt x="142" y="0"/>
                        </a:lnTo>
                        <a:lnTo>
                          <a:pt x="190" y="0"/>
                        </a:lnTo>
                        <a:lnTo>
                          <a:pt x="195" y="27"/>
                        </a:lnTo>
                        <a:lnTo>
                          <a:pt x="146" y="27"/>
                        </a:lnTo>
                        <a:lnTo>
                          <a:pt x="128" y="27"/>
                        </a:lnTo>
                        <a:lnTo>
                          <a:pt x="124" y="27"/>
                        </a:lnTo>
                        <a:lnTo>
                          <a:pt x="79" y="27"/>
                        </a:lnTo>
                        <a:lnTo>
                          <a:pt x="61" y="72"/>
                        </a:lnTo>
                        <a:lnTo>
                          <a:pt x="39" y="27"/>
                        </a:lnTo>
                        <a:lnTo>
                          <a:pt x="8" y="27"/>
                        </a:lnTo>
                        <a:lnTo>
                          <a:pt x="0" y="4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621560" y="4432320"/>
                    <a:ext cx="100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9" h="72">
                        <a:moveTo>
                          <a:pt x="8" y="0"/>
                        </a:moveTo>
                        <a:lnTo>
                          <a:pt x="57" y="0"/>
                        </a:lnTo>
                        <a:lnTo>
                          <a:pt x="71" y="40"/>
                        </a:lnTo>
                        <a:lnTo>
                          <a:pt x="84" y="0"/>
                        </a:lnTo>
                        <a:lnTo>
                          <a:pt x="128" y="0"/>
                        </a:lnTo>
                        <a:lnTo>
                          <a:pt x="150" y="40"/>
                        </a:lnTo>
                        <a:lnTo>
                          <a:pt x="155" y="0"/>
                        </a:lnTo>
                        <a:lnTo>
                          <a:pt x="199" y="0"/>
                        </a:lnTo>
                        <a:lnTo>
                          <a:pt x="218" y="40"/>
                        </a:lnTo>
                        <a:lnTo>
                          <a:pt x="240" y="0"/>
                        </a:lnTo>
                        <a:lnTo>
                          <a:pt x="270" y="0"/>
                        </a:lnTo>
                        <a:lnTo>
                          <a:pt x="279" y="72"/>
                        </a:lnTo>
                        <a:lnTo>
                          <a:pt x="0" y="7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629480" y="4448160"/>
                    <a:ext cx="6876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94">
                        <a:moveTo>
                          <a:pt x="17" y="0"/>
                        </a:moveTo>
                        <a:lnTo>
                          <a:pt x="53" y="0"/>
                        </a:lnTo>
                        <a:lnTo>
                          <a:pt x="75" y="17"/>
                        </a:lnTo>
                        <a:lnTo>
                          <a:pt x="93" y="0"/>
                        </a:lnTo>
                        <a:lnTo>
                          <a:pt x="133" y="0"/>
                        </a:lnTo>
                        <a:lnTo>
                          <a:pt x="147" y="17"/>
                        </a:lnTo>
                        <a:lnTo>
                          <a:pt x="169" y="0"/>
                        </a:lnTo>
                        <a:lnTo>
                          <a:pt x="191" y="0"/>
                        </a:lnTo>
                        <a:lnTo>
                          <a:pt x="191" y="27"/>
                        </a:lnTo>
                        <a:lnTo>
                          <a:pt x="147" y="45"/>
                        </a:lnTo>
                        <a:lnTo>
                          <a:pt x="169" y="72"/>
                        </a:lnTo>
                        <a:lnTo>
                          <a:pt x="17" y="72"/>
                        </a:lnTo>
                        <a:lnTo>
                          <a:pt x="0" y="94"/>
                        </a:lnTo>
                        <a:lnTo>
                          <a:pt x="17" y="45"/>
                        </a:lnTo>
                        <a:lnTo>
                          <a:pt x="75" y="45"/>
                        </a:lnTo>
                        <a:lnTo>
                          <a:pt x="93" y="67"/>
                        </a:lnTo>
                        <a:lnTo>
                          <a:pt x="115" y="45"/>
                        </a:lnTo>
                        <a:lnTo>
                          <a:pt x="147" y="45"/>
                        </a:lnTo>
                        <a:lnTo>
                          <a:pt x="133" y="27"/>
                        </a:lnTo>
                        <a:lnTo>
                          <a:pt x="0" y="27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632720" y="4464000"/>
                    <a:ext cx="113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5">
                        <a:moveTo>
                          <a:pt x="8" y="45"/>
                        </a:moveTo>
                        <a:lnTo>
                          <a:pt x="145" y="45"/>
                        </a:lnTo>
                        <a:lnTo>
                          <a:pt x="164" y="27"/>
                        </a:lnTo>
                        <a:lnTo>
                          <a:pt x="164" y="0"/>
                        </a:lnTo>
                        <a:lnTo>
                          <a:pt x="217" y="0"/>
                        </a:lnTo>
                        <a:lnTo>
                          <a:pt x="217" y="27"/>
                        </a:lnTo>
                        <a:lnTo>
                          <a:pt x="177" y="27"/>
                        </a:lnTo>
                        <a:lnTo>
                          <a:pt x="164" y="45"/>
                        </a:lnTo>
                        <a:lnTo>
                          <a:pt x="177" y="72"/>
                        </a:lnTo>
                        <a:lnTo>
                          <a:pt x="203" y="45"/>
                        </a:lnTo>
                        <a:lnTo>
                          <a:pt x="234" y="45"/>
                        </a:lnTo>
                        <a:lnTo>
                          <a:pt x="256" y="72"/>
                        </a:lnTo>
                        <a:lnTo>
                          <a:pt x="265" y="45"/>
                        </a:lnTo>
                        <a:lnTo>
                          <a:pt x="296" y="45"/>
                        </a:lnTo>
                        <a:lnTo>
                          <a:pt x="314" y="85"/>
                        </a:lnTo>
                        <a:lnTo>
                          <a:pt x="0" y="85"/>
                        </a:lnTo>
                        <a:lnTo>
                          <a:pt x="8" y="45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389720" y="4394160"/>
                    <a:ext cx="97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262" y="0"/>
                        </a:lnTo>
                        <a:lnTo>
                          <a:pt x="270" y="72"/>
                        </a:lnTo>
                        <a:lnTo>
                          <a:pt x="0" y="72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242120" y="4394160"/>
                    <a:ext cx="130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350" y="0"/>
                        </a:lnTo>
                        <a:lnTo>
                          <a:pt x="36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122960" y="4394160"/>
                    <a:ext cx="101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83" h="72">
                        <a:moveTo>
                          <a:pt x="0" y="0"/>
                        </a:moveTo>
                        <a:lnTo>
                          <a:pt x="269" y="0"/>
                        </a:lnTo>
                        <a:lnTo>
                          <a:pt x="28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500960" y="4394160"/>
                    <a:ext cx="97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262" y="0"/>
                        </a:lnTo>
                        <a:lnTo>
                          <a:pt x="270" y="72"/>
                        </a:lnTo>
                        <a:lnTo>
                          <a:pt x="0" y="72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624800" y="4394160"/>
                    <a:ext cx="97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72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262" y="0"/>
                        </a:lnTo>
                        <a:lnTo>
                          <a:pt x="270" y="72"/>
                        </a:lnTo>
                        <a:lnTo>
                          <a:pt x="0" y="72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159680" y="3843360"/>
                    <a:ext cx="476280" cy="392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196040" y="3882960"/>
                    <a:ext cx="403200" cy="29844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189920" y="3879720"/>
                    <a:ext cx="419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5" h="72">
                        <a:moveTo>
                          <a:pt x="0" y="0"/>
                        </a:moveTo>
                        <a:lnTo>
                          <a:pt x="66" y="72"/>
                        </a:lnTo>
                        <a:lnTo>
                          <a:pt x="971" y="63"/>
                        </a:lnTo>
                        <a:lnTo>
                          <a:pt x="1085" y="72"/>
                        </a:lnTo>
                        <a:lnTo>
                          <a:pt x="116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189920" y="3879720"/>
                    <a:ext cx="25920" cy="31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870">
                        <a:moveTo>
                          <a:pt x="0" y="0"/>
                        </a:moveTo>
                        <a:lnTo>
                          <a:pt x="72" y="57"/>
                        </a:lnTo>
                        <a:lnTo>
                          <a:pt x="72" y="813"/>
                        </a:lnTo>
                        <a:lnTo>
                          <a:pt x="0" y="8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189920" y="4172040"/>
                    <a:ext cx="419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5" h="72">
                        <a:moveTo>
                          <a:pt x="0" y="72"/>
                        </a:moveTo>
                        <a:lnTo>
                          <a:pt x="66" y="0"/>
                        </a:lnTo>
                        <a:lnTo>
                          <a:pt x="971" y="0"/>
                        </a:lnTo>
                        <a:lnTo>
                          <a:pt x="1094" y="0"/>
                        </a:lnTo>
                        <a:lnTo>
                          <a:pt x="1165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581960" y="3879720"/>
                    <a:ext cx="27360" cy="31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870">
                        <a:moveTo>
                          <a:pt x="76" y="0"/>
                        </a:moveTo>
                        <a:lnTo>
                          <a:pt x="0" y="57"/>
                        </a:lnTo>
                        <a:lnTo>
                          <a:pt x="0" y="813"/>
                        </a:lnTo>
                        <a:lnTo>
                          <a:pt x="76" y="87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72360" y="3916440"/>
                  <a:ext cx="28260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2" name=""/>
              <p:cNvGrpSpPr/>
              <p:nvPr/>
            </p:nvGrpSpPr>
            <p:grpSpPr>
              <a:xfrm>
                <a:off x="5029200" y="3657600"/>
                <a:ext cx="1303920" cy="941760"/>
                <a:chOff x="5029200" y="3657600"/>
                <a:chExt cx="1303920" cy="94176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5029200" y="3657600"/>
                  <a:ext cx="1303920" cy="941760"/>
                  <a:chOff x="5029200" y="3657600"/>
                  <a:chExt cx="1303920" cy="9417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5364000" y="4011480"/>
                    <a:ext cx="684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454720" y="4011480"/>
                    <a:ext cx="68400" cy="65160"/>
                  </a:xfrm>
                  <a:prstGeom prst="rect">
                    <a:avLst/>
                  </a:prstGeom>
                  <a:solidFill>
                    <a:srgbClr val="808060"/>
                  </a:solidFill>
                  <a:ln w="0">
                    <a:noFill/>
                  </a:ln>
                </p:spPr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538960" y="4011480"/>
                    <a:ext cx="69840" cy="65160"/>
                  </a:xfrm>
                  <a:prstGeom prst="rect">
                    <a:avLst/>
                  </a:prstGeom>
                  <a:solidFill>
                    <a:srgbClr val="e0c0c0"/>
                  </a:solidFill>
                  <a:ln w="0">
                    <a:noFill/>
                  </a:ln>
                </p:spPr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575320" y="4143240"/>
                    <a:ext cx="470160" cy="138600"/>
                  </a:xfrm>
                  <a:custGeom>
                    <a:avLst/>
                    <a:gdLst/>
                    <a:ahLst/>
                    <a:rect l="0" t="0" r="r" b="b"/>
                    <a:pathLst>
                      <a:path w="1306" h="385">
                        <a:moveTo>
                          <a:pt x="74" y="0"/>
                        </a:moveTo>
                        <a:lnTo>
                          <a:pt x="1182" y="4"/>
                        </a:lnTo>
                        <a:lnTo>
                          <a:pt x="1306" y="385"/>
                        </a:lnTo>
                        <a:lnTo>
                          <a:pt x="0" y="385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575320" y="4278240"/>
                    <a:ext cx="469800" cy="205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695920" y="4138560"/>
                    <a:ext cx="231840" cy="10332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508720" y="3753000"/>
                    <a:ext cx="36720" cy="437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214">
                        <a:moveTo>
                          <a:pt x="80" y="0"/>
                        </a:moveTo>
                        <a:lnTo>
                          <a:pt x="0" y="35"/>
                        </a:lnTo>
                        <a:lnTo>
                          <a:pt x="0" y="1025"/>
                        </a:lnTo>
                        <a:lnTo>
                          <a:pt x="102" y="1214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560920" y="3751200"/>
                    <a:ext cx="549720" cy="476640"/>
                  </a:xfrm>
                  <a:custGeom>
                    <a:avLst/>
                    <a:gdLst/>
                    <a:ahLst/>
                    <a:rect l="0" t="0" r="r" b="b"/>
                    <a:pathLst>
                      <a:path w="1527" h="1324">
                        <a:moveTo>
                          <a:pt x="1527" y="1188"/>
                        </a:moveTo>
                        <a:lnTo>
                          <a:pt x="0" y="1324"/>
                        </a:lnTo>
                        <a:lnTo>
                          <a:pt x="0" y="57"/>
                        </a:lnTo>
                        <a:lnTo>
                          <a:pt x="1527" y="0"/>
                        </a:lnTo>
                        <a:lnTo>
                          <a:pt x="1527" y="1188"/>
                        </a:lnTo>
                        <a:close/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603760" y="3767040"/>
                    <a:ext cx="446400" cy="387720"/>
                  </a:xfrm>
                  <a:custGeom>
                    <a:avLst/>
                    <a:gdLst/>
                    <a:ahLst/>
                    <a:rect l="0" t="0" r="r" b="b"/>
                    <a:pathLst>
                      <a:path w="1240" h="1077">
                        <a:moveTo>
                          <a:pt x="1191" y="0"/>
                        </a:moveTo>
                        <a:lnTo>
                          <a:pt x="1200" y="4"/>
                        </a:lnTo>
                        <a:lnTo>
                          <a:pt x="1200" y="13"/>
                        </a:lnTo>
                        <a:lnTo>
                          <a:pt x="1204" y="22"/>
                        </a:lnTo>
                        <a:lnTo>
                          <a:pt x="1204" y="35"/>
                        </a:lnTo>
                        <a:lnTo>
                          <a:pt x="1213" y="48"/>
                        </a:lnTo>
                        <a:lnTo>
                          <a:pt x="1213" y="66"/>
                        </a:lnTo>
                        <a:lnTo>
                          <a:pt x="1222" y="88"/>
                        </a:lnTo>
                        <a:lnTo>
                          <a:pt x="1222" y="119"/>
                        </a:lnTo>
                        <a:lnTo>
                          <a:pt x="1226" y="141"/>
                        </a:lnTo>
                        <a:lnTo>
                          <a:pt x="1226" y="171"/>
                        </a:lnTo>
                        <a:lnTo>
                          <a:pt x="1226" y="198"/>
                        </a:lnTo>
                        <a:lnTo>
                          <a:pt x="1231" y="229"/>
                        </a:lnTo>
                        <a:lnTo>
                          <a:pt x="1231" y="268"/>
                        </a:lnTo>
                        <a:lnTo>
                          <a:pt x="1231" y="309"/>
                        </a:lnTo>
                        <a:lnTo>
                          <a:pt x="1231" y="340"/>
                        </a:lnTo>
                        <a:lnTo>
                          <a:pt x="1231" y="380"/>
                        </a:lnTo>
                        <a:lnTo>
                          <a:pt x="1240" y="419"/>
                        </a:lnTo>
                        <a:lnTo>
                          <a:pt x="1240" y="455"/>
                        </a:lnTo>
                        <a:lnTo>
                          <a:pt x="1240" y="499"/>
                        </a:lnTo>
                        <a:lnTo>
                          <a:pt x="1240" y="530"/>
                        </a:lnTo>
                        <a:lnTo>
                          <a:pt x="1240" y="578"/>
                        </a:lnTo>
                        <a:lnTo>
                          <a:pt x="1231" y="613"/>
                        </a:lnTo>
                        <a:lnTo>
                          <a:pt x="1231" y="653"/>
                        </a:lnTo>
                        <a:lnTo>
                          <a:pt x="1231" y="684"/>
                        </a:lnTo>
                        <a:lnTo>
                          <a:pt x="1231" y="719"/>
                        </a:lnTo>
                        <a:lnTo>
                          <a:pt x="1231" y="763"/>
                        </a:lnTo>
                        <a:lnTo>
                          <a:pt x="1226" y="790"/>
                        </a:lnTo>
                        <a:lnTo>
                          <a:pt x="1226" y="826"/>
                        </a:lnTo>
                        <a:lnTo>
                          <a:pt x="1226" y="857"/>
                        </a:lnTo>
                        <a:lnTo>
                          <a:pt x="1222" y="879"/>
                        </a:lnTo>
                        <a:lnTo>
                          <a:pt x="1222" y="901"/>
                        </a:lnTo>
                        <a:lnTo>
                          <a:pt x="1213" y="923"/>
                        </a:lnTo>
                        <a:lnTo>
                          <a:pt x="1213" y="945"/>
                        </a:lnTo>
                        <a:lnTo>
                          <a:pt x="1204" y="958"/>
                        </a:lnTo>
                        <a:lnTo>
                          <a:pt x="1200" y="972"/>
                        </a:lnTo>
                        <a:lnTo>
                          <a:pt x="1200" y="989"/>
                        </a:lnTo>
                        <a:lnTo>
                          <a:pt x="1165" y="994"/>
                        </a:lnTo>
                        <a:lnTo>
                          <a:pt x="1147" y="998"/>
                        </a:lnTo>
                        <a:lnTo>
                          <a:pt x="1125" y="1003"/>
                        </a:lnTo>
                        <a:lnTo>
                          <a:pt x="1107" y="1003"/>
                        </a:lnTo>
                        <a:lnTo>
                          <a:pt x="1094" y="1011"/>
                        </a:lnTo>
                        <a:lnTo>
                          <a:pt x="1054" y="1016"/>
                        </a:lnTo>
                        <a:lnTo>
                          <a:pt x="1046" y="1016"/>
                        </a:lnTo>
                        <a:lnTo>
                          <a:pt x="1010" y="1025"/>
                        </a:lnTo>
                        <a:lnTo>
                          <a:pt x="984" y="1025"/>
                        </a:lnTo>
                        <a:lnTo>
                          <a:pt x="957" y="1025"/>
                        </a:lnTo>
                        <a:lnTo>
                          <a:pt x="922" y="1033"/>
                        </a:lnTo>
                        <a:lnTo>
                          <a:pt x="891" y="1033"/>
                        </a:lnTo>
                        <a:lnTo>
                          <a:pt x="856" y="1042"/>
                        </a:lnTo>
                        <a:lnTo>
                          <a:pt x="825" y="1042"/>
                        </a:lnTo>
                        <a:lnTo>
                          <a:pt x="794" y="1047"/>
                        </a:lnTo>
                        <a:lnTo>
                          <a:pt x="759" y="1047"/>
                        </a:lnTo>
                        <a:lnTo>
                          <a:pt x="724" y="1051"/>
                        </a:lnTo>
                        <a:lnTo>
                          <a:pt x="697" y="1051"/>
                        </a:lnTo>
                        <a:lnTo>
                          <a:pt x="662" y="1055"/>
                        </a:lnTo>
                        <a:lnTo>
                          <a:pt x="631" y="1055"/>
                        </a:lnTo>
                        <a:lnTo>
                          <a:pt x="599" y="1055"/>
                        </a:lnTo>
                        <a:lnTo>
                          <a:pt x="564" y="1055"/>
                        </a:lnTo>
                        <a:lnTo>
                          <a:pt x="533" y="1064"/>
                        </a:lnTo>
                        <a:lnTo>
                          <a:pt x="498" y="1064"/>
                        </a:lnTo>
                        <a:lnTo>
                          <a:pt x="467" y="1064"/>
                        </a:lnTo>
                        <a:lnTo>
                          <a:pt x="436" y="1064"/>
                        </a:lnTo>
                        <a:lnTo>
                          <a:pt x="401" y="1064"/>
                        </a:lnTo>
                        <a:lnTo>
                          <a:pt x="370" y="1069"/>
                        </a:lnTo>
                        <a:lnTo>
                          <a:pt x="339" y="1069"/>
                        </a:lnTo>
                        <a:lnTo>
                          <a:pt x="299" y="1069"/>
                        </a:lnTo>
                        <a:lnTo>
                          <a:pt x="268" y="1069"/>
                        </a:lnTo>
                        <a:lnTo>
                          <a:pt x="233" y="1077"/>
                        </a:lnTo>
                        <a:lnTo>
                          <a:pt x="207" y="1069"/>
                        </a:lnTo>
                        <a:lnTo>
                          <a:pt x="171" y="1069"/>
                        </a:lnTo>
                        <a:lnTo>
                          <a:pt x="136" y="1069"/>
                        </a:lnTo>
                        <a:lnTo>
                          <a:pt x="105" y="1064"/>
                        </a:lnTo>
                        <a:lnTo>
                          <a:pt x="74" y="1064"/>
                        </a:lnTo>
                        <a:lnTo>
                          <a:pt x="39" y="1064"/>
                        </a:lnTo>
                        <a:lnTo>
                          <a:pt x="35" y="1051"/>
                        </a:lnTo>
                        <a:lnTo>
                          <a:pt x="35" y="1047"/>
                        </a:lnTo>
                        <a:lnTo>
                          <a:pt x="30" y="1042"/>
                        </a:lnTo>
                        <a:lnTo>
                          <a:pt x="26" y="1025"/>
                        </a:lnTo>
                        <a:lnTo>
                          <a:pt x="26" y="1016"/>
                        </a:lnTo>
                        <a:lnTo>
                          <a:pt x="13" y="998"/>
                        </a:lnTo>
                        <a:lnTo>
                          <a:pt x="13" y="980"/>
                        </a:lnTo>
                        <a:lnTo>
                          <a:pt x="8" y="958"/>
                        </a:lnTo>
                        <a:lnTo>
                          <a:pt x="8" y="928"/>
                        </a:lnTo>
                        <a:lnTo>
                          <a:pt x="8" y="901"/>
                        </a:lnTo>
                        <a:lnTo>
                          <a:pt x="4" y="875"/>
                        </a:lnTo>
                        <a:lnTo>
                          <a:pt x="4" y="844"/>
                        </a:lnTo>
                        <a:lnTo>
                          <a:pt x="4" y="813"/>
                        </a:lnTo>
                        <a:lnTo>
                          <a:pt x="0" y="777"/>
                        </a:lnTo>
                        <a:lnTo>
                          <a:pt x="0" y="741"/>
                        </a:lnTo>
                        <a:lnTo>
                          <a:pt x="0" y="706"/>
                        </a:lnTo>
                        <a:lnTo>
                          <a:pt x="0" y="662"/>
                        </a:lnTo>
                        <a:lnTo>
                          <a:pt x="0" y="627"/>
                        </a:lnTo>
                        <a:lnTo>
                          <a:pt x="0" y="591"/>
                        </a:lnTo>
                        <a:lnTo>
                          <a:pt x="0" y="556"/>
                        </a:lnTo>
                        <a:lnTo>
                          <a:pt x="0" y="508"/>
                        </a:lnTo>
                        <a:lnTo>
                          <a:pt x="0" y="472"/>
                        </a:lnTo>
                        <a:lnTo>
                          <a:pt x="0" y="437"/>
                        </a:lnTo>
                        <a:lnTo>
                          <a:pt x="0" y="393"/>
                        </a:lnTo>
                        <a:lnTo>
                          <a:pt x="0" y="358"/>
                        </a:lnTo>
                        <a:lnTo>
                          <a:pt x="0" y="327"/>
                        </a:lnTo>
                        <a:lnTo>
                          <a:pt x="4" y="292"/>
                        </a:lnTo>
                        <a:lnTo>
                          <a:pt x="4" y="255"/>
                        </a:lnTo>
                        <a:lnTo>
                          <a:pt x="4" y="224"/>
                        </a:lnTo>
                        <a:lnTo>
                          <a:pt x="8" y="194"/>
                        </a:lnTo>
                        <a:lnTo>
                          <a:pt x="8" y="171"/>
                        </a:lnTo>
                        <a:lnTo>
                          <a:pt x="8" y="145"/>
                        </a:lnTo>
                        <a:lnTo>
                          <a:pt x="13" y="123"/>
                        </a:lnTo>
                        <a:lnTo>
                          <a:pt x="13" y="101"/>
                        </a:lnTo>
                        <a:lnTo>
                          <a:pt x="26" y="83"/>
                        </a:lnTo>
                        <a:lnTo>
                          <a:pt x="26" y="74"/>
                        </a:lnTo>
                        <a:lnTo>
                          <a:pt x="30" y="57"/>
                        </a:lnTo>
                        <a:lnTo>
                          <a:pt x="35" y="52"/>
                        </a:lnTo>
                        <a:lnTo>
                          <a:pt x="35" y="48"/>
                        </a:lnTo>
                        <a:lnTo>
                          <a:pt x="39" y="48"/>
                        </a:lnTo>
                        <a:lnTo>
                          <a:pt x="1191" y="0"/>
                        </a:lnTo>
                        <a:close/>
                      </a:path>
                    </a:pathLst>
                  </a:custGeom>
                  <a:solidFill>
                    <a:srgbClr val="80a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535720" y="3720960"/>
                    <a:ext cx="57492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597" h="147">
                        <a:moveTo>
                          <a:pt x="1597" y="84"/>
                        </a:moveTo>
                        <a:lnTo>
                          <a:pt x="1495" y="0"/>
                        </a:lnTo>
                        <a:lnTo>
                          <a:pt x="0" y="58"/>
                        </a:lnTo>
                        <a:lnTo>
                          <a:pt x="74" y="147"/>
                        </a:lnTo>
                        <a:lnTo>
                          <a:pt x="1597" y="84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5535720" y="3741840"/>
                    <a:ext cx="27360" cy="4860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350">
                        <a:moveTo>
                          <a:pt x="0" y="0"/>
                        </a:moveTo>
                        <a:lnTo>
                          <a:pt x="76" y="88"/>
                        </a:lnTo>
                        <a:lnTo>
                          <a:pt x="76" y="1350"/>
                        </a:lnTo>
                        <a:lnTo>
                          <a:pt x="0" y="12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066000" y="3751200"/>
                    <a:ext cx="44640" cy="42732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187">
                        <a:moveTo>
                          <a:pt x="124" y="0"/>
                        </a:moveTo>
                        <a:lnTo>
                          <a:pt x="0" y="61"/>
                        </a:lnTo>
                        <a:lnTo>
                          <a:pt x="0" y="1063"/>
                        </a:lnTo>
                        <a:lnTo>
                          <a:pt x="124" y="1187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560920" y="4132440"/>
                    <a:ext cx="549720" cy="95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27" h="266">
                        <a:moveTo>
                          <a:pt x="1527" y="124"/>
                        </a:moveTo>
                        <a:lnTo>
                          <a:pt x="1404" y="0"/>
                        </a:lnTo>
                        <a:lnTo>
                          <a:pt x="119" y="124"/>
                        </a:lnTo>
                        <a:lnTo>
                          <a:pt x="0" y="266"/>
                        </a:lnTo>
                        <a:lnTo>
                          <a:pt x="1527" y="12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560920" y="3771720"/>
                    <a:ext cx="46440" cy="456120"/>
                  </a:xfrm>
                  <a:custGeom>
                    <a:avLst/>
                    <a:gdLst/>
                    <a:ahLst/>
                    <a:rect l="0" t="0" r="r" b="b"/>
                    <a:pathLst>
                      <a:path w="129" h="1267">
                        <a:moveTo>
                          <a:pt x="0" y="1267"/>
                        </a:moveTo>
                        <a:lnTo>
                          <a:pt x="129" y="1130"/>
                        </a:lnTo>
                        <a:lnTo>
                          <a:pt x="129" y="52"/>
                        </a:lnTo>
                        <a:lnTo>
                          <a:pt x="0" y="0"/>
                        </a:lnTo>
                        <a:lnTo>
                          <a:pt x="0" y="126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551560" y="3751200"/>
                    <a:ext cx="56376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66" h="129">
                        <a:moveTo>
                          <a:pt x="0" y="67"/>
                        </a:moveTo>
                        <a:lnTo>
                          <a:pt x="119" y="129"/>
                        </a:lnTo>
                        <a:lnTo>
                          <a:pt x="1438" y="67"/>
                        </a:lnTo>
                        <a:lnTo>
                          <a:pt x="1566" y="0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280120" y="3743280"/>
                    <a:ext cx="224280" cy="694080"/>
                  </a:xfrm>
                  <a:custGeom>
                    <a:avLst/>
                    <a:gdLst/>
                    <a:ahLst/>
                    <a:rect l="0" t="0" r="r" b="b"/>
                    <a:pathLst>
                      <a:path w="623" h="1928">
                        <a:moveTo>
                          <a:pt x="623" y="0"/>
                        </a:moveTo>
                        <a:lnTo>
                          <a:pt x="623" y="1720"/>
                        </a:lnTo>
                        <a:lnTo>
                          <a:pt x="0" y="1928"/>
                        </a:lnTo>
                        <a:lnTo>
                          <a:pt x="0" y="74"/>
                        </a:lnTo>
                        <a:lnTo>
                          <a:pt x="623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029200" y="3657600"/>
                    <a:ext cx="47520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1320" h="323">
                        <a:moveTo>
                          <a:pt x="1320" y="239"/>
                        </a:moveTo>
                        <a:lnTo>
                          <a:pt x="609" y="0"/>
                        </a:lnTo>
                        <a:lnTo>
                          <a:pt x="0" y="79"/>
                        </a:lnTo>
                        <a:lnTo>
                          <a:pt x="697" y="323"/>
                        </a:lnTo>
                        <a:lnTo>
                          <a:pt x="1320" y="23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029200" y="3684600"/>
                    <a:ext cx="252720" cy="752760"/>
                  </a:xfrm>
                  <a:custGeom>
                    <a:avLst/>
                    <a:gdLst/>
                    <a:ahLst/>
                    <a:rect l="0" t="0" r="r" b="b"/>
                    <a:pathLst>
                      <a:path w="702" h="2091">
                        <a:moveTo>
                          <a:pt x="702" y="229"/>
                        </a:moveTo>
                        <a:lnTo>
                          <a:pt x="0" y="0"/>
                        </a:lnTo>
                        <a:lnTo>
                          <a:pt x="0" y="1725"/>
                        </a:lnTo>
                        <a:lnTo>
                          <a:pt x="702" y="2091"/>
                        </a:lnTo>
                        <a:lnTo>
                          <a:pt x="702" y="22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5300640" y="4052880"/>
                    <a:ext cx="186120" cy="152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7" h="424">
                        <a:moveTo>
                          <a:pt x="517" y="0"/>
                        </a:moveTo>
                        <a:lnTo>
                          <a:pt x="517" y="287"/>
                        </a:lnTo>
                        <a:lnTo>
                          <a:pt x="0" y="424"/>
                        </a:lnTo>
                        <a:lnTo>
                          <a:pt x="0" y="119"/>
                        </a:lnTo>
                        <a:lnTo>
                          <a:pt x="51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300640" y="3902040"/>
                    <a:ext cx="186120" cy="151200"/>
                  </a:xfrm>
                  <a:custGeom>
                    <a:avLst/>
                    <a:gdLst/>
                    <a:ahLst/>
                    <a:rect l="0" t="0" r="r" b="b"/>
                    <a:pathLst>
                      <a:path w="517" h="420">
                        <a:moveTo>
                          <a:pt x="517" y="0"/>
                        </a:moveTo>
                        <a:lnTo>
                          <a:pt x="517" y="296"/>
                        </a:lnTo>
                        <a:lnTo>
                          <a:pt x="0" y="420"/>
                        </a:lnTo>
                        <a:lnTo>
                          <a:pt x="0" y="88"/>
                        </a:lnTo>
                        <a:lnTo>
                          <a:pt x="51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484960" y="389880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32"/>
                        </a:lnTo>
                        <a:lnTo>
                          <a:pt x="0" y="30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300640" y="4008600"/>
                    <a:ext cx="19404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539" h="155">
                        <a:moveTo>
                          <a:pt x="539" y="17"/>
                        </a:moveTo>
                        <a:lnTo>
                          <a:pt x="513" y="0"/>
                        </a:lnTo>
                        <a:lnTo>
                          <a:pt x="0" y="124"/>
                        </a:lnTo>
                        <a:lnTo>
                          <a:pt x="0" y="155"/>
                        </a:lnTo>
                        <a:lnTo>
                          <a:pt x="539" y="17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315040" y="4011480"/>
                    <a:ext cx="198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191">
                        <a:moveTo>
                          <a:pt x="516" y="0"/>
                        </a:moveTo>
                        <a:lnTo>
                          <a:pt x="552" y="62"/>
                        </a:lnTo>
                        <a:lnTo>
                          <a:pt x="26" y="191"/>
                        </a:lnTo>
                        <a:lnTo>
                          <a:pt x="0" y="128"/>
                        </a:lnTo>
                        <a:lnTo>
                          <a:pt x="51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315040" y="4033800"/>
                    <a:ext cx="198720" cy="6228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173">
                        <a:moveTo>
                          <a:pt x="552" y="0"/>
                        </a:moveTo>
                        <a:lnTo>
                          <a:pt x="516" y="39"/>
                        </a:lnTo>
                        <a:lnTo>
                          <a:pt x="0" y="173"/>
                        </a:lnTo>
                        <a:lnTo>
                          <a:pt x="26" y="128"/>
                        </a:lnTo>
                        <a:lnTo>
                          <a:pt x="552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315040" y="4056120"/>
                    <a:ext cx="2592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11">
                        <a:moveTo>
                          <a:pt x="0" y="0"/>
                        </a:moveTo>
                        <a:lnTo>
                          <a:pt x="72" y="58"/>
                        </a:lnTo>
                        <a:lnTo>
                          <a:pt x="0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a080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484960" y="40496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0" y="8"/>
                        </a:moveTo>
                        <a:lnTo>
                          <a:pt x="72" y="0"/>
                        </a:lnTo>
                        <a:lnTo>
                          <a:pt x="72" y="327"/>
                        </a:lnTo>
                        <a:lnTo>
                          <a:pt x="0" y="30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5300640" y="4159080"/>
                    <a:ext cx="19404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539" h="160">
                        <a:moveTo>
                          <a:pt x="513" y="0"/>
                        </a:moveTo>
                        <a:lnTo>
                          <a:pt x="539" y="17"/>
                        </a:lnTo>
                        <a:lnTo>
                          <a:pt x="0" y="160"/>
                        </a:lnTo>
                        <a:lnTo>
                          <a:pt x="0" y="129"/>
                        </a:lnTo>
                        <a:lnTo>
                          <a:pt x="513" y="0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5338800" y="3789360"/>
                    <a:ext cx="10656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296" h="142">
                        <a:moveTo>
                          <a:pt x="296" y="0"/>
                        </a:moveTo>
                        <a:lnTo>
                          <a:pt x="269" y="48"/>
                        </a:lnTo>
                        <a:lnTo>
                          <a:pt x="296" y="89"/>
                        </a:lnTo>
                        <a:lnTo>
                          <a:pt x="0" y="142"/>
                        </a:lnTo>
                        <a:lnTo>
                          <a:pt x="0" y="39"/>
                        </a:lnTo>
                        <a:lnTo>
                          <a:pt x="296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97400" y="3794040"/>
                    <a:ext cx="19728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124">
                        <a:moveTo>
                          <a:pt x="548" y="0"/>
                        </a:moveTo>
                        <a:lnTo>
                          <a:pt x="0" y="89"/>
                        </a:lnTo>
                        <a:lnTo>
                          <a:pt x="0" y="124"/>
                        </a:lnTo>
                        <a:lnTo>
                          <a:pt x="548" y="26"/>
                        </a:lnTo>
                        <a:lnTo>
                          <a:pt x="54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435640" y="3789360"/>
                    <a:ext cx="2592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98">
                        <a:moveTo>
                          <a:pt x="72" y="0"/>
                        </a:moveTo>
                        <a:lnTo>
                          <a:pt x="72" y="98"/>
                        </a:lnTo>
                        <a:lnTo>
                          <a:pt x="0" y="48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solidFill>
                    <a:srgbClr val="a08080"/>
                  </a:solidFill>
                  <a:ln w="0">
                    <a:noFill/>
                  </a:ln>
                </p:spPr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303880" y="3797280"/>
                    <a:ext cx="18288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107">
                        <a:moveTo>
                          <a:pt x="508" y="0"/>
                        </a:moveTo>
                        <a:lnTo>
                          <a:pt x="0" y="90"/>
                        </a:lnTo>
                        <a:lnTo>
                          <a:pt x="0" y="107"/>
                        </a:lnTo>
                        <a:lnTo>
                          <a:pt x="508" y="13"/>
                        </a:lnTo>
                        <a:lnTo>
                          <a:pt x="508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176800" y="4359240"/>
                    <a:ext cx="25920" cy="496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38">
                        <a:moveTo>
                          <a:pt x="72" y="98"/>
                        </a:moveTo>
                        <a:lnTo>
                          <a:pt x="0" y="138"/>
                        </a:lnTo>
                        <a:lnTo>
                          <a:pt x="72" y="0"/>
                        </a:lnTo>
                        <a:lnTo>
                          <a:pt x="72" y="9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141880" y="4340160"/>
                    <a:ext cx="6084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191">
                        <a:moveTo>
                          <a:pt x="169" y="44"/>
                        </a:moveTo>
                        <a:lnTo>
                          <a:pt x="102" y="191"/>
                        </a:lnTo>
                        <a:lnTo>
                          <a:pt x="0" y="128"/>
                        </a:lnTo>
                        <a:lnTo>
                          <a:pt x="62" y="0"/>
                        </a:lnTo>
                        <a:lnTo>
                          <a:pt x="169" y="4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073480" y="4308480"/>
                    <a:ext cx="2592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24">
                        <a:moveTo>
                          <a:pt x="72" y="98"/>
                        </a:moveTo>
                        <a:lnTo>
                          <a:pt x="0" y="124"/>
                        </a:lnTo>
                        <a:lnTo>
                          <a:pt x="72" y="0"/>
                        </a:lnTo>
                        <a:lnTo>
                          <a:pt x="72" y="9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045040" y="4294080"/>
                    <a:ext cx="54360" cy="5904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164">
                        <a:moveTo>
                          <a:pt x="151" y="39"/>
                        </a:moveTo>
                        <a:lnTo>
                          <a:pt x="89" y="164"/>
                        </a:lnTo>
                        <a:lnTo>
                          <a:pt x="0" y="106"/>
                        </a:lnTo>
                        <a:lnTo>
                          <a:pt x="58" y="0"/>
                        </a:lnTo>
                        <a:lnTo>
                          <a:pt x="151" y="3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275440" y="4214880"/>
                    <a:ext cx="228960" cy="84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35">
                        <a:moveTo>
                          <a:pt x="636" y="44"/>
                        </a:moveTo>
                        <a:lnTo>
                          <a:pt x="13" y="235"/>
                        </a:lnTo>
                        <a:lnTo>
                          <a:pt x="0" y="182"/>
                        </a:lnTo>
                        <a:lnTo>
                          <a:pt x="622" y="0"/>
                        </a:lnTo>
                        <a:lnTo>
                          <a:pt x="636" y="4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275440" y="4197240"/>
                    <a:ext cx="228960" cy="84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35">
                        <a:moveTo>
                          <a:pt x="622" y="44"/>
                        </a:moveTo>
                        <a:lnTo>
                          <a:pt x="0" y="235"/>
                        </a:lnTo>
                        <a:lnTo>
                          <a:pt x="13" y="191"/>
                        </a:lnTo>
                        <a:lnTo>
                          <a:pt x="636" y="0"/>
                        </a:lnTo>
                        <a:lnTo>
                          <a:pt x="622" y="4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5275440" y="4245120"/>
                    <a:ext cx="228960" cy="9072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52">
                        <a:moveTo>
                          <a:pt x="636" y="52"/>
                        </a:moveTo>
                        <a:lnTo>
                          <a:pt x="13" y="252"/>
                        </a:lnTo>
                        <a:lnTo>
                          <a:pt x="0" y="199"/>
                        </a:lnTo>
                        <a:lnTo>
                          <a:pt x="622" y="0"/>
                        </a:lnTo>
                        <a:lnTo>
                          <a:pt x="636" y="5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275440" y="4232160"/>
                    <a:ext cx="228960" cy="8280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30">
                        <a:moveTo>
                          <a:pt x="622" y="39"/>
                        </a:moveTo>
                        <a:lnTo>
                          <a:pt x="0" y="230"/>
                        </a:lnTo>
                        <a:lnTo>
                          <a:pt x="13" y="186"/>
                        </a:lnTo>
                        <a:lnTo>
                          <a:pt x="636" y="0"/>
                        </a:lnTo>
                        <a:lnTo>
                          <a:pt x="622" y="3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275440" y="4278240"/>
                    <a:ext cx="228960" cy="8784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44">
                        <a:moveTo>
                          <a:pt x="636" y="35"/>
                        </a:moveTo>
                        <a:lnTo>
                          <a:pt x="13" y="244"/>
                        </a:lnTo>
                        <a:lnTo>
                          <a:pt x="0" y="191"/>
                        </a:lnTo>
                        <a:lnTo>
                          <a:pt x="622" y="0"/>
                        </a:lnTo>
                        <a:lnTo>
                          <a:pt x="636" y="3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275440" y="4259160"/>
                    <a:ext cx="22896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48">
                        <a:moveTo>
                          <a:pt x="622" y="44"/>
                        </a:moveTo>
                        <a:lnTo>
                          <a:pt x="0" y="248"/>
                        </a:lnTo>
                        <a:lnTo>
                          <a:pt x="13" y="204"/>
                        </a:lnTo>
                        <a:lnTo>
                          <a:pt x="636" y="0"/>
                        </a:lnTo>
                        <a:lnTo>
                          <a:pt x="622" y="44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5275440" y="4311720"/>
                    <a:ext cx="228960" cy="8784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44">
                        <a:moveTo>
                          <a:pt x="636" y="35"/>
                        </a:moveTo>
                        <a:lnTo>
                          <a:pt x="13" y="244"/>
                        </a:lnTo>
                        <a:lnTo>
                          <a:pt x="0" y="191"/>
                        </a:lnTo>
                        <a:lnTo>
                          <a:pt x="622" y="0"/>
                        </a:lnTo>
                        <a:lnTo>
                          <a:pt x="636" y="3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275440" y="4297320"/>
                    <a:ext cx="228960" cy="82800"/>
                  </a:xfrm>
                  <a:custGeom>
                    <a:avLst/>
                    <a:gdLst/>
                    <a:ahLst/>
                    <a:rect l="0" t="0" r="r" b="b"/>
                    <a:pathLst>
                      <a:path w="636" h="230">
                        <a:moveTo>
                          <a:pt x="622" y="35"/>
                        </a:moveTo>
                        <a:lnTo>
                          <a:pt x="0" y="230"/>
                        </a:lnTo>
                        <a:lnTo>
                          <a:pt x="13" y="190"/>
                        </a:lnTo>
                        <a:lnTo>
                          <a:pt x="636" y="0"/>
                        </a:lnTo>
                        <a:lnTo>
                          <a:pt x="622" y="35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5315040" y="3862440"/>
                    <a:ext cx="19872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147">
                        <a:moveTo>
                          <a:pt x="516" y="0"/>
                        </a:moveTo>
                        <a:lnTo>
                          <a:pt x="552" y="53"/>
                        </a:lnTo>
                        <a:lnTo>
                          <a:pt x="26" y="147"/>
                        </a:lnTo>
                        <a:lnTo>
                          <a:pt x="0" y="93"/>
                        </a:lnTo>
                        <a:lnTo>
                          <a:pt x="51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315040" y="3884760"/>
                    <a:ext cx="19872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129">
                        <a:moveTo>
                          <a:pt x="552" y="0"/>
                        </a:moveTo>
                        <a:lnTo>
                          <a:pt x="516" y="36"/>
                        </a:lnTo>
                        <a:lnTo>
                          <a:pt x="0" y="129"/>
                        </a:lnTo>
                        <a:lnTo>
                          <a:pt x="26" y="84"/>
                        </a:lnTo>
                        <a:lnTo>
                          <a:pt x="552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315040" y="389268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07">
                        <a:moveTo>
                          <a:pt x="0" y="0"/>
                        </a:moveTo>
                        <a:lnTo>
                          <a:pt x="72" y="58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5029200" y="4135320"/>
                    <a:ext cx="473400" cy="1288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15" h="358">
                        <a:moveTo>
                          <a:pt x="1315" y="176"/>
                        </a:moveTo>
                        <a:lnTo>
                          <a:pt x="693" y="358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80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029200" y="3797280"/>
                    <a:ext cx="473400" cy="105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15" h="292">
                        <a:moveTo>
                          <a:pt x="1315" y="181"/>
                        </a:moveTo>
                        <a:lnTo>
                          <a:pt x="697" y="292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80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5397480" y="4302000"/>
                    <a:ext cx="932400" cy="27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590" h="764">
                        <a:moveTo>
                          <a:pt x="2286" y="0"/>
                        </a:moveTo>
                        <a:lnTo>
                          <a:pt x="0" y="149"/>
                        </a:lnTo>
                        <a:lnTo>
                          <a:pt x="176" y="764"/>
                        </a:lnTo>
                        <a:lnTo>
                          <a:pt x="2590" y="547"/>
                        </a:lnTo>
                        <a:lnTo>
                          <a:pt x="2286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6004080" y="4457880"/>
                    <a:ext cx="62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72">
                        <a:moveTo>
                          <a:pt x="173" y="0"/>
                        </a:moveTo>
                        <a:lnTo>
                          <a:pt x="156" y="45"/>
                        </a:lnTo>
                        <a:lnTo>
                          <a:pt x="0" y="72"/>
                        </a:lnTo>
                        <a:lnTo>
                          <a:pt x="13" y="23"/>
                        </a:lnTo>
                        <a:lnTo>
                          <a:pt x="173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508720" y="4395960"/>
                    <a:ext cx="557640" cy="135360"/>
                  </a:xfrm>
                  <a:custGeom>
                    <a:avLst/>
                    <a:gdLst/>
                    <a:ahLst/>
                    <a:rect l="0" t="0" r="r" b="b"/>
                    <a:pathLst>
                      <a:path w="1549" h="376">
                        <a:moveTo>
                          <a:pt x="1448" y="0"/>
                        </a:moveTo>
                        <a:lnTo>
                          <a:pt x="0" y="98"/>
                        </a:lnTo>
                        <a:lnTo>
                          <a:pt x="74" y="310"/>
                        </a:lnTo>
                        <a:lnTo>
                          <a:pt x="264" y="297"/>
                        </a:lnTo>
                        <a:lnTo>
                          <a:pt x="291" y="376"/>
                        </a:lnTo>
                        <a:lnTo>
                          <a:pt x="1439" y="278"/>
                        </a:lnTo>
                        <a:lnTo>
                          <a:pt x="1399" y="199"/>
                        </a:lnTo>
                        <a:lnTo>
                          <a:pt x="1549" y="172"/>
                        </a:lnTo>
                        <a:lnTo>
                          <a:pt x="1448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607000" y="4498920"/>
                    <a:ext cx="4194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65" h="120">
                        <a:moveTo>
                          <a:pt x="1165" y="0"/>
                        </a:moveTo>
                        <a:lnTo>
                          <a:pt x="1147" y="26"/>
                        </a:lnTo>
                        <a:lnTo>
                          <a:pt x="0" y="120"/>
                        </a:lnTo>
                        <a:lnTo>
                          <a:pt x="13" y="84"/>
                        </a:lnTo>
                        <a:lnTo>
                          <a:pt x="116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5595840" y="4502160"/>
                    <a:ext cx="2592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11">
                        <a:moveTo>
                          <a:pt x="17" y="0"/>
                        </a:moveTo>
                        <a:lnTo>
                          <a:pt x="72" y="75"/>
                        </a:lnTo>
                        <a:lnTo>
                          <a:pt x="45" y="111"/>
                        </a:lnTo>
                        <a:lnTo>
                          <a:pt x="0" y="3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5532480" y="4502160"/>
                    <a:ext cx="71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72">
                        <a:moveTo>
                          <a:pt x="199" y="0"/>
                        </a:moveTo>
                        <a:lnTo>
                          <a:pt x="177" y="49"/>
                        </a:lnTo>
                        <a:lnTo>
                          <a:pt x="0" y="72"/>
                        </a:lnTo>
                        <a:lnTo>
                          <a:pt x="13" y="8"/>
                        </a:lnTo>
                        <a:lnTo>
                          <a:pt x="199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5504040" y="4433760"/>
                    <a:ext cx="33840" cy="86040"/>
                  </a:xfrm>
                  <a:custGeom>
                    <a:avLst/>
                    <a:gdLst/>
                    <a:ahLst/>
                    <a:rect l="0" t="0" r="r" b="b"/>
                    <a:pathLst>
                      <a:path w="94" h="239">
                        <a:moveTo>
                          <a:pt x="94" y="203"/>
                        </a:moveTo>
                        <a:lnTo>
                          <a:pt x="76" y="239"/>
                        </a:lnTo>
                        <a:lnTo>
                          <a:pt x="0" y="30"/>
                        </a:lnTo>
                        <a:lnTo>
                          <a:pt x="8" y="0"/>
                        </a:lnTo>
                        <a:lnTo>
                          <a:pt x="94" y="20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086520" y="4376880"/>
                    <a:ext cx="217800" cy="111600"/>
                  </a:xfrm>
                  <a:custGeom>
                    <a:avLst/>
                    <a:gdLst/>
                    <a:ahLst/>
                    <a:rect l="0" t="0" r="r" b="b"/>
                    <a:pathLst>
                      <a:path w="605" h="310">
                        <a:moveTo>
                          <a:pt x="459" y="0"/>
                        </a:moveTo>
                        <a:lnTo>
                          <a:pt x="605" y="266"/>
                        </a:lnTo>
                        <a:lnTo>
                          <a:pt x="127" y="310"/>
                        </a:lnTo>
                        <a:lnTo>
                          <a:pt x="0" y="44"/>
                        </a:lnTo>
                        <a:lnTo>
                          <a:pt x="459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129360" y="4471920"/>
                    <a:ext cx="17496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486" h="76">
                        <a:moveTo>
                          <a:pt x="486" y="0"/>
                        </a:moveTo>
                        <a:lnTo>
                          <a:pt x="477" y="23"/>
                        </a:lnTo>
                        <a:lnTo>
                          <a:pt x="0" y="76"/>
                        </a:lnTo>
                        <a:lnTo>
                          <a:pt x="8" y="49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083280" y="4392720"/>
                    <a:ext cx="49680" cy="106560"/>
                  </a:xfrm>
                  <a:custGeom>
                    <a:avLst/>
                    <a:gdLst/>
                    <a:ahLst/>
                    <a:rect l="0" t="0" r="r" b="b"/>
                    <a:pathLst>
                      <a:path w="138" h="296">
                        <a:moveTo>
                          <a:pt x="138" y="269"/>
                        </a:moveTo>
                        <a:lnTo>
                          <a:pt x="125" y="296"/>
                        </a:lnTo>
                        <a:lnTo>
                          <a:pt x="0" y="17"/>
                        </a:lnTo>
                        <a:lnTo>
                          <a:pt x="8" y="0"/>
                        </a:lnTo>
                        <a:lnTo>
                          <a:pt x="138" y="26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465880" y="4498920"/>
                    <a:ext cx="867240" cy="100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09" h="279">
                        <a:moveTo>
                          <a:pt x="2409" y="0"/>
                        </a:moveTo>
                        <a:lnTo>
                          <a:pt x="2409" y="57"/>
                        </a:lnTo>
                        <a:lnTo>
                          <a:pt x="0" y="279"/>
                        </a:lnTo>
                        <a:lnTo>
                          <a:pt x="0" y="213"/>
                        </a:lnTo>
                        <a:lnTo>
                          <a:pt x="240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403960" y="4356000"/>
                    <a:ext cx="63720" cy="24336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676">
                        <a:moveTo>
                          <a:pt x="0" y="0"/>
                        </a:moveTo>
                        <a:lnTo>
                          <a:pt x="0" y="186"/>
                        </a:lnTo>
                        <a:lnTo>
                          <a:pt x="177" y="676"/>
                        </a:lnTo>
                        <a:lnTo>
                          <a:pt x="177" y="6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119640" y="4400640"/>
                    <a:ext cx="49320" cy="1047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149880" y="4398840"/>
                    <a:ext cx="44640" cy="1047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178680" y="4394160"/>
                    <a:ext cx="47520" cy="1047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6208560" y="4392720"/>
                    <a:ext cx="42840" cy="1062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6237360" y="4387680"/>
                    <a:ext cx="47520" cy="1080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6094440" y="4397400"/>
                    <a:ext cx="200160" cy="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6103800" y="4419720"/>
                    <a:ext cx="201600" cy="14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6114960" y="4437000"/>
                    <a:ext cx="201600" cy="648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6127920" y="4460760"/>
                    <a:ext cx="199800" cy="18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057720" y="4324320"/>
                    <a:ext cx="1764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490" h="76">
                        <a:moveTo>
                          <a:pt x="464" y="0"/>
                        </a:moveTo>
                        <a:lnTo>
                          <a:pt x="490" y="45"/>
                        </a:lnTo>
                        <a:lnTo>
                          <a:pt x="26" y="76"/>
                        </a:lnTo>
                        <a:lnTo>
                          <a:pt x="0" y="27"/>
                        </a:lnTo>
                        <a:lnTo>
                          <a:pt x="46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057720" y="43369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72" y="45"/>
                        </a:moveTo>
                        <a:lnTo>
                          <a:pt x="17" y="0"/>
                        </a:lnTo>
                        <a:lnTo>
                          <a:pt x="0" y="17"/>
                        </a:lnTo>
                        <a:lnTo>
                          <a:pt x="53" y="72"/>
                        </a:lnTo>
                        <a:lnTo>
                          <a:pt x="72" y="4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066000" y="4340160"/>
                    <a:ext cx="168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68" h="72">
                        <a:moveTo>
                          <a:pt x="468" y="0"/>
                        </a:moveTo>
                        <a:lnTo>
                          <a:pt x="4" y="27"/>
                        </a:lnTo>
                        <a:lnTo>
                          <a:pt x="0" y="72"/>
                        </a:lnTo>
                        <a:lnTo>
                          <a:pt x="459" y="17"/>
                        </a:lnTo>
                        <a:lnTo>
                          <a:pt x="46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00920" y="4344840"/>
                    <a:ext cx="10800" cy="288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26120" y="4344840"/>
                    <a:ext cx="1800" cy="288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54560" y="4344840"/>
                    <a:ext cx="8280" cy="255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181560" y="4336920"/>
                    <a:ext cx="9720" cy="3348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10360" y="4336920"/>
                    <a:ext cx="9360" cy="320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5478480" y="4362480"/>
                    <a:ext cx="1764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90" h="85">
                        <a:moveTo>
                          <a:pt x="459" y="0"/>
                        </a:moveTo>
                        <a:lnTo>
                          <a:pt x="490" y="53"/>
                        </a:lnTo>
                        <a:lnTo>
                          <a:pt x="26" y="85"/>
                        </a:lnTo>
                        <a:lnTo>
                          <a:pt x="0" y="36"/>
                        </a:lnTo>
                        <a:lnTo>
                          <a:pt x="459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5473800" y="4373640"/>
                    <a:ext cx="2592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6">
                        <a:moveTo>
                          <a:pt x="72" y="45"/>
                        </a:moveTo>
                        <a:lnTo>
                          <a:pt x="23" y="0"/>
                        </a:lnTo>
                        <a:lnTo>
                          <a:pt x="0" y="17"/>
                        </a:lnTo>
                        <a:lnTo>
                          <a:pt x="53" y="76"/>
                        </a:lnTo>
                        <a:lnTo>
                          <a:pt x="72" y="4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484960" y="4381560"/>
                    <a:ext cx="170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3" h="72">
                        <a:moveTo>
                          <a:pt x="473" y="0"/>
                        </a:moveTo>
                        <a:lnTo>
                          <a:pt x="4" y="27"/>
                        </a:lnTo>
                        <a:lnTo>
                          <a:pt x="0" y="72"/>
                        </a:lnTo>
                        <a:lnTo>
                          <a:pt x="465" y="23"/>
                        </a:lnTo>
                        <a:lnTo>
                          <a:pt x="473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5519880" y="4379760"/>
                    <a:ext cx="1440" cy="320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5546880" y="4379760"/>
                    <a:ext cx="1440" cy="320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5567400" y="4376880"/>
                    <a:ext cx="9360" cy="3492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5597640" y="4376880"/>
                    <a:ext cx="9360" cy="284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5629320" y="4373640"/>
                    <a:ext cx="1440" cy="302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870520" y="4336920"/>
                    <a:ext cx="1749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86" h="80">
                        <a:moveTo>
                          <a:pt x="459" y="0"/>
                        </a:moveTo>
                        <a:lnTo>
                          <a:pt x="486" y="49"/>
                        </a:lnTo>
                        <a:lnTo>
                          <a:pt x="26" y="80"/>
                        </a:lnTo>
                        <a:lnTo>
                          <a:pt x="0" y="30"/>
                        </a:lnTo>
                        <a:lnTo>
                          <a:pt x="459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864400" y="43480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72" y="40"/>
                        </a:moveTo>
                        <a:lnTo>
                          <a:pt x="23" y="0"/>
                        </a:lnTo>
                        <a:lnTo>
                          <a:pt x="0" y="17"/>
                        </a:lnTo>
                        <a:lnTo>
                          <a:pt x="53" y="72"/>
                        </a:lnTo>
                        <a:lnTo>
                          <a:pt x="72" y="4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877000" y="4356000"/>
                    <a:ext cx="168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68" h="72">
                        <a:moveTo>
                          <a:pt x="468" y="0"/>
                        </a:moveTo>
                        <a:lnTo>
                          <a:pt x="8" y="31"/>
                        </a:lnTo>
                        <a:lnTo>
                          <a:pt x="0" y="72"/>
                        </a:lnTo>
                        <a:lnTo>
                          <a:pt x="459" y="23"/>
                        </a:lnTo>
                        <a:lnTo>
                          <a:pt x="46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910120" y="4359240"/>
                    <a:ext cx="6480" cy="255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937120" y="4356000"/>
                    <a:ext cx="5040" cy="288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5964120" y="4351320"/>
                    <a:ext cx="9720" cy="302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5989680" y="4351320"/>
                    <a:ext cx="1440" cy="302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021360" y="4348080"/>
                    <a:ext cx="1440" cy="288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5675400" y="4348080"/>
                    <a:ext cx="1749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86" h="80">
                        <a:moveTo>
                          <a:pt x="459" y="0"/>
                        </a:moveTo>
                        <a:lnTo>
                          <a:pt x="486" y="49"/>
                        </a:lnTo>
                        <a:lnTo>
                          <a:pt x="17" y="80"/>
                        </a:lnTo>
                        <a:lnTo>
                          <a:pt x="0" y="30"/>
                        </a:lnTo>
                        <a:lnTo>
                          <a:pt x="459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668920" y="43624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72" y="45"/>
                        </a:moveTo>
                        <a:lnTo>
                          <a:pt x="23" y="0"/>
                        </a:lnTo>
                        <a:lnTo>
                          <a:pt x="0" y="17"/>
                        </a:lnTo>
                        <a:lnTo>
                          <a:pt x="45" y="72"/>
                        </a:lnTo>
                        <a:lnTo>
                          <a:pt x="72" y="4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680080" y="4365720"/>
                    <a:ext cx="170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3" h="72">
                        <a:moveTo>
                          <a:pt x="473" y="0"/>
                        </a:moveTo>
                        <a:lnTo>
                          <a:pt x="8" y="40"/>
                        </a:lnTo>
                        <a:lnTo>
                          <a:pt x="0" y="72"/>
                        </a:lnTo>
                        <a:lnTo>
                          <a:pt x="460" y="23"/>
                        </a:lnTo>
                        <a:lnTo>
                          <a:pt x="473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50505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710320" y="4370400"/>
                    <a:ext cx="12600" cy="302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740560" y="4367160"/>
                    <a:ext cx="1440" cy="288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767560" y="4367160"/>
                    <a:ext cx="15840" cy="255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794200" y="4362480"/>
                    <a:ext cx="8280" cy="302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5823000" y="4362480"/>
                    <a:ext cx="12600" cy="270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>
                    <a:off x="5537160" y="4429080"/>
                    <a:ext cx="44640" cy="1047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>
                    <a:off x="5600880" y="4421160"/>
                    <a:ext cx="56880" cy="1364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flipV="1">
                    <a:off x="5632560" y="4422600"/>
                    <a:ext cx="56880" cy="1350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flipV="1">
                    <a:off x="5661000" y="4416480"/>
                    <a:ext cx="55440" cy="13968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flipV="1">
                    <a:off x="5688000" y="4417920"/>
                    <a:ext cx="60480" cy="1350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flipV="1">
                    <a:off x="5719680" y="4414680"/>
                    <a:ext cx="61920" cy="1382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flipV="1">
                    <a:off x="5743440" y="4411800"/>
                    <a:ext cx="68400" cy="1346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flipV="1">
                    <a:off x="5776920" y="4411800"/>
                    <a:ext cx="60480" cy="1346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 flipV="1">
                    <a:off x="5802480" y="4408560"/>
                    <a:ext cx="64800" cy="1332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flipV="1">
                    <a:off x="5829480" y="4405320"/>
                    <a:ext cx="68040" cy="1364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flipV="1">
                    <a:off x="5857920" y="4406760"/>
                    <a:ext cx="68040" cy="12708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 flipV="1">
                    <a:off x="5886360" y="4403880"/>
                    <a:ext cx="71640" cy="1299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 flipV="1">
                    <a:off x="5915160" y="4400640"/>
                    <a:ext cx="74520" cy="1317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flipV="1">
                    <a:off x="5942160" y="4400640"/>
                    <a:ext cx="72720" cy="1299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 flipV="1">
                    <a:off x="6000840" y="4398840"/>
                    <a:ext cx="58680" cy="986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 flipV="1">
                    <a:off x="5573880" y="4422600"/>
                    <a:ext cx="53640" cy="1400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 flipV="1">
                    <a:off x="5969160" y="4395960"/>
                    <a:ext cx="79200" cy="12996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5518080" y="4422600"/>
                    <a:ext cx="560520" cy="2232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5522760" y="4443480"/>
                    <a:ext cx="567000" cy="2700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5602320" y="4476600"/>
                    <a:ext cx="446040" cy="17640"/>
                  </a:xfrm>
                  <a:prstGeom prst="line">
                    <a:avLst/>
                  </a:prstGeom>
                  <a:ln w="12600">
                    <a:solidFill>
                      <a:srgbClr val="505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689440" y="3819600"/>
                  <a:ext cx="3938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6" name=""/>
              <p:cNvGrpSpPr/>
              <p:nvPr/>
            </p:nvGrpSpPr>
            <p:grpSpPr>
              <a:xfrm>
                <a:off x="1219320" y="3962520"/>
                <a:ext cx="841680" cy="765360"/>
                <a:chOff x="1219320" y="3962520"/>
                <a:chExt cx="841680" cy="7653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316160" y="3962520"/>
                  <a:ext cx="644400" cy="536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363680" y="4017960"/>
                  <a:ext cx="544680" cy="40644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333440" y="4494240"/>
                  <a:ext cx="606600" cy="69840"/>
                </a:xfrm>
                <a:prstGeom prst="rect">
                  <a:avLst/>
                </a:prstGeom>
                <a:solidFill>
                  <a:srgbClr val="303030"/>
                </a:solidFill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762200" y="4449600"/>
                  <a:ext cx="149760" cy="25920"/>
                </a:xfrm>
                <a:custGeom>
                  <a:avLst/>
                  <a:gdLst/>
                  <a:ahLst/>
                  <a:rect l="0" t="0" r="r" b="b"/>
                  <a:pathLst>
                    <a:path w="416" h="72">
                      <a:moveTo>
                        <a:pt x="0" y="45"/>
                      </a:moveTo>
                      <a:lnTo>
                        <a:pt x="159" y="45"/>
                      </a:lnTo>
                      <a:lnTo>
                        <a:pt x="159" y="72"/>
                      </a:lnTo>
                      <a:lnTo>
                        <a:pt x="247" y="72"/>
                      </a:lnTo>
                      <a:lnTo>
                        <a:pt x="247" y="45"/>
                      </a:lnTo>
                      <a:lnTo>
                        <a:pt x="416" y="45"/>
                      </a:lnTo>
                      <a:lnTo>
                        <a:pt x="416" y="23"/>
                      </a:lnTo>
                      <a:lnTo>
                        <a:pt x="247" y="23"/>
                      </a:lnTo>
                      <a:lnTo>
                        <a:pt x="247" y="0"/>
                      </a:lnTo>
                      <a:lnTo>
                        <a:pt x="159" y="0"/>
                      </a:lnTo>
                      <a:lnTo>
                        <a:pt x="159" y="23"/>
                      </a:lnTo>
                      <a:lnTo>
                        <a:pt x="0" y="23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768320" y="4452840"/>
                  <a:ext cx="149760" cy="25920"/>
                </a:xfrm>
                <a:custGeom>
                  <a:avLst/>
                  <a:gdLst/>
                  <a:ahLst/>
                  <a:rect l="0" t="0" r="r" b="b"/>
                  <a:pathLst>
                    <a:path w="416" h="72">
                      <a:moveTo>
                        <a:pt x="0" y="45"/>
                      </a:moveTo>
                      <a:lnTo>
                        <a:pt x="164" y="45"/>
                      </a:lnTo>
                      <a:lnTo>
                        <a:pt x="164" y="72"/>
                      </a:lnTo>
                      <a:lnTo>
                        <a:pt x="243" y="72"/>
                      </a:lnTo>
                      <a:lnTo>
                        <a:pt x="243" y="45"/>
                      </a:lnTo>
                      <a:lnTo>
                        <a:pt x="416" y="45"/>
                      </a:lnTo>
                      <a:lnTo>
                        <a:pt x="416" y="23"/>
                      </a:lnTo>
                      <a:lnTo>
                        <a:pt x="243" y="23"/>
                      </a:lnTo>
                      <a:lnTo>
                        <a:pt x="243" y="0"/>
                      </a:lnTo>
                      <a:lnTo>
                        <a:pt x="164" y="0"/>
                      </a:lnTo>
                      <a:lnTo>
                        <a:pt x="164" y="23"/>
                      </a:lnTo>
                      <a:lnTo>
                        <a:pt x="0" y="23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763640" y="4451400"/>
                  <a:ext cx="149760" cy="27360"/>
                </a:xfrm>
                <a:custGeom>
                  <a:avLst/>
                  <a:gdLst/>
                  <a:ahLst/>
                  <a:rect l="0" t="0" r="r" b="b"/>
                  <a:pathLst>
                    <a:path w="416" h="76">
                      <a:moveTo>
                        <a:pt x="0" y="49"/>
                      </a:moveTo>
                      <a:lnTo>
                        <a:pt x="159" y="49"/>
                      </a:lnTo>
                      <a:lnTo>
                        <a:pt x="159" y="76"/>
                      </a:lnTo>
                      <a:lnTo>
                        <a:pt x="243" y="76"/>
                      </a:lnTo>
                      <a:lnTo>
                        <a:pt x="243" y="49"/>
                      </a:lnTo>
                      <a:lnTo>
                        <a:pt x="416" y="49"/>
                      </a:lnTo>
                      <a:lnTo>
                        <a:pt x="416" y="27"/>
                      </a:lnTo>
                      <a:lnTo>
                        <a:pt x="243" y="27"/>
                      </a:lnTo>
                      <a:lnTo>
                        <a:pt x="243" y="0"/>
                      </a:lnTo>
                      <a:lnTo>
                        <a:pt x="159" y="0"/>
                      </a:lnTo>
                      <a:lnTo>
                        <a:pt x="159" y="27"/>
                      </a:lnTo>
                      <a:lnTo>
                        <a:pt x="0" y="27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16160" y="4491000"/>
                  <a:ext cx="644400" cy="2232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219320" y="4559400"/>
                  <a:ext cx="841680" cy="143280"/>
                </a:xfrm>
                <a:custGeom>
                  <a:avLst/>
                  <a:gdLst/>
                  <a:ahLst/>
                  <a:rect l="0" t="0" r="r" b="b"/>
                  <a:pathLst>
                    <a:path w="2338" h="398">
                      <a:moveTo>
                        <a:pt x="145" y="0"/>
                      </a:moveTo>
                      <a:lnTo>
                        <a:pt x="2157" y="0"/>
                      </a:lnTo>
                      <a:lnTo>
                        <a:pt x="2338" y="398"/>
                      </a:lnTo>
                      <a:lnTo>
                        <a:pt x="0" y="398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219320" y="4702320"/>
                  <a:ext cx="841320" cy="255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16160" y="4605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81240" y="4637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" y="0"/>
                      </a:moveTo>
                      <a:lnTo>
                        <a:pt x="59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71520" y="4651200"/>
                  <a:ext cx="89280" cy="35280"/>
                </a:xfrm>
                <a:custGeom>
                  <a:avLst/>
                  <a:gdLst/>
                  <a:ahLst/>
                  <a:rect l="0" t="0" r="r" b="b"/>
                  <a:pathLst>
                    <a:path w="248" h="98">
                      <a:moveTo>
                        <a:pt x="13" y="0"/>
                      </a:moveTo>
                      <a:lnTo>
                        <a:pt x="142" y="0"/>
                      </a:lnTo>
                      <a:lnTo>
                        <a:pt x="150" y="22"/>
                      </a:lnTo>
                      <a:lnTo>
                        <a:pt x="115" y="22"/>
                      </a:lnTo>
                      <a:lnTo>
                        <a:pt x="115" y="48"/>
                      </a:lnTo>
                      <a:lnTo>
                        <a:pt x="240" y="48"/>
                      </a:lnTo>
                      <a:lnTo>
                        <a:pt x="248" y="98"/>
                      </a:lnTo>
                      <a:lnTo>
                        <a:pt x="93" y="98"/>
                      </a:lnTo>
                      <a:lnTo>
                        <a:pt x="98" y="35"/>
                      </a:lnTo>
                      <a:lnTo>
                        <a:pt x="0" y="3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06440" y="4605480"/>
                  <a:ext cx="65520" cy="55800"/>
                </a:xfrm>
                <a:custGeom>
                  <a:avLst/>
                  <a:gdLst/>
                  <a:ahLst/>
                  <a:rect l="0" t="0" r="r" b="b"/>
                  <a:pathLst>
                    <a:path w="182" h="155">
                      <a:moveTo>
                        <a:pt x="93" y="0"/>
                      </a:moveTo>
                      <a:lnTo>
                        <a:pt x="151" y="0"/>
                      </a:lnTo>
                      <a:lnTo>
                        <a:pt x="151" y="22"/>
                      </a:lnTo>
                      <a:lnTo>
                        <a:pt x="133" y="22"/>
                      </a:lnTo>
                      <a:lnTo>
                        <a:pt x="128" y="39"/>
                      </a:lnTo>
                      <a:lnTo>
                        <a:pt x="178" y="39"/>
                      </a:lnTo>
                      <a:lnTo>
                        <a:pt x="182" y="70"/>
                      </a:lnTo>
                      <a:lnTo>
                        <a:pt x="138" y="70"/>
                      </a:lnTo>
                      <a:lnTo>
                        <a:pt x="133" y="89"/>
                      </a:lnTo>
                      <a:lnTo>
                        <a:pt x="115" y="70"/>
                      </a:lnTo>
                      <a:lnTo>
                        <a:pt x="22" y="70"/>
                      </a:lnTo>
                      <a:lnTo>
                        <a:pt x="17" y="84"/>
                      </a:lnTo>
                      <a:lnTo>
                        <a:pt x="102" y="84"/>
                      </a:lnTo>
                      <a:lnTo>
                        <a:pt x="106" y="106"/>
                      </a:lnTo>
                      <a:lnTo>
                        <a:pt x="84" y="106"/>
                      </a:lnTo>
                      <a:lnTo>
                        <a:pt x="84" y="124"/>
                      </a:lnTo>
                      <a:lnTo>
                        <a:pt x="128" y="124"/>
                      </a:lnTo>
                      <a:lnTo>
                        <a:pt x="133" y="155"/>
                      </a:lnTo>
                      <a:lnTo>
                        <a:pt x="62" y="155"/>
                      </a:lnTo>
                      <a:lnTo>
                        <a:pt x="75" y="124"/>
                      </a:lnTo>
                      <a:lnTo>
                        <a:pt x="58" y="106"/>
                      </a:lnTo>
                      <a:lnTo>
                        <a:pt x="8" y="106"/>
                      </a:lnTo>
                      <a:lnTo>
                        <a:pt x="8" y="84"/>
                      </a:lnTo>
                      <a:lnTo>
                        <a:pt x="0" y="70"/>
                      </a:lnTo>
                      <a:lnTo>
                        <a:pt x="0" y="39"/>
                      </a:lnTo>
                      <a:lnTo>
                        <a:pt x="106" y="39"/>
                      </a:lnTo>
                      <a:lnTo>
                        <a:pt x="115" y="22"/>
                      </a:lnTo>
                      <a:lnTo>
                        <a:pt x="89" y="22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355760" y="4635360"/>
                  <a:ext cx="279720" cy="51120"/>
                </a:xfrm>
                <a:custGeom>
                  <a:avLst/>
                  <a:gdLst/>
                  <a:ahLst/>
                  <a:rect l="0" t="0" r="r" b="b"/>
                  <a:pathLst>
                    <a:path w="777" h="142">
                      <a:moveTo>
                        <a:pt x="4" y="0"/>
                      </a:moveTo>
                      <a:lnTo>
                        <a:pt x="52" y="0"/>
                      </a:lnTo>
                      <a:lnTo>
                        <a:pt x="52" y="22"/>
                      </a:lnTo>
                      <a:lnTo>
                        <a:pt x="30" y="22"/>
                      </a:lnTo>
                      <a:lnTo>
                        <a:pt x="30" y="44"/>
                      </a:lnTo>
                      <a:lnTo>
                        <a:pt x="79" y="44"/>
                      </a:lnTo>
                      <a:lnTo>
                        <a:pt x="97" y="70"/>
                      </a:lnTo>
                      <a:lnTo>
                        <a:pt x="44" y="70"/>
                      </a:lnTo>
                      <a:lnTo>
                        <a:pt x="61" y="98"/>
                      </a:lnTo>
                      <a:lnTo>
                        <a:pt x="759" y="98"/>
                      </a:lnTo>
                      <a:lnTo>
                        <a:pt x="777" y="142"/>
                      </a:lnTo>
                      <a:lnTo>
                        <a:pt x="30" y="142"/>
                      </a:lnTo>
                      <a:lnTo>
                        <a:pt x="30" y="98"/>
                      </a:lnTo>
                      <a:lnTo>
                        <a:pt x="17" y="70"/>
                      </a:lnTo>
                      <a:lnTo>
                        <a:pt x="22" y="44"/>
                      </a:lnTo>
                      <a:lnTo>
                        <a:pt x="4" y="22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371600" y="4605480"/>
                  <a:ext cx="43200" cy="55800"/>
                </a:xfrm>
                <a:custGeom>
                  <a:avLst/>
                  <a:gdLst/>
                  <a:ahLst/>
                  <a:rect l="0" t="0" r="r" b="b"/>
                  <a:pathLst>
                    <a:path w="120" h="155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52" y="22"/>
                      </a:lnTo>
                      <a:lnTo>
                        <a:pt x="30" y="22"/>
                      </a:lnTo>
                      <a:lnTo>
                        <a:pt x="22" y="39"/>
                      </a:lnTo>
                      <a:lnTo>
                        <a:pt x="75" y="39"/>
                      </a:lnTo>
                      <a:lnTo>
                        <a:pt x="75" y="70"/>
                      </a:lnTo>
                      <a:lnTo>
                        <a:pt x="44" y="70"/>
                      </a:lnTo>
                      <a:lnTo>
                        <a:pt x="35" y="84"/>
                      </a:lnTo>
                      <a:lnTo>
                        <a:pt x="80" y="84"/>
                      </a:lnTo>
                      <a:lnTo>
                        <a:pt x="89" y="106"/>
                      </a:lnTo>
                      <a:lnTo>
                        <a:pt x="67" y="106"/>
                      </a:lnTo>
                      <a:lnTo>
                        <a:pt x="52" y="124"/>
                      </a:lnTo>
                      <a:lnTo>
                        <a:pt x="111" y="124"/>
                      </a:lnTo>
                      <a:lnTo>
                        <a:pt x="120" y="155"/>
                      </a:lnTo>
                      <a:lnTo>
                        <a:pt x="52" y="155"/>
                      </a:lnTo>
                      <a:lnTo>
                        <a:pt x="52" y="137"/>
                      </a:lnTo>
                      <a:lnTo>
                        <a:pt x="39" y="106"/>
                      </a:lnTo>
                      <a:lnTo>
                        <a:pt x="30" y="106"/>
                      </a:lnTo>
                      <a:lnTo>
                        <a:pt x="13" y="74"/>
                      </a:lnTo>
                      <a:lnTo>
                        <a:pt x="17" y="52"/>
                      </a:lnTo>
                      <a:lnTo>
                        <a:pt x="8" y="22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397160" y="4605480"/>
                  <a:ext cx="47880" cy="55800"/>
                </a:xfrm>
                <a:custGeom>
                  <a:avLst/>
                  <a:gdLst/>
                  <a:ahLst/>
                  <a:rect l="0" t="0" r="r" b="b"/>
                  <a:pathLst>
                    <a:path w="133" h="155">
                      <a:moveTo>
                        <a:pt x="4" y="0"/>
                      </a:moveTo>
                      <a:lnTo>
                        <a:pt x="57" y="0"/>
                      </a:lnTo>
                      <a:lnTo>
                        <a:pt x="57" y="22"/>
                      </a:lnTo>
                      <a:lnTo>
                        <a:pt x="30" y="22"/>
                      </a:lnTo>
                      <a:lnTo>
                        <a:pt x="30" y="39"/>
                      </a:lnTo>
                      <a:lnTo>
                        <a:pt x="89" y="39"/>
                      </a:lnTo>
                      <a:lnTo>
                        <a:pt x="93" y="70"/>
                      </a:lnTo>
                      <a:lnTo>
                        <a:pt x="48" y="70"/>
                      </a:lnTo>
                      <a:lnTo>
                        <a:pt x="48" y="84"/>
                      </a:lnTo>
                      <a:lnTo>
                        <a:pt x="93" y="84"/>
                      </a:lnTo>
                      <a:lnTo>
                        <a:pt x="102" y="106"/>
                      </a:lnTo>
                      <a:lnTo>
                        <a:pt x="80" y="106"/>
                      </a:lnTo>
                      <a:lnTo>
                        <a:pt x="75" y="124"/>
                      </a:lnTo>
                      <a:lnTo>
                        <a:pt x="128" y="124"/>
                      </a:lnTo>
                      <a:lnTo>
                        <a:pt x="133" y="155"/>
                      </a:lnTo>
                      <a:lnTo>
                        <a:pt x="67" y="155"/>
                      </a:lnTo>
                      <a:lnTo>
                        <a:pt x="71" y="137"/>
                      </a:lnTo>
                      <a:lnTo>
                        <a:pt x="48" y="106"/>
                      </a:lnTo>
                      <a:lnTo>
                        <a:pt x="39" y="106"/>
                      </a:lnTo>
                      <a:lnTo>
                        <a:pt x="26" y="70"/>
                      </a:lnTo>
                      <a:lnTo>
                        <a:pt x="26" y="39"/>
                      </a:lnTo>
                      <a:lnTo>
                        <a:pt x="17" y="22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424160" y="4605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63" y="0"/>
                      </a:lnTo>
                      <a:lnTo>
                        <a:pt x="72" y="36"/>
                      </a:lnTo>
                      <a:lnTo>
                        <a:pt x="40" y="36"/>
                      </a:lnTo>
                      <a:lnTo>
                        <a:pt x="31" y="72"/>
                      </a:lnTo>
                      <a:lnTo>
                        <a:pt x="8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433520" y="4621320"/>
                  <a:ext cx="39960" cy="39960"/>
                </a:xfrm>
                <a:custGeom>
                  <a:avLst/>
                  <a:gdLst/>
                  <a:ahLst/>
                  <a:rect l="0" t="0" r="r" b="b"/>
                  <a:pathLst>
                    <a:path w="111" h="111">
                      <a:moveTo>
                        <a:pt x="8" y="0"/>
                      </a:moveTo>
                      <a:lnTo>
                        <a:pt x="62" y="0"/>
                      </a:lnTo>
                      <a:lnTo>
                        <a:pt x="67" y="26"/>
                      </a:lnTo>
                      <a:lnTo>
                        <a:pt x="30" y="26"/>
                      </a:lnTo>
                      <a:lnTo>
                        <a:pt x="26" y="30"/>
                      </a:lnTo>
                      <a:lnTo>
                        <a:pt x="17" y="35"/>
                      </a:lnTo>
                      <a:lnTo>
                        <a:pt x="75" y="35"/>
                      </a:lnTo>
                      <a:lnTo>
                        <a:pt x="80" y="62"/>
                      </a:lnTo>
                      <a:lnTo>
                        <a:pt x="58" y="62"/>
                      </a:lnTo>
                      <a:lnTo>
                        <a:pt x="48" y="75"/>
                      </a:lnTo>
                      <a:lnTo>
                        <a:pt x="58" y="80"/>
                      </a:lnTo>
                      <a:lnTo>
                        <a:pt x="111" y="80"/>
                      </a:lnTo>
                      <a:lnTo>
                        <a:pt x="111" y="111"/>
                      </a:lnTo>
                      <a:lnTo>
                        <a:pt x="48" y="111"/>
                      </a:lnTo>
                      <a:lnTo>
                        <a:pt x="48" y="102"/>
                      </a:lnTo>
                      <a:lnTo>
                        <a:pt x="26" y="62"/>
                      </a:lnTo>
                      <a:lnTo>
                        <a:pt x="8" y="44"/>
                      </a:lnTo>
                      <a:lnTo>
                        <a:pt x="0" y="2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452600" y="4605480"/>
                  <a:ext cx="52920" cy="55800"/>
                </a:xfrm>
                <a:custGeom>
                  <a:avLst/>
                  <a:gdLst/>
                  <a:ahLst/>
                  <a:rect l="0" t="0" r="r" b="b"/>
                  <a:pathLst>
                    <a:path w="147" h="155">
                      <a:moveTo>
                        <a:pt x="4" y="0"/>
                      </a:move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40" y="22"/>
                      </a:lnTo>
                      <a:lnTo>
                        <a:pt x="26" y="39"/>
                      </a:lnTo>
                      <a:lnTo>
                        <a:pt x="40" y="39"/>
                      </a:lnTo>
                      <a:lnTo>
                        <a:pt x="89" y="39"/>
                      </a:lnTo>
                      <a:lnTo>
                        <a:pt x="93" y="70"/>
                      </a:lnTo>
                      <a:lnTo>
                        <a:pt x="58" y="70"/>
                      </a:lnTo>
                      <a:lnTo>
                        <a:pt x="58" y="84"/>
                      </a:lnTo>
                      <a:lnTo>
                        <a:pt x="112" y="84"/>
                      </a:lnTo>
                      <a:lnTo>
                        <a:pt x="112" y="106"/>
                      </a:lnTo>
                      <a:lnTo>
                        <a:pt x="84" y="106"/>
                      </a:lnTo>
                      <a:lnTo>
                        <a:pt x="80" y="124"/>
                      </a:lnTo>
                      <a:lnTo>
                        <a:pt x="138" y="124"/>
                      </a:lnTo>
                      <a:lnTo>
                        <a:pt x="147" y="155"/>
                      </a:lnTo>
                      <a:lnTo>
                        <a:pt x="80" y="155"/>
                      </a:lnTo>
                      <a:lnTo>
                        <a:pt x="75" y="137"/>
                      </a:lnTo>
                      <a:lnTo>
                        <a:pt x="58" y="106"/>
                      </a:lnTo>
                      <a:lnTo>
                        <a:pt x="40" y="106"/>
                      </a:lnTo>
                      <a:lnTo>
                        <a:pt x="30" y="70"/>
                      </a:lnTo>
                      <a:lnTo>
                        <a:pt x="30" y="57"/>
                      </a:lnTo>
                      <a:lnTo>
                        <a:pt x="22" y="52"/>
                      </a:lnTo>
                      <a:lnTo>
                        <a:pt x="13" y="22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481040" y="4605480"/>
                  <a:ext cx="52920" cy="55800"/>
                </a:xfrm>
                <a:custGeom>
                  <a:avLst/>
                  <a:gdLst/>
                  <a:ahLst/>
                  <a:rect l="0" t="0" r="r" b="b"/>
                  <a:pathLst>
                    <a:path w="147" h="155">
                      <a:moveTo>
                        <a:pt x="4" y="0"/>
                      </a:moveTo>
                      <a:lnTo>
                        <a:pt x="58" y="0"/>
                      </a:lnTo>
                      <a:lnTo>
                        <a:pt x="62" y="22"/>
                      </a:lnTo>
                      <a:lnTo>
                        <a:pt x="35" y="22"/>
                      </a:lnTo>
                      <a:lnTo>
                        <a:pt x="26" y="35"/>
                      </a:lnTo>
                      <a:lnTo>
                        <a:pt x="35" y="39"/>
                      </a:lnTo>
                      <a:lnTo>
                        <a:pt x="84" y="39"/>
                      </a:lnTo>
                      <a:lnTo>
                        <a:pt x="93" y="70"/>
                      </a:lnTo>
                      <a:lnTo>
                        <a:pt x="62" y="70"/>
                      </a:lnTo>
                      <a:lnTo>
                        <a:pt x="58" y="74"/>
                      </a:lnTo>
                      <a:lnTo>
                        <a:pt x="58" y="84"/>
                      </a:lnTo>
                      <a:lnTo>
                        <a:pt x="106" y="84"/>
                      </a:lnTo>
                      <a:lnTo>
                        <a:pt x="112" y="106"/>
                      </a:lnTo>
                      <a:lnTo>
                        <a:pt x="93" y="106"/>
                      </a:lnTo>
                      <a:lnTo>
                        <a:pt x="84" y="120"/>
                      </a:lnTo>
                      <a:lnTo>
                        <a:pt x="84" y="124"/>
                      </a:lnTo>
                      <a:lnTo>
                        <a:pt x="143" y="124"/>
                      </a:lnTo>
                      <a:lnTo>
                        <a:pt x="147" y="155"/>
                      </a:lnTo>
                      <a:lnTo>
                        <a:pt x="80" y="155"/>
                      </a:lnTo>
                      <a:lnTo>
                        <a:pt x="75" y="133"/>
                      </a:lnTo>
                      <a:lnTo>
                        <a:pt x="62" y="106"/>
                      </a:lnTo>
                      <a:lnTo>
                        <a:pt x="49" y="106"/>
                      </a:lnTo>
                      <a:lnTo>
                        <a:pt x="35" y="70"/>
                      </a:lnTo>
                      <a:lnTo>
                        <a:pt x="26" y="35"/>
                      </a:lnTo>
                      <a:lnTo>
                        <a:pt x="13" y="22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511280" y="4605480"/>
                  <a:ext cx="52920" cy="55800"/>
                </a:xfrm>
                <a:custGeom>
                  <a:avLst/>
                  <a:gdLst/>
                  <a:ahLst/>
                  <a:rect l="0" t="0" r="r" b="b"/>
                  <a:pathLst>
                    <a:path w="147" h="15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53" y="22"/>
                      </a:lnTo>
                      <a:lnTo>
                        <a:pt x="26" y="22"/>
                      </a:lnTo>
                      <a:lnTo>
                        <a:pt x="26" y="39"/>
                      </a:lnTo>
                      <a:lnTo>
                        <a:pt x="35" y="39"/>
                      </a:lnTo>
                      <a:lnTo>
                        <a:pt x="84" y="39"/>
                      </a:lnTo>
                      <a:lnTo>
                        <a:pt x="89" y="70"/>
                      </a:lnTo>
                      <a:lnTo>
                        <a:pt x="53" y="70"/>
                      </a:lnTo>
                      <a:lnTo>
                        <a:pt x="49" y="84"/>
                      </a:lnTo>
                      <a:lnTo>
                        <a:pt x="102" y="84"/>
                      </a:lnTo>
                      <a:lnTo>
                        <a:pt x="106" y="106"/>
                      </a:lnTo>
                      <a:lnTo>
                        <a:pt x="89" y="106"/>
                      </a:lnTo>
                      <a:lnTo>
                        <a:pt x="80" y="124"/>
                      </a:lnTo>
                      <a:lnTo>
                        <a:pt x="89" y="124"/>
                      </a:lnTo>
                      <a:lnTo>
                        <a:pt x="143" y="124"/>
                      </a:lnTo>
                      <a:lnTo>
                        <a:pt x="147" y="155"/>
                      </a:lnTo>
                      <a:lnTo>
                        <a:pt x="71" y="155"/>
                      </a:lnTo>
                      <a:lnTo>
                        <a:pt x="71" y="124"/>
                      </a:lnTo>
                      <a:lnTo>
                        <a:pt x="53" y="106"/>
                      </a:lnTo>
                      <a:lnTo>
                        <a:pt x="40" y="106"/>
                      </a:lnTo>
                      <a:lnTo>
                        <a:pt x="26" y="57"/>
                      </a:lnTo>
                      <a:lnTo>
                        <a:pt x="8" y="22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538280" y="4605480"/>
                  <a:ext cx="55800" cy="55800"/>
                </a:xfrm>
                <a:custGeom>
                  <a:avLst/>
                  <a:gdLst/>
                  <a:ahLst/>
                  <a:rect l="0" t="0" r="r" b="b"/>
                  <a:pathLst>
                    <a:path w="155" h="155">
                      <a:moveTo>
                        <a:pt x="4" y="0"/>
                      </a:moveTo>
                      <a:lnTo>
                        <a:pt x="57" y="0"/>
                      </a:lnTo>
                      <a:lnTo>
                        <a:pt x="61" y="22"/>
                      </a:lnTo>
                      <a:lnTo>
                        <a:pt x="35" y="22"/>
                      </a:lnTo>
                      <a:lnTo>
                        <a:pt x="35" y="44"/>
                      </a:lnTo>
                      <a:lnTo>
                        <a:pt x="35" y="39"/>
                      </a:lnTo>
                      <a:lnTo>
                        <a:pt x="93" y="39"/>
                      </a:lnTo>
                      <a:lnTo>
                        <a:pt x="93" y="70"/>
                      </a:lnTo>
                      <a:lnTo>
                        <a:pt x="61" y="70"/>
                      </a:lnTo>
                      <a:lnTo>
                        <a:pt x="57" y="84"/>
                      </a:lnTo>
                      <a:lnTo>
                        <a:pt x="111" y="84"/>
                      </a:lnTo>
                      <a:lnTo>
                        <a:pt x="115" y="106"/>
                      </a:lnTo>
                      <a:lnTo>
                        <a:pt x="89" y="106"/>
                      </a:lnTo>
                      <a:lnTo>
                        <a:pt x="89" y="120"/>
                      </a:lnTo>
                      <a:lnTo>
                        <a:pt x="98" y="124"/>
                      </a:lnTo>
                      <a:lnTo>
                        <a:pt x="150" y="124"/>
                      </a:lnTo>
                      <a:lnTo>
                        <a:pt x="155" y="155"/>
                      </a:lnTo>
                      <a:lnTo>
                        <a:pt x="89" y="155"/>
                      </a:lnTo>
                      <a:lnTo>
                        <a:pt x="80" y="124"/>
                      </a:lnTo>
                      <a:lnTo>
                        <a:pt x="61" y="106"/>
                      </a:lnTo>
                      <a:lnTo>
                        <a:pt x="44" y="106"/>
                      </a:lnTo>
                      <a:lnTo>
                        <a:pt x="22" y="39"/>
                      </a:lnTo>
                      <a:lnTo>
                        <a:pt x="0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566720" y="4605480"/>
                  <a:ext cx="55800" cy="55800"/>
                </a:xfrm>
                <a:custGeom>
                  <a:avLst/>
                  <a:gdLst/>
                  <a:ahLst/>
                  <a:rect l="0" t="0" r="r" b="b"/>
                  <a:pathLst>
                    <a:path w="155" h="155">
                      <a:moveTo>
                        <a:pt x="4" y="0"/>
                      </a:moveTo>
                      <a:lnTo>
                        <a:pt x="48" y="0"/>
                      </a:lnTo>
                      <a:lnTo>
                        <a:pt x="52" y="22"/>
                      </a:lnTo>
                      <a:lnTo>
                        <a:pt x="35" y="22"/>
                      </a:lnTo>
                      <a:lnTo>
                        <a:pt x="30" y="22"/>
                      </a:lnTo>
                      <a:lnTo>
                        <a:pt x="35" y="39"/>
                      </a:lnTo>
                      <a:lnTo>
                        <a:pt x="80" y="39"/>
                      </a:lnTo>
                      <a:lnTo>
                        <a:pt x="89" y="70"/>
                      </a:lnTo>
                      <a:lnTo>
                        <a:pt x="57" y="70"/>
                      </a:lnTo>
                      <a:lnTo>
                        <a:pt x="52" y="84"/>
                      </a:lnTo>
                      <a:lnTo>
                        <a:pt x="111" y="84"/>
                      </a:lnTo>
                      <a:lnTo>
                        <a:pt x="115" y="106"/>
                      </a:lnTo>
                      <a:lnTo>
                        <a:pt x="98" y="106"/>
                      </a:lnTo>
                      <a:lnTo>
                        <a:pt x="89" y="120"/>
                      </a:lnTo>
                      <a:lnTo>
                        <a:pt x="102" y="124"/>
                      </a:lnTo>
                      <a:lnTo>
                        <a:pt x="146" y="124"/>
                      </a:lnTo>
                      <a:lnTo>
                        <a:pt x="155" y="155"/>
                      </a:lnTo>
                      <a:lnTo>
                        <a:pt x="93" y="155"/>
                      </a:lnTo>
                      <a:lnTo>
                        <a:pt x="80" y="133"/>
                      </a:lnTo>
                      <a:lnTo>
                        <a:pt x="61" y="106"/>
                      </a:lnTo>
                      <a:lnTo>
                        <a:pt x="44" y="106"/>
                      </a:lnTo>
                      <a:lnTo>
                        <a:pt x="22" y="44"/>
                      </a:lnTo>
                      <a:lnTo>
                        <a:pt x="13" y="22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95520" y="4605480"/>
                  <a:ext cx="43200" cy="44640"/>
                </a:xfrm>
                <a:custGeom>
                  <a:avLst/>
                  <a:gdLst/>
                  <a:ahLst/>
                  <a:rect l="0" t="0" r="r" b="b"/>
                  <a:pathLst>
                    <a:path w="120" h="124">
                      <a:moveTo>
                        <a:pt x="0" y="0"/>
                      </a:moveTo>
                      <a:lnTo>
                        <a:pt x="57" y="0"/>
                      </a:lnTo>
                      <a:lnTo>
                        <a:pt x="57" y="22"/>
                      </a:lnTo>
                      <a:lnTo>
                        <a:pt x="35" y="22"/>
                      </a:lnTo>
                      <a:lnTo>
                        <a:pt x="35" y="39"/>
                      </a:lnTo>
                      <a:lnTo>
                        <a:pt x="84" y="39"/>
                      </a:lnTo>
                      <a:lnTo>
                        <a:pt x="93" y="71"/>
                      </a:lnTo>
                      <a:lnTo>
                        <a:pt x="67" y="71"/>
                      </a:lnTo>
                      <a:lnTo>
                        <a:pt x="52" y="80"/>
                      </a:lnTo>
                      <a:lnTo>
                        <a:pt x="102" y="80"/>
                      </a:lnTo>
                      <a:lnTo>
                        <a:pt x="111" y="93"/>
                      </a:lnTo>
                      <a:lnTo>
                        <a:pt x="120" y="106"/>
                      </a:lnTo>
                      <a:lnTo>
                        <a:pt x="102" y="106"/>
                      </a:lnTo>
                      <a:lnTo>
                        <a:pt x="84" y="124"/>
                      </a:lnTo>
                      <a:lnTo>
                        <a:pt x="71" y="106"/>
                      </a:lnTo>
                      <a:lnTo>
                        <a:pt x="52" y="106"/>
                      </a:lnTo>
                      <a:lnTo>
                        <a:pt x="35" y="57"/>
                      </a:lnTo>
                      <a:lnTo>
                        <a:pt x="22" y="48"/>
                      </a:lnTo>
                      <a:lnTo>
                        <a:pt x="13" y="22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625760" y="4605480"/>
                  <a:ext cx="39960" cy="51120"/>
                </a:xfrm>
                <a:custGeom>
                  <a:avLst/>
                  <a:gdLst/>
                  <a:ahLst/>
                  <a:rect l="0" t="0" r="r" b="b"/>
                  <a:pathLst>
                    <a:path w="111" h="142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48" y="22"/>
                      </a:lnTo>
                      <a:lnTo>
                        <a:pt x="26" y="22"/>
                      </a:lnTo>
                      <a:lnTo>
                        <a:pt x="26" y="44"/>
                      </a:lnTo>
                      <a:lnTo>
                        <a:pt x="67" y="44"/>
                      </a:lnTo>
                      <a:lnTo>
                        <a:pt x="80" y="70"/>
                      </a:lnTo>
                      <a:lnTo>
                        <a:pt x="67" y="70"/>
                      </a:lnTo>
                      <a:lnTo>
                        <a:pt x="52" y="70"/>
                      </a:lnTo>
                      <a:lnTo>
                        <a:pt x="48" y="84"/>
                      </a:lnTo>
                      <a:lnTo>
                        <a:pt x="111" y="84"/>
                      </a:lnTo>
                      <a:lnTo>
                        <a:pt x="111" y="106"/>
                      </a:lnTo>
                      <a:lnTo>
                        <a:pt x="98" y="106"/>
                      </a:lnTo>
                      <a:lnTo>
                        <a:pt x="89" y="142"/>
                      </a:lnTo>
                      <a:lnTo>
                        <a:pt x="67" y="106"/>
                      </a:lnTo>
                      <a:lnTo>
                        <a:pt x="44" y="106"/>
                      </a:lnTo>
                      <a:lnTo>
                        <a:pt x="26" y="70"/>
                      </a:lnTo>
                      <a:lnTo>
                        <a:pt x="17" y="52"/>
                      </a:lnTo>
                      <a:lnTo>
                        <a:pt x="8" y="22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649520" y="4605480"/>
                  <a:ext cx="43200" cy="38520"/>
                </a:xfrm>
                <a:custGeom>
                  <a:avLst/>
                  <a:gdLst/>
                  <a:ahLst/>
                  <a:rect l="0" t="0" r="r" b="b"/>
                  <a:pathLst>
                    <a:path w="120" h="107">
                      <a:moveTo>
                        <a:pt x="4" y="0"/>
                      </a:moveTo>
                      <a:lnTo>
                        <a:pt x="48" y="0"/>
                      </a:lnTo>
                      <a:lnTo>
                        <a:pt x="52" y="22"/>
                      </a:lnTo>
                      <a:lnTo>
                        <a:pt x="39" y="22"/>
                      </a:lnTo>
                      <a:lnTo>
                        <a:pt x="35" y="40"/>
                      </a:lnTo>
                      <a:lnTo>
                        <a:pt x="48" y="40"/>
                      </a:lnTo>
                      <a:lnTo>
                        <a:pt x="89" y="40"/>
                      </a:lnTo>
                      <a:lnTo>
                        <a:pt x="102" y="71"/>
                      </a:lnTo>
                      <a:lnTo>
                        <a:pt x="62" y="71"/>
                      </a:lnTo>
                      <a:lnTo>
                        <a:pt x="48" y="85"/>
                      </a:lnTo>
                      <a:lnTo>
                        <a:pt x="115" y="85"/>
                      </a:lnTo>
                      <a:lnTo>
                        <a:pt x="120" y="107"/>
                      </a:lnTo>
                      <a:lnTo>
                        <a:pt x="62" y="107"/>
                      </a:lnTo>
                      <a:lnTo>
                        <a:pt x="44" y="90"/>
                      </a:lnTo>
                      <a:lnTo>
                        <a:pt x="39" y="58"/>
                      </a:lnTo>
                      <a:lnTo>
                        <a:pt x="22" y="53"/>
                      </a:lnTo>
                      <a:lnTo>
                        <a:pt x="8" y="22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628640" y="4605480"/>
                  <a:ext cx="103680" cy="73440"/>
                </a:xfrm>
                <a:custGeom>
                  <a:avLst/>
                  <a:gdLst/>
                  <a:ahLst/>
                  <a:rect l="0" t="0" r="r" b="b"/>
                  <a:pathLst>
                    <a:path w="288" h="204">
                      <a:moveTo>
                        <a:pt x="142" y="0"/>
                      </a:moveTo>
                      <a:lnTo>
                        <a:pt x="226" y="0"/>
                      </a:lnTo>
                      <a:lnTo>
                        <a:pt x="226" y="22"/>
                      </a:lnTo>
                      <a:lnTo>
                        <a:pt x="177" y="22"/>
                      </a:lnTo>
                      <a:lnTo>
                        <a:pt x="190" y="39"/>
                      </a:lnTo>
                      <a:lnTo>
                        <a:pt x="195" y="39"/>
                      </a:lnTo>
                      <a:lnTo>
                        <a:pt x="203" y="84"/>
                      </a:lnTo>
                      <a:lnTo>
                        <a:pt x="253" y="84"/>
                      </a:lnTo>
                      <a:lnTo>
                        <a:pt x="266" y="44"/>
                      </a:lnTo>
                      <a:lnTo>
                        <a:pt x="288" y="124"/>
                      </a:lnTo>
                      <a:lnTo>
                        <a:pt x="235" y="124"/>
                      </a:lnTo>
                      <a:lnTo>
                        <a:pt x="235" y="191"/>
                      </a:lnTo>
                      <a:lnTo>
                        <a:pt x="26" y="191"/>
                      </a:lnTo>
                      <a:lnTo>
                        <a:pt x="17" y="204"/>
                      </a:lnTo>
                      <a:lnTo>
                        <a:pt x="0" y="165"/>
                      </a:lnTo>
                      <a:lnTo>
                        <a:pt x="13" y="124"/>
                      </a:lnTo>
                      <a:lnTo>
                        <a:pt x="57" y="124"/>
                      </a:lnTo>
                      <a:lnTo>
                        <a:pt x="80" y="165"/>
                      </a:lnTo>
                      <a:lnTo>
                        <a:pt x="89" y="124"/>
                      </a:lnTo>
                      <a:lnTo>
                        <a:pt x="218" y="124"/>
                      </a:lnTo>
                      <a:lnTo>
                        <a:pt x="218" y="120"/>
                      </a:lnTo>
                      <a:lnTo>
                        <a:pt x="190" y="84"/>
                      </a:lnTo>
                      <a:lnTo>
                        <a:pt x="177" y="71"/>
                      </a:lnTo>
                      <a:lnTo>
                        <a:pt x="164" y="39"/>
                      </a:lnTo>
                      <a:lnTo>
                        <a:pt x="155" y="22"/>
                      </a:lnTo>
                      <a:lnTo>
                        <a:pt x="133" y="22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768320" y="4605480"/>
                  <a:ext cx="74880" cy="25920"/>
                </a:xfrm>
                <a:custGeom>
                  <a:avLst/>
                  <a:gdLst/>
                  <a:ahLst/>
                  <a:rect l="0" t="0" r="r" b="b"/>
                  <a:pathLst>
                    <a:path w="208" h="72">
                      <a:moveTo>
                        <a:pt x="8" y="0"/>
                      </a:moveTo>
                      <a:lnTo>
                        <a:pt x="61" y="0"/>
                      </a:lnTo>
                      <a:lnTo>
                        <a:pt x="70" y="17"/>
                      </a:lnTo>
                      <a:lnTo>
                        <a:pt x="79" y="0"/>
                      </a:lnTo>
                      <a:lnTo>
                        <a:pt x="142" y="0"/>
                      </a:lnTo>
                      <a:lnTo>
                        <a:pt x="146" y="27"/>
                      </a:lnTo>
                      <a:lnTo>
                        <a:pt x="155" y="0"/>
                      </a:lnTo>
                      <a:lnTo>
                        <a:pt x="208" y="0"/>
                      </a:lnTo>
                      <a:lnTo>
                        <a:pt x="208" y="27"/>
                      </a:lnTo>
                      <a:lnTo>
                        <a:pt x="155" y="27"/>
                      </a:lnTo>
                      <a:lnTo>
                        <a:pt x="146" y="72"/>
                      </a:lnTo>
                      <a:lnTo>
                        <a:pt x="128" y="49"/>
                      </a:lnTo>
                      <a:lnTo>
                        <a:pt x="79" y="49"/>
                      </a:lnTo>
                      <a:lnTo>
                        <a:pt x="70" y="72"/>
                      </a:lnTo>
                      <a:lnTo>
                        <a:pt x="52" y="27"/>
                      </a:lnTo>
                      <a:lnTo>
                        <a:pt x="0" y="27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768320" y="4621320"/>
                  <a:ext cx="78120" cy="25920"/>
                </a:xfrm>
                <a:custGeom>
                  <a:avLst/>
                  <a:gdLst/>
                  <a:ahLst/>
                  <a:rect l="0" t="0" r="r" b="b"/>
                  <a:pathLst>
                    <a:path w="217" h="72">
                      <a:moveTo>
                        <a:pt x="0" y="72"/>
                      </a:moveTo>
                      <a:lnTo>
                        <a:pt x="8" y="0"/>
                      </a:lnTo>
                      <a:lnTo>
                        <a:pt x="61" y="0"/>
                      </a:lnTo>
                      <a:lnTo>
                        <a:pt x="74" y="40"/>
                      </a:lnTo>
                      <a:lnTo>
                        <a:pt x="70" y="13"/>
                      </a:lnTo>
                      <a:lnTo>
                        <a:pt x="88" y="0"/>
                      </a:lnTo>
                      <a:lnTo>
                        <a:pt x="142" y="0"/>
                      </a:lnTo>
                      <a:lnTo>
                        <a:pt x="150" y="40"/>
                      </a:lnTo>
                      <a:lnTo>
                        <a:pt x="164" y="0"/>
                      </a:lnTo>
                      <a:lnTo>
                        <a:pt x="208" y="0"/>
                      </a:lnTo>
                      <a:lnTo>
                        <a:pt x="217" y="72"/>
                      </a:lnTo>
                      <a:lnTo>
                        <a:pt x="155" y="72"/>
                      </a:lnTo>
                      <a:lnTo>
                        <a:pt x="124" y="72"/>
                      </a:lnTo>
                      <a:lnTo>
                        <a:pt x="88" y="72"/>
                      </a:lnTo>
                      <a:lnTo>
                        <a:pt x="35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776240" y="4635360"/>
                  <a:ext cx="82800" cy="36720"/>
                </a:xfrm>
                <a:custGeom>
                  <a:avLst/>
                  <a:gdLst/>
                  <a:ahLst/>
                  <a:rect l="0" t="0" r="r" b="b"/>
                  <a:pathLst>
                    <a:path w="230" h="102">
                      <a:moveTo>
                        <a:pt x="79" y="0"/>
                      </a:moveTo>
                      <a:lnTo>
                        <a:pt x="124" y="0"/>
                      </a:lnTo>
                      <a:lnTo>
                        <a:pt x="133" y="22"/>
                      </a:lnTo>
                      <a:lnTo>
                        <a:pt x="92" y="22"/>
                      </a:lnTo>
                      <a:lnTo>
                        <a:pt x="97" y="62"/>
                      </a:lnTo>
                      <a:lnTo>
                        <a:pt x="137" y="62"/>
                      </a:lnTo>
                      <a:lnTo>
                        <a:pt x="155" y="71"/>
                      </a:lnTo>
                      <a:lnTo>
                        <a:pt x="164" y="62"/>
                      </a:lnTo>
                      <a:lnTo>
                        <a:pt x="217" y="62"/>
                      </a:lnTo>
                      <a:lnTo>
                        <a:pt x="230" y="102"/>
                      </a:lnTo>
                      <a:lnTo>
                        <a:pt x="0" y="102"/>
                      </a:lnTo>
                      <a:lnTo>
                        <a:pt x="4" y="62"/>
                      </a:lnTo>
                      <a:lnTo>
                        <a:pt x="70" y="62"/>
                      </a:lnTo>
                      <a:lnTo>
                        <a:pt x="74" y="80"/>
                      </a:lnTo>
                      <a:lnTo>
                        <a:pt x="79" y="62"/>
                      </a:lnTo>
                      <a:lnTo>
                        <a:pt x="70" y="22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878120" y="4605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7" y="0"/>
                      </a:moveTo>
                      <a:lnTo>
                        <a:pt x="59" y="0"/>
                      </a:lnTo>
                      <a:lnTo>
                        <a:pt x="72" y="36"/>
                      </a:lnTo>
                      <a:lnTo>
                        <a:pt x="13" y="36"/>
                      </a:lnTo>
                      <a:lnTo>
                        <a:pt x="0" y="7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905120" y="4605480"/>
                  <a:ext cx="78120" cy="25920"/>
                </a:xfrm>
                <a:custGeom>
                  <a:avLst/>
                  <a:gdLst/>
                  <a:ahLst/>
                  <a:rect l="0" t="0" r="r" b="b"/>
                  <a:pathLst>
                    <a:path w="217" h="72">
                      <a:moveTo>
                        <a:pt x="22" y="0"/>
                      </a:moveTo>
                      <a:lnTo>
                        <a:pt x="57" y="0"/>
                      </a:lnTo>
                      <a:lnTo>
                        <a:pt x="79" y="31"/>
                      </a:lnTo>
                      <a:lnTo>
                        <a:pt x="88" y="0"/>
                      </a:lnTo>
                      <a:lnTo>
                        <a:pt x="133" y="0"/>
                      </a:lnTo>
                      <a:lnTo>
                        <a:pt x="146" y="36"/>
                      </a:lnTo>
                      <a:lnTo>
                        <a:pt x="155" y="0"/>
                      </a:lnTo>
                      <a:lnTo>
                        <a:pt x="208" y="0"/>
                      </a:lnTo>
                      <a:lnTo>
                        <a:pt x="217" y="36"/>
                      </a:lnTo>
                      <a:lnTo>
                        <a:pt x="164" y="36"/>
                      </a:lnTo>
                      <a:lnTo>
                        <a:pt x="142" y="36"/>
                      </a:lnTo>
                      <a:lnTo>
                        <a:pt x="133" y="36"/>
                      </a:lnTo>
                      <a:lnTo>
                        <a:pt x="88" y="36"/>
                      </a:lnTo>
                      <a:lnTo>
                        <a:pt x="70" y="72"/>
                      </a:lnTo>
                      <a:lnTo>
                        <a:pt x="52" y="36"/>
                      </a:lnTo>
                      <a:lnTo>
                        <a:pt x="13" y="36"/>
                      </a:lnTo>
                      <a:lnTo>
                        <a:pt x="0" y="6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884240" y="4621320"/>
                  <a:ext cx="106560" cy="25920"/>
                </a:xfrm>
                <a:custGeom>
                  <a:avLst/>
                  <a:gdLst/>
                  <a:ahLst/>
                  <a:rect l="0" t="0" r="r" b="b"/>
                  <a:pathLst>
                    <a:path w="296" h="72">
                      <a:moveTo>
                        <a:pt x="4" y="0"/>
                      </a:moveTo>
                      <a:lnTo>
                        <a:pt x="52" y="0"/>
                      </a:lnTo>
                      <a:lnTo>
                        <a:pt x="66" y="40"/>
                      </a:lnTo>
                      <a:lnTo>
                        <a:pt x="88" y="0"/>
                      </a:lnTo>
                      <a:lnTo>
                        <a:pt x="136" y="0"/>
                      </a:lnTo>
                      <a:lnTo>
                        <a:pt x="155" y="40"/>
                      </a:lnTo>
                      <a:lnTo>
                        <a:pt x="164" y="0"/>
                      </a:lnTo>
                      <a:lnTo>
                        <a:pt x="208" y="0"/>
                      </a:lnTo>
                      <a:lnTo>
                        <a:pt x="221" y="40"/>
                      </a:lnTo>
                      <a:lnTo>
                        <a:pt x="247" y="0"/>
                      </a:lnTo>
                      <a:lnTo>
                        <a:pt x="278" y="0"/>
                      </a:lnTo>
                      <a:lnTo>
                        <a:pt x="296" y="72"/>
                      </a:lnTo>
                      <a:lnTo>
                        <a:pt x="0" y="7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889280" y="4637160"/>
                  <a:ext cx="76680" cy="35280"/>
                </a:xfrm>
                <a:custGeom>
                  <a:avLst/>
                  <a:gdLst/>
                  <a:ahLst/>
                  <a:rect l="0" t="0" r="r" b="b"/>
                  <a:pathLst>
                    <a:path w="213" h="98">
                      <a:moveTo>
                        <a:pt x="17" y="0"/>
                      </a:moveTo>
                      <a:lnTo>
                        <a:pt x="62" y="0"/>
                      </a:lnTo>
                      <a:lnTo>
                        <a:pt x="84" y="13"/>
                      </a:lnTo>
                      <a:lnTo>
                        <a:pt x="106" y="0"/>
                      </a:lnTo>
                      <a:lnTo>
                        <a:pt x="146" y="0"/>
                      </a:lnTo>
                      <a:lnTo>
                        <a:pt x="169" y="13"/>
                      </a:lnTo>
                      <a:lnTo>
                        <a:pt x="187" y="0"/>
                      </a:lnTo>
                      <a:lnTo>
                        <a:pt x="213" y="0"/>
                      </a:lnTo>
                      <a:lnTo>
                        <a:pt x="213" y="22"/>
                      </a:lnTo>
                      <a:lnTo>
                        <a:pt x="169" y="48"/>
                      </a:lnTo>
                      <a:lnTo>
                        <a:pt x="187" y="71"/>
                      </a:lnTo>
                      <a:lnTo>
                        <a:pt x="17" y="71"/>
                      </a:lnTo>
                      <a:lnTo>
                        <a:pt x="0" y="98"/>
                      </a:lnTo>
                      <a:lnTo>
                        <a:pt x="17" y="48"/>
                      </a:lnTo>
                      <a:lnTo>
                        <a:pt x="84" y="48"/>
                      </a:lnTo>
                      <a:lnTo>
                        <a:pt x="106" y="62"/>
                      </a:lnTo>
                      <a:lnTo>
                        <a:pt x="124" y="48"/>
                      </a:lnTo>
                      <a:lnTo>
                        <a:pt x="165" y="48"/>
                      </a:lnTo>
                      <a:lnTo>
                        <a:pt x="146" y="22"/>
                      </a:lnTo>
                      <a:lnTo>
                        <a:pt x="0" y="2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893960" y="4654440"/>
                  <a:ext cx="127440" cy="32040"/>
                </a:xfrm>
                <a:custGeom>
                  <a:avLst/>
                  <a:gdLst/>
                  <a:ahLst/>
                  <a:rect l="0" t="0" r="r" b="b"/>
                  <a:pathLst>
                    <a:path w="354" h="89">
                      <a:moveTo>
                        <a:pt x="13" y="39"/>
                      </a:moveTo>
                      <a:lnTo>
                        <a:pt x="164" y="39"/>
                      </a:lnTo>
                      <a:lnTo>
                        <a:pt x="186" y="22"/>
                      </a:lnTo>
                      <a:lnTo>
                        <a:pt x="186" y="0"/>
                      </a:lnTo>
                      <a:lnTo>
                        <a:pt x="239" y="0"/>
                      </a:lnTo>
                      <a:lnTo>
                        <a:pt x="239" y="22"/>
                      </a:lnTo>
                      <a:lnTo>
                        <a:pt x="199" y="22"/>
                      </a:lnTo>
                      <a:lnTo>
                        <a:pt x="186" y="39"/>
                      </a:lnTo>
                      <a:lnTo>
                        <a:pt x="199" y="75"/>
                      </a:lnTo>
                      <a:lnTo>
                        <a:pt x="221" y="39"/>
                      </a:lnTo>
                      <a:lnTo>
                        <a:pt x="256" y="39"/>
                      </a:lnTo>
                      <a:lnTo>
                        <a:pt x="279" y="75"/>
                      </a:lnTo>
                      <a:lnTo>
                        <a:pt x="293" y="39"/>
                      </a:lnTo>
                      <a:lnTo>
                        <a:pt x="332" y="39"/>
                      </a:lnTo>
                      <a:lnTo>
                        <a:pt x="354" y="89"/>
                      </a:lnTo>
                      <a:lnTo>
                        <a:pt x="0" y="89"/>
                      </a:lnTo>
                      <a:lnTo>
                        <a:pt x="13" y="39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627200" y="4575240"/>
                  <a:ext cx="105120" cy="25920"/>
                </a:xfrm>
                <a:custGeom>
                  <a:avLst/>
                  <a:gdLst/>
                  <a:ahLst/>
                  <a:rect l="0" t="0" r="r" b="b"/>
                  <a:pathLst>
                    <a:path w="292" h="7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83" y="0"/>
                      </a:lnTo>
                      <a:lnTo>
                        <a:pt x="292" y="72"/>
                      </a:lnTo>
                      <a:lnTo>
                        <a:pt x="0" y="72"/>
                      </a:lnTo>
                      <a:lnTo>
                        <a:pt x="0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465200" y="4575240"/>
                  <a:ext cx="141480" cy="25920"/>
                </a:xfrm>
                <a:custGeom>
                  <a:avLst/>
                  <a:gdLst/>
                  <a:ahLst/>
                  <a:rect l="0" t="0" r="r" b="b"/>
                  <a:pathLst>
                    <a:path w="393" h="7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375" y="0"/>
                      </a:lnTo>
                      <a:lnTo>
                        <a:pt x="393" y="72"/>
                      </a:lnTo>
                      <a:lnTo>
                        <a:pt x="0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333440" y="4575240"/>
                  <a:ext cx="111600" cy="25920"/>
                </a:xfrm>
                <a:custGeom>
                  <a:avLst/>
                  <a:gdLst/>
                  <a:ahLst/>
                  <a:rect l="0" t="0" r="r" b="b"/>
                  <a:pathLst>
                    <a:path w="310" h="7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301" y="0"/>
                      </a:lnTo>
                      <a:lnTo>
                        <a:pt x="310" y="72"/>
                      </a:lnTo>
                      <a:lnTo>
                        <a:pt x="0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747800" y="45752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288" y="0"/>
                      </a:lnTo>
                      <a:lnTo>
                        <a:pt x="301" y="72"/>
                      </a:lnTo>
                      <a:lnTo>
                        <a:pt x="0" y="72"/>
                      </a:lnTo>
                      <a:lnTo>
                        <a:pt x="0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886040" y="4575240"/>
                  <a:ext cx="105120" cy="25920"/>
                </a:xfrm>
                <a:custGeom>
                  <a:avLst/>
                  <a:gdLst/>
                  <a:ahLst/>
                  <a:rect l="0" t="0" r="r" b="b"/>
                  <a:pathLst>
                    <a:path w="292" h="7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78" y="0"/>
                      </a:lnTo>
                      <a:lnTo>
                        <a:pt x="292" y="72"/>
                      </a:lnTo>
                      <a:lnTo>
                        <a:pt x="0" y="72"/>
                      </a:lnTo>
                      <a:lnTo>
                        <a:pt x="0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505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355760" y="4013280"/>
                  <a:ext cx="568800" cy="27360"/>
                </a:xfrm>
                <a:custGeom>
                  <a:avLst/>
                  <a:gdLst/>
                  <a:ahLst/>
                  <a:rect l="0" t="0" r="r" b="b"/>
                  <a:pathLst>
                    <a:path w="1580" h="76">
                      <a:moveTo>
                        <a:pt x="0" y="0"/>
                      </a:moveTo>
                      <a:lnTo>
                        <a:pt x="92" y="76"/>
                      </a:lnTo>
                      <a:lnTo>
                        <a:pt x="1316" y="72"/>
                      </a:lnTo>
                      <a:lnTo>
                        <a:pt x="1474" y="76"/>
                      </a:lnTo>
                      <a:lnTo>
                        <a:pt x="158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55760" y="4013280"/>
                  <a:ext cx="35280" cy="427320"/>
                </a:xfrm>
                <a:custGeom>
                  <a:avLst/>
                  <a:gdLst/>
                  <a:ahLst/>
                  <a:rect l="0" t="0" r="r" b="b"/>
                  <a:pathLst>
                    <a:path w="98" h="1187">
                      <a:moveTo>
                        <a:pt x="0" y="0"/>
                      </a:moveTo>
                      <a:lnTo>
                        <a:pt x="98" y="74"/>
                      </a:lnTo>
                      <a:lnTo>
                        <a:pt x="98" y="1107"/>
                      </a:lnTo>
                      <a:lnTo>
                        <a:pt x="0" y="11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355760" y="4411800"/>
                  <a:ext cx="568800" cy="28800"/>
                </a:xfrm>
                <a:custGeom>
                  <a:avLst/>
                  <a:gdLst/>
                  <a:ahLst/>
                  <a:rect l="0" t="0" r="r" b="b"/>
                  <a:pathLst>
                    <a:path w="1580" h="80">
                      <a:moveTo>
                        <a:pt x="0" y="75"/>
                      </a:moveTo>
                      <a:lnTo>
                        <a:pt x="92" y="0"/>
                      </a:lnTo>
                      <a:lnTo>
                        <a:pt x="1316" y="4"/>
                      </a:lnTo>
                      <a:lnTo>
                        <a:pt x="1488" y="0"/>
                      </a:lnTo>
                      <a:lnTo>
                        <a:pt x="1580" y="8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886040" y="4013280"/>
                  <a:ext cx="38520" cy="427320"/>
                </a:xfrm>
                <a:custGeom>
                  <a:avLst/>
                  <a:gdLst/>
                  <a:ahLst/>
                  <a:rect l="0" t="0" r="r" b="b"/>
                  <a:pathLst>
                    <a:path w="107" h="1187">
                      <a:moveTo>
                        <a:pt x="107" y="0"/>
                      </a:moveTo>
                      <a:lnTo>
                        <a:pt x="0" y="74"/>
                      </a:lnTo>
                      <a:lnTo>
                        <a:pt x="0" y="1107"/>
                      </a:lnTo>
                      <a:lnTo>
                        <a:pt x="107" y="1187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V="1">
                <a:off x="3987720" y="2755800"/>
                <a:ext cx="3240" cy="1957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3581280" y="4365720"/>
                <a:ext cx="810000" cy="675000"/>
                <a:chOff x="3581280" y="4365720"/>
                <a:chExt cx="810000" cy="6750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3581280" y="4925880"/>
                  <a:ext cx="810000" cy="114840"/>
                </a:xfrm>
                <a:custGeom>
                  <a:avLst/>
                  <a:gdLst/>
                  <a:ahLst/>
                  <a:rect l="0" t="0" r="r" b="b"/>
                  <a:pathLst>
                    <a:path w="2250" h="319">
                      <a:moveTo>
                        <a:pt x="1676" y="315"/>
                      </a:moveTo>
                      <a:lnTo>
                        <a:pt x="2250" y="0"/>
                      </a:lnTo>
                      <a:lnTo>
                        <a:pt x="618" y="0"/>
                      </a:lnTo>
                      <a:lnTo>
                        <a:pt x="0" y="319"/>
                      </a:lnTo>
                      <a:lnTo>
                        <a:pt x="1676" y="31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122720" y="4365720"/>
                  <a:ext cx="184680" cy="651240"/>
                </a:xfrm>
                <a:custGeom>
                  <a:avLst/>
                  <a:gdLst/>
                  <a:ahLst/>
                  <a:rect l="0" t="0" r="r" b="b"/>
                  <a:pathLst>
                    <a:path w="513" h="1809">
                      <a:moveTo>
                        <a:pt x="0" y="1809"/>
                      </a:moveTo>
                      <a:lnTo>
                        <a:pt x="513" y="1567"/>
                      </a:lnTo>
                      <a:lnTo>
                        <a:pt x="513" y="0"/>
                      </a:lnTo>
                      <a:lnTo>
                        <a:pt x="0" y="198"/>
                      </a:lnTo>
                      <a:lnTo>
                        <a:pt x="0" y="180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693960" y="4440240"/>
                  <a:ext cx="436680" cy="58896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03840" y="4925880"/>
                  <a:ext cx="136440" cy="7920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782880" y="4948200"/>
                  <a:ext cx="52560" cy="334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817800" y="4481640"/>
                  <a:ext cx="50760" cy="135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817800" y="4481640"/>
                  <a:ext cx="50760" cy="27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868560" y="4481640"/>
                  <a:ext cx="186120" cy="25920"/>
                </a:xfrm>
                <a:custGeom>
                  <a:avLst/>
                  <a:gdLst/>
                  <a:ahLst/>
                  <a:rect l="0" t="0" r="r" b="b"/>
                  <a:pathLst>
                    <a:path w="517" h="72">
                      <a:moveTo>
                        <a:pt x="517" y="0"/>
                      </a:moveTo>
                      <a:lnTo>
                        <a:pt x="465" y="72"/>
                      </a:lnTo>
                      <a:lnTo>
                        <a:pt x="57" y="72"/>
                      </a:lnTo>
                      <a:lnTo>
                        <a:pt x="0" y="0"/>
                      </a:lnTo>
                      <a:lnTo>
                        <a:pt x="51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865680" y="4794120"/>
                  <a:ext cx="189360" cy="25920"/>
                </a:xfrm>
                <a:custGeom>
                  <a:avLst/>
                  <a:gdLst/>
                  <a:ahLst/>
                  <a:rect l="0" t="0" r="r" b="b"/>
                  <a:pathLst>
                    <a:path w="526" h="72">
                      <a:moveTo>
                        <a:pt x="526" y="72"/>
                      </a:moveTo>
                      <a:lnTo>
                        <a:pt x="465" y="0"/>
                      </a:lnTo>
                      <a:lnTo>
                        <a:pt x="61" y="0"/>
                      </a:lnTo>
                      <a:lnTo>
                        <a:pt x="0" y="72"/>
                      </a:lnTo>
                      <a:lnTo>
                        <a:pt x="526" y="72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894120" y="4489560"/>
                  <a:ext cx="141120" cy="31428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770280" y="4635360"/>
                  <a:ext cx="93600" cy="3816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770280" y="4748040"/>
                  <a:ext cx="52560" cy="223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770280" y="4729320"/>
                  <a:ext cx="525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770280" y="479736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770280" y="479412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770280" y="478620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770280" y="478296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770280" y="477216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770280" y="4699080"/>
                  <a:ext cx="52560" cy="111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770280" y="4684680"/>
                  <a:ext cx="52560" cy="1908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770280" y="468468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770280" y="4676760"/>
                  <a:ext cx="52560" cy="1908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770280" y="466884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770280" y="4627440"/>
                  <a:ext cx="52560" cy="158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770280" y="462132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770280" y="4611600"/>
                  <a:ext cx="52560" cy="1908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770280" y="460692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770280" y="460368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770280" y="4595760"/>
                  <a:ext cx="52560" cy="111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770280" y="459108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770280" y="457992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770280" y="457344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0280" y="455940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770280" y="455940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770280" y="454176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770280" y="454032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770280" y="453564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70280" y="451944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770280" y="4511520"/>
                  <a:ext cx="52560" cy="176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770280" y="450864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770280" y="449568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770280" y="4489560"/>
                  <a:ext cx="52560" cy="158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770280" y="448164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770280" y="476892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770280" y="474336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770280" y="4737240"/>
                  <a:ext cx="52560" cy="158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770280" y="4722840"/>
                  <a:ext cx="52560" cy="158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770280" y="4718160"/>
                  <a:ext cx="52560" cy="14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770280" y="4707000"/>
                  <a:ext cx="52560" cy="126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703680" y="4367160"/>
                  <a:ext cx="592560" cy="70200"/>
                </a:xfrm>
                <a:custGeom>
                  <a:avLst/>
                  <a:gdLst/>
                  <a:ahLst/>
                  <a:rect l="0" t="0" r="r" b="b"/>
                  <a:pathLst>
                    <a:path w="1646" h="195">
                      <a:moveTo>
                        <a:pt x="1121" y="195"/>
                      </a:moveTo>
                      <a:lnTo>
                        <a:pt x="1646" y="0"/>
                      </a:lnTo>
                      <a:lnTo>
                        <a:pt x="561" y="0"/>
                      </a:lnTo>
                      <a:lnTo>
                        <a:pt x="0" y="195"/>
                      </a:lnTo>
                      <a:lnTo>
                        <a:pt x="1121" y="19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936960" y="4948200"/>
                  <a:ext cx="50760" cy="334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898800" y="4795920"/>
                  <a:ext cx="130320" cy="9684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3657600" y="2209680"/>
                <a:ext cx="833760" cy="986400"/>
                <a:chOff x="3657600" y="2209680"/>
                <a:chExt cx="833760" cy="9864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3657600" y="2878200"/>
                  <a:ext cx="825840" cy="317880"/>
                </a:xfrm>
                <a:custGeom>
                  <a:avLst/>
                  <a:gdLst/>
                  <a:ahLst/>
                  <a:rect l="0" t="0" r="r" b="b"/>
                  <a:pathLst>
                    <a:path w="2294" h="883">
                      <a:moveTo>
                        <a:pt x="0" y="327"/>
                      </a:moveTo>
                      <a:lnTo>
                        <a:pt x="996" y="0"/>
                      </a:lnTo>
                      <a:lnTo>
                        <a:pt x="2294" y="336"/>
                      </a:lnTo>
                      <a:lnTo>
                        <a:pt x="1372" y="883"/>
                      </a:lnTo>
                      <a:lnTo>
                        <a:pt x="0" y="32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659040" y="2846520"/>
                  <a:ext cx="832320" cy="321120"/>
                </a:xfrm>
                <a:custGeom>
                  <a:avLst/>
                  <a:gdLst/>
                  <a:ahLst/>
                  <a:rect l="0" t="0" r="r" b="b"/>
                  <a:pathLst>
                    <a:path w="2312" h="892">
                      <a:moveTo>
                        <a:pt x="0" y="331"/>
                      </a:moveTo>
                      <a:lnTo>
                        <a:pt x="1006" y="0"/>
                      </a:lnTo>
                      <a:lnTo>
                        <a:pt x="2312" y="340"/>
                      </a:lnTo>
                      <a:lnTo>
                        <a:pt x="1381" y="892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728880" y="2292480"/>
                  <a:ext cx="422640" cy="835560"/>
                </a:xfrm>
                <a:custGeom>
                  <a:avLst/>
                  <a:gdLst/>
                  <a:ahLst/>
                  <a:rect l="0" t="0" r="r" b="b"/>
                  <a:pathLst>
                    <a:path w="1174" h="2321">
                      <a:moveTo>
                        <a:pt x="0" y="0"/>
                      </a:moveTo>
                      <a:lnTo>
                        <a:pt x="1174" y="268"/>
                      </a:lnTo>
                      <a:lnTo>
                        <a:pt x="1174" y="2321"/>
                      </a:lnTo>
                      <a:lnTo>
                        <a:pt x="0" y="18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730680" y="2209680"/>
                  <a:ext cx="694080" cy="190800"/>
                </a:xfrm>
                <a:custGeom>
                  <a:avLst/>
                  <a:gdLst/>
                  <a:ahLst/>
                  <a:rect l="0" t="0" r="r" b="b"/>
                  <a:pathLst>
                    <a:path w="1928" h="530">
                      <a:moveTo>
                        <a:pt x="0" y="216"/>
                      </a:moveTo>
                      <a:lnTo>
                        <a:pt x="692" y="0"/>
                      </a:lnTo>
                      <a:lnTo>
                        <a:pt x="1928" y="274"/>
                      </a:lnTo>
                      <a:lnTo>
                        <a:pt x="1165" y="530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a0c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151160" y="2308320"/>
                  <a:ext cx="273240" cy="811440"/>
                </a:xfrm>
                <a:custGeom>
                  <a:avLst/>
                  <a:gdLst/>
                  <a:ahLst/>
                  <a:rect l="0" t="0" r="r" b="b"/>
                  <a:pathLst>
                    <a:path w="759" h="2254">
                      <a:moveTo>
                        <a:pt x="0" y="304"/>
                      </a:moveTo>
                      <a:lnTo>
                        <a:pt x="759" y="0"/>
                      </a:lnTo>
                      <a:lnTo>
                        <a:pt x="759" y="1844"/>
                      </a:lnTo>
                      <a:lnTo>
                        <a:pt x="17" y="2254"/>
                      </a:lnTo>
                      <a:lnTo>
                        <a:pt x="0" y="30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743280" y="2430360"/>
                  <a:ext cx="39528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762360" y="2478240"/>
                  <a:ext cx="37620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397400" y="2467080"/>
                  <a:ext cx="1440" cy="449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753000" y="2529000"/>
                  <a:ext cx="351360" cy="346320"/>
                </a:xfrm>
                <a:custGeom>
                  <a:avLst/>
                  <a:gdLst/>
                  <a:ahLst/>
                  <a:rect l="0" t="0" r="r" b="b"/>
                  <a:pathLst>
                    <a:path w="976" h="962">
                      <a:moveTo>
                        <a:pt x="0" y="0"/>
                      </a:moveTo>
                      <a:lnTo>
                        <a:pt x="0" y="653"/>
                      </a:lnTo>
                      <a:lnTo>
                        <a:pt x="976" y="962"/>
                      </a:lnTo>
                      <a:lnTo>
                        <a:pt x="976" y="2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797280" y="2565360"/>
                  <a:ext cx="30600" cy="43200"/>
                </a:xfrm>
                <a:custGeom>
                  <a:avLst/>
                  <a:gdLst/>
                  <a:ahLst/>
                  <a:rect l="0" t="0" r="r" b="b"/>
                  <a:pathLst>
                    <a:path w="85" h="120">
                      <a:moveTo>
                        <a:pt x="0" y="0"/>
                      </a:moveTo>
                      <a:lnTo>
                        <a:pt x="0" y="80"/>
                      </a:lnTo>
                      <a:lnTo>
                        <a:pt x="85" y="120"/>
                      </a:lnTo>
                      <a:lnTo>
                        <a:pt x="85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868560" y="2585880"/>
                  <a:ext cx="28800" cy="44640"/>
                </a:xfrm>
                <a:custGeom>
                  <a:avLst/>
                  <a:gdLst/>
                  <a:ahLst/>
                  <a:rect l="0" t="0" r="r" b="b"/>
                  <a:pathLst>
                    <a:path w="80" h="124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80" y="124"/>
                      </a:lnTo>
                      <a:lnTo>
                        <a:pt x="8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035600" y="2739960"/>
                  <a:ext cx="36720" cy="49680"/>
                </a:xfrm>
                <a:custGeom>
                  <a:avLst/>
                  <a:gdLst/>
                  <a:ahLst/>
                  <a:rect l="0" t="0" r="r" b="b"/>
                  <a:pathLst>
                    <a:path w="102" h="138">
                      <a:moveTo>
                        <a:pt x="0" y="0"/>
                      </a:moveTo>
                      <a:lnTo>
                        <a:pt x="0" y="93"/>
                      </a:lnTo>
                      <a:lnTo>
                        <a:pt x="102" y="138"/>
                      </a:lnTo>
                      <a:lnTo>
                        <a:pt x="102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035600" y="2792520"/>
                  <a:ext cx="36720" cy="49680"/>
                </a:xfrm>
                <a:custGeom>
                  <a:avLst/>
                  <a:gdLst/>
                  <a:ahLst/>
                  <a:rect l="0" t="0" r="r" b="b"/>
                  <a:pathLst>
                    <a:path w="102" h="138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02" y="138"/>
                      </a:lnTo>
                      <a:lnTo>
                        <a:pt x="102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3994200" y="2860560"/>
                <a:ext cx="270360" cy="448200"/>
                <a:chOff x="3994200" y="2860560"/>
                <a:chExt cx="270360" cy="448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3994200" y="2900520"/>
                  <a:ext cx="270360" cy="408240"/>
                </a:xfrm>
                <a:custGeom>
                  <a:avLst/>
                  <a:gdLst/>
                  <a:ahLst/>
                  <a:rect l="0" t="0" r="r" b="b"/>
                  <a:pathLst>
                    <a:path w="751" h="1134">
                      <a:moveTo>
                        <a:pt x="751" y="13"/>
                      </a:moveTo>
                      <a:lnTo>
                        <a:pt x="751" y="935"/>
                      </a:lnTo>
                      <a:lnTo>
                        <a:pt x="738" y="971"/>
                      </a:lnTo>
                      <a:lnTo>
                        <a:pt x="720" y="1002"/>
                      </a:lnTo>
                      <a:lnTo>
                        <a:pt x="694" y="1037"/>
                      </a:lnTo>
                      <a:lnTo>
                        <a:pt x="663" y="1063"/>
                      </a:lnTo>
                      <a:lnTo>
                        <a:pt x="610" y="1094"/>
                      </a:lnTo>
                      <a:lnTo>
                        <a:pt x="561" y="1107"/>
                      </a:lnTo>
                      <a:lnTo>
                        <a:pt x="508" y="1121"/>
                      </a:lnTo>
                      <a:lnTo>
                        <a:pt x="459" y="1125"/>
                      </a:lnTo>
                      <a:lnTo>
                        <a:pt x="411" y="1134"/>
                      </a:lnTo>
                      <a:lnTo>
                        <a:pt x="358" y="1134"/>
                      </a:lnTo>
                      <a:lnTo>
                        <a:pt x="300" y="1125"/>
                      </a:lnTo>
                      <a:lnTo>
                        <a:pt x="247" y="1121"/>
                      </a:lnTo>
                      <a:lnTo>
                        <a:pt x="195" y="1107"/>
                      </a:lnTo>
                      <a:lnTo>
                        <a:pt x="145" y="1094"/>
                      </a:lnTo>
                      <a:lnTo>
                        <a:pt x="101" y="1068"/>
                      </a:lnTo>
                      <a:lnTo>
                        <a:pt x="66" y="1046"/>
                      </a:lnTo>
                      <a:lnTo>
                        <a:pt x="35" y="1015"/>
                      </a:lnTo>
                      <a:lnTo>
                        <a:pt x="26" y="993"/>
                      </a:lnTo>
                      <a:lnTo>
                        <a:pt x="4" y="971"/>
                      </a:lnTo>
                      <a:lnTo>
                        <a:pt x="0" y="927"/>
                      </a:lnTo>
                      <a:lnTo>
                        <a:pt x="0" y="0"/>
                      </a:lnTo>
                      <a:lnTo>
                        <a:pt x="751" y="13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995640" y="2860560"/>
                  <a:ext cx="258840" cy="10008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8960" bIns="48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125960" y="2987640"/>
                <a:ext cx="270360" cy="444600"/>
                <a:chOff x="4125960" y="2987640"/>
                <a:chExt cx="270360" cy="44460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4125960" y="3027240"/>
                  <a:ext cx="270360" cy="405000"/>
                </a:xfrm>
                <a:custGeom>
                  <a:avLst/>
                  <a:gdLst/>
                  <a:ahLst/>
                  <a:rect l="0" t="0" r="r" b="b"/>
                  <a:pathLst>
                    <a:path w="751" h="1125">
                      <a:moveTo>
                        <a:pt x="751" y="13"/>
                      </a:moveTo>
                      <a:lnTo>
                        <a:pt x="751" y="927"/>
                      </a:lnTo>
                      <a:lnTo>
                        <a:pt x="738" y="962"/>
                      </a:lnTo>
                      <a:lnTo>
                        <a:pt x="720" y="993"/>
                      </a:lnTo>
                      <a:lnTo>
                        <a:pt x="694" y="1028"/>
                      </a:lnTo>
                      <a:lnTo>
                        <a:pt x="663" y="1059"/>
                      </a:lnTo>
                      <a:lnTo>
                        <a:pt x="614" y="1085"/>
                      </a:lnTo>
                      <a:lnTo>
                        <a:pt x="561" y="1094"/>
                      </a:lnTo>
                      <a:lnTo>
                        <a:pt x="508" y="1112"/>
                      </a:lnTo>
                      <a:lnTo>
                        <a:pt x="459" y="1116"/>
                      </a:lnTo>
                      <a:lnTo>
                        <a:pt x="411" y="1125"/>
                      </a:lnTo>
                      <a:lnTo>
                        <a:pt x="358" y="1125"/>
                      </a:lnTo>
                      <a:lnTo>
                        <a:pt x="300" y="1116"/>
                      </a:lnTo>
                      <a:lnTo>
                        <a:pt x="252" y="1112"/>
                      </a:lnTo>
                      <a:lnTo>
                        <a:pt x="195" y="1094"/>
                      </a:lnTo>
                      <a:lnTo>
                        <a:pt x="145" y="1085"/>
                      </a:lnTo>
                      <a:lnTo>
                        <a:pt x="105" y="1059"/>
                      </a:lnTo>
                      <a:lnTo>
                        <a:pt x="66" y="1037"/>
                      </a:lnTo>
                      <a:lnTo>
                        <a:pt x="39" y="1010"/>
                      </a:lnTo>
                      <a:lnTo>
                        <a:pt x="26" y="988"/>
                      </a:lnTo>
                      <a:lnTo>
                        <a:pt x="8" y="962"/>
                      </a:lnTo>
                      <a:lnTo>
                        <a:pt x="0" y="922"/>
                      </a:lnTo>
                      <a:lnTo>
                        <a:pt x="0" y="0"/>
                      </a:lnTo>
                      <a:lnTo>
                        <a:pt x="751" y="13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127400" y="2987640"/>
                  <a:ext cx="257040" cy="9684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95280" y="53352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terprise Goals an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0880" y="152388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rganizations are faced with a number of additional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9f9f9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to achieve applications scal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9f9f9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to achieve RELIABLE distributed compu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9f9f9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to provide seamless Internet access to wealth of information locked in CICS/IMS transactions and many heterogenous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9f9f9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to support universal clients capable of accessing the newly developed server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rrive to a consensus on what enabling technology to use for distributed compu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, CORBA, MTS/COM, TP Monitors, OTM, Commercial Application Servers ... and the list goe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4567320" y="3195720"/>
            <a:ext cx="2905200" cy="1228680"/>
          </a:xfrm>
          <a:prstGeom prst="ellipse">
            <a:avLst/>
          </a:prstGeom>
          <a:gradFill rotWithShape="0">
            <a:gsLst>
              <a:gs pos="0">
                <a:srgbClr val="004c7f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23232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105520" y="2666880"/>
            <a:ext cx="327672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4880" y="3430440"/>
            <a:ext cx="578160" cy="610200"/>
            <a:chOff x="704880" y="3430440"/>
            <a:chExt cx="578160" cy="610200"/>
          </a:xfrm>
        </p:grpSpPr>
        <p:grpSp>
          <p:nvGrpSpPr>
            <p:cNvPr id="723" name=""/>
            <p:cNvGrpSpPr/>
            <p:nvPr/>
          </p:nvGrpSpPr>
          <p:grpSpPr>
            <a:xfrm>
              <a:off x="725400" y="3809880"/>
              <a:ext cx="534960" cy="196920"/>
              <a:chOff x="725400" y="3809880"/>
              <a:chExt cx="534960" cy="196920"/>
            </a:xfrm>
          </p:grpSpPr>
          <p:sp>
            <p:nvSpPr>
              <p:cNvPr id="724" name=""/>
              <p:cNvSpPr/>
              <p:nvPr/>
            </p:nvSpPr>
            <p:spPr>
              <a:xfrm>
                <a:off x="725400" y="3809880"/>
                <a:ext cx="534960" cy="196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020600" y="3843360"/>
                <a:ext cx="187200" cy="93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04880" y="3917880"/>
              <a:ext cx="578160" cy="122760"/>
              <a:chOff x="704880" y="3917880"/>
              <a:chExt cx="578160" cy="122760"/>
            </a:xfrm>
          </p:grpSpPr>
          <p:sp>
            <p:nvSpPr>
              <p:cNvPr id="727" name=""/>
              <p:cNvSpPr/>
              <p:nvPr/>
            </p:nvSpPr>
            <p:spPr>
              <a:xfrm>
                <a:off x="704880" y="3917880"/>
                <a:ext cx="578160" cy="122760"/>
              </a:xfrm>
              <a:custGeom>
                <a:avLst/>
                <a:gdLst/>
                <a:ahLst/>
                <a:rect l="0" t="0" r="r" b="b"/>
                <a:pathLst>
                  <a:path w="1606" h="341">
                    <a:moveTo>
                      <a:pt x="198" y="0"/>
                    </a:moveTo>
                    <a:lnTo>
                      <a:pt x="1407" y="0"/>
                    </a:lnTo>
                    <a:lnTo>
                      <a:pt x="1601" y="306"/>
                    </a:lnTo>
                    <a:lnTo>
                      <a:pt x="1606" y="319"/>
                    </a:lnTo>
                    <a:lnTo>
                      <a:pt x="1597" y="332"/>
                    </a:lnTo>
                    <a:lnTo>
                      <a:pt x="1584" y="341"/>
                    </a:lnTo>
                    <a:lnTo>
                      <a:pt x="22" y="341"/>
                    </a:lnTo>
                    <a:lnTo>
                      <a:pt x="4" y="328"/>
                    </a:lnTo>
                    <a:lnTo>
                      <a:pt x="0" y="315"/>
                    </a:lnTo>
                    <a:lnTo>
                      <a:pt x="0" y="297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35120" y="3944880"/>
                <a:ext cx="386280" cy="76680"/>
              </a:xfrm>
              <a:custGeom>
                <a:avLst/>
                <a:gdLst/>
                <a:ahLst/>
                <a:rect l="0" t="0" r="r" b="b"/>
                <a:pathLst>
                  <a:path w="1073" h="213">
                    <a:moveTo>
                      <a:pt x="141" y="0"/>
                    </a:moveTo>
                    <a:lnTo>
                      <a:pt x="1020" y="0"/>
                    </a:lnTo>
                    <a:lnTo>
                      <a:pt x="1073" y="213"/>
                    </a:lnTo>
                    <a:lnTo>
                      <a:pt x="0" y="213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131840" y="3944880"/>
                <a:ext cx="117720" cy="76680"/>
              </a:xfrm>
              <a:custGeom>
                <a:avLst/>
                <a:gdLst/>
                <a:ahLst/>
                <a:rect l="0" t="0" r="r" b="b"/>
                <a:pathLst>
                  <a:path w="327" h="213">
                    <a:moveTo>
                      <a:pt x="0" y="0"/>
                    </a:moveTo>
                    <a:lnTo>
                      <a:pt x="190" y="0"/>
                    </a:lnTo>
                    <a:lnTo>
                      <a:pt x="327" y="213"/>
                    </a:lnTo>
                    <a:lnTo>
                      <a:pt x="57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798480" y="3430440"/>
              <a:ext cx="390600" cy="37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24040" y="3462480"/>
              <a:ext cx="339840" cy="32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09520" y="3462480"/>
              <a:ext cx="52560" cy="32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20680" y="3476520"/>
              <a:ext cx="27000" cy="2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3920" y="3614760"/>
              <a:ext cx="2556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23920" y="3672000"/>
              <a:ext cx="2556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23920" y="3727440"/>
              <a:ext cx="2556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2344680" y="344340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25680" y="3809880"/>
            <a:ext cx="30463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688080" y="1860480"/>
            <a:ext cx="104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35000" y="40752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ual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685800" y="2058840"/>
            <a:ext cx="3886200" cy="760680"/>
            <a:chOff x="685800" y="2058840"/>
            <a:chExt cx="3886200" cy="760680"/>
          </a:xfrm>
        </p:grpSpPr>
        <p:grpSp>
          <p:nvGrpSpPr>
            <p:cNvPr id="742" name=""/>
            <p:cNvGrpSpPr/>
            <p:nvPr/>
          </p:nvGrpSpPr>
          <p:grpSpPr>
            <a:xfrm>
              <a:off x="685800" y="2058840"/>
              <a:ext cx="578160" cy="610200"/>
              <a:chOff x="685800" y="2058840"/>
              <a:chExt cx="578160" cy="61020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706320" y="2438280"/>
                <a:ext cx="534960" cy="196920"/>
                <a:chOff x="706320" y="2438280"/>
                <a:chExt cx="534960" cy="1969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706320" y="2438280"/>
                  <a:ext cx="534960" cy="196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001880" y="2471760"/>
                  <a:ext cx="187200" cy="93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685800" y="2546280"/>
                <a:ext cx="578160" cy="122760"/>
                <a:chOff x="685800" y="2546280"/>
                <a:chExt cx="578160" cy="12276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685800" y="2546280"/>
                  <a:ext cx="578160" cy="122760"/>
                </a:xfrm>
                <a:custGeom>
                  <a:avLst/>
                  <a:gdLst/>
                  <a:ahLst/>
                  <a:rect l="0" t="0" r="r" b="b"/>
                  <a:pathLst>
                    <a:path w="1606" h="341">
                      <a:moveTo>
                        <a:pt x="198" y="0"/>
                      </a:moveTo>
                      <a:lnTo>
                        <a:pt x="1407" y="0"/>
                      </a:lnTo>
                      <a:lnTo>
                        <a:pt x="1601" y="306"/>
                      </a:lnTo>
                      <a:lnTo>
                        <a:pt x="1606" y="319"/>
                      </a:lnTo>
                      <a:lnTo>
                        <a:pt x="1597" y="332"/>
                      </a:lnTo>
                      <a:lnTo>
                        <a:pt x="1584" y="341"/>
                      </a:lnTo>
                      <a:lnTo>
                        <a:pt x="22" y="341"/>
                      </a:lnTo>
                      <a:lnTo>
                        <a:pt x="4" y="328"/>
                      </a:lnTo>
                      <a:lnTo>
                        <a:pt x="0" y="315"/>
                      </a:lnTo>
                      <a:lnTo>
                        <a:pt x="0" y="29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16040" y="2573280"/>
                  <a:ext cx="386280" cy="76680"/>
                </a:xfrm>
                <a:custGeom>
                  <a:avLst/>
                  <a:gdLst/>
                  <a:ahLst/>
                  <a:rect l="0" t="0" r="r" b="b"/>
                  <a:pathLst>
                    <a:path w="1073" h="213">
                      <a:moveTo>
                        <a:pt x="141" y="0"/>
                      </a:moveTo>
                      <a:lnTo>
                        <a:pt x="1020" y="0"/>
                      </a:lnTo>
                      <a:lnTo>
                        <a:pt x="1073" y="213"/>
                      </a:lnTo>
                      <a:lnTo>
                        <a:pt x="0" y="213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112760" y="2573280"/>
                  <a:ext cx="117720" cy="76680"/>
                </a:xfrm>
                <a:custGeom>
                  <a:avLst/>
                  <a:gdLst/>
                  <a:ahLst/>
                  <a:rect l="0" t="0" r="r" b="b"/>
                  <a:pathLst>
                    <a:path w="327" h="213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327" y="213"/>
                      </a:lnTo>
                      <a:lnTo>
                        <a:pt x="57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0" name=""/>
              <p:cNvSpPr/>
              <p:nvPr/>
            </p:nvSpPr>
            <p:spPr>
              <a:xfrm>
                <a:off x="779400" y="2058840"/>
                <a:ext cx="390600" cy="37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4960" y="2090880"/>
                <a:ext cx="339840" cy="32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90440" y="2090880"/>
                <a:ext cx="52560" cy="320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01600" y="2104920"/>
                <a:ext cx="27000" cy="2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04840" y="224316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104840" y="2300400"/>
                <a:ext cx="2556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04840" y="23558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1525680" y="2819520"/>
              <a:ext cx="3046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2496960" y="2417760"/>
              <a:ext cx="78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  <a:ea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 txBox="1"/>
          <p:nvPr/>
        </p:nvSpPr>
        <p:spPr>
          <a:xfrm>
            <a:off x="4630680" y="1984320"/>
            <a:ext cx="1566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T or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291960" y="5446800"/>
            <a:ext cx="1200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25146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529320" y="2297160"/>
            <a:ext cx="1776240" cy="826920"/>
            <a:chOff x="6529320" y="2297160"/>
            <a:chExt cx="1776240" cy="826920"/>
          </a:xfrm>
        </p:grpSpPr>
        <p:sp>
          <p:nvSpPr>
            <p:cNvPr id="763" name=""/>
            <p:cNvSpPr/>
            <p:nvPr/>
          </p:nvSpPr>
          <p:spPr>
            <a:xfrm>
              <a:off x="6578640" y="3000240"/>
              <a:ext cx="1677960" cy="123840"/>
            </a:xfrm>
            <a:prstGeom prst="rect">
              <a:avLst/>
            </a:prstGeom>
            <a:solidFill>
              <a:srgbClr val="b0b0b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29320" y="2297160"/>
              <a:ext cx="1776240" cy="738360"/>
            </a:xfrm>
            <a:prstGeom prst="rect">
              <a:avLst/>
            </a:prstGeom>
            <a:solidFill>
              <a:srgbClr val="b0b0b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4056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880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3740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8492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3424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8356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3252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832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3260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8192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308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7552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262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7380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2636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7244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2140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7072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2004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6936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168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6620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696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644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1200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6276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0884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5960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074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5644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0576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5508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04040" y="3054240"/>
              <a:ext cx="0" cy="6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556320" y="2306520"/>
              <a:ext cx="1733760" cy="721080"/>
            </a:xfrm>
            <a:custGeom>
              <a:avLst/>
              <a:gdLst/>
              <a:ahLst/>
              <a:rect l="0" t="0" r="r" b="b"/>
              <a:pathLst>
                <a:path fill="none" w="4816" h="2003">
                  <a:moveTo>
                    <a:pt x="4816" y="0"/>
                  </a:moveTo>
                  <a:lnTo>
                    <a:pt x="0" y="0"/>
                  </a:lnTo>
                  <a:lnTo>
                    <a:pt x="0" y="2003"/>
                  </a:lnTo>
                </a:path>
              </a:pathLst>
            </a:custGeom>
            <a:ln w="25560">
              <a:solidFill>
                <a:srgbClr val="e0e0e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78640" y="2316240"/>
              <a:ext cx="1711800" cy="711720"/>
            </a:xfrm>
            <a:custGeom>
              <a:avLst/>
              <a:gdLst/>
              <a:ahLst/>
              <a:rect l="0" t="0" r="r" b="b"/>
              <a:pathLst>
                <a:path fill="none" w="4755" h="1977">
                  <a:moveTo>
                    <a:pt x="0" y="1977"/>
                  </a:moveTo>
                  <a:lnTo>
                    <a:pt x="4755" y="1977"/>
                  </a:lnTo>
                  <a:lnTo>
                    <a:pt x="4755" y="0"/>
                  </a:lnTo>
                </a:path>
              </a:pathLst>
            </a:custGeom>
            <a:ln w="25560">
              <a:solidFill>
                <a:srgbClr val="8080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72440" y="2308320"/>
              <a:ext cx="0" cy="7189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10600" y="2303640"/>
              <a:ext cx="0" cy="720720"/>
            </a:xfrm>
            <a:prstGeom prst="line">
              <a:avLst/>
            </a:prstGeom>
            <a:ln w="2556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6558120" y="2424240"/>
              <a:ext cx="814320" cy="9360"/>
              <a:chOff x="6558120" y="2424240"/>
              <a:chExt cx="814320" cy="9360"/>
            </a:xfrm>
          </p:grpSpPr>
          <p:sp>
            <p:nvSpPr>
              <p:cNvPr id="803" name=""/>
              <p:cNvSpPr/>
              <p:nvPr/>
            </p:nvSpPr>
            <p:spPr>
              <a:xfrm>
                <a:off x="6558120" y="2433600"/>
                <a:ext cx="8013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567480" y="2424240"/>
                <a:ext cx="80496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558120" y="2557440"/>
              <a:ext cx="814320" cy="7920"/>
              <a:chOff x="6558120" y="2557440"/>
              <a:chExt cx="814320" cy="7920"/>
            </a:xfrm>
          </p:grpSpPr>
          <p:sp>
            <p:nvSpPr>
              <p:cNvPr id="806" name=""/>
              <p:cNvSpPr/>
              <p:nvPr/>
            </p:nvSpPr>
            <p:spPr>
              <a:xfrm>
                <a:off x="6558120" y="2565360"/>
                <a:ext cx="8013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567480" y="2557440"/>
                <a:ext cx="80496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6558120" y="2689200"/>
              <a:ext cx="814320" cy="9720"/>
              <a:chOff x="6558120" y="2689200"/>
              <a:chExt cx="814320" cy="9720"/>
            </a:xfrm>
          </p:grpSpPr>
          <p:sp>
            <p:nvSpPr>
              <p:cNvPr id="809" name=""/>
              <p:cNvSpPr/>
              <p:nvPr/>
            </p:nvSpPr>
            <p:spPr>
              <a:xfrm>
                <a:off x="6558120" y="2698920"/>
                <a:ext cx="8013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67480" y="2689200"/>
                <a:ext cx="80496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558120" y="2820960"/>
              <a:ext cx="814320" cy="9720"/>
              <a:chOff x="6558120" y="2820960"/>
              <a:chExt cx="814320" cy="9720"/>
            </a:xfrm>
          </p:grpSpPr>
          <p:sp>
            <p:nvSpPr>
              <p:cNvPr id="812" name=""/>
              <p:cNvSpPr/>
              <p:nvPr/>
            </p:nvSpPr>
            <p:spPr>
              <a:xfrm>
                <a:off x="6558120" y="2830680"/>
                <a:ext cx="8013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67480" y="2820960"/>
                <a:ext cx="80496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7520040" y="2538360"/>
              <a:ext cx="648000" cy="103680"/>
            </a:xfrm>
            <a:custGeom>
              <a:avLst/>
              <a:gdLst/>
              <a:ahLst/>
              <a:rect l="0" t="0" r="r" b="b"/>
              <a:pathLst>
                <a:path fill="none" w="1800" h="288">
                  <a:moveTo>
                    <a:pt x="0" y="288"/>
                  </a:moveTo>
                  <a:lnTo>
                    <a:pt x="0" y="0"/>
                  </a:lnTo>
                  <a:lnTo>
                    <a:pt x="1800" y="0"/>
                  </a:lnTo>
                </a:path>
              </a:pathLst>
            </a:custGeom>
            <a:ln w="25560">
              <a:solidFill>
                <a:srgbClr val="808080"/>
              </a:solidFill>
              <a:round/>
            </a:ln>
          </p:spPr>
          <p:txBody>
            <a:bodyPr lIns="102600" rIns="1026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31200" y="2543040"/>
              <a:ext cx="636840" cy="98640"/>
            </a:xfrm>
            <a:custGeom>
              <a:avLst/>
              <a:gdLst/>
              <a:ahLst/>
              <a:rect l="0" t="0" r="r" b="b"/>
              <a:pathLst>
                <a:path fill="none" w="1769" h="274">
                  <a:moveTo>
                    <a:pt x="0" y="274"/>
                  </a:moveTo>
                  <a:lnTo>
                    <a:pt x="1769" y="274"/>
                  </a:lnTo>
                  <a:lnTo>
                    <a:pt x="1769" y="0"/>
                  </a:lnTo>
                </a:path>
              </a:pathLst>
            </a:custGeom>
            <a:ln w="25560">
              <a:solidFill>
                <a:srgbClr val="e0e0e0"/>
              </a:solidFill>
              <a:round/>
            </a:ln>
          </p:spPr>
          <p:txBody>
            <a:bodyPr lIns="102600" rIns="1026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69360" y="255276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0"/>
                  </a:moveTo>
                  <a:lnTo>
                    <a:pt x="177" y="0"/>
                  </a:lnTo>
                  <a:lnTo>
                    <a:pt x="177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569360" y="2571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0"/>
                  </a:moveTo>
                  <a:lnTo>
                    <a:pt x="177" y="0"/>
                  </a:lnTo>
                  <a:lnTo>
                    <a:pt x="177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ff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6936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9312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1688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4064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6620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68996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71696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4072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76448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78824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1200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83756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6276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8688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90884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93440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95960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8336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00748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3268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5644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344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105760" y="26049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4876920" y="3443400"/>
            <a:ext cx="568440" cy="7462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 txBox="1"/>
          <p:nvPr/>
        </p:nvSpPr>
        <p:spPr>
          <a:xfrm>
            <a:off x="533520" y="743040"/>
            <a:ext cx="85154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b and Legacy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2268360" y="3367080"/>
            <a:ext cx="1682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CORBA/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647640" y="4649760"/>
            <a:ext cx="578160" cy="610200"/>
            <a:chOff x="647640" y="4649760"/>
            <a:chExt cx="578160" cy="610200"/>
          </a:xfrm>
        </p:grpSpPr>
        <p:grpSp>
          <p:nvGrpSpPr>
            <p:cNvPr id="845" name=""/>
            <p:cNvGrpSpPr/>
            <p:nvPr/>
          </p:nvGrpSpPr>
          <p:grpSpPr>
            <a:xfrm>
              <a:off x="668160" y="5029200"/>
              <a:ext cx="534960" cy="196920"/>
              <a:chOff x="668160" y="5029200"/>
              <a:chExt cx="534960" cy="196920"/>
            </a:xfrm>
          </p:grpSpPr>
          <p:sp>
            <p:nvSpPr>
              <p:cNvPr id="846" name=""/>
              <p:cNvSpPr/>
              <p:nvPr/>
            </p:nvSpPr>
            <p:spPr>
              <a:xfrm>
                <a:off x="668160" y="5029200"/>
                <a:ext cx="534960" cy="196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63720" y="5062680"/>
                <a:ext cx="187200" cy="93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647640" y="5137200"/>
              <a:ext cx="578160" cy="122760"/>
              <a:chOff x="647640" y="5137200"/>
              <a:chExt cx="578160" cy="122760"/>
            </a:xfrm>
          </p:grpSpPr>
          <p:sp>
            <p:nvSpPr>
              <p:cNvPr id="849" name=""/>
              <p:cNvSpPr/>
              <p:nvPr/>
            </p:nvSpPr>
            <p:spPr>
              <a:xfrm>
                <a:off x="647640" y="5137200"/>
                <a:ext cx="578160" cy="122760"/>
              </a:xfrm>
              <a:custGeom>
                <a:avLst/>
                <a:gdLst/>
                <a:ahLst/>
                <a:rect l="0" t="0" r="r" b="b"/>
                <a:pathLst>
                  <a:path w="1606" h="341">
                    <a:moveTo>
                      <a:pt x="198" y="0"/>
                    </a:moveTo>
                    <a:lnTo>
                      <a:pt x="1407" y="0"/>
                    </a:lnTo>
                    <a:lnTo>
                      <a:pt x="1601" y="306"/>
                    </a:lnTo>
                    <a:lnTo>
                      <a:pt x="1606" y="319"/>
                    </a:lnTo>
                    <a:lnTo>
                      <a:pt x="1597" y="332"/>
                    </a:lnTo>
                    <a:lnTo>
                      <a:pt x="1584" y="341"/>
                    </a:lnTo>
                    <a:lnTo>
                      <a:pt x="22" y="341"/>
                    </a:lnTo>
                    <a:lnTo>
                      <a:pt x="4" y="328"/>
                    </a:lnTo>
                    <a:lnTo>
                      <a:pt x="0" y="315"/>
                    </a:lnTo>
                    <a:lnTo>
                      <a:pt x="0" y="297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77880" y="5164200"/>
                <a:ext cx="386280" cy="76680"/>
              </a:xfrm>
              <a:custGeom>
                <a:avLst/>
                <a:gdLst/>
                <a:ahLst/>
                <a:rect l="0" t="0" r="r" b="b"/>
                <a:pathLst>
                  <a:path w="1073" h="213">
                    <a:moveTo>
                      <a:pt x="141" y="0"/>
                    </a:moveTo>
                    <a:lnTo>
                      <a:pt x="1020" y="0"/>
                    </a:lnTo>
                    <a:lnTo>
                      <a:pt x="1073" y="213"/>
                    </a:lnTo>
                    <a:lnTo>
                      <a:pt x="0" y="213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74600" y="5164200"/>
                <a:ext cx="117720" cy="76680"/>
              </a:xfrm>
              <a:custGeom>
                <a:avLst/>
                <a:gdLst/>
                <a:ahLst/>
                <a:rect l="0" t="0" r="r" b="b"/>
                <a:pathLst>
                  <a:path w="327" h="213">
                    <a:moveTo>
                      <a:pt x="0" y="0"/>
                    </a:moveTo>
                    <a:lnTo>
                      <a:pt x="190" y="0"/>
                    </a:lnTo>
                    <a:lnTo>
                      <a:pt x="327" y="213"/>
                    </a:lnTo>
                    <a:lnTo>
                      <a:pt x="57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741240" y="4649760"/>
              <a:ext cx="390600" cy="37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66800" y="4681440"/>
              <a:ext cx="339840" cy="32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52640" y="4681440"/>
              <a:ext cx="52560" cy="32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63800" y="4695840"/>
              <a:ext cx="27000" cy="2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66680" y="4834080"/>
              <a:ext cx="2556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66680" y="4890960"/>
              <a:ext cx="2556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66680" y="4946760"/>
              <a:ext cx="2556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 flipV="1">
            <a:off x="1353960" y="4133880"/>
            <a:ext cx="3465720" cy="8571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2116080" y="4267080"/>
            <a:ext cx="1274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Java/II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30120" y="2760840"/>
            <a:ext cx="1200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47560" y="53352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terprise Goals an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80880" y="129528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inally, everyone agrees that a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middleware platform”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at provides a “level playing” field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ddleware as a platform and not just a communication pipe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is “middleware platform” needs to deal with the development, complex run-time and deployment issues.... and this is where the real challeng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sing the Iceberg analogy, middleware should provide a lot of under the water and some above the wat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big question remains what type of middlew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547560" y="304920"/>
            <a:ext cx="806292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terprise Application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ise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he Bar for Middlew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2438280"/>
            <a:ext cx="2876760" cy="2667240"/>
          </a:xfrm>
          <a:custGeom>
            <a:avLst/>
            <a:gdLst/>
            <a:ahLst/>
            <a:rect l="0" t="0" r="r" b="b"/>
            <a:pathLst>
              <a:path w="7991" h="7409">
                <a:moveTo>
                  <a:pt x="3995" y="0"/>
                </a:moveTo>
                <a:lnTo>
                  <a:pt x="4395" y="2118"/>
                </a:lnTo>
                <a:lnTo>
                  <a:pt x="5965" y="518"/>
                </a:lnTo>
                <a:lnTo>
                  <a:pt x="5242" y="2533"/>
                </a:lnTo>
                <a:lnTo>
                  <a:pt x="7472" y="1859"/>
                </a:lnTo>
                <a:lnTo>
                  <a:pt x="5742" y="3307"/>
                </a:lnTo>
                <a:lnTo>
                  <a:pt x="7991" y="3705"/>
                </a:lnTo>
                <a:lnTo>
                  <a:pt x="5742" y="4101"/>
                </a:lnTo>
                <a:lnTo>
                  <a:pt x="7472" y="5557"/>
                </a:lnTo>
                <a:lnTo>
                  <a:pt x="5241" y="4931"/>
                </a:lnTo>
                <a:lnTo>
                  <a:pt x="5965" y="6927"/>
                </a:lnTo>
                <a:lnTo>
                  <a:pt x="4459" y="5324"/>
                </a:lnTo>
                <a:lnTo>
                  <a:pt x="3955" y="7409"/>
                </a:lnTo>
                <a:lnTo>
                  <a:pt x="3515" y="5324"/>
                </a:lnTo>
                <a:lnTo>
                  <a:pt x="2006" y="6927"/>
                </a:lnTo>
                <a:lnTo>
                  <a:pt x="2731" y="4910"/>
                </a:lnTo>
                <a:lnTo>
                  <a:pt x="503" y="5583"/>
                </a:lnTo>
                <a:lnTo>
                  <a:pt x="2229" y="4134"/>
                </a:lnTo>
                <a:lnTo>
                  <a:pt x="0" y="3719"/>
                </a:lnTo>
                <a:lnTo>
                  <a:pt x="2229" y="3307"/>
                </a:lnTo>
                <a:lnTo>
                  <a:pt x="503" y="1860"/>
                </a:lnTo>
                <a:lnTo>
                  <a:pt x="2731" y="2532"/>
                </a:lnTo>
                <a:lnTo>
                  <a:pt x="2006" y="511"/>
                </a:lnTo>
                <a:lnTo>
                  <a:pt x="3511" y="2118"/>
                </a:lnTo>
                <a:lnTo>
                  <a:pt x="3995" y="0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1488960" y="2041560"/>
            <a:ext cx="13352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250920" y="2612880"/>
            <a:ext cx="24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12760" y="3184560"/>
            <a:ext cx="2325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289080" y="3736800"/>
            <a:ext cx="2122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784080" y="457524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-of-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774800" y="5032440"/>
            <a:ext cx="147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2612880" y="545148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879800" y="5641920"/>
            <a:ext cx="155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5451480" y="505152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251400" y="398448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6556320" y="337500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/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591240" y="1447920"/>
            <a:ext cx="2076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851280" y="1355760"/>
            <a:ext cx="1774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5565600" y="1870200"/>
            <a:ext cx="72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362480" y="2095560"/>
            <a:ext cx="190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47800" y="2419200"/>
            <a:ext cx="895680" cy="438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695600" y="2990880"/>
            <a:ext cx="121896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19240" y="3543480"/>
            <a:ext cx="857160" cy="26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81080" y="41720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2324160" y="4591080"/>
            <a:ext cx="89532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3124080" y="4896000"/>
            <a:ext cx="514440" cy="36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3638520" y="4952880"/>
            <a:ext cx="438120" cy="666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4781520" y="4857840"/>
            <a:ext cx="43812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5124600" y="4419720"/>
            <a:ext cx="5331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29160" y="4305240"/>
            <a:ext cx="800280" cy="3621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5619600" y="3790800"/>
            <a:ext cx="876600" cy="343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4057560" y="4800600"/>
            <a:ext cx="381240" cy="135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162400" y="2990880"/>
            <a:ext cx="895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743360" y="2171880"/>
            <a:ext cx="895320" cy="64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317760" y="352728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6022800" y="2765520"/>
            <a:ext cx="116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371760" y="2076480"/>
            <a:ext cx="628920" cy="62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2612880" y="169848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375000" y="5965920"/>
            <a:ext cx="182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295960" y="358128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181480" y="2438280"/>
            <a:ext cx="971640" cy="552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6099120" y="2155680"/>
            <a:ext cx="219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1596960" y="4044960"/>
            <a:ext cx="3863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CP/ IP   SNA LU6.2  Netbios   I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90400" y="2838600"/>
            <a:ext cx="8058600" cy="667080"/>
          </a:xfrm>
          <a:custGeom>
            <a:avLst/>
            <a:gdLst/>
            <a:ahLst/>
            <a:rect l="0" t="0" r="r" b="b"/>
            <a:pathLst>
              <a:path w="22385" h="1853">
                <a:moveTo>
                  <a:pt x="13" y="44"/>
                </a:moveTo>
                <a:lnTo>
                  <a:pt x="39" y="70"/>
                </a:lnTo>
                <a:lnTo>
                  <a:pt x="114" y="119"/>
                </a:lnTo>
                <a:lnTo>
                  <a:pt x="207" y="163"/>
                </a:lnTo>
                <a:lnTo>
                  <a:pt x="348" y="211"/>
                </a:lnTo>
                <a:lnTo>
                  <a:pt x="564" y="251"/>
                </a:lnTo>
                <a:lnTo>
                  <a:pt x="784" y="299"/>
                </a:lnTo>
                <a:lnTo>
                  <a:pt x="1058" y="335"/>
                </a:lnTo>
                <a:lnTo>
                  <a:pt x="1375" y="374"/>
                </a:lnTo>
                <a:lnTo>
                  <a:pt x="1741" y="427"/>
                </a:lnTo>
                <a:lnTo>
                  <a:pt x="2143" y="467"/>
                </a:lnTo>
                <a:lnTo>
                  <a:pt x="2562" y="498"/>
                </a:lnTo>
                <a:lnTo>
                  <a:pt x="3029" y="529"/>
                </a:lnTo>
                <a:lnTo>
                  <a:pt x="3514" y="568"/>
                </a:lnTo>
                <a:lnTo>
                  <a:pt x="4061" y="599"/>
                </a:lnTo>
                <a:lnTo>
                  <a:pt x="4586" y="621"/>
                </a:lnTo>
                <a:lnTo>
                  <a:pt x="5181" y="652"/>
                </a:lnTo>
                <a:lnTo>
                  <a:pt x="5782" y="679"/>
                </a:lnTo>
                <a:lnTo>
                  <a:pt x="6403" y="701"/>
                </a:lnTo>
                <a:lnTo>
                  <a:pt x="7038" y="718"/>
                </a:lnTo>
                <a:lnTo>
                  <a:pt x="7687" y="727"/>
                </a:lnTo>
                <a:lnTo>
                  <a:pt x="8375" y="745"/>
                </a:lnTo>
                <a:lnTo>
                  <a:pt x="9062" y="758"/>
                </a:lnTo>
                <a:lnTo>
                  <a:pt x="9759" y="767"/>
                </a:lnTo>
                <a:lnTo>
                  <a:pt x="10425" y="771"/>
                </a:lnTo>
                <a:lnTo>
                  <a:pt x="11148" y="771"/>
                </a:lnTo>
                <a:lnTo>
                  <a:pt x="11849" y="771"/>
                </a:lnTo>
                <a:lnTo>
                  <a:pt x="12559" y="767"/>
                </a:lnTo>
                <a:lnTo>
                  <a:pt x="13252" y="758"/>
                </a:lnTo>
                <a:lnTo>
                  <a:pt x="13922" y="754"/>
                </a:lnTo>
                <a:lnTo>
                  <a:pt x="14610" y="727"/>
                </a:lnTo>
                <a:lnTo>
                  <a:pt x="15254" y="723"/>
                </a:lnTo>
                <a:lnTo>
                  <a:pt x="15911" y="701"/>
                </a:lnTo>
                <a:lnTo>
                  <a:pt x="16528" y="679"/>
                </a:lnTo>
                <a:lnTo>
                  <a:pt x="17147" y="657"/>
                </a:lnTo>
                <a:lnTo>
                  <a:pt x="17715" y="630"/>
                </a:lnTo>
                <a:lnTo>
                  <a:pt x="18284" y="604"/>
                </a:lnTo>
                <a:lnTo>
                  <a:pt x="18822" y="573"/>
                </a:lnTo>
                <a:lnTo>
                  <a:pt x="19316" y="537"/>
                </a:lnTo>
                <a:lnTo>
                  <a:pt x="19801" y="502"/>
                </a:lnTo>
                <a:lnTo>
                  <a:pt x="20211" y="471"/>
                </a:lnTo>
                <a:lnTo>
                  <a:pt x="20635" y="427"/>
                </a:lnTo>
                <a:lnTo>
                  <a:pt x="20965" y="392"/>
                </a:lnTo>
                <a:lnTo>
                  <a:pt x="21234" y="357"/>
                </a:lnTo>
                <a:lnTo>
                  <a:pt x="21569" y="308"/>
                </a:lnTo>
                <a:lnTo>
                  <a:pt x="21812" y="260"/>
                </a:lnTo>
                <a:lnTo>
                  <a:pt x="22019" y="216"/>
                </a:lnTo>
                <a:lnTo>
                  <a:pt x="22174" y="163"/>
                </a:lnTo>
                <a:lnTo>
                  <a:pt x="22315" y="119"/>
                </a:lnTo>
                <a:lnTo>
                  <a:pt x="22385" y="83"/>
                </a:lnTo>
                <a:lnTo>
                  <a:pt x="22385" y="97"/>
                </a:lnTo>
                <a:lnTo>
                  <a:pt x="22385" y="881"/>
                </a:lnTo>
                <a:lnTo>
                  <a:pt x="22319" y="926"/>
                </a:lnTo>
                <a:lnTo>
                  <a:pt x="22174" y="993"/>
                </a:lnTo>
                <a:lnTo>
                  <a:pt x="22006" y="1063"/>
                </a:lnTo>
                <a:lnTo>
                  <a:pt x="21781" y="1129"/>
                </a:lnTo>
                <a:lnTo>
                  <a:pt x="21569" y="1187"/>
                </a:lnTo>
                <a:lnTo>
                  <a:pt x="21287" y="1253"/>
                </a:lnTo>
                <a:lnTo>
                  <a:pt x="20965" y="1310"/>
                </a:lnTo>
                <a:lnTo>
                  <a:pt x="20582" y="1368"/>
                </a:lnTo>
                <a:lnTo>
                  <a:pt x="20198" y="1420"/>
                </a:lnTo>
                <a:lnTo>
                  <a:pt x="19770" y="1478"/>
                </a:lnTo>
                <a:lnTo>
                  <a:pt x="19325" y="1526"/>
                </a:lnTo>
                <a:lnTo>
                  <a:pt x="18774" y="1584"/>
                </a:lnTo>
                <a:lnTo>
                  <a:pt x="18315" y="1623"/>
                </a:lnTo>
                <a:lnTo>
                  <a:pt x="17662" y="1659"/>
                </a:lnTo>
                <a:lnTo>
                  <a:pt x="17124" y="1698"/>
                </a:lnTo>
                <a:lnTo>
                  <a:pt x="16519" y="1725"/>
                </a:lnTo>
                <a:lnTo>
                  <a:pt x="15889" y="1760"/>
                </a:lnTo>
                <a:lnTo>
                  <a:pt x="15232" y="1782"/>
                </a:lnTo>
                <a:lnTo>
                  <a:pt x="14579" y="1808"/>
                </a:lnTo>
                <a:lnTo>
                  <a:pt x="13904" y="1822"/>
                </a:lnTo>
                <a:lnTo>
                  <a:pt x="13225" y="1835"/>
                </a:lnTo>
                <a:lnTo>
                  <a:pt x="12502" y="1853"/>
                </a:lnTo>
                <a:lnTo>
                  <a:pt x="11827" y="1853"/>
                </a:lnTo>
                <a:lnTo>
                  <a:pt x="11139" y="1853"/>
                </a:lnTo>
                <a:lnTo>
                  <a:pt x="10412" y="1853"/>
                </a:lnTo>
                <a:lnTo>
                  <a:pt x="9742" y="1848"/>
                </a:lnTo>
                <a:lnTo>
                  <a:pt x="9049" y="1835"/>
                </a:lnTo>
                <a:lnTo>
                  <a:pt x="8339" y="1817"/>
                </a:lnTo>
                <a:lnTo>
                  <a:pt x="7660" y="1808"/>
                </a:lnTo>
                <a:lnTo>
                  <a:pt x="7038" y="1778"/>
                </a:lnTo>
                <a:lnTo>
                  <a:pt x="6390" y="1756"/>
                </a:lnTo>
                <a:lnTo>
                  <a:pt x="5782" y="1720"/>
                </a:lnTo>
                <a:lnTo>
                  <a:pt x="5159" y="1689"/>
                </a:lnTo>
                <a:lnTo>
                  <a:pt x="4559" y="1650"/>
                </a:lnTo>
                <a:lnTo>
                  <a:pt x="4034" y="1610"/>
                </a:lnTo>
                <a:lnTo>
                  <a:pt x="3492" y="1562"/>
                </a:lnTo>
                <a:lnTo>
                  <a:pt x="3003" y="1513"/>
                </a:lnTo>
                <a:lnTo>
                  <a:pt x="2531" y="1465"/>
                </a:lnTo>
                <a:lnTo>
                  <a:pt x="2121" y="1412"/>
                </a:lnTo>
                <a:lnTo>
                  <a:pt x="1724" y="1359"/>
                </a:lnTo>
                <a:lnTo>
                  <a:pt x="1375" y="1297"/>
                </a:lnTo>
                <a:lnTo>
                  <a:pt x="1049" y="1240"/>
                </a:lnTo>
                <a:lnTo>
                  <a:pt x="771" y="1173"/>
                </a:lnTo>
                <a:lnTo>
                  <a:pt x="533" y="1121"/>
                </a:lnTo>
                <a:lnTo>
                  <a:pt x="330" y="1054"/>
                </a:lnTo>
                <a:lnTo>
                  <a:pt x="189" y="979"/>
                </a:lnTo>
                <a:lnTo>
                  <a:pt x="105" y="921"/>
                </a:lnTo>
                <a:lnTo>
                  <a:pt x="0" y="846"/>
                </a:lnTo>
                <a:lnTo>
                  <a:pt x="0" y="780"/>
                </a:lnTo>
                <a:lnTo>
                  <a:pt x="0" y="820"/>
                </a:lnTo>
                <a:lnTo>
                  <a:pt x="0" y="0"/>
                </a:lnTo>
                <a:lnTo>
                  <a:pt x="13" y="44"/>
                </a:lnTo>
                <a:close/>
              </a:path>
            </a:pathLst>
          </a:custGeom>
          <a:solidFill>
            <a:srgbClr val="e0e0e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90400" y="2514600"/>
            <a:ext cx="8077320" cy="620640"/>
          </a:xfrm>
          <a:prstGeom prst="ellipse">
            <a:avLst/>
          </a:prstGeom>
          <a:solidFill>
            <a:srgbClr val="e0e0e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497400" y="3122640"/>
            <a:ext cx="17017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18280" y="218124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220176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543040" y="220032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074600" y="223200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930480" y="5256360"/>
            <a:ext cx="676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024600" y="5256360"/>
            <a:ext cx="561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16280" y="5526000"/>
            <a:ext cx="701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64040" y="5256360"/>
            <a:ext cx="8920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896000" y="5616720"/>
            <a:ext cx="955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979720" y="5591160"/>
            <a:ext cx="150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758960" y="4869000"/>
            <a:ext cx="1108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746600" y="4879800"/>
            <a:ext cx="955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/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1639800" y="4905360"/>
            <a:ext cx="13111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int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151680" y="4859280"/>
            <a:ext cx="841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3422520" y="4879800"/>
            <a:ext cx="727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22280" y="1754280"/>
            <a:ext cx="1312920" cy="415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700200" y="1836720"/>
            <a:ext cx="676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2394000" y="5234040"/>
            <a:ext cx="942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895400" y="1751040"/>
            <a:ext cx="1312920" cy="366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190600" y="1782720"/>
            <a:ext cx="676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309840" y="1781280"/>
            <a:ext cx="1312920" cy="358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567240" y="1766880"/>
            <a:ext cx="676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738680" y="1770120"/>
            <a:ext cx="1312920" cy="3650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5035680" y="1744560"/>
            <a:ext cx="676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134040" y="1744560"/>
            <a:ext cx="1312920" cy="3967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743880" y="219384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532640" y="1744560"/>
            <a:ext cx="1312920" cy="3967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096400" y="219384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7972560" y="1827360"/>
            <a:ext cx="689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v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1440" y="685800"/>
            <a:ext cx="90662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ross Language, Cross Platfor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464160" y="1782720"/>
            <a:ext cx="676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v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71600" y="152280"/>
            <a:ext cx="85964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Object Applications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74840" y="1600200"/>
            <a:ext cx="8364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niversal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verse styles of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nchronous, asynchronous and publish/subscri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nts and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verse Qualit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Quality of Service(QoS) issues such as guaranteed delivery and exactly-once delivery are very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llow for database independent synchronous  transaction management encapsulated within the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ynchronous transaction management with quality of service as an alternative to synchronous transaction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famous 3”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476280" y="39996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versal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954600" y="3879720"/>
            <a:ext cx="732240" cy="729000"/>
          </a:xfrm>
          <a:custGeom>
            <a:avLst/>
            <a:gdLst/>
            <a:ahLst/>
            <a:rect l="0" t="0" r="r" b="b"/>
            <a:pathLst>
              <a:path w="2034" h="2025">
                <a:moveTo>
                  <a:pt x="0" y="1005"/>
                </a:moveTo>
                <a:lnTo>
                  <a:pt x="17" y="833"/>
                </a:lnTo>
                <a:lnTo>
                  <a:pt x="66" y="661"/>
                </a:lnTo>
                <a:lnTo>
                  <a:pt x="141" y="507"/>
                </a:lnTo>
                <a:lnTo>
                  <a:pt x="238" y="357"/>
                </a:lnTo>
                <a:lnTo>
                  <a:pt x="370" y="238"/>
                </a:lnTo>
                <a:lnTo>
                  <a:pt x="507" y="127"/>
                </a:lnTo>
                <a:lnTo>
                  <a:pt x="671" y="57"/>
                </a:lnTo>
                <a:lnTo>
                  <a:pt x="843" y="13"/>
                </a:lnTo>
                <a:lnTo>
                  <a:pt x="1015" y="0"/>
                </a:lnTo>
                <a:lnTo>
                  <a:pt x="1196" y="13"/>
                </a:lnTo>
                <a:lnTo>
                  <a:pt x="1359" y="57"/>
                </a:lnTo>
                <a:lnTo>
                  <a:pt x="1527" y="127"/>
                </a:lnTo>
                <a:lnTo>
                  <a:pt x="1673" y="238"/>
                </a:lnTo>
                <a:lnTo>
                  <a:pt x="1796" y="357"/>
                </a:lnTo>
                <a:lnTo>
                  <a:pt x="1893" y="507"/>
                </a:lnTo>
                <a:lnTo>
                  <a:pt x="1968" y="661"/>
                </a:lnTo>
                <a:lnTo>
                  <a:pt x="2017" y="833"/>
                </a:lnTo>
                <a:lnTo>
                  <a:pt x="2034" y="1005"/>
                </a:lnTo>
                <a:lnTo>
                  <a:pt x="2017" y="1187"/>
                </a:lnTo>
                <a:lnTo>
                  <a:pt x="1968" y="1359"/>
                </a:lnTo>
                <a:lnTo>
                  <a:pt x="1893" y="1517"/>
                </a:lnTo>
                <a:lnTo>
                  <a:pt x="1796" y="1663"/>
                </a:lnTo>
                <a:lnTo>
                  <a:pt x="1673" y="1786"/>
                </a:lnTo>
                <a:lnTo>
                  <a:pt x="1527" y="1892"/>
                </a:lnTo>
                <a:lnTo>
                  <a:pt x="1359" y="1967"/>
                </a:lnTo>
                <a:lnTo>
                  <a:pt x="1196" y="2007"/>
                </a:lnTo>
                <a:lnTo>
                  <a:pt x="1015" y="2025"/>
                </a:lnTo>
                <a:lnTo>
                  <a:pt x="843" y="2007"/>
                </a:lnTo>
                <a:lnTo>
                  <a:pt x="671" y="1967"/>
                </a:lnTo>
                <a:lnTo>
                  <a:pt x="507" y="1892"/>
                </a:lnTo>
                <a:lnTo>
                  <a:pt x="370" y="1786"/>
                </a:lnTo>
                <a:lnTo>
                  <a:pt x="238" y="1663"/>
                </a:lnTo>
                <a:lnTo>
                  <a:pt x="141" y="1517"/>
                </a:lnTo>
                <a:lnTo>
                  <a:pt x="66" y="1359"/>
                </a:lnTo>
                <a:lnTo>
                  <a:pt x="17" y="1187"/>
                </a:lnTo>
                <a:lnTo>
                  <a:pt x="0" y="10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666800" y="1471680"/>
            <a:ext cx="2986560" cy="2522880"/>
          </a:xfrm>
          <a:custGeom>
            <a:avLst/>
            <a:gdLst/>
            <a:ahLst/>
            <a:rect l="0" t="0" r="r" b="b"/>
            <a:pathLst>
              <a:path w="8296" h="7008">
                <a:moveTo>
                  <a:pt x="0" y="7008"/>
                </a:moveTo>
                <a:lnTo>
                  <a:pt x="8296" y="7008"/>
                </a:lnTo>
                <a:lnTo>
                  <a:pt x="8296" y="0"/>
                </a:lnTo>
                <a:lnTo>
                  <a:pt x="0" y="0"/>
                </a:lnTo>
                <a:lnTo>
                  <a:pt x="0" y="7008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362320" y="2035080"/>
            <a:ext cx="2424600" cy="1959480"/>
          </a:xfrm>
          <a:custGeom>
            <a:avLst/>
            <a:gdLst/>
            <a:ahLst/>
            <a:rect l="0" t="0" r="r" b="b"/>
            <a:pathLst>
              <a:path w="6735" h="5443">
                <a:moveTo>
                  <a:pt x="0" y="5443"/>
                </a:moveTo>
                <a:lnTo>
                  <a:pt x="6735" y="5443"/>
                </a:lnTo>
                <a:lnTo>
                  <a:pt x="6735" y="0"/>
                </a:lnTo>
                <a:lnTo>
                  <a:pt x="0" y="0"/>
                </a:lnTo>
                <a:lnTo>
                  <a:pt x="0" y="54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451240" y="2103480"/>
            <a:ext cx="1046520" cy="1841760"/>
          </a:xfrm>
          <a:custGeom>
            <a:avLst/>
            <a:gdLst/>
            <a:ahLst/>
            <a:rect l="0" t="0" r="r" b="b"/>
            <a:pathLst>
              <a:path w="2907" h="5116">
                <a:moveTo>
                  <a:pt x="0" y="5116"/>
                </a:moveTo>
                <a:lnTo>
                  <a:pt x="2907" y="5116"/>
                </a:lnTo>
                <a:lnTo>
                  <a:pt x="2907" y="0"/>
                </a:lnTo>
                <a:lnTo>
                  <a:pt x="0" y="0"/>
                </a:lnTo>
                <a:lnTo>
                  <a:pt x="0" y="5116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536920" y="265104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52"/>
                </a:moveTo>
                <a:lnTo>
                  <a:pt x="1091" y="684"/>
                </a:lnTo>
                <a:lnTo>
                  <a:pt x="1042" y="807"/>
                </a:lnTo>
                <a:lnTo>
                  <a:pt x="967" y="922"/>
                </a:lnTo>
                <a:lnTo>
                  <a:pt x="861" y="1002"/>
                </a:lnTo>
                <a:lnTo>
                  <a:pt x="746" y="1068"/>
                </a:lnTo>
                <a:lnTo>
                  <a:pt x="613" y="1099"/>
                </a:lnTo>
                <a:lnTo>
                  <a:pt x="481" y="1099"/>
                </a:lnTo>
                <a:lnTo>
                  <a:pt x="353" y="1068"/>
                </a:lnTo>
                <a:lnTo>
                  <a:pt x="238" y="1002"/>
                </a:lnTo>
                <a:lnTo>
                  <a:pt x="136" y="922"/>
                </a:lnTo>
                <a:lnTo>
                  <a:pt x="57" y="807"/>
                </a:lnTo>
                <a:lnTo>
                  <a:pt x="8" y="684"/>
                </a:lnTo>
                <a:lnTo>
                  <a:pt x="0" y="552"/>
                </a:lnTo>
                <a:lnTo>
                  <a:pt x="8" y="418"/>
                </a:lnTo>
                <a:lnTo>
                  <a:pt x="57" y="295"/>
                </a:lnTo>
                <a:lnTo>
                  <a:pt x="136" y="180"/>
                </a:lnTo>
                <a:lnTo>
                  <a:pt x="238" y="92"/>
                </a:lnTo>
                <a:lnTo>
                  <a:pt x="353" y="35"/>
                </a:lnTo>
                <a:lnTo>
                  <a:pt x="481" y="0"/>
                </a:lnTo>
                <a:lnTo>
                  <a:pt x="613" y="0"/>
                </a:lnTo>
                <a:lnTo>
                  <a:pt x="746" y="35"/>
                </a:lnTo>
                <a:lnTo>
                  <a:pt x="861" y="92"/>
                </a:lnTo>
                <a:lnTo>
                  <a:pt x="967" y="180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52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606760" y="27288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4"/>
                </a:lnTo>
                <a:lnTo>
                  <a:pt x="628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4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30"/>
                </a:lnTo>
                <a:lnTo>
                  <a:pt x="287" y="0"/>
                </a:lnTo>
                <a:lnTo>
                  <a:pt x="389" y="0"/>
                </a:lnTo>
                <a:lnTo>
                  <a:pt x="477" y="30"/>
                </a:lnTo>
                <a:lnTo>
                  <a:pt x="562" y="79"/>
                </a:lnTo>
                <a:lnTo>
                  <a:pt x="628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032280" y="265104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52"/>
                </a:moveTo>
                <a:lnTo>
                  <a:pt x="1091" y="684"/>
                </a:lnTo>
                <a:lnTo>
                  <a:pt x="1051" y="807"/>
                </a:lnTo>
                <a:lnTo>
                  <a:pt x="967" y="922"/>
                </a:lnTo>
                <a:lnTo>
                  <a:pt x="870" y="1002"/>
                </a:lnTo>
                <a:lnTo>
                  <a:pt x="755" y="1068"/>
                </a:lnTo>
                <a:lnTo>
                  <a:pt x="622" y="1099"/>
                </a:lnTo>
                <a:lnTo>
                  <a:pt x="490" y="1099"/>
                </a:lnTo>
                <a:lnTo>
                  <a:pt x="362" y="1068"/>
                </a:lnTo>
                <a:lnTo>
                  <a:pt x="238" y="1002"/>
                </a:lnTo>
                <a:lnTo>
                  <a:pt x="136" y="922"/>
                </a:lnTo>
                <a:lnTo>
                  <a:pt x="66" y="807"/>
                </a:lnTo>
                <a:lnTo>
                  <a:pt x="17" y="684"/>
                </a:lnTo>
                <a:lnTo>
                  <a:pt x="0" y="552"/>
                </a:lnTo>
                <a:lnTo>
                  <a:pt x="17" y="418"/>
                </a:lnTo>
                <a:lnTo>
                  <a:pt x="66" y="295"/>
                </a:lnTo>
                <a:lnTo>
                  <a:pt x="136" y="180"/>
                </a:lnTo>
                <a:lnTo>
                  <a:pt x="238" y="92"/>
                </a:lnTo>
                <a:lnTo>
                  <a:pt x="362" y="35"/>
                </a:lnTo>
                <a:lnTo>
                  <a:pt x="490" y="0"/>
                </a:lnTo>
                <a:lnTo>
                  <a:pt x="622" y="0"/>
                </a:lnTo>
                <a:lnTo>
                  <a:pt x="755" y="35"/>
                </a:lnTo>
                <a:lnTo>
                  <a:pt x="870" y="92"/>
                </a:lnTo>
                <a:lnTo>
                  <a:pt x="967" y="180"/>
                </a:lnTo>
                <a:lnTo>
                  <a:pt x="1051" y="295"/>
                </a:lnTo>
                <a:lnTo>
                  <a:pt x="1091" y="418"/>
                </a:lnTo>
                <a:lnTo>
                  <a:pt x="1108" y="552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105000" y="27288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4"/>
                </a:lnTo>
                <a:lnTo>
                  <a:pt x="619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4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30"/>
                </a:lnTo>
                <a:lnTo>
                  <a:pt x="287" y="0"/>
                </a:lnTo>
                <a:lnTo>
                  <a:pt x="389" y="0"/>
                </a:lnTo>
                <a:lnTo>
                  <a:pt x="477" y="30"/>
                </a:lnTo>
                <a:lnTo>
                  <a:pt x="562" y="79"/>
                </a:lnTo>
                <a:lnTo>
                  <a:pt x="619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536920" y="31510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67" y="909"/>
                </a:lnTo>
                <a:lnTo>
                  <a:pt x="861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1" y="1099"/>
                </a:lnTo>
                <a:lnTo>
                  <a:pt x="353" y="1063"/>
                </a:lnTo>
                <a:lnTo>
                  <a:pt x="238" y="997"/>
                </a:lnTo>
                <a:lnTo>
                  <a:pt x="136" y="909"/>
                </a:lnTo>
                <a:lnTo>
                  <a:pt x="57" y="803"/>
                </a:lnTo>
                <a:lnTo>
                  <a:pt x="8" y="680"/>
                </a:lnTo>
                <a:lnTo>
                  <a:pt x="0" y="546"/>
                </a:lnTo>
                <a:lnTo>
                  <a:pt x="8" y="405"/>
                </a:lnTo>
                <a:lnTo>
                  <a:pt x="57" y="286"/>
                </a:lnTo>
                <a:lnTo>
                  <a:pt x="136" y="176"/>
                </a:lnTo>
                <a:lnTo>
                  <a:pt x="238" y="88"/>
                </a:lnTo>
                <a:lnTo>
                  <a:pt x="353" y="30"/>
                </a:lnTo>
                <a:lnTo>
                  <a:pt x="481" y="0"/>
                </a:lnTo>
                <a:lnTo>
                  <a:pt x="613" y="0"/>
                </a:lnTo>
                <a:lnTo>
                  <a:pt x="746" y="30"/>
                </a:lnTo>
                <a:lnTo>
                  <a:pt x="861" y="88"/>
                </a:lnTo>
                <a:lnTo>
                  <a:pt x="967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606760" y="32274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28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28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032280" y="31510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51" y="803"/>
                </a:lnTo>
                <a:lnTo>
                  <a:pt x="967" y="909"/>
                </a:lnTo>
                <a:lnTo>
                  <a:pt x="870" y="997"/>
                </a:lnTo>
                <a:lnTo>
                  <a:pt x="755" y="1063"/>
                </a:lnTo>
                <a:lnTo>
                  <a:pt x="622" y="1099"/>
                </a:lnTo>
                <a:lnTo>
                  <a:pt x="490" y="1099"/>
                </a:lnTo>
                <a:lnTo>
                  <a:pt x="36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7" y="680"/>
                </a:lnTo>
                <a:lnTo>
                  <a:pt x="0" y="546"/>
                </a:lnTo>
                <a:lnTo>
                  <a:pt x="17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62" y="30"/>
                </a:lnTo>
                <a:lnTo>
                  <a:pt x="490" y="0"/>
                </a:lnTo>
                <a:lnTo>
                  <a:pt x="622" y="0"/>
                </a:lnTo>
                <a:lnTo>
                  <a:pt x="755" y="30"/>
                </a:lnTo>
                <a:lnTo>
                  <a:pt x="870" y="88"/>
                </a:lnTo>
                <a:lnTo>
                  <a:pt x="967" y="176"/>
                </a:lnTo>
                <a:lnTo>
                  <a:pt x="1051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05000" y="32274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19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19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2633760" y="212256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576520" y="231768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613320" y="2117880"/>
            <a:ext cx="1046520" cy="1845000"/>
          </a:xfrm>
          <a:custGeom>
            <a:avLst/>
            <a:gdLst/>
            <a:ahLst/>
            <a:rect l="0" t="0" r="r" b="b"/>
            <a:pathLst>
              <a:path w="2907" h="5125">
                <a:moveTo>
                  <a:pt x="0" y="5125"/>
                </a:moveTo>
                <a:lnTo>
                  <a:pt x="2907" y="5125"/>
                </a:lnTo>
                <a:lnTo>
                  <a:pt x="2907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69576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6" y="803"/>
                </a:lnTo>
                <a:lnTo>
                  <a:pt x="966" y="909"/>
                </a:lnTo>
                <a:lnTo>
                  <a:pt x="869" y="997"/>
                </a:lnTo>
                <a:lnTo>
                  <a:pt x="755" y="1063"/>
                </a:lnTo>
                <a:lnTo>
                  <a:pt x="622" y="1099"/>
                </a:lnTo>
                <a:lnTo>
                  <a:pt x="489" y="1099"/>
                </a:lnTo>
                <a:lnTo>
                  <a:pt x="357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57" y="22"/>
                </a:lnTo>
                <a:lnTo>
                  <a:pt x="489" y="0"/>
                </a:lnTo>
                <a:lnTo>
                  <a:pt x="622" y="0"/>
                </a:lnTo>
                <a:lnTo>
                  <a:pt x="755" y="22"/>
                </a:lnTo>
                <a:lnTo>
                  <a:pt x="869" y="88"/>
                </a:lnTo>
                <a:lnTo>
                  <a:pt x="966" y="176"/>
                </a:lnTo>
                <a:lnTo>
                  <a:pt x="1046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76884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13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13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19400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03"/>
                </a:lnTo>
                <a:lnTo>
                  <a:pt x="966" y="909"/>
                </a:lnTo>
                <a:lnTo>
                  <a:pt x="865" y="997"/>
                </a:lnTo>
                <a:lnTo>
                  <a:pt x="746" y="1063"/>
                </a:lnTo>
                <a:lnTo>
                  <a:pt x="622" y="1099"/>
                </a:lnTo>
                <a:lnTo>
                  <a:pt x="480" y="1099"/>
                </a:lnTo>
                <a:lnTo>
                  <a:pt x="357" y="1063"/>
                </a:lnTo>
                <a:lnTo>
                  <a:pt x="233" y="997"/>
                </a:lnTo>
                <a:lnTo>
                  <a:pt x="136" y="909"/>
                </a:lnTo>
                <a:lnTo>
                  <a:pt x="61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1" y="286"/>
                </a:lnTo>
                <a:lnTo>
                  <a:pt x="136" y="176"/>
                </a:lnTo>
                <a:lnTo>
                  <a:pt x="233" y="88"/>
                </a:lnTo>
                <a:lnTo>
                  <a:pt x="357" y="22"/>
                </a:lnTo>
                <a:lnTo>
                  <a:pt x="480" y="0"/>
                </a:lnTo>
                <a:lnTo>
                  <a:pt x="622" y="0"/>
                </a:lnTo>
                <a:lnTo>
                  <a:pt x="746" y="22"/>
                </a:lnTo>
                <a:lnTo>
                  <a:pt x="865" y="88"/>
                </a:lnTo>
                <a:lnTo>
                  <a:pt x="966" y="176"/>
                </a:lnTo>
                <a:lnTo>
                  <a:pt x="1037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13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48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48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13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69576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6" y="812"/>
                </a:lnTo>
                <a:lnTo>
                  <a:pt x="966" y="918"/>
                </a:lnTo>
                <a:lnTo>
                  <a:pt x="869" y="1006"/>
                </a:lnTo>
                <a:lnTo>
                  <a:pt x="755" y="1063"/>
                </a:lnTo>
                <a:lnTo>
                  <a:pt x="622" y="1099"/>
                </a:lnTo>
                <a:lnTo>
                  <a:pt x="489" y="1099"/>
                </a:lnTo>
                <a:lnTo>
                  <a:pt x="357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57" y="30"/>
                </a:lnTo>
                <a:lnTo>
                  <a:pt x="489" y="0"/>
                </a:lnTo>
                <a:lnTo>
                  <a:pt x="622" y="0"/>
                </a:lnTo>
                <a:lnTo>
                  <a:pt x="755" y="30"/>
                </a:lnTo>
                <a:lnTo>
                  <a:pt x="869" y="97"/>
                </a:lnTo>
                <a:lnTo>
                  <a:pt x="966" y="189"/>
                </a:lnTo>
                <a:lnTo>
                  <a:pt x="1046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76884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13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57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57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13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19400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12"/>
                </a:lnTo>
                <a:lnTo>
                  <a:pt x="966" y="918"/>
                </a:lnTo>
                <a:lnTo>
                  <a:pt x="865" y="1006"/>
                </a:lnTo>
                <a:lnTo>
                  <a:pt x="746" y="1063"/>
                </a:lnTo>
                <a:lnTo>
                  <a:pt x="622" y="1099"/>
                </a:lnTo>
                <a:lnTo>
                  <a:pt x="480" y="1099"/>
                </a:lnTo>
                <a:lnTo>
                  <a:pt x="357" y="1063"/>
                </a:lnTo>
                <a:lnTo>
                  <a:pt x="233" y="1006"/>
                </a:lnTo>
                <a:lnTo>
                  <a:pt x="136" y="918"/>
                </a:lnTo>
                <a:lnTo>
                  <a:pt x="61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1" y="295"/>
                </a:lnTo>
                <a:lnTo>
                  <a:pt x="136" y="189"/>
                </a:lnTo>
                <a:lnTo>
                  <a:pt x="233" y="97"/>
                </a:lnTo>
                <a:lnTo>
                  <a:pt x="357" y="30"/>
                </a:lnTo>
                <a:lnTo>
                  <a:pt x="480" y="0"/>
                </a:lnTo>
                <a:lnTo>
                  <a:pt x="622" y="0"/>
                </a:lnTo>
                <a:lnTo>
                  <a:pt x="746" y="30"/>
                </a:lnTo>
                <a:lnTo>
                  <a:pt x="865" y="97"/>
                </a:lnTo>
                <a:lnTo>
                  <a:pt x="966" y="189"/>
                </a:lnTo>
                <a:lnTo>
                  <a:pt x="1037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26708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13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48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48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13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79404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73860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811160" y="152712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682720" y="1722600"/>
            <a:ext cx="871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051520" y="1488960"/>
            <a:ext cx="2983320" cy="2522880"/>
          </a:xfrm>
          <a:custGeom>
            <a:avLst/>
            <a:gdLst/>
            <a:ahLst/>
            <a:rect l="0" t="0" r="r" b="b"/>
            <a:pathLst>
              <a:path w="8287" h="7008">
                <a:moveTo>
                  <a:pt x="0" y="7008"/>
                </a:moveTo>
                <a:lnTo>
                  <a:pt x="8287" y="7008"/>
                </a:lnTo>
                <a:lnTo>
                  <a:pt x="8287" y="0"/>
                </a:lnTo>
                <a:lnTo>
                  <a:pt x="0" y="0"/>
                </a:lnTo>
                <a:lnTo>
                  <a:pt x="0" y="7008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46680" y="2052720"/>
            <a:ext cx="2370600" cy="1959480"/>
          </a:xfrm>
          <a:custGeom>
            <a:avLst/>
            <a:gdLst/>
            <a:ahLst/>
            <a:rect l="0" t="0" r="r" b="b"/>
            <a:pathLst>
              <a:path w="6585" h="5443">
                <a:moveTo>
                  <a:pt x="0" y="5443"/>
                </a:moveTo>
                <a:lnTo>
                  <a:pt x="6585" y="5443"/>
                </a:lnTo>
                <a:lnTo>
                  <a:pt x="6585" y="0"/>
                </a:lnTo>
                <a:lnTo>
                  <a:pt x="0" y="0"/>
                </a:lnTo>
                <a:lnTo>
                  <a:pt x="0" y="54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35600" y="2117880"/>
            <a:ext cx="1043280" cy="1845000"/>
          </a:xfrm>
          <a:custGeom>
            <a:avLst/>
            <a:gdLst/>
            <a:ahLst/>
            <a:rect l="0" t="0" r="r" b="b"/>
            <a:pathLst>
              <a:path w="2898" h="5125">
                <a:moveTo>
                  <a:pt x="0" y="5125"/>
                </a:moveTo>
                <a:lnTo>
                  <a:pt x="2898" y="5125"/>
                </a:lnTo>
                <a:lnTo>
                  <a:pt x="2898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918040" y="267012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67" y="909"/>
                </a:lnTo>
                <a:lnTo>
                  <a:pt x="870" y="997"/>
                </a:lnTo>
                <a:lnTo>
                  <a:pt x="746" y="1063"/>
                </a:lnTo>
                <a:lnTo>
                  <a:pt x="622" y="1099"/>
                </a:lnTo>
                <a:lnTo>
                  <a:pt x="481" y="1099"/>
                </a:lnTo>
                <a:lnTo>
                  <a:pt x="36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7" y="680"/>
                </a:lnTo>
                <a:lnTo>
                  <a:pt x="0" y="546"/>
                </a:lnTo>
                <a:lnTo>
                  <a:pt x="17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62" y="22"/>
                </a:lnTo>
                <a:lnTo>
                  <a:pt x="481" y="0"/>
                </a:lnTo>
                <a:lnTo>
                  <a:pt x="622" y="0"/>
                </a:lnTo>
                <a:lnTo>
                  <a:pt x="746" y="22"/>
                </a:lnTo>
                <a:lnTo>
                  <a:pt x="870" y="88"/>
                </a:lnTo>
                <a:lnTo>
                  <a:pt x="967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991120" y="274644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19" y="516"/>
                </a:lnTo>
                <a:lnTo>
                  <a:pt x="562" y="583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83"/>
                </a:lnTo>
                <a:lnTo>
                  <a:pt x="48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48" y="145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19" y="145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41664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1" y="803"/>
                </a:lnTo>
                <a:lnTo>
                  <a:pt x="966" y="909"/>
                </a:lnTo>
                <a:lnTo>
                  <a:pt x="869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5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52" y="22"/>
                </a:lnTo>
                <a:lnTo>
                  <a:pt x="480" y="0"/>
                </a:lnTo>
                <a:lnTo>
                  <a:pt x="613" y="0"/>
                </a:lnTo>
                <a:lnTo>
                  <a:pt x="746" y="22"/>
                </a:lnTo>
                <a:lnTo>
                  <a:pt x="869" y="88"/>
                </a:lnTo>
                <a:lnTo>
                  <a:pt x="966" y="176"/>
                </a:lnTo>
                <a:lnTo>
                  <a:pt x="1041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489720" y="2746440"/>
            <a:ext cx="240120" cy="238320"/>
          </a:xfrm>
          <a:custGeom>
            <a:avLst/>
            <a:gdLst/>
            <a:ahLst/>
            <a:rect l="0" t="0" r="r" b="b"/>
            <a:pathLst>
              <a:path w="667" h="662">
                <a:moveTo>
                  <a:pt x="667" y="336"/>
                </a:moveTo>
                <a:lnTo>
                  <a:pt x="659" y="428"/>
                </a:lnTo>
                <a:lnTo>
                  <a:pt x="614" y="516"/>
                </a:lnTo>
                <a:lnTo>
                  <a:pt x="553" y="583"/>
                </a:lnTo>
                <a:lnTo>
                  <a:pt x="468" y="640"/>
                </a:lnTo>
                <a:lnTo>
                  <a:pt x="380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83"/>
                </a:lnTo>
                <a:lnTo>
                  <a:pt x="48" y="516"/>
                </a:lnTo>
                <a:lnTo>
                  <a:pt x="8" y="428"/>
                </a:lnTo>
                <a:lnTo>
                  <a:pt x="0" y="336"/>
                </a:lnTo>
                <a:lnTo>
                  <a:pt x="8" y="238"/>
                </a:lnTo>
                <a:lnTo>
                  <a:pt x="48" y="145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0" y="0"/>
                </a:lnTo>
                <a:lnTo>
                  <a:pt x="468" y="22"/>
                </a:lnTo>
                <a:lnTo>
                  <a:pt x="553" y="79"/>
                </a:lnTo>
                <a:lnTo>
                  <a:pt x="614" y="145"/>
                </a:lnTo>
                <a:lnTo>
                  <a:pt x="659" y="238"/>
                </a:lnTo>
                <a:lnTo>
                  <a:pt x="667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918040" y="31654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12"/>
                </a:lnTo>
                <a:lnTo>
                  <a:pt x="967" y="918"/>
                </a:lnTo>
                <a:lnTo>
                  <a:pt x="870" y="1006"/>
                </a:lnTo>
                <a:lnTo>
                  <a:pt x="746" y="1063"/>
                </a:lnTo>
                <a:lnTo>
                  <a:pt x="622" y="1099"/>
                </a:lnTo>
                <a:lnTo>
                  <a:pt x="481" y="1099"/>
                </a:lnTo>
                <a:lnTo>
                  <a:pt x="362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7" y="680"/>
                </a:lnTo>
                <a:lnTo>
                  <a:pt x="0" y="546"/>
                </a:lnTo>
                <a:lnTo>
                  <a:pt x="17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62" y="30"/>
                </a:lnTo>
                <a:lnTo>
                  <a:pt x="481" y="0"/>
                </a:lnTo>
                <a:lnTo>
                  <a:pt x="622" y="0"/>
                </a:lnTo>
                <a:lnTo>
                  <a:pt x="746" y="30"/>
                </a:lnTo>
                <a:lnTo>
                  <a:pt x="870" y="97"/>
                </a:lnTo>
                <a:lnTo>
                  <a:pt x="967" y="189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991120" y="3244680"/>
            <a:ext cx="243360" cy="240120"/>
          </a:xfrm>
          <a:custGeom>
            <a:avLst/>
            <a:gdLst/>
            <a:ahLst/>
            <a:rect l="0" t="0" r="r" b="b"/>
            <a:pathLst>
              <a:path w="676" h="667">
                <a:moveTo>
                  <a:pt x="676" y="327"/>
                </a:moveTo>
                <a:lnTo>
                  <a:pt x="659" y="428"/>
                </a:lnTo>
                <a:lnTo>
                  <a:pt x="619" y="509"/>
                </a:lnTo>
                <a:lnTo>
                  <a:pt x="562" y="584"/>
                </a:lnTo>
                <a:lnTo>
                  <a:pt x="477" y="632"/>
                </a:lnTo>
                <a:lnTo>
                  <a:pt x="389" y="667"/>
                </a:lnTo>
                <a:lnTo>
                  <a:pt x="287" y="667"/>
                </a:lnTo>
                <a:lnTo>
                  <a:pt x="199" y="632"/>
                </a:lnTo>
                <a:lnTo>
                  <a:pt x="114" y="584"/>
                </a:lnTo>
                <a:lnTo>
                  <a:pt x="48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48" y="145"/>
                </a:lnTo>
                <a:lnTo>
                  <a:pt x="114" y="74"/>
                </a:lnTo>
                <a:lnTo>
                  <a:pt x="199" y="26"/>
                </a:lnTo>
                <a:lnTo>
                  <a:pt x="287" y="0"/>
                </a:lnTo>
                <a:lnTo>
                  <a:pt x="389" y="0"/>
                </a:lnTo>
                <a:lnTo>
                  <a:pt x="477" y="26"/>
                </a:lnTo>
                <a:lnTo>
                  <a:pt x="562" y="74"/>
                </a:lnTo>
                <a:lnTo>
                  <a:pt x="619" y="145"/>
                </a:lnTo>
                <a:lnTo>
                  <a:pt x="659" y="239"/>
                </a:lnTo>
                <a:lnTo>
                  <a:pt x="676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41664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1" y="812"/>
                </a:lnTo>
                <a:lnTo>
                  <a:pt x="966" y="918"/>
                </a:lnTo>
                <a:lnTo>
                  <a:pt x="869" y="1006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52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52" y="30"/>
                </a:lnTo>
                <a:lnTo>
                  <a:pt x="480" y="0"/>
                </a:lnTo>
                <a:lnTo>
                  <a:pt x="613" y="0"/>
                </a:lnTo>
                <a:lnTo>
                  <a:pt x="746" y="30"/>
                </a:lnTo>
                <a:lnTo>
                  <a:pt x="869" y="97"/>
                </a:lnTo>
                <a:lnTo>
                  <a:pt x="966" y="189"/>
                </a:lnTo>
                <a:lnTo>
                  <a:pt x="1041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89720" y="3244680"/>
            <a:ext cx="240120" cy="240120"/>
          </a:xfrm>
          <a:custGeom>
            <a:avLst/>
            <a:gdLst/>
            <a:ahLst/>
            <a:rect l="0" t="0" r="r" b="b"/>
            <a:pathLst>
              <a:path w="667" h="667">
                <a:moveTo>
                  <a:pt x="667" y="327"/>
                </a:moveTo>
                <a:lnTo>
                  <a:pt x="659" y="428"/>
                </a:lnTo>
                <a:lnTo>
                  <a:pt x="614" y="509"/>
                </a:lnTo>
                <a:lnTo>
                  <a:pt x="553" y="584"/>
                </a:lnTo>
                <a:lnTo>
                  <a:pt x="468" y="632"/>
                </a:lnTo>
                <a:lnTo>
                  <a:pt x="380" y="667"/>
                </a:lnTo>
                <a:lnTo>
                  <a:pt x="287" y="667"/>
                </a:lnTo>
                <a:lnTo>
                  <a:pt x="199" y="632"/>
                </a:lnTo>
                <a:lnTo>
                  <a:pt x="114" y="584"/>
                </a:lnTo>
                <a:lnTo>
                  <a:pt x="48" y="509"/>
                </a:lnTo>
                <a:lnTo>
                  <a:pt x="8" y="428"/>
                </a:lnTo>
                <a:lnTo>
                  <a:pt x="0" y="327"/>
                </a:lnTo>
                <a:lnTo>
                  <a:pt x="8" y="239"/>
                </a:lnTo>
                <a:lnTo>
                  <a:pt x="48" y="145"/>
                </a:lnTo>
                <a:lnTo>
                  <a:pt x="114" y="74"/>
                </a:lnTo>
                <a:lnTo>
                  <a:pt x="199" y="26"/>
                </a:lnTo>
                <a:lnTo>
                  <a:pt x="287" y="0"/>
                </a:lnTo>
                <a:lnTo>
                  <a:pt x="380" y="0"/>
                </a:lnTo>
                <a:lnTo>
                  <a:pt x="468" y="26"/>
                </a:lnTo>
                <a:lnTo>
                  <a:pt x="553" y="74"/>
                </a:lnTo>
                <a:lnTo>
                  <a:pt x="614" y="145"/>
                </a:lnTo>
                <a:lnTo>
                  <a:pt x="659" y="239"/>
                </a:lnTo>
                <a:lnTo>
                  <a:pt x="667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601488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596124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997680" y="2117880"/>
            <a:ext cx="1043280" cy="1845000"/>
          </a:xfrm>
          <a:custGeom>
            <a:avLst/>
            <a:gdLst/>
            <a:ahLst/>
            <a:rect l="0" t="0" r="r" b="b"/>
            <a:pathLst>
              <a:path w="2898" h="5125">
                <a:moveTo>
                  <a:pt x="0" y="5125"/>
                </a:moveTo>
                <a:lnTo>
                  <a:pt x="2898" y="5125"/>
                </a:lnTo>
                <a:lnTo>
                  <a:pt x="2898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08012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03"/>
                </a:lnTo>
                <a:lnTo>
                  <a:pt x="966" y="909"/>
                </a:lnTo>
                <a:lnTo>
                  <a:pt x="865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48" y="1063"/>
                </a:lnTo>
                <a:lnTo>
                  <a:pt x="233" y="997"/>
                </a:lnTo>
                <a:lnTo>
                  <a:pt x="136" y="909"/>
                </a:lnTo>
                <a:lnTo>
                  <a:pt x="61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1" y="286"/>
                </a:lnTo>
                <a:lnTo>
                  <a:pt x="136" y="176"/>
                </a:lnTo>
                <a:lnTo>
                  <a:pt x="233" y="88"/>
                </a:lnTo>
                <a:lnTo>
                  <a:pt x="348" y="22"/>
                </a:lnTo>
                <a:lnTo>
                  <a:pt x="480" y="0"/>
                </a:lnTo>
                <a:lnTo>
                  <a:pt x="613" y="0"/>
                </a:lnTo>
                <a:lnTo>
                  <a:pt x="746" y="22"/>
                </a:lnTo>
                <a:lnTo>
                  <a:pt x="865" y="88"/>
                </a:lnTo>
                <a:lnTo>
                  <a:pt x="966" y="176"/>
                </a:lnTo>
                <a:lnTo>
                  <a:pt x="1037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153200" y="2746440"/>
            <a:ext cx="238320" cy="238320"/>
          </a:xfrm>
          <a:custGeom>
            <a:avLst/>
            <a:gdLst/>
            <a:ahLst/>
            <a:rect l="0" t="0" r="r" b="b"/>
            <a:pathLst>
              <a:path w="662" h="662">
                <a:moveTo>
                  <a:pt x="662" y="336"/>
                </a:moveTo>
                <a:lnTo>
                  <a:pt x="658" y="428"/>
                </a:lnTo>
                <a:lnTo>
                  <a:pt x="613" y="516"/>
                </a:lnTo>
                <a:lnTo>
                  <a:pt x="547" y="583"/>
                </a:lnTo>
                <a:lnTo>
                  <a:pt x="468" y="640"/>
                </a:lnTo>
                <a:lnTo>
                  <a:pt x="375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48" y="516"/>
                </a:lnTo>
                <a:lnTo>
                  <a:pt x="8" y="428"/>
                </a:lnTo>
                <a:lnTo>
                  <a:pt x="0" y="336"/>
                </a:lnTo>
                <a:lnTo>
                  <a:pt x="8" y="238"/>
                </a:lnTo>
                <a:lnTo>
                  <a:pt x="48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75" y="0"/>
                </a:lnTo>
                <a:lnTo>
                  <a:pt x="468" y="22"/>
                </a:lnTo>
                <a:lnTo>
                  <a:pt x="547" y="79"/>
                </a:lnTo>
                <a:lnTo>
                  <a:pt x="613" y="145"/>
                </a:lnTo>
                <a:lnTo>
                  <a:pt x="658" y="238"/>
                </a:lnTo>
                <a:lnTo>
                  <a:pt x="662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77280" y="267012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72" y="909"/>
                </a:lnTo>
                <a:lnTo>
                  <a:pt x="861" y="997"/>
                </a:lnTo>
                <a:lnTo>
                  <a:pt x="746" y="1063"/>
                </a:lnTo>
                <a:lnTo>
                  <a:pt x="618" y="1099"/>
                </a:lnTo>
                <a:lnTo>
                  <a:pt x="486" y="1099"/>
                </a:lnTo>
                <a:lnTo>
                  <a:pt x="353" y="1063"/>
                </a:lnTo>
                <a:lnTo>
                  <a:pt x="238" y="997"/>
                </a:lnTo>
                <a:lnTo>
                  <a:pt x="141" y="909"/>
                </a:lnTo>
                <a:lnTo>
                  <a:pt x="57" y="803"/>
                </a:lnTo>
                <a:lnTo>
                  <a:pt x="8" y="680"/>
                </a:lnTo>
                <a:lnTo>
                  <a:pt x="0" y="546"/>
                </a:lnTo>
                <a:lnTo>
                  <a:pt x="8" y="405"/>
                </a:lnTo>
                <a:lnTo>
                  <a:pt x="57" y="286"/>
                </a:lnTo>
                <a:lnTo>
                  <a:pt x="141" y="176"/>
                </a:lnTo>
                <a:lnTo>
                  <a:pt x="238" y="88"/>
                </a:lnTo>
                <a:lnTo>
                  <a:pt x="353" y="22"/>
                </a:lnTo>
                <a:lnTo>
                  <a:pt x="486" y="0"/>
                </a:lnTo>
                <a:lnTo>
                  <a:pt x="618" y="0"/>
                </a:lnTo>
                <a:lnTo>
                  <a:pt x="746" y="22"/>
                </a:lnTo>
                <a:lnTo>
                  <a:pt x="861" y="88"/>
                </a:lnTo>
                <a:lnTo>
                  <a:pt x="972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64856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22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22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08012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12"/>
                </a:lnTo>
                <a:lnTo>
                  <a:pt x="966" y="918"/>
                </a:lnTo>
                <a:lnTo>
                  <a:pt x="865" y="1006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48" y="1063"/>
                </a:lnTo>
                <a:lnTo>
                  <a:pt x="233" y="1006"/>
                </a:lnTo>
                <a:lnTo>
                  <a:pt x="136" y="918"/>
                </a:lnTo>
                <a:lnTo>
                  <a:pt x="61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1" y="295"/>
                </a:lnTo>
                <a:lnTo>
                  <a:pt x="136" y="189"/>
                </a:lnTo>
                <a:lnTo>
                  <a:pt x="233" y="97"/>
                </a:lnTo>
                <a:lnTo>
                  <a:pt x="348" y="30"/>
                </a:lnTo>
                <a:lnTo>
                  <a:pt x="480" y="0"/>
                </a:lnTo>
                <a:lnTo>
                  <a:pt x="613" y="0"/>
                </a:lnTo>
                <a:lnTo>
                  <a:pt x="746" y="30"/>
                </a:lnTo>
                <a:lnTo>
                  <a:pt x="865" y="97"/>
                </a:lnTo>
                <a:lnTo>
                  <a:pt x="966" y="189"/>
                </a:lnTo>
                <a:lnTo>
                  <a:pt x="1037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153200" y="3244680"/>
            <a:ext cx="238320" cy="240120"/>
          </a:xfrm>
          <a:custGeom>
            <a:avLst/>
            <a:gdLst/>
            <a:ahLst/>
            <a:rect l="0" t="0" r="r" b="b"/>
            <a:pathLst>
              <a:path w="662" h="667">
                <a:moveTo>
                  <a:pt x="662" y="327"/>
                </a:moveTo>
                <a:lnTo>
                  <a:pt x="658" y="428"/>
                </a:lnTo>
                <a:lnTo>
                  <a:pt x="613" y="509"/>
                </a:lnTo>
                <a:lnTo>
                  <a:pt x="547" y="584"/>
                </a:lnTo>
                <a:lnTo>
                  <a:pt x="468" y="632"/>
                </a:lnTo>
                <a:lnTo>
                  <a:pt x="375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48" y="509"/>
                </a:lnTo>
                <a:lnTo>
                  <a:pt x="8" y="428"/>
                </a:lnTo>
                <a:lnTo>
                  <a:pt x="0" y="327"/>
                </a:lnTo>
                <a:lnTo>
                  <a:pt x="8" y="239"/>
                </a:lnTo>
                <a:lnTo>
                  <a:pt x="48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75" y="0"/>
                </a:lnTo>
                <a:lnTo>
                  <a:pt x="468" y="26"/>
                </a:lnTo>
                <a:lnTo>
                  <a:pt x="547" y="74"/>
                </a:lnTo>
                <a:lnTo>
                  <a:pt x="613" y="145"/>
                </a:lnTo>
                <a:lnTo>
                  <a:pt x="658" y="239"/>
                </a:lnTo>
                <a:lnTo>
                  <a:pt x="662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577280" y="31654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12"/>
                </a:lnTo>
                <a:lnTo>
                  <a:pt x="972" y="918"/>
                </a:lnTo>
                <a:lnTo>
                  <a:pt x="861" y="1006"/>
                </a:lnTo>
                <a:lnTo>
                  <a:pt x="746" y="1063"/>
                </a:lnTo>
                <a:lnTo>
                  <a:pt x="618" y="1099"/>
                </a:lnTo>
                <a:lnTo>
                  <a:pt x="486" y="1099"/>
                </a:lnTo>
                <a:lnTo>
                  <a:pt x="353" y="1063"/>
                </a:lnTo>
                <a:lnTo>
                  <a:pt x="238" y="1006"/>
                </a:lnTo>
                <a:lnTo>
                  <a:pt x="141" y="918"/>
                </a:lnTo>
                <a:lnTo>
                  <a:pt x="57" y="812"/>
                </a:lnTo>
                <a:lnTo>
                  <a:pt x="8" y="680"/>
                </a:lnTo>
                <a:lnTo>
                  <a:pt x="0" y="546"/>
                </a:lnTo>
                <a:lnTo>
                  <a:pt x="8" y="418"/>
                </a:lnTo>
                <a:lnTo>
                  <a:pt x="57" y="295"/>
                </a:lnTo>
                <a:lnTo>
                  <a:pt x="141" y="189"/>
                </a:lnTo>
                <a:lnTo>
                  <a:pt x="238" y="97"/>
                </a:lnTo>
                <a:lnTo>
                  <a:pt x="353" y="30"/>
                </a:lnTo>
                <a:lnTo>
                  <a:pt x="486" y="0"/>
                </a:lnTo>
                <a:lnTo>
                  <a:pt x="618" y="0"/>
                </a:lnTo>
                <a:lnTo>
                  <a:pt x="746" y="30"/>
                </a:lnTo>
                <a:lnTo>
                  <a:pt x="861" y="97"/>
                </a:lnTo>
                <a:lnTo>
                  <a:pt x="972" y="189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64856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22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57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57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22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717552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712296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022800" y="1736640"/>
            <a:ext cx="871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19040" y="3976560"/>
            <a:ext cx="7048800" cy="649800"/>
          </a:xfrm>
          <a:custGeom>
            <a:avLst/>
            <a:gdLst/>
            <a:ahLst/>
            <a:rect l="0" t="0" r="r" b="b"/>
            <a:pathLst>
              <a:path w="19580" h="1805">
                <a:moveTo>
                  <a:pt x="736" y="1805"/>
                </a:moveTo>
                <a:lnTo>
                  <a:pt x="18843" y="1805"/>
                </a:lnTo>
                <a:lnTo>
                  <a:pt x="19580" y="900"/>
                </a:lnTo>
                <a:lnTo>
                  <a:pt x="18843" y="0"/>
                </a:lnTo>
                <a:lnTo>
                  <a:pt x="736" y="0"/>
                </a:lnTo>
                <a:lnTo>
                  <a:pt x="0" y="900"/>
                </a:lnTo>
                <a:lnTo>
                  <a:pt x="736" y="18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125960" y="3976560"/>
            <a:ext cx="716400" cy="932400"/>
          </a:xfrm>
          <a:custGeom>
            <a:avLst/>
            <a:gdLst/>
            <a:ahLst/>
            <a:rect l="0" t="0" r="r" b="b"/>
            <a:pathLst>
              <a:path w="1990" h="2590">
                <a:moveTo>
                  <a:pt x="308" y="0"/>
                </a:moveTo>
                <a:lnTo>
                  <a:pt x="1456" y="295"/>
                </a:lnTo>
                <a:lnTo>
                  <a:pt x="997" y="458"/>
                </a:lnTo>
                <a:lnTo>
                  <a:pt x="1990" y="2290"/>
                </a:lnTo>
                <a:lnTo>
                  <a:pt x="1787" y="2542"/>
                </a:lnTo>
                <a:lnTo>
                  <a:pt x="1465" y="2590"/>
                </a:lnTo>
                <a:lnTo>
                  <a:pt x="361" y="830"/>
                </a:lnTo>
                <a:lnTo>
                  <a:pt x="0" y="1147"/>
                </a:lnTo>
                <a:lnTo>
                  <a:pt x="308" y="0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703760" y="3797280"/>
            <a:ext cx="1081440" cy="1090800"/>
          </a:xfrm>
          <a:custGeom>
            <a:avLst/>
            <a:gdLst/>
            <a:ahLst/>
            <a:rect l="0" t="0" r="r" b="b"/>
            <a:pathLst>
              <a:path w="3004" h="3030">
                <a:moveTo>
                  <a:pt x="2990" y="0"/>
                </a:moveTo>
                <a:lnTo>
                  <a:pt x="1808" y="0"/>
                </a:lnTo>
                <a:lnTo>
                  <a:pt x="2210" y="260"/>
                </a:lnTo>
                <a:lnTo>
                  <a:pt x="0" y="2607"/>
                </a:lnTo>
                <a:lnTo>
                  <a:pt x="132" y="2902"/>
                </a:lnTo>
                <a:lnTo>
                  <a:pt x="432" y="3030"/>
                </a:lnTo>
                <a:lnTo>
                  <a:pt x="2735" y="776"/>
                </a:lnTo>
                <a:lnTo>
                  <a:pt x="3004" y="1177"/>
                </a:lnTo>
                <a:lnTo>
                  <a:pt x="2990" y="0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08280" y="4114800"/>
            <a:ext cx="1550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 txBox="1"/>
          <p:nvPr/>
        </p:nvSpPr>
        <p:spPr>
          <a:xfrm>
            <a:off x="4162320" y="5018040"/>
            <a:ext cx="1339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niversal 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389480" y="5538960"/>
            <a:ext cx="909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ava/II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800600" y="53038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4071960" y="5289480"/>
            <a:ext cx="480960" cy="33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00480" y="5289480"/>
            <a:ext cx="563760" cy="33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5981760" y="5775480"/>
            <a:ext cx="11113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TML/HT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876400" y="5505480"/>
            <a:ext cx="10666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1660680" y="4213080"/>
            <a:ext cx="1655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RBA/IIOP O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71600" y="763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Object Applications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74840" y="1523880"/>
            <a:ext cx="8593200" cy="38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ssio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fficient communication is important ingridient for handling thousands of client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munication resources are still scarce and expensive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 to high performance scalabl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 txBox="1"/>
          <p:nvPr/>
        </p:nvSpPr>
        <p:spPr>
          <a:xfrm>
            <a:off x="476280" y="55260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ssion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800280" y="1562040"/>
            <a:ext cx="6842160" cy="446580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866960" y="4686480"/>
            <a:ext cx="3905280" cy="12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0680" y="76320"/>
            <a:ext cx="83487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ational Systems Group, I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4800" y="58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65160" y="0"/>
            <a:ext cx="22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41960" y="1781280"/>
            <a:ext cx="4254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250 West 57th Str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ite 8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w York, N.Y.  100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l:(212) 489 0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x:(212) 489 1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g@isg-inc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www.isg-inc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1981080"/>
            <a:ext cx="3003480" cy="2262240"/>
            <a:chOff x="914400" y="1981080"/>
            <a:chExt cx="3003480" cy="22622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003480" cy="22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914400" y="3886200"/>
              <a:ext cx="2712960" cy="357120"/>
              <a:chOff x="914400" y="3886200"/>
              <a:chExt cx="2712960" cy="357120"/>
            </a:xfrm>
          </p:grpSpPr>
          <p:sp>
            <p:nvSpPr>
              <p:cNvPr id="63" name=""/>
              <p:cNvSpPr/>
              <p:nvPr/>
            </p:nvSpPr>
            <p:spPr>
              <a:xfrm>
                <a:off x="998640" y="3973680"/>
                <a:ext cx="2378160" cy="23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914400" y="3886200"/>
                <a:ext cx="271296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s Group,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21337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778280" y="2008080"/>
            <a:ext cx="20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rvers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06320" y="4167360"/>
            <a:ext cx="1149480" cy="598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52560" y="2381400"/>
            <a:ext cx="6705360" cy="4457880"/>
            <a:chOff x="952560" y="2381400"/>
            <a:chExt cx="6705360" cy="4457880"/>
          </a:xfrm>
        </p:grpSpPr>
        <p:sp>
          <p:nvSpPr>
            <p:cNvPr id="1023" name=""/>
            <p:cNvSpPr/>
            <p:nvPr/>
          </p:nvSpPr>
          <p:spPr>
            <a:xfrm>
              <a:off x="4824360" y="6454800"/>
              <a:ext cx="22068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53040" y="645156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952560" y="4270320"/>
              <a:ext cx="1076400" cy="59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1841400" y="4565520"/>
              <a:ext cx="178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0480" y="4348080"/>
              <a:ext cx="1782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3564000" y="3581280"/>
              <a:ext cx="1160280" cy="73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00360" y="4572000"/>
              <a:ext cx="1086120" cy="80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19440" y="2381400"/>
              <a:ext cx="4038480" cy="4457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57720" y="3309840"/>
              <a:ext cx="22068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15200" y="406728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10160" y="491508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38640" y="555624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62320" y="598788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22920" y="3908520"/>
              <a:ext cx="1905480" cy="1876680"/>
            </a:xfrm>
            <a:custGeom>
              <a:avLst/>
              <a:gdLst/>
              <a:ahLst/>
              <a:rect l="0" t="0" r="r" b="b"/>
              <a:pathLst>
                <a:path w="5293" h="5213">
                  <a:moveTo>
                    <a:pt x="0" y="5213"/>
                  </a:moveTo>
                  <a:lnTo>
                    <a:pt x="5293" y="5213"/>
                  </a:lnTo>
                  <a:lnTo>
                    <a:pt x="5293" y="0"/>
                  </a:lnTo>
                  <a:lnTo>
                    <a:pt x="0" y="0"/>
                  </a:lnTo>
                  <a:lnTo>
                    <a:pt x="0" y="5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822920" y="579420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21280" y="579420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18200" y="579420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16560" y="579420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14920" y="579420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13280" y="5794200"/>
              <a:ext cx="120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10200" y="579420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208560" y="579420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07280" y="579420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05640" y="579420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6750000" y="560700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6737400" y="541008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6737400" y="52117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6737400" y="501336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737400" y="4815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737400" y="461808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6737400" y="441972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6737400" y="422100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6737400" y="40226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653160" y="3908520"/>
              <a:ext cx="84600" cy="38520"/>
            </a:xfrm>
            <a:custGeom>
              <a:avLst/>
              <a:gdLst/>
              <a:ahLst/>
              <a:rect l="0" t="0" r="r" b="b"/>
              <a:pathLst>
                <a:path fill="none" w="235" h="107">
                  <a:moveTo>
                    <a:pt x="235" y="107"/>
                  </a:moveTo>
                  <a:lnTo>
                    <a:pt x="235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456240" y="390852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6257880" y="390852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059520" y="390852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861160" y="390852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5664240" y="390852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5465880" y="390852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267160" y="390852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068800" y="390852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871880" y="3908520"/>
              <a:ext cx="120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822920" y="39369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822920" y="41338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22920" y="43322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22920" y="453060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22920" y="47293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22920" y="492588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22920" y="51246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22920" y="532296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22920" y="55213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22920" y="5718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051520" y="4822920"/>
              <a:ext cx="1484640" cy="114840"/>
            </a:xfrm>
            <a:custGeom>
              <a:avLst/>
              <a:gdLst/>
              <a:ahLst/>
              <a:rect l="0" t="0" r="r" b="b"/>
              <a:pathLst>
                <a:path w="4124" h="319">
                  <a:moveTo>
                    <a:pt x="3811" y="0"/>
                  </a:moveTo>
                  <a:lnTo>
                    <a:pt x="0" y="0"/>
                  </a:lnTo>
                  <a:lnTo>
                    <a:pt x="317" y="319"/>
                  </a:lnTo>
                  <a:lnTo>
                    <a:pt x="4124" y="319"/>
                  </a:lnTo>
                  <a:lnTo>
                    <a:pt x="3811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23120" y="4222800"/>
              <a:ext cx="113040" cy="714600"/>
            </a:xfrm>
            <a:custGeom>
              <a:avLst/>
              <a:gdLst/>
              <a:ahLst/>
              <a:rect l="0" t="0" r="r" b="b"/>
              <a:pathLst>
                <a:path w="314" h="1985">
                  <a:moveTo>
                    <a:pt x="314" y="1985"/>
                  </a:moveTo>
                  <a:lnTo>
                    <a:pt x="0" y="1667"/>
                  </a:lnTo>
                  <a:lnTo>
                    <a:pt x="0" y="0"/>
                  </a:lnTo>
                  <a:lnTo>
                    <a:pt x="314" y="317"/>
                  </a:lnTo>
                  <a:lnTo>
                    <a:pt x="314" y="1985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51520" y="4222800"/>
              <a:ext cx="1371960" cy="600480"/>
            </a:xfrm>
            <a:custGeom>
              <a:avLst/>
              <a:gdLst/>
              <a:ahLst/>
              <a:rect l="0" t="0" r="r" b="b"/>
              <a:pathLst>
                <a:path w="3811" h="1668">
                  <a:moveTo>
                    <a:pt x="3811" y="1668"/>
                  </a:moveTo>
                  <a:lnTo>
                    <a:pt x="0" y="1668"/>
                  </a:lnTo>
                  <a:lnTo>
                    <a:pt x="0" y="0"/>
                  </a:lnTo>
                  <a:lnTo>
                    <a:pt x="3811" y="0"/>
                  </a:lnTo>
                  <a:lnTo>
                    <a:pt x="3811" y="16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51520" y="4356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5460840" y="4156200"/>
              <a:ext cx="692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137200" y="4591080"/>
              <a:ext cx="464040" cy="143280"/>
            </a:xfrm>
            <a:custGeom>
              <a:avLst/>
              <a:gdLst/>
              <a:ahLst/>
              <a:rect l="0" t="0" r="r" b="b"/>
              <a:pathLst>
                <a:path w="1289" h="398">
                  <a:moveTo>
                    <a:pt x="0" y="196"/>
                  </a:moveTo>
                  <a:lnTo>
                    <a:pt x="8" y="169"/>
                  </a:lnTo>
                  <a:lnTo>
                    <a:pt x="31" y="135"/>
                  </a:lnTo>
                  <a:lnTo>
                    <a:pt x="71" y="108"/>
                  </a:lnTo>
                  <a:lnTo>
                    <a:pt x="125" y="80"/>
                  </a:lnTo>
                  <a:lnTo>
                    <a:pt x="187" y="53"/>
                  </a:lnTo>
                  <a:lnTo>
                    <a:pt x="268" y="33"/>
                  </a:lnTo>
                  <a:lnTo>
                    <a:pt x="354" y="20"/>
                  </a:lnTo>
                  <a:lnTo>
                    <a:pt x="448" y="13"/>
                  </a:lnTo>
                  <a:lnTo>
                    <a:pt x="541" y="0"/>
                  </a:lnTo>
                  <a:lnTo>
                    <a:pt x="644" y="0"/>
                  </a:lnTo>
                  <a:lnTo>
                    <a:pt x="743" y="0"/>
                  </a:lnTo>
                  <a:lnTo>
                    <a:pt x="841" y="13"/>
                  </a:lnTo>
                  <a:lnTo>
                    <a:pt x="935" y="20"/>
                  </a:lnTo>
                  <a:lnTo>
                    <a:pt x="1025" y="33"/>
                  </a:lnTo>
                  <a:lnTo>
                    <a:pt x="1101" y="53"/>
                  </a:lnTo>
                  <a:lnTo>
                    <a:pt x="1164" y="80"/>
                  </a:lnTo>
                  <a:lnTo>
                    <a:pt x="1222" y="108"/>
                  </a:lnTo>
                  <a:lnTo>
                    <a:pt x="1258" y="135"/>
                  </a:lnTo>
                  <a:lnTo>
                    <a:pt x="1280" y="169"/>
                  </a:lnTo>
                  <a:lnTo>
                    <a:pt x="1289" y="196"/>
                  </a:lnTo>
                  <a:lnTo>
                    <a:pt x="1280" y="229"/>
                  </a:lnTo>
                  <a:lnTo>
                    <a:pt x="1258" y="256"/>
                  </a:lnTo>
                  <a:lnTo>
                    <a:pt x="1222" y="290"/>
                  </a:lnTo>
                  <a:lnTo>
                    <a:pt x="1164" y="318"/>
                  </a:lnTo>
                  <a:lnTo>
                    <a:pt x="1101" y="338"/>
                  </a:lnTo>
                  <a:lnTo>
                    <a:pt x="1025" y="358"/>
                  </a:lnTo>
                  <a:lnTo>
                    <a:pt x="935" y="371"/>
                  </a:lnTo>
                  <a:lnTo>
                    <a:pt x="841" y="385"/>
                  </a:lnTo>
                  <a:lnTo>
                    <a:pt x="743" y="392"/>
                  </a:lnTo>
                  <a:lnTo>
                    <a:pt x="644" y="398"/>
                  </a:lnTo>
                  <a:lnTo>
                    <a:pt x="541" y="392"/>
                  </a:lnTo>
                  <a:lnTo>
                    <a:pt x="448" y="385"/>
                  </a:lnTo>
                  <a:lnTo>
                    <a:pt x="354" y="371"/>
                  </a:lnTo>
                  <a:lnTo>
                    <a:pt x="268" y="358"/>
                  </a:lnTo>
                  <a:lnTo>
                    <a:pt x="187" y="338"/>
                  </a:lnTo>
                  <a:lnTo>
                    <a:pt x="125" y="318"/>
                  </a:lnTo>
                  <a:lnTo>
                    <a:pt x="71" y="290"/>
                  </a:lnTo>
                  <a:lnTo>
                    <a:pt x="31" y="256"/>
                  </a:lnTo>
                  <a:lnTo>
                    <a:pt x="8" y="229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5118120" y="457992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095800" y="4410000"/>
              <a:ext cx="508320" cy="132120"/>
            </a:xfrm>
            <a:custGeom>
              <a:avLst/>
              <a:gdLst/>
              <a:ahLst/>
              <a:rect l="0" t="0" r="r" b="b"/>
              <a:pathLst>
                <a:path w="1412" h="367">
                  <a:moveTo>
                    <a:pt x="0" y="187"/>
                  </a:moveTo>
                  <a:lnTo>
                    <a:pt x="9" y="155"/>
                  </a:lnTo>
                  <a:lnTo>
                    <a:pt x="34" y="130"/>
                  </a:lnTo>
                  <a:lnTo>
                    <a:pt x="78" y="105"/>
                  </a:lnTo>
                  <a:lnTo>
                    <a:pt x="137" y="80"/>
                  </a:lnTo>
                  <a:lnTo>
                    <a:pt x="205" y="55"/>
                  </a:lnTo>
                  <a:lnTo>
                    <a:pt x="293" y="37"/>
                  </a:lnTo>
                  <a:lnTo>
                    <a:pt x="387" y="18"/>
                  </a:lnTo>
                  <a:lnTo>
                    <a:pt x="489" y="6"/>
                  </a:lnTo>
                  <a:lnTo>
                    <a:pt x="592" y="0"/>
                  </a:lnTo>
                  <a:lnTo>
                    <a:pt x="705" y="0"/>
                  </a:lnTo>
                  <a:lnTo>
                    <a:pt x="814" y="0"/>
                  </a:lnTo>
                  <a:lnTo>
                    <a:pt x="922" y="6"/>
                  </a:lnTo>
                  <a:lnTo>
                    <a:pt x="1025" y="18"/>
                  </a:lnTo>
                  <a:lnTo>
                    <a:pt x="1123" y="37"/>
                  </a:lnTo>
                  <a:lnTo>
                    <a:pt x="1206" y="55"/>
                  </a:lnTo>
                  <a:lnTo>
                    <a:pt x="1274" y="80"/>
                  </a:lnTo>
                  <a:lnTo>
                    <a:pt x="1338" y="105"/>
                  </a:lnTo>
                  <a:lnTo>
                    <a:pt x="1377" y="130"/>
                  </a:lnTo>
                  <a:lnTo>
                    <a:pt x="1402" y="155"/>
                  </a:lnTo>
                  <a:lnTo>
                    <a:pt x="1412" y="187"/>
                  </a:lnTo>
                  <a:lnTo>
                    <a:pt x="1402" y="211"/>
                  </a:lnTo>
                  <a:lnTo>
                    <a:pt x="1377" y="242"/>
                  </a:lnTo>
                  <a:lnTo>
                    <a:pt x="1338" y="273"/>
                  </a:lnTo>
                  <a:lnTo>
                    <a:pt x="1274" y="292"/>
                  </a:lnTo>
                  <a:lnTo>
                    <a:pt x="1206" y="311"/>
                  </a:lnTo>
                  <a:lnTo>
                    <a:pt x="1123" y="335"/>
                  </a:lnTo>
                  <a:lnTo>
                    <a:pt x="1025" y="348"/>
                  </a:lnTo>
                  <a:lnTo>
                    <a:pt x="922" y="360"/>
                  </a:lnTo>
                  <a:lnTo>
                    <a:pt x="814" y="367"/>
                  </a:lnTo>
                  <a:lnTo>
                    <a:pt x="705" y="367"/>
                  </a:lnTo>
                  <a:lnTo>
                    <a:pt x="592" y="367"/>
                  </a:lnTo>
                  <a:lnTo>
                    <a:pt x="489" y="360"/>
                  </a:lnTo>
                  <a:lnTo>
                    <a:pt x="387" y="348"/>
                  </a:lnTo>
                  <a:lnTo>
                    <a:pt x="293" y="335"/>
                  </a:lnTo>
                  <a:lnTo>
                    <a:pt x="205" y="311"/>
                  </a:lnTo>
                  <a:lnTo>
                    <a:pt x="137" y="292"/>
                  </a:lnTo>
                  <a:lnTo>
                    <a:pt x="78" y="273"/>
                  </a:lnTo>
                  <a:lnTo>
                    <a:pt x="34" y="242"/>
                  </a:lnTo>
                  <a:lnTo>
                    <a:pt x="9" y="211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5089680" y="437832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641920" y="4381560"/>
              <a:ext cx="511560" cy="122760"/>
            </a:xfrm>
            <a:custGeom>
              <a:avLst/>
              <a:gdLst/>
              <a:ahLst/>
              <a:rect l="0" t="0" r="r" b="b"/>
              <a:pathLst>
                <a:path w="1421" h="341">
                  <a:moveTo>
                    <a:pt x="0" y="167"/>
                  </a:moveTo>
                  <a:lnTo>
                    <a:pt x="9" y="144"/>
                  </a:lnTo>
                  <a:lnTo>
                    <a:pt x="34" y="116"/>
                  </a:lnTo>
                  <a:lnTo>
                    <a:pt x="78" y="87"/>
                  </a:lnTo>
                  <a:lnTo>
                    <a:pt x="133" y="69"/>
                  </a:lnTo>
                  <a:lnTo>
                    <a:pt x="207" y="51"/>
                  </a:lnTo>
                  <a:lnTo>
                    <a:pt x="290" y="34"/>
                  </a:lnTo>
                  <a:lnTo>
                    <a:pt x="385" y="17"/>
                  </a:lnTo>
                  <a:lnTo>
                    <a:pt x="489" y="5"/>
                  </a:lnTo>
                  <a:lnTo>
                    <a:pt x="602" y="0"/>
                  </a:lnTo>
                  <a:lnTo>
                    <a:pt x="710" y="0"/>
                  </a:lnTo>
                  <a:lnTo>
                    <a:pt x="824" y="0"/>
                  </a:lnTo>
                  <a:lnTo>
                    <a:pt x="932" y="5"/>
                  </a:lnTo>
                  <a:lnTo>
                    <a:pt x="1031" y="17"/>
                  </a:lnTo>
                  <a:lnTo>
                    <a:pt x="1131" y="34"/>
                  </a:lnTo>
                  <a:lnTo>
                    <a:pt x="1209" y="51"/>
                  </a:lnTo>
                  <a:lnTo>
                    <a:pt x="1288" y="69"/>
                  </a:lnTo>
                  <a:lnTo>
                    <a:pt x="1343" y="87"/>
                  </a:lnTo>
                  <a:lnTo>
                    <a:pt x="1387" y="116"/>
                  </a:lnTo>
                  <a:lnTo>
                    <a:pt x="1416" y="144"/>
                  </a:lnTo>
                  <a:lnTo>
                    <a:pt x="1421" y="167"/>
                  </a:lnTo>
                  <a:lnTo>
                    <a:pt x="1416" y="196"/>
                  </a:lnTo>
                  <a:lnTo>
                    <a:pt x="1387" y="225"/>
                  </a:lnTo>
                  <a:lnTo>
                    <a:pt x="1343" y="242"/>
                  </a:lnTo>
                  <a:lnTo>
                    <a:pt x="1288" y="266"/>
                  </a:lnTo>
                  <a:lnTo>
                    <a:pt x="1209" y="289"/>
                  </a:lnTo>
                  <a:lnTo>
                    <a:pt x="1131" y="307"/>
                  </a:lnTo>
                  <a:lnTo>
                    <a:pt x="1031" y="324"/>
                  </a:lnTo>
                  <a:lnTo>
                    <a:pt x="932" y="335"/>
                  </a:lnTo>
                  <a:lnTo>
                    <a:pt x="824" y="341"/>
                  </a:lnTo>
                  <a:lnTo>
                    <a:pt x="710" y="341"/>
                  </a:lnTo>
                  <a:lnTo>
                    <a:pt x="602" y="341"/>
                  </a:lnTo>
                  <a:lnTo>
                    <a:pt x="489" y="335"/>
                  </a:lnTo>
                  <a:lnTo>
                    <a:pt x="385" y="324"/>
                  </a:lnTo>
                  <a:lnTo>
                    <a:pt x="290" y="307"/>
                  </a:lnTo>
                  <a:lnTo>
                    <a:pt x="207" y="289"/>
                  </a:lnTo>
                  <a:lnTo>
                    <a:pt x="133" y="266"/>
                  </a:lnTo>
                  <a:lnTo>
                    <a:pt x="78" y="242"/>
                  </a:lnTo>
                  <a:lnTo>
                    <a:pt x="34" y="225"/>
                  </a:lnTo>
                  <a:lnTo>
                    <a:pt x="9" y="196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>
              <a:off x="5668920" y="434808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57920" y="4543560"/>
              <a:ext cx="508320" cy="171720"/>
            </a:xfrm>
            <a:custGeom>
              <a:avLst/>
              <a:gdLst/>
              <a:ahLst/>
              <a:rect l="0" t="0" r="r" b="b"/>
              <a:pathLst>
                <a:path w="1412" h="477">
                  <a:moveTo>
                    <a:pt x="0" y="229"/>
                  </a:moveTo>
                  <a:lnTo>
                    <a:pt x="9" y="205"/>
                  </a:lnTo>
                  <a:lnTo>
                    <a:pt x="34" y="164"/>
                  </a:lnTo>
                  <a:lnTo>
                    <a:pt x="73" y="123"/>
                  </a:lnTo>
                  <a:lnTo>
                    <a:pt x="137" y="90"/>
                  </a:lnTo>
                  <a:lnTo>
                    <a:pt x="205" y="65"/>
                  </a:lnTo>
                  <a:lnTo>
                    <a:pt x="293" y="32"/>
                  </a:lnTo>
                  <a:lnTo>
                    <a:pt x="387" y="24"/>
                  </a:lnTo>
                  <a:lnTo>
                    <a:pt x="489" y="8"/>
                  </a:lnTo>
                  <a:lnTo>
                    <a:pt x="592" y="0"/>
                  </a:lnTo>
                  <a:lnTo>
                    <a:pt x="705" y="0"/>
                  </a:lnTo>
                  <a:lnTo>
                    <a:pt x="814" y="0"/>
                  </a:lnTo>
                  <a:lnTo>
                    <a:pt x="922" y="8"/>
                  </a:lnTo>
                  <a:lnTo>
                    <a:pt x="1025" y="24"/>
                  </a:lnTo>
                  <a:lnTo>
                    <a:pt x="1118" y="32"/>
                  </a:lnTo>
                  <a:lnTo>
                    <a:pt x="1206" y="65"/>
                  </a:lnTo>
                  <a:lnTo>
                    <a:pt x="1274" y="90"/>
                  </a:lnTo>
                  <a:lnTo>
                    <a:pt x="1338" y="123"/>
                  </a:lnTo>
                  <a:lnTo>
                    <a:pt x="1377" y="164"/>
                  </a:lnTo>
                  <a:lnTo>
                    <a:pt x="1402" y="205"/>
                  </a:lnTo>
                  <a:lnTo>
                    <a:pt x="1412" y="229"/>
                  </a:lnTo>
                  <a:lnTo>
                    <a:pt x="1402" y="271"/>
                  </a:lnTo>
                  <a:lnTo>
                    <a:pt x="1377" y="313"/>
                  </a:lnTo>
                  <a:lnTo>
                    <a:pt x="1338" y="345"/>
                  </a:lnTo>
                  <a:lnTo>
                    <a:pt x="1274" y="378"/>
                  </a:lnTo>
                  <a:lnTo>
                    <a:pt x="1206" y="411"/>
                  </a:lnTo>
                  <a:lnTo>
                    <a:pt x="1118" y="427"/>
                  </a:lnTo>
                  <a:lnTo>
                    <a:pt x="1025" y="452"/>
                  </a:lnTo>
                  <a:lnTo>
                    <a:pt x="922" y="469"/>
                  </a:lnTo>
                  <a:lnTo>
                    <a:pt x="814" y="477"/>
                  </a:lnTo>
                  <a:lnTo>
                    <a:pt x="705" y="477"/>
                  </a:lnTo>
                  <a:lnTo>
                    <a:pt x="592" y="477"/>
                  </a:lnTo>
                  <a:lnTo>
                    <a:pt x="489" y="469"/>
                  </a:lnTo>
                  <a:lnTo>
                    <a:pt x="387" y="452"/>
                  </a:lnTo>
                  <a:lnTo>
                    <a:pt x="293" y="427"/>
                  </a:lnTo>
                  <a:lnTo>
                    <a:pt x="205" y="411"/>
                  </a:lnTo>
                  <a:lnTo>
                    <a:pt x="137" y="378"/>
                  </a:lnTo>
                  <a:lnTo>
                    <a:pt x="73" y="345"/>
                  </a:lnTo>
                  <a:lnTo>
                    <a:pt x="34" y="313"/>
                  </a:lnTo>
                  <a:lnTo>
                    <a:pt x="9" y="27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 txBox="1"/>
            <p:nvPr/>
          </p:nvSpPr>
          <p:spPr>
            <a:xfrm>
              <a:off x="5869080" y="452916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051520" y="5580000"/>
              <a:ext cx="1484640" cy="114840"/>
            </a:xfrm>
            <a:custGeom>
              <a:avLst/>
              <a:gdLst/>
              <a:ahLst/>
              <a:rect l="0" t="0" r="r" b="b"/>
              <a:pathLst>
                <a:path w="4124" h="319">
                  <a:moveTo>
                    <a:pt x="3811" y="0"/>
                  </a:moveTo>
                  <a:lnTo>
                    <a:pt x="0" y="0"/>
                  </a:lnTo>
                  <a:lnTo>
                    <a:pt x="317" y="319"/>
                  </a:lnTo>
                  <a:lnTo>
                    <a:pt x="4124" y="319"/>
                  </a:lnTo>
                  <a:lnTo>
                    <a:pt x="3811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23120" y="4979880"/>
              <a:ext cx="113040" cy="714600"/>
            </a:xfrm>
            <a:custGeom>
              <a:avLst/>
              <a:gdLst/>
              <a:ahLst/>
              <a:rect l="0" t="0" r="r" b="b"/>
              <a:pathLst>
                <a:path w="314" h="1985">
                  <a:moveTo>
                    <a:pt x="314" y="1985"/>
                  </a:moveTo>
                  <a:lnTo>
                    <a:pt x="0" y="1667"/>
                  </a:lnTo>
                  <a:lnTo>
                    <a:pt x="0" y="0"/>
                  </a:lnTo>
                  <a:lnTo>
                    <a:pt x="314" y="317"/>
                  </a:lnTo>
                  <a:lnTo>
                    <a:pt x="314" y="1985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051520" y="4979880"/>
              <a:ext cx="1371960" cy="600480"/>
            </a:xfrm>
            <a:custGeom>
              <a:avLst/>
              <a:gdLst/>
              <a:ahLst/>
              <a:rect l="0" t="0" r="r" b="b"/>
              <a:pathLst>
                <a:path w="3811" h="1668">
                  <a:moveTo>
                    <a:pt x="3811" y="1668"/>
                  </a:moveTo>
                  <a:lnTo>
                    <a:pt x="0" y="1668"/>
                  </a:lnTo>
                  <a:lnTo>
                    <a:pt x="0" y="0"/>
                  </a:lnTo>
                  <a:lnTo>
                    <a:pt x="3811" y="0"/>
                  </a:lnTo>
                  <a:lnTo>
                    <a:pt x="3811" y="16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51520" y="5111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 txBox="1"/>
            <p:nvPr/>
          </p:nvSpPr>
          <p:spPr>
            <a:xfrm>
              <a:off x="5451480" y="4921200"/>
              <a:ext cx="692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035680" y="5149800"/>
              <a:ext cx="530640" cy="171720"/>
            </a:xfrm>
            <a:custGeom>
              <a:avLst/>
              <a:gdLst/>
              <a:ahLst/>
              <a:rect l="0" t="0" r="r" b="b"/>
              <a:pathLst>
                <a:path w="1474" h="477">
                  <a:moveTo>
                    <a:pt x="0" y="234"/>
                  </a:moveTo>
                  <a:lnTo>
                    <a:pt x="10" y="193"/>
                  </a:lnTo>
                  <a:lnTo>
                    <a:pt x="35" y="161"/>
                  </a:lnTo>
                  <a:lnTo>
                    <a:pt x="81" y="129"/>
                  </a:lnTo>
                  <a:lnTo>
                    <a:pt x="143" y="96"/>
                  </a:lnTo>
                  <a:lnTo>
                    <a:pt x="214" y="64"/>
                  </a:lnTo>
                  <a:lnTo>
                    <a:pt x="306" y="40"/>
                  </a:lnTo>
                  <a:lnTo>
                    <a:pt x="405" y="16"/>
                  </a:lnTo>
                  <a:lnTo>
                    <a:pt x="512" y="0"/>
                  </a:lnTo>
                  <a:lnTo>
                    <a:pt x="619" y="0"/>
                  </a:lnTo>
                  <a:lnTo>
                    <a:pt x="737" y="0"/>
                  </a:lnTo>
                  <a:lnTo>
                    <a:pt x="849" y="0"/>
                  </a:lnTo>
                  <a:lnTo>
                    <a:pt x="962" y="0"/>
                  </a:lnTo>
                  <a:lnTo>
                    <a:pt x="1069" y="16"/>
                  </a:lnTo>
                  <a:lnTo>
                    <a:pt x="1173" y="40"/>
                  </a:lnTo>
                  <a:lnTo>
                    <a:pt x="1260" y="64"/>
                  </a:lnTo>
                  <a:lnTo>
                    <a:pt x="1331" y="96"/>
                  </a:lnTo>
                  <a:lnTo>
                    <a:pt x="1398" y="129"/>
                  </a:lnTo>
                  <a:lnTo>
                    <a:pt x="1439" y="161"/>
                  </a:lnTo>
                  <a:lnTo>
                    <a:pt x="1464" y="193"/>
                  </a:lnTo>
                  <a:lnTo>
                    <a:pt x="1474" y="234"/>
                  </a:lnTo>
                  <a:lnTo>
                    <a:pt x="1464" y="275"/>
                  </a:lnTo>
                  <a:lnTo>
                    <a:pt x="1439" y="307"/>
                  </a:lnTo>
                  <a:lnTo>
                    <a:pt x="1398" y="348"/>
                  </a:lnTo>
                  <a:lnTo>
                    <a:pt x="1331" y="380"/>
                  </a:lnTo>
                  <a:lnTo>
                    <a:pt x="1260" y="404"/>
                  </a:lnTo>
                  <a:lnTo>
                    <a:pt x="1173" y="428"/>
                  </a:lnTo>
                  <a:lnTo>
                    <a:pt x="1069" y="444"/>
                  </a:lnTo>
                  <a:lnTo>
                    <a:pt x="962" y="461"/>
                  </a:lnTo>
                  <a:lnTo>
                    <a:pt x="849" y="469"/>
                  </a:lnTo>
                  <a:lnTo>
                    <a:pt x="737" y="477"/>
                  </a:lnTo>
                  <a:lnTo>
                    <a:pt x="619" y="469"/>
                  </a:lnTo>
                  <a:lnTo>
                    <a:pt x="512" y="461"/>
                  </a:lnTo>
                  <a:lnTo>
                    <a:pt x="405" y="444"/>
                  </a:lnTo>
                  <a:lnTo>
                    <a:pt x="306" y="428"/>
                  </a:lnTo>
                  <a:lnTo>
                    <a:pt x="214" y="404"/>
                  </a:lnTo>
                  <a:lnTo>
                    <a:pt x="143" y="380"/>
                  </a:lnTo>
                  <a:lnTo>
                    <a:pt x="81" y="348"/>
                  </a:lnTo>
                  <a:lnTo>
                    <a:pt x="35" y="307"/>
                  </a:lnTo>
                  <a:lnTo>
                    <a:pt x="10" y="275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5041800" y="5164200"/>
              <a:ext cx="5284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295960" y="5362560"/>
              <a:ext cx="594000" cy="133560"/>
            </a:xfrm>
            <a:custGeom>
              <a:avLst/>
              <a:gdLst/>
              <a:ahLst/>
              <a:rect l="0" t="0" r="r" b="b"/>
              <a:pathLst>
                <a:path w="1650" h="371">
                  <a:moveTo>
                    <a:pt x="0" y="189"/>
                  </a:moveTo>
                  <a:lnTo>
                    <a:pt x="11" y="156"/>
                  </a:lnTo>
                  <a:lnTo>
                    <a:pt x="40" y="125"/>
                  </a:lnTo>
                  <a:lnTo>
                    <a:pt x="91" y="106"/>
                  </a:lnTo>
                  <a:lnTo>
                    <a:pt x="160" y="75"/>
                  </a:lnTo>
                  <a:lnTo>
                    <a:pt x="240" y="56"/>
                  </a:lnTo>
                  <a:lnTo>
                    <a:pt x="343" y="37"/>
                  </a:lnTo>
                  <a:lnTo>
                    <a:pt x="452" y="18"/>
                  </a:lnTo>
                  <a:lnTo>
                    <a:pt x="572" y="6"/>
                  </a:lnTo>
                  <a:lnTo>
                    <a:pt x="692" y="0"/>
                  </a:lnTo>
                  <a:lnTo>
                    <a:pt x="824" y="0"/>
                  </a:lnTo>
                  <a:lnTo>
                    <a:pt x="951" y="0"/>
                  </a:lnTo>
                  <a:lnTo>
                    <a:pt x="1077" y="6"/>
                  </a:lnTo>
                  <a:lnTo>
                    <a:pt x="1197" y="18"/>
                  </a:lnTo>
                  <a:lnTo>
                    <a:pt x="1312" y="37"/>
                  </a:lnTo>
                  <a:lnTo>
                    <a:pt x="1409" y="56"/>
                  </a:lnTo>
                  <a:lnTo>
                    <a:pt x="1489" y="75"/>
                  </a:lnTo>
                  <a:lnTo>
                    <a:pt x="1564" y="106"/>
                  </a:lnTo>
                  <a:lnTo>
                    <a:pt x="1610" y="125"/>
                  </a:lnTo>
                  <a:lnTo>
                    <a:pt x="1638" y="156"/>
                  </a:lnTo>
                  <a:lnTo>
                    <a:pt x="1650" y="189"/>
                  </a:lnTo>
                  <a:lnTo>
                    <a:pt x="1638" y="214"/>
                  </a:lnTo>
                  <a:lnTo>
                    <a:pt x="1610" y="245"/>
                  </a:lnTo>
                  <a:lnTo>
                    <a:pt x="1564" y="270"/>
                  </a:lnTo>
                  <a:lnTo>
                    <a:pt x="1489" y="296"/>
                  </a:lnTo>
                  <a:lnTo>
                    <a:pt x="1409" y="314"/>
                  </a:lnTo>
                  <a:lnTo>
                    <a:pt x="1312" y="333"/>
                  </a:lnTo>
                  <a:lnTo>
                    <a:pt x="1197" y="352"/>
                  </a:lnTo>
                  <a:lnTo>
                    <a:pt x="1077" y="365"/>
                  </a:lnTo>
                  <a:lnTo>
                    <a:pt x="951" y="371"/>
                  </a:lnTo>
                  <a:lnTo>
                    <a:pt x="824" y="371"/>
                  </a:lnTo>
                  <a:lnTo>
                    <a:pt x="692" y="371"/>
                  </a:lnTo>
                  <a:lnTo>
                    <a:pt x="572" y="365"/>
                  </a:lnTo>
                  <a:lnTo>
                    <a:pt x="452" y="352"/>
                  </a:lnTo>
                  <a:lnTo>
                    <a:pt x="343" y="333"/>
                  </a:lnTo>
                  <a:lnTo>
                    <a:pt x="240" y="314"/>
                  </a:lnTo>
                  <a:lnTo>
                    <a:pt x="160" y="296"/>
                  </a:lnTo>
                  <a:lnTo>
                    <a:pt x="91" y="270"/>
                  </a:lnTo>
                  <a:lnTo>
                    <a:pt x="40" y="245"/>
                  </a:lnTo>
                  <a:lnTo>
                    <a:pt x="11" y="214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5403960" y="5326200"/>
              <a:ext cx="5284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572080" y="5143320"/>
              <a:ext cx="536760" cy="133560"/>
            </a:xfrm>
            <a:custGeom>
              <a:avLst/>
              <a:gdLst/>
              <a:ahLst/>
              <a:rect l="0" t="0" r="r" b="b"/>
              <a:pathLst>
                <a:path w="1491" h="371">
                  <a:moveTo>
                    <a:pt x="0" y="182"/>
                  </a:moveTo>
                  <a:lnTo>
                    <a:pt x="10" y="150"/>
                  </a:lnTo>
                  <a:lnTo>
                    <a:pt x="36" y="125"/>
                  </a:lnTo>
                  <a:lnTo>
                    <a:pt x="82" y="94"/>
                  </a:lnTo>
                  <a:lnTo>
                    <a:pt x="139" y="75"/>
                  </a:lnTo>
                  <a:lnTo>
                    <a:pt x="217" y="56"/>
                  </a:lnTo>
                  <a:lnTo>
                    <a:pt x="305" y="31"/>
                  </a:lnTo>
                  <a:lnTo>
                    <a:pt x="403" y="18"/>
                  </a:lnTo>
                  <a:lnTo>
                    <a:pt x="512" y="6"/>
                  </a:lnTo>
                  <a:lnTo>
                    <a:pt x="631" y="0"/>
                  </a:lnTo>
                  <a:lnTo>
                    <a:pt x="746" y="0"/>
                  </a:lnTo>
                  <a:lnTo>
                    <a:pt x="865" y="0"/>
                  </a:lnTo>
                  <a:lnTo>
                    <a:pt x="979" y="6"/>
                  </a:lnTo>
                  <a:lnTo>
                    <a:pt x="1082" y="18"/>
                  </a:lnTo>
                  <a:lnTo>
                    <a:pt x="1186" y="31"/>
                  </a:lnTo>
                  <a:lnTo>
                    <a:pt x="1268" y="56"/>
                  </a:lnTo>
                  <a:lnTo>
                    <a:pt x="1351" y="75"/>
                  </a:lnTo>
                  <a:lnTo>
                    <a:pt x="1408" y="94"/>
                  </a:lnTo>
                  <a:lnTo>
                    <a:pt x="1455" y="125"/>
                  </a:lnTo>
                  <a:lnTo>
                    <a:pt x="1486" y="150"/>
                  </a:lnTo>
                  <a:lnTo>
                    <a:pt x="1491" y="182"/>
                  </a:lnTo>
                  <a:lnTo>
                    <a:pt x="1486" y="214"/>
                  </a:lnTo>
                  <a:lnTo>
                    <a:pt x="1455" y="239"/>
                  </a:lnTo>
                  <a:lnTo>
                    <a:pt x="1408" y="264"/>
                  </a:lnTo>
                  <a:lnTo>
                    <a:pt x="1351" y="289"/>
                  </a:lnTo>
                  <a:lnTo>
                    <a:pt x="1268" y="314"/>
                  </a:lnTo>
                  <a:lnTo>
                    <a:pt x="1186" y="333"/>
                  </a:lnTo>
                  <a:lnTo>
                    <a:pt x="1082" y="352"/>
                  </a:lnTo>
                  <a:lnTo>
                    <a:pt x="979" y="365"/>
                  </a:lnTo>
                  <a:lnTo>
                    <a:pt x="865" y="371"/>
                  </a:lnTo>
                  <a:lnTo>
                    <a:pt x="746" y="371"/>
                  </a:lnTo>
                  <a:lnTo>
                    <a:pt x="631" y="371"/>
                  </a:lnTo>
                  <a:lnTo>
                    <a:pt x="512" y="365"/>
                  </a:lnTo>
                  <a:lnTo>
                    <a:pt x="403" y="352"/>
                  </a:lnTo>
                  <a:lnTo>
                    <a:pt x="305" y="333"/>
                  </a:lnTo>
                  <a:lnTo>
                    <a:pt x="217" y="314"/>
                  </a:lnTo>
                  <a:lnTo>
                    <a:pt x="139" y="289"/>
                  </a:lnTo>
                  <a:lnTo>
                    <a:pt x="82" y="264"/>
                  </a:lnTo>
                  <a:lnTo>
                    <a:pt x="36" y="239"/>
                  </a:lnTo>
                  <a:lnTo>
                    <a:pt x="10" y="21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5649840" y="511488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05440" y="5299200"/>
              <a:ext cx="460800" cy="168480"/>
            </a:xfrm>
            <a:custGeom>
              <a:avLst/>
              <a:gdLst/>
              <a:ahLst/>
              <a:rect l="0" t="0" r="r" b="b"/>
              <a:pathLst>
                <a:path w="1280" h="468">
                  <a:moveTo>
                    <a:pt x="0" y="229"/>
                  </a:moveTo>
                  <a:lnTo>
                    <a:pt x="8" y="198"/>
                  </a:lnTo>
                  <a:lnTo>
                    <a:pt x="31" y="166"/>
                  </a:lnTo>
                  <a:lnTo>
                    <a:pt x="66" y="126"/>
                  </a:lnTo>
                  <a:lnTo>
                    <a:pt x="124" y="95"/>
                  </a:lnTo>
                  <a:lnTo>
                    <a:pt x="186" y="63"/>
                  </a:lnTo>
                  <a:lnTo>
                    <a:pt x="266" y="39"/>
                  </a:lnTo>
                  <a:lnTo>
                    <a:pt x="351" y="23"/>
                  </a:lnTo>
                  <a:lnTo>
                    <a:pt x="445" y="7"/>
                  </a:lnTo>
                  <a:lnTo>
                    <a:pt x="538" y="7"/>
                  </a:lnTo>
                  <a:lnTo>
                    <a:pt x="640" y="0"/>
                  </a:lnTo>
                  <a:lnTo>
                    <a:pt x="738" y="7"/>
                  </a:lnTo>
                  <a:lnTo>
                    <a:pt x="835" y="7"/>
                  </a:lnTo>
                  <a:lnTo>
                    <a:pt x="929" y="23"/>
                  </a:lnTo>
                  <a:lnTo>
                    <a:pt x="1014" y="39"/>
                  </a:lnTo>
                  <a:lnTo>
                    <a:pt x="1094" y="63"/>
                  </a:lnTo>
                  <a:lnTo>
                    <a:pt x="1156" y="95"/>
                  </a:lnTo>
                  <a:lnTo>
                    <a:pt x="1214" y="126"/>
                  </a:lnTo>
                  <a:lnTo>
                    <a:pt x="1249" y="166"/>
                  </a:lnTo>
                  <a:lnTo>
                    <a:pt x="1271" y="198"/>
                  </a:lnTo>
                  <a:lnTo>
                    <a:pt x="1280" y="229"/>
                  </a:lnTo>
                  <a:lnTo>
                    <a:pt x="1271" y="270"/>
                  </a:lnTo>
                  <a:lnTo>
                    <a:pt x="1249" y="309"/>
                  </a:lnTo>
                  <a:lnTo>
                    <a:pt x="1214" y="341"/>
                  </a:lnTo>
                  <a:lnTo>
                    <a:pt x="1156" y="373"/>
                  </a:lnTo>
                  <a:lnTo>
                    <a:pt x="1094" y="397"/>
                  </a:lnTo>
                  <a:lnTo>
                    <a:pt x="1014" y="420"/>
                  </a:lnTo>
                  <a:lnTo>
                    <a:pt x="929" y="444"/>
                  </a:lnTo>
                  <a:lnTo>
                    <a:pt x="835" y="452"/>
                  </a:lnTo>
                  <a:lnTo>
                    <a:pt x="738" y="468"/>
                  </a:lnTo>
                  <a:lnTo>
                    <a:pt x="640" y="468"/>
                  </a:lnTo>
                  <a:lnTo>
                    <a:pt x="538" y="468"/>
                  </a:lnTo>
                  <a:lnTo>
                    <a:pt x="445" y="452"/>
                  </a:lnTo>
                  <a:lnTo>
                    <a:pt x="351" y="444"/>
                  </a:lnTo>
                  <a:lnTo>
                    <a:pt x="266" y="420"/>
                  </a:lnTo>
                  <a:lnTo>
                    <a:pt x="186" y="397"/>
                  </a:lnTo>
                  <a:lnTo>
                    <a:pt x="124" y="373"/>
                  </a:lnTo>
                  <a:lnTo>
                    <a:pt x="66" y="341"/>
                  </a:lnTo>
                  <a:lnTo>
                    <a:pt x="31" y="309"/>
                  </a:lnTo>
                  <a:lnTo>
                    <a:pt x="8" y="27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5935680" y="527688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69040" y="391464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22920" y="2552760"/>
              <a:ext cx="1905480" cy="1219680"/>
            </a:xfrm>
            <a:custGeom>
              <a:avLst/>
              <a:gdLst/>
              <a:ahLst/>
              <a:rect l="0" t="0" r="r" b="b"/>
              <a:pathLst>
                <a:path w="5293" h="3388">
                  <a:moveTo>
                    <a:pt x="0" y="3388"/>
                  </a:moveTo>
                  <a:lnTo>
                    <a:pt x="5293" y="3388"/>
                  </a:lnTo>
                  <a:lnTo>
                    <a:pt x="5293" y="0"/>
                  </a:lnTo>
                  <a:lnTo>
                    <a:pt x="0" y="0"/>
                  </a:lnTo>
                  <a:lnTo>
                    <a:pt x="0" y="33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22920" y="378144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021280" y="37814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18200" y="378144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16560" y="378144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14920" y="378144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813280" y="3781440"/>
              <a:ext cx="120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010200" y="378144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208560" y="378144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407280" y="378144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05640" y="37814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737400" y="359424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6737400" y="33955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737400" y="319716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737400" y="3000240"/>
              <a:ext cx="0" cy="12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6737400" y="280188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737400" y="260352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89800" y="255276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391440" y="255276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6194520" y="25527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5996160" y="255276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5797440" y="255276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5599080" y="255276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402160" y="25527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5203800" y="255276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5005440" y="255276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822920" y="2552760"/>
              <a:ext cx="106560" cy="16200"/>
            </a:xfrm>
            <a:custGeom>
              <a:avLst/>
              <a:gdLst/>
              <a:ahLst/>
              <a:rect l="0" t="0" r="r" b="b"/>
              <a:pathLst>
                <a:path fill="none" w="296" h="45">
                  <a:moveTo>
                    <a:pt x="296" y="0"/>
                  </a:moveTo>
                  <a:lnTo>
                    <a:pt x="0" y="0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22920" y="264492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2920" y="2843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22920" y="30402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22920" y="323856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2920" y="34369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22920" y="363528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86440" y="3610080"/>
              <a:ext cx="1551240" cy="124200"/>
            </a:xfrm>
            <a:custGeom>
              <a:avLst/>
              <a:gdLst/>
              <a:ahLst/>
              <a:rect l="0" t="0" r="r" b="b"/>
              <a:pathLst>
                <a:path w="4309" h="345">
                  <a:moveTo>
                    <a:pt x="3977" y="0"/>
                  </a:moveTo>
                  <a:lnTo>
                    <a:pt x="0" y="0"/>
                  </a:lnTo>
                  <a:lnTo>
                    <a:pt x="331" y="345"/>
                  </a:lnTo>
                  <a:lnTo>
                    <a:pt x="4309" y="345"/>
                  </a:lnTo>
                  <a:lnTo>
                    <a:pt x="3977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94400" y="2876400"/>
              <a:ext cx="132120" cy="835560"/>
            </a:xfrm>
            <a:custGeom>
              <a:avLst/>
              <a:gdLst/>
              <a:ahLst/>
              <a:rect l="0" t="0" r="r" b="b"/>
              <a:pathLst>
                <a:path w="367" h="2321">
                  <a:moveTo>
                    <a:pt x="367" y="2321"/>
                  </a:moveTo>
                  <a:lnTo>
                    <a:pt x="0" y="1950"/>
                  </a:lnTo>
                  <a:lnTo>
                    <a:pt x="0" y="0"/>
                  </a:lnTo>
                  <a:lnTo>
                    <a:pt x="367" y="371"/>
                  </a:lnTo>
                  <a:lnTo>
                    <a:pt x="367" y="2321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086440" y="2882880"/>
              <a:ext cx="1408320" cy="727560"/>
            </a:xfrm>
            <a:custGeom>
              <a:avLst/>
              <a:gdLst/>
              <a:ahLst/>
              <a:rect l="0" t="0" r="r" b="b"/>
              <a:pathLst>
                <a:path w="3912" h="2021">
                  <a:moveTo>
                    <a:pt x="3912" y="2021"/>
                  </a:moveTo>
                  <a:lnTo>
                    <a:pt x="0" y="2021"/>
                  </a:lnTo>
                  <a:lnTo>
                    <a:pt x="0" y="0"/>
                  </a:lnTo>
                  <a:lnTo>
                    <a:pt x="3912" y="0"/>
                  </a:lnTo>
                  <a:lnTo>
                    <a:pt x="3912" y="20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076720" y="3073320"/>
              <a:ext cx="1370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>
              <a:off x="5541840" y="2865600"/>
              <a:ext cx="692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86360" y="3324240"/>
              <a:ext cx="505080" cy="181440"/>
            </a:xfrm>
            <a:custGeom>
              <a:avLst/>
              <a:gdLst/>
              <a:ahLst/>
              <a:rect l="0" t="0" r="r" b="b"/>
              <a:pathLst>
                <a:path w="1403" h="504">
                  <a:moveTo>
                    <a:pt x="0" y="256"/>
                  </a:moveTo>
                  <a:lnTo>
                    <a:pt x="4" y="214"/>
                  </a:lnTo>
                  <a:lnTo>
                    <a:pt x="34" y="179"/>
                  </a:lnTo>
                  <a:lnTo>
                    <a:pt x="77" y="137"/>
                  </a:lnTo>
                  <a:lnTo>
                    <a:pt x="131" y="102"/>
                  </a:lnTo>
                  <a:lnTo>
                    <a:pt x="204" y="76"/>
                  </a:lnTo>
                  <a:lnTo>
                    <a:pt x="287" y="51"/>
                  </a:lnTo>
                  <a:lnTo>
                    <a:pt x="379" y="34"/>
                  </a:lnTo>
                  <a:lnTo>
                    <a:pt x="482" y="17"/>
                  </a:lnTo>
                  <a:lnTo>
                    <a:pt x="589" y="8"/>
                  </a:lnTo>
                  <a:lnTo>
                    <a:pt x="702" y="0"/>
                  </a:lnTo>
                  <a:lnTo>
                    <a:pt x="814" y="8"/>
                  </a:lnTo>
                  <a:lnTo>
                    <a:pt x="921" y="17"/>
                  </a:lnTo>
                  <a:lnTo>
                    <a:pt x="1023" y="34"/>
                  </a:lnTo>
                  <a:lnTo>
                    <a:pt x="1116" y="51"/>
                  </a:lnTo>
                  <a:lnTo>
                    <a:pt x="1198" y="76"/>
                  </a:lnTo>
                  <a:lnTo>
                    <a:pt x="1271" y="102"/>
                  </a:lnTo>
                  <a:lnTo>
                    <a:pt x="1325" y="137"/>
                  </a:lnTo>
                  <a:lnTo>
                    <a:pt x="1369" y="179"/>
                  </a:lnTo>
                  <a:lnTo>
                    <a:pt x="1393" y="214"/>
                  </a:lnTo>
                  <a:lnTo>
                    <a:pt x="1403" y="256"/>
                  </a:lnTo>
                  <a:lnTo>
                    <a:pt x="1393" y="290"/>
                  </a:lnTo>
                  <a:lnTo>
                    <a:pt x="1369" y="333"/>
                  </a:lnTo>
                  <a:lnTo>
                    <a:pt x="1325" y="367"/>
                  </a:lnTo>
                  <a:lnTo>
                    <a:pt x="1271" y="402"/>
                  </a:lnTo>
                  <a:lnTo>
                    <a:pt x="1198" y="436"/>
                  </a:lnTo>
                  <a:lnTo>
                    <a:pt x="1116" y="462"/>
                  </a:lnTo>
                  <a:lnTo>
                    <a:pt x="1023" y="479"/>
                  </a:lnTo>
                  <a:lnTo>
                    <a:pt x="921" y="487"/>
                  </a:lnTo>
                  <a:lnTo>
                    <a:pt x="814" y="496"/>
                  </a:lnTo>
                  <a:lnTo>
                    <a:pt x="702" y="504"/>
                  </a:lnTo>
                  <a:lnTo>
                    <a:pt x="589" y="496"/>
                  </a:lnTo>
                  <a:lnTo>
                    <a:pt x="482" y="487"/>
                  </a:lnTo>
                  <a:lnTo>
                    <a:pt x="379" y="479"/>
                  </a:lnTo>
                  <a:lnTo>
                    <a:pt x="287" y="462"/>
                  </a:lnTo>
                  <a:lnTo>
                    <a:pt x="204" y="436"/>
                  </a:lnTo>
                  <a:lnTo>
                    <a:pt x="131" y="402"/>
                  </a:lnTo>
                  <a:lnTo>
                    <a:pt x="77" y="367"/>
                  </a:lnTo>
                  <a:lnTo>
                    <a:pt x="34" y="333"/>
                  </a:lnTo>
                  <a:lnTo>
                    <a:pt x="4" y="29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5883120" y="333540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30800" y="3333600"/>
              <a:ext cx="475200" cy="168480"/>
            </a:xfrm>
            <a:custGeom>
              <a:avLst/>
              <a:gdLst/>
              <a:ahLst/>
              <a:rect l="0" t="0" r="r" b="b"/>
              <a:pathLst>
                <a:path w="1320" h="468">
                  <a:moveTo>
                    <a:pt x="0" y="233"/>
                  </a:moveTo>
                  <a:lnTo>
                    <a:pt x="9" y="194"/>
                  </a:lnTo>
                  <a:lnTo>
                    <a:pt x="32" y="163"/>
                  </a:lnTo>
                  <a:lnTo>
                    <a:pt x="68" y="132"/>
                  </a:lnTo>
                  <a:lnTo>
                    <a:pt x="128" y="101"/>
                  </a:lnTo>
                  <a:lnTo>
                    <a:pt x="192" y="70"/>
                  </a:lnTo>
                  <a:lnTo>
                    <a:pt x="270" y="46"/>
                  </a:lnTo>
                  <a:lnTo>
                    <a:pt x="362" y="31"/>
                  </a:lnTo>
                  <a:lnTo>
                    <a:pt x="458" y="15"/>
                  </a:lnTo>
                  <a:lnTo>
                    <a:pt x="559" y="7"/>
                  </a:lnTo>
                  <a:lnTo>
                    <a:pt x="660" y="0"/>
                  </a:lnTo>
                  <a:lnTo>
                    <a:pt x="760" y="7"/>
                  </a:lnTo>
                  <a:lnTo>
                    <a:pt x="861" y="15"/>
                  </a:lnTo>
                  <a:lnTo>
                    <a:pt x="957" y="31"/>
                  </a:lnTo>
                  <a:lnTo>
                    <a:pt x="1045" y="46"/>
                  </a:lnTo>
                  <a:lnTo>
                    <a:pt x="1128" y="70"/>
                  </a:lnTo>
                  <a:lnTo>
                    <a:pt x="1192" y="101"/>
                  </a:lnTo>
                  <a:lnTo>
                    <a:pt x="1251" y="132"/>
                  </a:lnTo>
                  <a:lnTo>
                    <a:pt x="1288" y="163"/>
                  </a:lnTo>
                  <a:lnTo>
                    <a:pt x="1311" y="194"/>
                  </a:lnTo>
                  <a:lnTo>
                    <a:pt x="1320" y="233"/>
                  </a:lnTo>
                  <a:lnTo>
                    <a:pt x="1311" y="273"/>
                  </a:lnTo>
                  <a:lnTo>
                    <a:pt x="1288" y="304"/>
                  </a:lnTo>
                  <a:lnTo>
                    <a:pt x="1251" y="343"/>
                  </a:lnTo>
                  <a:lnTo>
                    <a:pt x="1192" y="367"/>
                  </a:lnTo>
                  <a:lnTo>
                    <a:pt x="1128" y="398"/>
                  </a:lnTo>
                  <a:lnTo>
                    <a:pt x="1045" y="421"/>
                  </a:lnTo>
                  <a:lnTo>
                    <a:pt x="957" y="437"/>
                  </a:lnTo>
                  <a:lnTo>
                    <a:pt x="861" y="452"/>
                  </a:lnTo>
                  <a:lnTo>
                    <a:pt x="760" y="460"/>
                  </a:lnTo>
                  <a:lnTo>
                    <a:pt x="660" y="468"/>
                  </a:lnTo>
                  <a:lnTo>
                    <a:pt x="559" y="460"/>
                  </a:lnTo>
                  <a:lnTo>
                    <a:pt x="458" y="452"/>
                  </a:lnTo>
                  <a:lnTo>
                    <a:pt x="362" y="437"/>
                  </a:lnTo>
                  <a:lnTo>
                    <a:pt x="270" y="421"/>
                  </a:lnTo>
                  <a:lnTo>
                    <a:pt x="192" y="398"/>
                  </a:lnTo>
                  <a:lnTo>
                    <a:pt x="128" y="367"/>
                  </a:lnTo>
                  <a:lnTo>
                    <a:pt x="68" y="343"/>
                  </a:lnTo>
                  <a:lnTo>
                    <a:pt x="32" y="304"/>
                  </a:lnTo>
                  <a:lnTo>
                    <a:pt x="9" y="27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5238720" y="332100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>
              <a:off x="5369040" y="2567160"/>
              <a:ext cx="692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6640" y="3143160"/>
              <a:ext cx="475200" cy="168480"/>
            </a:xfrm>
            <a:custGeom>
              <a:avLst/>
              <a:gdLst/>
              <a:ahLst/>
              <a:rect l="0" t="0" r="r" b="b"/>
              <a:pathLst>
                <a:path w="1320" h="468">
                  <a:moveTo>
                    <a:pt x="0" y="233"/>
                  </a:moveTo>
                  <a:lnTo>
                    <a:pt x="9" y="194"/>
                  </a:lnTo>
                  <a:lnTo>
                    <a:pt x="32" y="163"/>
                  </a:lnTo>
                  <a:lnTo>
                    <a:pt x="68" y="132"/>
                  </a:lnTo>
                  <a:lnTo>
                    <a:pt x="128" y="101"/>
                  </a:lnTo>
                  <a:lnTo>
                    <a:pt x="192" y="70"/>
                  </a:lnTo>
                  <a:lnTo>
                    <a:pt x="270" y="46"/>
                  </a:lnTo>
                  <a:lnTo>
                    <a:pt x="362" y="31"/>
                  </a:lnTo>
                  <a:lnTo>
                    <a:pt x="458" y="15"/>
                  </a:lnTo>
                  <a:lnTo>
                    <a:pt x="559" y="7"/>
                  </a:lnTo>
                  <a:lnTo>
                    <a:pt x="660" y="0"/>
                  </a:lnTo>
                  <a:lnTo>
                    <a:pt x="760" y="7"/>
                  </a:lnTo>
                  <a:lnTo>
                    <a:pt x="861" y="15"/>
                  </a:lnTo>
                  <a:lnTo>
                    <a:pt x="957" y="31"/>
                  </a:lnTo>
                  <a:lnTo>
                    <a:pt x="1045" y="46"/>
                  </a:lnTo>
                  <a:lnTo>
                    <a:pt x="1128" y="70"/>
                  </a:lnTo>
                  <a:lnTo>
                    <a:pt x="1192" y="101"/>
                  </a:lnTo>
                  <a:lnTo>
                    <a:pt x="1251" y="132"/>
                  </a:lnTo>
                  <a:lnTo>
                    <a:pt x="1288" y="163"/>
                  </a:lnTo>
                  <a:lnTo>
                    <a:pt x="1311" y="194"/>
                  </a:lnTo>
                  <a:lnTo>
                    <a:pt x="1320" y="233"/>
                  </a:lnTo>
                  <a:lnTo>
                    <a:pt x="1311" y="273"/>
                  </a:lnTo>
                  <a:lnTo>
                    <a:pt x="1288" y="304"/>
                  </a:lnTo>
                  <a:lnTo>
                    <a:pt x="1251" y="343"/>
                  </a:lnTo>
                  <a:lnTo>
                    <a:pt x="1192" y="367"/>
                  </a:lnTo>
                  <a:lnTo>
                    <a:pt x="1128" y="398"/>
                  </a:lnTo>
                  <a:lnTo>
                    <a:pt x="1045" y="421"/>
                  </a:lnTo>
                  <a:lnTo>
                    <a:pt x="957" y="437"/>
                  </a:lnTo>
                  <a:lnTo>
                    <a:pt x="861" y="452"/>
                  </a:lnTo>
                  <a:lnTo>
                    <a:pt x="760" y="460"/>
                  </a:lnTo>
                  <a:lnTo>
                    <a:pt x="660" y="468"/>
                  </a:lnTo>
                  <a:lnTo>
                    <a:pt x="559" y="460"/>
                  </a:lnTo>
                  <a:lnTo>
                    <a:pt x="458" y="452"/>
                  </a:lnTo>
                  <a:lnTo>
                    <a:pt x="362" y="437"/>
                  </a:lnTo>
                  <a:lnTo>
                    <a:pt x="270" y="421"/>
                  </a:lnTo>
                  <a:lnTo>
                    <a:pt x="192" y="398"/>
                  </a:lnTo>
                  <a:lnTo>
                    <a:pt x="128" y="367"/>
                  </a:lnTo>
                  <a:lnTo>
                    <a:pt x="68" y="343"/>
                  </a:lnTo>
                  <a:lnTo>
                    <a:pt x="32" y="304"/>
                  </a:lnTo>
                  <a:lnTo>
                    <a:pt x="9" y="27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>
              <a:off x="5527800" y="311004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5378400" y="3938760"/>
              <a:ext cx="692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593640" y="806400"/>
            <a:ext cx="8975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517680" y="760320"/>
            <a:ext cx="5189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sourc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41360" y="1541520"/>
            <a:ext cx="7232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to High Performance Scalabl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471600" y="763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Object Applications 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398520" y="1582560"/>
            <a:ext cx="70833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tion Indepen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ynamic name resolution allows the migration of services from one node to another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ming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ad balancing across multiple instances of services is critical for a balanced, high perform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ilover  / 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ultiple instances of services with run-time selection capability provides a high level of system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476280" y="39996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ad Bal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954600" y="3879720"/>
            <a:ext cx="732240" cy="729000"/>
          </a:xfrm>
          <a:custGeom>
            <a:avLst/>
            <a:gdLst/>
            <a:ahLst/>
            <a:rect l="0" t="0" r="r" b="b"/>
            <a:pathLst>
              <a:path w="2034" h="2025">
                <a:moveTo>
                  <a:pt x="0" y="1005"/>
                </a:moveTo>
                <a:lnTo>
                  <a:pt x="17" y="833"/>
                </a:lnTo>
                <a:lnTo>
                  <a:pt x="66" y="661"/>
                </a:lnTo>
                <a:lnTo>
                  <a:pt x="141" y="507"/>
                </a:lnTo>
                <a:lnTo>
                  <a:pt x="238" y="357"/>
                </a:lnTo>
                <a:lnTo>
                  <a:pt x="370" y="238"/>
                </a:lnTo>
                <a:lnTo>
                  <a:pt x="507" y="127"/>
                </a:lnTo>
                <a:lnTo>
                  <a:pt x="671" y="57"/>
                </a:lnTo>
                <a:lnTo>
                  <a:pt x="843" y="13"/>
                </a:lnTo>
                <a:lnTo>
                  <a:pt x="1015" y="0"/>
                </a:lnTo>
                <a:lnTo>
                  <a:pt x="1196" y="13"/>
                </a:lnTo>
                <a:lnTo>
                  <a:pt x="1359" y="57"/>
                </a:lnTo>
                <a:lnTo>
                  <a:pt x="1527" y="127"/>
                </a:lnTo>
                <a:lnTo>
                  <a:pt x="1673" y="238"/>
                </a:lnTo>
                <a:lnTo>
                  <a:pt x="1796" y="357"/>
                </a:lnTo>
                <a:lnTo>
                  <a:pt x="1893" y="507"/>
                </a:lnTo>
                <a:lnTo>
                  <a:pt x="1968" y="661"/>
                </a:lnTo>
                <a:lnTo>
                  <a:pt x="2017" y="833"/>
                </a:lnTo>
                <a:lnTo>
                  <a:pt x="2034" y="1005"/>
                </a:lnTo>
                <a:lnTo>
                  <a:pt x="2017" y="1187"/>
                </a:lnTo>
                <a:lnTo>
                  <a:pt x="1968" y="1359"/>
                </a:lnTo>
                <a:lnTo>
                  <a:pt x="1893" y="1517"/>
                </a:lnTo>
                <a:lnTo>
                  <a:pt x="1796" y="1663"/>
                </a:lnTo>
                <a:lnTo>
                  <a:pt x="1673" y="1786"/>
                </a:lnTo>
                <a:lnTo>
                  <a:pt x="1527" y="1892"/>
                </a:lnTo>
                <a:lnTo>
                  <a:pt x="1359" y="1967"/>
                </a:lnTo>
                <a:lnTo>
                  <a:pt x="1196" y="2007"/>
                </a:lnTo>
                <a:lnTo>
                  <a:pt x="1015" y="2025"/>
                </a:lnTo>
                <a:lnTo>
                  <a:pt x="843" y="2007"/>
                </a:lnTo>
                <a:lnTo>
                  <a:pt x="671" y="1967"/>
                </a:lnTo>
                <a:lnTo>
                  <a:pt x="507" y="1892"/>
                </a:lnTo>
                <a:lnTo>
                  <a:pt x="370" y="1786"/>
                </a:lnTo>
                <a:lnTo>
                  <a:pt x="238" y="1663"/>
                </a:lnTo>
                <a:lnTo>
                  <a:pt x="141" y="1517"/>
                </a:lnTo>
                <a:lnTo>
                  <a:pt x="66" y="1359"/>
                </a:lnTo>
                <a:lnTo>
                  <a:pt x="17" y="1187"/>
                </a:lnTo>
                <a:lnTo>
                  <a:pt x="0" y="10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666800" y="1471680"/>
            <a:ext cx="2986560" cy="2522880"/>
          </a:xfrm>
          <a:custGeom>
            <a:avLst/>
            <a:gdLst/>
            <a:ahLst/>
            <a:rect l="0" t="0" r="r" b="b"/>
            <a:pathLst>
              <a:path w="8296" h="7008">
                <a:moveTo>
                  <a:pt x="0" y="7008"/>
                </a:moveTo>
                <a:lnTo>
                  <a:pt x="8296" y="7008"/>
                </a:lnTo>
                <a:lnTo>
                  <a:pt x="8296" y="0"/>
                </a:lnTo>
                <a:lnTo>
                  <a:pt x="0" y="0"/>
                </a:lnTo>
                <a:lnTo>
                  <a:pt x="0" y="7008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362320" y="2035080"/>
            <a:ext cx="2424600" cy="1959480"/>
          </a:xfrm>
          <a:custGeom>
            <a:avLst/>
            <a:gdLst/>
            <a:ahLst/>
            <a:rect l="0" t="0" r="r" b="b"/>
            <a:pathLst>
              <a:path w="6735" h="5443">
                <a:moveTo>
                  <a:pt x="0" y="5443"/>
                </a:moveTo>
                <a:lnTo>
                  <a:pt x="6735" y="5443"/>
                </a:lnTo>
                <a:lnTo>
                  <a:pt x="6735" y="0"/>
                </a:lnTo>
                <a:lnTo>
                  <a:pt x="0" y="0"/>
                </a:lnTo>
                <a:lnTo>
                  <a:pt x="0" y="54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451240" y="2103480"/>
            <a:ext cx="1046520" cy="1841760"/>
          </a:xfrm>
          <a:custGeom>
            <a:avLst/>
            <a:gdLst/>
            <a:ahLst/>
            <a:rect l="0" t="0" r="r" b="b"/>
            <a:pathLst>
              <a:path w="2907" h="5116">
                <a:moveTo>
                  <a:pt x="0" y="5116"/>
                </a:moveTo>
                <a:lnTo>
                  <a:pt x="2907" y="5116"/>
                </a:lnTo>
                <a:lnTo>
                  <a:pt x="2907" y="0"/>
                </a:lnTo>
                <a:lnTo>
                  <a:pt x="0" y="0"/>
                </a:lnTo>
                <a:lnTo>
                  <a:pt x="0" y="5116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36920" y="265104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52"/>
                </a:moveTo>
                <a:lnTo>
                  <a:pt x="1091" y="684"/>
                </a:lnTo>
                <a:lnTo>
                  <a:pt x="1042" y="807"/>
                </a:lnTo>
                <a:lnTo>
                  <a:pt x="967" y="922"/>
                </a:lnTo>
                <a:lnTo>
                  <a:pt x="861" y="1002"/>
                </a:lnTo>
                <a:lnTo>
                  <a:pt x="746" y="1068"/>
                </a:lnTo>
                <a:lnTo>
                  <a:pt x="613" y="1099"/>
                </a:lnTo>
                <a:lnTo>
                  <a:pt x="481" y="1099"/>
                </a:lnTo>
                <a:lnTo>
                  <a:pt x="353" y="1068"/>
                </a:lnTo>
                <a:lnTo>
                  <a:pt x="238" y="1002"/>
                </a:lnTo>
                <a:lnTo>
                  <a:pt x="136" y="922"/>
                </a:lnTo>
                <a:lnTo>
                  <a:pt x="57" y="807"/>
                </a:lnTo>
                <a:lnTo>
                  <a:pt x="8" y="684"/>
                </a:lnTo>
                <a:lnTo>
                  <a:pt x="0" y="552"/>
                </a:lnTo>
                <a:lnTo>
                  <a:pt x="8" y="418"/>
                </a:lnTo>
                <a:lnTo>
                  <a:pt x="57" y="295"/>
                </a:lnTo>
                <a:lnTo>
                  <a:pt x="136" y="180"/>
                </a:lnTo>
                <a:lnTo>
                  <a:pt x="238" y="92"/>
                </a:lnTo>
                <a:lnTo>
                  <a:pt x="353" y="35"/>
                </a:lnTo>
                <a:lnTo>
                  <a:pt x="481" y="0"/>
                </a:lnTo>
                <a:lnTo>
                  <a:pt x="613" y="0"/>
                </a:lnTo>
                <a:lnTo>
                  <a:pt x="746" y="35"/>
                </a:lnTo>
                <a:lnTo>
                  <a:pt x="861" y="92"/>
                </a:lnTo>
                <a:lnTo>
                  <a:pt x="967" y="180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52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06760" y="27288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4"/>
                </a:lnTo>
                <a:lnTo>
                  <a:pt x="628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4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30"/>
                </a:lnTo>
                <a:lnTo>
                  <a:pt x="287" y="0"/>
                </a:lnTo>
                <a:lnTo>
                  <a:pt x="389" y="0"/>
                </a:lnTo>
                <a:lnTo>
                  <a:pt x="477" y="30"/>
                </a:lnTo>
                <a:lnTo>
                  <a:pt x="562" y="79"/>
                </a:lnTo>
                <a:lnTo>
                  <a:pt x="628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032280" y="265104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52"/>
                </a:moveTo>
                <a:lnTo>
                  <a:pt x="1091" y="684"/>
                </a:lnTo>
                <a:lnTo>
                  <a:pt x="1051" y="807"/>
                </a:lnTo>
                <a:lnTo>
                  <a:pt x="967" y="922"/>
                </a:lnTo>
                <a:lnTo>
                  <a:pt x="870" y="1002"/>
                </a:lnTo>
                <a:lnTo>
                  <a:pt x="755" y="1068"/>
                </a:lnTo>
                <a:lnTo>
                  <a:pt x="622" y="1099"/>
                </a:lnTo>
                <a:lnTo>
                  <a:pt x="490" y="1099"/>
                </a:lnTo>
                <a:lnTo>
                  <a:pt x="362" y="1068"/>
                </a:lnTo>
                <a:lnTo>
                  <a:pt x="238" y="1002"/>
                </a:lnTo>
                <a:lnTo>
                  <a:pt x="136" y="922"/>
                </a:lnTo>
                <a:lnTo>
                  <a:pt x="66" y="807"/>
                </a:lnTo>
                <a:lnTo>
                  <a:pt x="17" y="684"/>
                </a:lnTo>
                <a:lnTo>
                  <a:pt x="0" y="552"/>
                </a:lnTo>
                <a:lnTo>
                  <a:pt x="17" y="418"/>
                </a:lnTo>
                <a:lnTo>
                  <a:pt x="66" y="295"/>
                </a:lnTo>
                <a:lnTo>
                  <a:pt x="136" y="180"/>
                </a:lnTo>
                <a:lnTo>
                  <a:pt x="238" y="92"/>
                </a:lnTo>
                <a:lnTo>
                  <a:pt x="362" y="35"/>
                </a:lnTo>
                <a:lnTo>
                  <a:pt x="490" y="0"/>
                </a:lnTo>
                <a:lnTo>
                  <a:pt x="622" y="0"/>
                </a:lnTo>
                <a:lnTo>
                  <a:pt x="755" y="35"/>
                </a:lnTo>
                <a:lnTo>
                  <a:pt x="870" y="92"/>
                </a:lnTo>
                <a:lnTo>
                  <a:pt x="967" y="180"/>
                </a:lnTo>
                <a:lnTo>
                  <a:pt x="1051" y="295"/>
                </a:lnTo>
                <a:lnTo>
                  <a:pt x="1091" y="418"/>
                </a:lnTo>
                <a:lnTo>
                  <a:pt x="1108" y="552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105000" y="27288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4"/>
                </a:lnTo>
                <a:lnTo>
                  <a:pt x="619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4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30"/>
                </a:lnTo>
                <a:lnTo>
                  <a:pt x="287" y="0"/>
                </a:lnTo>
                <a:lnTo>
                  <a:pt x="389" y="0"/>
                </a:lnTo>
                <a:lnTo>
                  <a:pt x="477" y="30"/>
                </a:lnTo>
                <a:lnTo>
                  <a:pt x="562" y="79"/>
                </a:lnTo>
                <a:lnTo>
                  <a:pt x="619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536920" y="31510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67" y="909"/>
                </a:lnTo>
                <a:lnTo>
                  <a:pt x="861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1" y="1099"/>
                </a:lnTo>
                <a:lnTo>
                  <a:pt x="353" y="1063"/>
                </a:lnTo>
                <a:lnTo>
                  <a:pt x="238" y="997"/>
                </a:lnTo>
                <a:lnTo>
                  <a:pt x="136" y="909"/>
                </a:lnTo>
                <a:lnTo>
                  <a:pt x="57" y="803"/>
                </a:lnTo>
                <a:lnTo>
                  <a:pt x="8" y="680"/>
                </a:lnTo>
                <a:lnTo>
                  <a:pt x="0" y="546"/>
                </a:lnTo>
                <a:lnTo>
                  <a:pt x="8" y="405"/>
                </a:lnTo>
                <a:lnTo>
                  <a:pt x="57" y="286"/>
                </a:lnTo>
                <a:lnTo>
                  <a:pt x="136" y="176"/>
                </a:lnTo>
                <a:lnTo>
                  <a:pt x="238" y="88"/>
                </a:lnTo>
                <a:lnTo>
                  <a:pt x="353" y="30"/>
                </a:lnTo>
                <a:lnTo>
                  <a:pt x="481" y="0"/>
                </a:lnTo>
                <a:lnTo>
                  <a:pt x="613" y="0"/>
                </a:lnTo>
                <a:lnTo>
                  <a:pt x="746" y="30"/>
                </a:lnTo>
                <a:lnTo>
                  <a:pt x="861" y="88"/>
                </a:lnTo>
                <a:lnTo>
                  <a:pt x="967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606760" y="32274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28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28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032280" y="31510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51" y="803"/>
                </a:lnTo>
                <a:lnTo>
                  <a:pt x="967" y="909"/>
                </a:lnTo>
                <a:lnTo>
                  <a:pt x="870" y="997"/>
                </a:lnTo>
                <a:lnTo>
                  <a:pt x="755" y="1063"/>
                </a:lnTo>
                <a:lnTo>
                  <a:pt x="622" y="1099"/>
                </a:lnTo>
                <a:lnTo>
                  <a:pt x="490" y="1099"/>
                </a:lnTo>
                <a:lnTo>
                  <a:pt x="36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7" y="680"/>
                </a:lnTo>
                <a:lnTo>
                  <a:pt x="0" y="546"/>
                </a:lnTo>
                <a:lnTo>
                  <a:pt x="17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62" y="30"/>
                </a:lnTo>
                <a:lnTo>
                  <a:pt x="490" y="0"/>
                </a:lnTo>
                <a:lnTo>
                  <a:pt x="622" y="0"/>
                </a:lnTo>
                <a:lnTo>
                  <a:pt x="755" y="30"/>
                </a:lnTo>
                <a:lnTo>
                  <a:pt x="870" y="88"/>
                </a:lnTo>
                <a:lnTo>
                  <a:pt x="967" y="176"/>
                </a:lnTo>
                <a:lnTo>
                  <a:pt x="1051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105000" y="32274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19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19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2633760" y="212256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576520" y="231768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613320" y="2117880"/>
            <a:ext cx="1046520" cy="1845000"/>
          </a:xfrm>
          <a:custGeom>
            <a:avLst/>
            <a:gdLst/>
            <a:ahLst/>
            <a:rect l="0" t="0" r="r" b="b"/>
            <a:pathLst>
              <a:path w="2907" h="5125">
                <a:moveTo>
                  <a:pt x="0" y="5125"/>
                </a:moveTo>
                <a:lnTo>
                  <a:pt x="2907" y="5125"/>
                </a:lnTo>
                <a:lnTo>
                  <a:pt x="2907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69576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6" y="803"/>
                </a:lnTo>
                <a:lnTo>
                  <a:pt x="966" y="909"/>
                </a:lnTo>
                <a:lnTo>
                  <a:pt x="869" y="997"/>
                </a:lnTo>
                <a:lnTo>
                  <a:pt x="755" y="1063"/>
                </a:lnTo>
                <a:lnTo>
                  <a:pt x="622" y="1099"/>
                </a:lnTo>
                <a:lnTo>
                  <a:pt x="489" y="1099"/>
                </a:lnTo>
                <a:lnTo>
                  <a:pt x="357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57" y="22"/>
                </a:lnTo>
                <a:lnTo>
                  <a:pt x="489" y="0"/>
                </a:lnTo>
                <a:lnTo>
                  <a:pt x="622" y="0"/>
                </a:lnTo>
                <a:lnTo>
                  <a:pt x="755" y="22"/>
                </a:lnTo>
                <a:lnTo>
                  <a:pt x="869" y="88"/>
                </a:lnTo>
                <a:lnTo>
                  <a:pt x="966" y="176"/>
                </a:lnTo>
                <a:lnTo>
                  <a:pt x="1046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76884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13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13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19400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03"/>
                </a:lnTo>
                <a:lnTo>
                  <a:pt x="966" y="909"/>
                </a:lnTo>
                <a:lnTo>
                  <a:pt x="865" y="997"/>
                </a:lnTo>
                <a:lnTo>
                  <a:pt x="746" y="1063"/>
                </a:lnTo>
                <a:lnTo>
                  <a:pt x="622" y="1099"/>
                </a:lnTo>
                <a:lnTo>
                  <a:pt x="480" y="1099"/>
                </a:lnTo>
                <a:lnTo>
                  <a:pt x="357" y="1063"/>
                </a:lnTo>
                <a:lnTo>
                  <a:pt x="233" y="997"/>
                </a:lnTo>
                <a:lnTo>
                  <a:pt x="136" y="909"/>
                </a:lnTo>
                <a:lnTo>
                  <a:pt x="61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1" y="286"/>
                </a:lnTo>
                <a:lnTo>
                  <a:pt x="136" y="176"/>
                </a:lnTo>
                <a:lnTo>
                  <a:pt x="233" y="88"/>
                </a:lnTo>
                <a:lnTo>
                  <a:pt x="357" y="22"/>
                </a:lnTo>
                <a:lnTo>
                  <a:pt x="480" y="0"/>
                </a:lnTo>
                <a:lnTo>
                  <a:pt x="622" y="0"/>
                </a:lnTo>
                <a:lnTo>
                  <a:pt x="746" y="22"/>
                </a:lnTo>
                <a:lnTo>
                  <a:pt x="865" y="88"/>
                </a:lnTo>
                <a:lnTo>
                  <a:pt x="966" y="176"/>
                </a:lnTo>
                <a:lnTo>
                  <a:pt x="1037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26708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13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48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48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13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69576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6" y="812"/>
                </a:lnTo>
                <a:lnTo>
                  <a:pt x="966" y="918"/>
                </a:lnTo>
                <a:lnTo>
                  <a:pt x="869" y="1006"/>
                </a:lnTo>
                <a:lnTo>
                  <a:pt x="755" y="1063"/>
                </a:lnTo>
                <a:lnTo>
                  <a:pt x="622" y="1099"/>
                </a:lnTo>
                <a:lnTo>
                  <a:pt x="489" y="1099"/>
                </a:lnTo>
                <a:lnTo>
                  <a:pt x="357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57" y="30"/>
                </a:lnTo>
                <a:lnTo>
                  <a:pt x="489" y="0"/>
                </a:lnTo>
                <a:lnTo>
                  <a:pt x="622" y="0"/>
                </a:lnTo>
                <a:lnTo>
                  <a:pt x="755" y="30"/>
                </a:lnTo>
                <a:lnTo>
                  <a:pt x="869" y="97"/>
                </a:lnTo>
                <a:lnTo>
                  <a:pt x="966" y="189"/>
                </a:lnTo>
                <a:lnTo>
                  <a:pt x="1046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76884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13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57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57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13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19400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12"/>
                </a:lnTo>
                <a:lnTo>
                  <a:pt x="966" y="918"/>
                </a:lnTo>
                <a:lnTo>
                  <a:pt x="865" y="1006"/>
                </a:lnTo>
                <a:lnTo>
                  <a:pt x="746" y="1063"/>
                </a:lnTo>
                <a:lnTo>
                  <a:pt x="622" y="1099"/>
                </a:lnTo>
                <a:lnTo>
                  <a:pt x="480" y="1099"/>
                </a:lnTo>
                <a:lnTo>
                  <a:pt x="357" y="1063"/>
                </a:lnTo>
                <a:lnTo>
                  <a:pt x="233" y="1006"/>
                </a:lnTo>
                <a:lnTo>
                  <a:pt x="136" y="918"/>
                </a:lnTo>
                <a:lnTo>
                  <a:pt x="61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1" y="295"/>
                </a:lnTo>
                <a:lnTo>
                  <a:pt x="136" y="189"/>
                </a:lnTo>
                <a:lnTo>
                  <a:pt x="233" y="97"/>
                </a:lnTo>
                <a:lnTo>
                  <a:pt x="357" y="30"/>
                </a:lnTo>
                <a:lnTo>
                  <a:pt x="480" y="0"/>
                </a:lnTo>
                <a:lnTo>
                  <a:pt x="622" y="0"/>
                </a:lnTo>
                <a:lnTo>
                  <a:pt x="746" y="30"/>
                </a:lnTo>
                <a:lnTo>
                  <a:pt x="865" y="97"/>
                </a:lnTo>
                <a:lnTo>
                  <a:pt x="966" y="189"/>
                </a:lnTo>
                <a:lnTo>
                  <a:pt x="1037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26708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13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48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48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13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79404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73860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811160" y="152712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682720" y="1722600"/>
            <a:ext cx="871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051520" y="1488960"/>
            <a:ext cx="2983320" cy="2522880"/>
          </a:xfrm>
          <a:custGeom>
            <a:avLst/>
            <a:gdLst/>
            <a:ahLst/>
            <a:rect l="0" t="0" r="r" b="b"/>
            <a:pathLst>
              <a:path w="8287" h="7008">
                <a:moveTo>
                  <a:pt x="0" y="7008"/>
                </a:moveTo>
                <a:lnTo>
                  <a:pt x="8287" y="7008"/>
                </a:lnTo>
                <a:lnTo>
                  <a:pt x="8287" y="0"/>
                </a:lnTo>
                <a:lnTo>
                  <a:pt x="0" y="0"/>
                </a:lnTo>
                <a:lnTo>
                  <a:pt x="0" y="7008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746680" y="2052720"/>
            <a:ext cx="2370600" cy="1959480"/>
          </a:xfrm>
          <a:custGeom>
            <a:avLst/>
            <a:gdLst/>
            <a:ahLst/>
            <a:rect l="0" t="0" r="r" b="b"/>
            <a:pathLst>
              <a:path w="6585" h="5443">
                <a:moveTo>
                  <a:pt x="0" y="5443"/>
                </a:moveTo>
                <a:lnTo>
                  <a:pt x="6585" y="5443"/>
                </a:lnTo>
                <a:lnTo>
                  <a:pt x="6585" y="0"/>
                </a:lnTo>
                <a:lnTo>
                  <a:pt x="0" y="0"/>
                </a:lnTo>
                <a:lnTo>
                  <a:pt x="0" y="54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835600" y="2117880"/>
            <a:ext cx="1043280" cy="1845000"/>
          </a:xfrm>
          <a:custGeom>
            <a:avLst/>
            <a:gdLst/>
            <a:ahLst/>
            <a:rect l="0" t="0" r="r" b="b"/>
            <a:pathLst>
              <a:path w="2898" h="5125">
                <a:moveTo>
                  <a:pt x="0" y="5125"/>
                </a:moveTo>
                <a:lnTo>
                  <a:pt x="2898" y="5125"/>
                </a:lnTo>
                <a:lnTo>
                  <a:pt x="2898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918040" y="267012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67" y="909"/>
                </a:lnTo>
                <a:lnTo>
                  <a:pt x="870" y="997"/>
                </a:lnTo>
                <a:lnTo>
                  <a:pt x="746" y="1063"/>
                </a:lnTo>
                <a:lnTo>
                  <a:pt x="622" y="1099"/>
                </a:lnTo>
                <a:lnTo>
                  <a:pt x="481" y="1099"/>
                </a:lnTo>
                <a:lnTo>
                  <a:pt x="36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7" y="680"/>
                </a:lnTo>
                <a:lnTo>
                  <a:pt x="0" y="546"/>
                </a:lnTo>
                <a:lnTo>
                  <a:pt x="17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62" y="22"/>
                </a:lnTo>
                <a:lnTo>
                  <a:pt x="481" y="0"/>
                </a:lnTo>
                <a:lnTo>
                  <a:pt x="622" y="0"/>
                </a:lnTo>
                <a:lnTo>
                  <a:pt x="746" y="22"/>
                </a:lnTo>
                <a:lnTo>
                  <a:pt x="870" y="88"/>
                </a:lnTo>
                <a:lnTo>
                  <a:pt x="967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991120" y="274644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19" y="516"/>
                </a:lnTo>
                <a:lnTo>
                  <a:pt x="562" y="583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83"/>
                </a:lnTo>
                <a:lnTo>
                  <a:pt x="48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48" y="145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19" y="145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41664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1" y="803"/>
                </a:lnTo>
                <a:lnTo>
                  <a:pt x="966" y="909"/>
                </a:lnTo>
                <a:lnTo>
                  <a:pt x="869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5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52" y="22"/>
                </a:lnTo>
                <a:lnTo>
                  <a:pt x="480" y="0"/>
                </a:lnTo>
                <a:lnTo>
                  <a:pt x="613" y="0"/>
                </a:lnTo>
                <a:lnTo>
                  <a:pt x="746" y="22"/>
                </a:lnTo>
                <a:lnTo>
                  <a:pt x="869" y="88"/>
                </a:lnTo>
                <a:lnTo>
                  <a:pt x="966" y="176"/>
                </a:lnTo>
                <a:lnTo>
                  <a:pt x="1041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489720" y="2746440"/>
            <a:ext cx="240120" cy="238320"/>
          </a:xfrm>
          <a:custGeom>
            <a:avLst/>
            <a:gdLst/>
            <a:ahLst/>
            <a:rect l="0" t="0" r="r" b="b"/>
            <a:pathLst>
              <a:path w="667" h="662">
                <a:moveTo>
                  <a:pt x="667" y="336"/>
                </a:moveTo>
                <a:lnTo>
                  <a:pt x="659" y="428"/>
                </a:lnTo>
                <a:lnTo>
                  <a:pt x="614" y="516"/>
                </a:lnTo>
                <a:lnTo>
                  <a:pt x="553" y="583"/>
                </a:lnTo>
                <a:lnTo>
                  <a:pt x="468" y="640"/>
                </a:lnTo>
                <a:lnTo>
                  <a:pt x="380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83"/>
                </a:lnTo>
                <a:lnTo>
                  <a:pt x="48" y="516"/>
                </a:lnTo>
                <a:lnTo>
                  <a:pt x="8" y="428"/>
                </a:lnTo>
                <a:lnTo>
                  <a:pt x="0" y="336"/>
                </a:lnTo>
                <a:lnTo>
                  <a:pt x="8" y="238"/>
                </a:lnTo>
                <a:lnTo>
                  <a:pt x="48" y="145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0" y="0"/>
                </a:lnTo>
                <a:lnTo>
                  <a:pt x="468" y="22"/>
                </a:lnTo>
                <a:lnTo>
                  <a:pt x="553" y="79"/>
                </a:lnTo>
                <a:lnTo>
                  <a:pt x="614" y="145"/>
                </a:lnTo>
                <a:lnTo>
                  <a:pt x="659" y="238"/>
                </a:lnTo>
                <a:lnTo>
                  <a:pt x="667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18040" y="31654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12"/>
                </a:lnTo>
                <a:lnTo>
                  <a:pt x="967" y="918"/>
                </a:lnTo>
                <a:lnTo>
                  <a:pt x="870" y="1006"/>
                </a:lnTo>
                <a:lnTo>
                  <a:pt x="746" y="1063"/>
                </a:lnTo>
                <a:lnTo>
                  <a:pt x="622" y="1099"/>
                </a:lnTo>
                <a:lnTo>
                  <a:pt x="481" y="1099"/>
                </a:lnTo>
                <a:lnTo>
                  <a:pt x="362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7" y="680"/>
                </a:lnTo>
                <a:lnTo>
                  <a:pt x="0" y="546"/>
                </a:lnTo>
                <a:lnTo>
                  <a:pt x="17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62" y="30"/>
                </a:lnTo>
                <a:lnTo>
                  <a:pt x="481" y="0"/>
                </a:lnTo>
                <a:lnTo>
                  <a:pt x="622" y="0"/>
                </a:lnTo>
                <a:lnTo>
                  <a:pt x="746" y="30"/>
                </a:lnTo>
                <a:lnTo>
                  <a:pt x="870" y="97"/>
                </a:lnTo>
                <a:lnTo>
                  <a:pt x="967" y="189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991120" y="3244680"/>
            <a:ext cx="243360" cy="240120"/>
          </a:xfrm>
          <a:custGeom>
            <a:avLst/>
            <a:gdLst/>
            <a:ahLst/>
            <a:rect l="0" t="0" r="r" b="b"/>
            <a:pathLst>
              <a:path w="676" h="667">
                <a:moveTo>
                  <a:pt x="676" y="327"/>
                </a:moveTo>
                <a:lnTo>
                  <a:pt x="659" y="428"/>
                </a:lnTo>
                <a:lnTo>
                  <a:pt x="619" y="509"/>
                </a:lnTo>
                <a:lnTo>
                  <a:pt x="562" y="584"/>
                </a:lnTo>
                <a:lnTo>
                  <a:pt x="477" y="632"/>
                </a:lnTo>
                <a:lnTo>
                  <a:pt x="389" y="667"/>
                </a:lnTo>
                <a:lnTo>
                  <a:pt x="287" y="667"/>
                </a:lnTo>
                <a:lnTo>
                  <a:pt x="199" y="632"/>
                </a:lnTo>
                <a:lnTo>
                  <a:pt x="114" y="584"/>
                </a:lnTo>
                <a:lnTo>
                  <a:pt x="48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48" y="145"/>
                </a:lnTo>
                <a:lnTo>
                  <a:pt x="114" y="74"/>
                </a:lnTo>
                <a:lnTo>
                  <a:pt x="199" y="26"/>
                </a:lnTo>
                <a:lnTo>
                  <a:pt x="287" y="0"/>
                </a:lnTo>
                <a:lnTo>
                  <a:pt x="389" y="0"/>
                </a:lnTo>
                <a:lnTo>
                  <a:pt x="477" y="26"/>
                </a:lnTo>
                <a:lnTo>
                  <a:pt x="562" y="74"/>
                </a:lnTo>
                <a:lnTo>
                  <a:pt x="619" y="145"/>
                </a:lnTo>
                <a:lnTo>
                  <a:pt x="659" y="239"/>
                </a:lnTo>
                <a:lnTo>
                  <a:pt x="676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41664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1" y="812"/>
                </a:lnTo>
                <a:lnTo>
                  <a:pt x="966" y="918"/>
                </a:lnTo>
                <a:lnTo>
                  <a:pt x="869" y="1006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52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52" y="30"/>
                </a:lnTo>
                <a:lnTo>
                  <a:pt x="480" y="0"/>
                </a:lnTo>
                <a:lnTo>
                  <a:pt x="613" y="0"/>
                </a:lnTo>
                <a:lnTo>
                  <a:pt x="746" y="30"/>
                </a:lnTo>
                <a:lnTo>
                  <a:pt x="869" y="97"/>
                </a:lnTo>
                <a:lnTo>
                  <a:pt x="966" y="189"/>
                </a:lnTo>
                <a:lnTo>
                  <a:pt x="1041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489720" y="3244680"/>
            <a:ext cx="240120" cy="240120"/>
          </a:xfrm>
          <a:custGeom>
            <a:avLst/>
            <a:gdLst/>
            <a:ahLst/>
            <a:rect l="0" t="0" r="r" b="b"/>
            <a:pathLst>
              <a:path w="667" h="667">
                <a:moveTo>
                  <a:pt x="667" y="327"/>
                </a:moveTo>
                <a:lnTo>
                  <a:pt x="659" y="428"/>
                </a:lnTo>
                <a:lnTo>
                  <a:pt x="614" y="509"/>
                </a:lnTo>
                <a:lnTo>
                  <a:pt x="553" y="584"/>
                </a:lnTo>
                <a:lnTo>
                  <a:pt x="468" y="632"/>
                </a:lnTo>
                <a:lnTo>
                  <a:pt x="380" y="667"/>
                </a:lnTo>
                <a:lnTo>
                  <a:pt x="287" y="667"/>
                </a:lnTo>
                <a:lnTo>
                  <a:pt x="199" y="632"/>
                </a:lnTo>
                <a:lnTo>
                  <a:pt x="114" y="584"/>
                </a:lnTo>
                <a:lnTo>
                  <a:pt x="48" y="509"/>
                </a:lnTo>
                <a:lnTo>
                  <a:pt x="8" y="428"/>
                </a:lnTo>
                <a:lnTo>
                  <a:pt x="0" y="327"/>
                </a:lnTo>
                <a:lnTo>
                  <a:pt x="8" y="239"/>
                </a:lnTo>
                <a:lnTo>
                  <a:pt x="48" y="145"/>
                </a:lnTo>
                <a:lnTo>
                  <a:pt x="114" y="74"/>
                </a:lnTo>
                <a:lnTo>
                  <a:pt x="199" y="26"/>
                </a:lnTo>
                <a:lnTo>
                  <a:pt x="287" y="0"/>
                </a:lnTo>
                <a:lnTo>
                  <a:pt x="380" y="0"/>
                </a:lnTo>
                <a:lnTo>
                  <a:pt x="468" y="26"/>
                </a:lnTo>
                <a:lnTo>
                  <a:pt x="553" y="74"/>
                </a:lnTo>
                <a:lnTo>
                  <a:pt x="614" y="145"/>
                </a:lnTo>
                <a:lnTo>
                  <a:pt x="659" y="239"/>
                </a:lnTo>
                <a:lnTo>
                  <a:pt x="667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601488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596124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97680" y="2117880"/>
            <a:ext cx="1043280" cy="1845000"/>
          </a:xfrm>
          <a:custGeom>
            <a:avLst/>
            <a:gdLst/>
            <a:ahLst/>
            <a:rect l="0" t="0" r="r" b="b"/>
            <a:pathLst>
              <a:path w="2898" h="5125">
                <a:moveTo>
                  <a:pt x="0" y="5125"/>
                </a:moveTo>
                <a:lnTo>
                  <a:pt x="2898" y="5125"/>
                </a:lnTo>
                <a:lnTo>
                  <a:pt x="2898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08012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03"/>
                </a:lnTo>
                <a:lnTo>
                  <a:pt x="966" y="909"/>
                </a:lnTo>
                <a:lnTo>
                  <a:pt x="865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48" y="1063"/>
                </a:lnTo>
                <a:lnTo>
                  <a:pt x="233" y="997"/>
                </a:lnTo>
                <a:lnTo>
                  <a:pt x="136" y="909"/>
                </a:lnTo>
                <a:lnTo>
                  <a:pt x="61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1" y="286"/>
                </a:lnTo>
                <a:lnTo>
                  <a:pt x="136" y="176"/>
                </a:lnTo>
                <a:lnTo>
                  <a:pt x="233" y="88"/>
                </a:lnTo>
                <a:lnTo>
                  <a:pt x="348" y="22"/>
                </a:lnTo>
                <a:lnTo>
                  <a:pt x="480" y="0"/>
                </a:lnTo>
                <a:lnTo>
                  <a:pt x="613" y="0"/>
                </a:lnTo>
                <a:lnTo>
                  <a:pt x="746" y="22"/>
                </a:lnTo>
                <a:lnTo>
                  <a:pt x="865" y="88"/>
                </a:lnTo>
                <a:lnTo>
                  <a:pt x="966" y="176"/>
                </a:lnTo>
                <a:lnTo>
                  <a:pt x="1037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153200" y="2746440"/>
            <a:ext cx="238320" cy="238320"/>
          </a:xfrm>
          <a:custGeom>
            <a:avLst/>
            <a:gdLst/>
            <a:ahLst/>
            <a:rect l="0" t="0" r="r" b="b"/>
            <a:pathLst>
              <a:path w="662" h="662">
                <a:moveTo>
                  <a:pt x="662" y="336"/>
                </a:moveTo>
                <a:lnTo>
                  <a:pt x="658" y="428"/>
                </a:lnTo>
                <a:lnTo>
                  <a:pt x="613" y="516"/>
                </a:lnTo>
                <a:lnTo>
                  <a:pt x="547" y="583"/>
                </a:lnTo>
                <a:lnTo>
                  <a:pt x="468" y="640"/>
                </a:lnTo>
                <a:lnTo>
                  <a:pt x="375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48" y="516"/>
                </a:lnTo>
                <a:lnTo>
                  <a:pt x="8" y="428"/>
                </a:lnTo>
                <a:lnTo>
                  <a:pt x="0" y="336"/>
                </a:lnTo>
                <a:lnTo>
                  <a:pt x="8" y="238"/>
                </a:lnTo>
                <a:lnTo>
                  <a:pt x="48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75" y="0"/>
                </a:lnTo>
                <a:lnTo>
                  <a:pt x="468" y="22"/>
                </a:lnTo>
                <a:lnTo>
                  <a:pt x="547" y="79"/>
                </a:lnTo>
                <a:lnTo>
                  <a:pt x="613" y="145"/>
                </a:lnTo>
                <a:lnTo>
                  <a:pt x="658" y="238"/>
                </a:lnTo>
                <a:lnTo>
                  <a:pt x="662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577280" y="267012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72" y="909"/>
                </a:lnTo>
                <a:lnTo>
                  <a:pt x="861" y="997"/>
                </a:lnTo>
                <a:lnTo>
                  <a:pt x="746" y="1063"/>
                </a:lnTo>
                <a:lnTo>
                  <a:pt x="618" y="1099"/>
                </a:lnTo>
                <a:lnTo>
                  <a:pt x="486" y="1099"/>
                </a:lnTo>
                <a:lnTo>
                  <a:pt x="353" y="1063"/>
                </a:lnTo>
                <a:lnTo>
                  <a:pt x="238" y="997"/>
                </a:lnTo>
                <a:lnTo>
                  <a:pt x="141" y="909"/>
                </a:lnTo>
                <a:lnTo>
                  <a:pt x="57" y="803"/>
                </a:lnTo>
                <a:lnTo>
                  <a:pt x="8" y="680"/>
                </a:lnTo>
                <a:lnTo>
                  <a:pt x="0" y="546"/>
                </a:lnTo>
                <a:lnTo>
                  <a:pt x="8" y="405"/>
                </a:lnTo>
                <a:lnTo>
                  <a:pt x="57" y="286"/>
                </a:lnTo>
                <a:lnTo>
                  <a:pt x="141" y="176"/>
                </a:lnTo>
                <a:lnTo>
                  <a:pt x="238" y="88"/>
                </a:lnTo>
                <a:lnTo>
                  <a:pt x="353" y="22"/>
                </a:lnTo>
                <a:lnTo>
                  <a:pt x="486" y="0"/>
                </a:lnTo>
                <a:lnTo>
                  <a:pt x="618" y="0"/>
                </a:lnTo>
                <a:lnTo>
                  <a:pt x="746" y="22"/>
                </a:lnTo>
                <a:lnTo>
                  <a:pt x="861" y="88"/>
                </a:lnTo>
                <a:lnTo>
                  <a:pt x="972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64856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22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22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8012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12"/>
                </a:lnTo>
                <a:lnTo>
                  <a:pt x="966" y="918"/>
                </a:lnTo>
                <a:lnTo>
                  <a:pt x="865" y="1006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48" y="1063"/>
                </a:lnTo>
                <a:lnTo>
                  <a:pt x="233" y="1006"/>
                </a:lnTo>
                <a:lnTo>
                  <a:pt x="136" y="918"/>
                </a:lnTo>
                <a:lnTo>
                  <a:pt x="61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1" y="295"/>
                </a:lnTo>
                <a:lnTo>
                  <a:pt x="136" y="189"/>
                </a:lnTo>
                <a:lnTo>
                  <a:pt x="233" y="97"/>
                </a:lnTo>
                <a:lnTo>
                  <a:pt x="348" y="30"/>
                </a:lnTo>
                <a:lnTo>
                  <a:pt x="480" y="0"/>
                </a:lnTo>
                <a:lnTo>
                  <a:pt x="613" y="0"/>
                </a:lnTo>
                <a:lnTo>
                  <a:pt x="746" y="30"/>
                </a:lnTo>
                <a:lnTo>
                  <a:pt x="865" y="97"/>
                </a:lnTo>
                <a:lnTo>
                  <a:pt x="966" y="189"/>
                </a:lnTo>
                <a:lnTo>
                  <a:pt x="1037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153200" y="3244680"/>
            <a:ext cx="238320" cy="240120"/>
          </a:xfrm>
          <a:custGeom>
            <a:avLst/>
            <a:gdLst/>
            <a:ahLst/>
            <a:rect l="0" t="0" r="r" b="b"/>
            <a:pathLst>
              <a:path w="662" h="667">
                <a:moveTo>
                  <a:pt x="662" y="327"/>
                </a:moveTo>
                <a:lnTo>
                  <a:pt x="658" y="428"/>
                </a:lnTo>
                <a:lnTo>
                  <a:pt x="613" y="509"/>
                </a:lnTo>
                <a:lnTo>
                  <a:pt x="547" y="584"/>
                </a:lnTo>
                <a:lnTo>
                  <a:pt x="468" y="632"/>
                </a:lnTo>
                <a:lnTo>
                  <a:pt x="375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48" y="509"/>
                </a:lnTo>
                <a:lnTo>
                  <a:pt x="8" y="428"/>
                </a:lnTo>
                <a:lnTo>
                  <a:pt x="0" y="327"/>
                </a:lnTo>
                <a:lnTo>
                  <a:pt x="8" y="239"/>
                </a:lnTo>
                <a:lnTo>
                  <a:pt x="48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75" y="0"/>
                </a:lnTo>
                <a:lnTo>
                  <a:pt x="468" y="26"/>
                </a:lnTo>
                <a:lnTo>
                  <a:pt x="547" y="74"/>
                </a:lnTo>
                <a:lnTo>
                  <a:pt x="613" y="145"/>
                </a:lnTo>
                <a:lnTo>
                  <a:pt x="658" y="239"/>
                </a:lnTo>
                <a:lnTo>
                  <a:pt x="662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577280" y="31654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12"/>
                </a:lnTo>
                <a:lnTo>
                  <a:pt x="972" y="918"/>
                </a:lnTo>
                <a:lnTo>
                  <a:pt x="861" y="1006"/>
                </a:lnTo>
                <a:lnTo>
                  <a:pt x="746" y="1063"/>
                </a:lnTo>
                <a:lnTo>
                  <a:pt x="618" y="1099"/>
                </a:lnTo>
                <a:lnTo>
                  <a:pt x="486" y="1099"/>
                </a:lnTo>
                <a:lnTo>
                  <a:pt x="353" y="1063"/>
                </a:lnTo>
                <a:lnTo>
                  <a:pt x="238" y="1006"/>
                </a:lnTo>
                <a:lnTo>
                  <a:pt x="141" y="918"/>
                </a:lnTo>
                <a:lnTo>
                  <a:pt x="57" y="812"/>
                </a:lnTo>
                <a:lnTo>
                  <a:pt x="8" y="680"/>
                </a:lnTo>
                <a:lnTo>
                  <a:pt x="0" y="546"/>
                </a:lnTo>
                <a:lnTo>
                  <a:pt x="8" y="418"/>
                </a:lnTo>
                <a:lnTo>
                  <a:pt x="57" y="295"/>
                </a:lnTo>
                <a:lnTo>
                  <a:pt x="141" y="189"/>
                </a:lnTo>
                <a:lnTo>
                  <a:pt x="238" y="97"/>
                </a:lnTo>
                <a:lnTo>
                  <a:pt x="353" y="30"/>
                </a:lnTo>
                <a:lnTo>
                  <a:pt x="486" y="0"/>
                </a:lnTo>
                <a:lnTo>
                  <a:pt x="618" y="0"/>
                </a:lnTo>
                <a:lnTo>
                  <a:pt x="746" y="30"/>
                </a:lnTo>
                <a:lnTo>
                  <a:pt x="861" y="97"/>
                </a:lnTo>
                <a:lnTo>
                  <a:pt x="972" y="189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4856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22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57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57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22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717552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712296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6022800" y="1736640"/>
            <a:ext cx="871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319040" y="3976560"/>
            <a:ext cx="7048800" cy="649800"/>
          </a:xfrm>
          <a:custGeom>
            <a:avLst/>
            <a:gdLst/>
            <a:ahLst/>
            <a:rect l="0" t="0" r="r" b="b"/>
            <a:pathLst>
              <a:path w="19580" h="1805">
                <a:moveTo>
                  <a:pt x="736" y="1805"/>
                </a:moveTo>
                <a:lnTo>
                  <a:pt x="18843" y="1805"/>
                </a:lnTo>
                <a:lnTo>
                  <a:pt x="19580" y="900"/>
                </a:lnTo>
                <a:lnTo>
                  <a:pt x="18843" y="0"/>
                </a:lnTo>
                <a:lnTo>
                  <a:pt x="736" y="0"/>
                </a:lnTo>
                <a:lnTo>
                  <a:pt x="0" y="900"/>
                </a:lnTo>
                <a:lnTo>
                  <a:pt x="736" y="18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125960" y="3976560"/>
            <a:ext cx="716400" cy="932400"/>
          </a:xfrm>
          <a:custGeom>
            <a:avLst/>
            <a:gdLst/>
            <a:ahLst/>
            <a:rect l="0" t="0" r="r" b="b"/>
            <a:pathLst>
              <a:path w="1990" h="2590">
                <a:moveTo>
                  <a:pt x="308" y="0"/>
                </a:moveTo>
                <a:lnTo>
                  <a:pt x="1456" y="295"/>
                </a:lnTo>
                <a:lnTo>
                  <a:pt x="997" y="458"/>
                </a:lnTo>
                <a:lnTo>
                  <a:pt x="1990" y="2290"/>
                </a:lnTo>
                <a:lnTo>
                  <a:pt x="1787" y="2542"/>
                </a:lnTo>
                <a:lnTo>
                  <a:pt x="1465" y="2590"/>
                </a:lnTo>
                <a:lnTo>
                  <a:pt x="361" y="830"/>
                </a:lnTo>
                <a:lnTo>
                  <a:pt x="0" y="1147"/>
                </a:lnTo>
                <a:lnTo>
                  <a:pt x="308" y="0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703760" y="3797280"/>
            <a:ext cx="1081440" cy="1090800"/>
          </a:xfrm>
          <a:custGeom>
            <a:avLst/>
            <a:gdLst/>
            <a:ahLst/>
            <a:rect l="0" t="0" r="r" b="b"/>
            <a:pathLst>
              <a:path w="3004" h="3030">
                <a:moveTo>
                  <a:pt x="2990" y="0"/>
                </a:moveTo>
                <a:lnTo>
                  <a:pt x="1808" y="0"/>
                </a:lnTo>
                <a:lnTo>
                  <a:pt x="2210" y="260"/>
                </a:lnTo>
                <a:lnTo>
                  <a:pt x="0" y="2607"/>
                </a:lnTo>
                <a:lnTo>
                  <a:pt x="132" y="2902"/>
                </a:lnTo>
                <a:lnTo>
                  <a:pt x="432" y="3030"/>
                </a:lnTo>
                <a:lnTo>
                  <a:pt x="2735" y="776"/>
                </a:lnTo>
                <a:lnTo>
                  <a:pt x="3004" y="1177"/>
                </a:lnTo>
                <a:lnTo>
                  <a:pt x="2990" y="0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8280" y="4114800"/>
            <a:ext cx="1550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 txBox="1"/>
          <p:nvPr/>
        </p:nvSpPr>
        <p:spPr>
          <a:xfrm>
            <a:off x="4162320" y="5018040"/>
            <a:ext cx="1339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niversal 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389480" y="5538960"/>
            <a:ext cx="909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ava/II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800600" y="53038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4071960" y="5289480"/>
            <a:ext cx="480960" cy="33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100480" y="5289480"/>
            <a:ext cx="563760" cy="33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5981760" y="5775480"/>
            <a:ext cx="11113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TML/HT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876400" y="5505480"/>
            <a:ext cx="10666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1508040" y="4148280"/>
            <a:ext cx="15508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RBA/IIOP OR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552600" y="47628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ilover / High Avail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954600" y="3879720"/>
            <a:ext cx="732240" cy="729000"/>
          </a:xfrm>
          <a:custGeom>
            <a:avLst/>
            <a:gdLst/>
            <a:ahLst/>
            <a:rect l="0" t="0" r="r" b="b"/>
            <a:pathLst>
              <a:path w="2034" h="2025">
                <a:moveTo>
                  <a:pt x="0" y="1005"/>
                </a:moveTo>
                <a:lnTo>
                  <a:pt x="17" y="833"/>
                </a:lnTo>
                <a:lnTo>
                  <a:pt x="66" y="661"/>
                </a:lnTo>
                <a:lnTo>
                  <a:pt x="141" y="507"/>
                </a:lnTo>
                <a:lnTo>
                  <a:pt x="238" y="357"/>
                </a:lnTo>
                <a:lnTo>
                  <a:pt x="370" y="238"/>
                </a:lnTo>
                <a:lnTo>
                  <a:pt x="507" y="127"/>
                </a:lnTo>
                <a:lnTo>
                  <a:pt x="671" y="57"/>
                </a:lnTo>
                <a:lnTo>
                  <a:pt x="843" y="13"/>
                </a:lnTo>
                <a:lnTo>
                  <a:pt x="1015" y="0"/>
                </a:lnTo>
                <a:lnTo>
                  <a:pt x="1196" y="13"/>
                </a:lnTo>
                <a:lnTo>
                  <a:pt x="1359" y="57"/>
                </a:lnTo>
                <a:lnTo>
                  <a:pt x="1527" y="127"/>
                </a:lnTo>
                <a:lnTo>
                  <a:pt x="1673" y="238"/>
                </a:lnTo>
                <a:lnTo>
                  <a:pt x="1796" y="357"/>
                </a:lnTo>
                <a:lnTo>
                  <a:pt x="1893" y="507"/>
                </a:lnTo>
                <a:lnTo>
                  <a:pt x="1968" y="661"/>
                </a:lnTo>
                <a:lnTo>
                  <a:pt x="2017" y="833"/>
                </a:lnTo>
                <a:lnTo>
                  <a:pt x="2034" y="1005"/>
                </a:lnTo>
                <a:lnTo>
                  <a:pt x="2017" y="1187"/>
                </a:lnTo>
                <a:lnTo>
                  <a:pt x="1968" y="1359"/>
                </a:lnTo>
                <a:lnTo>
                  <a:pt x="1893" y="1517"/>
                </a:lnTo>
                <a:lnTo>
                  <a:pt x="1796" y="1663"/>
                </a:lnTo>
                <a:lnTo>
                  <a:pt x="1673" y="1786"/>
                </a:lnTo>
                <a:lnTo>
                  <a:pt x="1527" y="1892"/>
                </a:lnTo>
                <a:lnTo>
                  <a:pt x="1359" y="1967"/>
                </a:lnTo>
                <a:lnTo>
                  <a:pt x="1196" y="2007"/>
                </a:lnTo>
                <a:lnTo>
                  <a:pt x="1015" y="2025"/>
                </a:lnTo>
                <a:lnTo>
                  <a:pt x="843" y="2007"/>
                </a:lnTo>
                <a:lnTo>
                  <a:pt x="671" y="1967"/>
                </a:lnTo>
                <a:lnTo>
                  <a:pt x="507" y="1892"/>
                </a:lnTo>
                <a:lnTo>
                  <a:pt x="370" y="1786"/>
                </a:lnTo>
                <a:lnTo>
                  <a:pt x="238" y="1663"/>
                </a:lnTo>
                <a:lnTo>
                  <a:pt x="141" y="1517"/>
                </a:lnTo>
                <a:lnTo>
                  <a:pt x="66" y="1359"/>
                </a:lnTo>
                <a:lnTo>
                  <a:pt x="17" y="1187"/>
                </a:lnTo>
                <a:lnTo>
                  <a:pt x="0" y="10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666800" y="1471680"/>
            <a:ext cx="2986560" cy="2522880"/>
          </a:xfrm>
          <a:custGeom>
            <a:avLst/>
            <a:gdLst/>
            <a:ahLst/>
            <a:rect l="0" t="0" r="r" b="b"/>
            <a:pathLst>
              <a:path w="8296" h="7008">
                <a:moveTo>
                  <a:pt x="0" y="7008"/>
                </a:moveTo>
                <a:lnTo>
                  <a:pt x="8296" y="7008"/>
                </a:lnTo>
                <a:lnTo>
                  <a:pt x="8296" y="0"/>
                </a:lnTo>
                <a:lnTo>
                  <a:pt x="0" y="0"/>
                </a:lnTo>
                <a:lnTo>
                  <a:pt x="0" y="7008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362320" y="2035080"/>
            <a:ext cx="2424600" cy="1959480"/>
          </a:xfrm>
          <a:custGeom>
            <a:avLst/>
            <a:gdLst/>
            <a:ahLst/>
            <a:rect l="0" t="0" r="r" b="b"/>
            <a:pathLst>
              <a:path w="6735" h="5443">
                <a:moveTo>
                  <a:pt x="0" y="5443"/>
                </a:moveTo>
                <a:lnTo>
                  <a:pt x="6735" y="5443"/>
                </a:lnTo>
                <a:lnTo>
                  <a:pt x="6735" y="0"/>
                </a:lnTo>
                <a:lnTo>
                  <a:pt x="0" y="0"/>
                </a:lnTo>
                <a:lnTo>
                  <a:pt x="0" y="54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451240" y="2103480"/>
            <a:ext cx="1046520" cy="1841760"/>
          </a:xfrm>
          <a:custGeom>
            <a:avLst/>
            <a:gdLst/>
            <a:ahLst/>
            <a:rect l="0" t="0" r="r" b="b"/>
            <a:pathLst>
              <a:path w="2907" h="5116">
                <a:moveTo>
                  <a:pt x="0" y="5116"/>
                </a:moveTo>
                <a:lnTo>
                  <a:pt x="2907" y="5116"/>
                </a:lnTo>
                <a:lnTo>
                  <a:pt x="2907" y="0"/>
                </a:lnTo>
                <a:lnTo>
                  <a:pt x="0" y="0"/>
                </a:lnTo>
                <a:lnTo>
                  <a:pt x="0" y="5116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536920" y="265104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52"/>
                </a:moveTo>
                <a:lnTo>
                  <a:pt x="1091" y="684"/>
                </a:lnTo>
                <a:lnTo>
                  <a:pt x="1042" y="807"/>
                </a:lnTo>
                <a:lnTo>
                  <a:pt x="967" y="922"/>
                </a:lnTo>
                <a:lnTo>
                  <a:pt x="861" y="1002"/>
                </a:lnTo>
                <a:lnTo>
                  <a:pt x="746" y="1068"/>
                </a:lnTo>
                <a:lnTo>
                  <a:pt x="613" y="1099"/>
                </a:lnTo>
                <a:lnTo>
                  <a:pt x="481" y="1099"/>
                </a:lnTo>
                <a:lnTo>
                  <a:pt x="353" y="1068"/>
                </a:lnTo>
                <a:lnTo>
                  <a:pt x="238" y="1002"/>
                </a:lnTo>
                <a:lnTo>
                  <a:pt x="136" y="922"/>
                </a:lnTo>
                <a:lnTo>
                  <a:pt x="57" y="807"/>
                </a:lnTo>
                <a:lnTo>
                  <a:pt x="8" y="684"/>
                </a:lnTo>
                <a:lnTo>
                  <a:pt x="0" y="552"/>
                </a:lnTo>
                <a:lnTo>
                  <a:pt x="8" y="418"/>
                </a:lnTo>
                <a:lnTo>
                  <a:pt x="57" y="295"/>
                </a:lnTo>
                <a:lnTo>
                  <a:pt x="136" y="180"/>
                </a:lnTo>
                <a:lnTo>
                  <a:pt x="238" y="92"/>
                </a:lnTo>
                <a:lnTo>
                  <a:pt x="353" y="35"/>
                </a:lnTo>
                <a:lnTo>
                  <a:pt x="481" y="0"/>
                </a:lnTo>
                <a:lnTo>
                  <a:pt x="613" y="0"/>
                </a:lnTo>
                <a:lnTo>
                  <a:pt x="746" y="35"/>
                </a:lnTo>
                <a:lnTo>
                  <a:pt x="861" y="92"/>
                </a:lnTo>
                <a:lnTo>
                  <a:pt x="967" y="180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52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06760" y="27288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4"/>
                </a:lnTo>
                <a:lnTo>
                  <a:pt x="628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4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30"/>
                </a:lnTo>
                <a:lnTo>
                  <a:pt x="287" y="0"/>
                </a:lnTo>
                <a:lnTo>
                  <a:pt x="389" y="0"/>
                </a:lnTo>
                <a:lnTo>
                  <a:pt x="477" y="30"/>
                </a:lnTo>
                <a:lnTo>
                  <a:pt x="562" y="79"/>
                </a:lnTo>
                <a:lnTo>
                  <a:pt x="628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032280" y="265104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52"/>
                </a:moveTo>
                <a:lnTo>
                  <a:pt x="1091" y="684"/>
                </a:lnTo>
                <a:lnTo>
                  <a:pt x="1051" y="807"/>
                </a:lnTo>
                <a:lnTo>
                  <a:pt x="967" y="922"/>
                </a:lnTo>
                <a:lnTo>
                  <a:pt x="870" y="1002"/>
                </a:lnTo>
                <a:lnTo>
                  <a:pt x="755" y="1068"/>
                </a:lnTo>
                <a:lnTo>
                  <a:pt x="622" y="1099"/>
                </a:lnTo>
                <a:lnTo>
                  <a:pt x="490" y="1099"/>
                </a:lnTo>
                <a:lnTo>
                  <a:pt x="362" y="1068"/>
                </a:lnTo>
                <a:lnTo>
                  <a:pt x="238" y="1002"/>
                </a:lnTo>
                <a:lnTo>
                  <a:pt x="136" y="922"/>
                </a:lnTo>
                <a:lnTo>
                  <a:pt x="66" y="807"/>
                </a:lnTo>
                <a:lnTo>
                  <a:pt x="17" y="684"/>
                </a:lnTo>
                <a:lnTo>
                  <a:pt x="0" y="552"/>
                </a:lnTo>
                <a:lnTo>
                  <a:pt x="17" y="418"/>
                </a:lnTo>
                <a:lnTo>
                  <a:pt x="66" y="295"/>
                </a:lnTo>
                <a:lnTo>
                  <a:pt x="136" y="180"/>
                </a:lnTo>
                <a:lnTo>
                  <a:pt x="238" y="92"/>
                </a:lnTo>
                <a:lnTo>
                  <a:pt x="362" y="35"/>
                </a:lnTo>
                <a:lnTo>
                  <a:pt x="490" y="0"/>
                </a:lnTo>
                <a:lnTo>
                  <a:pt x="622" y="0"/>
                </a:lnTo>
                <a:lnTo>
                  <a:pt x="755" y="35"/>
                </a:lnTo>
                <a:lnTo>
                  <a:pt x="870" y="92"/>
                </a:lnTo>
                <a:lnTo>
                  <a:pt x="967" y="180"/>
                </a:lnTo>
                <a:lnTo>
                  <a:pt x="1051" y="295"/>
                </a:lnTo>
                <a:lnTo>
                  <a:pt x="1091" y="418"/>
                </a:lnTo>
                <a:lnTo>
                  <a:pt x="1108" y="552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105000" y="27288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4"/>
                </a:lnTo>
                <a:lnTo>
                  <a:pt x="619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4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30"/>
                </a:lnTo>
                <a:lnTo>
                  <a:pt x="287" y="0"/>
                </a:lnTo>
                <a:lnTo>
                  <a:pt x="389" y="0"/>
                </a:lnTo>
                <a:lnTo>
                  <a:pt x="477" y="30"/>
                </a:lnTo>
                <a:lnTo>
                  <a:pt x="562" y="79"/>
                </a:lnTo>
                <a:lnTo>
                  <a:pt x="619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536920" y="31510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67" y="909"/>
                </a:lnTo>
                <a:lnTo>
                  <a:pt x="861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1" y="1099"/>
                </a:lnTo>
                <a:lnTo>
                  <a:pt x="353" y="1063"/>
                </a:lnTo>
                <a:lnTo>
                  <a:pt x="238" y="997"/>
                </a:lnTo>
                <a:lnTo>
                  <a:pt x="136" y="909"/>
                </a:lnTo>
                <a:lnTo>
                  <a:pt x="57" y="803"/>
                </a:lnTo>
                <a:lnTo>
                  <a:pt x="8" y="680"/>
                </a:lnTo>
                <a:lnTo>
                  <a:pt x="0" y="546"/>
                </a:lnTo>
                <a:lnTo>
                  <a:pt x="8" y="405"/>
                </a:lnTo>
                <a:lnTo>
                  <a:pt x="57" y="286"/>
                </a:lnTo>
                <a:lnTo>
                  <a:pt x="136" y="176"/>
                </a:lnTo>
                <a:lnTo>
                  <a:pt x="238" y="88"/>
                </a:lnTo>
                <a:lnTo>
                  <a:pt x="353" y="30"/>
                </a:lnTo>
                <a:lnTo>
                  <a:pt x="481" y="0"/>
                </a:lnTo>
                <a:lnTo>
                  <a:pt x="613" y="0"/>
                </a:lnTo>
                <a:lnTo>
                  <a:pt x="746" y="30"/>
                </a:lnTo>
                <a:lnTo>
                  <a:pt x="861" y="88"/>
                </a:lnTo>
                <a:lnTo>
                  <a:pt x="967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606760" y="32274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28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28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032280" y="31510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51" y="803"/>
                </a:lnTo>
                <a:lnTo>
                  <a:pt x="967" y="909"/>
                </a:lnTo>
                <a:lnTo>
                  <a:pt x="870" y="997"/>
                </a:lnTo>
                <a:lnTo>
                  <a:pt x="755" y="1063"/>
                </a:lnTo>
                <a:lnTo>
                  <a:pt x="622" y="1099"/>
                </a:lnTo>
                <a:lnTo>
                  <a:pt x="490" y="1099"/>
                </a:lnTo>
                <a:lnTo>
                  <a:pt x="36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7" y="680"/>
                </a:lnTo>
                <a:lnTo>
                  <a:pt x="0" y="546"/>
                </a:lnTo>
                <a:lnTo>
                  <a:pt x="17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62" y="30"/>
                </a:lnTo>
                <a:lnTo>
                  <a:pt x="490" y="0"/>
                </a:lnTo>
                <a:lnTo>
                  <a:pt x="622" y="0"/>
                </a:lnTo>
                <a:lnTo>
                  <a:pt x="755" y="30"/>
                </a:lnTo>
                <a:lnTo>
                  <a:pt x="870" y="88"/>
                </a:lnTo>
                <a:lnTo>
                  <a:pt x="967" y="176"/>
                </a:lnTo>
                <a:lnTo>
                  <a:pt x="1051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105000" y="322740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19" y="516"/>
                </a:lnTo>
                <a:lnTo>
                  <a:pt x="562" y="591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91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54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19" y="154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2633760" y="212256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2576520" y="231768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613320" y="2117880"/>
            <a:ext cx="1046520" cy="1845000"/>
          </a:xfrm>
          <a:custGeom>
            <a:avLst/>
            <a:gdLst/>
            <a:ahLst/>
            <a:rect l="0" t="0" r="r" b="b"/>
            <a:pathLst>
              <a:path w="2907" h="5125">
                <a:moveTo>
                  <a:pt x="0" y="5125"/>
                </a:moveTo>
                <a:lnTo>
                  <a:pt x="2907" y="5125"/>
                </a:lnTo>
                <a:lnTo>
                  <a:pt x="2907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69576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6" y="803"/>
                </a:lnTo>
                <a:lnTo>
                  <a:pt x="966" y="909"/>
                </a:lnTo>
                <a:lnTo>
                  <a:pt x="869" y="997"/>
                </a:lnTo>
                <a:lnTo>
                  <a:pt x="755" y="1063"/>
                </a:lnTo>
                <a:lnTo>
                  <a:pt x="622" y="1099"/>
                </a:lnTo>
                <a:lnTo>
                  <a:pt x="489" y="1099"/>
                </a:lnTo>
                <a:lnTo>
                  <a:pt x="357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57" y="22"/>
                </a:lnTo>
                <a:lnTo>
                  <a:pt x="489" y="0"/>
                </a:lnTo>
                <a:lnTo>
                  <a:pt x="622" y="0"/>
                </a:lnTo>
                <a:lnTo>
                  <a:pt x="755" y="22"/>
                </a:lnTo>
                <a:lnTo>
                  <a:pt x="869" y="88"/>
                </a:lnTo>
                <a:lnTo>
                  <a:pt x="966" y="176"/>
                </a:lnTo>
                <a:lnTo>
                  <a:pt x="1046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76884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13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13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19400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03"/>
                </a:lnTo>
                <a:lnTo>
                  <a:pt x="966" y="909"/>
                </a:lnTo>
                <a:lnTo>
                  <a:pt x="865" y="997"/>
                </a:lnTo>
                <a:lnTo>
                  <a:pt x="746" y="1063"/>
                </a:lnTo>
                <a:lnTo>
                  <a:pt x="622" y="1099"/>
                </a:lnTo>
                <a:lnTo>
                  <a:pt x="480" y="1099"/>
                </a:lnTo>
                <a:lnTo>
                  <a:pt x="357" y="1063"/>
                </a:lnTo>
                <a:lnTo>
                  <a:pt x="233" y="997"/>
                </a:lnTo>
                <a:lnTo>
                  <a:pt x="136" y="909"/>
                </a:lnTo>
                <a:lnTo>
                  <a:pt x="61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1" y="286"/>
                </a:lnTo>
                <a:lnTo>
                  <a:pt x="136" y="176"/>
                </a:lnTo>
                <a:lnTo>
                  <a:pt x="233" y="88"/>
                </a:lnTo>
                <a:lnTo>
                  <a:pt x="357" y="22"/>
                </a:lnTo>
                <a:lnTo>
                  <a:pt x="480" y="0"/>
                </a:lnTo>
                <a:lnTo>
                  <a:pt x="622" y="0"/>
                </a:lnTo>
                <a:lnTo>
                  <a:pt x="746" y="22"/>
                </a:lnTo>
                <a:lnTo>
                  <a:pt x="865" y="88"/>
                </a:lnTo>
                <a:lnTo>
                  <a:pt x="966" y="176"/>
                </a:lnTo>
                <a:lnTo>
                  <a:pt x="1037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26708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13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48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48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13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69576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6" y="812"/>
                </a:lnTo>
                <a:lnTo>
                  <a:pt x="966" y="918"/>
                </a:lnTo>
                <a:lnTo>
                  <a:pt x="869" y="1006"/>
                </a:lnTo>
                <a:lnTo>
                  <a:pt x="755" y="1063"/>
                </a:lnTo>
                <a:lnTo>
                  <a:pt x="622" y="1099"/>
                </a:lnTo>
                <a:lnTo>
                  <a:pt x="489" y="1099"/>
                </a:lnTo>
                <a:lnTo>
                  <a:pt x="357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57" y="30"/>
                </a:lnTo>
                <a:lnTo>
                  <a:pt x="489" y="0"/>
                </a:lnTo>
                <a:lnTo>
                  <a:pt x="622" y="0"/>
                </a:lnTo>
                <a:lnTo>
                  <a:pt x="755" y="30"/>
                </a:lnTo>
                <a:lnTo>
                  <a:pt x="869" y="97"/>
                </a:lnTo>
                <a:lnTo>
                  <a:pt x="966" y="189"/>
                </a:lnTo>
                <a:lnTo>
                  <a:pt x="1046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76884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13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57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57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13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19400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12"/>
                </a:lnTo>
                <a:lnTo>
                  <a:pt x="966" y="918"/>
                </a:lnTo>
                <a:lnTo>
                  <a:pt x="865" y="1006"/>
                </a:lnTo>
                <a:lnTo>
                  <a:pt x="746" y="1063"/>
                </a:lnTo>
                <a:lnTo>
                  <a:pt x="622" y="1099"/>
                </a:lnTo>
                <a:lnTo>
                  <a:pt x="480" y="1099"/>
                </a:lnTo>
                <a:lnTo>
                  <a:pt x="357" y="1063"/>
                </a:lnTo>
                <a:lnTo>
                  <a:pt x="233" y="1006"/>
                </a:lnTo>
                <a:lnTo>
                  <a:pt x="136" y="918"/>
                </a:lnTo>
                <a:lnTo>
                  <a:pt x="61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1" y="295"/>
                </a:lnTo>
                <a:lnTo>
                  <a:pt x="136" y="189"/>
                </a:lnTo>
                <a:lnTo>
                  <a:pt x="233" y="97"/>
                </a:lnTo>
                <a:lnTo>
                  <a:pt x="357" y="30"/>
                </a:lnTo>
                <a:lnTo>
                  <a:pt x="480" y="0"/>
                </a:lnTo>
                <a:lnTo>
                  <a:pt x="622" y="0"/>
                </a:lnTo>
                <a:lnTo>
                  <a:pt x="746" y="30"/>
                </a:lnTo>
                <a:lnTo>
                  <a:pt x="865" y="97"/>
                </a:lnTo>
                <a:lnTo>
                  <a:pt x="966" y="189"/>
                </a:lnTo>
                <a:lnTo>
                  <a:pt x="1037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26708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13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48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48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13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79404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73860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811160" y="152712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2682720" y="1722600"/>
            <a:ext cx="871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051520" y="1488960"/>
            <a:ext cx="2983320" cy="2522880"/>
          </a:xfrm>
          <a:custGeom>
            <a:avLst/>
            <a:gdLst/>
            <a:ahLst/>
            <a:rect l="0" t="0" r="r" b="b"/>
            <a:pathLst>
              <a:path w="8287" h="7008">
                <a:moveTo>
                  <a:pt x="0" y="7008"/>
                </a:moveTo>
                <a:lnTo>
                  <a:pt x="8287" y="7008"/>
                </a:lnTo>
                <a:lnTo>
                  <a:pt x="8287" y="0"/>
                </a:lnTo>
                <a:lnTo>
                  <a:pt x="0" y="0"/>
                </a:lnTo>
                <a:lnTo>
                  <a:pt x="0" y="7008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46680" y="2052720"/>
            <a:ext cx="2370600" cy="1959480"/>
          </a:xfrm>
          <a:custGeom>
            <a:avLst/>
            <a:gdLst/>
            <a:ahLst/>
            <a:rect l="0" t="0" r="r" b="b"/>
            <a:pathLst>
              <a:path w="6585" h="5443">
                <a:moveTo>
                  <a:pt x="0" y="5443"/>
                </a:moveTo>
                <a:lnTo>
                  <a:pt x="6585" y="5443"/>
                </a:lnTo>
                <a:lnTo>
                  <a:pt x="6585" y="0"/>
                </a:lnTo>
                <a:lnTo>
                  <a:pt x="0" y="0"/>
                </a:lnTo>
                <a:lnTo>
                  <a:pt x="0" y="54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835600" y="2117880"/>
            <a:ext cx="1043280" cy="1845000"/>
          </a:xfrm>
          <a:custGeom>
            <a:avLst/>
            <a:gdLst/>
            <a:ahLst/>
            <a:rect l="0" t="0" r="r" b="b"/>
            <a:pathLst>
              <a:path w="2898" h="5125">
                <a:moveTo>
                  <a:pt x="0" y="5125"/>
                </a:moveTo>
                <a:lnTo>
                  <a:pt x="2898" y="5125"/>
                </a:lnTo>
                <a:lnTo>
                  <a:pt x="2898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918040" y="267012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67" y="909"/>
                </a:lnTo>
                <a:lnTo>
                  <a:pt x="870" y="997"/>
                </a:lnTo>
                <a:lnTo>
                  <a:pt x="746" y="1063"/>
                </a:lnTo>
                <a:lnTo>
                  <a:pt x="622" y="1099"/>
                </a:lnTo>
                <a:lnTo>
                  <a:pt x="481" y="1099"/>
                </a:lnTo>
                <a:lnTo>
                  <a:pt x="36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7" y="680"/>
                </a:lnTo>
                <a:lnTo>
                  <a:pt x="0" y="546"/>
                </a:lnTo>
                <a:lnTo>
                  <a:pt x="17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62" y="22"/>
                </a:lnTo>
                <a:lnTo>
                  <a:pt x="481" y="0"/>
                </a:lnTo>
                <a:lnTo>
                  <a:pt x="622" y="0"/>
                </a:lnTo>
                <a:lnTo>
                  <a:pt x="746" y="22"/>
                </a:lnTo>
                <a:lnTo>
                  <a:pt x="870" y="88"/>
                </a:lnTo>
                <a:lnTo>
                  <a:pt x="967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91120" y="2746440"/>
            <a:ext cx="243360" cy="238320"/>
          </a:xfrm>
          <a:custGeom>
            <a:avLst/>
            <a:gdLst/>
            <a:ahLst/>
            <a:rect l="0" t="0" r="r" b="b"/>
            <a:pathLst>
              <a:path w="676" h="662">
                <a:moveTo>
                  <a:pt x="676" y="336"/>
                </a:moveTo>
                <a:lnTo>
                  <a:pt x="659" y="428"/>
                </a:lnTo>
                <a:lnTo>
                  <a:pt x="619" y="516"/>
                </a:lnTo>
                <a:lnTo>
                  <a:pt x="562" y="583"/>
                </a:lnTo>
                <a:lnTo>
                  <a:pt x="477" y="640"/>
                </a:lnTo>
                <a:lnTo>
                  <a:pt x="389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83"/>
                </a:lnTo>
                <a:lnTo>
                  <a:pt x="48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48" y="145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9" y="0"/>
                </a:lnTo>
                <a:lnTo>
                  <a:pt x="477" y="22"/>
                </a:lnTo>
                <a:lnTo>
                  <a:pt x="562" y="79"/>
                </a:lnTo>
                <a:lnTo>
                  <a:pt x="619" y="145"/>
                </a:lnTo>
                <a:lnTo>
                  <a:pt x="659" y="238"/>
                </a:lnTo>
                <a:lnTo>
                  <a:pt x="676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41664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1" y="803"/>
                </a:lnTo>
                <a:lnTo>
                  <a:pt x="966" y="909"/>
                </a:lnTo>
                <a:lnTo>
                  <a:pt x="869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52" y="1063"/>
                </a:lnTo>
                <a:lnTo>
                  <a:pt x="238" y="997"/>
                </a:lnTo>
                <a:lnTo>
                  <a:pt x="136" y="909"/>
                </a:lnTo>
                <a:lnTo>
                  <a:pt x="66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6" y="286"/>
                </a:lnTo>
                <a:lnTo>
                  <a:pt x="136" y="176"/>
                </a:lnTo>
                <a:lnTo>
                  <a:pt x="238" y="88"/>
                </a:lnTo>
                <a:lnTo>
                  <a:pt x="352" y="22"/>
                </a:lnTo>
                <a:lnTo>
                  <a:pt x="480" y="0"/>
                </a:lnTo>
                <a:lnTo>
                  <a:pt x="613" y="0"/>
                </a:lnTo>
                <a:lnTo>
                  <a:pt x="746" y="22"/>
                </a:lnTo>
                <a:lnTo>
                  <a:pt x="869" y="88"/>
                </a:lnTo>
                <a:lnTo>
                  <a:pt x="966" y="176"/>
                </a:lnTo>
                <a:lnTo>
                  <a:pt x="1041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489720" y="2746440"/>
            <a:ext cx="240120" cy="238320"/>
          </a:xfrm>
          <a:custGeom>
            <a:avLst/>
            <a:gdLst/>
            <a:ahLst/>
            <a:rect l="0" t="0" r="r" b="b"/>
            <a:pathLst>
              <a:path w="667" h="662">
                <a:moveTo>
                  <a:pt x="667" y="336"/>
                </a:moveTo>
                <a:lnTo>
                  <a:pt x="659" y="428"/>
                </a:lnTo>
                <a:lnTo>
                  <a:pt x="614" y="516"/>
                </a:lnTo>
                <a:lnTo>
                  <a:pt x="553" y="583"/>
                </a:lnTo>
                <a:lnTo>
                  <a:pt x="468" y="640"/>
                </a:lnTo>
                <a:lnTo>
                  <a:pt x="380" y="662"/>
                </a:lnTo>
                <a:lnTo>
                  <a:pt x="287" y="662"/>
                </a:lnTo>
                <a:lnTo>
                  <a:pt x="199" y="640"/>
                </a:lnTo>
                <a:lnTo>
                  <a:pt x="114" y="583"/>
                </a:lnTo>
                <a:lnTo>
                  <a:pt x="48" y="516"/>
                </a:lnTo>
                <a:lnTo>
                  <a:pt x="8" y="428"/>
                </a:lnTo>
                <a:lnTo>
                  <a:pt x="0" y="336"/>
                </a:lnTo>
                <a:lnTo>
                  <a:pt x="8" y="238"/>
                </a:lnTo>
                <a:lnTo>
                  <a:pt x="48" y="145"/>
                </a:lnTo>
                <a:lnTo>
                  <a:pt x="114" y="79"/>
                </a:lnTo>
                <a:lnTo>
                  <a:pt x="199" y="22"/>
                </a:lnTo>
                <a:lnTo>
                  <a:pt x="287" y="0"/>
                </a:lnTo>
                <a:lnTo>
                  <a:pt x="380" y="0"/>
                </a:lnTo>
                <a:lnTo>
                  <a:pt x="468" y="22"/>
                </a:lnTo>
                <a:lnTo>
                  <a:pt x="553" y="79"/>
                </a:lnTo>
                <a:lnTo>
                  <a:pt x="614" y="145"/>
                </a:lnTo>
                <a:lnTo>
                  <a:pt x="659" y="238"/>
                </a:lnTo>
                <a:lnTo>
                  <a:pt x="667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918040" y="31654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12"/>
                </a:lnTo>
                <a:lnTo>
                  <a:pt x="967" y="918"/>
                </a:lnTo>
                <a:lnTo>
                  <a:pt x="870" y="1006"/>
                </a:lnTo>
                <a:lnTo>
                  <a:pt x="746" y="1063"/>
                </a:lnTo>
                <a:lnTo>
                  <a:pt x="622" y="1099"/>
                </a:lnTo>
                <a:lnTo>
                  <a:pt x="481" y="1099"/>
                </a:lnTo>
                <a:lnTo>
                  <a:pt x="362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7" y="680"/>
                </a:lnTo>
                <a:lnTo>
                  <a:pt x="0" y="546"/>
                </a:lnTo>
                <a:lnTo>
                  <a:pt x="17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62" y="30"/>
                </a:lnTo>
                <a:lnTo>
                  <a:pt x="481" y="0"/>
                </a:lnTo>
                <a:lnTo>
                  <a:pt x="622" y="0"/>
                </a:lnTo>
                <a:lnTo>
                  <a:pt x="746" y="30"/>
                </a:lnTo>
                <a:lnTo>
                  <a:pt x="870" y="97"/>
                </a:lnTo>
                <a:lnTo>
                  <a:pt x="967" y="189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991120" y="3244680"/>
            <a:ext cx="243360" cy="240120"/>
          </a:xfrm>
          <a:custGeom>
            <a:avLst/>
            <a:gdLst/>
            <a:ahLst/>
            <a:rect l="0" t="0" r="r" b="b"/>
            <a:pathLst>
              <a:path w="676" h="667">
                <a:moveTo>
                  <a:pt x="676" y="327"/>
                </a:moveTo>
                <a:lnTo>
                  <a:pt x="659" y="428"/>
                </a:lnTo>
                <a:lnTo>
                  <a:pt x="619" y="509"/>
                </a:lnTo>
                <a:lnTo>
                  <a:pt x="562" y="584"/>
                </a:lnTo>
                <a:lnTo>
                  <a:pt x="477" y="632"/>
                </a:lnTo>
                <a:lnTo>
                  <a:pt x="389" y="667"/>
                </a:lnTo>
                <a:lnTo>
                  <a:pt x="287" y="667"/>
                </a:lnTo>
                <a:lnTo>
                  <a:pt x="199" y="632"/>
                </a:lnTo>
                <a:lnTo>
                  <a:pt x="114" y="584"/>
                </a:lnTo>
                <a:lnTo>
                  <a:pt x="48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48" y="145"/>
                </a:lnTo>
                <a:lnTo>
                  <a:pt x="114" y="74"/>
                </a:lnTo>
                <a:lnTo>
                  <a:pt x="199" y="26"/>
                </a:lnTo>
                <a:lnTo>
                  <a:pt x="287" y="0"/>
                </a:lnTo>
                <a:lnTo>
                  <a:pt x="389" y="0"/>
                </a:lnTo>
                <a:lnTo>
                  <a:pt x="477" y="26"/>
                </a:lnTo>
                <a:lnTo>
                  <a:pt x="562" y="74"/>
                </a:lnTo>
                <a:lnTo>
                  <a:pt x="619" y="145"/>
                </a:lnTo>
                <a:lnTo>
                  <a:pt x="659" y="239"/>
                </a:lnTo>
                <a:lnTo>
                  <a:pt x="676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41664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41" y="812"/>
                </a:lnTo>
                <a:lnTo>
                  <a:pt x="966" y="918"/>
                </a:lnTo>
                <a:lnTo>
                  <a:pt x="869" y="1006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52" y="1063"/>
                </a:lnTo>
                <a:lnTo>
                  <a:pt x="238" y="1006"/>
                </a:lnTo>
                <a:lnTo>
                  <a:pt x="136" y="918"/>
                </a:lnTo>
                <a:lnTo>
                  <a:pt x="66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6" y="295"/>
                </a:lnTo>
                <a:lnTo>
                  <a:pt x="136" y="189"/>
                </a:lnTo>
                <a:lnTo>
                  <a:pt x="238" y="97"/>
                </a:lnTo>
                <a:lnTo>
                  <a:pt x="352" y="30"/>
                </a:lnTo>
                <a:lnTo>
                  <a:pt x="480" y="0"/>
                </a:lnTo>
                <a:lnTo>
                  <a:pt x="613" y="0"/>
                </a:lnTo>
                <a:lnTo>
                  <a:pt x="746" y="30"/>
                </a:lnTo>
                <a:lnTo>
                  <a:pt x="869" y="97"/>
                </a:lnTo>
                <a:lnTo>
                  <a:pt x="966" y="189"/>
                </a:lnTo>
                <a:lnTo>
                  <a:pt x="1041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489720" y="3244680"/>
            <a:ext cx="240120" cy="240120"/>
          </a:xfrm>
          <a:custGeom>
            <a:avLst/>
            <a:gdLst/>
            <a:ahLst/>
            <a:rect l="0" t="0" r="r" b="b"/>
            <a:pathLst>
              <a:path w="667" h="667">
                <a:moveTo>
                  <a:pt x="667" y="327"/>
                </a:moveTo>
                <a:lnTo>
                  <a:pt x="659" y="428"/>
                </a:lnTo>
                <a:lnTo>
                  <a:pt x="614" y="509"/>
                </a:lnTo>
                <a:lnTo>
                  <a:pt x="553" y="584"/>
                </a:lnTo>
                <a:lnTo>
                  <a:pt x="468" y="632"/>
                </a:lnTo>
                <a:lnTo>
                  <a:pt x="380" y="667"/>
                </a:lnTo>
                <a:lnTo>
                  <a:pt x="287" y="667"/>
                </a:lnTo>
                <a:lnTo>
                  <a:pt x="199" y="632"/>
                </a:lnTo>
                <a:lnTo>
                  <a:pt x="114" y="584"/>
                </a:lnTo>
                <a:lnTo>
                  <a:pt x="48" y="509"/>
                </a:lnTo>
                <a:lnTo>
                  <a:pt x="8" y="428"/>
                </a:lnTo>
                <a:lnTo>
                  <a:pt x="0" y="327"/>
                </a:lnTo>
                <a:lnTo>
                  <a:pt x="8" y="239"/>
                </a:lnTo>
                <a:lnTo>
                  <a:pt x="48" y="145"/>
                </a:lnTo>
                <a:lnTo>
                  <a:pt x="114" y="74"/>
                </a:lnTo>
                <a:lnTo>
                  <a:pt x="199" y="26"/>
                </a:lnTo>
                <a:lnTo>
                  <a:pt x="287" y="0"/>
                </a:lnTo>
                <a:lnTo>
                  <a:pt x="380" y="0"/>
                </a:lnTo>
                <a:lnTo>
                  <a:pt x="468" y="26"/>
                </a:lnTo>
                <a:lnTo>
                  <a:pt x="553" y="74"/>
                </a:lnTo>
                <a:lnTo>
                  <a:pt x="614" y="145"/>
                </a:lnTo>
                <a:lnTo>
                  <a:pt x="659" y="239"/>
                </a:lnTo>
                <a:lnTo>
                  <a:pt x="667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601488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596124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997680" y="2117880"/>
            <a:ext cx="1043280" cy="1845000"/>
          </a:xfrm>
          <a:custGeom>
            <a:avLst/>
            <a:gdLst/>
            <a:ahLst/>
            <a:rect l="0" t="0" r="r" b="b"/>
            <a:pathLst>
              <a:path w="2898" h="5125">
                <a:moveTo>
                  <a:pt x="0" y="5125"/>
                </a:moveTo>
                <a:lnTo>
                  <a:pt x="2898" y="5125"/>
                </a:lnTo>
                <a:lnTo>
                  <a:pt x="2898" y="0"/>
                </a:lnTo>
                <a:lnTo>
                  <a:pt x="0" y="0"/>
                </a:lnTo>
                <a:lnTo>
                  <a:pt x="0" y="5125"/>
                </a:lnTo>
                <a:close/>
              </a:path>
            </a:pathLst>
          </a:custGeom>
          <a:solidFill>
            <a:srgbClr val="b3b3b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080120" y="267012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03"/>
                </a:lnTo>
                <a:lnTo>
                  <a:pt x="966" y="909"/>
                </a:lnTo>
                <a:lnTo>
                  <a:pt x="865" y="997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48" y="1063"/>
                </a:lnTo>
                <a:lnTo>
                  <a:pt x="233" y="997"/>
                </a:lnTo>
                <a:lnTo>
                  <a:pt x="136" y="909"/>
                </a:lnTo>
                <a:lnTo>
                  <a:pt x="61" y="803"/>
                </a:lnTo>
                <a:lnTo>
                  <a:pt x="13" y="680"/>
                </a:lnTo>
                <a:lnTo>
                  <a:pt x="0" y="546"/>
                </a:lnTo>
                <a:lnTo>
                  <a:pt x="13" y="405"/>
                </a:lnTo>
                <a:lnTo>
                  <a:pt x="61" y="286"/>
                </a:lnTo>
                <a:lnTo>
                  <a:pt x="136" y="176"/>
                </a:lnTo>
                <a:lnTo>
                  <a:pt x="233" y="88"/>
                </a:lnTo>
                <a:lnTo>
                  <a:pt x="348" y="22"/>
                </a:lnTo>
                <a:lnTo>
                  <a:pt x="480" y="0"/>
                </a:lnTo>
                <a:lnTo>
                  <a:pt x="613" y="0"/>
                </a:lnTo>
                <a:lnTo>
                  <a:pt x="746" y="22"/>
                </a:lnTo>
                <a:lnTo>
                  <a:pt x="865" y="88"/>
                </a:lnTo>
                <a:lnTo>
                  <a:pt x="966" y="176"/>
                </a:lnTo>
                <a:lnTo>
                  <a:pt x="1037" y="286"/>
                </a:lnTo>
                <a:lnTo>
                  <a:pt x="1090" y="405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153200" y="2746440"/>
            <a:ext cx="238320" cy="238320"/>
          </a:xfrm>
          <a:custGeom>
            <a:avLst/>
            <a:gdLst/>
            <a:ahLst/>
            <a:rect l="0" t="0" r="r" b="b"/>
            <a:pathLst>
              <a:path w="662" h="662">
                <a:moveTo>
                  <a:pt x="662" y="336"/>
                </a:moveTo>
                <a:lnTo>
                  <a:pt x="658" y="428"/>
                </a:lnTo>
                <a:lnTo>
                  <a:pt x="613" y="516"/>
                </a:lnTo>
                <a:lnTo>
                  <a:pt x="547" y="583"/>
                </a:lnTo>
                <a:lnTo>
                  <a:pt x="468" y="640"/>
                </a:lnTo>
                <a:lnTo>
                  <a:pt x="375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48" y="516"/>
                </a:lnTo>
                <a:lnTo>
                  <a:pt x="8" y="428"/>
                </a:lnTo>
                <a:lnTo>
                  <a:pt x="0" y="336"/>
                </a:lnTo>
                <a:lnTo>
                  <a:pt x="8" y="238"/>
                </a:lnTo>
                <a:lnTo>
                  <a:pt x="48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75" y="0"/>
                </a:lnTo>
                <a:lnTo>
                  <a:pt x="468" y="22"/>
                </a:lnTo>
                <a:lnTo>
                  <a:pt x="547" y="79"/>
                </a:lnTo>
                <a:lnTo>
                  <a:pt x="613" y="145"/>
                </a:lnTo>
                <a:lnTo>
                  <a:pt x="658" y="238"/>
                </a:lnTo>
                <a:lnTo>
                  <a:pt x="662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577280" y="267012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03"/>
                </a:lnTo>
                <a:lnTo>
                  <a:pt x="972" y="909"/>
                </a:lnTo>
                <a:lnTo>
                  <a:pt x="861" y="997"/>
                </a:lnTo>
                <a:lnTo>
                  <a:pt x="746" y="1063"/>
                </a:lnTo>
                <a:lnTo>
                  <a:pt x="618" y="1099"/>
                </a:lnTo>
                <a:lnTo>
                  <a:pt x="486" y="1099"/>
                </a:lnTo>
                <a:lnTo>
                  <a:pt x="353" y="1063"/>
                </a:lnTo>
                <a:lnTo>
                  <a:pt x="238" y="997"/>
                </a:lnTo>
                <a:lnTo>
                  <a:pt x="141" y="909"/>
                </a:lnTo>
                <a:lnTo>
                  <a:pt x="57" y="803"/>
                </a:lnTo>
                <a:lnTo>
                  <a:pt x="8" y="680"/>
                </a:lnTo>
                <a:lnTo>
                  <a:pt x="0" y="546"/>
                </a:lnTo>
                <a:lnTo>
                  <a:pt x="8" y="405"/>
                </a:lnTo>
                <a:lnTo>
                  <a:pt x="57" y="286"/>
                </a:lnTo>
                <a:lnTo>
                  <a:pt x="141" y="176"/>
                </a:lnTo>
                <a:lnTo>
                  <a:pt x="238" y="88"/>
                </a:lnTo>
                <a:lnTo>
                  <a:pt x="353" y="22"/>
                </a:lnTo>
                <a:lnTo>
                  <a:pt x="486" y="0"/>
                </a:lnTo>
                <a:lnTo>
                  <a:pt x="618" y="0"/>
                </a:lnTo>
                <a:lnTo>
                  <a:pt x="746" y="22"/>
                </a:lnTo>
                <a:lnTo>
                  <a:pt x="861" y="88"/>
                </a:lnTo>
                <a:lnTo>
                  <a:pt x="972" y="176"/>
                </a:lnTo>
                <a:lnTo>
                  <a:pt x="1042" y="286"/>
                </a:lnTo>
                <a:lnTo>
                  <a:pt x="1091" y="405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648560" y="2746440"/>
            <a:ext cx="241560" cy="238320"/>
          </a:xfrm>
          <a:custGeom>
            <a:avLst/>
            <a:gdLst/>
            <a:ahLst/>
            <a:rect l="0" t="0" r="r" b="b"/>
            <a:pathLst>
              <a:path w="671" h="662">
                <a:moveTo>
                  <a:pt x="671" y="336"/>
                </a:moveTo>
                <a:lnTo>
                  <a:pt x="658" y="428"/>
                </a:lnTo>
                <a:lnTo>
                  <a:pt x="622" y="516"/>
                </a:lnTo>
                <a:lnTo>
                  <a:pt x="556" y="583"/>
                </a:lnTo>
                <a:lnTo>
                  <a:pt x="477" y="640"/>
                </a:lnTo>
                <a:lnTo>
                  <a:pt x="384" y="662"/>
                </a:lnTo>
                <a:lnTo>
                  <a:pt x="286" y="662"/>
                </a:lnTo>
                <a:lnTo>
                  <a:pt x="198" y="640"/>
                </a:lnTo>
                <a:lnTo>
                  <a:pt x="114" y="583"/>
                </a:lnTo>
                <a:lnTo>
                  <a:pt x="57" y="516"/>
                </a:lnTo>
                <a:lnTo>
                  <a:pt x="17" y="428"/>
                </a:lnTo>
                <a:lnTo>
                  <a:pt x="0" y="336"/>
                </a:lnTo>
                <a:lnTo>
                  <a:pt x="17" y="238"/>
                </a:lnTo>
                <a:lnTo>
                  <a:pt x="57" y="145"/>
                </a:lnTo>
                <a:lnTo>
                  <a:pt x="114" y="79"/>
                </a:lnTo>
                <a:lnTo>
                  <a:pt x="198" y="22"/>
                </a:lnTo>
                <a:lnTo>
                  <a:pt x="286" y="0"/>
                </a:lnTo>
                <a:lnTo>
                  <a:pt x="384" y="0"/>
                </a:lnTo>
                <a:lnTo>
                  <a:pt x="477" y="22"/>
                </a:lnTo>
                <a:lnTo>
                  <a:pt x="556" y="79"/>
                </a:lnTo>
                <a:lnTo>
                  <a:pt x="622" y="145"/>
                </a:lnTo>
                <a:lnTo>
                  <a:pt x="658" y="238"/>
                </a:lnTo>
                <a:lnTo>
                  <a:pt x="671" y="336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080120" y="3165480"/>
            <a:ext cx="397080" cy="395640"/>
          </a:xfrm>
          <a:custGeom>
            <a:avLst/>
            <a:gdLst/>
            <a:ahLst/>
            <a:rect l="0" t="0" r="r" b="b"/>
            <a:pathLst>
              <a:path w="1103" h="1099">
                <a:moveTo>
                  <a:pt x="1103" y="546"/>
                </a:moveTo>
                <a:lnTo>
                  <a:pt x="1090" y="680"/>
                </a:lnTo>
                <a:lnTo>
                  <a:pt x="1037" y="812"/>
                </a:lnTo>
                <a:lnTo>
                  <a:pt x="966" y="918"/>
                </a:lnTo>
                <a:lnTo>
                  <a:pt x="865" y="1006"/>
                </a:lnTo>
                <a:lnTo>
                  <a:pt x="746" y="1063"/>
                </a:lnTo>
                <a:lnTo>
                  <a:pt x="613" y="1099"/>
                </a:lnTo>
                <a:lnTo>
                  <a:pt x="480" y="1099"/>
                </a:lnTo>
                <a:lnTo>
                  <a:pt x="348" y="1063"/>
                </a:lnTo>
                <a:lnTo>
                  <a:pt x="233" y="1006"/>
                </a:lnTo>
                <a:lnTo>
                  <a:pt x="136" y="918"/>
                </a:lnTo>
                <a:lnTo>
                  <a:pt x="61" y="812"/>
                </a:lnTo>
                <a:lnTo>
                  <a:pt x="13" y="680"/>
                </a:lnTo>
                <a:lnTo>
                  <a:pt x="0" y="546"/>
                </a:lnTo>
                <a:lnTo>
                  <a:pt x="13" y="418"/>
                </a:lnTo>
                <a:lnTo>
                  <a:pt x="61" y="295"/>
                </a:lnTo>
                <a:lnTo>
                  <a:pt x="136" y="189"/>
                </a:lnTo>
                <a:lnTo>
                  <a:pt x="233" y="97"/>
                </a:lnTo>
                <a:lnTo>
                  <a:pt x="348" y="30"/>
                </a:lnTo>
                <a:lnTo>
                  <a:pt x="480" y="0"/>
                </a:lnTo>
                <a:lnTo>
                  <a:pt x="613" y="0"/>
                </a:lnTo>
                <a:lnTo>
                  <a:pt x="746" y="30"/>
                </a:lnTo>
                <a:lnTo>
                  <a:pt x="865" y="97"/>
                </a:lnTo>
                <a:lnTo>
                  <a:pt x="966" y="189"/>
                </a:lnTo>
                <a:lnTo>
                  <a:pt x="1037" y="295"/>
                </a:lnTo>
                <a:lnTo>
                  <a:pt x="1090" y="418"/>
                </a:lnTo>
                <a:lnTo>
                  <a:pt x="1103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153200" y="3244680"/>
            <a:ext cx="238320" cy="240120"/>
          </a:xfrm>
          <a:custGeom>
            <a:avLst/>
            <a:gdLst/>
            <a:ahLst/>
            <a:rect l="0" t="0" r="r" b="b"/>
            <a:pathLst>
              <a:path w="662" h="667">
                <a:moveTo>
                  <a:pt x="662" y="327"/>
                </a:moveTo>
                <a:lnTo>
                  <a:pt x="658" y="428"/>
                </a:lnTo>
                <a:lnTo>
                  <a:pt x="613" y="509"/>
                </a:lnTo>
                <a:lnTo>
                  <a:pt x="547" y="584"/>
                </a:lnTo>
                <a:lnTo>
                  <a:pt x="468" y="632"/>
                </a:lnTo>
                <a:lnTo>
                  <a:pt x="375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48" y="509"/>
                </a:lnTo>
                <a:lnTo>
                  <a:pt x="8" y="428"/>
                </a:lnTo>
                <a:lnTo>
                  <a:pt x="0" y="327"/>
                </a:lnTo>
                <a:lnTo>
                  <a:pt x="8" y="239"/>
                </a:lnTo>
                <a:lnTo>
                  <a:pt x="48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75" y="0"/>
                </a:lnTo>
                <a:lnTo>
                  <a:pt x="468" y="26"/>
                </a:lnTo>
                <a:lnTo>
                  <a:pt x="547" y="74"/>
                </a:lnTo>
                <a:lnTo>
                  <a:pt x="613" y="145"/>
                </a:lnTo>
                <a:lnTo>
                  <a:pt x="658" y="239"/>
                </a:lnTo>
                <a:lnTo>
                  <a:pt x="662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577280" y="3165480"/>
            <a:ext cx="398880" cy="395640"/>
          </a:xfrm>
          <a:custGeom>
            <a:avLst/>
            <a:gdLst/>
            <a:ahLst/>
            <a:rect l="0" t="0" r="r" b="b"/>
            <a:pathLst>
              <a:path w="1108" h="1099">
                <a:moveTo>
                  <a:pt x="1108" y="546"/>
                </a:moveTo>
                <a:lnTo>
                  <a:pt x="1091" y="680"/>
                </a:lnTo>
                <a:lnTo>
                  <a:pt x="1042" y="812"/>
                </a:lnTo>
                <a:lnTo>
                  <a:pt x="972" y="918"/>
                </a:lnTo>
                <a:lnTo>
                  <a:pt x="861" y="1006"/>
                </a:lnTo>
                <a:lnTo>
                  <a:pt x="746" y="1063"/>
                </a:lnTo>
                <a:lnTo>
                  <a:pt x="618" y="1099"/>
                </a:lnTo>
                <a:lnTo>
                  <a:pt x="486" y="1099"/>
                </a:lnTo>
                <a:lnTo>
                  <a:pt x="353" y="1063"/>
                </a:lnTo>
                <a:lnTo>
                  <a:pt x="238" y="1006"/>
                </a:lnTo>
                <a:lnTo>
                  <a:pt x="141" y="918"/>
                </a:lnTo>
                <a:lnTo>
                  <a:pt x="57" y="812"/>
                </a:lnTo>
                <a:lnTo>
                  <a:pt x="8" y="680"/>
                </a:lnTo>
                <a:lnTo>
                  <a:pt x="0" y="546"/>
                </a:lnTo>
                <a:lnTo>
                  <a:pt x="8" y="418"/>
                </a:lnTo>
                <a:lnTo>
                  <a:pt x="57" y="295"/>
                </a:lnTo>
                <a:lnTo>
                  <a:pt x="141" y="189"/>
                </a:lnTo>
                <a:lnTo>
                  <a:pt x="238" y="97"/>
                </a:lnTo>
                <a:lnTo>
                  <a:pt x="353" y="30"/>
                </a:lnTo>
                <a:lnTo>
                  <a:pt x="486" y="0"/>
                </a:lnTo>
                <a:lnTo>
                  <a:pt x="618" y="0"/>
                </a:lnTo>
                <a:lnTo>
                  <a:pt x="746" y="30"/>
                </a:lnTo>
                <a:lnTo>
                  <a:pt x="861" y="97"/>
                </a:lnTo>
                <a:lnTo>
                  <a:pt x="972" y="189"/>
                </a:lnTo>
                <a:lnTo>
                  <a:pt x="1042" y="295"/>
                </a:lnTo>
                <a:lnTo>
                  <a:pt x="1091" y="418"/>
                </a:lnTo>
                <a:lnTo>
                  <a:pt x="1108" y="546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648560" y="3244680"/>
            <a:ext cx="241560" cy="240120"/>
          </a:xfrm>
          <a:custGeom>
            <a:avLst/>
            <a:gdLst/>
            <a:ahLst/>
            <a:rect l="0" t="0" r="r" b="b"/>
            <a:pathLst>
              <a:path w="671" h="667">
                <a:moveTo>
                  <a:pt x="671" y="327"/>
                </a:moveTo>
                <a:lnTo>
                  <a:pt x="658" y="428"/>
                </a:lnTo>
                <a:lnTo>
                  <a:pt x="622" y="509"/>
                </a:lnTo>
                <a:lnTo>
                  <a:pt x="556" y="584"/>
                </a:lnTo>
                <a:lnTo>
                  <a:pt x="477" y="632"/>
                </a:lnTo>
                <a:lnTo>
                  <a:pt x="384" y="667"/>
                </a:lnTo>
                <a:lnTo>
                  <a:pt x="286" y="667"/>
                </a:lnTo>
                <a:lnTo>
                  <a:pt x="198" y="632"/>
                </a:lnTo>
                <a:lnTo>
                  <a:pt x="114" y="584"/>
                </a:lnTo>
                <a:lnTo>
                  <a:pt x="57" y="509"/>
                </a:lnTo>
                <a:lnTo>
                  <a:pt x="17" y="428"/>
                </a:lnTo>
                <a:lnTo>
                  <a:pt x="0" y="327"/>
                </a:lnTo>
                <a:lnTo>
                  <a:pt x="17" y="239"/>
                </a:lnTo>
                <a:lnTo>
                  <a:pt x="57" y="145"/>
                </a:lnTo>
                <a:lnTo>
                  <a:pt x="114" y="74"/>
                </a:lnTo>
                <a:lnTo>
                  <a:pt x="198" y="26"/>
                </a:lnTo>
                <a:lnTo>
                  <a:pt x="286" y="0"/>
                </a:lnTo>
                <a:lnTo>
                  <a:pt x="384" y="0"/>
                </a:lnTo>
                <a:lnTo>
                  <a:pt x="477" y="26"/>
                </a:lnTo>
                <a:lnTo>
                  <a:pt x="556" y="74"/>
                </a:lnTo>
                <a:lnTo>
                  <a:pt x="622" y="145"/>
                </a:lnTo>
                <a:lnTo>
                  <a:pt x="658" y="239"/>
                </a:lnTo>
                <a:lnTo>
                  <a:pt x="671" y="327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7175520" y="2141640"/>
            <a:ext cx="66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7122960" y="2335320"/>
            <a:ext cx="781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6022800" y="1736640"/>
            <a:ext cx="871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17560" y="1488960"/>
            <a:ext cx="2951280" cy="25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698480" y="1503360"/>
            <a:ext cx="2919600" cy="24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319040" y="3976560"/>
            <a:ext cx="7048800" cy="649800"/>
          </a:xfrm>
          <a:custGeom>
            <a:avLst/>
            <a:gdLst/>
            <a:ahLst/>
            <a:rect l="0" t="0" r="r" b="b"/>
            <a:pathLst>
              <a:path w="19580" h="1805">
                <a:moveTo>
                  <a:pt x="736" y="1805"/>
                </a:moveTo>
                <a:lnTo>
                  <a:pt x="18843" y="1805"/>
                </a:lnTo>
                <a:lnTo>
                  <a:pt x="19580" y="900"/>
                </a:lnTo>
                <a:lnTo>
                  <a:pt x="18843" y="0"/>
                </a:lnTo>
                <a:lnTo>
                  <a:pt x="736" y="0"/>
                </a:lnTo>
                <a:lnTo>
                  <a:pt x="0" y="900"/>
                </a:lnTo>
                <a:lnTo>
                  <a:pt x="736" y="18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145040" y="4205160"/>
            <a:ext cx="716400" cy="932400"/>
          </a:xfrm>
          <a:custGeom>
            <a:avLst/>
            <a:gdLst/>
            <a:ahLst/>
            <a:rect l="0" t="0" r="r" b="b"/>
            <a:pathLst>
              <a:path w="1990" h="2590">
                <a:moveTo>
                  <a:pt x="308" y="0"/>
                </a:moveTo>
                <a:lnTo>
                  <a:pt x="1456" y="295"/>
                </a:lnTo>
                <a:lnTo>
                  <a:pt x="997" y="458"/>
                </a:lnTo>
                <a:lnTo>
                  <a:pt x="1990" y="2290"/>
                </a:lnTo>
                <a:lnTo>
                  <a:pt x="1787" y="2542"/>
                </a:lnTo>
                <a:lnTo>
                  <a:pt x="1465" y="2590"/>
                </a:lnTo>
                <a:lnTo>
                  <a:pt x="361" y="830"/>
                </a:lnTo>
                <a:lnTo>
                  <a:pt x="0" y="1147"/>
                </a:lnTo>
                <a:lnTo>
                  <a:pt x="308" y="0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799160" y="4159080"/>
            <a:ext cx="1081440" cy="1090800"/>
          </a:xfrm>
          <a:custGeom>
            <a:avLst/>
            <a:gdLst/>
            <a:ahLst/>
            <a:rect l="0" t="0" r="r" b="b"/>
            <a:pathLst>
              <a:path w="3004" h="3030">
                <a:moveTo>
                  <a:pt x="2990" y="0"/>
                </a:moveTo>
                <a:lnTo>
                  <a:pt x="1808" y="0"/>
                </a:lnTo>
                <a:lnTo>
                  <a:pt x="2210" y="260"/>
                </a:lnTo>
                <a:lnTo>
                  <a:pt x="0" y="2607"/>
                </a:lnTo>
                <a:lnTo>
                  <a:pt x="132" y="2902"/>
                </a:lnTo>
                <a:lnTo>
                  <a:pt x="432" y="3030"/>
                </a:lnTo>
                <a:lnTo>
                  <a:pt x="2735" y="776"/>
                </a:lnTo>
                <a:lnTo>
                  <a:pt x="3004" y="1177"/>
                </a:lnTo>
                <a:lnTo>
                  <a:pt x="2990" y="0"/>
                </a:lnTo>
                <a:close/>
              </a:path>
            </a:pathLst>
          </a:custGeom>
          <a:solidFill>
            <a:srgbClr val="cdcdc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1808280" y="4114800"/>
            <a:ext cx="15508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RBA/IIOP OR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 txBox="1"/>
          <p:nvPr/>
        </p:nvSpPr>
        <p:spPr>
          <a:xfrm>
            <a:off x="4446720" y="5557680"/>
            <a:ext cx="7714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00600" y="53038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4071960" y="5289480"/>
            <a:ext cx="480960" cy="33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100480" y="5289480"/>
            <a:ext cx="563760" cy="33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5657760" y="5375160"/>
            <a:ext cx="917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eb/Ja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3335400" y="5356080"/>
            <a:ext cx="7444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ctive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71600" y="763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Object Applications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474840" y="1506600"/>
            <a:ext cx="70833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s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ult detection and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omatic restart of faile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ult detection and reporting to 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read 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atabase connection pooling and c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egacy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for static and dynamic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547560" y="22860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ditional Internet-Relate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71600" y="1590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ML/Java capabilities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al with highly-unreliable thin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teful semantics on top of stateless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ssion and connec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stateless nature of HTTP requests requires that any middleware provide efficient policies for pooling and caching connections to backend services such a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nsac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b-based transactions should allow the grouping of HTTP requests as part of one task. Middleware should support such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omain Name Service (DNS) “round-robin” lookup un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95280" y="380880"/>
            <a:ext cx="86724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ditional Internet-Relate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471600" y="1523880"/>
            <a:ext cx="85201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npredictable performance under heavy 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 overhead of per-request cgi-bin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process per 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curity is always a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validate per-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 Partitioning and Application Rou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b Middleware should allow grouping of applications so that one group does not encroach on the resources of an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b Middleware should allow for routing of application requests across different web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b Middleware should allow for 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414360" y="160020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ributed Object Applications - Goal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What Is It and What Does It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Java the new middleware platform for Internet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ddleware Ans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, MTS/COM, TP Monitors, OTM and Commercial 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roducing Distributed Objects Web -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This Town Big Enough For All of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- What Is It and What Does It Of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54756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ongly-typed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fo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Virtual Machine hides a lot of operating system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- What Is It and What Does It Of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54756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a computing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Virtual Machine (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bstract Window Toolkit (AW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Foundation Classes (J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mote Method Invocation (R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ans Compon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4440" y="76320"/>
            <a:ext cx="85536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52600" y="1562040"/>
            <a:ext cx="7562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ll service consulting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reas of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  end-user compan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s inte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velopment and engineering of enterprise-wide middleware (OO and non OO) archite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chnology assessment and evaluation (long and short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velopment of complex multi-tier ap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irements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s For Propos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- What Is It and What Does It Of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54756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a computing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atabase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ynamic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9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Technology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547560" y="447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- Technology Roadm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54756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JDK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tSpot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Native Interfaces (J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Managemen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Naming and Directory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Transac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Messagin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 Java Beans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471600" y="447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- Technology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547560" y="1562040"/>
            <a:ext cx="80629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formance enhancements in JDK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tive thread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emory compression for load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ster memory allocation and garbage coll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nitor and thread synchronization speed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tive library JNI port (new AWT uses J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ddresses, two compute cycle time s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rea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th of which are not speeded up by a 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bines the power of interpreted byte code and a 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547560" y="3808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TSPOT JV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433440" y="1523880"/>
            <a:ext cx="85201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rding to JavaSoft - average execution time break up for Java progr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yte Code Interpret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arbage Collec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nchroniz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tive Method Implement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TE: these are average numbers only and depend on the specific appli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89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IT ONLY ADDRESSES BYTE CODE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471600" y="447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- Technology Roadm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54756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DK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tSpot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Native Interfaces (J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Managemen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Naming and Directory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Transac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Messagin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 Java B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471600" y="3808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terpise Java Beans - EJ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433440" y="1523880"/>
            <a:ext cx="8367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Beans component model addresses the clie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 Java Bean is a server side non-visual component model. These are non-visual B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JB not only allows you to develop component-based server side multi-tier architectures but also lets you deploy and manag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EJB Server provides a EJB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JB Server provides an execution environment for component based applications developed using E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471600" y="3808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terprise Java Beans - EJ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414360" y="1486080"/>
            <a:ext cx="8367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JB could be a full-strength solution that works with transaction monitors, databases, Web servers, application serve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’s write-once, run-anywhere literally means run on any hardware, on any database, any TP monitor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547560" y="3808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JB -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962520" y="1752480"/>
            <a:ext cx="4952880" cy="3886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2133720"/>
            <a:ext cx="3962520" cy="31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581280" y="32767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581280" y="39625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581280" y="46483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781680" y="38098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172200" y="4648320"/>
            <a:ext cx="114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467480" y="4648320"/>
            <a:ext cx="114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162920" y="2819520"/>
            <a:ext cx="1219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5243400" y="1495440"/>
            <a:ext cx="3139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JAVA BEA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5167440" y="1876320"/>
            <a:ext cx="35053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JAVA BEAN 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3492360" y="4695840"/>
            <a:ext cx="1239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BF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ountFi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3643200" y="4010040"/>
            <a:ext cx="1298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B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ountFa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3490920" y="3324240"/>
            <a:ext cx="1441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B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ountRefer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7224840" y="3019320"/>
            <a:ext cx="11365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6996240" y="3933720"/>
            <a:ext cx="1243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B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ou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6234120" y="4695840"/>
            <a:ext cx="9684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7453440" y="4772160"/>
            <a:ext cx="1044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106960" y="2670120"/>
            <a:ext cx="1978200" cy="6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65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65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65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410080" y="3362400"/>
            <a:ext cx="0" cy="2574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952960" y="3209760"/>
            <a:ext cx="822600" cy="594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952960" y="320040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962600" y="3514680"/>
            <a:ext cx="1812960" cy="59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962600" y="4191120"/>
            <a:ext cx="1812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4960800" y="4338720"/>
            <a:ext cx="1812960" cy="619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371600" y="3886200"/>
            <a:ext cx="91440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433520" y="4086360"/>
            <a:ext cx="765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2217600" y="3576600"/>
            <a:ext cx="1355760" cy="390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371680" y="4267080"/>
            <a:ext cx="1127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295360" y="4429080"/>
            <a:ext cx="120348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2271600" y="3552840"/>
            <a:ext cx="747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2424240" y="4010040"/>
            <a:ext cx="6206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2347920" y="4619520"/>
            <a:ext cx="6890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5396040" y="3781440"/>
            <a:ext cx="747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5548320" y="4162320"/>
            <a:ext cx="6206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5472000" y="4695840"/>
            <a:ext cx="6890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4492800" y="59436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724360" y="5943600"/>
            <a:ext cx="669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186000" y="5891040"/>
            <a:ext cx="16225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Provid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B 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5700600" y="5967360"/>
            <a:ext cx="16225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Provid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n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077320" y="44290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595440" y="1473120"/>
            <a:ext cx="1608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1204920" y="1724040"/>
            <a:ext cx="5191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1139760" y="1990800"/>
            <a:ext cx="162000" cy="212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824040" y="2104920"/>
            <a:ext cx="6969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911160" y="2295360"/>
            <a:ext cx="16200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595440" y="2486160"/>
            <a:ext cx="6969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606600" y="2752560"/>
            <a:ext cx="23796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923760" y="2752560"/>
            <a:ext cx="21276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290520" y="2943360"/>
            <a:ext cx="4856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1052640" y="2943360"/>
            <a:ext cx="4856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533520" y="228600"/>
            <a:ext cx="7848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Java “the new middleware platform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547560" y="15145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t least not yet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viding specifications for distributed services is not enough - implementations of these services by commercial products a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about the applications that pre-dat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is just 950+ days 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490680" y="1638360"/>
            <a:ext cx="806292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ributed Object Applications Goal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What Is It and What Does It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Java the new middleware platform for Internet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ddleware Ans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, MTS/COM, TP Monitors, OTM and Commercial 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roducing Distributed Objects Web -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This Town Big Enough For All of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8120" y="0"/>
            <a:ext cx="832500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6280" y="1600200"/>
            <a:ext cx="8591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ducation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ample of classes offe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ddleware - Developing and Integrating Distrubuted Applica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ranet Application Development For Th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sing Java, ActiveX and CORBA to Develop Component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 Application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-independent middlew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395280" y="113364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Middleware -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standards-based approach addressing multi-tier system integ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mon Object Request Broker Architecture - CO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onent Object Model - 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438120" y="152280"/>
            <a:ext cx="84009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 Management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606760" y="3429000"/>
            <a:ext cx="3095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172040" y="3276720"/>
            <a:ext cx="2743560" cy="1448280"/>
          </a:xfrm>
          <a:custGeom>
            <a:avLst/>
            <a:gdLst/>
            <a:ahLst/>
            <a:rect l="0" t="0" r="r" b="b"/>
            <a:pathLst>
              <a:path w="7621" h="4023">
                <a:moveTo>
                  <a:pt x="0" y="1340"/>
                </a:moveTo>
                <a:lnTo>
                  <a:pt x="0" y="2679"/>
                </a:lnTo>
                <a:lnTo>
                  <a:pt x="5335" y="2679"/>
                </a:lnTo>
                <a:lnTo>
                  <a:pt x="5335" y="4023"/>
                </a:lnTo>
                <a:lnTo>
                  <a:pt x="7621" y="2011"/>
                </a:lnTo>
                <a:lnTo>
                  <a:pt x="5335" y="0"/>
                </a:lnTo>
                <a:lnTo>
                  <a:pt x="5335" y="1340"/>
                </a:lnTo>
                <a:lnTo>
                  <a:pt x="0" y="1340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428840" y="3276720"/>
            <a:ext cx="2743560" cy="1448280"/>
          </a:xfrm>
          <a:custGeom>
            <a:avLst/>
            <a:gdLst/>
            <a:ahLst/>
            <a:rect l="0" t="0" r="r" b="b"/>
            <a:pathLst>
              <a:path w="7621" h="4023">
                <a:moveTo>
                  <a:pt x="7621" y="1340"/>
                </a:moveTo>
                <a:lnTo>
                  <a:pt x="7621" y="2679"/>
                </a:lnTo>
                <a:lnTo>
                  <a:pt x="2286" y="2679"/>
                </a:lnTo>
                <a:lnTo>
                  <a:pt x="2286" y="4023"/>
                </a:lnTo>
                <a:lnTo>
                  <a:pt x="0" y="2011"/>
                </a:lnTo>
                <a:lnTo>
                  <a:pt x="2286" y="0"/>
                </a:lnTo>
                <a:lnTo>
                  <a:pt x="2286" y="1340"/>
                </a:lnTo>
                <a:lnTo>
                  <a:pt x="7621" y="1340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3111480" y="3787920"/>
            <a:ext cx="2657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Request Br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416400" y="5769000"/>
            <a:ext cx="1897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819520" y="4952880"/>
            <a:ext cx="762120" cy="68580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41414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800600" y="4952880"/>
            <a:ext cx="762120" cy="68580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41414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809880" y="4952880"/>
            <a:ext cx="762120" cy="68580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41414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3181320" y="433224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172040" y="433224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5181480" y="433224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095720" y="2133720"/>
            <a:ext cx="1523880" cy="762120"/>
          </a:xfrm>
          <a:prstGeom prst="rect">
            <a:avLst/>
          </a:prstGeom>
          <a:solidFill>
            <a:srgbClr val="dadada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4381560" y="2189160"/>
            <a:ext cx="1171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4191120" y="2122560"/>
            <a:ext cx="0" cy="784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206960" y="2133720"/>
            <a:ext cx="1495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762440" y="289260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590920" y="2133720"/>
            <a:ext cx="1523880" cy="762120"/>
          </a:xfrm>
          <a:prstGeom prst="rect">
            <a:avLst/>
          </a:prstGeom>
          <a:solidFill>
            <a:srgbClr val="dadada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2627280" y="2189160"/>
            <a:ext cx="14256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2590920" y="2122560"/>
            <a:ext cx="0" cy="784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606760" y="2133720"/>
            <a:ext cx="1495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291132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6320" y="4248000"/>
            <a:ext cx="16984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17520" y="4356000"/>
            <a:ext cx="14461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fe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7010280" y="4038480"/>
            <a:ext cx="1676520" cy="177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7040520" y="4508640"/>
            <a:ext cx="1625760" cy="20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r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cen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515280" y="1523880"/>
            <a:ext cx="1866960" cy="186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539040" y="1773360"/>
            <a:ext cx="1806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ound D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 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253040" y="1449360"/>
            <a:ext cx="11746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2349360" y="1525680"/>
            <a:ext cx="19432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rtical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96960" y="1447920"/>
            <a:ext cx="2743560" cy="1843200"/>
            <a:chOff x="696960" y="1447920"/>
            <a:chExt cx="2743560" cy="1843200"/>
          </a:xfrm>
        </p:grpSpPr>
        <p:sp>
          <p:nvSpPr>
            <p:cNvPr id="1447" name=""/>
            <p:cNvSpPr/>
            <p:nvPr/>
          </p:nvSpPr>
          <p:spPr>
            <a:xfrm>
              <a:off x="2373480" y="193680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87680" y="193680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1573200" y="263376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2068560" y="263376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563920" y="263376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6960" y="2108160"/>
              <a:ext cx="1371960" cy="725760"/>
            </a:xfrm>
            <a:custGeom>
              <a:avLst/>
              <a:gdLst/>
              <a:ahLst/>
              <a:rect l="0" t="0" r="r" b="b"/>
              <a:pathLst>
                <a:path w="3811" h="2016">
                  <a:moveTo>
                    <a:pt x="3811" y="671"/>
                  </a:moveTo>
                  <a:lnTo>
                    <a:pt x="3811" y="1343"/>
                  </a:lnTo>
                  <a:lnTo>
                    <a:pt x="1143" y="1343"/>
                  </a:lnTo>
                  <a:lnTo>
                    <a:pt x="1143" y="2016"/>
                  </a:lnTo>
                  <a:lnTo>
                    <a:pt x="0" y="1007"/>
                  </a:lnTo>
                  <a:lnTo>
                    <a:pt x="1143" y="0"/>
                  </a:lnTo>
                  <a:lnTo>
                    <a:pt x="1143" y="671"/>
                  </a:lnTo>
                  <a:lnTo>
                    <a:pt x="3811" y="67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5b89e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82760" y="2948040"/>
              <a:ext cx="380880" cy="343080"/>
            </a:xfrm>
            <a:prstGeom prst="ellipse">
              <a:avLst/>
            </a:prstGeom>
            <a:gradFill rotWithShape="0">
              <a:gsLst>
                <a:gs pos="0">
                  <a:srgbClr val="c0fef9"/>
                </a:gs>
                <a:gs pos="100000">
                  <a:srgbClr val="394c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73480" y="2948040"/>
              <a:ext cx="380880" cy="343080"/>
            </a:xfrm>
            <a:prstGeom prst="ellipse">
              <a:avLst/>
            </a:prstGeom>
            <a:gradFill rotWithShape="0">
              <a:gsLst>
                <a:gs pos="0">
                  <a:srgbClr val="c0fef9"/>
                </a:gs>
                <a:gs pos="100000">
                  <a:srgbClr val="394c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878120" y="2948040"/>
              <a:ext cx="380880" cy="343080"/>
            </a:xfrm>
            <a:prstGeom prst="ellipse">
              <a:avLst/>
            </a:prstGeom>
            <a:gradFill rotWithShape="0">
              <a:gsLst>
                <a:gs pos="0">
                  <a:srgbClr val="c0fef9"/>
                </a:gs>
                <a:gs pos="100000">
                  <a:srgbClr val="394c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068560" y="1536840"/>
              <a:ext cx="762120" cy="380880"/>
            </a:xfrm>
            <a:prstGeom prst="rect">
              <a:avLst/>
            </a:prstGeom>
            <a:gradFill rotWithShape="0">
              <a:gsLst>
                <a:gs pos="0">
                  <a:srgbClr val="c0fef9"/>
                </a:gs>
                <a:gs pos="100000">
                  <a:srgbClr val="394c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268280" y="1536840"/>
              <a:ext cx="762120" cy="380880"/>
            </a:xfrm>
            <a:prstGeom prst="rect">
              <a:avLst/>
            </a:prstGeom>
            <a:gradFill rotWithShape="0">
              <a:gsLst>
                <a:gs pos="0">
                  <a:srgbClr val="c0fef9"/>
                </a:gs>
                <a:gs pos="100000">
                  <a:srgbClr val="394c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068560" y="2108160"/>
              <a:ext cx="1371960" cy="725760"/>
            </a:xfrm>
            <a:custGeom>
              <a:avLst/>
              <a:gdLst/>
              <a:ahLst/>
              <a:rect l="0" t="0" r="r" b="b"/>
              <a:pathLst>
                <a:path w="3811" h="2016">
                  <a:moveTo>
                    <a:pt x="0" y="671"/>
                  </a:moveTo>
                  <a:lnTo>
                    <a:pt x="0" y="1343"/>
                  </a:lnTo>
                  <a:lnTo>
                    <a:pt x="2668" y="1343"/>
                  </a:lnTo>
                  <a:lnTo>
                    <a:pt x="2668" y="2016"/>
                  </a:lnTo>
                  <a:lnTo>
                    <a:pt x="3811" y="1007"/>
                  </a:lnTo>
                  <a:lnTo>
                    <a:pt x="2668" y="0"/>
                  </a:lnTo>
                  <a:lnTo>
                    <a:pt x="2668" y="671"/>
                  </a:lnTo>
                  <a:lnTo>
                    <a:pt x="0" y="67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5b89e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79560" y="1447920"/>
              <a:ext cx="10843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"/>
          <p:cNvSpPr txBox="1"/>
          <p:nvPr/>
        </p:nvSpPr>
        <p:spPr>
          <a:xfrm>
            <a:off x="547560" y="0"/>
            <a:ext cx="85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9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rizontal and Vertical Facil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4551480" y="1601640"/>
            <a:ext cx="347328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 Level Services: Domain Specific and Gener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838080" y="2287440"/>
            <a:ext cx="32749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Request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2800" y="3581280"/>
            <a:ext cx="1312920" cy="1371600"/>
          </a:xfrm>
          <a:prstGeom prst="ellipse">
            <a:avLst/>
          </a:prstGeom>
          <a:gradFill rotWithShape="0">
            <a:gsLst>
              <a:gs pos="0">
                <a:srgbClr val="4ae1d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5472000" y="3871800"/>
            <a:ext cx="1112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m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1882800" y="4800600"/>
            <a:ext cx="1326960" cy="1447920"/>
            <a:chOff x="1882800" y="4800600"/>
            <a:chExt cx="1326960" cy="1447920"/>
          </a:xfrm>
        </p:grpSpPr>
        <p:sp>
          <p:nvSpPr>
            <p:cNvPr id="1466" name=""/>
            <p:cNvSpPr/>
            <p:nvPr/>
          </p:nvSpPr>
          <p:spPr>
            <a:xfrm>
              <a:off x="1882800" y="4800600"/>
              <a:ext cx="1322280" cy="144792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1995480" y="5234040"/>
              <a:ext cx="1214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4419720" y="4800600"/>
            <a:ext cx="1211400" cy="1371600"/>
          </a:xfrm>
          <a:prstGeom prst="ellipse">
            <a:avLst/>
          </a:prstGeom>
          <a:gradFill rotWithShape="0">
            <a:gsLst>
              <a:gs pos="0">
                <a:srgbClr val="4ae1d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4572000" y="5091120"/>
            <a:ext cx="13953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663480" y="3733920"/>
            <a:ext cx="1389240" cy="1447920"/>
            <a:chOff x="663480" y="3733920"/>
            <a:chExt cx="1389240" cy="1447920"/>
          </a:xfrm>
        </p:grpSpPr>
        <p:sp>
          <p:nvSpPr>
            <p:cNvPr id="1471" name=""/>
            <p:cNvSpPr/>
            <p:nvPr/>
          </p:nvSpPr>
          <p:spPr>
            <a:xfrm>
              <a:off x="663480" y="3733920"/>
              <a:ext cx="1389240" cy="144792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 txBox="1"/>
            <p:nvPr/>
          </p:nvSpPr>
          <p:spPr>
            <a:xfrm>
              <a:off x="700200" y="4167360"/>
              <a:ext cx="12812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le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6858000" y="3581280"/>
            <a:ext cx="1447920" cy="1390680"/>
          </a:xfrm>
          <a:prstGeom prst="ellipse">
            <a:avLst/>
          </a:prstGeom>
          <a:gradFill rotWithShape="0">
            <a:gsLst>
              <a:gs pos="0">
                <a:srgbClr val="4ae1d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7042320" y="3929040"/>
            <a:ext cx="10605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2965320" y="3733920"/>
            <a:ext cx="1262160" cy="1295280"/>
            <a:chOff x="2965320" y="3733920"/>
            <a:chExt cx="1262160" cy="1295280"/>
          </a:xfrm>
        </p:grpSpPr>
        <p:sp>
          <p:nvSpPr>
            <p:cNvPr id="1476" name=""/>
            <p:cNvSpPr/>
            <p:nvPr/>
          </p:nvSpPr>
          <p:spPr>
            <a:xfrm>
              <a:off x="2965320" y="3733920"/>
              <a:ext cx="1262160" cy="129528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 txBox="1"/>
            <p:nvPr/>
          </p:nvSpPr>
          <p:spPr>
            <a:xfrm>
              <a:off x="3068640" y="3967200"/>
              <a:ext cx="106200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6041880" y="4952880"/>
            <a:ext cx="1273320" cy="1333440"/>
          </a:xfrm>
          <a:prstGeom prst="ellipse">
            <a:avLst/>
          </a:prstGeom>
          <a:gradFill rotWithShape="0">
            <a:gsLst>
              <a:gs pos="0">
                <a:srgbClr val="4ae1d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6045120" y="5415120"/>
            <a:ext cx="11383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47760" y="3505320"/>
            <a:ext cx="853452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374760" y="1847880"/>
            <a:ext cx="1466640" cy="1644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990880" y="1771560"/>
            <a:ext cx="5759280" cy="17208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63680" y="186048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589040" y="186048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476360" y="2557440"/>
            <a:ext cx="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963800" y="2557440"/>
            <a:ext cx="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2451240" y="2557440"/>
            <a:ext cx="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80880" y="2050920"/>
            <a:ext cx="1582920" cy="725760"/>
          </a:xfrm>
          <a:custGeom>
            <a:avLst/>
            <a:gdLst/>
            <a:ahLst/>
            <a:rect l="0" t="0" r="r" b="b"/>
            <a:pathLst>
              <a:path w="4397" h="2016">
                <a:moveTo>
                  <a:pt x="4397" y="671"/>
                </a:moveTo>
                <a:lnTo>
                  <a:pt x="4397" y="1343"/>
                </a:lnTo>
                <a:lnTo>
                  <a:pt x="1318" y="1343"/>
                </a:lnTo>
                <a:lnTo>
                  <a:pt x="1318" y="2016"/>
                </a:lnTo>
                <a:lnTo>
                  <a:pt x="0" y="1007"/>
                </a:lnTo>
                <a:lnTo>
                  <a:pt x="1318" y="0"/>
                </a:lnTo>
                <a:lnTo>
                  <a:pt x="1318" y="671"/>
                </a:lnTo>
                <a:lnTo>
                  <a:pt x="4397" y="67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5b89e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289160" y="2871720"/>
            <a:ext cx="37476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263680" y="2871720"/>
            <a:ext cx="37620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776240" y="2871720"/>
            <a:ext cx="37476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963800" y="1460520"/>
            <a:ext cx="750960" cy="3808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176480" y="1460520"/>
            <a:ext cx="749160" cy="3808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963800" y="2031840"/>
            <a:ext cx="1541880" cy="725760"/>
          </a:xfrm>
          <a:custGeom>
            <a:avLst/>
            <a:gdLst/>
            <a:ahLst/>
            <a:rect l="0" t="0" r="r" b="b"/>
            <a:pathLst>
              <a:path w="4283" h="2016">
                <a:moveTo>
                  <a:pt x="0" y="671"/>
                </a:moveTo>
                <a:lnTo>
                  <a:pt x="0" y="1343"/>
                </a:lnTo>
                <a:lnTo>
                  <a:pt x="2998" y="1343"/>
                </a:lnTo>
                <a:lnTo>
                  <a:pt x="2998" y="2016"/>
                </a:lnTo>
                <a:lnTo>
                  <a:pt x="4283" y="1007"/>
                </a:lnTo>
                <a:lnTo>
                  <a:pt x="2998" y="0"/>
                </a:lnTo>
                <a:lnTo>
                  <a:pt x="2998" y="671"/>
                </a:lnTo>
                <a:lnTo>
                  <a:pt x="0" y="67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5b89e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109520" y="2743200"/>
            <a:ext cx="1735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71600" y="1522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9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4343400" y="1600200"/>
            <a:ext cx="472428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bstractions fo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Middleware Services  Functiona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944640" y="2268360"/>
            <a:ext cx="25970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Request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5318280" y="3505320"/>
            <a:ext cx="1271520" cy="1371600"/>
            <a:chOff x="5318280" y="3505320"/>
            <a:chExt cx="1271520" cy="1371600"/>
          </a:xfrm>
        </p:grpSpPr>
        <p:sp>
          <p:nvSpPr>
            <p:cNvPr id="1502" name=""/>
            <p:cNvSpPr/>
            <p:nvPr/>
          </p:nvSpPr>
          <p:spPr>
            <a:xfrm>
              <a:off x="5318280" y="3505320"/>
              <a:ext cx="1217520" cy="137160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 txBox="1"/>
            <p:nvPr/>
          </p:nvSpPr>
          <p:spPr>
            <a:xfrm>
              <a:off x="5342040" y="3913200"/>
              <a:ext cx="12477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1808280" y="4853160"/>
            <a:ext cx="1141200" cy="1319040"/>
            <a:chOff x="1808280" y="4853160"/>
            <a:chExt cx="1141200" cy="1319040"/>
          </a:xfrm>
        </p:grpSpPr>
        <p:sp>
          <p:nvSpPr>
            <p:cNvPr id="1505" name=""/>
            <p:cNvSpPr/>
            <p:nvPr/>
          </p:nvSpPr>
          <p:spPr>
            <a:xfrm>
              <a:off x="1808280" y="4853160"/>
              <a:ext cx="1106640" cy="131904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 txBox="1"/>
            <p:nvPr/>
          </p:nvSpPr>
          <p:spPr>
            <a:xfrm>
              <a:off x="1887480" y="5243400"/>
              <a:ext cx="10620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4178160" y="4800600"/>
            <a:ext cx="1289520" cy="1371600"/>
            <a:chOff x="4178160" y="4800600"/>
            <a:chExt cx="1289520" cy="1371600"/>
          </a:xfrm>
        </p:grpSpPr>
        <p:sp>
          <p:nvSpPr>
            <p:cNvPr id="1508" name=""/>
            <p:cNvSpPr/>
            <p:nvPr/>
          </p:nvSpPr>
          <p:spPr>
            <a:xfrm>
              <a:off x="4178160" y="4800600"/>
              <a:ext cx="1268280" cy="137160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 txBox="1"/>
            <p:nvPr/>
          </p:nvSpPr>
          <p:spPr>
            <a:xfrm>
              <a:off x="4202280" y="5288040"/>
              <a:ext cx="12654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588960" y="3581280"/>
            <a:ext cx="1257480" cy="1295280"/>
            <a:chOff x="588960" y="3581280"/>
            <a:chExt cx="1257480" cy="1295280"/>
          </a:xfrm>
        </p:grpSpPr>
        <p:sp>
          <p:nvSpPr>
            <p:cNvPr id="1511" name=""/>
            <p:cNvSpPr/>
            <p:nvPr/>
          </p:nvSpPr>
          <p:spPr>
            <a:xfrm>
              <a:off x="588960" y="3581280"/>
              <a:ext cx="1257480" cy="129528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 txBox="1"/>
            <p:nvPr/>
          </p:nvSpPr>
          <p:spPr>
            <a:xfrm>
              <a:off x="614520" y="3963960"/>
              <a:ext cx="1214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7521480" y="3505320"/>
            <a:ext cx="1349280" cy="1447920"/>
            <a:chOff x="7521480" y="3505320"/>
            <a:chExt cx="1349280" cy="1447920"/>
          </a:xfrm>
        </p:grpSpPr>
        <p:sp>
          <p:nvSpPr>
            <p:cNvPr id="1514" name=""/>
            <p:cNvSpPr/>
            <p:nvPr/>
          </p:nvSpPr>
          <p:spPr>
            <a:xfrm>
              <a:off x="7574040" y="3505320"/>
              <a:ext cx="1279440" cy="144792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 txBox="1"/>
            <p:nvPr/>
          </p:nvSpPr>
          <p:spPr>
            <a:xfrm>
              <a:off x="7521480" y="3854520"/>
              <a:ext cx="1349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fecy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2890800" y="3581280"/>
            <a:ext cx="1224000" cy="1295280"/>
            <a:chOff x="2890800" y="3581280"/>
            <a:chExt cx="1224000" cy="1295280"/>
          </a:xfrm>
        </p:grpSpPr>
        <p:sp>
          <p:nvSpPr>
            <p:cNvPr id="1517" name=""/>
            <p:cNvSpPr/>
            <p:nvPr/>
          </p:nvSpPr>
          <p:spPr>
            <a:xfrm>
              <a:off x="2890800" y="3581280"/>
              <a:ext cx="1224000" cy="129528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 txBox="1"/>
            <p:nvPr/>
          </p:nvSpPr>
          <p:spPr>
            <a:xfrm>
              <a:off x="2987640" y="3814920"/>
              <a:ext cx="109548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6481800" y="4853160"/>
            <a:ext cx="1206720" cy="1319040"/>
            <a:chOff x="6481800" y="4853160"/>
            <a:chExt cx="1206720" cy="1319040"/>
          </a:xfrm>
        </p:grpSpPr>
        <p:sp>
          <p:nvSpPr>
            <p:cNvPr id="1520" name=""/>
            <p:cNvSpPr/>
            <p:nvPr/>
          </p:nvSpPr>
          <p:spPr>
            <a:xfrm>
              <a:off x="6481800" y="4853160"/>
              <a:ext cx="1106640" cy="131904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 txBox="1"/>
            <p:nvPr/>
          </p:nvSpPr>
          <p:spPr>
            <a:xfrm>
              <a:off x="6627960" y="5091120"/>
              <a:ext cx="10605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is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423720" y="3429000"/>
            <a:ext cx="853452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450720" y="3067200"/>
            <a:ext cx="679680" cy="349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897280" y="3067200"/>
            <a:ext cx="6005520" cy="349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 Fundamen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71600" y="1590840"/>
            <a:ext cx="716292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faces vs.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face Definition Language (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Request Broker (OR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lient Stubs and Server Skele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asic Object Adapter (B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tion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tic Invocatio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ynamic Invocatio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face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974880" y="88740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3812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84040" y="2120760"/>
            <a:ext cx="334656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371840" y="1752480"/>
            <a:ext cx="380520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1177920" y="2251080"/>
            <a:ext cx="885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476600" y="2017800"/>
            <a:ext cx="29192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e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55600" y="4572000"/>
            <a:ext cx="8507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55600" y="4495680"/>
            <a:ext cx="8507520" cy="112680"/>
          </a:xfrm>
          <a:prstGeom prst="rect">
            <a:avLst/>
          </a:prstGeom>
          <a:solidFill>
            <a:srgbClr val="47474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66760" y="3603600"/>
            <a:ext cx="1612800" cy="86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66760" y="3457440"/>
            <a:ext cx="1589040" cy="146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235080" y="3630600"/>
            <a:ext cx="1197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yna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7607160" y="3581280"/>
            <a:ext cx="1155960" cy="852840"/>
            <a:chOff x="7607160" y="3581280"/>
            <a:chExt cx="1155960" cy="852840"/>
          </a:xfrm>
        </p:grpSpPr>
        <p:sp>
          <p:nvSpPr>
            <p:cNvPr id="1541" name=""/>
            <p:cNvSpPr/>
            <p:nvPr/>
          </p:nvSpPr>
          <p:spPr>
            <a:xfrm>
              <a:off x="7656480" y="3722760"/>
              <a:ext cx="1106640" cy="71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656480" y="3581280"/>
              <a:ext cx="1106640" cy="1411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 txBox="1"/>
            <p:nvPr/>
          </p:nvSpPr>
          <p:spPr>
            <a:xfrm>
              <a:off x="7607160" y="3747960"/>
              <a:ext cx="94932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"/>
          <p:cNvSpPr/>
          <p:nvPr/>
        </p:nvSpPr>
        <p:spPr>
          <a:xfrm>
            <a:off x="3406680" y="3767040"/>
            <a:ext cx="138600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394080" y="3613320"/>
            <a:ext cx="1398600" cy="16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3666960" y="3745080"/>
            <a:ext cx="10288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070000" y="3681360"/>
            <a:ext cx="11826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070000" y="3535200"/>
            <a:ext cx="1182600" cy="1461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1974960" y="3668760"/>
            <a:ext cx="801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2532240" y="4711680"/>
            <a:ext cx="35830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 Request Broker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15920" y="2879640"/>
            <a:ext cx="0" cy="6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4447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4435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788160" y="286704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983280" y="2879640"/>
            <a:ext cx="0" cy="658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6138720" y="3535200"/>
            <a:ext cx="1419120" cy="946080"/>
            <a:chOff x="6138720" y="3535200"/>
            <a:chExt cx="1419120" cy="946080"/>
          </a:xfrm>
        </p:grpSpPr>
        <p:sp>
          <p:nvSpPr>
            <p:cNvPr id="1557" name=""/>
            <p:cNvSpPr/>
            <p:nvPr/>
          </p:nvSpPr>
          <p:spPr>
            <a:xfrm>
              <a:off x="6138720" y="3684600"/>
              <a:ext cx="1419120" cy="74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138720" y="3535200"/>
              <a:ext cx="1419120" cy="149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 txBox="1"/>
            <p:nvPr/>
          </p:nvSpPr>
          <p:spPr>
            <a:xfrm>
              <a:off x="6197760" y="3659040"/>
              <a:ext cx="11970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ynami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4878360" y="3581280"/>
            <a:ext cx="1212840" cy="938160"/>
            <a:chOff x="4878360" y="3581280"/>
            <a:chExt cx="1212840" cy="938160"/>
          </a:xfrm>
        </p:grpSpPr>
        <p:sp>
          <p:nvSpPr>
            <p:cNvPr id="1561" name=""/>
            <p:cNvSpPr/>
            <p:nvPr/>
          </p:nvSpPr>
          <p:spPr>
            <a:xfrm>
              <a:off x="4878360" y="3722760"/>
              <a:ext cx="12128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78360" y="3581280"/>
              <a:ext cx="1212840" cy="1411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 txBox="1"/>
            <p:nvPr/>
          </p:nvSpPr>
          <p:spPr>
            <a:xfrm>
              <a:off x="4913280" y="3697200"/>
              <a:ext cx="11415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elet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7948440" y="2879640"/>
            <a:ext cx="0" cy="658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200400" y="28954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4114800" y="2867040"/>
            <a:ext cx="539640" cy="714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 Fundamen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395280" y="1590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operability (II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ll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438120" y="228600"/>
            <a:ext cx="8553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19040" y="1600200"/>
            <a:ext cx="796284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Services - provide standard interface definitions for important middlew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263680" y="185904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589040" y="185904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1476360" y="25574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1963800" y="25574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2451240" y="25574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80880" y="2050920"/>
            <a:ext cx="1582920" cy="725760"/>
          </a:xfrm>
          <a:custGeom>
            <a:avLst/>
            <a:gdLst/>
            <a:ahLst/>
            <a:rect l="0" t="0" r="r" b="b"/>
            <a:pathLst>
              <a:path w="4397" h="2016">
                <a:moveTo>
                  <a:pt x="4397" y="671"/>
                </a:moveTo>
                <a:lnTo>
                  <a:pt x="4397" y="1343"/>
                </a:lnTo>
                <a:lnTo>
                  <a:pt x="1318" y="1343"/>
                </a:lnTo>
                <a:lnTo>
                  <a:pt x="1318" y="2016"/>
                </a:lnTo>
                <a:lnTo>
                  <a:pt x="0" y="1007"/>
                </a:lnTo>
                <a:lnTo>
                  <a:pt x="1318" y="0"/>
                </a:lnTo>
                <a:lnTo>
                  <a:pt x="1318" y="671"/>
                </a:lnTo>
                <a:lnTo>
                  <a:pt x="4397" y="67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5b89e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1289160" y="2871720"/>
            <a:ext cx="37476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263680" y="2871720"/>
            <a:ext cx="37620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776240" y="2871720"/>
            <a:ext cx="37476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963800" y="1460520"/>
            <a:ext cx="750960" cy="3808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176480" y="1460520"/>
            <a:ext cx="749160" cy="3808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394c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963800" y="2031840"/>
            <a:ext cx="1541880" cy="725760"/>
          </a:xfrm>
          <a:custGeom>
            <a:avLst/>
            <a:gdLst/>
            <a:ahLst/>
            <a:rect l="0" t="0" r="r" b="b"/>
            <a:pathLst>
              <a:path w="4283" h="2016">
                <a:moveTo>
                  <a:pt x="0" y="671"/>
                </a:moveTo>
                <a:lnTo>
                  <a:pt x="0" y="1343"/>
                </a:lnTo>
                <a:lnTo>
                  <a:pt x="2998" y="1343"/>
                </a:lnTo>
                <a:lnTo>
                  <a:pt x="2998" y="2016"/>
                </a:lnTo>
                <a:lnTo>
                  <a:pt x="4283" y="1007"/>
                </a:lnTo>
                <a:lnTo>
                  <a:pt x="2998" y="0"/>
                </a:lnTo>
                <a:lnTo>
                  <a:pt x="2998" y="671"/>
                </a:lnTo>
                <a:lnTo>
                  <a:pt x="0" y="67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5b89e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109520" y="2743200"/>
            <a:ext cx="1735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9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4119480" y="1601640"/>
            <a:ext cx="4792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bstractions for System-Programming Function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946080" y="2270160"/>
            <a:ext cx="25970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Request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5318280" y="3505320"/>
            <a:ext cx="1271520" cy="1371600"/>
            <a:chOff x="5318280" y="3505320"/>
            <a:chExt cx="1271520" cy="1371600"/>
          </a:xfrm>
        </p:grpSpPr>
        <p:sp>
          <p:nvSpPr>
            <p:cNvPr id="1594" name=""/>
            <p:cNvSpPr/>
            <p:nvPr/>
          </p:nvSpPr>
          <p:spPr>
            <a:xfrm>
              <a:off x="5318280" y="3505320"/>
              <a:ext cx="1217520" cy="137160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 txBox="1"/>
            <p:nvPr/>
          </p:nvSpPr>
          <p:spPr>
            <a:xfrm>
              <a:off x="5342040" y="3913200"/>
              <a:ext cx="12477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1523880" y="4648320"/>
            <a:ext cx="1417680" cy="1523880"/>
            <a:chOff x="1523880" y="4648320"/>
            <a:chExt cx="1417680" cy="1523880"/>
          </a:xfrm>
        </p:grpSpPr>
        <p:sp>
          <p:nvSpPr>
            <p:cNvPr id="1597" name=""/>
            <p:cNvSpPr/>
            <p:nvPr/>
          </p:nvSpPr>
          <p:spPr>
            <a:xfrm>
              <a:off x="1523880" y="4648320"/>
              <a:ext cx="1417680" cy="152388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 txBox="1"/>
            <p:nvPr/>
          </p:nvSpPr>
          <p:spPr>
            <a:xfrm>
              <a:off x="1652760" y="5105520"/>
              <a:ext cx="106200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4178160" y="4800600"/>
            <a:ext cx="1289520" cy="1371600"/>
            <a:chOff x="4178160" y="4800600"/>
            <a:chExt cx="1289520" cy="1371600"/>
          </a:xfrm>
        </p:grpSpPr>
        <p:sp>
          <p:nvSpPr>
            <p:cNvPr id="1600" name=""/>
            <p:cNvSpPr/>
            <p:nvPr/>
          </p:nvSpPr>
          <p:spPr>
            <a:xfrm>
              <a:off x="4178160" y="4800600"/>
              <a:ext cx="1268280" cy="137160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 txBox="1"/>
            <p:nvPr/>
          </p:nvSpPr>
          <p:spPr>
            <a:xfrm>
              <a:off x="4202280" y="5288040"/>
              <a:ext cx="12654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588960" y="3581280"/>
            <a:ext cx="1257480" cy="1295280"/>
            <a:chOff x="588960" y="3581280"/>
            <a:chExt cx="1257480" cy="1295280"/>
          </a:xfrm>
        </p:grpSpPr>
        <p:sp>
          <p:nvSpPr>
            <p:cNvPr id="1603" name=""/>
            <p:cNvSpPr/>
            <p:nvPr/>
          </p:nvSpPr>
          <p:spPr>
            <a:xfrm>
              <a:off x="588960" y="3581280"/>
              <a:ext cx="1257480" cy="129528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 txBox="1"/>
            <p:nvPr/>
          </p:nvSpPr>
          <p:spPr>
            <a:xfrm>
              <a:off x="615960" y="3963960"/>
              <a:ext cx="1214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521480" y="3505320"/>
            <a:ext cx="1349280" cy="1447920"/>
            <a:chOff x="7521480" y="3505320"/>
            <a:chExt cx="1349280" cy="1447920"/>
          </a:xfrm>
        </p:grpSpPr>
        <p:sp>
          <p:nvSpPr>
            <p:cNvPr id="1606" name=""/>
            <p:cNvSpPr/>
            <p:nvPr/>
          </p:nvSpPr>
          <p:spPr>
            <a:xfrm>
              <a:off x="7574040" y="3505320"/>
              <a:ext cx="1279440" cy="144792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 txBox="1"/>
            <p:nvPr/>
          </p:nvSpPr>
          <p:spPr>
            <a:xfrm>
              <a:off x="7521480" y="3854520"/>
              <a:ext cx="1349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fecy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2890800" y="3581280"/>
            <a:ext cx="1224000" cy="1295280"/>
            <a:chOff x="2890800" y="3581280"/>
            <a:chExt cx="1224000" cy="1295280"/>
          </a:xfrm>
        </p:grpSpPr>
        <p:sp>
          <p:nvSpPr>
            <p:cNvPr id="1609" name=""/>
            <p:cNvSpPr/>
            <p:nvPr/>
          </p:nvSpPr>
          <p:spPr>
            <a:xfrm>
              <a:off x="2890800" y="3581280"/>
              <a:ext cx="1224000" cy="129528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 txBox="1"/>
            <p:nvPr/>
          </p:nvSpPr>
          <p:spPr>
            <a:xfrm>
              <a:off x="2989440" y="3814920"/>
              <a:ext cx="109548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6253200" y="4800600"/>
            <a:ext cx="1214280" cy="1371600"/>
          </a:xfrm>
          <a:prstGeom prst="ellipse">
            <a:avLst/>
          </a:prstGeom>
          <a:gradFill rotWithShape="0">
            <a:gsLst>
              <a:gs pos="0">
                <a:srgbClr val="4ae1d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6234120" y="5110200"/>
            <a:ext cx="10605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23720" y="3429000"/>
            <a:ext cx="853452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9280" y="3065400"/>
            <a:ext cx="681120" cy="3510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95480" y="3065400"/>
            <a:ext cx="6007320" cy="3510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476280" y="266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476280" y="1523880"/>
            <a:ext cx="843912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fe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14400"/>
            <a:ext cx="85345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76280" y="1638360"/>
            <a:ext cx="7562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 software vend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duct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duct 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etitive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duct architecture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velopment of value-added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 inves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rket research and marke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etitive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chnical due di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92120" y="26676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92120" y="1515960"/>
            <a:ext cx="623268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ter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/CORBA Bri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Que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essagin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re to co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544680" y="743040"/>
            <a:ext cx="802800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about run-time servi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474840" y="1501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ilover / High Avail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atabase connection pooling and c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read 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ult detection and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omatic restart of faile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ult detection and reporting to 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te/sess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457200" y="304920"/>
            <a:ext cx="84582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 and Internet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476280" y="1447920"/>
            <a:ext cx="86677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 provides solid foundation for distributed objects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ndard interfaces, standard specifications, standard abst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hoice of language,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ndard wir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ever, once again the specifications are ahead of the actual produ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ducts are maturing fast but many features are still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of CORBA vendors are playing catch up with the 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609480" y="228600"/>
            <a:ext cx="84582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RBA and Internet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476280" y="1447920"/>
            <a:ext cx="86677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ur experience shows that from the moment you buy a CORBA product  to the day a mission-critical business application can use it, substantial value-added development is required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do you address the quality of service iss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do you address the issue of resource manag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do you address the issue of load balanc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do you address the issue of integration with back-e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do you address the challenges presented by the We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490680" y="1638360"/>
            <a:ext cx="806292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 Goal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What Is It and What Does It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Java the new middleware platform for Internet based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ddleware Ans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, MTS/COM, OTM and Commercial 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roducing Distributed Objects Web -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This Town Big Enough For All of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457200" y="1295280"/>
            <a:ext cx="8610480" cy="43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aising the Bar - Introducing O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“Holy Grail” of Middl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M - Object Transactional Middle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es ri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vides development, run-time and managem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pable of supporting diverse communication models between applica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nchronous, asynchronous and publish/subscribe trans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for Quality of Service (Q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bines component and object based model with transaction processing model previously available for procedural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as the potential to fulfill on the ultimate transaction management and middleware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88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536400" y="824040"/>
            <a:ext cx="80294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bject Transaction Middleware - OT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434880" y="1276200"/>
            <a:ext cx="834696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king it easier to create high-performance, scaleable, and robust Enterprise and Internet base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cus on server side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vide the ability to create business application servers as easy as cl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for universal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vide choice of language for the client and for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vide 80% - 90% of all the required run time and management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555480" y="709560"/>
            <a:ext cx="1143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T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434880" y="1143000"/>
            <a:ext cx="8594640" cy="41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crosoft’s Microsoft Transactio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 Products that imple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Transaction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dditional CORB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dditional run-time and managem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has nothing to do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BM’s Component  Br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A’s Ice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rland’s VisiBroker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ONA’s Orbix O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base Jag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555480" y="785880"/>
            <a:ext cx="584676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TM  Commercial Produ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09480" y="1523880"/>
            <a:ext cx="8001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un time and management services are no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 need integration between middleware tools and development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onents development tools, components assembly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lainly speaking we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de CORBA complex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de MTS/COM complex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de data access complex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lve problems presented by the nature of 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ols and languages that make it easier to build ENTERPRISE Component Based Applications for Internet and Corporat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555480" y="765000"/>
            <a:ext cx="597708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else is still requi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571680" y="55260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9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517680" y="863640"/>
            <a:ext cx="85503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 Servers provide built-in functionalit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velopment, deployment and management of distributed object applications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w Web-Centric Middle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cus on Web application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for Java and HTML on the client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cus on Java as a Development Language on the serv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come specific Web-related shortcom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te/sess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nsac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vide the ability to pass state/context between HTTP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ad balancing / Failover / 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ult detection an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vides built-in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many run-tim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14360" y="160020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ributed Object Applications - Goal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What Is It and What Does It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Java the new middleware platform for Internet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ddleware Ans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, MTS/COM, TP Monitors, OTM and Commercial 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roducing Distributed Objects Web -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This Town Big Enough For All of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547560" y="399960"/>
            <a:ext cx="8196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547560" y="1638360"/>
            <a:ext cx="8062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for multiple Web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SAPI, ISAPI, CGI, Web Application Interface (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” a variety of applications including Java “Servl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important … provide necessary integration with back-en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atabase, CORBA, MOM, Legacy Application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RP Applications - PeopleSoft, Baan, SAP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571680" y="55260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9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17680" y="1523880"/>
            <a:ext cx="84740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 Application Serv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Dynamics Application Server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scape Enterprise Application Server (formerly Kiva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8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racle/Web 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reenbrier and Russel Jama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bLogic Enterprise 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solutions: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me-grown 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490680" y="1638360"/>
            <a:ext cx="806292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 Goal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- What Is It and What Does It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Java the new middleware platform for Internet based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ddleware Ans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, MTS/COM, OTM and Web-centric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roducing Distributed Objects Web -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 This Town Big Enough For All of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495360" y="228600"/>
            <a:ext cx="857268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9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This Town Big Enough For All of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495360" y="1523880"/>
            <a:ext cx="85726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 single product tackles all of the challenges. One of the reasons for integrating different technologies is the fact that each enabling technology has its drawbacks. For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Java does not have enough distributed infrastructure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BA products lack scalability; support limited communication paradigms; no Quality of Service; each product differs from each other when it comes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Ms are too complex and with exception of Microsoft’s MTS are only coming to marke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96720" y="1447920"/>
            <a:ext cx="859464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ombined functionality of Application Servers and  Distributed Object Middleware represent “Best-of-breed” Middl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roducing Distributed Object We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ributed Object Web = ApplicationServers + Distributed Object Middle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536400" y="824040"/>
            <a:ext cx="63500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ow it All Stack Up Togeth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547560" y="76320"/>
            <a:ext cx="81010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roducing The Distributed Object Web - 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71600" y="1523880"/>
            <a:ext cx="85201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gration of  WebSemantics with Distributed Object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onent and object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pport for Universal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comp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ML/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ternal Web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 Application Ser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ributed Object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irewalls/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rchitecture for the new network centric, Internet ap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623880" y="3049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Object Web - 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04920" y="1514520"/>
            <a:ext cx="83818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OW = WWW + Distributed Object Middl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192480" y="2278080"/>
            <a:ext cx="5189400" cy="344484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247680" y="2297160"/>
            <a:ext cx="4735440" cy="344484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1890720" y="2295360"/>
            <a:ext cx="10191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4786200" y="2295360"/>
            <a:ext cx="16239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976320" y="3133800"/>
            <a:ext cx="2560680" cy="2054160"/>
            <a:chOff x="976320" y="3133800"/>
            <a:chExt cx="2560680" cy="2054160"/>
          </a:xfrm>
        </p:grpSpPr>
        <p:sp>
          <p:nvSpPr>
            <p:cNvPr id="1691" name=""/>
            <p:cNvSpPr txBox="1"/>
            <p:nvPr/>
          </p:nvSpPr>
          <p:spPr>
            <a:xfrm>
              <a:off x="976320" y="3133800"/>
              <a:ext cx="212580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versal cli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 txBox="1"/>
            <p:nvPr/>
          </p:nvSpPr>
          <p:spPr>
            <a:xfrm>
              <a:off x="976320" y="3514680"/>
              <a:ext cx="132732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les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 txBox="1"/>
            <p:nvPr/>
          </p:nvSpPr>
          <p:spPr>
            <a:xfrm>
              <a:off x="976320" y="3971880"/>
              <a:ext cx="209556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transac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 txBox="1"/>
            <p:nvPr/>
          </p:nvSpPr>
          <p:spPr>
            <a:xfrm>
              <a:off x="976320" y="4429080"/>
              <a:ext cx="2560680" cy="75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 persiste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ple appl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 txBox="1"/>
          <p:nvPr/>
        </p:nvSpPr>
        <p:spPr>
          <a:xfrm>
            <a:off x="5105520" y="3505320"/>
            <a:ext cx="17701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 Mon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5105520" y="2819520"/>
            <a:ext cx="1393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M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5105520" y="4191120"/>
            <a:ext cx="26686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5105520" y="4572000"/>
            <a:ext cx="309564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 Appl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3871800" y="3537000"/>
            <a:ext cx="631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 txBox="1"/>
          <p:nvPr/>
        </p:nvSpPr>
        <p:spPr>
          <a:xfrm>
            <a:off x="471600" y="3808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ributed Object Web - 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2895480" y="3214800"/>
            <a:ext cx="246204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/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s/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590920" y="2209680"/>
            <a:ext cx="6172200" cy="351324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33200" y="2259000"/>
            <a:ext cx="5486400" cy="344484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2195640" y="2295360"/>
            <a:ext cx="10191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4786200" y="2295360"/>
            <a:ext cx="16239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914400" y="3200400"/>
            <a:ext cx="15447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914400" y="3809880"/>
            <a:ext cx="2318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914400" y="4267080"/>
            <a:ext cx="2318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062760" y="3448080"/>
            <a:ext cx="17701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6024600" y="4019400"/>
            <a:ext cx="3031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5562720" y="2876400"/>
            <a:ext cx="302580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 Mon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 Appl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442800" y="3038400"/>
            <a:ext cx="2560680" cy="2054520"/>
            <a:chOff x="442800" y="3038400"/>
            <a:chExt cx="2560680" cy="2054520"/>
          </a:xfrm>
        </p:grpSpPr>
        <p:sp>
          <p:nvSpPr>
            <p:cNvPr id="1713" name=""/>
            <p:cNvSpPr txBox="1"/>
            <p:nvPr/>
          </p:nvSpPr>
          <p:spPr>
            <a:xfrm>
              <a:off x="442800" y="3038400"/>
              <a:ext cx="212580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versal cli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 txBox="1"/>
            <p:nvPr/>
          </p:nvSpPr>
          <p:spPr>
            <a:xfrm>
              <a:off x="442800" y="3419640"/>
              <a:ext cx="132732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les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 txBox="1"/>
            <p:nvPr/>
          </p:nvSpPr>
          <p:spPr>
            <a:xfrm>
              <a:off x="442800" y="3876840"/>
              <a:ext cx="209556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transac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 txBox="1"/>
            <p:nvPr/>
          </p:nvSpPr>
          <p:spPr>
            <a:xfrm>
              <a:off x="442800" y="4334040"/>
              <a:ext cx="2560680" cy="75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 persiste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ple appl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267080" y="1828800"/>
            <a:ext cx="10666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95280" y="45720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W -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4281480" y="1843200"/>
            <a:ext cx="10699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172200" y="1676520"/>
            <a:ext cx="838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971800" y="213372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924680" y="1600200"/>
            <a:ext cx="9907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848720" y="4191120"/>
            <a:ext cx="11430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905120" y="213372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1890720" y="2233440"/>
            <a:ext cx="8431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2957400" y="2209680"/>
            <a:ext cx="10033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6157800" y="1623960"/>
            <a:ext cx="8780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7910640" y="2081160"/>
            <a:ext cx="9507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7834320" y="4519440"/>
            <a:ext cx="11397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1533600"/>
            <a:ext cx="0" cy="4937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52280" y="3124080"/>
            <a:ext cx="1371600" cy="5335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214200" y="3200400"/>
            <a:ext cx="1243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52280" y="1981080"/>
            <a:ext cx="686160" cy="687600"/>
            <a:chOff x="152280" y="1981080"/>
            <a:chExt cx="686160" cy="687600"/>
          </a:xfrm>
        </p:grpSpPr>
        <p:grpSp>
          <p:nvGrpSpPr>
            <p:cNvPr id="1735" name=""/>
            <p:cNvGrpSpPr/>
            <p:nvPr/>
          </p:nvGrpSpPr>
          <p:grpSpPr>
            <a:xfrm>
              <a:off x="152280" y="1981080"/>
              <a:ext cx="686160" cy="687600"/>
              <a:chOff x="152280" y="1981080"/>
              <a:chExt cx="686160" cy="687600"/>
            </a:xfrm>
          </p:grpSpPr>
          <p:sp>
            <p:nvSpPr>
              <p:cNvPr id="1736" name=""/>
              <p:cNvSpPr/>
              <p:nvPr/>
            </p:nvSpPr>
            <p:spPr>
              <a:xfrm>
                <a:off x="277920" y="2378160"/>
                <a:ext cx="428760" cy="146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50920" y="2492280"/>
                <a:ext cx="482760" cy="2556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52360" y="2394000"/>
                <a:ext cx="482760" cy="103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87520" y="2451240"/>
                <a:ext cx="133200" cy="2700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52280" y="2517840"/>
                <a:ext cx="686160" cy="125640"/>
              </a:xfrm>
              <a:custGeom>
                <a:avLst/>
                <a:gdLst/>
                <a:ahLst/>
                <a:rect l="0" t="0" r="r" b="b"/>
                <a:pathLst>
                  <a:path w="1906" h="349">
                    <a:moveTo>
                      <a:pt x="119" y="0"/>
                    </a:moveTo>
                    <a:lnTo>
                      <a:pt x="1760" y="0"/>
                    </a:lnTo>
                    <a:lnTo>
                      <a:pt x="1906" y="349"/>
                    </a:lnTo>
                    <a:lnTo>
                      <a:pt x="0" y="349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52280" y="2643120"/>
                <a:ext cx="68580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0040" y="2557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01600" y="2585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8" y="0"/>
                    </a:moveTo>
                    <a:lnTo>
                      <a:pt x="63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95120" y="2598840"/>
                <a:ext cx="73440" cy="33840"/>
              </a:xfrm>
              <a:custGeom>
                <a:avLst/>
                <a:gdLst/>
                <a:ahLst/>
                <a:rect l="0" t="0" r="r" b="b"/>
                <a:pathLst>
                  <a:path w="204" h="94">
                    <a:moveTo>
                      <a:pt x="4" y="0"/>
                    </a:moveTo>
                    <a:lnTo>
                      <a:pt x="111" y="0"/>
                    </a:lnTo>
                    <a:lnTo>
                      <a:pt x="120" y="27"/>
                    </a:lnTo>
                    <a:lnTo>
                      <a:pt x="93" y="27"/>
                    </a:lnTo>
                    <a:lnTo>
                      <a:pt x="93" y="53"/>
                    </a:lnTo>
                    <a:lnTo>
                      <a:pt x="200" y="53"/>
                    </a:lnTo>
                    <a:lnTo>
                      <a:pt x="204" y="94"/>
                    </a:lnTo>
                    <a:lnTo>
                      <a:pt x="71" y="94"/>
                    </a:lnTo>
                    <a:lnTo>
                      <a:pt x="80" y="40"/>
                    </a:lnTo>
                    <a:lnTo>
                      <a:pt x="0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23920" y="2557440"/>
                <a:ext cx="54360" cy="51120"/>
              </a:xfrm>
              <a:custGeom>
                <a:avLst/>
                <a:gdLst/>
                <a:ahLst/>
                <a:rect l="0" t="0" r="r" b="b"/>
                <a:pathLst>
                  <a:path w="151" h="142">
                    <a:moveTo>
                      <a:pt x="75" y="0"/>
                    </a:moveTo>
                    <a:lnTo>
                      <a:pt x="116" y="0"/>
                    </a:lnTo>
                    <a:lnTo>
                      <a:pt x="125" y="17"/>
                    </a:lnTo>
                    <a:lnTo>
                      <a:pt x="102" y="17"/>
                    </a:lnTo>
                    <a:lnTo>
                      <a:pt x="102" y="39"/>
                    </a:lnTo>
                    <a:lnTo>
                      <a:pt x="143" y="39"/>
                    </a:lnTo>
                    <a:lnTo>
                      <a:pt x="151" y="61"/>
                    </a:lnTo>
                    <a:lnTo>
                      <a:pt x="116" y="61"/>
                    </a:lnTo>
                    <a:lnTo>
                      <a:pt x="102" y="80"/>
                    </a:lnTo>
                    <a:lnTo>
                      <a:pt x="89" y="61"/>
                    </a:lnTo>
                    <a:lnTo>
                      <a:pt x="17" y="61"/>
                    </a:lnTo>
                    <a:lnTo>
                      <a:pt x="8" y="70"/>
                    </a:lnTo>
                    <a:lnTo>
                      <a:pt x="80" y="70"/>
                    </a:lnTo>
                    <a:lnTo>
                      <a:pt x="84" y="98"/>
                    </a:lnTo>
                    <a:lnTo>
                      <a:pt x="71" y="98"/>
                    </a:lnTo>
                    <a:lnTo>
                      <a:pt x="71" y="115"/>
                    </a:lnTo>
                    <a:lnTo>
                      <a:pt x="102" y="115"/>
                    </a:lnTo>
                    <a:lnTo>
                      <a:pt x="111" y="142"/>
                    </a:lnTo>
                    <a:lnTo>
                      <a:pt x="53" y="142"/>
                    </a:lnTo>
                    <a:lnTo>
                      <a:pt x="58" y="115"/>
                    </a:lnTo>
                    <a:lnTo>
                      <a:pt x="45" y="98"/>
                    </a:lnTo>
                    <a:lnTo>
                      <a:pt x="4" y="98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39"/>
                    </a:lnTo>
                    <a:lnTo>
                      <a:pt x="84" y="39"/>
                    </a:lnTo>
                    <a:lnTo>
                      <a:pt x="89" y="17"/>
                    </a:lnTo>
                    <a:lnTo>
                      <a:pt x="75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60280" y="2585880"/>
                <a:ext cx="232200" cy="46440"/>
              </a:xfrm>
              <a:custGeom>
                <a:avLst/>
                <a:gdLst/>
                <a:ahLst/>
                <a:rect l="0" t="0" r="r" b="b"/>
                <a:pathLst>
                  <a:path w="645" h="129">
                    <a:moveTo>
                      <a:pt x="4" y="0"/>
                    </a:moveTo>
                    <a:lnTo>
                      <a:pt x="44" y="0"/>
                    </a:lnTo>
                    <a:lnTo>
                      <a:pt x="44" y="22"/>
                    </a:lnTo>
                    <a:lnTo>
                      <a:pt x="26" y="22"/>
                    </a:lnTo>
                    <a:lnTo>
                      <a:pt x="26" y="36"/>
                    </a:lnTo>
                    <a:lnTo>
                      <a:pt x="66" y="36"/>
                    </a:lnTo>
                    <a:lnTo>
                      <a:pt x="79" y="62"/>
                    </a:lnTo>
                    <a:lnTo>
                      <a:pt x="39" y="62"/>
                    </a:lnTo>
                    <a:lnTo>
                      <a:pt x="52" y="89"/>
                    </a:lnTo>
                    <a:lnTo>
                      <a:pt x="628" y="89"/>
                    </a:lnTo>
                    <a:lnTo>
                      <a:pt x="645" y="129"/>
                    </a:lnTo>
                    <a:lnTo>
                      <a:pt x="26" y="129"/>
                    </a:lnTo>
                    <a:lnTo>
                      <a:pt x="26" y="89"/>
                    </a:lnTo>
                    <a:lnTo>
                      <a:pt x="13" y="62"/>
                    </a:lnTo>
                    <a:lnTo>
                      <a:pt x="17" y="36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680" y="2557440"/>
                <a:ext cx="38520" cy="51120"/>
              </a:xfrm>
              <a:custGeom>
                <a:avLst/>
                <a:gdLst/>
                <a:ahLst/>
                <a:rect l="0" t="0" r="r" b="b"/>
                <a:pathLst>
                  <a:path w="107" h="142">
                    <a:moveTo>
                      <a:pt x="0" y="0"/>
                    </a:moveTo>
                    <a:lnTo>
                      <a:pt x="40" y="0"/>
                    </a:lnTo>
                    <a:lnTo>
                      <a:pt x="49" y="17"/>
                    </a:lnTo>
                    <a:lnTo>
                      <a:pt x="26" y="17"/>
                    </a:lnTo>
                    <a:lnTo>
                      <a:pt x="22" y="39"/>
                    </a:lnTo>
                    <a:lnTo>
                      <a:pt x="67" y="39"/>
                    </a:lnTo>
                    <a:lnTo>
                      <a:pt x="67" y="61"/>
                    </a:lnTo>
                    <a:lnTo>
                      <a:pt x="40" y="61"/>
                    </a:lnTo>
                    <a:lnTo>
                      <a:pt x="31" y="70"/>
                    </a:lnTo>
                    <a:lnTo>
                      <a:pt x="67" y="70"/>
                    </a:lnTo>
                    <a:lnTo>
                      <a:pt x="81" y="98"/>
                    </a:lnTo>
                    <a:lnTo>
                      <a:pt x="58" y="98"/>
                    </a:lnTo>
                    <a:lnTo>
                      <a:pt x="53" y="115"/>
                    </a:lnTo>
                    <a:lnTo>
                      <a:pt x="103" y="115"/>
                    </a:lnTo>
                    <a:lnTo>
                      <a:pt x="107" y="142"/>
                    </a:lnTo>
                    <a:lnTo>
                      <a:pt x="53" y="142"/>
                    </a:lnTo>
                    <a:lnTo>
                      <a:pt x="53" y="120"/>
                    </a:lnTo>
                    <a:lnTo>
                      <a:pt x="40" y="98"/>
                    </a:lnTo>
                    <a:lnTo>
                      <a:pt x="26" y="98"/>
                    </a:lnTo>
                    <a:lnTo>
                      <a:pt x="17" y="66"/>
                    </a:lnTo>
                    <a:lnTo>
                      <a:pt x="17" y="48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98440" y="2557440"/>
                <a:ext cx="36720" cy="51120"/>
              </a:xfrm>
              <a:custGeom>
                <a:avLst/>
                <a:gdLst/>
                <a:ahLst/>
                <a:rect l="0" t="0" r="r" b="b"/>
                <a:pathLst>
                  <a:path w="102" h="142">
                    <a:moveTo>
                      <a:pt x="0" y="0"/>
                    </a:moveTo>
                    <a:lnTo>
                      <a:pt x="39" y="0"/>
                    </a:lnTo>
                    <a:lnTo>
                      <a:pt x="44" y="17"/>
                    </a:lnTo>
                    <a:lnTo>
                      <a:pt x="26" y="17"/>
                    </a:lnTo>
                    <a:lnTo>
                      <a:pt x="26" y="39"/>
                    </a:lnTo>
                    <a:lnTo>
                      <a:pt x="67" y="39"/>
                    </a:lnTo>
                    <a:lnTo>
                      <a:pt x="67" y="61"/>
                    </a:lnTo>
                    <a:lnTo>
                      <a:pt x="30" y="61"/>
                    </a:lnTo>
                    <a:lnTo>
                      <a:pt x="30" y="70"/>
                    </a:lnTo>
                    <a:lnTo>
                      <a:pt x="67" y="70"/>
                    </a:lnTo>
                    <a:lnTo>
                      <a:pt x="71" y="98"/>
                    </a:lnTo>
                    <a:lnTo>
                      <a:pt x="58" y="98"/>
                    </a:lnTo>
                    <a:lnTo>
                      <a:pt x="58" y="115"/>
                    </a:lnTo>
                    <a:lnTo>
                      <a:pt x="93" y="115"/>
                    </a:lnTo>
                    <a:lnTo>
                      <a:pt x="102" y="142"/>
                    </a:lnTo>
                    <a:lnTo>
                      <a:pt x="48" y="142"/>
                    </a:lnTo>
                    <a:lnTo>
                      <a:pt x="48" y="120"/>
                    </a:lnTo>
                    <a:lnTo>
                      <a:pt x="30" y="98"/>
                    </a:lnTo>
                    <a:lnTo>
                      <a:pt x="26" y="98"/>
                    </a:lnTo>
                    <a:lnTo>
                      <a:pt x="17" y="61"/>
                    </a:lnTo>
                    <a:lnTo>
                      <a:pt x="8" y="39"/>
                    </a:lnTo>
                    <a:lnTo>
                      <a:pt x="8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18960" y="2557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63" y="0"/>
                    </a:lnTo>
                    <a:lnTo>
                      <a:pt x="72" y="36"/>
                    </a:lnTo>
                    <a:lnTo>
                      <a:pt x="36" y="36"/>
                    </a:lnTo>
                    <a:lnTo>
                      <a:pt x="27" y="72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8680" y="2570040"/>
                <a:ext cx="32040" cy="38520"/>
              </a:xfrm>
              <a:custGeom>
                <a:avLst/>
                <a:gdLst/>
                <a:ahLst/>
                <a:rect l="0" t="0" r="r" b="b"/>
                <a:pathLst>
                  <a:path w="89" h="107">
                    <a:moveTo>
                      <a:pt x="0" y="0"/>
                    </a:moveTo>
                    <a:lnTo>
                      <a:pt x="45" y="0"/>
                    </a:lnTo>
                    <a:lnTo>
                      <a:pt x="49" y="22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8" y="36"/>
                    </a:lnTo>
                    <a:lnTo>
                      <a:pt x="58" y="36"/>
                    </a:lnTo>
                    <a:lnTo>
                      <a:pt x="58" y="58"/>
                    </a:lnTo>
                    <a:lnTo>
                      <a:pt x="39" y="58"/>
                    </a:lnTo>
                    <a:lnTo>
                      <a:pt x="30" y="71"/>
                    </a:lnTo>
                    <a:lnTo>
                      <a:pt x="39" y="75"/>
                    </a:lnTo>
                    <a:lnTo>
                      <a:pt x="80" y="75"/>
                    </a:lnTo>
                    <a:lnTo>
                      <a:pt x="89" y="107"/>
                    </a:lnTo>
                    <a:lnTo>
                      <a:pt x="30" y="107"/>
                    </a:lnTo>
                    <a:lnTo>
                      <a:pt x="30" y="99"/>
                    </a:lnTo>
                    <a:lnTo>
                      <a:pt x="17" y="58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3080" y="2557440"/>
                <a:ext cx="41760" cy="51120"/>
              </a:xfrm>
              <a:custGeom>
                <a:avLst/>
                <a:gdLst/>
                <a:ahLst/>
                <a:rect l="0" t="0" r="r" b="b"/>
                <a:pathLst>
                  <a:path w="116" h="142">
                    <a:moveTo>
                      <a:pt x="0" y="0"/>
                    </a:moveTo>
                    <a:lnTo>
                      <a:pt x="40" y="0"/>
                    </a:lnTo>
                    <a:lnTo>
                      <a:pt x="40" y="17"/>
                    </a:lnTo>
                    <a:lnTo>
                      <a:pt x="31" y="17"/>
                    </a:lnTo>
                    <a:lnTo>
                      <a:pt x="26" y="39"/>
                    </a:lnTo>
                    <a:lnTo>
                      <a:pt x="31" y="39"/>
                    </a:lnTo>
                    <a:lnTo>
                      <a:pt x="71" y="39"/>
                    </a:lnTo>
                    <a:lnTo>
                      <a:pt x="71" y="61"/>
                    </a:lnTo>
                    <a:lnTo>
                      <a:pt x="40" y="61"/>
                    </a:lnTo>
                    <a:lnTo>
                      <a:pt x="40" y="70"/>
                    </a:lnTo>
                    <a:lnTo>
                      <a:pt x="80" y="70"/>
                    </a:lnTo>
                    <a:lnTo>
                      <a:pt x="80" y="98"/>
                    </a:lnTo>
                    <a:lnTo>
                      <a:pt x="71" y="98"/>
                    </a:lnTo>
                    <a:lnTo>
                      <a:pt x="58" y="115"/>
                    </a:lnTo>
                    <a:lnTo>
                      <a:pt x="107" y="115"/>
                    </a:lnTo>
                    <a:lnTo>
                      <a:pt x="116" y="142"/>
                    </a:lnTo>
                    <a:lnTo>
                      <a:pt x="58" y="142"/>
                    </a:lnTo>
                    <a:lnTo>
                      <a:pt x="58" y="120"/>
                    </a:lnTo>
                    <a:lnTo>
                      <a:pt x="40" y="98"/>
                    </a:lnTo>
                    <a:lnTo>
                      <a:pt x="31" y="98"/>
                    </a:lnTo>
                    <a:lnTo>
                      <a:pt x="31" y="61"/>
                    </a:lnTo>
                    <a:lnTo>
                      <a:pt x="31" y="57"/>
                    </a:lnTo>
                    <a:lnTo>
                      <a:pt x="8" y="48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6840" y="2557440"/>
                <a:ext cx="43200" cy="51120"/>
              </a:xfrm>
              <a:custGeom>
                <a:avLst/>
                <a:gdLst/>
                <a:ahLst/>
                <a:rect l="0" t="0" r="r" b="b"/>
                <a:pathLst>
                  <a:path w="120" h="142">
                    <a:moveTo>
                      <a:pt x="0" y="0"/>
                    </a:moveTo>
                    <a:lnTo>
                      <a:pt x="39" y="0"/>
                    </a:lnTo>
                    <a:lnTo>
                      <a:pt x="44" y="17"/>
                    </a:lnTo>
                    <a:lnTo>
                      <a:pt x="30" y="17"/>
                    </a:lnTo>
                    <a:lnTo>
                      <a:pt x="26" y="30"/>
                    </a:lnTo>
                    <a:lnTo>
                      <a:pt x="30" y="39"/>
                    </a:lnTo>
                    <a:lnTo>
                      <a:pt x="71" y="39"/>
                    </a:lnTo>
                    <a:lnTo>
                      <a:pt x="75" y="61"/>
                    </a:lnTo>
                    <a:lnTo>
                      <a:pt x="44" y="61"/>
                    </a:lnTo>
                    <a:lnTo>
                      <a:pt x="39" y="70"/>
                    </a:lnTo>
                    <a:lnTo>
                      <a:pt x="44" y="70"/>
                    </a:lnTo>
                    <a:lnTo>
                      <a:pt x="84" y="70"/>
                    </a:lnTo>
                    <a:lnTo>
                      <a:pt x="84" y="98"/>
                    </a:lnTo>
                    <a:lnTo>
                      <a:pt x="75" y="98"/>
                    </a:lnTo>
                    <a:lnTo>
                      <a:pt x="71" y="111"/>
                    </a:lnTo>
                    <a:lnTo>
                      <a:pt x="71" y="115"/>
                    </a:lnTo>
                    <a:lnTo>
                      <a:pt x="115" y="115"/>
                    </a:lnTo>
                    <a:lnTo>
                      <a:pt x="120" y="142"/>
                    </a:lnTo>
                    <a:lnTo>
                      <a:pt x="62" y="142"/>
                    </a:lnTo>
                    <a:lnTo>
                      <a:pt x="62" y="120"/>
                    </a:lnTo>
                    <a:lnTo>
                      <a:pt x="48" y="98"/>
                    </a:lnTo>
                    <a:lnTo>
                      <a:pt x="35" y="98"/>
                    </a:lnTo>
                    <a:lnTo>
                      <a:pt x="30" y="61"/>
                    </a:lnTo>
                    <a:lnTo>
                      <a:pt x="13" y="35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90600" y="2557440"/>
                <a:ext cx="44640" cy="51120"/>
              </a:xfrm>
              <a:custGeom>
                <a:avLst/>
                <a:gdLst/>
                <a:ahLst/>
                <a:rect l="0" t="0" r="r" b="b"/>
                <a:pathLst>
                  <a:path w="124" h="142">
                    <a:moveTo>
                      <a:pt x="0" y="0"/>
                    </a:moveTo>
                    <a:lnTo>
                      <a:pt x="39" y="0"/>
                    </a:lnTo>
                    <a:lnTo>
                      <a:pt x="44" y="17"/>
                    </a:lnTo>
                    <a:lnTo>
                      <a:pt x="22" y="17"/>
                    </a:lnTo>
                    <a:lnTo>
                      <a:pt x="22" y="39"/>
                    </a:lnTo>
                    <a:lnTo>
                      <a:pt x="30" y="39"/>
                    </a:lnTo>
                    <a:lnTo>
                      <a:pt x="67" y="39"/>
                    </a:lnTo>
                    <a:lnTo>
                      <a:pt x="67" y="61"/>
                    </a:lnTo>
                    <a:lnTo>
                      <a:pt x="44" y="61"/>
                    </a:lnTo>
                    <a:lnTo>
                      <a:pt x="39" y="70"/>
                    </a:lnTo>
                    <a:lnTo>
                      <a:pt x="84" y="70"/>
                    </a:lnTo>
                    <a:lnTo>
                      <a:pt x="89" y="98"/>
                    </a:lnTo>
                    <a:lnTo>
                      <a:pt x="67" y="98"/>
                    </a:lnTo>
                    <a:lnTo>
                      <a:pt x="61" y="115"/>
                    </a:lnTo>
                    <a:lnTo>
                      <a:pt x="67" y="115"/>
                    </a:lnTo>
                    <a:lnTo>
                      <a:pt x="115" y="115"/>
                    </a:lnTo>
                    <a:lnTo>
                      <a:pt x="124" y="142"/>
                    </a:lnTo>
                    <a:lnTo>
                      <a:pt x="61" y="142"/>
                    </a:lnTo>
                    <a:lnTo>
                      <a:pt x="57" y="115"/>
                    </a:lnTo>
                    <a:lnTo>
                      <a:pt x="44" y="98"/>
                    </a:lnTo>
                    <a:lnTo>
                      <a:pt x="30" y="98"/>
                    </a:lnTo>
                    <a:lnTo>
                      <a:pt x="22" y="57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12920" y="2557440"/>
                <a:ext cx="44640" cy="51120"/>
              </a:xfrm>
              <a:custGeom>
                <a:avLst/>
                <a:gdLst/>
                <a:ahLst/>
                <a:rect l="0" t="0" r="r" b="b"/>
                <a:pathLst>
                  <a:path w="124" h="142">
                    <a:moveTo>
                      <a:pt x="0" y="0"/>
                    </a:moveTo>
                    <a:lnTo>
                      <a:pt x="39" y="0"/>
                    </a:lnTo>
                    <a:lnTo>
                      <a:pt x="48" y="17"/>
                    </a:lnTo>
                    <a:lnTo>
                      <a:pt x="26" y="17"/>
                    </a:lnTo>
                    <a:lnTo>
                      <a:pt x="26" y="44"/>
                    </a:lnTo>
                    <a:lnTo>
                      <a:pt x="26" y="39"/>
                    </a:lnTo>
                    <a:lnTo>
                      <a:pt x="75" y="39"/>
                    </a:lnTo>
                    <a:lnTo>
                      <a:pt x="75" y="61"/>
                    </a:lnTo>
                    <a:lnTo>
                      <a:pt x="48" y="61"/>
                    </a:lnTo>
                    <a:lnTo>
                      <a:pt x="39" y="70"/>
                    </a:lnTo>
                    <a:lnTo>
                      <a:pt x="80" y="70"/>
                    </a:lnTo>
                    <a:lnTo>
                      <a:pt x="84" y="98"/>
                    </a:lnTo>
                    <a:lnTo>
                      <a:pt x="75" y="98"/>
                    </a:lnTo>
                    <a:lnTo>
                      <a:pt x="75" y="106"/>
                    </a:lnTo>
                    <a:lnTo>
                      <a:pt x="75" y="115"/>
                    </a:lnTo>
                    <a:lnTo>
                      <a:pt x="120" y="115"/>
                    </a:lnTo>
                    <a:lnTo>
                      <a:pt x="124" y="142"/>
                    </a:lnTo>
                    <a:lnTo>
                      <a:pt x="75" y="142"/>
                    </a:lnTo>
                    <a:lnTo>
                      <a:pt x="57" y="115"/>
                    </a:lnTo>
                    <a:lnTo>
                      <a:pt x="48" y="98"/>
                    </a:lnTo>
                    <a:lnTo>
                      <a:pt x="30" y="98"/>
                    </a:lnTo>
                    <a:lnTo>
                      <a:pt x="8" y="39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4880" y="2557440"/>
                <a:ext cx="49680" cy="51120"/>
              </a:xfrm>
              <a:custGeom>
                <a:avLst/>
                <a:gdLst/>
                <a:ahLst/>
                <a:rect l="0" t="0" r="r" b="b"/>
                <a:pathLst>
                  <a:path w="138" h="142">
                    <a:moveTo>
                      <a:pt x="4" y="0"/>
                    </a:moveTo>
                    <a:lnTo>
                      <a:pt x="45" y="0"/>
                    </a:lnTo>
                    <a:lnTo>
                      <a:pt x="45" y="17"/>
                    </a:lnTo>
                    <a:lnTo>
                      <a:pt x="30" y="17"/>
                    </a:lnTo>
                    <a:lnTo>
                      <a:pt x="22" y="17"/>
                    </a:lnTo>
                    <a:lnTo>
                      <a:pt x="30" y="39"/>
                    </a:lnTo>
                    <a:lnTo>
                      <a:pt x="71" y="39"/>
                    </a:lnTo>
                    <a:lnTo>
                      <a:pt x="75" y="61"/>
                    </a:lnTo>
                    <a:lnTo>
                      <a:pt x="49" y="61"/>
                    </a:lnTo>
                    <a:lnTo>
                      <a:pt x="45" y="70"/>
                    </a:lnTo>
                    <a:lnTo>
                      <a:pt x="93" y="70"/>
                    </a:lnTo>
                    <a:lnTo>
                      <a:pt x="93" y="98"/>
                    </a:lnTo>
                    <a:lnTo>
                      <a:pt x="84" y="98"/>
                    </a:lnTo>
                    <a:lnTo>
                      <a:pt x="75" y="102"/>
                    </a:lnTo>
                    <a:lnTo>
                      <a:pt x="84" y="115"/>
                    </a:lnTo>
                    <a:lnTo>
                      <a:pt x="125" y="115"/>
                    </a:lnTo>
                    <a:lnTo>
                      <a:pt x="138" y="142"/>
                    </a:lnTo>
                    <a:lnTo>
                      <a:pt x="75" y="142"/>
                    </a:lnTo>
                    <a:lnTo>
                      <a:pt x="62" y="120"/>
                    </a:lnTo>
                    <a:lnTo>
                      <a:pt x="53" y="98"/>
                    </a:lnTo>
                    <a:lnTo>
                      <a:pt x="36" y="98"/>
                    </a:lnTo>
                    <a:lnTo>
                      <a:pt x="17" y="44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60440" y="2557440"/>
                <a:ext cx="33840" cy="41760"/>
              </a:xfrm>
              <a:custGeom>
                <a:avLst/>
                <a:gdLst/>
                <a:ahLst/>
                <a:rect l="0" t="0" r="r" b="b"/>
                <a:pathLst>
                  <a:path w="94" h="116">
                    <a:moveTo>
                      <a:pt x="0" y="0"/>
                    </a:moveTo>
                    <a:lnTo>
                      <a:pt x="45" y="0"/>
                    </a:lnTo>
                    <a:lnTo>
                      <a:pt x="45" y="17"/>
                    </a:lnTo>
                    <a:lnTo>
                      <a:pt x="27" y="17"/>
                    </a:lnTo>
                    <a:lnTo>
                      <a:pt x="22" y="36"/>
                    </a:lnTo>
                    <a:lnTo>
                      <a:pt x="27" y="40"/>
                    </a:lnTo>
                    <a:lnTo>
                      <a:pt x="62" y="40"/>
                    </a:lnTo>
                    <a:lnTo>
                      <a:pt x="67" y="62"/>
                    </a:lnTo>
                    <a:lnTo>
                      <a:pt x="45" y="62"/>
                    </a:lnTo>
                    <a:lnTo>
                      <a:pt x="40" y="80"/>
                    </a:lnTo>
                    <a:lnTo>
                      <a:pt x="81" y="80"/>
                    </a:lnTo>
                    <a:lnTo>
                      <a:pt x="85" y="90"/>
                    </a:lnTo>
                    <a:lnTo>
                      <a:pt x="94" y="99"/>
                    </a:lnTo>
                    <a:lnTo>
                      <a:pt x="72" y="99"/>
                    </a:lnTo>
                    <a:lnTo>
                      <a:pt x="62" y="116"/>
                    </a:lnTo>
                    <a:lnTo>
                      <a:pt x="49" y="99"/>
                    </a:lnTo>
                    <a:lnTo>
                      <a:pt x="40" y="99"/>
                    </a:lnTo>
                    <a:lnTo>
                      <a:pt x="22" y="58"/>
                    </a:lnTo>
                    <a:lnTo>
                      <a:pt x="17" y="49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84200" y="2557440"/>
                <a:ext cx="32040" cy="44640"/>
              </a:xfrm>
              <a:custGeom>
                <a:avLst/>
                <a:gdLst/>
                <a:ahLst/>
                <a:rect l="0" t="0" r="r" b="b"/>
                <a:pathLst>
                  <a:path w="89" h="124">
                    <a:moveTo>
                      <a:pt x="0" y="0"/>
                    </a:moveTo>
                    <a:lnTo>
                      <a:pt x="35" y="0"/>
                    </a:lnTo>
                    <a:lnTo>
                      <a:pt x="39" y="17"/>
                    </a:lnTo>
                    <a:lnTo>
                      <a:pt x="22" y="17"/>
                    </a:lnTo>
                    <a:lnTo>
                      <a:pt x="26" y="39"/>
                    </a:lnTo>
                    <a:lnTo>
                      <a:pt x="58" y="39"/>
                    </a:lnTo>
                    <a:lnTo>
                      <a:pt x="58" y="61"/>
                    </a:lnTo>
                    <a:lnTo>
                      <a:pt x="39" y="61"/>
                    </a:lnTo>
                    <a:lnTo>
                      <a:pt x="39" y="71"/>
                    </a:lnTo>
                    <a:lnTo>
                      <a:pt x="84" y="71"/>
                    </a:lnTo>
                    <a:lnTo>
                      <a:pt x="89" y="98"/>
                    </a:lnTo>
                    <a:lnTo>
                      <a:pt x="75" y="98"/>
                    </a:lnTo>
                    <a:lnTo>
                      <a:pt x="71" y="124"/>
                    </a:lnTo>
                    <a:lnTo>
                      <a:pt x="58" y="98"/>
                    </a:lnTo>
                    <a:lnTo>
                      <a:pt x="35" y="98"/>
                    </a:lnTo>
                    <a:lnTo>
                      <a:pt x="22" y="61"/>
                    </a:lnTo>
                    <a:lnTo>
                      <a:pt x="8" y="48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04720" y="2557440"/>
                <a:ext cx="33840" cy="35280"/>
              </a:xfrm>
              <a:custGeom>
                <a:avLst/>
                <a:gdLst/>
                <a:ahLst/>
                <a:rect l="0" t="0" r="r" b="b"/>
                <a:pathLst>
                  <a:path w="94" h="98">
                    <a:moveTo>
                      <a:pt x="0" y="0"/>
                    </a:moveTo>
                    <a:lnTo>
                      <a:pt x="31" y="0"/>
                    </a:lnTo>
                    <a:lnTo>
                      <a:pt x="40" y="17"/>
                    </a:lnTo>
                    <a:lnTo>
                      <a:pt x="27" y="17"/>
                    </a:lnTo>
                    <a:lnTo>
                      <a:pt x="17" y="35"/>
                    </a:lnTo>
                    <a:lnTo>
                      <a:pt x="40" y="35"/>
                    </a:lnTo>
                    <a:lnTo>
                      <a:pt x="62" y="35"/>
                    </a:lnTo>
                    <a:lnTo>
                      <a:pt x="81" y="62"/>
                    </a:lnTo>
                    <a:lnTo>
                      <a:pt x="45" y="62"/>
                    </a:lnTo>
                    <a:lnTo>
                      <a:pt x="40" y="75"/>
                    </a:lnTo>
                    <a:lnTo>
                      <a:pt x="90" y="75"/>
                    </a:lnTo>
                    <a:lnTo>
                      <a:pt x="94" y="98"/>
                    </a:lnTo>
                    <a:lnTo>
                      <a:pt x="45" y="98"/>
                    </a:lnTo>
                    <a:lnTo>
                      <a:pt x="27" y="80"/>
                    </a:lnTo>
                    <a:lnTo>
                      <a:pt x="27" y="53"/>
                    </a:lnTo>
                    <a:lnTo>
                      <a:pt x="13" y="44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87440" y="2557440"/>
                <a:ext cx="84600" cy="65520"/>
              </a:xfrm>
              <a:custGeom>
                <a:avLst/>
                <a:gdLst/>
                <a:ahLst/>
                <a:rect l="0" t="0" r="r" b="b"/>
                <a:pathLst>
                  <a:path w="235" h="182">
                    <a:moveTo>
                      <a:pt x="115" y="0"/>
                    </a:moveTo>
                    <a:lnTo>
                      <a:pt x="191" y="0"/>
                    </a:lnTo>
                    <a:lnTo>
                      <a:pt x="191" y="17"/>
                    </a:lnTo>
                    <a:lnTo>
                      <a:pt x="150" y="17"/>
                    </a:lnTo>
                    <a:lnTo>
                      <a:pt x="155" y="39"/>
                    </a:lnTo>
                    <a:lnTo>
                      <a:pt x="164" y="71"/>
                    </a:lnTo>
                    <a:lnTo>
                      <a:pt x="204" y="71"/>
                    </a:lnTo>
                    <a:lnTo>
                      <a:pt x="222" y="44"/>
                    </a:lnTo>
                    <a:lnTo>
                      <a:pt x="235" y="111"/>
                    </a:lnTo>
                    <a:lnTo>
                      <a:pt x="196" y="111"/>
                    </a:lnTo>
                    <a:lnTo>
                      <a:pt x="196" y="165"/>
                    </a:lnTo>
                    <a:lnTo>
                      <a:pt x="22" y="165"/>
                    </a:lnTo>
                    <a:lnTo>
                      <a:pt x="17" y="182"/>
                    </a:lnTo>
                    <a:lnTo>
                      <a:pt x="0" y="147"/>
                    </a:lnTo>
                    <a:lnTo>
                      <a:pt x="8" y="111"/>
                    </a:lnTo>
                    <a:lnTo>
                      <a:pt x="48" y="111"/>
                    </a:lnTo>
                    <a:lnTo>
                      <a:pt x="67" y="143"/>
                    </a:lnTo>
                    <a:lnTo>
                      <a:pt x="71" y="111"/>
                    </a:lnTo>
                    <a:lnTo>
                      <a:pt x="178" y="111"/>
                    </a:lnTo>
                    <a:lnTo>
                      <a:pt x="178" y="102"/>
                    </a:lnTo>
                    <a:lnTo>
                      <a:pt x="155" y="71"/>
                    </a:lnTo>
                    <a:lnTo>
                      <a:pt x="150" y="58"/>
                    </a:lnTo>
                    <a:lnTo>
                      <a:pt x="133" y="39"/>
                    </a:lnTo>
                    <a:lnTo>
                      <a:pt x="128" y="17"/>
                    </a:lnTo>
                    <a:lnTo>
                      <a:pt x="111" y="17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00120" y="2557440"/>
                <a:ext cx="60840" cy="25920"/>
              </a:xfrm>
              <a:custGeom>
                <a:avLst/>
                <a:gdLst/>
                <a:ahLst/>
                <a:rect l="0" t="0" r="r" b="b"/>
                <a:pathLst>
                  <a:path w="169" h="72">
                    <a:moveTo>
                      <a:pt x="0" y="0"/>
                    </a:moveTo>
                    <a:lnTo>
                      <a:pt x="45" y="0"/>
                    </a:lnTo>
                    <a:lnTo>
                      <a:pt x="58" y="17"/>
                    </a:lnTo>
                    <a:lnTo>
                      <a:pt x="67" y="0"/>
                    </a:lnTo>
                    <a:lnTo>
                      <a:pt x="115" y="0"/>
                    </a:lnTo>
                    <a:lnTo>
                      <a:pt x="115" y="27"/>
                    </a:lnTo>
                    <a:lnTo>
                      <a:pt x="129" y="0"/>
                    </a:lnTo>
                    <a:lnTo>
                      <a:pt x="169" y="0"/>
                    </a:lnTo>
                    <a:lnTo>
                      <a:pt x="169" y="27"/>
                    </a:lnTo>
                    <a:lnTo>
                      <a:pt x="129" y="27"/>
                    </a:lnTo>
                    <a:lnTo>
                      <a:pt x="115" y="72"/>
                    </a:lnTo>
                    <a:lnTo>
                      <a:pt x="98" y="27"/>
                    </a:lnTo>
                    <a:lnTo>
                      <a:pt x="67" y="27"/>
                    </a:lnTo>
                    <a:lnTo>
                      <a:pt x="58" y="72"/>
                    </a:lnTo>
                    <a:lnTo>
                      <a:pt x="3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0120" y="25700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72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62" y="40"/>
                    </a:lnTo>
                    <a:lnTo>
                      <a:pt x="62" y="27"/>
                    </a:lnTo>
                    <a:lnTo>
                      <a:pt x="71" y="0"/>
                    </a:lnTo>
                    <a:lnTo>
                      <a:pt x="111" y="0"/>
                    </a:lnTo>
                    <a:lnTo>
                      <a:pt x="124" y="40"/>
                    </a:lnTo>
                    <a:lnTo>
                      <a:pt x="138" y="0"/>
                    </a:lnTo>
                    <a:lnTo>
                      <a:pt x="178" y="0"/>
                    </a:lnTo>
                    <a:lnTo>
                      <a:pt x="182" y="72"/>
                    </a:lnTo>
                    <a:lnTo>
                      <a:pt x="128" y="72"/>
                    </a:lnTo>
                    <a:lnTo>
                      <a:pt x="102" y="72"/>
                    </a:lnTo>
                    <a:lnTo>
                      <a:pt x="71" y="72"/>
                    </a:lnTo>
                    <a:lnTo>
                      <a:pt x="3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08040" y="2585880"/>
                <a:ext cx="68760" cy="33840"/>
              </a:xfrm>
              <a:custGeom>
                <a:avLst/>
                <a:gdLst/>
                <a:ahLst/>
                <a:rect l="0" t="0" r="r" b="b"/>
                <a:pathLst>
                  <a:path w="191" h="94">
                    <a:moveTo>
                      <a:pt x="62" y="0"/>
                    </a:moveTo>
                    <a:lnTo>
                      <a:pt x="102" y="0"/>
                    </a:lnTo>
                    <a:lnTo>
                      <a:pt x="106" y="22"/>
                    </a:lnTo>
                    <a:lnTo>
                      <a:pt x="75" y="22"/>
                    </a:lnTo>
                    <a:lnTo>
                      <a:pt x="75" y="58"/>
                    </a:lnTo>
                    <a:lnTo>
                      <a:pt x="111" y="58"/>
                    </a:lnTo>
                    <a:lnTo>
                      <a:pt x="124" y="72"/>
                    </a:lnTo>
                    <a:lnTo>
                      <a:pt x="133" y="58"/>
                    </a:lnTo>
                    <a:lnTo>
                      <a:pt x="178" y="58"/>
                    </a:lnTo>
                    <a:lnTo>
                      <a:pt x="191" y="94"/>
                    </a:lnTo>
                    <a:lnTo>
                      <a:pt x="0" y="94"/>
                    </a:lnTo>
                    <a:lnTo>
                      <a:pt x="0" y="58"/>
                    </a:lnTo>
                    <a:lnTo>
                      <a:pt x="53" y="58"/>
                    </a:lnTo>
                    <a:lnTo>
                      <a:pt x="58" y="76"/>
                    </a:lnTo>
                    <a:lnTo>
                      <a:pt x="62" y="58"/>
                    </a:lnTo>
                    <a:lnTo>
                      <a:pt x="53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89040" y="2557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7" y="0"/>
                    </a:moveTo>
                    <a:lnTo>
                      <a:pt x="59" y="0"/>
                    </a:lnTo>
                    <a:lnTo>
                      <a:pt x="72" y="36"/>
                    </a:lnTo>
                    <a:lnTo>
                      <a:pt x="13" y="36"/>
                    </a:lnTo>
                    <a:lnTo>
                      <a:pt x="0" y="7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12800" y="25574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22" y="0"/>
                    </a:moveTo>
                    <a:lnTo>
                      <a:pt x="45" y="0"/>
                    </a:lnTo>
                    <a:lnTo>
                      <a:pt x="62" y="27"/>
                    </a:lnTo>
                    <a:lnTo>
                      <a:pt x="67" y="0"/>
                    </a:lnTo>
                    <a:lnTo>
                      <a:pt x="102" y="0"/>
                    </a:lnTo>
                    <a:lnTo>
                      <a:pt x="115" y="27"/>
                    </a:lnTo>
                    <a:lnTo>
                      <a:pt x="124" y="0"/>
                    </a:lnTo>
                    <a:lnTo>
                      <a:pt x="169" y="0"/>
                    </a:lnTo>
                    <a:lnTo>
                      <a:pt x="173" y="27"/>
                    </a:lnTo>
                    <a:lnTo>
                      <a:pt x="128" y="27"/>
                    </a:lnTo>
                    <a:lnTo>
                      <a:pt x="111" y="27"/>
                    </a:lnTo>
                    <a:lnTo>
                      <a:pt x="106" y="27"/>
                    </a:lnTo>
                    <a:lnTo>
                      <a:pt x="67" y="27"/>
                    </a:lnTo>
                    <a:lnTo>
                      <a:pt x="53" y="72"/>
                    </a:lnTo>
                    <a:lnTo>
                      <a:pt x="30" y="27"/>
                    </a:lnTo>
                    <a:lnTo>
                      <a:pt x="4" y="27"/>
                    </a:lnTo>
                    <a:lnTo>
                      <a:pt x="0" y="4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93720" y="2570040"/>
                <a:ext cx="90720" cy="25920"/>
              </a:xfrm>
              <a:custGeom>
                <a:avLst/>
                <a:gdLst/>
                <a:ahLst/>
                <a:rect l="0" t="0" r="r" b="b"/>
                <a:pathLst>
                  <a:path w="252" h="72">
                    <a:moveTo>
                      <a:pt x="4" y="0"/>
                    </a:moveTo>
                    <a:lnTo>
                      <a:pt x="48" y="0"/>
                    </a:lnTo>
                    <a:lnTo>
                      <a:pt x="61" y="40"/>
                    </a:lnTo>
                    <a:lnTo>
                      <a:pt x="74" y="0"/>
                    </a:lnTo>
                    <a:lnTo>
                      <a:pt x="114" y="0"/>
                    </a:lnTo>
                    <a:lnTo>
                      <a:pt x="133" y="40"/>
                    </a:lnTo>
                    <a:lnTo>
                      <a:pt x="137" y="0"/>
                    </a:lnTo>
                    <a:lnTo>
                      <a:pt x="177" y="0"/>
                    </a:lnTo>
                    <a:lnTo>
                      <a:pt x="195" y="40"/>
                    </a:lnTo>
                    <a:lnTo>
                      <a:pt x="212" y="0"/>
                    </a:lnTo>
                    <a:lnTo>
                      <a:pt x="243" y="0"/>
                    </a:lnTo>
                    <a:lnTo>
                      <a:pt x="252" y="72"/>
                    </a:lnTo>
                    <a:lnTo>
                      <a:pt x="0" y="7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01640" y="2585880"/>
                <a:ext cx="60840" cy="33840"/>
              </a:xfrm>
              <a:custGeom>
                <a:avLst/>
                <a:gdLst/>
                <a:ahLst/>
                <a:rect l="0" t="0" r="r" b="b"/>
                <a:pathLst>
                  <a:path w="169" h="94">
                    <a:moveTo>
                      <a:pt x="13" y="0"/>
                    </a:moveTo>
                    <a:lnTo>
                      <a:pt x="45" y="0"/>
                    </a:lnTo>
                    <a:lnTo>
                      <a:pt x="67" y="17"/>
                    </a:lnTo>
                    <a:lnTo>
                      <a:pt x="80" y="0"/>
                    </a:lnTo>
                    <a:lnTo>
                      <a:pt x="115" y="0"/>
                    </a:lnTo>
                    <a:lnTo>
                      <a:pt x="129" y="17"/>
                    </a:lnTo>
                    <a:lnTo>
                      <a:pt x="147" y="0"/>
                    </a:lnTo>
                    <a:lnTo>
                      <a:pt x="169" y="0"/>
                    </a:lnTo>
                    <a:lnTo>
                      <a:pt x="169" y="27"/>
                    </a:lnTo>
                    <a:lnTo>
                      <a:pt x="129" y="45"/>
                    </a:lnTo>
                    <a:lnTo>
                      <a:pt x="147" y="72"/>
                    </a:lnTo>
                    <a:lnTo>
                      <a:pt x="13" y="72"/>
                    </a:lnTo>
                    <a:lnTo>
                      <a:pt x="0" y="94"/>
                    </a:lnTo>
                    <a:lnTo>
                      <a:pt x="13" y="45"/>
                    </a:lnTo>
                    <a:lnTo>
                      <a:pt x="67" y="45"/>
                    </a:lnTo>
                    <a:lnTo>
                      <a:pt x="80" y="67"/>
                    </a:lnTo>
                    <a:lnTo>
                      <a:pt x="98" y="45"/>
                    </a:lnTo>
                    <a:lnTo>
                      <a:pt x="129" y="45"/>
                    </a:lnTo>
                    <a:lnTo>
                      <a:pt x="115" y="27"/>
                    </a:lnTo>
                    <a:lnTo>
                      <a:pt x="0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03440" y="2602080"/>
                <a:ext cx="101880" cy="30600"/>
              </a:xfrm>
              <a:custGeom>
                <a:avLst/>
                <a:gdLst/>
                <a:ahLst/>
                <a:rect l="0" t="0" r="r" b="b"/>
                <a:pathLst>
                  <a:path w="283" h="85">
                    <a:moveTo>
                      <a:pt x="4" y="45"/>
                    </a:moveTo>
                    <a:lnTo>
                      <a:pt x="127" y="45"/>
                    </a:lnTo>
                    <a:lnTo>
                      <a:pt x="146" y="27"/>
                    </a:lnTo>
                    <a:lnTo>
                      <a:pt x="146" y="0"/>
                    </a:lnTo>
                    <a:lnTo>
                      <a:pt x="195" y="0"/>
                    </a:lnTo>
                    <a:lnTo>
                      <a:pt x="195" y="27"/>
                    </a:lnTo>
                    <a:lnTo>
                      <a:pt x="159" y="27"/>
                    </a:lnTo>
                    <a:lnTo>
                      <a:pt x="146" y="45"/>
                    </a:lnTo>
                    <a:lnTo>
                      <a:pt x="159" y="72"/>
                    </a:lnTo>
                    <a:lnTo>
                      <a:pt x="181" y="45"/>
                    </a:lnTo>
                    <a:lnTo>
                      <a:pt x="208" y="45"/>
                    </a:lnTo>
                    <a:lnTo>
                      <a:pt x="230" y="72"/>
                    </a:lnTo>
                    <a:lnTo>
                      <a:pt x="239" y="45"/>
                    </a:lnTo>
                    <a:lnTo>
                      <a:pt x="265" y="45"/>
                    </a:lnTo>
                    <a:lnTo>
                      <a:pt x="283" y="85"/>
                    </a:lnTo>
                    <a:lnTo>
                      <a:pt x="0" y="85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85640" y="253224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4" y="0"/>
                    </a:lnTo>
                    <a:lnTo>
                      <a:pt x="235" y="0"/>
                    </a:lnTo>
                    <a:lnTo>
                      <a:pt x="244" y="72"/>
                    </a:lnTo>
                    <a:lnTo>
                      <a:pt x="0" y="72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52440" y="2532240"/>
                <a:ext cx="117720" cy="25920"/>
              </a:xfrm>
              <a:custGeom>
                <a:avLst/>
                <a:gdLst/>
                <a:ahLst/>
                <a:rect l="0" t="0" r="r" b="b"/>
                <a:pathLst>
                  <a:path w="327" h="72">
                    <a:moveTo>
                      <a:pt x="0" y="0"/>
                    </a:moveTo>
                    <a:lnTo>
                      <a:pt x="4" y="0"/>
                    </a:lnTo>
                    <a:lnTo>
                      <a:pt x="314" y="0"/>
                    </a:lnTo>
                    <a:lnTo>
                      <a:pt x="327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44440" y="2532240"/>
                <a:ext cx="92520" cy="25920"/>
              </a:xfrm>
              <a:custGeom>
                <a:avLst/>
                <a:gdLst/>
                <a:ahLst/>
                <a:rect l="0" t="0" r="r" b="b"/>
                <a:pathLst>
                  <a:path w="257" h="72">
                    <a:moveTo>
                      <a:pt x="0" y="0"/>
                    </a:moveTo>
                    <a:lnTo>
                      <a:pt x="244" y="0"/>
                    </a:lnTo>
                    <a:lnTo>
                      <a:pt x="257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85720" y="253224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4" y="0"/>
                    </a:lnTo>
                    <a:lnTo>
                      <a:pt x="235" y="0"/>
                    </a:lnTo>
                    <a:lnTo>
                      <a:pt x="244" y="72"/>
                    </a:lnTo>
                    <a:lnTo>
                      <a:pt x="0" y="72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96960" y="253224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4" y="0"/>
                    </a:lnTo>
                    <a:lnTo>
                      <a:pt x="235" y="0"/>
                    </a:lnTo>
                    <a:lnTo>
                      <a:pt x="244" y="72"/>
                    </a:lnTo>
                    <a:lnTo>
                      <a:pt x="0" y="72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77920" y="1981080"/>
                <a:ext cx="428760" cy="392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11040" y="2021040"/>
                <a:ext cx="361800" cy="29844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04920" y="2017800"/>
                <a:ext cx="378360" cy="25920"/>
              </a:xfrm>
              <a:custGeom>
                <a:avLst/>
                <a:gdLst/>
                <a:ahLst/>
                <a:rect l="0" t="0" r="r" b="b"/>
                <a:pathLst>
                  <a:path w="1051" h="72">
                    <a:moveTo>
                      <a:pt x="0" y="0"/>
                    </a:moveTo>
                    <a:lnTo>
                      <a:pt x="57" y="72"/>
                    </a:lnTo>
                    <a:lnTo>
                      <a:pt x="875" y="63"/>
                    </a:lnTo>
                    <a:lnTo>
                      <a:pt x="976" y="72"/>
                    </a:lnTo>
                    <a:lnTo>
                      <a:pt x="10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04920" y="2017800"/>
                <a:ext cx="25920" cy="313200"/>
              </a:xfrm>
              <a:custGeom>
                <a:avLst/>
                <a:gdLst/>
                <a:ahLst/>
                <a:rect l="0" t="0" r="r" b="b"/>
                <a:pathLst>
                  <a:path w="72" h="870">
                    <a:moveTo>
                      <a:pt x="0" y="0"/>
                    </a:moveTo>
                    <a:lnTo>
                      <a:pt x="72" y="57"/>
                    </a:lnTo>
                    <a:lnTo>
                      <a:pt x="72" y="813"/>
                    </a:lnTo>
                    <a:lnTo>
                      <a:pt x="0" y="8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04920" y="2309760"/>
                <a:ext cx="378360" cy="25920"/>
              </a:xfrm>
              <a:custGeom>
                <a:avLst/>
                <a:gdLst/>
                <a:ahLst/>
                <a:rect l="0" t="0" r="r" b="b"/>
                <a:pathLst>
                  <a:path w="1051" h="72">
                    <a:moveTo>
                      <a:pt x="0" y="72"/>
                    </a:moveTo>
                    <a:lnTo>
                      <a:pt x="57" y="0"/>
                    </a:lnTo>
                    <a:lnTo>
                      <a:pt x="875" y="0"/>
                    </a:lnTo>
                    <a:lnTo>
                      <a:pt x="985" y="0"/>
                    </a:lnTo>
                    <a:lnTo>
                      <a:pt x="105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58800" y="2017800"/>
                <a:ext cx="25920" cy="313200"/>
              </a:xfrm>
              <a:custGeom>
                <a:avLst/>
                <a:gdLst/>
                <a:ahLst/>
                <a:rect l="0" t="0" r="r" b="b"/>
                <a:pathLst>
                  <a:path w="72" h="870">
                    <a:moveTo>
                      <a:pt x="72" y="0"/>
                    </a:moveTo>
                    <a:lnTo>
                      <a:pt x="0" y="57"/>
                    </a:lnTo>
                    <a:lnTo>
                      <a:pt x="0" y="813"/>
                    </a:lnTo>
                    <a:lnTo>
                      <a:pt x="72" y="87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9" name="" descr=""/>
            <p:cNvPicPr/>
            <p:nvPr/>
          </p:nvPicPr>
          <p:blipFill>
            <a:blip r:embed="rId1"/>
            <a:stretch/>
          </p:blipFill>
          <p:spPr>
            <a:xfrm>
              <a:off x="379440" y="2054160"/>
              <a:ext cx="257040" cy="2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0" name=""/>
          <p:cNvSpPr txBox="1"/>
          <p:nvPr/>
        </p:nvSpPr>
        <p:spPr>
          <a:xfrm>
            <a:off x="138240" y="1447920"/>
            <a:ext cx="10159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905120" y="419112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1890720" y="4290840"/>
            <a:ext cx="8431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971800" y="419112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2957400" y="4267080"/>
            <a:ext cx="10033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01640" y="2606760"/>
            <a:ext cx="123840" cy="5047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828800" y="1447920"/>
            <a:ext cx="914400" cy="42670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1814400" y="1471680"/>
            <a:ext cx="1020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172200" y="4419720"/>
            <a:ext cx="838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6157800" y="4672080"/>
            <a:ext cx="8780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267080" y="4419720"/>
            <a:ext cx="10666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4281480" y="4662360"/>
            <a:ext cx="10699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676600" y="2590920"/>
            <a:ext cx="28872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676600" y="2600280"/>
            <a:ext cx="288720" cy="204156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676600" y="4648320"/>
            <a:ext cx="28872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2674800" y="2585880"/>
            <a:ext cx="289080" cy="206712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95560" y="259092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95560" y="464832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95560" y="2600280"/>
            <a:ext cx="365400" cy="204156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3894120" y="2585880"/>
            <a:ext cx="365040" cy="206712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539720" y="3429000"/>
            <a:ext cx="3524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572080" y="6172200"/>
            <a:ext cx="74628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6310440" y="6043680"/>
            <a:ext cx="1322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343400" y="3048120"/>
            <a:ext cx="4572000" cy="914400"/>
          </a:xfrm>
          <a:prstGeom prst="rect">
            <a:avLst/>
          </a:prstGeom>
          <a:solidFill>
            <a:srgbClr val="bcbcb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5243400" y="3352680"/>
            <a:ext cx="36021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SYSTEM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800600" y="2600280"/>
            <a:ext cx="0" cy="44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629400" y="2600280"/>
            <a:ext cx="0" cy="44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8458200" y="2600280"/>
            <a:ext cx="0" cy="44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800600" y="3971880"/>
            <a:ext cx="0" cy="44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629400" y="3971880"/>
            <a:ext cx="0" cy="44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8458200" y="39718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343400" y="3067200"/>
            <a:ext cx="45720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343400" y="3657600"/>
            <a:ext cx="45720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5853240" y="3048120"/>
            <a:ext cx="12142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5853240" y="3657600"/>
            <a:ext cx="12142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267080" y="2362320"/>
            <a:ext cx="1066680" cy="228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172200" y="2362320"/>
            <a:ext cx="838080" cy="2286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267080" y="4419720"/>
            <a:ext cx="1066680" cy="2286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172200" y="4419720"/>
            <a:ext cx="838080" cy="22860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343400" y="5562720"/>
            <a:ext cx="686160" cy="687600"/>
            <a:chOff x="4343400" y="5562720"/>
            <a:chExt cx="686160" cy="687600"/>
          </a:xfrm>
        </p:grpSpPr>
        <p:grpSp>
          <p:nvGrpSpPr>
            <p:cNvPr id="1820" name=""/>
            <p:cNvGrpSpPr/>
            <p:nvPr/>
          </p:nvGrpSpPr>
          <p:grpSpPr>
            <a:xfrm>
              <a:off x="4343400" y="5562720"/>
              <a:ext cx="686160" cy="687600"/>
              <a:chOff x="4343400" y="5562720"/>
              <a:chExt cx="686160" cy="687600"/>
            </a:xfrm>
          </p:grpSpPr>
          <p:sp>
            <p:nvSpPr>
              <p:cNvPr id="1821" name=""/>
              <p:cNvSpPr/>
              <p:nvPr/>
            </p:nvSpPr>
            <p:spPr>
              <a:xfrm>
                <a:off x="4468680" y="5959440"/>
                <a:ext cx="428760" cy="146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441680" y="6073920"/>
                <a:ext cx="482760" cy="2556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443480" y="5975280"/>
                <a:ext cx="482760" cy="103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78280" y="6032520"/>
                <a:ext cx="133200" cy="2700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43400" y="6099120"/>
                <a:ext cx="686160" cy="125640"/>
              </a:xfrm>
              <a:custGeom>
                <a:avLst/>
                <a:gdLst/>
                <a:ahLst/>
                <a:rect l="0" t="0" r="r" b="b"/>
                <a:pathLst>
                  <a:path w="1906" h="349">
                    <a:moveTo>
                      <a:pt x="119" y="0"/>
                    </a:moveTo>
                    <a:lnTo>
                      <a:pt x="1760" y="0"/>
                    </a:lnTo>
                    <a:lnTo>
                      <a:pt x="1906" y="349"/>
                    </a:lnTo>
                    <a:lnTo>
                      <a:pt x="0" y="349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43400" y="6224760"/>
                <a:ext cx="68580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421160" y="6138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92720" y="61675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8" y="0"/>
                    </a:moveTo>
                    <a:lnTo>
                      <a:pt x="63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86240" y="6180120"/>
                <a:ext cx="73440" cy="33840"/>
              </a:xfrm>
              <a:custGeom>
                <a:avLst/>
                <a:gdLst/>
                <a:ahLst/>
                <a:rect l="0" t="0" r="r" b="b"/>
                <a:pathLst>
                  <a:path w="204" h="94">
                    <a:moveTo>
                      <a:pt x="4" y="0"/>
                    </a:moveTo>
                    <a:lnTo>
                      <a:pt x="111" y="0"/>
                    </a:lnTo>
                    <a:lnTo>
                      <a:pt x="120" y="27"/>
                    </a:lnTo>
                    <a:lnTo>
                      <a:pt x="93" y="27"/>
                    </a:lnTo>
                    <a:lnTo>
                      <a:pt x="93" y="53"/>
                    </a:lnTo>
                    <a:lnTo>
                      <a:pt x="200" y="53"/>
                    </a:lnTo>
                    <a:lnTo>
                      <a:pt x="204" y="94"/>
                    </a:lnTo>
                    <a:lnTo>
                      <a:pt x="71" y="94"/>
                    </a:lnTo>
                    <a:lnTo>
                      <a:pt x="80" y="40"/>
                    </a:lnTo>
                    <a:lnTo>
                      <a:pt x="0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14680" y="6138720"/>
                <a:ext cx="54360" cy="51120"/>
              </a:xfrm>
              <a:custGeom>
                <a:avLst/>
                <a:gdLst/>
                <a:ahLst/>
                <a:rect l="0" t="0" r="r" b="b"/>
                <a:pathLst>
                  <a:path w="151" h="142">
                    <a:moveTo>
                      <a:pt x="75" y="0"/>
                    </a:moveTo>
                    <a:lnTo>
                      <a:pt x="116" y="0"/>
                    </a:lnTo>
                    <a:lnTo>
                      <a:pt x="125" y="17"/>
                    </a:lnTo>
                    <a:lnTo>
                      <a:pt x="102" y="17"/>
                    </a:lnTo>
                    <a:lnTo>
                      <a:pt x="102" y="39"/>
                    </a:lnTo>
                    <a:lnTo>
                      <a:pt x="143" y="39"/>
                    </a:lnTo>
                    <a:lnTo>
                      <a:pt x="151" y="61"/>
                    </a:lnTo>
                    <a:lnTo>
                      <a:pt x="116" y="61"/>
                    </a:lnTo>
                    <a:lnTo>
                      <a:pt x="102" y="80"/>
                    </a:lnTo>
                    <a:lnTo>
                      <a:pt x="89" y="61"/>
                    </a:lnTo>
                    <a:lnTo>
                      <a:pt x="17" y="61"/>
                    </a:lnTo>
                    <a:lnTo>
                      <a:pt x="8" y="70"/>
                    </a:lnTo>
                    <a:lnTo>
                      <a:pt x="80" y="70"/>
                    </a:lnTo>
                    <a:lnTo>
                      <a:pt x="84" y="98"/>
                    </a:lnTo>
                    <a:lnTo>
                      <a:pt x="71" y="98"/>
                    </a:lnTo>
                    <a:lnTo>
                      <a:pt x="71" y="115"/>
                    </a:lnTo>
                    <a:lnTo>
                      <a:pt x="102" y="115"/>
                    </a:lnTo>
                    <a:lnTo>
                      <a:pt x="111" y="142"/>
                    </a:lnTo>
                    <a:lnTo>
                      <a:pt x="53" y="142"/>
                    </a:lnTo>
                    <a:lnTo>
                      <a:pt x="58" y="115"/>
                    </a:lnTo>
                    <a:lnTo>
                      <a:pt x="45" y="98"/>
                    </a:lnTo>
                    <a:lnTo>
                      <a:pt x="4" y="98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39"/>
                    </a:lnTo>
                    <a:lnTo>
                      <a:pt x="84" y="39"/>
                    </a:lnTo>
                    <a:lnTo>
                      <a:pt x="89" y="17"/>
                    </a:lnTo>
                    <a:lnTo>
                      <a:pt x="75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51400" y="6167520"/>
                <a:ext cx="232200" cy="46440"/>
              </a:xfrm>
              <a:custGeom>
                <a:avLst/>
                <a:gdLst/>
                <a:ahLst/>
                <a:rect l="0" t="0" r="r" b="b"/>
                <a:pathLst>
                  <a:path w="645" h="129">
                    <a:moveTo>
                      <a:pt x="4" y="0"/>
                    </a:moveTo>
                    <a:lnTo>
                      <a:pt x="44" y="0"/>
                    </a:lnTo>
                    <a:lnTo>
                      <a:pt x="44" y="22"/>
                    </a:lnTo>
                    <a:lnTo>
                      <a:pt x="26" y="22"/>
                    </a:lnTo>
                    <a:lnTo>
                      <a:pt x="26" y="36"/>
                    </a:lnTo>
                    <a:lnTo>
                      <a:pt x="66" y="36"/>
                    </a:lnTo>
                    <a:lnTo>
                      <a:pt x="79" y="62"/>
                    </a:lnTo>
                    <a:lnTo>
                      <a:pt x="39" y="62"/>
                    </a:lnTo>
                    <a:lnTo>
                      <a:pt x="52" y="89"/>
                    </a:lnTo>
                    <a:lnTo>
                      <a:pt x="628" y="89"/>
                    </a:lnTo>
                    <a:lnTo>
                      <a:pt x="645" y="129"/>
                    </a:lnTo>
                    <a:lnTo>
                      <a:pt x="26" y="129"/>
                    </a:lnTo>
                    <a:lnTo>
                      <a:pt x="26" y="89"/>
                    </a:lnTo>
                    <a:lnTo>
                      <a:pt x="13" y="62"/>
                    </a:lnTo>
                    <a:lnTo>
                      <a:pt x="17" y="36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65800" y="6138720"/>
                <a:ext cx="38520" cy="51120"/>
              </a:xfrm>
              <a:custGeom>
                <a:avLst/>
                <a:gdLst/>
                <a:ahLst/>
                <a:rect l="0" t="0" r="r" b="b"/>
                <a:pathLst>
                  <a:path w="107" h="142">
                    <a:moveTo>
                      <a:pt x="0" y="0"/>
                    </a:moveTo>
                    <a:lnTo>
                      <a:pt x="40" y="0"/>
                    </a:lnTo>
                    <a:lnTo>
                      <a:pt x="49" y="17"/>
                    </a:lnTo>
                    <a:lnTo>
                      <a:pt x="26" y="17"/>
                    </a:lnTo>
                    <a:lnTo>
                      <a:pt x="22" y="39"/>
                    </a:lnTo>
                    <a:lnTo>
                      <a:pt x="67" y="39"/>
                    </a:lnTo>
                    <a:lnTo>
                      <a:pt x="67" y="61"/>
                    </a:lnTo>
                    <a:lnTo>
                      <a:pt x="40" y="61"/>
                    </a:lnTo>
                    <a:lnTo>
                      <a:pt x="31" y="70"/>
                    </a:lnTo>
                    <a:lnTo>
                      <a:pt x="67" y="70"/>
                    </a:lnTo>
                    <a:lnTo>
                      <a:pt x="81" y="98"/>
                    </a:lnTo>
                    <a:lnTo>
                      <a:pt x="58" y="98"/>
                    </a:lnTo>
                    <a:lnTo>
                      <a:pt x="53" y="115"/>
                    </a:lnTo>
                    <a:lnTo>
                      <a:pt x="103" y="115"/>
                    </a:lnTo>
                    <a:lnTo>
                      <a:pt x="107" y="142"/>
                    </a:lnTo>
                    <a:lnTo>
                      <a:pt x="53" y="142"/>
                    </a:lnTo>
                    <a:lnTo>
                      <a:pt x="53" y="120"/>
                    </a:lnTo>
                    <a:lnTo>
                      <a:pt x="40" y="98"/>
                    </a:lnTo>
                    <a:lnTo>
                      <a:pt x="26" y="98"/>
                    </a:lnTo>
                    <a:lnTo>
                      <a:pt x="17" y="66"/>
                    </a:lnTo>
                    <a:lnTo>
                      <a:pt x="17" y="48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89560" y="6138720"/>
                <a:ext cx="36720" cy="51120"/>
              </a:xfrm>
              <a:custGeom>
                <a:avLst/>
                <a:gdLst/>
                <a:ahLst/>
                <a:rect l="0" t="0" r="r" b="b"/>
                <a:pathLst>
                  <a:path w="102" h="142">
                    <a:moveTo>
                      <a:pt x="0" y="0"/>
                    </a:moveTo>
                    <a:lnTo>
                      <a:pt x="39" y="0"/>
                    </a:lnTo>
                    <a:lnTo>
                      <a:pt x="44" y="17"/>
                    </a:lnTo>
                    <a:lnTo>
                      <a:pt x="26" y="17"/>
                    </a:lnTo>
                    <a:lnTo>
                      <a:pt x="26" y="39"/>
                    </a:lnTo>
                    <a:lnTo>
                      <a:pt x="67" y="39"/>
                    </a:lnTo>
                    <a:lnTo>
                      <a:pt x="67" y="61"/>
                    </a:lnTo>
                    <a:lnTo>
                      <a:pt x="30" y="61"/>
                    </a:lnTo>
                    <a:lnTo>
                      <a:pt x="30" y="70"/>
                    </a:lnTo>
                    <a:lnTo>
                      <a:pt x="67" y="70"/>
                    </a:lnTo>
                    <a:lnTo>
                      <a:pt x="71" y="98"/>
                    </a:lnTo>
                    <a:lnTo>
                      <a:pt x="58" y="98"/>
                    </a:lnTo>
                    <a:lnTo>
                      <a:pt x="58" y="115"/>
                    </a:lnTo>
                    <a:lnTo>
                      <a:pt x="93" y="115"/>
                    </a:lnTo>
                    <a:lnTo>
                      <a:pt x="102" y="142"/>
                    </a:lnTo>
                    <a:lnTo>
                      <a:pt x="48" y="142"/>
                    </a:lnTo>
                    <a:lnTo>
                      <a:pt x="48" y="120"/>
                    </a:lnTo>
                    <a:lnTo>
                      <a:pt x="30" y="98"/>
                    </a:lnTo>
                    <a:lnTo>
                      <a:pt x="26" y="98"/>
                    </a:lnTo>
                    <a:lnTo>
                      <a:pt x="17" y="61"/>
                    </a:lnTo>
                    <a:lnTo>
                      <a:pt x="8" y="39"/>
                    </a:lnTo>
                    <a:lnTo>
                      <a:pt x="8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510080" y="6138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63" y="0"/>
                    </a:lnTo>
                    <a:lnTo>
                      <a:pt x="72" y="36"/>
                    </a:lnTo>
                    <a:lnTo>
                      <a:pt x="36" y="36"/>
                    </a:lnTo>
                    <a:lnTo>
                      <a:pt x="27" y="72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519440" y="6151680"/>
                <a:ext cx="32040" cy="38520"/>
              </a:xfrm>
              <a:custGeom>
                <a:avLst/>
                <a:gdLst/>
                <a:ahLst/>
                <a:rect l="0" t="0" r="r" b="b"/>
                <a:pathLst>
                  <a:path w="89" h="107">
                    <a:moveTo>
                      <a:pt x="0" y="0"/>
                    </a:moveTo>
                    <a:lnTo>
                      <a:pt x="45" y="0"/>
                    </a:lnTo>
                    <a:lnTo>
                      <a:pt x="49" y="22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8" y="36"/>
                    </a:lnTo>
                    <a:lnTo>
                      <a:pt x="58" y="36"/>
                    </a:lnTo>
                    <a:lnTo>
                      <a:pt x="58" y="58"/>
                    </a:lnTo>
                    <a:lnTo>
                      <a:pt x="39" y="58"/>
                    </a:lnTo>
                    <a:lnTo>
                      <a:pt x="30" y="71"/>
                    </a:lnTo>
                    <a:lnTo>
                      <a:pt x="39" y="75"/>
                    </a:lnTo>
                    <a:lnTo>
                      <a:pt x="80" y="75"/>
                    </a:lnTo>
                    <a:lnTo>
                      <a:pt x="89" y="107"/>
                    </a:lnTo>
                    <a:lnTo>
                      <a:pt x="30" y="107"/>
                    </a:lnTo>
                    <a:lnTo>
                      <a:pt x="30" y="99"/>
                    </a:lnTo>
                    <a:lnTo>
                      <a:pt x="17" y="58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533840" y="6138720"/>
                <a:ext cx="41760" cy="51120"/>
              </a:xfrm>
              <a:custGeom>
                <a:avLst/>
                <a:gdLst/>
                <a:ahLst/>
                <a:rect l="0" t="0" r="r" b="b"/>
                <a:pathLst>
                  <a:path w="116" h="142">
                    <a:moveTo>
                      <a:pt x="0" y="0"/>
                    </a:moveTo>
                    <a:lnTo>
                      <a:pt x="40" y="0"/>
                    </a:lnTo>
                    <a:lnTo>
                      <a:pt x="40" y="17"/>
                    </a:lnTo>
                    <a:lnTo>
                      <a:pt x="31" y="17"/>
                    </a:lnTo>
                    <a:lnTo>
                      <a:pt x="26" y="39"/>
                    </a:lnTo>
                    <a:lnTo>
                      <a:pt x="31" y="39"/>
                    </a:lnTo>
                    <a:lnTo>
                      <a:pt x="71" y="39"/>
                    </a:lnTo>
                    <a:lnTo>
                      <a:pt x="71" y="61"/>
                    </a:lnTo>
                    <a:lnTo>
                      <a:pt x="40" y="61"/>
                    </a:lnTo>
                    <a:lnTo>
                      <a:pt x="40" y="70"/>
                    </a:lnTo>
                    <a:lnTo>
                      <a:pt x="80" y="70"/>
                    </a:lnTo>
                    <a:lnTo>
                      <a:pt x="80" y="98"/>
                    </a:lnTo>
                    <a:lnTo>
                      <a:pt x="71" y="98"/>
                    </a:lnTo>
                    <a:lnTo>
                      <a:pt x="58" y="115"/>
                    </a:lnTo>
                    <a:lnTo>
                      <a:pt x="107" y="115"/>
                    </a:lnTo>
                    <a:lnTo>
                      <a:pt x="116" y="142"/>
                    </a:lnTo>
                    <a:lnTo>
                      <a:pt x="58" y="142"/>
                    </a:lnTo>
                    <a:lnTo>
                      <a:pt x="58" y="120"/>
                    </a:lnTo>
                    <a:lnTo>
                      <a:pt x="40" y="98"/>
                    </a:lnTo>
                    <a:lnTo>
                      <a:pt x="31" y="98"/>
                    </a:lnTo>
                    <a:lnTo>
                      <a:pt x="31" y="61"/>
                    </a:lnTo>
                    <a:lnTo>
                      <a:pt x="31" y="57"/>
                    </a:lnTo>
                    <a:lnTo>
                      <a:pt x="8" y="48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557600" y="6138720"/>
                <a:ext cx="43200" cy="51120"/>
              </a:xfrm>
              <a:custGeom>
                <a:avLst/>
                <a:gdLst/>
                <a:ahLst/>
                <a:rect l="0" t="0" r="r" b="b"/>
                <a:pathLst>
                  <a:path w="120" h="142">
                    <a:moveTo>
                      <a:pt x="0" y="0"/>
                    </a:moveTo>
                    <a:lnTo>
                      <a:pt x="39" y="0"/>
                    </a:lnTo>
                    <a:lnTo>
                      <a:pt x="44" y="17"/>
                    </a:lnTo>
                    <a:lnTo>
                      <a:pt x="30" y="17"/>
                    </a:lnTo>
                    <a:lnTo>
                      <a:pt x="26" y="30"/>
                    </a:lnTo>
                    <a:lnTo>
                      <a:pt x="30" y="39"/>
                    </a:lnTo>
                    <a:lnTo>
                      <a:pt x="71" y="39"/>
                    </a:lnTo>
                    <a:lnTo>
                      <a:pt x="75" y="61"/>
                    </a:lnTo>
                    <a:lnTo>
                      <a:pt x="44" y="61"/>
                    </a:lnTo>
                    <a:lnTo>
                      <a:pt x="39" y="70"/>
                    </a:lnTo>
                    <a:lnTo>
                      <a:pt x="44" y="70"/>
                    </a:lnTo>
                    <a:lnTo>
                      <a:pt x="84" y="70"/>
                    </a:lnTo>
                    <a:lnTo>
                      <a:pt x="84" y="98"/>
                    </a:lnTo>
                    <a:lnTo>
                      <a:pt x="75" y="98"/>
                    </a:lnTo>
                    <a:lnTo>
                      <a:pt x="71" y="111"/>
                    </a:lnTo>
                    <a:lnTo>
                      <a:pt x="71" y="115"/>
                    </a:lnTo>
                    <a:lnTo>
                      <a:pt x="115" y="115"/>
                    </a:lnTo>
                    <a:lnTo>
                      <a:pt x="120" y="142"/>
                    </a:lnTo>
                    <a:lnTo>
                      <a:pt x="62" y="142"/>
                    </a:lnTo>
                    <a:lnTo>
                      <a:pt x="62" y="120"/>
                    </a:lnTo>
                    <a:lnTo>
                      <a:pt x="48" y="98"/>
                    </a:lnTo>
                    <a:lnTo>
                      <a:pt x="35" y="98"/>
                    </a:lnTo>
                    <a:lnTo>
                      <a:pt x="30" y="61"/>
                    </a:lnTo>
                    <a:lnTo>
                      <a:pt x="13" y="35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581360" y="6138720"/>
                <a:ext cx="44640" cy="51120"/>
              </a:xfrm>
              <a:custGeom>
                <a:avLst/>
                <a:gdLst/>
                <a:ahLst/>
                <a:rect l="0" t="0" r="r" b="b"/>
                <a:pathLst>
                  <a:path w="124" h="142">
                    <a:moveTo>
                      <a:pt x="0" y="0"/>
                    </a:moveTo>
                    <a:lnTo>
                      <a:pt x="39" y="0"/>
                    </a:lnTo>
                    <a:lnTo>
                      <a:pt x="44" y="17"/>
                    </a:lnTo>
                    <a:lnTo>
                      <a:pt x="22" y="17"/>
                    </a:lnTo>
                    <a:lnTo>
                      <a:pt x="22" y="39"/>
                    </a:lnTo>
                    <a:lnTo>
                      <a:pt x="30" y="39"/>
                    </a:lnTo>
                    <a:lnTo>
                      <a:pt x="67" y="39"/>
                    </a:lnTo>
                    <a:lnTo>
                      <a:pt x="67" y="61"/>
                    </a:lnTo>
                    <a:lnTo>
                      <a:pt x="44" y="61"/>
                    </a:lnTo>
                    <a:lnTo>
                      <a:pt x="39" y="70"/>
                    </a:lnTo>
                    <a:lnTo>
                      <a:pt x="84" y="70"/>
                    </a:lnTo>
                    <a:lnTo>
                      <a:pt x="89" y="98"/>
                    </a:lnTo>
                    <a:lnTo>
                      <a:pt x="67" y="98"/>
                    </a:lnTo>
                    <a:lnTo>
                      <a:pt x="61" y="115"/>
                    </a:lnTo>
                    <a:lnTo>
                      <a:pt x="67" y="115"/>
                    </a:lnTo>
                    <a:lnTo>
                      <a:pt x="115" y="115"/>
                    </a:lnTo>
                    <a:lnTo>
                      <a:pt x="124" y="142"/>
                    </a:lnTo>
                    <a:lnTo>
                      <a:pt x="61" y="142"/>
                    </a:lnTo>
                    <a:lnTo>
                      <a:pt x="57" y="115"/>
                    </a:lnTo>
                    <a:lnTo>
                      <a:pt x="44" y="98"/>
                    </a:lnTo>
                    <a:lnTo>
                      <a:pt x="30" y="98"/>
                    </a:lnTo>
                    <a:lnTo>
                      <a:pt x="22" y="57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03680" y="6138720"/>
                <a:ext cx="44640" cy="51120"/>
              </a:xfrm>
              <a:custGeom>
                <a:avLst/>
                <a:gdLst/>
                <a:ahLst/>
                <a:rect l="0" t="0" r="r" b="b"/>
                <a:pathLst>
                  <a:path w="124" h="142">
                    <a:moveTo>
                      <a:pt x="0" y="0"/>
                    </a:moveTo>
                    <a:lnTo>
                      <a:pt x="39" y="0"/>
                    </a:lnTo>
                    <a:lnTo>
                      <a:pt x="48" y="17"/>
                    </a:lnTo>
                    <a:lnTo>
                      <a:pt x="26" y="17"/>
                    </a:lnTo>
                    <a:lnTo>
                      <a:pt x="26" y="44"/>
                    </a:lnTo>
                    <a:lnTo>
                      <a:pt x="26" y="39"/>
                    </a:lnTo>
                    <a:lnTo>
                      <a:pt x="75" y="39"/>
                    </a:lnTo>
                    <a:lnTo>
                      <a:pt x="75" y="61"/>
                    </a:lnTo>
                    <a:lnTo>
                      <a:pt x="48" y="61"/>
                    </a:lnTo>
                    <a:lnTo>
                      <a:pt x="39" y="70"/>
                    </a:lnTo>
                    <a:lnTo>
                      <a:pt x="80" y="70"/>
                    </a:lnTo>
                    <a:lnTo>
                      <a:pt x="84" y="98"/>
                    </a:lnTo>
                    <a:lnTo>
                      <a:pt x="75" y="98"/>
                    </a:lnTo>
                    <a:lnTo>
                      <a:pt x="75" y="106"/>
                    </a:lnTo>
                    <a:lnTo>
                      <a:pt x="75" y="115"/>
                    </a:lnTo>
                    <a:lnTo>
                      <a:pt x="120" y="115"/>
                    </a:lnTo>
                    <a:lnTo>
                      <a:pt x="124" y="142"/>
                    </a:lnTo>
                    <a:lnTo>
                      <a:pt x="75" y="142"/>
                    </a:lnTo>
                    <a:lnTo>
                      <a:pt x="57" y="115"/>
                    </a:lnTo>
                    <a:lnTo>
                      <a:pt x="48" y="98"/>
                    </a:lnTo>
                    <a:lnTo>
                      <a:pt x="30" y="98"/>
                    </a:lnTo>
                    <a:lnTo>
                      <a:pt x="8" y="39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6000" y="6138720"/>
                <a:ext cx="49680" cy="51120"/>
              </a:xfrm>
              <a:custGeom>
                <a:avLst/>
                <a:gdLst/>
                <a:ahLst/>
                <a:rect l="0" t="0" r="r" b="b"/>
                <a:pathLst>
                  <a:path w="138" h="142">
                    <a:moveTo>
                      <a:pt x="4" y="0"/>
                    </a:moveTo>
                    <a:lnTo>
                      <a:pt x="45" y="0"/>
                    </a:lnTo>
                    <a:lnTo>
                      <a:pt x="45" y="17"/>
                    </a:lnTo>
                    <a:lnTo>
                      <a:pt x="30" y="17"/>
                    </a:lnTo>
                    <a:lnTo>
                      <a:pt x="22" y="17"/>
                    </a:lnTo>
                    <a:lnTo>
                      <a:pt x="30" y="39"/>
                    </a:lnTo>
                    <a:lnTo>
                      <a:pt x="71" y="39"/>
                    </a:lnTo>
                    <a:lnTo>
                      <a:pt x="75" y="61"/>
                    </a:lnTo>
                    <a:lnTo>
                      <a:pt x="49" y="61"/>
                    </a:lnTo>
                    <a:lnTo>
                      <a:pt x="45" y="70"/>
                    </a:lnTo>
                    <a:lnTo>
                      <a:pt x="93" y="70"/>
                    </a:lnTo>
                    <a:lnTo>
                      <a:pt x="93" y="98"/>
                    </a:lnTo>
                    <a:lnTo>
                      <a:pt x="84" y="98"/>
                    </a:lnTo>
                    <a:lnTo>
                      <a:pt x="75" y="102"/>
                    </a:lnTo>
                    <a:lnTo>
                      <a:pt x="84" y="115"/>
                    </a:lnTo>
                    <a:lnTo>
                      <a:pt x="125" y="115"/>
                    </a:lnTo>
                    <a:lnTo>
                      <a:pt x="138" y="142"/>
                    </a:lnTo>
                    <a:lnTo>
                      <a:pt x="75" y="142"/>
                    </a:lnTo>
                    <a:lnTo>
                      <a:pt x="62" y="120"/>
                    </a:lnTo>
                    <a:lnTo>
                      <a:pt x="53" y="98"/>
                    </a:lnTo>
                    <a:lnTo>
                      <a:pt x="36" y="98"/>
                    </a:lnTo>
                    <a:lnTo>
                      <a:pt x="17" y="44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51200" y="6138720"/>
                <a:ext cx="33840" cy="41760"/>
              </a:xfrm>
              <a:custGeom>
                <a:avLst/>
                <a:gdLst/>
                <a:ahLst/>
                <a:rect l="0" t="0" r="r" b="b"/>
                <a:pathLst>
                  <a:path w="94" h="116">
                    <a:moveTo>
                      <a:pt x="0" y="0"/>
                    </a:moveTo>
                    <a:lnTo>
                      <a:pt x="45" y="0"/>
                    </a:lnTo>
                    <a:lnTo>
                      <a:pt x="45" y="17"/>
                    </a:lnTo>
                    <a:lnTo>
                      <a:pt x="27" y="17"/>
                    </a:lnTo>
                    <a:lnTo>
                      <a:pt x="22" y="36"/>
                    </a:lnTo>
                    <a:lnTo>
                      <a:pt x="27" y="40"/>
                    </a:lnTo>
                    <a:lnTo>
                      <a:pt x="62" y="40"/>
                    </a:lnTo>
                    <a:lnTo>
                      <a:pt x="67" y="62"/>
                    </a:lnTo>
                    <a:lnTo>
                      <a:pt x="45" y="62"/>
                    </a:lnTo>
                    <a:lnTo>
                      <a:pt x="40" y="80"/>
                    </a:lnTo>
                    <a:lnTo>
                      <a:pt x="81" y="80"/>
                    </a:lnTo>
                    <a:lnTo>
                      <a:pt x="85" y="90"/>
                    </a:lnTo>
                    <a:lnTo>
                      <a:pt x="94" y="99"/>
                    </a:lnTo>
                    <a:lnTo>
                      <a:pt x="72" y="99"/>
                    </a:lnTo>
                    <a:lnTo>
                      <a:pt x="62" y="116"/>
                    </a:lnTo>
                    <a:lnTo>
                      <a:pt x="49" y="99"/>
                    </a:lnTo>
                    <a:lnTo>
                      <a:pt x="40" y="99"/>
                    </a:lnTo>
                    <a:lnTo>
                      <a:pt x="22" y="58"/>
                    </a:lnTo>
                    <a:lnTo>
                      <a:pt x="17" y="49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675320" y="6138720"/>
                <a:ext cx="32040" cy="44640"/>
              </a:xfrm>
              <a:custGeom>
                <a:avLst/>
                <a:gdLst/>
                <a:ahLst/>
                <a:rect l="0" t="0" r="r" b="b"/>
                <a:pathLst>
                  <a:path w="89" h="124">
                    <a:moveTo>
                      <a:pt x="0" y="0"/>
                    </a:moveTo>
                    <a:lnTo>
                      <a:pt x="35" y="0"/>
                    </a:lnTo>
                    <a:lnTo>
                      <a:pt x="39" y="17"/>
                    </a:lnTo>
                    <a:lnTo>
                      <a:pt x="22" y="17"/>
                    </a:lnTo>
                    <a:lnTo>
                      <a:pt x="26" y="39"/>
                    </a:lnTo>
                    <a:lnTo>
                      <a:pt x="58" y="39"/>
                    </a:lnTo>
                    <a:lnTo>
                      <a:pt x="58" y="61"/>
                    </a:lnTo>
                    <a:lnTo>
                      <a:pt x="39" y="61"/>
                    </a:lnTo>
                    <a:lnTo>
                      <a:pt x="39" y="71"/>
                    </a:lnTo>
                    <a:lnTo>
                      <a:pt x="84" y="71"/>
                    </a:lnTo>
                    <a:lnTo>
                      <a:pt x="89" y="98"/>
                    </a:lnTo>
                    <a:lnTo>
                      <a:pt x="75" y="98"/>
                    </a:lnTo>
                    <a:lnTo>
                      <a:pt x="71" y="124"/>
                    </a:lnTo>
                    <a:lnTo>
                      <a:pt x="58" y="98"/>
                    </a:lnTo>
                    <a:lnTo>
                      <a:pt x="35" y="98"/>
                    </a:lnTo>
                    <a:lnTo>
                      <a:pt x="22" y="61"/>
                    </a:lnTo>
                    <a:lnTo>
                      <a:pt x="8" y="48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695840" y="6138720"/>
                <a:ext cx="33840" cy="35280"/>
              </a:xfrm>
              <a:custGeom>
                <a:avLst/>
                <a:gdLst/>
                <a:ahLst/>
                <a:rect l="0" t="0" r="r" b="b"/>
                <a:pathLst>
                  <a:path w="94" h="98">
                    <a:moveTo>
                      <a:pt x="0" y="0"/>
                    </a:moveTo>
                    <a:lnTo>
                      <a:pt x="31" y="0"/>
                    </a:lnTo>
                    <a:lnTo>
                      <a:pt x="40" y="17"/>
                    </a:lnTo>
                    <a:lnTo>
                      <a:pt x="27" y="17"/>
                    </a:lnTo>
                    <a:lnTo>
                      <a:pt x="17" y="35"/>
                    </a:lnTo>
                    <a:lnTo>
                      <a:pt x="40" y="35"/>
                    </a:lnTo>
                    <a:lnTo>
                      <a:pt x="62" y="35"/>
                    </a:lnTo>
                    <a:lnTo>
                      <a:pt x="81" y="62"/>
                    </a:lnTo>
                    <a:lnTo>
                      <a:pt x="45" y="62"/>
                    </a:lnTo>
                    <a:lnTo>
                      <a:pt x="40" y="75"/>
                    </a:lnTo>
                    <a:lnTo>
                      <a:pt x="90" y="75"/>
                    </a:lnTo>
                    <a:lnTo>
                      <a:pt x="94" y="98"/>
                    </a:lnTo>
                    <a:lnTo>
                      <a:pt x="45" y="98"/>
                    </a:lnTo>
                    <a:lnTo>
                      <a:pt x="27" y="80"/>
                    </a:lnTo>
                    <a:lnTo>
                      <a:pt x="27" y="53"/>
                    </a:lnTo>
                    <a:lnTo>
                      <a:pt x="13" y="44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78200" y="6138720"/>
                <a:ext cx="84600" cy="65520"/>
              </a:xfrm>
              <a:custGeom>
                <a:avLst/>
                <a:gdLst/>
                <a:ahLst/>
                <a:rect l="0" t="0" r="r" b="b"/>
                <a:pathLst>
                  <a:path w="235" h="182">
                    <a:moveTo>
                      <a:pt x="115" y="0"/>
                    </a:moveTo>
                    <a:lnTo>
                      <a:pt x="191" y="0"/>
                    </a:lnTo>
                    <a:lnTo>
                      <a:pt x="191" y="17"/>
                    </a:lnTo>
                    <a:lnTo>
                      <a:pt x="150" y="17"/>
                    </a:lnTo>
                    <a:lnTo>
                      <a:pt x="155" y="39"/>
                    </a:lnTo>
                    <a:lnTo>
                      <a:pt x="164" y="71"/>
                    </a:lnTo>
                    <a:lnTo>
                      <a:pt x="204" y="71"/>
                    </a:lnTo>
                    <a:lnTo>
                      <a:pt x="222" y="44"/>
                    </a:lnTo>
                    <a:lnTo>
                      <a:pt x="235" y="111"/>
                    </a:lnTo>
                    <a:lnTo>
                      <a:pt x="196" y="111"/>
                    </a:lnTo>
                    <a:lnTo>
                      <a:pt x="196" y="165"/>
                    </a:lnTo>
                    <a:lnTo>
                      <a:pt x="22" y="165"/>
                    </a:lnTo>
                    <a:lnTo>
                      <a:pt x="17" y="182"/>
                    </a:lnTo>
                    <a:lnTo>
                      <a:pt x="0" y="147"/>
                    </a:lnTo>
                    <a:lnTo>
                      <a:pt x="8" y="111"/>
                    </a:lnTo>
                    <a:lnTo>
                      <a:pt x="48" y="111"/>
                    </a:lnTo>
                    <a:lnTo>
                      <a:pt x="67" y="143"/>
                    </a:lnTo>
                    <a:lnTo>
                      <a:pt x="71" y="111"/>
                    </a:lnTo>
                    <a:lnTo>
                      <a:pt x="178" y="111"/>
                    </a:lnTo>
                    <a:lnTo>
                      <a:pt x="178" y="102"/>
                    </a:lnTo>
                    <a:lnTo>
                      <a:pt x="155" y="71"/>
                    </a:lnTo>
                    <a:lnTo>
                      <a:pt x="150" y="58"/>
                    </a:lnTo>
                    <a:lnTo>
                      <a:pt x="133" y="39"/>
                    </a:lnTo>
                    <a:lnTo>
                      <a:pt x="128" y="17"/>
                    </a:lnTo>
                    <a:lnTo>
                      <a:pt x="111" y="17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791240" y="6138720"/>
                <a:ext cx="60840" cy="25920"/>
              </a:xfrm>
              <a:custGeom>
                <a:avLst/>
                <a:gdLst/>
                <a:ahLst/>
                <a:rect l="0" t="0" r="r" b="b"/>
                <a:pathLst>
                  <a:path w="169" h="72">
                    <a:moveTo>
                      <a:pt x="0" y="0"/>
                    </a:moveTo>
                    <a:lnTo>
                      <a:pt x="45" y="0"/>
                    </a:lnTo>
                    <a:lnTo>
                      <a:pt x="58" y="17"/>
                    </a:lnTo>
                    <a:lnTo>
                      <a:pt x="67" y="0"/>
                    </a:lnTo>
                    <a:lnTo>
                      <a:pt x="115" y="0"/>
                    </a:lnTo>
                    <a:lnTo>
                      <a:pt x="115" y="27"/>
                    </a:lnTo>
                    <a:lnTo>
                      <a:pt x="129" y="0"/>
                    </a:lnTo>
                    <a:lnTo>
                      <a:pt x="169" y="0"/>
                    </a:lnTo>
                    <a:lnTo>
                      <a:pt x="169" y="27"/>
                    </a:lnTo>
                    <a:lnTo>
                      <a:pt x="129" y="27"/>
                    </a:lnTo>
                    <a:lnTo>
                      <a:pt x="115" y="72"/>
                    </a:lnTo>
                    <a:lnTo>
                      <a:pt x="98" y="27"/>
                    </a:lnTo>
                    <a:lnTo>
                      <a:pt x="67" y="27"/>
                    </a:lnTo>
                    <a:lnTo>
                      <a:pt x="58" y="72"/>
                    </a:lnTo>
                    <a:lnTo>
                      <a:pt x="3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91240" y="61516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72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62" y="40"/>
                    </a:lnTo>
                    <a:lnTo>
                      <a:pt x="62" y="27"/>
                    </a:lnTo>
                    <a:lnTo>
                      <a:pt x="71" y="0"/>
                    </a:lnTo>
                    <a:lnTo>
                      <a:pt x="111" y="0"/>
                    </a:lnTo>
                    <a:lnTo>
                      <a:pt x="124" y="40"/>
                    </a:lnTo>
                    <a:lnTo>
                      <a:pt x="138" y="0"/>
                    </a:lnTo>
                    <a:lnTo>
                      <a:pt x="178" y="0"/>
                    </a:lnTo>
                    <a:lnTo>
                      <a:pt x="182" y="72"/>
                    </a:lnTo>
                    <a:lnTo>
                      <a:pt x="128" y="72"/>
                    </a:lnTo>
                    <a:lnTo>
                      <a:pt x="102" y="72"/>
                    </a:lnTo>
                    <a:lnTo>
                      <a:pt x="71" y="72"/>
                    </a:lnTo>
                    <a:lnTo>
                      <a:pt x="3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99160" y="6167520"/>
                <a:ext cx="68760" cy="33840"/>
              </a:xfrm>
              <a:custGeom>
                <a:avLst/>
                <a:gdLst/>
                <a:ahLst/>
                <a:rect l="0" t="0" r="r" b="b"/>
                <a:pathLst>
                  <a:path w="191" h="94">
                    <a:moveTo>
                      <a:pt x="62" y="0"/>
                    </a:moveTo>
                    <a:lnTo>
                      <a:pt x="102" y="0"/>
                    </a:lnTo>
                    <a:lnTo>
                      <a:pt x="106" y="22"/>
                    </a:lnTo>
                    <a:lnTo>
                      <a:pt x="75" y="22"/>
                    </a:lnTo>
                    <a:lnTo>
                      <a:pt x="75" y="58"/>
                    </a:lnTo>
                    <a:lnTo>
                      <a:pt x="111" y="58"/>
                    </a:lnTo>
                    <a:lnTo>
                      <a:pt x="124" y="72"/>
                    </a:lnTo>
                    <a:lnTo>
                      <a:pt x="133" y="58"/>
                    </a:lnTo>
                    <a:lnTo>
                      <a:pt x="178" y="58"/>
                    </a:lnTo>
                    <a:lnTo>
                      <a:pt x="191" y="94"/>
                    </a:lnTo>
                    <a:lnTo>
                      <a:pt x="0" y="94"/>
                    </a:lnTo>
                    <a:lnTo>
                      <a:pt x="0" y="58"/>
                    </a:lnTo>
                    <a:lnTo>
                      <a:pt x="53" y="58"/>
                    </a:lnTo>
                    <a:lnTo>
                      <a:pt x="58" y="76"/>
                    </a:lnTo>
                    <a:lnTo>
                      <a:pt x="62" y="58"/>
                    </a:lnTo>
                    <a:lnTo>
                      <a:pt x="53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79800" y="6138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7" y="0"/>
                    </a:moveTo>
                    <a:lnTo>
                      <a:pt x="59" y="0"/>
                    </a:lnTo>
                    <a:lnTo>
                      <a:pt x="72" y="36"/>
                    </a:lnTo>
                    <a:lnTo>
                      <a:pt x="13" y="36"/>
                    </a:lnTo>
                    <a:lnTo>
                      <a:pt x="0" y="7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903920" y="613872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22" y="0"/>
                    </a:moveTo>
                    <a:lnTo>
                      <a:pt x="45" y="0"/>
                    </a:lnTo>
                    <a:lnTo>
                      <a:pt x="62" y="27"/>
                    </a:lnTo>
                    <a:lnTo>
                      <a:pt x="67" y="0"/>
                    </a:lnTo>
                    <a:lnTo>
                      <a:pt x="102" y="0"/>
                    </a:lnTo>
                    <a:lnTo>
                      <a:pt x="115" y="27"/>
                    </a:lnTo>
                    <a:lnTo>
                      <a:pt x="124" y="0"/>
                    </a:lnTo>
                    <a:lnTo>
                      <a:pt x="169" y="0"/>
                    </a:lnTo>
                    <a:lnTo>
                      <a:pt x="173" y="27"/>
                    </a:lnTo>
                    <a:lnTo>
                      <a:pt x="128" y="27"/>
                    </a:lnTo>
                    <a:lnTo>
                      <a:pt x="111" y="27"/>
                    </a:lnTo>
                    <a:lnTo>
                      <a:pt x="106" y="27"/>
                    </a:lnTo>
                    <a:lnTo>
                      <a:pt x="67" y="27"/>
                    </a:lnTo>
                    <a:lnTo>
                      <a:pt x="53" y="72"/>
                    </a:lnTo>
                    <a:lnTo>
                      <a:pt x="30" y="27"/>
                    </a:lnTo>
                    <a:lnTo>
                      <a:pt x="4" y="27"/>
                    </a:lnTo>
                    <a:lnTo>
                      <a:pt x="0" y="4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84840" y="6151680"/>
                <a:ext cx="90720" cy="25920"/>
              </a:xfrm>
              <a:custGeom>
                <a:avLst/>
                <a:gdLst/>
                <a:ahLst/>
                <a:rect l="0" t="0" r="r" b="b"/>
                <a:pathLst>
                  <a:path w="252" h="72">
                    <a:moveTo>
                      <a:pt x="4" y="0"/>
                    </a:moveTo>
                    <a:lnTo>
                      <a:pt x="48" y="0"/>
                    </a:lnTo>
                    <a:lnTo>
                      <a:pt x="61" y="40"/>
                    </a:lnTo>
                    <a:lnTo>
                      <a:pt x="74" y="0"/>
                    </a:lnTo>
                    <a:lnTo>
                      <a:pt x="114" y="0"/>
                    </a:lnTo>
                    <a:lnTo>
                      <a:pt x="133" y="40"/>
                    </a:lnTo>
                    <a:lnTo>
                      <a:pt x="137" y="0"/>
                    </a:lnTo>
                    <a:lnTo>
                      <a:pt x="177" y="0"/>
                    </a:lnTo>
                    <a:lnTo>
                      <a:pt x="195" y="40"/>
                    </a:lnTo>
                    <a:lnTo>
                      <a:pt x="212" y="0"/>
                    </a:lnTo>
                    <a:lnTo>
                      <a:pt x="243" y="0"/>
                    </a:lnTo>
                    <a:lnTo>
                      <a:pt x="252" y="72"/>
                    </a:lnTo>
                    <a:lnTo>
                      <a:pt x="0" y="7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892760" y="6167520"/>
                <a:ext cx="60840" cy="33840"/>
              </a:xfrm>
              <a:custGeom>
                <a:avLst/>
                <a:gdLst/>
                <a:ahLst/>
                <a:rect l="0" t="0" r="r" b="b"/>
                <a:pathLst>
                  <a:path w="169" h="94">
                    <a:moveTo>
                      <a:pt x="13" y="0"/>
                    </a:moveTo>
                    <a:lnTo>
                      <a:pt x="45" y="0"/>
                    </a:lnTo>
                    <a:lnTo>
                      <a:pt x="67" y="17"/>
                    </a:lnTo>
                    <a:lnTo>
                      <a:pt x="80" y="0"/>
                    </a:lnTo>
                    <a:lnTo>
                      <a:pt x="115" y="0"/>
                    </a:lnTo>
                    <a:lnTo>
                      <a:pt x="129" y="17"/>
                    </a:lnTo>
                    <a:lnTo>
                      <a:pt x="147" y="0"/>
                    </a:lnTo>
                    <a:lnTo>
                      <a:pt x="169" y="0"/>
                    </a:lnTo>
                    <a:lnTo>
                      <a:pt x="169" y="27"/>
                    </a:lnTo>
                    <a:lnTo>
                      <a:pt x="129" y="45"/>
                    </a:lnTo>
                    <a:lnTo>
                      <a:pt x="147" y="72"/>
                    </a:lnTo>
                    <a:lnTo>
                      <a:pt x="13" y="72"/>
                    </a:lnTo>
                    <a:lnTo>
                      <a:pt x="0" y="94"/>
                    </a:lnTo>
                    <a:lnTo>
                      <a:pt x="13" y="45"/>
                    </a:lnTo>
                    <a:lnTo>
                      <a:pt x="67" y="45"/>
                    </a:lnTo>
                    <a:lnTo>
                      <a:pt x="80" y="67"/>
                    </a:lnTo>
                    <a:lnTo>
                      <a:pt x="98" y="45"/>
                    </a:lnTo>
                    <a:lnTo>
                      <a:pt x="129" y="45"/>
                    </a:lnTo>
                    <a:lnTo>
                      <a:pt x="115" y="27"/>
                    </a:lnTo>
                    <a:lnTo>
                      <a:pt x="0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894200" y="6183360"/>
                <a:ext cx="101880" cy="30600"/>
              </a:xfrm>
              <a:custGeom>
                <a:avLst/>
                <a:gdLst/>
                <a:ahLst/>
                <a:rect l="0" t="0" r="r" b="b"/>
                <a:pathLst>
                  <a:path w="283" h="85">
                    <a:moveTo>
                      <a:pt x="4" y="45"/>
                    </a:moveTo>
                    <a:lnTo>
                      <a:pt x="127" y="45"/>
                    </a:lnTo>
                    <a:lnTo>
                      <a:pt x="146" y="27"/>
                    </a:lnTo>
                    <a:lnTo>
                      <a:pt x="146" y="0"/>
                    </a:lnTo>
                    <a:lnTo>
                      <a:pt x="195" y="0"/>
                    </a:lnTo>
                    <a:lnTo>
                      <a:pt x="195" y="27"/>
                    </a:lnTo>
                    <a:lnTo>
                      <a:pt x="159" y="27"/>
                    </a:lnTo>
                    <a:lnTo>
                      <a:pt x="146" y="45"/>
                    </a:lnTo>
                    <a:lnTo>
                      <a:pt x="159" y="72"/>
                    </a:lnTo>
                    <a:lnTo>
                      <a:pt x="181" y="45"/>
                    </a:lnTo>
                    <a:lnTo>
                      <a:pt x="208" y="45"/>
                    </a:lnTo>
                    <a:lnTo>
                      <a:pt x="230" y="72"/>
                    </a:lnTo>
                    <a:lnTo>
                      <a:pt x="239" y="45"/>
                    </a:lnTo>
                    <a:lnTo>
                      <a:pt x="265" y="45"/>
                    </a:lnTo>
                    <a:lnTo>
                      <a:pt x="283" y="85"/>
                    </a:lnTo>
                    <a:lnTo>
                      <a:pt x="0" y="85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676760" y="611352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4" y="0"/>
                    </a:lnTo>
                    <a:lnTo>
                      <a:pt x="235" y="0"/>
                    </a:lnTo>
                    <a:lnTo>
                      <a:pt x="244" y="72"/>
                    </a:lnTo>
                    <a:lnTo>
                      <a:pt x="0" y="72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543560" y="6113520"/>
                <a:ext cx="117720" cy="25920"/>
              </a:xfrm>
              <a:custGeom>
                <a:avLst/>
                <a:gdLst/>
                <a:ahLst/>
                <a:rect l="0" t="0" r="r" b="b"/>
                <a:pathLst>
                  <a:path w="327" h="72">
                    <a:moveTo>
                      <a:pt x="0" y="0"/>
                    </a:moveTo>
                    <a:lnTo>
                      <a:pt x="4" y="0"/>
                    </a:lnTo>
                    <a:lnTo>
                      <a:pt x="314" y="0"/>
                    </a:lnTo>
                    <a:lnTo>
                      <a:pt x="327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435560" y="6113520"/>
                <a:ext cx="92520" cy="25920"/>
              </a:xfrm>
              <a:custGeom>
                <a:avLst/>
                <a:gdLst/>
                <a:ahLst/>
                <a:rect l="0" t="0" r="r" b="b"/>
                <a:pathLst>
                  <a:path w="257" h="72">
                    <a:moveTo>
                      <a:pt x="0" y="0"/>
                    </a:moveTo>
                    <a:lnTo>
                      <a:pt x="244" y="0"/>
                    </a:lnTo>
                    <a:lnTo>
                      <a:pt x="257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776840" y="611352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4" y="0"/>
                    </a:lnTo>
                    <a:lnTo>
                      <a:pt x="235" y="0"/>
                    </a:lnTo>
                    <a:lnTo>
                      <a:pt x="244" y="72"/>
                    </a:lnTo>
                    <a:lnTo>
                      <a:pt x="0" y="72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888080" y="611352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4" y="0"/>
                    </a:lnTo>
                    <a:lnTo>
                      <a:pt x="235" y="0"/>
                    </a:lnTo>
                    <a:lnTo>
                      <a:pt x="244" y="72"/>
                    </a:lnTo>
                    <a:lnTo>
                      <a:pt x="0" y="72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468680" y="5562720"/>
                <a:ext cx="428760" cy="392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502160" y="5602320"/>
                <a:ext cx="361800" cy="29844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495680" y="5599080"/>
                <a:ext cx="378360" cy="25920"/>
              </a:xfrm>
              <a:custGeom>
                <a:avLst/>
                <a:gdLst/>
                <a:ahLst/>
                <a:rect l="0" t="0" r="r" b="b"/>
                <a:pathLst>
                  <a:path w="1051" h="72">
                    <a:moveTo>
                      <a:pt x="0" y="0"/>
                    </a:moveTo>
                    <a:lnTo>
                      <a:pt x="57" y="72"/>
                    </a:lnTo>
                    <a:lnTo>
                      <a:pt x="875" y="63"/>
                    </a:lnTo>
                    <a:lnTo>
                      <a:pt x="976" y="72"/>
                    </a:lnTo>
                    <a:lnTo>
                      <a:pt x="10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495680" y="5599080"/>
                <a:ext cx="25920" cy="313200"/>
              </a:xfrm>
              <a:custGeom>
                <a:avLst/>
                <a:gdLst/>
                <a:ahLst/>
                <a:rect l="0" t="0" r="r" b="b"/>
                <a:pathLst>
                  <a:path w="72" h="870">
                    <a:moveTo>
                      <a:pt x="0" y="0"/>
                    </a:moveTo>
                    <a:lnTo>
                      <a:pt x="72" y="57"/>
                    </a:lnTo>
                    <a:lnTo>
                      <a:pt x="72" y="813"/>
                    </a:lnTo>
                    <a:lnTo>
                      <a:pt x="0" y="8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495680" y="5891040"/>
                <a:ext cx="378360" cy="25920"/>
              </a:xfrm>
              <a:custGeom>
                <a:avLst/>
                <a:gdLst/>
                <a:ahLst/>
                <a:rect l="0" t="0" r="r" b="b"/>
                <a:pathLst>
                  <a:path w="1051" h="72">
                    <a:moveTo>
                      <a:pt x="0" y="72"/>
                    </a:moveTo>
                    <a:lnTo>
                      <a:pt x="57" y="0"/>
                    </a:lnTo>
                    <a:lnTo>
                      <a:pt x="875" y="0"/>
                    </a:lnTo>
                    <a:lnTo>
                      <a:pt x="985" y="0"/>
                    </a:lnTo>
                    <a:lnTo>
                      <a:pt x="105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849920" y="5599080"/>
                <a:ext cx="25920" cy="313200"/>
              </a:xfrm>
              <a:custGeom>
                <a:avLst/>
                <a:gdLst/>
                <a:ahLst/>
                <a:rect l="0" t="0" r="r" b="b"/>
                <a:pathLst>
                  <a:path w="72" h="870">
                    <a:moveTo>
                      <a:pt x="72" y="0"/>
                    </a:moveTo>
                    <a:lnTo>
                      <a:pt x="0" y="57"/>
                    </a:lnTo>
                    <a:lnTo>
                      <a:pt x="0" y="813"/>
                    </a:lnTo>
                    <a:lnTo>
                      <a:pt x="72" y="87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4" name="" descr=""/>
            <p:cNvPicPr/>
            <p:nvPr/>
          </p:nvPicPr>
          <p:blipFill>
            <a:blip r:embed="rId6"/>
            <a:stretch/>
          </p:blipFill>
          <p:spPr>
            <a:xfrm>
              <a:off x="4570560" y="5635800"/>
              <a:ext cx="257040" cy="2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5" name=""/>
          <p:cNvSpPr/>
          <p:nvPr/>
        </p:nvSpPr>
        <p:spPr>
          <a:xfrm flipV="1">
            <a:off x="4890960" y="5170320"/>
            <a:ext cx="276480" cy="4035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4176720" y="6248520"/>
            <a:ext cx="1117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ran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547560" y="21924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e Study - Application Server for Internet-based Trad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54756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 Server Case Study demonstrate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HTTP requests can be processed by using Java/CORBA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“home grown” 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se of Java “Servlets” as replacements for cgi-b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Servlet is just server-side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se of CORBA Services such as 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ynchronous / Asynchronous request processing using Message-oriented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egacy encapsulation using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47560" y="2192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terprise Goals an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7560" y="1523880"/>
            <a:ext cx="85201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9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siness is glo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9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siness data is sprea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9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parate systems need to be integrated and hence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9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ynchronous exchange of information becomes more  mainstr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ance and time differences are one of the drivers for  asynchronous exchange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nt-driven information, exchange of information is necessary and it reflects the corporate bottom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siness event models’ are e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ccessful data exchange creates business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ustomer care’ is forcing a single, near real-time view of th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 integrati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38088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, CORBA, IIOP and MOM - a Cas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812880" y="1650960"/>
            <a:ext cx="540000" cy="540000"/>
          </a:xfrm>
          <a:custGeom>
            <a:avLst/>
            <a:gdLst/>
            <a:ahLst/>
            <a:rect l="0" t="0" r="r" b="b"/>
            <a:pathLst>
              <a:path w="1500" h="1500">
                <a:moveTo>
                  <a:pt x="123" y="869"/>
                </a:moveTo>
                <a:lnTo>
                  <a:pt x="123" y="0"/>
                </a:lnTo>
                <a:lnTo>
                  <a:pt x="1368" y="0"/>
                </a:lnTo>
                <a:lnTo>
                  <a:pt x="1368" y="869"/>
                </a:lnTo>
                <a:lnTo>
                  <a:pt x="1500" y="1368"/>
                </a:lnTo>
                <a:lnTo>
                  <a:pt x="1500" y="1500"/>
                </a:lnTo>
                <a:lnTo>
                  <a:pt x="0" y="1500"/>
                </a:lnTo>
                <a:lnTo>
                  <a:pt x="0" y="1368"/>
                </a:lnTo>
                <a:lnTo>
                  <a:pt x="123" y="869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57160" y="1963800"/>
            <a:ext cx="447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812880" y="2143080"/>
            <a:ext cx="539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833400" y="1998720"/>
            <a:ext cx="495720" cy="124200"/>
          </a:xfrm>
          <a:custGeom>
            <a:avLst/>
            <a:gdLst/>
            <a:ahLst/>
            <a:rect l="0" t="0" r="r" b="b"/>
            <a:pathLst>
              <a:path w="1377" h="345">
                <a:moveTo>
                  <a:pt x="74" y="57"/>
                </a:moveTo>
                <a:lnTo>
                  <a:pt x="88" y="0"/>
                </a:lnTo>
                <a:lnTo>
                  <a:pt x="1289" y="0"/>
                </a:lnTo>
                <a:lnTo>
                  <a:pt x="1311" y="57"/>
                </a:lnTo>
                <a:lnTo>
                  <a:pt x="74" y="57"/>
                </a:lnTo>
                <a:lnTo>
                  <a:pt x="0" y="345"/>
                </a:lnTo>
                <a:lnTo>
                  <a:pt x="66" y="89"/>
                </a:lnTo>
                <a:lnTo>
                  <a:pt x="1311" y="89"/>
                </a:lnTo>
                <a:lnTo>
                  <a:pt x="1377" y="345"/>
                </a:lnTo>
                <a:lnTo>
                  <a:pt x="0" y="345"/>
                </a:lnTo>
                <a:lnTo>
                  <a:pt x="74" y="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173240" y="1887480"/>
            <a:ext cx="155880" cy="292320"/>
          </a:xfrm>
          <a:custGeom>
            <a:avLst/>
            <a:gdLst/>
            <a:ahLst/>
            <a:rect l="0" t="0" r="r" b="b"/>
            <a:pathLst>
              <a:path w="433" h="812">
                <a:moveTo>
                  <a:pt x="185" y="30"/>
                </a:moveTo>
                <a:lnTo>
                  <a:pt x="198" y="0"/>
                </a:lnTo>
                <a:lnTo>
                  <a:pt x="230" y="0"/>
                </a:lnTo>
                <a:lnTo>
                  <a:pt x="243" y="30"/>
                </a:lnTo>
                <a:lnTo>
                  <a:pt x="230" y="52"/>
                </a:lnTo>
                <a:lnTo>
                  <a:pt x="198" y="52"/>
                </a:lnTo>
                <a:lnTo>
                  <a:pt x="185" y="30"/>
                </a:lnTo>
                <a:lnTo>
                  <a:pt x="0" y="812"/>
                </a:lnTo>
                <a:lnTo>
                  <a:pt x="433" y="812"/>
                </a:lnTo>
                <a:lnTo>
                  <a:pt x="433" y="746"/>
                </a:lnTo>
                <a:lnTo>
                  <a:pt x="0" y="746"/>
                </a:lnTo>
                <a:lnTo>
                  <a:pt x="0" y="812"/>
                </a:lnTo>
                <a:lnTo>
                  <a:pt x="185" y="3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228680" y="1874880"/>
            <a:ext cx="43200" cy="44640"/>
          </a:xfrm>
          <a:custGeom>
            <a:avLst/>
            <a:gdLst/>
            <a:ahLst/>
            <a:rect l="0" t="0" r="r" b="b"/>
            <a:pathLst>
              <a:path fill="none" w="120" h="124">
                <a:moveTo>
                  <a:pt x="0" y="124"/>
                </a:moveTo>
                <a:lnTo>
                  <a:pt x="120" y="124"/>
                </a:lnTo>
                <a:lnTo>
                  <a:pt x="120" y="0"/>
                </a:lnTo>
                <a:lnTo>
                  <a:pt x="0" y="0"/>
                </a:lnTo>
                <a:lnTo>
                  <a:pt x="0" y="1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901800" y="1695600"/>
            <a:ext cx="314640" cy="224280"/>
          </a:xfrm>
          <a:custGeom>
            <a:avLst/>
            <a:gdLst/>
            <a:ahLst/>
            <a:rect l="0" t="0" r="r" b="b"/>
            <a:pathLst>
              <a:path w="874" h="623">
                <a:moveTo>
                  <a:pt x="0" y="623"/>
                </a:moveTo>
                <a:lnTo>
                  <a:pt x="874" y="623"/>
                </a:lnTo>
                <a:lnTo>
                  <a:pt x="874" y="0"/>
                </a:lnTo>
                <a:lnTo>
                  <a:pt x="0" y="0"/>
                </a:lnTo>
                <a:lnTo>
                  <a:pt x="0" y="62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80920" y="1671480"/>
            <a:ext cx="403560" cy="271800"/>
          </a:xfrm>
          <a:custGeom>
            <a:avLst/>
            <a:gdLst/>
            <a:ahLst/>
            <a:rect l="0" t="0" r="r" b="b"/>
            <a:pathLst>
              <a:path fill="none" w="1121" h="755">
                <a:moveTo>
                  <a:pt x="0" y="755"/>
                </a:moveTo>
                <a:lnTo>
                  <a:pt x="1121" y="755"/>
                </a:lnTo>
                <a:lnTo>
                  <a:pt x="1121" y="0"/>
                </a:lnTo>
                <a:lnTo>
                  <a:pt x="0" y="0"/>
                </a:lnTo>
                <a:lnTo>
                  <a:pt x="0" y="75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239840" y="1695600"/>
            <a:ext cx="32040" cy="32040"/>
          </a:xfrm>
          <a:custGeom>
            <a:avLst/>
            <a:gdLst/>
            <a:ahLst/>
            <a:rect l="0" t="0" r="r" b="b"/>
            <a:pathLst>
              <a:path fill="none" w="89" h="89">
                <a:moveTo>
                  <a:pt x="0" y="89"/>
                </a:moveTo>
                <a:lnTo>
                  <a:pt x="89" y="89"/>
                </a:lnTo>
                <a:lnTo>
                  <a:pt x="89" y="0"/>
                </a:lnTo>
                <a:lnTo>
                  <a:pt x="0" y="0"/>
                </a:lnTo>
                <a:lnTo>
                  <a:pt x="0" y="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804960" y="2254320"/>
            <a:ext cx="541800" cy="403560"/>
          </a:xfrm>
          <a:custGeom>
            <a:avLst/>
            <a:gdLst/>
            <a:ahLst/>
            <a:rect l="0" t="0" r="r" b="b"/>
            <a:pathLst>
              <a:path w="1505" h="1121">
                <a:moveTo>
                  <a:pt x="0" y="0"/>
                </a:moveTo>
                <a:lnTo>
                  <a:pt x="0" y="1121"/>
                </a:lnTo>
                <a:lnTo>
                  <a:pt x="1505" y="1121"/>
                </a:lnTo>
                <a:lnTo>
                  <a:pt x="150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728640" y="2219400"/>
            <a:ext cx="789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789120" y="2411280"/>
            <a:ext cx="6890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305000" y="1919160"/>
            <a:ext cx="765360" cy="1530720"/>
          </a:xfrm>
          <a:custGeom>
            <a:avLst/>
            <a:gdLst/>
            <a:ahLst/>
            <a:rect l="0" t="0" r="r" b="b"/>
            <a:pathLst>
              <a:path w="2126" h="4252">
                <a:moveTo>
                  <a:pt x="0" y="0"/>
                </a:moveTo>
                <a:lnTo>
                  <a:pt x="1394" y="2232"/>
                </a:lnTo>
                <a:lnTo>
                  <a:pt x="996" y="2219"/>
                </a:lnTo>
                <a:lnTo>
                  <a:pt x="2126" y="4252"/>
                </a:lnTo>
                <a:lnTo>
                  <a:pt x="732" y="2011"/>
                </a:lnTo>
                <a:lnTo>
                  <a:pt x="1129" y="20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070000" y="1832040"/>
            <a:ext cx="719640" cy="3235680"/>
          </a:xfrm>
          <a:custGeom>
            <a:avLst/>
            <a:gdLst/>
            <a:ahLst/>
            <a:rect l="0" t="0" r="r" b="b"/>
            <a:pathLst>
              <a:path w="1999" h="8988">
                <a:moveTo>
                  <a:pt x="0" y="8988"/>
                </a:moveTo>
                <a:lnTo>
                  <a:pt x="1999" y="8988"/>
                </a:lnTo>
                <a:lnTo>
                  <a:pt x="1999" y="0"/>
                </a:lnTo>
                <a:lnTo>
                  <a:pt x="0" y="0"/>
                </a:lnTo>
                <a:lnTo>
                  <a:pt x="0" y="89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2151000" y="3206880"/>
            <a:ext cx="5698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2106720" y="3398760"/>
            <a:ext cx="6984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789280" y="3270240"/>
            <a:ext cx="986040" cy="359280"/>
          </a:xfrm>
          <a:custGeom>
            <a:avLst/>
            <a:gdLst/>
            <a:ahLst/>
            <a:rect l="0" t="0" r="r" b="b"/>
            <a:pathLst>
              <a:path w="2739" h="998">
                <a:moveTo>
                  <a:pt x="0" y="499"/>
                </a:moveTo>
                <a:lnTo>
                  <a:pt x="498" y="0"/>
                </a:lnTo>
                <a:lnTo>
                  <a:pt x="498" y="322"/>
                </a:lnTo>
                <a:lnTo>
                  <a:pt x="2241" y="322"/>
                </a:lnTo>
                <a:lnTo>
                  <a:pt x="2241" y="0"/>
                </a:lnTo>
                <a:lnTo>
                  <a:pt x="2739" y="499"/>
                </a:lnTo>
                <a:lnTo>
                  <a:pt x="2241" y="998"/>
                </a:lnTo>
                <a:lnTo>
                  <a:pt x="2241" y="666"/>
                </a:lnTo>
                <a:lnTo>
                  <a:pt x="498" y="666"/>
                </a:lnTo>
                <a:lnTo>
                  <a:pt x="498" y="998"/>
                </a:lnTo>
                <a:lnTo>
                  <a:pt x="0" y="49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774960" y="2414520"/>
            <a:ext cx="2335680" cy="2065680"/>
          </a:xfrm>
          <a:custGeom>
            <a:avLst/>
            <a:gdLst/>
            <a:ahLst/>
            <a:rect l="0" t="0" r="r" b="b"/>
            <a:pathLst>
              <a:path w="6488" h="5738">
                <a:moveTo>
                  <a:pt x="956" y="4265"/>
                </a:moveTo>
                <a:lnTo>
                  <a:pt x="1053" y="4565"/>
                </a:lnTo>
                <a:lnTo>
                  <a:pt x="1177" y="4838"/>
                </a:lnTo>
                <a:lnTo>
                  <a:pt x="1322" y="5085"/>
                </a:lnTo>
                <a:lnTo>
                  <a:pt x="1477" y="5297"/>
                </a:lnTo>
                <a:lnTo>
                  <a:pt x="1632" y="5460"/>
                </a:lnTo>
                <a:lnTo>
                  <a:pt x="1808" y="5596"/>
                </a:lnTo>
                <a:lnTo>
                  <a:pt x="1998" y="5685"/>
                </a:lnTo>
                <a:lnTo>
                  <a:pt x="2188" y="5738"/>
                </a:lnTo>
                <a:lnTo>
                  <a:pt x="2373" y="5738"/>
                </a:lnTo>
                <a:lnTo>
                  <a:pt x="2563" y="5693"/>
                </a:lnTo>
                <a:lnTo>
                  <a:pt x="2752" y="5618"/>
                </a:lnTo>
                <a:lnTo>
                  <a:pt x="2929" y="5482"/>
                </a:lnTo>
                <a:lnTo>
                  <a:pt x="3096" y="5319"/>
                </a:lnTo>
                <a:lnTo>
                  <a:pt x="3250" y="5116"/>
                </a:lnTo>
                <a:lnTo>
                  <a:pt x="3405" y="5319"/>
                </a:lnTo>
                <a:lnTo>
                  <a:pt x="3572" y="5482"/>
                </a:lnTo>
                <a:lnTo>
                  <a:pt x="3749" y="5618"/>
                </a:lnTo>
                <a:lnTo>
                  <a:pt x="3925" y="5693"/>
                </a:lnTo>
                <a:lnTo>
                  <a:pt x="4115" y="5738"/>
                </a:lnTo>
                <a:lnTo>
                  <a:pt x="4304" y="5738"/>
                </a:lnTo>
                <a:lnTo>
                  <a:pt x="4494" y="5685"/>
                </a:lnTo>
                <a:lnTo>
                  <a:pt x="4684" y="5596"/>
                </a:lnTo>
                <a:lnTo>
                  <a:pt x="4860" y="5460"/>
                </a:lnTo>
                <a:lnTo>
                  <a:pt x="5024" y="5297"/>
                </a:lnTo>
                <a:lnTo>
                  <a:pt x="5183" y="5085"/>
                </a:lnTo>
                <a:lnTo>
                  <a:pt x="5315" y="4838"/>
                </a:lnTo>
                <a:lnTo>
                  <a:pt x="5439" y="4565"/>
                </a:lnTo>
                <a:lnTo>
                  <a:pt x="5536" y="4265"/>
                </a:lnTo>
                <a:lnTo>
                  <a:pt x="5659" y="4309"/>
                </a:lnTo>
                <a:lnTo>
                  <a:pt x="5791" y="4309"/>
                </a:lnTo>
                <a:lnTo>
                  <a:pt x="5915" y="4265"/>
                </a:lnTo>
                <a:lnTo>
                  <a:pt x="6034" y="4185"/>
                </a:lnTo>
                <a:lnTo>
                  <a:pt x="6144" y="4075"/>
                </a:lnTo>
                <a:lnTo>
                  <a:pt x="6246" y="3930"/>
                </a:lnTo>
                <a:lnTo>
                  <a:pt x="6334" y="3753"/>
                </a:lnTo>
                <a:lnTo>
                  <a:pt x="6400" y="3555"/>
                </a:lnTo>
                <a:lnTo>
                  <a:pt x="6444" y="3343"/>
                </a:lnTo>
                <a:lnTo>
                  <a:pt x="6479" y="3109"/>
                </a:lnTo>
                <a:lnTo>
                  <a:pt x="6488" y="2876"/>
                </a:lnTo>
                <a:lnTo>
                  <a:pt x="6479" y="2632"/>
                </a:lnTo>
                <a:lnTo>
                  <a:pt x="6444" y="2407"/>
                </a:lnTo>
                <a:lnTo>
                  <a:pt x="6400" y="2187"/>
                </a:lnTo>
                <a:lnTo>
                  <a:pt x="6334" y="1988"/>
                </a:lnTo>
                <a:lnTo>
                  <a:pt x="6246" y="1807"/>
                </a:lnTo>
                <a:lnTo>
                  <a:pt x="6144" y="1666"/>
                </a:lnTo>
                <a:lnTo>
                  <a:pt x="6034" y="1552"/>
                </a:lnTo>
                <a:lnTo>
                  <a:pt x="5915" y="1477"/>
                </a:lnTo>
                <a:lnTo>
                  <a:pt x="5791" y="1441"/>
                </a:lnTo>
                <a:lnTo>
                  <a:pt x="5659" y="1441"/>
                </a:lnTo>
                <a:lnTo>
                  <a:pt x="5536" y="1477"/>
                </a:lnTo>
                <a:lnTo>
                  <a:pt x="5439" y="1177"/>
                </a:lnTo>
                <a:lnTo>
                  <a:pt x="5315" y="899"/>
                </a:lnTo>
                <a:lnTo>
                  <a:pt x="5183" y="657"/>
                </a:lnTo>
                <a:lnTo>
                  <a:pt x="5024" y="454"/>
                </a:lnTo>
                <a:lnTo>
                  <a:pt x="4860" y="277"/>
                </a:lnTo>
                <a:lnTo>
                  <a:pt x="4684" y="145"/>
                </a:lnTo>
                <a:lnTo>
                  <a:pt x="4494" y="57"/>
                </a:lnTo>
                <a:lnTo>
                  <a:pt x="4304" y="13"/>
                </a:lnTo>
                <a:lnTo>
                  <a:pt x="4115" y="0"/>
                </a:lnTo>
                <a:lnTo>
                  <a:pt x="3925" y="44"/>
                </a:lnTo>
                <a:lnTo>
                  <a:pt x="3749" y="132"/>
                </a:lnTo>
                <a:lnTo>
                  <a:pt x="3572" y="255"/>
                </a:lnTo>
                <a:lnTo>
                  <a:pt x="3405" y="423"/>
                </a:lnTo>
                <a:lnTo>
                  <a:pt x="3250" y="635"/>
                </a:lnTo>
                <a:lnTo>
                  <a:pt x="3096" y="423"/>
                </a:lnTo>
                <a:lnTo>
                  <a:pt x="2929" y="255"/>
                </a:lnTo>
                <a:lnTo>
                  <a:pt x="2752" y="132"/>
                </a:lnTo>
                <a:lnTo>
                  <a:pt x="2563" y="44"/>
                </a:lnTo>
                <a:lnTo>
                  <a:pt x="2373" y="0"/>
                </a:lnTo>
                <a:lnTo>
                  <a:pt x="2188" y="13"/>
                </a:lnTo>
                <a:lnTo>
                  <a:pt x="1998" y="57"/>
                </a:lnTo>
                <a:lnTo>
                  <a:pt x="1808" y="145"/>
                </a:lnTo>
                <a:lnTo>
                  <a:pt x="1632" y="277"/>
                </a:lnTo>
                <a:lnTo>
                  <a:pt x="1477" y="454"/>
                </a:lnTo>
                <a:lnTo>
                  <a:pt x="1322" y="657"/>
                </a:lnTo>
                <a:lnTo>
                  <a:pt x="1177" y="899"/>
                </a:lnTo>
                <a:lnTo>
                  <a:pt x="1053" y="1177"/>
                </a:lnTo>
                <a:lnTo>
                  <a:pt x="956" y="1477"/>
                </a:lnTo>
                <a:lnTo>
                  <a:pt x="833" y="1441"/>
                </a:lnTo>
                <a:lnTo>
                  <a:pt x="709" y="1441"/>
                </a:lnTo>
                <a:lnTo>
                  <a:pt x="577" y="1477"/>
                </a:lnTo>
                <a:lnTo>
                  <a:pt x="454" y="1552"/>
                </a:lnTo>
                <a:lnTo>
                  <a:pt x="343" y="1666"/>
                </a:lnTo>
                <a:lnTo>
                  <a:pt x="246" y="1807"/>
                </a:lnTo>
                <a:lnTo>
                  <a:pt x="167" y="1988"/>
                </a:lnTo>
                <a:lnTo>
                  <a:pt x="88" y="2187"/>
                </a:lnTo>
                <a:lnTo>
                  <a:pt x="44" y="2407"/>
                </a:lnTo>
                <a:lnTo>
                  <a:pt x="13" y="2632"/>
                </a:lnTo>
                <a:lnTo>
                  <a:pt x="0" y="2876"/>
                </a:lnTo>
                <a:lnTo>
                  <a:pt x="13" y="3109"/>
                </a:lnTo>
                <a:lnTo>
                  <a:pt x="44" y="3343"/>
                </a:lnTo>
                <a:lnTo>
                  <a:pt x="88" y="3555"/>
                </a:lnTo>
                <a:lnTo>
                  <a:pt x="167" y="3753"/>
                </a:lnTo>
                <a:lnTo>
                  <a:pt x="246" y="3930"/>
                </a:lnTo>
                <a:lnTo>
                  <a:pt x="343" y="4075"/>
                </a:lnTo>
                <a:lnTo>
                  <a:pt x="454" y="4185"/>
                </a:lnTo>
                <a:lnTo>
                  <a:pt x="577" y="4265"/>
                </a:lnTo>
                <a:lnTo>
                  <a:pt x="709" y="4309"/>
                </a:lnTo>
                <a:lnTo>
                  <a:pt x="833" y="4309"/>
                </a:lnTo>
                <a:lnTo>
                  <a:pt x="956" y="42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4416480" y="3271680"/>
            <a:ext cx="1389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rastruc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4552920" y="338760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7369200" y="2590920"/>
            <a:ext cx="937080" cy="1665720"/>
          </a:xfrm>
          <a:custGeom>
            <a:avLst/>
            <a:gdLst/>
            <a:ahLst/>
            <a:rect l="0" t="0" r="r" b="b"/>
            <a:pathLst>
              <a:path w="2603" h="4627">
                <a:moveTo>
                  <a:pt x="0" y="4627"/>
                </a:moveTo>
                <a:lnTo>
                  <a:pt x="2603" y="4627"/>
                </a:lnTo>
                <a:lnTo>
                  <a:pt x="2603" y="0"/>
                </a:lnTo>
                <a:lnTo>
                  <a:pt x="0" y="0"/>
                </a:lnTo>
                <a:lnTo>
                  <a:pt x="0" y="46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7392960" y="3290760"/>
            <a:ext cx="8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110280" y="3270240"/>
            <a:ext cx="1259280" cy="359280"/>
          </a:xfrm>
          <a:custGeom>
            <a:avLst/>
            <a:gdLst/>
            <a:ahLst/>
            <a:rect l="0" t="0" r="r" b="b"/>
            <a:pathLst>
              <a:path w="3498" h="998">
                <a:moveTo>
                  <a:pt x="0" y="499"/>
                </a:moveTo>
                <a:lnTo>
                  <a:pt x="502" y="0"/>
                </a:lnTo>
                <a:lnTo>
                  <a:pt x="502" y="322"/>
                </a:lnTo>
                <a:lnTo>
                  <a:pt x="2996" y="322"/>
                </a:lnTo>
                <a:lnTo>
                  <a:pt x="2996" y="0"/>
                </a:lnTo>
                <a:lnTo>
                  <a:pt x="3498" y="499"/>
                </a:lnTo>
                <a:lnTo>
                  <a:pt x="2996" y="998"/>
                </a:lnTo>
                <a:lnTo>
                  <a:pt x="2996" y="666"/>
                </a:lnTo>
                <a:lnTo>
                  <a:pt x="502" y="666"/>
                </a:lnTo>
                <a:lnTo>
                  <a:pt x="502" y="998"/>
                </a:lnTo>
                <a:lnTo>
                  <a:pt x="0" y="49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687840" y="4888080"/>
            <a:ext cx="538560" cy="540000"/>
          </a:xfrm>
          <a:custGeom>
            <a:avLst/>
            <a:gdLst/>
            <a:ahLst/>
            <a:rect l="0" t="0" r="r" b="b"/>
            <a:pathLst>
              <a:path w="1496" h="1500">
                <a:moveTo>
                  <a:pt x="123" y="865"/>
                </a:moveTo>
                <a:lnTo>
                  <a:pt x="123" y="0"/>
                </a:lnTo>
                <a:lnTo>
                  <a:pt x="1364" y="0"/>
                </a:lnTo>
                <a:lnTo>
                  <a:pt x="1364" y="865"/>
                </a:lnTo>
                <a:lnTo>
                  <a:pt x="1496" y="1368"/>
                </a:lnTo>
                <a:lnTo>
                  <a:pt x="1496" y="1500"/>
                </a:lnTo>
                <a:lnTo>
                  <a:pt x="0" y="1500"/>
                </a:lnTo>
                <a:lnTo>
                  <a:pt x="0" y="1368"/>
                </a:lnTo>
                <a:lnTo>
                  <a:pt x="123" y="865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732120" y="5199120"/>
            <a:ext cx="446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687840" y="5380200"/>
            <a:ext cx="538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706920" y="5235480"/>
            <a:ext cx="495720" cy="124200"/>
          </a:xfrm>
          <a:custGeom>
            <a:avLst/>
            <a:gdLst/>
            <a:ahLst/>
            <a:rect l="0" t="0" r="r" b="b"/>
            <a:pathLst>
              <a:path w="1377" h="345">
                <a:moveTo>
                  <a:pt x="79" y="57"/>
                </a:moveTo>
                <a:lnTo>
                  <a:pt x="92" y="0"/>
                </a:lnTo>
                <a:lnTo>
                  <a:pt x="1289" y="0"/>
                </a:lnTo>
                <a:lnTo>
                  <a:pt x="1311" y="57"/>
                </a:lnTo>
                <a:lnTo>
                  <a:pt x="79" y="57"/>
                </a:lnTo>
                <a:lnTo>
                  <a:pt x="0" y="345"/>
                </a:lnTo>
                <a:lnTo>
                  <a:pt x="70" y="89"/>
                </a:lnTo>
                <a:lnTo>
                  <a:pt x="1311" y="89"/>
                </a:lnTo>
                <a:lnTo>
                  <a:pt x="1377" y="345"/>
                </a:lnTo>
                <a:lnTo>
                  <a:pt x="0" y="345"/>
                </a:lnTo>
                <a:lnTo>
                  <a:pt x="79" y="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046400" y="5124600"/>
            <a:ext cx="155880" cy="290880"/>
          </a:xfrm>
          <a:custGeom>
            <a:avLst/>
            <a:gdLst/>
            <a:ahLst/>
            <a:rect l="0" t="0" r="r" b="b"/>
            <a:pathLst>
              <a:path w="433" h="808">
                <a:moveTo>
                  <a:pt x="189" y="30"/>
                </a:moveTo>
                <a:lnTo>
                  <a:pt x="202" y="0"/>
                </a:lnTo>
                <a:lnTo>
                  <a:pt x="234" y="0"/>
                </a:lnTo>
                <a:lnTo>
                  <a:pt x="247" y="30"/>
                </a:lnTo>
                <a:lnTo>
                  <a:pt x="234" y="52"/>
                </a:lnTo>
                <a:lnTo>
                  <a:pt x="202" y="52"/>
                </a:lnTo>
                <a:lnTo>
                  <a:pt x="189" y="30"/>
                </a:lnTo>
                <a:lnTo>
                  <a:pt x="0" y="808"/>
                </a:lnTo>
                <a:lnTo>
                  <a:pt x="433" y="808"/>
                </a:lnTo>
                <a:lnTo>
                  <a:pt x="433" y="742"/>
                </a:lnTo>
                <a:lnTo>
                  <a:pt x="0" y="742"/>
                </a:lnTo>
                <a:lnTo>
                  <a:pt x="0" y="808"/>
                </a:lnTo>
                <a:lnTo>
                  <a:pt x="189" y="3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102200" y="5111640"/>
            <a:ext cx="44640" cy="44640"/>
          </a:xfrm>
          <a:custGeom>
            <a:avLst/>
            <a:gdLst/>
            <a:ahLst/>
            <a:rect l="0" t="0" r="r" b="b"/>
            <a:pathLst>
              <a:path fill="none" w="124" h="124">
                <a:moveTo>
                  <a:pt x="0" y="124"/>
                </a:moveTo>
                <a:lnTo>
                  <a:pt x="124" y="124"/>
                </a:lnTo>
                <a:lnTo>
                  <a:pt x="124" y="0"/>
                </a:lnTo>
                <a:lnTo>
                  <a:pt x="0" y="0"/>
                </a:lnTo>
                <a:lnTo>
                  <a:pt x="0" y="1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774960" y="4932360"/>
            <a:ext cx="316440" cy="224280"/>
          </a:xfrm>
          <a:custGeom>
            <a:avLst/>
            <a:gdLst/>
            <a:ahLst/>
            <a:rect l="0" t="0" r="r" b="b"/>
            <a:pathLst>
              <a:path w="879" h="623">
                <a:moveTo>
                  <a:pt x="0" y="623"/>
                </a:moveTo>
                <a:lnTo>
                  <a:pt x="879" y="623"/>
                </a:lnTo>
                <a:lnTo>
                  <a:pt x="879" y="0"/>
                </a:lnTo>
                <a:lnTo>
                  <a:pt x="0" y="0"/>
                </a:lnTo>
                <a:lnTo>
                  <a:pt x="0" y="62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755880" y="4908600"/>
            <a:ext cx="403560" cy="271800"/>
          </a:xfrm>
          <a:custGeom>
            <a:avLst/>
            <a:gdLst/>
            <a:ahLst/>
            <a:rect l="0" t="0" r="r" b="b"/>
            <a:pathLst>
              <a:path fill="none" w="1121" h="755">
                <a:moveTo>
                  <a:pt x="0" y="755"/>
                </a:moveTo>
                <a:lnTo>
                  <a:pt x="1121" y="755"/>
                </a:lnTo>
                <a:lnTo>
                  <a:pt x="1121" y="0"/>
                </a:lnTo>
                <a:lnTo>
                  <a:pt x="0" y="0"/>
                </a:lnTo>
                <a:lnTo>
                  <a:pt x="0" y="75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114800" y="4932360"/>
            <a:ext cx="32040" cy="32040"/>
          </a:xfrm>
          <a:custGeom>
            <a:avLst/>
            <a:gdLst/>
            <a:ahLst/>
            <a:rect l="0" t="0" r="r" b="b"/>
            <a:pathLst>
              <a:path fill="none" w="89" h="89">
                <a:moveTo>
                  <a:pt x="0" y="89"/>
                </a:moveTo>
                <a:lnTo>
                  <a:pt x="89" y="89"/>
                </a:lnTo>
                <a:lnTo>
                  <a:pt x="89" y="0"/>
                </a:lnTo>
                <a:lnTo>
                  <a:pt x="0" y="0"/>
                </a:lnTo>
                <a:lnTo>
                  <a:pt x="0" y="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672000" y="5491080"/>
            <a:ext cx="560880" cy="211320"/>
          </a:xfrm>
          <a:custGeom>
            <a:avLst/>
            <a:gdLst/>
            <a:ahLst/>
            <a:rect l="0" t="0" r="r" b="b"/>
            <a:pathLst>
              <a:path w="1558" h="587">
                <a:moveTo>
                  <a:pt x="0" y="0"/>
                </a:moveTo>
                <a:lnTo>
                  <a:pt x="0" y="587"/>
                </a:lnTo>
                <a:lnTo>
                  <a:pt x="1558" y="587"/>
                </a:lnTo>
                <a:lnTo>
                  <a:pt x="155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3591000" y="5445000"/>
            <a:ext cx="855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954600" y="4479840"/>
            <a:ext cx="648000" cy="408240"/>
          </a:xfrm>
          <a:custGeom>
            <a:avLst/>
            <a:gdLst/>
            <a:ahLst/>
            <a:rect l="0" t="0" r="r" b="b"/>
            <a:pathLst>
              <a:path w="1800" h="1134">
                <a:moveTo>
                  <a:pt x="0" y="1134"/>
                </a:moveTo>
                <a:lnTo>
                  <a:pt x="979" y="224"/>
                </a:lnTo>
                <a:lnTo>
                  <a:pt x="1002" y="622"/>
                </a:lnTo>
                <a:lnTo>
                  <a:pt x="1800" y="0"/>
                </a:lnTo>
                <a:lnTo>
                  <a:pt x="824" y="913"/>
                </a:lnTo>
                <a:lnTo>
                  <a:pt x="789" y="511"/>
                </a:lnTo>
                <a:lnTo>
                  <a:pt x="0" y="113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 txBox="1"/>
          <p:nvPr/>
        </p:nvSpPr>
        <p:spPr>
          <a:xfrm>
            <a:off x="533520" y="685800"/>
            <a:ext cx="83818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gh Level View of Sub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695160" y="1484280"/>
            <a:ext cx="454320" cy="459000"/>
          </a:xfrm>
          <a:custGeom>
            <a:avLst/>
            <a:gdLst/>
            <a:ahLst/>
            <a:rect l="0" t="0" r="r" b="b"/>
            <a:pathLst>
              <a:path w="1262" h="1275">
                <a:moveTo>
                  <a:pt x="268" y="834"/>
                </a:moveTo>
                <a:lnTo>
                  <a:pt x="0" y="834"/>
                </a:lnTo>
                <a:lnTo>
                  <a:pt x="0" y="1275"/>
                </a:lnTo>
                <a:lnTo>
                  <a:pt x="1262" y="1275"/>
                </a:lnTo>
                <a:lnTo>
                  <a:pt x="1262" y="834"/>
                </a:lnTo>
                <a:lnTo>
                  <a:pt x="993" y="834"/>
                </a:lnTo>
                <a:lnTo>
                  <a:pt x="993" y="781"/>
                </a:lnTo>
                <a:lnTo>
                  <a:pt x="1103" y="781"/>
                </a:lnTo>
                <a:lnTo>
                  <a:pt x="1103" y="0"/>
                </a:lnTo>
                <a:lnTo>
                  <a:pt x="154" y="0"/>
                </a:lnTo>
                <a:lnTo>
                  <a:pt x="154" y="781"/>
                </a:lnTo>
                <a:lnTo>
                  <a:pt x="268" y="781"/>
                </a:lnTo>
                <a:lnTo>
                  <a:pt x="268" y="83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792000" y="1784520"/>
            <a:ext cx="260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792000" y="1765440"/>
            <a:ext cx="260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930240" y="1801800"/>
            <a:ext cx="182880" cy="125640"/>
          </a:xfrm>
          <a:custGeom>
            <a:avLst/>
            <a:gdLst/>
            <a:ahLst/>
            <a:rect l="0" t="0" r="r" b="b"/>
            <a:pathLst>
              <a:path w="508" h="349">
                <a:moveTo>
                  <a:pt x="0" y="349"/>
                </a:moveTo>
                <a:lnTo>
                  <a:pt x="419" y="349"/>
                </a:lnTo>
                <a:lnTo>
                  <a:pt x="419" y="0"/>
                </a:lnTo>
                <a:lnTo>
                  <a:pt x="0" y="0"/>
                </a:lnTo>
                <a:lnTo>
                  <a:pt x="0" y="349"/>
                </a:lnTo>
                <a:lnTo>
                  <a:pt x="450" y="52"/>
                </a:lnTo>
                <a:lnTo>
                  <a:pt x="508" y="52"/>
                </a:lnTo>
                <a:lnTo>
                  <a:pt x="508" y="0"/>
                </a:lnTo>
                <a:lnTo>
                  <a:pt x="450" y="0"/>
                </a:lnTo>
                <a:lnTo>
                  <a:pt x="450" y="52"/>
                </a:lnTo>
                <a:lnTo>
                  <a:pt x="0" y="3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930240" y="1841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930240" y="188604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934920" y="186696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015920" y="1849320"/>
            <a:ext cx="39960" cy="28800"/>
          </a:xfrm>
          <a:custGeom>
            <a:avLst/>
            <a:gdLst/>
            <a:ahLst/>
            <a:rect l="0" t="0" r="r" b="b"/>
            <a:pathLst>
              <a:path fill="none" w="111" h="80">
                <a:moveTo>
                  <a:pt x="0" y="80"/>
                </a:moveTo>
                <a:lnTo>
                  <a:pt x="111" y="80"/>
                </a:lnTo>
                <a:lnTo>
                  <a:pt x="111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706320" y="1515960"/>
            <a:ext cx="430560" cy="309960"/>
          </a:xfrm>
          <a:custGeom>
            <a:avLst/>
            <a:gdLst/>
            <a:ahLst/>
            <a:rect l="0" t="0" r="r" b="b"/>
            <a:pathLst>
              <a:path w="1196" h="861">
                <a:moveTo>
                  <a:pt x="993" y="613"/>
                </a:moveTo>
                <a:lnTo>
                  <a:pt x="1041" y="613"/>
                </a:lnTo>
                <a:lnTo>
                  <a:pt x="1041" y="600"/>
                </a:lnTo>
                <a:lnTo>
                  <a:pt x="993" y="600"/>
                </a:lnTo>
                <a:lnTo>
                  <a:pt x="993" y="613"/>
                </a:lnTo>
                <a:lnTo>
                  <a:pt x="273" y="512"/>
                </a:lnTo>
                <a:lnTo>
                  <a:pt x="273" y="70"/>
                </a:lnTo>
                <a:lnTo>
                  <a:pt x="927" y="70"/>
                </a:lnTo>
                <a:lnTo>
                  <a:pt x="927" y="512"/>
                </a:lnTo>
                <a:lnTo>
                  <a:pt x="273" y="512"/>
                </a:lnTo>
                <a:lnTo>
                  <a:pt x="238" y="543"/>
                </a:lnTo>
                <a:lnTo>
                  <a:pt x="962" y="543"/>
                </a:lnTo>
                <a:lnTo>
                  <a:pt x="962" y="35"/>
                </a:lnTo>
                <a:lnTo>
                  <a:pt x="984" y="35"/>
                </a:lnTo>
                <a:lnTo>
                  <a:pt x="984" y="0"/>
                </a:lnTo>
                <a:lnTo>
                  <a:pt x="216" y="0"/>
                </a:lnTo>
                <a:lnTo>
                  <a:pt x="216" y="565"/>
                </a:lnTo>
                <a:lnTo>
                  <a:pt x="238" y="565"/>
                </a:lnTo>
                <a:lnTo>
                  <a:pt x="238" y="543"/>
                </a:lnTo>
                <a:lnTo>
                  <a:pt x="0" y="826"/>
                </a:lnTo>
                <a:lnTo>
                  <a:pt x="123" y="826"/>
                </a:lnTo>
                <a:lnTo>
                  <a:pt x="123" y="795"/>
                </a:lnTo>
                <a:lnTo>
                  <a:pt x="0" y="795"/>
                </a:lnTo>
                <a:lnTo>
                  <a:pt x="0" y="826"/>
                </a:lnTo>
                <a:lnTo>
                  <a:pt x="702" y="861"/>
                </a:lnTo>
                <a:lnTo>
                  <a:pt x="962" y="861"/>
                </a:lnTo>
                <a:lnTo>
                  <a:pt x="962" y="839"/>
                </a:lnTo>
                <a:lnTo>
                  <a:pt x="702" y="839"/>
                </a:lnTo>
                <a:lnTo>
                  <a:pt x="702" y="861"/>
                </a:lnTo>
                <a:lnTo>
                  <a:pt x="1151" y="804"/>
                </a:lnTo>
                <a:lnTo>
                  <a:pt x="1196" y="804"/>
                </a:lnTo>
                <a:lnTo>
                  <a:pt x="1196" y="795"/>
                </a:lnTo>
                <a:lnTo>
                  <a:pt x="1151" y="795"/>
                </a:lnTo>
                <a:lnTo>
                  <a:pt x="1151" y="804"/>
                </a:lnTo>
                <a:lnTo>
                  <a:pt x="1151" y="848"/>
                </a:lnTo>
                <a:lnTo>
                  <a:pt x="1196" y="848"/>
                </a:lnTo>
                <a:lnTo>
                  <a:pt x="1196" y="826"/>
                </a:lnTo>
                <a:lnTo>
                  <a:pt x="1151" y="826"/>
                </a:lnTo>
                <a:lnTo>
                  <a:pt x="1151" y="848"/>
                </a:lnTo>
                <a:lnTo>
                  <a:pt x="993" y="6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750960" y="174780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836640" y="1747800"/>
            <a:ext cx="0" cy="17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922320" y="1747800"/>
            <a:ext cx="0" cy="17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31720" y="2008080"/>
            <a:ext cx="771840" cy="214560"/>
          </a:xfrm>
          <a:custGeom>
            <a:avLst/>
            <a:gdLst/>
            <a:ahLst/>
            <a:rect l="0" t="0" r="r" b="b"/>
            <a:pathLst>
              <a:path w="2144" h="596">
                <a:moveTo>
                  <a:pt x="0" y="0"/>
                </a:moveTo>
                <a:lnTo>
                  <a:pt x="0" y="596"/>
                </a:lnTo>
                <a:lnTo>
                  <a:pt x="2144" y="596"/>
                </a:lnTo>
                <a:lnTo>
                  <a:pt x="21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452520" y="1976400"/>
            <a:ext cx="95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eb 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060560" y="2263680"/>
            <a:ext cx="730440" cy="821160"/>
          </a:xfrm>
          <a:custGeom>
            <a:avLst/>
            <a:gdLst/>
            <a:ahLst/>
            <a:rect l="0" t="0" r="r" b="b"/>
            <a:pathLst>
              <a:path w="2029" h="2281">
                <a:moveTo>
                  <a:pt x="0" y="0"/>
                </a:moveTo>
                <a:lnTo>
                  <a:pt x="1363" y="1165"/>
                </a:lnTo>
                <a:lnTo>
                  <a:pt x="978" y="1253"/>
                </a:lnTo>
                <a:lnTo>
                  <a:pt x="2029" y="2281"/>
                </a:lnTo>
                <a:lnTo>
                  <a:pt x="652" y="1121"/>
                </a:lnTo>
                <a:lnTo>
                  <a:pt x="1050" y="102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394160" y="2448000"/>
            <a:ext cx="1735560" cy="1152720"/>
          </a:xfrm>
          <a:custGeom>
            <a:avLst/>
            <a:gdLst/>
            <a:ahLst/>
            <a:rect l="0" t="0" r="r" b="b"/>
            <a:pathLst>
              <a:path w="4821" h="3202">
                <a:moveTo>
                  <a:pt x="714" y="2382"/>
                </a:moveTo>
                <a:lnTo>
                  <a:pt x="815" y="2593"/>
                </a:lnTo>
                <a:lnTo>
                  <a:pt x="926" y="2774"/>
                </a:lnTo>
                <a:lnTo>
                  <a:pt x="1071" y="2933"/>
                </a:lnTo>
                <a:lnTo>
                  <a:pt x="1231" y="3070"/>
                </a:lnTo>
                <a:lnTo>
                  <a:pt x="1403" y="3149"/>
                </a:lnTo>
                <a:lnTo>
                  <a:pt x="1570" y="3202"/>
                </a:lnTo>
                <a:lnTo>
                  <a:pt x="1751" y="3202"/>
                </a:lnTo>
                <a:lnTo>
                  <a:pt x="1932" y="3180"/>
                </a:lnTo>
                <a:lnTo>
                  <a:pt x="2100" y="3114"/>
                </a:lnTo>
                <a:lnTo>
                  <a:pt x="2258" y="2999"/>
                </a:lnTo>
                <a:lnTo>
                  <a:pt x="2417" y="2854"/>
                </a:lnTo>
                <a:lnTo>
                  <a:pt x="2563" y="2999"/>
                </a:lnTo>
                <a:lnTo>
                  <a:pt x="2721" y="3114"/>
                </a:lnTo>
                <a:lnTo>
                  <a:pt x="2889" y="3180"/>
                </a:lnTo>
                <a:lnTo>
                  <a:pt x="3070" y="3202"/>
                </a:lnTo>
                <a:lnTo>
                  <a:pt x="3250" y="3202"/>
                </a:lnTo>
                <a:lnTo>
                  <a:pt x="3431" y="3149"/>
                </a:lnTo>
                <a:lnTo>
                  <a:pt x="3603" y="3070"/>
                </a:lnTo>
                <a:lnTo>
                  <a:pt x="3759" y="2933"/>
                </a:lnTo>
                <a:lnTo>
                  <a:pt x="3895" y="2774"/>
                </a:lnTo>
                <a:lnTo>
                  <a:pt x="4019" y="2593"/>
                </a:lnTo>
                <a:lnTo>
                  <a:pt x="4120" y="2382"/>
                </a:lnTo>
                <a:lnTo>
                  <a:pt x="4244" y="2404"/>
                </a:lnTo>
                <a:lnTo>
                  <a:pt x="4372" y="2391"/>
                </a:lnTo>
                <a:lnTo>
                  <a:pt x="4495" y="2333"/>
                </a:lnTo>
                <a:lnTo>
                  <a:pt x="4605" y="2232"/>
                </a:lnTo>
                <a:lnTo>
                  <a:pt x="4698" y="2108"/>
                </a:lnTo>
                <a:lnTo>
                  <a:pt x="4764" y="1950"/>
                </a:lnTo>
                <a:lnTo>
                  <a:pt x="4808" y="1782"/>
                </a:lnTo>
                <a:lnTo>
                  <a:pt x="4821" y="1600"/>
                </a:lnTo>
                <a:lnTo>
                  <a:pt x="4808" y="1419"/>
                </a:lnTo>
                <a:lnTo>
                  <a:pt x="4764" y="1252"/>
                </a:lnTo>
                <a:lnTo>
                  <a:pt x="4698" y="1093"/>
                </a:lnTo>
                <a:lnTo>
                  <a:pt x="4605" y="970"/>
                </a:lnTo>
                <a:lnTo>
                  <a:pt x="4495" y="868"/>
                </a:lnTo>
                <a:lnTo>
                  <a:pt x="4372" y="811"/>
                </a:lnTo>
                <a:lnTo>
                  <a:pt x="4244" y="798"/>
                </a:lnTo>
                <a:lnTo>
                  <a:pt x="4120" y="820"/>
                </a:lnTo>
                <a:lnTo>
                  <a:pt x="4019" y="608"/>
                </a:lnTo>
                <a:lnTo>
                  <a:pt x="3895" y="427"/>
                </a:lnTo>
                <a:lnTo>
                  <a:pt x="3759" y="268"/>
                </a:lnTo>
                <a:lnTo>
                  <a:pt x="3603" y="145"/>
                </a:lnTo>
                <a:lnTo>
                  <a:pt x="3431" y="52"/>
                </a:lnTo>
                <a:lnTo>
                  <a:pt x="3250" y="8"/>
                </a:lnTo>
                <a:lnTo>
                  <a:pt x="3070" y="0"/>
                </a:lnTo>
                <a:lnTo>
                  <a:pt x="2889" y="22"/>
                </a:lnTo>
                <a:lnTo>
                  <a:pt x="2721" y="101"/>
                </a:lnTo>
                <a:lnTo>
                  <a:pt x="2563" y="202"/>
                </a:lnTo>
                <a:lnTo>
                  <a:pt x="2417" y="348"/>
                </a:lnTo>
                <a:lnTo>
                  <a:pt x="2258" y="202"/>
                </a:lnTo>
                <a:lnTo>
                  <a:pt x="2100" y="101"/>
                </a:lnTo>
                <a:lnTo>
                  <a:pt x="1932" y="22"/>
                </a:lnTo>
                <a:lnTo>
                  <a:pt x="1751" y="0"/>
                </a:lnTo>
                <a:lnTo>
                  <a:pt x="1570" y="8"/>
                </a:lnTo>
                <a:lnTo>
                  <a:pt x="1403" y="52"/>
                </a:lnTo>
                <a:lnTo>
                  <a:pt x="1231" y="145"/>
                </a:lnTo>
                <a:lnTo>
                  <a:pt x="1071" y="268"/>
                </a:lnTo>
                <a:lnTo>
                  <a:pt x="926" y="427"/>
                </a:lnTo>
                <a:lnTo>
                  <a:pt x="815" y="608"/>
                </a:lnTo>
                <a:lnTo>
                  <a:pt x="714" y="820"/>
                </a:lnTo>
                <a:lnTo>
                  <a:pt x="577" y="798"/>
                </a:lnTo>
                <a:lnTo>
                  <a:pt x="454" y="811"/>
                </a:lnTo>
                <a:lnTo>
                  <a:pt x="330" y="868"/>
                </a:lnTo>
                <a:lnTo>
                  <a:pt x="216" y="970"/>
                </a:lnTo>
                <a:lnTo>
                  <a:pt x="127" y="1093"/>
                </a:lnTo>
                <a:lnTo>
                  <a:pt x="57" y="1252"/>
                </a:lnTo>
                <a:lnTo>
                  <a:pt x="13" y="1419"/>
                </a:lnTo>
                <a:lnTo>
                  <a:pt x="0" y="1600"/>
                </a:lnTo>
                <a:lnTo>
                  <a:pt x="13" y="1782"/>
                </a:lnTo>
                <a:lnTo>
                  <a:pt x="57" y="1950"/>
                </a:lnTo>
                <a:lnTo>
                  <a:pt x="127" y="2108"/>
                </a:lnTo>
                <a:lnTo>
                  <a:pt x="216" y="2232"/>
                </a:lnTo>
                <a:lnTo>
                  <a:pt x="330" y="2333"/>
                </a:lnTo>
                <a:lnTo>
                  <a:pt x="454" y="2391"/>
                </a:lnTo>
                <a:lnTo>
                  <a:pt x="577" y="2404"/>
                </a:lnTo>
                <a:lnTo>
                  <a:pt x="714" y="238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4340160" y="2878200"/>
            <a:ext cx="185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orkflow Sub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953400" y="2487600"/>
            <a:ext cx="1053000" cy="1097280"/>
          </a:xfrm>
          <a:custGeom>
            <a:avLst/>
            <a:gdLst/>
            <a:ahLst/>
            <a:rect l="0" t="0" r="r" b="b"/>
            <a:pathLst>
              <a:path w="2925" h="3048">
                <a:moveTo>
                  <a:pt x="0" y="3048"/>
                </a:moveTo>
                <a:lnTo>
                  <a:pt x="2925" y="3048"/>
                </a:lnTo>
                <a:lnTo>
                  <a:pt x="2925" y="0"/>
                </a:lnTo>
                <a:lnTo>
                  <a:pt x="0" y="0"/>
                </a:lnTo>
                <a:lnTo>
                  <a:pt x="0" y="3048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7093080" y="2889360"/>
            <a:ext cx="7984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lea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129360" y="2862360"/>
            <a:ext cx="824400" cy="336960"/>
          </a:xfrm>
          <a:custGeom>
            <a:avLst/>
            <a:gdLst/>
            <a:ahLst/>
            <a:rect l="0" t="0" r="r" b="b"/>
            <a:pathLst>
              <a:path w="2290" h="936">
                <a:moveTo>
                  <a:pt x="0" y="450"/>
                </a:moveTo>
                <a:lnTo>
                  <a:pt x="268" y="0"/>
                </a:lnTo>
                <a:lnTo>
                  <a:pt x="268" y="305"/>
                </a:lnTo>
                <a:lnTo>
                  <a:pt x="2030" y="327"/>
                </a:lnTo>
                <a:lnTo>
                  <a:pt x="2030" y="30"/>
                </a:lnTo>
                <a:lnTo>
                  <a:pt x="2290" y="486"/>
                </a:lnTo>
                <a:lnTo>
                  <a:pt x="2021" y="936"/>
                </a:lnTo>
                <a:lnTo>
                  <a:pt x="2030" y="631"/>
                </a:lnTo>
                <a:lnTo>
                  <a:pt x="260" y="609"/>
                </a:lnTo>
                <a:lnTo>
                  <a:pt x="260" y="914"/>
                </a:lnTo>
                <a:lnTo>
                  <a:pt x="0" y="4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790640" y="1898640"/>
            <a:ext cx="732240" cy="2376720"/>
          </a:xfrm>
          <a:custGeom>
            <a:avLst/>
            <a:gdLst/>
            <a:ahLst/>
            <a:rect l="0" t="0" r="r" b="b"/>
            <a:pathLst>
              <a:path w="2034" h="6602">
                <a:moveTo>
                  <a:pt x="0" y="0"/>
                </a:moveTo>
                <a:lnTo>
                  <a:pt x="0" y="6602"/>
                </a:lnTo>
                <a:lnTo>
                  <a:pt x="2034" y="6602"/>
                </a:lnTo>
                <a:lnTo>
                  <a:pt x="2034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1630440" y="2948040"/>
            <a:ext cx="1055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611440" y="1898640"/>
            <a:ext cx="459000" cy="2376720"/>
          </a:xfrm>
          <a:custGeom>
            <a:avLst/>
            <a:gdLst/>
            <a:ahLst/>
            <a:rect l="0" t="0" r="r" b="b"/>
            <a:pathLst>
              <a:path w="1275" h="6602">
                <a:moveTo>
                  <a:pt x="0" y="0"/>
                </a:moveTo>
                <a:lnTo>
                  <a:pt x="0" y="6602"/>
                </a:lnTo>
                <a:lnTo>
                  <a:pt x="1275" y="6602"/>
                </a:lnTo>
                <a:lnTo>
                  <a:pt x="127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1908000" y="2962440"/>
            <a:ext cx="1863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eb Server Conn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205080" y="1898640"/>
            <a:ext cx="597240" cy="2376720"/>
          </a:xfrm>
          <a:custGeom>
            <a:avLst/>
            <a:gdLst/>
            <a:ahLst/>
            <a:rect l="0" t="0" r="r" b="b"/>
            <a:pathLst>
              <a:path w="1659" h="6602">
                <a:moveTo>
                  <a:pt x="0" y="0"/>
                </a:moveTo>
                <a:lnTo>
                  <a:pt x="0" y="6602"/>
                </a:lnTo>
                <a:lnTo>
                  <a:pt x="1659" y="6602"/>
                </a:lnTo>
                <a:lnTo>
                  <a:pt x="165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2679840" y="2965320"/>
            <a:ext cx="1689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pplication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801960" y="2870280"/>
            <a:ext cx="592560" cy="370080"/>
          </a:xfrm>
          <a:custGeom>
            <a:avLst/>
            <a:gdLst/>
            <a:ahLst/>
            <a:rect l="0" t="0" r="r" b="b"/>
            <a:pathLst>
              <a:path w="1646" h="1028">
                <a:moveTo>
                  <a:pt x="0" y="596"/>
                </a:moveTo>
                <a:lnTo>
                  <a:pt x="428" y="66"/>
                </a:lnTo>
                <a:lnTo>
                  <a:pt x="464" y="383"/>
                </a:lnTo>
                <a:lnTo>
                  <a:pt x="1151" y="313"/>
                </a:lnTo>
                <a:lnTo>
                  <a:pt x="1116" y="0"/>
                </a:lnTo>
                <a:lnTo>
                  <a:pt x="1646" y="427"/>
                </a:lnTo>
                <a:lnTo>
                  <a:pt x="1218" y="957"/>
                </a:lnTo>
                <a:lnTo>
                  <a:pt x="1187" y="644"/>
                </a:lnTo>
                <a:lnTo>
                  <a:pt x="494" y="710"/>
                </a:lnTo>
                <a:lnTo>
                  <a:pt x="530" y="1028"/>
                </a:lnTo>
                <a:lnTo>
                  <a:pt x="0" y="59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167360" y="4316400"/>
            <a:ext cx="1462320" cy="732240"/>
          </a:xfrm>
          <a:custGeom>
            <a:avLst/>
            <a:gdLst/>
            <a:ahLst/>
            <a:rect l="0" t="0" r="r" b="b"/>
            <a:pathLst>
              <a:path w="4062" h="2034">
                <a:moveTo>
                  <a:pt x="0" y="2034"/>
                </a:moveTo>
                <a:lnTo>
                  <a:pt x="4062" y="2034"/>
                </a:lnTo>
                <a:lnTo>
                  <a:pt x="4062" y="0"/>
                </a:lnTo>
                <a:lnTo>
                  <a:pt x="0" y="0"/>
                </a:lnTo>
                <a:lnTo>
                  <a:pt x="0" y="20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4465800" y="4438800"/>
            <a:ext cx="880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roker U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4413240" y="4632480"/>
            <a:ext cx="1000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ub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252960" y="5140440"/>
            <a:ext cx="549720" cy="549720"/>
          </a:xfrm>
          <a:custGeom>
            <a:avLst/>
            <a:gdLst/>
            <a:ahLst/>
            <a:rect l="0" t="0" r="r" b="b"/>
            <a:pathLst>
              <a:path w="1527" h="1527">
                <a:moveTo>
                  <a:pt x="330" y="997"/>
                </a:moveTo>
                <a:lnTo>
                  <a:pt x="0" y="997"/>
                </a:lnTo>
                <a:lnTo>
                  <a:pt x="0" y="1527"/>
                </a:lnTo>
                <a:lnTo>
                  <a:pt x="1527" y="1527"/>
                </a:lnTo>
                <a:lnTo>
                  <a:pt x="1527" y="997"/>
                </a:lnTo>
                <a:lnTo>
                  <a:pt x="1188" y="997"/>
                </a:lnTo>
                <a:lnTo>
                  <a:pt x="1188" y="927"/>
                </a:lnTo>
                <a:lnTo>
                  <a:pt x="1333" y="927"/>
                </a:lnTo>
                <a:lnTo>
                  <a:pt x="1333" y="0"/>
                </a:lnTo>
                <a:lnTo>
                  <a:pt x="194" y="0"/>
                </a:lnTo>
                <a:lnTo>
                  <a:pt x="194" y="927"/>
                </a:lnTo>
                <a:lnTo>
                  <a:pt x="330" y="927"/>
                </a:lnTo>
                <a:lnTo>
                  <a:pt x="330" y="99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371760" y="5499000"/>
            <a:ext cx="308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71760" y="5473800"/>
            <a:ext cx="308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533760" y="5514840"/>
            <a:ext cx="224280" cy="154440"/>
          </a:xfrm>
          <a:custGeom>
            <a:avLst/>
            <a:gdLst/>
            <a:ahLst/>
            <a:rect l="0" t="0" r="r" b="b"/>
            <a:pathLst>
              <a:path w="623" h="429">
                <a:moveTo>
                  <a:pt x="0" y="429"/>
                </a:moveTo>
                <a:lnTo>
                  <a:pt x="509" y="429"/>
                </a:lnTo>
                <a:lnTo>
                  <a:pt x="509" y="0"/>
                </a:lnTo>
                <a:lnTo>
                  <a:pt x="0" y="0"/>
                </a:lnTo>
                <a:lnTo>
                  <a:pt x="0" y="429"/>
                </a:lnTo>
                <a:lnTo>
                  <a:pt x="553" y="79"/>
                </a:lnTo>
                <a:lnTo>
                  <a:pt x="623" y="79"/>
                </a:lnTo>
                <a:lnTo>
                  <a:pt x="623" y="0"/>
                </a:lnTo>
                <a:lnTo>
                  <a:pt x="553" y="0"/>
                </a:lnTo>
                <a:lnTo>
                  <a:pt x="553" y="79"/>
                </a:lnTo>
                <a:lnTo>
                  <a:pt x="0" y="4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3533760" y="556740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3533760" y="561960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3541680" y="55926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639960" y="5575320"/>
            <a:ext cx="47880" cy="36720"/>
          </a:xfrm>
          <a:custGeom>
            <a:avLst/>
            <a:gdLst/>
            <a:ahLst/>
            <a:rect l="0" t="0" r="r" b="b"/>
            <a:pathLst>
              <a:path fill="none" w="133" h="102">
                <a:moveTo>
                  <a:pt x="0" y="102"/>
                </a:moveTo>
                <a:lnTo>
                  <a:pt x="133" y="102"/>
                </a:lnTo>
                <a:lnTo>
                  <a:pt x="133" y="0"/>
                </a:lnTo>
                <a:lnTo>
                  <a:pt x="0" y="0"/>
                </a:lnTo>
                <a:lnTo>
                  <a:pt x="0" y="1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270240" y="5178600"/>
            <a:ext cx="511560" cy="368640"/>
          </a:xfrm>
          <a:custGeom>
            <a:avLst/>
            <a:gdLst/>
            <a:ahLst/>
            <a:rect l="0" t="0" r="r" b="b"/>
            <a:pathLst>
              <a:path w="1421" h="1024">
                <a:moveTo>
                  <a:pt x="1197" y="733"/>
                </a:moveTo>
                <a:lnTo>
                  <a:pt x="1254" y="733"/>
                </a:lnTo>
                <a:lnTo>
                  <a:pt x="1254" y="710"/>
                </a:lnTo>
                <a:lnTo>
                  <a:pt x="1197" y="710"/>
                </a:lnTo>
                <a:lnTo>
                  <a:pt x="1197" y="733"/>
                </a:lnTo>
                <a:lnTo>
                  <a:pt x="313" y="609"/>
                </a:lnTo>
                <a:lnTo>
                  <a:pt x="313" y="66"/>
                </a:lnTo>
                <a:lnTo>
                  <a:pt x="1104" y="66"/>
                </a:lnTo>
                <a:lnTo>
                  <a:pt x="1104" y="609"/>
                </a:lnTo>
                <a:lnTo>
                  <a:pt x="313" y="609"/>
                </a:lnTo>
                <a:lnTo>
                  <a:pt x="282" y="640"/>
                </a:lnTo>
                <a:lnTo>
                  <a:pt x="1139" y="640"/>
                </a:lnTo>
                <a:lnTo>
                  <a:pt x="1139" y="30"/>
                </a:lnTo>
                <a:lnTo>
                  <a:pt x="1174" y="30"/>
                </a:lnTo>
                <a:lnTo>
                  <a:pt x="1174" y="0"/>
                </a:lnTo>
                <a:lnTo>
                  <a:pt x="246" y="0"/>
                </a:lnTo>
                <a:lnTo>
                  <a:pt x="246" y="675"/>
                </a:lnTo>
                <a:lnTo>
                  <a:pt x="282" y="675"/>
                </a:lnTo>
                <a:lnTo>
                  <a:pt x="282" y="640"/>
                </a:lnTo>
                <a:lnTo>
                  <a:pt x="0" y="993"/>
                </a:lnTo>
                <a:lnTo>
                  <a:pt x="145" y="993"/>
                </a:lnTo>
                <a:lnTo>
                  <a:pt x="145" y="935"/>
                </a:lnTo>
                <a:lnTo>
                  <a:pt x="0" y="935"/>
                </a:lnTo>
                <a:lnTo>
                  <a:pt x="0" y="993"/>
                </a:lnTo>
                <a:lnTo>
                  <a:pt x="834" y="1024"/>
                </a:lnTo>
                <a:lnTo>
                  <a:pt x="1139" y="1024"/>
                </a:lnTo>
                <a:lnTo>
                  <a:pt x="1139" y="1002"/>
                </a:lnTo>
                <a:lnTo>
                  <a:pt x="834" y="1002"/>
                </a:lnTo>
                <a:lnTo>
                  <a:pt x="834" y="1024"/>
                </a:lnTo>
                <a:lnTo>
                  <a:pt x="1377" y="971"/>
                </a:lnTo>
                <a:lnTo>
                  <a:pt x="1421" y="971"/>
                </a:lnTo>
                <a:lnTo>
                  <a:pt x="1421" y="935"/>
                </a:lnTo>
                <a:lnTo>
                  <a:pt x="1377" y="935"/>
                </a:lnTo>
                <a:lnTo>
                  <a:pt x="1377" y="971"/>
                </a:lnTo>
                <a:lnTo>
                  <a:pt x="1377" y="1015"/>
                </a:lnTo>
                <a:lnTo>
                  <a:pt x="1421" y="1015"/>
                </a:lnTo>
                <a:lnTo>
                  <a:pt x="1421" y="993"/>
                </a:lnTo>
                <a:lnTo>
                  <a:pt x="1377" y="993"/>
                </a:lnTo>
                <a:lnTo>
                  <a:pt x="1377" y="1015"/>
                </a:lnTo>
                <a:lnTo>
                  <a:pt x="1197" y="73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322800" y="545472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3424320" y="545472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525840" y="545472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2957400" y="5754600"/>
            <a:ext cx="1127520" cy="214560"/>
          </a:xfrm>
          <a:custGeom>
            <a:avLst/>
            <a:gdLst/>
            <a:ahLst/>
            <a:rect l="0" t="0" r="r" b="b"/>
            <a:pathLst>
              <a:path w="3132" h="596">
                <a:moveTo>
                  <a:pt x="0" y="0"/>
                </a:moveTo>
                <a:lnTo>
                  <a:pt x="0" y="596"/>
                </a:lnTo>
                <a:lnTo>
                  <a:pt x="3132" y="596"/>
                </a:lnTo>
                <a:lnTo>
                  <a:pt x="31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2881440" y="5721480"/>
            <a:ext cx="1322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roker Deskt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4748040" y="3605040"/>
            <a:ext cx="406800" cy="711720"/>
          </a:xfrm>
          <a:custGeom>
            <a:avLst/>
            <a:gdLst/>
            <a:ahLst/>
            <a:rect l="0" t="0" r="r" b="b"/>
            <a:pathLst>
              <a:path w="1130" h="1977">
                <a:moveTo>
                  <a:pt x="419" y="1977"/>
                </a:moveTo>
                <a:lnTo>
                  <a:pt x="0" y="1651"/>
                </a:lnTo>
                <a:lnTo>
                  <a:pt x="305" y="1695"/>
                </a:lnTo>
                <a:lnTo>
                  <a:pt x="530" y="224"/>
                </a:lnTo>
                <a:lnTo>
                  <a:pt x="238" y="180"/>
                </a:lnTo>
                <a:lnTo>
                  <a:pt x="724" y="0"/>
                </a:lnTo>
                <a:lnTo>
                  <a:pt x="1130" y="326"/>
                </a:lnTo>
                <a:lnTo>
                  <a:pt x="834" y="282"/>
                </a:lnTo>
                <a:lnTo>
                  <a:pt x="609" y="1739"/>
                </a:lnTo>
                <a:lnTo>
                  <a:pt x="905" y="1783"/>
                </a:lnTo>
                <a:lnTo>
                  <a:pt x="419" y="197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3801960" y="4978440"/>
            <a:ext cx="1097280" cy="641880"/>
          </a:xfrm>
          <a:custGeom>
            <a:avLst/>
            <a:gdLst/>
            <a:ahLst/>
            <a:rect l="0" t="0" r="r" b="b"/>
            <a:pathLst>
              <a:path w="3048" h="1783">
                <a:moveTo>
                  <a:pt x="3048" y="194"/>
                </a:moveTo>
                <a:lnTo>
                  <a:pt x="3012" y="530"/>
                </a:lnTo>
                <a:lnTo>
                  <a:pt x="2933" y="348"/>
                </a:lnTo>
                <a:lnTo>
                  <a:pt x="189" y="1615"/>
                </a:lnTo>
                <a:lnTo>
                  <a:pt x="268" y="1783"/>
                </a:lnTo>
                <a:lnTo>
                  <a:pt x="0" y="1593"/>
                </a:lnTo>
                <a:lnTo>
                  <a:pt x="22" y="1253"/>
                </a:lnTo>
                <a:lnTo>
                  <a:pt x="101" y="1435"/>
                </a:lnTo>
                <a:lnTo>
                  <a:pt x="2854" y="167"/>
                </a:lnTo>
                <a:lnTo>
                  <a:pt x="2774" y="0"/>
                </a:lnTo>
                <a:lnTo>
                  <a:pt x="3048" y="1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6178680" y="5230800"/>
            <a:ext cx="547920" cy="547920"/>
          </a:xfrm>
          <a:custGeom>
            <a:avLst/>
            <a:gdLst/>
            <a:ahLst/>
            <a:rect l="0" t="0" r="r" b="b"/>
            <a:pathLst>
              <a:path w="1522" h="1522">
                <a:moveTo>
                  <a:pt x="326" y="1006"/>
                </a:moveTo>
                <a:lnTo>
                  <a:pt x="0" y="1006"/>
                </a:lnTo>
                <a:lnTo>
                  <a:pt x="0" y="1522"/>
                </a:lnTo>
                <a:lnTo>
                  <a:pt x="1522" y="1522"/>
                </a:lnTo>
                <a:lnTo>
                  <a:pt x="1522" y="1006"/>
                </a:lnTo>
                <a:lnTo>
                  <a:pt x="1182" y="1006"/>
                </a:lnTo>
                <a:lnTo>
                  <a:pt x="1182" y="927"/>
                </a:lnTo>
                <a:lnTo>
                  <a:pt x="1332" y="927"/>
                </a:lnTo>
                <a:lnTo>
                  <a:pt x="1332" y="0"/>
                </a:lnTo>
                <a:lnTo>
                  <a:pt x="189" y="0"/>
                </a:lnTo>
                <a:lnTo>
                  <a:pt x="189" y="927"/>
                </a:lnTo>
                <a:lnTo>
                  <a:pt x="326" y="927"/>
                </a:lnTo>
                <a:lnTo>
                  <a:pt x="326" y="10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6296040" y="5592600"/>
            <a:ext cx="307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6296040" y="5564160"/>
            <a:ext cx="307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6458040" y="5608800"/>
            <a:ext cx="224280" cy="154440"/>
          </a:xfrm>
          <a:custGeom>
            <a:avLst/>
            <a:gdLst/>
            <a:ahLst/>
            <a:rect l="0" t="0" r="r" b="b"/>
            <a:pathLst>
              <a:path w="623" h="429">
                <a:moveTo>
                  <a:pt x="0" y="429"/>
                </a:moveTo>
                <a:lnTo>
                  <a:pt x="509" y="429"/>
                </a:lnTo>
                <a:lnTo>
                  <a:pt x="509" y="0"/>
                </a:lnTo>
                <a:lnTo>
                  <a:pt x="0" y="0"/>
                </a:lnTo>
                <a:lnTo>
                  <a:pt x="0" y="429"/>
                </a:lnTo>
                <a:lnTo>
                  <a:pt x="557" y="66"/>
                </a:lnTo>
                <a:lnTo>
                  <a:pt x="623" y="66"/>
                </a:lnTo>
                <a:lnTo>
                  <a:pt x="623" y="0"/>
                </a:lnTo>
                <a:lnTo>
                  <a:pt x="557" y="0"/>
                </a:lnTo>
                <a:lnTo>
                  <a:pt x="557" y="66"/>
                </a:lnTo>
                <a:lnTo>
                  <a:pt x="0" y="4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458040" y="566100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458040" y="571032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465960" y="568476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564240" y="5668920"/>
            <a:ext cx="47880" cy="33840"/>
          </a:xfrm>
          <a:custGeom>
            <a:avLst/>
            <a:gdLst/>
            <a:ahLst/>
            <a:rect l="0" t="0" r="r" b="b"/>
            <a:pathLst>
              <a:path fill="none" w="133" h="94">
                <a:moveTo>
                  <a:pt x="0" y="94"/>
                </a:moveTo>
                <a:lnTo>
                  <a:pt x="133" y="94"/>
                </a:lnTo>
                <a:lnTo>
                  <a:pt x="133" y="0"/>
                </a:lnTo>
                <a:lnTo>
                  <a:pt x="0" y="0"/>
                </a:lnTo>
                <a:lnTo>
                  <a:pt x="0" y="9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6194520" y="5270400"/>
            <a:ext cx="511560" cy="367200"/>
          </a:xfrm>
          <a:custGeom>
            <a:avLst/>
            <a:gdLst/>
            <a:ahLst/>
            <a:rect l="0" t="0" r="r" b="b"/>
            <a:pathLst>
              <a:path w="1421" h="1020">
                <a:moveTo>
                  <a:pt x="1197" y="724"/>
                </a:moveTo>
                <a:lnTo>
                  <a:pt x="1254" y="724"/>
                </a:lnTo>
                <a:lnTo>
                  <a:pt x="1254" y="715"/>
                </a:lnTo>
                <a:lnTo>
                  <a:pt x="1197" y="715"/>
                </a:lnTo>
                <a:lnTo>
                  <a:pt x="1197" y="724"/>
                </a:lnTo>
                <a:lnTo>
                  <a:pt x="313" y="600"/>
                </a:lnTo>
                <a:lnTo>
                  <a:pt x="313" y="70"/>
                </a:lnTo>
                <a:lnTo>
                  <a:pt x="1108" y="70"/>
                </a:lnTo>
                <a:lnTo>
                  <a:pt x="1108" y="600"/>
                </a:lnTo>
                <a:lnTo>
                  <a:pt x="313" y="600"/>
                </a:lnTo>
                <a:lnTo>
                  <a:pt x="282" y="644"/>
                </a:lnTo>
                <a:lnTo>
                  <a:pt x="1139" y="644"/>
                </a:lnTo>
                <a:lnTo>
                  <a:pt x="1139" y="35"/>
                </a:lnTo>
                <a:lnTo>
                  <a:pt x="1174" y="35"/>
                </a:lnTo>
                <a:lnTo>
                  <a:pt x="1174" y="0"/>
                </a:lnTo>
                <a:lnTo>
                  <a:pt x="246" y="0"/>
                </a:lnTo>
                <a:lnTo>
                  <a:pt x="246" y="680"/>
                </a:lnTo>
                <a:lnTo>
                  <a:pt x="282" y="680"/>
                </a:lnTo>
                <a:lnTo>
                  <a:pt x="282" y="644"/>
                </a:lnTo>
                <a:lnTo>
                  <a:pt x="0" y="985"/>
                </a:lnTo>
                <a:lnTo>
                  <a:pt x="145" y="985"/>
                </a:lnTo>
                <a:lnTo>
                  <a:pt x="145" y="941"/>
                </a:lnTo>
                <a:lnTo>
                  <a:pt x="0" y="941"/>
                </a:lnTo>
                <a:lnTo>
                  <a:pt x="0" y="985"/>
                </a:lnTo>
                <a:lnTo>
                  <a:pt x="834" y="1020"/>
                </a:lnTo>
                <a:lnTo>
                  <a:pt x="1139" y="1020"/>
                </a:lnTo>
                <a:lnTo>
                  <a:pt x="1139" y="998"/>
                </a:lnTo>
                <a:lnTo>
                  <a:pt x="834" y="998"/>
                </a:lnTo>
                <a:lnTo>
                  <a:pt x="834" y="1020"/>
                </a:lnTo>
                <a:lnTo>
                  <a:pt x="1377" y="963"/>
                </a:lnTo>
                <a:lnTo>
                  <a:pt x="1421" y="963"/>
                </a:lnTo>
                <a:lnTo>
                  <a:pt x="1421" y="941"/>
                </a:lnTo>
                <a:lnTo>
                  <a:pt x="1377" y="941"/>
                </a:lnTo>
                <a:lnTo>
                  <a:pt x="1377" y="963"/>
                </a:lnTo>
                <a:lnTo>
                  <a:pt x="1377" y="1007"/>
                </a:lnTo>
                <a:lnTo>
                  <a:pt x="1421" y="1007"/>
                </a:lnTo>
                <a:lnTo>
                  <a:pt x="1421" y="985"/>
                </a:lnTo>
                <a:lnTo>
                  <a:pt x="1377" y="985"/>
                </a:lnTo>
                <a:lnTo>
                  <a:pt x="1377" y="1007"/>
                </a:lnTo>
                <a:lnTo>
                  <a:pt x="1197" y="7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246720" y="5546880"/>
            <a:ext cx="41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6348240" y="554688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6450120" y="554688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5881680" y="5848200"/>
            <a:ext cx="1127520" cy="214560"/>
          </a:xfrm>
          <a:custGeom>
            <a:avLst/>
            <a:gdLst/>
            <a:ahLst/>
            <a:rect l="0" t="0" r="r" b="b"/>
            <a:pathLst>
              <a:path w="3132" h="596">
                <a:moveTo>
                  <a:pt x="0" y="0"/>
                </a:moveTo>
                <a:lnTo>
                  <a:pt x="0" y="596"/>
                </a:lnTo>
                <a:lnTo>
                  <a:pt x="3132" y="596"/>
                </a:lnTo>
                <a:lnTo>
                  <a:pt x="31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 txBox="1"/>
          <p:nvPr/>
        </p:nvSpPr>
        <p:spPr>
          <a:xfrm>
            <a:off x="5805360" y="5811840"/>
            <a:ext cx="1322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roker Deskt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4898880" y="4983120"/>
            <a:ext cx="1279800" cy="727560"/>
          </a:xfrm>
          <a:custGeom>
            <a:avLst/>
            <a:gdLst/>
            <a:ahLst/>
            <a:rect l="0" t="0" r="r" b="b"/>
            <a:pathLst>
              <a:path w="3555" h="2021">
                <a:moveTo>
                  <a:pt x="0" y="180"/>
                </a:moveTo>
                <a:lnTo>
                  <a:pt x="260" y="0"/>
                </a:lnTo>
                <a:lnTo>
                  <a:pt x="180" y="167"/>
                </a:lnTo>
                <a:lnTo>
                  <a:pt x="3440" y="1682"/>
                </a:lnTo>
                <a:lnTo>
                  <a:pt x="3519" y="1513"/>
                </a:lnTo>
                <a:lnTo>
                  <a:pt x="3555" y="1827"/>
                </a:lnTo>
                <a:lnTo>
                  <a:pt x="3281" y="2021"/>
                </a:lnTo>
                <a:lnTo>
                  <a:pt x="3361" y="1849"/>
                </a:lnTo>
                <a:lnTo>
                  <a:pt x="101" y="335"/>
                </a:lnTo>
                <a:lnTo>
                  <a:pt x="22" y="508"/>
                </a:lnTo>
                <a:lnTo>
                  <a:pt x="0" y="1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457200" y="685800"/>
            <a:ext cx="79246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er Sub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529080" y="1569960"/>
            <a:ext cx="1811520" cy="3978720"/>
          </a:xfrm>
          <a:custGeom>
            <a:avLst/>
            <a:gdLst/>
            <a:ahLst/>
            <a:rect l="0" t="0" r="r" b="b"/>
            <a:pathLst>
              <a:path w="5032" h="11052">
                <a:moveTo>
                  <a:pt x="0" y="11052"/>
                </a:moveTo>
                <a:lnTo>
                  <a:pt x="5032" y="11052"/>
                </a:lnTo>
                <a:lnTo>
                  <a:pt x="5032" y="0"/>
                </a:lnTo>
                <a:lnTo>
                  <a:pt x="0" y="0"/>
                </a:lnTo>
                <a:lnTo>
                  <a:pt x="0" y="11052"/>
                </a:lnTo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3732120" y="1603440"/>
            <a:ext cx="142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970440" y="1787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539720" y="2089080"/>
            <a:ext cx="433800" cy="435240"/>
          </a:xfrm>
          <a:custGeom>
            <a:avLst/>
            <a:gdLst/>
            <a:ahLst/>
            <a:rect l="0" t="0" r="r" b="b"/>
            <a:pathLst>
              <a:path w="1205" h="1209">
                <a:moveTo>
                  <a:pt x="268" y="790"/>
                </a:moveTo>
                <a:lnTo>
                  <a:pt x="0" y="790"/>
                </a:lnTo>
                <a:lnTo>
                  <a:pt x="0" y="1209"/>
                </a:lnTo>
                <a:lnTo>
                  <a:pt x="1205" y="1209"/>
                </a:lnTo>
                <a:lnTo>
                  <a:pt x="1205" y="790"/>
                </a:lnTo>
                <a:lnTo>
                  <a:pt x="941" y="790"/>
                </a:lnTo>
                <a:lnTo>
                  <a:pt x="941" y="737"/>
                </a:lnTo>
                <a:lnTo>
                  <a:pt x="1060" y="737"/>
                </a:lnTo>
                <a:lnTo>
                  <a:pt x="1060" y="0"/>
                </a:lnTo>
                <a:lnTo>
                  <a:pt x="149" y="0"/>
                </a:lnTo>
                <a:lnTo>
                  <a:pt x="149" y="737"/>
                </a:lnTo>
                <a:lnTo>
                  <a:pt x="268" y="737"/>
                </a:lnTo>
                <a:lnTo>
                  <a:pt x="268" y="79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636560" y="2373480"/>
            <a:ext cx="241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636560" y="2354400"/>
            <a:ext cx="241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762200" y="2386080"/>
            <a:ext cx="178200" cy="122760"/>
          </a:xfrm>
          <a:custGeom>
            <a:avLst/>
            <a:gdLst/>
            <a:ahLst/>
            <a:rect l="0" t="0" r="r" b="b"/>
            <a:pathLst>
              <a:path w="495" h="341">
                <a:moveTo>
                  <a:pt x="0" y="341"/>
                </a:moveTo>
                <a:lnTo>
                  <a:pt x="398" y="341"/>
                </a:lnTo>
                <a:lnTo>
                  <a:pt x="398" y="0"/>
                </a:lnTo>
                <a:lnTo>
                  <a:pt x="0" y="0"/>
                </a:lnTo>
                <a:lnTo>
                  <a:pt x="0" y="341"/>
                </a:lnTo>
                <a:lnTo>
                  <a:pt x="442" y="61"/>
                </a:lnTo>
                <a:lnTo>
                  <a:pt x="495" y="61"/>
                </a:lnTo>
                <a:lnTo>
                  <a:pt x="495" y="0"/>
                </a:lnTo>
                <a:lnTo>
                  <a:pt x="442" y="0"/>
                </a:lnTo>
                <a:lnTo>
                  <a:pt x="442" y="61"/>
                </a:lnTo>
                <a:lnTo>
                  <a:pt x="0" y="34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762200" y="24271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762200" y="24703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770120" y="24462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843200" y="2435400"/>
            <a:ext cx="43200" cy="27360"/>
          </a:xfrm>
          <a:custGeom>
            <a:avLst/>
            <a:gdLst/>
            <a:ahLst/>
            <a:rect l="0" t="0" r="r" b="b"/>
            <a:pathLst>
              <a:path fill="none" w="120" h="76">
                <a:moveTo>
                  <a:pt x="0" y="76"/>
                </a:moveTo>
                <a:lnTo>
                  <a:pt x="120" y="76"/>
                </a:lnTo>
                <a:lnTo>
                  <a:pt x="120" y="0"/>
                </a:lnTo>
                <a:lnTo>
                  <a:pt x="0" y="0"/>
                </a:lnTo>
                <a:lnTo>
                  <a:pt x="0" y="7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555920" y="2120760"/>
            <a:ext cx="403560" cy="292320"/>
          </a:xfrm>
          <a:custGeom>
            <a:avLst/>
            <a:gdLst/>
            <a:ahLst/>
            <a:rect l="0" t="0" r="r" b="b"/>
            <a:pathLst>
              <a:path w="1121" h="812">
                <a:moveTo>
                  <a:pt x="940" y="574"/>
                </a:moveTo>
                <a:lnTo>
                  <a:pt x="979" y="574"/>
                </a:lnTo>
                <a:lnTo>
                  <a:pt x="979" y="565"/>
                </a:lnTo>
                <a:lnTo>
                  <a:pt x="940" y="565"/>
                </a:lnTo>
                <a:lnTo>
                  <a:pt x="940" y="574"/>
                </a:lnTo>
                <a:lnTo>
                  <a:pt x="242" y="481"/>
                </a:lnTo>
                <a:lnTo>
                  <a:pt x="242" y="52"/>
                </a:lnTo>
                <a:lnTo>
                  <a:pt x="865" y="52"/>
                </a:lnTo>
                <a:lnTo>
                  <a:pt x="865" y="481"/>
                </a:lnTo>
                <a:lnTo>
                  <a:pt x="242" y="481"/>
                </a:lnTo>
                <a:lnTo>
                  <a:pt x="224" y="499"/>
                </a:lnTo>
                <a:lnTo>
                  <a:pt x="896" y="499"/>
                </a:lnTo>
                <a:lnTo>
                  <a:pt x="896" y="30"/>
                </a:lnTo>
                <a:lnTo>
                  <a:pt x="927" y="30"/>
                </a:lnTo>
                <a:lnTo>
                  <a:pt x="927" y="0"/>
                </a:lnTo>
                <a:lnTo>
                  <a:pt x="189" y="0"/>
                </a:lnTo>
                <a:lnTo>
                  <a:pt x="189" y="534"/>
                </a:lnTo>
                <a:lnTo>
                  <a:pt x="224" y="534"/>
                </a:lnTo>
                <a:lnTo>
                  <a:pt x="224" y="499"/>
                </a:lnTo>
                <a:lnTo>
                  <a:pt x="0" y="777"/>
                </a:lnTo>
                <a:lnTo>
                  <a:pt x="105" y="777"/>
                </a:lnTo>
                <a:lnTo>
                  <a:pt x="105" y="737"/>
                </a:lnTo>
                <a:lnTo>
                  <a:pt x="0" y="737"/>
                </a:lnTo>
                <a:lnTo>
                  <a:pt x="0" y="777"/>
                </a:lnTo>
                <a:lnTo>
                  <a:pt x="649" y="812"/>
                </a:lnTo>
                <a:lnTo>
                  <a:pt x="896" y="812"/>
                </a:lnTo>
                <a:lnTo>
                  <a:pt x="896" y="790"/>
                </a:lnTo>
                <a:lnTo>
                  <a:pt x="649" y="790"/>
                </a:lnTo>
                <a:lnTo>
                  <a:pt x="649" y="812"/>
                </a:lnTo>
                <a:lnTo>
                  <a:pt x="1090" y="755"/>
                </a:lnTo>
                <a:lnTo>
                  <a:pt x="1121" y="755"/>
                </a:lnTo>
                <a:lnTo>
                  <a:pt x="1121" y="737"/>
                </a:lnTo>
                <a:lnTo>
                  <a:pt x="1090" y="737"/>
                </a:lnTo>
                <a:lnTo>
                  <a:pt x="1090" y="755"/>
                </a:lnTo>
                <a:lnTo>
                  <a:pt x="1090" y="799"/>
                </a:lnTo>
                <a:lnTo>
                  <a:pt x="1121" y="799"/>
                </a:lnTo>
                <a:lnTo>
                  <a:pt x="1121" y="777"/>
                </a:lnTo>
                <a:lnTo>
                  <a:pt x="1090" y="777"/>
                </a:lnTo>
                <a:lnTo>
                  <a:pt x="1090" y="799"/>
                </a:lnTo>
                <a:lnTo>
                  <a:pt x="940" y="5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593720" y="2340000"/>
            <a:ext cx="32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1674720" y="23400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1755720" y="23400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1386000" y="2584440"/>
            <a:ext cx="729000" cy="203400"/>
          </a:xfrm>
          <a:custGeom>
            <a:avLst/>
            <a:gdLst/>
            <a:ahLst/>
            <a:rect l="0" t="0" r="r" b="b"/>
            <a:pathLst>
              <a:path w="2025" h="565">
                <a:moveTo>
                  <a:pt x="0" y="0"/>
                </a:moveTo>
                <a:lnTo>
                  <a:pt x="0" y="565"/>
                </a:lnTo>
                <a:lnTo>
                  <a:pt x="2025" y="565"/>
                </a:lnTo>
                <a:lnTo>
                  <a:pt x="202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1309680" y="255600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973160" y="2416320"/>
            <a:ext cx="865440" cy="1144800"/>
          </a:xfrm>
          <a:custGeom>
            <a:avLst/>
            <a:gdLst/>
            <a:ahLst/>
            <a:rect l="0" t="0" r="r" b="b"/>
            <a:pathLst>
              <a:path w="2404" h="3180">
                <a:moveTo>
                  <a:pt x="0" y="0"/>
                </a:moveTo>
                <a:lnTo>
                  <a:pt x="1539" y="1632"/>
                </a:lnTo>
                <a:lnTo>
                  <a:pt x="1155" y="1685"/>
                </a:lnTo>
                <a:lnTo>
                  <a:pt x="2404" y="3180"/>
                </a:lnTo>
                <a:lnTo>
                  <a:pt x="864" y="1534"/>
                </a:lnTo>
                <a:lnTo>
                  <a:pt x="1240" y="14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119640" y="2897280"/>
            <a:ext cx="1630800" cy="1084680"/>
          </a:xfrm>
          <a:custGeom>
            <a:avLst/>
            <a:gdLst/>
            <a:ahLst/>
            <a:rect l="0" t="0" r="r" b="b"/>
            <a:pathLst>
              <a:path w="4530" h="3013">
                <a:moveTo>
                  <a:pt x="657" y="2243"/>
                </a:moveTo>
                <a:lnTo>
                  <a:pt x="754" y="2432"/>
                </a:lnTo>
                <a:lnTo>
                  <a:pt x="872" y="2611"/>
                </a:lnTo>
                <a:lnTo>
                  <a:pt x="999" y="2760"/>
                </a:lnTo>
                <a:lnTo>
                  <a:pt x="1149" y="2878"/>
                </a:lnTo>
                <a:lnTo>
                  <a:pt x="1307" y="2961"/>
                </a:lnTo>
                <a:lnTo>
                  <a:pt x="1474" y="3005"/>
                </a:lnTo>
                <a:lnTo>
                  <a:pt x="1645" y="3013"/>
                </a:lnTo>
                <a:lnTo>
                  <a:pt x="1816" y="2983"/>
                </a:lnTo>
                <a:lnTo>
                  <a:pt x="1973" y="2922"/>
                </a:lnTo>
                <a:lnTo>
                  <a:pt x="2122" y="2825"/>
                </a:lnTo>
                <a:lnTo>
                  <a:pt x="2258" y="2685"/>
                </a:lnTo>
                <a:lnTo>
                  <a:pt x="2407" y="2825"/>
                </a:lnTo>
                <a:lnTo>
                  <a:pt x="2556" y="2922"/>
                </a:lnTo>
                <a:lnTo>
                  <a:pt x="2714" y="2983"/>
                </a:lnTo>
                <a:lnTo>
                  <a:pt x="2885" y="3013"/>
                </a:lnTo>
                <a:lnTo>
                  <a:pt x="3056" y="3005"/>
                </a:lnTo>
                <a:lnTo>
                  <a:pt x="3214" y="2961"/>
                </a:lnTo>
                <a:lnTo>
                  <a:pt x="3372" y="2878"/>
                </a:lnTo>
                <a:lnTo>
                  <a:pt x="3522" y="2760"/>
                </a:lnTo>
                <a:lnTo>
                  <a:pt x="3662" y="2611"/>
                </a:lnTo>
                <a:lnTo>
                  <a:pt x="3767" y="2432"/>
                </a:lnTo>
                <a:lnTo>
                  <a:pt x="3864" y="2243"/>
                </a:lnTo>
                <a:lnTo>
                  <a:pt x="3991" y="2261"/>
                </a:lnTo>
                <a:lnTo>
                  <a:pt x="4105" y="2243"/>
                </a:lnTo>
                <a:lnTo>
                  <a:pt x="4223" y="2191"/>
                </a:lnTo>
                <a:lnTo>
                  <a:pt x="4329" y="2103"/>
                </a:lnTo>
                <a:lnTo>
                  <a:pt x="4412" y="1989"/>
                </a:lnTo>
                <a:lnTo>
                  <a:pt x="4478" y="1841"/>
                </a:lnTo>
                <a:lnTo>
                  <a:pt x="4522" y="1679"/>
                </a:lnTo>
                <a:lnTo>
                  <a:pt x="4530" y="1513"/>
                </a:lnTo>
                <a:lnTo>
                  <a:pt x="4522" y="1342"/>
                </a:lnTo>
                <a:lnTo>
                  <a:pt x="4478" y="1172"/>
                </a:lnTo>
                <a:lnTo>
                  <a:pt x="4412" y="1037"/>
                </a:lnTo>
                <a:lnTo>
                  <a:pt x="4329" y="910"/>
                </a:lnTo>
                <a:lnTo>
                  <a:pt x="4223" y="822"/>
                </a:lnTo>
                <a:lnTo>
                  <a:pt x="4105" y="770"/>
                </a:lnTo>
                <a:lnTo>
                  <a:pt x="3991" y="747"/>
                </a:lnTo>
                <a:lnTo>
                  <a:pt x="3864" y="783"/>
                </a:lnTo>
                <a:lnTo>
                  <a:pt x="3767" y="581"/>
                </a:lnTo>
                <a:lnTo>
                  <a:pt x="3662" y="397"/>
                </a:lnTo>
                <a:lnTo>
                  <a:pt x="3522" y="253"/>
                </a:lnTo>
                <a:lnTo>
                  <a:pt x="3372" y="135"/>
                </a:lnTo>
                <a:lnTo>
                  <a:pt x="3214" y="52"/>
                </a:lnTo>
                <a:lnTo>
                  <a:pt x="3056" y="8"/>
                </a:lnTo>
                <a:lnTo>
                  <a:pt x="2885" y="0"/>
                </a:lnTo>
                <a:lnTo>
                  <a:pt x="2714" y="30"/>
                </a:lnTo>
                <a:lnTo>
                  <a:pt x="2556" y="91"/>
                </a:lnTo>
                <a:lnTo>
                  <a:pt x="2407" y="196"/>
                </a:lnTo>
                <a:lnTo>
                  <a:pt x="2258" y="327"/>
                </a:lnTo>
                <a:lnTo>
                  <a:pt x="2122" y="196"/>
                </a:lnTo>
                <a:lnTo>
                  <a:pt x="1973" y="91"/>
                </a:lnTo>
                <a:lnTo>
                  <a:pt x="1816" y="30"/>
                </a:lnTo>
                <a:lnTo>
                  <a:pt x="1645" y="0"/>
                </a:lnTo>
                <a:lnTo>
                  <a:pt x="1474" y="8"/>
                </a:lnTo>
                <a:lnTo>
                  <a:pt x="1307" y="52"/>
                </a:lnTo>
                <a:lnTo>
                  <a:pt x="1149" y="135"/>
                </a:lnTo>
                <a:lnTo>
                  <a:pt x="999" y="253"/>
                </a:lnTo>
                <a:lnTo>
                  <a:pt x="872" y="397"/>
                </a:lnTo>
                <a:lnTo>
                  <a:pt x="754" y="581"/>
                </a:lnTo>
                <a:lnTo>
                  <a:pt x="657" y="783"/>
                </a:lnTo>
                <a:lnTo>
                  <a:pt x="543" y="747"/>
                </a:lnTo>
                <a:lnTo>
                  <a:pt x="425" y="770"/>
                </a:lnTo>
                <a:lnTo>
                  <a:pt x="306" y="822"/>
                </a:lnTo>
                <a:lnTo>
                  <a:pt x="201" y="910"/>
                </a:lnTo>
                <a:lnTo>
                  <a:pt x="118" y="1037"/>
                </a:lnTo>
                <a:lnTo>
                  <a:pt x="52" y="1172"/>
                </a:lnTo>
                <a:lnTo>
                  <a:pt x="13" y="1342"/>
                </a:lnTo>
                <a:lnTo>
                  <a:pt x="0" y="1513"/>
                </a:lnTo>
                <a:lnTo>
                  <a:pt x="13" y="1679"/>
                </a:lnTo>
                <a:lnTo>
                  <a:pt x="52" y="1841"/>
                </a:lnTo>
                <a:lnTo>
                  <a:pt x="118" y="1989"/>
                </a:lnTo>
                <a:lnTo>
                  <a:pt x="201" y="2103"/>
                </a:lnTo>
                <a:lnTo>
                  <a:pt x="306" y="2191"/>
                </a:lnTo>
                <a:lnTo>
                  <a:pt x="425" y="2243"/>
                </a:lnTo>
                <a:lnTo>
                  <a:pt x="543" y="2261"/>
                </a:lnTo>
                <a:lnTo>
                  <a:pt x="657" y="22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357960" y="3711600"/>
            <a:ext cx="54360" cy="95760"/>
          </a:xfrm>
          <a:custGeom>
            <a:avLst/>
            <a:gdLst/>
            <a:ahLst/>
            <a:rect l="0" t="0" r="r" b="b"/>
            <a:pathLst>
              <a:path fill="none" w="151" h="266">
                <a:moveTo>
                  <a:pt x="0" y="0"/>
                </a:moveTo>
                <a:lnTo>
                  <a:pt x="98" y="190"/>
                </a:lnTo>
                <a:lnTo>
                  <a:pt x="151" y="26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450120" y="3863880"/>
            <a:ext cx="81360" cy="73440"/>
          </a:xfrm>
          <a:custGeom>
            <a:avLst/>
            <a:gdLst/>
            <a:ahLst/>
            <a:rect l="0" t="0" r="r" b="b"/>
            <a:pathLst>
              <a:path fill="none" w="226" h="204">
                <a:moveTo>
                  <a:pt x="0" y="0"/>
                </a:moveTo>
                <a:lnTo>
                  <a:pt x="89" y="98"/>
                </a:lnTo>
                <a:lnTo>
                  <a:pt x="226" y="20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6593040" y="3971880"/>
            <a:ext cx="108360" cy="19440"/>
          </a:xfrm>
          <a:custGeom>
            <a:avLst/>
            <a:gdLst/>
            <a:ahLst/>
            <a:rect l="0" t="0" r="r" b="b"/>
            <a:pathLst>
              <a:path fill="none" w="301" h="54">
                <a:moveTo>
                  <a:pt x="0" y="0"/>
                </a:moveTo>
                <a:lnTo>
                  <a:pt x="168" y="46"/>
                </a:lnTo>
                <a:lnTo>
                  <a:pt x="301" y="5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769080" y="3933720"/>
            <a:ext cx="100440" cy="46440"/>
          </a:xfrm>
          <a:custGeom>
            <a:avLst/>
            <a:gdLst/>
            <a:ahLst/>
            <a:rect l="0" t="0" r="r" b="b"/>
            <a:pathLst>
              <a:path fill="none" w="279" h="129">
                <a:moveTo>
                  <a:pt x="0" y="129"/>
                </a:moveTo>
                <a:lnTo>
                  <a:pt x="22" y="129"/>
                </a:lnTo>
                <a:lnTo>
                  <a:pt x="181" y="67"/>
                </a:lnTo>
                <a:lnTo>
                  <a:pt x="279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923160" y="3871800"/>
            <a:ext cx="81360" cy="59040"/>
          </a:xfrm>
          <a:custGeom>
            <a:avLst/>
            <a:gdLst/>
            <a:ahLst/>
            <a:rect l="0" t="0" r="r" b="b"/>
            <a:pathLst>
              <a:path fill="none" w="226" h="164">
                <a:moveTo>
                  <a:pt x="0" y="44"/>
                </a:moveTo>
                <a:lnTo>
                  <a:pt x="39" y="0"/>
                </a:lnTo>
                <a:lnTo>
                  <a:pt x="191" y="142"/>
                </a:lnTo>
                <a:lnTo>
                  <a:pt x="226" y="16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7064280" y="3963960"/>
            <a:ext cx="108360" cy="27360"/>
          </a:xfrm>
          <a:custGeom>
            <a:avLst/>
            <a:gdLst/>
            <a:ahLst/>
            <a:rect l="0" t="0" r="r" b="b"/>
            <a:pathLst>
              <a:path fill="none" w="301" h="76">
                <a:moveTo>
                  <a:pt x="0" y="0"/>
                </a:moveTo>
                <a:lnTo>
                  <a:pt x="106" y="45"/>
                </a:lnTo>
                <a:lnTo>
                  <a:pt x="279" y="76"/>
                </a:lnTo>
                <a:lnTo>
                  <a:pt x="301" y="7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7240680" y="3941640"/>
            <a:ext cx="100440" cy="41760"/>
          </a:xfrm>
          <a:custGeom>
            <a:avLst/>
            <a:gdLst/>
            <a:ahLst/>
            <a:rect l="0" t="0" r="r" b="b"/>
            <a:pathLst>
              <a:path fill="none" w="279" h="116">
                <a:moveTo>
                  <a:pt x="0" y="116"/>
                </a:moveTo>
                <a:lnTo>
                  <a:pt x="120" y="84"/>
                </a:lnTo>
                <a:lnTo>
                  <a:pt x="279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7394400" y="3814920"/>
            <a:ext cx="70200" cy="84600"/>
          </a:xfrm>
          <a:custGeom>
            <a:avLst/>
            <a:gdLst/>
            <a:ahLst/>
            <a:rect l="0" t="0" r="r" b="b"/>
            <a:pathLst>
              <a:path fill="none" w="195" h="235">
                <a:moveTo>
                  <a:pt x="0" y="235"/>
                </a:moveTo>
                <a:lnTo>
                  <a:pt x="142" y="84"/>
                </a:lnTo>
                <a:lnTo>
                  <a:pt x="195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494480" y="3711600"/>
            <a:ext cx="84600" cy="41760"/>
          </a:xfrm>
          <a:custGeom>
            <a:avLst/>
            <a:gdLst/>
            <a:ahLst/>
            <a:rect l="0" t="0" r="r" b="b"/>
            <a:pathLst>
              <a:path fill="none" w="235" h="116">
                <a:moveTo>
                  <a:pt x="0" y="116"/>
                </a:moveTo>
                <a:lnTo>
                  <a:pt x="67" y="0"/>
                </a:lnTo>
                <a:lnTo>
                  <a:pt x="196" y="17"/>
                </a:lnTo>
                <a:lnTo>
                  <a:pt x="235" y="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7643880" y="36147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13" y="217"/>
                </a:lnTo>
                <a:lnTo>
                  <a:pt x="120" y="128"/>
                </a:lnTo>
                <a:lnTo>
                  <a:pt x="203" y="13"/>
                </a:lnTo>
                <a:lnTo>
                  <a:pt x="217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7743960" y="3441600"/>
            <a:ext cx="16200" cy="108360"/>
          </a:xfrm>
          <a:custGeom>
            <a:avLst/>
            <a:gdLst/>
            <a:ahLst/>
            <a:rect l="0" t="0" r="r" b="b"/>
            <a:pathLst>
              <a:path fill="none" w="45" h="301">
                <a:moveTo>
                  <a:pt x="0" y="301"/>
                </a:moveTo>
                <a:lnTo>
                  <a:pt x="36" y="181"/>
                </a:lnTo>
                <a:lnTo>
                  <a:pt x="45" y="13"/>
                </a:lnTo>
                <a:lnTo>
                  <a:pt x="45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7713720" y="3268800"/>
            <a:ext cx="38520" cy="105120"/>
          </a:xfrm>
          <a:custGeom>
            <a:avLst/>
            <a:gdLst/>
            <a:ahLst/>
            <a:rect l="0" t="0" r="r" b="b"/>
            <a:pathLst>
              <a:path fill="none" w="107" h="292">
                <a:moveTo>
                  <a:pt x="107" y="292"/>
                </a:moveTo>
                <a:lnTo>
                  <a:pt x="75" y="150"/>
                </a:lnTo>
                <a:lnTo>
                  <a:pt x="8" y="13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7570800" y="3168720"/>
            <a:ext cx="100440" cy="46440"/>
          </a:xfrm>
          <a:custGeom>
            <a:avLst/>
            <a:gdLst/>
            <a:ahLst/>
            <a:rect l="0" t="0" r="r" b="b"/>
            <a:pathLst>
              <a:path fill="none" w="279" h="129">
                <a:moveTo>
                  <a:pt x="279" y="129"/>
                </a:moveTo>
                <a:lnTo>
                  <a:pt x="218" y="75"/>
                </a:lnTo>
                <a:lnTo>
                  <a:pt x="98" y="22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7459560" y="3068640"/>
            <a:ext cx="51120" cy="100440"/>
          </a:xfrm>
          <a:custGeom>
            <a:avLst/>
            <a:gdLst/>
            <a:ahLst/>
            <a:rect l="0" t="0" r="r" b="b"/>
            <a:pathLst>
              <a:path fill="none" w="142" h="279">
                <a:moveTo>
                  <a:pt x="142" y="279"/>
                </a:moveTo>
                <a:lnTo>
                  <a:pt x="66" y="111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7334280" y="2943360"/>
            <a:ext cx="84600" cy="73440"/>
          </a:xfrm>
          <a:custGeom>
            <a:avLst/>
            <a:gdLst/>
            <a:ahLst/>
            <a:rect l="0" t="0" r="r" b="b"/>
            <a:pathLst>
              <a:path fill="none" w="235" h="204">
                <a:moveTo>
                  <a:pt x="235" y="204"/>
                </a:moveTo>
                <a:lnTo>
                  <a:pt x="168" y="128"/>
                </a:lnTo>
                <a:lnTo>
                  <a:pt x="17" y="8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7164360" y="2897280"/>
            <a:ext cx="108360" cy="14760"/>
          </a:xfrm>
          <a:custGeom>
            <a:avLst/>
            <a:gdLst/>
            <a:ahLst/>
            <a:rect l="0" t="0" r="r" b="b"/>
            <a:pathLst>
              <a:path fill="none" w="301" h="41">
                <a:moveTo>
                  <a:pt x="301" y="41"/>
                </a:moveTo>
                <a:lnTo>
                  <a:pt x="172" y="8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999120" y="2911320"/>
            <a:ext cx="97200" cy="54360"/>
          </a:xfrm>
          <a:custGeom>
            <a:avLst/>
            <a:gdLst/>
            <a:ahLst/>
            <a:rect l="0" t="0" r="r" b="b"/>
            <a:pathLst>
              <a:path fill="none" w="270" h="151">
                <a:moveTo>
                  <a:pt x="270" y="0"/>
                </a:moveTo>
                <a:lnTo>
                  <a:pt x="128" y="53"/>
                </a:lnTo>
                <a:lnTo>
                  <a:pt x="0" y="151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6861240" y="2949480"/>
            <a:ext cx="84600" cy="66960"/>
          </a:xfrm>
          <a:custGeom>
            <a:avLst/>
            <a:gdLst/>
            <a:ahLst/>
            <a:rect l="0" t="0" r="r" b="b"/>
            <a:pathLst>
              <a:path fill="none" w="235" h="186">
                <a:moveTo>
                  <a:pt x="235" y="164"/>
                </a:moveTo>
                <a:lnTo>
                  <a:pt x="213" y="186"/>
                </a:lnTo>
                <a:lnTo>
                  <a:pt x="75" y="52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6692760" y="2897280"/>
            <a:ext cx="106560" cy="22680"/>
          </a:xfrm>
          <a:custGeom>
            <a:avLst/>
            <a:gdLst/>
            <a:ahLst/>
            <a:rect l="0" t="0" r="r" b="b"/>
            <a:pathLst>
              <a:path fill="none" w="296" h="63">
                <a:moveTo>
                  <a:pt x="296" y="63"/>
                </a:moveTo>
                <a:lnTo>
                  <a:pt x="234" y="31"/>
                </a:lnTo>
                <a:lnTo>
                  <a:pt x="61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523200" y="2908440"/>
            <a:ext cx="100440" cy="46440"/>
          </a:xfrm>
          <a:custGeom>
            <a:avLst/>
            <a:gdLst/>
            <a:ahLst/>
            <a:rect l="0" t="0" r="r" b="b"/>
            <a:pathLst>
              <a:path fill="none" w="279" h="129">
                <a:moveTo>
                  <a:pt x="279" y="0"/>
                </a:moveTo>
                <a:lnTo>
                  <a:pt x="195" y="22"/>
                </a:lnTo>
                <a:lnTo>
                  <a:pt x="35" y="107"/>
                </a:lnTo>
                <a:lnTo>
                  <a:pt x="0" y="12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6404040" y="3000240"/>
            <a:ext cx="70200" cy="89280"/>
          </a:xfrm>
          <a:custGeom>
            <a:avLst/>
            <a:gdLst/>
            <a:ahLst/>
            <a:rect l="0" t="0" r="r" b="b"/>
            <a:pathLst>
              <a:path fill="none" w="195" h="248">
                <a:moveTo>
                  <a:pt x="195" y="0"/>
                </a:moveTo>
                <a:lnTo>
                  <a:pt x="88" y="115"/>
                </a:lnTo>
                <a:lnTo>
                  <a:pt x="0" y="24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284880" y="3149640"/>
            <a:ext cx="89280" cy="32040"/>
          </a:xfrm>
          <a:custGeom>
            <a:avLst/>
            <a:gdLst/>
            <a:ahLst/>
            <a:rect l="0" t="0" r="r" b="b"/>
            <a:pathLst>
              <a:path fill="none" w="248" h="89">
                <a:moveTo>
                  <a:pt x="248" y="0"/>
                </a:moveTo>
                <a:lnTo>
                  <a:pt x="204" y="89"/>
                </a:lnTo>
                <a:lnTo>
                  <a:pt x="89" y="53"/>
                </a:lnTo>
                <a:lnTo>
                  <a:pt x="0" y="7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154560" y="3203640"/>
            <a:ext cx="70200" cy="84600"/>
          </a:xfrm>
          <a:custGeom>
            <a:avLst/>
            <a:gdLst/>
            <a:ahLst/>
            <a:rect l="0" t="0" r="r" b="b"/>
            <a:pathLst>
              <a:path fill="none" w="195" h="235">
                <a:moveTo>
                  <a:pt x="195" y="0"/>
                </a:moveTo>
                <a:lnTo>
                  <a:pt x="106" y="67"/>
                </a:lnTo>
                <a:lnTo>
                  <a:pt x="22" y="196"/>
                </a:lnTo>
                <a:lnTo>
                  <a:pt x="0" y="23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6119640" y="3354480"/>
            <a:ext cx="12960" cy="111600"/>
          </a:xfrm>
          <a:custGeom>
            <a:avLst/>
            <a:gdLst/>
            <a:ahLst/>
            <a:rect l="0" t="0" r="r" b="b"/>
            <a:pathLst>
              <a:path fill="none" w="36" h="310">
                <a:moveTo>
                  <a:pt x="36" y="0"/>
                </a:moveTo>
                <a:lnTo>
                  <a:pt x="13" y="84"/>
                </a:lnTo>
                <a:lnTo>
                  <a:pt x="0" y="257"/>
                </a:lnTo>
                <a:lnTo>
                  <a:pt x="0" y="31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4000" bIns="54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6132600" y="3533760"/>
            <a:ext cx="41760" cy="100440"/>
          </a:xfrm>
          <a:custGeom>
            <a:avLst/>
            <a:gdLst/>
            <a:ahLst/>
            <a:rect l="0" t="0" r="r" b="b"/>
            <a:pathLst>
              <a:path fill="none" w="116" h="279">
                <a:moveTo>
                  <a:pt x="0" y="0"/>
                </a:moveTo>
                <a:lnTo>
                  <a:pt x="17" y="89"/>
                </a:lnTo>
                <a:lnTo>
                  <a:pt x="84" y="240"/>
                </a:lnTo>
                <a:lnTo>
                  <a:pt x="116" y="27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6219720" y="3684600"/>
            <a:ext cx="105120" cy="33840"/>
          </a:xfrm>
          <a:custGeom>
            <a:avLst/>
            <a:gdLst/>
            <a:ahLst/>
            <a:rect l="0" t="0" r="r" b="b"/>
            <a:pathLst>
              <a:path fill="none" w="292" h="94">
                <a:moveTo>
                  <a:pt x="0" y="0"/>
                </a:moveTo>
                <a:lnTo>
                  <a:pt x="30" y="22"/>
                </a:lnTo>
                <a:lnTo>
                  <a:pt x="150" y="76"/>
                </a:lnTo>
                <a:lnTo>
                  <a:pt x="269" y="94"/>
                </a:lnTo>
                <a:lnTo>
                  <a:pt x="292" y="9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6135840" y="3309840"/>
            <a:ext cx="160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flow Sub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838600" y="2435400"/>
            <a:ext cx="690840" cy="2248200"/>
          </a:xfrm>
          <a:custGeom>
            <a:avLst/>
            <a:gdLst/>
            <a:ahLst/>
            <a:rect l="0" t="0" r="r" b="b"/>
            <a:pathLst>
              <a:path w="1919" h="6245">
                <a:moveTo>
                  <a:pt x="0" y="0"/>
                </a:moveTo>
                <a:lnTo>
                  <a:pt x="0" y="6245"/>
                </a:lnTo>
                <a:lnTo>
                  <a:pt x="1919" y="6245"/>
                </a:lnTo>
                <a:lnTo>
                  <a:pt x="19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2687760" y="3417840"/>
            <a:ext cx="988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529080" y="2435400"/>
            <a:ext cx="518040" cy="2248200"/>
          </a:xfrm>
          <a:custGeom>
            <a:avLst/>
            <a:gdLst/>
            <a:ahLst/>
            <a:rect l="0" t="0" r="r" b="b"/>
            <a:pathLst>
              <a:path w="1439" h="6245">
                <a:moveTo>
                  <a:pt x="0" y="0"/>
                </a:moveTo>
                <a:lnTo>
                  <a:pt x="0" y="6245"/>
                </a:lnTo>
                <a:lnTo>
                  <a:pt x="1439" y="6245"/>
                </a:lnTo>
                <a:lnTo>
                  <a:pt x="143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2917800" y="3421080"/>
            <a:ext cx="1733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Server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457880" y="2435400"/>
            <a:ext cx="560880" cy="2248200"/>
          </a:xfrm>
          <a:custGeom>
            <a:avLst/>
            <a:gdLst/>
            <a:ahLst/>
            <a:rect l="0" t="0" r="r" b="b"/>
            <a:pathLst>
              <a:path w="1558" h="6245">
                <a:moveTo>
                  <a:pt x="0" y="0"/>
                </a:moveTo>
                <a:lnTo>
                  <a:pt x="0" y="6245"/>
                </a:lnTo>
                <a:lnTo>
                  <a:pt x="1558" y="6245"/>
                </a:lnTo>
                <a:lnTo>
                  <a:pt x="155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 txBox="1"/>
          <p:nvPr/>
        </p:nvSpPr>
        <p:spPr>
          <a:xfrm>
            <a:off x="4027320" y="3429000"/>
            <a:ext cx="142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018040" y="3295800"/>
            <a:ext cx="1101960" cy="411480"/>
          </a:xfrm>
          <a:custGeom>
            <a:avLst/>
            <a:gdLst/>
            <a:ahLst/>
            <a:rect l="0" t="0" r="r" b="b"/>
            <a:pathLst>
              <a:path w="3061" h="1143">
                <a:moveTo>
                  <a:pt x="0" y="737"/>
                </a:moveTo>
                <a:lnTo>
                  <a:pt x="405" y="224"/>
                </a:lnTo>
                <a:lnTo>
                  <a:pt x="436" y="533"/>
                </a:lnTo>
                <a:lnTo>
                  <a:pt x="2580" y="308"/>
                </a:lnTo>
                <a:lnTo>
                  <a:pt x="2549" y="0"/>
                </a:lnTo>
                <a:lnTo>
                  <a:pt x="3061" y="418"/>
                </a:lnTo>
                <a:lnTo>
                  <a:pt x="2646" y="918"/>
                </a:lnTo>
                <a:lnTo>
                  <a:pt x="2615" y="622"/>
                </a:lnTo>
                <a:lnTo>
                  <a:pt x="471" y="843"/>
                </a:lnTo>
                <a:lnTo>
                  <a:pt x="502" y="1143"/>
                </a:lnTo>
                <a:lnTo>
                  <a:pt x="0" y="73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 txBox="1"/>
          <p:nvPr/>
        </p:nvSpPr>
        <p:spPr>
          <a:xfrm>
            <a:off x="547560" y="2192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e Study - Asynchronou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 txBox="1"/>
          <p:nvPr/>
        </p:nvSpPr>
        <p:spPr>
          <a:xfrm>
            <a:off x="471600" y="1600200"/>
            <a:ext cx="82915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ynchronous processing significantly increases the “capacity” of a system with the ability to incrementally add capacity as the user base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M Middleware, such as IBM MQSeries, provi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Quality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uaranteed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nsaction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calable, high performance architectures in contrast to highly parallel, concurrent data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ynchronous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sk replic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as an alternative to distributed transactions or database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"/>
          <p:cNvSpPr txBox="1"/>
          <p:nvPr/>
        </p:nvSpPr>
        <p:spPr>
          <a:xfrm>
            <a:off x="457200" y="228600"/>
            <a:ext cx="84582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gh Level Workflow Subsystem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995400" y="1593720"/>
            <a:ext cx="6181920" cy="4124520"/>
          </a:xfrm>
          <a:custGeom>
            <a:avLst/>
            <a:gdLst/>
            <a:ahLst/>
            <a:rect l="0" t="0" r="r" b="b"/>
            <a:pathLst>
              <a:path w="17172" h="11457">
                <a:moveTo>
                  <a:pt x="2517" y="8507"/>
                </a:moveTo>
                <a:lnTo>
                  <a:pt x="2681" y="8895"/>
                </a:lnTo>
                <a:lnTo>
                  <a:pt x="2866" y="9257"/>
                </a:lnTo>
                <a:lnTo>
                  <a:pt x="3082" y="9605"/>
                </a:lnTo>
                <a:lnTo>
                  <a:pt x="3307" y="9927"/>
                </a:lnTo>
                <a:lnTo>
                  <a:pt x="3549" y="10218"/>
                </a:lnTo>
                <a:lnTo>
                  <a:pt x="3801" y="10491"/>
                </a:lnTo>
                <a:lnTo>
                  <a:pt x="4074" y="10725"/>
                </a:lnTo>
                <a:lnTo>
                  <a:pt x="4365" y="10932"/>
                </a:lnTo>
                <a:lnTo>
                  <a:pt x="4656" y="11104"/>
                </a:lnTo>
                <a:lnTo>
                  <a:pt x="4956" y="11250"/>
                </a:lnTo>
                <a:lnTo>
                  <a:pt x="5269" y="11347"/>
                </a:lnTo>
                <a:lnTo>
                  <a:pt x="5591" y="11426"/>
                </a:lnTo>
                <a:lnTo>
                  <a:pt x="5913" y="11457"/>
                </a:lnTo>
                <a:lnTo>
                  <a:pt x="6222" y="11457"/>
                </a:lnTo>
                <a:lnTo>
                  <a:pt x="6544" y="11417"/>
                </a:lnTo>
                <a:lnTo>
                  <a:pt x="6865" y="11347"/>
                </a:lnTo>
                <a:lnTo>
                  <a:pt x="7174" y="11241"/>
                </a:lnTo>
                <a:lnTo>
                  <a:pt x="7478" y="11095"/>
                </a:lnTo>
                <a:lnTo>
                  <a:pt x="7769" y="10919"/>
                </a:lnTo>
                <a:lnTo>
                  <a:pt x="8052" y="10716"/>
                </a:lnTo>
                <a:lnTo>
                  <a:pt x="8325" y="10474"/>
                </a:lnTo>
                <a:lnTo>
                  <a:pt x="8585" y="10200"/>
                </a:lnTo>
                <a:lnTo>
                  <a:pt x="8838" y="10474"/>
                </a:lnTo>
                <a:lnTo>
                  <a:pt x="9111" y="10716"/>
                </a:lnTo>
                <a:lnTo>
                  <a:pt x="9393" y="10919"/>
                </a:lnTo>
                <a:lnTo>
                  <a:pt x="9684" y="11095"/>
                </a:lnTo>
                <a:lnTo>
                  <a:pt x="9997" y="11241"/>
                </a:lnTo>
                <a:lnTo>
                  <a:pt x="10306" y="11347"/>
                </a:lnTo>
                <a:lnTo>
                  <a:pt x="10619" y="11417"/>
                </a:lnTo>
                <a:lnTo>
                  <a:pt x="10941" y="11457"/>
                </a:lnTo>
                <a:lnTo>
                  <a:pt x="11263" y="11457"/>
                </a:lnTo>
                <a:lnTo>
                  <a:pt x="11572" y="11426"/>
                </a:lnTo>
                <a:lnTo>
                  <a:pt x="11894" y="11347"/>
                </a:lnTo>
                <a:lnTo>
                  <a:pt x="12202" y="11250"/>
                </a:lnTo>
                <a:lnTo>
                  <a:pt x="12506" y="11104"/>
                </a:lnTo>
                <a:lnTo>
                  <a:pt x="12806" y="10932"/>
                </a:lnTo>
                <a:lnTo>
                  <a:pt x="13089" y="10725"/>
                </a:lnTo>
                <a:lnTo>
                  <a:pt x="13362" y="10491"/>
                </a:lnTo>
                <a:lnTo>
                  <a:pt x="13613" y="10218"/>
                </a:lnTo>
                <a:lnTo>
                  <a:pt x="13856" y="9927"/>
                </a:lnTo>
                <a:lnTo>
                  <a:pt x="14090" y="9605"/>
                </a:lnTo>
                <a:lnTo>
                  <a:pt x="14297" y="9257"/>
                </a:lnTo>
                <a:lnTo>
                  <a:pt x="14482" y="8895"/>
                </a:lnTo>
                <a:lnTo>
                  <a:pt x="14645" y="8507"/>
                </a:lnTo>
                <a:lnTo>
                  <a:pt x="14870" y="8564"/>
                </a:lnTo>
                <a:lnTo>
                  <a:pt x="15104" y="8595"/>
                </a:lnTo>
                <a:lnTo>
                  <a:pt x="15324" y="8586"/>
                </a:lnTo>
                <a:lnTo>
                  <a:pt x="15558" y="8538"/>
                </a:lnTo>
                <a:lnTo>
                  <a:pt x="15783" y="8450"/>
                </a:lnTo>
                <a:lnTo>
                  <a:pt x="15999" y="8330"/>
                </a:lnTo>
                <a:lnTo>
                  <a:pt x="16202" y="8176"/>
                </a:lnTo>
                <a:lnTo>
                  <a:pt x="16387" y="7991"/>
                </a:lnTo>
                <a:lnTo>
                  <a:pt x="16563" y="7779"/>
                </a:lnTo>
                <a:lnTo>
                  <a:pt x="16718" y="7546"/>
                </a:lnTo>
                <a:lnTo>
                  <a:pt x="16854" y="7281"/>
                </a:lnTo>
                <a:lnTo>
                  <a:pt x="16969" y="6990"/>
                </a:lnTo>
                <a:lnTo>
                  <a:pt x="17057" y="6686"/>
                </a:lnTo>
                <a:lnTo>
                  <a:pt x="17115" y="6377"/>
                </a:lnTo>
                <a:lnTo>
                  <a:pt x="17154" y="6055"/>
                </a:lnTo>
                <a:lnTo>
                  <a:pt x="17172" y="5733"/>
                </a:lnTo>
                <a:lnTo>
                  <a:pt x="17154" y="5401"/>
                </a:lnTo>
                <a:lnTo>
                  <a:pt x="17115" y="5079"/>
                </a:lnTo>
                <a:lnTo>
                  <a:pt x="17057" y="4771"/>
                </a:lnTo>
                <a:lnTo>
                  <a:pt x="16969" y="4467"/>
                </a:lnTo>
                <a:lnTo>
                  <a:pt x="16854" y="4184"/>
                </a:lnTo>
                <a:lnTo>
                  <a:pt x="16718" y="3924"/>
                </a:lnTo>
                <a:lnTo>
                  <a:pt x="16563" y="3677"/>
                </a:lnTo>
                <a:lnTo>
                  <a:pt x="16387" y="3466"/>
                </a:lnTo>
                <a:lnTo>
                  <a:pt x="16202" y="3280"/>
                </a:lnTo>
                <a:lnTo>
                  <a:pt x="15999" y="3126"/>
                </a:lnTo>
                <a:lnTo>
                  <a:pt x="15783" y="3007"/>
                </a:lnTo>
                <a:lnTo>
                  <a:pt x="15558" y="2919"/>
                </a:lnTo>
                <a:lnTo>
                  <a:pt x="15324" y="2879"/>
                </a:lnTo>
                <a:lnTo>
                  <a:pt x="15104" y="2861"/>
                </a:lnTo>
                <a:lnTo>
                  <a:pt x="14870" y="2892"/>
                </a:lnTo>
                <a:lnTo>
                  <a:pt x="14645" y="2958"/>
                </a:lnTo>
                <a:lnTo>
                  <a:pt x="14482" y="2570"/>
                </a:lnTo>
                <a:lnTo>
                  <a:pt x="14297" y="2200"/>
                </a:lnTo>
                <a:lnTo>
                  <a:pt x="14090" y="1860"/>
                </a:lnTo>
                <a:lnTo>
                  <a:pt x="13856" y="1538"/>
                </a:lnTo>
                <a:lnTo>
                  <a:pt x="13613" y="1234"/>
                </a:lnTo>
                <a:lnTo>
                  <a:pt x="13362" y="974"/>
                </a:lnTo>
                <a:lnTo>
                  <a:pt x="13089" y="732"/>
                </a:lnTo>
                <a:lnTo>
                  <a:pt x="12806" y="524"/>
                </a:lnTo>
                <a:lnTo>
                  <a:pt x="12506" y="352"/>
                </a:lnTo>
                <a:lnTo>
                  <a:pt x="12202" y="216"/>
                </a:lnTo>
                <a:lnTo>
                  <a:pt x="11894" y="105"/>
                </a:lnTo>
                <a:lnTo>
                  <a:pt x="11572" y="39"/>
                </a:lnTo>
                <a:lnTo>
                  <a:pt x="11263" y="0"/>
                </a:lnTo>
                <a:lnTo>
                  <a:pt x="10941" y="8"/>
                </a:lnTo>
                <a:lnTo>
                  <a:pt x="10619" y="39"/>
                </a:lnTo>
                <a:lnTo>
                  <a:pt x="10306" y="119"/>
                </a:lnTo>
                <a:lnTo>
                  <a:pt x="9997" y="224"/>
                </a:lnTo>
                <a:lnTo>
                  <a:pt x="9684" y="361"/>
                </a:lnTo>
                <a:lnTo>
                  <a:pt x="9393" y="546"/>
                </a:lnTo>
                <a:lnTo>
                  <a:pt x="9111" y="749"/>
                </a:lnTo>
                <a:lnTo>
                  <a:pt x="8838" y="992"/>
                </a:lnTo>
                <a:lnTo>
                  <a:pt x="8585" y="1256"/>
                </a:lnTo>
                <a:lnTo>
                  <a:pt x="8325" y="992"/>
                </a:lnTo>
                <a:lnTo>
                  <a:pt x="8052" y="749"/>
                </a:lnTo>
                <a:lnTo>
                  <a:pt x="7769" y="546"/>
                </a:lnTo>
                <a:lnTo>
                  <a:pt x="7478" y="361"/>
                </a:lnTo>
                <a:lnTo>
                  <a:pt x="7174" y="224"/>
                </a:lnTo>
                <a:lnTo>
                  <a:pt x="6865" y="119"/>
                </a:lnTo>
                <a:lnTo>
                  <a:pt x="6544" y="39"/>
                </a:lnTo>
                <a:lnTo>
                  <a:pt x="6222" y="8"/>
                </a:lnTo>
                <a:lnTo>
                  <a:pt x="5913" y="0"/>
                </a:lnTo>
                <a:lnTo>
                  <a:pt x="5591" y="39"/>
                </a:lnTo>
                <a:lnTo>
                  <a:pt x="5269" y="105"/>
                </a:lnTo>
                <a:lnTo>
                  <a:pt x="4956" y="216"/>
                </a:lnTo>
                <a:lnTo>
                  <a:pt x="4656" y="352"/>
                </a:lnTo>
                <a:lnTo>
                  <a:pt x="4365" y="524"/>
                </a:lnTo>
                <a:lnTo>
                  <a:pt x="4074" y="732"/>
                </a:lnTo>
                <a:lnTo>
                  <a:pt x="3801" y="974"/>
                </a:lnTo>
                <a:lnTo>
                  <a:pt x="3549" y="1234"/>
                </a:lnTo>
                <a:lnTo>
                  <a:pt x="3307" y="1538"/>
                </a:lnTo>
                <a:lnTo>
                  <a:pt x="3082" y="1860"/>
                </a:lnTo>
                <a:lnTo>
                  <a:pt x="2866" y="2200"/>
                </a:lnTo>
                <a:lnTo>
                  <a:pt x="2681" y="2570"/>
                </a:lnTo>
                <a:lnTo>
                  <a:pt x="2517" y="2958"/>
                </a:lnTo>
                <a:lnTo>
                  <a:pt x="2293" y="2892"/>
                </a:lnTo>
                <a:lnTo>
                  <a:pt x="2059" y="2861"/>
                </a:lnTo>
                <a:lnTo>
                  <a:pt x="1838" y="2879"/>
                </a:lnTo>
                <a:lnTo>
                  <a:pt x="1605" y="2919"/>
                </a:lnTo>
                <a:lnTo>
                  <a:pt x="1380" y="3007"/>
                </a:lnTo>
                <a:lnTo>
                  <a:pt x="1164" y="3126"/>
                </a:lnTo>
                <a:lnTo>
                  <a:pt x="970" y="3280"/>
                </a:lnTo>
                <a:lnTo>
                  <a:pt x="776" y="3466"/>
                </a:lnTo>
                <a:lnTo>
                  <a:pt x="599" y="3677"/>
                </a:lnTo>
                <a:lnTo>
                  <a:pt x="445" y="3924"/>
                </a:lnTo>
                <a:lnTo>
                  <a:pt x="308" y="4184"/>
                </a:lnTo>
                <a:lnTo>
                  <a:pt x="202" y="4467"/>
                </a:lnTo>
                <a:lnTo>
                  <a:pt x="114" y="4771"/>
                </a:lnTo>
                <a:lnTo>
                  <a:pt x="48" y="5079"/>
                </a:lnTo>
                <a:lnTo>
                  <a:pt x="8" y="5401"/>
                </a:lnTo>
                <a:lnTo>
                  <a:pt x="0" y="5733"/>
                </a:lnTo>
                <a:lnTo>
                  <a:pt x="8" y="6055"/>
                </a:lnTo>
                <a:lnTo>
                  <a:pt x="48" y="6377"/>
                </a:lnTo>
                <a:lnTo>
                  <a:pt x="114" y="6686"/>
                </a:lnTo>
                <a:lnTo>
                  <a:pt x="202" y="6990"/>
                </a:lnTo>
                <a:lnTo>
                  <a:pt x="308" y="7281"/>
                </a:lnTo>
                <a:lnTo>
                  <a:pt x="445" y="7546"/>
                </a:lnTo>
                <a:lnTo>
                  <a:pt x="599" y="7779"/>
                </a:lnTo>
                <a:lnTo>
                  <a:pt x="776" y="7991"/>
                </a:lnTo>
                <a:lnTo>
                  <a:pt x="970" y="8176"/>
                </a:lnTo>
                <a:lnTo>
                  <a:pt x="1164" y="8330"/>
                </a:lnTo>
                <a:lnTo>
                  <a:pt x="1380" y="8450"/>
                </a:lnTo>
                <a:lnTo>
                  <a:pt x="1605" y="8538"/>
                </a:lnTo>
                <a:lnTo>
                  <a:pt x="1838" y="8586"/>
                </a:lnTo>
                <a:lnTo>
                  <a:pt x="2059" y="8595"/>
                </a:lnTo>
                <a:lnTo>
                  <a:pt x="2293" y="8564"/>
                </a:lnTo>
                <a:lnTo>
                  <a:pt x="2517" y="850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1905120" y="2644920"/>
            <a:ext cx="1065600" cy="711720"/>
          </a:xfrm>
          <a:custGeom>
            <a:avLst/>
            <a:gdLst/>
            <a:ahLst/>
            <a:rect l="0" t="0" r="r" b="b"/>
            <a:pathLst>
              <a:path w="2960" h="1977">
                <a:moveTo>
                  <a:pt x="2519" y="1977"/>
                </a:moveTo>
                <a:lnTo>
                  <a:pt x="2630" y="1959"/>
                </a:lnTo>
                <a:lnTo>
                  <a:pt x="2736" y="1920"/>
                </a:lnTo>
                <a:lnTo>
                  <a:pt x="2824" y="1854"/>
                </a:lnTo>
                <a:lnTo>
                  <a:pt x="2899" y="1752"/>
                </a:lnTo>
                <a:lnTo>
                  <a:pt x="2938" y="1646"/>
                </a:lnTo>
                <a:lnTo>
                  <a:pt x="2960" y="1540"/>
                </a:lnTo>
                <a:lnTo>
                  <a:pt x="2960" y="440"/>
                </a:lnTo>
                <a:lnTo>
                  <a:pt x="2938" y="330"/>
                </a:lnTo>
                <a:lnTo>
                  <a:pt x="2899" y="224"/>
                </a:lnTo>
                <a:lnTo>
                  <a:pt x="2824" y="127"/>
                </a:lnTo>
                <a:lnTo>
                  <a:pt x="2736" y="57"/>
                </a:lnTo>
                <a:lnTo>
                  <a:pt x="2630" y="22"/>
                </a:lnTo>
                <a:lnTo>
                  <a:pt x="2519" y="0"/>
                </a:lnTo>
                <a:lnTo>
                  <a:pt x="436" y="0"/>
                </a:lnTo>
                <a:lnTo>
                  <a:pt x="321" y="22"/>
                </a:lnTo>
                <a:lnTo>
                  <a:pt x="216" y="57"/>
                </a:lnTo>
                <a:lnTo>
                  <a:pt x="127" y="127"/>
                </a:lnTo>
                <a:lnTo>
                  <a:pt x="57" y="224"/>
                </a:lnTo>
                <a:lnTo>
                  <a:pt x="8" y="330"/>
                </a:lnTo>
                <a:lnTo>
                  <a:pt x="0" y="440"/>
                </a:lnTo>
                <a:lnTo>
                  <a:pt x="0" y="1540"/>
                </a:lnTo>
                <a:lnTo>
                  <a:pt x="8" y="1646"/>
                </a:lnTo>
                <a:lnTo>
                  <a:pt x="57" y="1752"/>
                </a:lnTo>
                <a:lnTo>
                  <a:pt x="127" y="1854"/>
                </a:lnTo>
                <a:lnTo>
                  <a:pt x="216" y="1920"/>
                </a:lnTo>
                <a:lnTo>
                  <a:pt x="321" y="1959"/>
                </a:lnTo>
                <a:lnTo>
                  <a:pt x="436" y="1977"/>
                </a:lnTo>
                <a:lnTo>
                  <a:pt x="2519" y="197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2058840" y="2862360"/>
            <a:ext cx="819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4716360" y="1884240"/>
            <a:ext cx="1103760" cy="736920"/>
          </a:xfrm>
          <a:custGeom>
            <a:avLst/>
            <a:gdLst/>
            <a:ahLst/>
            <a:rect l="0" t="0" r="r" b="b"/>
            <a:pathLst>
              <a:path w="3066" h="2047">
                <a:moveTo>
                  <a:pt x="2630" y="2047"/>
                </a:moveTo>
                <a:lnTo>
                  <a:pt x="2736" y="2025"/>
                </a:lnTo>
                <a:lnTo>
                  <a:pt x="2841" y="1976"/>
                </a:lnTo>
                <a:lnTo>
                  <a:pt x="2930" y="1910"/>
                </a:lnTo>
                <a:lnTo>
                  <a:pt x="3009" y="1822"/>
                </a:lnTo>
                <a:lnTo>
                  <a:pt x="3044" y="1716"/>
                </a:lnTo>
                <a:lnTo>
                  <a:pt x="3066" y="1606"/>
                </a:lnTo>
                <a:lnTo>
                  <a:pt x="3066" y="440"/>
                </a:lnTo>
                <a:lnTo>
                  <a:pt x="3044" y="321"/>
                </a:lnTo>
                <a:lnTo>
                  <a:pt x="3009" y="216"/>
                </a:lnTo>
                <a:lnTo>
                  <a:pt x="2930" y="127"/>
                </a:lnTo>
                <a:lnTo>
                  <a:pt x="2841" y="61"/>
                </a:lnTo>
                <a:lnTo>
                  <a:pt x="2736" y="13"/>
                </a:lnTo>
                <a:lnTo>
                  <a:pt x="2630" y="0"/>
                </a:lnTo>
                <a:lnTo>
                  <a:pt x="436" y="0"/>
                </a:lnTo>
                <a:lnTo>
                  <a:pt x="321" y="13"/>
                </a:lnTo>
                <a:lnTo>
                  <a:pt x="216" y="61"/>
                </a:lnTo>
                <a:lnTo>
                  <a:pt x="127" y="127"/>
                </a:lnTo>
                <a:lnTo>
                  <a:pt x="57" y="216"/>
                </a:lnTo>
                <a:lnTo>
                  <a:pt x="8" y="321"/>
                </a:lnTo>
                <a:lnTo>
                  <a:pt x="0" y="440"/>
                </a:lnTo>
                <a:lnTo>
                  <a:pt x="0" y="1606"/>
                </a:lnTo>
                <a:lnTo>
                  <a:pt x="8" y="1716"/>
                </a:lnTo>
                <a:lnTo>
                  <a:pt x="57" y="1822"/>
                </a:lnTo>
                <a:lnTo>
                  <a:pt x="127" y="1910"/>
                </a:lnTo>
                <a:lnTo>
                  <a:pt x="216" y="1976"/>
                </a:lnTo>
                <a:lnTo>
                  <a:pt x="321" y="2025"/>
                </a:lnTo>
                <a:lnTo>
                  <a:pt x="436" y="2047"/>
                </a:lnTo>
                <a:lnTo>
                  <a:pt x="2630" y="204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886280" y="2112840"/>
            <a:ext cx="819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000840" y="3605040"/>
            <a:ext cx="1045080" cy="697320"/>
          </a:xfrm>
          <a:custGeom>
            <a:avLst/>
            <a:gdLst/>
            <a:ahLst/>
            <a:rect l="0" t="0" r="r" b="b"/>
            <a:pathLst>
              <a:path w="2903" h="1937">
                <a:moveTo>
                  <a:pt x="2462" y="1937"/>
                </a:moveTo>
                <a:lnTo>
                  <a:pt x="2581" y="1920"/>
                </a:lnTo>
                <a:lnTo>
                  <a:pt x="2678" y="1880"/>
                </a:lnTo>
                <a:lnTo>
                  <a:pt x="2775" y="1809"/>
                </a:lnTo>
                <a:lnTo>
                  <a:pt x="2841" y="1712"/>
                </a:lnTo>
                <a:lnTo>
                  <a:pt x="2881" y="1607"/>
                </a:lnTo>
                <a:lnTo>
                  <a:pt x="2903" y="1501"/>
                </a:lnTo>
                <a:lnTo>
                  <a:pt x="2903" y="436"/>
                </a:lnTo>
                <a:lnTo>
                  <a:pt x="2881" y="321"/>
                </a:lnTo>
                <a:lnTo>
                  <a:pt x="2841" y="224"/>
                </a:lnTo>
                <a:lnTo>
                  <a:pt x="2775" y="127"/>
                </a:lnTo>
                <a:lnTo>
                  <a:pt x="2678" y="57"/>
                </a:lnTo>
                <a:lnTo>
                  <a:pt x="2581" y="17"/>
                </a:lnTo>
                <a:lnTo>
                  <a:pt x="2462" y="0"/>
                </a:lnTo>
                <a:lnTo>
                  <a:pt x="440" y="0"/>
                </a:lnTo>
                <a:lnTo>
                  <a:pt x="321" y="17"/>
                </a:lnTo>
                <a:lnTo>
                  <a:pt x="216" y="57"/>
                </a:lnTo>
                <a:lnTo>
                  <a:pt x="127" y="127"/>
                </a:lnTo>
                <a:lnTo>
                  <a:pt x="61" y="224"/>
                </a:lnTo>
                <a:lnTo>
                  <a:pt x="13" y="321"/>
                </a:lnTo>
                <a:lnTo>
                  <a:pt x="0" y="436"/>
                </a:lnTo>
                <a:lnTo>
                  <a:pt x="0" y="1501"/>
                </a:lnTo>
                <a:lnTo>
                  <a:pt x="13" y="1607"/>
                </a:lnTo>
                <a:lnTo>
                  <a:pt x="61" y="1712"/>
                </a:lnTo>
                <a:lnTo>
                  <a:pt x="127" y="1809"/>
                </a:lnTo>
                <a:lnTo>
                  <a:pt x="216" y="1880"/>
                </a:lnTo>
                <a:lnTo>
                  <a:pt x="321" y="1920"/>
                </a:lnTo>
                <a:lnTo>
                  <a:pt x="440" y="1937"/>
                </a:lnTo>
                <a:lnTo>
                  <a:pt x="2462" y="193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6143760" y="3811680"/>
            <a:ext cx="819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2927520" y="2665440"/>
            <a:ext cx="2268720" cy="667080"/>
          </a:xfrm>
          <a:custGeom>
            <a:avLst/>
            <a:gdLst/>
            <a:ahLst/>
            <a:rect l="0" t="0" r="r" b="b"/>
            <a:pathLst>
              <a:path fill="none" w="6302" h="1853">
                <a:moveTo>
                  <a:pt x="6302" y="0"/>
                </a:moveTo>
                <a:lnTo>
                  <a:pt x="5799" y="335"/>
                </a:lnTo>
                <a:lnTo>
                  <a:pt x="5261" y="635"/>
                </a:lnTo>
                <a:lnTo>
                  <a:pt x="4719" y="899"/>
                </a:lnTo>
                <a:lnTo>
                  <a:pt x="4163" y="1129"/>
                </a:lnTo>
                <a:lnTo>
                  <a:pt x="3590" y="1337"/>
                </a:lnTo>
                <a:lnTo>
                  <a:pt x="3007" y="1513"/>
                </a:lnTo>
                <a:lnTo>
                  <a:pt x="2420" y="1645"/>
                </a:lnTo>
                <a:lnTo>
                  <a:pt x="1821" y="1756"/>
                </a:lnTo>
                <a:lnTo>
                  <a:pt x="1217" y="1822"/>
                </a:lnTo>
                <a:lnTo>
                  <a:pt x="612" y="1853"/>
                </a:lnTo>
                <a:lnTo>
                  <a:pt x="0" y="185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160960" y="2620800"/>
            <a:ext cx="95760" cy="84600"/>
          </a:xfrm>
          <a:custGeom>
            <a:avLst/>
            <a:gdLst/>
            <a:ahLst/>
            <a:rect l="0" t="0" r="r" b="b"/>
            <a:pathLst>
              <a:path w="266" h="235">
                <a:moveTo>
                  <a:pt x="133" y="235"/>
                </a:moveTo>
                <a:lnTo>
                  <a:pt x="266" y="0"/>
                </a:lnTo>
                <a:lnTo>
                  <a:pt x="0" y="35"/>
                </a:lnTo>
                <a:lnTo>
                  <a:pt x="133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H="1" flipV="1">
            <a:off x="5875200" y="3895560"/>
            <a:ext cx="20880" cy="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762520" y="3846600"/>
            <a:ext cx="17640" cy="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H="1" flipV="1">
            <a:off x="5648400" y="3797280"/>
            <a:ext cx="17280" cy="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H="1" flipV="1">
            <a:off x="5529240" y="3753000"/>
            <a:ext cx="20520" cy="6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H="1" flipV="1">
            <a:off x="5410080" y="3706920"/>
            <a:ext cx="20880" cy="6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5291280" y="3664080"/>
            <a:ext cx="20520" cy="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H="1" flipV="1">
            <a:off x="5172120" y="3625920"/>
            <a:ext cx="20520" cy="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H="1" flipV="1">
            <a:off x="5052960" y="358776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 flipV="1">
            <a:off x="4930920" y="3552840"/>
            <a:ext cx="20520" cy="6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807080" y="3521160"/>
            <a:ext cx="22680" cy="3600"/>
          </a:xfrm>
          <a:custGeom>
            <a:avLst/>
            <a:gdLst/>
            <a:ahLst/>
            <a:rect l="0" t="0" r="r" b="b"/>
            <a:pathLst>
              <a:path fill="none" w="63" h="10">
                <a:moveTo>
                  <a:pt x="63" y="10"/>
                </a:moveTo>
                <a:lnTo>
                  <a:pt x="23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54000" bIns="-54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H="1" flipV="1">
            <a:off x="4684680" y="3492360"/>
            <a:ext cx="20520" cy="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2560" bIns="-52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H="1" flipV="1">
            <a:off x="4562640" y="346536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 flipV="1">
            <a:off x="4440240" y="344016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4317840" y="3416400"/>
            <a:ext cx="2088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 flipV="1">
            <a:off x="4191120" y="339876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4065480" y="3381480"/>
            <a:ext cx="2088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3938760" y="3367080"/>
            <a:ext cx="2196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 flipV="1">
            <a:off x="3813120" y="335592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 flipV="1">
            <a:off x="3687840" y="334656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3560760" y="3341520"/>
            <a:ext cx="22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H="1" flipV="1">
            <a:off x="3435480" y="333540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3308400" y="3335400"/>
            <a:ext cx="22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3182760" y="33354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3057480" y="333540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2930400" y="3346560"/>
            <a:ext cx="22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805120" y="3352680"/>
            <a:ext cx="20520" cy="0"/>
          </a:xfrm>
          <a:custGeom>
            <a:avLst/>
            <a:gdLst/>
            <a:ahLst/>
            <a:rect l="0" t="0" r="r" b="b"/>
            <a:pathLst>
              <a:path fill="none" w="57" h="0">
                <a:moveTo>
                  <a:pt x="57" y="0"/>
                </a:moveTo>
                <a:lnTo>
                  <a:pt x="39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2679840" y="336384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2552760" y="3376440"/>
            <a:ext cx="20520" cy="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2560" bIns="-52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5854680" y="3840120"/>
            <a:ext cx="136800" cy="106560"/>
          </a:xfrm>
          <a:custGeom>
            <a:avLst/>
            <a:gdLst/>
            <a:ahLst/>
            <a:rect l="0" t="0" r="r" b="b"/>
            <a:pathLst>
              <a:path w="380" h="296">
                <a:moveTo>
                  <a:pt x="144" y="0"/>
                </a:moveTo>
                <a:lnTo>
                  <a:pt x="380" y="284"/>
                </a:lnTo>
                <a:lnTo>
                  <a:pt x="0" y="296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2927520" y="4406760"/>
            <a:ext cx="1095840" cy="729000"/>
          </a:xfrm>
          <a:custGeom>
            <a:avLst/>
            <a:gdLst/>
            <a:ahLst/>
            <a:rect l="0" t="0" r="r" b="b"/>
            <a:pathLst>
              <a:path w="3044" h="2025">
                <a:moveTo>
                  <a:pt x="2608" y="2025"/>
                </a:moveTo>
                <a:lnTo>
                  <a:pt x="2713" y="2007"/>
                </a:lnTo>
                <a:lnTo>
                  <a:pt x="2824" y="1967"/>
                </a:lnTo>
                <a:lnTo>
                  <a:pt x="2912" y="1901"/>
                </a:lnTo>
                <a:lnTo>
                  <a:pt x="2978" y="1804"/>
                </a:lnTo>
                <a:lnTo>
                  <a:pt x="3027" y="1707"/>
                </a:lnTo>
                <a:lnTo>
                  <a:pt x="3044" y="1588"/>
                </a:lnTo>
                <a:lnTo>
                  <a:pt x="3044" y="440"/>
                </a:lnTo>
                <a:lnTo>
                  <a:pt x="3027" y="321"/>
                </a:lnTo>
                <a:lnTo>
                  <a:pt x="2978" y="216"/>
                </a:lnTo>
                <a:lnTo>
                  <a:pt x="2912" y="127"/>
                </a:lnTo>
                <a:lnTo>
                  <a:pt x="2824" y="61"/>
                </a:lnTo>
                <a:lnTo>
                  <a:pt x="2713" y="13"/>
                </a:lnTo>
                <a:lnTo>
                  <a:pt x="2608" y="0"/>
                </a:lnTo>
                <a:lnTo>
                  <a:pt x="436" y="0"/>
                </a:lnTo>
                <a:lnTo>
                  <a:pt x="330" y="13"/>
                </a:lnTo>
                <a:lnTo>
                  <a:pt x="224" y="61"/>
                </a:lnTo>
                <a:lnTo>
                  <a:pt x="136" y="127"/>
                </a:lnTo>
                <a:lnTo>
                  <a:pt x="57" y="216"/>
                </a:lnTo>
                <a:lnTo>
                  <a:pt x="22" y="321"/>
                </a:lnTo>
                <a:lnTo>
                  <a:pt x="0" y="440"/>
                </a:lnTo>
                <a:lnTo>
                  <a:pt x="0" y="1588"/>
                </a:lnTo>
                <a:lnTo>
                  <a:pt x="22" y="1707"/>
                </a:lnTo>
                <a:lnTo>
                  <a:pt x="57" y="1804"/>
                </a:lnTo>
                <a:lnTo>
                  <a:pt x="136" y="1901"/>
                </a:lnTo>
                <a:lnTo>
                  <a:pt x="224" y="1967"/>
                </a:lnTo>
                <a:lnTo>
                  <a:pt x="330" y="2007"/>
                </a:lnTo>
                <a:lnTo>
                  <a:pt x="436" y="2025"/>
                </a:lnTo>
                <a:lnTo>
                  <a:pt x="2608" y="202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3094200" y="4630680"/>
            <a:ext cx="819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2511360" y="2620800"/>
            <a:ext cx="2754720" cy="694080"/>
          </a:xfrm>
          <a:custGeom>
            <a:avLst/>
            <a:gdLst/>
            <a:ahLst/>
            <a:rect l="0" t="0" r="r" b="b"/>
            <a:pathLst>
              <a:path fill="none" w="7652" h="1928">
                <a:moveTo>
                  <a:pt x="0" y="1928"/>
                </a:moveTo>
                <a:lnTo>
                  <a:pt x="639" y="1588"/>
                </a:lnTo>
                <a:lnTo>
                  <a:pt x="1292" y="1275"/>
                </a:lnTo>
                <a:lnTo>
                  <a:pt x="1963" y="1002"/>
                </a:lnTo>
                <a:lnTo>
                  <a:pt x="2655" y="749"/>
                </a:lnTo>
                <a:lnTo>
                  <a:pt x="3343" y="542"/>
                </a:lnTo>
                <a:lnTo>
                  <a:pt x="4053" y="370"/>
                </a:lnTo>
                <a:lnTo>
                  <a:pt x="4763" y="224"/>
                </a:lnTo>
                <a:lnTo>
                  <a:pt x="5482" y="114"/>
                </a:lnTo>
                <a:lnTo>
                  <a:pt x="6206" y="39"/>
                </a:lnTo>
                <a:lnTo>
                  <a:pt x="6925" y="0"/>
                </a:lnTo>
                <a:lnTo>
                  <a:pt x="765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436840" y="3265560"/>
            <a:ext cx="100440" cy="81360"/>
          </a:xfrm>
          <a:custGeom>
            <a:avLst/>
            <a:gdLst/>
            <a:ahLst/>
            <a:rect l="0" t="0" r="r" b="b"/>
            <a:pathLst>
              <a:path w="279" h="226">
                <a:moveTo>
                  <a:pt x="153" y="0"/>
                </a:moveTo>
                <a:lnTo>
                  <a:pt x="0" y="226"/>
                </a:lnTo>
                <a:lnTo>
                  <a:pt x="279" y="211"/>
                </a:lnTo>
                <a:lnTo>
                  <a:pt x="1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H="1">
            <a:off x="5987880" y="3951360"/>
            <a:ext cx="12960" cy="14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5904000" y="4043520"/>
            <a:ext cx="14040" cy="14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H="1">
            <a:off x="5811840" y="4130640"/>
            <a:ext cx="17640" cy="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5718240" y="4214880"/>
            <a:ext cx="17280" cy="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5619600" y="4295880"/>
            <a:ext cx="17640" cy="14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5514840" y="4368960"/>
            <a:ext cx="17640" cy="10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5410080" y="4435560"/>
            <a:ext cx="17640" cy="11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5300640" y="4498920"/>
            <a:ext cx="17640" cy="9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5186520" y="4554360"/>
            <a:ext cx="20520" cy="6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070600" y="4603680"/>
            <a:ext cx="20520" cy="6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4951440" y="4649760"/>
            <a:ext cx="20520" cy="6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829040" y="4687920"/>
            <a:ext cx="20880" cy="6840"/>
          </a:xfrm>
          <a:custGeom>
            <a:avLst/>
            <a:gdLst/>
            <a:ahLst/>
            <a:rect l="0" t="0" r="r" b="b"/>
            <a:pathLst>
              <a:path fill="none" w="58" h="19">
                <a:moveTo>
                  <a:pt x="58" y="0"/>
                </a:moveTo>
                <a:lnTo>
                  <a:pt x="8" y="19"/>
                </a:lnTo>
                <a:lnTo>
                  <a:pt x="0" y="1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-50760" bIns="-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4705200" y="4719600"/>
            <a:ext cx="223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4583160" y="474336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4457880" y="4761000"/>
            <a:ext cx="205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4330800" y="4772160"/>
            <a:ext cx="21960" cy="2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720" bIns="-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4205160" y="4775040"/>
            <a:ext cx="2088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022640" y="4711680"/>
            <a:ext cx="124200" cy="120960"/>
          </a:xfrm>
          <a:custGeom>
            <a:avLst/>
            <a:gdLst/>
            <a:ahLst/>
            <a:rect l="0" t="0" r="r" b="b"/>
            <a:pathLst>
              <a:path w="345" h="336">
                <a:moveTo>
                  <a:pt x="345" y="0"/>
                </a:moveTo>
                <a:lnTo>
                  <a:pt x="0" y="155"/>
                </a:lnTo>
                <a:lnTo>
                  <a:pt x="329" y="336"/>
                </a:lnTo>
                <a:lnTo>
                  <a:pt x="3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559400" y="3828960"/>
            <a:ext cx="1022760" cy="78120"/>
          </a:xfrm>
          <a:custGeom>
            <a:avLst/>
            <a:gdLst/>
            <a:ahLst/>
            <a:rect l="0" t="0" r="r" b="b"/>
            <a:pathLst>
              <a:path w="2841" h="217">
                <a:moveTo>
                  <a:pt x="2625" y="0"/>
                </a:moveTo>
                <a:lnTo>
                  <a:pt x="0" y="0"/>
                </a:lnTo>
                <a:lnTo>
                  <a:pt x="211" y="217"/>
                </a:lnTo>
                <a:lnTo>
                  <a:pt x="2841" y="217"/>
                </a:lnTo>
                <a:lnTo>
                  <a:pt x="2625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504040" y="3514680"/>
            <a:ext cx="78120" cy="392400"/>
          </a:xfrm>
          <a:custGeom>
            <a:avLst/>
            <a:gdLst/>
            <a:ahLst/>
            <a:rect l="0" t="0" r="r" b="b"/>
            <a:pathLst>
              <a:path w="217" h="1090">
                <a:moveTo>
                  <a:pt x="217" y="1090"/>
                </a:moveTo>
                <a:lnTo>
                  <a:pt x="0" y="874"/>
                </a:lnTo>
                <a:lnTo>
                  <a:pt x="0" y="0"/>
                </a:lnTo>
                <a:lnTo>
                  <a:pt x="217" y="211"/>
                </a:lnTo>
                <a:lnTo>
                  <a:pt x="217" y="109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4559400" y="3514680"/>
            <a:ext cx="945000" cy="314640"/>
          </a:xfrm>
          <a:custGeom>
            <a:avLst/>
            <a:gdLst/>
            <a:ahLst/>
            <a:rect l="0" t="0" r="r" b="b"/>
            <a:pathLst>
              <a:path w="2625" h="874">
                <a:moveTo>
                  <a:pt x="2625" y="874"/>
                </a:moveTo>
                <a:lnTo>
                  <a:pt x="0" y="874"/>
                </a:lnTo>
                <a:lnTo>
                  <a:pt x="0" y="0"/>
                </a:lnTo>
                <a:lnTo>
                  <a:pt x="2625" y="0"/>
                </a:lnTo>
                <a:lnTo>
                  <a:pt x="2625" y="87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4638600" y="353052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4818240" y="4800600"/>
            <a:ext cx="1026000" cy="79560"/>
          </a:xfrm>
          <a:custGeom>
            <a:avLst/>
            <a:gdLst/>
            <a:ahLst/>
            <a:rect l="0" t="0" r="r" b="b"/>
            <a:pathLst>
              <a:path w="2850" h="221">
                <a:moveTo>
                  <a:pt x="2625" y="0"/>
                </a:moveTo>
                <a:lnTo>
                  <a:pt x="0" y="0"/>
                </a:lnTo>
                <a:lnTo>
                  <a:pt x="224" y="221"/>
                </a:lnTo>
                <a:lnTo>
                  <a:pt x="2850" y="221"/>
                </a:lnTo>
                <a:lnTo>
                  <a:pt x="2625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762520" y="4484520"/>
            <a:ext cx="81360" cy="395640"/>
          </a:xfrm>
          <a:custGeom>
            <a:avLst/>
            <a:gdLst/>
            <a:ahLst/>
            <a:rect l="0" t="0" r="r" b="b"/>
            <a:pathLst>
              <a:path w="226" h="1099">
                <a:moveTo>
                  <a:pt x="226" y="1099"/>
                </a:moveTo>
                <a:lnTo>
                  <a:pt x="0" y="878"/>
                </a:lnTo>
                <a:lnTo>
                  <a:pt x="0" y="0"/>
                </a:lnTo>
                <a:lnTo>
                  <a:pt x="226" y="224"/>
                </a:lnTo>
                <a:lnTo>
                  <a:pt x="226" y="1099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818240" y="4484520"/>
            <a:ext cx="945000" cy="316440"/>
          </a:xfrm>
          <a:custGeom>
            <a:avLst/>
            <a:gdLst/>
            <a:ahLst/>
            <a:rect l="0" t="0" r="r" b="b"/>
            <a:pathLst>
              <a:path w="2625" h="879">
                <a:moveTo>
                  <a:pt x="2625" y="879"/>
                </a:moveTo>
                <a:lnTo>
                  <a:pt x="0" y="879"/>
                </a:lnTo>
                <a:lnTo>
                  <a:pt x="0" y="0"/>
                </a:lnTo>
                <a:lnTo>
                  <a:pt x="2625" y="0"/>
                </a:lnTo>
                <a:lnTo>
                  <a:pt x="2625" y="87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4897440" y="450216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905120" y="31464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4716360" y="240984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6197760" y="3619440"/>
            <a:ext cx="0" cy="67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3873600" y="4406760"/>
            <a:ext cx="20520" cy="72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929040" y="3198960"/>
            <a:ext cx="1022760" cy="76680"/>
          </a:xfrm>
          <a:custGeom>
            <a:avLst/>
            <a:gdLst/>
            <a:ahLst/>
            <a:rect l="0" t="0" r="r" b="b"/>
            <a:pathLst>
              <a:path w="2841" h="213">
                <a:moveTo>
                  <a:pt x="2625" y="0"/>
                </a:moveTo>
                <a:lnTo>
                  <a:pt x="0" y="0"/>
                </a:lnTo>
                <a:lnTo>
                  <a:pt x="211" y="213"/>
                </a:lnTo>
                <a:lnTo>
                  <a:pt x="2841" y="213"/>
                </a:lnTo>
                <a:lnTo>
                  <a:pt x="2625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4873680" y="2882880"/>
            <a:ext cx="78120" cy="392400"/>
          </a:xfrm>
          <a:custGeom>
            <a:avLst/>
            <a:gdLst/>
            <a:ahLst/>
            <a:rect l="0" t="0" r="r" b="b"/>
            <a:pathLst>
              <a:path w="217" h="1090">
                <a:moveTo>
                  <a:pt x="217" y="1090"/>
                </a:moveTo>
                <a:lnTo>
                  <a:pt x="0" y="878"/>
                </a:lnTo>
                <a:lnTo>
                  <a:pt x="0" y="0"/>
                </a:lnTo>
                <a:lnTo>
                  <a:pt x="217" y="216"/>
                </a:lnTo>
                <a:lnTo>
                  <a:pt x="217" y="109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3929040" y="2882880"/>
            <a:ext cx="945000" cy="316440"/>
          </a:xfrm>
          <a:custGeom>
            <a:avLst/>
            <a:gdLst/>
            <a:ahLst/>
            <a:rect l="0" t="0" r="r" b="b"/>
            <a:pathLst>
              <a:path w="2625" h="879">
                <a:moveTo>
                  <a:pt x="2625" y="879"/>
                </a:moveTo>
                <a:lnTo>
                  <a:pt x="0" y="879"/>
                </a:lnTo>
                <a:lnTo>
                  <a:pt x="0" y="0"/>
                </a:lnTo>
                <a:lnTo>
                  <a:pt x="2625" y="0"/>
                </a:lnTo>
                <a:lnTo>
                  <a:pt x="2625" y="87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 txBox="1"/>
          <p:nvPr/>
        </p:nvSpPr>
        <p:spPr>
          <a:xfrm>
            <a:off x="4008600" y="290052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6719760" y="509112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6845400" y="50911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6970680" y="5091120"/>
            <a:ext cx="22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6607080" y="5024520"/>
            <a:ext cx="120960" cy="119520"/>
          </a:xfrm>
          <a:custGeom>
            <a:avLst/>
            <a:gdLst/>
            <a:ahLst/>
            <a:rect l="0" t="0" r="r" b="b"/>
            <a:pathLst>
              <a:path w="336" h="332">
                <a:moveTo>
                  <a:pt x="336" y="332"/>
                </a:moveTo>
                <a:lnTo>
                  <a:pt x="0" y="172"/>
                </a:lnTo>
                <a:lnTo>
                  <a:pt x="336" y="0"/>
                </a:lnTo>
                <a:lnTo>
                  <a:pt x="336" y="3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691320" y="5405400"/>
            <a:ext cx="38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6607080" y="5356080"/>
            <a:ext cx="86040" cy="86040"/>
          </a:xfrm>
          <a:custGeom>
            <a:avLst/>
            <a:gdLst/>
            <a:ahLst/>
            <a:rect l="0" t="0" r="r" b="b"/>
            <a:pathLst>
              <a:path w="239" h="239">
                <a:moveTo>
                  <a:pt x="239" y="239"/>
                </a:moveTo>
                <a:lnTo>
                  <a:pt x="0" y="124"/>
                </a:lnTo>
                <a:lnTo>
                  <a:pt x="239" y="0"/>
                </a:lnTo>
                <a:lnTo>
                  <a:pt x="239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7113600" y="4950000"/>
            <a:ext cx="142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ssage Queu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7099200" y="5265720"/>
            <a:ext cx="725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7543800" y="24382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340080" y="2057400"/>
            <a:ext cx="2451600" cy="3457800"/>
          </a:xfrm>
          <a:custGeom>
            <a:avLst/>
            <a:gdLst/>
            <a:ahLst/>
            <a:rect l="0" t="0" r="r" b="b"/>
            <a:pathLst>
              <a:path fill="none" w="6810" h="9605">
                <a:moveTo>
                  <a:pt x="0" y="9605"/>
                </a:moveTo>
                <a:lnTo>
                  <a:pt x="6810" y="9605"/>
                </a:lnTo>
                <a:lnTo>
                  <a:pt x="6810" y="0"/>
                </a:lnTo>
                <a:lnTo>
                  <a:pt x="0" y="0"/>
                </a:lnTo>
                <a:lnTo>
                  <a:pt x="0" y="960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582480" y="152280"/>
            <a:ext cx="8332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e Study - Internet Based Stock Trading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69960" y="1646280"/>
            <a:ext cx="899964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233360" y="3228840"/>
            <a:ext cx="1357560" cy="975240"/>
          </a:xfrm>
          <a:custGeom>
            <a:avLst/>
            <a:gdLst/>
            <a:ahLst/>
            <a:rect l="0" t="0" r="r" b="b"/>
            <a:pathLst>
              <a:path w="3771" h="2709">
                <a:moveTo>
                  <a:pt x="0" y="2709"/>
                </a:moveTo>
                <a:lnTo>
                  <a:pt x="3771" y="2709"/>
                </a:lnTo>
                <a:lnTo>
                  <a:pt x="3771" y="0"/>
                </a:lnTo>
                <a:lnTo>
                  <a:pt x="0" y="0"/>
                </a:lnTo>
                <a:lnTo>
                  <a:pt x="0" y="27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1298520" y="3473280"/>
            <a:ext cx="555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1243080" y="3708360"/>
            <a:ext cx="735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598840" y="365760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2749680" y="3402000"/>
            <a:ext cx="536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I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3598920" y="1771560"/>
            <a:ext cx="1198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4730760" y="1778040"/>
            <a:ext cx="9129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60360" y="2468520"/>
            <a:ext cx="594000" cy="595800"/>
          </a:xfrm>
          <a:custGeom>
            <a:avLst/>
            <a:gdLst/>
            <a:ahLst/>
            <a:rect l="0" t="0" r="r" b="b"/>
            <a:pathLst>
              <a:path w="1650" h="1655">
                <a:moveTo>
                  <a:pt x="361" y="1085"/>
                </a:moveTo>
                <a:lnTo>
                  <a:pt x="0" y="1085"/>
                </a:lnTo>
                <a:lnTo>
                  <a:pt x="0" y="1655"/>
                </a:lnTo>
                <a:lnTo>
                  <a:pt x="1650" y="1655"/>
                </a:lnTo>
                <a:lnTo>
                  <a:pt x="1650" y="1085"/>
                </a:lnTo>
                <a:lnTo>
                  <a:pt x="1293" y="1085"/>
                </a:lnTo>
                <a:lnTo>
                  <a:pt x="1293" y="1006"/>
                </a:lnTo>
                <a:lnTo>
                  <a:pt x="1447" y="1006"/>
                </a:lnTo>
                <a:lnTo>
                  <a:pt x="1447" y="0"/>
                </a:lnTo>
                <a:lnTo>
                  <a:pt x="207" y="0"/>
                </a:lnTo>
                <a:lnTo>
                  <a:pt x="207" y="1006"/>
                </a:lnTo>
                <a:lnTo>
                  <a:pt x="361" y="1006"/>
                </a:lnTo>
                <a:lnTo>
                  <a:pt x="361" y="10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498600" y="2859120"/>
            <a:ext cx="320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498600" y="2830680"/>
            <a:ext cx="320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66720" y="2878200"/>
            <a:ext cx="241560" cy="167040"/>
          </a:xfrm>
          <a:custGeom>
            <a:avLst/>
            <a:gdLst/>
            <a:ahLst/>
            <a:rect l="0" t="0" r="r" b="b"/>
            <a:pathLst>
              <a:path w="671" h="464">
                <a:moveTo>
                  <a:pt x="0" y="464"/>
                </a:moveTo>
                <a:lnTo>
                  <a:pt x="543" y="464"/>
                </a:lnTo>
                <a:lnTo>
                  <a:pt x="543" y="0"/>
                </a:lnTo>
                <a:lnTo>
                  <a:pt x="0" y="0"/>
                </a:lnTo>
                <a:lnTo>
                  <a:pt x="0" y="464"/>
                </a:lnTo>
                <a:lnTo>
                  <a:pt x="596" y="79"/>
                </a:lnTo>
                <a:lnTo>
                  <a:pt x="671" y="79"/>
                </a:lnTo>
                <a:lnTo>
                  <a:pt x="671" y="0"/>
                </a:lnTo>
                <a:lnTo>
                  <a:pt x="596" y="0"/>
                </a:lnTo>
                <a:lnTo>
                  <a:pt x="596" y="79"/>
                </a:lnTo>
                <a:lnTo>
                  <a:pt x="0" y="46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674640" y="2933640"/>
            <a:ext cx="1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74640" y="2989440"/>
            <a:ext cx="1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84360" y="2962440"/>
            <a:ext cx="16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777960" y="2941560"/>
            <a:ext cx="55800" cy="38520"/>
          </a:xfrm>
          <a:custGeom>
            <a:avLst/>
            <a:gdLst/>
            <a:ahLst/>
            <a:rect l="0" t="0" r="r" b="b"/>
            <a:pathLst>
              <a:path fill="none" w="155" h="107">
                <a:moveTo>
                  <a:pt x="0" y="107"/>
                </a:moveTo>
                <a:lnTo>
                  <a:pt x="155" y="107"/>
                </a:lnTo>
                <a:lnTo>
                  <a:pt x="155" y="0"/>
                </a:lnTo>
                <a:lnTo>
                  <a:pt x="0" y="0"/>
                </a:lnTo>
                <a:lnTo>
                  <a:pt x="0" y="1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79440" y="2509920"/>
            <a:ext cx="557640" cy="400320"/>
          </a:xfrm>
          <a:custGeom>
            <a:avLst/>
            <a:gdLst/>
            <a:ahLst/>
            <a:rect l="0" t="0" r="r" b="b"/>
            <a:pathLst>
              <a:path w="1549" h="1112">
                <a:moveTo>
                  <a:pt x="1294" y="799"/>
                </a:moveTo>
                <a:lnTo>
                  <a:pt x="1355" y="799"/>
                </a:lnTo>
                <a:lnTo>
                  <a:pt x="1355" y="777"/>
                </a:lnTo>
                <a:lnTo>
                  <a:pt x="1294" y="777"/>
                </a:lnTo>
                <a:lnTo>
                  <a:pt x="1294" y="799"/>
                </a:lnTo>
                <a:lnTo>
                  <a:pt x="348" y="662"/>
                </a:lnTo>
                <a:lnTo>
                  <a:pt x="348" y="83"/>
                </a:lnTo>
                <a:lnTo>
                  <a:pt x="1201" y="83"/>
                </a:lnTo>
                <a:lnTo>
                  <a:pt x="1201" y="662"/>
                </a:lnTo>
                <a:lnTo>
                  <a:pt x="348" y="662"/>
                </a:lnTo>
                <a:lnTo>
                  <a:pt x="308" y="702"/>
                </a:lnTo>
                <a:lnTo>
                  <a:pt x="1241" y="702"/>
                </a:lnTo>
                <a:lnTo>
                  <a:pt x="1241" y="44"/>
                </a:lnTo>
                <a:lnTo>
                  <a:pt x="1280" y="44"/>
                </a:lnTo>
                <a:lnTo>
                  <a:pt x="1280" y="0"/>
                </a:lnTo>
                <a:lnTo>
                  <a:pt x="268" y="0"/>
                </a:lnTo>
                <a:lnTo>
                  <a:pt x="268" y="737"/>
                </a:lnTo>
                <a:lnTo>
                  <a:pt x="308" y="737"/>
                </a:lnTo>
                <a:lnTo>
                  <a:pt x="308" y="702"/>
                </a:lnTo>
                <a:lnTo>
                  <a:pt x="0" y="1076"/>
                </a:lnTo>
                <a:lnTo>
                  <a:pt x="154" y="1076"/>
                </a:lnTo>
                <a:lnTo>
                  <a:pt x="154" y="1024"/>
                </a:lnTo>
                <a:lnTo>
                  <a:pt x="0" y="1024"/>
                </a:lnTo>
                <a:lnTo>
                  <a:pt x="0" y="1076"/>
                </a:lnTo>
                <a:lnTo>
                  <a:pt x="904" y="1112"/>
                </a:lnTo>
                <a:lnTo>
                  <a:pt x="1241" y="1112"/>
                </a:lnTo>
                <a:lnTo>
                  <a:pt x="1241" y="1085"/>
                </a:lnTo>
                <a:lnTo>
                  <a:pt x="904" y="1085"/>
                </a:lnTo>
                <a:lnTo>
                  <a:pt x="904" y="1112"/>
                </a:lnTo>
                <a:lnTo>
                  <a:pt x="1496" y="1046"/>
                </a:lnTo>
                <a:lnTo>
                  <a:pt x="1549" y="1046"/>
                </a:lnTo>
                <a:lnTo>
                  <a:pt x="1549" y="1024"/>
                </a:lnTo>
                <a:lnTo>
                  <a:pt x="1496" y="1024"/>
                </a:lnTo>
                <a:lnTo>
                  <a:pt x="1496" y="1046"/>
                </a:lnTo>
                <a:lnTo>
                  <a:pt x="1496" y="1103"/>
                </a:lnTo>
                <a:lnTo>
                  <a:pt x="1549" y="1103"/>
                </a:lnTo>
                <a:lnTo>
                  <a:pt x="1549" y="1076"/>
                </a:lnTo>
                <a:lnTo>
                  <a:pt x="1496" y="1076"/>
                </a:lnTo>
                <a:lnTo>
                  <a:pt x="1496" y="1103"/>
                </a:lnTo>
                <a:lnTo>
                  <a:pt x="1294" y="79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42800" y="28116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546120" y="280656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657360" y="280656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03200" y="3119400"/>
            <a:ext cx="493920" cy="168480"/>
          </a:xfrm>
          <a:custGeom>
            <a:avLst/>
            <a:gdLst/>
            <a:ahLst/>
            <a:rect l="0" t="0" r="r" b="b"/>
            <a:pathLst>
              <a:path w="1372" h="468">
                <a:moveTo>
                  <a:pt x="0" y="0"/>
                </a:moveTo>
                <a:lnTo>
                  <a:pt x="0" y="468"/>
                </a:lnTo>
                <a:lnTo>
                  <a:pt x="1372" y="468"/>
                </a:lnTo>
                <a:lnTo>
                  <a:pt x="13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173160" y="2030400"/>
            <a:ext cx="993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333360" y="3494160"/>
            <a:ext cx="644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770040" y="3208320"/>
            <a:ext cx="442800" cy="366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905120" y="3208320"/>
            <a:ext cx="0" cy="9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962520" y="3886200"/>
            <a:ext cx="9907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4100400" y="4016520"/>
            <a:ext cx="828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886200" y="2065320"/>
            <a:ext cx="0" cy="3414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3414600" y="3133800"/>
            <a:ext cx="38268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962520" y="2438280"/>
            <a:ext cx="9907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4100400" y="2568600"/>
            <a:ext cx="8604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7910640" y="2570040"/>
            <a:ext cx="1155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2119320" y="3254400"/>
            <a:ext cx="24120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6019920" y="4419720"/>
            <a:ext cx="1522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7162920" y="4419720"/>
            <a:ext cx="1522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103800" y="4419720"/>
            <a:ext cx="112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103800" y="4724280"/>
            <a:ext cx="112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324480" y="44276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553080" y="44276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781680" y="44276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010280" y="44276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715000" y="3733920"/>
            <a:ext cx="291960" cy="7491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7253280" y="3722760"/>
            <a:ext cx="963720" cy="785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924680" y="2446200"/>
            <a:ext cx="0" cy="135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7932600" y="3429000"/>
            <a:ext cx="112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7529400" y="2600280"/>
            <a:ext cx="38268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7910640" y="3483000"/>
            <a:ext cx="790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15000" y="2971800"/>
            <a:ext cx="1816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3657600" y="563868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4419720" y="5646600"/>
            <a:ext cx="0" cy="90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665520" y="5867280"/>
            <a:ext cx="18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665520" y="6095880"/>
            <a:ext cx="18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665520" y="6324480"/>
            <a:ext cx="18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3643200" y="5662440"/>
            <a:ext cx="555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4405320" y="5662440"/>
            <a:ext cx="1154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970440" y="601992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970440" y="624852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970440" y="647712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808520" y="60199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808520" y="62485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4808520" y="64771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5929200" y="3809880"/>
            <a:ext cx="16905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853240" y="2209680"/>
            <a:ext cx="1519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cation 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257800" y="2362320"/>
            <a:ext cx="45720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5241960" y="2674800"/>
            <a:ext cx="55872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952880" y="2895480"/>
            <a:ext cx="304920" cy="0"/>
          </a:xfrm>
          <a:prstGeom prst="line">
            <a:avLst/>
          </a:prstGeom>
          <a:ln w="12600">
            <a:solidFill>
              <a:srgbClr val="2323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 txBox="1"/>
          <p:nvPr/>
        </p:nvSpPr>
        <p:spPr>
          <a:xfrm>
            <a:off x="547560" y="2192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e Study - Asynchronou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716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048120" y="4724280"/>
            <a:ext cx="304920" cy="609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208320" y="4724280"/>
            <a:ext cx="19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208320" y="5334120"/>
            <a:ext cx="19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58128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029200" y="4724280"/>
            <a:ext cx="304920" cy="609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403848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41972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80060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400800" y="1752480"/>
            <a:ext cx="24382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6919920" y="2157480"/>
            <a:ext cx="1657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6705720" y="1760400"/>
            <a:ext cx="0" cy="112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 txBox="1"/>
          <p:nvPr/>
        </p:nvSpPr>
        <p:spPr>
          <a:xfrm>
            <a:off x="6462720" y="2004840"/>
            <a:ext cx="30960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290520" y="1905120"/>
            <a:ext cx="1690920" cy="457200"/>
            <a:chOff x="290520" y="1905120"/>
            <a:chExt cx="1690920" cy="457200"/>
          </a:xfrm>
        </p:grpSpPr>
        <p:sp>
          <p:nvSpPr>
            <p:cNvPr id="2198" name=""/>
            <p:cNvSpPr/>
            <p:nvPr/>
          </p:nvSpPr>
          <p:spPr>
            <a:xfrm>
              <a:off x="304920" y="1905120"/>
              <a:ext cx="16765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 txBox="1"/>
            <p:nvPr/>
          </p:nvSpPr>
          <p:spPr>
            <a:xfrm>
              <a:off x="290520" y="2004840"/>
              <a:ext cx="1652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/Serv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279360" y="2819520"/>
            <a:ext cx="1702080" cy="457200"/>
            <a:chOff x="279360" y="2819520"/>
            <a:chExt cx="1702080" cy="457200"/>
          </a:xfrm>
        </p:grpSpPr>
        <p:sp>
          <p:nvSpPr>
            <p:cNvPr id="2201" name=""/>
            <p:cNvSpPr/>
            <p:nvPr/>
          </p:nvSpPr>
          <p:spPr>
            <a:xfrm>
              <a:off x="304920" y="2819520"/>
              <a:ext cx="16765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79360" y="2917800"/>
              <a:ext cx="203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3" name=""/>
          <p:cNvSpPr/>
          <p:nvPr/>
        </p:nvSpPr>
        <p:spPr>
          <a:xfrm>
            <a:off x="304920" y="373392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290520" y="3833640"/>
            <a:ext cx="18651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ria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066680" y="237024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066680" y="328464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 txBox="1"/>
          <p:nvPr/>
        </p:nvSpPr>
        <p:spPr>
          <a:xfrm>
            <a:off x="519120" y="2919240"/>
            <a:ext cx="12477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s a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80880" y="472428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366840" y="4824360"/>
            <a:ext cx="18860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nque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2217600" y="50292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4862520" y="5764320"/>
            <a:ext cx="69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3262320" y="5762520"/>
            <a:ext cx="69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505320" y="526572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952880" y="526572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553080" y="472428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6539040" y="4824360"/>
            <a:ext cx="1874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que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5342040" y="502920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6553080" y="3733920"/>
            <a:ext cx="2057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6539040" y="3833640"/>
            <a:ext cx="20430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seria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066680" y="4351320"/>
            <a:ext cx="0" cy="366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7620120" y="433872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7620120" y="334800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6548400" y="3352680"/>
            <a:ext cx="107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6553080" y="289080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6539040" y="3071880"/>
            <a:ext cx="2384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ynchronous ID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 txBox="1"/>
          <p:nvPr/>
        </p:nvSpPr>
        <p:spPr>
          <a:xfrm>
            <a:off x="3110040" y="2081160"/>
            <a:ext cx="2427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mport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oes not know i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 asynchronous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547560" y="2192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e Study - Synchronous / Asynchronou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4716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048120" y="4724280"/>
            <a:ext cx="304920" cy="609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3208320" y="4724280"/>
            <a:ext cx="19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3208320" y="5334120"/>
            <a:ext cx="19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58128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29200" y="4724280"/>
            <a:ext cx="304920" cy="609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03848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1972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800600" y="4732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400800" y="1752480"/>
            <a:ext cx="24382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996240" y="2157480"/>
            <a:ext cx="1657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6705720" y="1760400"/>
            <a:ext cx="0" cy="112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462720" y="2004840"/>
            <a:ext cx="30960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"/>
          <p:cNvGrpSpPr/>
          <p:nvPr/>
        </p:nvGrpSpPr>
        <p:grpSpPr>
          <a:xfrm>
            <a:off x="290520" y="1905120"/>
            <a:ext cx="1690920" cy="457200"/>
            <a:chOff x="290520" y="1905120"/>
            <a:chExt cx="1690920" cy="457200"/>
          </a:xfrm>
        </p:grpSpPr>
        <p:sp>
          <p:nvSpPr>
            <p:cNvPr id="2244" name=""/>
            <p:cNvSpPr/>
            <p:nvPr/>
          </p:nvSpPr>
          <p:spPr>
            <a:xfrm>
              <a:off x="304920" y="1905120"/>
              <a:ext cx="16765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 txBox="1"/>
            <p:nvPr/>
          </p:nvSpPr>
          <p:spPr>
            <a:xfrm>
              <a:off x="290520" y="2004840"/>
              <a:ext cx="1652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/Serv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279360" y="2819520"/>
            <a:ext cx="1702080" cy="457200"/>
            <a:chOff x="279360" y="2819520"/>
            <a:chExt cx="1702080" cy="457200"/>
          </a:xfrm>
        </p:grpSpPr>
        <p:sp>
          <p:nvSpPr>
            <p:cNvPr id="2247" name=""/>
            <p:cNvSpPr/>
            <p:nvPr/>
          </p:nvSpPr>
          <p:spPr>
            <a:xfrm>
              <a:off x="304920" y="2819520"/>
              <a:ext cx="16765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79360" y="2917800"/>
              <a:ext cx="203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9" name=""/>
          <p:cNvSpPr/>
          <p:nvPr/>
        </p:nvSpPr>
        <p:spPr>
          <a:xfrm>
            <a:off x="304920" y="373392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290520" y="3833640"/>
            <a:ext cx="18651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ria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1066680" y="237024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066680" y="328464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519120" y="2919240"/>
            <a:ext cx="12477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s a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80880" y="472428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66840" y="4824360"/>
            <a:ext cx="18860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nque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2217600" y="50292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862520" y="5764320"/>
            <a:ext cx="69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262320" y="5762520"/>
            <a:ext cx="69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505320" y="526572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952880" y="526572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6553080" y="472428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 txBox="1"/>
          <p:nvPr/>
        </p:nvSpPr>
        <p:spPr>
          <a:xfrm>
            <a:off x="6539040" y="4824360"/>
            <a:ext cx="1874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que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342040" y="502920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553080" y="3733920"/>
            <a:ext cx="2057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6539040" y="3833640"/>
            <a:ext cx="20430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</a:t>
            </a: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seria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1066680" y="4351320"/>
            <a:ext cx="0" cy="366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7620120" y="433872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7620120" y="334800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6548400" y="3352680"/>
            <a:ext cx="107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6553080" y="289080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6539040" y="3071880"/>
            <a:ext cx="2384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ynchronous ID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3110040" y="3071880"/>
            <a:ext cx="3178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mport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handle both synchro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asynchronous invo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2021040" y="2133720"/>
            <a:ext cx="4341600" cy="0"/>
          </a:xfrm>
          <a:prstGeom prst="line">
            <a:avLst/>
          </a:prstGeom>
          <a:ln w="7632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528480" y="0"/>
            <a:ext cx="85392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, Web and Middlewa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orking Together to Perfect the 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2701800" y="2857680"/>
            <a:ext cx="3303720" cy="1792440"/>
          </a:xfrm>
          <a:prstGeom prst="rect">
            <a:avLst/>
          </a:prstGeom>
          <a:ln w="0">
            <a:noFill/>
          </a:ln>
        </p:spPr>
      </p:pic>
      <p:sp>
        <p:nvSpPr>
          <p:cNvPr id="2277" name=""/>
          <p:cNvSpPr txBox="1"/>
          <p:nvPr/>
        </p:nvSpPr>
        <p:spPr>
          <a:xfrm>
            <a:off x="439560" y="2968560"/>
            <a:ext cx="2057400" cy="1446120"/>
          </a:xfrm>
          <a:prstGeom prst="rect">
            <a:avLst/>
          </a:prstGeom>
          <a:solidFill>
            <a:srgbClr val="47474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23232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6356520" y="2968560"/>
            <a:ext cx="2057400" cy="1446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23232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 txBox="1"/>
          <p:nvPr/>
        </p:nvSpPr>
        <p:spPr>
          <a:xfrm>
            <a:off x="552600" y="171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45720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lease don’t forget to fill-out your evaluation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ank you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98320" y="1622520"/>
            <a:ext cx="3368520" cy="1150920"/>
            <a:chOff x="598320" y="1622520"/>
            <a:chExt cx="3368520" cy="1150920"/>
          </a:xfrm>
        </p:grpSpPr>
        <p:sp>
          <p:nvSpPr>
            <p:cNvPr id="91" name=""/>
            <p:cNvSpPr/>
            <p:nvPr/>
          </p:nvSpPr>
          <p:spPr>
            <a:xfrm>
              <a:off x="598320" y="1622520"/>
              <a:ext cx="3368520" cy="1150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987480" y="1816200"/>
              <a:ext cx="2641320" cy="633240"/>
              <a:chOff x="987480" y="1816200"/>
              <a:chExt cx="2641320" cy="633240"/>
            </a:xfrm>
          </p:grpSpPr>
          <p:sp>
            <p:nvSpPr>
              <p:cNvPr id="93" name=""/>
              <p:cNvSpPr/>
              <p:nvPr/>
            </p:nvSpPr>
            <p:spPr>
              <a:xfrm>
                <a:off x="987480" y="2449440"/>
                <a:ext cx="220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1162080" y="1827360"/>
                <a:ext cx="393840" cy="596880"/>
                <a:chOff x="1162080" y="1827360"/>
                <a:chExt cx="393840" cy="59688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1162080" y="1827360"/>
                  <a:ext cx="393840" cy="403200"/>
                  <a:chOff x="1162080" y="1827360"/>
                  <a:chExt cx="393840" cy="4032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1254240" y="1827360"/>
                    <a:ext cx="30168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162080" y="2117880"/>
                    <a:ext cx="39384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"/>
                <p:cNvSpPr/>
                <p:nvPr/>
              </p:nvSpPr>
              <p:spPr>
                <a:xfrm>
                  <a:off x="1386000" y="2260440"/>
                  <a:ext cx="0" cy="16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744560" y="1827360"/>
                <a:ext cx="395280" cy="596880"/>
                <a:chOff x="1744560" y="1827360"/>
                <a:chExt cx="395280" cy="59688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1744560" y="1827360"/>
                  <a:ext cx="395280" cy="403200"/>
                  <a:chOff x="1744560" y="1827360"/>
                  <a:chExt cx="395280" cy="4032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1836720" y="1827360"/>
                    <a:ext cx="30312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744560" y="2117880"/>
                    <a:ext cx="39528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1968480" y="2260440"/>
                  <a:ext cx="0" cy="16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495520" y="1827360"/>
                <a:ext cx="395280" cy="596880"/>
                <a:chOff x="2495520" y="1827360"/>
                <a:chExt cx="395280" cy="5968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2495520" y="1827360"/>
                  <a:ext cx="395280" cy="403200"/>
                  <a:chOff x="2495520" y="1827360"/>
                  <a:chExt cx="395280" cy="4032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2589120" y="1827360"/>
                    <a:ext cx="30168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495520" y="2117880"/>
                    <a:ext cx="39528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2719440" y="2260440"/>
                  <a:ext cx="0" cy="16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3070080" y="1816200"/>
                <a:ext cx="542880" cy="2062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28920" y="1828800"/>
                <a:ext cx="299880" cy="130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86120" y="193212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5113440" y="1622520"/>
            <a:ext cx="3368520" cy="1150920"/>
            <a:chOff x="5113440" y="1622520"/>
            <a:chExt cx="3368520" cy="1150920"/>
          </a:xfrm>
        </p:grpSpPr>
        <p:sp>
          <p:nvSpPr>
            <p:cNvPr id="113" name=""/>
            <p:cNvSpPr/>
            <p:nvPr/>
          </p:nvSpPr>
          <p:spPr>
            <a:xfrm>
              <a:off x="5113440" y="1622520"/>
              <a:ext cx="3368520" cy="1150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504040" y="1816200"/>
              <a:ext cx="2639520" cy="633240"/>
              <a:chOff x="5504040" y="1816200"/>
              <a:chExt cx="2639520" cy="633240"/>
            </a:xfrm>
          </p:grpSpPr>
          <p:sp>
            <p:nvSpPr>
              <p:cNvPr id="115" name=""/>
              <p:cNvSpPr/>
              <p:nvPr/>
            </p:nvSpPr>
            <p:spPr>
              <a:xfrm>
                <a:off x="5504040" y="2449440"/>
                <a:ext cx="219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5676840" y="1827360"/>
                <a:ext cx="395280" cy="596880"/>
                <a:chOff x="5676840" y="1827360"/>
                <a:chExt cx="395280" cy="59688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5676840" y="1827360"/>
                  <a:ext cx="395280" cy="403200"/>
                  <a:chOff x="5676840" y="1827360"/>
                  <a:chExt cx="395280" cy="4032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5769000" y="1827360"/>
                    <a:ext cx="30312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676840" y="2117880"/>
                    <a:ext cx="39528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>
                  <a:off x="5900760" y="2260440"/>
                  <a:ext cx="0" cy="16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59680" y="1827360"/>
                <a:ext cx="393840" cy="596880"/>
                <a:chOff x="6259680" y="1827360"/>
                <a:chExt cx="393840" cy="59688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6259680" y="1827360"/>
                  <a:ext cx="393840" cy="403200"/>
                  <a:chOff x="6259680" y="1827360"/>
                  <a:chExt cx="393840" cy="4032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351480" y="1827360"/>
                    <a:ext cx="30168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259680" y="2117880"/>
                    <a:ext cx="39384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6485040" y="2260440"/>
                  <a:ext cx="0" cy="16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010280" y="1827360"/>
                <a:ext cx="397080" cy="596880"/>
                <a:chOff x="7010280" y="1827360"/>
                <a:chExt cx="397080" cy="59688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7010280" y="1827360"/>
                  <a:ext cx="397080" cy="403200"/>
                  <a:chOff x="7010280" y="1827360"/>
                  <a:chExt cx="397080" cy="4032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7104240" y="1827360"/>
                    <a:ext cx="30312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010280" y="2117880"/>
                    <a:ext cx="39672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7234200" y="2260440"/>
                  <a:ext cx="0" cy="16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7585200" y="1816200"/>
                <a:ext cx="542880" cy="2062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43680" y="1828800"/>
                <a:ext cx="299880" cy="130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400880" y="193212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714600" y="4184640"/>
            <a:ext cx="3367080" cy="1149480"/>
            <a:chOff x="714600" y="4184640"/>
            <a:chExt cx="3367080" cy="1149480"/>
          </a:xfrm>
        </p:grpSpPr>
        <p:sp>
          <p:nvSpPr>
            <p:cNvPr id="135" name=""/>
            <p:cNvSpPr/>
            <p:nvPr/>
          </p:nvSpPr>
          <p:spPr>
            <a:xfrm>
              <a:off x="714600" y="4184640"/>
              <a:ext cx="3367080" cy="114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101600" y="4378320"/>
              <a:ext cx="2640240" cy="633240"/>
              <a:chOff x="1101600" y="4378320"/>
              <a:chExt cx="2640240" cy="633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101600" y="5011560"/>
                <a:ext cx="220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1278000" y="4389480"/>
                <a:ext cx="392040" cy="596880"/>
                <a:chOff x="1278000" y="4389480"/>
                <a:chExt cx="392040" cy="59688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1278000" y="4389480"/>
                  <a:ext cx="392040" cy="403200"/>
                  <a:chOff x="1278000" y="4389480"/>
                  <a:chExt cx="392040" cy="4032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1368360" y="4389480"/>
                    <a:ext cx="30168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278000" y="4680000"/>
                    <a:ext cx="39204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" name=""/>
                <p:cNvSpPr/>
                <p:nvPr/>
              </p:nvSpPr>
              <p:spPr>
                <a:xfrm>
                  <a:off x="1501920" y="4821120"/>
                  <a:ext cx="0" cy="16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859040" y="4389480"/>
                <a:ext cx="393840" cy="596880"/>
                <a:chOff x="1859040" y="4389480"/>
                <a:chExt cx="393840" cy="59688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1859040" y="4389480"/>
                  <a:ext cx="393840" cy="403200"/>
                  <a:chOff x="1859040" y="4389480"/>
                  <a:chExt cx="393840" cy="4032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1952640" y="4389480"/>
                    <a:ext cx="29988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859040" y="4680000"/>
                    <a:ext cx="39384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" name=""/>
                <p:cNvSpPr/>
                <p:nvPr/>
              </p:nvSpPr>
              <p:spPr>
                <a:xfrm>
                  <a:off x="2082960" y="4821120"/>
                  <a:ext cx="0" cy="16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611440" y="4389480"/>
                <a:ext cx="393840" cy="596880"/>
                <a:chOff x="2611440" y="4389480"/>
                <a:chExt cx="393840" cy="59688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2611440" y="4389480"/>
                  <a:ext cx="393840" cy="403200"/>
                  <a:chOff x="2611440" y="4389480"/>
                  <a:chExt cx="393840" cy="4032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2703600" y="4389480"/>
                    <a:ext cx="30168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611440" y="4680000"/>
                    <a:ext cx="39384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2835360" y="4821120"/>
                  <a:ext cx="0" cy="16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3186000" y="4378320"/>
                <a:ext cx="542880" cy="2080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44840" y="4390920"/>
                <a:ext cx="297000" cy="130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00240" y="4494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153040" y="4184640"/>
            <a:ext cx="3368520" cy="1149480"/>
            <a:chOff x="5153040" y="4184640"/>
            <a:chExt cx="3368520" cy="1149480"/>
          </a:xfrm>
        </p:grpSpPr>
        <p:sp>
          <p:nvSpPr>
            <p:cNvPr id="157" name=""/>
            <p:cNvSpPr/>
            <p:nvPr/>
          </p:nvSpPr>
          <p:spPr>
            <a:xfrm>
              <a:off x="5153040" y="4184640"/>
              <a:ext cx="3368520" cy="114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540400" y="4378320"/>
              <a:ext cx="2640240" cy="633240"/>
              <a:chOff x="5540400" y="4378320"/>
              <a:chExt cx="2640240" cy="633240"/>
            </a:xfrm>
          </p:grpSpPr>
          <p:sp>
            <p:nvSpPr>
              <p:cNvPr id="159" name=""/>
              <p:cNvSpPr/>
              <p:nvPr/>
            </p:nvSpPr>
            <p:spPr>
              <a:xfrm>
                <a:off x="5540400" y="5011560"/>
                <a:ext cx="220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5715000" y="4389480"/>
                <a:ext cx="395280" cy="596880"/>
                <a:chOff x="5715000" y="4389480"/>
                <a:chExt cx="395280" cy="596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5715000" y="4389480"/>
                  <a:ext cx="395280" cy="403200"/>
                  <a:chOff x="5715000" y="4389480"/>
                  <a:chExt cx="395280" cy="403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807160" y="4389480"/>
                    <a:ext cx="30312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715000" y="4680000"/>
                    <a:ext cx="39528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5938920" y="4821120"/>
                  <a:ext cx="0" cy="16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299280" y="4389480"/>
                <a:ext cx="392040" cy="596880"/>
                <a:chOff x="6299280" y="4389480"/>
                <a:chExt cx="392040" cy="59688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6299280" y="4389480"/>
                  <a:ext cx="392040" cy="403200"/>
                  <a:chOff x="6299280" y="4389480"/>
                  <a:chExt cx="392040" cy="4032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6391440" y="4389480"/>
                    <a:ext cx="29988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299280" y="4680000"/>
                    <a:ext cx="39204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6523200" y="4821120"/>
                  <a:ext cx="0" cy="16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048440" y="4389480"/>
                <a:ext cx="396720" cy="596880"/>
                <a:chOff x="7048440" y="4389480"/>
                <a:chExt cx="396720" cy="596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7048440" y="4389480"/>
                  <a:ext cx="396720" cy="403200"/>
                  <a:chOff x="7048440" y="4389480"/>
                  <a:chExt cx="396720" cy="4032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7142040" y="4389480"/>
                    <a:ext cx="30312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048440" y="4680000"/>
                    <a:ext cx="396720" cy="1126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7272360" y="4821120"/>
                  <a:ext cx="0" cy="16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7623000" y="4378320"/>
                <a:ext cx="544680" cy="2080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83640" y="4390920"/>
                <a:ext cx="297000" cy="130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39040" y="4494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517840" y="2809800"/>
            <a:ext cx="782640" cy="266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246480" y="2878200"/>
            <a:ext cx="63360" cy="22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62320" y="2879640"/>
            <a:ext cx="1009800" cy="35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086440" y="3049560"/>
            <a:ext cx="108252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861160" y="3022560"/>
            <a:ext cx="322200" cy="3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888160" y="2751120"/>
            <a:ext cx="1411200" cy="264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59000" y="3908520"/>
            <a:ext cx="1639800" cy="29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776760" y="3922560"/>
            <a:ext cx="136440" cy="23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16360" y="3808440"/>
            <a:ext cx="782640" cy="35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661000" y="3867120"/>
            <a:ext cx="1235160" cy="30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702400" y="3835440"/>
            <a:ext cx="438120" cy="2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073480" y="3608280"/>
            <a:ext cx="1038240" cy="236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51240" y="3218040"/>
            <a:ext cx="7142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66880" y="2879640"/>
            <a:ext cx="2076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85920" y="5354640"/>
            <a:ext cx="1670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Order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46880" y="2859120"/>
            <a:ext cx="1895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Ris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199200" y="5392800"/>
            <a:ext cx="2370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ttlement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685800"/>
            <a:ext cx="76960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 Integration is K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3181320"/>
            <a:ext cx="48769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20960" y="3214800"/>
            <a:ext cx="19256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dle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 txBox="1"/>
          <p:nvPr/>
        </p:nvSpPr>
        <p:spPr>
          <a:xfrm>
            <a:off x="476280" y="476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60948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national Systems Group, In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50 West 57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ite 8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w York, N.Y. 10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hone (212) 489-0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x      (212) 489-1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ww.isg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sg@ isg-inc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rporate:mdolgicer@ isg-inc.co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sonal: mdolgicer@ ao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53352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day’s Computing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52388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9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eterogeneous computing is a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90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day’s organization spans a diverse range of business applications, computing platforms an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20"/>
              </a:spcBef>
              <a:buClr>
                <a:srgbClr val="000000"/>
              </a:buClr>
              <a:buSzPct val="9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Web is accelerating many integra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ry application could be potentially ”webifi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x Dolgicer</dc:creator>
  <dc:description/>
  <dc:language>en-US</dc:language>
  <cp:lastModifiedBy>.</cp:lastModifiedBy>
  <cp:revision>0</cp:revision>
  <dc:subject>IEC98</dc:subject>
  <dc:title>Internet and Distributed Objects</dc:title>
</cp:coreProperties>
</file>