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2765880" y="870588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C647BCB3-60CC-4A21-84D2-CEDA8605D09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11444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scape predicts that IIOP will replace HTTP someday. Distributed objects are using the Web to make inroads to distribution applicationdevelopment. Object request brokers such as Microsoft's COM and OMG's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rba are setting the stage for dynamic application development. One of the shimmering promises of object-oriented technology is the creation of a codeless rapid application development environment - making it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ossible to quickly string together a selection of prebuilt components to form a robust application. However, developers heading in this direction must proceed with caution. This presentation provides developers and development managers with the key information they need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know before moving into the world of the Internet and distributed  object computing. Topics include: IIOP and Corba, DCOM, ActiveX, Java and distributed middleware layers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92680" y="0"/>
            <a:ext cx="299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92680" y="8674200"/>
            <a:ext cx="299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8674200"/>
            <a:ext cx="2994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0"/>
            <a:ext cx="2994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6720" cy="340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6720" cy="340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884760" y="-1440"/>
            <a:ext cx="2973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84760" y="8636040"/>
            <a:ext cx="2973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0" y="8636040"/>
            <a:ext cx="2970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0" y="-1440"/>
            <a:ext cx="2970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0800" y="4344840"/>
            <a:ext cx="503100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3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892680" y="0"/>
            <a:ext cx="299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892680" y="8674200"/>
            <a:ext cx="299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8674200"/>
            <a:ext cx="2994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0"/>
            <a:ext cx="2994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4760" y="-1440"/>
            <a:ext cx="29732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884760" y="8636040"/>
            <a:ext cx="2973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8636040"/>
            <a:ext cx="2970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0" y="-1440"/>
            <a:ext cx="2970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884760" y="-1440"/>
            <a:ext cx="29732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884760" y="8636040"/>
            <a:ext cx="2973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0" y="8636040"/>
            <a:ext cx="2970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0" y="-1440"/>
            <a:ext cx="2970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9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9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892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10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2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892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910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47200" y="2188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76360" y="1324080"/>
            <a:ext cx="85500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29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840" y="6531120"/>
            <a:ext cx="347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279f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279f"/>
                </a:solidFill>
                <a:latin typeface="Arial Narrow"/>
              </a:rPr>
              <a:t>International  Systems Group Inc ,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2324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374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80320" y="5867280"/>
            <a:ext cx="135720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400" y="180720"/>
            <a:ext cx="8155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grating Java, CORBA and COM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y, What and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495520"/>
            <a:ext cx="832464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219060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Max  Dolgicer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mdolgicer@isg-inc.co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Director of Technical Servic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47200" y="533520"/>
            <a:ext cx="8520120" cy="113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Goals and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lly, everyone agrees that a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iddleware platform”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at provides a “level playing” field is requir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 as a platform and not just a communication pipe is requir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“middleware platform” needs to deal with the development, complex run-time and deployment issues.... and this is where the real challenge i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the Iceberg analogy, middleware should provide a lot of under the water and some above the water servi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big question remains what type of middlewar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y Object Middleware and NOT just any Middlewar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48320" y="1752480"/>
            <a:ext cx="2628720" cy="4345200"/>
          </a:xfrm>
          <a:prstGeom prst="rect">
            <a:avLst/>
          </a:prstGeom>
          <a:solidFill>
            <a:srgbClr val="cdcdcd"/>
          </a:solidFill>
          <a:ln w="468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09800" y="4440240"/>
            <a:ext cx="6975360" cy="1371600"/>
          </a:xfrm>
          <a:custGeom>
            <a:avLst/>
            <a:gdLst/>
            <a:ahLst/>
            <a:rect l="l" t="t" r="r" b="b"/>
            <a:pathLst>
              <a:path w="8786" h="1728">
                <a:moveTo>
                  <a:pt x="0" y="864"/>
                </a:moveTo>
                <a:lnTo>
                  <a:pt x="499" y="0"/>
                </a:lnTo>
                <a:lnTo>
                  <a:pt x="499" y="570"/>
                </a:lnTo>
                <a:lnTo>
                  <a:pt x="8289" y="570"/>
                </a:lnTo>
                <a:lnTo>
                  <a:pt x="8289" y="0"/>
                </a:lnTo>
                <a:lnTo>
                  <a:pt x="8786" y="864"/>
                </a:lnTo>
                <a:lnTo>
                  <a:pt x="8289" y="1728"/>
                </a:lnTo>
                <a:lnTo>
                  <a:pt x="8289" y="1158"/>
                </a:lnTo>
                <a:lnTo>
                  <a:pt x="499" y="1158"/>
                </a:lnTo>
                <a:lnTo>
                  <a:pt x="499" y="1728"/>
                </a:lnTo>
                <a:lnTo>
                  <a:pt x="0" y="864"/>
                </a:lnTo>
                <a:close/>
              </a:path>
            </a:pathLst>
          </a:custGeom>
          <a:solidFill>
            <a:srgbClr val="cdcdcd"/>
          </a:solidFill>
          <a:ln w="468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4554360"/>
            <a:ext cx="2628720" cy="228600"/>
          </a:xfrm>
          <a:prstGeom prst="rect">
            <a:avLst/>
          </a:prstGeom>
          <a:solidFill>
            <a:srgbClr val="cdcdcd"/>
          </a:solidFill>
          <a:ln w="468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7040" y="5468760"/>
            <a:ext cx="2628720" cy="571680"/>
          </a:xfrm>
          <a:prstGeom prst="rect">
            <a:avLst/>
          </a:prstGeom>
          <a:solidFill>
            <a:srgbClr val="cdcdcd"/>
          </a:solidFill>
          <a:ln w="468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075440" y="2038320"/>
            <a:ext cx="1020960" cy="687240"/>
            <a:chOff x="7075440" y="2038320"/>
            <a:chExt cx="1020960" cy="687240"/>
          </a:xfrm>
        </p:grpSpPr>
        <p:grpSp>
          <p:nvGrpSpPr>
            <p:cNvPr id="350" name=""/>
            <p:cNvGrpSpPr/>
            <p:nvPr/>
          </p:nvGrpSpPr>
          <p:grpSpPr>
            <a:xfrm>
              <a:off x="7075440" y="2038320"/>
              <a:ext cx="1020960" cy="687240"/>
              <a:chOff x="7075440" y="2038320"/>
              <a:chExt cx="1020960" cy="687240"/>
            </a:xfrm>
          </p:grpSpPr>
          <p:sp>
            <p:nvSpPr>
              <p:cNvPr id="351" name=""/>
              <p:cNvSpPr/>
              <p:nvPr/>
            </p:nvSpPr>
            <p:spPr>
              <a:xfrm>
                <a:off x="7075440" y="2038320"/>
                <a:ext cx="17640" cy="68724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93080" y="2038320"/>
                <a:ext cx="14040" cy="68724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07120" y="2038320"/>
                <a:ext cx="15840" cy="687240"/>
              </a:xfrm>
              <a:prstGeom prst="rect">
                <a:avLst/>
              </a:prstGeom>
              <a:solidFill>
                <a:srgbClr val="5a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22960" y="2038320"/>
                <a:ext cx="17640" cy="68724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0600" y="2038320"/>
                <a:ext cx="14400" cy="687240"/>
              </a:xfrm>
              <a:prstGeom prst="rect">
                <a:avLst/>
              </a:pr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55000" y="2038320"/>
                <a:ext cx="17280" cy="687240"/>
              </a:xfrm>
              <a:prstGeom prst="rect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72280" y="2038320"/>
                <a:ext cx="14400" cy="687240"/>
              </a:xfrm>
              <a:prstGeom prst="rect">
                <a:avLst/>
              </a:pr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86680" y="2038320"/>
                <a:ext cx="15840" cy="6872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02520" y="2038320"/>
                <a:ext cx="15840" cy="6872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18360" y="2038320"/>
                <a:ext cx="15840" cy="687240"/>
              </a:xfrm>
              <a:prstGeom prst="rect">
                <a:avLst/>
              </a:pr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34200" y="2038320"/>
                <a:ext cx="17640" cy="6872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51840" y="2038320"/>
                <a:ext cx="14040" cy="687240"/>
              </a:xfrm>
              <a:prstGeom prst="rect">
                <a:avLst/>
              </a:pr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65880" y="2038320"/>
                <a:ext cx="15840" cy="6872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81720" y="2038320"/>
                <a:ext cx="15840" cy="687240"/>
              </a:xfrm>
              <a:prstGeom prst="rect">
                <a:avLst/>
              </a:pr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97560" y="2038320"/>
                <a:ext cx="17640" cy="687240"/>
              </a:xfrm>
              <a:prstGeom prst="rect">
                <a:avLst/>
              </a:pr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15200" y="2038320"/>
                <a:ext cx="15840" cy="687240"/>
              </a:xfrm>
              <a:prstGeom prst="rect">
                <a:avLst/>
              </a:pr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31040" y="2038320"/>
                <a:ext cx="15840" cy="687240"/>
              </a:xfrm>
              <a:prstGeom prst="rect">
                <a:avLst/>
              </a:pr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46880" y="2038320"/>
                <a:ext cx="15840" cy="687240"/>
              </a:xfrm>
              <a:prstGeom prst="rect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62720" y="2038320"/>
                <a:ext cx="14400" cy="6872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7120" y="2038320"/>
                <a:ext cx="17280" cy="687240"/>
              </a:xfrm>
              <a:prstGeom prst="rect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94400" y="2038320"/>
                <a:ext cx="14400" cy="68724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08800" y="2038320"/>
                <a:ext cx="17640" cy="687240"/>
              </a:xfrm>
              <a:prstGeom prst="rect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26440" y="2038320"/>
                <a:ext cx="15840" cy="687240"/>
              </a:xfrm>
              <a:prstGeom prst="rect">
                <a:avLst/>
              </a:pr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42280" y="2038320"/>
                <a:ext cx="14040" cy="6872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6320" y="2038320"/>
                <a:ext cx="17640" cy="68724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73960" y="2038320"/>
                <a:ext cx="15840" cy="687240"/>
              </a:xfrm>
              <a:prstGeom prst="rect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89800" y="2038320"/>
                <a:ext cx="15840" cy="687240"/>
              </a:xfrm>
              <a:prstGeom prst="rect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05640" y="2038320"/>
                <a:ext cx="17640" cy="687240"/>
              </a:xfrm>
              <a:prstGeom prst="rect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3280" y="2038320"/>
                <a:ext cx="14040" cy="6872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37320" y="2038320"/>
                <a:ext cx="15840" cy="68724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553160" y="2038320"/>
                <a:ext cx="16200" cy="687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69360" y="2038320"/>
                <a:ext cx="15840" cy="687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85200" y="2038320"/>
                <a:ext cx="15840" cy="68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601040" y="2038320"/>
                <a:ext cx="15840" cy="6872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16880" y="2038320"/>
                <a:ext cx="15840" cy="68724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32720" y="2038320"/>
                <a:ext cx="15840" cy="68724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48560" y="2038320"/>
                <a:ext cx="17640" cy="68724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66200" y="2038320"/>
                <a:ext cx="14040" cy="687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0240" y="2038320"/>
                <a:ext cx="15840" cy="68724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96080" y="2038320"/>
                <a:ext cx="17640" cy="68724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13720" y="2038320"/>
                <a:ext cx="14400" cy="687240"/>
              </a:xfrm>
              <a:prstGeom prst="rect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728120" y="2038320"/>
                <a:ext cx="17280" cy="68724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45400" y="2038320"/>
                <a:ext cx="15840" cy="687240"/>
              </a:xfrm>
              <a:prstGeom prst="rect">
                <a:avLst/>
              </a:pr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61240" y="2038320"/>
                <a:ext cx="15840" cy="68724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77080" y="2038320"/>
                <a:ext cx="15840" cy="687240"/>
              </a:xfrm>
              <a:prstGeom prst="rect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792920" y="2038320"/>
                <a:ext cx="14400" cy="68724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07320" y="2038320"/>
                <a:ext cx="17640" cy="687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824960" y="2038320"/>
                <a:ext cx="15840" cy="687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840800" y="2038320"/>
                <a:ext cx="15840" cy="68724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56640" y="2038320"/>
                <a:ext cx="14040" cy="68724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70680" y="2038320"/>
                <a:ext cx="17640" cy="68724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888320" y="2038320"/>
                <a:ext cx="15840" cy="6872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04160" y="2038320"/>
                <a:ext cx="15840" cy="6872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920000" y="2038320"/>
                <a:ext cx="17640" cy="68724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37640" y="2038320"/>
                <a:ext cx="12600" cy="68724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50240" y="2038320"/>
                <a:ext cx="17280" cy="6872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67520" y="2038320"/>
                <a:ext cx="17640" cy="6872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85160" y="2038320"/>
                <a:ext cx="14400" cy="68724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99560" y="2038320"/>
                <a:ext cx="1728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16840" y="2038320"/>
                <a:ext cx="1440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031240" y="2038320"/>
                <a:ext cx="1584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47080" y="2038320"/>
                <a:ext cx="158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062920" y="2038320"/>
                <a:ext cx="158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078760" y="2038320"/>
                <a:ext cx="176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75440" y="2038320"/>
                <a:ext cx="1017720" cy="685800"/>
              </a:xfrm>
              <a:custGeom>
                <a:avLst/>
                <a:gdLst/>
                <a:ahLst/>
                <a:rect l="l" t="t" r="r" b="b"/>
                <a:pathLst>
                  <a:path w="1281" h="864">
                    <a:moveTo>
                      <a:pt x="640" y="0"/>
                    </a:moveTo>
                    <a:lnTo>
                      <a:pt x="575" y="2"/>
                    </a:lnTo>
                    <a:lnTo>
                      <a:pt x="511" y="6"/>
                    </a:lnTo>
                    <a:lnTo>
                      <a:pt x="450" y="10"/>
                    </a:lnTo>
                    <a:lnTo>
                      <a:pt x="392" y="17"/>
                    </a:lnTo>
                    <a:lnTo>
                      <a:pt x="336" y="27"/>
                    </a:lnTo>
                    <a:lnTo>
                      <a:pt x="283" y="38"/>
                    </a:lnTo>
                    <a:lnTo>
                      <a:pt x="233" y="50"/>
                    </a:lnTo>
                    <a:lnTo>
                      <a:pt x="189" y="63"/>
                    </a:lnTo>
                    <a:lnTo>
                      <a:pt x="146" y="79"/>
                    </a:lnTo>
                    <a:lnTo>
                      <a:pt x="110" y="96"/>
                    </a:lnTo>
                    <a:lnTo>
                      <a:pt x="77" y="113"/>
                    </a:lnTo>
                    <a:lnTo>
                      <a:pt x="50" y="132"/>
                    </a:lnTo>
                    <a:lnTo>
                      <a:pt x="29" y="152"/>
                    </a:lnTo>
                    <a:lnTo>
                      <a:pt x="22" y="163"/>
                    </a:lnTo>
                    <a:lnTo>
                      <a:pt x="14" y="173"/>
                    </a:lnTo>
                    <a:lnTo>
                      <a:pt x="8" y="184"/>
                    </a:lnTo>
                    <a:lnTo>
                      <a:pt x="2" y="196"/>
                    </a:lnTo>
                    <a:lnTo>
                      <a:pt x="2" y="205"/>
                    </a:lnTo>
                    <a:lnTo>
                      <a:pt x="0" y="217"/>
                    </a:lnTo>
                    <a:lnTo>
                      <a:pt x="0" y="647"/>
                    </a:lnTo>
                    <a:lnTo>
                      <a:pt x="2" y="659"/>
                    </a:lnTo>
                    <a:lnTo>
                      <a:pt x="2" y="670"/>
                    </a:lnTo>
                    <a:lnTo>
                      <a:pt x="8" y="680"/>
                    </a:lnTo>
                    <a:lnTo>
                      <a:pt x="14" y="691"/>
                    </a:lnTo>
                    <a:lnTo>
                      <a:pt x="22" y="701"/>
                    </a:lnTo>
                    <a:lnTo>
                      <a:pt x="29" y="712"/>
                    </a:lnTo>
                    <a:lnTo>
                      <a:pt x="50" y="732"/>
                    </a:lnTo>
                    <a:lnTo>
                      <a:pt x="77" y="751"/>
                    </a:lnTo>
                    <a:lnTo>
                      <a:pt x="110" y="768"/>
                    </a:lnTo>
                    <a:lnTo>
                      <a:pt x="146" y="785"/>
                    </a:lnTo>
                    <a:lnTo>
                      <a:pt x="189" y="801"/>
                    </a:lnTo>
                    <a:lnTo>
                      <a:pt x="233" y="814"/>
                    </a:lnTo>
                    <a:lnTo>
                      <a:pt x="283" y="828"/>
                    </a:lnTo>
                    <a:lnTo>
                      <a:pt x="336" y="837"/>
                    </a:lnTo>
                    <a:lnTo>
                      <a:pt x="392" y="847"/>
                    </a:lnTo>
                    <a:lnTo>
                      <a:pt x="450" y="854"/>
                    </a:lnTo>
                    <a:lnTo>
                      <a:pt x="511" y="858"/>
                    </a:lnTo>
                    <a:lnTo>
                      <a:pt x="575" y="862"/>
                    </a:lnTo>
                    <a:lnTo>
                      <a:pt x="640" y="864"/>
                    </a:lnTo>
                    <a:lnTo>
                      <a:pt x="707" y="862"/>
                    </a:lnTo>
                    <a:lnTo>
                      <a:pt x="771" y="858"/>
                    </a:lnTo>
                    <a:lnTo>
                      <a:pt x="832" y="854"/>
                    </a:lnTo>
                    <a:lnTo>
                      <a:pt x="890" y="847"/>
                    </a:lnTo>
                    <a:lnTo>
                      <a:pt x="945" y="837"/>
                    </a:lnTo>
                    <a:lnTo>
                      <a:pt x="999" y="828"/>
                    </a:lnTo>
                    <a:lnTo>
                      <a:pt x="1047" y="814"/>
                    </a:lnTo>
                    <a:lnTo>
                      <a:pt x="1093" y="801"/>
                    </a:lnTo>
                    <a:lnTo>
                      <a:pt x="1135" y="785"/>
                    </a:lnTo>
                    <a:lnTo>
                      <a:pt x="1172" y="768"/>
                    </a:lnTo>
                    <a:lnTo>
                      <a:pt x="1205" y="751"/>
                    </a:lnTo>
                    <a:lnTo>
                      <a:pt x="1231" y="732"/>
                    </a:lnTo>
                    <a:lnTo>
                      <a:pt x="1253" y="712"/>
                    </a:lnTo>
                    <a:lnTo>
                      <a:pt x="1260" y="701"/>
                    </a:lnTo>
                    <a:lnTo>
                      <a:pt x="1268" y="691"/>
                    </a:lnTo>
                    <a:lnTo>
                      <a:pt x="1274" y="680"/>
                    </a:lnTo>
                    <a:lnTo>
                      <a:pt x="1279" y="670"/>
                    </a:lnTo>
                    <a:lnTo>
                      <a:pt x="1279" y="659"/>
                    </a:lnTo>
                    <a:lnTo>
                      <a:pt x="1281" y="647"/>
                    </a:lnTo>
                    <a:lnTo>
                      <a:pt x="1281" y="217"/>
                    </a:lnTo>
                    <a:lnTo>
                      <a:pt x="1279" y="205"/>
                    </a:lnTo>
                    <a:lnTo>
                      <a:pt x="1279" y="196"/>
                    </a:lnTo>
                    <a:lnTo>
                      <a:pt x="1274" y="184"/>
                    </a:lnTo>
                    <a:lnTo>
                      <a:pt x="1268" y="173"/>
                    </a:lnTo>
                    <a:lnTo>
                      <a:pt x="1260" y="163"/>
                    </a:lnTo>
                    <a:lnTo>
                      <a:pt x="1253" y="152"/>
                    </a:lnTo>
                    <a:lnTo>
                      <a:pt x="1231" y="132"/>
                    </a:lnTo>
                    <a:lnTo>
                      <a:pt x="1205" y="113"/>
                    </a:lnTo>
                    <a:lnTo>
                      <a:pt x="1172" y="96"/>
                    </a:lnTo>
                    <a:lnTo>
                      <a:pt x="1135" y="79"/>
                    </a:lnTo>
                    <a:lnTo>
                      <a:pt x="1093" y="63"/>
                    </a:lnTo>
                    <a:lnTo>
                      <a:pt x="1047" y="50"/>
                    </a:lnTo>
                    <a:lnTo>
                      <a:pt x="999" y="38"/>
                    </a:lnTo>
                    <a:lnTo>
                      <a:pt x="945" y="27"/>
                    </a:lnTo>
                    <a:lnTo>
                      <a:pt x="890" y="17"/>
                    </a:lnTo>
                    <a:lnTo>
                      <a:pt x="832" y="10"/>
                    </a:lnTo>
                    <a:lnTo>
                      <a:pt x="771" y="6"/>
                    </a:lnTo>
                    <a:lnTo>
                      <a:pt x="707" y="2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75440" y="2038320"/>
                <a:ext cx="1017720" cy="685800"/>
              </a:xfrm>
              <a:custGeom>
                <a:avLst/>
                <a:gdLst/>
                <a:ahLst/>
                <a:rect l="l" t="t" r="r" b="b"/>
                <a:pathLst>
                  <a:path w="1281" h="864">
                    <a:moveTo>
                      <a:pt x="640" y="0"/>
                    </a:moveTo>
                    <a:lnTo>
                      <a:pt x="575" y="2"/>
                    </a:lnTo>
                    <a:lnTo>
                      <a:pt x="511" y="6"/>
                    </a:lnTo>
                    <a:lnTo>
                      <a:pt x="450" y="10"/>
                    </a:lnTo>
                    <a:lnTo>
                      <a:pt x="392" y="17"/>
                    </a:lnTo>
                    <a:lnTo>
                      <a:pt x="336" y="27"/>
                    </a:lnTo>
                    <a:lnTo>
                      <a:pt x="283" y="38"/>
                    </a:lnTo>
                    <a:lnTo>
                      <a:pt x="233" y="50"/>
                    </a:lnTo>
                    <a:lnTo>
                      <a:pt x="189" y="63"/>
                    </a:lnTo>
                    <a:lnTo>
                      <a:pt x="146" y="79"/>
                    </a:lnTo>
                    <a:lnTo>
                      <a:pt x="110" y="96"/>
                    </a:lnTo>
                    <a:lnTo>
                      <a:pt x="77" y="113"/>
                    </a:lnTo>
                    <a:lnTo>
                      <a:pt x="50" y="132"/>
                    </a:lnTo>
                    <a:lnTo>
                      <a:pt x="29" y="152"/>
                    </a:lnTo>
                    <a:lnTo>
                      <a:pt x="22" y="163"/>
                    </a:lnTo>
                    <a:lnTo>
                      <a:pt x="14" y="173"/>
                    </a:lnTo>
                    <a:lnTo>
                      <a:pt x="8" y="184"/>
                    </a:lnTo>
                    <a:lnTo>
                      <a:pt x="2" y="196"/>
                    </a:lnTo>
                    <a:lnTo>
                      <a:pt x="2" y="205"/>
                    </a:lnTo>
                    <a:lnTo>
                      <a:pt x="0" y="217"/>
                    </a:lnTo>
                    <a:lnTo>
                      <a:pt x="0" y="647"/>
                    </a:lnTo>
                    <a:lnTo>
                      <a:pt x="2" y="659"/>
                    </a:lnTo>
                    <a:lnTo>
                      <a:pt x="2" y="670"/>
                    </a:lnTo>
                    <a:lnTo>
                      <a:pt x="8" y="680"/>
                    </a:lnTo>
                    <a:lnTo>
                      <a:pt x="14" y="691"/>
                    </a:lnTo>
                    <a:lnTo>
                      <a:pt x="22" y="701"/>
                    </a:lnTo>
                    <a:lnTo>
                      <a:pt x="29" y="712"/>
                    </a:lnTo>
                    <a:lnTo>
                      <a:pt x="50" y="732"/>
                    </a:lnTo>
                    <a:lnTo>
                      <a:pt x="77" y="751"/>
                    </a:lnTo>
                    <a:lnTo>
                      <a:pt x="110" y="768"/>
                    </a:lnTo>
                    <a:lnTo>
                      <a:pt x="146" y="785"/>
                    </a:lnTo>
                    <a:lnTo>
                      <a:pt x="189" y="801"/>
                    </a:lnTo>
                    <a:lnTo>
                      <a:pt x="233" y="814"/>
                    </a:lnTo>
                    <a:lnTo>
                      <a:pt x="283" y="828"/>
                    </a:lnTo>
                    <a:lnTo>
                      <a:pt x="336" y="837"/>
                    </a:lnTo>
                    <a:lnTo>
                      <a:pt x="392" y="847"/>
                    </a:lnTo>
                    <a:lnTo>
                      <a:pt x="450" y="854"/>
                    </a:lnTo>
                    <a:lnTo>
                      <a:pt x="511" y="858"/>
                    </a:lnTo>
                    <a:lnTo>
                      <a:pt x="575" y="862"/>
                    </a:lnTo>
                    <a:lnTo>
                      <a:pt x="640" y="864"/>
                    </a:lnTo>
                    <a:lnTo>
                      <a:pt x="707" y="862"/>
                    </a:lnTo>
                    <a:lnTo>
                      <a:pt x="771" y="858"/>
                    </a:lnTo>
                    <a:lnTo>
                      <a:pt x="832" y="854"/>
                    </a:lnTo>
                    <a:lnTo>
                      <a:pt x="890" y="847"/>
                    </a:lnTo>
                    <a:lnTo>
                      <a:pt x="945" y="837"/>
                    </a:lnTo>
                    <a:lnTo>
                      <a:pt x="999" y="828"/>
                    </a:lnTo>
                    <a:lnTo>
                      <a:pt x="1047" y="814"/>
                    </a:lnTo>
                    <a:lnTo>
                      <a:pt x="1093" y="801"/>
                    </a:lnTo>
                    <a:lnTo>
                      <a:pt x="1135" y="785"/>
                    </a:lnTo>
                    <a:lnTo>
                      <a:pt x="1172" y="768"/>
                    </a:lnTo>
                    <a:lnTo>
                      <a:pt x="1205" y="751"/>
                    </a:lnTo>
                    <a:lnTo>
                      <a:pt x="1231" y="732"/>
                    </a:lnTo>
                    <a:lnTo>
                      <a:pt x="1253" y="712"/>
                    </a:lnTo>
                    <a:lnTo>
                      <a:pt x="1260" y="701"/>
                    </a:lnTo>
                    <a:lnTo>
                      <a:pt x="1268" y="691"/>
                    </a:lnTo>
                    <a:lnTo>
                      <a:pt x="1274" y="680"/>
                    </a:lnTo>
                    <a:lnTo>
                      <a:pt x="1279" y="670"/>
                    </a:lnTo>
                    <a:lnTo>
                      <a:pt x="1279" y="659"/>
                    </a:lnTo>
                    <a:lnTo>
                      <a:pt x="1281" y="647"/>
                    </a:lnTo>
                    <a:lnTo>
                      <a:pt x="1281" y="217"/>
                    </a:lnTo>
                    <a:lnTo>
                      <a:pt x="1279" y="205"/>
                    </a:lnTo>
                    <a:lnTo>
                      <a:pt x="1279" y="196"/>
                    </a:lnTo>
                    <a:lnTo>
                      <a:pt x="1274" y="184"/>
                    </a:lnTo>
                    <a:lnTo>
                      <a:pt x="1268" y="173"/>
                    </a:lnTo>
                    <a:lnTo>
                      <a:pt x="1260" y="163"/>
                    </a:lnTo>
                    <a:lnTo>
                      <a:pt x="1253" y="152"/>
                    </a:lnTo>
                    <a:lnTo>
                      <a:pt x="1231" y="132"/>
                    </a:lnTo>
                    <a:lnTo>
                      <a:pt x="1205" y="113"/>
                    </a:lnTo>
                    <a:lnTo>
                      <a:pt x="1172" y="96"/>
                    </a:lnTo>
                    <a:lnTo>
                      <a:pt x="1135" y="79"/>
                    </a:lnTo>
                    <a:lnTo>
                      <a:pt x="1093" y="63"/>
                    </a:lnTo>
                    <a:lnTo>
                      <a:pt x="1047" y="50"/>
                    </a:lnTo>
                    <a:lnTo>
                      <a:pt x="999" y="38"/>
                    </a:lnTo>
                    <a:lnTo>
                      <a:pt x="945" y="27"/>
                    </a:lnTo>
                    <a:lnTo>
                      <a:pt x="890" y="17"/>
                    </a:lnTo>
                    <a:lnTo>
                      <a:pt x="832" y="10"/>
                    </a:lnTo>
                    <a:lnTo>
                      <a:pt x="771" y="6"/>
                    </a:lnTo>
                    <a:lnTo>
                      <a:pt x="707" y="2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75440" y="2038320"/>
                <a:ext cx="17640" cy="68724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93080" y="2038320"/>
                <a:ext cx="14040" cy="68724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07120" y="2038320"/>
                <a:ext cx="15840" cy="687240"/>
              </a:xfrm>
              <a:prstGeom prst="rect">
                <a:avLst/>
              </a:prstGeom>
              <a:solidFill>
                <a:srgbClr val="5a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22960" y="2038320"/>
                <a:ext cx="17640" cy="68724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40600" y="2038320"/>
                <a:ext cx="14400" cy="687240"/>
              </a:xfrm>
              <a:prstGeom prst="rect">
                <a:avLst/>
              </a:pr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55000" y="2038320"/>
                <a:ext cx="17280" cy="687240"/>
              </a:xfrm>
              <a:prstGeom prst="rect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72280" y="2038320"/>
                <a:ext cx="14400" cy="687240"/>
              </a:xfrm>
              <a:prstGeom prst="rect">
                <a:avLst/>
              </a:pr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86680" y="2038320"/>
                <a:ext cx="15840" cy="6872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02520" y="2038320"/>
                <a:ext cx="15840" cy="6872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18360" y="2038320"/>
                <a:ext cx="15840" cy="687240"/>
              </a:xfrm>
              <a:prstGeom prst="rect">
                <a:avLst/>
              </a:pr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4200" y="2038320"/>
                <a:ext cx="17640" cy="6872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51840" y="2038320"/>
                <a:ext cx="14040" cy="687240"/>
              </a:xfrm>
              <a:prstGeom prst="rect">
                <a:avLst/>
              </a:pr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65880" y="2038320"/>
                <a:ext cx="15840" cy="6872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81720" y="2038320"/>
                <a:ext cx="15840" cy="687240"/>
              </a:xfrm>
              <a:prstGeom prst="rect">
                <a:avLst/>
              </a:pr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97560" y="2038320"/>
                <a:ext cx="17640" cy="687240"/>
              </a:xfrm>
              <a:prstGeom prst="rect">
                <a:avLst/>
              </a:pr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15200" y="2038320"/>
                <a:ext cx="15840" cy="687240"/>
              </a:xfrm>
              <a:prstGeom prst="rect">
                <a:avLst/>
              </a:pr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31040" y="2038320"/>
                <a:ext cx="15840" cy="687240"/>
              </a:xfrm>
              <a:prstGeom prst="rect">
                <a:avLst/>
              </a:pr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46880" y="2038320"/>
                <a:ext cx="15840" cy="687240"/>
              </a:xfrm>
              <a:prstGeom prst="rect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62720" y="2038320"/>
                <a:ext cx="14400" cy="6872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77120" y="2038320"/>
                <a:ext cx="17280" cy="687240"/>
              </a:xfrm>
              <a:prstGeom prst="rect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94400" y="2038320"/>
                <a:ext cx="14400" cy="68724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08800" y="2038320"/>
                <a:ext cx="17640" cy="687240"/>
              </a:xfrm>
              <a:prstGeom prst="rect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26440" y="2038320"/>
                <a:ext cx="15840" cy="687240"/>
              </a:xfrm>
              <a:prstGeom prst="rect">
                <a:avLst/>
              </a:pr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42280" y="2038320"/>
                <a:ext cx="14040" cy="6872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56320" y="2038320"/>
                <a:ext cx="17640" cy="687240"/>
              </a:xfrm>
              <a:prstGeom prst="rect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73960" y="2038320"/>
                <a:ext cx="15840" cy="687240"/>
              </a:xfrm>
              <a:prstGeom prst="rect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489800" y="2038320"/>
                <a:ext cx="15840" cy="687240"/>
              </a:xfrm>
              <a:prstGeom prst="rect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505640" y="2038320"/>
                <a:ext cx="17640" cy="687240"/>
              </a:xfrm>
              <a:prstGeom prst="rect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23280" y="2038320"/>
                <a:ext cx="14040" cy="6872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537320" y="2038320"/>
                <a:ext cx="15840" cy="68724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53160" y="2038320"/>
                <a:ext cx="16200" cy="687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69360" y="2038320"/>
                <a:ext cx="15840" cy="687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85200" y="2038320"/>
                <a:ext cx="15840" cy="68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01040" y="2038320"/>
                <a:ext cx="15840" cy="6872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16880" y="2038320"/>
                <a:ext cx="15840" cy="68724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32720" y="2038320"/>
                <a:ext cx="15840" cy="68724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8560" y="2038320"/>
                <a:ext cx="17640" cy="68724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66200" y="2038320"/>
                <a:ext cx="14040" cy="687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80240" y="2038320"/>
                <a:ext cx="15840" cy="68724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96080" y="2038320"/>
                <a:ext cx="17640" cy="68724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13720" y="2038320"/>
                <a:ext cx="14400" cy="687240"/>
              </a:xfrm>
              <a:prstGeom prst="rect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28120" y="2038320"/>
                <a:ext cx="17280" cy="68724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45400" y="2038320"/>
                <a:ext cx="15840" cy="687240"/>
              </a:xfrm>
              <a:prstGeom prst="rect">
                <a:avLst/>
              </a:pr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61240" y="2038320"/>
                <a:ext cx="15840" cy="68724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777080" y="2038320"/>
                <a:ext cx="15840" cy="687240"/>
              </a:xfrm>
              <a:prstGeom prst="rect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792920" y="2038320"/>
                <a:ext cx="14400" cy="68724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07320" y="2038320"/>
                <a:ext cx="17640" cy="687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824960" y="2038320"/>
                <a:ext cx="15840" cy="687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40800" y="2038320"/>
                <a:ext cx="15840" cy="68724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56640" y="2038320"/>
                <a:ext cx="14040" cy="68724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70680" y="2038320"/>
                <a:ext cx="17640" cy="68724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88320" y="2038320"/>
                <a:ext cx="15840" cy="6872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04160" y="2038320"/>
                <a:ext cx="15840" cy="6872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920000" y="2038320"/>
                <a:ext cx="17640" cy="68724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37640" y="2038320"/>
                <a:ext cx="12600" cy="68724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950240" y="2038320"/>
                <a:ext cx="17280" cy="6872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967520" y="2038320"/>
                <a:ext cx="17640" cy="6872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985160" y="2038320"/>
                <a:ext cx="14400" cy="68724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99560" y="2038320"/>
                <a:ext cx="1728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16840" y="2038320"/>
                <a:ext cx="1440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31240" y="2038320"/>
                <a:ext cx="15840" cy="6872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47080" y="2038320"/>
                <a:ext cx="158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62920" y="2038320"/>
                <a:ext cx="158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78760" y="2038320"/>
                <a:ext cx="17640" cy="687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075440" y="2038320"/>
              <a:ext cx="1017720" cy="343080"/>
            </a:xfrm>
            <a:custGeom>
              <a:avLst/>
              <a:gdLst/>
              <a:ahLst/>
              <a:rect l="l" t="t" r="r" b="b"/>
              <a:pathLst>
                <a:path w="1281" h="432">
                  <a:moveTo>
                    <a:pt x="0" y="217"/>
                  </a:moveTo>
                  <a:lnTo>
                    <a:pt x="2" y="228"/>
                  </a:lnTo>
                  <a:lnTo>
                    <a:pt x="2" y="240"/>
                  </a:lnTo>
                  <a:lnTo>
                    <a:pt x="8" y="250"/>
                  </a:lnTo>
                  <a:lnTo>
                    <a:pt x="14" y="261"/>
                  </a:lnTo>
                  <a:lnTo>
                    <a:pt x="22" y="271"/>
                  </a:lnTo>
                  <a:lnTo>
                    <a:pt x="29" y="280"/>
                  </a:lnTo>
                  <a:lnTo>
                    <a:pt x="50" y="300"/>
                  </a:lnTo>
                  <a:lnTo>
                    <a:pt x="77" y="319"/>
                  </a:lnTo>
                  <a:lnTo>
                    <a:pt x="110" y="338"/>
                  </a:lnTo>
                  <a:lnTo>
                    <a:pt x="146" y="353"/>
                  </a:lnTo>
                  <a:lnTo>
                    <a:pt x="189" y="369"/>
                  </a:lnTo>
                  <a:lnTo>
                    <a:pt x="233" y="382"/>
                  </a:lnTo>
                  <a:lnTo>
                    <a:pt x="283" y="396"/>
                  </a:lnTo>
                  <a:lnTo>
                    <a:pt x="336" y="405"/>
                  </a:lnTo>
                  <a:lnTo>
                    <a:pt x="392" y="415"/>
                  </a:lnTo>
                  <a:lnTo>
                    <a:pt x="450" y="422"/>
                  </a:lnTo>
                  <a:lnTo>
                    <a:pt x="511" y="426"/>
                  </a:lnTo>
                  <a:lnTo>
                    <a:pt x="575" y="430"/>
                  </a:lnTo>
                  <a:lnTo>
                    <a:pt x="640" y="432"/>
                  </a:lnTo>
                  <a:lnTo>
                    <a:pt x="707" y="430"/>
                  </a:lnTo>
                  <a:lnTo>
                    <a:pt x="771" y="426"/>
                  </a:lnTo>
                  <a:lnTo>
                    <a:pt x="832" y="422"/>
                  </a:lnTo>
                  <a:lnTo>
                    <a:pt x="890" y="415"/>
                  </a:lnTo>
                  <a:lnTo>
                    <a:pt x="945" y="405"/>
                  </a:lnTo>
                  <a:lnTo>
                    <a:pt x="999" y="396"/>
                  </a:lnTo>
                  <a:lnTo>
                    <a:pt x="1047" y="382"/>
                  </a:lnTo>
                  <a:lnTo>
                    <a:pt x="1093" y="369"/>
                  </a:lnTo>
                  <a:lnTo>
                    <a:pt x="1135" y="353"/>
                  </a:lnTo>
                  <a:lnTo>
                    <a:pt x="1172" y="338"/>
                  </a:lnTo>
                  <a:lnTo>
                    <a:pt x="1205" y="319"/>
                  </a:lnTo>
                  <a:lnTo>
                    <a:pt x="1231" y="300"/>
                  </a:lnTo>
                  <a:lnTo>
                    <a:pt x="1253" y="280"/>
                  </a:lnTo>
                  <a:lnTo>
                    <a:pt x="1260" y="271"/>
                  </a:lnTo>
                  <a:lnTo>
                    <a:pt x="1268" y="261"/>
                  </a:lnTo>
                  <a:lnTo>
                    <a:pt x="1274" y="250"/>
                  </a:lnTo>
                  <a:lnTo>
                    <a:pt x="1279" y="240"/>
                  </a:lnTo>
                  <a:lnTo>
                    <a:pt x="1279" y="228"/>
                  </a:lnTo>
                  <a:lnTo>
                    <a:pt x="1281" y="217"/>
                  </a:lnTo>
                  <a:lnTo>
                    <a:pt x="1279" y="205"/>
                  </a:lnTo>
                  <a:lnTo>
                    <a:pt x="1279" y="196"/>
                  </a:lnTo>
                  <a:lnTo>
                    <a:pt x="1274" y="184"/>
                  </a:lnTo>
                  <a:lnTo>
                    <a:pt x="1268" y="173"/>
                  </a:lnTo>
                  <a:lnTo>
                    <a:pt x="1260" y="163"/>
                  </a:lnTo>
                  <a:lnTo>
                    <a:pt x="1253" y="152"/>
                  </a:lnTo>
                  <a:lnTo>
                    <a:pt x="1231" y="132"/>
                  </a:lnTo>
                  <a:lnTo>
                    <a:pt x="1205" y="113"/>
                  </a:lnTo>
                  <a:lnTo>
                    <a:pt x="1172" y="96"/>
                  </a:lnTo>
                  <a:lnTo>
                    <a:pt x="1135" y="79"/>
                  </a:lnTo>
                  <a:lnTo>
                    <a:pt x="1093" y="63"/>
                  </a:lnTo>
                  <a:lnTo>
                    <a:pt x="1047" y="50"/>
                  </a:lnTo>
                  <a:lnTo>
                    <a:pt x="999" y="38"/>
                  </a:lnTo>
                  <a:lnTo>
                    <a:pt x="945" y="27"/>
                  </a:lnTo>
                  <a:lnTo>
                    <a:pt x="890" y="17"/>
                  </a:lnTo>
                  <a:lnTo>
                    <a:pt x="832" y="10"/>
                  </a:lnTo>
                  <a:lnTo>
                    <a:pt x="771" y="6"/>
                  </a:lnTo>
                  <a:lnTo>
                    <a:pt x="707" y="2"/>
                  </a:lnTo>
                  <a:lnTo>
                    <a:pt x="640" y="0"/>
                  </a:lnTo>
                  <a:lnTo>
                    <a:pt x="575" y="2"/>
                  </a:lnTo>
                  <a:lnTo>
                    <a:pt x="511" y="6"/>
                  </a:lnTo>
                  <a:lnTo>
                    <a:pt x="450" y="10"/>
                  </a:lnTo>
                  <a:lnTo>
                    <a:pt x="392" y="17"/>
                  </a:lnTo>
                  <a:lnTo>
                    <a:pt x="336" y="27"/>
                  </a:lnTo>
                  <a:lnTo>
                    <a:pt x="283" y="38"/>
                  </a:lnTo>
                  <a:lnTo>
                    <a:pt x="233" y="50"/>
                  </a:lnTo>
                  <a:lnTo>
                    <a:pt x="189" y="63"/>
                  </a:lnTo>
                  <a:lnTo>
                    <a:pt x="146" y="79"/>
                  </a:lnTo>
                  <a:lnTo>
                    <a:pt x="110" y="96"/>
                  </a:lnTo>
                  <a:lnTo>
                    <a:pt x="77" y="113"/>
                  </a:lnTo>
                  <a:lnTo>
                    <a:pt x="50" y="132"/>
                  </a:lnTo>
                  <a:lnTo>
                    <a:pt x="29" y="152"/>
                  </a:lnTo>
                  <a:lnTo>
                    <a:pt x="22" y="163"/>
                  </a:lnTo>
                  <a:lnTo>
                    <a:pt x="14" y="173"/>
                  </a:lnTo>
                  <a:lnTo>
                    <a:pt x="8" y="184"/>
                  </a:lnTo>
                  <a:lnTo>
                    <a:pt x="2" y="196"/>
                  </a:lnTo>
                  <a:lnTo>
                    <a:pt x="2" y="20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75440" y="2038320"/>
              <a:ext cx="1017720" cy="685800"/>
            </a:xfrm>
            <a:custGeom>
              <a:avLst/>
              <a:gdLst/>
              <a:ahLst/>
              <a:rect l="l" t="t" r="r" b="b"/>
              <a:pathLst>
                <a:path w="1281" h="864">
                  <a:moveTo>
                    <a:pt x="640" y="0"/>
                  </a:moveTo>
                  <a:lnTo>
                    <a:pt x="575" y="2"/>
                  </a:lnTo>
                  <a:lnTo>
                    <a:pt x="511" y="6"/>
                  </a:lnTo>
                  <a:lnTo>
                    <a:pt x="450" y="10"/>
                  </a:lnTo>
                  <a:lnTo>
                    <a:pt x="392" y="17"/>
                  </a:lnTo>
                  <a:lnTo>
                    <a:pt x="336" y="27"/>
                  </a:lnTo>
                  <a:lnTo>
                    <a:pt x="283" y="38"/>
                  </a:lnTo>
                  <a:lnTo>
                    <a:pt x="233" y="50"/>
                  </a:lnTo>
                  <a:lnTo>
                    <a:pt x="189" y="63"/>
                  </a:lnTo>
                  <a:lnTo>
                    <a:pt x="146" y="79"/>
                  </a:lnTo>
                  <a:lnTo>
                    <a:pt x="110" y="96"/>
                  </a:lnTo>
                  <a:lnTo>
                    <a:pt x="77" y="113"/>
                  </a:lnTo>
                  <a:lnTo>
                    <a:pt x="50" y="132"/>
                  </a:lnTo>
                  <a:lnTo>
                    <a:pt x="29" y="152"/>
                  </a:lnTo>
                  <a:lnTo>
                    <a:pt x="22" y="163"/>
                  </a:lnTo>
                  <a:lnTo>
                    <a:pt x="14" y="173"/>
                  </a:lnTo>
                  <a:lnTo>
                    <a:pt x="8" y="184"/>
                  </a:lnTo>
                  <a:lnTo>
                    <a:pt x="2" y="196"/>
                  </a:lnTo>
                  <a:lnTo>
                    <a:pt x="2" y="205"/>
                  </a:lnTo>
                  <a:lnTo>
                    <a:pt x="0" y="217"/>
                  </a:lnTo>
                  <a:lnTo>
                    <a:pt x="0" y="647"/>
                  </a:lnTo>
                  <a:lnTo>
                    <a:pt x="2" y="659"/>
                  </a:lnTo>
                  <a:lnTo>
                    <a:pt x="2" y="670"/>
                  </a:lnTo>
                  <a:lnTo>
                    <a:pt x="8" y="680"/>
                  </a:lnTo>
                  <a:lnTo>
                    <a:pt x="14" y="691"/>
                  </a:lnTo>
                  <a:lnTo>
                    <a:pt x="22" y="701"/>
                  </a:lnTo>
                  <a:lnTo>
                    <a:pt x="29" y="712"/>
                  </a:lnTo>
                  <a:lnTo>
                    <a:pt x="50" y="732"/>
                  </a:lnTo>
                  <a:lnTo>
                    <a:pt x="77" y="751"/>
                  </a:lnTo>
                  <a:lnTo>
                    <a:pt x="110" y="768"/>
                  </a:lnTo>
                  <a:lnTo>
                    <a:pt x="146" y="785"/>
                  </a:lnTo>
                  <a:lnTo>
                    <a:pt x="189" y="801"/>
                  </a:lnTo>
                  <a:lnTo>
                    <a:pt x="233" y="814"/>
                  </a:lnTo>
                  <a:lnTo>
                    <a:pt x="283" y="828"/>
                  </a:lnTo>
                  <a:lnTo>
                    <a:pt x="336" y="837"/>
                  </a:lnTo>
                  <a:lnTo>
                    <a:pt x="392" y="847"/>
                  </a:lnTo>
                  <a:lnTo>
                    <a:pt x="450" y="854"/>
                  </a:lnTo>
                  <a:lnTo>
                    <a:pt x="511" y="858"/>
                  </a:lnTo>
                  <a:lnTo>
                    <a:pt x="575" y="862"/>
                  </a:lnTo>
                  <a:lnTo>
                    <a:pt x="640" y="864"/>
                  </a:lnTo>
                  <a:lnTo>
                    <a:pt x="707" y="862"/>
                  </a:lnTo>
                  <a:lnTo>
                    <a:pt x="771" y="858"/>
                  </a:lnTo>
                  <a:lnTo>
                    <a:pt x="832" y="854"/>
                  </a:lnTo>
                  <a:lnTo>
                    <a:pt x="890" y="847"/>
                  </a:lnTo>
                  <a:lnTo>
                    <a:pt x="945" y="837"/>
                  </a:lnTo>
                  <a:lnTo>
                    <a:pt x="999" y="828"/>
                  </a:lnTo>
                  <a:lnTo>
                    <a:pt x="1047" y="814"/>
                  </a:lnTo>
                  <a:lnTo>
                    <a:pt x="1093" y="801"/>
                  </a:lnTo>
                  <a:lnTo>
                    <a:pt x="1135" y="785"/>
                  </a:lnTo>
                  <a:lnTo>
                    <a:pt x="1172" y="768"/>
                  </a:lnTo>
                  <a:lnTo>
                    <a:pt x="1205" y="751"/>
                  </a:lnTo>
                  <a:lnTo>
                    <a:pt x="1231" y="732"/>
                  </a:lnTo>
                  <a:lnTo>
                    <a:pt x="1253" y="712"/>
                  </a:lnTo>
                  <a:lnTo>
                    <a:pt x="1260" y="701"/>
                  </a:lnTo>
                  <a:lnTo>
                    <a:pt x="1268" y="691"/>
                  </a:lnTo>
                  <a:lnTo>
                    <a:pt x="1274" y="680"/>
                  </a:lnTo>
                  <a:lnTo>
                    <a:pt x="1279" y="670"/>
                  </a:lnTo>
                  <a:lnTo>
                    <a:pt x="1279" y="659"/>
                  </a:lnTo>
                  <a:lnTo>
                    <a:pt x="1281" y="647"/>
                  </a:lnTo>
                  <a:lnTo>
                    <a:pt x="1281" y="217"/>
                  </a:lnTo>
                  <a:lnTo>
                    <a:pt x="1279" y="205"/>
                  </a:lnTo>
                  <a:lnTo>
                    <a:pt x="1279" y="196"/>
                  </a:lnTo>
                  <a:lnTo>
                    <a:pt x="1274" y="184"/>
                  </a:lnTo>
                  <a:lnTo>
                    <a:pt x="1268" y="173"/>
                  </a:lnTo>
                  <a:lnTo>
                    <a:pt x="1260" y="163"/>
                  </a:lnTo>
                  <a:lnTo>
                    <a:pt x="1253" y="152"/>
                  </a:lnTo>
                  <a:lnTo>
                    <a:pt x="1231" y="132"/>
                  </a:lnTo>
                  <a:lnTo>
                    <a:pt x="1205" y="113"/>
                  </a:lnTo>
                  <a:lnTo>
                    <a:pt x="1172" y="96"/>
                  </a:lnTo>
                  <a:lnTo>
                    <a:pt x="1135" y="79"/>
                  </a:lnTo>
                  <a:lnTo>
                    <a:pt x="1093" y="63"/>
                  </a:lnTo>
                  <a:lnTo>
                    <a:pt x="1047" y="50"/>
                  </a:lnTo>
                  <a:lnTo>
                    <a:pt x="999" y="38"/>
                  </a:lnTo>
                  <a:lnTo>
                    <a:pt x="945" y="27"/>
                  </a:lnTo>
                  <a:lnTo>
                    <a:pt x="890" y="17"/>
                  </a:lnTo>
                  <a:lnTo>
                    <a:pt x="832" y="10"/>
                  </a:lnTo>
                  <a:lnTo>
                    <a:pt x="771" y="6"/>
                  </a:lnTo>
                  <a:lnTo>
                    <a:pt x="707" y="2"/>
                  </a:lnTo>
                  <a:lnTo>
                    <a:pt x="64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5440" y="2211480"/>
              <a:ext cx="1017720" cy="169920"/>
            </a:xfrm>
            <a:custGeom>
              <a:avLst/>
              <a:gdLst/>
              <a:ahLst/>
              <a:rect l="l" t="t" r="r" b="b"/>
              <a:pathLst>
                <a:path w="1281" h="215">
                  <a:moveTo>
                    <a:pt x="0" y="0"/>
                  </a:moveTo>
                  <a:lnTo>
                    <a:pt x="2" y="11"/>
                  </a:lnTo>
                  <a:lnTo>
                    <a:pt x="2" y="23"/>
                  </a:lnTo>
                  <a:lnTo>
                    <a:pt x="8" y="33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29" y="63"/>
                  </a:lnTo>
                  <a:lnTo>
                    <a:pt x="50" y="83"/>
                  </a:lnTo>
                  <a:lnTo>
                    <a:pt x="77" y="102"/>
                  </a:lnTo>
                  <a:lnTo>
                    <a:pt x="110" y="121"/>
                  </a:lnTo>
                  <a:lnTo>
                    <a:pt x="146" y="136"/>
                  </a:lnTo>
                  <a:lnTo>
                    <a:pt x="189" y="152"/>
                  </a:lnTo>
                  <a:lnTo>
                    <a:pt x="233" y="165"/>
                  </a:lnTo>
                  <a:lnTo>
                    <a:pt x="283" y="179"/>
                  </a:lnTo>
                  <a:lnTo>
                    <a:pt x="336" y="188"/>
                  </a:lnTo>
                  <a:lnTo>
                    <a:pt x="392" y="198"/>
                  </a:lnTo>
                  <a:lnTo>
                    <a:pt x="450" y="205"/>
                  </a:lnTo>
                  <a:lnTo>
                    <a:pt x="511" y="209"/>
                  </a:lnTo>
                  <a:lnTo>
                    <a:pt x="575" y="213"/>
                  </a:lnTo>
                  <a:lnTo>
                    <a:pt x="640" y="215"/>
                  </a:lnTo>
                  <a:lnTo>
                    <a:pt x="707" y="213"/>
                  </a:lnTo>
                  <a:lnTo>
                    <a:pt x="771" y="209"/>
                  </a:lnTo>
                  <a:lnTo>
                    <a:pt x="832" y="205"/>
                  </a:lnTo>
                  <a:lnTo>
                    <a:pt x="890" y="198"/>
                  </a:lnTo>
                  <a:lnTo>
                    <a:pt x="945" y="188"/>
                  </a:lnTo>
                  <a:lnTo>
                    <a:pt x="999" y="179"/>
                  </a:lnTo>
                  <a:lnTo>
                    <a:pt x="1047" y="165"/>
                  </a:lnTo>
                  <a:lnTo>
                    <a:pt x="1093" y="152"/>
                  </a:lnTo>
                  <a:lnTo>
                    <a:pt x="1135" y="136"/>
                  </a:lnTo>
                  <a:lnTo>
                    <a:pt x="1172" y="121"/>
                  </a:lnTo>
                  <a:lnTo>
                    <a:pt x="1205" y="102"/>
                  </a:lnTo>
                  <a:lnTo>
                    <a:pt x="1231" y="83"/>
                  </a:lnTo>
                  <a:lnTo>
                    <a:pt x="1253" y="63"/>
                  </a:lnTo>
                  <a:lnTo>
                    <a:pt x="1260" y="54"/>
                  </a:lnTo>
                  <a:lnTo>
                    <a:pt x="1268" y="44"/>
                  </a:lnTo>
                  <a:lnTo>
                    <a:pt x="1274" y="33"/>
                  </a:lnTo>
                  <a:lnTo>
                    <a:pt x="1279" y="23"/>
                  </a:lnTo>
                  <a:lnTo>
                    <a:pt x="1279" y="11"/>
                  </a:lnTo>
                  <a:lnTo>
                    <a:pt x="12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668840" y="2840040"/>
            <a:ext cx="2628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32080" y="3760920"/>
            <a:ext cx="1301760" cy="512640"/>
            <a:chOff x="2332080" y="3760920"/>
            <a:chExt cx="1301760" cy="512640"/>
          </a:xfrm>
        </p:grpSpPr>
        <p:grpSp>
          <p:nvGrpSpPr>
            <p:cNvPr id="486" name=""/>
            <p:cNvGrpSpPr/>
            <p:nvPr/>
          </p:nvGrpSpPr>
          <p:grpSpPr>
            <a:xfrm>
              <a:off x="2332080" y="3760920"/>
              <a:ext cx="1301760" cy="512640"/>
              <a:chOff x="2332080" y="3760920"/>
              <a:chExt cx="1301760" cy="512640"/>
            </a:xfrm>
          </p:grpSpPr>
          <p:sp>
            <p:nvSpPr>
              <p:cNvPr id="487" name=""/>
              <p:cNvSpPr/>
              <p:nvPr/>
            </p:nvSpPr>
            <p:spPr>
              <a:xfrm>
                <a:off x="2332080" y="3760920"/>
                <a:ext cx="1301760" cy="512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38560" y="3760920"/>
                <a:ext cx="1287360" cy="5094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44680" y="3762360"/>
                <a:ext cx="1274760" cy="506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51160" y="3765600"/>
                <a:ext cx="1262160" cy="500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57280" y="3768840"/>
                <a:ext cx="1249560" cy="4935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65200" y="3772080"/>
                <a:ext cx="1235160" cy="487080"/>
              </a:xfrm>
              <a:prstGeom prst="ellipse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371680" y="3774960"/>
                <a:ext cx="1220760" cy="480960"/>
              </a:xfrm>
              <a:prstGeom prst="ellipse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8160" y="3778200"/>
                <a:ext cx="1208160" cy="474840"/>
              </a:xfrm>
              <a:prstGeom prst="ellipse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86080" y="3781440"/>
                <a:ext cx="1192320" cy="469800"/>
              </a:xfrm>
              <a:prstGeom prst="ellipse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90760" y="3782880"/>
                <a:ext cx="1182600" cy="466920"/>
              </a:xfrm>
              <a:prstGeom prst="ellips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98680" y="3784680"/>
                <a:ext cx="1166760" cy="46188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05160" y="3787920"/>
                <a:ext cx="1154160" cy="4572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11280" y="3790800"/>
                <a:ext cx="1141560" cy="451080"/>
              </a:xfrm>
              <a:prstGeom prst="ellipse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19200" y="3792600"/>
                <a:ext cx="1125720" cy="446040"/>
              </a:xfrm>
              <a:prstGeom prst="ellipse">
                <a:avLst/>
              </a:pr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425680" y="3795840"/>
                <a:ext cx="1112760" cy="439560"/>
              </a:xfrm>
              <a:prstGeom prst="ellips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432160" y="3798720"/>
                <a:ext cx="1100160" cy="433440"/>
              </a:xfrm>
              <a:prstGeom prst="ellips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438280" y="3800520"/>
                <a:ext cx="1087560" cy="430200"/>
              </a:xfrm>
              <a:prstGeom prst="ellipse">
                <a:avLst/>
              </a:pr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46200" y="3803760"/>
                <a:ext cx="1073160" cy="423720"/>
              </a:xfrm>
              <a:prstGeom prst="ellipse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52680" y="3807000"/>
                <a:ext cx="1058760" cy="417240"/>
              </a:xfrm>
              <a:prstGeom prst="ellipse">
                <a:avLst/>
              </a:pr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59160" y="3809880"/>
                <a:ext cx="1046160" cy="411120"/>
              </a:xfrm>
              <a:prstGeom prst="ellipse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65280" y="3811680"/>
                <a:ext cx="1032120" cy="4064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71760" y="3814920"/>
                <a:ext cx="1019160" cy="399960"/>
              </a:xfrm>
              <a:prstGeom prst="ellipse">
                <a:avLst/>
              </a:pr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79680" y="3817800"/>
                <a:ext cx="1004760" cy="395280"/>
              </a:xfrm>
              <a:prstGeom prst="ellipse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86160" y="3819600"/>
                <a:ext cx="990360" cy="392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92280" y="3822840"/>
                <a:ext cx="978120" cy="387360"/>
              </a:xfrm>
              <a:prstGeom prst="ellipse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02000" y="3825720"/>
                <a:ext cx="960480" cy="381240"/>
              </a:xfrm>
              <a:prstGeom prst="ellips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06680" y="3828960"/>
                <a:ext cx="950760" cy="3747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14600" y="3830760"/>
                <a:ext cx="936720" cy="369720"/>
              </a:xfrm>
              <a:prstGeom prst="ellipse">
                <a:avLst/>
              </a:pr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521080" y="3833640"/>
                <a:ext cx="922320" cy="36360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527200" y="3835440"/>
                <a:ext cx="909720" cy="360360"/>
              </a:xfrm>
              <a:prstGeom prst="ellipse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535120" y="3836880"/>
                <a:ext cx="893880" cy="355680"/>
              </a:xfrm>
              <a:prstGeom prst="ellipse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41600" y="3840120"/>
                <a:ext cx="882720" cy="349200"/>
              </a:xfrm>
              <a:prstGeom prst="ellipse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548080" y="3843360"/>
                <a:ext cx="869760" cy="344520"/>
              </a:xfrm>
              <a:prstGeom prst="ellipse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554200" y="3846600"/>
                <a:ext cx="855720" cy="338040"/>
              </a:xfrm>
              <a:prstGeom prst="ellipse">
                <a:avLst/>
              </a:pr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60680" y="3849840"/>
                <a:ext cx="842760" cy="331560"/>
              </a:xfrm>
              <a:prstGeom prst="ellipse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68600" y="3852720"/>
                <a:ext cx="826920" cy="325440"/>
              </a:xfrm>
              <a:prstGeom prst="ellipse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75080" y="3855960"/>
                <a:ext cx="814320" cy="31932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81200" y="3857760"/>
                <a:ext cx="801720" cy="315720"/>
              </a:xfrm>
              <a:prstGeom prst="ellipse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87680" y="3860640"/>
                <a:ext cx="788760" cy="31140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93800" y="3862440"/>
                <a:ext cx="774720" cy="306360"/>
              </a:xfrm>
              <a:prstGeom prst="ellipse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02080" y="3865680"/>
                <a:ext cx="758520" cy="29988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08200" y="3868560"/>
                <a:ext cx="746280" cy="293760"/>
              </a:xfrm>
              <a:prstGeom prst="ellipse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16120" y="3870360"/>
                <a:ext cx="731880" cy="288720"/>
              </a:xfrm>
              <a:prstGeom prst="ellipse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20800" y="3873600"/>
                <a:ext cx="720720" cy="284040"/>
              </a:xfrm>
              <a:prstGeom prst="ellipse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629080" y="3875040"/>
                <a:ext cx="706320" cy="2811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35200" y="3878280"/>
                <a:ext cx="692280" cy="274680"/>
              </a:xfrm>
              <a:prstGeom prst="ellipse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41680" y="3881520"/>
                <a:ext cx="679320" cy="268200"/>
              </a:xfrm>
              <a:prstGeom prst="ellipse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49600" y="3884760"/>
                <a:ext cx="663480" cy="2617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55720" y="3886200"/>
                <a:ext cx="652680" cy="257040"/>
              </a:xfrm>
              <a:prstGeom prst="ellipse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62200" y="3889440"/>
                <a:ext cx="641520" cy="252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70120" y="3892680"/>
                <a:ext cx="625680" cy="245880"/>
              </a:xfrm>
              <a:prstGeom prst="ellips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6600" y="3894120"/>
                <a:ext cx="612720" cy="243000"/>
              </a:xfrm>
              <a:prstGeom prst="ellipse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684520" y="3897360"/>
                <a:ext cx="596880" cy="237960"/>
              </a:xfrm>
              <a:prstGeom prst="ellipse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690640" y="3900600"/>
                <a:ext cx="584280" cy="231840"/>
              </a:xfrm>
              <a:prstGeom prst="ellipse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697120" y="3903840"/>
                <a:ext cx="571680" cy="2268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03600" y="3906720"/>
                <a:ext cx="558720" cy="220680"/>
              </a:xfrm>
              <a:prstGeom prst="ellipse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09720" y="3908520"/>
                <a:ext cx="546120" cy="21564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17640" y="3911760"/>
                <a:ext cx="530280" cy="209520"/>
              </a:xfrm>
              <a:prstGeom prst="ellipse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24120" y="3913200"/>
                <a:ext cx="515880" cy="206280"/>
              </a:xfrm>
              <a:prstGeom prst="ellipse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32040" y="3914640"/>
                <a:ext cx="501840" cy="201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36720" y="3917880"/>
                <a:ext cx="490680" cy="195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743200" y="3921120"/>
                <a:ext cx="477720" cy="18900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51120" y="3924360"/>
                <a:ext cx="461880" cy="182520"/>
              </a:xfrm>
              <a:prstGeom prst="ellipse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7600" y="3927600"/>
                <a:ext cx="449280" cy="176040"/>
              </a:xfrm>
              <a:prstGeom prst="ellips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65520" y="3930480"/>
                <a:ext cx="433440" cy="1717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71640" y="3932280"/>
                <a:ext cx="422280" cy="168120"/>
              </a:xfrm>
              <a:prstGeom prst="ellipse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76680" y="3935520"/>
                <a:ext cx="411120" cy="161640"/>
              </a:xfrm>
              <a:prstGeom prst="ellipse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84600" y="3938760"/>
                <a:ext cx="395280" cy="1569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90720" y="3940200"/>
                <a:ext cx="382680" cy="152280"/>
              </a:xfrm>
              <a:prstGeom prst="ellipse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98640" y="3943440"/>
                <a:ext cx="366840" cy="14580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05120" y="3944880"/>
                <a:ext cx="353880" cy="14148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11600" y="3948120"/>
                <a:ext cx="342720" cy="135000"/>
              </a:xfrm>
              <a:prstGeom prst="ellips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17720" y="3949560"/>
                <a:ext cx="328680" cy="131760"/>
              </a:xfrm>
              <a:prstGeom prst="ellips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25640" y="3952800"/>
                <a:ext cx="314280" cy="12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33560" y="3956040"/>
                <a:ext cx="298440" cy="1191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40040" y="3959280"/>
                <a:ext cx="285840" cy="1141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846520" y="3962520"/>
                <a:ext cx="272880" cy="1080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52640" y="3963960"/>
                <a:ext cx="258840" cy="103320"/>
              </a:xfrm>
              <a:prstGeom prst="ellipse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59120" y="3967200"/>
                <a:ext cx="245880" cy="968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7040" y="3970440"/>
                <a:ext cx="230040" cy="9180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73520" y="3971880"/>
                <a:ext cx="217440" cy="87480"/>
              </a:xfrm>
              <a:prstGeom prst="ellipse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81440" y="3975120"/>
                <a:ext cx="203040" cy="82440"/>
              </a:xfrm>
              <a:prstGeom prst="ellipse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87560" y="3978360"/>
                <a:ext cx="190440" cy="7596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92600" y="3981600"/>
                <a:ext cx="179280" cy="69840"/>
              </a:xfrm>
              <a:prstGeom prst="ellipse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00520" y="3983040"/>
                <a:ext cx="163440" cy="65160"/>
              </a:xfrm>
              <a:prstGeom prst="ellipse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06640" y="3986280"/>
                <a:ext cx="150840" cy="586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914560" y="3987720"/>
                <a:ext cx="136440" cy="572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921040" y="3989520"/>
                <a:ext cx="122040" cy="5220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25720" y="3992400"/>
                <a:ext cx="112680" cy="4608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33640" y="3995640"/>
                <a:ext cx="96840" cy="3996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40120" y="3998880"/>
                <a:ext cx="84240" cy="334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48040" y="4002120"/>
                <a:ext cx="68040" cy="2700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54160" y="4005360"/>
                <a:ext cx="55800" cy="205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60640" y="4006800"/>
                <a:ext cx="42840" cy="1764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67120" y="4010040"/>
                <a:ext cx="30240" cy="111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73240" y="4013280"/>
                <a:ext cx="17640" cy="61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981160" y="4014720"/>
                <a:ext cx="1800" cy="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332080" y="3760920"/>
              <a:ext cx="1301760" cy="5126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03880" y="2160720"/>
            <a:ext cx="1301760" cy="512640"/>
            <a:chOff x="5303880" y="2160720"/>
            <a:chExt cx="1301760" cy="512640"/>
          </a:xfrm>
        </p:grpSpPr>
        <p:grpSp>
          <p:nvGrpSpPr>
            <p:cNvPr id="586" name=""/>
            <p:cNvGrpSpPr/>
            <p:nvPr/>
          </p:nvGrpSpPr>
          <p:grpSpPr>
            <a:xfrm>
              <a:off x="5303880" y="2160720"/>
              <a:ext cx="1301760" cy="512640"/>
              <a:chOff x="5303880" y="2160720"/>
              <a:chExt cx="1301760" cy="512640"/>
            </a:xfrm>
          </p:grpSpPr>
          <p:sp>
            <p:nvSpPr>
              <p:cNvPr id="587" name=""/>
              <p:cNvSpPr/>
              <p:nvPr/>
            </p:nvSpPr>
            <p:spPr>
              <a:xfrm>
                <a:off x="5303880" y="2160720"/>
                <a:ext cx="1301760" cy="512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360" y="2160720"/>
                <a:ext cx="1288800" cy="5094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16480" y="2162160"/>
                <a:ext cx="1276560" cy="506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324400" y="2165400"/>
                <a:ext cx="1260720" cy="500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30880" y="2168640"/>
                <a:ext cx="1247760" cy="4935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8800" y="2171880"/>
                <a:ext cx="1233360" cy="487080"/>
              </a:xfrm>
              <a:prstGeom prst="ellipse">
                <a:avLst/>
              </a:pr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43480" y="2174760"/>
                <a:ext cx="1222560" cy="480960"/>
              </a:xfrm>
              <a:prstGeom prst="ellipse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49960" y="2178000"/>
                <a:ext cx="1209600" cy="474840"/>
              </a:xfrm>
              <a:prstGeom prst="ellipse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57880" y="2181240"/>
                <a:ext cx="1193760" cy="469800"/>
              </a:xfrm>
              <a:prstGeom prst="ellipse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64000" y="2182680"/>
                <a:ext cx="1181160" cy="465120"/>
              </a:xfrm>
              <a:prstGeom prst="ellips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72280" y="2184480"/>
                <a:ext cx="1164960" cy="46188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78400" y="2187720"/>
                <a:ext cx="1152720" cy="457200"/>
              </a:xfrm>
              <a:prstGeom prst="ellipse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83080" y="2190600"/>
                <a:ext cx="1143000" cy="451080"/>
              </a:xfrm>
              <a:prstGeom prst="ellipse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91000" y="2192400"/>
                <a:ext cx="1127160" cy="446040"/>
              </a:xfrm>
              <a:prstGeom prst="ellipse">
                <a:avLst/>
              </a:pr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97480" y="2195640"/>
                <a:ext cx="1114560" cy="439560"/>
              </a:xfrm>
              <a:prstGeom prst="ellips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05400" y="2198520"/>
                <a:ext cx="1098720" cy="433440"/>
              </a:xfrm>
              <a:prstGeom prst="ellips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1880" y="2200320"/>
                <a:ext cx="1085760" cy="430200"/>
              </a:xfrm>
              <a:prstGeom prst="ellipse">
                <a:avLst/>
              </a:pr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18000" y="2203560"/>
                <a:ext cx="1073160" cy="423720"/>
              </a:xfrm>
              <a:prstGeom prst="ellipse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24480" y="2206800"/>
                <a:ext cx="1060560" cy="417240"/>
              </a:xfrm>
              <a:prstGeom prst="ellipse">
                <a:avLst/>
              </a:pr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30960" y="2209680"/>
                <a:ext cx="1047600" cy="411120"/>
              </a:xfrm>
              <a:prstGeom prst="ellipse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38880" y="2211480"/>
                <a:ext cx="1030320" cy="4064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45000" y="2214720"/>
                <a:ext cx="1017720" cy="399960"/>
              </a:xfrm>
              <a:prstGeom prst="ellipse">
                <a:avLst/>
              </a:pr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52920" y="2217600"/>
                <a:ext cx="1003320" cy="395280"/>
              </a:xfrm>
              <a:prstGeom prst="ellipse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57960" y="2219400"/>
                <a:ext cx="992160" cy="3920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64080" y="2222640"/>
                <a:ext cx="979560" cy="387360"/>
              </a:xfrm>
              <a:prstGeom prst="ellipse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73800" y="2225520"/>
                <a:ext cx="961920" cy="381240"/>
              </a:xfrm>
              <a:prstGeom prst="ellips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479920" y="2228760"/>
                <a:ext cx="949320" cy="374760"/>
              </a:xfrm>
              <a:prstGeom prst="ellipse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487840" y="2230560"/>
                <a:ext cx="935280" cy="369720"/>
              </a:xfrm>
              <a:prstGeom prst="ellipse">
                <a:avLst/>
              </a:pr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92880" y="2233440"/>
                <a:ext cx="922320" cy="36360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99000" y="2235240"/>
                <a:ext cx="911160" cy="360360"/>
              </a:xfrm>
              <a:prstGeom prst="ellipse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06920" y="2236680"/>
                <a:ext cx="895320" cy="355680"/>
              </a:xfrm>
              <a:prstGeom prst="ellipse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513400" y="2239920"/>
                <a:ext cx="882720" cy="349200"/>
              </a:xfrm>
              <a:prstGeom prst="ellipse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521320" y="2243160"/>
                <a:ext cx="868320" cy="344520"/>
              </a:xfrm>
              <a:prstGeom prst="ellipse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27800" y="2246400"/>
                <a:ext cx="853920" cy="338040"/>
              </a:xfrm>
              <a:prstGeom prst="ellipse">
                <a:avLst/>
              </a:pr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32480" y="2249640"/>
                <a:ext cx="842760" cy="331560"/>
              </a:xfrm>
              <a:prstGeom prst="ellipse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40400" y="2252520"/>
                <a:ext cx="828720" cy="325440"/>
              </a:xfrm>
              <a:prstGeom prst="ellipse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46880" y="2255760"/>
                <a:ext cx="815760" cy="319320"/>
              </a:xfrm>
              <a:prstGeom prst="ellipse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54800" y="2257560"/>
                <a:ext cx="799920" cy="315720"/>
              </a:xfrm>
              <a:prstGeom prst="ellipse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60920" y="2260440"/>
                <a:ext cx="787320" cy="311400"/>
              </a:xfrm>
              <a:prstGeom prst="ellips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67400" y="2262240"/>
                <a:ext cx="772920" cy="306360"/>
              </a:xfrm>
              <a:prstGeom prst="ellipse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73880" y="2265480"/>
                <a:ext cx="760320" cy="299880"/>
              </a:xfrm>
              <a:prstGeom prst="ellipse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80000" y="2266920"/>
                <a:ext cx="747720" cy="295200"/>
              </a:xfrm>
              <a:prstGeom prst="ellipse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87920" y="2270160"/>
                <a:ext cx="733680" cy="288720"/>
              </a:xfrm>
              <a:prstGeom prst="ellipse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94400" y="2273400"/>
                <a:ext cx="718920" cy="284040"/>
              </a:xfrm>
              <a:prstGeom prst="ellipse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602320" y="2274840"/>
                <a:ext cx="704880" cy="2811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08800" y="2278080"/>
                <a:ext cx="690480" cy="274680"/>
              </a:xfrm>
              <a:prstGeom prst="ellipse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13480" y="2281320"/>
                <a:ext cx="681120" cy="268200"/>
              </a:xfrm>
              <a:prstGeom prst="ellipse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21400" y="2284560"/>
                <a:ext cx="665280" cy="261720"/>
              </a:xfrm>
              <a:prstGeom prst="ellips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27520" y="2286000"/>
                <a:ext cx="652680" cy="257040"/>
              </a:xfrm>
              <a:prstGeom prst="ellipse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35800" y="2289240"/>
                <a:ext cx="639720" cy="252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3720" y="2292480"/>
                <a:ext cx="623880" cy="245880"/>
              </a:xfrm>
              <a:prstGeom prst="ellips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48400" y="2293920"/>
                <a:ext cx="612720" cy="243000"/>
              </a:xfrm>
              <a:prstGeom prst="ellipse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56320" y="2297160"/>
                <a:ext cx="598320" cy="236520"/>
              </a:xfrm>
              <a:prstGeom prst="ellipse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62440" y="2300400"/>
                <a:ext cx="586080" cy="231840"/>
              </a:xfrm>
              <a:prstGeom prst="ellipse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70720" y="2303640"/>
                <a:ext cx="569880" cy="226800"/>
              </a:xfrm>
              <a:prstGeom prst="ellipse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76840" y="2305080"/>
                <a:ext cx="557280" cy="222120"/>
              </a:xfrm>
              <a:prstGeom prst="ellipse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83320" y="2308320"/>
                <a:ext cx="544320" cy="21564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89440" y="2311560"/>
                <a:ext cx="532080" cy="209520"/>
              </a:xfrm>
              <a:prstGeom prst="ellipse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695920" y="2313000"/>
                <a:ext cx="517680" cy="206280"/>
              </a:xfrm>
              <a:prstGeom prst="ellipse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03840" y="2314440"/>
                <a:ext cx="503280" cy="201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10320" y="2317680"/>
                <a:ext cx="488880" cy="195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16440" y="2320920"/>
                <a:ext cx="476280" cy="18900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22920" y="2324160"/>
                <a:ext cx="461880" cy="182520"/>
              </a:xfrm>
              <a:prstGeom prst="ellipse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29400" y="2327400"/>
                <a:ext cx="450720" cy="176040"/>
              </a:xfrm>
              <a:prstGeom prst="ellips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37320" y="2330280"/>
                <a:ext cx="434880" cy="171720"/>
              </a:xfrm>
              <a:prstGeom prst="ellipse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43440" y="2332080"/>
                <a:ext cx="422280" cy="168120"/>
              </a:xfrm>
              <a:prstGeom prst="ellipse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49920" y="2335320"/>
                <a:ext cx="409680" cy="161640"/>
              </a:xfrm>
              <a:prstGeom prst="ellipse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57840" y="2338560"/>
                <a:ext cx="393840" cy="1569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762520" y="2340000"/>
                <a:ext cx="382680" cy="152280"/>
              </a:xfrm>
              <a:prstGeom prst="ellipse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70440" y="2343240"/>
                <a:ext cx="368280" cy="14580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776920" y="2344680"/>
                <a:ext cx="355680" cy="14148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84840" y="2347920"/>
                <a:ext cx="341280" cy="135000"/>
              </a:xfrm>
              <a:prstGeom prst="ellips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91320" y="2349360"/>
                <a:ext cx="326880" cy="131760"/>
              </a:xfrm>
              <a:prstGeom prst="ellips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99240" y="2352600"/>
                <a:ext cx="312480" cy="12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05360" y="2355840"/>
                <a:ext cx="300240" cy="11916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11840" y="2359080"/>
                <a:ext cx="287280" cy="114120"/>
              </a:xfrm>
              <a:prstGeom prst="ellipse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18320" y="2362320"/>
                <a:ext cx="274680" cy="1080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26240" y="2363760"/>
                <a:ext cx="257040" cy="103320"/>
              </a:xfrm>
              <a:prstGeom prst="ellipse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32360" y="2367000"/>
                <a:ext cx="244440" cy="96840"/>
              </a:xfrm>
              <a:prstGeom prst="ellipse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8840" y="2370240"/>
                <a:ext cx="230040" cy="9180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45320" y="2371680"/>
                <a:ext cx="218880" cy="87480"/>
              </a:xfrm>
              <a:prstGeom prst="ellipse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53240" y="2374920"/>
                <a:ext cx="204840" cy="82440"/>
              </a:xfrm>
              <a:prstGeom prst="ellipse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59360" y="2378160"/>
                <a:ext cx="190440" cy="75960"/>
              </a:xfrm>
              <a:prstGeom prst="ellips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5840" y="2381400"/>
                <a:ext cx="177840" cy="69840"/>
              </a:xfrm>
              <a:prstGeom prst="ellipse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73760" y="2382840"/>
                <a:ext cx="162000" cy="65160"/>
              </a:xfrm>
              <a:prstGeom prst="ellipse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78440" y="2386080"/>
                <a:ext cx="150840" cy="5868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86360" y="2387520"/>
                <a:ext cx="138240" cy="57240"/>
              </a:xfrm>
              <a:prstGeom prst="ellips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92840" y="2389320"/>
                <a:ext cx="123840" cy="5220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99320" y="2392200"/>
                <a:ext cx="110880" cy="4608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07240" y="2395440"/>
                <a:ext cx="95040" cy="39960"/>
              </a:xfrm>
              <a:prstGeom prst="ellipse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13360" y="2398680"/>
                <a:ext cx="82800" cy="3348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19840" y="2401920"/>
                <a:ext cx="69840" cy="27000"/>
              </a:xfrm>
              <a:prstGeom prst="ellipse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25960" y="2405160"/>
                <a:ext cx="57240" cy="205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32440" y="2406600"/>
                <a:ext cx="44640" cy="1764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40360" y="2409840"/>
                <a:ext cx="28800" cy="1116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46840" y="2413080"/>
                <a:ext cx="15840" cy="6120"/>
              </a:xfrm>
              <a:prstGeom prst="ellips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52960" y="2414520"/>
                <a:ext cx="1800" cy="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5303880" y="2160720"/>
              <a:ext cx="1301760" cy="5126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572160" y="2152800"/>
            <a:ext cx="309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3160" y="2084400"/>
            <a:ext cx="685800" cy="138240"/>
          </a:xfrm>
          <a:custGeom>
            <a:avLst/>
            <a:gdLst/>
            <a:ahLst/>
            <a:rect l="l" t="t" r="r" b="b"/>
            <a:pathLst>
              <a:path w="864" h="172">
                <a:moveTo>
                  <a:pt x="259" y="172"/>
                </a:moveTo>
                <a:lnTo>
                  <a:pt x="0" y="86"/>
                </a:lnTo>
                <a:lnTo>
                  <a:pt x="259" y="0"/>
                </a:lnTo>
                <a:lnTo>
                  <a:pt x="259" y="172"/>
                </a:lnTo>
                <a:close/>
                <a:moveTo>
                  <a:pt x="604" y="0"/>
                </a:moveTo>
                <a:lnTo>
                  <a:pt x="864" y="86"/>
                </a:lnTo>
                <a:lnTo>
                  <a:pt x="604" y="172"/>
                </a:lnTo>
                <a:lnTo>
                  <a:pt x="6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06400" y="4922280"/>
            <a:ext cx="56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A ORB (Security and Transa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22600" y="447084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4400" y="450252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32080" y="3787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22089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22600" y="5508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4280" y="5493600"/>
            <a:ext cx="25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3211920"/>
            <a:ext cx="262116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n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00600" y="16758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33920" y="137844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mmunication Pipes +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38080" y="1370520"/>
            <a:ext cx="321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mmunication Pi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9480" y="685440"/>
            <a:ext cx="77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ipes Vs. Platform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1676520" y="1447920"/>
            <a:ext cx="5943240" cy="4644720"/>
            <a:chOff x="1676520" y="1447920"/>
            <a:chExt cx="5943240" cy="4644720"/>
          </a:xfrm>
        </p:grpSpPr>
        <p:sp>
          <p:nvSpPr>
            <p:cNvPr id="700" name=""/>
            <p:cNvSpPr/>
            <p:nvPr/>
          </p:nvSpPr>
          <p:spPr>
            <a:xfrm>
              <a:off x="1676520" y="1447920"/>
              <a:ext cx="5943240" cy="4644720"/>
            </a:xfrm>
            <a:custGeom>
              <a:avLst/>
              <a:gdLst/>
              <a:ahLst/>
              <a:rect l="l" t="t" r="r" b="b"/>
              <a:pathLst>
                <a:path w="3497" h="2834">
                  <a:moveTo>
                    <a:pt x="1715" y="0"/>
                  </a:moveTo>
                  <a:lnTo>
                    <a:pt x="1657" y="18"/>
                  </a:lnTo>
                  <a:lnTo>
                    <a:pt x="1628" y="31"/>
                  </a:lnTo>
                  <a:lnTo>
                    <a:pt x="1599" y="43"/>
                  </a:lnTo>
                  <a:lnTo>
                    <a:pt x="1584" y="80"/>
                  </a:lnTo>
                  <a:lnTo>
                    <a:pt x="1577" y="117"/>
                  </a:lnTo>
                  <a:lnTo>
                    <a:pt x="1562" y="147"/>
                  </a:lnTo>
                  <a:lnTo>
                    <a:pt x="1548" y="184"/>
                  </a:lnTo>
                  <a:lnTo>
                    <a:pt x="1518" y="227"/>
                  </a:lnTo>
                  <a:lnTo>
                    <a:pt x="1489" y="270"/>
                  </a:lnTo>
                  <a:lnTo>
                    <a:pt x="1467" y="307"/>
                  </a:lnTo>
                  <a:lnTo>
                    <a:pt x="1438" y="344"/>
                  </a:lnTo>
                  <a:lnTo>
                    <a:pt x="1416" y="356"/>
                  </a:lnTo>
                  <a:lnTo>
                    <a:pt x="1387" y="375"/>
                  </a:lnTo>
                  <a:lnTo>
                    <a:pt x="1358" y="387"/>
                  </a:lnTo>
                  <a:lnTo>
                    <a:pt x="1336" y="393"/>
                  </a:lnTo>
                  <a:lnTo>
                    <a:pt x="1321" y="405"/>
                  </a:lnTo>
                  <a:lnTo>
                    <a:pt x="1314" y="418"/>
                  </a:lnTo>
                  <a:lnTo>
                    <a:pt x="1307" y="436"/>
                  </a:lnTo>
                  <a:lnTo>
                    <a:pt x="1307" y="449"/>
                  </a:lnTo>
                  <a:lnTo>
                    <a:pt x="1299" y="473"/>
                  </a:lnTo>
                  <a:lnTo>
                    <a:pt x="1285" y="528"/>
                  </a:lnTo>
                  <a:lnTo>
                    <a:pt x="1270" y="584"/>
                  </a:lnTo>
                  <a:lnTo>
                    <a:pt x="1263" y="645"/>
                  </a:lnTo>
                  <a:lnTo>
                    <a:pt x="1256" y="707"/>
                  </a:lnTo>
                  <a:lnTo>
                    <a:pt x="1248" y="731"/>
                  </a:lnTo>
                  <a:lnTo>
                    <a:pt x="1226" y="762"/>
                  </a:lnTo>
                  <a:lnTo>
                    <a:pt x="1212" y="787"/>
                  </a:lnTo>
                  <a:lnTo>
                    <a:pt x="1197" y="811"/>
                  </a:lnTo>
                  <a:lnTo>
                    <a:pt x="1190" y="830"/>
                  </a:lnTo>
                  <a:lnTo>
                    <a:pt x="1190" y="854"/>
                  </a:lnTo>
                  <a:lnTo>
                    <a:pt x="1183" y="873"/>
                  </a:lnTo>
                  <a:lnTo>
                    <a:pt x="1175" y="891"/>
                  </a:lnTo>
                  <a:lnTo>
                    <a:pt x="1161" y="928"/>
                  </a:lnTo>
                  <a:lnTo>
                    <a:pt x="1132" y="977"/>
                  </a:lnTo>
                  <a:lnTo>
                    <a:pt x="1095" y="1020"/>
                  </a:lnTo>
                  <a:lnTo>
                    <a:pt x="1080" y="1038"/>
                  </a:lnTo>
                  <a:lnTo>
                    <a:pt x="1066" y="1051"/>
                  </a:lnTo>
                  <a:lnTo>
                    <a:pt x="1044" y="1082"/>
                  </a:lnTo>
                  <a:lnTo>
                    <a:pt x="1022" y="1118"/>
                  </a:lnTo>
                  <a:lnTo>
                    <a:pt x="993" y="1155"/>
                  </a:lnTo>
                  <a:lnTo>
                    <a:pt x="964" y="1180"/>
                  </a:lnTo>
                  <a:lnTo>
                    <a:pt x="905" y="1204"/>
                  </a:lnTo>
                  <a:lnTo>
                    <a:pt x="854" y="1235"/>
                  </a:lnTo>
                  <a:lnTo>
                    <a:pt x="832" y="1260"/>
                  </a:lnTo>
                  <a:lnTo>
                    <a:pt x="810" y="1297"/>
                  </a:lnTo>
                  <a:lnTo>
                    <a:pt x="803" y="1327"/>
                  </a:lnTo>
                  <a:lnTo>
                    <a:pt x="796" y="1364"/>
                  </a:lnTo>
                  <a:lnTo>
                    <a:pt x="789" y="1395"/>
                  </a:lnTo>
                  <a:lnTo>
                    <a:pt x="774" y="1426"/>
                  </a:lnTo>
                  <a:lnTo>
                    <a:pt x="745" y="1456"/>
                  </a:lnTo>
                  <a:lnTo>
                    <a:pt x="701" y="1475"/>
                  </a:lnTo>
                  <a:lnTo>
                    <a:pt x="657" y="1493"/>
                  </a:lnTo>
                  <a:lnTo>
                    <a:pt x="628" y="1506"/>
                  </a:lnTo>
                  <a:lnTo>
                    <a:pt x="548" y="1549"/>
                  </a:lnTo>
                  <a:lnTo>
                    <a:pt x="460" y="1598"/>
                  </a:lnTo>
                  <a:lnTo>
                    <a:pt x="402" y="1628"/>
                  </a:lnTo>
                  <a:lnTo>
                    <a:pt x="343" y="1653"/>
                  </a:lnTo>
                  <a:lnTo>
                    <a:pt x="285" y="1678"/>
                  </a:lnTo>
                  <a:lnTo>
                    <a:pt x="234" y="1708"/>
                  </a:lnTo>
                  <a:lnTo>
                    <a:pt x="227" y="1758"/>
                  </a:lnTo>
                  <a:lnTo>
                    <a:pt x="219" y="1813"/>
                  </a:lnTo>
                  <a:lnTo>
                    <a:pt x="212" y="1862"/>
                  </a:lnTo>
                  <a:lnTo>
                    <a:pt x="197" y="1911"/>
                  </a:lnTo>
                  <a:lnTo>
                    <a:pt x="161" y="1985"/>
                  </a:lnTo>
                  <a:lnTo>
                    <a:pt x="117" y="2053"/>
                  </a:lnTo>
                  <a:lnTo>
                    <a:pt x="110" y="2065"/>
                  </a:lnTo>
                  <a:lnTo>
                    <a:pt x="95" y="2077"/>
                  </a:lnTo>
                  <a:lnTo>
                    <a:pt x="66" y="2108"/>
                  </a:lnTo>
                  <a:lnTo>
                    <a:pt x="59" y="2120"/>
                  </a:lnTo>
                  <a:lnTo>
                    <a:pt x="52" y="2132"/>
                  </a:lnTo>
                  <a:lnTo>
                    <a:pt x="15" y="2212"/>
                  </a:lnTo>
                  <a:lnTo>
                    <a:pt x="0" y="2292"/>
                  </a:lnTo>
                  <a:lnTo>
                    <a:pt x="0" y="2311"/>
                  </a:lnTo>
                  <a:lnTo>
                    <a:pt x="0" y="2323"/>
                  </a:lnTo>
                  <a:lnTo>
                    <a:pt x="8" y="2329"/>
                  </a:lnTo>
                  <a:lnTo>
                    <a:pt x="30" y="2335"/>
                  </a:lnTo>
                  <a:lnTo>
                    <a:pt x="44" y="2341"/>
                  </a:lnTo>
                  <a:lnTo>
                    <a:pt x="73" y="2347"/>
                  </a:lnTo>
                  <a:lnTo>
                    <a:pt x="125" y="2372"/>
                  </a:lnTo>
                  <a:lnTo>
                    <a:pt x="161" y="2397"/>
                  </a:lnTo>
                  <a:lnTo>
                    <a:pt x="234" y="2470"/>
                  </a:lnTo>
                  <a:lnTo>
                    <a:pt x="234" y="2477"/>
                  </a:lnTo>
                  <a:lnTo>
                    <a:pt x="241" y="2489"/>
                  </a:lnTo>
                  <a:lnTo>
                    <a:pt x="256" y="2532"/>
                  </a:lnTo>
                  <a:lnTo>
                    <a:pt x="270" y="2575"/>
                  </a:lnTo>
                  <a:lnTo>
                    <a:pt x="278" y="2593"/>
                  </a:lnTo>
                  <a:lnTo>
                    <a:pt x="285" y="2599"/>
                  </a:lnTo>
                  <a:lnTo>
                    <a:pt x="351" y="2630"/>
                  </a:lnTo>
                  <a:lnTo>
                    <a:pt x="438" y="2655"/>
                  </a:lnTo>
                  <a:lnTo>
                    <a:pt x="540" y="2661"/>
                  </a:lnTo>
                  <a:lnTo>
                    <a:pt x="635" y="2667"/>
                  </a:lnTo>
                  <a:lnTo>
                    <a:pt x="730" y="2667"/>
                  </a:lnTo>
                  <a:lnTo>
                    <a:pt x="818" y="2661"/>
                  </a:lnTo>
                  <a:lnTo>
                    <a:pt x="876" y="2655"/>
                  </a:lnTo>
                  <a:lnTo>
                    <a:pt x="898" y="2655"/>
                  </a:lnTo>
                  <a:lnTo>
                    <a:pt x="913" y="2655"/>
                  </a:lnTo>
                  <a:lnTo>
                    <a:pt x="942" y="2649"/>
                  </a:lnTo>
                  <a:lnTo>
                    <a:pt x="956" y="2642"/>
                  </a:lnTo>
                  <a:lnTo>
                    <a:pt x="971" y="2630"/>
                  </a:lnTo>
                  <a:lnTo>
                    <a:pt x="978" y="2624"/>
                  </a:lnTo>
                  <a:lnTo>
                    <a:pt x="986" y="2612"/>
                  </a:lnTo>
                  <a:lnTo>
                    <a:pt x="1022" y="2587"/>
                  </a:lnTo>
                  <a:lnTo>
                    <a:pt x="1059" y="2575"/>
                  </a:lnTo>
                  <a:lnTo>
                    <a:pt x="1102" y="2563"/>
                  </a:lnTo>
                  <a:lnTo>
                    <a:pt x="1146" y="2550"/>
                  </a:lnTo>
                  <a:lnTo>
                    <a:pt x="1183" y="2593"/>
                  </a:lnTo>
                  <a:lnTo>
                    <a:pt x="1197" y="2612"/>
                  </a:lnTo>
                  <a:lnTo>
                    <a:pt x="1212" y="2636"/>
                  </a:lnTo>
                  <a:lnTo>
                    <a:pt x="1219" y="2655"/>
                  </a:lnTo>
                  <a:lnTo>
                    <a:pt x="1226" y="2673"/>
                  </a:lnTo>
                  <a:lnTo>
                    <a:pt x="1241" y="2686"/>
                  </a:lnTo>
                  <a:lnTo>
                    <a:pt x="1256" y="2698"/>
                  </a:lnTo>
                  <a:lnTo>
                    <a:pt x="1292" y="2710"/>
                  </a:lnTo>
                  <a:lnTo>
                    <a:pt x="1351" y="2735"/>
                  </a:lnTo>
                  <a:lnTo>
                    <a:pt x="1409" y="2765"/>
                  </a:lnTo>
                  <a:lnTo>
                    <a:pt x="1423" y="2772"/>
                  </a:lnTo>
                  <a:lnTo>
                    <a:pt x="1438" y="2784"/>
                  </a:lnTo>
                  <a:lnTo>
                    <a:pt x="1453" y="2796"/>
                  </a:lnTo>
                  <a:lnTo>
                    <a:pt x="1467" y="2808"/>
                  </a:lnTo>
                  <a:lnTo>
                    <a:pt x="1482" y="2808"/>
                  </a:lnTo>
                  <a:lnTo>
                    <a:pt x="1504" y="2815"/>
                  </a:lnTo>
                  <a:lnTo>
                    <a:pt x="1591" y="2790"/>
                  </a:lnTo>
                  <a:lnTo>
                    <a:pt x="1635" y="2772"/>
                  </a:lnTo>
                  <a:lnTo>
                    <a:pt x="1672" y="2753"/>
                  </a:lnTo>
                  <a:lnTo>
                    <a:pt x="1693" y="2747"/>
                  </a:lnTo>
                  <a:lnTo>
                    <a:pt x="1701" y="2741"/>
                  </a:lnTo>
                  <a:lnTo>
                    <a:pt x="1708" y="2741"/>
                  </a:lnTo>
                  <a:lnTo>
                    <a:pt x="1715" y="2735"/>
                  </a:lnTo>
                  <a:lnTo>
                    <a:pt x="1737" y="2729"/>
                  </a:lnTo>
                  <a:lnTo>
                    <a:pt x="1766" y="2722"/>
                  </a:lnTo>
                  <a:lnTo>
                    <a:pt x="1774" y="2716"/>
                  </a:lnTo>
                  <a:lnTo>
                    <a:pt x="1781" y="2716"/>
                  </a:lnTo>
                  <a:lnTo>
                    <a:pt x="1825" y="2722"/>
                  </a:lnTo>
                  <a:lnTo>
                    <a:pt x="1861" y="2735"/>
                  </a:lnTo>
                  <a:lnTo>
                    <a:pt x="1920" y="2765"/>
                  </a:lnTo>
                  <a:lnTo>
                    <a:pt x="1971" y="2802"/>
                  </a:lnTo>
                  <a:lnTo>
                    <a:pt x="2000" y="2815"/>
                  </a:lnTo>
                  <a:lnTo>
                    <a:pt x="2029" y="2827"/>
                  </a:lnTo>
                  <a:lnTo>
                    <a:pt x="2058" y="2833"/>
                  </a:lnTo>
                  <a:lnTo>
                    <a:pt x="2066" y="2833"/>
                  </a:lnTo>
                  <a:lnTo>
                    <a:pt x="2197" y="2815"/>
                  </a:lnTo>
                  <a:lnTo>
                    <a:pt x="2255" y="2802"/>
                  </a:lnTo>
                  <a:lnTo>
                    <a:pt x="2321" y="2784"/>
                  </a:lnTo>
                  <a:lnTo>
                    <a:pt x="2379" y="2759"/>
                  </a:lnTo>
                  <a:lnTo>
                    <a:pt x="2431" y="2735"/>
                  </a:lnTo>
                  <a:lnTo>
                    <a:pt x="2518" y="2741"/>
                  </a:lnTo>
                  <a:lnTo>
                    <a:pt x="2613" y="2753"/>
                  </a:lnTo>
                  <a:lnTo>
                    <a:pt x="2708" y="2759"/>
                  </a:lnTo>
                  <a:lnTo>
                    <a:pt x="2803" y="2753"/>
                  </a:lnTo>
                  <a:lnTo>
                    <a:pt x="2868" y="2673"/>
                  </a:lnTo>
                  <a:lnTo>
                    <a:pt x="2898" y="2624"/>
                  </a:lnTo>
                  <a:lnTo>
                    <a:pt x="2919" y="2575"/>
                  </a:lnTo>
                  <a:lnTo>
                    <a:pt x="2905" y="2556"/>
                  </a:lnTo>
                  <a:lnTo>
                    <a:pt x="2890" y="2538"/>
                  </a:lnTo>
                  <a:lnTo>
                    <a:pt x="2890" y="2520"/>
                  </a:lnTo>
                  <a:lnTo>
                    <a:pt x="2905" y="2501"/>
                  </a:lnTo>
                  <a:lnTo>
                    <a:pt x="2919" y="2495"/>
                  </a:lnTo>
                  <a:lnTo>
                    <a:pt x="2934" y="2495"/>
                  </a:lnTo>
                  <a:lnTo>
                    <a:pt x="2963" y="2495"/>
                  </a:lnTo>
                  <a:lnTo>
                    <a:pt x="3022" y="2495"/>
                  </a:lnTo>
                  <a:lnTo>
                    <a:pt x="3065" y="2495"/>
                  </a:lnTo>
                  <a:lnTo>
                    <a:pt x="3080" y="2495"/>
                  </a:lnTo>
                  <a:lnTo>
                    <a:pt x="3095" y="2495"/>
                  </a:lnTo>
                  <a:lnTo>
                    <a:pt x="3102" y="2501"/>
                  </a:lnTo>
                  <a:lnTo>
                    <a:pt x="3109" y="2501"/>
                  </a:lnTo>
                  <a:lnTo>
                    <a:pt x="3124" y="2507"/>
                  </a:lnTo>
                  <a:lnTo>
                    <a:pt x="3153" y="2513"/>
                  </a:lnTo>
                  <a:lnTo>
                    <a:pt x="3182" y="2520"/>
                  </a:lnTo>
                  <a:lnTo>
                    <a:pt x="3211" y="2526"/>
                  </a:lnTo>
                  <a:lnTo>
                    <a:pt x="3233" y="2538"/>
                  </a:lnTo>
                  <a:lnTo>
                    <a:pt x="3262" y="2544"/>
                  </a:lnTo>
                  <a:lnTo>
                    <a:pt x="3284" y="2556"/>
                  </a:lnTo>
                  <a:lnTo>
                    <a:pt x="3292" y="2556"/>
                  </a:lnTo>
                  <a:lnTo>
                    <a:pt x="3343" y="2556"/>
                  </a:lnTo>
                  <a:lnTo>
                    <a:pt x="3379" y="2550"/>
                  </a:lnTo>
                  <a:lnTo>
                    <a:pt x="3416" y="2544"/>
                  </a:lnTo>
                  <a:lnTo>
                    <a:pt x="3452" y="2520"/>
                  </a:lnTo>
                  <a:lnTo>
                    <a:pt x="3474" y="2495"/>
                  </a:lnTo>
                  <a:lnTo>
                    <a:pt x="3496" y="2470"/>
                  </a:lnTo>
                  <a:lnTo>
                    <a:pt x="3489" y="2268"/>
                  </a:lnTo>
                  <a:lnTo>
                    <a:pt x="3481" y="2065"/>
                  </a:lnTo>
                  <a:lnTo>
                    <a:pt x="3481" y="2046"/>
                  </a:lnTo>
                  <a:lnTo>
                    <a:pt x="3474" y="2022"/>
                  </a:lnTo>
                  <a:lnTo>
                    <a:pt x="3467" y="1997"/>
                  </a:lnTo>
                  <a:lnTo>
                    <a:pt x="3460" y="1979"/>
                  </a:lnTo>
                  <a:lnTo>
                    <a:pt x="3416" y="1942"/>
                  </a:lnTo>
                  <a:lnTo>
                    <a:pt x="3365" y="1899"/>
                  </a:lnTo>
                  <a:lnTo>
                    <a:pt x="3321" y="1844"/>
                  </a:lnTo>
                  <a:lnTo>
                    <a:pt x="3292" y="1819"/>
                  </a:lnTo>
                  <a:lnTo>
                    <a:pt x="3262" y="1801"/>
                  </a:lnTo>
                  <a:lnTo>
                    <a:pt x="3255" y="1788"/>
                  </a:lnTo>
                  <a:lnTo>
                    <a:pt x="3241" y="1776"/>
                  </a:lnTo>
                  <a:lnTo>
                    <a:pt x="3226" y="1764"/>
                  </a:lnTo>
                  <a:lnTo>
                    <a:pt x="3211" y="1751"/>
                  </a:lnTo>
                  <a:lnTo>
                    <a:pt x="3175" y="1684"/>
                  </a:lnTo>
                  <a:lnTo>
                    <a:pt x="3138" y="1616"/>
                  </a:lnTo>
                  <a:lnTo>
                    <a:pt x="3138" y="1604"/>
                  </a:lnTo>
                  <a:lnTo>
                    <a:pt x="3138" y="1585"/>
                  </a:lnTo>
                  <a:lnTo>
                    <a:pt x="3131" y="1536"/>
                  </a:lnTo>
                  <a:lnTo>
                    <a:pt x="3124" y="1487"/>
                  </a:lnTo>
                  <a:lnTo>
                    <a:pt x="3117" y="1475"/>
                  </a:lnTo>
                  <a:lnTo>
                    <a:pt x="3109" y="1463"/>
                  </a:lnTo>
                  <a:lnTo>
                    <a:pt x="3095" y="1450"/>
                  </a:lnTo>
                  <a:lnTo>
                    <a:pt x="3065" y="1438"/>
                  </a:lnTo>
                  <a:lnTo>
                    <a:pt x="2992" y="1426"/>
                  </a:lnTo>
                  <a:lnTo>
                    <a:pt x="2956" y="1420"/>
                  </a:lnTo>
                  <a:lnTo>
                    <a:pt x="2919" y="1420"/>
                  </a:lnTo>
                  <a:lnTo>
                    <a:pt x="2898" y="1420"/>
                  </a:lnTo>
                  <a:lnTo>
                    <a:pt x="2883" y="1420"/>
                  </a:lnTo>
                  <a:lnTo>
                    <a:pt x="2847" y="1389"/>
                  </a:lnTo>
                  <a:lnTo>
                    <a:pt x="2825" y="1346"/>
                  </a:lnTo>
                  <a:lnTo>
                    <a:pt x="2803" y="1297"/>
                  </a:lnTo>
                  <a:lnTo>
                    <a:pt x="2781" y="1254"/>
                  </a:lnTo>
                  <a:lnTo>
                    <a:pt x="2774" y="1241"/>
                  </a:lnTo>
                  <a:lnTo>
                    <a:pt x="2774" y="1217"/>
                  </a:lnTo>
                  <a:lnTo>
                    <a:pt x="2766" y="1198"/>
                  </a:lnTo>
                  <a:lnTo>
                    <a:pt x="2759" y="1192"/>
                  </a:lnTo>
                  <a:lnTo>
                    <a:pt x="2730" y="1186"/>
                  </a:lnTo>
                  <a:lnTo>
                    <a:pt x="2708" y="1186"/>
                  </a:lnTo>
                  <a:lnTo>
                    <a:pt x="2657" y="1186"/>
                  </a:lnTo>
                  <a:lnTo>
                    <a:pt x="2649" y="1186"/>
                  </a:lnTo>
                  <a:lnTo>
                    <a:pt x="2628" y="1180"/>
                  </a:lnTo>
                  <a:lnTo>
                    <a:pt x="2606" y="1174"/>
                  </a:lnTo>
                  <a:lnTo>
                    <a:pt x="2591" y="1168"/>
                  </a:lnTo>
                  <a:lnTo>
                    <a:pt x="2584" y="1143"/>
                  </a:lnTo>
                  <a:lnTo>
                    <a:pt x="2577" y="1112"/>
                  </a:lnTo>
                  <a:lnTo>
                    <a:pt x="2533" y="1020"/>
                  </a:lnTo>
                  <a:lnTo>
                    <a:pt x="2525" y="977"/>
                  </a:lnTo>
                  <a:lnTo>
                    <a:pt x="2511" y="934"/>
                  </a:lnTo>
                  <a:lnTo>
                    <a:pt x="2460" y="848"/>
                  </a:lnTo>
                  <a:lnTo>
                    <a:pt x="2431" y="811"/>
                  </a:lnTo>
                  <a:lnTo>
                    <a:pt x="2401" y="774"/>
                  </a:lnTo>
                  <a:lnTo>
                    <a:pt x="2365" y="743"/>
                  </a:lnTo>
                  <a:lnTo>
                    <a:pt x="2321" y="713"/>
                  </a:lnTo>
                  <a:lnTo>
                    <a:pt x="2314" y="688"/>
                  </a:lnTo>
                  <a:lnTo>
                    <a:pt x="2299" y="670"/>
                  </a:lnTo>
                  <a:lnTo>
                    <a:pt x="2285" y="664"/>
                  </a:lnTo>
                  <a:lnTo>
                    <a:pt x="2255" y="645"/>
                  </a:lnTo>
                  <a:lnTo>
                    <a:pt x="2219" y="621"/>
                  </a:lnTo>
                  <a:lnTo>
                    <a:pt x="2190" y="614"/>
                  </a:lnTo>
                  <a:lnTo>
                    <a:pt x="2153" y="608"/>
                  </a:lnTo>
                  <a:lnTo>
                    <a:pt x="2131" y="608"/>
                  </a:lnTo>
                  <a:lnTo>
                    <a:pt x="2102" y="608"/>
                  </a:lnTo>
                  <a:lnTo>
                    <a:pt x="2095" y="596"/>
                  </a:lnTo>
                  <a:lnTo>
                    <a:pt x="2095" y="590"/>
                  </a:lnTo>
                  <a:lnTo>
                    <a:pt x="2095" y="584"/>
                  </a:lnTo>
                  <a:lnTo>
                    <a:pt x="2095" y="578"/>
                  </a:lnTo>
                  <a:lnTo>
                    <a:pt x="2095" y="559"/>
                  </a:lnTo>
                  <a:lnTo>
                    <a:pt x="2088" y="541"/>
                  </a:lnTo>
                  <a:lnTo>
                    <a:pt x="2080" y="522"/>
                  </a:lnTo>
                  <a:lnTo>
                    <a:pt x="2080" y="510"/>
                  </a:lnTo>
                  <a:lnTo>
                    <a:pt x="2073" y="498"/>
                  </a:lnTo>
                  <a:lnTo>
                    <a:pt x="2066" y="492"/>
                  </a:lnTo>
                  <a:lnTo>
                    <a:pt x="2066" y="485"/>
                  </a:lnTo>
                  <a:lnTo>
                    <a:pt x="2058" y="473"/>
                  </a:lnTo>
                  <a:lnTo>
                    <a:pt x="2044" y="430"/>
                  </a:lnTo>
                  <a:lnTo>
                    <a:pt x="2036" y="412"/>
                  </a:lnTo>
                  <a:lnTo>
                    <a:pt x="2022" y="399"/>
                  </a:lnTo>
                  <a:lnTo>
                    <a:pt x="2000" y="399"/>
                  </a:lnTo>
                  <a:lnTo>
                    <a:pt x="1978" y="393"/>
                  </a:lnTo>
                  <a:lnTo>
                    <a:pt x="1956" y="387"/>
                  </a:lnTo>
                  <a:lnTo>
                    <a:pt x="1934" y="375"/>
                  </a:lnTo>
                  <a:lnTo>
                    <a:pt x="1920" y="369"/>
                  </a:lnTo>
                  <a:lnTo>
                    <a:pt x="1912" y="362"/>
                  </a:lnTo>
                  <a:lnTo>
                    <a:pt x="1883" y="301"/>
                  </a:lnTo>
                  <a:lnTo>
                    <a:pt x="1854" y="246"/>
                  </a:lnTo>
                  <a:lnTo>
                    <a:pt x="1818" y="184"/>
                  </a:lnTo>
                  <a:lnTo>
                    <a:pt x="1788" y="123"/>
                  </a:lnTo>
                  <a:lnTo>
                    <a:pt x="1774" y="92"/>
                  </a:lnTo>
                  <a:lnTo>
                    <a:pt x="1752" y="61"/>
                  </a:lnTo>
                  <a:lnTo>
                    <a:pt x="1730" y="49"/>
                  </a:lnTo>
                  <a:lnTo>
                    <a:pt x="1715" y="37"/>
                  </a:lnTo>
                  <a:lnTo>
                    <a:pt x="1708" y="24"/>
                  </a:lnTo>
                  <a:lnTo>
                    <a:pt x="1715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5760" y="2076840"/>
              <a:ext cx="1374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657600" y="2895480"/>
            <a:ext cx="260496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eployment  *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Resourc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Load 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Universal clien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Multi-platform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Performance and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ata 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Managing and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547640" y="2273040"/>
            <a:ext cx="6075000" cy="3971880"/>
            <a:chOff x="1547640" y="2273040"/>
            <a:chExt cx="6075000" cy="3971880"/>
          </a:xfrm>
        </p:grpSpPr>
        <p:grpSp>
          <p:nvGrpSpPr>
            <p:cNvPr id="704" name=""/>
            <p:cNvGrpSpPr/>
            <p:nvPr/>
          </p:nvGrpSpPr>
          <p:grpSpPr>
            <a:xfrm>
              <a:off x="1567080" y="2273040"/>
              <a:ext cx="6040440" cy="669960"/>
              <a:chOff x="1567080" y="2273040"/>
              <a:chExt cx="6040440" cy="669960"/>
            </a:xfrm>
          </p:grpSpPr>
          <p:sp>
            <p:nvSpPr>
              <p:cNvPr id="705" name=""/>
              <p:cNvSpPr/>
              <p:nvPr/>
            </p:nvSpPr>
            <p:spPr>
              <a:xfrm>
                <a:off x="1567080" y="2273040"/>
                <a:ext cx="1172520" cy="66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353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353180"/>
                  </a:path>
                </a:pathLst>
              </a:custGeom>
              <a:noFill/>
              <a:ln cap="rnd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74160" y="2273040"/>
                <a:ext cx="1174320" cy="66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3525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352569"/>
                  </a:path>
                </a:pathLst>
              </a:custGeom>
              <a:noFill/>
              <a:ln cap="rnd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94200" y="2273040"/>
                <a:ext cx="1174320" cy="66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3525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352569"/>
                  </a:path>
                </a:pathLst>
              </a:custGeom>
              <a:noFill/>
              <a:ln cap="rnd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14960" y="2273040"/>
                <a:ext cx="1172520" cy="66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353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353180"/>
                  </a:path>
                </a:pathLst>
              </a:custGeom>
              <a:noFill/>
              <a:ln cap="rnd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35000" y="2273040"/>
                <a:ext cx="1172520" cy="66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353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353180"/>
                  </a:path>
                </a:pathLst>
              </a:custGeom>
              <a:noFill/>
              <a:ln cap="rnd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1547640" y="2720880"/>
              <a:ext cx="0" cy="35046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22640" y="2632320"/>
              <a:ext cx="0" cy="35935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1760" y="6244920"/>
              <a:ext cx="60314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22360" y="255600"/>
            <a:ext cx="8556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ceberg Analogy - “Under the Water-Line” Middleware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3360" y="533160"/>
            <a:ext cx="8159760" cy="78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 Object-based Applic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52600" y="2709720"/>
            <a:ext cx="1158840" cy="11844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2077920" y="2471760"/>
            <a:ext cx="1192320" cy="1434960"/>
          </a:xfrm>
          <a:custGeom>
            <a:avLst/>
            <a:gdLst/>
            <a:ahLst/>
            <a:rect l="l" t="t" r="r" b="b"/>
            <a:pathLst>
              <a:path w="751" h="904">
                <a:moveTo>
                  <a:pt x="193" y="132"/>
                </a:moveTo>
                <a:lnTo>
                  <a:pt x="153" y="147"/>
                </a:lnTo>
                <a:lnTo>
                  <a:pt x="118" y="164"/>
                </a:lnTo>
                <a:lnTo>
                  <a:pt x="86" y="182"/>
                </a:lnTo>
                <a:lnTo>
                  <a:pt x="58" y="204"/>
                </a:lnTo>
                <a:lnTo>
                  <a:pt x="36" y="227"/>
                </a:lnTo>
                <a:lnTo>
                  <a:pt x="18" y="252"/>
                </a:lnTo>
                <a:lnTo>
                  <a:pt x="6" y="277"/>
                </a:lnTo>
                <a:lnTo>
                  <a:pt x="0" y="302"/>
                </a:lnTo>
                <a:lnTo>
                  <a:pt x="0" y="329"/>
                </a:lnTo>
                <a:lnTo>
                  <a:pt x="5" y="356"/>
                </a:lnTo>
                <a:lnTo>
                  <a:pt x="16" y="381"/>
                </a:lnTo>
                <a:lnTo>
                  <a:pt x="33" y="406"/>
                </a:lnTo>
                <a:lnTo>
                  <a:pt x="55" y="429"/>
                </a:lnTo>
                <a:lnTo>
                  <a:pt x="81" y="451"/>
                </a:lnTo>
                <a:lnTo>
                  <a:pt x="55" y="473"/>
                </a:lnTo>
                <a:lnTo>
                  <a:pt x="33" y="496"/>
                </a:lnTo>
                <a:lnTo>
                  <a:pt x="16" y="520"/>
                </a:lnTo>
                <a:lnTo>
                  <a:pt x="5" y="546"/>
                </a:lnTo>
                <a:lnTo>
                  <a:pt x="0" y="573"/>
                </a:lnTo>
                <a:lnTo>
                  <a:pt x="0" y="598"/>
                </a:lnTo>
                <a:lnTo>
                  <a:pt x="6" y="625"/>
                </a:lnTo>
                <a:lnTo>
                  <a:pt x="18" y="650"/>
                </a:lnTo>
                <a:lnTo>
                  <a:pt x="36" y="675"/>
                </a:lnTo>
                <a:lnTo>
                  <a:pt x="58" y="699"/>
                </a:lnTo>
                <a:lnTo>
                  <a:pt x="86" y="719"/>
                </a:lnTo>
                <a:lnTo>
                  <a:pt x="118" y="739"/>
                </a:lnTo>
                <a:lnTo>
                  <a:pt x="153" y="755"/>
                </a:lnTo>
                <a:lnTo>
                  <a:pt x="193" y="769"/>
                </a:lnTo>
                <a:lnTo>
                  <a:pt x="188" y="789"/>
                </a:lnTo>
                <a:lnTo>
                  <a:pt x="188" y="807"/>
                </a:lnTo>
                <a:lnTo>
                  <a:pt x="195" y="827"/>
                </a:lnTo>
                <a:lnTo>
                  <a:pt x="208" y="846"/>
                </a:lnTo>
                <a:lnTo>
                  <a:pt x="227" y="861"/>
                </a:lnTo>
                <a:lnTo>
                  <a:pt x="250" y="876"/>
                </a:lnTo>
                <a:lnTo>
                  <a:pt x="277" y="888"/>
                </a:lnTo>
                <a:lnTo>
                  <a:pt x="308" y="896"/>
                </a:lnTo>
                <a:lnTo>
                  <a:pt x="340" y="901"/>
                </a:lnTo>
                <a:lnTo>
                  <a:pt x="375" y="903"/>
                </a:lnTo>
                <a:lnTo>
                  <a:pt x="408" y="901"/>
                </a:lnTo>
                <a:lnTo>
                  <a:pt x="442" y="896"/>
                </a:lnTo>
                <a:lnTo>
                  <a:pt x="472" y="888"/>
                </a:lnTo>
                <a:lnTo>
                  <a:pt x="500" y="876"/>
                </a:lnTo>
                <a:lnTo>
                  <a:pt x="523" y="861"/>
                </a:lnTo>
                <a:lnTo>
                  <a:pt x="542" y="846"/>
                </a:lnTo>
                <a:lnTo>
                  <a:pt x="555" y="827"/>
                </a:lnTo>
                <a:lnTo>
                  <a:pt x="562" y="807"/>
                </a:lnTo>
                <a:lnTo>
                  <a:pt x="562" y="789"/>
                </a:lnTo>
                <a:lnTo>
                  <a:pt x="557" y="769"/>
                </a:lnTo>
                <a:lnTo>
                  <a:pt x="595" y="755"/>
                </a:lnTo>
                <a:lnTo>
                  <a:pt x="632" y="739"/>
                </a:lnTo>
                <a:lnTo>
                  <a:pt x="664" y="719"/>
                </a:lnTo>
                <a:lnTo>
                  <a:pt x="692" y="699"/>
                </a:lnTo>
                <a:lnTo>
                  <a:pt x="714" y="675"/>
                </a:lnTo>
                <a:lnTo>
                  <a:pt x="730" y="650"/>
                </a:lnTo>
                <a:lnTo>
                  <a:pt x="744" y="625"/>
                </a:lnTo>
                <a:lnTo>
                  <a:pt x="749" y="598"/>
                </a:lnTo>
                <a:lnTo>
                  <a:pt x="750" y="573"/>
                </a:lnTo>
                <a:lnTo>
                  <a:pt x="744" y="546"/>
                </a:lnTo>
                <a:lnTo>
                  <a:pt x="734" y="520"/>
                </a:lnTo>
                <a:lnTo>
                  <a:pt x="717" y="496"/>
                </a:lnTo>
                <a:lnTo>
                  <a:pt x="695" y="473"/>
                </a:lnTo>
                <a:lnTo>
                  <a:pt x="667" y="451"/>
                </a:lnTo>
                <a:lnTo>
                  <a:pt x="695" y="429"/>
                </a:lnTo>
                <a:lnTo>
                  <a:pt x="717" y="406"/>
                </a:lnTo>
                <a:lnTo>
                  <a:pt x="734" y="381"/>
                </a:lnTo>
                <a:lnTo>
                  <a:pt x="744" y="356"/>
                </a:lnTo>
                <a:lnTo>
                  <a:pt x="750" y="329"/>
                </a:lnTo>
                <a:lnTo>
                  <a:pt x="749" y="302"/>
                </a:lnTo>
                <a:lnTo>
                  <a:pt x="744" y="277"/>
                </a:lnTo>
                <a:lnTo>
                  <a:pt x="730" y="252"/>
                </a:lnTo>
                <a:lnTo>
                  <a:pt x="714" y="227"/>
                </a:lnTo>
                <a:lnTo>
                  <a:pt x="692" y="204"/>
                </a:lnTo>
                <a:lnTo>
                  <a:pt x="664" y="182"/>
                </a:lnTo>
                <a:lnTo>
                  <a:pt x="632" y="164"/>
                </a:lnTo>
                <a:lnTo>
                  <a:pt x="595" y="147"/>
                </a:lnTo>
                <a:lnTo>
                  <a:pt x="557" y="132"/>
                </a:lnTo>
                <a:lnTo>
                  <a:pt x="562" y="113"/>
                </a:lnTo>
                <a:lnTo>
                  <a:pt x="562" y="93"/>
                </a:lnTo>
                <a:lnTo>
                  <a:pt x="555" y="75"/>
                </a:lnTo>
                <a:lnTo>
                  <a:pt x="542" y="57"/>
                </a:lnTo>
                <a:lnTo>
                  <a:pt x="523" y="42"/>
                </a:lnTo>
                <a:lnTo>
                  <a:pt x="500" y="27"/>
                </a:lnTo>
                <a:lnTo>
                  <a:pt x="472" y="15"/>
                </a:lnTo>
                <a:lnTo>
                  <a:pt x="442" y="6"/>
                </a:lnTo>
                <a:lnTo>
                  <a:pt x="408" y="1"/>
                </a:lnTo>
                <a:lnTo>
                  <a:pt x="375" y="0"/>
                </a:lnTo>
                <a:lnTo>
                  <a:pt x="340" y="1"/>
                </a:lnTo>
                <a:lnTo>
                  <a:pt x="308" y="6"/>
                </a:lnTo>
                <a:lnTo>
                  <a:pt x="277" y="15"/>
                </a:lnTo>
                <a:lnTo>
                  <a:pt x="250" y="27"/>
                </a:lnTo>
                <a:lnTo>
                  <a:pt x="227" y="42"/>
                </a:lnTo>
                <a:lnTo>
                  <a:pt x="208" y="57"/>
                </a:lnTo>
                <a:lnTo>
                  <a:pt x="195" y="75"/>
                </a:lnTo>
                <a:lnTo>
                  <a:pt x="188" y="93"/>
                </a:lnTo>
                <a:lnTo>
                  <a:pt x="188" y="113"/>
                </a:lnTo>
                <a:lnTo>
                  <a:pt x="193" y="13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020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0400" y="3257640"/>
            <a:ext cx="311040" cy="3618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195" y="0"/>
                </a:moveTo>
                <a:lnTo>
                  <a:pt x="12" y="0"/>
                </a:lnTo>
                <a:lnTo>
                  <a:pt x="10" y="0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6"/>
                </a:lnTo>
                <a:lnTo>
                  <a:pt x="8" y="8"/>
                </a:lnTo>
                <a:lnTo>
                  <a:pt x="12" y="8"/>
                </a:lnTo>
                <a:lnTo>
                  <a:pt x="15" y="28"/>
                </a:lnTo>
                <a:lnTo>
                  <a:pt x="17" y="45"/>
                </a:lnTo>
                <a:lnTo>
                  <a:pt x="17" y="62"/>
                </a:lnTo>
                <a:lnTo>
                  <a:pt x="18" y="78"/>
                </a:lnTo>
                <a:lnTo>
                  <a:pt x="18" y="95"/>
                </a:lnTo>
                <a:lnTo>
                  <a:pt x="18" y="108"/>
                </a:lnTo>
                <a:lnTo>
                  <a:pt x="18" y="125"/>
                </a:lnTo>
                <a:lnTo>
                  <a:pt x="17" y="142"/>
                </a:lnTo>
                <a:lnTo>
                  <a:pt x="15" y="158"/>
                </a:lnTo>
                <a:lnTo>
                  <a:pt x="13" y="175"/>
                </a:lnTo>
                <a:lnTo>
                  <a:pt x="0" y="175"/>
                </a:lnTo>
                <a:lnTo>
                  <a:pt x="3" y="209"/>
                </a:lnTo>
                <a:lnTo>
                  <a:pt x="195" y="227"/>
                </a:lnTo>
                <a:lnTo>
                  <a:pt x="195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23400" y="3267000"/>
            <a:ext cx="56880" cy="270000"/>
          </a:xfrm>
          <a:custGeom>
            <a:avLst/>
            <a:gdLst/>
            <a:ahLst/>
            <a:rect l="l" t="t" r="r" b="b"/>
            <a:pathLst>
              <a:path w="36" h="170">
                <a:moveTo>
                  <a:pt x="24" y="0"/>
                </a:moveTo>
                <a:lnTo>
                  <a:pt x="14" y="0"/>
                </a:lnTo>
                <a:lnTo>
                  <a:pt x="10" y="5"/>
                </a:lnTo>
                <a:lnTo>
                  <a:pt x="9" y="22"/>
                </a:lnTo>
                <a:lnTo>
                  <a:pt x="5" y="39"/>
                </a:lnTo>
                <a:lnTo>
                  <a:pt x="4" y="57"/>
                </a:lnTo>
                <a:lnTo>
                  <a:pt x="2" y="74"/>
                </a:lnTo>
                <a:lnTo>
                  <a:pt x="0" y="91"/>
                </a:lnTo>
                <a:lnTo>
                  <a:pt x="0" y="107"/>
                </a:lnTo>
                <a:lnTo>
                  <a:pt x="0" y="126"/>
                </a:lnTo>
                <a:lnTo>
                  <a:pt x="0" y="142"/>
                </a:lnTo>
                <a:lnTo>
                  <a:pt x="0" y="147"/>
                </a:lnTo>
                <a:lnTo>
                  <a:pt x="0" y="151"/>
                </a:lnTo>
                <a:lnTo>
                  <a:pt x="2" y="168"/>
                </a:lnTo>
                <a:lnTo>
                  <a:pt x="17" y="169"/>
                </a:lnTo>
                <a:lnTo>
                  <a:pt x="30" y="169"/>
                </a:lnTo>
                <a:lnTo>
                  <a:pt x="32" y="152"/>
                </a:lnTo>
                <a:lnTo>
                  <a:pt x="34" y="136"/>
                </a:lnTo>
                <a:lnTo>
                  <a:pt x="35" y="119"/>
                </a:lnTo>
                <a:lnTo>
                  <a:pt x="35" y="102"/>
                </a:lnTo>
                <a:lnTo>
                  <a:pt x="35" y="89"/>
                </a:lnTo>
                <a:lnTo>
                  <a:pt x="35" y="72"/>
                </a:lnTo>
                <a:lnTo>
                  <a:pt x="34" y="56"/>
                </a:lnTo>
                <a:lnTo>
                  <a:pt x="34" y="39"/>
                </a:lnTo>
                <a:lnTo>
                  <a:pt x="32" y="22"/>
                </a:lnTo>
                <a:lnTo>
                  <a:pt x="29" y="2"/>
                </a:lnTo>
                <a:lnTo>
                  <a:pt x="25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97960" y="3211560"/>
            <a:ext cx="345960" cy="282600"/>
          </a:xfrm>
          <a:custGeom>
            <a:avLst/>
            <a:gdLst/>
            <a:ahLst/>
            <a:rect l="l" t="t" r="r" b="b"/>
            <a:pathLst>
              <a:path w="218" h="178">
                <a:moveTo>
                  <a:pt x="172" y="144"/>
                </a:moveTo>
                <a:lnTo>
                  <a:pt x="200" y="174"/>
                </a:lnTo>
                <a:lnTo>
                  <a:pt x="204" y="177"/>
                </a:lnTo>
                <a:lnTo>
                  <a:pt x="205" y="177"/>
                </a:lnTo>
                <a:lnTo>
                  <a:pt x="205" y="159"/>
                </a:lnTo>
                <a:lnTo>
                  <a:pt x="205" y="142"/>
                </a:lnTo>
                <a:lnTo>
                  <a:pt x="205" y="126"/>
                </a:lnTo>
                <a:lnTo>
                  <a:pt x="207" y="109"/>
                </a:lnTo>
                <a:lnTo>
                  <a:pt x="209" y="92"/>
                </a:lnTo>
                <a:lnTo>
                  <a:pt x="210" y="74"/>
                </a:lnTo>
                <a:lnTo>
                  <a:pt x="214" y="57"/>
                </a:lnTo>
                <a:lnTo>
                  <a:pt x="215" y="40"/>
                </a:lnTo>
                <a:lnTo>
                  <a:pt x="217" y="37"/>
                </a:lnTo>
                <a:lnTo>
                  <a:pt x="179" y="40"/>
                </a:lnTo>
                <a:lnTo>
                  <a:pt x="100" y="0"/>
                </a:lnTo>
                <a:lnTo>
                  <a:pt x="47" y="0"/>
                </a:lnTo>
                <a:lnTo>
                  <a:pt x="22" y="24"/>
                </a:lnTo>
                <a:lnTo>
                  <a:pt x="22" y="30"/>
                </a:lnTo>
                <a:lnTo>
                  <a:pt x="32" y="35"/>
                </a:lnTo>
                <a:lnTo>
                  <a:pt x="30" y="37"/>
                </a:lnTo>
                <a:lnTo>
                  <a:pt x="29" y="42"/>
                </a:lnTo>
                <a:lnTo>
                  <a:pt x="27" y="47"/>
                </a:lnTo>
                <a:lnTo>
                  <a:pt x="24" y="49"/>
                </a:lnTo>
                <a:lnTo>
                  <a:pt x="22" y="49"/>
                </a:lnTo>
                <a:lnTo>
                  <a:pt x="20" y="52"/>
                </a:lnTo>
                <a:lnTo>
                  <a:pt x="17" y="52"/>
                </a:lnTo>
                <a:lnTo>
                  <a:pt x="15" y="54"/>
                </a:lnTo>
                <a:lnTo>
                  <a:pt x="12" y="54"/>
                </a:lnTo>
                <a:lnTo>
                  <a:pt x="10" y="54"/>
                </a:lnTo>
                <a:lnTo>
                  <a:pt x="0" y="49"/>
                </a:lnTo>
                <a:lnTo>
                  <a:pt x="0" y="52"/>
                </a:lnTo>
                <a:lnTo>
                  <a:pt x="10" y="59"/>
                </a:lnTo>
                <a:lnTo>
                  <a:pt x="15" y="59"/>
                </a:lnTo>
                <a:lnTo>
                  <a:pt x="20" y="59"/>
                </a:lnTo>
                <a:lnTo>
                  <a:pt x="25" y="62"/>
                </a:lnTo>
                <a:lnTo>
                  <a:pt x="30" y="59"/>
                </a:lnTo>
                <a:lnTo>
                  <a:pt x="34" y="59"/>
                </a:lnTo>
                <a:lnTo>
                  <a:pt x="39" y="57"/>
                </a:lnTo>
                <a:lnTo>
                  <a:pt x="44" y="54"/>
                </a:lnTo>
                <a:lnTo>
                  <a:pt x="47" y="49"/>
                </a:lnTo>
                <a:lnTo>
                  <a:pt x="52" y="47"/>
                </a:lnTo>
                <a:lnTo>
                  <a:pt x="55" y="42"/>
                </a:lnTo>
                <a:lnTo>
                  <a:pt x="59" y="37"/>
                </a:lnTo>
                <a:lnTo>
                  <a:pt x="62" y="40"/>
                </a:lnTo>
                <a:lnTo>
                  <a:pt x="69" y="42"/>
                </a:lnTo>
                <a:lnTo>
                  <a:pt x="77" y="42"/>
                </a:lnTo>
                <a:lnTo>
                  <a:pt x="85" y="42"/>
                </a:lnTo>
                <a:lnTo>
                  <a:pt x="92" y="42"/>
                </a:lnTo>
                <a:lnTo>
                  <a:pt x="99" y="42"/>
                </a:lnTo>
                <a:lnTo>
                  <a:pt x="104" y="40"/>
                </a:lnTo>
                <a:lnTo>
                  <a:pt x="105" y="40"/>
                </a:lnTo>
                <a:lnTo>
                  <a:pt x="105" y="45"/>
                </a:lnTo>
                <a:lnTo>
                  <a:pt x="104" y="49"/>
                </a:lnTo>
                <a:lnTo>
                  <a:pt x="104" y="54"/>
                </a:lnTo>
                <a:lnTo>
                  <a:pt x="104" y="59"/>
                </a:lnTo>
                <a:lnTo>
                  <a:pt x="105" y="64"/>
                </a:lnTo>
                <a:lnTo>
                  <a:pt x="107" y="69"/>
                </a:lnTo>
                <a:lnTo>
                  <a:pt x="109" y="74"/>
                </a:lnTo>
                <a:lnTo>
                  <a:pt x="112" y="79"/>
                </a:lnTo>
                <a:lnTo>
                  <a:pt x="117" y="82"/>
                </a:lnTo>
                <a:lnTo>
                  <a:pt x="122" y="85"/>
                </a:lnTo>
                <a:lnTo>
                  <a:pt x="124" y="87"/>
                </a:lnTo>
                <a:lnTo>
                  <a:pt x="130" y="91"/>
                </a:lnTo>
                <a:lnTo>
                  <a:pt x="139" y="92"/>
                </a:lnTo>
                <a:lnTo>
                  <a:pt x="147" y="96"/>
                </a:lnTo>
                <a:lnTo>
                  <a:pt x="155" y="96"/>
                </a:lnTo>
                <a:lnTo>
                  <a:pt x="165" y="96"/>
                </a:lnTo>
                <a:lnTo>
                  <a:pt x="172" y="92"/>
                </a:lnTo>
                <a:lnTo>
                  <a:pt x="169" y="97"/>
                </a:lnTo>
                <a:lnTo>
                  <a:pt x="167" y="102"/>
                </a:lnTo>
                <a:lnTo>
                  <a:pt x="164" y="104"/>
                </a:lnTo>
                <a:lnTo>
                  <a:pt x="157" y="107"/>
                </a:lnTo>
                <a:lnTo>
                  <a:pt x="154" y="109"/>
                </a:lnTo>
                <a:lnTo>
                  <a:pt x="150" y="111"/>
                </a:lnTo>
                <a:lnTo>
                  <a:pt x="144" y="114"/>
                </a:lnTo>
                <a:lnTo>
                  <a:pt x="139" y="114"/>
                </a:lnTo>
                <a:lnTo>
                  <a:pt x="172" y="144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797960" y="32590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22" y="0"/>
                </a:moveTo>
                <a:lnTo>
                  <a:pt x="0" y="19"/>
                </a:lnTo>
                <a:lnTo>
                  <a:pt x="10" y="24"/>
                </a:lnTo>
                <a:lnTo>
                  <a:pt x="12" y="24"/>
                </a:lnTo>
                <a:lnTo>
                  <a:pt x="15" y="24"/>
                </a:lnTo>
                <a:lnTo>
                  <a:pt x="19" y="22"/>
                </a:lnTo>
                <a:lnTo>
                  <a:pt x="20" y="22"/>
                </a:lnTo>
                <a:lnTo>
                  <a:pt x="24" y="19"/>
                </a:lnTo>
                <a:lnTo>
                  <a:pt x="25" y="17"/>
                </a:lnTo>
                <a:lnTo>
                  <a:pt x="27" y="15"/>
                </a:lnTo>
                <a:lnTo>
                  <a:pt x="29" y="10"/>
                </a:lnTo>
                <a:lnTo>
                  <a:pt x="30" y="7"/>
                </a:lnTo>
                <a:lnTo>
                  <a:pt x="32" y="5"/>
                </a:lnTo>
                <a:lnTo>
                  <a:pt x="22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97960" y="3270240"/>
            <a:ext cx="168120" cy="60480"/>
          </a:xfrm>
          <a:custGeom>
            <a:avLst/>
            <a:gdLst/>
            <a:ahLst/>
            <a:rect l="l" t="t" r="r" b="b"/>
            <a:pathLst>
              <a:path w="106" h="38">
                <a:moveTo>
                  <a:pt x="0" y="15"/>
                </a:moveTo>
                <a:lnTo>
                  <a:pt x="10" y="22"/>
                </a:lnTo>
                <a:lnTo>
                  <a:pt x="15" y="22"/>
                </a:lnTo>
                <a:lnTo>
                  <a:pt x="20" y="22"/>
                </a:lnTo>
                <a:lnTo>
                  <a:pt x="25" y="25"/>
                </a:lnTo>
                <a:lnTo>
                  <a:pt x="30" y="22"/>
                </a:lnTo>
                <a:lnTo>
                  <a:pt x="34" y="22"/>
                </a:lnTo>
                <a:lnTo>
                  <a:pt x="39" y="20"/>
                </a:lnTo>
                <a:lnTo>
                  <a:pt x="44" y="17"/>
                </a:lnTo>
                <a:lnTo>
                  <a:pt x="47" y="12"/>
                </a:lnTo>
                <a:lnTo>
                  <a:pt x="52" y="10"/>
                </a:lnTo>
                <a:lnTo>
                  <a:pt x="55" y="5"/>
                </a:lnTo>
                <a:lnTo>
                  <a:pt x="59" y="0"/>
                </a:lnTo>
                <a:lnTo>
                  <a:pt x="62" y="3"/>
                </a:lnTo>
                <a:lnTo>
                  <a:pt x="69" y="5"/>
                </a:lnTo>
                <a:lnTo>
                  <a:pt x="77" y="5"/>
                </a:lnTo>
                <a:lnTo>
                  <a:pt x="85" y="5"/>
                </a:lnTo>
                <a:lnTo>
                  <a:pt x="92" y="5"/>
                </a:lnTo>
                <a:lnTo>
                  <a:pt x="99" y="5"/>
                </a:lnTo>
                <a:lnTo>
                  <a:pt x="104" y="3"/>
                </a:lnTo>
                <a:lnTo>
                  <a:pt x="105" y="3"/>
                </a:lnTo>
                <a:lnTo>
                  <a:pt x="85" y="22"/>
                </a:lnTo>
                <a:lnTo>
                  <a:pt x="52" y="22"/>
                </a:lnTo>
                <a:lnTo>
                  <a:pt x="52" y="25"/>
                </a:lnTo>
                <a:lnTo>
                  <a:pt x="47" y="28"/>
                </a:lnTo>
                <a:lnTo>
                  <a:pt x="44" y="32"/>
                </a:lnTo>
                <a:lnTo>
                  <a:pt x="40" y="33"/>
                </a:lnTo>
                <a:lnTo>
                  <a:pt x="35" y="37"/>
                </a:lnTo>
                <a:lnTo>
                  <a:pt x="32" y="37"/>
                </a:lnTo>
                <a:lnTo>
                  <a:pt x="24" y="37"/>
                </a:lnTo>
                <a:lnTo>
                  <a:pt x="15" y="37"/>
                </a:lnTo>
                <a:lnTo>
                  <a:pt x="10" y="33"/>
                </a:lnTo>
                <a:lnTo>
                  <a:pt x="5" y="28"/>
                </a:lnTo>
                <a:lnTo>
                  <a:pt x="2" y="27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32600" y="3274920"/>
            <a:ext cx="139680" cy="119160"/>
          </a:xfrm>
          <a:custGeom>
            <a:avLst/>
            <a:gdLst/>
            <a:ahLst/>
            <a:rect l="l" t="t" r="r" b="b"/>
            <a:pathLst>
              <a:path w="88" h="75">
                <a:moveTo>
                  <a:pt x="54" y="74"/>
                </a:moveTo>
                <a:lnTo>
                  <a:pt x="59" y="74"/>
                </a:lnTo>
                <a:lnTo>
                  <a:pt x="64" y="71"/>
                </a:lnTo>
                <a:lnTo>
                  <a:pt x="69" y="69"/>
                </a:lnTo>
                <a:lnTo>
                  <a:pt x="72" y="67"/>
                </a:lnTo>
                <a:lnTo>
                  <a:pt x="79" y="64"/>
                </a:lnTo>
                <a:lnTo>
                  <a:pt x="82" y="62"/>
                </a:lnTo>
                <a:lnTo>
                  <a:pt x="84" y="57"/>
                </a:lnTo>
                <a:lnTo>
                  <a:pt x="87" y="52"/>
                </a:lnTo>
                <a:lnTo>
                  <a:pt x="80" y="56"/>
                </a:lnTo>
                <a:lnTo>
                  <a:pt x="70" y="56"/>
                </a:lnTo>
                <a:lnTo>
                  <a:pt x="60" y="56"/>
                </a:lnTo>
                <a:lnTo>
                  <a:pt x="52" y="52"/>
                </a:lnTo>
                <a:lnTo>
                  <a:pt x="44" y="51"/>
                </a:lnTo>
                <a:lnTo>
                  <a:pt x="39" y="47"/>
                </a:lnTo>
                <a:lnTo>
                  <a:pt x="37" y="45"/>
                </a:lnTo>
                <a:lnTo>
                  <a:pt x="32" y="42"/>
                </a:lnTo>
                <a:lnTo>
                  <a:pt x="27" y="39"/>
                </a:lnTo>
                <a:lnTo>
                  <a:pt x="24" y="34"/>
                </a:lnTo>
                <a:lnTo>
                  <a:pt x="20" y="29"/>
                </a:lnTo>
                <a:lnTo>
                  <a:pt x="20" y="24"/>
                </a:lnTo>
                <a:lnTo>
                  <a:pt x="19" y="19"/>
                </a:lnTo>
                <a:lnTo>
                  <a:pt x="19" y="14"/>
                </a:lnTo>
                <a:lnTo>
                  <a:pt x="19" y="9"/>
                </a:lnTo>
                <a:lnTo>
                  <a:pt x="20" y="5"/>
                </a:lnTo>
                <a:lnTo>
                  <a:pt x="20" y="0"/>
                </a:lnTo>
                <a:lnTo>
                  <a:pt x="0" y="19"/>
                </a:lnTo>
                <a:lnTo>
                  <a:pt x="54" y="7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048520" y="3377880"/>
            <a:ext cx="270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713720" y="3249720"/>
            <a:ext cx="369720" cy="349200"/>
          </a:xfrm>
          <a:custGeom>
            <a:avLst/>
            <a:gdLst/>
            <a:ahLst/>
            <a:rect l="l" t="t" r="r" b="b"/>
            <a:pathLst>
              <a:path w="233" h="220">
                <a:moveTo>
                  <a:pt x="75" y="0"/>
                </a:moveTo>
                <a:lnTo>
                  <a:pt x="40" y="25"/>
                </a:lnTo>
                <a:lnTo>
                  <a:pt x="0" y="33"/>
                </a:lnTo>
                <a:lnTo>
                  <a:pt x="6" y="46"/>
                </a:lnTo>
                <a:lnTo>
                  <a:pt x="23" y="168"/>
                </a:lnTo>
                <a:lnTo>
                  <a:pt x="23" y="170"/>
                </a:lnTo>
                <a:lnTo>
                  <a:pt x="113" y="197"/>
                </a:lnTo>
                <a:lnTo>
                  <a:pt x="113" y="192"/>
                </a:lnTo>
                <a:lnTo>
                  <a:pt x="113" y="190"/>
                </a:lnTo>
                <a:lnTo>
                  <a:pt x="113" y="187"/>
                </a:lnTo>
                <a:lnTo>
                  <a:pt x="115" y="185"/>
                </a:lnTo>
                <a:lnTo>
                  <a:pt x="117" y="185"/>
                </a:lnTo>
                <a:lnTo>
                  <a:pt x="120" y="185"/>
                </a:lnTo>
                <a:lnTo>
                  <a:pt x="170" y="219"/>
                </a:lnTo>
                <a:lnTo>
                  <a:pt x="172" y="219"/>
                </a:lnTo>
                <a:lnTo>
                  <a:pt x="175" y="219"/>
                </a:lnTo>
                <a:lnTo>
                  <a:pt x="177" y="215"/>
                </a:lnTo>
                <a:lnTo>
                  <a:pt x="180" y="214"/>
                </a:lnTo>
                <a:lnTo>
                  <a:pt x="182" y="212"/>
                </a:lnTo>
                <a:lnTo>
                  <a:pt x="182" y="209"/>
                </a:lnTo>
                <a:lnTo>
                  <a:pt x="183" y="204"/>
                </a:lnTo>
                <a:lnTo>
                  <a:pt x="147" y="165"/>
                </a:lnTo>
                <a:lnTo>
                  <a:pt x="147" y="163"/>
                </a:lnTo>
                <a:lnTo>
                  <a:pt x="147" y="162"/>
                </a:lnTo>
                <a:lnTo>
                  <a:pt x="148" y="162"/>
                </a:lnTo>
                <a:lnTo>
                  <a:pt x="150" y="162"/>
                </a:lnTo>
                <a:lnTo>
                  <a:pt x="190" y="202"/>
                </a:lnTo>
                <a:lnTo>
                  <a:pt x="193" y="202"/>
                </a:lnTo>
                <a:lnTo>
                  <a:pt x="198" y="202"/>
                </a:lnTo>
                <a:lnTo>
                  <a:pt x="203" y="197"/>
                </a:lnTo>
                <a:lnTo>
                  <a:pt x="207" y="195"/>
                </a:lnTo>
                <a:lnTo>
                  <a:pt x="208" y="190"/>
                </a:lnTo>
                <a:lnTo>
                  <a:pt x="210" y="185"/>
                </a:lnTo>
                <a:lnTo>
                  <a:pt x="213" y="180"/>
                </a:lnTo>
                <a:lnTo>
                  <a:pt x="213" y="175"/>
                </a:lnTo>
                <a:lnTo>
                  <a:pt x="210" y="170"/>
                </a:lnTo>
                <a:lnTo>
                  <a:pt x="175" y="135"/>
                </a:lnTo>
                <a:lnTo>
                  <a:pt x="165" y="112"/>
                </a:lnTo>
                <a:lnTo>
                  <a:pt x="165" y="108"/>
                </a:lnTo>
                <a:lnTo>
                  <a:pt x="165" y="107"/>
                </a:lnTo>
                <a:lnTo>
                  <a:pt x="167" y="107"/>
                </a:lnTo>
                <a:lnTo>
                  <a:pt x="168" y="107"/>
                </a:lnTo>
                <a:lnTo>
                  <a:pt x="227" y="163"/>
                </a:lnTo>
                <a:lnTo>
                  <a:pt x="228" y="158"/>
                </a:lnTo>
                <a:lnTo>
                  <a:pt x="230" y="153"/>
                </a:lnTo>
                <a:lnTo>
                  <a:pt x="230" y="150"/>
                </a:lnTo>
                <a:lnTo>
                  <a:pt x="232" y="142"/>
                </a:lnTo>
                <a:lnTo>
                  <a:pt x="232" y="137"/>
                </a:lnTo>
                <a:lnTo>
                  <a:pt x="230" y="133"/>
                </a:lnTo>
                <a:lnTo>
                  <a:pt x="228" y="128"/>
                </a:lnTo>
                <a:lnTo>
                  <a:pt x="227" y="123"/>
                </a:lnTo>
                <a:lnTo>
                  <a:pt x="225" y="120"/>
                </a:lnTo>
                <a:lnTo>
                  <a:pt x="188" y="85"/>
                </a:lnTo>
                <a:lnTo>
                  <a:pt x="138" y="35"/>
                </a:lnTo>
                <a:lnTo>
                  <a:pt x="105" y="35"/>
                </a:lnTo>
                <a:lnTo>
                  <a:pt x="105" y="38"/>
                </a:lnTo>
                <a:lnTo>
                  <a:pt x="100" y="41"/>
                </a:lnTo>
                <a:lnTo>
                  <a:pt x="97" y="45"/>
                </a:lnTo>
                <a:lnTo>
                  <a:pt x="93" y="46"/>
                </a:lnTo>
                <a:lnTo>
                  <a:pt x="88" y="50"/>
                </a:lnTo>
                <a:lnTo>
                  <a:pt x="85" y="50"/>
                </a:lnTo>
                <a:lnTo>
                  <a:pt x="77" y="50"/>
                </a:lnTo>
                <a:lnTo>
                  <a:pt x="68" y="50"/>
                </a:lnTo>
                <a:lnTo>
                  <a:pt x="63" y="46"/>
                </a:lnTo>
                <a:lnTo>
                  <a:pt x="58" y="41"/>
                </a:lnTo>
                <a:lnTo>
                  <a:pt x="55" y="40"/>
                </a:lnTo>
                <a:lnTo>
                  <a:pt x="55" y="38"/>
                </a:lnTo>
                <a:lnTo>
                  <a:pt x="53" y="33"/>
                </a:lnTo>
                <a:lnTo>
                  <a:pt x="53" y="30"/>
                </a:lnTo>
                <a:lnTo>
                  <a:pt x="53" y="25"/>
                </a:lnTo>
                <a:lnTo>
                  <a:pt x="75" y="6"/>
                </a:lnTo>
                <a:lnTo>
                  <a:pt x="75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75440" y="3419640"/>
            <a:ext cx="1494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88" y="43"/>
                </a:moveTo>
                <a:lnTo>
                  <a:pt x="60" y="13"/>
                </a:lnTo>
                <a:lnTo>
                  <a:pt x="62" y="16"/>
                </a:lnTo>
                <a:lnTo>
                  <a:pt x="63" y="21"/>
                </a:lnTo>
                <a:lnTo>
                  <a:pt x="65" y="26"/>
                </a:lnTo>
                <a:lnTo>
                  <a:pt x="67" y="30"/>
                </a:lnTo>
                <a:lnTo>
                  <a:pt x="67" y="35"/>
                </a:lnTo>
                <a:lnTo>
                  <a:pt x="65" y="43"/>
                </a:lnTo>
                <a:lnTo>
                  <a:pt x="65" y="46"/>
                </a:lnTo>
                <a:lnTo>
                  <a:pt x="63" y="51"/>
                </a:lnTo>
                <a:lnTo>
                  <a:pt x="62" y="56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0" y="28"/>
                </a:lnTo>
                <a:lnTo>
                  <a:pt x="65" y="83"/>
                </a:lnTo>
                <a:lnTo>
                  <a:pt x="70" y="85"/>
                </a:lnTo>
                <a:lnTo>
                  <a:pt x="72" y="85"/>
                </a:lnTo>
                <a:lnTo>
                  <a:pt x="75" y="85"/>
                </a:lnTo>
                <a:lnTo>
                  <a:pt x="78" y="85"/>
                </a:lnTo>
                <a:lnTo>
                  <a:pt x="82" y="85"/>
                </a:lnTo>
                <a:lnTo>
                  <a:pt x="83" y="83"/>
                </a:lnTo>
                <a:lnTo>
                  <a:pt x="87" y="80"/>
                </a:lnTo>
                <a:lnTo>
                  <a:pt x="88" y="78"/>
                </a:lnTo>
                <a:lnTo>
                  <a:pt x="90" y="73"/>
                </a:lnTo>
                <a:lnTo>
                  <a:pt x="92" y="72"/>
                </a:lnTo>
                <a:lnTo>
                  <a:pt x="92" y="67"/>
                </a:lnTo>
                <a:lnTo>
                  <a:pt x="93" y="61"/>
                </a:lnTo>
                <a:lnTo>
                  <a:pt x="93" y="56"/>
                </a:lnTo>
                <a:lnTo>
                  <a:pt x="92" y="51"/>
                </a:lnTo>
                <a:lnTo>
                  <a:pt x="90" y="46"/>
                </a:lnTo>
                <a:lnTo>
                  <a:pt x="90" y="45"/>
                </a:lnTo>
                <a:lnTo>
                  <a:pt x="88" y="43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47000" y="3506760"/>
            <a:ext cx="120600" cy="85680"/>
          </a:xfrm>
          <a:custGeom>
            <a:avLst/>
            <a:gdLst/>
            <a:ahLst/>
            <a:rect l="l" t="t" r="r" b="b"/>
            <a:pathLst>
              <a:path w="76" h="54">
                <a:moveTo>
                  <a:pt x="75" y="18"/>
                </a:moveTo>
                <a:lnTo>
                  <a:pt x="63" y="8"/>
                </a:lnTo>
                <a:lnTo>
                  <a:pt x="63" y="12"/>
                </a:lnTo>
                <a:lnTo>
                  <a:pt x="66" y="13"/>
                </a:lnTo>
                <a:lnTo>
                  <a:pt x="66" y="18"/>
                </a:lnTo>
                <a:lnTo>
                  <a:pt x="63" y="23"/>
                </a:lnTo>
                <a:lnTo>
                  <a:pt x="61" y="28"/>
                </a:lnTo>
                <a:lnTo>
                  <a:pt x="60" y="33"/>
                </a:lnTo>
                <a:lnTo>
                  <a:pt x="56" y="35"/>
                </a:lnTo>
                <a:lnTo>
                  <a:pt x="51" y="40"/>
                </a:lnTo>
                <a:lnTo>
                  <a:pt x="46" y="40"/>
                </a:lnTo>
                <a:lnTo>
                  <a:pt x="43" y="4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43" y="50"/>
                </a:lnTo>
                <a:lnTo>
                  <a:pt x="46" y="52"/>
                </a:lnTo>
                <a:lnTo>
                  <a:pt x="50" y="53"/>
                </a:lnTo>
                <a:lnTo>
                  <a:pt x="53" y="53"/>
                </a:lnTo>
                <a:lnTo>
                  <a:pt x="58" y="52"/>
                </a:lnTo>
                <a:lnTo>
                  <a:pt x="61" y="52"/>
                </a:lnTo>
                <a:lnTo>
                  <a:pt x="63" y="47"/>
                </a:lnTo>
                <a:lnTo>
                  <a:pt x="68" y="45"/>
                </a:lnTo>
                <a:lnTo>
                  <a:pt x="71" y="42"/>
                </a:lnTo>
                <a:lnTo>
                  <a:pt x="73" y="37"/>
                </a:lnTo>
                <a:lnTo>
                  <a:pt x="75" y="33"/>
                </a:lnTo>
                <a:lnTo>
                  <a:pt x="75" y="28"/>
                </a:lnTo>
                <a:lnTo>
                  <a:pt x="75" y="23"/>
                </a:lnTo>
                <a:lnTo>
                  <a:pt x="75" y="18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45400" y="3519360"/>
            <a:ext cx="271440" cy="123840"/>
          </a:xfrm>
          <a:custGeom>
            <a:avLst/>
            <a:gdLst/>
            <a:ahLst/>
            <a:rect l="l" t="t" r="r" b="b"/>
            <a:pathLst>
              <a:path w="171" h="78">
                <a:moveTo>
                  <a:pt x="163" y="34"/>
                </a:moveTo>
                <a:lnTo>
                  <a:pt x="162" y="39"/>
                </a:lnTo>
                <a:lnTo>
                  <a:pt x="162" y="42"/>
                </a:lnTo>
                <a:lnTo>
                  <a:pt x="160" y="44"/>
                </a:lnTo>
                <a:lnTo>
                  <a:pt x="158" y="45"/>
                </a:lnTo>
                <a:lnTo>
                  <a:pt x="155" y="49"/>
                </a:lnTo>
                <a:lnTo>
                  <a:pt x="153" y="49"/>
                </a:lnTo>
                <a:lnTo>
                  <a:pt x="150" y="49"/>
                </a:lnTo>
                <a:lnTo>
                  <a:pt x="100" y="15"/>
                </a:lnTo>
                <a:lnTo>
                  <a:pt x="97" y="15"/>
                </a:lnTo>
                <a:lnTo>
                  <a:pt x="95" y="15"/>
                </a:lnTo>
                <a:lnTo>
                  <a:pt x="93" y="17"/>
                </a:lnTo>
                <a:lnTo>
                  <a:pt x="93" y="20"/>
                </a:lnTo>
                <a:lnTo>
                  <a:pt x="93" y="22"/>
                </a:lnTo>
                <a:lnTo>
                  <a:pt x="93" y="27"/>
                </a:lnTo>
                <a:lnTo>
                  <a:pt x="3" y="0"/>
                </a:lnTo>
                <a:lnTo>
                  <a:pt x="3" y="5"/>
                </a:lnTo>
                <a:lnTo>
                  <a:pt x="3" y="12"/>
                </a:lnTo>
                <a:lnTo>
                  <a:pt x="3" y="17"/>
                </a:lnTo>
                <a:lnTo>
                  <a:pt x="1" y="20"/>
                </a:ln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29"/>
                </a:lnTo>
                <a:lnTo>
                  <a:pt x="5" y="29"/>
                </a:lnTo>
                <a:lnTo>
                  <a:pt x="6" y="32"/>
                </a:lnTo>
                <a:lnTo>
                  <a:pt x="8" y="32"/>
                </a:lnTo>
                <a:lnTo>
                  <a:pt x="10" y="32"/>
                </a:lnTo>
                <a:lnTo>
                  <a:pt x="11" y="32"/>
                </a:lnTo>
                <a:lnTo>
                  <a:pt x="13" y="32"/>
                </a:lnTo>
                <a:lnTo>
                  <a:pt x="15" y="27"/>
                </a:lnTo>
                <a:lnTo>
                  <a:pt x="15" y="25"/>
                </a:lnTo>
                <a:lnTo>
                  <a:pt x="16" y="25"/>
                </a:lnTo>
                <a:lnTo>
                  <a:pt x="18" y="22"/>
                </a:lnTo>
                <a:lnTo>
                  <a:pt x="21" y="22"/>
                </a:lnTo>
                <a:lnTo>
                  <a:pt x="23" y="22"/>
                </a:lnTo>
                <a:lnTo>
                  <a:pt x="26" y="22"/>
                </a:lnTo>
                <a:lnTo>
                  <a:pt x="28" y="25"/>
                </a:lnTo>
                <a:lnTo>
                  <a:pt x="31" y="27"/>
                </a:lnTo>
                <a:lnTo>
                  <a:pt x="35" y="29"/>
                </a:lnTo>
                <a:lnTo>
                  <a:pt x="35" y="32"/>
                </a:lnTo>
                <a:lnTo>
                  <a:pt x="35" y="34"/>
                </a:lnTo>
                <a:lnTo>
                  <a:pt x="35" y="37"/>
                </a:lnTo>
                <a:lnTo>
                  <a:pt x="37" y="34"/>
                </a:lnTo>
                <a:lnTo>
                  <a:pt x="40" y="34"/>
                </a:lnTo>
                <a:lnTo>
                  <a:pt x="43" y="34"/>
                </a:lnTo>
                <a:lnTo>
                  <a:pt x="47" y="34"/>
                </a:lnTo>
                <a:lnTo>
                  <a:pt x="48" y="37"/>
                </a:lnTo>
                <a:lnTo>
                  <a:pt x="52" y="39"/>
                </a:lnTo>
                <a:lnTo>
                  <a:pt x="55" y="42"/>
                </a:lnTo>
                <a:lnTo>
                  <a:pt x="57" y="44"/>
                </a:lnTo>
                <a:lnTo>
                  <a:pt x="57" y="49"/>
                </a:lnTo>
                <a:lnTo>
                  <a:pt x="58" y="49"/>
                </a:lnTo>
                <a:lnTo>
                  <a:pt x="58" y="54"/>
                </a:lnTo>
                <a:lnTo>
                  <a:pt x="60" y="54"/>
                </a:lnTo>
                <a:lnTo>
                  <a:pt x="62" y="54"/>
                </a:lnTo>
                <a:lnTo>
                  <a:pt x="65" y="54"/>
                </a:lnTo>
                <a:lnTo>
                  <a:pt x="68" y="54"/>
                </a:lnTo>
                <a:lnTo>
                  <a:pt x="72" y="55"/>
                </a:lnTo>
                <a:lnTo>
                  <a:pt x="73" y="55"/>
                </a:lnTo>
                <a:lnTo>
                  <a:pt x="77" y="59"/>
                </a:lnTo>
                <a:lnTo>
                  <a:pt x="77" y="60"/>
                </a:lnTo>
                <a:lnTo>
                  <a:pt x="78" y="62"/>
                </a:lnTo>
                <a:lnTo>
                  <a:pt x="122" y="77"/>
                </a:lnTo>
                <a:lnTo>
                  <a:pt x="128" y="74"/>
                </a:lnTo>
                <a:lnTo>
                  <a:pt x="132" y="72"/>
                </a:lnTo>
                <a:lnTo>
                  <a:pt x="135" y="70"/>
                </a:lnTo>
                <a:lnTo>
                  <a:pt x="137" y="65"/>
                </a:lnTo>
                <a:lnTo>
                  <a:pt x="140" y="62"/>
                </a:lnTo>
                <a:lnTo>
                  <a:pt x="140" y="59"/>
                </a:lnTo>
                <a:lnTo>
                  <a:pt x="140" y="54"/>
                </a:lnTo>
                <a:lnTo>
                  <a:pt x="150" y="59"/>
                </a:lnTo>
                <a:lnTo>
                  <a:pt x="153" y="60"/>
                </a:lnTo>
                <a:lnTo>
                  <a:pt x="157" y="59"/>
                </a:lnTo>
                <a:lnTo>
                  <a:pt x="160" y="59"/>
                </a:lnTo>
                <a:lnTo>
                  <a:pt x="162" y="54"/>
                </a:lnTo>
                <a:lnTo>
                  <a:pt x="165" y="50"/>
                </a:lnTo>
                <a:lnTo>
                  <a:pt x="168" y="49"/>
                </a:lnTo>
                <a:lnTo>
                  <a:pt x="168" y="44"/>
                </a:lnTo>
                <a:lnTo>
                  <a:pt x="170" y="42"/>
                </a:lnTo>
                <a:lnTo>
                  <a:pt x="163" y="3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7897680" y="3558960"/>
            <a:ext cx="7632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59880" y="3618000"/>
            <a:ext cx="45720" cy="3312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15"/>
                </a:moveTo>
                <a:lnTo>
                  <a:pt x="1" y="15"/>
                </a:lnTo>
                <a:lnTo>
                  <a:pt x="3" y="12"/>
                </a:lnTo>
                <a:lnTo>
                  <a:pt x="5" y="10"/>
                </a:lnTo>
                <a:lnTo>
                  <a:pt x="6" y="10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0"/>
                </a:lnTo>
                <a:lnTo>
                  <a:pt x="28" y="8"/>
                </a:lnTo>
                <a:lnTo>
                  <a:pt x="6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29640" y="360504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5" y="8"/>
                </a:moveTo>
                <a:lnTo>
                  <a:pt x="25" y="11"/>
                </a:lnTo>
                <a:lnTo>
                  <a:pt x="25" y="13"/>
                </a:lnTo>
                <a:lnTo>
                  <a:pt x="25" y="16"/>
                </a:lnTo>
                <a:lnTo>
                  <a:pt x="25" y="18"/>
                </a:lnTo>
                <a:lnTo>
                  <a:pt x="24" y="18"/>
                </a:lnTo>
                <a:lnTo>
                  <a:pt x="22" y="20"/>
                </a:lnTo>
                <a:lnTo>
                  <a:pt x="20" y="23"/>
                </a:lnTo>
                <a:lnTo>
                  <a:pt x="19" y="23"/>
                </a:lnTo>
                <a:lnTo>
                  <a:pt x="15" y="23"/>
                </a:lnTo>
                <a:lnTo>
                  <a:pt x="14" y="23"/>
                </a:lnTo>
                <a:lnTo>
                  <a:pt x="12" y="23"/>
                </a:lnTo>
                <a:lnTo>
                  <a:pt x="9" y="23"/>
                </a:lnTo>
                <a:lnTo>
                  <a:pt x="7" y="23"/>
                </a:lnTo>
                <a:lnTo>
                  <a:pt x="5" y="20"/>
                </a:lnTo>
                <a:lnTo>
                  <a:pt x="4" y="18"/>
                </a:lnTo>
                <a:lnTo>
                  <a:pt x="2" y="16"/>
                </a:lnTo>
                <a:lnTo>
                  <a:pt x="0" y="13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4" y="5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1"/>
                </a:lnTo>
                <a:lnTo>
                  <a:pt x="20" y="1"/>
                </a:lnTo>
                <a:lnTo>
                  <a:pt x="24" y="5"/>
                </a:lnTo>
                <a:lnTo>
                  <a:pt x="24" y="6"/>
                </a:lnTo>
                <a:lnTo>
                  <a:pt x="25" y="8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794720" y="3573360"/>
            <a:ext cx="3636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21" y="26"/>
                </a:move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9" y="25"/>
                </a:lnTo>
                <a:lnTo>
                  <a:pt x="7" y="25"/>
                </a:lnTo>
                <a:lnTo>
                  <a:pt x="6" y="20"/>
                </a:lnTo>
                <a:lnTo>
                  <a:pt x="4" y="16"/>
                </a:lnTo>
                <a:lnTo>
                  <a:pt x="2" y="16"/>
                </a:lnTo>
                <a:lnTo>
                  <a:pt x="2" y="11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21" y="10"/>
                </a:lnTo>
                <a:lnTo>
                  <a:pt x="21" y="11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6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794720" y="3573360"/>
            <a:ext cx="4428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4" y="36"/>
                </a:moveTo>
                <a:lnTo>
                  <a:pt x="22" y="33"/>
                </a:lnTo>
                <a:lnTo>
                  <a:pt x="24" y="31"/>
                </a:lnTo>
                <a:lnTo>
                  <a:pt x="24" y="28"/>
                </a:lnTo>
                <a:lnTo>
                  <a:pt x="24" y="26"/>
                </a:lnTo>
                <a:lnTo>
                  <a:pt x="26" y="25"/>
                </a:lnTo>
                <a:lnTo>
                  <a:pt x="26" y="21"/>
                </a:lnTo>
                <a:lnTo>
                  <a:pt x="27" y="20"/>
                </a:lnTo>
                <a:lnTo>
                  <a:pt x="27" y="15"/>
                </a:lnTo>
                <a:lnTo>
                  <a:pt x="26" y="11"/>
                </a:lnTo>
                <a:lnTo>
                  <a:pt x="26" y="10"/>
                </a:lnTo>
                <a:lnTo>
                  <a:pt x="24" y="8"/>
                </a:lnTo>
                <a:lnTo>
                  <a:pt x="21" y="5"/>
                </a:lnTo>
                <a:lnTo>
                  <a:pt x="17" y="3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19" y="8"/>
                </a:lnTo>
                <a:lnTo>
                  <a:pt x="21" y="10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5"/>
                </a:lnTo>
                <a:lnTo>
                  <a:pt x="21" y="26"/>
                </a:lnTo>
                <a:lnTo>
                  <a:pt x="19" y="26"/>
                </a:ln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7" y="25"/>
                </a:lnTo>
                <a:lnTo>
                  <a:pt x="6" y="20"/>
                </a:lnTo>
                <a:lnTo>
                  <a:pt x="4" y="20"/>
                </a:lnTo>
                <a:lnTo>
                  <a:pt x="4" y="16"/>
                </a:lnTo>
                <a:lnTo>
                  <a:pt x="2" y="11"/>
                </a:lnTo>
                <a:lnTo>
                  <a:pt x="0" y="10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2" y="16"/>
                </a:lnTo>
                <a:lnTo>
                  <a:pt x="2" y="20"/>
                </a:lnTo>
                <a:lnTo>
                  <a:pt x="4" y="21"/>
                </a:lnTo>
                <a:lnTo>
                  <a:pt x="6" y="26"/>
                </a:lnTo>
                <a:lnTo>
                  <a:pt x="9" y="31"/>
                </a:lnTo>
                <a:lnTo>
                  <a:pt x="11" y="31"/>
                </a:lnTo>
                <a:lnTo>
                  <a:pt x="12" y="33"/>
                </a:lnTo>
                <a:lnTo>
                  <a:pt x="14" y="33"/>
                </a:lnTo>
                <a:lnTo>
                  <a:pt x="17" y="36"/>
                </a:lnTo>
                <a:lnTo>
                  <a:pt x="24" y="36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765920" y="3570120"/>
            <a:ext cx="30240" cy="28800"/>
          </a:xfrm>
          <a:custGeom>
            <a:avLst/>
            <a:gdLst/>
            <a:ahLst/>
            <a:rect l="l" t="t" r="r" b="b"/>
            <a:pathLst>
              <a:path w="19" h="18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5" y="10"/>
                </a:lnTo>
                <a:lnTo>
                  <a:pt x="8" y="10"/>
                </a:lnTo>
                <a:lnTo>
                  <a:pt x="8" y="12"/>
                </a:lnTo>
                <a:lnTo>
                  <a:pt x="13" y="12"/>
                </a:lnTo>
                <a:lnTo>
                  <a:pt x="15" y="12"/>
                </a:lnTo>
                <a:lnTo>
                  <a:pt x="18" y="10"/>
                </a:lnTo>
                <a:lnTo>
                  <a:pt x="18" y="12"/>
                </a:lnTo>
                <a:lnTo>
                  <a:pt x="18" y="13"/>
                </a:lnTo>
                <a:lnTo>
                  <a:pt x="18" y="17"/>
                </a:lnTo>
                <a:lnTo>
                  <a:pt x="17" y="17"/>
                </a:lnTo>
                <a:lnTo>
                  <a:pt x="15" y="17"/>
                </a:lnTo>
                <a:lnTo>
                  <a:pt x="10" y="17"/>
                </a:lnTo>
                <a:lnTo>
                  <a:pt x="8" y="17"/>
                </a:lnTo>
                <a:lnTo>
                  <a:pt x="7" y="13"/>
                </a:lnTo>
                <a:lnTo>
                  <a:pt x="3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65920" y="3554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15"/>
                </a:moveTo>
                <a:lnTo>
                  <a:pt x="20" y="15"/>
                </a:lnTo>
                <a:lnTo>
                  <a:pt x="18" y="17"/>
                </a:lnTo>
                <a:lnTo>
                  <a:pt x="18" y="20"/>
                </a:lnTo>
                <a:lnTo>
                  <a:pt x="15" y="22"/>
                </a:lnTo>
                <a:lnTo>
                  <a:pt x="10" y="22"/>
                </a:lnTo>
                <a:lnTo>
                  <a:pt x="8" y="22"/>
                </a:lnTo>
                <a:lnTo>
                  <a:pt x="7" y="20"/>
                </a:lnTo>
                <a:lnTo>
                  <a:pt x="5" y="20"/>
                </a:lnTo>
                <a:lnTo>
                  <a:pt x="3" y="17"/>
                </a:lnTo>
                <a:lnTo>
                  <a:pt x="2" y="15"/>
                </a:lnTo>
                <a:lnTo>
                  <a:pt x="0" y="10"/>
                </a:lnTo>
                <a:lnTo>
                  <a:pt x="2" y="5"/>
                </a:lnTo>
                <a:lnTo>
                  <a:pt x="2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5" y="3"/>
                </a:lnTo>
                <a:lnTo>
                  <a:pt x="18" y="5"/>
                </a:lnTo>
                <a:lnTo>
                  <a:pt x="22" y="7"/>
                </a:lnTo>
                <a:lnTo>
                  <a:pt x="22" y="10"/>
                </a:lnTo>
                <a:lnTo>
                  <a:pt x="22" y="12"/>
                </a:lnTo>
                <a:lnTo>
                  <a:pt x="22" y="15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66200" y="3286080"/>
            <a:ext cx="85680" cy="285840"/>
          </a:xfrm>
          <a:custGeom>
            <a:avLst/>
            <a:gdLst/>
            <a:ahLst/>
            <a:rect l="l" t="t" r="r" b="b"/>
            <a:pathLst>
              <a:path w="54" h="180">
                <a:moveTo>
                  <a:pt x="50" y="169"/>
                </a:moveTo>
                <a:lnTo>
                  <a:pt x="51" y="167"/>
                </a:lnTo>
                <a:lnTo>
                  <a:pt x="53" y="164"/>
                </a:lnTo>
                <a:lnTo>
                  <a:pt x="53" y="159"/>
                </a:lnTo>
                <a:lnTo>
                  <a:pt x="53" y="152"/>
                </a:lnTo>
                <a:lnTo>
                  <a:pt x="53" y="147"/>
                </a:lnTo>
                <a:lnTo>
                  <a:pt x="36" y="23"/>
                </a:lnTo>
                <a:lnTo>
                  <a:pt x="30" y="10"/>
                </a:lnTo>
                <a:lnTo>
                  <a:pt x="26" y="2"/>
                </a:lnTo>
                <a:lnTo>
                  <a:pt x="0" y="0"/>
                </a:lnTo>
                <a:lnTo>
                  <a:pt x="1" y="2"/>
                </a:lnTo>
                <a:lnTo>
                  <a:pt x="5" y="17"/>
                </a:lnTo>
                <a:lnTo>
                  <a:pt x="8" y="33"/>
                </a:lnTo>
                <a:lnTo>
                  <a:pt x="10" y="50"/>
                </a:lnTo>
                <a:lnTo>
                  <a:pt x="11" y="64"/>
                </a:lnTo>
                <a:lnTo>
                  <a:pt x="13" y="80"/>
                </a:lnTo>
                <a:lnTo>
                  <a:pt x="15" y="97"/>
                </a:lnTo>
                <a:lnTo>
                  <a:pt x="15" y="114"/>
                </a:lnTo>
                <a:lnTo>
                  <a:pt x="16" y="130"/>
                </a:lnTo>
                <a:lnTo>
                  <a:pt x="15" y="147"/>
                </a:lnTo>
                <a:lnTo>
                  <a:pt x="15" y="162"/>
                </a:lnTo>
                <a:lnTo>
                  <a:pt x="13" y="179"/>
                </a:lnTo>
                <a:lnTo>
                  <a:pt x="50" y="1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73880" y="3286080"/>
            <a:ext cx="319320" cy="37800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84" y="0"/>
                </a:moveTo>
                <a:lnTo>
                  <a:pt x="185" y="2"/>
                </a:lnTo>
                <a:lnTo>
                  <a:pt x="189" y="17"/>
                </a:lnTo>
                <a:lnTo>
                  <a:pt x="192" y="33"/>
                </a:lnTo>
                <a:lnTo>
                  <a:pt x="194" y="49"/>
                </a:lnTo>
                <a:lnTo>
                  <a:pt x="195" y="64"/>
                </a:lnTo>
                <a:lnTo>
                  <a:pt x="197" y="80"/>
                </a:lnTo>
                <a:lnTo>
                  <a:pt x="199" y="97"/>
                </a:lnTo>
                <a:lnTo>
                  <a:pt x="199" y="114"/>
                </a:lnTo>
                <a:lnTo>
                  <a:pt x="200" y="129"/>
                </a:lnTo>
                <a:lnTo>
                  <a:pt x="199" y="145"/>
                </a:lnTo>
                <a:lnTo>
                  <a:pt x="199" y="162"/>
                </a:lnTo>
                <a:lnTo>
                  <a:pt x="197" y="179"/>
                </a:lnTo>
                <a:lnTo>
                  <a:pt x="194" y="207"/>
                </a:lnTo>
                <a:lnTo>
                  <a:pt x="0" y="237"/>
                </a:lnTo>
                <a:lnTo>
                  <a:pt x="0" y="0"/>
                </a:lnTo>
                <a:lnTo>
                  <a:pt x="184" y="0"/>
                </a:lnTo>
              </a:path>
            </a:pathLst>
          </a:custGeom>
          <a:solidFill>
            <a:srgbClr val="0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4964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35440" y="2590920"/>
            <a:ext cx="527040" cy="1425600"/>
          </a:xfrm>
          <a:custGeom>
            <a:avLst/>
            <a:gdLst/>
            <a:ahLst/>
            <a:rect l="l" t="t" r="r" b="b"/>
            <a:pathLst>
              <a:path w="332" h="898">
                <a:moveTo>
                  <a:pt x="0" y="149"/>
                </a:moveTo>
                <a:lnTo>
                  <a:pt x="0" y="747"/>
                </a:lnTo>
                <a:lnTo>
                  <a:pt x="166" y="897"/>
                </a:lnTo>
                <a:lnTo>
                  <a:pt x="331" y="747"/>
                </a:lnTo>
                <a:lnTo>
                  <a:pt x="331" y="149"/>
                </a:lnTo>
                <a:lnTo>
                  <a:pt x="166" y="0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716280" y="2471760"/>
            <a:ext cx="536760" cy="1434960"/>
          </a:xfrm>
          <a:custGeom>
            <a:avLst/>
            <a:gdLst/>
            <a:ahLst/>
            <a:rect l="l" t="t" r="r" b="b"/>
            <a:pathLst>
              <a:path w="338" h="904">
                <a:moveTo>
                  <a:pt x="0" y="150"/>
                </a:moveTo>
                <a:lnTo>
                  <a:pt x="0" y="752"/>
                </a:lnTo>
                <a:lnTo>
                  <a:pt x="169" y="903"/>
                </a:lnTo>
                <a:lnTo>
                  <a:pt x="337" y="752"/>
                </a:lnTo>
                <a:lnTo>
                  <a:pt x="337" y="150"/>
                </a:lnTo>
                <a:lnTo>
                  <a:pt x="169" y="0"/>
                </a:lnTo>
                <a:lnTo>
                  <a:pt x="0" y="15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3651480" y="3010320"/>
            <a:ext cx="6616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7640" y="4143240"/>
            <a:ext cx="1073160" cy="241560"/>
          </a:xfrm>
          <a:custGeom>
            <a:avLst/>
            <a:gdLst/>
            <a:ahLst/>
            <a:rect l="l" t="t" r="r" b="b"/>
            <a:pathLst>
              <a:path w="676" h="152">
                <a:moveTo>
                  <a:pt x="675" y="0"/>
                </a:moveTo>
                <a:lnTo>
                  <a:pt x="672" y="20"/>
                </a:lnTo>
                <a:lnTo>
                  <a:pt x="665" y="37"/>
                </a:lnTo>
                <a:lnTo>
                  <a:pt x="654" y="54"/>
                </a:lnTo>
                <a:lnTo>
                  <a:pt x="637" y="65"/>
                </a:lnTo>
                <a:lnTo>
                  <a:pt x="619" y="72"/>
                </a:lnTo>
                <a:lnTo>
                  <a:pt x="600" y="75"/>
                </a:lnTo>
                <a:lnTo>
                  <a:pt x="412" y="75"/>
                </a:lnTo>
                <a:lnTo>
                  <a:pt x="393" y="77"/>
                </a:lnTo>
                <a:lnTo>
                  <a:pt x="375" y="85"/>
                </a:lnTo>
                <a:lnTo>
                  <a:pt x="360" y="97"/>
                </a:lnTo>
                <a:lnTo>
                  <a:pt x="347" y="112"/>
                </a:lnTo>
                <a:lnTo>
                  <a:pt x="340" y="130"/>
                </a:lnTo>
                <a:lnTo>
                  <a:pt x="337" y="151"/>
                </a:lnTo>
                <a:lnTo>
                  <a:pt x="335" y="130"/>
                </a:lnTo>
                <a:lnTo>
                  <a:pt x="327" y="112"/>
                </a:lnTo>
                <a:lnTo>
                  <a:pt x="315" y="97"/>
                </a:lnTo>
                <a:lnTo>
                  <a:pt x="300" y="85"/>
                </a:lnTo>
                <a:lnTo>
                  <a:pt x="282" y="77"/>
                </a:lnTo>
                <a:lnTo>
                  <a:pt x="262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27360" y="4143240"/>
            <a:ext cx="3338640" cy="241560"/>
          </a:xfrm>
          <a:custGeom>
            <a:avLst/>
            <a:gdLst/>
            <a:ahLst/>
            <a:rect l="l" t="t" r="r" b="b"/>
            <a:pathLst>
              <a:path w="2103" h="152">
                <a:moveTo>
                  <a:pt x="2102" y="0"/>
                </a:moveTo>
                <a:lnTo>
                  <a:pt x="2098" y="20"/>
                </a:lnTo>
                <a:lnTo>
                  <a:pt x="2092" y="37"/>
                </a:lnTo>
                <a:lnTo>
                  <a:pt x="2080" y="54"/>
                </a:lnTo>
                <a:lnTo>
                  <a:pt x="2063" y="65"/>
                </a:lnTo>
                <a:lnTo>
                  <a:pt x="2045" y="72"/>
                </a:lnTo>
                <a:lnTo>
                  <a:pt x="2027" y="75"/>
                </a:lnTo>
                <a:lnTo>
                  <a:pt x="1126" y="75"/>
                </a:lnTo>
                <a:lnTo>
                  <a:pt x="1106" y="77"/>
                </a:lnTo>
                <a:lnTo>
                  <a:pt x="1087" y="85"/>
                </a:lnTo>
                <a:lnTo>
                  <a:pt x="1072" y="97"/>
                </a:lnTo>
                <a:lnTo>
                  <a:pt x="1061" y="112"/>
                </a:lnTo>
                <a:lnTo>
                  <a:pt x="1052" y="130"/>
                </a:lnTo>
                <a:lnTo>
                  <a:pt x="1051" y="151"/>
                </a:lnTo>
                <a:lnTo>
                  <a:pt x="1047" y="130"/>
                </a:lnTo>
                <a:lnTo>
                  <a:pt x="1041" y="112"/>
                </a:lnTo>
                <a:lnTo>
                  <a:pt x="1029" y="97"/>
                </a:lnTo>
                <a:lnTo>
                  <a:pt x="1012" y="85"/>
                </a:lnTo>
                <a:lnTo>
                  <a:pt x="994" y="77"/>
                </a:lnTo>
                <a:lnTo>
                  <a:pt x="976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21680" y="4143240"/>
            <a:ext cx="1193760" cy="241560"/>
          </a:xfrm>
          <a:custGeom>
            <a:avLst/>
            <a:gdLst/>
            <a:ahLst/>
            <a:rect l="l" t="t" r="r" b="b"/>
            <a:pathLst>
              <a:path w="752" h="152">
                <a:moveTo>
                  <a:pt x="751" y="0"/>
                </a:moveTo>
                <a:lnTo>
                  <a:pt x="747" y="20"/>
                </a:lnTo>
                <a:lnTo>
                  <a:pt x="741" y="37"/>
                </a:lnTo>
                <a:lnTo>
                  <a:pt x="729" y="54"/>
                </a:lnTo>
                <a:lnTo>
                  <a:pt x="712" y="65"/>
                </a:lnTo>
                <a:lnTo>
                  <a:pt x="694" y="72"/>
                </a:lnTo>
                <a:lnTo>
                  <a:pt x="676" y="75"/>
                </a:lnTo>
                <a:lnTo>
                  <a:pt x="450" y="75"/>
                </a:lnTo>
                <a:lnTo>
                  <a:pt x="430" y="77"/>
                </a:lnTo>
                <a:lnTo>
                  <a:pt x="412" y="85"/>
                </a:lnTo>
                <a:lnTo>
                  <a:pt x="397" y="97"/>
                </a:lnTo>
                <a:lnTo>
                  <a:pt x="385" y="112"/>
                </a:lnTo>
                <a:lnTo>
                  <a:pt x="377" y="130"/>
                </a:lnTo>
                <a:lnTo>
                  <a:pt x="375" y="151"/>
                </a:lnTo>
                <a:lnTo>
                  <a:pt x="372" y="130"/>
                </a:lnTo>
                <a:lnTo>
                  <a:pt x="365" y="112"/>
                </a:lnTo>
                <a:lnTo>
                  <a:pt x="354" y="97"/>
                </a:lnTo>
                <a:lnTo>
                  <a:pt x="337" y="85"/>
                </a:lnTo>
                <a:lnTo>
                  <a:pt x="319" y="77"/>
                </a:lnTo>
                <a:lnTo>
                  <a:pt x="300" y="75"/>
                </a:lnTo>
                <a:lnTo>
                  <a:pt x="75" y="75"/>
                </a:lnTo>
                <a:lnTo>
                  <a:pt x="55" y="72"/>
                </a:lnTo>
                <a:lnTo>
                  <a:pt x="37" y="65"/>
                </a:lnTo>
                <a:lnTo>
                  <a:pt x="22" y="54"/>
                </a:lnTo>
                <a:lnTo>
                  <a:pt x="10" y="37"/>
                </a:lnTo>
                <a:lnTo>
                  <a:pt x="2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934320" y="2438280"/>
            <a:ext cx="487080" cy="59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391520" y="2362320"/>
            <a:ext cx="134640" cy="137880"/>
          </a:xfrm>
          <a:custGeom>
            <a:avLst/>
            <a:gdLst/>
            <a:ahLst/>
            <a:rect l="l" t="t" r="r" b="b"/>
            <a:pathLst>
              <a:path w="85" h="87">
                <a:moveTo>
                  <a:pt x="0" y="33"/>
                </a:moveTo>
                <a:lnTo>
                  <a:pt x="84" y="0"/>
                </a:lnTo>
                <a:lnTo>
                  <a:pt x="59" y="86"/>
                </a:lnTo>
                <a:lnTo>
                  <a:pt x="0" y="3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0" y="3139920"/>
            <a:ext cx="495360" cy="65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02600" y="3753000"/>
            <a:ext cx="129960" cy="144360"/>
          </a:xfrm>
          <a:custGeom>
            <a:avLst/>
            <a:gdLst/>
            <a:ahLst/>
            <a:rect l="l" t="t" r="r" b="b"/>
            <a:pathLst>
              <a:path w="82" h="91">
                <a:moveTo>
                  <a:pt x="0" y="51"/>
                </a:moveTo>
                <a:lnTo>
                  <a:pt x="81" y="90"/>
                </a:lnTo>
                <a:lnTo>
                  <a:pt x="64" y="0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88360" y="3602160"/>
            <a:ext cx="879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256880" y="3857760"/>
            <a:ext cx="13503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518600" y="2894040"/>
            <a:ext cx="807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2188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3164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280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543800" y="2057400"/>
            <a:ext cx="882720" cy="773280"/>
            <a:chOff x="7543800" y="2057400"/>
            <a:chExt cx="882720" cy="773280"/>
          </a:xfrm>
        </p:grpSpPr>
        <p:grpSp>
          <p:nvGrpSpPr>
            <p:cNvPr id="756" name=""/>
            <p:cNvGrpSpPr/>
            <p:nvPr/>
          </p:nvGrpSpPr>
          <p:grpSpPr>
            <a:xfrm>
              <a:off x="7543800" y="2057400"/>
              <a:ext cx="882720" cy="773280"/>
              <a:chOff x="7543800" y="2057400"/>
              <a:chExt cx="882720" cy="773280"/>
            </a:xfrm>
          </p:grpSpPr>
          <p:sp>
            <p:nvSpPr>
              <p:cNvPr id="757" name=""/>
              <p:cNvSpPr/>
              <p:nvPr/>
            </p:nvSpPr>
            <p:spPr>
              <a:xfrm>
                <a:off x="7543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5549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62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70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5805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5884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5996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075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18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359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43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55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62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70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82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89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993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7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18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263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74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454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7551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630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7742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7821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7932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8012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105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184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296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837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487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566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64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739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81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93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009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12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200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311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939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94880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956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646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758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83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948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0028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121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020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0312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039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050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058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66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755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834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946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1025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1136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1216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313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1392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150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158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1694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774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85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9468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58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2137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2249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232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24220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25048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261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269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2771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288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296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3059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313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5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3329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344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3520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3613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369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77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883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396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4074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153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548480" y="2057400"/>
                <a:ext cx="878040" cy="773280"/>
              </a:xfrm>
              <a:custGeom>
                <a:avLst/>
                <a:gdLst/>
                <a:ahLst/>
                <a:rect l="l" t="t" r="r" b="b"/>
                <a:pathLst>
                  <a:path w="553" h="487">
                    <a:moveTo>
                      <a:pt x="277" y="0"/>
                    </a:moveTo>
                    <a:lnTo>
                      <a:pt x="249" y="0"/>
                    </a:lnTo>
                    <a:lnTo>
                      <a:pt x="220" y="1"/>
                    </a:lnTo>
                    <a:lnTo>
                      <a:pt x="193" y="3"/>
                    </a:lnTo>
                    <a:lnTo>
                      <a:pt x="168" y="5"/>
                    </a:lnTo>
                    <a:lnTo>
                      <a:pt x="143" y="8"/>
                    </a:lnTo>
                    <a:lnTo>
                      <a:pt x="122" y="10"/>
                    </a:lnTo>
                    <a:lnTo>
                      <a:pt x="100" y="13"/>
                    </a:lnTo>
                    <a:lnTo>
                      <a:pt x="80" y="18"/>
                    </a:lnTo>
                    <a:lnTo>
                      <a:pt x="63" y="21"/>
                    </a:lnTo>
                    <a:lnTo>
                      <a:pt x="47" y="26"/>
                    </a:lnTo>
                    <a:lnTo>
                      <a:pt x="32" y="31"/>
                    </a:lnTo>
                    <a:lnTo>
                      <a:pt x="22" y="36"/>
                    </a:lnTo>
                    <a:lnTo>
                      <a:pt x="12" y="43"/>
                    </a:lnTo>
                    <a:lnTo>
                      <a:pt x="5" y="48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426"/>
                    </a:lnTo>
                    <a:lnTo>
                      <a:pt x="0" y="429"/>
                    </a:lnTo>
                    <a:lnTo>
                      <a:pt x="0" y="431"/>
                    </a:lnTo>
                    <a:lnTo>
                      <a:pt x="5" y="438"/>
                    </a:lnTo>
                    <a:lnTo>
                      <a:pt x="12" y="444"/>
                    </a:lnTo>
                    <a:lnTo>
                      <a:pt x="22" y="449"/>
                    </a:lnTo>
                    <a:lnTo>
                      <a:pt x="32" y="454"/>
                    </a:lnTo>
                    <a:lnTo>
                      <a:pt x="47" y="459"/>
                    </a:lnTo>
                    <a:lnTo>
                      <a:pt x="63" y="464"/>
                    </a:lnTo>
                    <a:lnTo>
                      <a:pt x="80" y="468"/>
                    </a:lnTo>
                    <a:lnTo>
                      <a:pt x="100" y="473"/>
                    </a:lnTo>
                    <a:lnTo>
                      <a:pt x="122" y="476"/>
                    </a:lnTo>
                    <a:lnTo>
                      <a:pt x="143" y="478"/>
                    </a:lnTo>
                    <a:lnTo>
                      <a:pt x="168" y="481"/>
                    </a:lnTo>
                    <a:lnTo>
                      <a:pt x="193" y="483"/>
                    </a:lnTo>
                    <a:lnTo>
                      <a:pt x="220" y="485"/>
                    </a:lnTo>
                    <a:lnTo>
                      <a:pt x="249" y="486"/>
                    </a:lnTo>
                    <a:lnTo>
                      <a:pt x="277" y="486"/>
                    </a:lnTo>
                    <a:lnTo>
                      <a:pt x="304" y="486"/>
                    </a:lnTo>
                    <a:lnTo>
                      <a:pt x="332" y="485"/>
                    </a:lnTo>
                    <a:lnTo>
                      <a:pt x="359" y="483"/>
                    </a:lnTo>
                    <a:lnTo>
                      <a:pt x="384" y="481"/>
                    </a:lnTo>
                    <a:lnTo>
                      <a:pt x="409" y="478"/>
                    </a:lnTo>
                    <a:lnTo>
                      <a:pt x="430" y="476"/>
                    </a:lnTo>
                    <a:lnTo>
                      <a:pt x="452" y="473"/>
                    </a:lnTo>
                    <a:lnTo>
                      <a:pt x="472" y="468"/>
                    </a:lnTo>
                    <a:lnTo>
                      <a:pt x="489" y="464"/>
                    </a:lnTo>
                    <a:lnTo>
                      <a:pt x="505" y="459"/>
                    </a:lnTo>
                    <a:lnTo>
                      <a:pt x="520" y="454"/>
                    </a:lnTo>
                    <a:lnTo>
                      <a:pt x="530" y="449"/>
                    </a:lnTo>
                    <a:lnTo>
                      <a:pt x="540" y="444"/>
                    </a:lnTo>
                    <a:lnTo>
                      <a:pt x="547" y="438"/>
                    </a:lnTo>
                    <a:lnTo>
                      <a:pt x="552" y="431"/>
                    </a:lnTo>
                    <a:lnTo>
                      <a:pt x="552" y="429"/>
                    </a:lnTo>
                    <a:lnTo>
                      <a:pt x="552" y="426"/>
                    </a:lnTo>
                    <a:lnTo>
                      <a:pt x="552" y="60"/>
                    </a:lnTo>
                    <a:lnTo>
                      <a:pt x="552" y="57"/>
                    </a:lnTo>
                    <a:lnTo>
                      <a:pt x="552" y="55"/>
                    </a:lnTo>
                    <a:lnTo>
                      <a:pt x="547" y="48"/>
                    </a:lnTo>
                    <a:lnTo>
                      <a:pt x="540" y="43"/>
                    </a:lnTo>
                    <a:lnTo>
                      <a:pt x="530" y="36"/>
                    </a:lnTo>
                    <a:lnTo>
                      <a:pt x="520" y="31"/>
                    </a:lnTo>
                    <a:lnTo>
                      <a:pt x="505" y="26"/>
                    </a:lnTo>
                    <a:lnTo>
                      <a:pt x="489" y="21"/>
                    </a:lnTo>
                    <a:lnTo>
                      <a:pt x="472" y="18"/>
                    </a:lnTo>
                    <a:lnTo>
                      <a:pt x="452" y="13"/>
                    </a:lnTo>
                    <a:lnTo>
                      <a:pt x="430" y="10"/>
                    </a:lnTo>
                    <a:lnTo>
                      <a:pt x="409" y="8"/>
                    </a:lnTo>
                    <a:lnTo>
                      <a:pt x="384" y="5"/>
                    </a:lnTo>
                    <a:lnTo>
                      <a:pt x="359" y="3"/>
                    </a:lnTo>
                    <a:lnTo>
                      <a:pt x="332" y="1"/>
                    </a:lnTo>
                    <a:lnTo>
                      <a:pt x="304" y="0"/>
                    </a:lnTo>
                    <a:lnTo>
                      <a:pt x="277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548480" y="2057400"/>
                <a:ext cx="865440" cy="760320"/>
              </a:xfrm>
              <a:custGeom>
                <a:avLst/>
                <a:gdLst/>
                <a:ahLst/>
                <a:rect l="l" t="t" r="r" b="b"/>
                <a:pathLst>
                  <a:path w="545" h="479">
                    <a:moveTo>
                      <a:pt x="273" y="0"/>
                    </a:moveTo>
                    <a:lnTo>
                      <a:pt x="245" y="0"/>
                    </a:lnTo>
                    <a:lnTo>
                      <a:pt x="217" y="1"/>
                    </a:lnTo>
                    <a:lnTo>
                      <a:pt x="190" y="3"/>
                    </a:lnTo>
                    <a:lnTo>
                      <a:pt x="166" y="5"/>
                    </a:lnTo>
                    <a:lnTo>
                      <a:pt x="141" y="8"/>
                    </a:lnTo>
                    <a:lnTo>
                      <a:pt x="120" y="10"/>
                    </a:lnTo>
                    <a:lnTo>
                      <a:pt x="99" y="13"/>
                    </a:lnTo>
                    <a:lnTo>
                      <a:pt x="79" y="18"/>
                    </a:lnTo>
                    <a:lnTo>
                      <a:pt x="62" y="21"/>
                    </a:lnTo>
                    <a:lnTo>
                      <a:pt x="46" y="26"/>
                    </a:lnTo>
                    <a:lnTo>
                      <a:pt x="32" y="30"/>
                    </a:lnTo>
                    <a:lnTo>
                      <a:pt x="22" y="35"/>
                    </a:lnTo>
                    <a:lnTo>
                      <a:pt x="12" y="42"/>
                    </a:lnTo>
                    <a:lnTo>
                      <a:pt x="5" y="47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419"/>
                    </a:lnTo>
                    <a:lnTo>
                      <a:pt x="0" y="422"/>
                    </a:lnTo>
                    <a:lnTo>
                      <a:pt x="0" y="424"/>
                    </a:lnTo>
                    <a:lnTo>
                      <a:pt x="5" y="431"/>
                    </a:lnTo>
                    <a:lnTo>
                      <a:pt x="12" y="437"/>
                    </a:lnTo>
                    <a:lnTo>
                      <a:pt x="22" y="442"/>
                    </a:lnTo>
                    <a:lnTo>
                      <a:pt x="32" y="447"/>
                    </a:lnTo>
                    <a:lnTo>
                      <a:pt x="46" y="451"/>
                    </a:lnTo>
                    <a:lnTo>
                      <a:pt x="62" y="456"/>
                    </a:lnTo>
                    <a:lnTo>
                      <a:pt x="79" y="460"/>
                    </a:lnTo>
                    <a:lnTo>
                      <a:pt x="99" y="465"/>
                    </a:lnTo>
                    <a:lnTo>
                      <a:pt x="120" y="468"/>
                    </a:lnTo>
                    <a:lnTo>
                      <a:pt x="141" y="470"/>
                    </a:lnTo>
                    <a:lnTo>
                      <a:pt x="166" y="473"/>
                    </a:lnTo>
                    <a:lnTo>
                      <a:pt x="190" y="475"/>
                    </a:lnTo>
                    <a:lnTo>
                      <a:pt x="217" y="477"/>
                    </a:lnTo>
                    <a:lnTo>
                      <a:pt x="245" y="478"/>
                    </a:lnTo>
                    <a:lnTo>
                      <a:pt x="273" y="478"/>
                    </a:lnTo>
                    <a:lnTo>
                      <a:pt x="300" y="478"/>
                    </a:lnTo>
                    <a:lnTo>
                      <a:pt x="327" y="477"/>
                    </a:lnTo>
                    <a:lnTo>
                      <a:pt x="354" y="475"/>
                    </a:lnTo>
                    <a:lnTo>
                      <a:pt x="378" y="473"/>
                    </a:lnTo>
                    <a:lnTo>
                      <a:pt x="403" y="470"/>
                    </a:lnTo>
                    <a:lnTo>
                      <a:pt x="424" y="468"/>
                    </a:lnTo>
                    <a:lnTo>
                      <a:pt x="445" y="465"/>
                    </a:lnTo>
                    <a:lnTo>
                      <a:pt x="465" y="460"/>
                    </a:lnTo>
                    <a:lnTo>
                      <a:pt x="482" y="456"/>
                    </a:lnTo>
                    <a:lnTo>
                      <a:pt x="498" y="451"/>
                    </a:lnTo>
                    <a:lnTo>
                      <a:pt x="512" y="447"/>
                    </a:lnTo>
                    <a:lnTo>
                      <a:pt x="522" y="442"/>
                    </a:lnTo>
                    <a:lnTo>
                      <a:pt x="532" y="437"/>
                    </a:lnTo>
                    <a:lnTo>
                      <a:pt x="539" y="431"/>
                    </a:lnTo>
                    <a:lnTo>
                      <a:pt x="544" y="424"/>
                    </a:lnTo>
                    <a:lnTo>
                      <a:pt x="544" y="422"/>
                    </a:lnTo>
                    <a:lnTo>
                      <a:pt x="544" y="419"/>
                    </a:lnTo>
                    <a:lnTo>
                      <a:pt x="544" y="59"/>
                    </a:lnTo>
                    <a:lnTo>
                      <a:pt x="544" y="56"/>
                    </a:lnTo>
                    <a:lnTo>
                      <a:pt x="544" y="54"/>
                    </a:lnTo>
                    <a:lnTo>
                      <a:pt x="539" y="47"/>
                    </a:lnTo>
                    <a:lnTo>
                      <a:pt x="532" y="42"/>
                    </a:lnTo>
                    <a:lnTo>
                      <a:pt x="522" y="35"/>
                    </a:lnTo>
                    <a:lnTo>
                      <a:pt x="512" y="30"/>
                    </a:lnTo>
                    <a:lnTo>
                      <a:pt x="498" y="26"/>
                    </a:lnTo>
                    <a:lnTo>
                      <a:pt x="482" y="21"/>
                    </a:lnTo>
                    <a:lnTo>
                      <a:pt x="465" y="18"/>
                    </a:lnTo>
                    <a:lnTo>
                      <a:pt x="445" y="13"/>
                    </a:lnTo>
                    <a:lnTo>
                      <a:pt x="424" y="10"/>
                    </a:lnTo>
                    <a:lnTo>
                      <a:pt x="403" y="8"/>
                    </a:lnTo>
                    <a:lnTo>
                      <a:pt x="378" y="5"/>
                    </a:lnTo>
                    <a:lnTo>
                      <a:pt x="354" y="3"/>
                    </a:lnTo>
                    <a:lnTo>
                      <a:pt x="327" y="1"/>
                    </a:lnTo>
                    <a:lnTo>
                      <a:pt x="300" y="0"/>
                    </a:lnTo>
                    <a:lnTo>
                      <a:pt x="27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43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549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62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570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5805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5884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5996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75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18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6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359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43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55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62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70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82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89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993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707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718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7263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7374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454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551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7630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7742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821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932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012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105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8184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296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37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487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566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864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8739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1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93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9009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912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9200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9311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939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94880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956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9646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9758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83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8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028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121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020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0312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039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050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058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066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755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834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0946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1025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1136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1216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1313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1392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150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158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1694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1774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185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19468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2058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2137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2249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232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24220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25048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61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69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2771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288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296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3059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313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325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3329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344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3520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3613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369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377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3883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396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4074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4153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7548480" y="2057400"/>
              <a:ext cx="865440" cy="182520"/>
            </a:xfrm>
            <a:custGeom>
              <a:avLst/>
              <a:gdLst/>
              <a:ahLst/>
              <a:rect l="l" t="t" r="r" b="b"/>
              <a:pathLst>
                <a:path w="545" h="115">
                  <a:moveTo>
                    <a:pt x="0" y="56"/>
                  </a:moveTo>
                  <a:lnTo>
                    <a:pt x="0" y="59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12" y="75"/>
                  </a:lnTo>
                  <a:lnTo>
                    <a:pt x="22" y="79"/>
                  </a:lnTo>
                  <a:lnTo>
                    <a:pt x="32" y="84"/>
                  </a:lnTo>
                  <a:lnTo>
                    <a:pt x="46" y="89"/>
                  </a:lnTo>
                  <a:lnTo>
                    <a:pt x="62" y="93"/>
                  </a:lnTo>
                  <a:lnTo>
                    <a:pt x="79" y="96"/>
                  </a:lnTo>
                  <a:lnTo>
                    <a:pt x="99" y="101"/>
                  </a:lnTo>
                  <a:lnTo>
                    <a:pt x="120" y="105"/>
                  </a:lnTo>
                  <a:lnTo>
                    <a:pt x="141" y="106"/>
                  </a:lnTo>
                  <a:lnTo>
                    <a:pt x="166" y="109"/>
                  </a:lnTo>
                  <a:lnTo>
                    <a:pt x="190" y="110"/>
                  </a:lnTo>
                  <a:lnTo>
                    <a:pt x="217" y="112"/>
                  </a:lnTo>
                  <a:lnTo>
                    <a:pt x="245" y="114"/>
                  </a:lnTo>
                  <a:lnTo>
                    <a:pt x="273" y="114"/>
                  </a:lnTo>
                  <a:lnTo>
                    <a:pt x="300" y="114"/>
                  </a:lnTo>
                  <a:lnTo>
                    <a:pt x="327" y="112"/>
                  </a:lnTo>
                  <a:lnTo>
                    <a:pt x="354" y="110"/>
                  </a:lnTo>
                  <a:lnTo>
                    <a:pt x="378" y="109"/>
                  </a:lnTo>
                  <a:lnTo>
                    <a:pt x="403" y="106"/>
                  </a:lnTo>
                  <a:lnTo>
                    <a:pt x="424" y="105"/>
                  </a:lnTo>
                  <a:lnTo>
                    <a:pt x="445" y="101"/>
                  </a:lnTo>
                  <a:lnTo>
                    <a:pt x="465" y="96"/>
                  </a:lnTo>
                  <a:lnTo>
                    <a:pt x="482" y="93"/>
                  </a:lnTo>
                  <a:lnTo>
                    <a:pt x="498" y="89"/>
                  </a:lnTo>
                  <a:lnTo>
                    <a:pt x="512" y="84"/>
                  </a:lnTo>
                  <a:lnTo>
                    <a:pt x="522" y="79"/>
                  </a:lnTo>
                  <a:lnTo>
                    <a:pt x="532" y="75"/>
                  </a:lnTo>
                  <a:lnTo>
                    <a:pt x="539" y="68"/>
                  </a:lnTo>
                  <a:lnTo>
                    <a:pt x="544" y="63"/>
                  </a:lnTo>
                  <a:lnTo>
                    <a:pt x="544" y="59"/>
                  </a:lnTo>
                  <a:lnTo>
                    <a:pt x="544" y="56"/>
                  </a:lnTo>
                  <a:lnTo>
                    <a:pt x="544" y="53"/>
                  </a:lnTo>
                  <a:lnTo>
                    <a:pt x="544" y="51"/>
                  </a:lnTo>
                  <a:lnTo>
                    <a:pt x="539" y="45"/>
                  </a:lnTo>
                  <a:lnTo>
                    <a:pt x="532" y="40"/>
                  </a:lnTo>
                  <a:lnTo>
                    <a:pt x="522" y="34"/>
                  </a:lnTo>
                  <a:lnTo>
                    <a:pt x="512" y="29"/>
                  </a:lnTo>
                  <a:lnTo>
                    <a:pt x="498" y="24"/>
                  </a:lnTo>
                  <a:lnTo>
                    <a:pt x="482" y="20"/>
                  </a:lnTo>
                  <a:lnTo>
                    <a:pt x="465" y="17"/>
                  </a:lnTo>
                  <a:lnTo>
                    <a:pt x="445" y="12"/>
                  </a:lnTo>
                  <a:lnTo>
                    <a:pt x="424" y="9"/>
                  </a:lnTo>
                  <a:lnTo>
                    <a:pt x="403" y="7"/>
                  </a:lnTo>
                  <a:lnTo>
                    <a:pt x="378" y="5"/>
                  </a:lnTo>
                  <a:lnTo>
                    <a:pt x="354" y="3"/>
                  </a:lnTo>
                  <a:lnTo>
                    <a:pt x="327" y="1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5" y="0"/>
                  </a:lnTo>
                  <a:lnTo>
                    <a:pt x="217" y="1"/>
                  </a:lnTo>
                  <a:lnTo>
                    <a:pt x="190" y="3"/>
                  </a:lnTo>
                  <a:lnTo>
                    <a:pt x="166" y="5"/>
                  </a:lnTo>
                  <a:lnTo>
                    <a:pt x="141" y="7"/>
                  </a:lnTo>
                  <a:lnTo>
                    <a:pt x="120" y="9"/>
                  </a:lnTo>
                  <a:lnTo>
                    <a:pt x="99" y="12"/>
                  </a:lnTo>
                  <a:lnTo>
                    <a:pt x="79" y="17"/>
                  </a:lnTo>
                  <a:lnTo>
                    <a:pt x="62" y="20"/>
                  </a:lnTo>
                  <a:lnTo>
                    <a:pt x="46" y="24"/>
                  </a:lnTo>
                  <a:lnTo>
                    <a:pt x="32" y="29"/>
                  </a:lnTo>
                  <a:lnTo>
                    <a:pt x="22" y="34"/>
                  </a:lnTo>
                  <a:lnTo>
                    <a:pt x="12" y="40"/>
                  </a:lnTo>
                  <a:lnTo>
                    <a:pt x="5" y="45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48480" y="205740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277" y="0"/>
                  </a:moveTo>
                  <a:lnTo>
                    <a:pt x="249" y="0"/>
                  </a:lnTo>
                  <a:lnTo>
                    <a:pt x="220" y="1"/>
                  </a:lnTo>
                  <a:lnTo>
                    <a:pt x="193" y="3"/>
                  </a:lnTo>
                  <a:lnTo>
                    <a:pt x="168" y="5"/>
                  </a:lnTo>
                  <a:lnTo>
                    <a:pt x="143" y="8"/>
                  </a:lnTo>
                  <a:lnTo>
                    <a:pt x="122" y="10"/>
                  </a:lnTo>
                  <a:lnTo>
                    <a:pt x="100" y="13"/>
                  </a:lnTo>
                  <a:lnTo>
                    <a:pt x="80" y="18"/>
                  </a:lnTo>
                  <a:lnTo>
                    <a:pt x="63" y="21"/>
                  </a:lnTo>
                  <a:lnTo>
                    <a:pt x="47" y="26"/>
                  </a:lnTo>
                  <a:lnTo>
                    <a:pt x="32" y="31"/>
                  </a:lnTo>
                  <a:lnTo>
                    <a:pt x="22" y="36"/>
                  </a:lnTo>
                  <a:lnTo>
                    <a:pt x="12" y="43"/>
                  </a:lnTo>
                  <a:lnTo>
                    <a:pt x="5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426"/>
                  </a:lnTo>
                  <a:lnTo>
                    <a:pt x="0" y="429"/>
                  </a:lnTo>
                  <a:lnTo>
                    <a:pt x="0" y="431"/>
                  </a:lnTo>
                  <a:lnTo>
                    <a:pt x="5" y="438"/>
                  </a:lnTo>
                  <a:lnTo>
                    <a:pt x="12" y="444"/>
                  </a:lnTo>
                  <a:lnTo>
                    <a:pt x="22" y="449"/>
                  </a:lnTo>
                  <a:lnTo>
                    <a:pt x="32" y="454"/>
                  </a:lnTo>
                  <a:lnTo>
                    <a:pt x="47" y="459"/>
                  </a:lnTo>
                  <a:lnTo>
                    <a:pt x="63" y="464"/>
                  </a:lnTo>
                  <a:lnTo>
                    <a:pt x="80" y="468"/>
                  </a:lnTo>
                  <a:lnTo>
                    <a:pt x="100" y="473"/>
                  </a:lnTo>
                  <a:lnTo>
                    <a:pt x="122" y="476"/>
                  </a:lnTo>
                  <a:lnTo>
                    <a:pt x="143" y="478"/>
                  </a:lnTo>
                  <a:lnTo>
                    <a:pt x="168" y="481"/>
                  </a:lnTo>
                  <a:lnTo>
                    <a:pt x="193" y="483"/>
                  </a:lnTo>
                  <a:lnTo>
                    <a:pt x="220" y="485"/>
                  </a:lnTo>
                  <a:lnTo>
                    <a:pt x="249" y="486"/>
                  </a:lnTo>
                  <a:lnTo>
                    <a:pt x="277" y="486"/>
                  </a:lnTo>
                  <a:lnTo>
                    <a:pt x="304" y="486"/>
                  </a:lnTo>
                  <a:lnTo>
                    <a:pt x="332" y="485"/>
                  </a:lnTo>
                  <a:lnTo>
                    <a:pt x="359" y="483"/>
                  </a:lnTo>
                  <a:lnTo>
                    <a:pt x="384" y="481"/>
                  </a:lnTo>
                  <a:lnTo>
                    <a:pt x="409" y="478"/>
                  </a:lnTo>
                  <a:lnTo>
                    <a:pt x="430" y="476"/>
                  </a:lnTo>
                  <a:lnTo>
                    <a:pt x="452" y="473"/>
                  </a:lnTo>
                  <a:lnTo>
                    <a:pt x="472" y="468"/>
                  </a:lnTo>
                  <a:lnTo>
                    <a:pt x="489" y="464"/>
                  </a:lnTo>
                  <a:lnTo>
                    <a:pt x="505" y="459"/>
                  </a:lnTo>
                  <a:lnTo>
                    <a:pt x="520" y="454"/>
                  </a:lnTo>
                  <a:lnTo>
                    <a:pt x="530" y="449"/>
                  </a:lnTo>
                  <a:lnTo>
                    <a:pt x="540" y="444"/>
                  </a:lnTo>
                  <a:lnTo>
                    <a:pt x="547" y="438"/>
                  </a:lnTo>
                  <a:lnTo>
                    <a:pt x="552" y="431"/>
                  </a:lnTo>
                  <a:lnTo>
                    <a:pt x="552" y="429"/>
                  </a:lnTo>
                  <a:lnTo>
                    <a:pt x="552" y="426"/>
                  </a:lnTo>
                  <a:lnTo>
                    <a:pt x="552" y="60"/>
                  </a:lnTo>
                  <a:lnTo>
                    <a:pt x="552" y="57"/>
                  </a:lnTo>
                  <a:lnTo>
                    <a:pt x="552" y="55"/>
                  </a:lnTo>
                  <a:lnTo>
                    <a:pt x="547" y="48"/>
                  </a:lnTo>
                  <a:lnTo>
                    <a:pt x="540" y="43"/>
                  </a:lnTo>
                  <a:lnTo>
                    <a:pt x="530" y="36"/>
                  </a:lnTo>
                  <a:lnTo>
                    <a:pt x="520" y="31"/>
                  </a:lnTo>
                  <a:lnTo>
                    <a:pt x="505" y="26"/>
                  </a:lnTo>
                  <a:lnTo>
                    <a:pt x="489" y="21"/>
                  </a:lnTo>
                  <a:lnTo>
                    <a:pt x="472" y="18"/>
                  </a:lnTo>
                  <a:lnTo>
                    <a:pt x="452" y="13"/>
                  </a:lnTo>
                  <a:lnTo>
                    <a:pt x="430" y="10"/>
                  </a:lnTo>
                  <a:lnTo>
                    <a:pt x="409" y="8"/>
                  </a:lnTo>
                  <a:lnTo>
                    <a:pt x="384" y="5"/>
                  </a:lnTo>
                  <a:lnTo>
                    <a:pt x="359" y="3"/>
                  </a:lnTo>
                  <a:lnTo>
                    <a:pt x="332" y="1"/>
                  </a:lnTo>
                  <a:lnTo>
                    <a:pt x="304" y="0"/>
                  </a:lnTo>
                  <a:lnTo>
                    <a:pt x="2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48480" y="2152800"/>
              <a:ext cx="878040" cy="99720"/>
            </a:xfrm>
            <a:custGeom>
              <a:avLst/>
              <a:gdLst/>
              <a:ahLst/>
              <a:rect l="l" t="t" r="r" b="b"/>
              <a:pathLst>
                <a:path w="553" h="63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32" y="30"/>
                  </a:lnTo>
                  <a:lnTo>
                    <a:pt x="47" y="35"/>
                  </a:lnTo>
                  <a:lnTo>
                    <a:pt x="63" y="40"/>
                  </a:lnTo>
                  <a:lnTo>
                    <a:pt x="80" y="43"/>
                  </a:lnTo>
                  <a:lnTo>
                    <a:pt x="100" y="48"/>
                  </a:lnTo>
                  <a:lnTo>
                    <a:pt x="122" y="52"/>
                  </a:lnTo>
                  <a:lnTo>
                    <a:pt x="143" y="53"/>
                  </a:lnTo>
                  <a:lnTo>
                    <a:pt x="168" y="57"/>
                  </a:lnTo>
                  <a:lnTo>
                    <a:pt x="193" y="58"/>
                  </a:lnTo>
                  <a:lnTo>
                    <a:pt x="220" y="60"/>
                  </a:lnTo>
                  <a:lnTo>
                    <a:pt x="249" y="62"/>
                  </a:lnTo>
                  <a:lnTo>
                    <a:pt x="277" y="62"/>
                  </a:lnTo>
                  <a:lnTo>
                    <a:pt x="304" y="62"/>
                  </a:lnTo>
                  <a:lnTo>
                    <a:pt x="332" y="60"/>
                  </a:lnTo>
                  <a:lnTo>
                    <a:pt x="359" y="58"/>
                  </a:lnTo>
                  <a:lnTo>
                    <a:pt x="384" y="57"/>
                  </a:lnTo>
                  <a:lnTo>
                    <a:pt x="409" y="53"/>
                  </a:lnTo>
                  <a:lnTo>
                    <a:pt x="430" y="52"/>
                  </a:lnTo>
                  <a:lnTo>
                    <a:pt x="452" y="48"/>
                  </a:lnTo>
                  <a:lnTo>
                    <a:pt x="472" y="43"/>
                  </a:lnTo>
                  <a:lnTo>
                    <a:pt x="489" y="40"/>
                  </a:lnTo>
                  <a:lnTo>
                    <a:pt x="505" y="35"/>
                  </a:lnTo>
                  <a:lnTo>
                    <a:pt x="520" y="30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7" y="13"/>
                  </a:lnTo>
                  <a:lnTo>
                    <a:pt x="552" y="7"/>
                  </a:lnTo>
                  <a:lnTo>
                    <a:pt x="552" y="3"/>
                  </a:lnTo>
                  <a:lnTo>
                    <a:pt x="5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804384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7256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0092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83288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6124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9140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713720" y="27558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713720" y="267336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13720" y="259092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13720" y="250812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13720" y="24256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713720" y="23446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343400" y="2819520"/>
            <a:ext cx="2895480" cy="825480"/>
            <a:chOff x="4343400" y="2819520"/>
            <a:chExt cx="2895480" cy="825480"/>
          </a:xfrm>
        </p:grpSpPr>
        <p:sp>
          <p:nvSpPr>
            <p:cNvPr id="967" name=""/>
            <p:cNvSpPr/>
            <p:nvPr/>
          </p:nvSpPr>
          <p:spPr>
            <a:xfrm>
              <a:off x="4343400" y="2819520"/>
              <a:ext cx="2895480" cy="436320"/>
            </a:xfrm>
            <a:custGeom>
              <a:avLst/>
              <a:gdLst/>
              <a:ahLst/>
              <a:rect l="l" t="t" r="r" b="b"/>
              <a:pathLst>
                <a:path w="914" h="275">
                  <a:moveTo>
                    <a:pt x="0" y="274"/>
                  </a:moveTo>
                  <a:lnTo>
                    <a:pt x="913" y="274"/>
                  </a:lnTo>
                  <a:lnTo>
                    <a:pt x="913" y="0"/>
                  </a:lnTo>
                  <a:lnTo>
                    <a:pt x="0" y="0"/>
                  </a:lnTo>
                  <a:lnTo>
                    <a:pt x="0" y="2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05520" y="2895480"/>
              <a:ext cx="1005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43400" y="3276720"/>
              <a:ext cx="2895480" cy="303120"/>
            </a:xfrm>
            <a:custGeom>
              <a:avLst/>
              <a:gdLst/>
              <a:ahLst/>
              <a:rect l="l" t="t" r="r" b="b"/>
              <a:pathLst>
                <a:path w="902" h="227">
                  <a:moveTo>
                    <a:pt x="0" y="226"/>
                  </a:moveTo>
                  <a:lnTo>
                    <a:pt x="901" y="226"/>
                  </a:lnTo>
                  <a:lnTo>
                    <a:pt x="901" y="0"/>
                  </a:lnTo>
                  <a:lnTo>
                    <a:pt x="0" y="0"/>
                  </a:lnTo>
                  <a:lnTo>
                    <a:pt x="0" y="2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9720" y="327672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81480" y="3276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48520" y="3276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04040" y="32767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3276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343400" y="2286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3000" y="921960"/>
            <a:ext cx="636588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Service-based Applic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552600" y="2709720"/>
            <a:ext cx="1184040" cy="12099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077920" y="2471760"/>
            <a:ext cx="1192320" cy="1434960"/>
          </a:xfrm>
          <a:custGeom>
            <a:avLst/>
            <a:gdLst/>
            <a:ahLst/>
            <a:rect l="l" t="t" r="r" b="b"/>
            <a:pathLst>
              <a:path w="751" h="904">
                <a:moveTo>
                  <a:pt x="193" y="132"/>
                </a:moveTo>
                <a:lnTo>
                  <a:pt x="153" y="147"/>
                </a:lnTo>
                <a:lnTo>
                  <a:pt x="118" y="164"/>
                </a:lnTo>
                <a:lnTo>
                  <a:pt x="86" y="182"/>
                </a:lnTo>
                <a:lnTo>
                  <a:pt x="58" y="204"/>
                </a:lnTo>
                <a:lnTo>
                  <a:pt x="36" y="227"/>
                </a:lnTo>
                <a:lnTo>
                  <a:pt x="18" y="252"/>
                </a:lnTo>
                <a:lnTo>
                  <a:pt x="6" y="277"/>
                </a:lnTo>
                <a:lnTo>
                  <a:pt x="0" y="302"/>
                </a:lnTo>
                <a:lnTo>
                  <a:pt x="0" y="329"/>
                </a:lnTo>
                <a:lnTo>
                  <a:pt x="5" y="356"/>
                </a:lnTo>
                <a:lnTo>
                  <a:pt x="16" y="381"/>
                </a:lnTo>
                <a:lnTo>
                  <a:pt x="33" y="406"/>
                </a:lnTo>
                <a:lnTo>
                  <a:pt x="55" y="429"/>
                </a:lnTo>
                <a:lnTo>
                  <a:pt x="81" y="451"/>
                </a:lnTo>
                <a:lnTo>
                  <a:pt x="55" y="473"/>
                </a:lnTo>
                <a:lnTo>
                  <a:pt x="33" y="496"/>
                </a:lnTo>
                <a:lnTo>
                  <a:pt x="16" y="520"/>
                </a:lnTo>
                <a:lnTo>
                  <a:pt x="5" y="546"/>
                </a:lnTo>
                <a:lnTo>
                  <a:pt x="0" y="573"/>
                </a:lnTo>
                <a:lnTo>
                  <a:pt x="0" y="598"/>
                </a:lnTo>
                <a:lnTo>
                  <a:pt x="6" y="625"/>
                </a:lnTo>
                <a:lnTo>
                  <a:pt x="18" y="650"/>
                </a:lnTo>
                <a:lnTo>
                  <a:pt x="36" y="675"/>
                </a:lnTo>
                <a:lnTo>
                  <a:pt x="58" y="699"/>
                </a:lnTo>
                <a:lnTo>
                  <a:pt x="86" y="719"/>
                </a:lnTo>
                <a:lnTo>
                  <a:pt x="118" y="739"/>
                </a:lnTo>
                <a:lnTo>
                  <a:pt x="153" y="755"/>
                </a:lnTo>
                <a:lnTo>
                  <a:pt x="193" y="769"/>
                </a:lnTo>
                <a:lnTo>
                  <a:pt x="188" y="789"/>
                </a:lnTo>
                <a:lnTo>
                  <a:pt x="188" y="807"/>
                </a:lnTo>
                <a:lnTo>
                  <a:pt x="195" y="827"/>
                </a:lnTo>
                <a:lnTo>
                  <a:pt x="208" y="846"/>
                </a:lnTo>
                <a:lnTo>
                  <a:pt x="227" y="861"/>
                </a:lnTo>
                <a:lnTo>
                  <a:pt x="250" y="876"/>
                </a:lnTo>
                <a:lnTo>
                  <a:pt x="277" y="888"/>
                </a:lnTo>
                <a:lnTo>
                  <a:pt x="308" y="896"/>
                </a:lnTo>
                <a:lnTo>
                  <a:pt x="340" y="901"/>
                </a:lnTo>
                <a:lnTo>
                  <a:pt x="375" y="903"/>
                </a:lnTo>
                <a:lnTo>
                  <a:pt x="408" y="901"/>
                </a:lnTo>
                <a:lnTo>
                  <a:pt x="442" y="896"/>
                </a:lnTo>
                <a:lnTo>
                  <a:pt x="472" y="888"/>
                </a:lnTo>
                <a:lnTo>
                  <a:pt x="500" y="876"/>
                </a:lnTo>
                <a:lnTo>
                  <a:pt x="523" y="861"/>
                </a:lnTo>
                <a:lnTo>
                  <a:pt x="542" y="846"/>
                </a:lnTo>
                <a:lnTo>
                  <a:pt x="555" y="827"/>
                </a:lnTo>
                <a:lnTo>
                  <a:pt x="562" y="807"/>
                </a:lnTo>
                <a:lnTo>
                  <a:pt x="562" y="789"/>
                </a:lnTo>
                <a:lnTo>
                  <a:pt x="557" y="769"/>
                </a:lnTo>
                <a:lnTo>
                  <a:pt x="595" y="755"/>
                </a:lnTo>
                <a:lnTo>
                  <a:pt x="632" y="739"/>
                </a:lnTo>
                <a:lnTo>
                  <a:pt x="664" y="719"/>
                </a:lnTo>
                <a:lnTo>
                  <a:pt x="692" y="699"/>
                </a:lnTo>
                <a:lnTo>
                  <a:pt x="714" y="675"/>
                </a:lnTo>
                <a:lnTo>
                  <a:pt x="730" y="650"/>
                </a:lnTo>
                <a:lnTo>
                  <a:pt x="744" y="625"/>
                </a:lnTo>
                <a:lnTo>
                  <a:pt x="749" y="598"/>
                </a:lnTo>
                <a:lnTo>
                  <a:pt x="750" y="573"/>
                </a:lnTo>
                <a:lnTo>
                  <a:pt x="744" y="546"/>
                </a:lnTo>
                <a:lnTo>
                  <a:pt x="734" y="520"/>
                </a:lnTo>
                <a:lnTo>
                  <a:pt x="717" y="496"/>
                </a:lnTo>
                <a:lnTo>
                  <a:pt x="695" y="473"/>
                </a:lnTo>
                <a:lnTo>
                  <a:pt x="667" y="451"/>
                </a:lnTo>
                <a:lnTo>
                  <a:pt x="695" y="429"/>
                </a:lnTo>
                <a:lnTo>
                  <a:pt x="717" y="406"/>
                </a:lnTo>
                <a:lnTo>
                  <a:pt x="734" y="381"/>
                </a:lnTo>
                <a:lnTo>
                  <a:pt x="744" y="356"/>
                </a:lnTo>
                <a:lnTo>
                  <a:pt x="750" y="329"/>
                </a:lnTo>
                <a:lnTo>
                  <a:pt x="749" y="302"/>
                </a:lnTo>
                <a:lnTo>
                  <a:pt x="744" y="277"/>
                </a:lnTo>
                <a:lnTo>
                  <a:pt x="730" y="252"/>
                </a:lnTo>
                <a:lnTo>
                  <a:pt x="714" y="227"/>
                </a:lnTo>
                <a:lnTo>
                  <a:pt x="692" y="204"/>
                </a:lnTo>
                <a:lnTo>
                  <a:pt x="664" y="182"/>
                </a:lnTo>
                <a:lnTo>
                  <a:pt x="632" y="164"/>
                </a:lnTo>
                <a:lnTo>
                  <a:pt x="595" y="147"/>
                </a:lnTo>
                <a:lnTo>
                  <a:pt x="557" y="132"/>
                </a:lnTo>
                <a:lnTo>
                  <a:pt x="562" y="113"/>
                </a:lnTo>
                <a:lnTo>
                  <a:pt x="562" y="93"/>
                </a:lnTo>
                <a:lnTo>
                  <a:pt x="555" y="75"/>
                </a:lnTo>
                <a:lnTo>
                  <a:pt x="542" y="57"/>
                </a:lnTo>
                <a:lnTo>
                  <a:pt x="523" y="42"/>
                </a:lnTo>
                <a:lnTo>
                  <a:pt x="500" y="27"/>
                </a:lnTo>
                <a:lnTo>
                  <a:pt x="472" y="15"/>
                </a:lnTo>
                <a:lnTo>
                  <a:pt x="442" y="6"/>
                </a:lnTo>
                <a:lnTo>
                  <a:pt x="408" y="1"/>
                </a:lnTo>
                <a:lnTo>
                  <a:pt x="375" y="0"/>
                </a:lnTo>
                <a:lnTo>
                  <a:pt x="340" y="1"/>
                </a:lnTo>
                <a:lnTo>
                  <a:pt x="308" y="6"/>
                </a:lnTo>
                <a:lnTo>
                  <a:pt x="277" y="15"/>
                </a:lnTo>
                <a:lnTo>
                  <a:pt x="250" y="27"/>
                </a:lnTo>
                <a:lnTo>
                  <a:pt x="227" y="42"/>
                </a:lnTo>
                <a:lnTo>
                  <a:pt x="208" y="57"/>
                </a:lnTo>
                <a:lnTo>
                  <a:pt x="195" y="75"/>
                </a:lnTo>
                <a:lnTo>
                  <a:pt x="188" y="93"/>
                </a:lnTo>
                <a:lnTo>
                  <a:pt x="188" y="113"/>
                </a:lnTo>
                <a:lnTo>
                  <a:pt x="193" y="13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627360" y="2352600"/>
            <a:ext cx="3338640" cy="1673280"/>
          </a:xfrm>
          <a:custGeom>
            <a:avLst/>
            <a:gdLst/>
            <a:ahLst/>
            <a:rect l="l" t="t" r="r" b="b"/>
            <a:pathLst>
              <a:path w="2103" h="1054">
                <a:moveTo>
                  <a:pt x="0" y="1053"/>
                </a:moveTo>
                <a:lnTo>
                  <a:pt x="2102" y="1053"/>
                </a:lnTo>
                <a:lnTo>
                  <a:pt x="2102" y="0"/>
                </a:lnTo>
                <a:lnTo>
                  <a:pt x="0" y="0"/>
                </a:lnTo>
                <a:lnTo>
                  <a:pt x="0" y="1053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150400" y="3257640"/>
            <a:ext cx="311040" cy="3618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195" y="0"/>
                </a:moveTo>
                <a:lnTo>
                  <a:pt x="12" y="0"/>
                </a:lnTo>
                <a:lnTo>
                  <a:pt x="10" y="0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6"/>
                </a:lnTo>
                <a:lnTo>
                  <a:pt x="8" y="8"/>
                </a:lnTo>
                <a:lnTo>
                  <a:pt x="12" y="8"/>
                </a:lnTo>
                <a:lnTo>
                  <a:pt x="15" y="28"/>
                </a:lnTo>
                <a:lnTo>
                  <a:pt x="17" y="45"/>
                </a:lnTo>
                <a:lnTo>
                  <a:pt x="17" y="62"/>
                </a:lnTo>
                <a:lnTo>
                  <a:pt x="18" y="78"/>
                </a:lnTo>
                <a:lnTo>
                  <a:pt x="18" y="95"/>
                </a:lnTo>
                <a:lnTo>
                  <a:pt x="18" y="108"/>
                </a:lnTo>
                <a:lnTo>
                  <a:pt x="18" y="125"/>
                </a:lnTo>
                <a:lnTo>
                  <a:pt x="17" y="142"/>
                </a:lnTo>
                <a:lnTo>
                  <a:pt x="15" y="158"/>
                </a:lnTo>
                <a:lnTo>
                  <a:pt x="13" y="175"/>
                </a:lnTo>
                <a:lnTo>
                  <a:pt x="0" y="175"/>
                </a:lnTo>
                <a:lnTo>
                  <a:pt x="3" y="209"/>
                </a:lnTo>
                <a:lnTo>
                  <a:pt x="195" y="227"/>
                </a:lnTo>
                <a:lnTo>
                  <a:pt x="195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123400" y="3267000"/>
            <a:ext cx="56880" cy="270000"/>
          </a:xfrm>
          <a:custGeom>
            <a:avLst/>
            <a:gdLst/>
            <a:ahLst/>
            <a:rect l="l" t="t" r="r" b="b"/>
            <a:pathLst>
              <a:path w="36" h="170">
                <a:moveTo>
                  <a:pt x="24" y="0"/>
                </a:moveTo>
                <a:lnTo>
                  <a:pt x="14" y="0"/>
                </a:lnTo>
                <a:lnTo>
                  <a:pt x="10" y="5"/>
                </a:lnTo>
                <a:lnTo>
                  <a:pt x="9" y="22"/>
                </a:lnTo>
                <a:lnTo>
                  <a:pt x="5" y="39"/>
                </a:lnTo>
                <a:lnTo>
                  <a:pt x="4" y="57"/>
                </a:lnTo>
                <a:lnTo>
                  <a:pt x="2" y="74"/>
                </a:lnTo>
                <a:lnTo>
                  <a:pt x="0" y="91"/>
                </a:lnTo>
                <a:lnTo>
                  <a:pt x="0" y="107"/>
                </a:lnTo>
                <a:lnTo>
                  <a:pt x="0" y="126"/>
                </a:lnTo>
                <a:lnTo>
                  <a:pt x="0" y="142"/>
                </a:lnTo>
                <a:lnTo>
                  <a:pt x="0" y="147"/>
                </a:lnTo>
                <a:lnTo>
                  <a:pt x="0" y="151"/>
                </a:lnTo>
                <a:lnTo>
                  <a:pt x="2" y="168"/>
                </a:lnTo>
                <a:lnTo>
                  <a:pt x="17" y="169"/>
                </a:lnTo>
                <a:lnTo>
                  <a:pt x="30" y="169"/>
                </a:lnTo>
                <a:lnTo>
                  <a:pt x="32" y="152"/>
                </a:lnTo>
                <a:lnTo>
                  <a:pt x="34" y="136"/>
                </a:lnTo>
                <a:lnTo>
                  <a:pt x="35" y="119"/>
                </a:lnTo>
                <a:lnTo>
                  <a:pt x="35" y="102"/>
                </a:lnTo>
                <a:lnTo>
                  <a:pt x="35" y="89"/>
                </a:lnTo>
                <a:lnTo>
                  <a:pt x="35" y="72"/>
                </a:lnTo>
                <a:lnTo>
                  <a:pt x="34" y="56"/>
                </a:lnTo>
                <a:lnTo>
                  <a:pt x="34" y="39"/>
                </a:lnTo>
                <a:lnTo>
                  <a:pt x="32" y="22"/>
                </a:lnTo>
                <a:lnTo>
                  <a:pt x="29" y="2"/>
                </a:lnTo>
                <a:lnTo>
                  <a:pt x="25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797960" y="3211560"/>
            <a:ext cx="345960" cy="282600"/>
          </a:xfrm>
          <a:custGeom>
            <a:avLst/>
            <a:gdLst/>
            <a:ahLst/>
            <a:rect l="l" t="t" r="r" b="b"/>
            <a:pathLst>
              <a:path w="218" h="178">
                <a:moveTo>
                  <a:pt x="172" y="144"/>
                </a:moveTo>
                <a:lnTo>
                  <a:pt x="200" y="174"/>
                </a:lnTo>
                <a:lnTo>
                  <a:pt x="204" y="177"/>
                </a:lnTo>
                <a:lnTo>
                  <a:pt x="205" y="177"/>
                </a:lnTo>
                <a:lnTo>
                  <a:pt x="205" y="159"/>
                </a:lnTo>
                <a:lnTo>
                  <a:pt x="205" y="142"/>
                </a:lnTo>
                <a:lnTo>
                  <a:pt x="205" y="126"/>
                </a:lnTo>
                <a:lnTo>
                  <a:pt x="207" y="109"/>
                </a:lnTo>
                <a:lnTo>
                  <a:pt x="209" y="92"/>
                </a:lnTo>
                <a:lnTo>
                  <a:pt x="210" y="74"/>
                </a:lnTo>
                <a:lnTo>
                  <a:pt x="214" y="57"/>
                </a:lnTo>
                <a:lnTo>
                  <a:pt x="215" y="40"/>
                </a:lnTo>
                <a:lnTo>
                  <a:pt x="217" y="37"/>
                </a:lnTo>
                <a:lnTo>
                  <a:pt x="179" y="40"/>
                </a:lnTo>
                <a:lnTo>
                  <a:pt x="100" y="0"/>
                </a:lnTo>
                <a:lnTo>
                  <a:pt x="47" y="0"/>
                </a:lnTo>
                <a:lnTo>
                  <a:pt x="22" y="24"/>
                </a:lnTo>
                <a:lnTo>
                  <a:pt x="22" y="30"/>
                </a:lnTo>
                <a:lnTo>
                  <a:pt x="32" y="35"/>
                </a:lnTo>
                <a:lnTo>
                  <a:pt x="30" y="37"/>
                </a:lnTo>
                <a:lnTo>
                  <a:pt x="29" y="42"/>
                </a:lnTo>
                <a:lnTo>
                  <a:pt x="27" y="47"/>
                </a:lnTo>
                <a:lnTo>
                  <a:pt x="24" y="49"/>
                </a:lnTo>
                <a:lnTo>
                  <a:pt x="22" y="49"/>
                </a:lnTo>
                <a:lnTo>
                  <a:pt x="20" y="52"/>
                </a:lnTo>
                <a:lnTo>
                  <a:pt x="17" y="52"/>
                </a:lnTo>
                <a:lnTo>
                  <a:pt x="15" y="54"/>
                </a:lnTo>
                <a:lnTo>
                  <a:pt x="12" y="54"/>
                </a:lnTo>
                <a:lnTo>
                  <a:pt x="10" y="54"/>
                </a:lnTo>
                <a:lnTo>
                  <a:pt x="0" y="49"/>
                </a:lnTo>
                <a:lnTo>
                  <a:pt x="0" y="52"/>
                </a:lnTo>
                <a:lnTo>
                  <a:pt x="10" y="59"/>
                </a:lnTo>
                <a:lnTo>
                  <a:pt x="15" y="59"/>
                </a:lnTo>
                <a:lnTo>
                  <a:pt x="20" y="59"/>
                </a:lnTo>
                <a:lnTo>
                  <a:pt x="25" y="62"/>
                </a:lnTo>
                <a:lnTo>
                  <a:pt x="30" y="59"/>
                </a:lnTo>
                <a:lnTo>
                  <a:pt x="34" y="59"/>
                </a:lnTo>
                <a:lnTo>
                  <a:pt x="39" y="57"/>
                </a:lnTo>
                <a:lnTo>
                  <a:pt x="44" y="54"/>
                </a:lnTo>
                <a:lnTo>
                  <a:pt x="47" y="49"/>
                </a:lnTo>
                <a:lnTo>
                  <a:pt x="52" y="47"/>
                </a:lnTo>
                <a:lnTo>
                  <a:pt x="55" y="42"/>
                </a:lnTo>
                <a:lnTo>
                  <a:pt x="59" y="37"/>
                </a:lnTo>
                <a:lnTo>
                  <a:pt x="62" y="40"/>
                </a:lnTo>
                <a:lnTo>
                  <a:pt x="69" y="42"/>
                </a:lnTo>
                <a:lnTo>
                  <a:pt x="77" y="42"/>
                </a:lnTo>
                <a:lnTo>
                  <a:pt x="85" y="42"/>
                </a:lnTo>
                <a:lnTo>
                  <a:pt x="92" y="42"/>
                </a:lnTo>
                <a:lnTo>
                  <a:pt x="99" y="42"/>
                </a:lnTo>
                <a:lnTo>
                  <a:pt x="104" y="40"/>
                </a:lnTo>
                <a:lnTo>
                  <a:pt x="105" y="40"/>
                </a:lnTo>
                <a:lnTo>
                  <a:pt x="105" y="45"/>
                </a:lnTo>
                <a:lnTo>
                  <a:pt x="104" y="49"/>
                </a:lnTo>
                <a:lnTo>
                  <a:pt x="104" y="54"/>
                </a:lnTo>
                <a:lnTo>
                  <a:pt x="104" y="59"/>
                </a:lnTo>
                <a:lnTo>
                  <a:pt x="105" y="64"/>
                </a:lnTo>
                <a:lnTo>
                  <a:pt x="107" y="69"/>
                </a:lnTo>
                <a:lnTo>
                  <a:pt x="109" y="74"/>
                </a:lnTo>
                <a:lnTo>
                  <a:pt x="112" y="79"/>
                </a:lnTo>
                <a:lnTo>
                  <a:pt x="117" y="82"/>
                </a:lnTo>
                <a:lnTo>
                  <a:pt x="122" y="85"/>
                </a:lnTo>
                <a:lnTo>
                  <a:pt x="124" y="87"/>
                </a:lnTo>
                <a:lnTo>
                  <a:pt x="130" y="91"/>
                </a:lnTo>
                <a:lnTo>
                  <a:pt x="139" y="92"/>
                </a:lnTo>
                <a:lnTo>
                  <a:pt x="147" y="96"/>
                </a:lnTo>
                <a:lnTo>
                  <a:pt x="155" y="96"/>
                </a:lnTo>
                <a:lnTo>
                  <a:pt x="165" y="96"/>
                </a:lnTo>
                <a:lnTo>
                  <a:pt x="172" y="92"/>
                </a:lnTo>
                <a:lnTo>
                  <a:pt x="169" y="97"/>
                </a:lnTo>
                <a:lnTo>
                  <a:pt x="167" y="102"/>
                </a:lnTo>
                <a:lnTo>
                  <a:pt x="164" y="104"/>
                </a:lnTo>
                <a:lnTo>
                  <a:pt x="157" y="107"/>
                </a:lnTo>
                <a:lnTo>
                  <a:pt x="154" y="109"/>
                </a:lnTo>
                <a:lnTo>
                  <a:pt x="150" y="111"/>
                </a:lnTo>
                <a:lnTo>
                  <a:pt x="144" y="114"/>
                </a:lnTo>
                <a:lnTo>
                  <a:pt x="139" y="114"/>
                </a:lnTo>
                <a:lnTo>
                  <a:pt x="172" y="144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797960" y="32590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22" y="0"/>
                </a:moveTo>
                <a:lnTo>
                  <a:pt x="0" y="19"/>
                </a:lnTo>
                <a:lnTo>
                  <a:pt x="10" y="24"/>
                </a:lnTo>
                <a:lnTo>
                  <a:pt x="12" y="24"/>
                </a:lnTo>
                <a:lnTo>
                  <a:pt x="15" y="24"/>
                </a:lnTo>
                <a:lnTo>
                  <a:pt x="19" y="22"/>
                </a:lnTo>
                <a:lnTo>
                  <a:pt x="20" y="22"/>
                </a:lnTo>
                <a:lnTo>
                  <a:pt x="24" y="19"/>
                </a:lnTo>
                <a:lnTo>
                  <a:pt x="25" y="17"/>
                </a:lnTo>
                <a:lnTo>
                  <a:pt x="27" y="15"/>
                </a:lnTo>
                <a:lnTo>
                  <a:pt x="29" y="10"/>
                </a:lnTo>
                <a:lnTo>
                  <a:pt x="30" y="7"/>
                </a:lnTo>
                <a:lnTo>
                  <a:pt x="32" y="5"/>
                </a:lnTo>
                <a:lnTo>
                  <a:pt x="22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97960" y="3270240"/>
            <a:ext cx="168120" cy="60480"/>
          </a:xfrm>
          <a:custGeom>
            <a:avLst/>
            <a:gdLst/>
            <a:ahLst/>
            <a:rect l="l" t="t" r="r" b="b"/>
            <a:pathLst>
              <a:path w="106" h="38">
                <a:moveTo>
                  <a:pt x="0" y="15"/>
                </a:moveTo>
                <a:lnTo>
                  <a:pt x="10" y="22"/>
                </a:lnTo>
                <a:lnTo>
                  <a:pt x="15" y="22"/>
                </a:lnTo>
                <a:lnTo>
                  <a:pt x="20" y="22"/>
                </a:lnTo>
                <a:lnTo>
                  <a:pt x="25" y="25"/>
                </a:lnTo>
                <a:lnTo>
                  <a:pt x="30" y="22"/>
                </a:lnTo>
                <a:lnTo>
                  <a:pt x="34" y="22"/>
                </a:lnTo>
                <a:lnTo>
                  <a:pt x="39" y="20"/>
                </a:lnTo>
                <a:lnTo>
                  <a:pt x="44" y="17"/>
                </a:lnTo>
                <a:lnTo>
                  <a:pt x="47" y="12"/>
                </a:lnTo>
                <a:lnTo>
                  <a:pt x="52" y="10"/>
                </a:lnTo>
                <a:lnTo>
                  <a:pt x="55" y="5"/>
                </a:lnTo>
                <a:lnTo>
                  <a:pt x="59" y="0"/>
                </a:lnTo>
                <a:lnTo>
                  <a:pt x="62" y="3"/>
                </a:lnTo>
                <a:lnTo>
                  <a:pt x="69" y="5"/>
                </a:lnTo>
                <a:lnTo>
                  <a:pt x="77" y="5"/>
                </a:lnTo>
                <a:lnTo>
                  <a:pt x="85" y="5"/>
                </a:lnTo>
                <a:lnTo>
                  <a:pt x="92" y="5"/>
                </a:lnTo>
                <a:lnTo>
                  <a:pt x="99" y="5"/>
                </a:lnTo>
                <a:lnTo>
                  <a:pt x="104" y="3"/>
                </a:lnTo>
                <a:lnTo>
                  <a:pt x="105" y="3"/>
                </a:lnTo>
                <a:lnTo>
                  <a:pt x="85" y="22"/>
                </a:lnTo>
                <a:lnTo>
                  <a:pt x="52" y="22"/>
                </a:lnTo>
                <a:lnTo>
                  <a:pt x="52" y="25"/>
                </a:lnTo>
                <a:lnTo>
                  <a:pt x="47" y="28"/>
                </a:lnTo>
                <a:lnTo>
                  <a:pt x="44" y="32"/>
                </a:lnTo>
                <a:lnTo>
                  <a:pt x="40" y="33"/>
                </a:lnTo>
                <a:lnTo>
                  <a:pt x="35" y="37"/>
                </a:lnTo>
                <a:lnTo>
                  <a:pt x="32" y="37"/>
                </a:lnTo>
                <a:lnTo>
                  <a:pt x="24" y="37"/>
                </a:lnTo>
                <a:lnTo>
                  <a:pt x="15" y="37"/>
                </a:lnTo>
                <a:lnTo>
                  <a:pt x="10" y="33"/>
                </a:lnTo>
                <a:lnTo>
                  <a:pt x="5" y="28"/>
                </a:lnTo>
                <a:lnTo>
                  <a:pt x="2" y="27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932600" y="3274920"/>
            <a:ext cx="139680" cy="119160"/>
          </a:xfrm>
          <a:custGeom>
            <a:avLst/>
            <a:gdLst/>
            <a:ahLst/>
            <a:rect l="l" t="t" r="r" b="b"/>
            <a:pathLst>
              <a:path w="88" h="75">
                <a:moveTo>
                  <a:pt x="54" y="74"/>
                </a:moveTo>
                <a:lnTo>
                  <a:pt x="59" y="74"/>
                </a:lnTo>
                <a:lnTo>
                  <a:pt x="64" y="71"/>
                </a:lnTo>
                <a:lnTo>
                  <a:pt x="69" y="69"/>
                </a:lnTo>
                <a:lnTo>
                  <a:pt x="72" y="67"/>
                </a:lnTo>
                <a:lnTo>
                  <a:pt x="79" y="64"/>
                </a:lnTo>
                <a:lnTo>
                  <a:pt x="82" y="62"/>
                </a:lnTo>
                <a:lnTo>
                  <a:pt x="84" y="57"/>
                </a:lnTo>
                <a:lnTo>
                  <a:pt x="87" y="52"/>
                </a:lnTo>
                <a:lnTo>
                  <a:pt x="80" y="56"/>
                </a:lnTo>
                <a:lnTo>
                  <a:pt x="70" y="56"/>
                </a:lnTo>
                <a:lnTo>
                  <a:pt x="60" y="56"/>
                </a:lnTo>
                <a:lnTo>
                  <a:pt x="52" y="52"/>
                </a:lnTo>
                <a:lnTo>
                  <a:pt x="44" y="51"/>
                </a:lnTo>
                <a:lnTo>
                  <a:pt x="39" y="47"/>
                </a:lnTo>
                <a:lnTo>
                  <a:pt x="37" y="45"/>
                </a:lnTo>
                <a:lnTo>
                  <a:pt x="32" y="42"/>
                </a:lnTo>
                <a:lnTo>
                  <a:pt x="27" y="39"/>
                </a:lnTo>
                <a:lnTo>
                  <a:pt x="24" y="34"/>
                </a:lnTo>
                <a:lnTo>
                  <a:pt x="20" y="29"/>
                </a:lnTo>
                <a:lnTo>
                  <a:pt x="20" y="24"/>
                </a:lnTo>
                <a:lnTo>
                  <a:pt x="19" y="19"/>
                </a:lnTo>
                <a:lnTo>
                  <a:pt x="19" y="14"/>
                </a:lnTo>
                <a:lnTo>
                  <a:pt x="19" y="9"/>
                </a:lnTo>
                <a:lnTo>
                  <a:pt x="20" y="5"/>
                </a:lnTo>
                <a:lnTo>
                  <a:pt x="20" y="0"/>
                </a:lnTo>
                <a:lnTo>
                  <a:pt x="0" y="19"/>
                </a:lnTo>
                <a:lnTo>
                  <a:pt x="54" y="7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056440" y="3367080"/>
            <a:ext cx="111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13720" y="3249720"/>
            <a:ext cx="369720" cy="349200"/>
          </a:xfrm>
          <a:custGeom>
            <a:avLst/>
            <a:gdLst/>
            <a:ahLst/>
            <a:rect l="l" t="t" r="r" b="b"/>
            <a:pathLst>
              <a:path w="233" h="220">
                <a:moveTo>
                  <a:pt x="75" y="0"/>
                </a:moveTo>
                <a:lnTo>
                  <a:pt x="40" y="25"/>
                </a:lnTo>
                <a:lnTo>
                  <a:pt x="0" y="33"/>
                </a:lnTo>
                <a:lnTo>
                  <a:pt x="6" y="46"/>
                </a:lnTo>
                <a:lnTo>
                  <a:pt x="23" y="168"/>
                </a:lnTo>
                <a:lnTo>
                  <a:pt x="23" y="170"/>
                </a:lnTo>
                <a:lnTo>
                  <a:pt x="113" y="197"/>
                </a:lnTo>
                <a:lnTo>
                  <a:pt x="113" y="192"/>
                </a:lnTo>
                <a:lnTo>
                  <a:pt x="113" y="190"/>
                </a:lnTo>
                <a:lnTo>
                  <a:pt x="113" y="187"/>
                </a:lnTo>
                <a:lnTo>
                  <a:pt x="115" y="185"/>
                </a:lnTo>
                <a:lnTo>
                  <a:pt x="117" y="185"/>
                </a:lnTo>
                <a:lnTo>
                  <a:pt x="120" y="185"/>
                </a:lnTo>
                <a:lnTo>
                  <a:pt x="170" y="219"/>
                </a:lnTo>
                <a:lnTo>
                  <a:pt x="172" y="219"/>
                </a:lnTo>
                <a:lnTo>
                  <a:pt x="175" y="219"/>
                </a:lnTo>
                <a:lnTo>
                  <a:pt x="177" y="215"/>
                </a:lnTo>
                <a:lnTo>
                  <a:pt x="180" y="214"/>
                </a:lnTo>
                <a:lnTo>
                  <a:pt x="182" y="212"/>
                </a:lnTo>
                <a:lnTo>
                  <a:pt x="182" y="209"/>
                </a:lnTo>
                <a:lnTo>
                  <a:pt x="183" y="204"/>
                </a:lnTo>
                <a:lnTo>
                  <a:pt x="147" y="165"/>
                </a:lnTo>
                <a:lnTo>
                  <a:pt x="147" y="163"/>
                </a:lnTo>
                <a:lnTo>
                  <a:pt x="147" y="162"/>
                </a:lnTo>
                <a:lnTo>
                  <a:pt x="148" y="162"/>
                </a:lnTo>
                <a:lnTo>
                  <a:pt x="150" y="162"/>
                </a:lnTo>
                <a:lnTo>
                  <a:pt x="190" y="202"/>
                </a:lnTo>
                <a:lnTo>
                  <a:pt x="193" y="202"/>
                </a:lnTo>
                <a:lnTo>
                  <a:pt x="198" y="202"/>
                </a:lnTo>
                <a:lnTo>
                  <a:pt x="203" y="197"/>
                </a:lnTo>
                <a:lnTo>
                  <a:pt x="207" y="195"/>
                </a:lnTo>
                <a:lnTo>
                  <a:pt x="208" y="190"/>
                </a:lnTo>
                <a:lnTo>
                  <a:pt x="210" y="185"/>
                </a:lnTo>
                <a:lnTo>
                  <a:pt x="213" y="180"/>
                </a:lnTo>
                <a:lnTo>
                  <a:pt x="213" y="175"/>
                </a:lnTo>
                <a:lnTo>
                  <a:pt x="210" y="170"/>
                </a:lnTo>
                <a:lnTo>
                  <a:pt x="175" y="135"/>
                </a:lnTo>
                <a:lnTo>
                  <a:pt x="165" y="112"/>
                </a:lnTo>
                <a:lnTo>
                  <a:pt x="165" y="108"/>
                </a:lnTo>
                <a:lnTo>
                  <a:pt x="165" y="107"/>
                </a:lnTo>
                <a:lnTo>
                  <a:pt x="167" y="107"/>
                </a:lnTo>
                <a:lnTo>
                  <a:pt x="168" y="107"/>
                </a:lnTo>
                <a:lnTo>
                  <a:pt x="227" y="163"/>
                </a:lnTo>
                <a:lnTo>
                  <a:pt x="228" y="158"/>
                </a:lnTo>
                <a:lnTo>
                  <a:pt x="230" y="153"/>
                </a:lnTo>
                <a:lnTo>
                  <a:pt x="230" y="150"/>
                </a:lnTo>
                <a:lnTo>
                  <a:pt x="232" y="142"/>
                </a:lnTo>
                <a:lnTo>
                  <a:pt x="232" y="137"/>
                </a:lnTo>
                <a:lnTo>
                  <a:pt x="230" y="133"/>
                </a:lnTo>
                <a:lnTo>
                  <a:pt x="228" y="128"/>
                </a:lnTo>
                <a:lnTo>
                  <a:pt x="227" y="123"/>
                </a:lnTo>
                <a:lnTo>
                  <a:pt x="225" y="120"/>
                </a:lnTo>
                <a:lnTo>
                  <a:pt x="188" y="85"/>
                </a:lnTo>
                <a:lnTo>
                  <a:pt x="138" y="35"/>
                </a:lnTo>
                <a:lnTo>
                  <a:pt x="105" y="35"/>
                </a:lnTo>
                <a:lnTo>
                  <a:pt x="105" y="38"/>
                </a:lnTo>
                <a:lnTo>
                  <a:pt x="100" y="41"/>
                </a:lnTo>
                <a:lnTo>
                  <a:pt x="97" y="45"/>
                </a:lnTo>
                <a:lnTo>
                  <a:pt x="93" y="46"/>
                </a:lnTo>
                <a:lnTo>
                  <a:pt x="88" y="50"/>
                </a:lnTo>
                <a:lnTo>
                  <a:pt x="85" y="50"/>
                </a:lnTo>
                <a:lnTo>
                  <a:pt x="77" y="50"/>
                </a:lnTo>
                <a:lnTo>
                  <a:pt x="68" y="50"/>
                </a:lnTo>
                <a:lnTo>
                  <a:pt x="63" y="46"/>
                </a:lnTo>
                <a:lnTo>
                  <a:pt x="58" y="41"/>
                </a:lnTo>
                <a:lnTo>
                  <a:pt x="55" y="40"/>
                </a:lnTo>
                <a:lnTo>
                  <a:pt x="55" y="38"/>
                </a:lnTo>
                <a:lnTo>
                  <a:pt x="53" y="33"/>
                </a:lnTo>
                <a:lnTo>
                  <a:pt x="53" y="30"/>
                </a:lnTo>
                <a:lnTo>
                  <a:pt x="53" y="25"/>
                </a:lnTo>
                <a:lnTo>
                  <a:pt x="75" y="6"/>
                </a:lnTo>
                <a:lnTo>
                  <a:pt x="75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975440" y="3419640"/>
            <a:ext cx="1494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88" y="43"/>
                </a:moveTo>
                <a:lnTo>
                  <a:pt x="60" y="13"/>
                </a:lnTo>
                <a:lnTo>
                  <a:pt x="62" y="16"/>
                </a:lnTo>
                <a:lnTo>
                  <a:pt x="63" y="21"/>
                </a:lnTo>
                <a:lnTo>
                  <a:pt x="65" y="26"/>
                </a:lnTo>
                <a:lnTo>
                  <a:pt x="67" y="30"/>
                </a:lnTo>
                <a:lnTo>
                  <a:pt x="67" y="35"/>
                </a:lnTo>
                <a:lnTo>
                  <a:pt x="65" y="43"/>
                </a:lnTo>
                <a:lnTo>
                  <a:pt x="65" y="46"/>
                </a:lnTo>
                <a:lnTo>
                  <a:pt x="63" y="51"/>
                </a:lnTo>
                <a:lnTo>
                  <a:pt x="62" y="56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0" y="28"/>
                </a:lnTo>
                <a:lnTo>
                  <a:pt x="65" y="83"/>
                </a:lnTo>
                <a:lnTo>
                  <a:pt x="70" y="85"/>
                </a:lnTo>
                <a:lnTo>
                  <a:pt x="72" y="85"/>
                </a:lnTo>
                <a:lnTo>
                  <a:pt x="75" y="85"/>
                </a:lnTo>
                <a:lnTo>
                  <a:pt x="78" y="85"/>
                </a:lnTo>
                <a:lnTo>
                  <a:pt x="82" y="85"/>
                </a:lnTo>
                <a:lnTo>
                  <a:pt x="83" y="83"/>
                </a:lnTo>
                <a:lnTo>
                  <a:pt x="87" y="80"/>
                </a:lnTo>
                <a:lnTo>
                  <a:pt x="88" y="78"/>
                </a:lnTo>
                <a:lnTo>
                  <a:pt x="90" y="73"/>
                </a:lnTo>
                <a:lnTo>
                  <a:pt x="92" y="72"/>
                </a:lnTo>
                <a:lnTo>
                  <a:pt x="92" y="67"/>
                </a:lnTo>
                <a:lnTo>
                  <a:pt x="93" y="61"/>
                </a:lnTo>
                <a:lnTo>
                  <a:pt x="93" y="56"/>
                </a:lnTo>
                <a:lnTo>
                  <a:pt x="92" y="51"/>
                </a:lnTo>
                <a:lnTo>
                  <a:pt x="90" y="46"/>
                </a:lnTo>
                <a:lnTo>
                  <a:pt x="90" y="45"/>
                </a:lnTo>
                <a:lnTo>
                  <a:pt x="88" y="43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947000" y="3506760"/>
            <a:ext cx="120600" cy="85680"/>
          </a:xfrm>
          <a:custGeom>
            <a:avLst/>
            <a:gdLst/>
            <a:ahLst/>
            <a:rect l="l" t="t" r="r" b="b"/>
            <a:pathLst>
              <a:path w="76" h="54">
                <a:moveTo>
                  <a:pt x="75" y="18"/>
                </a:moveTo>
                <a:lnTo>
                  <a:pt x="63" y="8"/>
                </a:lnTo>
                <a:lnTo>
                  <a:pt x="63" y="12"/>
                </a:lnTo>
                <a:lnTo>
                  <a:pt x="66" y="13"/>
                </a:lnTo>
                <a:lnTo>
                  <a:pt x="66" y="18"/>
                </a:lnTo>
                <a:lnTo>
                  <a:pt x="63" y="23"/>
                </a:lnTo>
                <a:lnTo>
                  <a:pt x="61" y="28"/>
                </a:lnTo>
                <a:lnTo>
                  <a:pt x="60" y="33"/>
                </a:lnTo>
                <a:lnTo>
                  <a:pt x="56" y="35"/>
                </a:lnTo>
                <a:lnTo>
                  <a:pt x="51" y="40"/>
                </a:lnTo>
                <a:lnTo>
                  <a:pt x="46" y="40"/>
                </a:lnTo>
                <a:lnTo>
                  <a:pt x="43" y="4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43" y="50"/>
                </a:lnTo>
                <a:lnTo>
                  <a:pt x="46" y="52"/>
                </a:lnTo>
                <a:lnTo>
                  <a:pt x="50" y="53"/>
                </a:lnTo>
                <a:lnTo>
                  <a:pt x="53" y="53"/>
                </a:lnTo>
                <a:lnTo>
                  <a:pt x="58" y="52"/>
                </a:lnTo>
                <a:lnTo>
                  <a:pt x="61" y="52"/>
                </a:lnTo>
                <a:lnTo>
                  <a:pt x="63" y="47"/>
                </a:lnTo>
                <a:lnTo>
                  <a:pt x="68" y="45"/>
                </a:lnTo>
                <a:lnTo>
                  <a:pt x="71" y="42"/>
                </a:lnTo>
                <a:lnTo>
                  <a:pt x="73" y="37"/>
                </a:lnTo>
                <a:lnTo>
                  <a:pt x="75" y="33"/>
                </a:lnTo>
                <a:lnTo>
                  <a:pt x="75" y="28"/>
                </a:lnTo>
                <a:lnTo>
                  <a:pt x="75" y="23"/>
                </a:lnTo>
                <a:lnTo>
                  <a:pt x="75" y="18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45400" y="3519360"/>
            <a:ext cx="271440" cy="123840"/>
          </a:xfrm>
          <a:custGeom>
            <a:avLst/>
            <a:gdLst/>
            <a:ahLst/>
            <a:rect l="l" t="t" r="r" b="b"/>
            <a:pathLst>
              <a:path w="171" h="78">
                <a:moveTo>
                  <a:pt x="163" y="34"/>
                </a:moveTo>
                <a:lnTo>
                  <a:pt x="162" y="39"/>
                </a:lnTo>
                <a:lnTo>
                  <a:pt x="162" y="42"/>
                </a:lnTo>
                <a:lnTo>
                  <a:pt x="160" y="44"/>
                </a:lnTo>
                <a:lnTo>
                  <a:pt x="158" y="45"/>
                </a:lnTo>
                <a:lnTo>
                  <a:pt x="155" y="49"/>
                </a:lnTo>
                <a:lnTo>
                  <a:pt x="153" y="49"/>
                </a:lnTo>
                <a:lnTo>
                  <a:pt x="150" y="49"/>
                </a:lnTo>
                <a:lnTo>
                  <a:pt x="100" y="15"/>
                </a:lnTo>
                <a:lnTo>
                  <a:pt x="97" y="15"/>
                </a:lnTo>
                <a:lnTo>
                  <a:pt x="95" y="15"/>
                </a:lnTo>
                <a:lnTo>
                  <a:pt x="93" y="17"/>
                </a:lnTo>
                <a:lnTo>
                  <a:pt x="93" y="20"/>
                </a:lnTo>
                <a:lnTo>
                  <a:pt x="93" y="22"/>
                </a:lnTo>
                <a:lnTo>
                  <a:pt x="93" y="27"/>
                </a:lnTo>
                <a:lnTo>
                  <a:pt x="3" y="0"/>
                </a:lnTo>
                <a:lnTo>
                  <a:pt x="3" y="5"/>
                </a:lnTo>
                <a:lnTo>
                  <a:pt x="3" y="12"/>
                </a:lnTo>
                <a:lnTo>
                  <a:pt x="3" y="17"/>
                </a:lnTo>
                <a:lnTo>
                  <a:pt x="1" y="20"/>
                </a:ln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29"/>
                </a:lnTo>
                <a:lnTo>
                  <a:pt x="5" y="29"/>
                </a:lnTo>
                <a:lnTo>
                  <a:pt x="6" y="32"/>
                </a:lnTo>
                <a:lnTo>
                  <a:pt x="8" y="32"/>
                </a:lnTo>
                <a:lnTo>
                  <a:pt x="10" y="32"/>
                </a:lnTo>
                <a:lnTo>
                  <a:pt x="11" y="32"/>
                </a:lnTo>
                <a:lnTo>
                  <a:pt x="13" y="32"/>
                </a:lnTo>
                <a:lnTo>
                  <a:pt x="15" y="27"/>
                </a:lnTo>
                <a:lnTo>
                  <a:pt x="15" y="25"/>
                </a:lnTo>
                <a:lnTo>
                  <a:pt x="16" y="25"/>
                </a:lnTo>
                <a:lnTo>
                  <a:pt x="18" y="22"/>
                </a:lnTo>
                <a:lnTo>
                  <a:pt x="21" y="22"/>
                </a:lnTo>
                <a:lnTo>
                  <a:pt x="23" y="22"/>
                </a:lnTo>
                <a:lnTo>
                  <a:pt x="26" y="22"/>
                </a:lnTo>
                <a:lnTo>
                  <a:pt x="28" y="25"/>
                </a:lnTo>
                <a:lnTo>
                  <a:pt x="31" y="27"/>
                </a:lnTo>
                <a:lnTo>
                  <a:pt x="35" y="29"/>
                </a:lnTo>
                <a:lnTo>
                  <a:pt x="35" y="32"/>
                </a:lnTo>
                <a:lnTo>
                  <a:pt x="35" y="34"/>
                </a:lnTo>
                <a:lnTo>
                  <a:pt x="35" y="37"/>
                </a:lnTo>
                <a:lnTo>
                  <a:pt x="37" y="34"/>
                </a:lnTo>
                <a:lnTo>
                  <a:pt x="40" y="34"/>
                </a:lnTo>
                <a:lnTo>
                  <a:pt x="43" y="34"/>
                </a:lnTo>
                <a:lnTo>
                  <a:pt x="47" y="34"/>
                </a:lnTo>
                <a:lnTo>
                  <a:pt x="48" y="37"/>
                </a:lnTo>
                <a:lnTo>
                  <a:pt x="52" y="39"/>
                </a:lnTo>
                <a:lnTo>
                  <a:pt x="55" y="42"/>
                </a:lnTo>
                <a:lnTo>
                  <a:pt x="57" y="44"/>
                </a:lnTo>
                <a:lnTo>
                  <a:pt x="57" y="49"/>
                </a:lnTo>
                <a:lnTo>
                  <a:pt x="58" y="49"/>
                </a:lnTo>
                <a:lnTo>
                  <a:pt x="58" y="54"/>
                </a:lnTo>
                <a:lnTo>
                  <a:pt x="60" y="54"/>
                </a:lnTo>
                <a:lnTo>
                  <a:pt x="62" y="54"/>
                </a:lnTo>
                <a:lnTo>
                  <a:pt x="65" y="54"/>
                </a:lnTo>
                <a:lnTo>
                  <a:pt x="68" y="54"/>
                </a:lnTo>
                <a:lnTo>
                  <a:pt x="72" y="55"/>
                </a:lnTo>
                <a:lnTo>
                  <a:pt x="73" y="55"/>
                </a:lnTo>
                <a:lnTo>
                  <a:pt x="77" y="59"/>
                </a:lnTo>
                <a:lnTo>
                  <a:pt x="77" y="60"/>
                </a:lnTo>
                <a:lnTo>
                  <a:pt x="78" y="62"/>
                </a:lnTo>
                <a:lnTo>
                  <a:pt x="122" y="77"/>
                </a:lnTo>
                <a:lnTo>
                  <a:pt x="128" y="74"/>
                </a:lnTo>
                <a:lnTo>
                  <a:pt x="132" y="72"/>
                </a:lnTo>
                <a:lnTo>
                  <a:pt x="135" y="70"/>
                </a:lnTo>
                <a:lnTo>
                  <a:pt x="137" y="65"/>
                </a:lnTo>
                <a:lnTo>
                  <a:pt x="140" y="62"/>
                </a:lnTo>
                <a:lnTo>
                  <a:pt x="140" y="59"/>
                </a:lnTo>
                <a:lnTo>
                  <a:pt x="140" y="54"/>
                </a:lnTo>
                <a:lnTo>
                  <a:pt x="150" y="59"/>
                </a:lnTo>
                <a:lnTo>
                  <a:pt x="153" y="60"/>
                </a:lnTo>
                <a:lnTo>
                  <a:pt x="157" y="59"/>
                </a:lnTo>
                <a:lnTo>
                  <a:pt x="160" y="59"/>
                </a:lnTo>
                <a:lnTo>
                  <a:pt x="162" y="54"/>
                </a:lnTo>
                <a:lnTo>
                  <a:pt x="165" y="50"/>
                </a:lnTo>
                <a:lnTo>
                  <a:pt x="168" y="49"/>
                </a:lnTo>
                <a:lnTo>
                  <a:pt x="168" y="44"/>
                </a:lnTo>
                <a:lnTo>
                  <a:pt x="170" y="42"/>
                </a:lnTo>
                <a:lnTo>
                  <a:pt x="163" y="3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7886520" y="3547800"/>
            <a:ext cx="98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59880" y="3618000"/>
            <a:ext cx="45720" cy="3312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15"/>
                </a:moveTo>
                <a:lnTo>
                  <a:pt x="1" y="15"/>
                </a:lnTo>
                <a:lnTo>
                  <a:pt x="3" y="12"/>
                </a:lnTo>
                <a:lnTo>
                  <a:pt x="5" y="10"/>
                </a:lnTo>
                <a:lnTo>
                  <a:pt x="6" y="10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0"/>
                </a:lnTo>
                <a:lnTo>
                  <a:pt x="28" y="8"/>
                </a:lnTo>
                <a:lnTo>
                  <a:pt x="6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829640" y="360504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5" y="8"/>
                </a:moveTo>
                <a:lnTo>
                  <a:pt x="25" y="11"/>
                </a:lnTo>
                <a:lnTo>
                  <a:pt x="25" y="13"/>
                </a:lnTo>
                <a:lnTo>
                  <a:pt x="25" y="16"/>
                </a:lnTo>
                <a:lnTo>
                  <a:pt x="25" y="18"/>
                </a:lnTo>
                <a:lnTo>
                  <a:pt x="24" y="18"/>
                </a:lnTo>
                <a:lnTo>
                  <a:pt x="22" y="20"/>
                </a:lnTo>
                <a:lnTo>
                  <a:pt x="20" y="23"/>
                </a:lnTo>
                <a:lnTo>
                  <a:pt x="19" y="23"/>
                </a:lnTo>
                <a:lnTo>
                  <a:pt x="15" y="23"/>
                </a:lnTo>
                <a:lnTo>
                  <a:pt x="14" y="23"/>
                </a:lnTo>
                <a:lnTo>
                  <a:pt x="12" y="23"/>
                </a:lnTo>
                <a:lnTo>
                  <a:pt x="9" y="23"/>
                </a:lnTo>
                <a:lnTo>
                  <a:pt x="7" y="23"/>
                </a:lnTo>
                <a:lnTo>
                  <a:pt x="5" y="20"/>
                </a:lnTo>
                <a:lnTo>
                  <a:pt x="4" y="18"/>
                </a:lnTo>
                <a:lnTo>
                  <a:pt x="2" y="16"/>
                </a:lnTo>
                <a:lnTo>
                  <a:pt x="0" y="13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4" y="5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1"/>
                </a:lnTo>
                <a:lnTo>
                  <a:pt x="20" y="1"/>
                </a:lnTo>
                <a:lnTo>
                  <a:pt x="24" y="5"/>
                </a:lnTo>
                <a:lnTo>
                  <a:pt x="24" y="6"/>
                </a:lnTo>
                <a:lnTo>
                  <a:pt x="25" y="8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794720" y="3573360"/>
            <a:ext cx="3636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21" y="26"/>
                </a:move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9" y="25"/>
                </a:lnTo>
                <a:lnTo>
                  <a:pt x="7" y="25"/>
                </a:lnTo>
                <a:lnTo>
                  <a:pt x="6" y="20"/>
                </a:lnTo>
                <a:lnTo>
                  <a:pt x="4" y="16"/>
                </a:lnTo>
                <a:lnTo>
                  <a:pt x="2" y="16"/>
                </a:lnTo>
                <a:lnTo>
                  <a:pt x="2" y="11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21" y="10"/>
                </a:lnTo>
                <a:lnTo>
                  <a:pt x="21" y="11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6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794720" y="3573360"/>
            <a:ext cx="4428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4" y="36"/>
                </a:moveTo>
                <a:lnTo>
                  <a:pt x="22" y="33"/>
                </a:lnTo>
                <a:lnTo>
                  <a:pt x="24" y="31"/>
                </a:lnTo>
                <a:lnTo>
                  <a:pt x="24" y="28"/>
                </a:lnTo>
                <a:lnTo>
                  <a:pt x="24" y="26"/>
                </a:lnTo>
                <a:lnTo>
                  <a:pt x="26" y="25"/>
                </a:lnTo>
                <a:lnTo>
                  <a:pt x="26" y="21"/>
                </a:lnTo>
                <a:lnTo>
                  <a:pt x="27" y="20"/>
                </a:lnTo>
                <a:lnTo>
                  <a:pt x="27" y="15"/>
                </a:lnTo>
                <a:lnTo>
                  <a:pt x="26" y="11"/>
                </a:lnTo>
                <a:lnTo>
                  <a:pt x="26" y="10"/>
                </a:lnTo>
                <a:lnTo>
                  <a:pt x="24" y="8"/>
                </a:lnTo>
                <a:lnTo>
                  <a:pt x="21" y="5"/>
                </a:lnTo>
                <a:lnTo>
                  <a:pt x="17" y="3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19" y="8"/>
                </a:lnTo>
                <a:lnTo>
                  <a:pt x="21" y="10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5"/>
                </a:lnTo>
                <a:lnTo>
                  <a:pt x="21" y="26"/>
                </a:lnTo>
                <a:lnTo>
                  <a:pt x="19" y="26"/>
                </a:ln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7" y="25"/>
                </a:lnTo>
                <a:lnTo>
                  <a:pt x="6" y="20"/>
                </a:lnTo>
                <a:lnTo>
                  <a:pt x="4" y="20"/>
                </a:lnTo>
                <a:lnTo>
                  <a:pt x="4" y="16"/>
                </a:lnTo>
                <a:lnTo>
                  <a:pt x="2" y="11"/>
                </a:lnTo>
                <a:lnTo>
                  <a:pt x="0" y="10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2" y="16"/>
                </a:lnTo>
                <a:lnTo>
                  <a:pt x="2" y="20"/>
                </a:lnTo>
                <a:lnTo>
                  <a:pt x="4" y="21"/>
                </a:lnTo>
                <a:lnTo>
                  <a:pt x="6" y="26"/>
                </a:lnTo>
                <a:lnTo>
                  <a:pt x="9" y="31"/>
                </a:lnTo>
                <a:lnTo>
                  <a:pt x="11" y="31"/>
                </a:lnTo>
                <a:lnTo>
                  <a:pt x="12" y="33"/>
                </a:lnTo>
                <a:lnTo>
                  <a:pt x="14" y="33"/>
                </a:lnTo>
                <a:lnTo>
                  <a:pt x="17" y="36"/>
                </a:lnTo>
                <a:lnTo>
                  <a:pt x="24" y="36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765920" y="3570120"/>
            <a:ext cx="30240" cy="28800"/>
          </a:xfrm>
          <a:custGeom>
            <a:avLst/>
            <a:gdLst/>
            <a:ahLst/>
            <a:rect l="l" t="t" r="r" b="b"/>
            <a:pathLst>
              <a:path w="19" h="18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5" y="10"/>
                </a:lnTo>
                <a:lnTo>
                  <a:pt x="8" y="10"/>
                </a:lnTo>
                <a:lnTo>
                  <a:pt x="8" y="12"/>
                </a:lnTo>
                <a:lnTo>
                  <a:pt x="13" y="12"/>
                </a:lnTo>
                <a:lnTo>
                  <a:pt x="15" y="12"/>
                </a:lnTo>
                <a:lnTo>
                  <a:pt x="18" y="10"/>
                </a:lnTo>
                <a:lnTo>
                  <a:pt x="18" y="12"/>
                </a:lnTo>
                <a:lnTo>
                  <a:pt x="18" y="13"/>
                </a:lnTo>
                <a:lnTo>
                  <a:pt x="18" y="17"/>
                </a:lnTo>
                <a:lnTo>
                  <a:pt x="17" y="17"/>
                </a:lnTo>
                <a:lnTo>
                  <a:pt x="15" y="17"/>
                </a:lnTo>
                <a:lnTo>
                  <a:pt x="10" y="17"/>
                </a:lnTo>
                <a:lnTo>
                  <a:pt x="8" y="17"/>
                </a:lnTo>
                <a:lnTo>
                  <a:pt x="7" y="13"/>
                </a:lnTo>
                <a:lnTo>
                  <a:pt x="3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65920" y="3554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15"/>
                </a:moveTo>
                <a:lnTo>
                  <a:pt x="20" y="15"/>
                </a:lnTo>
                <a:lnTo>
                  <a:pt x="18" y="17"/>
                </a:lnTo>
                <a:lnTo>
                  <a:pt x="18" y="20"/>
                </a:lnTo>
                <a:lnTo>
                  <a:pt x="15" y="22"/>
                </a:lnTo>
                <a:lnTo>
                  <a:pt x="10" y="22"/>
                </a:lnTo>
                <a:lnTo>
                  <a:pt x="8" y="22"/>
                </a:lnTo>
                <a:lnTo>
                  <a:pt x="7" y="20"/>
                </a:lnTo>
                <a:lnTo>
                  <a:pt x="5" y="20"/>
                </a:lnTo>
                <a:lnTo>
                  <a:pt x="3" y="17"/>
                </a:lnTo>
                <a:lnTo>
                  <a:pt x="2" y="15"/>
                </a:lnTo>
                <a:lnTo>
                  <a:pt x="0" y="10"/>
                </a:lnTo>
                <a:lnTo>
                  <a:pt x="2" y="5"/>
                </a:lnTo>
                <a:lnTo>
                  <a:pt x="2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5" y="3"/>
                </a:lnTo>
                <a:lnTo>
                  <a:pt x="18" y="5"/>
                </a:lnTo>
                <a:lnTo>
                  <a:pt x="22" y="7"/>
                </a:lnTo>
                <a:lnTo>
                  <a:pt x="22" y="10"/>
                </a:lnTo>
                <a:lnTo>
                  <a:pt x="22" y="12"/>
                </a:lnTo>
                <a:lnTo>
                  <a:pt x="22" y="15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666200" y="3286080"/>
            <a:ext cx="85680" cy="285840"/>
          </a:xfrm>
          <a:custGeom>
            <a:avLst/>
            <a:gdLst/>
            <a:ahLst/>
            <a:rect l="l" t="t" r="r" b="b"/>
            <a:pathLst>
              <a:path w="54" h="180">
                <a:moveTo>
                  <a:pt x="50" y="169"/>
                </a:moveTo>
                <a:lnTo>
                  <a:pt x="51" y="167"/>
                </a:lnTo>
                <a:lnTo>
                  <a:pt x="53" y="164"/>
                </a:lnTo>
                <a:lnTo>
                  <a:pt x="53" y="159"/>
                </a:lnTo>
                <a:lnTo>
                  <a:pt x="53" y="152"/>
                </a:lnTo>
                <a:lnTo>
                  <a:pt x="53" y="147"/>
                </a:lnTo>
                <a:lnTo>
                  <a:pt x="36" y="23"/>
                </a:lnTo>
                <a:lnTo>
                  <a:pt x="30" y="10"/>
                </a:lnTo>
                <a:lnTo>
                  <a:pt x="26" y="2"/>
                </a:lnTo>
                <a:lnTo>
                  <a:pt x="0" y="0"/>
                </a:lnTo>
                <a:lnTo>
                  <a:pt x="1" y="2"/>
                </a:lnTo>
                <a:lnTo>
                  <a:pt x="5" y="17"/>
                </a:lnTo>
                <a:lnTo>
                  <a:pt x="8" y="33"/>
                </a:lnTo>
                <a:lnTo>
                  <a:pt x="10" y="50"/>
                </a:lnTo>
                <a:lnTo>
                  <a:pt x="11" y="64"/>
                </a:lnTo>
                <a:lnTo>
                  <a:pt x="13" y="80"/>
                </a:lnTo>
                <a:lnTo>
                  <a:pt x="15" y="97"/>
                </a:lnTo>
                <a:lnTo>
                  <a:pt x="15" y="114"/>
                </a:lnTo>
                <a:lnTo>
                  <a:pt x="16" y="130"/>
                </a:lnTo>
                <a:lnTo>
                  <a:pt x="15" y="147"/>
                </a:lnTo>
                <a:lnTo>
                  <a:pt x="15" y="162"/>
                </a:lnTo>
                <a:lnTo>
                  <a:pt x="13" y="179"/>
                </a:lnTo>
                <a:lnTo>
                  <a:pt x="50" y="1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373880" y="3286080"/>
            <a:ext cx="319320" cy="37800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84" y="0"/>
                </a:moveTo>
                <a:lnTo>
                  <a:pt x="185" y="2"/>
                </a:lnTo>
                <a:lnTo>
                  <a:pt x="189" y="17"/>
                </a:lnTo>
                <a:lnTo>
                  <a:pt x="192" y="33"/>
                </a:lnTo>
                <a:lnTo>
                  <a:pt x="194" y="49"/>
                </a:lnTo>
                <a:lnTo>
                  <a:pt x="195" y="64"/>
                </a:lnTo>
                <a:lnTo>
                  <a:pt x="197" y="80"/>
                </a:lnTo>
                <a:lnTo>
                  <a:pt x="199" y="97"/>
                </a:lnTo>
                <a:lnTo>
                  <a:pt x="199" y="114"/>
                </a:lnTo>
                <a:lnTo>
                  <a:pt x="200" y="129"/>
                </a:lnTo>
                <a:lnTo>
                  <a:pt x="199" y="145"/>
                </a:lnTo>
                <a:lnTo>
                  <a:pt x="199" y="162"/>
                </a:lnTo>
                <a:lnTo>
                  <a:pt x="197" y="179"/>
                </a:lnTo>
                <a:lnTo>
                  <a:pt x="194" y="207"/>
                </a:lnTo>
                <a:lnTo>
                  <a:pt x="0" y="237"/>
                </a:lnTo>
                <a:lnTo>
                  <a:pt x="0" y="0"/>
                </a:lnTo>
                <a:lnTo>
                  <a:pt x="184" y="0"/>
                </a:lnTo>
              </a:path>
            </a:pathLst>
          </a:custGeom>
          <a:solidFill>
            <a:srgbClr val="0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4964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35440" y="2590920"/>
            <a:ext cx="527040" cy="1425600"/>
          </a:xfrm>
          <a:custGeom>
            <a:avLst/>
            <a:gdLst/>
            <a:ahLst/>
            <a:rect l="l" t="t" r="r" b="b"/>
            <a:pathLst>
              <a:path w="332" h="898">
                <a:moveTo>
                  <a:pt x="0" y="149"/>
                </a:moveTo>
                <a:lnTo>
                  <a:pt x="0" y="747"/>
                </a:lnTo>
                <a:lnTo>
                  <a:pt x="166" y="897"/>
                </a:lnTo>
                <a:lnTo>
                  <a:pt x="331" y="747"/>
                </a:lnTo>
                <a:lnTo>
                  <a:pt x="331" y="149"/>
                </a:lnTo>
                <a:lnTo>
                  <a:pt x="166" y="0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716280" y="2471760"/>
            <a:ext cx="536760" cy="1434960"/>
          </a:xfrm>
          <a:custGeom>
            <a:avLst/>
            <a:gdLst/>
            <a:ahLst/>
            <a:rect l="l" t="t" r="r" b="b"/>
            <a:pathLst>
              <a:path w="338" h="904">
                <a:moveTo>
                  <a:pt x="0" y="150"/>
                </a:moveTo>
                <a:lnTo>
                  <a:pt x="0" y="752"/>
                </a:lnTo>
                <a:lnTo>
                  <a:pt x="169" y="903"/>
                </a:lnTo>
                <a:lnTo>
                  <a:pt x="337" y="752"/>
                </a:lnTo>
                <a:lnTo>
                  <a:pt x="337" y="150"/>
                </a:lnTo>
                <a:lnTo>
                  <a:pt x="169" y="0"/>
                </a:lnTo>
                <a:lnTo>
                  <a:pt x="0" y="15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3370680" y="3107160"/>
            <a:ext cx="1239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47640" y="4143240"/>
            <a:ext cx="1073160" cy="241560"/>
          </a:xfrm>
          <a:custGeom>
            <a:avLst/>
            <a:gdLst/>
            <a:ahLst/>
            <a:rect l="l" t="t" r="r" b="b"/>
            <a:pathLst>
              <a:path w="676" h="152">
                <a:moveTo>
                  <a:pt x="675" y="0"/>
                </a:moveTo>
                <a:lnTo>
                  <a:pt x="672" y="20"/>
                </a:lnTo>
                <a:lnTo>
                  <a:pt x="665" y="37"/>
                </a:lnTo>
                <a:lnTo>
                  <a:pt x="654" y="54"/>
                </a:lnTo>
                <a:lnTo>
                  <a:pt x="637" y="65"/>
                </a:lnTo>
                <a:lnTo>
                  <a:pt x="619" y="72"/>
                </a:lnTo>
                <a:lnTo>
                  <a:pt x="600" y="75"/>
                </a:lnTo>
                <a:lnTo>
                  <a:pt x="412" y="75"/>
                </a:lnTo>
                <a:lnTo>
                  <a:pt x="393" y="77"/>
                </a:lnTo>
                <a:lnTo>
                  <a:pt x="375" y="85"/>
                </a:lnTo>
                <a:lnTo>
                  <a:pt x="360" y="97"/>
                </a:lnTo>
                <a:lnTo>
                  <a:pt x="347" y="112"/>
                </a:lnTo>
                <a:lnTo>
                  <a:pt x="340" y="130"/>
                </a:lnTo>
                <a:lnTo>
                  <a:pt x="337" y="151"/>
                </a:lnTo>
                <a:lnTo>
                  <a:pt x="335" y="130"/>
                </a:lnTo>
                <a:lnTo>
                  <a:pt x="327" y="112"/>
                </a:lnTo>
                <a:lnTo>
                  <a:pt x="315" y="97"/>
                </a:lnTo>
                <a:lnTo>
                  <a:pt x="300" y="85"/>
                </a:lnTo>
                <a:lnTo>
                  <a:pt x="282" y="77"/>
                </a:lnTo>
                <a:lnTo>
                  <a:pt x="262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27360" y="4143240"/>
            <a:ext cx="3338640" cy="241560"/>
          </a:xfrm>
          <a:custGeom>
            <a:avLst/>
            <a:gdLst/>
            <a:ahLst/>
            <a:rect l="l" t="t" r="r" b="b"/>
            <a:pathLst>
              <a:path w="2103" h="152">
                <a:moveTo>
                  <a:pt x="2102" y="0"/>
                </a:moveTo>
                <a:lnTo>
                  <a:pt x="2098" y="20"/>
                </a:lnTo>
                <a:lnTo>
                  <a:pt x="2092" y="37"/>
                </a:lnTo>
                <a:lnTo>
                  <a:pt x="2080" y="54"/>
                </a:lnTo>
                <a:lnTo>
                  <a:pt x="2063" y="65"/>
                </a:lnTo>
                <a:lnTo>
                  <a:pt x="2045" y="72"/>
                </a:lnTo>
                <a:lnTo>
                  <a:pt x="2027" y="75"/>
                </a:lnTo>
                <a:lnTo>
                  <a:pt x="1126" y="75"/>
                </a:lnTo>
                <a:lnTo>
                  <a:pt x="1106" y="77"/>
                </a:lnTo>
                <a:lnTo>
                  <a:pt x="1087" y="85"/>
                </a:lnTo>
                <a:lnTo>
                  <a:pt x="1072" y="97"/>
                </a:lnTo>
                <a:lnTo>
                  <a:pt x="1061" y="112"/>
                </a:lnTo>
                <a:lnTo>
                  <a:pt x="1052" y="130"/>
                </a:lnTo>
                <a:lnTo>
                  <a:pt x="1051" y="151"/>
                </a:lnTo>
                <a:lnTo>
                  <a:pt x="1047" y="130"/>
                </a:lnTo>
                <a:lnTo>
                  <a:pt x="1041" y="112"/>
                </a:lnTo>
                <a:lnTo>
                  <a:pt x="1029" y="97"/>
                </a:lnTo>
                <a:lnTo>
                  <a:pt x="1012" y="85"/>
                </a:lnTo>
                <a:lnTo>
                  <a:pt x="994" y="77"/>
                </a:lnTo>
                <a:lnTo>
                  <a:pt x="976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21680" y="4143240"/>
            <a:ext cx="1193760" cy="241560"/>
          </a:xfrm>
          <a:custGeom>
            <a:avLst/>
            <a:gdLst/>
            <a:ahLst/>
            <a:rect l="l" t="t" r="r" b="b"/>
            <a:pathLst>
              <a:path w="752" h="152">
                <a:moveTo>
                  <a:pt x="751" y="0"/>
                </a:moveTo>
                <a:lnTo>
                  <a:pt x="747" y="20"/>
                </a:lnTo>
                <a:lnTo>
                  <a:pt x="741" y="37"/>
                </a:lnTo>
                <a:lnTo>
                  <a:pt x="729" y="54"/>
                </a:lnTo>
                <a:lnTo>
                  <a:pt x="712" y="65"/>
                </a:lnTo>
                <a:lnTo>
                  <a:pt x="694" y="72"/>
                </a:lnTo>
                <a:lnTo>
                  <a:pt x="676" y="75"/>
                </a:lnTo>
                <a:lnTo>
                  <a:pt x="450" y="75"/>
                </a:lnTo>
                <a:lnTo>
                  <a:pt x="430" y="77"/>
                </a:lnTo>
                <a:lnTo>
                  <a:pt x="412" y="85"/>
                </a:lnTo>
                <a:lnTo>
                  <a:pt x="397" y="97"/>
                </a:lnTo>
                <a:lnTo>
                  <a:pt x="385" y="112"/>
                </a:lnTo>
                <a:lnTo>
                  <a:pt x="377" y="130"/>
                </a:lnTo>
                <a:lnTo>
                  <a:pt x="375" y="151"/>
                </a:lnTo>
                <a:lnTo>
                  <a:pt x="372" y="130"/>
                </a:lnTo>
                <a:lnTo>
                  <a:pt x="365" y="112"/>
                </a:lnTo>
                <a:lnTo>
                  <a:pt x="354" y="97"/>
                </a:lnTo>
                <a:lnTo>
                  <a:pt x="337" y="85"/>
                </a:lnTo>
                <a:lnTo>
                  <a:pt x="319" y="77"/>
                </a:lnTo>
                <a:lnTo>
                  <a:pt x="300" y="75"/>
                </a:lnTo>
                <a:lnTo>
                  <a:pt x="75" y="75"/>
                </a:lnTo>
                <a:lnTo>
                  <a:pt x="55" y="72"/>
                </a:lnTo>
                <a:lnTo>
                  <a:pt x="37" y="65"/>
                </a:lnTo>
                <a:lnTo>
                  <a:pt x="22" y="54"/>
                </a:lnTo>
                <a:lnTo>
                  <a:pt x="10" y="37"/>
                </a:lnTo>
                <a:lnTo>
                  <a:pt x="2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602160"/>
            <a:ext cx="879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257600" y="3857760"/>
            <a:ext cx="1347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P Monit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18600" y="2894040"/>
            <a:ext cx="807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2188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3164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5280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443720" y="2084400"/>
            <a:ext cx="882720" cy="773280"/>
            <a:chOff x="7443720" y="2084400"/>
            <a:chExt cx="882720" cy="773280"/>
          </a:xfrm>
        </p:grpSpPr>
        <p:grpSp>
          <p:nvGrpSpPr>
            <p:cNvPr id="1015" name=""/>
            <p:cNvGrpSpPr/>
            <p:nvPr/>
          </p:nvGrpSpPr>
          <p:grpSpPr>
            <a:xfrm>
              <a:off x="7443720" y="2084400"/>
              <a:ext cx="882720" cy="773280"/>
              <a:chOff x="7443720" y="2084400"/>
              <a:chExt cx="882720" cy="773280"/>
            </a:xfrm>
          </p:grpSpPr>
          <p:sp>
            <p:nvSpPr>
              <p:cNvPr id="1016" name=""/>
              <p:cNvSpPr/>
              <p:nvPr/>
            </p:nvSpPr>
            <p:spPr>
              <a:xfrm>
                <a:off x="7443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548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62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70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804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883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95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074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18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26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358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43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54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62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70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581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589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5992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7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18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62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374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453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550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629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741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820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932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7011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7104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184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7295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37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486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565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764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7738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781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792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008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812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8199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8310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839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84872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856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8645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8757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883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8948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9027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120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920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9311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939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950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958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966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9754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9833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45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0024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0136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0215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0312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0391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050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058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0694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0773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085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09460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1057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1136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1248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132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14212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15040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161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169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1770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188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196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2058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213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224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2328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244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2519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2612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269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277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2882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96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3073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3152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448400" y="2084400"/>
                <a:ext cx="878040" cy="773280"/>
              </a:xfrm>
              <a:custGeom>
                <a:avLst/>
                <a:gdLst/>
                <a:ahLst/>
                <a:rect l="l" t="t" r="r" b="b"/>
                <a:pathLst>
                  <a:path w="553" h="487">
                    <a:moveTo>
                      <a:pt x="277" y="0"/>
                    </a:moveTo>
                    <a:lnTo>
                      <a:pt x="249" y="0"/>
                    </a:lnTo>
                    <a:lnTo>
                      <a:pt x="220" y="1"/>
                    </a:lnTo>
                    <a:lnTo>
                      <a:pt x="193" y="3"/>
                    </a:lnTo>
                    <a:lnTo>
                      <a:pt x="168" y="5"/>
                    </a:lnTo>
                    <a:lnTo>
                      <a:pt x="143" y="8"/>
                    </a:lnTo>
                    <a:lnTo>
                      <a:pt x="122" y="10"/>
                    </a:lnTo>
                    <a:lnTo>
                      <a:pt x="100" y="13"/>
                    </a:lnTo>
                    <a:lnTo>
                      <a:pt x="80" y="18"/>
                    </a:lnTo>
                    <a:lnTo>
                      <a:pt x="63" y="21"/>
                    </a:lnTo>
                    <a:lnTo>
                      <a:pt x="47" y="26"/>
                    </a:lnTo>
                    <a:lnTo>
                      <a:pt x="32" y="31"/>
                    </a:lnTo>
                    <a:lnTo>
                      <a:pt x="22" y="36"/>
                    </a:lnTo>
                    <a:lnTo>
                      <a:pt x="12" y="43"/>
                    </a:lnTo>
                    <a:lnTo>
                      <a:pt x="5" y="48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426"/>
                    </a:lnTo>
                    <a:lnTo>
                      <a:pt x="0" y="429"/>
                    </a:lnTo>
                    <a:lnTo>
                      <a:pt x="0" y="431"/>
                    </a:lnTo>
                    <a:lnTo>
                      <a:pt x="5" y="438"/>
                    </a:lnTo>
                    <a:lnTo>
                      <a:pt x="12" y="444"/>
                    </a:lnTo>
                    <a:lnTo>
                      <a:pt x="22" y="449"/>
                    </a:lnTo>
                    <a:lnTo>
                      <a:pt x="32" y="454"/>
                    </a:lnTo>
                    <a:lnTo>
                      <a:pt x="47" y="459"/>
                    </a:lnTo>
                    <a:lnTo>
                      <a:pt x="63" y="464"/>
                    </a:lnTo>
                    <a:lnTo>
                      <a:pt x="80" y="468"/>
                    </a:lnTo>
                    <a:lnTo>
                      <a:pt x="100" y="473"/>
                    </a:lnTo>
                    <a:lnTo>
                      <a:pt x="122" y="476"/>
                    </a:lnTo>
                    <a:lnTo>
                      <a:pt x="143" y="478"/>
                    </a:lnTo>
                    <a:lnTo>
                      <a:pt x="168" y="481"/>
                    </a:lnTo>
                    <a:lnTo>
                      <a:pt x="193" y="483"/>
                    </a:lnTo>
                    <a:lnTo>
                      <a:pt x="220" y="485"/>
                    </a:lnTo>
                    <a:lnTo>
                      <a:pt x="249" y="486"/>
                    </a:lnTo>
                    <a:lnTo>
                      <a:pt x="277" y="486"/>
                    </a:lnTo>
                    <a:lnTo>
                      <a:pt x="304" y="486"/>
                    </a:lnTo>
                    <a:lnTo>
                      <a:pt x="332" y="485"/>
                    </a:lnTo>
                    <a:lnTo>
                      <a:pt x="359" y="483"/>
                    </a:lnTo>
                    <a:lnTo>
                      <a:pt x="384" y="481"/>
                    </a:lnTo>
                    <a:lnTo>
                      <a:pt x="409" y="478"/>
                    </a:lnTo>
                    <a:lnTo>
                      <a:pt x="430" y="476"/>
                    </a:lnTo>
                    <a:lnTo>
                      <a:pt x="452" y="473"/>
                    </a:lnTo>
                    <a:lnTo>
                      <a:pt x="472" y="468"/>
                    </a:lnTo>
                    <a:lnTo>
                      <a:pt x="489" y="464"/>
                    </a:lnTo>
                    <a:lnTo>
                      <a:pt x="505" y="459"/>
                    </a:lnTo>
                    <a:lnTo>
                      <a:pt x="520" y="454"/>
                    </a:lnTo>
                    <a:lnTo>
                      <a:pt x="530" y="449"/>
                    </a:lnTo>
                    <a:lnTo>
                      <a:pt x="540" y="444"/>
                    </a:lnTo>
                    <a:lnTo>
                      <a:pt x="547" y="438"/>
                    </a:lnTo>
                    <a:lnTo>
                      <a:pt x="552" y="431"/>
                    </a:lnTo>
                    <a:lnTo>
                      <a:pt x="552" y="429"/>
                    </a:lnTo>
                    <a:lnTo>
                      <a:pt x="552" y="426"/>
                    </a:lnTo>
                    <a:lnTo>
                      <a:pt x="552" y="60"/>
                    </a:lnTo>
                    <a:lnTo>
                      <a:pt x="552" y="57"/>
                    </a:lnTo>
                    <a:lnTo>
                      <a:pt x="552" y="55"/>
                    </a:lnTo>
                    <a:lnTo>
                      <a:pt x="547" y="48"/>
                    </a:lnTo>
                    <a:lnTo>
                      <a:pt x="540" y="43"/>
                    </a:lnTo>
                    <a:lnTo>
                      <a:pt x="530" y="36"/>
                    </a:lnTo>
                    <a:lnTo>
                      <a:pt x="520" y="31"/>
                    </a:lnTo>
                    <a:lnTo>
                      <a:pt x="505" y="26"/>
                    </a:lnTo>
                    <a:lnTo>
                      <a:pt x="489" y="21"/>
                    </a:lnTo>
                    <a:lnTo>
                      <a:pt x="472" y="18"/>
                    </a:lnTo>
                    <a:lnTo>
                      <a:pt x="452" y="13"/>
                    </a:lnTo>
                    <a:lnTo>
                      <a:pt x="430" y="10"/>
                    </a:lnTo>
                    <a:lnTo>
                      <a:pt x="409" y="8"/>
                    </a:lnTo>
                    <a:lnTo>
                      <a:pt x="384" y="5"/>
                    </a:lnTo>
                    <a:lnTo>
                      <a:pt x="359" y="3"/>
                    </a:lnTo>
                    <a:lnTo>
                      <a:pt x="332" y="1"/>
                    </a:lnTo>
                    <a:lnTo>
                      <a:pt x="304" y="0"/>
                    </a:lnTo>
                    <a:lnTo>
                      <a:pt x="277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48400" y="2084400"/>
                <a:ext cx="865440" cy="760320"/>
              </a:xfrm>
              <a:custGeom>
                <a:avLst/>
                <a:gdLst/>
                <a:ahLst/>
                <a:rect l="l" t="t" r="r" b="b"/>
                <a:pathLst>
                  <a:path w="545" h="479">
                    <a:moveTo>
                      <a:pt x="273" y="0"/>
                    </a:moveTo>
                    <a:lnTo>
                      <a:pt x="245" y="0"/>
                    </a:lnTo>
                    <a:lnTo>
                      <a:pt x="217" y="1"/>
                    </a:lnTo>
                    <a:lnTo>
                      <a:pt x="190" y="3"/>
                    </a:lnTo>
                    <a:lnTo>
                      <a:pt x="166" y="5"/>
                    </a:lnTo>
                    <a:lnTo>
                      <a:pt x="141" y="8"/>
                    </a:lnTo>
                    <a:lnTo>
                      <a:pt x="120" y="10"/>
                    </a:lnTo>
                    <a:lnTo>
                      <a:pt x="99" y="13"/>
                    </a:lnTo>
                    <a:lnTo>
                      <a:pt x="79" y="18"/>
                    </a:lnTo>
                    <a:lnTo>
                      <a:pt x="62" y="21"/>
                    </a:lnTo>
                    <a:lnTo>
                      <a:pt x="46" y="26"/>
                    </a:lnTo>
                    <a:lnTo>
                      <a:pt x="32" y="30"/>
                    </a:lnTo>
                    <a:lnTo>
                      <a:pt x="22" y="35"/>
                    </a:lnTo>
                    <a:lnTo>
                      <a:pt x="12" y="42"/>
                    </a:lnTo>
                    <a:lnTo>
                      <a:pt x="5" y="47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419"/>
                    </a:lnTo>
                    <a:lnTo>
                      <a:pt x="0" y="422"/>
                    </a:lnTo>
                    <a:lnTo>
                      <a:pt x="0" y="424"/>
                    </a:lnTo>
                    <a:lnTo>
                      <a:pt x="5" y="431"/>
                    </a:lnTo>
                    <a:lnTo>
                      <a:pt x="12" y="437"/>
                    </a:lnTo>
                    <a:lnTo>
                      <a:pt x="22" y="442"/>
                    </a:lnTo>
                    <a:lnTo>
                      <a:pt x="32" y="447"/>
                    </a:lnTo>
                    <a:lnTo>
                      <a:pt x="46" y="451"/>
                    </a:lnTo>
                    <a:lnTo>
                      <a:pt x="62" y="456"/>
                    </a:lnTo>
                    <a:lnTo>
                      <a:pt x="79" y="460"/>
                    </a:lnTo>
                    <a:lnTo>
                      <a:pt x="99" y="465"/>
                    </a:lnTo>
                    <a:lnTo>
                      <a:pt x="120" y="468"/>
                    </a:lnTo>
                    <a:lnTo>
                      <a:pt x="141" y="470"/>
                    </a:lnTo>
                    <a:lnTo>
                      <a:pt x="166" y="473"/>
                    </a:lnTo>
                    <a:lnTo>
                      <a:pt x="190" y="475"/>
                    </a:lnTo>
                    <a:lnTo>
                      <a:pt x="217" y="477"/>
                    </a:lnTo>
                    <a:lnTo>
                      <a:pt x="245" y="478"/>
                    </a:lnTo>
                    <a:lnTo>
                      <a:pt x="273" y="478"/>
                    </a:lnTo>
                    <a:lnTo>
                      <a:pt x="300" y="478"/>
                    </a:lnTo>
                    <a:lnTo>
                      <a:pt x="327" y="477"/>
                    </a:lnTo>
                    <a:lnTo>
                      <a:pt x="354" y="475"/>
                    </a:lnTo>
                    <a:lnTo>
                      <a:pt x="378" y="473"/>
                    </a:lnTo>
                    <a:lnTo>
                      <a:pt x="403" y="470"/>
                    </a:lnTo>
                    <a:lnTo>
                      <a:pt x="424" y="468"/>
                    </a:lnTo>
                    <a:lnTo>
                      <a:pt x="445" y="465"/>
                    </a:lnTo>
                    <a:lnTo>
                      <a:pt x="465" y="460"/>
                    </a:lnTo>
                    <a:lnTo>
                      <a:pt x="482" y="456"/>
                    </a:lnTo>
                    <a:lnTo>
                      <a:pt x="498" y="451"/>
                    </a:lnTo>
                    <a:lnTo>
                      <a:pt x="512" y="447"/>
                    </a:lnTo>
                    <a:lnTo>
                      <a:pt x="522" y="442"/>
                    </a:lnTo>
                    <a:lnTo>
                      <a:pt x="532" y="437"/>
                    </a:lnTo>
                    <a:lnTo>
                      <a:pt x="539" y="431"/>
                    </a:lnTo>
                    <a:lnTo>
                      <a:pt x="544" y="424"/>
                    </a:lnTo>
                    <a:lnTo>
                      <a:pt x="544" y="422"/>
                    </a:lnTo>
                    <a:lnTo>
                      <a:pt x="544" y="419"/>
                    </a:lnTo>
                    <a:lnTo>
                      <a:pt x="544" y="59"/>
                    </a:lnTo>
                    <a:lnTo>
                      <a:pt x="544" y="56"/>
                    </a:lnTo>
                    <a:lnTo>
                      <a:pt x="544" y="54"/>
                    </a:lnTo>
                    <a:lnTo>
                      <a:pt x="539" y="47"/>
                    </a:lnTo>
                    <a:lnTo>
                      <a:pt x="532" y="42"/>
                    </a:lnTo>
                    <a:lnTo>
                      <a:pt x="522" y="35"/>
                    </a:lnTo>
                    <a:lnTo>
                      <a:pt x="512" y="30"/>
                    </a:lnTo>
                    <a:lnTo>
                      <a:pt x="498" y="26"/>
                    </a:lnTo>
                    <a:lnTo>
                      <a:pt x="482" y="21"/>
                    </a:lnTo>
                    <a:lnTo>
                      <a:pt x="465" y="18"/>
                    </a:lnTo>
                    <a:lnTo>
                      <a:pt x="445" y="13"/>
                    </a:lnTo>
                    <a:lnTo>
                      <a:pt x="424" y="10"/>
                    </a:lnTo>
                    <a:lnTo>
                      <a:pt x="403" y="8"/>
                    </a:lnTo>
                    <a:lnTo>
                      <a:pt x="378" y="5"/>
                    </a:lnTo>
                    <a:lnTo>
                      <a:pt x="354" y="3"/>
                    </a:lnTo>
                    <a:lnTo>
                      <a:pt x="327" y="1"/>
                    </a:lnTo>
                    <a:lnTo>
                      <a:pt x="300" y="0"/>
                    </a:lnTo>
                    <a:lnTo>
                      <a:pt x="27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443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4548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462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470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4804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4883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4995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074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18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526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58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43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54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62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70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81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89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992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07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18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262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74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453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50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629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41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20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6932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011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104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184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295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37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486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565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764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7738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781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92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8008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812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99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310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39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4872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56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8645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8757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883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8948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9027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9120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920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9311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939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950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958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966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9754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9833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9945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0024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0136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215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0312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391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050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058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0694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0773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085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09460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1057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1136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1248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132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14212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5040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161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69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770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188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196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2058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213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224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2328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244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2519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2612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269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77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882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296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3073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152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7448400" y="2084400"/>
              <a:ext cx="865440" cy="182520"/>
            </a:xfrm>
            <a:custGeom>
              <a:avLst/>
              <a:gdLst/>
              <a:ahLst/>
              <a:rect l="l" t="t" r="r" b="b"/>
              <a:pathLst>
                <a:path w="545" h="115">
                  <a:moveTo>
                    <a:pt x="0" y="56"/>
                  </a:moveTo>
                  <a:lnTo>
                    <a:pt x="0" y="59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12" y="75"/>
                  </a:lnTo>
                  <a:lnTo>
                    <a:pt x="22" y="79"/>
                  </a:lnTo>
                  <a:lnTo>
                    <a:pt x="32" y="84"/>
                  </a:lnTo>
                  <a:lnTo>
                    <a:pt x="46" y="89"/>
                  </a:lnTo>
                  <a:lnTo>
                    <a:pt x="62" y="93"/>
                  </a:lnTo>
                  <a:lnTo>
                    <a:pt x="79" y="96"/>
                  </a:lnTo>
                  <a:lnTo>
                    <a:pt x="99" y="101"/>
                  </a:lnTo>
                  <a:lnTo>
                    <a:pt x="120" y="105"/>
                  </a:lnTo>
                  <a:lnTo>
                    <a:pt x="141" y="106"/>
                  </a:lnTo>
                  <a:lnTo>
                    <a:pt x="166" y="109"/>
                  </a:lnTo>
                  <a:lnTo>
                    <a:pt x="190" y="110"/>
                  </a:lnTo>
                  <a:lnTo>
                    <a:pt x="217" y="112"/>
                  </a:lnTo>
                  <a:lnTo>
                    <a:pt x="245" y="114"/>
                  </a:lnTo>
                  <a:lnTo>
                    <a:pt x="273" y="114"/>
                  </a:lnTo>
                  <a:lnTo>
                    <a:pt x="300" y="114"/>
                  </a:lnTo>
                  <a:lnTo>
                    <a:pt x="327" y="112"/>
                  </a:lnTo>
                  <a:lnTo>
                    <a:pt x="354" y="110"/>
                  </a:lnTo>
                  <a:lnTo>
                    <a:pt x="378" y="109"/>
                  </a:lnTo>
                  <a:lnTo>
                    <a:pt x="403" y="106"/>
                  </a:lnTo>
                  <a:lnTo>
                    <a:pt x="424" y="105"/>
                  </a:lnTo>
                  <a:lnTo>
                    <a:pt x="445" y="101"/>
                  </a:lnTo>
                  <a:lnTo>
                    <a:pt x="465" y="96"/>
                  </a:lnTo>
                  <a:lnTo>
                    <a:pt x="482" y="93"/>
                  </a:lnTo>
                  <a:lnTo>
                    <a:pt x="498" y="89"/>
                  </a:lnTo>
                  <a:lnTo>
                    <a:pt x="512" y="84"/>
                  </a:lnTo>
                  <a:lnTo>
                    <a:pt x="522" y="79"/>
                  </a:lnTo>
                  <a:lnTo>
                    <a:pt x="532" y="75"/>
                  </a:lnTo>
                  <a:lnTo>
                    <a:pt x="539" y="68"/>
                  </a:lnTo>
                  <a:lnTo>
                    <a:pt x="544" y="63"/>
                  </a:lnTo>
                  <a:lnTo>
                    <a:pt x="544" y="59"/>
                  </a:lnTo>
                  <a:lnTo>
                    <a:pt x="544" y="56"/>
                  </a:lnTo>
                  <a:lnTo>
                    <a:pt x="544" y="53"/>
                  </a:lnTo>
                  <a:lnTo>
                    <a:pt x="544" y="51"/>
                  </a:lnTo>
                  <a:lnTo>
                    <a:pt x="539" y="45"/>
                  </a:lnTo>
                  <a:lnTo>
                    <a:pt x="532" y="40"/>
                  </a:lnTo>
                  <a:lnTo>
                    <a:pt x="522" y="34"/>
                  </a:lnTo>
                  <a:lnTo>
                    <a:pt x="512" y="29"/>
                  </a:lnTo>
                  <a:lnTo>
                    <a:pt x="498" y="24"/>
                  </a:lnTo>
                  <a:lnTo>
                    <a:pt x="482" y="20"/>
                  </a:lnTo>
                  <a:lnTo>
                    <a:pt x="465" y="17"/>
                  </a:lnTo>
                  <a:lnTo>
                    <a:pt x="445" y="12"/>
                  </a:lnTo>
                  <a:lnTo>
                    <a:pt x="424" y="9"/>
                  </a:lnTo>
                  <a:lnTo>
                    <a:pt x="403" y="7"/>
                  </a:lnTo>
                  <a:lnTo>
                    <a:pt x="378" y="5"/>
                  </a:lnTo>
                  <a:lnTo>
                    <a:pt x="354" y="3"/>
                  </a:lnTo>
                  <a:lnTo>
                    <a:pt x="327" y="1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5" y="0"/>
                  </a:lnTo>
                  <a:lnTo>
                    <a:pt x="217" y="1"/>
                  </a:lnTo>
                  <a:lnTo>
                    <a:pt x="190" y="3"/>
                  </a:lnTo>
                  <a:lnTo>
                    <a:pt x="166" y="5"/>
                  </a:lnTo>
                  <a:lnTo>
                    <a:pt x="141" y="7"/>
                  </a:lnTo>
                  <a:lnTo>
                    <a:pt x="120" y="9"/>
                  </a:lnTo>
                  <a:lnTo>
                    <a:pt x="99" y="12"/>
                  </a:lnTo>
                  <a:lnTo>
                    <a:pt x="79" y="17"/>
                  </a:lnTo>
                  <a:lnTo>
                    <a:pt x="62" y="20"/>
                  </a:lnTo>
                  <a:lnTo>
                    <a:pt x="46" y="24"/>
                  </a:lnTo>
                  <a:lnTo>
                    <a:pt x="32" y="29"/>
                  </a:lnTo>
                  <a:lnTo>
                    <a:pt x="22" y="34"/>
                  </a:lnTo>
                  <a:lnTo>
                    <a:pt x="12" y="40"/>
                  </a:lnTo>
                  <a:lnTo>
                    <a:pt x="5" y="45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48400" y="208440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277" y="0"/>
                  </a:moveTo>
                  <a:lnTo>
                    <a:pt x="249" y="0"/>
                  </a:lnTo>
                  <a:lnTo>
                    <a:pt x="220" y="1"/>
                  </a:lnTo>
                  <a:lnTo>
                    <a:pt x="193" y="3"/>
                  </a:lnTo>
                  <a:lnTo>
                    <a:pt x="168" y="5"/>
                  </a:lnTo>
                  <a:lnTo>
                    <a:pt x="143" y="8"/>
                  </a:lnTo>
                  <a:lnTo>
                    <a:pt x="122" y="10"/>
                  </a:lnTo>
                  <a:lnTo>
                    <a:pt x="100" y="13"/>
                  </a:lnTo>
                  <a:lnTo>
                    <a:pt x="80" y="18"/>
                  </a:lnTo>
                  <a:lnTo>
                    <a:pt x="63" y="21"/>
                  </a:lnTo>
                  <a:lnTo>
                    <a:pt x="47" y="26"/>
                  </a:lnTo>
                  <a:lnTo>
                    <a:pt x="32" y="31"/>
                  </a:lnTo>
                  <a:lnTo>
                    <a:pt x="22" y="36"/>
                  </a:lnTo>
                  <a:lnTo>
                    <a:pt x="12" y="43"/>
                  </a:lnTo>
                  <a:lnTo>
                    <a:pt x="5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426"/>
                  </a:lnTo>
                  <a:lnTo>
                    <a:pt x="0" y="429"/>
                  </a:lnTo>
                  <a:lnTo>
                    <a:pt x="0" y="431"/>
                  </a:lnTo>
                  <a:lnTo>
                    <a:pt x="5" y="438"/>
                  </a:lnTo>
                  <a:lnTo>
                    <a:pt x="12" y="444"/>
                  </a:lnTo>
                  <a:lnTo>
                    <a:pt x="22" y="449"/>
                  </a:lnTo>
                  <a:lnTo>
                    <a:pt x="32" y="454"/>
                  </a:lnTo>
                  <a:lnTo>
                    <a:pt x="47" y="459"/>
                  </a:lnTo>
                  <a:lnTo>
                    <a:pt x="63" y="464"/>
                  </a:lnTo>
                  <a:lnTo>
                    <a:pt x="80" y="468"/>
                  </a:lnTo>
                  <a:lnTo>
                    <a:pt x="100" y="473"/>
                  </a:lnTo>
                  <a:lnTo>
                    <a:pt x="122" y="476"/>
                  </a:lnTo>
                  <a:lnTo>
                    <a:pt x="143" y="478"/>
                  </a:lnTo>
                  <a:lnTo>
                    <a:pt x="168" y="481"/>
                  </a:lnTo>
                  <a:lnTo>
                    <a:pt x="193" y="483"/>
                  </a:lnTo>
                  <a:lnTo>
                    <a:pt x="220" y="485"/>
                  </a:lnTo>
                  <a:lnTo>
                    <a:pt x="249" y="486"/>
                  </a:lnTo>
                  <a:lnTo>
                    <a:pt x="277" y="486"/>
                  </a:lnTo>
                  <a:lnTo>
                    <a:pt x="304" y="486"/>
                  </a:lnTo>
                  <a:lnTo>
                    <a:pt x="332" y="485"/>
                  </a:lnTo>
                  <a:lnTo>
                    <a:pt x="359" y="483"/>
                  </a:lnTo>
                  <a:lnTo>
                    <a:pt x="384" y="481"/>
                  </a:lnTo>
                  <a:lnTo>
                    <a:pt x="409" y="478"/>
                  </a:lnTo>
                  <a:lnTo>
                    <a:pt x="430" y="476"/>
                  </a:lnTo>
                  <a:lnTo>
                    <a:pt x="452" y="473"/>
                  </a:lnTo>
                  <a:lnTo>
                    <a:pt x="472" y="468"/>
                  </a:lnTo>
                  <a:lnTo>
                    <a:pt x="489" y="464"/>
                  </a:lnTo>
                  <a:lnTo>
                    <a:pt x="505" y="459"/>
                  </a:lnTo>
                  <a:lnTo>
                    <a:pt x="520" y="454"/>
                  </a:lnTo>
                  <a:lnTo>
                    <a:pt x="530" y="449"/>
                  </a:lnTo>
                  <a:lnTo>
                    <a:pt x="540" y="444"/>
                  </a:lnTo>
                  <a:lnTo>
                    <a:pt x="547" y="438"/>
                  </a:lnTo>
                  <a:lnTo>
                    <a:pt x="552" y="431"/>
                  </a:lnTo>
                  <a:lnTo>
                    <a:pt x="552" y="429"/>
                  </a:lnTo>
                  <a:lnTo>
                    <a:pt x="552" y="426"/>
                  </a:lnTo>
                  <a:lnTo>
                    <a:pt x="552" y="60"/>
                  </a:lnTo>
                  <a:lnTo>
                    <a:pt x="552" y="57"/>
                  </a:lnTo>
                  <a:lnTo>
                    <a:pt x="552" y="55"/>
                  </a:lnTo>
                  <a:lnTo>
                    <a:pt x="547" y="48"/>
                  </a:lnTo>
                  <a:lnTo>
                    <a:pt x="540" y="43"/>
                  </a:lnTo>
                  <a:lnTo>
                    <a:pt x="530" y="36"/>
                  </a:lnTo>
                  <a:lnTo>
                    <a:pt x="520" y="31"/>
                  </a:lnTo>
                  <a:lnTo>
                    <a:pt x="505" y="26"/>
                  </a:lnTo>
                  <a:lnTo>
                    <a:pt x="489" y="21"/>
                  </a:lnTo>
                  <a:lnTo>
                    <a:pt x="472" y="18"/>
                  </a:lnTo>
                  <a:lnTo>
                    <a:pt x="452" y="13"/>
                  </a:lnTo>
                  <a:lnTo>
                    <a:pt x="430" y="10"/>
                  </a:lnTo>
                  <a:lnTo>
                    <a:pt x="409" y="8"/>
                  </a:lnTo>
                  <a:lnTo>
                    <a:pt x="384" y="5"/>
                  </a:lnTo>
                  <a:lnTo>
                    <a:pt x="359" y="3"/>
                  </a:lnTo>
                  <a:lnTo>
                    <a:pt x="332" y="1"/>
                  </a:lnTo>
                  <a:lnTo>
                    <a:pt x="304" y="0"/>
                  </a:lnTo>
                  <a:lnTo>
                    <a:pt x="2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8400" y="2179800"/>
              <a:ext cx="878040" cy="99720"/>
            </a:xfrm>
            <a:custGeom>
              <a:avLst/>
              <a:gdLst/>
              <a:ahLst/>
              <a:rect l="l" t="t" r="r" b="b"/>
              <a:pathLst>
                <a:path w="553" h="63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32" y="30"/>
                  </a:lnTo>
                  <a:lnTo>
                    <a:pt x="47" y="35"/>
                  </a:lnTo>
                  <a:lnTo>
                    <a:pt x="63" y="40"/>
                  </a:lnTo>
                  <a:lnTo>
                    <a:pt x="80" y="43"/>
                  </a:lnTo>
                  <a:lnTo>
                    <a:pt x="100" y="48"/>
                  </a:lnTo>
                  <a:lnTo>
                    <a:pt x="122" y="52"/>
                  </a:lnTo>
                  <a:lnTo>
                    <a:pt x="143" y="53"/>
                  </a:lnTo>
                  <a:lnTo>
                    <a:pt x="168" y="57"/>
                  </a:lnTo>
                  <a:lnTo>
                    <a:pt x="193" y="58"/>
                  </a:lnTo>
                  <a:lnTo>
                    <a:pt x="220" y="60"/>
                  </a:lnTo>
                  <a:lnTo>
                    <a:pt x="249" y="62"/>
                  </a:lnTo>
                  <a:lnTo>
                    <a:pt x="277" y="62"/>
                  </a:lnTo>
                  <a:lnTo>
                    <a:pt x="304" y="62"/>
                  </a:lnTo>
                  <a:lnTo>
                    <a:pt x="332" y="60"/>
                  </a:lnTo>
                  <a:lnTo>
                    <a:pt x="359" y="58"/>
                  </a:lnTo>
                  <a:lnTo>
                    <a:pt x="384" y="57"/>
                  </a:lnTo>
                  <a:lnTo>
                    <a:pt x="409" y="53"/>
                  </a:lnTo>
                  <a:lnTo>
                    <a:pt x="430" y="52"/>
                  </a:lnTo>
                  <a:lnTo>
                    <a:pt x="452" y="48"/>
                  </a:lnTo>
                  <a:lnTo>
                    <a:pt x="472" y="43"/>
                  </a:lnTo>
                  <a:lnTo>
                    <a:pt x="489" y="40"/>
                  </a:lnTo>
                  <a:lnTo>
                    <a:pt x="505" y="35"/>
                  </a:lnTo>
                  <a:lnTo>
                    <a:pt x="520" y="30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7" y="13"/>
                  </a:lnTo>
                  <a:lnTo>
                    <a:pt x="552" y="7"/>
                  </a:lnTo>
                  <a:lnTo>
                    <a:pt x="552" y="3"/>
                  </a:lnTo>
                  <a:lnTo>
                    <a:pt x="5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804384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256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0092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83288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6124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9140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29560" y="27558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729560" y="267336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729560" y="259092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29560" y="250812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729560" y="242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29560" y="2344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81480" y="243828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181480" y="350532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181480" y="297180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796080" y="2274840"/>
            <a:ext cx="581040" cy="4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6796080" y="2503080"/>
            <a:ext cx="581040" cy="7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6796080" y="2732040"/>
            <a:ext cx="581040" cy="101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97520" y="37339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183280" y="251604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83280" y="304956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83280" y="358308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594080" y="4038480"/>
            <a:ext cx="386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 IP   SNA LU6.2  Netbios   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0400" y="2838600"/>
            <a:ext cx="8060040" cy="668160"/>
          </a:xfrm>
          <a:custGeom>
            <a:avLst/>
            <a:gdLst/>
            <a:ahLst/>
            <a:rect l="l" t="t" r="r" b="b"/>
            <a:pathLst>
              <a:path w="5077" h="421">
                <a:moveTo>
                  <a:pt x="3" y="10"/>
                </a:moveTo>
                <a:lnTo>
                  <a:pt x="9" y="16"/>
                </a:lnTo>
                <a:lnTo>
                  <a:pt x="26" y="27"/>
                </a:lnTo>
                <a:lnTo>
                  <a:pt x="47" y="37"/>
                </a:lnTo>
                <a:lnTo>
                  <a:pt x="79" y="48"/>
                </a:lnTo>
                <a:lnTo>
                  <a:pt x="128" y="57"/>
                </a:lnTo>
                <a:lnTo>
                  <a:pt x="178" y="68"/>
                </a:lnTo>
                <a:lnTo>
                  <a:pt x="240" y="76"/>
                </a:lnTo>
                <a:lnTo>
                  <a:pt x="312" y="85"/>
                </a:lnTo>
                <a:lnTo>
                  <a:pt x="395" y="97"/>
                </a:lnTo>
                <a:lnTo>
                  <a:pt x="486" y="106"/>
                </a:lnTo>
                <a:lnTo>
                  <a:pt x="581" y="113"/>
                </a:lnTo>
                <a:lnTo>
                  <a:pt x="687" y="120"/>
                </a:lnTo>
                <a:lnTo>
                  <a:pt x="797" y="129"/>
                </a:lnTo>
                <a:lnTo>
                  <a:pt x="921" y="136"/>
                </a:lnTo>
                <a:lnTo>
                  <a:pt x="1040" y="141"/>
                </a:lnTo>
                <a:lnTo>
                  <a:pt x="1175" y="148"/>
                </a:lnTo>
                <a:lnTo>
                  <a:pt x="1311" y="154"/>
                </a:lnTo>
                <a:lnTo>
                  <a:pt x="1452" y="159"/>
                </a:lnTo>
                <a:lnTo>
                  <a:pt x="1596" y="163"/>
                </a:lnTo>
                <a:lnTo>
                  <a:pt x="1743" y="165"/>
                </a:lnTo>
                <a:lnTo>
                  <a:pt x="1899" y="169"/>
                </a:lnTo>
                <a:lnTo>
                  <a:pt x="2055" y="172"/>
                </a:lnTo>
                <a:lnTo>
                  <a:pt x="2213" y="174"/>
                </a:lnTo>
                <a:lnTo>
                  <a:pt x="2364" y="175"/>
                </a:lnTo>
                <a:lnTo>
                  <a:pt x="2528" y="175"/>
                </a:lnTo>
                <a:lnTo>
                  <a:pt x="2687" y="175"/>
                </a:lnTo>
                <a:lnTo>
                  <a:pt x="2848" y="174"/>
                </a:lnTo>
                <a:lnTo>
                  <a:pt x="3005" y="172"/>
                </a:lnTo>
                <a:lnTo>
                  <a:pt x="3157" y="171"/>
                </a:lnTo>
                <a:lnTo>
                  <a:pt x="3313" y="165"/>
                </a:lnTo>
                <a:lnTo>
                  <a:pt x="3459" y="164"/>
                </a:lnTo>
                <a:lnTo>
                  <a:pt x="3608" y="159"/>
                </a:lnTo>
                <a:lnTo>
                  <a:pt x="3748" y="154"/>
                </a:lnTo>
                <a:lnTo>
                  <a:pt x="3888" y="149"/>
                </a:lnTo>
                <a:lnTo>
                  <a:pt x="4017" y="143"/>
                </a:lnTo>
                <a:lnTo>
                  <a:pt x="4146" y="137"/>
                </a:lnTo>
                <a:lnTo>
                  <a:pt x="4268" y="130"/>
                </a:lnTo>
                <a:lnTo>
                  <a:pt x="4380" y="122"/>
                </a:lnTo>
                <a:lnTo>
                  <a:pt x="4490" y="114"/>
                </a:lnTo>
                <a:lnTo>
                  <a:pt x="4583" y="107"/>
                </a:lnTo>
                <a:lnTo>
                  <a:pt x="4679" y="97"/>
                </a:lnTo>
                <a:lnTo>
                  <a:pt x="4754" y="89"/>
                </a:lnTo>
                <a:lnTo>
                  <a:pt x="4815" y="81"/>
                </a:lnTo>
                <a:lnTo>
                  <a:pt x="4891" y="70"/>
                </a:lnTo>
                <a:lnTo>
                  <a:pt x="4946" y="59"/>
                </a:lnTo>
                <a:lnTo>
                  <a:pt x="4993" y="49"/>
                </a:lnTo>
                <a:lnTo>
                  <a:pt x="5028" y="37"/>
                </a:lnTo>
                <a:lnTo>
                  <a:pt x="5060" y="27"/>
                </a:lnTo>
                <a:lnTo>
                  <a:pt x="5076" y="19"/>
                </a:lnTo>
                <a:lnTo>
                  <a:pt x="5076" y="22"/>
                </a:lnTo>
                <a:lnTo>
                  <a:pt x="5076" y="200"/>
                </a:lnTo>
                <a:lnTo>
                  <a:pt x="5061" y="210"/>
                </a:lnTo>
                <a:lnTo>
                  <a:pt x="5028" y="225"/>
                </a:lnTo>
                <a:lnTo>
                  <a:pt x="4990" y="241"/>
                </a:lnTo>
                <a:lnTo>
                  <a:pt x="4939" y="256"/>
                </a:lnTo>
                <a:lnTo>
                  <a:pt x="4891" y="269"/>
                </a:lnTo>
                <a:lnTo>
                  <a:pt x="4827" y="284"/>
                </a:lnTo>
                <a:lnTo>
                  <a:pt x="4754" y="297"/>
                </a:lnTo>
                <a:lnTo>
                  <a:pt x="4667" y="310"/>
                </a:lnTo>
                <a:lnTo>
                  <a:pt x="4580" y="322"/>
                </a:lnTo>
                <a:lnTo>
                  <a:pt x="4483" y="335"/>
                </a:lnTo>
                <a:lnTo>
                  <a:pt x="4382" y="346"/>
                </a:lnTo>
                <a:lnTo>
                  <a:pt x="4257" y="359"/>
                </a:lnTo>
                <a:lnTo>
                  <a:pt x="4153" y="368"/>
                </a:lnTo>
                <a:lnTo>
                  <a:pt x="4005" y="376"/>
                </a:lnTo>
                <a:lnTo>
                  <a:pt x="3883" y="385"/>
                </a:lnTo>
                <a:lnTo>
                  <a:pt x="3746" y="391"/>
                </a:lnTo>
                <a:lnTo>
                  <a:pt x="3603" y="399"/>
                </a:lnTo>
                <a:lnTo>
                  <a:pt x="3454" y="404"/>
                </a:lnTo>
                <a:lnTo>
                  <a:pt x="3306" y="410"/>
                </a:lnTo>
                <a:lnTo>
                  <a:pt x="3153" y="413"/>
                </a:lnTo>
                <a:lnTo>
                  <a:pt x="2999" y="416"/>
                </a:lnTo>
                <a:lnTo>
                  <a:pt x="2835" y="420"/>
                </a:lnTo>
                <a:lnTo>
                  <a:pt x="2682" y="420"/>
                </a:lnTo>
                <a:lnTo>
                  <a:pt x="2526" y="420"/>
                </a:lnTo>
                <a:lnTo>
                  <a:pt x="2361" y="420"/>
                </a:lnTo>
                <a:lnTo>
                  <a:pt x="2209" y="419"/>
                </a:lnTo>
                <a:lnTo>
                  <a:pt x="2052" y="416"/>
                </a:lnTo>
                <a:lnTo>
                  <a:pt x="1891" y="412"/>
                </a:lnTo>
                <a:lnTo>
                  <a:pt x="1737" y="410"/>
                </a:lnTo>
                <a:lnTo>
                  <a:pt x="1596" y="403"/>
                </a:lnTo>
                <a:lnTo>
                  <a:pt x="1449" y="398"/>
                </a:lnTo>
                <a:lnTo>
                  <a:pt x="1311" y="390"/>
                </a:lnTo>
                <a:lnTo>
                  <a:pt x="1170" y="383"/>
                </a:lnTo>
                <a:lnTo>
                  <a:pt x="1034" y="374"/>
                </a:lnTo>
                <a:lnTo>
                  <a:pt x="915" y="365"/>
                </a:lnTo>
                <a:lnTo>
                  <a:pt x="792" y="354"/>
                </a:lnTo>
                <a:lnTo>
                  <a:pt x="681" y="343"/>
                </a:lnTo>
                <a:lnTo>
                  <a:pt x="574" y="332"/>
                </a:lnTo>
                <a:lnTo>
                  <a:pt x="481" y="320"/>
                </a:lnTo>
                <a:lnTo>
                  <a:pt x="391" y="308"/>
                </a:lnTo>
                <a:lnTo>
                  <a:pt x="312" y="294"/>
                </a:lnTo>
                <a:lnTo>
                  <a:pt x="238" y="281"/>
                </a:lnTo>
                <a:lnTo>
                  <a:pt x="175" y="266"/>
                </a:lnTo>
                <a:lnTo>
                  <a:pt x="121" y="254"/>
                </a:lnTo>
                <a:lnTo>
                  <a:pt x="75" y="239"/>
                </a:lnTo>
                <a:lnTo>
                  <a:pt x="43" y="222"/>
                </a:lnTo>
                <a:lnTo>
                  <a:pt x="24" y="209"/>
                </a:lnTo>
                <a:lnTo>
                  <a:pt x="0" y="192"/>
                </a:lnTo>
                <a:lnTo>
                  <a:pt x="0" y="177"/>
                </a:lnTo>
                <a:lnTo>
                  <a:pt x="0" y="186"/>
                </a:lnTo>
                <a:lnTo>
                  <a:pt x="0" y="0"/>
                </a:lnTo>
                <a:lnTo>
                  <a:pt x="3" y="10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880" y="2521080"/>
            <a:ext cx="8064360" cy="608040"/>
          </a:xfrm>
          <a:prstGeom prst="ellipse">
            <a:avLst/>
          </a:prstGeom>
          <a:solidFill>
            <a:srgbClr val="e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99200" y="3116160"/>
            <a:ext cx="1701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318280" y="2193840"/>
            <a:ext cx="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9440" y="22147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43040" y="2212920"/>
            <a:ext cx="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74600" y="2244600"/>
            <a:ext cx="0" cy="3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930480" y="52498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24240" y="52498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16280" y="5526000"/>
            <a:ext cx="70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64400" y="524988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95640" y="561024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78280" y="5584680"/>
            <a:ext cx="150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58960" y="486900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746240" y="487368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39440" y="4898880"/>
            <a:ext cx="131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51680" y="4859280"/>
            <a:ext cx="841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422520" y="48736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8760" y="1760400"/>
            <a:ext cx="1299960" cy="4032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00560" y="183024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93640" y="522756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01880" y="1757520"/>
            <a:ext cx="1299960" cy="353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191320" y="177624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316320" y="1787400"/>
            <a:ext cx="1299960" cy="346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67600" y="176040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745160" y="1776240"/>
            <a:ext cx="1299960" cy="3524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36040" y="173844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140520" y="1751040"/>
            <a:ext cx="1299960" cy="384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43880" y="2206800"/>
            <a:ext cx="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39120" y="1751040"/>
            <a:ext cx="1299960" cy="384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096400" y="2206800"/>
            <a:ext cx="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972200" y="182088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-4680" y="679320"/>
            <a:ext cx="9078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ross Language, Cross Platfor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64880" y="177624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v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71600" y="151920"/>
            <a:ext cx="8596080" cy="12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Applications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74840" y="1600200"/>
            <a:ext cx="8364240" cy="381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iversal cli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verse styles of communic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48640" indent="-1828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ous, asynchronous and publish/subscrib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s and not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verse Quality of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48640" indent="-1828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ality of Service(QoS) issues such as guaranteed delivery and exactly-once delivery are very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48640" indent="-1828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ow for database independent synchronous  transaction management encapsulated within the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48640" indent="-1828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ynchronous transaction management with quality of service as an alternative to synchronous transaction managemen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48640" indent="-1828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famous 3”A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75920" y="3999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iversal Clien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954600" y="3879720"/>
            <a:ext cx="733320" cy="730440"/>
          </a:xfrm>
          <a:custGeom>
            <a:avLst/>
            <a:gdLst/>
            <a:ahLst/>
            <a:rect l="l" t="t" r="r" b="b"/>
            <a:pathLst>
              <a:path w="462" h="460">
                <a:moveTo>
                  <a:pt x="0" y="228"/>
                </a:moveTo>
                <a:lnTo>
                  <a:pt x="4" y="189"/>
                </a:lnTo>
                <a:lnTo>
                  <a:pt x="15" y="150"/>
                </a:lnTo>
                <a:lnTo>
                  <a:pt x="32" y="115"/>
                </a:lnTo>
                <a:lnTo>
                  <a:pt x="54" y="81"/>
                </a:lnTo>
                <a:lnTo>
                  <a:pt x="84" y="54"/>
                </a:lnTo>
                <a:lnTo>
                  <a:pt x="115" y="29"/>
                </a:lnTo>
                <a:lnTo>
                  <a:pt x="152" y="13"/>
                </a:lnTo>
                <a:lnTo>
                  <a:pt x="191" y="3"/>
                </a:lnTo>
                <a:lnTo>
                  <a:pt x="230" y="0"/>
                </a:lnTo>
                <a:lnTo>
                  <a:pt x="271" y="3"/>
                </a:lnTo>
                <a:lnTo>
                  <a:pt x="308" y="13"/>
                </a:lnTo>
                <a:lnTo>
                  <a:pt x="346" y="29"/>
                </a:lnTo>
                <a:lnTo>
                  <a:pt x="379" y="54"/>
                </a:lnTo>
                <a:lnTo>
                  <a:pt x="407" y="81"/>
                </a:lnTo>
                <a:lnTo>
                  <a:pt x="429" y="115"/>
                </a:lnTo>
                <a:lnTo>
                  <a:pt x="446" y="150"/>
                </a:lnTo>
                <a:lnTo>
                  <a:pt x="457" y="189"/>
                </a:lnTo>
                <a:lnTo>
                  <a:pt x="461" y="228"/>
                </a:lnTo>
                <a:lnTo>
                  <a:pt x="457" y="269"/>
                </a:lnTo>
                <a:lnTo>
                  <a:pt x="446" y="308"/>
                </a:lnTo>
                <a:lnTo>
                  <a:pt x="429" y="344"/>
                </a:lnTo>
                <a:lnTo>
                  <a:pt x="407" y="377"/>
                </a:lnTo>
                <a:lnTo>
                  <a:pt x="379" y="405"/>
                </a:lnTo>
                <a:lnTo>
                  <a:pt x="346" y="429"/>
                </a:lnTo>
                <a:lnTo>
                  <a:pt x="308" y="446"/>
                </a:lnTo>
                <a:lnTo>
                  <a:pt x="271" y="455"/>
                </a:lnTo>
                <a:lnTo>
                  <a:pt x="230" y="459"/>
                </a:lnTo>
                <a:lnTo>
                  <a:pt x="191" y="455"/>
                </a:lnTo>
                <a:lnTo>
                  <a:pt x="152" y="446"/>
                </a:lnTo>
                <a:lnTo>
                  <a:pt x="115" y="429"/>
                </a:lnTo>
                <a:lnTo>
                  <a:pt x="84" y="405"/>
                </a:lnTo>
                <a:lnTo>
                  <a:pt x="54" y="377"/>
                </a:lnTo>
                <a:lnTo>
                  <a:pt x="32" y="344"/>
                </a:lnTo>
                <a:lnTo>
                  <a:pt x="15" y="308"/>
                </a:lnTo>
                <a:lnTo>
                  <a:pt x="4" y="269"/>
                </a:lnTo>
                <a:lnTo>
                  <a:pt x="0" y="2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66800" y="1471680"/>
            <a:ext cx="2987640" cy="2523960"/>
          </a:xfrm>
          <a:custGeom>
            <a:avLst/>
            <a:gdLst/>
            <a:ahLst/>
            <a:rect l="l" t="t" r="r" b="b"/>
            <a:pathLst>
              <a:path w="1882" h="1590">
                <a:moveTo>
                  <a:pt x="0" y="1589"/>
                </a:moveTo>
                <a:lnTo>
                  <a:pt x="1881" y="1589"/>
                </a:lnTo>
                <a:lnTo>
                  <a:pt x="1881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35080"/>
            <a:ext cx="2425680" cy="1960560"/>
          </a:xfrm>
          <a:custGeom>
            <a:avLst/>
            <a:gdLst/>
            <a:ahLst/>
            <a:rect l="l" t="t" r="r" b="b"/>
            <a:pathLst>
              <a:path w="1528" h="1235">
                <a:moveTo>
                  <a:pt x="0" y="1234"/>
                </a:moveTo>
                <a:lnTo>
                  <a:pt x="1527" y="1234"/>
                </a:lnTo>
                <a:lnTo>
                  <a:pt x="1527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451240" y="2103480"/>
            <a:ext cx="1047600" cy="1843200"/>
          </a:xfrm>
          <a:custGeom>
            <a:avLst/>
            <a:gdLst/>
            <a:ahLst/>
            <a:rect l="l" t="t" r="r" b="b"/>
            <a:pathLst>
              <a:path w="660" h="1161">
                <a:moveTo>
                  <a:pt x="0" y="1160"/>
                </a:moveTo>
                <a:lnTo>
                  <a:pt x="659" y="1160"/>
                </a:lnTo>
                <a:lnTo>
                  <a:pt x="659" y="0"/>
                </a:lnTo>
                <a:lnTo>
                  <a:pt x="0" y="0"/>
                </a:lnTo>
                <a:lnTo>
                  <a:pt x="0" y="116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53692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6" y="183"/>
                </a:lnTo>
                <a:lnTo>
                  <a:pt x="219" y="209"/>
                </a:lnTo>
                <a:lnTo>
                  <a:pt x="195" y="227"/>
                </a:lnTo>
                <a:lnTo>
                  <a:pt x="169" y="242"/>
                </a:lnTo>
                <a:lnTo>
                  <a:pt x="139" y="249"/>
                </a:lnTo>
                <a:lnTo>
                  <a:pt x="109" y="249"/>
                </a:lnTo>
                <a:lnTo>
                  <a:pt x="80" y="242"/>
                </a:lnTo>
                <a:lnTo>
                  <a:pt x="54" y="227"/>
                </a:lnTo>
                <a:lnTo>
                  <a:pt x="31" y="209"/>
                </a:lnTo>
                <a:lnTo>
                  <a:pt x="13" y="183"/>
                </a:lnTo>
                <a:lnTo>
                  <a:pt x="2" y="155"/>
                </a:lnTo>
                <a:lnTo>
                  <a:pt x="0" y="125"/>
                </a:lnTo>
                <a:lnTo>
                  <a:pt x="2" y="95"/>
                </a:lnTo>
                <a:lnTo>
                  <a:pt x="13" y="67"/>
                </a:lnTo>
                <a:lnTo>
                  <a:pt x="31" y="41"/>
                </a:lnTo>
                <a:lnTo>
                  <a:pt x="54" y="21"/>
                </a:lnTo>
                <a:lnTo>
                  <a:pt x="80" y="8"/>
                </a:lnTo>
                <a:lnTo>
                  <a:pt x="109" y="0"/>
                </a:lnTo>
                <a:lnTo>
                  <a:pt x="139" y="0"/>
                </a:lnTo>
                <a:lnTo>
                  <a:pt x="169" y="8"/>
                </a:lnTo>
                <a:lnTo>
                  <a:pt x="195" y="21"/>
                </a:lnTo>
                <a:lnTo>
                  <a:pt x="219" y="41"/>
                </a:lnTo>
                <a:lnTo>
                  <a:pt x="236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06760" y="27288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3228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8" y="183"/>
                </a:lnTo>
                <a:lnTo>
                  <a:pt x="219" y="209"/>
                </a:lnTo>
                <a:lnTo>
                  <a:pt x="197" y="227"/>
                </a:lnTo>
                <a:lnTo>
                  <a:pt x="171" y="242"/>
                </a:lnTo>
                <a:lnTo>
                  <a:pt x="141" y="249"/>
                </a:lnTo>
                <a:lnTo>
                  <a:pt x="111" y="249"/>
                </a:lnTo>
                <a:lnTo>
                  <a:pt x="82" y="242"/>
                </a:lnTo>
                <a:lnTo>
                  <a:pt x="54" y="227"/>
                </a:lnTo>
                <a:lnTo>
                  <a:pt x="31" y="209"/>
                </a:lnTo>
                <a:lnTo>
                  <a:pt x="15" y="183"/>
                </a:lnTo>
                <a:lnTo>
                  <a:pt x="4" y="155"/>
                </a:lnTo>
                <a:lnTo>
                  <a:pt x="0" y="125"/>
                </a:lnTo>
                <a:lnTo>
                  <a:pt x="4" y="95"/>
                </a:lnTo>
                <a:lnTo>
                  <a:pt x="15" y="67"/>
                </a:lnTo>
                <a:lnTo>
                  <a:pt x="31" y="41"/>
                </a:lnTo>
                <a:lnTo>
                  <a:pt x="54" y="21"/>
                </a:lnTo>
                <a:lnTo>
                  <a:pt x="82" y="8"/>
                </a:lnTo>
                <a:lnTo>
                  <a:pt x="111" y="0"/>
                </a:lnTo>
                <a:lnTo>
                  <a:pt x="141" y="0"/>
                </a:lnTo>
                <a:lnTo>
                  <a:pt x="171" y="8"/>
                </a:lnTo>
                <a:lnTo>
                  <a:pt x="197" y="21"/>
                </a:lnTo>
                <a:lnTo>
                  <a:pt x="219" y="41"/>
                </a:lnTo>
                <a:lnTo>
                  <a:pt x="238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105000" y="27288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3692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5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1" y="40"/>
                </a:lnTo>
                <a:lnTo>
                  <a:pt x="54" y="20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5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606760" y="32274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3228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8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0"/>
                </a:lnTo>
                <a:lnTo>
                  <a:pt x="219" y="40"/>
                </a:lnTo>
                <a:lnTo>
                  <a:pt x="238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05000" y="32274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36280" y="211788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79040" y="231300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613320" y="2117880"/>
            <a:ext cx="1047600" cy="1846080"/>
          </a:xfrm>
          <a:custGeom>
            <a:avLst/>
            <a:gdLst/>
            <a:ahLst/>
            <a:rect l="l" t="t" r="r" b="b"/>
            <a:pathLst>
              <a:path w="660" h="1163">
                <a:moveTo>
                  <a:pt x="0" y="1162"/>
                </a:moveTo>
                <a:lnTo>
                  <a:pt x="659" y="1162"/>
                </a:lnTo>
                <a:lnTo>
                  <a:pt x="659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69576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1" y="5"/>
                </a:lnTo>
                <a:lnTo>
                  <a:pt x="111" y="0"/>
                </a:lnTo>
                <a:lnTo>
                  <a:pt x="141" y="0"/>
                </a:lnTo>
                <a:lnTo>
                  <a:pt x="171" y="5"/>
                </a:lnTo>
                <a:lnTo>
                  <a:pt x="197" y="20"/>
                </a:lnTo>
                <a:lnTo>
                  <a:pt x="219" y="40"/>
                </a:lnTo>
                <a:lnTo>
                  <a:pt x="237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768840" y="2746440"/>
            <a:ext cx="24264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19400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81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26708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9576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4"/>
                </a:lnTo>
                <a:lnTo>
                  <a:pt x="219" y="208"/>
                </a:lnTo>
                <a:lnTo>
                  <a:pt x="197" y="228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1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2"/>
                </a:lnTo>
                <a:lnTo>
                  <a:pt x="219" y="43"/>
                </a:lnTo>
                <a:lnTo>
                  <a:pt x="237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68840" y="3244680"/>
            <a:ext cx="24264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9400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81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26708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79692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4112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11160" y="1527120"/>
            <a:ext cx="203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85600" y="17175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51520" y="1488960"/>
            <a:ext cx="2984400" cy="2524320"/>
          </a:xfrm>
          <a:custGeom>
            <a:avLst/>
            <a:gdLst/>
            <a:ahLst/>
            <a:rect l="l" t="t" r="r" b="b"/>
            <a:pathLst>
              <a:path w="1880" h="1590">
                <a:moveTo>
                  <a:pt x="0" y="1589"/>
                </a:moveTo>
                <a:lnTo>
                  <a:pt x="1879" y="1589"/>
                </a:lnTo>
                <a:lnTo>
                  <a:pt x="1879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46680" y="2052720"/>
            <a:ext cx="2371680" cy="1960560"/>
          </a:xfrm>
          <a:custGeom>
            <a:avLst/>
            <a:gdLst/>
            <a:ahLst/>
            <a:rect l="l" t="t" r="r" b="b"/>
            <a:pathLst>
              <a:path w="1494" h="1235">
                <a:moveTo>
                  <a:pt x="0" y="1234"/>
                </a:moveTo>
                <a:lnTo>
                  <a:pt x="1493" y="1234"/>
                </a:lnTo>
                <a:lnTo>
                  <a:pt x="1493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83560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918040" y="2670120"/>
            <a:ext cx="40032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91120" y="274644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2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3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1664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0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489720" y="27464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1" y="76"/>
                </a:moveTo>
                <a:lnTo>
                  <a:pt x="149" y="97"/>
                </a:lnTo>
                <a:lnTo>
                  <a:pt x="139" y="117"/>
                </a:lnTo>
                <a:lnTo>
                  <a:pt x="125" y="132"/>
                </a:lnTo>
                <a:lnTo>
                  <a:pt x="106" y="145"/>
                </a:lnTo>
                <a:lnTo>
                  <a:pt x="86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6" y="0"/>
                </a:lnTo>
                <a:lnTo>
                  <a:pt x="106" y="5"/>
                </a:lnTo>
                <a:lnTo>
                  <a:pt x="125" y="18"/>
                </a:lnTo>
                <a:lnTo>
                  <a:pt x="139" y="33"/>
                </a:lnTo>
                <a:lnTo>
                  <a:pt x="149" y="54"/>
                </a:lnTo>
                <a:lnTo>
                  <a:pt x="151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18040" y="3165480"/>
            <a:ext cx="40032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4" y="154"/>
                </a:lnTo>
                <a:lnTo>
                  <a:pt x="0" y="124"/>
                </a:lnTo>
                <a:lnTo>
                  <a:pt x="4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2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1120" y="3244680"/>
            <a:ext cx="244440" cy="241560"/>
          </a:xfrm>
          <a:custGeom>
            <a:avLst/>
            <a:gdLst/>
            <a:ahLst/>
            <a:rect l="l" t="t" r="r" b="b"/>
            <a:pathLst>
              <a:path w="154" h="152">
                <a:moveTo>
                  <a:pt x="153" y="74"/>
                </a:moveTo>
                <a:lnTo>
                  <a:pt x="149" y="97"/>
                </a:lnTo>
                <a:lnTo>
                  <a:pt x="140" y="115"/>
                </a:lnTo>
                <a:lnTo>
                  <a:pt x="127" y="132"/>
                </a:lnTo>
                <a:lnTo>
                  <a:pt x="108" y="143"/>
                </a:lnTo>
                <a:lnTo>
                  <a:pt x="88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8" y="0"/>
                </a:lnTo>
                <a:lnTo>
                  <a:pt x="108" y="6"/>
                </a:lnTo>
                <a:lnTo>
                  <a:pt x="127" y="17"/>
                </a:lnTo>
                <a:lnTo>
                  <a:pt x="140" y="33"/>
                </a:lnTo>
                <a:lnTo>
                  <a:pt x="149" y="54"/>
                </a:lnTo>
                <a:lnTo>
                  <a:pt x="153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1664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89720" y="3244680"/>
            <a:ext cx="241200" cy="24156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1" y="74"/>
                </a:moveTo>
                <a:lnTo>
                  <a:pt x="149" y="97"/>
                </a:lnTo>
                <a:lnTo>
                  <a:pt x="139" y="115"/>
                </a:lnTo>
                <a:lnTo>
                  <a:pt x="125" y="132"/>
                </a:lnTo>
                <a:lnTo>
                  <a:pt x="106" y="143"/>
                </a:lnTo>
                <a:lnTo>
                  <a:pt x="86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6" y="0"/>
                </a:lnTo>
                <a:lnTo>
                  <a:pt x="106" y="6"/>
                </a:lnTo>
                <a:lnTo>
                  <a:pt x="125" y="17"/>
                </a:lnTo>
                <a:lnTo>
                  <a:pt x="139" y="33"/>
                </a:lnTo>
                <a:lnTo>
                  <a:pt x="149" y="54"/>
                </a:lnTo>
                <a:lnTo>
                  <a:pt x="151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1776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96340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99768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8012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79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53200" y="27464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150" y="76"/>
                </a:moveTo>
                <a:lnTo>
                  <a:pt x="149" y="97"/>
                </a:lnTo>
                <a:lnTo>
                  <a:pt x="139" y="117"/>
                </a:lnTo>
                <a:lnTo>
                  <a:pt x="124" y="132"/>
                </a:lnTo>
                <a:lnTo>
                  <a:pt x="106" y="145"/>
                </a:lnTo>
                <a:lnTo>
                  <a:pt x="85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5" y="0"/>
                </a:lnTo>
                <a:lnTo>
                  <a:pt x="106" y="5"/>
                </a:lnTo>
                <a:lnTo>
                  <a:pt x="124" y="18"/>
                </a:lnTo>
                <a:lnTo>
                  <a:pt x="139" y="33"/>
                </a:lnTo>
                <a:lnTo>
                  <a:pt x="149" y="54"/>
                </a:lnTo>
                <a:lnTo>
                  <a:pt x="150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577280" y="267012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20" y="206"/>
                </a:lnTo>
                <a:lnTo>
                  <a:pt x="195" y="226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6"/>
                </a:lnTo>
                <a:lnTo>
                  <a:pt x="32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2" y="40"/>
                </a:lnTo>
                <a:lnTo>
                  <a:pt x="54" y="20"/>
                </a:lnTo>
                <a:lnTo>
                  <a:pt x="80" y="5"/>
                </a:lnTo>
                <a:lnTo>
                  <a:pt x="110" y="0"/>
                </a:lnTo>
                <a:lnTo>
                  <a:pt x="140" y="0"/>
                </a:lnTo>
                <a:lnTo>
                  <a:pt x="169" y="5"/>
                </a:lnTo>
                <a:lnTo>
                  <a:pt x="195" y="20"/>
                </a:lnTo>
                <a:lnTo>
                  <a:pt x="220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64856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41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41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08012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79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53200" y="3244680"/>
            <a:ext cx="239760" cy="241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150" y="74"/>
                </a:moveTo>
                <a:lnTo>
                  <a:pt x="149" y="97"/>
                </a:lnTo>
                <a:lnTo>
                  <a:pt x="139" y="115"/>
                </a:lnTo>
                <a:lnTo>
                  <a:pt x="124" y="132"/>
                </a:lnTo>
                <a:lnTo>
                  <a:pt x="106" y="143"/>
                </a:lnTo>
                <a:lnTo>
                  <a:pt x="85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5" y="0"/>
                </a:lnTo>
                <a:lnTo>
                  <a:pt x="106" y="6"/>
                </a:lnTo>
                <a:lnTo>
                  <a:pt x="124" y="17"/>
                </a:lnTo>
                <a:lnTo>
                  <a:pt x="139" y="33"/>
                </a:lnTo>
                <a:lnTo>
                  <a:pt x="149" y="54"/>
                </a:lnTo>
                <a:lnTo>
                  <a:pt x="150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77280" y="3165480"/>
            <a:ext cx="39996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20" y="208"/>
                </a:lnTo>
                <a:lnTo>
                  <a:pt x="195" y="228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8"/>
                </a:lnTo>
                <a:lnTo>
                  <a:pt x="32" y="208"/>
                </a:lnTo>
                <a:lnTo>
                  <a:pt x="13" y="184"/>
                </a:lnTo>
                <a:lnTo>
                  <a:pt x="2" y="154"/>
                </a:lnTo>
                <a:lnTo>
                  <a:pt x="0" y="124"/>
                </a:lnTo>
                <a:lnTo>
                  <a:pt x="2" y="95"/>
                </a:lnTo>
                <a:lnTo>
                  <a:pt x="13" y="67"/>
                </a:lnTo>
                <a:lnTo>
                  <a:pt x="32" y="43"/>
                </a:lnTo>
                <a:lnTo>
                  <a:pt x="54" y="22"/>
                </a:lnTo>
                <a:lnTo>
                  <a:pt x="80" y="7"/>
                </a:lnTo>
                <a:lnTo>
                  <a:pt x="110" y="0"/>
                </a:lnTo>
                <a:lnTo>
                  <a:pt x="140" y="0"/>
                </a:lnTo>
                <a:lnTo>
                  <a:pt x="169" y="7"/>
                </a:lnTo>
                <a:lnTo>
                  <a:pt x="195" y="22"/>
                </a:lnTo>
                <a:lnTo>
                  <a:pt x="220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4856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41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41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7804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2548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25680" y="17319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19040" y="3976560"/>
            <a:ext cx="7050240" cy="650880"/>
          </a:xfrm>
          <a:custGeom>
            <a:avLst/>
            <a:gdLst/>
            <a:ahLst/>
            <a:rect l="l" t="t" r="r" b="b"/>
            <a:pathLst>
              <a:path w="4441" h="410">
                <a:moveTo>
                  <a:pt x="167" y="409"/>
                </a:moveTo>
                <a:lnTo>
                  <a:pt x="4273" y="409"/>
                </a:lnTo>
                <a:lnTo>
                  <a:pt x="4440" y="204"/>
                </a:lnTo>
                <a:lnTo>
                  <a:pt x="4273" y="0"/>
                </a:lnTo>
                <a:lnTo>
                  <a:pt x="167" y="0"/>
                </a:lnTo>
                <a:lnTo>
                  <a:pt x="0" y="204"/>
                </a:lnTo>
                <a:lnTo>
                  <a:pt x="167" y="40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25960" y="3976560"/>
            <a:ext cx="717480" cy="933480"/>
          </a:xfrm>
          <a:custGeom>
            <a:avLst/>
            <a:gdLst/>
            <a:ahLst/>
            <a:rect l="l" t="t" r="r" b="b"/>
            <a:pathLst>
              <a:path w="452" h="588">
                <a:moveTo>
                  <a:pt x="70" y="0"/>
                </a:moveTo>
                <a:lnTo>
                  <a:pt x="330" y="67"/>
                </a:lnTo>
                <a:lnTo>
                  <a:pt x="226" y="104"/>
                </a:lnTo>
                <a:lnTo>
                  <a:pt x="451" y="519"/>
                </a:lnTo>
                <a:lnTo>
                  <a:pt x="405" y="576"/>
                </a:lnTo>
                <a:lnTo>
                  <a:pt x="332" y="587"/>
                </a:lnTo>
                <a:lnTo>
                  <a:pt x="82" y="188"/>
                </a:lnTo>
                <a:lnTo>
                  <a:pt x="0" y="260"/>
                </a:lnTo>
                <a:lnTo>
                  <a:pt x="70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03760" y="3797280"/>
            <a:ext cx="1082520" cy="1092240"/>
          </a:xfrm>
          <a:custGeom>
            <a:avLst/>
            <a:gdLst/>
            <a:ahLst/>
            <a:rect l="l" t="t" r="r" b="b"/>
            <a:pathLst>
              <a:path w="682" h="688">
                <a:moveTo>
                  <a:pt x="678" y="0"/>
                </a:moveTo>
                <a:lnTo>
                  <a:pt x="410" y="0"/>
                </a:lnTo>
                <a:lnTo>
                  <a:pt x="501" y="59"/>
                </a:lnTo>
                <a:lnTo>
                  <a:pt x="0" y="591"/>
                </a:lnTo>
                <a:lnTo>
                  <a:pt x="30" y="658"/>
                </a:lnTo>
                <a:lnTo>
                  <a:pt x="98" y="687"/>
                </a:lnTo>
                <a:lnTo>
                  <a:pt x="620" y="176"/>
                </a:lnTo>
                <a:lnTo>
                  <a:pt x="681" y="267"/>
                </a:lnTo>
                <a:lnTo>
                  <a:pt x="678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4166280" y="5013360"/>
            <a:ext cx="1333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al 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92360" y="5533920"/>
            <a:ext cx="903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va/II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800600" y="531036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4065480" y="5295960"/>
            <a:ext cx="493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6960" y="5295960"/>
            <a:ext cx="5508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85720" y="5770440"/>
            <a:ext cx="110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ML/HTT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871720" y="5500800"/>
            <a:ext cx="107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59960" y="4208400"/>
            <a:ext cx="165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BA/IIOP 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Applications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74480" y="1523880"/>
            <a:ext cx="8592840" cy="389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ssion concentr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icient communication is important ingridient for handling thousands of client connec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munication resources are still scarce and expensive resour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ource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to high performance scalable applic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75920" y="552240"/>
            <a:ext cx="85914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ssion Concentr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6" name=""/>
          <p:cNvGraphicFramePr/>
          <p:nvPr/>
        </p:nvGraphicFramePr>
        <p:xfrm>
          <a:off x="800280" y="1562040"/>
          <a:ext cx="684180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562040"/>
                    <a:ext cx="68418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8" name=""/>
          <p:cNvSpPr/>
          <p:nvPr/>
        </p:nvSpPr>
        <p:spPr>
          <a:xfrm>
            <a:off x="1866960" y="4686480"/>
            <a:ext cx="390528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0680" y="76320"/>
            <a:ext cx="83484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444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-65160" y="0"/>
            <a:ext cx="222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35480" y="1774800"/>
            <a:ext cx="42670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50 West 57th Str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uite 8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New York, N.Y.  100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l:(212) 489 0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ax:(212) 489 11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g@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ttp://www.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07920" y="1981080"/>
            <a:ext cx="3009960" cy="2256120"/>
            <a:chOff x="907920" y="1981080"/>
            <a:chExt cx="3009960" cy="22561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003480" cy="22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907920" y="3879720"/>
              <a:ext cx="2725920" cy="357480"/>
              <a:chOff x="907920" y="3879720"/>
              <a:chExt cx="2725920" cy="357480"/>
            </a:xfrm>
          </p:grpSpPr>
          <p:sp>
            <p:nvSpPr>
              <p:cNvPr id="61" name=""/>
              <p:cNvSpPr/>
              <p:nvPr/>
            </p:nvSpPr>
            <p:spPr>
              <a:xfrm>
                <a:off x="998640" y="3973680"/>
                <a:ext cx="2377800" cy="23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7920" y="3879720"/>
                <a:ext cx="27259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240" rIns="84240" tIns="41400" bIns="41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ystems Group, Inc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2133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77920" y="2001960"/>
            <a:ext cx="2064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rvers Gro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2800" y="4173480"/>
            <a:ext cx="1136520" cy="585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946080" y="2387520"/>
            <a:ext cx="6705720" cy="4444920"/>
            <a:chOff x="946080" y="2387520"/>
            <a:chExt cx="6705720" cy="4444920"/>
          </a:xfrm>
        </p:grpSpPr>
        <p:sp>
          <p:nvSpPr>
            <p:cNvPr id="1353" name=""/>
            <p:cNvSpPr/>
            <p:nvPr/>
          </p:nvSpPr>
          <p:spPr>
            <a:xfrm>
              <a:off x="4824360" y="6454800"/>
              <a:ext cx="2206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53040" y="645156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46080" y="4264200"/>
              <a:ext cx="10890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54000" bIns="54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68560"/>
                  <a:tab algn="l" pos="2336760"/>
                  <a:tab algn="l" pos="3505320"/>
                  <a:tab algn="l" pos="4673520"/>
                  <a:tab algn="l" pos="5842080"/>
                  <a:tab algn="l" pos="7010280"/>
                  <a:tab algn="l" pos="8178840"/>
                  <a:tab algn="l" pos="934704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68560"/>
                  <a:tab algn="l" pos="2336760"/>
                  <a:tab algn="l" pos="3505320"/>
                  <a:tab algn="l" pos="4673520"/>
                  <a:tab algn="l" pos="5842080"/>
                  <a:tab algn="l" pos="7010280"/>
                  <a:tab algn="l" pos="8178840"/>
                  <a:tab algn="l" pos="934704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1834920" y="4565520"/>
              <a:ext cx="179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66960" y="4348080"/>
              <a:ext cx="177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570120" y="3574800"/>
              <a:ext cx="11480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06840" y="4578480"/>
              <a:ext cx="107316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25920" y="2387520"/>
              <a:ext cx="4025880" cy="444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7720" y="3309840"/>
              <a:ext cx="2206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415200" y="406728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10160" y="491508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38640" y="5556240"/>
              <a:ext cx="22068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62320" y="5987880"/>
              <a:ext cx="22068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822920" y="3908520"/>
              <a:ext cx="1906560" cy="1877760"/>
            </a:xfrm>
            <a:custGeom>
              <a:avLst/>
              <a:gdLst/>
              <a:ahLst/>
              <a:rect l="l" t="t" r="r" b="b"/>
              <a:pathLst>
                <a:path w="1201" h="1183">
                  <a:moveTo>
                    <a:pt x="0" y="1182"/>
                  </a:moveTo>
                  <a:lnTo>
                    <a:pt x="1200" y="1182"/>
                  </a:lnTo>
                  <a:lnTo>
                    <a:pt x="1200" y="0"/>
                  </a:lnTo>
                  <a:lnTo>
                    <a:pt x="0" y="0"/>
                  </a:lnTo>
                  <a:lnTo>
                    <a:pt x="0" y="118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29040" y="579420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027760" y="579420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224320" y="579420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23040" y="5794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21400" y="5794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19760" y="579420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16680" y="5794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215040" y="57942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413400" y="579420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11760" y="579420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6750000" y="56008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6737400" y="54039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6737400" y="5204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6737400" y="500652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6737400" y="480816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737400" y="46112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737400" y="4412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6737400" y="421452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6737400" y="40165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53160" y="3908520"/>
              <a:ext cx="85680" cy="396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3" y="24"/>
                  </a:move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450120" y="390852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251040" y="39085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6052680" y="39085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5854320" y="39085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57400" y="390852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5459040" y="39085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5260680" y="390852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062680" y="3908520"/>
              <a:ext cx="13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4865760" y="390852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22920" y="3943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22920" y="414036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22920" y="4338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22920" y="45370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22920" y="4735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22920" y="493236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822920" y="5130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2920" y="532908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22920" y="552780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22920" y="57243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51520" y="4822920"/>
              <a:ext cx="1485720" cy="115920"/>
            </a:xfrm>
            <a:custGeom>
              <a:avLst/>
              <a:gdLst/>
              <a:ahLst/>
              <a:rect l="l" t="t" r="r" b="b"/>
              <a:pathLst>
                <a:path w="936" h="73">
                  <a:moveTo>
                    <a:pt x="864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935" y="72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3120" y="4222800"/>
              <a:ext cx="114120" cy="716040"/>
            </a:xfrm>
            <a:custGeom>
              <a:avLst/>
              <a:gdLst/>
              <a:ahLst/>
              <a:rect l="l" t="t" r="r" b="b"/>
              <a:pathLst>
                <a:path w="72" h="451">
                  <a:moveTo>
                    <a:pt x="71" y="450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71" y="72"/>
                  </a:lnTo>
                  <a:lnTo>
                    <a:pt x="71" y="4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051520" y="4222800"/>
              <a:ext cx="1373040" cy="601560"/>
            </a:xfrm>
            <a:custGeom>
              <a:avLst/>
              <a:gdLst/>
              <a:ahLst/>
              <a:rect l="l" t="t" r="r" b="b"/>
              <a:pathLst>
                <a:path w="865" h="379">
                  <a:moveTo>
                    <a:pt x="864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3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57640" y="435600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64080" y="4151160"/>
              <a:ext cx="68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37200" y="4591080"/>
              <a:ext cx="465120" cy="144360"/>
            </a:xfrm>
            <a:custGeom>
              <a:avLst/>
              <a:gdLst/>
              <a:ahLst/>
              <a:rect l="l" t="t" r="r" b="b"/>
              <a:pathLst>
                <a:path w="293" h="91">
                  <a:moveTo>
                    <a:pt x="0" y="44"/>
                  </a:moveTo>
                  <a:lnTo>
                    <a:pt x="2" y="38"/>
                  </a:lnTo>
                  <a:lnTo>
                    <a:pt x="7" y="31"/>
                  </a:lnTo>
                  <a:lnTo>
                    <a:pt x="16" y="24"/>
                  </a:lnTo>
                  <a:lnTo>
                    <a:pt x="28" y="18"/>
                  </a:lnTo>
                  <a:lnTo>
                    <a:pt x="43" y="12"/>
                  </a:lnTo>
                  <a:lnTo>
                    <a:pt x="61" y="8"/>
                  </a:lnTo>
                  <a:lnTo>
                    <a:pt x="80" y="5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91" y="3"/>
                  </a:lnTo>
                  <a:lnTo>
                    <a:pt x="212" y="5"/>
                  </a:lnTo>
                  <a:lnTo>
                    <a:pt x="232" y="8"/>
                  </a:lnTo>
                  <a:lnTo>
                    <a:pt x="249" y="12"/>
                  </a:lnTo>
                  <a:lnTo>
                    <a:pt x="264" y="18"/>
                  </a:lnTo>
                  <a:lnTo>
                    <a:pt x="277" y="24"/>
                  </a:lnTo>
                  <a:lnTo>
                    <a:pt x="285" y="31"/>
                  </a:lnTo>
                  <a:lnTo>
                    <a:pt x="290" y="38"/>
                  </a:lnTo>
                  <a:lnTo>
                    <a:pt x="292" y="44"/>
                  </a:lnTo>
                  <a:lnTo>
                    <a:pt x="290" y="52"/>
                  </a:lnTo>
                  <a:lnTo>
                    <a:pt x="285" y="58"/>
                  </a:lnTo>
                  <a:lnTo>
                    <a:pt x="277" y="66"/>
                  </a:lnTo>
                  <a:lnTo>
                    <a:pt x="264" y="72"/>
                  </a:lnTo>
                  <a:lnTo>
                    <a:pt x="249" y="76"/>
                  </a:lnTo>
                  <a:lnTo>
                    <a:pt x="232" y="81"/>
                  </a:lnTo>
                  <a:lnTo>
                    <a:pt x="212" y="84"/>
                  </a:lnTo>
                  <a:lnTo>
                    <a:pt x="191" y="87"/>
                  </a:lnTo>
                  <a:lnTo>
                    <a:pt x="168" y="88"/>
                  </a:lnTo>
                  <a:lnTo>
                    <a:pt x="146" y="90"/>
                  </a:lnTo>
                  <a:lnTo>
                    <a:pt x="123" y="88"/>
                  </a:lnTo>
                  <a:lnTo>
                    <a:pt x="101" y="87"/>
                  </a:lnTo>
                  <a:lnTo>
                    <a:pt x="80" y="84"/>
                  </a:lnTo>
                  <a:lnTo>
                    <a:pt x="61" y="81"/>
                  </a:lnTo>
                  <a:lnTo>
                    <a:pt x="43" y="76"/>
                  </a:lnTo>
                  <a:lnTo>
                    <a:pt x="28" y="72"/>
                  </a:lnTo>
                  <a:lnTo>
                    <a:pt x="16" y="66"/>
                  </a:lnTo>
                  <a:lnTo>
                    <a:pt x="7" y="58"/>
                  </a:lnTo>
                  <a:lnTo>
                    <a:pt x="2" y="52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119200" y="457524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95800" y="4410000"/>
              <a:ext cx="509760" cy="133560"/>
            </a:xfrm>
            <a:custGeom>
              <a:avLst/>
              <a:gdLst/>
              <a:ahLst/>
              <a:rect l="l" t="t" r="r" b="b"/>
              <a:pathLst>
                <a:path w="321" h="84">
                  <a:moveTo>
                    <a:pt x="0" y="42"/>
                  </a:moveTo>
                  <a:lnTo>
                    <a:pt x="2" y="35"/>
                  </a:lnTo>
                  <a:lnTo>
                    <a:pt x="8" y="30"/>
                  </a:lnTo>
                  <a:lnTo>
                    <a:pt x="18" y="24"/>
                  </a:lnTo>
                  <a:lnTo>
                    <a:pt x="31" y="18"/>
                  </a:lnTo>
                  <a:lnTo>
                    <a:pt x="47" y="13"/>
                  </a:lnTo>
                  <a:lnTo>
                    <a:pt x="67" y="8"/>
                  </a:lnTo>
                  <a:lnTo>
                    <a:pt x="88" y="4"/>
                  </a:lnTo>
                  <a:lnTo>
                    <a:pt x="111" y="1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2" y="4"/>
                  </a:lnTo>
                  <a:lnTo>
                    <a:pt x="254" y="8"/>
                  </a:lnTo>
                  <a:lnTo>
                    <a:pt x="273" y="13"/>
                  </a:lnTo>
                  <a:lnTo>
                    <a:pt x="289" y="18"/>
                  </a:lnTo>
                  <a:lnTo>
                    <a:pt x="303" y="24"/>
                  </a:lnTo>
                  <a:lnTo>
                    <a:pt x="312" y="30"/>
                  </a:lnTo>
                  <a:lnTo>
                    <a:pt x="318" y="35"/>
                  </a:lnTo>
                  <a:lnTo>
                    <a:pt x="320" y="42"/>
                  </a:lnTo>
                  <a:lnTo>
                    <a:pt x="318" y="48"/>
                  </a:lnTo>
                  <a:lnTo>
                    <a:pt x="312" y="55"/>
                  </a:lnTo>
                  <a:lnTo>
                    <a:pt x="303" y="62"/>
                  </a:lnTo>
                  <a:lnTo>
                    <a:pt x="289" y="66"/>
                  </a:lnTo>
                  <a:lnTo>
                    <a:pt x="273" y="70"/>
                  </a:lnTo>
                  <a:lnTo>
                    <a:pt x="254" y="76"/>
                  </a:lnTo>
                  <a:lnTo>
                    <a:pt x="232" y="79"/>
                  </a:lnTo>
                  <a:lnTo>
                    <a:pt x="209" y="82"/>
                  </a:lnTo>
                  <a:lnTo>
                    <a:pt x="184" y="83"/>
                  </a:lnTo>
                  <a:lnTo>
                    <a:pt x="160" y="83"/>
                  </a:lnTo>
                  <a:lnTo>
                    <a:pt x="134" y="83"/>
                  </a:lnTo>
                  <a:lnTo>
                    <a:pt x="111" y="82"/>
                  </a:lnTo>
                  <a:lnTo>
                    <a:pt x="88" y="79"/>
                  </a:lnTo>
                  <a:lnTo>
                    <a:pt x="67" y="76"/>
                  </a:lnTo>
                  <a:lnTo>
                    <a:pt x="47" y="70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8" y="55"/>
                  </a:lnTo>
                  <a:lnTo>
                    <a:pt x="2" y="48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90760" y="437364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41920" y="4381560"/>
              <a:ext cx="512640" cy="123840"/>
            </a:xfrm>
            <a:custGeom>
              <a:avLst/>
              <a:gdLst/>
              <a:ahLst/>
              <a:rect l="l" t="t" r="r" b="b"/>
              <a:pathLst>
                <a:path w="323" h="78">
                  <a:moveTo>
                    <a:pt x="0" y="38"/>
                  </a:moveTo>
                  <a:lnTo>
                    <a:pt x="2" y="33"/>
                  </a:lnTo>
                  <a:lnTo>
                    <a:pt x="8" y="26"/>
                  </a:lnTo>
                  <a:lnTo>
                    <a:pt x="18" y="20"/>
                  </a:lnTo>
                  <a:lnTo>
                    <a:pt x="30" y="16"/>
                  </a:lnTo>
                  <a:lnTo>
                    <a:pt x="47" y="12"/>
                  </a:lnTo>
                  <a:lnTo>
                    <a:pt x="66" y="8"/>
                  </a:lnTo>
                  <a:lnTo>
                    <a:pt x="87" y="4"/>
                  </a:lnTo>
                  <a:lnTo>
                    <a:pt x="111" y="1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87" y="0"/>
                  </a:lnTo>
                  <a:lnTo>
                    <a:pt x="211" y="1"/>
                  </a:lnTo>
                  <a:lnTo>
                    <a:pt x="234" y="4"/>
                  </a:lnTo>
                  <a:lnTo>
                    <a:pt x="256" y="8"/>
                  </a:lnTo>
                  <a:lnTo>
                    <a:pt x="274" y="12"/>
                  </a:lnTo>
                  <a:lnTo>
                    <a:pt x="292" y="16"/>
                  </a:lnTo>
                  <a:lnTo>
                    <a:pt x="304" y="20"/>
                  </a:lnTo>
                  <a:lnTo>
                    <a:pt x="314" y="26"/>
                  </a:lnTo>
                  <a:lnTo>
                    <a:pt x="321" y="33"/>
                  </a:lnTo>
                  <a:lnTo>
                    <a:pt x="322" y="38"/>
                  </a:lnTo>
                  <a:lnTo>
                    <a:pt x="321" y="44"/>
                  </a:lnTo>
                  <a:lnTo>
                    <a:pt x="314" y="51"/>
                  </a:lnTo>
                  <a:lnTo>
                    <a:pt x="304" y="55"/>
                  </a:lnTo>
                  <a:lnTo>
                    <a:pt x="292" y="60"/>
                  </a:lnTo>
                  <a:lnTo>
                    <a:pt x="274" y="65"/>
                  </a:lnTo>
                  <a:lnTo>
                    <a:pt x="256" y="69"/>
                  </a:lnTo>
                  <a:lnTo>
                    <a:pt x="234" y="73"/>
                  </a:lnTo>
                  <a:lnTo>
                    <a:pt x="211" y="76"/>
                  </a:lnTo>
                  <a:lnTo>
                    <a:pt x="187" y="77"/>
                  </a:lnTo>
                  <a:lnTo>
                    <a:pt x="161" y="77"/>
                  </a:lnTo>
                  <a:lnTo>
                    <a:pt x="136" y="77"/>
                  </a:lnTo>
                  <a:lnTo>
                    <a:pt x="111" y="76"/>
                  </a:lnTo>
                  <a:lnTo>
                    <a:pt x="87" y="73"/>
                  </a:lnTo>
                  <a:lnTo>
                    <a:pt x="66" y="69"/>
                  </a:lnTo>
                  <a:lnTo>
                    <a:pt x="47" y="65"/>
                  </a:lnTo>
                  <a:lnTo>
                    <a:pt x="30" y="60"/>
                  </a:lnTo>
                  <a:lnTo>
                    <a:pt x="18" y="55"/>
                  </a:lnTo>
                  <a:lnTo>
                    <a:pt x="8" y="51"/>
                  </a:lnTo>
                  <a:lnTo>
                    <a:pt x="2" y="44"/>
                  </a:lnTo>
                  <a:lnTo>
                    <a:pt x="0" y="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670000" y="434340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57920" y="4543560"/>
              <a:ext cx="509400" cy="172800"/>
            </a:xfrm>
            <a:custGeom>
              <a:avLst/>
              <a:gdLst/>
              <a:ahLst/>
              <a:rect l="l" t="t" r="r" b="b"/>
              <a:pathLst>
                <a:path w="321" h="109">
                  <a:moveTo>
                    <a:pt x="0" y="52"/>
                  </a:moveTo>
                  <a:lnTo>
                    <a:pt x="2" y="47"/>
                  </a:lnTo>
                  <a:lnTo>
                    <a:pt x="8" y="37"/>
                  </a:lnTo>
                  <a:lnTo>
                    <a:pt x="17" y="28"/>
                  </a:lnTo>
                  <a:lnTo>
                    <a:pt x="31" y="20"/>
                  </a:lnTo>
                  <a:lnTo>
                    <a:pt x="47" y="15"/>
                  </a:lnTo>
                  <a:lnTo>
                    <a:pt x="67" y="7"/>
                  </a:lnTo>
                  <a:lnTo>
                    <a:pt x="88" y="6"/>
                  </a:lnTo>
                  <a:lnTo>
                    <a:pt x="111" y="2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2"/>
                  </a:lnTo>
                  <a:lnTo>
                    <a:pt x="232" y="6"/>
                  </a:lnTo>
                  <a:lnTo>
                    <a:pt x="253" y="7"/>
                  </a:lnTo>
                  <a:lnTo>
                    <a:pt x="273" y="15"/>
                  </a:lnTo>
                  <a:lnTo>
                    <a:pt x="289" y="20"/>
                  </a:lnTo>
                  <a:lnTo>
                    <a:pt x="303" y="28"/>
                  </a:lnTo>
                  <a:lnTo>
                    <a:pt x="312" y="37"/>
                  </a:lnTo>
                  <a:lnTo>
                    <a:pt x="318" y="47"/>
                  </a:lnTo>
                  <a:lnTo>
                    <a:pt x="320" y="52"/>
                  </a:lnTo>
                  <a:lnTo>
                    <a:pt x="318" y="61"/>
                  </a:lnTo>
                  <a:lnTo>
                    <a:pt x="312" y="71"/>
                  </a:lnTo>
                  <a:lnTo>
                    <a:pt x="303" y="78"/>
                  </a:lnTo>
                  <a:lnTo>
                    <a:pt x="289" y="86"/>
                  </a:lnTo>
                  <a:lnTo>
                    <a:pt x="273" y="93"/>
                  </a:lnTo>
                  <a:lnTo>
                    <a:pt x="253" y="97"/>
                  </a:lnTo>
                  <a:lnTo>
                    <a:pt x="232" y="102"/>
                  </a:lnTo>
                  <a:lnTo>
                    <a:pt x="209" y="106"/>
                  </a:lnTo>
                  <a:lnTo>
                    <a:pt x="184" y="108"/>
                  </a:lnTo>
                  <a:lnTo>
                    <a:pt x="160" y="108"/>
                  </a:lnTo>
                  <a:lnTo>
                    <a:pt x="134" y="108"/>
                  </a:lnTo>
                  <a:lnTo>
                    <a:pt x="111" y="106"/>
                  </a:lnTo>
                  <a:lnTo>
                    <a:pt x="88" y="102"/>
                  </a:lnTo>
                  <a:lnTo>
                    <a:pt x="67" y="97"/>
                  </a:lnTo>
                  <a:lnTo>
                    <a:pt x="47" y="93"/>
                  </a:lnTo>
                  <a:lnTo>
                    <a:pt x="31" y="86"/>
                  </a:lnTo>
                  <a:lnTo>
                    <a:pt x="17" y="78"/>
                  </a:lnTo>
                  <a:lnTo>
                    <a:pt x="8" y="71"/>
                  </a:lnTo>
                  <a:lnTo>
                    <a:pt x="2" y="61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70160" y="452448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51520" y="5580000"/>
              <a:ext cx="1485720" cy="115920"/>
            </a:xfrm>
            <a:custGeom>
              <a:avLst/>
              <a:gdLst/>
              <a:ahLst/>
              <a:rect l="l" t="t" r="r" b="b"/>
              <a:pathLst>
                <a:path w="936" h="73">
                  <a:moveTo>
                    <a:pt x="864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935" y="72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23120" y="4979880"/>
              <a:ext cx="114120" cy="716040"/>
            </a:xfrm>
            <a:custGeom>
              <a:avLst/>
              <a:gdLst/>
              <a:ahLst/>
              <a:rect l="l" t="t" r="r" b="b"/>
              <a:pathLst>
                <a:path w="72" h="451">
                  <a:moveTo>
                    <a:pt x="71" y="450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71" y="72"/>
                  </a:lnTo>
                  <a:lnTo>
                    <a:pt x="71" y="4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051520" y="4979880"/>
              <a:ext cx="1373040" cy="601920"/>
            </a:xfrm>
            <a:custGeom>
              <a:avLst/>
              <a:gdLst/>
              <a:ahLst/>
              <a:rect l="l" t="t" r="r" b="b"/>
              <a:pathLst>
                <a:path w="865" h="379">
                  <a:moveTo>
                    <a:pt x="864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3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57640" y="51116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54720" y="4916520"/>
              <a:ext cx="68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035680" y="5149800"/>
              <a:ext cx="531720" cy="173160"/>
            </a:xfrm>
            <a:custGeom>
              <a:avLst/>
              <a:gdLst/>
              <a:ahLst/>
              <a:rect l="l" t="t" r="r" b="b"/>
              <a:pathLst>
                <a:path w="335" h="109">
                  <a:moveTo>
                    <a:pt x="0" y="53"/>
                  </a:moveTo>
                  <a:lnTo>
                    <a:pt x="2" y="44"/>
                  </a:lnTo>
                  <a:lnTo>
                    <a:pt x="8" y="37"/>
                  </a:lnTo>
                  <a:lnTo>
                    <a:pt x="19" y="29"/>
                  </a:lnTo>
                  <a:lnTo>
                    <a:pt x="32" y="22"/>
                  </a:lnTo>
                  <a:lnTo>
                    <a:pt x="49" y="15"/>
                  </a:lnTo>
                  <a:lnTo>
                    <a:pt x="70" y="9"/>
                  </a:lnTo>
                  <a:lnTo>
                    <a:pt x="92" y="4"/>
                  </a:lnTo>
                  <a:lnTo>
                    <a:pt x="116" y="0"/>
                  </a:lnTo>
                  <a:lnTo>
                    <a:pt x="140" y="0"/>
                  </a:lnTo>
                  <a:lnTo>
                    <a:pt x="167" y="0"/>
                  </a:lnTo>
                  <a:lnTo>
                    <a:pt x="193" y="0"/>
                  </a:lnTo>
                  <a:lnTo>
                    <a:pt x="218" y="0"/>
                  </a:lnTo>
                  <a:lnTo>
                    <a:pt x="242" y="4"/>
                  </a:lnTo>
                  <a:lnTo>
                    <a:pt x="266" y="9"/>
                  </a:lnTo>
                  <a:lnTo>
                    <a:pt x="285" y="15"/>
                  </a:lnTo>
                  <a:lnTo>
                    <a:pt x="302" y="22"/>
                  </a:lnTo>
                  <a:lnTo>
                    <a:pt x="317" y="29"/>
                  </a:lnTo>
                  <a:lnTo>
                    <a:pt x="326" y="37"/>
                  </a:lnTo>
                  <a:lnTo>
                    <a:pt x="332" y="44"/>
                  </a:lnTo>
                  <a:lnTo>
                    <a:pt x="334" y="53"/>
                  </a:lnTo>
                  <a:lnTo>
                    <a:pt x="332" y="62"/>
                  </a:lnTo>
                  <a:lnTo>
                    <a:pt x="326" y="70"/>
                  </a:lnTo>
                  <a:lnTo>
                    <a:pt x="317" y="79"/>
                  </a:lnTo>
                  <a:lnTo>
                    <a:pt x="302" y="86"/>
                  </a:lnTo>
                  <a:lnTo>
                    <a:pt x="285" y="92"/>
                  </a:lnTo>
                  <a:lnTo>
                    <a:pt x="266" y="97"/>
                  </a:lnTo>
                  <a:lnTo>
                    <a:pt x="242" y="101"/>
                  </a:lnTo>
                  <a:lnTo>
                    <a:pt x="218" y="104"/>
                  </a:lnTo>
                  <a:lnTo>
                    <a:pt x="193" y="106"/>
                  </a:lnTo>
                  <a:lnTo>
                    <a:pt x="167" y="108"/>
                  </a:lnTo>
                  <a:lnTo>
                    <a:pt x="140" y="106"/>
                  </a:lnTo>
                  <a:lnTo>
                    <a:pt x="116" y="104"/>
                  </a:lnTo>
                  <a:lnTo>
                    <a:pt x="92" y="101"/>
                  </a:lnTo>
                  <a:lnTo>
                    <a:pt x="70" y="97"/>
                  </a:lnTo>
                  <a:lnTo>
                    <a:pt x="49" y="92"/>
                  </a:lnTo>
                  <a:lnTo>
                    <a:pt x="32" y="86"/>
                  </a:lnTo>
                  <a:lnTo>
                    <a:pt x="19" y="79"/>
                  </a:lnTo>
                  <a:lnTo>
                    <a:pt x="8" y="70"/>
                  </a:lnTo>
                  <a:lnTo>
                    <a:pt x="2" y="62"/>
                  </a:lnTo>
                  <a:lnTo>
                    <a:pt x="0" y="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42520" y="5159520"/>
              <a:ext cx="52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295960" y="5362560"/>
              <a:ext cx="595080" cy="135000"/>
            </a:xfrm>
            <a:custGeom>
              <a:avLst/>
              <a:gdLst/>
              <a:ahLst/>
              <a:rect l="l" t="t" r="r" b="b"/>
              <a:pathLst>
                <a:path w="375" h="85">
                  <a:moveTo>
                    <a:pt x="0" y="43"/>
                  </a:moveTo>
                  <a:lnTo>
                    <a:pt x="3" y="36"/>
                  </a:lnTo>
                  <a:lnTo>
                    <a:pt x="9" y="28"/>
                  </a:lnTo>
                  <a:lnTo>
                    <a:pt x="21" y="24"/>
                  </a:lnTo>
                  <a:lnTo>
                    <a:pt x="36" y="17"/>
                  </a:lnTo>
                  <a:lnTo>
                    <a:pt x="55" y="13"/>
                  </a:lnTo>
                  <a:lnTo>
                    <a:pt x="78" y="9"/>
                  </a:lnTo>
                  <a:lnTo>
                    <a:pt x="103" y="4"/>
                  </a:lnTo>
                  <a:lnTo>
                    <a:pt x="130" y="1"/>
                  </a:lnTo>
                  <a:lnTo>
                    <a:pt x="157" y="0"/>
                  </a:lnTo>
                  <a:lnTo>
                    <a:pt x="187" y="0"/>
                  </a:lnTo>
                  <a:lnTo>
                    <a:pt x="216" y="0"/>
                  </a:lnTo>
                  <a:lnTo>
                    <a:pt x="244" y="1"/>
                  </a:lnTo>
                  <a:lnTo>
                    <a:pt x="271" y="4"/>
                  </a:lnTo>
                  <a:lnTo>
                    <a:pt x="297" y="9"/>
                  </a:lnTo>
                  <a:lnTo>
                    <a:pt x="319" y="13"/>
                  </a:lnTo>
                  <a:lnTo>
                    <a:pt x="338" y="17"/>
                  </a:lnTo>
                  <a:lnTo>
                    <a:pt x="355" y="24"/>
                  </a:lnTo>
                  <a:lnTo>
                    <a:pt x="365" y="28"/>
                  </a:lnTo>
                  <a:lnTo>
                    <a:pt x="371" y="36"/>
                  </a:lnTo>
                  <a:lnTo>
                    <a:pt x="374" y="43"/>
                  </a:lnTo>
                  <a:lnTo>
                    <a:pt x="371" y="48"/>
                  </a:lnTo>
                  <a:lnTo>
                    <a:pt x="365" y="56"/>
                  </a:lnTo>
                  <a:lnTo>
                    <a:pt x="355" y="61"/>
                  </a:lnTo>
                  <a:lnTo>
                    <a:pt x="338" y="67"/>
                  </a:lnTo>
                  <a:lnTo>
                    <a:pt x="319" y="71"/>
                  </a:lnTo>
                  <a:lnTo>
                    <a:pt x="297" y="75"/>
                  </a:lnTo>
                  <a:lnTo>
                    <a:pt x="271" y="80"/>
                  </a:lnTo>
                  <a:lnTo>
                    <a:pt x="244" y="83"/>
                  </a:lnTo>
                  <a:lnTo>
                    <a:pt x="216" y="84"/>
                  </a:lnTo>
                  <a:lnTo>
                    <a:pt x="187" y="84"/>
                  </a:lnTo>
                  <a:lnTo>
                    <a:pt x="157" y="84"/>
                  </a:lnTo>
                  <a:lnTo>
                    <a:pt x="130" y="83"/>
                  </a:lnTo>
                  <a:lnTo>
                    <a:pt x="103" y="80"/>
                  </a:lnTo>
                  <a:lnTo>
                    <a:pt x="78" y="75"/>
                  </a:lnTo>
                  <a:lnTo>
                    <a:pt x="55" y="71"/>
                  </a:lnTo>
                  <a:lnTo>
                    <a:pt x="36" y="67"/>
                  </a:lnTo>
                  <a:lnTo>
                    <a:pt x="21" y="61"/>
                  </a:lnTo>
                  <a:lnTo>
                    <a:pt x="9" y="56"/>
                  </a:lnTo>
                  <a:lnTo>
                    <a:pt x="3" y="48"/>
                  </a:lnTo>
                  <a:lnTo>
                    <a:pt x="0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04320" y="5321160"/>
              <a:ext cx="52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72080" y="5143680"/>
              <a:ext cx="538200" cy="134640"/>
            </a:xfrm>
            <a:custGeom>
              <a:avLst/>
              <a:gdLst/>
              <a:ahLst/>
              <a:rect l="l" t="t" r="r" b="b"/>
              <a:pathLst>
                <a:path w="339" h="85">
                  <a:moveTo>
                    <a:pt x="0" y="41"/>
                  </a:moveTo>
                  <a:lnTo>
                    <a:pt x="2" y="34"/>
                  </a:lnTo>
                  <a:lnTo>
                    <a:pt x="8" y="28"/>
                  </a:lnTo>
                  <a:lnTo>
                    <a:pt x="19" y="21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9" y="7"/>
                  </a:lnTo>
                  <a:lnTo>
                    <a:pt x="92" y="4"/>
                  </a:lnTo>
                  <a:lnTo>
                    <a:pt x="116" y="1"/>
                  </a:lnTo>
                  <a:lnTo>
                    <a:pt x="143" y="0"/>
                  </a:lnTo>
                  <a:lnTo>
                    <a:pt x="169" y="0"/>
                  </a:lnTo>
                  <a:lnTo>
                    <a:pt x="196" y="0"/>
                  </a:lnTo>
                  <a:lnTo>
                    <a:pt x="222" y="1"/>
                  </a:lnTo>
                  <a:lnTo>
                    <a:pt x="245" y="4"/>
                  </a:lnTo>
                  <a:lnTo>
                    <a:pt x="269" y="7"/>
                  </a:lnTo>
                  <a:lnTo>
                    <a:pt x="288" y="13"/>
                  </a:lnTo>
                  <a:lnTo>
                    <a:pt x="306" y="17"/>
                  </a:lnTo>
                  <a:lnTo>
                    <a:pt x="319" y="21"/>
                  </a:lnTo>
                  <a:lnTo>
                    <a:pt x="330" y="28"/>
                  </a:lnTo>
                  <a:lnTo>
                    <a:pt x="337" y="34"/>
                  </a:lnTo>
                  <a:lnTo>
                    <a:pt x="338" y="41"/>
                  </a:lnTo>
                  <a:lnTo>
                    <a:pt x="337" y="48"/>
                  </a:lnTo>
                  <a:lnTo>
                    <a:pt x="330" y="54"/>
                  </a:lnTo>
                  <a:lnTo>
                    <a:pt x="319" y="60"/>
                  </a:lnTo>
                  <a:lnTo>
                    <a:pt x="306" y="65"/>
                  </a:lnTo>
                  <a:lnTo>
                    <a:pt x="288" y="71"/>
                  </a:lnTo>
                  <a:lnTo>
                    <a:pt x="269" y="75"/>
                  </a:lnTo>
                  <a:lnTo>
                    <a:pt x="245" y="80"/>
                  </a:lnTo>
                  <a:lnTo>
                    <a:pt x="222" y="83"/>
                  </a:lnTo>
                  <a:lnTo>
                    <a:pt x="196" y="84"/>
                  </a:lnTo>
                  <a:lnTo>
                    <a:pt x="169" y="84"/>
                  </a:lnTo>
                  <a:lnTo>
                    <a:pt x="143" y="84"/>
                  </a:lnTo>
                  <a:lnTo>
                    <a:pt x="116" y="83"/>
                  </a:lnTo>
                  <a:lnTo>
                    <a:pt x="92" y="80"/>
                  </a:lnTo>
                  <a:lnTo>
                    <a:pt x="69" y="75"/>
                  </a:lnTo>
                  <a:lnTo>
                    <a:pt x="49" y="71"/>
                  </a:lnTo>
                  <a:lnTo>
                    <a:pt x="32" y="65"/>
                  </a:lnTo>
                  <a:lnTo>
                    <a:pt x="19" y="60"/>
                  </a:lnTo>
                  <a:lnTo>
                    <a:pt x="8" y="54"/>
                  </a:lnTo>
                  <a:lnTo>
                    <a:pt x="2" y="48"/>
                  </a:lnTo>
                  <a:lnTo>
                    <a:pt x="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0920" y="511020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5440" y="5299200"/>
              <a:ext cx="461880" cy="169560"/>
            </a:xfrm>
            <a:custGeom>
              <a:avLst/>
              <a:gdLst/>
              <a:ahLst/>
              <a:rect l="l" t="t" r="r" b="b"/>
              <a:pathLst>
                <a:path w="291" h="107">
                  <a:moveTo>
                    <a:pt x="0" y="52"/>
                  </a:moveTo>
                  <a:lnTo>
                    <a:pt x="2" y="45"/>
                  </a:lnTo>
                  <a:lnTo>
                    <a:pt x="7" y="38"/>
                  </a:lnTo>
                  <a:lnTo>
                    <a:pt x="15" y="29"/>
                  </a:lnTo>
                  <a:lnTo>
                    <a:pt x="28" y="22"/>
                  </a:lnTo>
                  <a:lnTo>
                    <a:pt x="42" y="14"/>
                  </a:lnTo>
                  <a:lnTo>
                    <a:pt x="60" y="9"/>
                  </a:lnTo>
                  <a:lnTo>
                    <a:pt x="80" y="5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5" y="0"/>
                  </a:lnTo>
                  <a:lnTo>
                    <a:pt x="167" y="2"/>
                  </a:lnTo>
                  <a:lnTo>
                    <a:pt x="189" y="2"/>
                  </a:lnTo>
                  <a:lnTo>
                    <a:pt x="210" y="5"/>
                  </a:lnTo>
                  <a:lnTo>
                    <a:pt x="230" y="9"/>
                  </a:lnTo>
                  <a:lnTo>
                    <a:pt x="248" y="14"/>
                  </a:lnTo>
                  <a:lnTo>
                    <a:pt x="262" y="22"/>
                  </a:lnTo>
                  <a:lnTo>
                    <a:pt x="275" y="29"/>
                  </a:lnTo>
                  <a:lnTo>
                    <a:pt x="283" y="38"/>
                  </a:lnTo>
                  <a:lnTo>
                    <a:pt x="288" y="45"/>
                  </a:lnTo>
                  <a:lnTo>
                    <a:pt x="290" y="52"/>
                  </a:lnTo>
                  <a:lnTo>
                    <a:pt x="288" y="61"/>
                  </a:lnTo>
                  <a:lnTo>
                    <a:pt x="283" y="70"/>
                  </a:lnTo>
                  <a:lnTo>
                    <a:pt x="275" y="77"/>
                  </a:lnTo>
                  <a:lnTo>
                    <a:pt x="262" y="84"/>
                  </a:lnTo>
                  <a:lnTo>
                    <a:pt x="248" y="90"/>
                  </a:lnTo>
                  <a:lnTo>
                    <a:pt x="230" y="95"/>
                  </a:lnTo>
                  <a:lnTo>
                    <a:pt x="210" y="101"/>
                  </a:lnTo>
                  <a:lnTo>
                    <a:pt x="189" y="102"/>
                  </a:lnTo>
                  <a:lnTo>
                    <a:pt x="167" y="106"/>
                  </a:lnTo>
                  <a:lnTo>
                    <a:pt x="145" y="106"/>
                  </a:lnTo>
                  <a:lnTo>
                    <a:pt x="122" y="106"/>
                  </a:lnTo>
                  <a:lnTo>
                    <a:pt x="101" y="102"/>
                  </a:lnTo>
                  <a:lnTo>
                    <a:pt x="80" y="101"/>
                  </a:lnTo>
                  <a:lnTo>
                    <a:pt x="60" y="95"/>
                  </a:lnTo>
                  <a:lnTo>
                    <a:pt x="42" y="90"/>
                  </a:lnTo>
                  <a:lnTo>
                    <a:pt x="28" y="84"/>
                  </a:lnTo>
                  <a:lnTo>
                    <a:pt x="15" y="77"/>
                  </a:lnTo>
                  <a:lnTo>
                    <a:pt x="7" y="70"/>
                  </a:lnTo>
                  <a:lnTo>
                    <a:pt x="2" y="61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36760" y="527220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69040" y="3914640"/>
              <a:ext cx="73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22920" y="2552760"/>
              <a:ext cx="1906560" cy="1220760"/>
            </a:xfrm>
            <a:custGeom>
              <a:avLst/>
              <a:gdLst/>
              <a:ahLst/>
              <a:rect l="l" t="t" r="r" b="b"/>
              <a:pathLst>
                <a:path w="1201" h="769">
                  <a:moveTo>
                    <a:pt x="0" y="768"/>
                  </a:moveTo>
                  <a:lnTo>
                    <a:pt x="1200" y="768"/>
                  </a:lnTo>
                  <a:lnTo>
                    <a:pt x="1200" y="0"/>
                  </a:ln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29040" y="378144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27760" y="378144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24320" y="378144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423040" y="3781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621400" y="3781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19760" y="378144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16680" y="3781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15040" y="3781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13400" y="378144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11760" y="378144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737400" y="358740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6737400" y="3389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6737400" y="319104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6737400" y="299412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6737400" y="279576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737400" y="25966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58296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38460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87680" y="25527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598932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791320" y="2552760"/>
              <a:ext cx="13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59224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5396040" y="255276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19696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4998600" y="25527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22920" y="2552760"/>
              <a:ext cx="108000" cy="1728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7" y="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22920" y="265104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22920" y="284940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22920" y="3046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22920" y="324468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22920" y="344340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22920" y="36417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086440" y="3610080"/>
              <a:ext cx="1552320" cy="125280"/>
            </a:xfrm>
            <a:custGeom>
              <a:avLst/>
              <a:gdLst/>
              <a:ahLst/>
              <a:rect l="l" t="t" r="r" b="b"/>
              <a:pathLst>
                <a:path w="978" h="79">
                  <a:moveTo>
                    <a:pt x="902" y="0"/>
                  </a:moveTo>
                  <a:lnTo>
                    <a:pt x="0" y="0"/>
                  </a:lnTo>
                  <a:lnTo>
                    <a:pt x="75" y="78"/>
                  </a:lnTo>
                  <a:lnTo>
                    <a:pt x="977" y="78"/>
                  </a:lnTo>
                  <a:lnTo>
                    <a:pt x="902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94400" y="2876400"/>
              <a:ext cx="133560" cy="836640"/>
            </a:xfrm>
            <a:custGeom>
              <a:avLst/>
              <a:gdLst/>
              <a:ahLst/>
              <a:rect l="l" t="t" r="r" b="b"/>
              <a:pathLst>
                <a:path w="84" h="527">
                  <a:moveTo>
                    <a:pt x="83" y="526"/>
                  </a:moveTo>
                  <a:lnTo>
                    <a:pt x="0" y="442"/>
                  </a:lnTo>
                  <a:lnTo>
                    <a:pt x="0" y="0"/>
                  </a:lnTo>
                  <a:lnTo>
                    <a:pt x="83" y="84"/>
                  </a:lnTo>
                  <a:lnTo>
                    <a:pt x="83" y="5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6440" y="2882880"/>
              <a:ext cx="1409760" cy="728640"/>
            </a:xfrm>
            <a:custGeom>
              <a:avLst/>
              <a:gdLst/>
              <a:ahLst/>
              <a:rect l="l" t="t" r="r" b="b"/>
              <a:pathLst>
                <a:path w="888" h="459">
                  <a:moveTo>
                    <a:pt x="887" y="458"/>
                  </a:moveTo>
                  <a:lnTo>
                    <a:pt x="0" y="458"/>
                  </a:lnTo>
                  <a:lnTo>
                    <a:pt x="0" y="0"/>
                  </a:lnTo>
                  <a:lnTo>
                    <a:pt x="887" y="0"/>
                  </a:lnTo>
                  <a:lnTo>
                    <a:pt x="887" y="4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083200" y="3073320"/>
              <a:ext cx="13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545080" y="2860560"/>
              <a:ext cx="68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886360" y="3324240"/>
              <a:ext cx="506520" cy="182520"/>
            </a:xfrm>
            <a:custGeom>
              <a:avLst/>
              <a:gdLst/>
              <a:ahLst/>
              <a:rect l="l" t="t" r="r" b="b"/>
              <a:pathLst>
                <a:path w="319" h="115">
                  <a:moveTo>
                    <a:pt x="0" y="58"/>
                  </a:moveTo>
                  <a:lnTo>
                    <a:pt x="1" y="48"/>
                  </a:lnTo>
                  <a:lnTo>
                    <a:pt x="8" y="41"/>
                  </a:lnTo>
                  <a:lnTo>
                    <a:pt x="18" y="31"/>
                  </a:lnTo>
                  <a:lnTo>
                    <a:pt x="30" y="23"/>
                  </a:lnTo>
                  <a:lnTo>
                    <a:pt x="46" y="17"/>
                  </a:lnTo>
                  <a:lnTo>
                    <a:pt x="65" y="12"/>
                  </a:lnTo>
                  <a:lnTo>
                    <a:pt x="86" y="8"/>
                  </a:lnTo>
                  <a:lnTo>
                    <a:pt x="109" y="4"/>
                  </a:lnTo>
                  <a:lnTo>
                    <a:pt x="134" y="2"/>
                  </a:lnTo>
                  <a:lnTo>
                    <a:pt x="159" y="0"/>
                  </a:lnTo>
                  <a:lnTo>
                    <a:pt x="184" y="2"/>
                  </a:lnTo>
                  <a:lnTo>
                    <a:pt x="209" y="4"/>
                  </a:lnTo>
                  <a:lnTo>
                    <a:pt x="232" y="8"/>
                  </a:lnTo>
                  <a:lnTo>
                    <a:pt x="253" y="12"/>
                  </a:lnTo>
                  <a:lnTo>
                    <a:pt x="272" y="17"/>
                  </a:lnTo>
                  <a:lnTo>
                    <a:pt x="288" y="23"/>
                  </a:lnTo>
                  <a:lnTo>
                    <a:pt x="300" y="31"/>
                  </a:lnTo>
                  <a:lnTo>
                    <a:pt x="310" y="41"/>
                  </a:lnTo>
                  <a:lnTo>
                    <a:pt x="316" y="48"/>
                  </a:lnTo>
                  <a:lnTo>
                    <a:pt x="318" y="58"/>
                  </a:lnTo>
                  <a:lnTo>
                    <a:pt x="316" y="66"/>
                  </a:lnTo>
                  <a:lnTo>
                    <a:pt x="310" y="75"/>
                  </a:lnTo>
                  <a:lnTo>
                    <a:pt x="300" y="83"/>
                  </a:lnTo>
                  <a:lnTo>
                    <a:pt x="288" y="91"/>
                  </a:lnTo>
                  <a:lnTo>
                    <a:pt x="272" y="99"/>
                  </a:lnTo>
                  <a:lnTo>
                    <a:pt x="253" y="104"/>
                  </a:lnTo>
                  <a:lnTo>
                    <a:pt x="232" y="108"/>
                  </a:lnTo>
                  <a:lnTo>
                    <a:pt x="209" y="110"/>
                  </a:lnTo>
                  <a:lnTo>
                    <a:pt x="184" y="112"/>
                  </a:lnTo>
                  <a:lnTo>
                    <a:pt x="159" y="114"/>
                  </a:lnTo>
                  <a:lnTo>
                    <a:pt x="134" y="112"/>
                  </a:lnTo>
                  <a:lnTo>
                    <a:pt x="109" y="110"/>
                  </a:lnTo>
                  <a:lnTo>
                    <a:pt x="86" y="108"/>
                  </a:lnTo>
                  <a:lnTo>
                    <a:pt x="65" y="104"/>
                  </a:lnTo>
                  <a:lnTo>
                    <a:pt x="46" y="99"/>
                  </a:lnTo>
                  <a:lnTo>
                    <a:pt x="30" y="91"/>
                  </a:lnTo>
                  <a:lnTo>
                    <a:pt x="18" y="83"/>
                  </a:lnTo>
                  <a:lnTo>
                    <a:pt x="8" y="75"/>
                  </a:lnTo>
                  <a:lnTo>
                    <a:pt x="1" y="66"/>
                  </a:lnTo>
                  <a:lnTo>
                    <a:pt x="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884200" y="333072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30800" y="3333600"/>
              <a:ext cx="476280" cy="169920"/>
            </a:xfrm>
            <a:custGeom>
              <a:avLst/>
              <a:gdLst/>
              <a:ahLst/>
              <a:rect l="l" t="t" r="r" b="b"/>
              <a:pathLst>
                <a:path w="300" h="107">
                  <a:moveTo>
                    <a:pt x="0" y="53"/>
                  </a:moveTo>
                  <a:lnTo>
                    <a:pt x="2" y="44"/>
                  </a:lnTo>
                  <a:lnTo>
                    <a:pt x="7" y="37"/>
                  </a:lnTo>
                  <a:lnTo>
                    <a:pt x="16" y="30"/>
                  </a:lnTo>
                  <a:lnTo>
                    <a:pt x="29" y="23"/>
                  </a:lnTo>
                  <a:lnTo>
                    <a:pt x="44" y="16"/>
                  </a:lnTo>
                  <a:lnTo>
                    <a:pt x="61" y="11"/>
                  </a:lnTo>
                  <a:lnTo>
                    <a:pt x="82" y="7"/>
                  </a:lnTo>
                  <a:lnTo>
                    <a:pt x="104" y="4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5" y="4"/>
                  </a:lnTo>
                  <a:lnTo>
                    <a:pt x="217" y="7"/>
                  </a:lnTo>
                  <a:lnTo>
                    <a:pt x="237" y="11"/>
                  </a:lnTo>
                  <a:lnTo>
                    <a:pt x="255" y="16"/>
                  </a:lnTo>
                  <a:lnTo>
                    <a:pt x="270" y="23"/>
                  </a:lnTo>
                  <a:lnTo>
                    <a:pt x="283" y="30"/>
                  </a:lnTo>
                  <a:lnTo>
                    <a:pt x="292" y="37"/>
                  </a:lnTo>
                  <a:lnTo>
                    <a:pt x="297" y="44"/>
                  </a:lnTo>
                  <a:lnTo>
                    <a:pt x="299" y="53"/>
                  </a:lnTo>
                  <a:lnTo>
                    <a:pt x="297" y="62"/>
                  </a:lnTo>
                  <a:lnTo>
                    <a:pt x="292" y="69"/>
                  </a:lnTo>
                  <a:lnTo>
                    <a:pt x="283" y="78"/>
                  </a:lnTo>
                  <a:lnTo>
                    <a:pt x="270" y="83"/>
                  </a:lnTo>
                  <a:lnTo>
                    <a:pt x="255" y="90"/>
                  </a:lnTo>
                  <a:lnTo>
                    <a:pt x="237" y="95"/>
                  </a:lnTo>
                  <a:lnTo>
                    <a:pt x="217" y="99"/>
                  </a:lnTo>
                  <a:lnTo>
                    <a:pt x="195" y="102"/>
                  </a:lnTo>
                  <a:lnTo>
                    <a:pt x="172" y="104"/>
                  </a:lnTo>
                  <a:lnTo>
                    <a:pt x="150" y="106"/>
                  </a:lnTo>
                  <a:lnTo>
                    <a:pt x="127" y="104"/>
                  </a:lnTo>
                  <a:lnTo>
                    <a:pt x="104" y="102"/>
                  </a:lnTo>
                  <a:lnTo>
                    <a:pt x="82" y="99"/>
                  </a:lnTo>
                  <a:lnTo>
                    <a:pt x="61" y="95"/>
                  </a:lnTo>
                  <a:lnTo>
                    <a:pt x="44" y="90"/>
                  </a:lnTo>
                  <a:lnTo>
                    <a:pt x="29" y="83"/>
                  </a:lnTo>
                  <a:lnTo>
                    <a:pt x="16" y="78"/>
                  </a:lnTo>
                  <a:lnTo>
                    <a:pt x="7" y="69"/>
                  </a:lnTo>
                  <a:lnTo>
                    <a:pt x="2" y="62"/>
                  </a:lnTo>
                  <a:lnTo>
                    <a:pt x="0" y="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39800" y="331632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369760" y="2562120"/>
              <a:ext cx="690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S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516640" y="3143160"/>
              <a:ext cx="476280" cy="169920"/>
            </a:xfrm>
            <a:custGeom>
              <a:avLst/>
              <a:gdLst/>
              <a:ahLst/>
              <a:rect l="l" t="t" r="r" b="b"/>
              <a:pathLst>
                <a:path w="300" h="107">
                  <a:moveTo>
                    <a:pt x="0" y="53"/>
                  </a:moveTo>
                  <a:lnTo>
                    <a:pt x="2" y="44"/>
                  </a:lnTo>
                  <a:lnTo>
                    <a:pt x="7" y="37"/>
                  </a:lnTo>
                  <a:lnTo>
                    <a:pt x="16" y="30"/>
                  </a:lnTo>
                  <a:lnTo>
                    <a:pt x="29" y="23"/>
                  </a:lnTo>
                  <a:lnTo>
                    <a:pt x="44" y="16"/>
                  </a:lnTo>
                  <a:lnTo>
                    <a:pt x="61" y="11"/>
                  </a:lnTo>
                  <a:lnTo>
                    <a:pt x="82" y="7"/>
                  </a:lnTo>
                  <a:lnTo>
                    <a:pt x="104" y="4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72" y="2"/>
                  </a:lnTo>
                  <a:lnTo>
                    <a:pt x="195" y="4"/>
                  </a:lnTo>
                  <a:lnTo>
                    <a:pt x="217" y="7"/>
                  </a:lnTo>
                  <a:lnTo>
                    <a:pt x="237" y="11"/>
                  </a:lnTo>
                  <a:lnTo>
                    <a:pt x="255" y="16"/>
                  </a:lnTo>
                  <a:lnTo>
                    <a:pt x="270" y="23"/>
                  </a:lnTo>
                  <a:lnTo>
                    <a:pt x="283" y="30"/>
                  </a:lnTo>
                  <a:lnTo>
                    <a:pt x="292" y="37"/>
                  </a:lnTo>
                  <a:lnTo>
                    <a:pt x="297" y="44"/>
                  </a:lnTo>
                  <a:lnTo>
                    <a:pt x="299" y="53"/>
                  </a:lnTo>
                  <a:lnTo>
                    <a:pt x="297" y="62"/>
                  </a:lnTo>
                  <a:lnTo>
                    <a:pt x="292" y="69"/>
                  </a:lnTo>
                  <a:lnTo>
                    <a:pt x="283" y="78"/>
                  </a:lnTo>
                  <a:lnTo>
                    <a:pt x="270" y="83"/>
                  </a:lnTo>
                  <a:lnTo>
                    <a:pt x="255" y="90"/>
                  </a:lnTo>
                  <a:lnTo>
                    <a:pt x="237" y="95"/>
                  </a:lnTo>
                  <a:lnTo>
                    <a:pt x="217" y="99"/>
                  </a:lnTo>
                  <a:lnTo>
                    <a:pt x="195" y="102"/>
                  </a:lnTo>
                  <a:lnTo>
                    <a:pt x="172" y="104"/>
                  </a:lnTo>
                  <a:lnTo>
                    <a:pt x="150" y="106"/>
                  </a:lnTo>
                  <a:lnTo>
                    <a:pt x="127" y="104"/>
                  </a:lnTo>
                  <a:lnTo>
                    <a:pt x="104" y="102"/>
                  </a:lnTo>
                  <a:lnTo>
                    <a:pt x="82" y="99"/>
                  </a:lnTo>
                  <a:lnTo>
                    <a:pt x="61" y="95"/>
                  </a:lnTo>
                  <a:lnTo>
                    <a:pt x="44" y="90"/>
                  </a:lnTo>
                  <a:lnTo>
                    <a:pt x="29" y="83"/>
                  </a:lnTo>
                  <a:lnTo>
                    <a:pt x="16" y="78"/>
                  </a:lnTo>
                  <a:lnTo>
                    <a:pt x="7" y="69"/>
                  </a:lnTo>
                  <a:lnTo>
                    <a:pt x="2" y="62"/>
                  </a:lnTo>
                  <a:lnTo>
                    <a:pt x="0" y="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528880" y="3105000"/>
              <a:ext cx="477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79120" y="3933720"/>
              <a:ext cx="690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ST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593640" y="806400"/>
            <a:ext cx="89758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11200" y="755640"/>
            <a:ext cx="518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0280" y="1536840"/>
            <a:ext cx="7231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to High Performance Scalabl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71240" y="0"/>
            <a:ext cx="897732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Applications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98520" y="1582560"/>
            <a:ext cx="708336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 Independen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ynamic name resolution allows the migration of services from one node to another in a distributed syste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ing encapsul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ad balancing across multiple instances of services is critical for a balanced, high performing syste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 / High Avai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instances of services with run-time selection capability provides a high level of system availa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75920" y="3999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954600" y="3879720"/>
            <a:ext cx="733320" cy="730440"/>
          </a:xfrm>
          <a:custGeom>
            <a:avLst/>
            <a:gdLst/>
            <a:ahLst/>
            <a:rect l="l" t="t" r="r" b="b"/>
            <a:pathLst>
              <a:path w="462" h="460">
                <a:moveTo>
                  <a:pt x="0" y="228"/>
                </a:moveTo>
                <a:lnTo>
                  <a:pt x="4" y="189"/>
                </a:lnTo>
                <a:lnTo>
                  <a:pt x="15" y="150"/>
                </a:lnTo>
                <a:lnTo>
                  <a:pt x="32" y="115"/>
                </a:lnTo>
                <a:lnTo>
                  <a:pt x="54" y="81"/>
                </a:lnTo>
                <a:lnTo>
                  <a:pt x="84" y="54"/>
                </a:lnTo>
                <a:lnTo>
                  <a:pt x="115" y="29"/>
                </a:lnTo>
                <a:lnTo>
                  <a:pt x="152" y="13"/>
                </a:lnTo>
                <a:lnTo>
                  <a:pt x="191" y="3"/>
                </a:lnTo>
                <a:lnTo>
                  <a:pt x="230" y="0"/>
                </a:lnTo>
                <a:lnTo>
                  <a:pt x="271" y="3"/>
                </a:lnTo>
                <a:lnTo>
                  <a:pt x="308" y="13"/>
                </a:lnTo>
                <a:lnTo>
                  <a:pt x="346" y="29"/>
                </a:lnTo>
                <a:lnTo>
                  <a:pt x="379" y="54"/>
                </a:lnTo>
                <a:lnTo>
                  <a:pt x="407" y="81"/>
                </a:lnTo>
                <a:lnTo>
                  <a:pt x="429" y="115"/>
                </a:lnTo>
                <a:lnTo>
                  <a:pt x="446" y="150"/>
                </a:lnTo>
                <a:lnTo>
                  <a:pt x="457" y="189"/>
                </a:lnTo>
                <a:lnTo>
                  <a:pt x="461" y="228"/>
                </a:lnTo>
                <a:lnTo>
                  <a:pt x="457" y="269"/>
                </a:lnTo>
                <a:lnTo>
                  <a:pt x="446" y="308"/>
                </a:lnTo>
                <a:lnTo>
                  <a:pt x="429" y="344"/>
                </a:lnTo>
                <a:lnTo>
                  <a:pt x="407" y="377"/>
                </a:lnTo>
                <a:lnTo>
                  <a:pt x="379" y="405"/>
                </a:lnTo>
                <a:lnTo>
                  <a:pt x="346" y="429"/>
                </a:lnTo>
                <a:lnTo>
                  <a:pt x="308" y="446"/>
                </a:lnTo>
                <a:lnTo>
                  <a:pt x="271" y="455"/>
                </a:lnTo>
                <a:lnTo>
                  <a:pt x="230" y="459"/>
                </a:lnTo>
                <a:lnTo>
                  <a:pt x="191" y="455"/>
                </a:lnTo>
                <a:lnTo>
                  <a:pt x="152" y="446"/>
                </a:lnTo>
                <a:lnTo>
                  <a:pt x="115" y="429"/>
                </a:lnTo>
                <a:lnTo>
                  <a:pt x="84" y="405"/>
                </a:lnTo>
                <a:lnTo>
                  <a:pt x="54" y="377"/>
                </a:lnTo>
                <a:lnTo>
                  <a:pt x="32" y="344"/>
                </a:lnTo>
                <a:lnTo>
                  <a:pt x="15" y="308"/>
                </a:lnTo>
                <a:lnTo>
                  <a:pt x="4" y="269"/>
                </a:lnTo>
                <a:lnTo>
                  <a:pt x="0" y="2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66800" y="1471680"/>
            <a:ext cx="2987640" cy="2523960"/>
          </a:xfrm>
          <a:custGeom>
            <a:avLst/>
            <a:gdLst/>
            <a:ahLst/>
            <a:rect l="l" t="t" r="r" b="b"/>
            <a:pathLst>
              <a:path w="1882" h="1590">
                <a:moveTo>
                  <a:pt x="0" y="1589"/>
                </a:moveTo>
                <a:lnTo>
                  <a:pt x="1881" y="1589"/>
                </a:lnTo>
                <a:lnTo>
                  <a:pt x="1881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62320" y="2035080"/>
            <a:ext cx="2425680" cy="1960560"/>
          </a:xfrm>
          <a:custGeom>
            <a:avLst/>
            <a:gdLst/>
            <a:ahLst/>
            <a:rect l="l" t="t" r="r" b="b"/>
            <a:pathLst>
              <a:path w="1528" h="1235">
                <a:moveTo>
                  <a:pt x="0" y="1234"/>
                </a:moveTo>
                <a:lnTo>
                  <a:pt x="1527" y="1234"/>
                </a:lnTo>
                <a:lnTo>
                  <a:pt x="1527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451240" y="2103480"/>
            <a:ext cx="1047600" cy="1843200"/>
          </a:xfrm>
          <a:custGeom>
            <a:avLst/>
            <a:gdLst/>
            <a:ahLst/>
            <a:rect l="l" t="t" r="r" b="b"/>
            <a:pathLst>
              <a:path w="660" h="1161">
                <a:moveTo>
                  <a:pt x="0" y="1160"/>
                </a:moveTo>
                <a:lnTo>
                  <a:pt x="659" y="1160"/>
                </a:lnTo>
                <a:lnTo>
                  <a:pt x="659" y="0"/>
                </a:lnTo>
                <a:lnTo>
                  <a:pt x="0" y="0"/>
                </a:lnTo>
                <a:lnTo>
                  <a:pt x="0" y="116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3692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6" y="183"/>
                </a:lnTo>
                <a:lnTo>
                  <a:pt x="219" y="209"/>
                </a:lnTo>
                <a:lnTo>
                  <a:pt x="195" y="227"/>
                </a:lnTo>
                <a:lnTo>
                  <a:pt x="169" y="242"/>
                </a:lnTo>
                <a:lnTo>
                  <a:pt x="139" y="249"/>
                </a:lnTo>
                <a:lnTo>
                  <a:pt x="109" y="249"/>
                </a:lnTo>
                <a:lnTo>
                  <a:pt x="80" y="242"/>
                </a:lnTo>
                <a:lnTo>
                  <a:pt x="54" y="227"/>
                </a:lnTo>
                <a:lnTo>
                  <a:pt x="31" y="209"/>
                </a:lnTo>
                <a:lnTo>
                  <a:pt x="13" y="183"/>
                </a:lnTo>
                <a:lnTo>
                  <a:pt x="2" y="155"/>
                </a:lnTo>
                <a:lnTo>
                  <a:pt x="0" y="125"/>
                </a:lnTo>
                <a:lnTo>
                  <a:pt x="2" y="95"/>
                </a:lnTo>
                <a:lnTo>
                  <a:pt x="13" y="67"/>
                </a:lnTo>
                <a:lnTo>
                  <a:pt x="31" y="41"/>
                </a:lnTo>
                <a:lnTo>
                  <a:pt x="54" y="21"/>
                </a:lnTo>
                <a:lnTo>
                  <a:pt x="80" y="8"/>
                </a:lnTo>
                <a:lnTo>
                  <a:pt x="109" y="0"/>
                </a:lnTo>
                <a:lnTo>
                  <a:pt x="139" y="0"/>
                </a:lnTo>
                <a:lnTo>
                  <a:pt x="169" y="8"/>
                </a:lnTo>
                <a:lnTo>
                  <a:pt x="195" y="21"/>
                </a:lnTo>
                <a:lnTo>
                  <a:pt x="219" y="41"/>
                </a:lnTo>
                <a:lnTo>
                  <a:pt x="236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06760" y="27288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03228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8" y="183"/>
                </a:lnTo>
                <a:lnTo>
                  <a:pt x="219" y="209"/>
                </a:lnTo>
                <a:lnTo>
                  <a:pt x="197" y="227"/>
                </a:lnTo>
                <a:lnTo>
                  <a:pt x="171" y="242"/>
                </a:lnTo>
                <a:lnTo>
                  <a:pt x="141" y="249"/>
                </a:lnTo>
                <a:lnTo>
                  <a:pt x="111" y="249"/>
                </a:lnTo>
                <a:lnTo>
                  <a:pt x="82" y="242"/>
                </a:lnTo>
                <a:lnTo>
                  <a:pt x="54" y="227"/>
                </a:lnTo>
                <a:lnTo>
                  <a:pt x="31" y="209"/>
                </a:lnTo>
                <a:lnTo>
                  <a:pt x="15" y="183"/>
                </a:lnTo>
                <a:lnTo>
                  <a:pt x="4" y="155"/>
                </a:lnTo>
                <a:lnTo>
                  <a:pt x="0" y="125"/>
                </a:lnTo>
                <a:lnTo>
                  <a:pt x="4" y="95"/>
                </a:lnTo>
                <a:lnTo>
                  <a:pt x="15" y="67"/>
                </a:lnTo>
                <a:lnTo>
                  <a:pt x="31" y="41"/>
                </a:lnTo>
                <a:lnTo>
                  <a:pt x="54" y="21"/>
                </a:lnTo>
                <a:lnTo>
                  <a:pt x="82" y="8"/>
                </a:lnTo>
                <a:lnTo>
                  <a:pt x="111" y="0"/>
                </a:lnTo>
                <a:lnTo>
                  <a:pt x="141" y="0"/>
                </a:lnTo>
                <a:lnTo>
                  <a:pt x="171" y="8"/>
                </a:lnTo>
                <a:lnTo>
                  <a:pt x="197" y="21"/>
                </a:lnTo>
                <a:lnTo>
                  <a:pt x="219" y="41"/>
                </a:lnTo>
                <a:lnTo>
                  <a:pt x="238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105000" y="27288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53692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5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1" y="40"/>
                </a:lnTo>
                <a:lnTo>
                  <a:pt x="54" y="20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5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606760" y="32274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03228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8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0"/>
                </a:lnTo>
                <a:lnTo>
                  <a:pt x="219" y="40"/>
                </a:lnTo>
                <a:lnTo>
                  <a:pt x="238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05000" y="32274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636280" y="211788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579040" y="231300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13320" y="2117880"/>
            <a:ext cx="1047600" cy="1846080"/>
          </a:xfrm>
          <a:custGeom>
            <a:avLst/>
            <a:gdLst/>
            <a:ahLst/>
            <a:rect l="l" t="t" r="r" b="b"/>
            <a:pathLst>
              <a:path w="660" h="1163">
                <a:moveTo>
                  <a:pt x="0" y="1162"/>
                </a:moveTo>
                <a:lnTo>
                  <a:pt x="659" y="1162"/>
                </a:lnTo>
                <a:lnTo>
                  <a:pt x="659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69576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1" y="5"/>
                </a:lnTo>
                <a:lnTo>
                  <a:pt x="111" y="0"/>
                </a:lnTo>
                <a:lnTo>
                  <a:pt x="141" y="0"/>
                </a:lnTo>
                <a:lnTo>
                  <a:pt x="171" y="5"/>
                </a:lnTo>
                <a:lnTo>
                  <a:pt x="197" y="20"/>
                </a:lnTo>
                <a:lnTo>
                  <a:pt x="219" y="40"/>
                </a:lnTo>
                <a:lnTo>
                  <a:pt x="237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768840" y="2746440"/>
            <a:ext cx="24264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19400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81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26708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69576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4"/>
                </a:lnTo>
                <a:lnTo>
                  <a:pt x="219" y="208"/>
                </a:lnTo>
                <a:lnTo>
                  <a:pt x="197" y="228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1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2"/>
                </a:lnTo>
                <a:lnTo>
                  <a:pt x="219" y="43"/>
                </a:lnTo>
                <a:lnTo>
                  <a:pt x="237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768840" y="3244680"/>
            <a:ext cx="24264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19400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81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6708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79692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74112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11160" y="1527120"/>
            <a:ext cx="203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685600" y="17175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51520" y="1488960"/>
            <a:ext cx="2984400" cy="2524320"/>
          </a:xfrm>
          <a:custGeom>
            <a:avLst/>
            <a:gdLst/>
            <a:ahLst/>
            <a:rect l="l" t="t" r="r" b="b"/>
            <a:pathLst>
              <a:path w="1880" h="1590">
                <a:moveTo>
                  <a:pt x="0" y="1589"/>
                </a:moveTo>
                <a:lnTo>
                  <a:pt x="1879" y="1589"/>
                </a:lnTo>
                <a:lnTo>
                  <a:pt x="1879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746680" y="2052720"/>
            <a:ext cx="2371680" cy="1960560"/>
          </a:xfrm>
          <a:custGeom>
            <a:avLst/>
            <a:gdLst/>
            <a:ahLst/>
            <a:rect l="l" t="t" r="r" b="b"/>
            <a:pathLst>
              <a:path w="1494" h="1235">
                <a:moveTo>
                  <a:pt x="0" y="1234"/>
                </a:moveTo>
                <a:lnTo>
                  <a:pt x="1493" y="1234"/>
                </a:lnTo>
                <a:lnTo>
                  <a:pt x="1493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83560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918040" y="2670120"/>
            <a:ext cx="40032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991120" y="274644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2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3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41664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0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489720" y="27464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1" y="76"/>
                </a:moveTo>
                <a:lnTo>
                  <a:pt x="149" y="97"/>
                </a:lnTo>
                <a:lnTo>
                  <a:pt x="139" y="117"/>
                </a:lnTo>
                <a:lnTo>
                  <a:pt x="125" y="132"/>
                </a:lnTo>
                <a:lnTo>
                  <a:pt x="106" y="145"/>
                </a:lnTo>
                <a:lnTo>
                  <a:pt x="86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6" y="0"/>
                </a:lnTo>
                <a:lnTo>
                  <a:pt x="106" y="5"/>
                </a:lnTo>
                <a:lnTo>
                  <a:pt x="125" y="18"/>
                </a:lnTo>
                <a:lnTo>
                  <a:pt x="139" y="33"/>
                </a:lnTo>
                <a:lnTo>
                  <a:pt x="149" y="54"/>
                </a:lnTo>
                <a:lnTo>
                  <a:pt x="151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18040" y="3165480"/>
            <a:ext cx="40032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4" y="154"/>
                </a:lnTo>
                <a:lnTo>
                  <a:pt x="0" y="124"/>
                </a:lnTo>
                <a:lnTo>
                  <a:pt x="4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2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991120" y="3244680"/>
            <a:ext cx="244440" cy="241560"/>
          </a:xfrm>
          <a:custGeom>
            <a:avLst/>
            <a:gdLst/>
            <a:ahLst/>
            <a:rect l="l" t="t" r="r" b="b"/>
            <a:pathLst>
              <a:path w="154" h="152">
                <a:moveTo>
                  <a:pt x="153" y="74"/>
                </a:moveTo>
                <a:lnTo>
                  <a:pt x="149" y="97"/>
                </a:lnTo>
                <a:lnTo>
                  <a:pt x="140" y="115"/>
                </a:lnTo>
                <a:lnTo>
                  <a:pt x="127" y="132"/>
                </a:lnTo>
                <a:lnTo>
                  <a:pt x="108" y="143"/>
                </a:lnTo>
                <a:lnTo>
                  <a:pt x="88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8" y="0"/>
                </a:lnTo>
                <a:lnTo>
                  <a:pt x="108" y="6"/>
                </a:lnTo>
                <a:lnTo>
                  <a:pt x="127" y="17"/>
                </a:lnTo>
                <a:lnTo>
                  <a:pt x="140" y="33"/>
                </a:lnTo>
                <a:lnTo>
                  <a:pt x="149" y="54"/>
                </a:lnTo>
                <a:lnTo>
                  <a:pt x="153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41664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489720" y="3244680"/>
            <a:ext cx="241200" cy="24156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1" y="74"/>
                </a:moveTo>
                <a:lnTo>
                  <a:pt x="149" y="97"/>
                </a:lnTo>
                <a:lnTo>
                  <a:pt x="139" y="115"/>
                </a:lnTo>
                <a:lnTo>
                  <a:pt x="125" y="132"/>
                </a:lnTo>
                <a:lnTo>
                  <a:pt x="106" y="143"/>
                </a:lnTo>
                <a:lnTo>
                  <a:pt x="86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6" y="0"/>
                </a:lnTo>
                <a:lnTo>
                  <a:pt x="106" y="6"/>
                </a:lnTo>
                <a:lnTo>
                  <a:pt x="125" y="17"/>
                </a:lnTo>
                <a:lnTo>
                  <a:pt x="139" y="33"/>
                </a:lnTo>
                <a:lnTo>
                  <a:pt x="149" y="54"/>
                </a:lnTo>
                <a:lnTo>
                  <a:pt x="151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01776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6340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9768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8012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79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53200" y="27464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150" y="76"/>
                </a:moveTo>
                <a:lnTo>
                  <a:pt x="149" y="97"/>
                </a:lnTo>
                <a:lnTo>
                  <a:pt x="139" y="117"/>
                </a:lnTo>
                <a:lnTo>
                  <a:pt x="124" y="132"/>
                </a:lnTo>
                <a:lnTo>
                  <a:pt x="106" y="145"/>
                </a:lnTo>
                <a:lnTo>
                  <a:pt x="85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5" y="0"/>
                </a:lnTo>
                <a:lnTo>
                  <a:pt x="106" y="5"/>
                </a:lnTo>
                <a:lnTo>
                  <a:pt x="124" y="18"/>
                </a:lnTo>
                <a:lnTo>
                  <a:pt x="139" y="33"/>
                </a:lnTo>
                <a:lnTo>
                  <a:pt x="149" y="54"/>
                </a:lnTo>
                <a:lnTo>
                  <a:pt x="150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77280" y="267012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20" y="206"/>
                </a:lnTo>
                <a:lnTo>
                  <a:pt x="195" y="226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6"/>
                </a:lnTo>
                <a:lnTo>
                  <a:pt x="32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2" y="40"/>
                </a:lnTo>
                <a:lnTo>
                  <a:pt x="54" y="20"/>
                </a:lnTo>
                <a:lnTo>
                  <a:pt x="80" y="5"/>
                </a:lnTo>
                <a:lnTo>
                  <a:pt x="110" y="0"/>
                </a:lnTo>
                <a:lnTo>
                  <a:pt x="140" y="0"/>
                </a:lnTo>
                <a:lnTo>
                  <a:pt x="169" y="5"/>
                </a:lnTo>
                <a:lnTo>
                  <a:pt x="195" y="20"/>
                </a:lnTo>
                <a:lnTo>
                  <a:pt x="220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4856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41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41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8012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79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153200" y="3244680"/>
            <a:ext cx="239760" cy="241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150" y="74"/>
                </a:moveTo>
                <a:lnTo>
                  <a:pt x="149" y="97"/>
                </a:lnTo>
                <a:lnTo>
                  <a:pt x="139" y="115"/>
                </a:lnTo>
                <a:lnTo>
                  <a:pt x="124" y="132"/>
                </a:lnTo>
                <a:lnTo>
                  <a:pt x="106" y="143"/>
                </a:lnTo>
                <a:lnTo>
                  <a:pt x="85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5" y="0"/>
                </a:lnTo>
                <a:lnTo>
                  <a:pt x="106" y="6"/>
                </a:lnTo>
                <a:lnTo>
                  <a:pt x="124" y="17"/>
                </a:lnTo>
                <a:lnTo>
                  <a:pt x="139" y="33"/>
                </a:lnTo>
                <a:lnTo>
                  <a:pt x="149" y="54"/>
                </a:lnTo>
                <a:lnTo>
                  <a:pt x="150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77280" y="3165480"/>
            <a:ext cx="39996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20" y="208"/>
                </a:lnTo>
                <a:lnTo>
                  <a:pt x="195" y="228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8"/>
                </a:lnTo>
                <a:lnTo>
                  <a:pt x="32" y="208"/>
                </a:lnTo>
                <a:lnTo>
                  <a:pt x="13" y="184"/>
                </a:lnTo>
                <a:lnTo>
                  <a:pt x="2" y="154"/>
                </a:lnTo>
                <a:lnTo>
                  <a:pt x="0" y="124"/>
                </a:lnTo>
                <a:lnTo>
                  <a:pt x="2" y="95"/>
                </a:lnTo>
                <a:lnTo>
                  <a:pt x="13" y="67"/>
                </a:lnTo>
                <a:lnTo>
                  <a:pt x="32" y="43"/>
                </a:lnTo>
                <a:lnTo>
                  <a:pt x="54" y="22"/>
                </a:lnTo>
                <a:lnTo>
                  <a:pt x="80" y="7"/>
                </a:lnTo>
                <a:lnTo>
                  <a:pt x="110" y="0"/>
                </a:lnTo>
                <a:lnTo>
                  <a:pt x="140" y="0"/>
                </a:lnTo>
                <a:lnTo>
                  <a:pt x="169" y="7"/>
                </a:lnTo>
                <a:lnTo>
                  <a:pt x="195" y="22"/>
                </a:lnTo>
                <a:lnTo>
                  <a:pt x="220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64856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41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41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17804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12548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025680" y="17319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19040" y="3976560"/>
            <a:ext cx="7050240" cy="650880"/>
          </a:xfrm>
          <a:custGeom>
            <a:avLst/>
            <a:gdLst/>
            <a:ahLst/>
            <a:rect l="l" t="t" r="r" b="b"/>
            <a:pathLst>
              <a:path w="4441" h="410">
                <a:moveTo>
                  <a:pt x="167" y="409"/>
                </a:moveTo>
                <a:lnTo>
                  <a:pt x="4273" y="409"/>
                </a:lnTo>
                <a:lnTo>
                  <a:pt x="4440" y="204"/>
                </a:lnTo>
                <a:lnTo>
                  <a:pt x="4273" y="0"/>
                </a:lnTo>
                <a:lnTo>
                  <a:pt x="167" y="0"/>
                </a:lnTo>
                <a:lnTo>
                  <a:pt x="0" y="204"/>
                </a:lnTo>
                <a:lnTo>
                  <a:pt x="167" y="40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125960" y="3976560"/>
            <a:ext cx="717480" cy="933480"/>
          </a:xfrm>
          <a:custGeom>
            <a:avLst/>
            <a:gdLst/>
            <a:ahLst/>
            <a:rect l="l" t="t" r="r" b="b"/>
            <a:pathLst>
              <a:path w="452" h="588">
                <a:moveTo>
                  <a:pt x="70" y="0"/>
                </a:moveTo>
                <a:lnTo>
                  <a:pt x="330" y="67"/>
                </a:lnTo>
                <a:lnTo>
                  <a:pt x="226" y="104"/>
                </a:lnTo>
                <a:lnTo>
                  <a:pt x="451" y="519"/>
                </a:lnTo>
                <a:lnTo>
                  <a:pt x="405" y="576"/>
                </a:lnTo>
                <a:lnTo>
                  <a:pt x="332" y="587"/>
                </a:lnTo>
                <a:lnTo>
                  <a:pt x="82" y="188"/>
                </a:lnTo>
                <a:lnTo>
                  <a:pt x="0" y="260"/>
                </a:lnTo>
                <a:lnTo>
                  <a:pt x="70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03760" y="3797280"/>
            <a:ext cx="1082520" cy="1092240"/>
          </a:xfrm>
          <a:custGeom>
            <a:avLst/>
            <a:gdLst/>
            <a:ahLst/>
            <a:rect l="l" t="t" r="r" b="b"/>
            <a:pathLst>
              <a:path w="682" h="688">
                <a:moveTo>
                  <a:pt x="678" y="0"/>
                </a:moveTo>
                <a:lnTo>
                  <a:pt x="410" y="0"/>
                </a:lnTo>
                <a:lnTo>
                  <a:pt x="501" y="59"/>
                </a:lnTo>
                <a:lnTo>
                  <a:pt x="0" y="591"/>
                </a:lnTo>
                <a:lnTo>
                  <a:pt x="30" y="658"/>
                </a:lnTo>
                <a:lnTo>
                  <a:pt x="98" y="687"/>
                </a:lnTo>
                <a:lnTo>
                  <a:pt x="620" y="176"/>
                </a:lnTo>
                <a:lnTo>
                  <a:pt x="681" y="267"/>
                </a:lnTo>
                <a:lnTo>
                  <a:pt x="678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546" name=""/>
          <p:cNvSpPr/>
          <p:nvPr/>
        </p:nvSpPr>
        <p:spPr>
          <a:xfrm>
            <a:off x="4166280" y="5013360"/>
            <a:ext cx="1333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al 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392360" y="5533920"/>
            <a:ext cx="903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va/II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800600" y="531036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4065480" y="5295960"/>
            <a:ext cx="493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106960" y="5295960"/>
            <a:ext cx="5508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85720" y="5770440"/>
            <a:ext cx="110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ML/HTT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871720" y="5500800"/>
            <a:ext cx="107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510560" y="4143240"/>
            <a:ext cx="15440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BA/IIOP O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52240" y="47628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ailover / High Availabilit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954600" y="3879720"/>
            <a:ext cx="733320" cy="730440"/>
          </a:xfrm>
          <a:custGeom>
            <a:avLst/>
            <a:gdLst/>
            <a:ahLst/>
            <a:rect l="l" t="t" r="r" b="b"/>
            <a:pathLst>
              <a:path w="462" h="460">
                <a:moveTo>
                  <a:pt x="0" y="228"/>
                </a:moveTo>
                <a:lnTo>
                  <a:pt x="4" y="189"/>
                </a:lnTo>
                <a:lnTo>
                  <a:pt x="15" y="150"/>
                </a:lnTo>
                <a:lnTo>
                  <a:pt x="32" y="115"/>
                </a:lnTo>
                <a:lnTo>
                  <a:pt x="54" y="81"/>
                </a:lnTo>
                <a:lnTo>
                  <a:pt x="84" y="54"/>
                </a:lnTo>
                <a:lnTo>
                  <a:pt x="115" y="29"/>
                </a:lnTo>
                <a:lnTo>
                  <a:pt x="152" y="13"/>
                </a:lnTo>
                <a:lnTo>
                  <a:pt x="191" y="3"/>
                </a:lnTo>
                <a:lnTo>
                  <a:pt x="230" y="0"/>
                </a:lnTo>
                <a:lnTo>
                  <a:pt x="271" y="3"/>
                </a:lnTo>
                <a:lnTo>
                  <a:pt x="308" y="13"/>
                </a:lnTo>
                <a:lnTo>
                  <a:pt x="346" y="29"/>
                </a:lnTo>
                <a:lnTo>
                  <a:pt x="379" y="54"/>
                </a:lnTo>
                <a:lnTo>
                  <a:pt x="407" y="81"/>
                </a:lnTo>
                <a:lnTo>
                  <a:pt x="429" y="115"/>
                </a:lnTo>
                <a:lnTo>
                  <a:pt x="446" y="150"/>
                </a:lnTo>
                <a:lnTo>
                  <a:pt x="457" y="189"/>
                </a:lnTo>
                <a:lnTo>
                  <a:pt x="461" y="228"/>
                </a:lnTo>
                <a:lnTo>
                  <a:pt x="457" y="269"/>
                </a:lnTo>
                <a:lnTo>
                  <a:pt x="446" y="308"/>
                </a:lnTo>
                <a:lnTo>
                  <a:pt x="429" y="344"/>
                </a:lnTo>
                <a:lnTo>
                  <a:pt x="407" y="377"/>
                </a:lnTo>
                <a:lnTo>
                  <a:pt x="379" y="405"/>
                </a:lnTo>
                <a:lnTo>
                  <a:pt x="346" y="429"/>
                </a:lnTo>
                <a:lnTo>
                  <a:pt x="308" y="446"/>
                </a:lnTo>
                <a:lnTo>
                  <a:pt x="271" y="455"/>
                </a:lnTo>
                <a:lnTo>
                  <a:pt x="230" y="459"/>
                </a:lnTo>
                <a:lnTo>
                  <a:pt x="191" y="455"/>
                </a:lnTo>
                <a:lnTo>
                  <a:pt x="152" y="446"/>
                </a:lnTo>
                <a:lnTo>
                  <a:pt x="115" y="429"/>
                </a:lnTo>
                <a:lnTo>
                  <a:pt x="84" y="405"/>
                </a:lnTo>
                <a:lnTo>
                  <a:pt x="54" y="377"/>
                </a:lnTo>
                <a:lnTo>
                  <a:pt x="32" y="344"/>
                </a:lnTo>
                <a:lnTo>
                  <a:pt x="15" y="308"/>
                </a:lnTo>
                <a:lnTo>
                  <a:pt x="4" y="269"/>
                </a:lnTo>
                <a:lnTo>
                  <a:pt x="0" y="2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666800" y="1471680"/>
            <a:ext cx="2987640" cy="2523960"/>
          </a:xfrm>
          <a:custGeom>
            <a:avLst/>
            <a:gdLst/>
            <a:ahLst/>
            <a:rect l="l" t="t" r="r" b="b"/>
            <a:pathLst>
              <a:path w="1882" h="1590">
                <a:moveTo>
                  <a:pt x="0" y="1589"/>
                </a:moveTo>
                <a:lnTo>
                  <a:pt x="1881" y="1589"/>
                </a:lnTo>
                <a:lnTo>
                  <a:pt x="1881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62320" y="2035080"/>
            <a:ext cx="2425680" cy="1960560"/>
          </a:xfrm>
          <a:custGeom>
            <a:avLst/>
            <a:gdLst/>
            <a:ahLst/>
            <a:rect l="l" t="t" r="r" b="b"/>
            <a:pathLst>
              <a:path w="1528" h="1235">
                <a:moveTo>
                  <a:pt x="0" y="1234"/>
                </a:moveTo>
                <a:lnTo>
                  <a:pt x="1527" y="1234"/>
                </a:lnTo>
                <a:lnTo>
                  <a:pt x="1527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51240" y="2103480"/>
            <a:ext cx="1047600" cy="1843200"/>
          </a:xfrm>
          <a:custGeom>
            <a:avLst/>
            <a:gdLst/>
            <a:ahLst/>
            <a:rect l="l" t="t" r="r" b="b"/>
            <a:pathLst>
              <a:path w="660" h="1161">
                <a:moveTo>
                  <a:pt x="0" y="1160"/>
                </a:moveTo>
                <a:lnTo>
                  <a:pt x="659" y="1160"/>
                </a:lnTo>
                <a:lnTo>
                  <a:pt x="659" y="0"/>
                </a:lnTo>
                <a:lnTo>
                  <a:pt x="0" y="0"/>
                </a:lnTo>
                <a:lnTo>
                  <a:pt x="0" y="116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53692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6" y="183"/>
                </a:lnTo>
                <a:lnTo>
                  <a:pt x="219" y="209"/>
                </a:lnTo>
                <a:lnTo>
                  <a:pt x="195" y="227"/>
                </a:lnTo>
                <a:lnTo>
                  <a:pt x="169" y="242"/>
                </a:lnTo>
                <a:lnTo>
                  <a:pt x="139" y="249"/>
                </a:lnTo>
                <a:lnTo>
                  <a:pt x="109" y="249"/>
                </a:lnTo>
                <a:lnTo>
                  <a:pt x="80" y="242"/>
                </a:lnTo>
                <a:lnTo>
                  <a:pt x="54" y="227"/>
                </a:lnTo>
                <a:lnTo>
                  <a:pt x="31" y="209"/>
                </a:lnTo>
                <a:lnTo>
                  <a:pt x="13" y="183"/>
                </a:lnTo>
                <a:lnTo>
                  <a:pt x="2" y="155"/>
                </a:lnTo>
                <a:lnTo>
                  <a:pt x="0" y="125"/>
                </a:lnTo>
                <a:lnTo>
                  <a:pt x="2" y="95"/>
                </a:lnTo>
                <a:lnTo>
                  <a:pt x="13" y="67"/>
                </a:lnTo>
                <a:lnTo>
                  <a:pt x="31" y="41"/>
                </a:lnTo>
                <a:lnTo>
                  <a:pt x="54" y="21"/>
                </a:lnTo>
                <a:lnTo>
                  <a:pt x="80" y="8"/>
                </a:lnTo>
                <a:lnTo>
                  <a:pt x="109" y="0"/>
                </a:lnTo>
                <a:lnTo>
                  <a:pt x="139" y="0"/>
                </a:lnTo>
                <a:lnTo>
                  <a:pt x="169" y="8"/>
                </a:lnTo>
                <a:lnTo>
                  <a:pt x="195" y="21"/>
                </a:lnTo>
                <a:lnTo>
                  <a:pt x="219" y="41"/>
                </a:lnTo>
                <a:lnTo>
                  <a:pt x="236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606760" y="27288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03228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8" y="183"/>
                </a:lnTo>
                <a:lnTo>
                  <a:pt x="219" y="209"/>
                </a:lnTo>
                <a:lnTo>
                  <a:pt x="197" y="227"/>
                </a:lnTo>
                <a:lnTo>
                  <a:pt x="171" y="242"/>
                </a:lnTo>
                <a:lnTo>
                  <a:pt x="141" y="249"/>
                </a:lnTo>
                <a:lnTo>
                  <a:pt x="111" y="249"/>
                </a:lnTo>
                <a:lnTo>
                  <a:pt x="82" y="242"/>
                </a:lnTo>
                <a:lnTo>
                  <a:pt x="54" y="227"/>
                </a:lnTo>
                <a:lnTo>
                  <a:pt x="31" y="209"/>
                </a:lnTo>
                <a:lnTo>
                  <a:pt x="15" y="183"/>
                </a:lnTo>
                <a:lnTo>
                  <a:pt x="4" y="155"/>
                </a:lnTo>
                <a:lnTo>
                  <a:pt x="0" y="125"/>
                </a:lnTo>
                <a:lnTo>
                  <a:pt x="4" y="95"/>
                </a:lnTo>
                <a:lnTo>
                  <a:pt x="15" y="67"/>
                </a:lnTo>
                <a:lnTo>
                  <a:pt x="31" y="41"/>
                </a:lnTo>
                <a:lnTo>
                  <a:pt x="54" y="21"/>
                </a:lnTo>
                <a:lnTo>
                  <a:pt x="82" y="8"/>
                </a:lnTo>
                <a:lnTo>
                  <a:pt x="111" y="0"/>
                </a:lnTo>
                <a:lnTo>
                  <a:pt x="141" y="0"/>
                </a:lnTo>
                <a:lnTo>
                  <a:pt x="171" y="8"/>
                </a:lnTo>
                <a:lnTo>
                  <a:pt x="197" y="21"/>
                </a:lnTo>
                <a:lnTo>
                  <a:pt x="219" y="41"/>
                </a:lnTo>
                <a:lnTo>
                  <a:pt x="238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05000" y="27288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3692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5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1" y="40"/>
                </a:lnTo>
                <a:lnTo>
                  <a:pt x="54" y="20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5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606760" y="32274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03228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8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0"/>
                </a:lnTo>
                <a:lnTo>
                  <a:pt x="219" y="40"/>
                </a:lnTo>
                <a:lnTo>
                  <a:pt x="238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105000" y="32274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636280" y="211788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579040" y="231300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613320" y="2117880"/>
            <a:ext cx="1047600" cy="1846080"/>
          </a:xfrm>
          <a:custGeom>
            <a:avLst/>
            <a:gdLst/>
            <a:ahLst/>
            <a:rect l="l" t="t" r="r" b="b"/>
            <a:pathLst>
              <a:path w="660" h="1163">
                <a:moveTo>
                  <a:pt x="0" y="1162"/>
                </a:moveTo>
                <a:lnTo>
                  <a:pt x="659" y="1162"/>
                </a:lnTo>
                <a:lnTo>
                  <a:pt x="659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69576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1" y="5"/>
                </a:lnTo>
                <a:lnTo>
                  <a:pt x="111" y="0"/>
                </a:lnTo>
                <a:lnTo>
                  <a:pt x="141" y="0"/>
                </a:lnTo>
                <a:lnTo>
                  <a:pt x="171" y="5"/>
                </a:lnTo>
                <a:lnTo>
                  <a:pt x="197" y="20"/>
                </a:lnTo>
                <a:lnTo>
                  <a:pt x="219" y="40"/>
                </a:lnTo>
                <a:lnTo>
                  <a:pt x="237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768840" y="2746440"/>
            <a:ext cx="24264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19400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81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26708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9576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4"/>
                </a:lnTo>
                <a:lnTo>
                  <a:pt x="219" y="208"/>
                </a:lnTo>
                <a:lnTo>
                  <a:pt x="197" y="228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1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2"/>
                </a:lnTo>
                <a:lnTo>
                  <a:pt x="219" y="43"/>
                </a:lnTo>
                <a:lnTo>
                  <a:pt x="237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768840" y="3244680"/>
            <a:ext cx="24264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19400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81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26708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79692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74112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811160" y="1527120"/>
            <a:ext cx="203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85600" y="17175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51520" y="1488960"/>
            <a:ext cx="2984400" cy="2524320"/>
          </a:xfrm>
          <a:custGeom>
            <a:avLst/>
            <a:gdLst/>
            <a:ahLst/>
            <a:rect l="l" t="t" r="r" b="b"/>
            <a:pathLst>
              <a:path w="1880" h="1590">
                <a:moveTo>
                  <a:pt x="0" y="1589"/>
                </a:moveTo>
                <a:lnTo>
                  <a:pt x="1879" y="1589"/>
                </a:lnTo>
                <a:lnTo>
                  <a:pt x="1879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6680" y="2052720"/>
            <a:ext cx="2371680" cy="1960560"/>
          </a:xfrm>
          <a:custGeom>
            <a:avLst/>
            <a:gdLst/>
            <a:ahLst/>
            <a:rect l="l" t="t" r="r" b="b"/>
            <a:pathLst>
              <a:path w="1494" h="1235">
                <a:moveTo>
                  <a:pt x="0" y="1234"/>
                </a:moveTo>
                <a:lnTo>
                  <a:pt x="1493" y="1234"/>
                </a:lnTo>
                <a:lnTo>
                  <a:pt x="1493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83560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918040" y="2670120"/>
            <a:ext cx="40032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991120" y="274644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2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3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1664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0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89720" y="27464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1" y="76"/>
                </a:moveTo>
                <a:lnTo>
                  <a:pt x="149" y="97"/>
                </a:lnTo>
                <a:lnTo>
                  <a:pt x="139" y="117"/>
                </a:lnTo>
                <a:lnTo>
                  <a:pt x="125" y="132"/>
                </a:lnTo>
                <a:lnTo>
                  <a:pt x="106" y="145"/>
                </a:lnTo>
                <a:lnTo>
                  <a:pt x="86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6" y="0"/>
                </a:lnTo>
                <a:lnTo>
                  <a:pt x="106" y="5"/>
                </a:lnTo>
                <a:lnTo>
                  <a:pt x="125" y="18"/>
                </a:lnTo>
                <a:lnTo>
                  <a:pt x="139" y="33"/>
                </a:lnTo>
                <a:lnTo>
                  <a:pt x="149" y="54"/>
                </a:lnTo>
                <a:lnTo>
                  <a:pt x="151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918040" y="3165480"/>
            <a:ext cx="40032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4" y="154"/>
                </a:lnTo>
                <a:lnTo>
                  <a:pt x="0" y="124"/>
                </a:lnTo>
                <a:lnTo>
                  <a:pt x="4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2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91120" y="3244680"/>
            <a:ext cx="244440" cy="241560"/>
          </a:xfrm>
          <a:custGeom>
            <a:avLst/>
            <a:gdLst/>
            <a:ahLst/>
            <a:rect l="l" t="t" r="r" b="b"/>
            <a:pathLst>
              <a:path w="154" h="152">
                <a:moveTo>
                  <a:pt x="153" y="74"/>
                </a:moveTo>
                <a:lnTo>
                  <a:pt x="149" y="97"/>
                </a:lnTo>
                <a:lnTo>
                  <a:pt x="140" y="115"/>
                </a:lnTo>
                <a:lnTo>
                  <a:pt x="127" y="132"/>
                </a:lnTo>
                <a:lnTo>
                  <a:pt x="108" y="143"/>
                </a:lnTo>
                <a:lnTo>
                  <a:pt x="88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8" y="0"/>
                </a:lnTo>
                <a:lnTo>
                  <a:pt x="108" y="6"/>
                </a:lnTo>
                <a:lnTo>
                  <a:pt x="127" y="17"/>
                </a:lnTo>
                <a:lnTo>
                  <a:pt x="140" y="33"/>
                </a:lnTo>
                <a:lnTo>
                  <a:pt x="149" y="54"/>
                </a:lnTo>
                <a:lnTo>
                  <a:pt x="153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1664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9720" y="3244680"/>
            <a:ext cx="241200" cy="24156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1" y="74"/>
                </a:moveTo>
                <a:lnTo>
                  <a:pt x="149" y="97"/>
                </a:lnTo>
                <a:lnTo>
                  <a:pt x="139" y="115"/>
                </a:lnTo>
                <a:lnTo>
                  <a:pt x="125" y="132"/>
                </a:lnTo>
                <a:lnTo>
                  <a:pt x="106" y="143"/>
                </a:lnTo>
                <a:lnTo>
                  <a:pt x="86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6" y="0"/>
                </a:lnTo>
                <a:lnTo>
                  <a:pt x="106" y="6"/>
                </a:lnTo>
                <a:lnTo>
                  <a:pt x="125" y="17"/>
                </a:lnTo>
                <a:lnTo>
                  <a:pt x="139" y="33"/>
                </a:lnTo>
                <a:lnTo>
                  <a:pt x="149" y="54"/>
                </a:lnTo>
                <a:lnTo>
                  <a:pt x="151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01776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6340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99768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08012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79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53200" y="27464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150" y="76"/>
                </a:moveTo>
                <a:lnTo>
                  <a:pt x="149" y="97"/>
                </a:lnTo>
                <a:lnTo>
                  <a:pt x="139" y="117"/>
                </a:lnTo>
                <a:lnTo>
                  <a:pt x="124" y="132"/>
                </a:lnTo>
                <a:lnTo>
                  <a:pt x="106" y="145"/>
                </a:lnTo>
                <a:lnTo>
                  <a:pt x="85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5" y="0"/>
                </a:lnTo>
                <a:lnTo>
                  <a:pt x="106" y="5"/>
                </a:lnTo>
                <a:lnTo>
                  <a:pt x="124" y="18"/>
                </a:lnTo>
                <a:lnTo>
                  <a:pt x="139" y="33"/>
                </a:lnTo>
                <a:lnTo>
                  <a:pt x="149" y="54"/>
                </a:lnTo>
                <a:lnTo>
                  <a:pt x="150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577280" y="267012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20" y="206"/>
                </a:lnTo>
                <a:lnTo>
                  <a:pt x="195" y="226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6"/>
                </a:lnTo>
                <a:lnTo>
                  <a:pt x="32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2" y="40"/>
                </a:lnTo>
                <a:lnTo>
                  <a:pt x="54" y="20"/>
                </a:lnTo>
                <a:lnTo>
                  <a:pt x="80" y="5"/>
                </a:lnTo>
                <a:lnTo>
                  <a:pt x="110" y="0"/>
                </a:lnTo>
                <a:lnTo>
                  <a:pt x="140" y="0"/>
                </a:lnTo>
                <a:lnTo>
                  <a:pt x="169" y="5"/>
                </a:lnTo>
                <a:lnTo>
                  <a:pt x="195" y="20"/>
                </a:lnTo>
                <a:lnTo>
                  <a:pt x="220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64856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41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41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08012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79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153200" y="3244680"/>
            <a:ext cx="239760" cy="241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150" y="74"/>
                </a:moveTo>
                <a:lnTo>
                  <a:pt x="149" y="97"/>
                </a:lnTo>
                <a:lnTo>
                  <a:pt x="139" y="115"/>
                </a:lnTo>
                <a:lnTo>
                  <a:pt x="124" y="132"/>
                </a:lnTo>
                <a:lnTo>
                  <a:pt x="106" y="143"/>
                </a:lnTo>
                <a:lnTo>
                  <a:pt x="85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5" y="0"/>
                </a:lnTo>
                <a:lnTo>
                  <a:pt x="106" y="6"/>
                </a:lnTo>
                <a:lnTo>
                  <a:pt x="124" y="17"/>
                </a:lnTo>
                <a:lnTo>
                  <a:pt x="139" y="33"/>
                </a:lnTo>
                <a:lnTo>
                  <a:pt x="149" y="54"/>
                </a:lnTo>
                <a:lnTo>
                  <a:pt x="150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577280" y="3165480"/>
            <a:ext cx="39996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20" y="208"/>
                </a:lnTo>
                <a:lnTo>
                  <a:pt x="195" y="228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8"/>
                </a:lnTo>
                <a:lnTo>
                  <a:pt x="32" y="208"/>
                </a:lnTo>
                <a:lnTo>
                  <a:pt x="13" y="184"/>
                </a:lnTo>
                <a:lnTo>
                  <a:pt x="2" y="154"/>
                </a:lnTo>
                <a:lnTo>
                  <a:pt x="0" y="124"/>
                </a:lnTo>
                <a:lnTo>
                  <a:pt x="2" y="95"/>
                </a:lnTo>
                <a:lnTo>
                  <a:pt x="13" y="67"/>
                </a:lnTo>
                <a:lnTo>
                  <a:pt x="32" y="43"/>
                </a:lnTo>
                <a:lnTo>
                  <a:pt x="54" y="22"/>
                </a:lnTo>
                <a:lnTo>
                  <a:pt x="80" y="7"/>
                </a:lnTo>
                <a:lnTo>
                  <a:pt x="110" y="0"/>
                </a:lnTo>
                <a:lnTo>
                  <a:pt x="140" y="0"/>
                </a:lnTo>
                <a:lnTo>
                  <a:pt x="169" y="7"/>
                </a:lnTo>
                <a:lnTo>
                  <a:pt x="195" y="22"/>
                </a:lnTo>
                <a:lnTo>
                  <a:pt x="220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4856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41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41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17804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12548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025680" y="17319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24040" y="1495440"/>
            <a:ext cx="2938320" cy="24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1704960" y="1496880"/>
            <a:ext cx="2906640" cy="24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319040" y="3976560"/>
            <a:ext cx="7050240" cy="650880"/>
          </a:xfrm>
          <a:custGeom>
            <a:avLst/>
            <a:gdLst/>
            <a:ahLst/>
            <a:rect l="l" t="t" r="r" b="b"/>
            <a:pathLst>
              <a:path w="4441" h="410">
                <a:moveTo>
                  <a:pt x="167" y="409"/>
                </a:moveTo>
                <a:lnTo>
                  <a:pt x="4273" y="409"/>
                </a:lnTo>
                <a:lnTo>
                  <a:pt x="4440" y="204"/>
                </a:lnTo>
                <a:lnTo>
                  <a:pt x="4273" y="0"/>
                </a:lnTo>
                <a:lnTo>
                  <a:pt x="167" y="0"/>
                </a:lnTo>
                <a:lnTo>
                  <a:pt x="0" y="204"/>
                </a:lnTo>
                <a:lnTo>
                  <a:pt x="167" y="40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45040" y="4205160"/>
            <a:ext cx="717480" cy="933480"/>
          </a:xfrm>
          <a:custGeom>
            <a:avLst/>
            <a:gdLst/>
            <a:ahLst/>
            <a:rect l="l" t="t" r="r" b="b"/>
            <a:pathLst>
              <a:path w="452" h="588">
                <a:moveTo>
                  <a:pt x="70" y="0"/>
                </a:moveTo>
                <a:lnTo>
                  <a:pt x="330" y="67"/>
                </a:lnTo>
                <a:lnTo>
                  <a:pt x="226" y="104"/>
                </a:lnTo>
                <a:lnTo>
                  <a:pt x="451" y="519"/>
                </a:lnTo>
                <a:lnTo>
                  <a:pt x="405" y="576"/>
                </a:lnTo>
                <a:lnTo>
                  <a:pt x="332" y="587"/>
                </a:lnTo>
                <a:lnTo>
                  <a:pt x="82" y="188"/>
                </a:lnTo>
                <a:lnTo>
                  <a:pt x="0" y="260"/>
                </a:lnTo>
                <a:lnTo>
                  <a:pt x="70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799160" y="4159080"/>
            <a:ext cx="1082520" cy="1092240"/>
          </a:xfrm>
          <a:custGeom>
            <a:avLst/>
            <a:gdLst/>
            <a:ahLst/>
            <a:rect l="l" t="t" r="r" b="b"/>
            <a:pathLst>
              <a:path w="682" h="688">
                <a:moveTo>
                  <a:pt x="678" y="0"/>
                </a:moveTo>
                <a:lnTo>
                  <a:pt x="410" y="0"/>
                </a:lnTo>
                <a:lnTo>
                  <a:pt x="501" y="59"/>
                </a:lnTo>
                <a:lnTo>
                  <a:pt x="0" y="591"/>
                </a:lnTo>
                <a:lnTo>
                  <a:pt x="30" y="658"/>
                </a:lnTo>
                <a:lnTo>
                  <a:pt x="98" y="687"/>
                </a:lnTo>
                <a:lnTo>
                  <a:pt x="620" y="176"/>
                </a:lnTo>
                <a:lnTo>
                  <a:pt x="681" y="267"/>
                </a:lnTo>
                <a:lnTo>
                  <a:pt x="678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810800" y="4110120"/>
            <a:ext cx="15440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BA/IIOP O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617" name=""/>
          <p:cNvSpPr/>
          <p:nvPr/>
        </p:nvSpPr>
        <p:spPr>
          <a:xfrm>
            <a:off x="4448160" y="5553000"/>
            <a:ext cx="766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800600" y="531036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4065480" y="5295960"/>
            <a:ext cx="493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106960" y="5295960"/>
            <a:ext cx="5508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661000" y="5370480"/>
            <a:ext cx="912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/Ja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37200" y="5351400"/>
            <a:ext cx="739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Applications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74840" y="1506600"/>
            <a:ext cx="708336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isten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ult detection and monito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utomatic restart of failed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ult detection and reporting to conso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management and poo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connection pooling and cach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gacy integr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static and dynamic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547200" y="22824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Internet-Related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71600" y="15908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/Java capabilities out of the bo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al with highly-unreliable thin cli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full semantics on top of stateless HTT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ssion and conne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stateless nature of HTTP requests requires that any middleware provide efficient policies for pooling and caching connections to backend services such as databa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-based transactions should allow the grouping of HTTP requests as part of one task. Middleware should support such transaction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ca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omain Name Service (DNS) “round-robin” lookup unsatisfactor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672400" cy="9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Internet-Related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71240" y="1523880"/>
            <a:ext cx="852012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 Serv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predictable performance under heavy load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gh overhead of per-request cgi-bin launch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process per reques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 is always a concer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alidate per-reques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566640" y="1523880"/>
            <a:ext cx="8577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Object Applications -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What Is It and What Does It Offer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a programming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rongly-typed languag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 for interfa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rta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Virtual Machine hides a lot of operating system dependenc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What Is It and What Does It Offer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a computing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Virtual Machine (JVM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stract Window Toolkit (AWT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Foundation Classes (JFC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e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mote Method Invocation (RMI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/O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fle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ns Component Mod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080" y="76320"/>
            <a:ext cx="8553240" cy="15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2600" y="1562040"/>
            <a:ext cx="75628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ll service consulting organiz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eas of focu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 end-user companie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s integra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ment and engineering of enterprise-wide middleware (OO and non OO) architectur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 assessment and evaluation (long and short term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ment of complex multi-tier applica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quirements defini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quests For Proposal develop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What Is It and What Does It Offer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a computing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 Connectiv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ynamic Extensi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ializa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tu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Technology Roadma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547200" y="447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JDK 1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tSpot JV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tive Interfaces (JNI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anagement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ming and Directory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Transaction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s Spec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71600" y="447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47200" y="1562040"/>
            <a:ext cx="8062920" cy="40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formance enhancements in JDK1.2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thread suppor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mory compression for loaded clas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ster memory allocation and garbage collec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nitor and thread synchronization speedup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library JNI port (new AWT uses JNI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dresses, two compute cycle time sink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arbage Colle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 synchroniz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th of which are not speeded up by a JI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bines the power of interpreted byte code and a JI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4720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TSPOT JV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33080" y="1523880"/>
            <a:ext cx="852012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JavaSoft - average execution time break up for Java program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yte Code Interpre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0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arbage Collec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Method Implemen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TE: these are average numbers only and depend on the specific application.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 only addresses byte code interpret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71600" y="447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DK 1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tSpot JV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Activat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tive Interfaces (JNI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anagement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ming and Directory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Transaction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71600" y="38088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ise Java Beans - EJ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33440" y="1523880"/>
            <a:ext cx="83678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Beans component model addresses the client sid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 is a server side non-visual component model. These are non-visual Bea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not only allows you to develop component-based server side multi-tier architectures but also lets you deploy and manage th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EJB Server provides a EJB Contain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Server provides an execution environment for component based applications developed using EJ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71600" y="38088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Java Beans - EJ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14360" y="1485720"/>
            <a:ext cx="83678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could be a full-strength solution that works with transaction monitors, databases, Web servers, application servers et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’s write-once, run-anywhere literally means run on any hardware, on any database, any TP monitor 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47200" y="3808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JB - Architectu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968640" y="1758960"/>
            <a:ext cx="4940280" cy="3873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730760" y="2139840"/>
            <a:ext cx="3949560" cy="31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587760" y="32828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587760" y="39686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87760" y="46544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788160" y="3816360"/>
            <a:ext cx="15876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78680" y="4654440"/>
            <a:ext cx="1130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473960" y="4654440"/>
            <a:ext cx="11304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9040" y="2825640"/>
            <a:ext cx="12067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46280" y="1488960"/>
            <a:ext cx="31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ERPRISE JAVA BEA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170320" y="1870200"/>
            <a:ext cx="3505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ERPRISE JAVA BEAN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492000" y="4689360"/>
            <a:ext cx="124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F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Fi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644280" y="4003560"/>
            <a:ext cx="129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Fa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492720" y="3317760"/>
            <a:ext cx="144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Re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225920" y="3013200"/>
            <a:ext cx="113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96600" y="3927600"/>
            <a:ext cx="124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prise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234480" y="4689360"/>
            <a:ext cx="96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452720" y="4765680"/>
            <a:ext cx="104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100480" y="2664000"/>
            <a:ext cx="199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410080" y="3368520"/>
            <a:ext cx="0" cy="2562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59440" y="3216240"/>
            <a:ext cx="809640" cy="58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59440" y="320040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968720" y="3521160"/>
            <a:ext cx="1800360" cy="58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968720" y="419112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4967280" y="4331880"/>
            <a:ext cx="180036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378080" y="3892680"/>
            <a:ext cx="901440" cy="749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431720" y="407988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2224080" y="3569760"/>
            <a:ext cx="1343160" cy="40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78160" y="426708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301840" y="4435560"/>
            <a:ext cx="1190520" cy="42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271240" y="354636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425680" y="400356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345400" y="461340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395320" y="377496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549760" y="415620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469840" y="468936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4486320" y="5943600"/>
            <a:ext cx="78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30840" y="594360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181320" y="5884920"/>
            <a:ext cx="1635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695920" y="5961240"/>
            <a:ext cx="1635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077320" y="44355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91480" y="1467000"/>
            <a:ext cx="1615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ing Hierarc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203840" y="1717560"/>
            <a:ext cx="52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1133280" y="1996920"/>
            <a:ext cx="1746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24040" y="2098800"/>
            <a:ext cx="698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904680" y="2301840"/>
            <a:ext cx="17460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96160" y="2479680"/>
            <a:ext cx="69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599760" y="2759040"/>
            <a:ext cx="25092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930240" y="2759040"/>
            <a:ext cx="2001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90160" y="293688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052280" y="293688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0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Java “the new middleware platform”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547560" y="151416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 least not yet.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ing specifications for distributed services is not enough - implementations of these services by commercial products are requir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bout the applications that pre-date Jav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is just 1100+ days old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14360" y="159984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Object Applications -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250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5920" y="1600200"/>
            <a:ext cx="8591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ample of classes offered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 - Developing and Integrating Distrubuted Applications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ranet Application Development For The Enterpris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A Detailed Look at Object Transaction Monitors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ing Java, ActiveX and CORBA to Develop Component Based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terprise Applications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47200" y="0"/>
            <a:ext cx="8596440" cy="136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guage independent middleware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4920" y="113364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Middleware -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 standards-based approach addressing multi-tier system integration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mon Object Request Broker Architecture - CORB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onent Object Model - MTS/CO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8120" y="152280"/>
            <a:ext cx="840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ject Managemen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612880" y="3429000"/>
            <a:ext cx="308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178160" y="3282840"/>
            <a:ext cx="2730600" cy="1435320"/>
          </a:xfrm>
          <a:prstGeom prst="rightArrow">
            <a:avLst>
              <a:gd name="adj1" fmla="val 50000"/>
              <a:gd name="adj2" fmla="val 95166"/>
            </a:avLst>
          </a:prstGeom>
          <a:solidFill>
            <a:srgbClr val="dadada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1434240" y="3282840"/>
            <a:ext cx="2730600" cy="1435320"/>
          </a:xfrm>
          <a:prstGeom prst="rightArrow">
            <a:avLst>
              <a:gd name="adj1" fmla="val 50000"/>
              <a:gd name="adj2" fmla="val 95166"/>
            </a:avLst>
          </a:prstGeom>
          <a:solidFill>
            <a:srgbClr val="dadada"/>
          </a:solidFill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114360" y="3781440"/>
            <a:ext cx="220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Request 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420360" y="5762520"/>
            <a:ext cx="1583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825640" y="4959360"/>
            <a:ext cx="749520" cy="6732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807080" y="4959360"/>
            <a:ext cx="749160" cy="6732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816360" y="4959360"/>
            <a:ext cx="749160" cy="6732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3181320" y="4325400"/>
            <a:ext cx="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4172040" y="4325400"/>
            <a:ext cx="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5181480" y="4325400"/>
            <a:ext cx="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102200" y="2139840"/>
            <a:ext cx="1511280" cy="749520"/>
          </a:xfrm>
          <a:prstGeom prst="rect">
            <a:avLst/>
          </a:prstGeom>
          <a:solidFill>
            <a:srgbClr val="dadad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471920" y="2182680"/>
            <a:ext cx="99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191120" y="211608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213080" y="2133720"/>
            <a:ext cx="148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762440" y="28987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597040" y="2139840"/>
            <a:ext cx="1511280" cy="749520"/>
          </a:xfrm>
          <a:prstGeom prst="rect">
            <a:avLst/>
          </a:prstGeom>
          <a:solidFill>
            <a:srgbClr val="dadad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739600" y="2182680"/>
            <a:ext cx="119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590920" y="211608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12880" y="2133720"/>
            <a:ext cx="148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429000" y="29178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2440" y="4254480"/>
            <a:ext cx="168588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18600" y="4349880"/>
            <a:ext cx="14418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016760" y="4044960"/>
            <a:ext cx="1663560" cy="175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042320" y="4502160"/>
            <a:ext cx="16232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521400" y="1530360"/>
            <a:ext cx="1854360" cy="18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40480" y="1766880"/>
            <a:ext cx="1800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Do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 L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252680" y="1442880"/>
            <a:ext cx="995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349000" y="1519200"/>
            <a:ext cx="1621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ertical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 Fundament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71600" y="15908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s Vs. Implement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 Definition Language (ID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Request Broker (ORB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ent Stubs and Server Skelet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ic Object Adapter (BO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 Transparenc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ic Invocation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ynamic Invocation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 Repositor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Excep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974880" y="887400"/>
            <a:ext cx="107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3776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 Interfa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90520" y="2127240"/>
            <a:ext cx="3333600" cy="66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378320" y="1758960"/>
            <a:ext cx="3792600" cy="99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176480" y="224460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472280" y="2011320"/>
            <a:ext cx="292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62080" y="4578480"/>
            <a:ext cx="84945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62080" y="4502160"/>
            <a:ext cx="8494560" cy="100080"/>
          </a:xfrm>
          <a:prstGeom prst="rect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72880" y="3610080"/>
            <a:ext cx="1600200" cy="84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72880" y="3463920"/>
            <a:ext cx="1576440" cy="133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36520" y="3624120"/>
            <a:ext cx="1193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7607880" y="3587760"/>
            <a:ext cx="1148760" cy="839880"/>
            <a:chOff x="7607880" y="3587760"/>
            <a:chExt cx="1148760" cy="839880"/>
          </a:xfrm>
        </p:grpSpPr>
        <p:sp>
          <p:nvSpPr>
            <p:cNvPr id="1790" name=""/>
            <p:cNvSpPr/>
            <p:nvPr/>
          </p:nvSpPr>
          <p:spPr>
            <a:xfrm>
              <a:off x="7662960" y="3728880"/>
              <a:ext cx="1093680" cy="698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62960" y="3587760"/>
              <a:ext cx="1093680" cy="128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07880" y="3741840"/>
              <a:ext cx="946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3413160" y="3773520"/>
            <a:ext cx="137304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400560" y="3619440"/>
            <a:ext cx="1385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668760" y="3738600"/>
            <a:ext cx="1025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076480" y="3687840"/>
            <a:ext cx="117000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076480" y="3541680"/>
            <a:ext cx="1170000" cy="1335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976400" y="3662280"/>
            <a:ext cx="800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26480" y="4705200"/>
            <a:ext cx="359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quest Brok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015920" y="2886120"/>
            <a:ext cx="0" cy="60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444760" y="288612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443560" y="288612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6788160" y="2860200"/>
            <a:ext cx="0" cy="682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983280" y="2886120"/>
            <a:ext cx="0" cy="64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145200" y="3541680"/>
            <a:ext cx="1406520" cy="930240"/>
            <a:chOff x="6145200" y="3541680"/>
            <a:chExt cx="1406520" cy="930240"/>
          </a:xfrm>
        </p:grpSpPr>
        <p:sp>
          <p:nvSpPr>
            <p:cNvPr id="1806" name=""/>
            <p:cNvSpPr/>
            <p:nvPr/>
          </p:nvSpPr>
          <p:spPr>
            <a:xfrm>
              <a:off x="6145200" y="3691080"/>
              <a:ext cx="140652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45200" y="3541680"/>
              <a:ext cx="1406520" cy="136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99200" y="3652920"/>
              <a:ext cx="11934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ynam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4884840" y="3587760"/>
            <a:ext cx="1199880" cy="922320"/>
            <a:chOff x="4884840" y="3587760"/>
            <a:chExt cx="1199880" cy="922320"/>
          </a:xfrm>
        </p:grpSpPr>
        <p:sp>
          <p:nvSpPr>
            <p:cNvPr id="1810" name=""/>
            <p:cNvSpPr/>
            <p:nvPr/>
          </p:nvSpPr>
          <p:spPr>
            <a:xfrm>
              <a:off x="4884840" y="3728880"/>
              <a:ext cx="1199880" cy="7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884840" y="3587760"/>
              <a:ext cx="1199880" cy="1285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913640" y="3691080"/>
              <a:ext cx="11386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kele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7948440" y="2886120"/>
            <a:ext cx="0" cy="64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06880" y="2901960"/>
            <a:ext cx="90144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4121280" y="2860560"/>
            <a:ext cx="527040" cy="7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 Fundament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9492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operability (IIOP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ne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backs Suppor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38120" y="228600"/>
            <a:ext cx="855360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796284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Services - provide standard interface definitions for important middleware servi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263680" y="186696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89040" y="186696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1476360" y="25506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1963800" y="25506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451240" y="25506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380160" y="2050920"/>
            <a:ext cx="1582920" cy="725760"/>
          </a:xfrm>
          <a:prstGeom prst="rightArrow">
            <a:avLst>
              <a:gd name="adj1" fmla="val 50000"/>
              <a:gd name="adj2" fmla="val 109063"/>
            </a:avLst>
          </a:prstGeom>
          <a:gradFill rotWithShape="0">
            <a:gsLst>
              <a:gs pos="0">
                <a:srgbClr val="6699ff"/>
              </a:gs>
              <a:gs pos="100000">
                <a:srgbClr val="5b88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89160" y="2871720"/>
            <a:ext cx="37440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b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263680" y="2871720"/>
            <a:ext cx="37620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b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776240" y="2871720"/>
            <a:ext cx="374760" cy="343080"/>
          </a:xfrm>
          <a:prstGeom prst="ellipse">
            <a:avLst/>
          </a:prstGeom>
          <a:gradFill rotWithShape="0">
            <a:gsLst>
              <a:gs pos="0">
                <a:srgbClr val="c0fef9"/>
              </a:gs>
              <a:gs pos="100000">
                <a:srgbClr val="394b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963800" y="1460520"/>
            <a:ext cx="7509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b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176480" y="1460520"/>
            <a:ext cx="749160" cy="3808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394b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963800" y="2031840"/>
            <a:ext cx="1541520" cy="725760"/>
          </a:xfrm>
          <a:prstGeom prst="rightArrow">
            <a:avLst>
              <a:gd name="adj1" fmla="val 50000"/>
              <a:gd name="adj2" fmla="val 106288"/>
            </a:avLst>
          </a:prstGeom>
          <a:gradFill rotWithShape="0">
            <a:gsLst>
              <a:gs pos="0">
                <a:srgbClr val="6699ff"/>
              </a:gs>
              <a:gs pos="100000">
                <a:srgbClr val="5b88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116000" y="2749680"/>
            <a:ext cx="17226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71600" y="15228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336920" y="1593720"/>
            <a:ext cx="4737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  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stractions for Middleware Services  Functiona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38160" y="2262240"/>
            <a:ext cx="2610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ject Request Bro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5318280" y="3505320"/>
            <a:ext cx="1271520" cy="1371600"/>
            <a:chOff x="5318280" y="3505320"/>
            <a:chExt cx="1271520" cy="1371600"/>
          </a:xfrm>
        </p:grpSpPr>
        <p:sp>
          <p:nvSpPr>
            <p:cNvPr id="1843" name=""/>
            <p:cNvSpPr/>
            <p:nvPr/>
          </p:nvSpPr>
          <p:spPr>
            <a:xfrm>
              <a:off x="5318280" y="3505320"/>
              <a:ext cx="121752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41680" y="3906720"/>
              <a:ext cx="1248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5" name=""/>
          <p:cNvGrpSpPr/>
          <p:nvPr/>
        </p:nvGrpSpPr>
        <p:grpSpPr>
          <a:xfrm>
            <a:off x="1808280" y="4853160"/>
            <a:ext cx="1141560" cy="1319040"/>
            <a:chOff x="1808280" y="4853160"/>
            <a:chExt cx="1141560" cy="1319040"/>
          </a:xfrm>
        </p:grpSpPr>
        <p:sp>
          <p:nvSpPr>
            <p:cNvPr id="1846" name=""/>
            <p:cNvSpPr/>
            <p:nvPr/>
          </p:nvSpPr>
          <p:spPr>
            <a:xfrm>
              <a:off x="1808280" y="4853160"/>
              <a:ext cx="1106280" cy="13190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87480" y="5237280"/>
              <a:ext cx="1062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4178160" y="4800600"/>
            <a:ext cx="1288800" cy="1371600"/>
            <a:chOff x="4178160" y="4800600"/>
            <a:chExt cx="1288800" cy="1371600"/>
          </a:xfrm>
        </p:grpSpPr>
        <p:sp>
          <p:nvSpPr>
            <p:cNvPr id="1849" name=""/>
            <p:cNvSpPr/>
            <p:nvPr/>
          </p:nvSpPr>
          <p:spPr>
            <a:xfrm>
              <a:off x="4178160" y="4800600"/>
              <a:ext cx="1268640" cy="137160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200480" y="5281560"/>
              <a:ext cx="126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1" name=""/>
          <p:cNvGrpSpPr/>
          <p:nvPr/>
        </p:nvGrpSpPr>
        <p:grpSpPr>
          <a:xfrm>
            <a:off x="588960" y="3581280"/>
            <a:ext cx="1257480" cy="1295640"/>
            <a:chOff x="588960" y="3581280"/>
            <a:chExt cx="1257480" cy="1295640"/>
          </a:xfrm>
        </p:grpSpPr>
        <p:sp>
          <p:nvSpPr>
            <p:cNvPr id="1852" name=""/>
            <p:cNvSpPr/>
            <p:nvPr/>
          </p:nvSpPr>
          <p:spPr>
            <a:xfrm>
              <a:off x="588960" y="3581280"/>
              <a:ext cx="1257480" cy="12956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14160" y="3957480"/>
              <a:ext cx="12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7518600" y="3505320"/>
            <a:ext cx="1351800" cy="1447560"/>
            <a:chOff x="7518600" y="3505320"/>
            <a:chExt cx="1351800" cy="1447560"/>
          </a:xfrm>
        </p:grpSpPr>
        <p:sp>
          <p:nvSpPr>
            <p:cNvPr id="1855" name=""/>
            <p:cNvSpPr/>
            <p:nvPr/>
          </p:nvSpPr>
          <p:spPr>
            <a:xfrm>
              <a:off x="7574040" y="3505320"/>
              <a:ext cx="1279440" cy="144756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518600" y="384804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fe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2890800" y="3581280"/>
            <a:ext cx="1224000" cy="1295640"/>
            <a:chOff x="2890800" y="3581280"/>
            <a:chExt cx="1224000" cy="1295640"/>
          </a:xfrm>
        </p:grpSpPr>
        <p:sp>
          <p:nvSpPr>
            <p:cNvPr id="1858" name=""/>
            <p:cNvSpPr/>
            <p:nvPr/>
          </p:nvSpPr>
          <p:spPr>
            <a:xfrm>
              <a:off x="2890800" y="3581280"/>
              <a:ext cx="1224000" cy="12956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86560" y="3808440"/>
              <a:ext cx="1097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6481800" y="4853160"/>
            <a:ext cx="1208160" cy="1319040"/>
            <a:chOff x="6481800" y="4853160"/>
            <a:chExt cx="1208160" cy="1319040"/>
          </a:xfrm>
        </p:grpSpPr>
        <p:sp>
          <p:nvSpPr>
            <p:cNvPr id="1861" name=""/>
            <p:cNvSpPr/>
            <p:nvPr/>
          </p:nvSpPr>
          <p:spPr>
            <a:xfrm>
              <a:off x="6481800" y="4853160"/>
              <a:ext cx="1106280" cy="1319040"/>
            </a:xfrm>
            <a:prstGeom prst="ellipse">
              <a:avLst/>
            </a:prstGeom>
            <a:gradFill rotWithShape="0">
              <a:gsLst>
                <a:gs pos="0">
                  <a:srgbClr val="4ae1da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26160" y="5084640"/>
              <a:ext cx="1063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430200" y="3435480"/>
            <a:ext cx="8521560" cy="28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4600" y="3073320"/>
            <a:ext cx="691920" cy="336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903400" y="3073320"/>
            <a:ext cx="5992920" cy="336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75920" y="266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76280" y="1523880"/>
            <a:ext cx="843912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m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if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iste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d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fecy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currenc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92120" y="26640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91760" y="1515600"/>
            <a:ext cx="6232680" cy="3767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ernaliz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/CORBA Bridg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Proper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Licens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llec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ery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Tim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560" indent="-223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e to come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36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44680" y="743040"/>
            <a:ext cx="8028000" cy="5889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at about run-time service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74840" y="1501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ource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/ High Availabilit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connection pooling and cach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management and poo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ult detection and monito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utomatic restart of failed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ult detection and reporting to conso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/sess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6280" y="1638000"/>
            <a:ext cx="7562880" cy="42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software vend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duct  position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etitive analysis repor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duct architecture consult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ment of value-added functiona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invest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et research and market assess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etitive analysis repor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ical due dilige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 and Internet Conclus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75920" y="1447560"/>
            <a:ext cx="866772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provides solid foundation for distributed objects comput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interfaces, standard specifications, standard abstrac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oice of language, platfor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wire protoco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ever, the specifications are ahead of the actual product implement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s are maturing but many servvices and features are still miss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of CORBA vendors are playing catch up with the Web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RBA and Internet Conclus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75920" y="1447560"/>
            <a:ext cx="866772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r experience shows that from the moment you buy a CORBA product  to the day a mission-critical business application can use it, substantial value-added development is required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do you address the quality of service issue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do you address the issue of resource management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do you address the issue of load balancing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do you address the issue of integration with back-end applications and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do you address the challenges presented by the Web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14360" y="159984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Object Applications -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58800" y="685440"/>
            <a:ext cx="8485200" cy="6858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ponent Object Model - CO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75920" y="1563840"/>
            <a:ext cx="7924680" cy="46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 provides basic mechanism t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e object interface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patch object invoc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verse objec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e binary standard for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69320" cy="6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 is a Binary Standard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552600" y="1523880"/>
            <a:ext cx="8362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 is a binary standar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objects may be developed independentl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objects may be written in any language/compiler which supports COM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COM object must define the layout of its interfa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COM object must conform to a set of “binary” ru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object can implement multiple COM interfa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n be packaged in libraries or execut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n run as in-process, local or remo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ypical COM Objec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0160" y="1574280"/>
            <a:ext cx="6234120" cy="37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self-contained entity or componen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s at least one interface - IUnknow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 order to be useful it should support other interfa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7" name=""/>
          <p:cNvSpPr/>
          <p:nvPr/>
        </p:nvSpPr>
        <p:spPr>
          <a:xfrm>
            <a:off x="3146400" y="3774960"/>
            <a:ext cx="1319400" cy="7351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41999" dir="380999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510000" y="357336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448080" y="3473280"/>
            <a:ext cx="115920" cy="10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8989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585960" y="3551400"/>
            <a:ext cx="102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87840" y="4307040"/>
            <a:ext cx="88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S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4448160" y="3967200"/>
            <a:ext cx="301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84680" y="3908520"/>
            <a:ext cx="122400" cy="11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8989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4441680" y="4273560"/>
            <a:ext cx="293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673520" y="4219560"/>
            <a:ext cx="11592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8989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3487680" y="45018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561120" y="4654440"/>
            <a:ext cx="162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ERSIST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421080" y="4782960"/>
            <a:ext cx="10476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8989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ypical COM Object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71240" y="1599840"/>
            <a:ext cx="8367480" cy="425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ically created using C++, Java and Java enabled to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n be created in Visual Basic, Borlan Delphi, Borland C++, PowerBuilder 6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ferenced via interface point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ied via object reference, called Global Unique Identifier or GUI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 Fundament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71600" y="15908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s vs. Implement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 Definition Language (IDL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ent Stubs and Server Stub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 Transparenc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-Process, Out of Process and Remo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ynamic Invoca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r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ositor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ype Librar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832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COM is COM with a Longer Wi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3143160" y="2784600"/>
            <a:ext cx="1933560" cy="1595160"/>
            <a:chOff x="3143160" y="2784600"/>
            <a:chExt cx="1933560" cy="1595160"/>
          </a:xfrm>
        </p:grpSpPr>
        <p:sp>
          <p:nvSpPr>
            <p:cNvPr id="1929" name=""/>
            <p:cNvSpPr/>
            <p:nvPr/>
          </p:nvSpPr>
          <p:spPr>
            <a:xfrm>
              <a:off x="3143160" y="319392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01840" y="2784600"/>
              <a:ext cx="26856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259080" y="339876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402000" y="2784600"/>
              <a:ext cx="26820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59240" y="360504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32040" y="3605040"/>
              <a:ext cx="26856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03760" y="360504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976560" y="3605040"/>
              <a:ext cx="26856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148280" y="360504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290840" y="3605040"/>
              <a:ext cx="26856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406760" y="3605040"/>
              <a:ext cx="26856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521240" y="360504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35360" y="3398760"/>
              <a:ext cx="26856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808520" y="3398760"/>
              <a:ext cx="268200" cy="77472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80080" y="2989440"/>
              <a:ext cx="268200" cy="7743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606920" y="2784600"/>
              <a:ext cx="26820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64000" y="2784600"/>
              <a:ext cx="26820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321080" y="2784600"/>
              <a:ext cx="26856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148280" y="2784600"/>
              <a:ext cx="26820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976560" y="2784600"/>
              <a:ext cx="26856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860640" y="2784600"/>
              <a:ext cx="26856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660840" y="2784600"/>
              <a:ext cx="268200" cy="7714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30640" y="2989440"/>
              <a:ext cx="1817640" cy="11858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639720" y="3983040"/>
            <a:ext cx="1144800" cy="1482840"/>
            <a:chOff x="639720" y="3983040"/>
            <a:chExt cx="1144800" cy="1482840"/>
          </a:xfrm>
        </p:grpSpPr>
        <p:sp>
          <p:nvSpPr>
            <p:cNvPr id="1953" name=""/>
            <p:cNvSpPr/>
            <p:nvPr/>
          </p:nvSpPr>
          <p:spPr>
            <a:xfrm>
              <a:off x="692280" y="4646520"/>
              <a:ext cx="1033200" cy="31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76200" y="4705200"/>
              <a:ext cx="346320" cy="138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9720" y="4822920"/>
              <a:ext cx="1144800" cy="215640"/>
            </a:xfrm>
            <a:custGeom>
              <a:avLst/>
              <a:gdLst/>
              <a:ahLst/>
              <a:rect l="l" t="t" r="r" b="b"/>
              <a:pathLst>
                <a:path w="721" h="136">
                  <a:moveTo>
                    <a:pt x="89" y="0"/>
                  </a:moveTo>
                  <a:lnTo>
                    <a:pt x="632" y="0"/>
                  </a:lnTo>
                  <a:lnTo>
                    <a:pt x="718" y="121"/>
                  </a:lnTo>
                  <a:lnTo>
                    <a:pt x="720" y="127"/>
                  </a:lnTo>
                  <a:lnTo>
                    <a:pt x="716" y="132"/>
                  </a:lnTo>
                  <a:lnTo>
                    <a:pt x="710" y="135"/>
                  </a:lnTo>
                  <a:lnTo>
                    <a:pt x="9" y="135"/>
                  </a:lnTo>
                  <a:lnTo>
                    <a:pt x="3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00200" y="4870440"/>
              <a:ext cx="763560" cy="135000"/>
            </a:xfrm>
            <a:custGeom>
              <a:avLst/>
              <a:gdLst/>
              <a:ahLst/>
              <a:rect l="l" t="t" r="r" b="b"/>
              <a:pathLst>
                <a:path w="481" h="85">
                  <a:moveTo>
                    <a:pt x="64" y="0"/>
                  </a:moveTo>
                  <a:lnTo>
                    <a:pt x="458" y="0"/>
                  </a:lnTo>
                  <a:lnTo>
                    <a:pt x="480" y="84"/>
                  </a:lnTo>
                  <a:lnTo>
                    <a:pt x="0" y="84"/>
                  </a:lnTo>
                  <a:lnTo>
                    <a:pt x="6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84280" y="4870440"/>
              <a:ext cx="233280" cy="13500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0" y="0"/>
                  </a:moveTo>
                  <a:lnTo>
                    <a:pt x="85" y="0"/>
                  </a:lnTo>
                  <a:lnTo>
                    <a:pt x="146" y="84"/>
                  </a:lnTo>
                  <a:lnTo>
                    <a:pt x="27" y="8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38080" y="3983040"/>
              <a:ext cx="746280" cy="63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88840" y="4038480"/>
              <a:ext cx="644760" cy="536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52600" y="4038480"/>
              <a:ext cx="79200" cy="53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74920" y="4064040"/>
              <a:ext cx="2844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82840" y="4305240"/>
              <a:ext cx="2376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82840" y="4405320"/>
              <a:ext cx="23760" cy="2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82840" y="4502160"/>
              <a:ext cx="2376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65000" y="5068800"/>
              <a:ext cx="20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30360" y="2103480"/>
            <a:ext cx="1144440" cy="1482840"/>
            <a:chOff x="630360" y="2103480"/>
            <a:chExt cx="1144440" cy="1482840"/>
          </a:xfrm>
        </p:grpSpPr>
        <p:sp>
          <p:nvSpPr>
            <p:cNvPr id="1967" name=""/>
            <p:cNvSpPr/>
            <p:nvPr/>
          </p:nvSpPr>
          <p:spPr>
            <a:xfrm>
              <a:off x="682560" y="2766960"/>
              <a:ext cx="1033560" cy="31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266840" y="2825640"/>
              <a:ext cx="345960" cy="138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30360" y="2943360"/>
              <a:ext cx="1144440" cy="215640"/>
            </a:xfrm>
            <a:custGeom>
              <a:avLst/>
              <a:gdLst/>
              <a:ahLst/>
              <a:rect l="l" t="t" r="r" b="b"/>
              <a:pathLst>
                <a:path w="721" h="136">
                  <a:moveTo>
                    <a:pt x="89" y="0"/>
                  </a:moveTo>
                  <a:lnTo>
                    <a:pt x="632" y="0"/>
                  </a:lnTo>
                  <a:lnTo>
                    <a:pt x="718" y="121"/>
                  </a:lnTo>
                  <a:lnTo>
                    <a:pt x="720" y="127"/>
                  </a:lnTo>
                  <a:lnTo>
                    <a:pt x="716" y="132"/>
                  </a:lnTo>
                  <a:lnTo>
                    <a:pt x="710" y="135"/>
                  </a:lnTo>
                  <a:lnTo>
                    <a:pt x="9" y="135"/>
                  </a:lnTo>
                  <a:lnTo>
                    <a:pt x="3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8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90480" y="2990880"/>
              <a:ext cx="763560" cy="135000"/>
            </a:xfrm>
            <a:custGeom>
              <a:avLst/>
              <a:gdLst/>
              <a:ahLst/>
              <a:rect l="l" t="t" r="r" b="b"/>
              <a:pathLst>
                <a:path w="481" h="85">
                  <a:moveTo>
                    <a:pt x="64" y="0"/>
                  </a:moveTo>
                  <a:lnTo>
                    <a:pt x="458" y="0"/>
                  </a:lnTo>
                  <a:lnTo>
                    <a:pt x="480" y="84"/>
                  </a:lnTo>
                  <a:lnTo>
                    <a:pt x="0" y="84"/>
                  </a:lnTo>
                  <a:lnTo>
                    <a:pt x="6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74920" y="2990880"/>
              <a:ext cx="233280" cy="13500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0" y="0"/>
                  </a:moveTo>
                  <a:lnTo>
                    <a:pt x="85" y="0"/>
                  </a:lnTo>
                  <a:lnTo>
                    <a:pt x="146" y="84"/>
                  </a:lnTo>
                  <a:lnTo>
                    <a:pt x="27" y="8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28720" y="2103480"/>
              <a:ext cx="745920" cy="63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2158920"/>
              <a:ext cx="644400" cy="536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442880" y="2158920"/>
              <a:ext cx="79560" cy="53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465200" y="2184480"/>
              <a:ext cx="2880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473120" y="2425680"/>
              <a:ext cx="2376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473120" y="2525760"/>
              <a:ext cx="23760" cy="2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473120" y="2622600"/>
              <a:ext cx="23760" cy="1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00240" y="3189240"/>
              <a:ext cx="203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0" name=""/>
          <p:cNvSpPr/>
          <p:nvPr/>
        </p:nvSpPr>
        <p:spPr>
          <a:xfrm>
            <a:off x="406080" y="3133800"/>
            <a:ext cx="162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8760" y="5030640"/>
            <a:ext cx="156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95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2" name=""/>
          <p:cNvGraphicFramePr/>
          <p:nvPr/>
        </p:nvGraphicFramePr>
        <p:xfrm>
          <a:off x="6157800" y="2247840"/>
          <a:ext cx="2306880" cy="30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7800" y="2247840"/>
                    <a:ext cx="230688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4" name=""/>
          <p:cNvSpPr/>
          <p:nvPr/>
        </p:nvSpPr>
        <p:spPr>
          <a:xfrm>
            <a:off x="7120080" y="532296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184400" y="2556000"/>
            <a:ext cx="5333760" cy="753840"/>
          </a:xfrm>
          <a:custGeom>
            <a:avLst/>
            <a:gdLst/>
            <a:ahLst/>
            <a:rect l="l" t="t" r="r" b="b"/>
            <a:pathLst>
              <a:path w="3360" h="475">
                <a:moveTo>
                  <a:pt x="0" y="0"/>
                </a:moveTo>
                <a:lnTo>
                  <a:pt x="415" y="193"/>
                </a:lnTo>
                <a:lnTo>
                  <a:pt x="637" y="271"/>
                </a:lnTo>
                <a:lnTo>
                  <a:pt x="1054" y="435"/>
                </a:lnTo>
                <a:lnTo>
                  <a:pt x="1332" y="468"/>
                </a:lnTo>
                <a:lnTo>
                  <a:pt x="2068" y="474"/>
                </a:lnTo>
                <a:lnTo>
                  <a:pt x="2305" y="468"/>
                </a:lnTo>
                <a:lnTo>
                  <a:pt x="2576" y="461"/>
                </a:lnTo>
                <a:lnTo>
                  <a:pt x="2752" y="432"/>
                </a:lnTo>
                <a:lnTo>
                  <a:pt x="3233" y="322"/>
                </a:lnTo>
                <a:lnTo>
                  <a:pt x="3359" y="2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395520" y="22683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755880" y="452916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74747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08160" y="3833640"/>
            <a:ext cx="5298840" cy="489240"/>
          </a:xfrm>
          <a:custGeom>
            <a:avLst/>
            <a:gdLst/>
            <a:ahLst/>
            <a:rect l="l" t="t" r="r" b="b"/>
            <a:pathLst>
              <a:path w="3338" h="308">
                <a:moveTo>
                  <a:pt x="0" y="307"/>
                </a:moveTo>
                <a:lnTo>
                  <a:pt x="755" y="85"/>
                </a:lnTo>
                <a:lnTo>
                  <a:pt x="1185" y="36"/>
                </a:lnTo>
                <a:lnTo>
                  <a:pt x="2224" y="0"/>
                </a:lnTo>
                <a:lnTo>
                  <a:pt x="2583" y="15"/>
                </a:lnTo>
                <a:lnTo>
                  <a:pt x="3180" y="101"/>
                </a:lnTo>
                <a:lnTo>
                  <a:pt x="3337" y="124"/>
                </a:lnTo>
              </a:path>
            </a:pathLst>
          </a:custGeom>
          <a:noFill/>
          <a:ln cap="rnd" w="12600">
            <a:solidFill>
              <a:srgbClr val="47474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69600" y="3322800"/>
            <a:ext cx="158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71600" y="45720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 Fundamenta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control the object life tim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a reference count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discover object interface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COM implementation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e or DL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access COM object from VB, PB, Excel etc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object gets instantiated and manufactured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tting COM to Interne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veX and ActiveX Control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360" y="159984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Applications -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1320" y="62856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itting COM To Internet - ActiveX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71240" y="1523880"/>
            <a:ext cx="84438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ActiveX is a set of technologies that enables interactive content for World Wide We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-2484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Benefi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520" indent="-198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miliar tools from a wide assortment of tools and programming language vend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96520" indent="-1987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d to bring live content to HTML pag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9652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-2484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wnloadable contr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52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control container is an HTML p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 VBScript for Active cont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33080" y="685800"/>
            <a:ext cx="716292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ctiveX and Development Tool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6760" y="1574280"/>
            <a:ext cx="6234120" cy="37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tiveX Controls can be created by using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crosoft Visual Basi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crosoft Visual C++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rland Delph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rland C++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and Java enabled too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38120" y="228600"/>
            <a:ext cx="855360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 Provided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796284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umber of services are supported programmatically and declarative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ing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iste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factories and Instance Managemen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lifecyc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bout other services that we discussed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544680" y="743040"/>
            <a:ext cx="8028000" cy="5889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at about run-time service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74840" y="1501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ource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/ High Availabilit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connection pooling and cach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management and poo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ult detection and monito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utomatic restart of failed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ult detection and reporting to conso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/sess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2960" indent="-2829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582120" y="399600"/>
            <a:ext cx="804708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 vs.CORBA - what are the key difference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91440" cy="398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0" y="820440"/>
            <a:ext cx="7788240" cy="5713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ject Model Differences Tabl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828800" y="1754280"/>
            <a:ext cx="2444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436840" y="1757520"/>
            <a:ext cx="1204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CORB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28800" y="2071800"/>
            <a:ext cx="2444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284720" y="1754280"/>
            <a:ext cx="2263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978440" y="1757520"/>
            <a:ext cx="85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C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284720" y="2071800"/>
            <a:ext cx="2263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556320" y="1754280"/>
            <a:ext cx="2198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92840" y="1757520"/>
            <a:ext cx="1711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Auto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556320" y="2071800"/>
            <a:ext cx="219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4280" y="1733400"/>
            <a:ext cx="2700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4280" y="1733400"/>
            <a:ext cx="2700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3360" y="1733400"/>
            <a:ext cx="17560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819440" y="1733400"/>
            <a:ext cx="28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838160" y="1733400"/>
            <a:ext cx="243540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273560" y="1733400"/>
            <a:ext cx="28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292640" y="1733400"/>
            <a:ext cx="22557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548400" y="1733400"/>
            <a:ext cx="2700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567480" y="1733400"/>
            <a:ext cx="2187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8755200" y="1733400"/>
            <a:ext cx="28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755200" y="1733400"/>
            <a:ext cx="28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280" y="1754280"/>
            <a:ext cx="27000" cy="57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819440" y="1754280"/>
            <a:ext cx="28440" cy="57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273560" y="1754280"/>
            <a:ext cx="28440" cy="57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548400" y="1754280"/>
            <a:ext cx="27000" cy="57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8755200" y="1754280"/>
            <a:ext cx="28440" cy="57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3360" y="2336760"/>
            <a:ext cx="17560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4160" y="2416320"/>
            <a:ext cx="148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Interfa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3360" y="2654280"/>
            <a:ext cx="175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774800" y="2260440"/>
            <a:ext cx="2306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ple inherit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773000" y="2541600"/>
            <a:ext cx="1890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ngle 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774080" y="2824200"/>
            <a:ext cx="2442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ordered me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28560" y="2260440"/>
            <a:ext cx="2145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ngle inherit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27480" y="2541600"/>
            <a:ext cx="21729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227480" y="2824200"/>
            <a:ext cx="2134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s order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224240" y="3103560"/>
            <a:ext cx="5511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542480" y="3103560"/>
            <a:ext cx="1703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Table lay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505200" y="2260440"/>
            <a:ext cx="2145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ngle inherit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503760" y="2541600"/>
            <a:ext cx="1890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ngle 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504120" y="2824200"/>
            <a:ext cx="2134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s order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500880" y="3103560"/>
            <a:ext cx="5511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817320" y="3103560"/>
            <a:ext cx="1703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Table lay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4280" y="2327400"/>
            <a:ext cx="270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3360" y="2251080"/>
            <a:ext cx="17560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819440" y="2327400"/>
            <a:ext cx="284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905120" y="2251080"/>
            <a:ext cx="24447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73560" y="2327400"/>
            <a:ext cx="284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361040" y="2251080"/>
            <a:ext cx="22636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548400" y="2327400"/>
            <a:ext cx="270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632640" y="2251080"/>
            <a:ext cx="219852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8755200" y="2327400"/>
            <a:ext cx="284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280" y="2336760"/>
            <a:ext cx="27000" cy="12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819440" y="2336760"/>
            <a:ext cx="28440" cy="12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273560" y="2336760"/>
            <a:ext cx="28440" cy="12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548400" y="2336760"/>
            <a:ext cx="27000" cy="12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755200" y="2336760"/>
            <a:ext cx="28440" cy="12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3360" y="3579840"/>
            <a:ext cx="17560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-3600" y="3581280"/>
            <a:ext cx="1532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Parame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3360" y="3897360"/>
            <a:ext cx="1756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-1800" y="3822840"/>
            <a:ext cx="924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typ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3360" y="4213080"/>
            <a:ext cx="175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771920" y="3502080"/>
            <a:ext cx="1675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e typ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772280" y="3784680"/>
            <a:ext cx="22003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 referenc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772280" y="4065480"/>
            <a:ext cx="22399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tructed typ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226040" y="3502080"/>
            <a:ext cx="1675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e typ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226400" y="3784680"/>
            <a:ext cx="22003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 referenc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226760" y="4065480"/>
            <a:ext cx="22399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tructed typ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502680" y="3502080"/>
            <a:ext cx="1675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e typ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503040" y="3784680"/>
            <a:ext cx="22003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 referenc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501600" y="4065480"/>
            <a:ext cx="900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4280" y="356868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3360" y="3492360"/>
            <a:ext cx="17560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819440" y="356868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828800" y="3492360"/>
            <a:ext cx="24447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273560" y="356868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284720" y="3492360"/>
            <a:ext cx="22636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548400" y="356868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556320" y="3492360"/>
            <a:ext cx="21988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8755200" y="356868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4280" y="3579840"/>
            <a:ext cx="2700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819440" y="357984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273560" y="357984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548400" y="3579840"/>
            <a:ext cx="2700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755200" y="357984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3360" y="4552920"/>
            <a:ext cx="17560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4880" y="4633920"/>
            <a:ext cx="16531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Contro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the lifeti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6320" y="4572000"/>
            <a:ext cx="17431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774440" y="4476600"/>
            <a:ext cx="24822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fetime not bound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773360" y="4756320"/>
            <a:ext cx="2427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process or cli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227840" y="4476600"/>
            <a:ext cx="2334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ference counted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28200" y="4756320"/>
            <a:ext cx="23205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fetime bound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225320" y="5038560"/>
            <a:ext cx="1073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504480" y="4476600"/>
            <a:ext cx="2334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ference counted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504840" y="4756320"/>
            <a:ext cx="23205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fetime bound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501960" y="5038560"/>
            <a:ext cx="1073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4280" y="454356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3360" y="4467240"/>
            <a:ext cx="17560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819440" y="454356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828800" y="4467240"/>
            <a:ext cx="24447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273560" y="454356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284720" y="4467240"/>
            <a:ext cx="22636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548400" y="454356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556320" y="4467240"/>
            <a:ext cx="21988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755200" y="454356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4280" y="4552920"/>
            <a:ext cx="2700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280" y="551664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4280" y="551664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3360" y="5516640"/>
            <a:ext cx="17560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819440" y="455292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819440" y="551664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838160" y="5516640"/>
            <a:ext cx="24354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73560" y="455292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73560" y="551664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292640" y="5516640"/>
            <a:ext cx="22557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548400" y="4552920"/>
            <a:ext cx="2700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548400" y="5516640"/>
            <a:ext cx="270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567480" y="5516640"/>
            <a:ext cx="2187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8755200" y="4552920"/>
            <a:ext cx="28440" cy="9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755200" y="551664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755200" y="5516640"/>
            <a:ext cx="28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458200" cy="131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Two Models Live Together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2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es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ows interaction between COM and CORBA obje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mapping between two different worlds of objec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wo Levels of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operability with 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operability with D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45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MG have defined a COM/CORBA mapping for 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component can call CORBA objec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 object can call COM compon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utomation object can call CORBA objec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 object can call Automation objec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89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45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95000" y="9540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Two Models Live Together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ation Server  ---&gt; CORB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ONA’s Orbix and BEA Systems’ Object Brok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ersoft’s PowerBroker and Borland’s Visibrok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---&gt; Automation Ser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bix and BEASystems support bi-directional COM-CORBA connectiv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bix for Desktop generates OLEBroker that mediates between the two model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 System Desktop Connection also provides bi-directional connectivity as wel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 all cases IDL compiler generates required Windows components (ActiveX, OLE/COM Interfac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/>
          <p:nvPr/>
        </p:nvSpPr>
        <p:spPr>
          <a:xfrm>
            <a:off x="6556320" y="3206880"/>
            <a:ext cx="1724040" cy="1320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594480" y="3710160"/>
            <a:ext cx="1713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A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5880240" y="3637080"/>
            <a:ext cx="574560" cy="3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5779800" y="4191120"/>
            <a:ext cx="709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397120" y="2082960"/>
            <a:ext cx="119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00040" y="709560"/>
            <a:ext cx="7978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utomation-CORBA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11360" y="3073320"/>
            <a:ext cx="2057400" cy="184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4760" y="3171960"/>
            <a:ext cx="1869840" cy="1388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81560" y="3573360"/>
            <a:ext cx="18756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isual Bas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71080" y="3475080"/>
            <a:ext cx="1014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98240" y="3535200"/>
            <a:ext cx="785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1952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>
            <a:off x="3531960" y="34639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500280" y="3397320"/>
            <a:ext cx="11304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3514680" y="3836880"/>
            <a:ext cx="3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483000" y="3770280"/>
            <a:ext cx="11268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3530520" y="4486320"/>
            <a:ext cx="3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498840" y="4419720"/>
            <a:ext cx="11268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3536640" y="3170160"/>
            <a:ext cx="36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456000" y="3103560"/>
            <a:ext cx="111240" cy="123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044880" y="34606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044880" y="383220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57480" y="447372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857840" y="3159000"/>
            <a:ext cx="0" cy="1398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357280" y="2441520"/>
            <a:ext cx="166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V="1">
            <a:off x="6172200" y="2846520"/>
            <a:ext cx="0" cy="2614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243040" y="5495760"/>
            <a:ext cx="2331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work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90320" y="1638000"/>
            <a:ext cx="806292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based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3520" y="533520"/>
            <a:ext cx="8520120" cy="113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Goals and Challeng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8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rganizations are faced with a number of additional problems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integ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applications scalability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RELIABLE(24X7X365) distributed computing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provide seamless Internet access to wealth of information locked in CICS/IMS transactions and many heterogenous data sour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support universal clients capable of accessing the newly developed server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rrive to a consensus on what enabling technology to use for distributed computing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, 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P Monitors, MOM, Database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.. and the list goes 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571680" y="552600"/>
            <a:ext cx="8572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 Application Server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12640" y="1442880"/>
            <a:ext cx="856008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ervers provide built-in functionality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, deployment and management of distributed object application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Web-Centric Middle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Web applications 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 for Java and HTML on the clien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Java as a Development Language on the serve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vercome specific Web-related shortcom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te/sess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ac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the ability to pass state/context between HTTP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ad balancing / Failover / High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ult detection and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s built-in manag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 many run-tim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547560" y="399960"/>
            <a:ext cx="8196480" cy="11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 Application Server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47200" y="1638000"/>
            <a:ext cx="8062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multiple Web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SAPI, ISAPI, CGI, Web Application Interface (CORBA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e” a variety of applications including Java “Servlets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important … provide necessary 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, CORBA, MOM, Legacy Applications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RP Applications - PeopleSoft, Baan, SAP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571680" y="552600"/>
            <a:ext cx="8572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 Application Server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12640" y="1519200"/>
            <a:ext cx="84837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Application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Dynamics Application Server 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scape Enterprise Application Server (formerly Kiva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acle/Web 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reenbrier and Russel Jama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Logic Teng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solutions: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ild home-grown 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90320" y="1638000"/>
            <a:ext cx="806292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Goals and Challen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- What Is It and What Does It Offer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720" indent="-2102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 Java the new middleware platform for Internet based applica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Answ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720" indent="-2102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720" indent="-2102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720" indent="-2102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Monito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72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-2628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Distributed Objects Web - D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 This Town Big Enough For All of U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480" indent="-2314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sing the Bar - Introducing OT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480" indent="-2314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“Holy Grail” of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480" indent="-2314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M - Object Transactional Middlewar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548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s rich: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2556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s development, run-time and management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5548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pable of supporting diverse communication models between application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2556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ous, asynchronous and publish/subscribe transac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2556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 for Quality of Service (Qo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5548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bines component and object based model with transaction processing model previously available for procedural applic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55480" indent="-18504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the potential to fulfill on the ultimate transaction management and middleware goa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2556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1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"/>
          <p:cNvSpPr/>
          <p:nvPr/>
        </p:nvSpPr>
        <p:spPr>
          <a:xfrm>
            <a:off x="545400" y="819000"/>
            <a:ext cx="801792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bject Transaction Middleware - OTM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/>
          </p:nvPr>
        </p:nvSpPr>
        <p:spPr>
          <a:xfrm>
            <a:off x="434520" y="1276200"/>
            <a:ext cx="8347320" cy="385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ing it easier to create high-performance, scaleable, and robust Enterprise and Internet based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cus on server side component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the ability to create business application servers as easy as client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universal cli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choice of language for the client and for the ser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cluding Ja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80% - 90% of all the required run time and management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1" name=""/>
          <p:cNvSpPr/>
          <p:nvPr/>
        </p:nvSpPr>
        <p:spPr>
          <a:xfrm>
            <a:off x="552240" y="704880"/>
            <a:ext cx="3201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in Theo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/>
          </p:nvPr>
        </p:nvSpPr>
        <p:spPr>
          <a:xfrm>
            <a:off x="434520" y="1142640"/>
            <a:ext cx="859500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Transaction Ser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Products that implemente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Transaction Servic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ditional CORBA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ditional run-time and management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52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st has nothing to do with CORB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BM’s Component  Brok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’s M3 (formerly “Iceberg”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rland’s VisiBroker I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17040" indent="-205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ONA’s Orbix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base Jagu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4" name=""/>
          <p:cNvSpPr/>
          <p:nvPr/>
        </p:nvSpPr>
        <p:spPr>
          <a:xfrm>
            <a:off x="556560" y="781200"/>
            <a:ext cx="84034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 in Practice - Commercial Produc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5723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This Town Big Enough For All of U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57232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single product tackles all of the challenges. One of the reasons for integrating different technologies is the fact that each enabling technology has its drawbacks. For example: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does not have enough distributed infrastructure y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BA products lack scalability; support limited communication paradigms; no Quality of Service; each product differs from each other when it comes to implement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TMs are too complex and with exception of Microsoft’s MTS are only coming to market now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Applications Servers are too proprietary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52600" y="171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ease don’t forget to fill-out your evaluation for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ank you!!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75920" y="475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ational Systems Group, Inc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50 West 57 Stree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ite 8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York, N.Y. 1001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ne (212) 489-040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x      (212) 489-11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ww.isg-inc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g@ isg-inc.co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porate:mdolgicer@ isg-inc.co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al: mdolgicer@ aol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4800" y="1628640"/>
            <a:ext cx="3355920" cy="1138320"/>
            <a:chOff x="604800" y="1628640"/>
            <a:chExt cx="3355920" cy="1138320"/>
          </a:xfrm>
        </p:grpSpPr>
        <p:sp>
          <p:nvSpPr>
            <p:cNvPr id="90" name=""/>
            <p:cNvSpPr/>
            <p:nvPr/>
          </p:nvSpPr>
          <p:spPr>
            <a:xfrm>
              <a:off x="604800" y="1628640"/>
              <a:ext cx="3355920" cy="113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012680" y="1822320"/>
              <a:ext cx="2610000" cy="627120"/>
              <a:chOff x="1012680" y="1822320"/>
              <a:chExt cx="2610000" cy="627120"/>
            </a:xfrm>
          </p:grpSpPr>
          <p:sp>
            <p:nvSpPr>
              <p:cNvPr id="92" name=""/>
              <p:cNvSpPr/>
              <p:nvPr/>
            </p:nvSpPr>
            <p:spPr>
              <a:xfrm>
                <a:off x="1012680" y="2449440"/>
                <a:ext cx="2151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1168560" y="1852560"/>
                <a:ext cx="380880" cy="546120"/>
                <a:chOff x="1168560" y="1852560"/>
                <a:chExt cx="380880" cy="54612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1168560" y="1852560"/>
                  <a:ext cx="380880" cy="371520"/>
                  <a:chOff x="1168560" y="1852560"/>
                  <a:chExt cx="380880" cy="37152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127944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168560" y="2124000"/>
                    <a:ext cx="3808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138600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751040" y="1852560"/>
                <a:ext cx="382680" cy="546120"/>
                <a:chOff x="1751040" y="1852560"/>
                <a:chExt cx="382680" cy="54612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1751040" y="1852560"/>
                  <a:ext cx="382680" cy="371520"/>
                  <a:chOff x="1751040" y="1852560"/>
                  <a:chExt cx="382680" cy="37152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1862280" y="185256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751040" y="2124000"/>
                    <a:ext cx="3826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96848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502000" y="1852560"/>
                <a:ext cx="382320" cy="546120"/>
                <a:chOff x="2502000" y="1852560"/>
                <a:chExt cx="382320" cy="54612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502000" y="1852560"/>
                  <a:ext cx="382320" cy="371520"/>
                  <a:chOff x="2502000" y="1852560"/>
                  <a:chExt cx="382320" cy="3715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61468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502000" y="2124000"/>
                    <a:ext cx="38232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71944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076560" y="1822320"/>
                <a:ext cx="530280" cy="1936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35400" y="1835280"/>
                <a:ext cx="28728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892600" y="1932120"/>
                <a:ext cx="15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5119560" y="1628640"/>
            <a:ext cx="3356280" cy="1138320"/>
            <a:chOff x="5119560" y="1628640"/>
            <a:chExt cx="3356280" cy="1138320"/>
          </a:xfrm>
        </p:grpSpPr>
        <p:sp>
          <p:nvSpPr>
            <p:cNvPr id="112" name=""/>
            <p:cNvSpPr/>
            <p:nvPr/>
          </p:nvSpPr>
          <p:spPr>
            <a:xfrm>
              <a:off x="5119560" y="1628640"/>
              <a:ext cx="3356280" cy="113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5529240" y="1822320"/>
              <a:ext cx="2608200" cy="627120"/>
              <a:chOff x="5529240" y="1822320"/>
              <a:chExt cx="2608200" cy="627120"/>
            </a:xfrm>
          </p:grpSpPr>
          <p:sp>
            <p:nvSpPr>
              <p:cNvPr id="114" name=""/>
              <p:cNvSpPr/>
              <p:nvPr/>
            </p:nvSpPr>
            <p:spPr>
              <a:xfrm>
                <a:off x="5529240" y="244944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5683320" y="1852560"/>
                <a:ext cx="382680" cy="546120"/>
                <a:chOff x="5683320" y="1852560"/>
                <a:chExt cx="382680" cy="5461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5683320" y="1852560"/>
                  <a:ext cx="382680" cy="371520"/>
                  <a:chOff x="5683320" y="1852560"/>
                  <a:chExt cx="382680" cy="371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5794200" y="1852560"/>
                    <a:ext cx="2527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683320" y="2124000"/>
                    <a:ext cx="3826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590076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265800" y="1852560"/>
                <a:ext cx="381240" cy="546120"/>
                <a:chOff x="6265800" y="1852560"/>
                <a:chExt cx="381240" cy="54612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265800" y="1852560"/>
                  <a:ext cx="381240" cy="371520"/>
                  <a:chOff x="6265800" y="1852560"/>
                  <a:chExt cx="381240" cy="3715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37704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65800" y="2124000"/>
                    <a:ext cx="38124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48504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016760" y="1852560"/>
                <a:ext cx="384120" cy="546120"/>
                <a:chOff x="7016760" y="1852560"/>
                <a:chExt cx="384120" cy="54612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7016760" y="1852560"/>
                  <a:ext cx="384120" cy="371520"/>
                  <a:chOff x="7016760" y="1852560"/>
                  <a:chExt cx="384120" cy="3715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129440" y="185256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016760" y="2124000"/>
                    <a:ext cx="38412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723420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591320" y="1822320"/>
                <a:ext cx="530280" cy="1936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50160" y="1835280"/>
                <a:ext cx="28728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07360" y="19321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20720" y="4191120"/>
            <a:ext cx="3354480" cy="1136520"/>
            <a:chOff x="720720" y="4191120"/>
            <a:chExt cx="3354480" cy="1136520"/>
          </a:xfrm>
        </p:grpSpPr>
        <p:sp>
          <p:nvSpPr>
            <p:cNvPr id="134" name=""/>
            <p:cNvSpPr/>
            <p:nvPr/>
          </p:nvSpPr>
          <p:spPr>
            <a:xfrm>
              <a:off x="720720" y="4191120"/>
              <a:ext cx="3354480" cy="11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127160" y="4384800"/>
              <a:ext cx="2608200" cy="626760"/>
              <a:chOff x="1127160" y="4384800"/>
              <a:chExt cx="2608200" cy="626760"/>
            </a:xfrm>
          </p:grpSpPr>
          <p:sp>
            <p:nvSpPr>
              <p:cNvPr id="136" name=""/>
              <p:cNvSpPr/>
              <p:nvPr/>
            </p:nvSpPr>
            <p:spPr>
              <a:xfrm>
                <a:off x="1127160" y="501156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284120" y="4414680"/>
                <a:ext cx="379440" cy="546120"/>
                <a:chOff x="1284120" y="4414680"/>
                <a:chExt cx="379440" cy="54612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1284120" y="4414680"/>
                  <a:ext cx="379440" cy="371520"/>
                  <a:chOff x="1284120" y="4414680"/>
                  <a:chExt cx="379440" cy="3715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1393920" y="4414680"/>
                    <a:ext cx="2505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284120" y="4686480"/>
                    <a:ext cx="3794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>
                  <a:off x="150192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865160" y="4414680"/>
                <a:ext cx="381240" cy="546120"/>
                <a:chOff x="1865160" y="4414680"/>
                <a:chExt cx="381240" cy="54612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1865160" y="4414680"/>
                  <a:ext cx="381240" cy="371520"/>
                  <a:chOff x="1865160" y="4414680"/>
                  <a:chExt cx="381240" cy="3715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978200" y="4414680"/>
                    <a:ext cx="249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865160" y="4686480"/>
                    <a:ext cx="3812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20829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617920" y="4414680"/>
                <a:ext cx="380880" cy="546120"/>
                <a:chOff x="2617920" y="4414680"/>
                <a:chExt cx="380880" cy="54612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2617920" y="4414680"/>
                  <a:ext cx="380880" cy="371520"/>
                  <a:chOff x="2617920" y="4414680"/>
                  <a:chExt cx="380880" cy="3715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728800" y="441468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617920" y="4686480"/>
                    <a:ext cx="38088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28353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3192480" y="4384800"/>
                <a:ext cx="530280" cy="19512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51320" y="4397400"/>
                <a:ext cx="28404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06720" y="449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5159520" y="4191120"/>
            <a:ext cx="3355920" cy="1136520"/>
            <a:chOff x="5159520" y="4191120"/>
            <a:chExt cx="3355920" cy="1136520"/>
          </a:xfrm>
        </p:grpSpPr>
        <p:sp>
          <p:nvSpPr>
            <p:cNvPr id="156" name=""/>
            <p:cNvSpPr/>
            <p:nvPr/>
          </p:nvSpPr>
          <p:spPr>
            <a:xfrm>
              <a:off x="5159520" y="4191120"/>
              <a:ext cx="3355920" cy="11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565600" y="4384800"/>
              <a:ext cx="2608560" cy="626760"/>
              <a:chOff x="5565600" y="4384800"/>
              <a:chExt cx="2608560" cy="626760"/>
            </a:xfrm>
          </p:grpSpPr>
          <p:sp>
            <p:nvSpPr>
              <p:cNvPr id="158" name=""/>
              <p:cNvSpPr/>
              <p:nvPr/>
            </p:nvSpPr>
            <p:spPr>
              <a:xfrm>
                <a:off x="5565600" y="501156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721480" y="4414680"/>
                <a:ext cx="382320" cy="546120"/>
                <a:chOff x="5721480" y="4414680"/>
                <a:chExt cx="382320" cy="546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5721480" y="4414680"/>
                  <a:ext cx="382320" cy="371520"/>
                  <a:chOff x="5721480" y="4414680"/>
                  <a:chExt cx="382320" cy="3715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5832360" y="441468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721480" y="4686480"/>
                    <a:ext cx="38232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93892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305400" y="4414680"/>
                <a:ext cx="379440" cy="546120"/>
                <a:chOff x="6305400" y="4414680"/>
                <a:chExt cx="379440" cy="546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6305400" y="4414680"/>
                  <a:ext cx="379440" cy="371520"/>
                  <a:chOff x="6305400" y="4414680"/>
                  <a:chExt cx="379440" cy="3715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6416640" y="4414680"/>
                    <a:ext cx="249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305400" y="4686480"/>
                    <a:ext cx="3794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" name=""/>
                <p:cNvSpPr/>
                <p:nvPr/>
              </p:nvSpPr>
              <p:spPr>
                <a:xfrm>
                  <a:off x="652320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054920" y="4414680"/>
                <a:ext cx="384120" cy="546120"/>
                <a:chOff x="7054920" y="4414680"/>
                <a:chExt cx="384120" cy="5461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054920" y="4414680"/>
                  <a:ext cx="384120" cy="371520"/>
                  <a:chOff x="7054920" y="4414680"/>
                  <a:chExt cx="384120" cy="371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7167600" y="441468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054920" y="4686480"/>
                    <a:ext cx="38412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72723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7629480" y="4384800"/>
                <a:ext cx="531720" cy="19512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89760" y="4397400"/>
                <a:ext cx="28440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45520" y="449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2523960" y="2816280"/>
            <a:ext cx="77004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240000" y="2871360"/>
            <a:ext cx="763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8800" y="2886120"/>
            <a:ext cx="99684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092560" y="3043080"/>
            <a:ext cx="107028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854320" y="3015720"/>
            <a:ext cx="3351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894280" y="2744640"/>
            <a:ext cx="139860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65480" y="3901680"/>
            <a:ext cx="16272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769920" y="3929040"/>
            <a:ext cx="14940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822840" y="3801960"/>
            <a:ext cx="7696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654520" y="3860280"/>
            <a:ext cx="124776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08520" y="3828600"/>
            <a:ext cx="4255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067000" y="3602160"/>
            <a:ext cx="10508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49800" y="3211560"/>
            <a:ext cx="617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4720" y="2873520"/>
            <a:ext cx="1732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84840" y="5348160"/>
            <a:ext cx="1398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der Ma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3280" y="2852640"/>
            <a:ext cx="1586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97400" y="5386320"/>
            <a:ext cx="1972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ttlement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6480" y="679320"/>
            <a:ext cx="77090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Integration is K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92480" y="3187800"/>
            <a:ext cx="4863960" cy="48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9160" y="3208320"/>
            <a:ext cx="1927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3440" y="3201840"/>
            <a:ext cx="2892600" cy="1216080"/>
          </a:xfrm>
          <a:prstGeom prst="ellipse">
            <a:avLst/>
          </a:prstGeom>
          <a:gradFill rotWithShape="0">
            <a:gsLst>
              <a:gs pos="0">
                <a:srgbClr val="004b7e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0720" y="2692440"/>
            <a:ext cx="3225960" cy="2311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4880" y="3436920"/>
            <a:ext cx="579240" cy="604800"/>
            <a:chOff x="704880" y="3436920"/>
            <a:chExt cx="579240" cy="604800"/>
          </a:xfrm>
        </p:grpSpPr>
        <p:grpSp>
          <p:nvGrpSpPr>
            <p:cNvPr id="200" name=""/>
            <p:cNvGrpSpPr/>
            <p:nvPr/>
          </p:nvGrpSpPr>
          <p:grpSpPr>
            <a:xfrm>
              <a:off x="731880" y="3816360"/>
              <a:ext cx="522360" cy="184320"/>
              <a:chOff x="731880" y="3816360"/>
              <a:chExt cx="522360" cy="184320"/>
            </a:xfrm>
          </p:grpSpPr>
          <p:sp>
            <p:nvSpPr>
              <p:cNvPr id="201" name=""/>
              <p:cNvSpPr/>
              <p:nvPr/>
            </p:nvSpPr>
            <p:spPr>
              <a:xfrm>
                <a:off x="731880" y="3816360"/>
                <a:ext cx="522360" cy="18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27080" y="3849840"/>
                <a:ext cx="174600" cy="80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04880" y="3917880"/>
              <a:ext cx="579240" cy="123840"/>
              <a:chOff x="704880" y="3917880"/>
              <a:chExt cx="579240" cy="12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04880" y="3917880"/>
                <a:ext cx="579240" cy="123840"/>
              </a:xfrm>
              <a:custGeom>
                <a:avLst/>
                <a:gdLst/>
                <a:ahLst/>
                <a:rect l="l" t="t" r="r" b="b"/>
                <a:pathLst>
                  <a:path w="365" h="78">
                    <a:moveTo>
                      <a:pt x="45" y="0"/>
                    </a:moveTo>
                    <a:lnTo>
                      <a:pt x="319" y="0"/>
                    </a:lnTo>
                    <a:lnTo>
                      <a:pt x="363" y="69"/>
                    </a:lnTo>
                    <a:lnTo>
                      <a:pt x="364" y="72"/>
                    </a:lnTo>
                    <a:lnTo>
                      <a:pt x="362" y="75"/>
                    </a:lnTo>
                    <a:lnTo>
                      <a:pt x="359" y="77"/>
                    </a:lnTo>
                    <a:lnTo>
                      <a:pt x="5" y="77"/>
                    </a:lnTo>
                    <a:lnTo>
                      <a:pt x="1" y="74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5120" y="3944880"/>
                <a:ext cx="387360" cy="77760"/>
              </a:xfrm>
              <a:custGeom>
                <a:avLst/>
                <a:gdLst/>
                <a:ahLst/>
                <a:rect l="l" t="t" r="r" b="b"/>
                <a:pathLst>
                  <a:path w="244" h="49">
                    <a:moveTo>
                      <a:pt x="32" y="0"/>
                    </a:moveTo>
                    <a:lnTo>
                      <a:pt x="231" y="0"/>
                    </a:lnTo>
                    <a:lnTo>
                      <a:pt x="243" y="48"/>
                    </a:lnTo>
                    <a:lnTo>
                      <a:pt x="0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31840" y="3944880"/>
                <a:ext cx="119160" cy="77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0" y="0"/>
                    </a:moveTo>
                    <a:lnTo>
                      <a:pt x="43" y="0"/>
                    </a:lnTo>
                    <a:lnTo>
                      <a:pt x="74" y="48"/>
                    </a:lnTo>
                    <a:lnTo>
                      <a:pt x="13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04960" y="3436920"/>
              <a:ext cx="37764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0160" y="3468600"/>
              <a:ext cx="327240" cy="3081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6000" y="3468600"/>
              <a:ext cx="3960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7160" y="3483000"/>
              <a:ext cx="1440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0400" y="3621240"/>
              <a:ext cx="126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0400" y="367812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0400" y="3733920"/>
              <a:ext cx="126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344680" y="3443400"/>
            <a:ext cx="8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38280" y="38098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88440" y="185580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720" y="407052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85800" y="2065320"/>
            <a:ext cx="3873600" cy="754200"/>
            <a:chOff x="685800" y="2065320"/>
            <a:chExt cx="3873600" cy="754200"/>
          </a:xfrm>
        </p:grpSpPr>
        <p:grpSp>
          <p:nvGrpSpPr>
            <p:cNvPr id="219" name=""/>
            <p:cNvGrpSpPr/>
            <p:nvPr/>
          </p:nvGrpSpPr>
          <p:grpSpPr>
            <a:xfrm>
              <a:off x="685800" y="2065320"/>
              <a:ext cx="579600" cy="604800"/>
              <a:chOff x="685800" y="2065320"/>
              <a:chExt cx="579600" cy="6048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712800" y="2444760"/>
                <a:ext cx="522360" cy="184320"/>
                <a:chOff x="712800" y="2444760"/>
                <a:chExt cx="522360" cy="1843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12800" y="2444760"/>
                  <a:ext cx="522360" cy="184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008000" y="2478240"/>
                  <a:ext cx="174600" cy="80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85800" y="2546280"/>
                <a:ext cx="579600" cy="123840"/>
                <a:chOff x="685800" y="2546280"/>
                <a:chExt cx="579600" cy="1238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85800" y="2546280"/>
                  <a:ext cx="579600" cy="123840"/>
                </a:xfrm>
                <a:custGeom>
                  <a:avLst/>
                  <a:gdLst/>
                  <a:ahLst/>
                  <a:rect l="l" t="t" r="r" b="b"/>
                  <a:pathLst>
                    <a:path w="365" h="78">
                      <a:moveTo>
                        <a:pt x="45" y="0"/>
                      </a:moveTo>
                      <a:lnTo>
                        <a:pt x="319" y="0"/>
                      </a:lnTo>
                      <a:lnTo>
                        <a:pt x="363" y="69"/>
                      </a:lnTo>
                      <a:lnTo>
                        <a:pt x="364" y="72"/>
                      </a:lnTo>
                      <a:lnTo>
                        <a:pt x="362" y="75"/>
                      </a:lnTo>
                      <a:lnTo>
                        <a:pt x="359" y="77"/>
                      </a:lnTo>
                      <a:lnTo>
                        <a:pt x="5" y="77"/>
                      </a:lnTo>
                      <a:lnTo>
                        <a:pt x="1" y="74"/>
                      </a:lnTo>
                      <a:lnTo>
                        <a:pt x="0" y="71"/>
                      </a:lnTo>
                      <a:lnTo>
                        <a:pt x="0" y="6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16040" y="2573280"/>
                  <a:ext cx="387360" cy="77760"/>
                </a:xfrm>
                <a:custGeom>
                  <a:avLst/>
                  <a:gdLst/>
                  <a:ahLst/>
                  <a:rect l="l" t="t" r="r" b="b"/>
                  <a:pathLst>
                    <a:path w="244" h="49">
                      <a:moveTo>
                        <a:pt x="32" y="0"/>
                      </a:moveTo>
                      <a:lnTo>
                        <a:pt x="231" y="0"/>
                      </a:lnTo>
                      <a:lnTo>
                        <a:pt x="243" y="48"/>
                      </a:lnTo>
                      <a:lnTo>
                        <a:pt x="0" y="4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112760" y="2573280"/>
                  <a:ext cx="119160" cy="77760"/>
                </a:xfrm>
                <a:custGeom>
                  <a:avLst/>
                  <a:gdLst/>
                  <a:ahLst/>
                  <a:rect l="l" t="t" r="r" b="b"/>
                  <a:pathLst>
                    <a:path w="75" h="49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4" y="48"/>
                      </a:lnTo>
                      <a:lnTo>
                        <a:pt x="13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785880" y="2065320"/>
                <a:ext cx="37764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1080" y="2097000"/>
                <a:ext cx="327240" cy="3081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96920" y="2097000"/>
                <a:ext cx="3960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08080" y="2111400"/>
                <a:ext cx="1440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11320" y="22496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11320" y="2306520"/>
                <a:ext cx="12600" cy="1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11320" y="2362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538280" y="2819520"/>
              <a:ext cx="302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98040" y="241308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630680" y="1979640"/>
            <a:ext cx="156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 or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600" y="5442120"/>
            <a:ext cx="1200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527200"/>
            <a:ext cx="0" cy="81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535800" y="2303640"/>
            <a:ext cx="1763640" cy="814320"/>
            <a:chOff x="6535800" y="2303640"/>
            <a:chExt cx="1763640" cy="814320"/>
          </a:xfrm>
        </p:grpSpPr>
        <p:sp>
          <p:nvSpPr>
            <p:cNvPr id="240" name=""/>
            <p:cNvSpPr/>
            <p:nvPr/>
          </p:nvSpPr>
          <p:spPr>
            <a:xfrm>
              <a:off x="6585120" y="3006720"/>
              <a:ext cx="1665000" cy="11124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5800" y="2303640"/>
              <a:ext cx="1763640" cy="72540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05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880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374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849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42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835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25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32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326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19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308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55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262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738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63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24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214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707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200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693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168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662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169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644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20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627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088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96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074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564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057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50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040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6320" y="2306520"/>
              <a:ext cx="1735200" cy="722520"/>
            </a:xfrm>
            <a:custGeom>
              <a:avLst/>
              <a:gdLst/>
              <a:ahLst/>
              <a:rect l="l" t="t" r="r" b="b"/>
              <a:pathLst>
                <a:path w="1093" h="455">
                  <a:moveTo>
                    <a:pt x="1092" y="0"/>
                  </a:moveTo>
                  <a:lnTo>
                    <a:pt x="0" y="0"/>
                  </a:lnTo>
                  <a:lnTo>
                    <a:pt x="0" y="454"/>
                  </a:lnTo>
                </a:path>
              </a:pathLst>
            </a:custGeom>
            <a:noFill/>
            <a:ln cap="rnd" w="2556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78640" y="2316240"/>
              <a:ext cx="1712880" cy="712800"/>
            </a:xfrm>
            <a:custGeom>
              <a:avLst/>
              <a:gdLst/>
              <a:ahLst/>
              <a:rect l="l" t="t" r="r" b="b"/>
              <a:pathLst>
                <a:path w="1079" h="449">
                  <a:moveTo>
                    <a:pt x="0" y="448"/>
                  </a:moveTo>
                  <a:lnTo>
                    <a:pt x="1078" y="448"/>
                  </a:lnTo>
                  <a:lnTo>
                    <a:pt x="1078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72440" y="2320920"/>
              <a:ext cx="0" cy="693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10600" y="2316240"/>
              <a:ext cx="0" cy="69516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570720" y="2424240"/>
              <a:ext cx="788760" cy="9360"/>
              <a:chOff x="6570720" y="2424240"/>
              <a:chExt cx="788760" cy="9360"/>
            </a:xfrm>
          </p:grpSpPr>
          <p:sp>
            <p:nvSpPr>
              <p:cNvPr id="280" name=""/>
              <p:cNvSpPr/>
              <p:nvPr/>
            </p:nvSpPr>
            <p:spPr>
              <a:xfrm>
                <a:off x="6570720" y="243360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80080" y="242424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570720" y="2557440"/>
              <a:ext cx="788760" cy="7920"/>
              <a:chOff x="6570720" y="2557440"/>
              <a:chExt cx="788760" cy="7920"/>
            </a:xfrm>
          </p:grpSpPr>
          <p:sp>
            <p:nvSpPr>
              <p:cNvPr id="283" name=""/>
              <p:cNvSpPr/>
              <p:nvPr/>
            </p:nvSpPr>
            <p:spPr>
              <a:xfrm>
                <a:off x="6570720" y="256536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80080" y="255744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570720" y="2689200"/>
              <a:ext cx="788760" cy="9720"/>
              <a:chOff x="6570720" y="2689200"/>
              <a:chExt cx="788760" cy="9720"/>
            </a:xfrm>
          </p:grpSpPr>
          <p:sp>
            <p:nvSpPr>
              <p:cNvPr id="286" name=""/>
              <p:cNvSpPr/>
              <p:nvPr/>
            </p:nvSpPr>
            <p:spPr>
              <a:xfrm>
                <a:off x="6570720" y="269892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80080" y="268920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570720" y="2820960"/>
              <a:ext cx="788760" cy="9720"/>
              <a:chOff x="6570720" y="2820960"/>
              <a:chExt cx="788760" cy="9720"/>
            </a:xfrm>
          </p:grpSpPr>
          <p:sp>
            <p:nvSpPr>
              <p:cNvPr id="289" name=""/>
              <p:cNvSpPr/>
              <p:nvPr/>
            </p:nvSpPr>
            <p:spPr>
              <a:xfrm>
                <a:off x="6570720" y="283068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80080" y="282096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7520040" y="2538360"/>
              <a:ext cx="649080" cy="104760"/>
            </a:xfrm>
            <a:custGeom>
              <a:avLst/>
              <a:gdLst/>
              <a:ahLst/>
              <a:rect l="l" t="t" r="r" b="b"/>
              <a:pathLst>
                <a:path w="409" h="66">
                  <a:moveTo>
                    <a:pt x="0" y="65"/>
                  </a:moveTo>
                  <a:lnTo>
                    <a:pt x="0" y="0"/>
                  </a:lnTo>
                  <a:lnTo>
                    <a:pt x="408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31200" y="2543040"/>
              <a:ext cx="637920" cy="100080"/>
            </a:xfrm>
            <a:custGeom>
              <a:avLst/>
              <a:gdLst/>
              <a:ahLst/>
              <a:rect l="l" t="t" r="r" b="b"/>
              <a:pathLst>
                <a:path w="402" h="63">
                  <a:moveTo>
                    <a:pt x="0" y="62"/>
                  </a:moveTo>
                  <a:lnTo>
                    <a:pt x="401" y="62"/>
                  </a:lnTo>
                  <a:lnTo>
                    <a:pt x="401" y="0"/>
                  </a:lnTo>
                </a:path>
              </a:pathLst>
            </a:custGeom>
            <a:noFill/>
            <a:ln cap="rnd" w="2556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9360" y="255276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69360" y="257184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3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93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9312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68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406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62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99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69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4072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44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82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120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75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627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868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088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344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596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833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074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326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64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834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57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4876920" y="3443400"/>
          <a:ext cx="56808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443400"/>
                    <a:ext cx="5680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742680"/>
            <a:ext cx="85150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 and Legacy Applicat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69800" y="3362400"/>
            <a:ext cx="167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CORBA/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7640" y="4656240"/>
            <a:ext cx="579600" cy="604800"/>
            <a:chOff x="647640" y="4656240"/>
            <a:chExt cx="579600" cy="604800"/>
          </a:xfrm>
        </p:grpSpPr>
        <p:grpSp>
          <p:nvGrpSpPr>
            <p:cNvPr id="323" name=""/>
            <p:cNvGrpSpPr/>
            <p:nvPr/>
          </p:nvGrpSpPr>
          <p:grpSpPr>
            <a:xfrm>
              <a:off x="674640" y="5035680"/>
              <a:ext cx="522360" cy="183960"/>
              <a:chOff x="674640" y="5035680"/>
              <a:chExt cx="522360" cy="183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74640" y="5035680"/>
                <a:ext cx="522360" cy="18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69840" y="5068800"/>
                <a:ext cx="174600" cy="81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47640" y="5137200"/>
              <a:ext cx="579600" cy="123840"/>
              <a:chOff x="647640" y="5137200"/>
              <a:chExt cx="579600" cy="123840"/>
            </a:xfrm>
          </p:grpSpPr>
          <p:sp>
            <p:nvSpPr>
              <p:cNvPr id="327" name=""/>
              <p:cNvSpPr/>
              <p:nvPr/>
            </p:nvSpPr>
            <p:spPr>
              <a:xfrm>
                <a:off x="647640" y="5137200"/>
                <a:ext cx="579600" cy="123840"/>
              </a:xfrm>
              <a:custGeom>
                <a:avLst/>
                <a:gdLst/>
                <a:ahLst/>
                <a:rect l="l" t="t" r="r" b="b"/>
                <a:pathLst>
                  <a:path w="365" h="78">
                    <a:moveTo>
                      <a:pt x="45" y="0"/>
                    </a:moveTo>
                    <a:lnTo>
                      <a:pt x="319" y="0"/>
                    </a:lnTo>
                    <a:lnTo>
                      <a:pt x="363" y="69"/>
                    </a:lnTo>
                    <a:lnTo>
                      <a:pt x="364" y="72"/>
                    </a:lnTo>
                    <a:lnTo>
                      <a:pt x="362" y="75"/>
                    </a:lnTo>
                    <a:lnTo>
                      <a:pt x="359" y="77"/>
                    </a:lnTo>
                    <a:lnTo>
                      <a:pt x="5" y="77"/>
                    </a:lnTo>
                    <a:lnTo>
                      <a:pt x="1" y="74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7880" y="5164200"/>
                <a:ext cx="387360" cy="77760"/>
              </a:xfrm>
              <a:custGeom>
                <a:avLst/>
                <a:gdLst/>
                <a:ahLst/>
                <a:rect l="l" t="t" r="r" b="b"/>
                <a:pathLst>
                  <a:path w="244" h="49">
                    <a:moveTo>
                      <a:pt x="32" y="0"/>
                    </a:moveTo>
                    <a:lnTo>
                      <a:pt x="231" y="0"/>
                    </a:lnTo>
                    <a:lnTo>
                      <a:pt x="243" y="48"/>
                    </a:lnTo>
                    <a:lnTo>
                      <a:pt x="0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164200"/>
                <a:ext cx="119160" cy="77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0" y="0"/>
                    </a:moveTo>
                    <a:lnTo>
                      <a:pt x="43" y="0"/>
                    </a:lnTo>
                    <a:lnTo>
                      <a:pt x="74" y="48"/>
                    </a:lnTo>
                    <a:lnTo>
                      <a:pt x="13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47720" y="4656240"/>
              <a:ext cx="37764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3280" y="4687920"/>
              <a:ext cx="326880" cy="307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58760" y="4687920"/>
              <a:ext cx="3996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699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73160" y="4840200"/>
              <a:ext cx="1260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73160" y="489744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73160" y="4952880"/>
              <a:ext cx="1260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1366920" y="4120920"/>
            <a:ext cx="3440160" cy="882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11400" y="4262400"/>
            <a:ext cx="12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Java/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9760" y="2755800"/>
            <a:ext cx="1200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7T12:54:28Z</dcterms:created>
  <dc:creator>Max Dolgicer</dc:creator>
  <dc:description/>
  <cp:keywords>V01</cp:keywords>
  <dc:language>en-US</dc:language>
  <cp:lastModifiedBy>Elena Pecherskaya</cp:lastModifiedBy>
  <cp:lastPrinted>1998-03-11T23:51:32Z</cp:lastPrinted>
  <dcterms:modified xsi:type="dcterms:W3CDTF">1998-08-22T23:38:06Z</dcterms:modified>
  <cp:revision>34</cp:revision>
  <dc:subject>IEC98</dc:subject>
  <dc:title>Internet and Distributed Objects</dc:title>
</cp:coreProperties>
</file>