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411D47-24DA-4E10-9320-BECE601770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184040" y="685440"/>
            <a:ext cx="449100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71400" y="8842320"/>
            <a:ext cx="551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8840" y="674640"/>
            <a:ext cx="507528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F26BC9C-28DE-43B1-A7BF-F521F4A36F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CD80E5-9FF8-4AD7-8BE5-02BD8B82A3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85773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85773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761F6BA-D0F9-4F11-BA7C-30A381E755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28200" y="6657840"/>
            <a:ext cx="6638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C139B5E7-AE9E-42B1-845B-C957FBF53EEA}" type="slidenum">
              <a:rPr b="0" lang="en-US" sz="1000" spc="-1" strike="noStrike">
                <a:solidFill>
                  <a:srgbClr val="081d5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600" y="6464160"/>
            <a:ext cx="4180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 Systems Group Inc , 1998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9720" y="1066680"/>
            <a:ext cx="7790040" cy="0"/>
          </a:xfrm>
          <a:prstGeom prst="line">
            <a:avLst/>
          </a:prstGeom>
          <a:ln w="572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4" name="ISGlog" descr=""/>
          <p:cNvPicPr/>
          <p:nvPr/>
        </p:nvPicPr>
        <p:blipFill>
          <a:blip r:embed="rId2"/>
          <a:stretch/>
        </p:blipFill>
        <p:spPr>
          <a:xfrm>
            <a:off x="8153280" y="6089760"/>
            <a:ext cx="990720" cy="768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541840" y="6342120"/>
            <a:ext cx="13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2933B2-DC30-40C9-B5B3-0862E272064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3128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SzPct val="5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04920" indent="-298440">
              <a:lnSpc>
                <a:spcPct val="90000"/>
              </a:lnSpc>
              <a:spcAft>
                <a:spcPts val="561"/>
              </a:spcAft>
              <a:buClr>
                <a:srgbClr val="df1d26"/>
              </a:buClr>
              <a:buSzPct val="50000"/>
              <a:buFont typeface="Wingdings" charset="2"/>
              <a:buChar char=""/>
              <a:tabLst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81d58"/>
              </a:solidFill>
              <a:latin typeface="Arial"/>
            </a:endParaRPr>
          </a:p>
          <a:p>
            <a:pPr lvl="5" marL="2104920" indent="-298440">
              <a:spcBef>
                <a:spcPts val="451"/>
              </a:spcBef>
              <a:buClr>
                <a:srgbClr val="081d58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81d58"/>
              </a:solidFill>
              <a:latin typeface="Arial"/>
            </a:endParaRPr>
          </a:p>
          <a:p>
            <a:pPr lvl="6" marL="2104920" indent="-298440">
              <a:spcBef>
                <a:spcPts val="451"/>
              </a:spcBef>
              <a:buClr>
                <a:srgbClr val="081d58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2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960" y="58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25520" indent="-425520" algn="ctr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 algn="ctr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 algn="ctr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 algn="ctr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222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1752480"/>
            <a:ext cx="425448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81d58"/>
                </a:solidFill>
                <a:latin typeface="Arial Narro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50 West 57th Street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ite 818      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York, N.Y.  10019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l:(212) 489 0400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x:(212) 489 1125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g@isg-inc.com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www.isg-inc.com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56" name="ISGlog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1878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ttacks...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81848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ute Fo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oming cheaper and fa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ch of Confidenti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encryption/decryption key stolen or discov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The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industrial espion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bles network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uthorized theft or transfer of mon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ypt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phisticated: five types of cryptalanalytic att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Viruses and Other Nasties...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new viruses per month, 3,000 a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tes and spreads, consuming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tes exponenti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pdo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passes normal system pro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ly used to trace, monitor, debug, and 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ic bomb (time bom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licts damage when certain conditions are m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ly used for sample software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jan ho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es inside another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ase Studies: Major Break-in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06520" y="1255680"/>
          <a:ext cx="79056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255680"/>
                    <a:ext cx="79056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8384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Detecting Breache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8680" y="1255680"/>
            <a:ext cx="772308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ch for sudden chan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transactions on the Web s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istent logon attempts fro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workstation using different I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workstations using the same ID (or grou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eiving unusually large fi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arms showing unauthorized access to secret files such as the password datab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re difficult to dete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fect only a few ho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use minor performance degrad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 designed to avoid det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2200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Recovering Breache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nnect network acc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al network access, or internal connections from the firewa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 the dam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 plan for recover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oad the previous level of system softw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up oft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out what happe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plans which anticipate future attack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50292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 Security Policy is Essential!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8680" y="1255680"/>
            <a:ext cx="772308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 resour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henticate sour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ve private or secret information secur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ure internet commerce trans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670896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Host-Based 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Breach Detection Tool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gent runs on each protected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t sends a regular heartbeat and alarms to a management s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agement station can detect a denial of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ne Security Mon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usion 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mniGuard/Intruder Ale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nt Techn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lker, WebStalker Pro, ProxyStalke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sted Inform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670896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work-Based 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Breach Detection Tool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4680" y="1255680"/>
            <a:ext cx="777708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ure packets and matching what they see with known attack patt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te alar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 a heartbrea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alSec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Securit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tRanger and CyberCo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and McAf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52200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Host-Based Pros and Con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9360" y="1255680"/>
            <a:ext cx="3832200" cy="28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effective for a small number of h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ikely to miss activity because of high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require dedicated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7640" y="1255320"/>
            <a:ext cx="3624120" cy="27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an agent per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ulnerable to att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rise with number of h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resource on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559760"/>
            <a:ext cx="7334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or small networks, a host-base intrusion systems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s the most cost-effective.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50292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work-Based Pros and Con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3760" y="1255680"/>
            <a:ext cx="3832200" cy="26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s every device on the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s problems quick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vulnerable to att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flat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8120" y="1255320"/>
            <a:ext cx="38336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’t monitor individual files on a specific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dedicated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miss traffic during high network 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5320" y="5047200"/>
            <a:ext cx="733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he best choice if you have a large network or need to choose one kind of intrusion-detection system.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ernational Systems Group, Inc.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28720"/>
            <a:ext cx="7772400" cy="410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service consulting orga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74"/>
              </a:spcBef>
              <a:spcAft>
                <a:spcPts val="77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reas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d-user client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of client/server and legacy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e and engineering of enterprise-wide middleware (Object-Oriented and non-Object-Oriented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assessment and evaluation (long and short ter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 multi-tier 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9720" y="17640"/>
            <a:ext cx="670896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s the Web Secure for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Business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df1d26"/>
              </a:buClr>
              <a:buSzPct val="70000"/>
              <a:buFont typeface="Wingdings" charset="2"/>
              <a:buChar char="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df1d26"/>
                </a:solidFill>
                <a:latin typeface="Arial"/>
              </a:rPr>
              <a:t>Which security components are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nternet 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firewall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users be certifi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Web-specific security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secure e-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payment protocols and system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Security Compon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33480" y="1181160"/>
            <a:ext cx="765000" cy="809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2247840"/>
            <a:ext cx="477720" cy="838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104840" y="3505320"/>
            <a:ext cx="604800" cy="84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43080" y="4191120"/>
            <a:ext cx="604800" cy="84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5429160"/>
            <a:ext cx="1676520" cy="838440"/>
          </a:xfrm>
          <a:prstGeom prst="irregularSeal1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n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360" y="3200400"/>
            <a:ext cx="304920" cy="952560"/>
          </a:xfrm>
          <a:prstGeom prst="downArrow">
            <a:avLst>
              <a:gd name="adj1" fmla="val 50000"/>
              <a:gd name="adj2" fmla="val 78099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439200">
            <a:off x="531720" y="1577520"/>
            <a:ext cx="309600" cy="611280"/>
          </a:xfrm>
          <a:prstGeom prst="downArrow">
            <a:avLst>
              <a:gd name="adj1" fmla="val 50000"/>
              <a:gd name="adj2" fmla="val 49360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8705600">
            <a:off x="972360" y="3018240"/>
            <a:ext cx="311040" cy="471600"/>
          </a:xfrm>
          <a:prstGeom prst="downArrow">
            <a:avLst>
              <a:gd name="adj1" fmla="val 50000"/>
              <a:gd name="adj2" fmla="val 3790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345800">
            <a:off x="72396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62000" y="13636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62000" y="18874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62000" y="241128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2000" y="2935440"/>
            <a:ext cx="203364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62000" y="345744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62000" y="39816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62000" y="45054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2000" y="50292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62000" y="55530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0720" y="1050480"/>
            <a:ext cx="8953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13636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18874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user 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241128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2935440"/>
            <a:ext cx="227016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n-levels of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345744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data privac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9816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mpering during transmiss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45054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callable security servic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50292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origin of a messag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5530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 sender sent, receiver receiv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65800" y="13636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I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65800" y="18874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words or credentia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65800" y="241128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control lists (ACLs)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65800" y="2935440"/>
            <a:ext cx="226872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rights in AC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65800" y="345744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65800" y="39816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 diges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65800" y="45054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SSAPI, GCSAPI, GAS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65800" y="50292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65800" y="55530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.509 Certificat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1276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8112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dentification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33480" y="1181160"/>
            <a:ext cx="765000" cy="809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2247840"/>
            <a:ext cx="477720" cy="838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04840" y="3505320"/>
            <a:ext cx="604800" cy="84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43080" y="4191120"/>
            <a:ext cx="604800" cy="84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5429160"/>
            <a:ext cx="1676520" cy="838440"/>
          </a:xfrm>
          <a:prstGeom prst="irregularSeal1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n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360" y="3200400"/>
            <a:ext cx="304920" cy="952560"/>
          </a:xfrm>
          <a:prstGeom prst="downArrow">
            <a:avLst>
              <a:gd name="adj1" fmla="val 50000"/>
              <a:gd name="adj2" fmla="val 78099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439200">
            <a:off x="531720" y="1577520"/>
            <a:ext cx="309600" cy="611280"/>
          </a:xfrm>
          <a:prstGeom prst="downArrow">
            <a:avLst>
              <a:gd name="adj1" fmla="val 50000"/>
              <a:gd name="adj2" fmla="val 49360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705600">
            <a:off x="972360" y="3018240"/>
            <a:ext cx="311040" cy="471600"/>
          </a:xfrm>
          <a:prstGeom prst="downArrow">
            <a:avLst>
              <a:gd name="adj1" fmla="val 50000"/>
              <a:gd name="adj2" fmla="val 3790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345800">
            <a:off x="72396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62000" y="13636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1d26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62000" y="18874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62000" y="241128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62000" y="2935440"/>
            <a:ext cx="203364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2000" y="345744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62000" y="39816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62000" y="45054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62000" y="50292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55530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0720" y="1050480"/>
            <a:ext cx="8953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13636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95640" y="18874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user 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241128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2935440"/>
            <a:ext cx="227016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n-levels of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345744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data privac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9816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mpering during transmiss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45054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callable security servic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50292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origin of a messag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55530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 sender sent, receiver receiv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65800" y="13636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I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65800" y="18874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words or credentia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5800" y="241128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control lists (ACLs)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65800" y="2935440"/>
            <a:ext cx="226872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rights in AC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65800" y="345744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65800" y="39816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 diges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65800" y="45054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SSAPI, GCSAPI, GAS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65800" y="50292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65800" y="55530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.509 Certificat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1276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8112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39720" y="1905120"/>
            <a:ext cx="7772400" cy="2133360"/>
          </a:xfrm>
          <a:prstGeom prst="rect">
            <a:avLst/>
          </a:prstGeom>
          <a:solidFill>
            <a:srgbClr val="d3d3d3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single ID across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reduces the chance of a user forgetting the ID and needing access to the system administrato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avoids the overhead of maintaining multiple ID record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33480" y="1181160"/>
            <a:ext cx="765000" cy="809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" y="2247840"/>
            <a:ext cx="477720" cy="838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104840" y="3505320"/>
            <a:ext cx="604800" cy="84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43080" y="4191120"/>
            <a:ext cx="604800" cy="846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5429160"/>
            <a:ext cx="1676520" cy="838440"/>
          </a:xfrm>
          <a:prstGeom prst="irregularSeal1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n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360" y="3200400"/>
            <a:ext cx="304920" cy="952560"/>
          </a:xfrm>
          <a:prstGeom prst="downArrow">
            <a:avLst>
              <a:gd name="adj1" fmla="val 50000"/>
              <a:gd name="adj2" fmla="val 78099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439200">
            <a:off x="531720" y="1577520"/>
            <a:ext cx="309600" cy="611280"/>
          </a:xfrm>
          <a:prstGeom prst="downArrow">
            <a:avLst>
              <a:gd name="adj1" fmla="val 50000"/>
              <a:gd name="adj2" fmla="val 49360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8705600">
            <a:off x="972360" y="3018240"/>
            <a:ext cx="311040" cy="471600"/>
          </a:xfrm>
          <a:prstGeom prst="downArrow">
            <a:avLst>
              <a:gd name="adj1" fmla="val 50000"/>
              <a:gd name="adj2" fmla="val 3790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9345800">
            <a:off x="72396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62000" y="13636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62000" y="18874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1d26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2000" y="241128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2000" y="2935440"/>
            <a:ext cx="203364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62000" y="345744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62000" y="39816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62000" y="45054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62000" y="50292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2000" y="55530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40720" y="1050480"/>
            <a:ext cx="8953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13636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18874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user 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241128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5640" y="2935440"/>
            <a:ext cx="227016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n-levels of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345744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data privac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39816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mpering during transmiss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5640" y="45054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callable security servic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50292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origin of a messag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55530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 sender sent, receiver receiv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65800" y="13636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I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65800" y="18874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words or credentia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65800" y="241128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control lists (ACLs)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65800" y="2935440"/>
            <a:ext cx="226872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rights in AC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65800" y="345744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65800" y="39816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 diges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65800" y="45054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SSAPI, GCSAPI, GAS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5800" y="50292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65800" y="55530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.509 Certificat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1276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8112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39720" y="2408400"/>
            <a:ext cx="7772400" cy="3628800"/>
          </a:xfrm>
          <a:prstGeom prst="rect">
            <a:avLst/>
          </a:prstGeom>
          <a:solidFill>
            <a:srgbClr val="d3d3d3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personal information and general wor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ft at trans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ryption/decryption does not prevent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ssword repl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tack - change the encryption scheme of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ken card (with PIN) or software-ba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-Party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sted third party security serve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561"/>
              </a:spcBef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 Single Log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sted third party and/or one-time pass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ccess Control and Authorization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33480" y="1181160"/>
            <a:ext cx="765000" cy="809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" y="2247840"/>
            <a:ext cx="477720" cy="838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104840" y="3505320"/>
            <a:ext cx="604800" cy="846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43080" y="4191120"/>
            <a:ext cx="604800" cy="846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" y="5429160"/>
            <a:ext cx="1676520" cy="838440"/>
          </a:xfrm>
          <a:prstGeom prst="irregularSeal1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n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360" y="3200400"/>
            <a:ext cx="304920" cy="952560"/>
          </a:xfrm>
          <a:prstGeom prst="downArrow">
            <a:avLst>
              <a:gd name="adj1" fmla="val 50000"/>
              <a:gd name="adj2" fmla="val 78099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439200">
            <a:off x="531720" y="1577520"/>
            <a:ext cx="309600" cy="611280"/>
          </a:xfrm>
          <a:prstGeom prst="downArrow">
            <a:avLst>
              <a:gd name="adj1" fmla="val 50000"/>
              <a:gd name="adj2" fmla="val 49360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705600">
            <a:off x="972360" y="3018240"/>
            <a:ext cx="311040" cy="471600"/>
          </a:xfrm>
          <a:prstGeom prst="downArrow">
            <a:avLst>
              <a:gd name="adj1" fmla="val 50000"/>
              <a:gd name="adj2" fmla="val 3790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345800">
            <a:off x="72396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2000" y="13636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62000" y="18874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62000" y="241128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1d26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62000" y="2935440"/>
            <a:ext cx="203364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1d26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62000" y="345744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62000" y="39816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62000" y="45054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62000" y="50292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62000" y="55530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40720" y="1050480"/>
            <a:ext cx="8953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13636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95640" y="18874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user 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95640" y="241128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95640" y="2935440"/>
            <a:ext cx="227016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n-levels of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345744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data privac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39816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mpering during transmiss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95640" y="45054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callable security servic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50292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origin of a messag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55530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 sender sent, receiver receiv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65800" y="13636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I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65800" y="18874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words or credentia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241128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control lists (ACLs)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65800" y="2935440"/>
            <a:ext cx="226872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rights in AC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65800" y="345744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5800" y="39816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 diges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65800" y="45054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SSAPI, GCSAPI, GAS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65800" y="50292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5800" y="55530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.509 Certificat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1276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8112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39720" y="1255320"/>
            <a:ext cx="7772400" cy="1125720"/>
          </a:xfrm>
          <a:prstGeom prst="rect">
            <a:avLst/>
          </a:prstGeom>
          <a:solidFill>
            <a:srgbClr val="d3d3d3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403920" indent="-403920">
              <a:lnSpc>
                <a:spcPct val="79000"/>
              </a:lnSpc>
              <a:spcBef>
                <a:spcPts val="561"/>
              </a:spcBef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ionary Access Control (DA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9700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resource owner specifies rights for all us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9700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flexible, but inconsistent across the enterpri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9700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it for development tools or workgroup fi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9720" y="3492360"/>
            <a:ext cx="7772400" cy="2387160"/>
          </a:xfrm>
          <a:prstGeom prst="rect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df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425520" indent="-425520">
              <a:lnSpc>
                <a:spcPct val="79000"/>
              </a:lnSpc>
              <a:spcBef>
                <a:spcPts val="561"/>
              </a:spcBef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datory Access Control (MAC)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or assigns rights to each resource user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a strong security policy, but is less flexible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it for confidential company-wide information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>
              <a:lnSpc>
                <a:spcPct val="79000"/>
              </a:lnSpc>
              <a:spcBef>
                <a:spcPts val="561"/>
              </a:spcBef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t Channe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uthorized exploitation of existing legitimate channels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to bypass badly-implemented MAC schemes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detec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onfidentiality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33480" y="1181160"/>
            <a:ext cx="765000" cy="809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57200" y="2247840"/>
            <a:ext cx="477720" cy="838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104840" y="3505320"/>
            <a:ext cx="604800" cy="846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343080" y="4191120"/>
            <a:ext cx="604800" cy="846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28600" y="5429160"/>
            <a:ext cx="1676520" cy="838440"/>
          </a:xfrm>
          <a:prstGeom prst="irregularSeal1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n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360" y="3200400"/>
            <a:ext cx="304920" cy="952560"/>
          </a:xfrm>
          <a:prstGeom prst="downArrow">
            <a:avLst>
              <a:gd name="adj1" fmla="val 50000"/>
              <a:gd name="adj2" fmla="val 78099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439200">
            <a:off x="531720" y="1577520"/>
            <a:ext cx="309600" cy="611280"/>
          </a:xfrm>
          <a:prstGeom prst="downArrow">
            <a:avLst>
              <a:gd name="adj1" fmla="val 50000"/>
              <a:gd name="adj2" fmla="val 49360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8705600">
            <a:off x="972360" y="3018240"/>
            <a:ext cx="311040" cy="471600"/>
          </a:xfrm>
          <a:prstGeom prst="downArrow">
            <a:avLst>
              <a:gd name="adj1" fmla="val 50000"/>
              <a:gd name="adj2" fmla="val 3790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9345800">
            <a:off x="72396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62000" y="13636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62000" y="18874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62000" y="241128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62000" y="2935440"/>
            <a:ext cx="203364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62000" y="345744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1d26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62000" y="39816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62000" y="45054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62000" y="50292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62000" y="55530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40720" y="1050480"/>
            <a:ext cx="8953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13636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18874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user 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95640" y="241128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95640" y="2935440"/>
            <a:ext cx="227016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n-levels of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345744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data privac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5640" y="39816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mpering during transmiss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95640" y="45054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callable security servic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95640" y="50292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origin of a messag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95640" y="55530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 sender sent, receiver receiv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65800" y="13636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I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65800" y="18874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words or credentia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65800" y="241128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control lists (ACLs)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65800" y="2935440"/>
            <a:ext cx="226872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rights in AC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65800" y="345744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65800" y="39816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 diges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65800" y="45054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SSAPI, GCSAPI, GAS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65800" y="50292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5800" y="55530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.509 Certificat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276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8112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39720" y="1255320"/>
            <a:ext cx="7772400" cy="2097000"/>
          </a:xfrm>
          <a:prstGeom prst="rect">
            <a:avLst/>
          </a:prstGeom>
          <a:solidFill>
            <a:srgbClr val="d3d3d3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11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rypting and decrypt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ain t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11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er: encrypt with algorithm and secret k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119000"/>
              </a:lnSpc>
              <a:spcAft>
                <a:spcPts val="499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mit encrypted mess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119000"/>
              </a:lnSpc>
              <a:spcAft>
                <a:spcPts val="499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ely transmit 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11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: use encryption key to decry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9720" y="3948120"/>
            <a:ext cx="7818480" cy="2028600"/>
          </a:xfrm>
          <a:prstGeom prst="rect">
            <a:avLst/>
          </a:prstGeom>
          <a:solidFill>
            <a:srgbClr val="d3d3d3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00df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425520" indent="-425520">
              <a:lnSpc>
                <a:spcPct val="7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Encryption Standard (DES), Triple-D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-DES uses three DES steps with two or th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y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>
              <a:lnSpc>
                <a:spcPct val="7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rcial Data Masking Facility (CDMF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keys (40 bits), but may be exported from the US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>
              <a:lnSpc>
                <a:spcPct val="7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tional Data Encryption Algorithm (IDEA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er than DES (129-bit keys), Europea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Data Integrity: Message Digest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33480" y="1181160"/>
            <a:ext cx="765000" cy="809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57200" y="2247840"/>
            <a:ext cx="477720" cy="838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104840" y="3505320"/>
            <a:ext cx="604800" cy="846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43080" y="4191120"/>
            <a:ext cx="604800" cy="846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28600" y="5429160"/>
            <a:ext cx="1676520" cy="838440"/>
          </a:xfrm>
          <a:prstGeom prst="irregularSeal1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n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360" y="3200400"/>
            <a:ext cx="304920" cy="952560"/>
          </a:xfrm>
          <a:prstGeom prst="downArrow">
            <a:avLst>
              <a:gd name="adj1" fmla="val 50000"/>
              <a:gd name="adj2" fmla="val 78099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439200">
            <a:off x="531720" y="1577520"/>
            <a:ext cx="309600" cy="611280"/>
          </a:xfrm>
          <a:prstGeom prst="downArrow">
            <a:avLst>
              <a:gd name="adj1" fmla="val 50000"/>
              <a:gd name="adj2" fmla="val 49360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8705600">
            <a:off x="972360" y="3018240"/>
            <a:ext cx="311040" cy="471600"/>
          </a:xfrm>
          <a:prstGeom prst="downArrow">
            <a:avLst>
              <a:gd name="adj1" fmla="val 50000"/>
              <a:gd name="adj2" fmla="val 3790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9345800">
            <a:off x="72396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62000" y="13636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62000" y="18874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62000" y="241128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62000" y="2935440"/>
            <a:ext cx="203364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345744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62000" y="39816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1d26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62000" y="45054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62000" y="50292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62000" y="55530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40720" y="1050480"/>
            <a:ext cx="8953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95640" y="13636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95640" y="18874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user 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95640" y="241128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95640" y="2935440"/>
            <a:ext cx="227016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n-levels of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345744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data privac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39816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mpering during transmiss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45054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callable security servic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50292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origin of a messag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55530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 sender sent, receiver receiv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65800" y="13636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I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65800" y="18874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words or credentia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5800" y="241128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control lists (ACLs)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65800" y="2935440"/>
            <a:ext cx="226872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rights in AC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65800" y="345744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65800" y="39816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 diges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65800" y="45054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SSAPI, GCSAPI, GAS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65800" y="50292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65800" y="55530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.509 Certificat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1276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8112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39720" y="1255320"/>
            <a:ext cx="7772400" cy="2624040"/>
          </a:xfrm>
          <a:prstGeom prst="rect">
            <a:avLst/>
          </a:prstGeom>
          <a:solidFill>
            <a:srgbClr val="d3d3d3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7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message 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eck s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on analog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integrity check, message integrity che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one-way hash algorithm makes it difficult to determine the original data from the message dig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Digest 2, 4, 5 (MD2, MD4, MD5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7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Hash Algorithm (SH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National Institute of Standards and Technology (NI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9720" y="4476600"/>
            <a:ext cx="8237520" cy="1870560"/>
          </a:xfrm>
          <a:prstGeom prst="rect">
            <a:avLst/>
          </a:prstGeom>
          <a:solidFill>
            <a:srgbClr val="d3d3d3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00df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s sender and receiver from a third party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8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es not protect them from each other - the receiver can append an authentication code to a false message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>
              <a:lnSpc>
                <a:spcPct val="89000"/>
              </a:lnSpc>
              <a:spcBef>
                <a:spcPts val="561"/>
              </a:spcBef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gest and authentication code should be encrypted with the sender’s private key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89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gitimizes receiver’s claim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Security API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33480" y="1181160"/>
            <a:ext cx="765000" cy="809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57200" y="2247840"/>
            <a:ext cx="477720" cy="838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1104840" y="3505320"/>
            <a:ext cx="604800" cy="846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43080" y="4191120"/>
            <a:ext cx="604800" cy="846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28600" y="5429160"/>
            <a:ext cx="1676520" cy="838440"/>
          </a:xfrm>
          <a:prstGeom prst="irregularSeal1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n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360" y="3200400"/>
            <a:ext cx="304920" cy="952560"/>
          </a:xfrm>
          <a:prstGeom prst="downArrow">
            <a:avLst>
              <a:gd name="adj1" fmla="val 50000"/>
              <a:gd name="adj2" fmla="val 78099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439200">
            <a:off x="531720" y="1577520"/>
            <a:ext cx="309600" cy="611280"/>
          </a:xfrm>
          <a:prstGeom prst="downArrow">
            <a:avLst>
              <a:gd name="adj1" fmla="val 50000"/>
              <a:gd name="adj2" fmla="val 49360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8705600">
            <a:off x="972360" y="3018240"/>
            <a:ext cx="311040" cy="471600"/>
          </a:xfrm>
          <a:prstGeom prst="downArrow">
            <a:avLst>
              <a:gd name="adj1" fmla="val 50000"/>
              <a:gd name="adj2" fmla="val 3790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9345800">
            <a:off x="723960" y="5029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62000" y="13636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62000" y="188748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2000" y="241128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2000" y="2935440"/>
            <a:ext cx="203364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62000" y="3457440"/>
            <a:ext cx="203364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62000" y="39816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1d26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62000" y="45054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1d26"/>
                </a:solidFill>
                <a:latin typeface="Arial"/>
              </a:rPr>
              <a:t>Security 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62000" y="50292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62000" y="5553000"/>
            <a:ext cx="203364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40720" y="1050480"/>
            <a:ext cx="8953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95640" y="13636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95640" y="188748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user identif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95640" y="241128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95640" y="2935440"/>
            <a:ext cx="227016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n-levels of resource acc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95640" y="3457440"/>
            <a:ext cx="227016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data privac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95640" y="39816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mpering during transmiss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5640" y="45054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callable security servic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95640" y="50292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origin of a messag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95640" y="5553000"/>
            <a:ext cx="227016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 sender sent, receiver receiv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65800" y="13636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I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5800" y="188748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words or credentia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65800" y="241128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control lists (ACLs)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65800" y="2935440"/>
            <a:ext cx="2268720" cy="5220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rights in AC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5800" y="3457440"/>
            <a:ext cx="2268720" cy="5241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65800" y="39816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 diges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65800" y="45054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SSAPI, GCSAPI, GASAPI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65800" y="50292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65800" y="5553000"/>
            <a:ext cx="2268720" cy="52380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.509 Certificat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1276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81120" y="1031400"/>
            <a:ext cx="798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9720" y="1255320"/>
            <a:ext cx="7772400" cy="3219480"/>
          </a:xfrm>
          <a:prstGeom prst="rect">
            <a:avLst/>
          </a:prstGeom>
          <a:solidFill>
            <a:srgbClr val="d3d3d3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561"/>
              </a:spcBef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 Security Service Application Program Interface (GSSAP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ved by Internet Engineering Task Force (IETF) in 1993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219320" y="2095560"/>
            <a:ext cx="6858000" cy="2209680"/>
            <a:chOff x="1219320" y="2095560"/>
            <a:chExt cx="6858000" cy="2209680"/>
          </a:xfrm>
        </p:grpSpPr>
        <p:sp>
          <p:nvSpPr>
            <p:cNvPr id="393" name=""/>
            <p:cNvSpPr/>
            <p:nvPr/>
          </p:nvSpPr>
          <p:spPr>
            <a:xfrm>
              <a:off x="1219320" y="2095560"/>
              <a:ext cx="2743200" cy="220968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SSAPI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23880" y="2247840"/>
              <a:ext cx="2133720" cy="68580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ent App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23880" y="3467160"/>
              <a:ext cx="2133720" cy="685800"/>
            </a:xfrm>
            <a:prstGeom prst="rect">
              <a:avLst/>
            </a:prstGeom>
            <a:solidFill>
              <a:srgbClr val="df1d26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curity Cod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933640"/>
              <a:ext cx="0" cy="533520"/>
            </a:xfrm>
            <a:prstGeom prst="line">
              <a:avLst/>
            </a:prstGeom>
            <a:ln w="38160">
              <a:solidFill>
                <a:srgbClr val="009688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34120" y="2095560"/>
              <a:ext cx="2743200" cy="220968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SSAPI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38680" y="2247840"/>
              <a:ext cx="2133720" cy="68580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rver App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38680" y="3467160"/>
              <a:ext cx="2133720" cy="685800"/>
            </a:xfrm>
            <a:prstGeom prst="rect">
              <a:avLst/>
            </a:prstGeom>
            <a:solidFill>
              <a:srgbClr val="df1d26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curity Cod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9920" y="2933640"/>
              <a:ext cx="0" cy="533520"/>
            </a:xfrm>
            <a:prstGeom prst="line">
              <a:avLst/>
            </a:prstGeom>
            <a:ln w="38160">
              <a:solidFill>
                <a:srgbClr val="009688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2552760"/>
              <a:ext cx="198108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39360" y="17640"/>
            <a:ext cx="791676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s the Web Secure for 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Business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security components are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df1d26"/>
              </a:buClr>
              <a:buSzPct val="70000"/>
              <a:buFont typeface="Wingdings" charset="2"/>
              <a:buChar char="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df1d26"/>
                </a:solidFill>
                <a:latin typeface="Arial"/>
              </a:rPr>
              <a:t>What is Internet 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firewall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users be certifi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Web-specific security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secure e-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payment protocols and system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Secure Operating System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schemes rely on secure operating syst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 rating scales and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tion Technology Security Evaluation Criteria (ITSEC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ed by European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sted Computer Systems Evaluation Criteria (TCSEC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es by US Department of Defe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ernational Systems Group, Inc.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2760"/>
            <a:ext cx="7772400" cy="351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leware - Building Enterprise Computing Architectur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net Application Development For The Enterp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Java, ActiveX and CORBA to Develop Component -Based Enterprise Applications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tailed Look at Object Transaction Mon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Secure Internet Protocol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21200" indent="-42120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TF RFCs and specifications for IPv4 and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P layer only - not overall Internet secu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schemes: IP AH and IP ES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2440" indent="-29520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combined or used separ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uthentication Header (IP A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integrity and authent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2440" indent="-29520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fidenti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oids encryption probl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Encapsulating Security Payload (IP ES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ways provides confidentia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2440" indent="-29520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integrity and authentication optio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tunneling and Virtual Private Networ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39360" y="504360"/>
            <a:ext cx="79167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What is a Virtual Private Network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16880" indent="-41688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s implement protocols to exchange in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vate net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6880" indent="-41688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implements IP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P AH for data integrity and authent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P ESP for confidentia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6880" indent="-41688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H can be implemented on hosts or gate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teways: secure communication over public 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sts: secure communication between endpoi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6880" indent="-41688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walls protect the net from external intr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P security provides end-to-end secu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What Does a VPN Do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packets take any route to go from point A to point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ure connectionless conn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s dedicated X.25 or leased li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allow a remote Web browser to communicate with a 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uct commerce in priva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security is a limi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n-IP intranet, dial-up, and other non-IP users may not access the VP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 might be too new to get locked 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39360" y="-360"/>
            <a:ext cx="791676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Virtual Private Networks with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P ESP Tunnel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04920" y="1066680"/>
            <a:ext cx="8569080" cy="1600200"/>
            <a:chOff x="304920" y="1066680"/>
            <a:chExt cx="8569080" cy="1600200"/>
          </a:xfrm>
        </p:grpSpPr>
        <p:sp>
          <p:nvSpPr>
            <p:cNvPr id="414" name=""/>
            <p:cNvSpPr/>
            <p:nvPr/>
          </p:nvSpPr>
          <p:spPr>
            <a:xfrm>
              <a:off x="4979880" y="1371600"/>
              <a:ext cx="1067040" cy="10666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70680" y="1066680"/>
              <a:ext cx="1447560" cy="1524240"/>
            </a:xfrm>
            <a:prstGeom prst="irregularSeal2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81480" y="1523880"/>
              <a:ext cx="685800" cy="457200"/>
            </a:xfrm>
            <a:prstGeom prst="rect">
              <a:avLst/>
            </a:prstGeom>
            <a:solidFill>
              <a:srgbClr val="df1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29000" y="1676520"/>
              <a:ext cx="1752480" cy="0"/>
            </a:xfrm>
            <a:prstGeom prst="line">
              <a:avLst/>
            </a:prstGeom>
            <a:ln w="101520">
              <a:solidFill>
                <a:srgbClr val="df1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04920" y="1143000"/>
              <a:ext cx="4651200" cy="1523880"/>
              <a:chOff x="304920" y="1143000"/>
              <a:chExt cx="4651200" cy="1523880"/>
            </a:xfrm>
          </p:grpSpPr>
          <p:pic>
            <p:nvPicPr>
              <p:cNvPr id="4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368360"/>
                <a:ext cx="768240" cy="10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1096920" y="1143000"/>
                <a:ext cx="1447920" cy="1523880"/>
              </a:xfrm>
              <a:prstGeom prst="irregularSeal2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68600" y="1371600"/>
                <a:ext cx="1066680" cy="1066680"/>
              </a:xfrm>
              <a:prstGeom prst="rect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60840" y="1219320"/>
                <a:ext cx="1295280" cy="1371600"/>
              </a:xfrm>
              <a:prstGeom prst="irregularSeal1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-Net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43200" y="1523880"/>
                <a:ext cx="685800" cy="457200"/>
              </a:xfrm>
              <a:prstGeom prst="rect">
                <a:avLst/>
              </a:prstGeom>
              <a:solidFill>
                <a:srgbClr val="df1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90720" y="1905120"/>
                <a:ext cx="30456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86000" y="1905120"/>
                <a:ext cx="30492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57600" y="1905120"/>
                <a:ext cx="22860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00600" y="1905120"/>
                <a:ext cx="1522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6019920" y="1905120"/>
              <a:ext cx="2286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7238880" y="1393920"/>
              <a:ext cx="1635120" cy="1022400"/>
              <a:chOff x="7238880" y="1393920"/>
              <a:chExt cx="1635120" cy="1022400"/>
            </a:xfrm>
          </p:grpSpPr>
          <p:pic>
            <p:nvPicPr>
              <p:cNvPr id="4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43800" y="1393920"/>
                <a:ext cx="1330200" cy="10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7238880" y="1905120"/>
                <a:ext cx="60984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1600200" y="2895480"/>
            <a:ext cx="6054840" cy="1524240"/>
            <a:chOff x="1600200" y="2895480"/>
            <a:chExt cx="6054840" cy="1524240"/>
          </a:xfrm>
        </p:grpSpPr>
        <p:pic>
          <p:nvPicPr>
            <p:cNvPr id="433" name="" descr=""/>
            <p:cNvPicPr/>
            <p:nvPr/>
          </p:nvPicPr>
          <p:blipFill>
            <a:blip r:embed="rId3"/>
            <a:stretch/>
          </p:blipFill>
          <p:spPr>
            <a:xfrm>
              <a:off x="1600200" y="3121200"/>
              <a:ext cx="76824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392200" y="2895480"/>
              <a:ext cx="1447920" cy="1524240"/>
            </a:xfrm>
            <a:prstGeom prst="irregularSeal2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63880" y="3124080"/>
              <a:ext cx="1067040" cy="106704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6120" y="2971800"/>
              <a:ext cx="1295280" cy="1371600"/>
            </a:xfrm>
            <a:prstGeom prst="irregularSeal1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-Ne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38480" y="3276720"/>
              <a:ext cx="685800" cy="457200"/>
            </a:xfrm>
            <a:prstGeom prst="rect">
              <a:avLst/>
            </a:prstGeom>
            <a:solidFill>
              <a:srgbClr val="df1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0" y="3657600"/>
              <a:ext cx="30492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81280" y="3657600"/>
              <a:ext cx="30492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52880" y="3657600"/>
              <a:ext cx="2286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019920" y="3124080"/>
              <a:ext cx="1635120" cy="1022400"/>
              <a:chOff x="6019920" y="3124080"/>
              <a:chExt cx="1635120" cy="1022400"/>
            </a:xfrm>
          </p:grpSpPr>
          <p:pic>
            <p:nvPicPr>
              <p:cNvPr id="44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24840" y="3124080"/>
                <a:ext cx="1330200" cy="10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6019920" y="3635280"/>
                <a:ext cx="60984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4724280" y="3429000"/>
              <a:ext cx="2133720" cy="0"/>
            </a:xfrm>
            <a:prstGeom prst="line">
              <a:avLst/>
            </a:prstGeom>
            <a:ln w="101520">
              <a:solidFill>
                <a:srgbClr val="df1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58000" y="3276720"/>
              <a:ext cx="685800" cy="457200"/>
            </a:xfrm>
            <a:prstGeom prst="rect">
              <a:avLst/>
            </a:prstGeom>
            <a:solidFill>
              <a:srgbClr val="df1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646280" y="4572000"/>
            <a:ext cx="6054840" cy="1523880"/>
            <a:chOff x="1646280" y="4572000"/>
            <a:chExt cx="6054840" cy="1523880"/>
          </a:xfrm>
        </p:grpSpPr>
        <p:pic>
          <p:nvPicPr>
            <p:cNvPr id="447" name="" descr=""/>
            <p:cNvPicPr/>
            <p:nvPr/>
          </p:nvPicPr>
          <p:blipFill>
            <a:blip r:embed="rId5"/>
            <a:stretch/>
          </p:blipFill>
          <p:spPr>
            <a:xfrm>
              <a:off x="1646280" y="4797360"/>
              <a:ext cx="768240" cy="10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438280" y="4572000"/>
              <a:ext cx="1447920" cy="1523880"/>
            </a:xfrm>
            <a:prstGeom prst="irregularSeal2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09960" y="4800600"/>
              <a:ext cx="1066680" cy="106668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4648320"/>
              <a:ext cx="1295280" cy="1371600"/>
            </a:xfrm>
            <a:prstGeom prst="irregularSeal1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-Ne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76520" y="4876920"/>
              <a:ext cx="685800" cy="457200"/>
            </a:xfrm>
            <a:prstGeom prst="rect">
              <a:avLst/>
            </a:prstGeom>
            <a:solidFill>
              <a:srgbClr val="df1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32080" y="5334120"/>
              <a:ext cx="30492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27360" y="5334120"/>
              <a:ext cx="30492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98960" y="5334120"/>
              <a:ext cx="2286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6066000" y="4800600"/>
              <a:ext cx="1635120" cy="1022400"/>
              <a:chOff x="6066000" y="4800600"/>
              <a:chExt cx="1635120" cy="10224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70920" y="4800600"/>
                <a:ext cx="1330200" cy="10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6066000" y="5311800"/>
                <a:ext cx="60984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362320" y="5105520"/>
              <a:ext cx="4541760" cy="0"/>
            </a:xfrm>
            <a:prstGeom prst="line">
              <a:avLst/>
            </a:prstGeom>
            <a:ln w="101520">
              <a:solidFill>
                <a:srgbClr val="df1d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58000" y="4876920"/>
              <a:ext cx="685800" cy="457200"/>
            </a:xfrm>
            <a:prstGeom prst="rect">
              <a:avLst/>
            </a:prstGeom>
            <a:solidFill>
              <a:srgbClr val="df1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-Mail Security : PEM and PGP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3270240" cy="45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5520" indent="0" algn="ctr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M (Privacy Enhanced Mai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AB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tiality is optional: 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X.509 user certific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25920" y="1255680"/>
            <a:ext cx="38862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425520" indent="-425520" algn="ctr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GP (Pretty Good Mail) from Via Crypt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, but not a standard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EM interopera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tiality is optional: IDEA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X.509 user certificat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39720" y="1255680"/>
            <a:ext cx="7772400" cy="478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Secure TELNET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90720" y="1143000"/>
            <a:ext cx="6858000" cy="5028840"/>
            <a:chOff x="990720" y="1143000"/>
            <a:chExt cx="6858000" cy="5028840"/>
          </a:xfrm>
        </p:grpSpPr>
        <p:sp>
          <p:nvSpPr>
            <p:cNvPr id="466" name=""/>
            <p:cNvSpPr/>
            <p:nvPr/>
          </p:nvSpPr>
          <p:spPr>
            <a:xfrm>
              <a:off x="990720" y="1143000"/>
              <a:ext cx="2743200" cy="255852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SSAPI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95280" y="1319040"/>
              <a:ext cx="2133720" cy="79380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lnet Clien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5280" y="2730960"/>
              <a:ext cx="2133720" cy="793800"/>
            </a:xfrm>
            <a:prstGeom prst="rect">
              <a:avLst/>
            </a:prstGeom>
            <a:solidFill>
              <a:srgbClr val="df1d26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curity Cod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76520" y="2113200"/>
              <a:ext cx="0" cy="617400"/>
            </a:xfrm>
            <a:prstGeom prst="line">
              <a:avLst/>
            </a:prstGeom>
            <a:ln w="38160">
              <a:solidFill>
                <a:srgbClr val="009688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05520" y="1143000"/>
              <a:ext cx="2743200" cy="255852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SSAPI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10080" y="1319040"/>
              <a:ext cx="2133720" cy="79380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lnet Server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10080" y="2730960"/>
              <a:ext cx="2133720" cy="793800"/>
            </a:xfrm>
            <a:prstGeom prst="rect">
              <a:avLst/>
            </a:prstGeom>
            <a:solidFill>
              <a:srgbClr val="df1d26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curity Cod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91320" y="2113200"/>
              <a:ext cx="0" cy="617400"/>
            </a:xfrm>
            <a:prstGeom prst="line">
              <a:avLst/>
            </a:prstGeom>
            <a:ln w="38160">
              <a:solidFill>
                <a:srgbClr val="009688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429000" y="1672200"/>
              <a:ext cx="1981080" cy="0"/>
            </a:xfrm>
            <a:prstGeom prst="line">
              <a:avLst/>
            </a:prstGeom>
            <a:ln w="38160">
              <a:solidFill>
                <a:srgbClr val="df1d26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62240" y="4848480"/>
              <a:ext cx="2514600" cy="132336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curity Server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9560" y="1344600"/>
              <a:ext cx="918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2320" y="3525120"/>
              <a:ext cx="1523880" cy="132336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028840" y="3525120"/>
              <a:ext cx="1523880" cy="132336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16040" y="3813840"/>
              <a:ext cx="19562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 credentials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uthentication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rmation)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39360" y="-360"/>
            <a:ext cx="791676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s the Web Secure for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Business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security components are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nternet 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df1d26"/>
              </a:buClr>
              <a:buSzPct val="70000"/>
              <a:buFont typeface="Wingdings" charset="2"/>
              <a:buChar char="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df1d26"/>
                </a:solidFill>
                <a:latin typeface="Arial"/>
              </a:rPr>
              <a:t>How can firewall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users be certifi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Web-specific security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secure e-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payment protocols and system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Firewall Concep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400" spc="-1" strike="noStrike">
                <a:solidFill>
                  <a:srgbClr val="df1d26"/>
                </a:solidFill>
                <a:latin typeface="Arial"/>
              </a:rPr>
              <a:t>A firewall is a software component that controls access between a private network and the Internet, or among different parts of a given privat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ters for explicit legitimate traffic 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..specified by system administra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s outside users out of the private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les for Internet users should be kept outs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s, audits, and ala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net and/or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Firewall Compon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38920" y="1255680"/>
            <a:ext cx="2076480" cy="4533840"/>
          </a:xfrm>
          <a:prstGeom prst="irregularSeal2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76160" y="1676520"/>
            <a:ext cx="2209680" cy="3200400"/>
            <a:chOff x="1676160" y="1676520"/>
            <a:chExt cx="2209680" cy="3200400"/>
          </a:xfrm>
        </p:grpSpPr>
        <p:sp>
          <p:nvSpPr>
            <p:cNvPr id="487" name=""/>
            <p:cNvSpPr/>
            <p:nvPr/>
          </p:nvSpPr>
          <p:spPr>
            <a:xfrm flipH="1">
              <a:off x="1676160" y="1676520"/>
              <a:ext cx="2209320" cy="60948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771920" y="2743200"/>
              <a:ext cx="2113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22400" y="3886200"/>
              <a:ext cx="196344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76520" y="4572000"/>
              <a:ext cx="2209320" cy="3049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85840" y="1255680"/>
            <a:ext cx="1695240" cy="4781520"/>
          </a:xfrm>
          <a:prstGeom prst="irregularSeal1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248520" y="1676520"/>
            <a:ext cx="1218960" cy="3200040"/>
            <a:chOff x="6248520" y="1676520"/>
            <a:chExt cx="1218960" cy="3200040"/>
          </a:xfrm>
        </p:grpSpPr>
        <p:sp>
          <p:nvSpPr>
            <p:cNvPr id="493" name=""/>
            <p:cNvSpPr/>
            <p:nvPr/>
          </p:nvSpPr>
          <p:spPr>
            <a:xfrm flipV="1">
              <a:off x="6248520" y="4571640"/>
              <a:ext cx="1043280" cy="3049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3886200"/>
              <a:ext cx="104328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48520" y="2743200"/>
              <a:ext cx="12189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01440" y="1676520"/>
              <a:ext cx="1165680" cy="53316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505320" y="1563840"/>
            <a:ext cx="3124080" cy="4684680"/>
          </a:xfrm>
          <a:prstGeom prst="rect">
            <a:avLst/>
          </a:prstGeom>
          <a:solidFill>
            <a:srgbClr val="df1d26"/>
          </a:solidFill>
          <a:ln w="12600">
            <a:solidFill>
              <a:srgbClr val="081d58"/>
            </a:solidFill>
            <a:miter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92680" y="1943280"/>
            <a:ext cx="2327040" cy="820440"/>
          </a:xfrm>
          <a:prstGeom prst="rect">
            <a:avLst/>
          </a:prstGeom>
          <a:solidFill>
            <a:srgbClr val="fc9600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Mail Handling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92680" y="2882880"/>
            <a:ext cx="2327040" cy="820800"/>
          </a:xfrm>
          <a:prstGeom prst="rect">
            <a:avLst/>
          </a:prstGeom>
          <a:solidFill>
            <a:srgbClr val="fc9600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92680" y="3784680"/>
            <a:ext cx="2327040" cy="819000"/>
          </a:xfrm>
          <a:prstGeom prst="rect">
            <a:avLst/>
          </a:prstGeom>
          <a:solidFill>
            <a:srgbClr val="fc9600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teways: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xy, Authentication,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CKS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92680" y="4684680"/>
            <a:ext cx="2327040" cy="820800"/>
          </a:xfrm>
          <a:prstGeom prst="rect">
            <a:avLst/>
          </a:prstGeom>
          <a:solidFill>
            <a:srgbClr val="fc9600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657760"/>
            <a:ext cx="3124080" cy="59076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 Operating System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20730000">
            <a:off x="1982520" y="1675800"/>
            <a:ext cx="85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83600" y="2238840"/>
            <a:ext cx="10936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/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2880" y="3353400"/>
            <a:ext cx="15523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for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400800">
            <a:off x="1982520" y="4723920"/>
            <a:ext cx="1044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Level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68880" y="1255320"/>
            <a:ext cx="159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tion Hos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Firewall Security Level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760" y="1752480"/>
            <a:ext cx="906480" cy="349272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73240" y="1752480"/>
            <a:ext cx="1262160" cy="290196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35400" y="1752480"/>
            <a:ext cx="1098360" cy="2349720"/>
          </a:xfrm>
          <a:prstGeom prst="rect">
            <a:avLst/>
          </a:prstGeom>
          <a:solidFill>
            <a:srgbClr val="fc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3760" y="1752480"/>
            <a:ext cx="1028880" cy="234972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Mail 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62640" y="1752480"/>
            <a:ext cx="1352520" cy="1778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884920" y="1752480"/>
            <a:ext cx="2039760" cy="9525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dentiality, Data Integr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760" y="1295280"/>
            <a:ext cx="8648640" cy="457200"/>
          </a:xfrm>
          <a:prstGeom prst="rect">
            <a:avLst/>
          </a:prstGeom>
          <a:solidFill>
            <a:srgbClr val="df1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Access from Interne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5684040"/>
            <a:ext cx="85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Unrestricted Access from Interne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66760" y="2705040"/>
            <a:ext cx="8648640" cy="3036960"/>
          </a:xfrm>
          <a:prstGeom prst="line">
            <a:avLst/>
          </a:prstGeom>
          <a:ln w="57240">
            <a:solidFill>
              <a:srgbClr val="df1d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20410800">
            <a:off x="2539080" y="4195440"/>
            <a:ext cx="446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1d58"/>
                </a:solidFill>
                <a:latin typeface="Arial"/>
              </a:rPr>
              <a:t>Increasing level of Security</a:t>
            </a:r>
            <a:endParaRPr b="0" lang="en-US" sz="26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ernational Systems Group, Inc.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49040"/>
            <a:ext cx="777240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16880" indent="-41688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oftware vend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strategy and posi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architecture consul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of value-added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880" indent="-41688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ves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research and marke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due dilig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Firewall Exposure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walls will not protect us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sion by internal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authentication, access control, and departmental firewall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Internet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rivate network must ensure that all traffic to and from the Internet goes through the firewal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rewalls must implement virus-detected logi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12440" y="17640"/>
            <a:ext cx="769932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s the Web Secure for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Business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security components are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nternet 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firewall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df1d26"/>
              </a:buClr>
              <a:buSzPct val="70000"/>
              <a:buFont typeface="Wingdings" charset="2"/>
              <a:buChar char="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df1d26"/>
                </a:solidFill>
                <a:latin typeface="Arial"/>
              </a:rPr>
              <a:t>How can users be certifi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Web-specific security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secure e-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payment protocols and system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User Certification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Certification validates the identity claimed by individuals over a public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eiver must be sure of sender’s ident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er must have proof that message was s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rized stat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ed agre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business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face-to-face meeting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User Validation Alternative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r authenticates by entering a pass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ies the user to the system for session ini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protect request contents during a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two-party (sender and receiver) encryp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s sender and receiver from intru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protect them from each o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symmetric Encryp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nder encrypts the request with a unique key known only to 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has a different key that permits him to decrypt the requ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symmetric Encryption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fferent keys for encryption and decry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key crypt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using one key for encryption, and a related but different key for decry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uders cannot determine the decryption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n if the encryption key and cryptographic algorithm is know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-key crypto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vest, Shamir, Adleman (RS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of two keys can be used for encryp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is used for decryp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blic ke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vate ke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Public Key Cryptology...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55040" y="1255680"/>
            <a:ext cx="7698960" cy="2215800"/>
            <a:chOff x="455040" y="1255680"/>
            <a:chExt cx="7698960" cy="2215800"/>
          </a:xfrm>
        </p:grpSpPr>
        <p:sp>
          <p:nvSpPr>
            <p:cNvPr id="531" name=""/>
            <p:cNvSpPr/>
            <p:nvPr/>
          </p:nvSpPr>
          <p:spPr>
            <a:xfrm>
              <a:off x="455040" y="179064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6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881360" y="1255680"/>
              <a:ext cx="6272640" cy="2215800"/>
              <a:chOff x="1881360" y="1255680"/>
              <a:chExt cx="6272640" cy="2215800"/>
            </a:xfrm>
          </p:grpSpPr>
          <p:sp>
            <p:nvSpPr>
              <p:cNvPr id="533" name=""/>
              <p:cNvSpPr/>
              <p:nvPr/>
            </p:nvSpPr>
            <p:spPr>
              <a:xfrm>
                <a:off x="2343240" y="1255680"/>
                <a:ext cx="1466640" cy="371520"/>
              </a:xfrm>
              <a:prstGeom prst="rect">
                <a:avLst/>
              </a:prstGeom>
              <a:solidFill>
                <a:srgbClr val="fc9600"/>
              </a:solidFill>
              <a:ln w="0">
                <a:noFill/>
              </a:ln>
              <a:effectLst>
                <a:outerShdw dist="107932" dir="2700000" blurRad="0" rotWithShape="0">
                  <a:srgbClr val="0096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laintext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89680" y="1255680"/>
                <a:ext cx="1466640" cy="371520"/>
              </a:xfrm>
              <a:prstGeom prst="rect">
                <a:avLst/>
              </a:prstGeom>
              <a:solidFill>
                <a:srgbClr val="fc9600"/>
              </a:solidFill>
              <a:ln w="0">
                <a:noFill/>
              </a:ln>
              <a:effectLst>
                <a:outerShdw dist="107932" dir="2700000" blurRad="0" rotWithShape="0">
                  <a:srgbClr val="0096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laintext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43240" y="1901880"/>
                <a:ext cx="1466640" cy="372960"/>
              </a:xfrm>
              <a:prstGeom prst="ellipse">
                <a:avLst/>
              </a:prstGeom>
              <a:solidFill>
                <a:srgbClr val="df1d26"/>
              </a:solidFill>
              <a:ln w="0">
                <a:noFill/>
              </a:ln>
              <a:effectLst>
                <a:outerShdw dist="107932" dir="2700000" blurRad="0" rotWithShape="0">
                  <a:srgbClr val="0096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ncrypt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89680" y="1883880"/>
                <a:ext cx="1466640" cy="371520"/>
              </a:xfrm>
              <a:prstGeom prst="ellipse">
                <a:avLst/>
              </a:prstGeom>
              <a:solidFill>
                <a:srgbClr val="063de8"/>
              </a:solidFill>
              <a:ln w="0">
                <a:noFill/>
              </a:ln>
              <a:effectLst>
                <a:outerShdw dist="107932" dir="2700000" blurRad="0" rotWithShape="0">
                  <a:srgbClr val="0096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crypt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43240" y="2535480"/>
                <a:ext cx="1466640" cy="56304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107932" dir="2700000" blurRad="0" rotWithShape="0">
                  <a:srgbClr val="0096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ncrypted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089680" y="2535480"/>
                <a:ext cx="1466640" cy="56304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107932" dir="2700000" blurRad="0" rotWithShape="0">
                  <a:srgbClr val="0096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ncrypted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881360" y="2093400"/>
                <a:ext cx="4618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09960" y="1627200"/>
                <a:ext cx="0" cy="27432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09960" y="2274840"/>
                <a:ext cx="0" cy="260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09880" y="2788200"/>
                <a:ext cx="127980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791320" y="2274840"/>
                <a:ext cx="0" cy="26064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5791320" y="1627200"/>
                <a:ext cx="0" cy="25632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36840" y="1807560"/>
                <a:ext cx="1217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nder’s</a:t>
                </a:r>
                <a:endParaRPr b="0" lang="en-US" sz="1600" spc="-1" strike="noStrike">
                  <a:solidFill>
                    <a:srgbClr val="081d58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ublic Key</a:t>
                </a:r>
                <a:endParaRPr b="0" lang="en-US" sz="16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6555960" y="2093400"/>
                <a:ext cx="461880" cy="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26880" y="3072600"/>
                <a:ext cx="435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uthentication (no Confidentiality)</a:t>
                </a:r>
                <a:endParaRPr b="0" lang="en-US" sz="20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455040" y="3780000"/>
            <a:ext cx="7767360" cy="2279520"/>
            <a:chOff x="455040" y="3780000"/>
            <a:chExt cx="7767360" cy="2279520"/>
          </a:xfrm>
        </p:grpSpPr>
        <p:sp>
          <p:nvSpPr>
            <p:cNvPr id="549" name=""/>
            <p:cNvSpPr/>
            <p:nvPr/>
          </p:nvSpPr>
          <p:spPr>
            <a:xfrm>
              <a:off x="2343240" y="3780000"/>
              <a:ext cx="1466640" cy="38268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89680" y="3780000"/>
              <a:ext cx="1466640" cy="38268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43240" y="4446000"/>
              <a:ext cx="1466640" cy="384840"/>
            </a:xfrm>
            <a:prstGeom prst="ellipse">
              <a:avLst/>
            </a:prstGeom>
            <a:solidFill>
              <a:srgbClr val="df1d26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ryp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89680" y="4427640"/>
              <a:ext cx="1466640" cy="38304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cryp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43240" y="5099760"/>
              <a:ext cx="1466640" cy="58032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rypted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89680" y="5099760"/>
              <a:ext cx="1466640" cy="58032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rypted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5040" y="4340160"/>
              <a:ext cx="121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eiver’s</a:t>
              </a:r>
              <a:endParaRPr b="0" lang="en-US" sz="16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6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81360" y="4643640"/>
              <a:ext cx="46188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09960" y="4162680"/>
              <a:ext cx="0" cy="28296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09960" y="4830840"/>
              <a:ext cx="0" cy="26856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791320" y="4830840"/>
              <a:ext cx="0" cy="26856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791320" y="4162320"/>
              <a:ext cx="0" cy="264600"/>
            </a:xfrm>
            <a:prstGeom prst="line">
              <a:avLst/>
            </a:prstGeom>
            <a:ln w="936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36840" y="435888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eiver’s</a:t>
              </a:r>
              <a:endParaRPr b="0" lang="en-US" sz="16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6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555960" y="4643640"/>
              <a:ext cx="46188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33360" y="5660640"/>
              <a:ext cx="435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nfidentiality (no Authentication)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9880" y="5391360"/>
              <a:ext cx="12798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Public Key Cryptology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27960" y="533304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uthentication and Confidentiality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43240" y="1363680"/>
            <a:ext cx="1466640" cy="425520"/>
          </a:xfrm>
          <a:prstGeom prst="rect">
            <a:avLst/>
          </a:prstGeom>
          <a:solidFill>
            <a:srgbClr val="fc9600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89680" y="1363680"/>
            <a:ext cx="1466640" cy="425520"/>
          </a:xfrm>
          <a:prstGeom prst="rect">
            <a:avLst/>
          </a:prstGeom>
          <a:solidFill>
            <a:srgbClr val="fc9600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43240" y="2103480"/>
            <a:ext cx="1466640" cy="426960"/>
          </a:xfrm>
          <a:prstGeom prst="ellipse">
            <a:avLst/>
          </a:prstGeom>
          <a:solidFill>
            <a:srgbClr val="df1d26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89680" y="2082960"/>
            <a:ext cx="1466640" cy="425160"/>
          </a:xfrm>
          <a:prstGeom prst="ellipse">
            <a:avLst/>
          </a:prstGeom>
          <a:solidFill>
            <a:srgbClr val="063de8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ryp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343240" y="2828880"/>
            <a:ext cx="1466640" cy="644400"/>
          </a:xfrm>
          <a:prstGeom prst="rect">
            <a:avLst/>
          </a:prstGeom>
          <a:solidFill>
            <a:srgbClr val="00dfca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89680" y="2828880"/>
            <a:ext cx="1466640" cy="644400"/>
          </a:xfrm>
          <a:prstGeom prst="rect">
            <a:avLst/>
          </a:prstGeom>
          <a:solidFill>
            <a:srgbClr val="00dfca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8640" y="189612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er’s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Authentication)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81360" y="2322360"/>
            <a:ext cx="4618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09960" y="1789200"/>
            <a:ext cx="0" cy="31428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09960" y="2530440"/>
            <a:ext cx="0" cy="298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9880" y="4692600"/>
            <a:ext cx="1279800" cy="0"/>
          </a:xfrm>
          <a:prstGeom prst="line">
            <a:avLst/>
          </a:prstGeom>
          <a:ln w="93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91320" y="2530080"/>
            <a:ext cx="0" cy="298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791320" y="1789200"/>
            <a:ext cx="0" cy="29376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936840" y="203832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er’s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555960" y="2322360"/>
            <a:ext cx="4618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43240" y="3803760"/>
            <a:ext cx="1466640" cy="426960"/>
          </a:xfrm>
          <a:prstGeom prst="ellipse">
            <a:avLst/>
          </a:prstGeom>
          <a:solidFill>
            <a:srgbClr val="df1d26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000" y="3596400"/>
            <a:ext cx="172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Confidentiality)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81360" y="4022640"/>
            <a:ext cx="4618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09960" y="3487680"/>
            <a:ext cx="0" cy="298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43240" y="4505400"/>
            <a:ext cx="1466640" cy="644400"/>
          </a:xfrm>
          <a:prstGeom prst="rect">
            <a:avLst/>
          </a:prstGeom>
          <a:solidFill>
            <a:srgbClr val="00dfca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89680" y="4505400"/>
            <a:ext cx="1466640" cy="644400"/>
          </a:xfrm>
          <a:prstGeom prst="rect">
            <a:avLst/>
          </a:prstGeom>
          <a:solidFill>
            <a:srgbClr val="00dfca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09960" y="4230720"/>
            <a:ext cx="0" cy="298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089680" y="3759120"/>
            <a:ext cx="1466640" cy="425520"/>
          </a:xfrm>
          <a:prstGeom prst="ellipse">
            <a:avLst/>
          </a:prstGeom>
          <a:solidFill>
            <a:srgbClr val="063de8"/>
          </a:solidFill>
          <a:ln w="0">
            <a:noFill/>
          </a:ln>
          <a:effectLst>
            <a:outerShdw dist="107932" dir="2700000" blurRad="0" rotWithShape="0">
              <a:srgbClr val="009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ryp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791320" y="4206600"/>
            <a:ext cx="0" cy="298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791320" y="3465360"/>
            <a:ext cx="0" cy="29376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936840" y="3714840"/>
            <a:ext cx="128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555960" y="3998880"/>
            <a:ext cx="4618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Digital Signature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0">
              <a:lnSpc>
                <a:spcPct val="99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Receivers must have access to senders’ public key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require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the sender’s public key to the recei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ly identify the sen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gital certific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gital 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/revoked by a Trusted Party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561"/>
              </a:spcBef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509 Certific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P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used with PGP, but a receiver cannot verify the identity of every other us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Key Escrow Encryption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392200" y="1260360"/>
            <a:ext cx="5029200" cy="4776840"/>
            <a:chOff x="2392200" y="1260360"/>
            <a:chExt cx="5029200" cy="4776840"/>
          </a:xfrm>
        </p:grpSpPr>
        <p:sp>
          <p:nvSpPr>
            <p:cNvPr id="598" name=""/>
            <p:cNvSpPr/>
            <p:nvPr/>
          </p:nvSpPr>
          <p:spPr>
            <a:xfrm>
              <a:off x="2392200" y="1260360"/>
              <a:ext cx="1467000" cy="47448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38640" y="1260360"/>
              <a:ext cx="1467000" cy="47448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92200" y="2084040"/>
              <a:ext cx="1467000" cy="476280"/>
            </a:xfrm>
            <a:prstGeom prst="ellipse">
              <a:avLst/>
            </a:prstGeom>
            <a:solidFill>
              <a:srgbClr val="df1d26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ryp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38640" y="2062080"/>
              <a:ext cx="1467000" cy="47304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cryp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392200" y="2892240"/>
              <a:ext cx="1467000" cy="71892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rypted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38640" y="2892240"/>
              <a:ext cx="1467000" cy="718920"/>
            </a:xfrm>
            <a:prstGeom prst="rect">
              <a:avLst/>
            </a:prstGeom>
            <a:solidFill>
              <a:srgbClr val="00dfca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crypted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58920" y="1734840"/>
              <a:ext cx="0" cy="34920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58920" y="2560320"/>
              <a:ext cx="0" cy="3319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59200" y="3130200"/>
              <a:ext cx="127944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840280" y="2560320"/>
              <a:ext cx="0" cy="3319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840280" y="1734480"/>
              <a:ext cx="0" cy="3272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58920" y="3611160"/>
              <a:ext cx="1105200" cy="1017720"/>
            </a:xfrm>
            <a:prstGeom prst="line">
              <a:avLst/>
            </a:prstGeom>
            <a:ln w="12600">
              <a:solidFill>
                <a:srgbClr val="df1d2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02000" y="4628880"/>
              <a:ext cx="2057400" cy="476280"/>
            </a:xfrm>
            <a:prstGeom prst="ellipse">
              <a:avLst/>
            </a:prstGeom>
            <a:solidFill>
              <a:srgbClr val="b760f9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Recovery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735080" y="3611160"/>
              <a:ext cx="1104840" cy="1017720"/>
            </a:xfrm>
            <a:prstGeom prst="line">
              <a:avLst/>
            </a:prstGeom>
            <a:ln w="12600">
              <a:solidFill>
                <a:srgbClr val="df1d2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72000" y="5562360"/>
              <a:ext cx="1466640" cy="474840"/>
            </a:xfrm>
            <a:prstGeom prst="rect">
              <a:avLst/>
            </a:prstGeom>
            <a:solidFill>
              <a:srgbClr val="fc9600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92720" y="5105160"/>
              <a:ext cx="0" cy="457200"/>
            </a:xfrm>
            <a:prstGeom prst="line">
              <a:avLst/>
            </a:prstGeom>
            <a:ln w="12600">
              <a:solidFill>
                <a:srgbClr val="df1d2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68880" y="4068360"/>
              <a:ext cx="1352520" cy="14940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009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covery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eys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5459040" y="4884480"/>
              <a:ext cx="609480" cy="0"/>
            </a:xfrm>
            <a:prstGeom prst="line">
              <a:avLst/>
            </a:prstGeom>
            <a:ln cap="rnd" w="12600">
              <a:solidFill>
                <a:srgbClr val="081d58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06200" y="3818160"/>
              <a:ext cx="159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81d58"/>
                  </a:solidFill>
                  <a:latin typeface="Arial"/>
                </a:rPr>
                <a:t>“</a:t>
              </a:r>
              <a:r>
                <a:rPr b="1" i="1" lang="en-US" sz="2000" spc="-1" strike="noStrike">
                  <a:solidFill>
                    <a:srgbClr val="081d58"/>
                  </a:solidFill>
                  <a:latin typeface="Arial"/>
                </a:rPr>
                <a:t>authorized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81d58"/>
                  </a:solidFill>
                  <a:latin typeface="Arial"/>
                </a:rPr>
                <a:t>parties</a:t>
              </a:r>
              <a:r>
                <a:rPr b="1" lang="en-US" sz="2000" spc="-1" strike="noStrike">
                  <a:solidFill>
                    <a:srgbClr val="081d58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RSA and DE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used together for maximum security and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nient for bulk data encryption - RSA is s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ficult to move secur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crypt data with DES k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crypt DES key with RSA k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1400" y="1377720"/>
            <a:ext cx="7592040" cy="1575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the Web Secure for Electronic Business?</a:t>
            </a:r>
            <a:endParaRPr b="1" lang="en-US" sz="44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3240" y="3443760"/>
            <a:ext cx="483876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hn Kneiling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Senior Consultant</a:t>
            </a:r>
            <a:endParaRPr b="0" lang="en-US" sz="3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3972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s the Web Secure for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Business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security components are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nternet 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firewall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users be certifi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df1d26"/>
              </a:buClr>
              <a:buSzPct val="70000"/>
              <a:buFont typeface="Wingdings" charset="2"/>
              <a:buChar char="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df1d26"/>
                </a:solidFill>
                <a:latin typeface="Arial"/>
              </a:rPr>
              <a:t>How does Web-specific security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secure e-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payment protocols and system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Web Security Requirem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968400" y="1859040"/>
            <a:ext cx="768240" cy="10746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959120" y="1255680"/>
            <a:ext cx="4933800" cy="1822320"/>
          </a:xfrm>
          <a:prstGeom prst="irregularSeal1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7081920" y="1820880"/>
            <a:ext cx="1330200" cy="10224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 flipV="1">
            <a:off x="1654200" y="2449080"/>
            <a:ext cx="5410080" cy="19080"/>
          </a:xfrm>
          <a:prstGeom prst="line">
            <a:avLst/>
          </a:prstGeom>
          <a:ln w="127080">
            <a:solidFill>
              <a:srgbClr val="fc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98280" y="3236400"/>
            <a:ext cx="1769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Pip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73000" y="3236400"/>
            <a:ext cx="2047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Storag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asswor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364440" y="3236040"/>
            <a:ext cx="204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Storag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533520" y="129528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205740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Paymen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520" y="2819520"/>
            <a:ext cx="77760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-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11120" y="2819520"/>
            <a:ext cx="77652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87640" y="2819520"/>
            <a:ext cx="96048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NET,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TP, etc.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434340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5105520"/>
            <a:ext cx="251460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39360" y="137880"/>
            <a:ext cx="7916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800" spc="-1" strike="noStrike">
                <a:solidFill>
                  <a:srgbClr val="df1d26"/>
                </a:solidFill>
                <a:latin typeface="Arial"/>
              </a:rPr>
              <a:t>Secure Sockets Layer (SSL) and</a:t>
            </a:r>
            <a:br>
              <a:rPr sz="2800"/>
            </a:br>
            <a:r>
              <a:rPr b="1" lang="en-US" sz="2800" spc="-1" strike="noStrike">
                <a:solidFill>
                  <a:srgbClr val="df1d26"/>
                </a:solidFill>
                <a:latin typeface="Arial"/>
              </a:rPr>
              <a:t>Private Communication Technology (PCT)</a:t>
            </a:r>
            <a:endParaRPr b="1" lang="en-US" sz="28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314880" y="1258560"/>
            <a:ext cx="5333760" cy="477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SL: Most widely-used protoco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Netsca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of higher-level apps, e.g. II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and protocol in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T: A work in progr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to S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 record forma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handsh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er and simpler mess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graphic improv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ims to address a security exposure in SSI’s client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790640" y="3581280"/>
            <a:ext cx="1257480" cy="762120"/>
          </a:xfrm>
          <a:prstGeom prst="rect">
            <a:avLst/>
          </a:prstGeom>
          <a:solidFill>
            <a:srgbClr val="df1d26"/>
          </a:solidFill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520" y="3581280"/>
            <a:ext cx="1257120" cy="762120"/>
          </a:xfrm>
          <a:prstGeom prst="rect">
            <a:avLst/>
          </a:prstGeom>
          <a:solidFill>
            <a:srgbClr val="df1d26"/>
          </a:solidFill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39720" y="17640"/>
            <a:ext cx="670896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Secure Hypertext Transfer Protocol (S-HTTP)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129528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520" y="205740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Paymen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520" y="2819520"/>
            <a:ext cx="777600" cy="761760"/>
          </a:xfrm>
          <a:prstGeom prst="rect">
            <a:avLst/>
          </a:prstGeom>
          <a:solidFill>
            <a:srgbClr val="df1d26"/>
          </a:solidFill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-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11120" y="2819520"/>
            <a:ext cx="77652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87640" y="2819520"/>
            <a:ext cx="96048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NET,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TP, etc.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" y="434340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3520" y="5105520"/>
            <a:ext cx="251460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52680" y="1295280"/>
            <a:ext cx="533412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425520" indent="-425520">
              <a:lnSpc>
                <a:spcPct val="99000"/>
              </a:lnSpc>
              <a:spcBef>
                <a:spcPts val="814"/>
              </a:spcBef>
              <a:spcAft>
                <a:spcPts val="81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ed by Enterprise Integration Technologies (EIT)</a:t>
            </a:r>
            <a:endParaRPr b="0" lang="en-US" sz="26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>
              <a:lnSpc>
                <a:spcPct val="99000"/>
              </a:lnSpc>
              <a:spcBef>
                <a:spcPts val="814"/>
              </a:spcBef>
              <a:spcAft>
                <a:spcPts val="81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S-HTTP-aware clients</a:t>
            </a:r>
            <a:endParaRPr b="0" lang="en-US" sz="26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tible with non-aware server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is communication does not use S-HTTP featu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X.509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90640" y="3581280"/>
            <a:ext cx="125748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3520" y="3581280"/>
            <a:ext cx="125712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39720" y="564840"/>
            <a:ext cx="670896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800" spc="-1" strike="noStrike">
                <a:solidFill>
                  <a:srgbClr val="df1d26"/>
                </a:solidFill>
                <a:latin typeface="Arial"/>
              </a:rPr>
              <a:t>Security APIs</a:t>
            </a:r>
            <a:endParaRPr b="1" lang="en-US" sz="28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520" y="1295280"/>
            <a:ext cx="2514600" cy="762120"/>
          </a:xfrm>
          <a:prstGeom prst="rect">
            <a:avLst/>
          </a:prstGeom>
          <a:solidFill>
            <a:srgbClr val="df1d26"/>
          </a:solidFill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520" y="205740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Paymen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3520" y="2819520"/>
            <a:ext cx="77760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-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11120" y="2819520"/>
            <a:ext cx="776520" cy="761760"/>
          </a:xfrm>
          <a:prstGeom prst="rect">
            <a:avLst/>
          </a:prstGeom>
          <a:solidFill>
            <a:srgbClr val="df1d26"/>
          </a:solidFill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87640" y="2819520"/>
            <a:ext cx="96048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NET,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TP, etc.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434340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5105520"/>
            <a:ext cx="251460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790640" y="3581280"/>
            <a:ext cx="125748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3581280"/>
            <a:ext cx="1257120" cy="762120"/>
          </a:xfrm>
          <a:prstGeom prst="rect">
            <a:avLst/>
          </a:prstGeom>
          <a:solidFill>
            <a:srgbClr val="df1d26"/>
          </a:solidFill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333240" y="1027080"/>
            <a:ext cx="5334120" cy="5275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25520" indent="-425520">
              <a:lnSpc>
                <a:spcPct val="99000"/>
              </a:lnSpc>
              <a:spcBef>
                <a:spcPts val="814"/>
              </a:spcBef>
              <a:spcAft>
                <a:spcPts val="81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tect HTTP transac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s application-level protocols (e.g. HTTP) and formats (e.g. HT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lates them from operational characteristics of underlying security schemes (e.g. cryptographic key siz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 is used to access PKI (Public Key Infrastructure) 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A Data Security’s BSafe toolkit product, for in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major competitors for a single standard interface for each category of security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39720" y="564840"/>
            <a:ext cx="6708960" cy="46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800" spc="-1" strike="noStrike">
                <a:solidFill>
                  <a:srgbClr val="df1d26"/>
                </a:solidFill>
                <a:latin typeface="Arial"/>
              </a:rPr>
              <a:t>Security APIs</a:t>
            </a:r>
            <a:endParaRPr b="1" lang="en-US" sz="28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520" y="1295280"/>
            <a:ext cx="2514600" cy="762120"/>
          </a:xfrm>
          <a:prstGeom prst="rect">
            <a:avLst/>
          </a:prstGeom>
          <a:solidFill>
            <a:srgbClr val="df1d26"/>
          </a:solidFill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3520" y="205740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Paymen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3520" y="2819520"/>
            <a:ext cx="77760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-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11120" y="2819520"/>
            <a:ext cx="776520" cy="761760"/>
          </a:xfrm>
          <a:prstGeom prst="rect">
            <a:avLst/>
          </a:prstGeom>
          <a:solidFill>
            <a:srgbClr val="df1d26"/>
          </a:solidFill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087640" y="2819520"/>
            <a:ext cx="96048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NET,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TP, etc.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4343400"/>
            <a:ext cx="251460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5105520"/>
            <a:ext cx="2514600" cy="76176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90640" y="3581280"/>
            <a:ext cx="1257480" cy="762120"/>
          </a:xfrm>
          <a:prstGeom prst="rect">
            <a:avLst/>
          </a:prstGeom>
          <a:solidFill>
            <a:srgbClr val="fc9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3581280"/>
            <a:ext cx="1257120" cy="762120"/>
          </a:xfrm>
          <a:prstGeom prst="rect">
            <a:avLst/>
          </a:prstGeom>
          <a:solidFill>
            <a:srgbClr val="df1d26"/>
          </a:solidFill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352320" y="1294920"/>
            <a:ext cx="5334120" cy="5002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Data Security Architecture (Int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ful and compreh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opted by the Open Group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, Netscape, Entrust, Trusted Information Systems, Motorola, HP, Sun, Shell, JP Morg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A will join IBM in building CDSA support into produc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market moment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89"/>
              </a:spcBef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P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ypto API (Microsof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tegral part of Win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0" algn="ctr">
              <a:lnSpc>
                <a:spcPct val="90000"/>
              </a:lnSpc>
              <a:spcAft>
                <a:spcPts val="561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39360" y="17640"/>
            <a:ext cx="791676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s the Web Secure for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Business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security components are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nternet 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firewall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users be certifi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Web-specific security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df1d26"/>
              </a:buClr>
              <a:buSzPct val="70000"/>
              <a:buFont typeface="Wingdings" charset="2"/>
              <a:buChar char="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df1d26"/>
                </a:solidFill>
                <a:latin typeface="Arial"/>
              </a:rPr>
              <a:t>How can we secure e-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df1d26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df1d26"/>
                </a:solidFill>
                <a:latin typeface="Arial"/>
              </a:rPr>
              <a:t>e-cash, e-checks, cred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payment protocols and system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Cash Requirem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and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cked by government or private institution/consort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 dependence on system or geographic 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reus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me money cannot be spent more than o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not be traced to previous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asily moved between persons or pa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s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ailable in several denomi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6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6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rd drive, smart card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n E-Cash System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3240" y="1254960"/>
            <a:ext cx="8982360" cy="4976280"/>
            <a:chOff x="3240" y="1254960"/>
            <a:chExt cx="8982360" cy="4976280"/>
          </a:xfrm>
        </p:grpSpPr>
        <p:pic>
          <p:nvPicPr>
            <p:cNvPr id="679" name="" descr=""/>
            <p:cNvPicPr/>
            <p:nvPr/>
          </p:nvPicPr>
          <p:blipFill>
            <a:blip r:embed="rId1"/>
            <a:stretch/>
          </p:blipFill>
          <p:spPr>
            <a:xfrm>
              <a:off x="5164200" y="4845600"/>
              <a:ext cx="129672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2"/>
            <a:stretch/>
          </p:blipFill>
          <p:spPr>
            <a:xfrm>
              <a:off x="1598400" y="3163320"/>
              <a:ext cx="74880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" descr=""/>
            <p:cNvPicPr/>
            <p:nvPr/>
          </p:nvPicPr>
          <p:blipFill>
            <a:blip r:embed="rId3"/>
            <a:stretch/>
          </p:blipFill>
          <p:spPr>
            <a:xfrm>
              <a:off x="2638440" y="4845600"/>
              <a:ext cx="129708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4"/>
            <a:stretch/>
          </p:blipFill>
          <p:spPr>
            <a:xfrm>
              <a:off x="4050000" y="1773360"/>
              <a:ext cx="74880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5"/>
            <a:stretch/>
          </p:blipFill>
          <p:spPr>
            <a:xfrm>
              <a:off x="6872760" y="3163320"/>
              <a:ext cx="749160" cy="103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2475360" y="586152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1960" y="586296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99240" y="33562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’s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40" y="3358080"/>
              <a:ext cx="15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’s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984120" y="125496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-Min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2341440" y="4260240"/>
              <a:ext cx="445680" cy="58500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044080" y="2139120"/>
              <a:ext cx="1857240" cy="87768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93040" y="2066040"/>
              <a:ext cx="1931040" cy="102384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3455640" y="2797560"/>
              <a:ext cx="594000" cy="190188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>
              <a:off x="4941000" y="2797200"/>
              <a:ext cx="742680" cy="190188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27160" y="4845600"/>
              <a:ext cx="155988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826800" y="5504040"/>
              <a:ext cx="126252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179720" y="4452120"/>
              <a:ext cx="13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) Reques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-cash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72080" y="2053440"/>
              <a:ext cx="13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) Transfer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37880" y="31507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3) Send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-cash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06120" y="4472280"/>
              <a:ext cx="179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4) Send e-cash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29680" y="505728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5) Deliver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33240" y="3150720"/>
              <a:ext cx="13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6) Redeem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-cash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09400" y="2053440"/>
              <a:ext cx="23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7) Credi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rchant’s accoun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-Cash Security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7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ng E-Ca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 IDs, e.g. serial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by generating and removing encrypted random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7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cash is signed by the e-mint’s private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int’s X.509 certificate is attached to e-c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7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rypt e-cash and attach a message dig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/IP for reliable trans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7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cash cannot be replac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rt cards, tracking of stolen e-c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9360" y="-360"/>
            <a:ext cx="790884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s the Web Secure for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Business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3760" y="1266480"/>
            <a:ext cx="7723080" cy="477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df1d26"/>
              </a:buClr>
              <a:buSzPct val="70000"/>
              <a:buFont typeface="Wingdings" charset="2"/>
              <a:buChar char="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df1d26"/>
                </a:solidFill>
                <a:latin typeface="Arial"/>
              </a:rPr>
              <a:t>What is the probl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security components</a:t>
            </a:r>
            <a:r>
              <a:rPr b="1" lang="en-US" sz="2400" spc="-1" strike="noStrike">
                <a:solidFill>
                  <a:srgbClr val="df1d2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nternet 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firewall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users be certifi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Web-specific security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secure e-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payment protocols and system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-Cash Pros and Con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s potential for fra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deletes serial number after receiving c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al number cannot be copied and used ag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s stop payment or lack of funds in customer’s acc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some anonymity for the 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has the right to issue e-cash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will monitor banking oper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will coupons be handl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39360" y="17640"/>
            <a:ext cx="791676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Checks and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Funds Transfer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Funds Transfer (E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mer ATM payments or bill payments Inter-bank transfers - large su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Che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yer issues a digital check, payee deposits 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Checks are different from Funds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-Checks are issued, received, and proces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ee issues an e-check for each pa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T causes withdraw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hecks are iss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n E-Check System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21480" y="4572000"/>
            <a:ext cx="1480320" cy="1434240"/>
            <a:chOff x="1221480" y="4572000"/>
            <a:chExt cx="1480320" cy="1434240"/>
          </a:xfrm>
        </p:grpSpPr>
        <p:pic>
          <p:nvPicPr>
            <p:cNvPr id="711" name="" descr=""/>
            <p:cNvPicPr/>
            <p:nvPr/>
          </p:nvPicPr>
          <p:blipFill>
            <a:blip r:embed="rId1"/>
            <a:stretch/>
          </p:blipFill>
          <p:spPr>
            <a:xfrm>
              <a:off x="1371600" y="4572000"/>
              <a:ext cx="13302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221480" y="563796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781680" y="4572000"/>
            <a:ext cx="1330200" cy="1434240"/>
            <a:chOff x="6781680" y="4572000"/>
            <a:chExt cx="1330200" cy="1434240"/>
          </a:xfrm>
        </p:grpSpPr>
        <p:pic>
          <p:nvPicPr>
            <p:cNvPr id="714" name="" descr=""/>
            <p:cNvPicPr/>
            <p:nvPr/>
          </p:nvPicPr>
          <p:blipFill>
            <a:blip r:embed="rId2"/>
            <a:stretch/>
          </p:blipFill>
          <p:spPr>
            <a:xfrm>
              <a:off x="6781680" y="4572000"/>
              <a:ext cx="13302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6860160" y="563796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7010280" y="1523880"/>
            <a:ext cx="2131560" cy="1074600"/>
            <a:chOff x="7010280" y="1523880"/>
            <a:chExt cx="2131560" cy="1074600"/>
          </a:xfrm>
        </p:grpSpPr>
        <p:pic>
          <p:nvPicPr>
            <p:cNvPr id="717" name="" descr=""/>
            <p:cNvPicPr/>
            <p:nvPr/>
          </p:nvPicPr>
          <p:blipFill>
            <a:blip r:embed="rId3"/>
            <a:stretch/>
          </p:blipFill>
          <p:spPr>
            <a:xfrm>
              <a:off x="7010280" y="1523880"/>
              <a:ext cx="768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7755480" y="173916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’s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160" y="1523880"/>
            <a:ext cx="2366280" cy="1074600"/>
            <a:chOff x="2160" y="1523880"/>
            <a:chExt cx="2366280" cy="1074600"/>
          </a:xfrm>
        </p:grpSpPr>
        <p:pic>
          <p:nvPicPr>
            <p:cNvPr id="720" name="" descr=""/>
            <p:cNvPicPr/>
            <p:nvPr/>
          </p:nvPicPr>
          <p:blipFill>
            <a:blip r:embed="rId4"/>
            <a:stretch/>
          </p:blipFill>
          <p:spPr>
            <a:xfrm>
              <a:off x="1600200" y="1523880"/>
              <a:ext cx="76824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2160" y="1740600"/>
              <a:ext cx="15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’s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5945400" y="35809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) Validat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-check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666880" y="4724280"/>
            <a:ext cx="434340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02560" y="43426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) Browse and Presen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66880" y="5105520"/>
            <a:ext cx="39625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97280" y="472356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) Select goods, pay e-check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25880" y="510480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) Complete transac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2895480" y="5486400"/>
            <a:ext cx="381024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315200" y="2590920"/>
            <a:ext cx="0" cy="182880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84120" y="3600000"/>
            <a:ext cx="13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) Send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-check to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7620120" y="2590920"/>
            <a:ext cx="0" cy="17524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791880" y="2133720"/>
            <a:ext cx="1832760" cy="1662840"/>
            <a:chOff x="3791880" y="2133720"/>
            <a:chExt cx="1832760" cy="1662840"/>
          </a:xfrm>
        </p:grpSpPr>
        <p:pic>
          <p:nvPicPr>
            <p:cNvPr id="733" name="" descr=""/>
            <p:cNvPicPr/>
            <p:nvPr/>
          </p:nvPicPr>
          <p:blipFill>
            <a:blip r:embed="rId5"/>
            <a:stretch/>
          </p:blipFill>
          <p:spPr>
            <a:xfrm>
              <a:off x="3794040" y="2133720"/>
              <a:ext cx="182880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3791880" y="3428280"/>
              <a:ext cx="183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ring hous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 flipH="1">
            <a:off x="5429160" y="2438280"/>
            <a:ext cx="1581120" cy="57168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30960" y="22345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) Clearing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2286000" y="2381400"/>
            <a:ext cx="1619280" cy="66672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11440" y="22345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) Clearing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21360" y="11808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) Updat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sumer’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-Check Security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39720" y="1282320"/>
            <a:ext cx="7772400" cy="475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7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-check is signed by the payer’s private ke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 decrypts signature with payer’s public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sures receiver that the sender signed 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non-repudiation for the pay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-check may require originating bank’s digital signa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7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 can validate by using the public key of the originating 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7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keys can be provided via X.509 certific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7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vate key can be stored on smart c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7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ier’s checks are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n E-Credit System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221480" y="4572000"/>
            <a:ext cx="1480320" cy="1434240"/>
            <a:chOff x="1221480" y="4572000"/>
            <a:chExt cx="1480320" cy="1434240"/>
          </a:xfrm>
        </p:grpSpPr>
        <p:pic>
          <p:nvPicPr>
            <p:cNvPr id="744" name="" descr=""/>
            <p:cNvPicPr/>
            <p:nvPr/>
          </p:nvPicPr>
          <p:blipFill>
            <a:blip r:embed="rId1"/>
            <a:stretch/>
          </p:blipFill>
          <p:spPr>
            <a:xfrm>
              <a:off x="1371600" y="4572000"/>
              <a:ext cx="13302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221480" y="563796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6781680" y="4572000"/>
            <a:ext cx="1330200" cy="1434240"/>
            <a:chOff x="6781680" y="4572000"/>
            <a:chExt cx="1330200" cy="1434240"/>
          </a:xfrm>
        </p:grpSpPr>
        <p:pic>
          <p:nvPicPr>
            <p:cNvPr id="747" name="" descr=""/>
            <p:cNvPicPr/>
            <p:nvPr/>
          </p:nvPicPr>
          <p:blipFill>
            <a:blip r:embed="rId2"/>
            <a:stretch/>
          </p:blipFill>
          <p:spPr>
            <a:xfrm>
              <a:off x="6781680" y="4572000"/>
              <a:ext cx="13302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6860160" y="563796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010280" y="1523880"/>
            <a:ext cx="2131560" cy="1074600"/>
            <a:chOff x="7010280" y="1523880"/>
            <a:chExt cx="2131560" cy="1074600"/>
          </a:xfrm>
        </p:grpSpPr>
        <p:pic>
          <p:nvPicPr>
            <p:cNvPr id="750" name="" descr=""/>
            <p:cNvPicPr/>
            <p:nvPr/>
          </p:nvPicPr>
          <p:blipFill>
            <a:blip r:embed="rId3"/>
            <a:stretch/>
          </p:blipFill>
          <p:spPr>
            <a:xfrm>
              <a:off x="7010280" y="1523880"/>
              <a:ext cx="768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7755480" y="173916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’s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641880" y="1523880"/>
            <a:ext cx="1718640" cy="1074600"/>
            <a:chOff x="641880" y="1523880"/>
            <a:chExt cx="1718640" cy="1074600"/>
          </a:xfrm>
        </p:grpSpPr>
        <p:pic>
          <p:nvPicPr>
            <p:cNvPr id="753" name="" descr=""/>
            <p:cNvPicPr/>
            <p:nvPr/>
          </p:nvPicPr>
          <p:blipFill>
            <a:blip r:embed="rId4"/>
            <a:stretch/>
          </p:blipFill>
          <p:spPr>
            <a:xfrm>
              <a:off x="1592280" y="1523880"/>
              <a:ext cx="76824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641880" y="174060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d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suer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5652360" y="3444480"/>
            <a:ext cx="16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) Request/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tai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666880" y="4724280"/>
            <a:ext cx="434340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202560" y="43426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) Browse and Presen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66880" y="5105520"/>
            <a:ext cx="39625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44640" y="4761720"/>
            <a:ext cx="41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) Select goods, credit card paymen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5880" y="510480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) Complete transaction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2895480" y="5486400"/>
            <a:ext cx="381024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7315200" y="2590920"/>
            <a:ext cx="0" cy="182880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83760" y="360324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) Provid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C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620120" y="2590920"/>
            <a:ext cx="0" cy="17524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286000" y="2381400"/>
            <a:ext cx="461016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58080" y="198684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) Forward ROCs and obtain payment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84920" y="283824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) Updat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sumer’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Credit Security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idate merchant, bank, and consum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509 certific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 the private key of certificate author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 credit card info: number, date, PIN, et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rt ca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mory ca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ared-key ca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ature-carrying (or creating) car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ure payment protocols and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39720" y="17640"/>
            <a:ext cx="670896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s the Web Secure for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lectronic Business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security components are importa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nternet secur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firewall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users be certifi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Web-specific security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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secure e-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df1d26"/>
              </a:buClr>
              <a:buSzPct val="70000"/>
              <a:buFont typeface="Wingdings" charset="2"/>
              <a:buChar char="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df1d26"/>
                </a:solidFill>
                <a:latin typeface="Arial"/>
              </a:rPr>
              <a:t>How can payment protocols and systems he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39360" y="137880"/>
            <a:ext cx="7916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800" spc="-1" strike="noStrike">
                <a:solidFill>
                  <a:srgbClr val="df1d26"/>
                </a:solidFill>
                <a:latin typeface="Arial"/>
              </a:rPr>
              <a:t>Secure Payment:</a:t>
            </a:r>
            <a:br>
              <a:rPr sz="2800"/>
            </a:br>
            <a:r>
              <a:rPr b="1" lang="en-US" sz="2800" spc="-1" strike="noStrike">
                <a:solidFill>
                  <a:srgbClr val="df1d26"/>
                </a:solidFill>
                <a:latin typeface="Arial"/>
              </a:rPr>
              <a:t>Protocol and Internet Components</a:t>
            </a:r>
            <a:endParaRPr b="1" lang="en-US" sz="2800" spc="-1" strike="noStrike">
              <a:solidFill>
                <a:srgbClr val="df1d26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639720" y="1255680"/>
            <a:ext cx="8384400" cy="5392440"/>
            <a:chOff x="639720" y="1255680"/>
            <a:chExt cx="8384400" cy="5392440"/>
          </a:xfrm>
        </p:grpSpPr>
        <p:sp>
          <p:nvSpPr>
            <p:cNvPr id="774" name=""/>
            <p:cNvSpPr/>
            <p:nvPr/>
          </p:nvSpPr>
          <p:spPr>
            <a:xfrm>
              <a:off x="3482280" y="1346040"/>
              <a:ext cx="5039280" cy="88956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ertificate Request Handling</a:t>
              </a:r>
              <a:endParaRPr b="0" lang="en-US" sz="22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9720" y="1763640"/>
              <a:ext cx="2436480" cy="726120"/>
            </a:xfrm>
            <a:prstGeom prst="rect">
              <a:avLst/>
            </a:prstGeom>
            <a:solidFill>
              <a:srgbClr val="fc9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-commerce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9720" y="2490120"/>
              <a:ext cx="2436480" cy="726120"/>
            </a:xfrm>
            <a:prstGeom prst="rect">
              <a:avLst/>
            </a:prstGeom>
            <a:solidFill>
              <a:srgbClr val="df1d26"/>
            </a:solidFill>
            <a:ln w="7632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cure Payment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tocol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39720" y="3216600"/>
              <a:ext cx="753480" cy="725760"/>
            </a:xfrm>
            <a:prstGeom prst="rect">
              <a:avLst/>
            </a:prstGeom>
            <a:solidFill>
              <a:srgbClr val="fc9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-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TTP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93200" y="3216600"/>
              <a:ext cx="752400" cy="725760"/>
            </a:xfrm>
            <a:prstGeom prst="rect">
              <a:avLst/>
            </a:prstGeom>
            <a:solidFill>
              <a:srgbClr val="fc9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TTP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45600" y="3216600"/>
              <a:ext cx="930600" cy="725760"/>
            </a:xfrm>
            <a:prstGeom prst="rect">
              <a:avLst/>
            </a:prstGeom>
            <a:solidFill>
              <a:srgbClr val="fc9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LNET,</a:t>
              </a:r>
              <a:endParaRPr b="0" lang="en-US" sz="1600" spc="-1" strike="noStrike">
                <a:solidFill>
                  <a:srgbClr val="081d5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TP, etc.</a:t>
              </a:r>
              <a:endParaRPr b="0" lang="en-US" sz="16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9720" y="4669200"/>
              <a:ext cx="2436480" cy="726120"/>
            </a:xfrm>
            <a:prstGeom prst="rect">
              <a:avLst/>
            </a:prstGeom>
            <a:solidFill>
              <a:srgbClr val="fc9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9720" y="5395680"/>
              <a:ext cx="2436480" cy="725760"/>
            </a:xfrm>
            <a:prstGeom prst="rect">
              <a:avLst/>
            </a:prstGeom>
            <a:solidFill>
              <a:srgbClr val="fc9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57600" y="3942720"/>
              <a:ext cx="1218240" cy="726120"/>
            </a:xfrm>
            <a:prstGeom prst="rect">
              <a:avLst/>
            </a:prstGeom>
            <a:solidFill>
              <a:srgbClr val="fc9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T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720" y="3942720"/>
              <a:ext cx="1217880" cy="726120"/>
            </a:xfrm>
            <a:prstGeom prst="rect">
              <a:avLst/>
            </a:prstGeom>
            <a:solidFill>
              <a:srgbClr val="fc9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20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4257720" y="5086800"/>
              <a:ext cx="1455120" cy="1376280"/>
              <a:chOff x="4257720" y="5086800"/>
              <a:chExt cx="1455120" cy="1376280"/>
            </a:xfrm>
          </p:grpSpPr>
          <p:pic>
            <p:nvPicPr>
              <p:cNvPr id="7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4040" y="5086800"/>
                <a:ext cx="128880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6" name=""/>
              <p:cNvSpPr/>
              <p:nvPr/>
            </p:nvSpPr>
            <p:spPr>
              <a:xfrm>
                <a:off x="4257720" y="6094800"/>
                <a:ext cx="13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sumer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6657840" y="5123160"/>
              <a:ext cx="1288800" cy="1376280"/>
              <a:chOff x="6657840" y="5123160"/>
              <a:chExt cx="1288800" cy="1376280"/>
            </a:xfrm>
          </p:grpSpPr>
          <p:pic>
            <p:nvPicPr>
              <p:cNvPr id="7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657840" y="5123160"/>
                <a:ext cx="1288800" cy="97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9" name=""/>
              <p:cNvSpPr/>
              <p:nvPr/>
            </p:nvSpPr>
            <p:spPr>
              <a:xfrm>
                <a:off x="6715800" y="613116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rchant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pic>
          <p:nvPicPr>
            <p:cNvPr id="790" name="" descr=""/>
            <p:cNvPicPr/>
            <p:nvPr/>
          </p:nvPicPr>
          <p:blipFill>
            <a:blip r:embed="rId3"/>
            <a:stretch/>
          </p:blipFill>
          <p:spPr>
            <a:xfrm>
              <a:off x="6915960" y="2653560"/>
              <a:ext cx="744480" cy="10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7637760" y="2515680"/>
              <a:ext cx="1386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’s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cquirer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teway)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3090960" y="2635200"/>
              <a:ext cx="2335320" cy="1024560"/>
              <a:chOff x="3090960" y="2635200"/>
              <a:chExt cx="2335320" cy="1024560"/>
            </a:xfrm>
          </p:grpSpPr>
          <p:pic>
            <p:nvPicPr>
              <p:cNvPr id="7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1800" y="2635200"/>
                <a:ext cx="744480" cy="102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>
                <a:off x="3090960" y="2828160"/>
                <a:ext cx="1500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sumer’s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ank</a:t>
                </a: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4442400" y="1346040"/>
              <a:ext cx="3045600" cy="43560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ertificate Generation</a:t>
              </a:r>
              <a:endParaRPr b="0" lang="en-US" sz="22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131280" y="1255680"/>
              <a:ext cx="313920" cy="1198080"/>
            </a:xfrm>
            <a:prstGeom prst="line">
              <a:avLst/>
            </a:prstGeom>
            <a:ln cap="rnd" w="9360">
              <a:solidFill>
                <a:srgbClr val="081d5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106960" y="2217240"/>
              <a:ext cx="719280" cy="2923560"/>
              <a:chOff x="5106960" y="2217240"/>
              <a:chExt cx="719280" cy="2923560"/>
            </a:xfrm>
          </p:grpSpPr>
          <p:sp>
            <p:nvSpPr>
              <p:cNvPr id="798" name=""/>
              <p:cNvSpPr/>
              <p:nvPr/>
            </p:nvSpPr>
            <p:spPr>
              <a:xfrm flipV="1">
                <a:off x="5143320" y="3633840"/>
                <a:ext cx="0" cy="1434240"/>
              </a:xfrm>
              <a:prstGeom prst="line">
                <a:avLst/>
              </a:prstGeom>
              <a:ln w="93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5106960" y="2217600"/>
                <a:ext cx="239400" cy="435600"/>
              </a:xfrm>
              <a:prstGeom prst="line">
                <a:avLst/>
              </a:prstGeom>
              <a:ln w="93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5438880" y="2217240"/>
                <a:ext cx="387360" cy="2923560"/>
              </a:xfrm>
              <a:prstGeom prst="line">
                <a:avLst/>
              </a:prstGeom>
              <a:ln w="93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 flipV="1">
              <a:off x="7340400" y="3633840"/>
              <a:ext cx="18360" cy="1470600"/>
            </a:xfrm>
            <a:prstGeom prst="line">
              <a:avLst/>
            </a:prstGeom>
            <a:ln w="93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7119000" y="2199600"/>
              <a:ext cx="239760" cy="435600"/>
            </a:xfrm>
            <a:prstGeom prst="line">
              <a:avLst/>
            </a:prstGeom>
            <a:ln w="93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6639120" y="2199240"/>
              <a:ext cx="387360" cy="2923560"/>
            </a:xfrm>
            <a:prstGeom prst="line">
              <a:avLst/>
            </a:prstGeom>
            <a:ln w="93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4920" y="3180240"/>
              <a:ext cx="553320" cy="3467880"/>
            </a:xfrm>
            <a:prstGeom prst="line">
              <a:avLst/>
            </a:prstGeom>
            <a:ln cap="rnd" w="9360">
              <a:solidFill>
                <a:srgbClr val="081d5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39720" y="414360"/>
            <a:ext cx="792792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Secure Electronic Transactions (SET)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39720" y="1255680"/>
            <a:ext cx="777240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tiality of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encry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ion of Cardholder Accou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holder certificate and digital sign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chant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chant certificates and digital sign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any protocols and message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89000"/>
              </a:lnSpc>
              <a:spcAft>
                <a:spcPts val="689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sterCard, Visa, IBM, Microsoft, Netscape, et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33240" y="48708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39720" y="1255320"/>
            <a:ext cx="7772400" cy="48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all major marketplaces which have gone before it, the Web has great potential for sa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frau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Cash will be as important to e-commerce as paper cash is to paper comme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 will monitor and regulate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institutions might issue mone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governments accept thi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umber of protocols and techniques can be used to secure e-comme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they be standardized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440" y="504360"/>
            <a:ext cx="67086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s there a problem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8680" y="1255680"/>
            <a:ext cx="772308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0" algn="ctr">
              <a:lnSpc>
                <a:spcPct val="99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siness would use the Internet m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 algn="ctr">
              <a:lnSpc>
                <a:spcPct val="59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f security was enhanc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7% of those currently using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6% of those not using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3% of those planning to using it within a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rd Annual Ernst &amp; Young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tion Week Security Surv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9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Manhattan Cyber Projec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00 companies: IBM, Bell Atlantic, E &amp; Y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2440" y="504360"/>
            <a:ext cx="67086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Why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8680" y="1255680"/>
            <a:ext cx="7723080" cy="47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ion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ustry: $100 billion/year of stolen secre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 Federal Bureau of Investi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5% success in penetrating defense networ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tagon Center for Information Systems Security (CI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 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uthorized trans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e bombs and Trojan hor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dors offer rewards for successful break-i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9720" y="504360"/>
            <a:ext cx="67089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Threa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3200" y="1255680"/>
            <a:ext cx="365112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k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honest or disgruntled 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t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or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26200" y="19224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1T21:05:44Z</dcterms:created>
  <dc:creator>John Kneiling</dc:creator>
  <dc:description/>
  <dc:language>en-US</dc:language>
  <cp:lastModifiedBy>John Kneiling</cp:lastModifiedBy>
  <cp:lastPrinted>1997-10-18T21:19:26Z</cp:lastPrinted>
  <dcterms:modified xsi:type="dcterms:W3CDTF">1998-07-17T14:07:24Z</dcterms:modified>
  <cp:revision>70</cp:revision>
  <dc:subject/>
  <dc:title>No Slide Title</dc:title>
</cp:coreProperties>
</file>