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1B0-9C91-46C4-BEED-E4286D82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6E0-3AF9-487C-AE4A-530AF8F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C54-3047-4EE1-A181-33955C79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9AD-A4A4-45B2-99A2-9A2D6ABA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EE8-1B35-45FA-B6C5-F63E422F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B55-9A50-437B-BCBF-A2A83413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EAC-2A85-4685-BDAE-3A9EB2D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0A2-6DD8-4044-8CE1-A820BB4C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88D-5715-4BF8-ABC9-C59E3FD3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758-5195-4D90-BC10-A5CB770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9EE-B3E9-4316-BBF9-50C128B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5A3-538C-42BC-A72C-51B5B0A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D7DCC7-69DB-4FC4-AEDA-860F11987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Header Files for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810560" cy="59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81056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Func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20680" y="1371600"/>
          <a:ext cx="704232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371600"/>
                    <a:ext cx="704232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by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574640"/>
          <a:ext cx="782172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4640"/>
                    <a:ext cx="782172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by Type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752480"/>
          <a:ext cx="8267760" cy="59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67760" cy="59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219320" y="1371600"/>
            <a:ext cx="670536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SE687 - Object Oriented Desig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mplate Library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im Fawcet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ring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TL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6560" y="1409760"/>
          <a:ext cx="762012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409760"/>
                    <a:ext cx="762012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It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11360" y="1523880"/>
          <a:ext cx="7746840" cy="44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523880"/>
                    <a:ext cx="7746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 and binary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single argument of the template type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unary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Elem(int val) {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out &lt;&lt; “value is: “ &lt;&lt; val &lt;&lt; endl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 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ist&lt;int&gt; li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unary function used in algorith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for_each(li.begin(), li.end(), printElem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aking a template type and returning bool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edic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positive(T val) { return (val &gt; 0); }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 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ist&lt;int&gt; li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return location of first positive valu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ist&lt;int&gt;::iterator =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d_if(li.begin(), li.end(), positive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Function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1 takes unary predicate and negates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2 takes binary predicate and negates i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redic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positive(T val) { return (val &gt; 0); }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 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ist&lt;int&gt; li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return location of first non-positive valu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ist&lt;int&gt;::iterator =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d_if(li.begin(), li.end(), not1(positive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Function Ad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1 binds value to first argument of a binary_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2 binds value to second argument of binary_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ain( ) {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ist&lt;int&gt; li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return location of first value greater than 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ist&lt;int&gt;::iterator =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d_if(li.begin(), li.end(), bind2(greater&lt;int&gt;(),5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 Functio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with constructor and single member operator()</a:t>
            </a:r>
            <a:br>
              <a:rPr sz="2000"/>
            </a:b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 class myFunc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ublic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myFunc( /*arguments save needed state info */) {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T operator()(/* args for func obj */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/*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call some useful function with sav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state info and args as its 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*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riv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/* state info here *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5T11:06:16Z</dcterms:created>
  <dc:creator>jim</dc:creator>
  <dc:description/>
  <dc:language>en-US</dc:language>
  <cp:lastModifiedBy>jim</cp:lastModifiedBy>
  <cp:lastPrinted>1998-04-06T01:07:50Z</cp:lastPrinted>
  <dcterms:modified xsi:type="dcterms:W3CDTF">1998-04-06T01:47:59Z</dcterms:modified>
  <cp:revision>12</cp:revision>
  <dc:subject/>
  <dc:title>STL Iterators</dc:title>
</cp:coreProperties>
</file>