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D32-AB19-4799-BB2B-7A62976C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486-63EB-44CE-B955-188087AE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5DC-C354-4342-9D88-D44FFEAD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FA1-B869-4F98-A532-DDA97683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B622-9E92-47E0-AB62-90879424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C6F8-2ABE-4524-A314-6D9DC174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AFE-BD37-41CA-B7CD-CA59E3A4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012F-1633-4D5A-8670-AC6E5AC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6A38-3CB2-48A2-8B68-FBD6393B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588F-5F40-4534-B56B-5543988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4ED6-E5DF-4A08-BE96-DD3DFE64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51C-E42B-473E-9305-A4B1E6F5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8786-236A-4667-8D21-E21587A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D815-D7B9-451B-A41E-FA51411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2D63-422B-401B-8954-790EAA9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9E48-684C-4E4D-A02E-CF91DE72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EF10-3CF2-46A2-BE14-015A6DB1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65C-F28F-432E-8F78-18FCAD2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D35-4418-4E4E-B596-65FF98B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72F-3A68-4EB0-A27F-C74707D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472-6F6A-4E41-809B-271E52CA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4B2-E47C-44BD-890B-1DCCF0B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C6B-7603-41A3-BB8A-6A0E6BA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739-BA21-409B-917C-16582B7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EEC0-A8FB-485D-8582-3188206752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E741-48AF-491A-8F4B-CD810A5D8C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room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idelines for Participation in Tango-Based Distance Lear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er Side - Preferred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057400"/>
            <a:ext cx="81532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429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aVist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3526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29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er Side-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as for student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memory (256+) recomm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monitor and higher resolution graphics card (1600x1200 True Color) recomm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as for student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 Machine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eaching, support and audio/video tools can be run on the sam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and software requirements as for teacher’s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gs to Avo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using a parallel 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using a USB port on Windows NT systems (NT does not yet support US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(&gt;3 years) Intel Video Smart Recorders (we have found that these tend to crash or hang newer PC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purchased separately from video capture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cape version 4.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Fa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audio/video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network connections (shaky connection - choppy a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s  - Tango client supports SOCKS protocol but should be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TP server with access to the files on student 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oftware upgrades coordinated with NPAC support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cap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the course 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ion of technical and faculty points of contact on student and instructor s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required 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required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Tango Interactiv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Session Manager on HTT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Tango User Information file with list of class participants with assigned passwords and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each class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f network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/video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l class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V sessions must be tested before the class star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Sessio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ated machines connected to BuenaVista s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articipants connected to other teaching tools (chat, shared browser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personnel on both sides connected to support chat for reporting technica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microphone (except on teaching machine) must be in off position and cannot be used by students during the class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Watch set to ‘busy’ state on instructor’s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rmation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als for Tango Interactive Session Manager and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npac.syr.edu/Projects/DoD/edu/participation-guidelines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s in Tang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Machine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o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up Distance Learn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gathered during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- important fa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and effort required on both sides for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2  - several differences in the setup, pointed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ing Tool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t for questions and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enaVista for audio/vide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ed Hand - bring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es in Tango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2 only, assigned to class participants using User Manager tool (instead of links to different Session Manag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057400"/>
            <a:ext cx="81532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Preferred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aVist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2670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343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42670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343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2670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343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2057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Hard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th WindowsNT/95/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MHz Pentium III or fas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 MB RAM or m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GB HDD or more (can be IDE or ATA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 card capable of 1240x1024 True color recommended; 1152x864 True Color accept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: Winnow PCI Videum Conference 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Separate card unnecessary if Winnov card installed; otherwise SoundBlaster 6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set + microphone: VXI Parrott 10-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10/1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D-ROM dr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Hard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2 workstations running IRIX 6.5.4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PC requirements as for Windows system (Buena Vista currently not supported, should be available in March 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platform not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Soft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go Interactiv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NT 4.0 SP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p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scape Communicator 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Internet Explorer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ed: FTP server to allow access to NPAC support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02:05:24Z</dcterms:created>
  <dc:creator>luk1</dc:creator>
  <dc:description/>
  <dc:language>en-US</dc:language>
  <cp:lastModifiedBy>luk1</cp:lastModifiedBy>
  <dcterms:modified xsi:type="dcterms:W3CDTF">1999-12-17T06:27:17Z</dcterms:modified>
  <cp:revision>9</cp:revision>
  <dc:subject/>
  <dc:title>Classroom Setup</dc:title>
</cp:coreProperties>
</file>