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DB54-9C6B-44FC-B39D-067C8414C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2C81-42F0-48D6-AF59-067276E1D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683D-EAFF-4731-A5A3-19DE105F1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FC6E-36BC-4A36-AE10-C1A2F293E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8CA5-C393-44D7-AE1F-39BAB73E5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4208-4444-4E57-9766-DCCEDE10A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90CC-1C28-42A4-A4B0-E91383B1C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7206-2491-49E3-9892-9FAEF4F59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11E7-9CD0-41BA-9624-0C03151C0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BEC0-A62B-45A6-93EE-120303C87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2916-8DD5-4E18-BB38-4EB8F1CD4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E04A-91DC-460B-A51F-514E7410E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4E5AD-EF6D-4386-9CAA-53E3979A7C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NGO Interactive Sev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ersion 2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allation, Configuration, and Execution on Unix Plat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 Database 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 Management tool should be used for creating and modifying files with user information, to start User Management tool execut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nager.c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cript 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ebWisdom/Tango-server-2.0.1.1/admin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sers_portnumber.tu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name format for files with user information Exampl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sers_12000.t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ce the file 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ebWisdom/Tango-server-2.0.1.1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er Admini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 without root privile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er star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bWisdom/Tango-server-2.0.1.1-unix/exec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ourOS-Tango_start port_number [user_db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RIX-Tango_start 12000 user_12000.t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erver runs as background process under the UID of the user who install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er Admini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 without root privile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er termin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kill command to terminate th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er Admini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 with root privile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administration scripts are placed 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bWisdom/Tango-server-2.0.1.1-unix/admin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scripts require installation using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un_as_roo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rip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er 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art_tis port_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er term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op_tis port_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er Admini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 with root privile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 of server running on the h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ist_t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er stat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at_tis port_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instal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th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WebWisdo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ory and all its cont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fi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etc/init.d/Tango20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etc/rc0.d/*Tango20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etc/rc2.d/*Tango20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le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/etc/rc3.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 Solar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etc/config/Tango20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les on I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er 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er logs are stored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bWisdom/Tango-server-2.0.1.1-unix/logs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NGO Interactive server - multithreaded Java application running as a background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stem Requi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ftware requirem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Development Kit at least version 1.1.6 (check that), see (URL) for instructions on Java instal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dware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specific 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er Instal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allation by an unprivileged u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ual st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restart after system rebo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allation by a system administ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matic server restart after rebo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allation packages provided for Irix, Linux and Solaris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tallation - Basic Instal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oose install directory, copy the compressed file to selected 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compress and unpack the distribution 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unzip Tango-server-2.0.1.1-unix.tar.g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ar -xvpf Tango-server-2.0.1.1-unix.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directory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WebWisd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server files is cre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those steps the server is installed but it will not be automatically restarted after system rebo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tallation - Automatic Rest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te previous steps of the instal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in as a ro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 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bWisdom/Tango-server-2.0.1.1-unix/etc/you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ory and execu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un_as_ro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tallation - Automatic Rest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script does the follow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ang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r and its home direc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ies the entire server distribution to the server home direc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lls boot scripts for specific 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etc/init.d/Tango20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etc/rc0.d/*Tango20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etc/rc2.d/*Tango20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le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/etc/rc3.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 Solar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etc/config/Tango20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les on I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tallation - Automatic Rest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the system reboot the TI server will be started on the default port number 1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un_as_root_for_extra_instance port_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install more instances of the TI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c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license@webwisdom.c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obtain the server lic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will receive a response with attached script file. Place the script in th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ebWisdom/Tango-server-2.0.1.1-unix/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ory and execute it. The script will install the licens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5T04:34:07Z</dcterms:created>
  <dc:creator>luk1</dc:creator>
  <dc:description/>
  <dc:language>en-US</dc:language>
  <cp:lastModifiedBy>luk1</cp:lastModifiedBy>
  <dcterms:modified xsi:type="dcterms:W3CDTF">1999-12-15T06:23:33Z</dcterms:modified>
  <cp:revision>2</cp:revision>
  <dc:subject/>
  <dc:title>TANGO Interactive Sever Version 2.0</dc:title>
</cp:coreProperties>
</file>