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DFBA-C9AF-42EB-A7C3-34AFF0ACD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2B76-3BEA-4AA8-B5ED-E7A3DD6F6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BA2D9-2226-46E4-B3ED-F7EFBCCF9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1942F-D2DD-4FA2-8540-4E4ED75FA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6E86B-0426-4F1E-A0E8-F11E05C9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D1FB2-14BC-45FA-81E5-EFEA9EF7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77D14-6BB9-489E-8B0B-EE5CAAAA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7D815-ADC3-4D85-8B1F-127B359C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9D214-1B8D-4ECE-BB3F-966F0824F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8D76-6A7B-4E95-AFA3-3A976610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895E-1EC5-44EB-8944-C92C5B95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DF655-63FE-4F33-B2E8-BFDD4412B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5274-1756-4304-94AA-6FFAB6BB7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wo (possible NPAC) Projects of relevance to Java Grande Concurrency Working Group</a:t>
            </a:r>
            <a:endParaRPr b="0" lang="en-US" sz="3600" spc="-1" strike="noStrike">
              <a:solidFill>
                <a:srgbClr val="000000"/>
              </a:solidFill>
              <a:latin typeface="Times New Roman"/>
            </a:endParaRPr>
          </a:p>
        </p:txBody>
      </p:sp>
      <p:sp>
        <p:nvSpPr>
          <p:cNvPr id="42"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tegration of Micro devices into education and computing portal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pose to use the infrastructure of collaborative environments (in particular Tango Interactive) as this is designed  to support event messaging.  It requires extension to support asynchronous as well as synchronous event messaging</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an be integrated naturally</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Integration of Jini and MPI</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natural Java framework for parallel computing with the powerful fault tolerance and dynamic characteristics of Jini combined with proven parallel computing functionality and performance of M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360"/>
            <a:ext cx="8991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Micro Tango</a:t>
            </a:r>
            <a:endParaRPr b="0" lang="en-US" sz="4400" spc="-1" strike="noStrike">
              <a:solidFill>
                <a:srgbClr val="000000"/>
              </a:solidFill>
              <a:latin typeface="Times New Roman"/>
            </a:endParaRPr>
          </a:p>
        </p:txBody>
      </p:sp>
      <p:sp>
        <p:nvSpPr>
          <p:cNvPr id="44" name="PlaceHolder 2"/>
          <p:cNvSpPr>
            <a:spLocks noGrp="1"/>
          </p:cNvSpPr>
          <p:nvPr>
            <p:ph/>
          </p:nvPr>
        </p:nvSpPr>
        <p:spPr>
          <a:xfrm>
            <a:off x="0" y="609480"/>
            <a:ext cx="9144000" cy="2819520"/>
          </a:xfrm>
          <a:prstGeom prst="rect">
            <a:avLst/>
          </a:prstGeom>
          <a:noFill/>
          <a:ln w="0">
            <a:noFill/>
          </a:ln>
        </p:spPr>
        <p:txBody>
          <a:bodyPr lIns="90000" rIns="90000" tIns="46800" bIns="46800" anchor="t">
            <a:normAutofit fontScale="57000"/>
          </a:bodyPr>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ducation (and lectur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key data to students (e.g. notification, reference URL’s),</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rting simple quizzes or voting; </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chat room activities; exchange of simple sketche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omputing Por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ication and summary details of final or intermediate results from computation</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ion of jobs and input of “key” parameter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communication and computing capabilities of micro devices improve one will see a growing suite of cap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17400" y="3505320"/>
            <a:ext cx="26672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Tango</a:t>
            </a:r>
            <a:br>
              <a:rPr sz="2400"/>
            </a:b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46" name=""/>
          <p:cNvSpPr/>
          <p:nvPr/>
        </p:nvSpPr>
        <p:spPr>
          <a:xfrm>
            <a:off x="5607360" y="3694320"/>
            <a:ext cx="191808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Device</a:t>
            </a:r>
            <a:endParaRPr b="0" lang="en-US" sz="2400" spc="-1" strike="noStrike">
              <a:solidFill>
                <a:srgbClr val="000000"/>
              </a:solidFill>
              <a:latin typeface="Times New Roman"/>
            </a:endParaRPr>
          </a:p>
        </p:txBody>
      </p:sp>
      <p:sp>
        <p:nvSpPr>
          <p:cNvPr id="47" name=""/>
          <p:cNvSpPr/>
          <p:nvPr/>
        </p:nvSpPr>
        <p:spPr>
          <a:xfrm>
            <a:off x="3276720" y="3924360"/>
            <a:ext cx="2361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181480" y="4191120"/>
            <a:ext cx="3353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lmtop/Pag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ML Parser</a:t>
            </a:r>
            <a:br>
              <a:rPr sz="2000"/>
            </a:br>
            <a:r>
              <a:rPr b="1" lang="en-US" sz="2000" spc="-1" strike="noStrike">
                <a:solidFill>
                  <a:srgbClr val="000000"/>
                </a:solidFill>
                <a:latin typeface="Times New Roman"/>
              </a:rPr>
              <a:t>General Micro-Styles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pecific Styles</a:t>
            </a:r>
            <a:br>
              <a:rPr sz="2000"/>
            </a:br>
            <a:r>
              <a:rPr b="1" lang="en-US" sz="2000" spc="-1" strike="noStrike">
                <a:solidFill>
                  <a:srgbClr val="000000"/>
                </a:solidFill>
                <a:latin typeface="Times New Roman"/>
              </a:rPr>
              <a:t>to render XML</a:t>
            </a:r>
            <a:endParaRPr b="0" lang="en-US" sz="2000" spc="-1" strike="noStrike">
              <a:solidFill>
                <a:srgbClr val="000000"/>
              </a:solidFill>
              <a:latin typeface="Times New Roman"/>
            </a:endParaRPr>
          </a:p>
        </p:txBody>
      </p:sp>
      <p:sp>
        <p:nvSpPr>
          <p:cNvPr id="49" name=""/>
          <p:cNvSpPr/>
          <p:nvPr/>
        </p:nvSpPr>
        <p:spPr>
          <a:xfrm>
            <a:off x="915480" y="44956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Queues</a:t>
            </a:r>
            <a:br>
              <a:rPr sz="2400"/>
            </a:br>
            <a:r>
              <a:rPr b="1" lang="en-US" sz="2400" spc="-1" strike="noStrike">
                <a:solidFill>
                  <a:srgbClr val="000000"/>
                </a:solidFill>
                <a:latin typeface="Times New Roman"/>
              </a:rPr>
              <a:t>Backup</a:t>
            </a:r>
            <a:endParaRPr b="0" lang="en-US" sz="2400" spc="-1" strike="noStrike">
              <a:solidFill>
                <a:srgbClr val="000000"/>
              </a:solidFill>
              <a:latin typeface="Times New Roman"/>
            </a:endParaRPr>
          </a:p>
        </p:txBody>
      </p:sp>
      <p:sp>
        <p:nvSpPr>
          <p:cNvPr id="50" name=""/>
          <p:cNvSpPr/>
          <p:nvPr/>
        </p:nvSpPr>
        <p:spPr>
          <a:xfrm>
            <a:off x="272160" y="213480"/>
            <a:ext cx="335880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Generator</a:t>
            </a:r>
            <a:endParaRPr b="0" lang="en-US" sz="2400" spc="-1" strike="noStrike">
              <a:solidFill>
                <a:srgbClr val="000000"/>
              </a:solidFill>
              <a:latin typeface="Times New Roman"/>
            </a:endParaRPr>
          </a:p>
        </p:txBody>
      </p:sp>
      <p:sp>
        <p:nvSpPr>
          <p:cNvPr id="51" name=""/>
          <p:cNvSpPr/>
          <p:nvPr/>
        </p:nvSpPr>
        <p:spPr>
          <a:xfrm>
            <a:off x="552240" y="1585080"/>
            <a:ext cx="283284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 Filter</a:t>
            </a:r>
            <a:endParaRPr b="0" lang="en-US" sz="2400" spc="-1" strike="noStrike">
              <a:solidFill>
                <a:srgbClr val="000000"/>
              </a:solidFill>
              <a:latin typeface="Times New Roman"/>
            </a:endParaRPr>
          </a:p>
        </p:txBody>
      </p:sp>
      <p:sp>
        <p:nvSpPr>
          <p:cNvPr id="52" name=""/>
          <p:cNvSpPr/>
          <p:nvPr/>
        </p:nvSpPr>
        <p:spPr>
          <a:xfrm>
            <a:off x="3721680" y="1447920"/>
            <a:ext cx="52603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Generic Libra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ract Event (a.k.a. message) to suitable size</a:t>
            </a:r>
            <a:br>
              <a:rPr sz="2000"/>
            </a:br>
            <a:r>
              <a:rPr b="1" lang="en-US" sz="2000" spc="-1" strike="noStrike">
                <a:solidFill>
                  <a:srgbClr val="000000"/>
                </a:solidFill>
                <a:latin typeface="Times New Roman"/>
              </a:rPr>
              <a:t>Convert to (and from) 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ject Inappropriate Applications</a:t>
            </a:r>
            <a:endParaRPr b="0" lang="en-US" sz="2000" spc="-1" strike="noStrike">
              <a:solidFill>
                <a:srgbClr val="000000"/>
              </a:solidFill>
              <a:latin typeface="Times New Roman"/>
            </a:endParaRPr>
          </a:p>
        </p:txBody>
      </p:sp>
      <p:sp>
        <p:nvSpPr>
          <p:cNvPr id="53" name=""/>
          <p:cNvSpPr/>
          <p:nvPr/>
        </p:nvSpPr>
        <p:spPr>
          <a:xfrm>
            <a:off x="3952800" y="152280"/>
            <a:ext cx="522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ynchronous (mail/Computing Por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Synchronous (Selected Tango Applications)</a:t>
            </a:r>
            <a:endParaRPr b="0" lang="en-US" sz="2000" spc="-1" strike="noStrike">
              <a:solidFill>
                <a:srgbClr val="000000"/>
              </a:solidFill>
              <a:latin typeface="Times New Roman"/>
            </a:endParaRPr>
          </a:p>
        </p:txBody>
      </p:sp>
      <p:sp>
        <p:nvSpPr>
          <p:cNvPr id="54" name=""/>
          <p:cNvSpPr/>
          <p:nvPr/>
        </p:nvSpPr>
        <p:spPr>
          <a:xfrm flipV="1">
            <a:off x="1951200" y="2209320"/>
            <a:ext cx="0" cy="1295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951200" y="83772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79120" y="3886200"/>
            <a:ext cx="154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nt or</a:t>
            </a:r>
            <a:br>
              <a:rPr sz="2000"/>
            </a:br>
            <a:r>
              <a:rPr b="0" lang="en-US" sz="2000" spc="-1" strike="noStrike">
                <a:solidFill>
                  <a:srgbClr val="000000"/>
                </a:solidFill>
                <a:latin typeface="Times New Roman"/>
              </a:rPr>
              <a:t>Erratic Link</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1471680" y="5645160"/>
            <a:ext cx="604656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ro Tango Archite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 </a:t>
            </a:r>
            <a:endParaRPr b="0" lang="en-US" sz="4400" spc="-1" strike="noStrike">
              <a:solidFill>
                <a:srgbClr val="000000"/>
              </a:solidFill>
              <a:latin typeface="Times New Roman"/>
            </a:endParaRPr>
          </a:p>
        </p:txBody>
      </p:sp>
      <p:sp>
        <p:nvSpPr>
          <p:cNvPr id="59"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1000"/>
          </a:bodyPr>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features present in all future such collaboration systems will be incorporated</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will be serialized in terms of XM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 Tango Interactive clients will be designed to respond to events that are generated either synchronously or asynchronously</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ynchronous case, interesting Tango applications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t Room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 board for simple pictur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go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zze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y shared browser (at least to record URL) </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 events of interest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inary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generated by computing portal such as job completion, errors etc.</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i and Java implementations are most elegant for micro device to Tango agent linkage. The necessary robust Java infrastructure will be available on a 12 month time scal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will of course be particularly attractive for portable implementations useable on many different devices whil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i will support the inevitable mobile erratic linkages</a:t>
            </a:r>
            <a:endParaRPr b="0" lang="en-US" sz="18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a:t>
            </a:r>
            <a:endParaRPr b="0" lang="en-US" sz="4400" spc="-1" strike="noStrike">
              <a:solidFill>
                <a:srgbClr val="000000"/>
              </a:solidFill>
              <a:latin typeface="Times New Roman"/>
            </a:endParaRPr>
          </a:p>
        </p:txBody>
      </p:sp>
      <p:sp>
        <p:nvSpPr>
          <p:cNvPr id="61"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events are instantiated (serialized) as XML messages and event processing is more or less synonymous to message routing,queuing, archiving and rendering</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data structures could include general &lt;micro&gt; tags as well as more specific sub-tags for each application</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cro device display should be similar to display of applications such as memos and mail on existing Palm applications with hierarchical structur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although we use a browser like language (specify messages in XML and render with a device dependent style), the rendering engine is extremely simple compared to a workstation browser</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ango applications will be rendered by same engine on micro device</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either view micro Tango as a standalone client or always invoke a full Tango client on a PC and view this as a proxy for micro devic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ovide a general architecture (libraries) to aid the piping (a.k.a. generating appropriate filter and transmitting events through it to Micro Tango Agent) of events from Tango client to micro Tango agent. Note this piping is responsibility of those applications that can be rendered on a micro device</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uld support Java and JavaScript applications piping from Tango</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byproduct of this new system, we will get a whiteboard that serializes drawings to XML (presumably in official VML (vector graphics) dial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I</a:t>
            </a:r>
            <a:endParaRPr b="0" lang="en-US" sz="4400" spc="-1" strike="noStrike">
              <a:solidFill>
                <a:srgbClr val="000000"/>
              </a:solidFill>
              <a:latin typeface="Times New Roman"/>
            </a:endParaRPr>
          </a:p>
        </p:txBody>
      </p:sp>
      <p:sp>
        <p:nvSpPr>
          <p:cNvPr id="63" name="PlaceHolder 2"/>
          <p:cNvSpPr>
            <a:spLocks noGrp="1"/>
          </p:cNvSpPr>
          <p:nvPr>
            <p:ph/>
          </p:nvPr>
        </p:nvSpPr>
        <p:spPr>
          <a:xfrm>
            <a:off x="0" y="609480"/>
            <a:ext cx="9144000" cy="4114800"/>
          </a:xfrm>
          <a:prstGeom prst="rect">
            <a:avLst/>
          </a:prstGeom>
          <a:noFill/>
          <a:ln w="0">
            <a:noFill/>
          </a:ln>
        </p:spPr>
        <p:txBody>
          <a:bodyPr lIns="90000" rIns="90000" tIns="46800" bIns="46800" anchor="t">
            <a:normAutofit fontScale="80000"/>
          </a:bodyPr>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teresting events are associated with Jini enabled entities registering themselves in a lookup service which registration generates events</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ger, use one with a digital interconnect. It is essentially permanently connected</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lm V, buy digital modems and assume they intermittently dial in to connect to Micro Tango Agent</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ends summary of events that have received while palm disconnected. One can choose to discard or proces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conduits could be useful resource</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an from PC or Micro device, set flags to control which events are queued</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current Tango JavaScript shared browser (JSSB) has some similarities in architecture with that proposed he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SB has two major windows. One (called by Tango) queues all incoming Tango messages. These are looked at in a continuous 0.5 second cycle and either executed, deferred or discarded. This architecture is required as one must wait for browser to load pages before enacting page associated event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ith JSSB, this architecture naturally supporting event archiving.</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teps include thoughtful choice of hardwa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3657600"/>
            <a:ext cx="8686800" cy="3124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828800" y="5105520"/>
            <a:ext cx="57913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2880" y="76320"/>
            <a:ext cx="365760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360" y="-336600"/>
            <a:ext cx="491652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iniMPI Architecture</a:t>
            </a:r>
            <a:endParaRPr b="0" lang="en-US" sz="4400" spc="-1" strike="noStrike">
              <a:solidFill>
                <a:srgbClr val="000000"/>
              </a:solidFill>
              <a:latin typeface="Times New Roman"/>
            </a:endParaRPr>
          </a:p>
        </p:txBody>
      </p:sp>
      <p:sp>
        <p:nvSpPr>
          <p:cNvPr id="68" name=""/>
          <p:cNvSpPr/>
          <p:nvPr/>
        </p:nvSpPr>
        <p:spPr>
          <a:xfrm>
            <a:off x="5486400" y="8380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MPI Transport Layer</a:t>
            </a:r>
            <a:endParaRPr b="0" lang="en-US" sz="2000" spc="-1" strike="noStrike">
              <a:solidFill>
                <a:srgbClr val="000000"/>
              </a:solidFill>
              <a:latin typeface="Times New Roman"/>
            </a:endParaRPr>
          </a:p>
        </p:txBody>
      </p:sp>
      <p:sp>
        <p:nvSpPr>
          <p:cNvPr id="69" name=""/>
          <p:cNvSpPr/>
          <p:nvPr/>
        </p:nvSpPr>
        <p:spPr>
          <a:xfrm>
            <a:off x="0" y="6091200"/>
            <a:ext cx="9144000" cy="766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
          <p:cNvGrpSpPr/>
          <p:nvPr/>
        </p:nvGrpSpPr>
        <p:grpSpPr>
          <a:xfrm>
            <a:off x="352080" y="4864320"/>
            <a:ext cx="8617320" cy="476280"/>
            <a:chOff x="352080" y="4864320"/>
            <a:chExt cx="8617320" cy="476280"/>
          </a:xfrm>
        </p:grpSpPr>
        <p:sp>
          <p:nvSpPr>
            <p:cNvPr id="71" name=""/>
            <p:cNvSpPr/>
            <p:nvPr/>
          </p:nvSpPr>
          <p:spPr>
            <a:xfrm>
              <a:off x="3520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2" name=""/>
            <p:cNvSpPr/>
            <p:nvPr/>
          </p:nvSpPr>
          <p:spPr>
            <a:xfrm>
              <a:off x="27144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3" name=""/>
            <p:cNvSpPr/>
            <p:nvPr/>
          </p:nvSpPr>
          <p:spPr>
            <a:xfrm>
              <a:off x="74386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4" name=""/>
            <p:cNvSpPr/>
            <p:nvPr/>
          </p:nvSpPr>
          <p:spPr>
            <a:xfrm>
              <a:off x="52290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grpSp>
      <p:sp>
        <p:nvSpPr>
          <p:cNvPr id="75" name=""/>
          <p:cNvSpPr/>
          <p:nvPr/>
        </p:nvSpPr>
        <p:spPr>
          <a:xfrm>
            <a:off x="4610160" y="4800600"/>
            <a:ext cx="0" cy="914400"/>
          </a:xfrm>
          <a:prstGeom prst="line">
            <a:avLst/>
          </a:prstGeom>
          <a:ln w="7632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74000" y="3796920"/>
            <a:ext cx="2272320" cy="994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ni Lookup</a:t>
            </a:r>
            <a:br>
              <a:rPr sz="2000"/>
            </a:br>
            <a:r>
              <a:rPr b="1"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77" name=""/>
          <p:cNvSpPr/>
          <p:nvPr/>
        </p:nvSpPr>
        <p:spPr>
          <a:xfrm>
            <a:off x="495288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2292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0" name=""/>
          <p:cNvSpPr/>
          <p:nvPr/>
        </p:nvSpPr>
        <p:spPr>
          <a:xfrm>
            <a:off x="2590920" y="1371600"/>
            <a:ext cx="167616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885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2" name=""/>
          <p:cNvSpPr/>
          <p:nvPr/>
        </p:nvSpPr>
        <p:spPr>
          <a:xfrm>
            <a:off x="2286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01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4" name=""/>
          <p:cNvSpPr/>
          <p:nvPr/>
        </p:nvSpPr>
        <p:spPr>
          <a:xfrm>
            <a:off x="256212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5" name=""/>
          <p:cNvSpPr/>
          <p:nvPr/>
        </p:nvSpPr>
        <p:spPr>
          <a:xfrm>
            <a:off x="492444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6" name=""/>
          <p:cNvSpPr/>
          <p:nvPr/>
        </p:nvSpPr>
        <p:spPr>
          <a:xfrm>
            <a:off x="72867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7" name=""/>
          <p:cNvSpPr/>
          <p:nvPr/>
        </p:nvSpPr>
        <p:spPr>
          <a:xfrm>
            <a:off x="1295280" y="1855800"/>
            <a:ext cx="670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69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9" name=""/>
          <p:cNvSpPr/>
          <p:nvPr/>
        </p:nvSpPr>
        <p:spPr>
          <a:xfrm>
            <a:off x="515124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90" name=""/>
          <p:cNvSpPr/>
          <p:nvPr/>
        </p:nvSpPr>
        <p:spPr>
          <a:xfrm>
            <a:off x="3505320" y="5715000"/>
            <a:ext cx="2209680" cy="9144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 Control</a:t>
            </a:r>
            <a:br>
              <a:rPr sz="2400"/>
            </a:br>
            <a:r>
              <a:rPr b="1" lang="en-US" sz="2400" spc="-1" strike="noStrike">
                <a:solidFill>
                  <a:srgbClr val="000000"/>
                </a:solidFill>
                <a:latin typeface="Times New Roman"/>
              </a:rPr>
              <a:t>and Services</a:t>
            </a:r>
            <a:endParaRPr b="0" lang="en-US" sz="2400" spc="-1" strike="noStrike">
              <a:solidFill>
                <a:srgbClr val="000000"/>
              </a:solidFill>
              <a:latin typeface="Times New Roman"/>
            </a:endParaRPr>
          </a:p>
        </p:txBody>
      </p:sp>
      <p:sp>
        <p:nvSpPr>
          <p:cNvPr id="91" name=""/>
          <p:cNvSpPr/>
          <p:nvPr/>
        </p:nvSpPr>
        <p:spPr>
          <a:xfrm>
            <a:off x="3657600" y="3200400"/>
            <a:ext cx="533520" cy="6858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3276720"/>
            <a:ext cx="2438280" cy="9144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715000" y="3276360"/>
            <a:ext cx="2438280" cy="10666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181480" y="3276720"/>
            <a:ext cx="609840" cy="6094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83908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205740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1952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67480" y="76320"/>
            <a:ext cx="10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MI</a:t>
            </a:r>
            <a:endParaRPr b="0" lang="en-US" sz="2400" spc="-1" strike="noStrike">
              <a:solidFill>
                <a:srgbClr val="000000"/>
              </a:solidFill>
              <a:latin typeface="Times New Roman"/>
            </a:endParaRPr>
          </a:p>
        </p:txBody>
      </p:sp>
      <p:sp>
        <p:nvSpPr>
          <p:cNvPr id="100" name=""/>
          <p:cNvSpPr/>
          <p:nvPr/>
        </p:nvSpPr>
        <p:spPr>
          <a:xfrm>
            <a:off x="1219320" y="5334120"/>
            <a:ext cx="236196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05320" y="990720"/>
            <a:ext cx="1904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638680" y="5334120"/>
            <a:ext cx="2590920" cy="838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304920"/>
            <a:ext cx="228600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5334120"/>
            <a:ext cx="53316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333760" y="5334120"/>
            <a:ext cx="68580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4960" y="5943600"/>
            <a:ext cx="200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 Tier</a:t>
            </a:r>
            <a:endParaRPr b="0" lang="en-US" sz="2800" spc="-1" strike="noStrike">
              <a:solidFill>
                <a:srgbClr val="000000"/>
              </a:solidFill>
              <a:latin typeface="Times New Roman"/>
            </a:endParaRPr>
          </a:p>
        </p:txBody>
      </p:sp>
      <p:sp>
        <p:nvSpPr>
          <p:cNvPr id="107" name=""/>
          <p:cNvSpPr/>
          <p:nvPr/>
        </p:nvSpPr>
        <p:spPr>
          <a:xfrm>
            <a:off x="304920" y="838080"/>
            <a:ext cx="2963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C is Parallel Computing</a:t>
            </a:r>
            <a:endParaRPr b="0" lang="en-US" sz="2000" spc="-1" strike="noStrike">
              <a:solidFill>
                <a:srgbClr val="000000"/>
              </a:solidFill>
              <a:latin typeface="Times New Roman"/>
            </a:endParaRPr>
          </a:p>
        </p:txBody>
      </p:sp>
      <p:sp>
        <p:nvSpPr>
          <p:cNvPr id="108" name=""/>
          <p:cNvSpPr/>
          <p:nvPr/>
        </p:nvSpPr>
        <p:spPr>
          <a:xfrm>
            <a:off x="3352680" y="838080"/>
            <a:ext cx="55627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a:t>
            </a:r>
            <a:endParaRPr b="0" lang="en-US" sz="4400" spc="-1" strike="noStrike">
              <a:solidFill>
                <a:srgbClr val="000000"/>
              </a:solidFill>
              <a:latin typeface="Times New Roman"/>
            </a:endParaRPr>
          </a:p>
        </p:txBody>
      </p:sp>
      <p:sp>
        <p:nvSpPr>
          <p:cNvPr id="111" name="PlaceHolder 2"/>
          <p:cNvSpPr>
            <a:spLocks noGrp="1"/>
          </p:cNvSpPr>
          <p:nvPr>
            <p:ph/>
          </p:nvPr>
        </p:nvSpPr>
        <p:spPr>
          <a:xfrm>
            <a:off x="0" y="685800"/>
            <a:ext cx="9144000" cy="4114800"/>
          </a:xfrm>
          <a:prstGeom prst="rect">
            <a:avLst/>
          </a:prstGeom>
          <a:noFill/>
          <a:ln w="0">
            <a:noFill/>
          </a:ln>
        </p:spPr>
        <p:txBody>
          <a:bodyPr lIns="90000" rIns="90000" tIns="46800" bIns="46800" anchor="t">
            <a:normAutofit fontScale="79000"/>
          </a:bodyPr>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rchitecture is more general than that needed to support MPI like parallel computing</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ncludes ideas present in systems like Condor and Javelin</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only shows server (bottom) and service (top) layers. There is of course a client layer which communicates directly with “Parallel Computing (PC) Control and Services module”</a:t>
            </a:r>
            <a:endParaRPr b="0" lang="en-US" sz="20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ssume that each workstation has a “Jini client” called here a “Jini Parallel Computing (PC) Embryo” which registers the availability of that workstation to run either particular or generic applications</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do not use term Jini client as this is confusing with client machines of users</a:t>
            </a:r>
            <a:endParaRPr b="0" lang="en-US" sz="18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can represent the machine (I.e. ability to run general applications) or particular software</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ateway or “Parallel Computing (PC) Control and Services module” queries Jini lookup server to find appropriate service computers to run a particular MPI job</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uld of course use this mechanism “just” to be able to run a single job or to set up a farm of independent work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I</a:t>
            </a:r>
            <a:endParaRPr b="0" lang="en-US" sz="4400" spc="-1" strike="noStrike">
              <a:solidFill>
                <a:srgbClr val="000000"/>
              </a:solidFill>
              <a:latin typeface="Times New Roman"/>
            </a:endParaRPr>
          </a:p>
        </p:txBody>
      </p:sp>
      <p:sp>
        <p:nvSpPr>
          <p:cNvPr id="113"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78000"/>
          </a:bodyPr>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ndard Jini mechanism is applied for each chosen embryo. This effectively establishes an RMI link from Gateway to (SPMD) node which corresponds to creating a Java proxy (corresponding to RMI stub) for the node program which can be any language (Java, Fortran, C++ etc.)</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Gateway--Embryo exchange should also supply to the Gateway any needed data (such as specification of needed parameters and how to input them) for user client layer</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trategy separates control and data transfer </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supports Jini (registration, lookup and invocation) and advanced services such as load balancing and fault tolerance on control layer </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MPI style data messages on fast transport layer</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is only used to initiate process. It is not involved in the actual “execution” phase</a:t>
            </a:r>
            <a:endParaRPr b="0" lang="en-US" sz="18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ould build a JavaSpace at the Control layer as the basis of a powerful management environment</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very different from using Linda (JavaSpaces) in execution layer as in Control layer one represents each executing node program by a proxy and normal performance problems with Linda are irrelev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19:12:18Z</dcterms:created>
  <dc:creator>Geoffrey Fox</dc:creator>
  <dc:description/>
  <dc:language>en-US</dc:language>
  <cp:lastModifiedBy>Geoffrey Fox</cp:lastModifiedBy>
  <dcterms:modified xsi:type="dcterms:W3CDTF">1999-06-22T15:36:59Z</dcterms:modified>
  <cp:revision>34</cp:revision>
  <dc:subject/>
  <dc:title>Share the Web Document Object Model with Java and JavaScript</dc:title>
</cp:coreProperties>
</file>