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F83-7410-4CED-9006-CCA525DE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BB3-9A67-44D9-B3B1-B563EC7C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F9D-1E78-4F1A-8F64-55808DB7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CE8-A81F-4E5F-8E72-C2799CBB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824-EF00-4C9C-B9FB-15B18CC5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8F65-4184-44DF-B3B6-C38DF08C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3930-E431-4A7C-B172-741A71CA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78BE-4301-4C56-8EE0-FF4A05D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DF92-172E-46E3-B123-E4A8F1F0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D2EA-236A-47B7-A4A6-0CF207E7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2ED4-A597-4B0E-8C46-B3620A5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43E-01FD-4639-A3BF-B331ABF8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A4F2-272F-4D3C-915E-44212F9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DBB8-4855-4F56-A102-F27B9D7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EBF6-C2BF-47FB-BE5E-5DEE29DE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78F3-F148-44C8-B550-E18ADA15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267D-21E9-406E-933A-766462B2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FAC-D85A-4540-A8E6-4C36CFEC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F47-EB12-47AA-96D0-EE0D81FC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36B-27F9-4BA1-8372-475DC783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160-B00C-4A05-B166-67119B37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706-2FA1-4242-A816-4376B891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0B8-F36B-4BD5-87BF-FB956BA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F76-136E-4D4A-B549-57191B4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79CE-FC05-4EC6-8400-75029F2163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0ACE-A061-4148-8BE8-0AFDA74D6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PS714 - Introduction to XM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2971800"/>
            <a:ext cx="8305920" cy="3657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ocument is an XML element that can (or not) contain other nested XML ele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lip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uthors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Monty Pyth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uthors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format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av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format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priceinfo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regprice unit=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US dolla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regpric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urprice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urpric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priceinfo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0B9-EBBF-46AB-A256-F9472F7198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ell-formed document: obeys the syntax of XM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id documents: a well-formed document that  contains a proper document type declaration and obeys the constraints of that decla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3B8-F4B6-4E77-A95E-F5D9E8C64D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plain XML document displayed in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http://msdn.microsoft.com/xml/samples/transform-viewer/auction1.xm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F6A-5A2C-4142-B836-B5E839688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 Object Mode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057400"/>
            <a:ext cx="86104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gramming API for XML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scribes logical structure of document and the way a document is accessed and manipu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es naming convention for documen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nables straightforward access to the documen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mplemented by the tools that enable manipulation of XML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3C7-79A9-4D80-9519-963F3B2C5F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Object Model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514600"/>
          <a:ext cx="585936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59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4A9-CF1E-45F8-B2E4-9C00FFDC44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1981080"/>
            <a:ext cx="8305920" cy="4496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Object Model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ot = doc.getDocumentElement(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tag nam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ot.getTagNam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get first child element of the roo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cElem = (Node)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ot.getFirstChil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tag nam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TagNam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element typ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NodeTyp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node value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cElem1 = (Text)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FirstChil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1.getNodeValu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E32-5EF5-4917-A612-DC2F640E49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9880"/>
            <a:ext cx="8305920" cy="2667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amespa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llection of related XML elements and attribut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ied by a URI refer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echanism for solving elements and attributes name confli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M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Info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ersonInfo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M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1F6-8281-4D59-B35E-D777852D63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191120"/>
            <a:ext cx="830592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362320"/>
            <a:ext cx="8305920" cy="1371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amespaces - Decla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ault decla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 xmlns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Clip.org:ClipInf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&lt;/title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plicit decla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clip xmlns:cl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Clip.org:ClipInf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money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Finance:Mon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price money:currency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S doll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14.7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pric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FCE-4849-400B-8B29-82D1A172EE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86200"/>
            <a:ext cx="8305920" cy="2666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Data Islan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XML code embedded in an HTML page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nables integration of XML with HTML page (XML data can be accessed by scripts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ontains well-formed XML document within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&lt;XML&gt; &lt;/XML&gt;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tag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ML ID=”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lipX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ML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XML.documentElement.childNodes.item(0).tex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84C-DA75-4072-8731-869E16866D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 Type Defini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Grammar for tag languag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fines the rules governing the relations between elements and attribut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ed fo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XML document valid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escribing grammar for other us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&lt;!DOCTYPE clip SYSTEM ”clipdef.dtd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617-B90C-4B4A-A68F-106D850B28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otivation and Goa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Overvi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Basic Concep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ocument Type Definition (DT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Schem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Style Language (XS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nguages Based on X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u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E7F-35E2-484F-BA67-4DF4BDBA11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2209680"/>
            <a:ext cx="8305920" cy="3124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Type Definition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DOCTYPE clip [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clip (title,size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title (#PCDATA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size (#PCDATA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ATTLIST siz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t CDATA #REQUIRED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4BE-F3C4-4FE9-ACD0-FA2B3DE6C6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Schem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ovides nearly the same functionality as Document Type Defini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es XML syntax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chema authors can add their own elements and attributes to XML Schema docu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element and attribute typing and assigning default valu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&lt;clip xmlns="x-schema:clipSchema.xml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741-7BE7-4CA9-870C-FD022DA8B7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1905120"/>
            <a:ext cx="8305920" cy="4647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Schema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chema xmlns="urn:schemas-npac-edu:clip-data"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dt="urn:schemas-microsoft-com:datatypes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ttribute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un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dt:type=“string” required=“yes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it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textOnly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t:type=“string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textOnly” dt:type=“int”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ttribute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n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lementTyp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cli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eltOnly”&gt;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tit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lementTyp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A9C-3BDB-49DC-87B2-019824F682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Extensible Stylesheet Language (XSL)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display of XML by transforming XML into structure suitable for display, for example 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SL transformations can be executed on the server to provide HTML documents for older browser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ovides  mechanisms for transformation of XML data from one schema to anoth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converting XML documents through querying, sorting, and filt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&lt;?xml-stylesheet type="text/xsl"href="mystyle.xsl"?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B00-6493-4780-8A17-0212EC432E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illustrates how the XSL document is applied to XML document and displayed in the Web brows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must be viewed using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msdn.microsoft.com/xml/samples/transform-viewer/transform-viewer.ht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0C4-EF48-4655-9797-1ACB8EAA96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- Style Shee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tain a template of the desired result stru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dentify data in the source document to insert into the templ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ample: Fragments of XSL document define how elements of XML document should be transformed into HTML docu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7A1-D778-49A2-BBEA-6818562821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4191120"/>
            <a:ext cx="8305920" cy="2209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Patter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imple query language for identifying nodes in an XML docu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5600" indent="-435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dentify nodes depending o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-2739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ype, name, and value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-2739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lationship of the node to other nodes in the docu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tit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priceinfo/regpr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A34-FB06-414E-B999-58A18FC7B5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Patterns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how the parts of the XML document can be identified using XSL patter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must be displayed in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msdn.microsoft.com/xml/samples/authors/author-patterns.ht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EDE-B429-408F-BAED-7437E23214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Languages Based on XM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 Description Framework (RDF) standard for metadata exchange, enables better content searching on the Web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ynchronized Multimedia Integration Language (SMIL) enables simple authoring of TV-like multimedia presentations such as training courses on the Web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calable Vector Graphics (SVG) - a language for describing two-dimensional graphics in X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4A6-79D4-4B18-97B1-3AEC46063E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General Inform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ynchronized Multimedia Integration Language - allows integrating a set of multimedia objects into a synchronized multimedia pres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MIL provides mechanisms f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scription of temporal behavior of the 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scription of layout of the presentation on the scre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of hyperlinks with media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4CB-9F82-4048-8EF2-481C7023FB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974960"/>
          <a:ext cx="7772400" cy="39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74960"/>
                    <a:ext cx="77724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174-80AE-4D06-A253-1C66D08213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Basic Concep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ayout: the layout of the visual clips can be defined, the clips can be assigned to the predefined separate reg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p playback: the clips can be played from various sources and in different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p temporal dependency: the clips can be played in parallel or sequential mann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yperlinks: a clip can be connected to another clip or pres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B42-0629-42CF-87B9-7D58047B20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Example Docu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647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mil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layout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root-layout background-color=“blue” width=“200” height=“300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region id=“videoregion” top=“10” left=“10” width=“180” height=“180”/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ar repeat=“3”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video src=“video.rm” region=“videoregion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udio src=“audio.rm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par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mil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22B-D67C-43F4-B0BD-893FA1D267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a presentation created using SMI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presentation is displayed using RealPlayer from RealNetwork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file with presentation is available from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www10.real.com/devzone/library/creating/smil/production.htm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534-F948-48FF-BC01-C35B6C11F6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arsers, used for accessing, analyzing and transforming XML documents (Sun, Microsoft, IB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Validating par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n-validating par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ditors, used for creating XML content (Microsoft, IB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ava APIs for XML (Su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9E7-FBB5-4C91-AE13-54D5351AF8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Editor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demonstrates abilities of XML Notep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XML Notepad is available from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msdn.microsoft.com/xml/notepad/download.as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C93-B30C-41C3-9384-ACE2375E97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Futu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pletion of XML-related specification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Linking Language (XLL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Stylesheet Language (XS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 Description Framework (RDF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XML as a standard format for data storage and Internet delive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liferation of XML-based languages for various industry and research domai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A79-6BE6-4E16-96B8-BAD4AAD84E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sour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ternetExplorer 5.0 and XML/XSL tutorial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msdn.microsoft.com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pecification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w3.or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ore tutorials and informations for developer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zdnet.com/devhead/filters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xml.co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s at NPAC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npac.syr.edu/projects/tutorials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478-0B27-45F0-8393-F20976C8ED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Goa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etter search resul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senting various views for the same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gration of data from different 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sy use over the Intern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sy application development that process doc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 readable by huma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 easy to cre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rchange of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678-0232-4A78-8AED-6D34643396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-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tensible Markup Language - Subset of Standard Generalized Markup Language (SGM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iversal format for describing structured data on the We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pecification developed by World Wide Web Consortium (W3C) supervised by XML Working Gro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837-22F9-4642-84DE-F8A321CD43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Basic Concep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le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cessing Instruc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 Object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amespa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ata Isla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3FE-4D4A-45BC-9DBA-5753CFA86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4724280"/>
            <a:ext cx="830592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le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rmat: start tag, end tag, and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tags describe the data contained between t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data within the tags is the value of the el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dance&gt;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dance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658-77B1-4882-AB93-E7D5F80133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4343400"/>
            <a:ext cx="8305920" cy="1600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ttribut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232920" indent="-23292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 associate name-value pairs with element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-23292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 may appear only within start-tags and empty-element t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28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E63-9A8C-4DE1-AE56-39DCD1D491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4343400"/>
            <a:ext cx="8305920" cy="1600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xml-stylesheet type=“text/xsl” href=“mystyle.xsl”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cessing Instruc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echanism for by-passing the normal operation of an XML processor and delivering instructions directly to a process whose responsibility it is to interpret the instruction and act according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A9E-FFCF-44F0-9DD2-342B31F0DC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beca</cp:lastModifiedBy>
  <cp:lastPrinted>1999-04-17T05:21:03Z</cp:lastPrinted>
  <dcterms:modified xsi:type="dcterms:W3CDTF">1999-06-09T21:40:58Z</dcterms:modified>
  <cp:revision>121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