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7E0-0DE9-46A1-AE24-7F5E5CCB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427-9A69-4EF5-89F6-F1BD6253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0AE-B9E4-4A0A-8606-363C4F3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38B-EF2C-49E9-A135-87A2966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BFF-CA46-484E-97EF-B258DD69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5C0-9AEB-403D-A1B7-29A3878A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23F-02C7-4071-BE1D-2E6361A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FFF-2A84-4C8E-A0E6-A0772F4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83F-36D6-4B72-9AF5-052E977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0C5-B0B1-44EA-A70F-CA4780DC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9CD-2DA1-41A8-AB8C-5563E7B8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029-8F64-4DBA-9A18-3AE92648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0427-13EA-4433-AB5A-A4746D24A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 for Shared Pla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- takes to another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what hides behind the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general approa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 - content of the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- allowed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- tools used to deal with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 - means of transport to other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- policy that is defined in specific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 of the langu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the place itse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gates to other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defines the purpose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e.g. backyard - just short identif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e.g. place intended for development of new ideas and exchange of used eleph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the place (‘place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sitory information - where the place artifacts are sto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- defines users that have access to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s of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with assigned r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/disallowed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/disallowe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rights (can store, can retrieve, can modify) with different rights for different types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artifacts - always present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tools - tools assigned to specific types of artifacts in this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s to other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entication - required or not required, can have link to the artifact with allowed users with assigned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- identifies the author of the place and detects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for various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as artifact - control tools operate on the place as artif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- identifies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provides additional information about vis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key - for encrypted messages and artifact signatures generated by the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as artifact ?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- identifies arti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what is in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of the artifact - used to assign tool, show ico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- where create, can be used to tr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- cre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 - type of tool used to cre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(places, roles, users, 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of creator or modif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line xml - text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to storage - binar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tool: url to the tool with too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out RD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gsaw for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- used to associate artifacts with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ths (places, roles, users, 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es one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ndles collections of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of the tool (usually lin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must have standalone mode to enable access to personal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might have several versions depending on required policy- one tool for specific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as artifacts for other tools (meta-tools) such as control too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05:03:26Z</dcterms:created>
  <dc:creator>luk1</dc:creator>
  <dc:description/>
  <dc:language>en-US</dc:language>
  <cp:lastModifiedBy>luk1</cp:lastModifiedBy>
  <dcterms:modified xsi:type="dcterms:W3CDTF">2000-01-14T05:50:00Z</dcterms:modified>
  <cp:revision>3</cp:revision>
  <dc:subject/>
  <dc:title>Language for Shared Places</dc:title>
</cp:coreProperties>
</file>