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D3A-A51D-4C72-95EA-F59064FB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E7A-B901-4005-98A7-36D609FF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254-D00C-49A5-95F3-26662800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E96-6D59-4BCA-B712-03F0D032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09F-B29A-4299-927C-30B88F07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872-E382-4053-8455-9659BFEF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33A-6066-425E-B470-ECD451E3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755-7D56-4467-AA66-2280E61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5AB-15D0-4308-AF82-93114DAA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FBB-4BEC-4FC2-8000-190DA6D3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F99-6A3E-45EE-86D3-EA6E6A4D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236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8788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236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8788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AA2-D64C-4F6F-A207-4C597C38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CD32-2E7B-456D-86B8-CAA1CDD439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tscape 5 and IE evalu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s based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pre-release capab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ised final capab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imated sche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-term vision: to find most effective way of integrating Tango with brow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ar-term vision (several months: mid-March, end of May, and la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 capabil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-platform sup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ity necessary to support Tan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 for XML related technologies in Mozilla/Netscape 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 4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atures available in current Mozilla buil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e scale for Mozilla/Netscape 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Interactive and Mozilla/Navigator 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JI interface enabled with Sun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stigation of Mozillla as far as promised functionality is concer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vered iss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IE &amp; NS separately (as is now being do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ing a mixture of IE and NS in the same session (same cont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JavaScript and other detai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eseeable problems in supporting the full functionality of either brow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Interactive dependency on the browser technology (Netscap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ry point to th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Start of the syst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plain browser function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Tango applications implemented as app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provides environment for running Session Manager (implemented as applet) and other to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Java Virtual Machine integrated with Netscape, with Just-In-Time (JIT) compi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-applet commun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Session Manager, applet tools and plugin exchange mess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LiveConn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 man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start, close, focus functions, positio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LiveConnect + JavaScri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dependency on the browser technology (Netscap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Enables communication between tango client and server through fire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SOCKS protocol implemented in Netscape version of 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Script A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Enables implementation of JavaScript applications working with Tango (e.g. Shared Brows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JavaScript + LiveConn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dependency on the browser technology (Netscap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et A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Enables implementation of Java applets working with Tan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LiveConn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o non-Java function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Access to the registry, launch of platform dependent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Plug-in API for 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mitations imposed by current versions of Netscape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Java 1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un development only for Java1.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 AP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her AP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table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gs in Java implementa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owser freeze observed when terminating applet from another appl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owser freeze observed as a result of Swing library exce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ava and JavaScript related functionality promised in Mozilla/Netscape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interface to 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g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ve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wrapper for rendering eng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ther necessary changes in tango interactiv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sign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rtability of Mozilla/Netscape 5 platfor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 95/98/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 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6:34:49Z</dcterms:created>
  <dc:creator>beca</dc:creator>
  <dc:description/>
  <dc:language>en-US</dc:language>
  <cp:lastModifiedBy>luk1</cp:lastModifiedBy>
  <dcterms:modified xsi:type="dcterms:W3CDTF">2000-01-23T03:25:24Z</dcterms:modified>
  <cp:revision>6</cp:revision>
  <dc:subject/>
  <dc:title>Netscape 5 and IE evaluation</dc:title>
</cp:coreProperties>
</file>