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652-81B2-4AC2-B471-B1B27640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4E8-97F7-4612-811B-3C0317C8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15F-BB73-429F-9D56-5C66E597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8B2-8891-460C-9576-0A470183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03E3-9E2A-4D0A-A249-932515A6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3DAE-F28D-457A-9044-827C787C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F187-59D6-4924-8D99-275EB37F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104C-436F-492D-BB27-05141968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F010-AA42-4D64-B541-0D6674F4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E6D2-E95F-45C3-97B5-0ED5A50D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9AFD-068D-4B5C-88FF-62B72D73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7BB-A9A4-48B1-8D91-44500364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E86E-2357-4345-BB78-3E1BDBAC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2971-7731-43F7-AEC3-9EA4F71E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46F7-FB10-4CC2-A821-77E09015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10FB-E848-4F7E-BBB2-ACFFA5EC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1093-296E-4AEC-9B50-C38B0489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72B-7975-401E-A9C2-75224481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BF8-52F0-4290-82F5-10B40EAF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681-119F-48BC-B084-5CCDADCC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BEC-D24C-4C6F-AA12-C8A2AA36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406-77D2-42A7-B8D9-C0A4E3D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114-0069-4335-B51C-FD77AD6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899-E4A4-4852-98EF-A834AB6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7089-952C-46D7-872B-B9315D6CA7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9414-DAA7-4742-9578-4DDFF9253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ngo Interactive Done Right ……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red Places on the Web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ay 15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ukasz Beca with additions from Geoffrey F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 Architecture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er high-level collaboration functionality to the u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e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 Ag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prets SPDL docu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specific Shared Pla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itializ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os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servi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e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Frame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ers low-level collaboration services to SP Agent (messaging and event service shared between collaborating clients as in current Tango Serv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0F2-491F-4CCD-872D-779F2B06E6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2057400"/>
            <a:ext cx="792504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red Place Architecture - continued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25902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819520"/>
            <a:ext cx="2133720" cy="281916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048120"/>
            <a:ext cx="182880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3200400"/>
            <a:ext cx="76212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3809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27672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432"/>
                </a:moveTo>
                <a:lnTo>
                  <a:pt x="48" y="288"/>
                </a:lnTo>
                <a:lnTo>
                  <a:pt x="144" y="288"/>
                </a:lnTo>
                <a:lnTo>
                  <a:pt x="240" y="144"/>
                </a:lnTo>
                <a:lnTo>
                  <a:pt x="336" y="96"/>
                </a:lnTo>
                <a:lnTo>
                  <a:pt x="384" y="0"/>
                </a:lnTo>
              </a:path>
            </a:pathLst>
          </a:custGeom>
          <a:noFill/>
          <a:ln cap="sq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5320" y="41148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029200"/>
            <a:ext cx="25146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5104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5029200"/>
            <a:ext cx="1067040" cy="45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510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 Ag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525780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428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809880" y="3580920"/>
            <a:ext cx="83844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3047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p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373-A498-4568-9E49-C8B1E73258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ared Places might be seen as a specific implementation of ‘Shippable Places’ presented in “Client/Server Survival Guide” by Robert Orfali, Dan Harkey, and Jeri Edwar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ML related resources can be found a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ttp://www.w3c.org/XML/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822-2DB3-47CD-AA78-14669D508B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ML is excellent for presentation of information but it does not offer any support for synchronous collab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Web-based collaboration systems are not well integrated with Web content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they imitate plain, standalone applications. They launch separate windows and tool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implemen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igid collaboration polic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are not easily customiz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other approach is needed: the objects that offer collaboration functionality must be treated as any other content in the Web page. This approach will enable creation of pure Web-based collaboration 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s on the We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- where one can share any part of a web pa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545-D352-4791-8E69-FE8074CE76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red Places and SPDL - Overvie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hared Pla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- the virtual place on the Web where people can meet and work together. They can use provided content and tools for collaboration and possibly creating new content. Basically, it is a ordinary Web page with collaboration functionality add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hared Place Definition Languag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(SPDL) is an XML based application that implements the idea of collaboration as a Web page content. It enables creation of Shared Places. SPDL does not replace HTML, but enhances i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ML include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av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plet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ctive X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PD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fers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yntax for defining collaboration functionality of Web page cont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chanisms for merging seamlessly collaboration content with the regular Web page cont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tructs to customize behavior of collaboration content depending on required polic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711-8DCF-433A-BD72-6E2536E19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s -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echnology Components I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 Definition Langua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language for defining properties of shared places. SPDL conforms to XML specif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piece of software that can be embedded as a part of a Web page content. Shared Objects offer collaboration functionality using mechanisms provided by SP framework. To interact with SP framework, Shared Objects must implement specific SP interface. Examples: Java Applets, Plug-ins, ActiveX objects, JavaScript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 Frame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set of mechanisms that implement collaboration services and expose them to Shared Objects using SP interfac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roughly equivalent to Tango serv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8BE-B308-4A49-A46A-497F68F1E8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s - Technology Components II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 Interfa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the entry points for accessing collaboration functionality provided by SP Framework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major extension of functionality provided by Tango API in Java applet, application, C++ and JavaScript)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figuration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nables initialization of Shared Objects based on the content of SPDL docu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sharing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ers data passing and synchronization services to the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trol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ovides means for accessing and manipulation of  collaboration sta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B8B-D578-4038-B738-21B6CE5D49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does SPDL Document Define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functionality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ssion manageme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fines how the Shared Objects initiate or join collaborative session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chronization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scribes mechanisms for assuring the consistence of data observed by collaborating us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trol mechanisms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fines how the behavior of Shared Objects can be controlled and how the state of the collaboration session can be access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hared Object data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itial stat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fines how the Shared Object are initialized when they start runn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sistenc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scribes whether and how the content of the collaborative session is stor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te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scribes the data to be processed by Shared Objects during collaboration sess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A14-0EE3-4B5F-9948-7A306187D4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at SPDL Document Defines- continued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ouping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fines user groups with possibility of assigning ro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 identity based configuration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possible to define different behavior of Shared Object depending on the user, user group or user ro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c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 ID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PDL uses Shared Object ID to define properties for specific Shared Obje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nularity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possible to define different behavior for individual Shared Objects, classes of Shared Objects or for the whole Shared Pla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51A-808E-4567-AB30-A6305F69D5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 Components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TML docum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taining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dinary content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ext, pictures, etc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ve content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ared Objects embedded using SPDL ta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ce to valid SPDL docu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DL XML docum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efining collaboration functionality of Shared Objects embedded in the HTML docu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yle Sheet for SPDL XM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ile defining applet that interprets pa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E16-69AA-43E7-B720-F925663C2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lationships among Shared Place Components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8600" y="1981080"/>
            <a:ext cx="7924680" cy="3505320"/>
            <a:chOff x="228600" y="1981080"/>
            <a:chExt cx="7924680" cy="3505320"/>
          </a:xfrm>
        </p:grpSpPr>
        <p:sp>
          <p:nvSpPr>
            <p:cNvPr id="108" name=""/>
            <p:cNvSpPr/>
            <p:nvPr/>
          </p:nvSpPr>
          <p:spPr>
            <a:xfrm>
              <a:off x="228600" y="1981080"/>
              <a:ext cx="7924680" cy="3505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7960" y="2437560"/>
              <a:ext cx="1600200" cy="1541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placedef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/placedef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5680" y="21031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DL docu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8800" y="22554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 brow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2514600"/>
              <a:ext cx="2133360" cy="28195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1080" y="2743200"/>
              <a:ext cx="1828800" cy="243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1800" y="2895480"/>
              <a:ext cx="7617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360" y="3886200"/>
              <a:ext cx="76212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360" y="2895480"/>
              <a:ext cx="76212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971800" y="3886200"/>
              <a:ext cx="7617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360" y="29718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360" y="30481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3360" y="31240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3360" y="32004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3360" y="32767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360" y="33526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360" y="28954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360" y="34290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360" y="35053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360" y="35812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360" y="36576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360" y="37339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971800" y="3886200"/>
              <a:ext cx="7617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71800" y="39618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971800" y="40384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971800" y="41148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971800" y="41904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971800" y="42670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971800" y="43434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971800" y="38862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971800" y="44190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971800" y="44956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971800" y="45720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971800" y="46476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971800" y="47242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52680" y="3505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360" y="48769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971800" y="48762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971800" y="49528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360" y="49528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971800" y="48006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7760" y="2971800"/>
              <a:ext cx="60984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lnTo>
                    <a:pt x="48" y="288"/>
                  </a:lnTo>
                  <a:lnTo>
                    <a:pt x="144" y="288"/>
                  </a:lnTo>
                  <a:lnTo>
                    <a:pt x="240" y="144"/>
                  </a:lnTo>
                  <a:lnTo>
                    <a:pt x="336" y="96"/>
                  </a:lnTo>
                  <a:lnTo>
                    <a:pt x="384" y="0"/>
                  </a:lnTo>
                </a:path>
              </a:pathLst>
            </a:custGeom>
            <a:noFill/>
            <a:ln cap="sq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09680" y="4038480"/>
              <a:ext cx="609480" cy="304920"/>
            </a:xfrm>
            <a:prstGeom prst="leftArrow">
              <a:avLst>
                <a:gd name="adj1" fmla="val 50000"/>
                <a:gd name="adj2" fmla="val 49970"/>
              </a:avLst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208960" y="4343400"/>
              <a:ext cx="609480" cy="304920"/>
            </a:xfrm>
            <a:prstGeom prst="leftArrow">
              <a:avLst>
                <a:gd name="adj1" fmla="val 50000"/>
                <a:gd name="adj2" fmla="val 49970"/>
              </a:avLst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3505320"/>
              <a:ext cx="8380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160" y="32767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gular 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256032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 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0760" y="42368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ared ob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752480" y="3276720"/>
              <a:ext cx="68580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52480" y="3581280"/>
              <a:ext cx="533520" cy="381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57600" y="3657600"/>
              <a:ext cx="609480" cy="533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7560" y="2895480"/>
              <a:ext cx="609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03120" y="5637240"/>
            <a:ext cx="821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s exploits very powerful DOM in W3C proposals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th support for well defined sub-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33E-63F2-4EFA-94C8-604743DDC8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Fox</cp:lastModifiedBy>
  <cp:lastPrinted>1999-02-25T22:12:41Z</cp:lastPrinted>
  <dcterms:modified xsi:type="dcterms:W3CDTF">1999-05-25T15:17:40Z</dcterms:modified>
  <cp:revision>84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threadsht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