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88188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D00-0346-4E9F-8E06-558DD946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62A-FC20-4EB3-9AC9-03FD3381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AEA-7E63-46FD-8C93-F33710DC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F77-E7C5-4351-AF0E-E1AAC496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CC18-41A5-41AC-9053-B115286B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2CA5-56B6-4E0B-9A82-C860CDD0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0CED-E077-43CD-AEAF-75EB4732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3C69-43E7-4303-9050-8AA749E6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6131-6444-4F4D-9312-122F3D43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33B0-3056-4038-9FFF-63503B74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72AA-5A41-4965-8DB5-7B0F6B4C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483-9F1B-4F32-B294-5531CFD1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E98D-2A03-4444-B0D0-0D487EC6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7783-81B9-4462-9B54-269C16FB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0F58-D2DA-4E2A-8E79-CD583C84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E098-2342-4F5E-8273-95A00493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DD10-2318-41F8-80DA-66012E0C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D13-EE16-4388-BB5F-E430BDB8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CA5-953E-4972-98B6-D61ADA58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FF7C-323D-42E6-AB60-62731656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A015-C03B-455D-A748-4B961CC1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815-5FE8-4BEB-AC02-C25DF7BD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EE6F-C073-4776-8006-24776890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3E3E-CB3B-4EFC-BCC9-DAB84BC6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5527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8712-EE56-4CFD-8AAA-EE315E2E372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6F37-5130-4B05-B29B-6297BA3D2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057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pen Software Foundation Distributed Computing Environment (OSF DCE)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ukasz Be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eca@npac.syr.e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-287 C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, 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Thread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2000"/>
          </a:bodyPr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rovement in program performan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tform-independent API based on POSIX 1003.4a standard (includes real-time priority schedulin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able RPC-based servers to handle multiple clients simultaneously, but also useful in other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 for multiprocessor environments using shared memo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maphore service for thread synchroniz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36E-8BD4-47D5-B42D-51C93BC2F6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Security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ource protec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version based on Kereberos 5.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s authentication and authoriz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hentication: validates that a principal (user or program) is who or what it claims to be - login fac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horization: check whether the authenticated principal has permission to access a resource - Access Control Lis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parent access to the security services by the us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provided by Security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74B-8D10-44B8-B411-D3C3E1712B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Directory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ach resource in a cell such as a person, file, service provided by RPC server, etc. has a unique 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ory service returns the network address of the resource with a given 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l Directory Service: controls naming environment inside a cel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obal Directory Service: for name lookups across cells,  X.500 and DNS name formats can be us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Security Service protects directory inform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is provided by Cell Directory Server and Global Directory Ag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F9E-BA8D-4274-A1EB-1CAC5395DC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DCE Time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5960" indent="-3459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chronizes the clocks of all computers in the distributed system (cel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s Coordinated Universal Time (UTC)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y applications rely on timestamps to coordinate interdependent events e.g. determination of the most recent version of the file which exists on multiple h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provided by the Global Servers and Cou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obal Servers - can be connected to the external time provider (e.g. NIST) using Time Provider Interface (TP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d by the DCE security and file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DB92-3E59-43C7-B03D-A42FCD614E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DCE Distributed File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lwide access to files - single view of all the fi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s a superset of the POSIX 1003.1 file system standa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existence with a host’s native file syste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of files (filesets) as a basic unit of ope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le location location track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omatic back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tion with DFS Distributed Secur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ching used to speed oper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provided by the file servers, fileset location servers, and backup serv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BD2-8556-401C-8C0F-20BB281F11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urrent Statu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20574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implementations are available for all important Unix systems, Windows NT, and other major systems including 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release 1.2.2 available since Dec 19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teways available to the UNIX Network File System and Novell Ne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tion with Web technolog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usually cannot be bought as a separate product but it is a part of many software system: transaction processing monitors (Encina), CORBA implementations (HP), middleware systems (Sybase and Oracle) and Directory and Security servers (IB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053-40DD-41A5-A214-46A1E3B20B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7524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 poi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gration of distributed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 for organization struct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ca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rtability and interoper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 influence on distributed comp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al of widespread deployment never achiev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gnificant 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 support for object-oriented distributed compu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mpeting technologies: Network File System, Network Time Protocol, CORBA,  new versions of thread APIs, SUN RPC, LD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 support for message queueing and transaction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D8D-FCE6-457D-BAB1-D4B9D59506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ference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ok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derstanding DCE” by Ward Rosenberry, David Kenney &amp; Gerry Fis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twork Applications Frameworks” by Eric Greenbe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on Open Group Web 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www.opengroup.org/tech/dce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wsgroup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.soft-sys.d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equently Asked Ques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usenet.umr.edu/faqs/dce/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168-E4A7-4513-A83C-EBF837212C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CE Cel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CE Compon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rrent Statu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D8D-B0BE-4B93-A3A0-74CF070818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used computing po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mands for increased availab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aborative work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orage limit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ynamic data and program lo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terogeneous dat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ed significance of distributed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cessity of event synchronization in distributed applic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tion of distributed resour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EE93-539F-4E5F-8267-4FDFA22DB8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- Introduc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 Software Foundation (OSF) - organization formed in 1988 (goals: research, development, and implementation of vendor-neutral technology and industry standards), became part of the Open Gro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proposed by Digital Equipment Corporation, IBM, Apollo, Transarc and the Locus Computing Corpo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OSF DCE is an industry-standard, vendor-neutral set of distributed computing technolog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is not an application in itself, but is used to build custom applications or to support purchased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5D57-45F8-4E9A-B61A-EAD17F092A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as Middlewa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d service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le servic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rectory servic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curity managem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PC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chine independent data represent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rnationaliz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ultitaski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ually implemented on top of the operating system, although operating system implementations exist (e.g. OSF1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566-864F-4BA2-93B5-7A043606F1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Cel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l - basic unit of operation and administ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of users, systems, and resources that have a common purpose and share common DCE servi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nimum configuration: Cell Directory Service, the Security Service and the Time Servi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962520"/>
            <a:ext cx="8305920" cy="2514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114800"/>
            <a:ext cx="1828800" cy="7621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41148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host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4419720"/>
            <a:ext cx="167652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4495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 client 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5334120"/>
            <a:ext cx="1828800" cy="7617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3341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hos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638680"/>
            <a:ext cx="167652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57150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 client 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48006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4952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4191120"/>
            <a:ext cx="1828800" cy="19047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41911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host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4495680"/>
            <a:ext cx="1676520" cy="914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4495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4800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51055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urity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5562720"/>
            <a:ext cx="167652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5638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 client 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03" idx="3"/>
            <a:endCxn id="111" idx="1"/>
          </p:cNvCxnSpPr>
          <p:nvPr/>
        </p:nvCxnSpPr>
        <p:spPr>
          <a:xfrm>
            <a:off x="2895480" y="4495680"/>
            <a:ext cx="915120" cy="6483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07" idx="3"/>
            <a:endCxn id="111" idx="1"/>
          </p:cNvCxnSpPr>
          <p:nvPr/>
        </p:nvCxnSpPr>
        <p:spPr>
          <a:xfrm flipV="1">
            <a:off x="2895480" y="5142960"/>
            <a:ext cx="915120" cy="5720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11" idx="3"/>
            <a:endCxn id="118" idx="1"/>
          </p:cNvCxnSpPr>
          <p:nvPr/>
        </p:nvCxnSpPr>
        <p:spPr>
          <a:xfrm>
            <a:off x="5486040" y="5143320"/>
            <a:ext cx="762840" cy="100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DC8-E2FB-4B40-97D1-0819B11915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4495680"/>
            <a:ext cx="830592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4952880"/>
            <a:ext cx="6705360" cy="1524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5257800"/>
            <a:ext cx="5562360" cy="304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Compon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te Procedure Call (RPC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rea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Security Servic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Directory Service (CDS and GD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Time Service (DT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Distributed File Service (DF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55627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/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52578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586728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4495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5257800"/>
            <a:ext cx="6705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4952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File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52578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52578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2578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525780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5867280"/>
            <a:ext cx="6095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6172200"/>
            <a:ext cx="6705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4952880"/>
            <a:ext cx="0" cy="12193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5334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E3B4-CCAC-4032-B94A-F742062045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2209680"/>
            <a:ext cx="8305920" cy="4343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819520"/>
            <a:ext cx="1828800" cy="1981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819520"/>
            <a:ext cx="1828800" cy="60948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ote Procedure Cal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23623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1 (client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28954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progra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23623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2 (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388620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b co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434340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9625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PC runtime librar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4419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softw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1828800" cy="1981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895480"/>
            <a:ext cx="1828800" cy="60984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2971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dur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396252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35812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b co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441972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40384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PC runtime librar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4495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softw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2895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289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5334120"/>
            <a:ext cx="167616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54864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46" idx="2"/>
            <a:endCxn id="171" idx="1"/>
          </p:cNvCxnSpPr>
          <p:nvPr/>
        </p:nvCxnSpPr>
        <p:spPr>
          <a:xfrm flipH="1" rot="16200000">
            <a:off x="2305080" y="4476240"/>
            <a:ext cx="876960" cy="1524960"/>
          </a:xfrm>
          <a:prstGeom prst="bentConnector2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71" idx="3"/>
            <a:endCxn id="158" idx="2"/>
          </p:cNvCxnSpPr>
          <p:nvPr/>
        </p:nvCxnSpPr>
        <p:spPr>
          <a:xfrm flipV="1">
            <a:off x="5181480" y="4876560"/>
            <a:ext cx="1448640" cy="800640"/>
          </a:xfrm>
          <a:prstGeom prst="bentConnector2">
            <a:avLst/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F07F-7E2D-477E-AF3A-D317119C33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ote Procedure Cal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oundation of distributed comp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face Definition Language (IDL) - enables client/server 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tion with DCE security and naming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thentication of the calls: security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ynamic server location: directory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PC Servers use DCE thre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ocol and network indepen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F5DA-9BCA-4396-B5B9-DF4C9613E5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luk1</cp:lastModifiedBy>
  <cp:lastPrinted>1999-04-17T05:21:03Z</cp:lastPrinted>
  <dcterms:modified xsi:type="dcterms:W3CDTF">1999-11-04T19:13:19Z</dcterms:modified>
  <cp:revision>97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eca@npac.syr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WINNT\Profiles\beca\Personal\seminars\xml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