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70B0-035A-41AF-9712-21B26745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407-A2E7-4B97-8128-A4082C19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712-2DCF-4950-AB8A-7CD3EAAB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05DC-6F75-43D5-9EB8-F3782A97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9ACD-310C-42EC-9D27-2E49EF85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F2C-0629-4D56-BBDE-2F5C0476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6137-B389-4D9A-9585-01EEDF42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C5FC-1E04-4498-B44C-E46D7C3F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F27-7F10-4F58-9282-B9D0ADA2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C8EF-FD4E-4230-8A93-BAEA681D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C407-0615-44C6-9BB6-F59E47F4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8814-B940-4F6C-A575-5A574849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aint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DAB5-ECCB-4DD3-96CF-0BACFF1DC5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aint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4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00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hared Places Pap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ukasz Bec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HTML - propose SPDL as HTML exten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ansas - world described by specific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Ds - ancestor of shared places, MUD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RTRE - place oriented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mmary of last year WETICE - language for the we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y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nguage - (stress on X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ifa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s/visi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tion with Web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ing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ent - co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ed 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knowledg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1T01:44:18Z</dcterms:created>
  <dc:creator>luk1</dc:creator>
  <dc:description/>
  <dc:language>en-US</dc:language>
  <cp:lastModifiedBy>luk1</cp:lastModifiedBy>
  <dcterms:modified xsi:type="dcterms:W3CDTF">2000-03-01T02:39:07Z</dcterms:modified>
  <cp:revision>2</cp:revision>
  <dc:subject/>
  <dc:title>Shared Places Paper</dc:title>
</cp:coreProperties>
</file>