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88188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4D28-503A-47B5-A313-0502FB41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12E3-6712-49F1-ADCF-2D88A609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68C5-66A0-44DC-AAA1-768FAB05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A375-063A-474A-84A9-7864E8B3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9D4A-A5C4-44F6-968D-37DD961C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C37B-7CB1-4678-942A-1575F49F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A301-295D-4B4D-8EC4-41A26675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B66D-A95A-407A-8996-1807F4F7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4551-DD58-40CB-9619-032741F2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F3BB-5C01-463D-9595-9BE56B92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5F63-0335-47D4-B92B-11C7329F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E9C0-BBFA-480F-8FEA-DEF2263C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F522-5A15-4D3A-859F-60A1AD59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8BCB-F613-4847-B999-80175B3B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758A-C32C-4094-9873-165E7887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164F-3488-4693-91C0-BBF8A6A0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2623-C239-42CC-BB69-B2299A48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D184-AB4D-4031-961B-0C0632DF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BD78-F884-40F5-A2D8-268C8C7C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4C87-0969-45D9-9D1F-B232E292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C5D6-D7B4-4D0C-840B-31AF01E6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851D-0353-4A85-99CC-2CD131D8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E51E-5F75-4EAB-A6C7-22529A37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47FB-8DA0-4BA6-8B51-B3AC7E35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24680" y="6630840"/>
            <a:ext cx="68580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90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629400" y="655272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8FA2-C0EA-427A-A739-C1386D714DA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06E7-9F8C-4F9E-AE6C-57F6E634E8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2057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pen Software Foundation Distributed Computing Environment (OSF DCE)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ukasz Be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eca@npac.syr.ed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-287 C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AC, Syracuse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Thread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2000"/>
          </a:bodyPr>
          <a:p>
            <a:pPr marL="237600" indent="-2376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rovement in program performan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7600" indent="-2376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atform-independent API based on POSIX 1003.4a standard (includes real-time priority schedulin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7600" indent="-2376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able RPC-based servers to handle multiple clients simultaneously, but also useful in other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7600" indent="-2376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 for multiprocessor environments using shared memo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7600" indent="-2376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maphore service for thread synchroniz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7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5E17-F6AE-4717-80A1-96DB857A10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Security Servic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source protec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rrent version based on Kereberos 5.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s authentication and authoriz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hentication: validates that a principal (user or program) is who or what it claims to be - login faci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horization: check whether the authenticated principal has permission to access a resource - Access Control Lis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nsparent access to the security services by the us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e provided by Security Ser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BE77-7F0F-47A2-BA6A-5355342BF0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Directory Servic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ach resource in a cell such as a person, file, service provided by RPC server, etc. has a unique na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rectory service returns the network address of the resource with a given na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ll Directory Service: controls naming environment inside a cel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lobal Directory Service: for name lookups across cells,  X.500 and DNS name formats can be us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Security Service protects directory inform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e is provided by Cell Directory Server and Global Directory Ag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418E-F04C-4985-B569-7E55745A33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DCE Time Servic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5960" indent="-3459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nchronizes the clocks of all computers in the distributed system (cel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s Coordinated Universal Time (UTC) 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ny applications rely on timestamps to coordinate interdependent events e.g. determination of the most recent version of the file which exists on multiple h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e provided by the Global Servers and Cour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lobal Servers - can be connected to the external time provider (e.g. NIST) using Time Provider Interface (TP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d by the DCE security and file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336E-3C44-4117-9854-1ADB399BC2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DCE Distributed File Servic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llwide access to files - single view of all the fil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lements a superset of the POSIX 1003.1 file system standar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existence with a host’s native file syste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oup of files (filesets) as a basic unit of oper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le location location track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omatic backu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tion with DFS Distributed Secur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ching used to speed oper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e provided by the file servers, fileset location servers, and backup serv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295A-466A-44A0-8A65-F9B77C1B9E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urrent Statu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20574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implementations are available for all important Unix systems, Windows NT, and other major systems including M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release 1.2.2 available since Dec 199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ateways available to the UNIX Network File System and Novell Ne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gration with Web technolog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usually cannot be bought as a separate product but it is a part of many software system: transaction processing monitors (Encina), CORBA implementations (HP), middleware systems (Sybase and Oracle) and directory and security servers (IB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864C-D74B-4A59-87B9-98C661842C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7524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 poi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egration of distributed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port for organization struct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ca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ortability and interoper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 influence on distributed comp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al of widespread deployment never achiev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gnificant complex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 support for object-oriented distributed compu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mpeting technologies: Network File System, Network Time Protocol, CORBA,  new versions of thread APIs, SUN RPC, LD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 support for message queueing and transaction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60F2-FB06-4977-8F43-DF8D871449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ference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ook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derstanding DCE” by Ward Rosenberry, David Kenney &amp; Gerry Fis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twork Applications Frameworks” by Eric Greenbe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on Open Group Web 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www.opengroup.org/tech/dce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wsgroup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.soft-sys.d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equently Asked Ques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usenet.umr.edu/faqs/dce/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3ADB-B1B8-4A1C-A9BB-26973F1FD3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t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CE Cell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CE Compone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urrent Statu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E50B-54CF-4A8F-B3CE-B8146990C1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used computing po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orage limit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mand for increased availabi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laborative wo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ynamic data and program lo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terogeneous dat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reased significance of distributed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cessity of event synchronization in distributed applic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tion of distributed resourc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5ABB-DCA3-4DD8-99A6-DD69D6917A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- Introduc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n Software Foundation (OSF) - organization formed in 1988 (goals: research, development, and implementation of vendor-neutral technology and industry standards), became part of the Open Grou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proposed by Digital Equipment Corporation, IBM, Apollo, Transarc and the Locus Computing Corpor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OSF DCE is an industry-standard, vendor-neutral set of distributed computing technolog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is not an application in itself, but is used to build custom applications or to support purchased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35A5-5ED9-4923-8314-909586AECA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as Middlewar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d service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le servic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rectory servic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curity managemen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PC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chine independent data represent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ernationaliz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ultitasking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ually implemented on top of the operating system, although operating system implementations exist (e.g. OSF1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FA7F-0923-4B23-A57E-81E8630704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Cel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ll - basic unit of operation and administr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oup of users, systems, and resources that have a common purpose and share common DCE servic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nimum configuration: Cell Directory Service, the Security Service and the Time Servi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962520"/>
            <a:ext cx="8305920" cy="2514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4114800"/>
            <a:ext cx="1828800" cy="7621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41148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 host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4419720"/>
            <a:ext cx="167652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4495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E client soft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5334120"/>
            <a:ext cx="1828800" cy="7617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53341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 host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638680"/>
            <a:ext cx="167652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57150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E client soft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480060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49528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4191120"/>
            <a:ext cx="1828800" cy="19047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41911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 host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4495680"/>
            <a:ext cx="1676520" cy="914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4495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y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48006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51055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urity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5562720"/>
            <a:ext cx="167652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48520" y="5638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E client soft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03" idx="3"/>
            <a:endCxn id="111" idx="1"/>
          </p:cNvCxnSpPr>
          <p:nvPr/>
        </p:nvCxnSpPr>
        <p:spPr>
          <a:xfrm>
            <a:off x="2895480" y="4495680"/>
            <a:ext cx="915120" cy="6483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07" idx="3"/>
            <a:endCxn id="111" idx="1"/>
          </p:cNvCxnSpPr>
          <p:nvPr/>
        </p:nvCxnSpPr>
        <p:spPr>
          <a:xfrm flipV="1">
            <a:off x="2895480" y="5142960"/>
            <a:ext cx="915120" cy="5720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111" idx="3"/>
            <a:endCxn id="118" idx="1"/>
          </p:cNvCxnSpPr>
          <p:nvPr/>
        </p:nvCxnSpPr>
        <p:spPr>
          <a:xfrm>
            <a:off x="5486040" y="5143320"/>
            <a:ext cx="762840" cy="100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DF53-B9C3-462F-AF01-6A5F83E90B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0880" y="4495680"/>
            <a:ext cx="830592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4952880"/>
            <a:ext cx="6705360" cy="1524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5257800"/>
            <a:ext cx="5562360" cy="304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Compon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mote Procedure Call (RPC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read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Security Servic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Directory Service (CDS and GD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Time Service (DT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Distributed File Service (DF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55627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6172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/Net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52578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586728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4495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5257800"/>
            <a:ext cx="6705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4952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 File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52578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05720" y="52578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52578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5257800"/>
            <a:ext cx="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5867280"/>
            <a:ext cx="6095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6172200"/>
            <a:ext cx="6705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4952880"/>
            <a:ext cx="0" cy="121932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5334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27B6-FDFF-4CC7-A4CF-5DAE4875A7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2209680"/>
            <a:ext cx="8305920" cy="4343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819520"/>
            <a:ext cx="1828800" cy="1981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819520"/>
            <a:ext cx="1828800" cy="60948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mote Procedure Cal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23623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1 (client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28954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 progra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23623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2 (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3886200"/>
            <a:ext cx="1828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5053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b co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4343400"/>
            <a:ext cx="1828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9625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PC runtime librar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4419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softwa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2895480"/>
            <a:ext cx="1828800" cy="1981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2895480"/>
            <a:ext cx="1828800" cy="60984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29718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dur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3962520"/>
            <a:ext cx="1828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15000" y="35812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b co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15000" y="4419720"/>
            <a:ext cx="1828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40384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PC runtime librar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4495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softwa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9920" y="2895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2895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2895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34320" y="2895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38880" y="289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5334120"/>
            <a:ext cx="167616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54864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46" idx="2"/>
            <a:endCxn id="171" idx="1"/>
          </p:cNvCxnSpPr>
          <p:nvPr/>
        </p:nvCxnSpPr>
        <p:spPr>
          <a:xfrm flipH="1" rot="16200000">
            <a:off x="2305080" y="4476240"/>
            <a:ext cx="876960" cy="1524960"/>
          </a:xfrm>
          <a:prstGeom prst="bentConnector2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71" idx="3"/>
            <a:endCxn id="158" idx="2"/>
          </p:cNvCxnSpPr>
          <p:nvPr/>
        </p:nvCxnSpPr>
        <p:spPr>
          <a:xfrm flipV="1">
            <a:off x="5181480" y="4876560"/>
            <a:ext cx="1448640" cy="800640"/>
          </a:xfrm>
          <a:prstGeom prst="bentConnector2">
            <a:avLst/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BC72-E919-40F2-B094-D20BB2D981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mote Procedure Cal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057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foundation of distributed comp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face Definition Language (IDL) - enables client/server inte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gration with DCE security and naming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thentication of the calls: security 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ynamic server location: directory 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PC Servers use DCE threa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ocol and network independ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5DD7-439E-4BBA-9985-1368DC246B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4T01:11:54Z</dcterms:created>
  <dc:creator>Marek Podgorny</dc:creator>
  <dc:description/>
  <dc:language>en-US</dc:language>
  <cp:lastModifiedBy>luk1</cp:lastModifiedBy>
  <cp:lastPrinted>1999-04-17T05:21:03Z</cp:lastPrinted>
  <dcterms:modified xsi:type="dcterms:W3CDTF">1999-11-04T21:00:54Z</dcterms:modified>
  <cp:revision>102</cp:revision>
  <dc:subject/>
  <dc:title>TANGO for Distance Lear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eca@npac.syr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WINNT\Profiles\beca\Personal\seminars\xml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