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CBD-30FD-4479-8ED6-9138E9F1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82C-843F-445A-BB32-3D9BE4D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E3B-4ABA-4438-A34A-643F6EF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1E7-F41E-4A50-81D2-B929FB0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6EB-83AD-49CD-B43C-25C879A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129-035B-4AA6-AFDD-BE94590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413-8395-4E4E-BF5F-479A763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9A1-5CFD-42EC-8493-4B662A5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26E-3225-4FFC-AAAB-39E0647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FD5-4B31-42A0-89C3-4FF6D89E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166-7532-408D-9839-4271A89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E43-42DC-4414-A57A-9D5FC82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8B0-5A8C-4343-8A74-5F70822B0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totype of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 of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escription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interpreter that will turn description into HTML code and property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interfaces for tools, artifacts, users and g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simplified spdl for prototype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s&gt; gathers information about all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def name=“”&gt; - artifact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artifact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 - type of the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uthor&gt; - author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plac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us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ccess&gt; - type of access ( read, write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signature&gt; - digital signature by 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ontent&gt; - content if inclu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location&gt; - location of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ool&gt; - type of tool used for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P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f name=“”&gt; - contains definition of one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acce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granularit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cod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item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polic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lo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parameter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paramet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name&gt;, &lt;value&gt; p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 id=“tool_nam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igh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widt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s&gt; - container for gates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_def name=“”&gt; - description of single gate, name identifies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 name=“”&gt; - reference to the gate in html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tination&gt; - url of spdl document that defines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 (can be retrieved from place descri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quired_artifacts&gt; - required artifacts to use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implementation&gt; - archive with gate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 typ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positor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rv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03:36:30Z</dcterms:created>
  <dc:creator>luk1</dc:creator>
  <dc:description/>
  <dc:language>en-US</dc:language>
  <cp:lastModifiedBy>luk1</cp:lastModifiedBy>
  <dcterms:modified xsi:type="dcterms:W3CDTF">2000-03-05T04:41:24Z</dcterms:modified>
  <cp:revision>10</cp:revision>
  <dc:subject/>
  <dc:title>Prototype of Shared Places</dc:title>
</cp:coreProperties>
</file>