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BA0-CB38-46CE-813F-1FA3443A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8A3-EDBC-4037-BADF-8131B5D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277-AB9A-4F31-9EFE-C34BAD74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607-0E57-4D3B-8406-F2B5C1E6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19A2-5FC7-4D88-AA71-47D8D980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4627-BA3C-4C30-8AEA-A688D04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AB16-360D-482A-8652-3FF40301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9535-05FF-4524-8F4F-B642C20B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4BBB-13D1-46DA-A03A-A29A1907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EDC2-D0E2-47A2-99C6-79F0311D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CF1D-B4DD-42FC-B77C-41F951C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EAD-F0EF-4C0E-8399-E9874A6E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32F-4F4F-42D5-8E41-8E0D8253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267-8758-4C12-98B5-F59C871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01E7-776E-4F42-BE95-A4B12A59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1625-312E-4EB9-B7E1-5251C496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CC29-9517-4635-B0D9-F468827C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A9F-D49A-4202-888D-7536F8F3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BB6-B083-431F-AC2A-EF16BFB4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B5D-811D-4042-93F3-C4756CB7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957-64DB-47AD-98FE-10285D61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C6A-3E21-4A02-BFE5-2B909AE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691-41C3-4EF4-B3B8-B1D8DF0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AAD-0FD9-4A50-8F24-3678FCE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DB98-16BB-445C-8C17-8374620CBB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659F-4632-4EE2-9868-2FAECEC6896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 HPspmd Programming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 HPspmd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  p = new Procs2(P, 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x = new ExtBlockRange(N, p.dim(0)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y = new ExtBlockRange(N, p.dim(1)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u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 some code to initialize ‘u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(int iter = 0; iter &lt; NITER; iter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writeHalo(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1 : N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1 + (i` + iter) % 2 : N-2 :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0.25 * (u[i-1, j] + u[i+1, j] + u[i, j-1] + u[i, j+1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HPspmd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6705720" cy="6640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95280" y="4572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HPspm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P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nguage for parallel programm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tends Java with syntax for manipulating distributed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lements the HPspmd mode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independent processes executing same program, sharing elements of distributed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cesses operate directly on locally owned elements.  Explicit communication needed in program to permit access to elements owned by other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sses and Process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Java program started concurrently in some set of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esses named through grid objec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Procs p = new  Procs2(2, 3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es program currently executing on 6 or more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trict execution to processes within grid by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onstru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asic use of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Java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 p = new Procs2(2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ion d = p.dim(0),  e = p.dim(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.out.prinln(“My coordinates are(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d.crd() + “, “ + e.crd() + “)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286000"/>
            <a:ext cx="34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mpl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0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1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1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1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0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tributed Arrays in HP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differences between distributed arrays and ordinary arrays of Jav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.  Ne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kind of container class with special synta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ype signatures, constructors use double brackets to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emphasiz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istin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ocs2 p = new Procs2(2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Range x = new BlockRange(N, p.dim(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Range y = new BlockRange(N, p.dim(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float [[,]] a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-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mensional array distributed over 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arra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46452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allel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trix add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s2 p = new Procs2(2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nge x = new BlockRange(N, p.dim(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nge y = new BlockRange(N, p.dim(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loat [[,]]  a = new float [[x, y]],  b = new float [[x, y]]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 = new float [[x, y]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 initialize values in  ‘a’, ‘b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[i, j] = a[i, j] + b[i, j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overall constr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2000" y="1828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ond special control construct (after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istributed parallel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 form parametrized by index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riple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l : u : s) { . . .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 = lower bound, u = upper bound, s = step.  All indices must be within range 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ecial 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l : u) { . . .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ide defaults to 1, 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:) { . . .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wer bound = 0, upper bound = x.size() -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parallel stencil update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u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initialize values in  ‘u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n = new float [[x, y]],  s = new float [[x, y]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 = new float [[x, y]],  w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n, u,  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s, u, -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e, u,  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w, u, -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0.25 * (n[i, j] + s[i, j] + e[i, j] + w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tivate a parallel programming model that combines data parallel features from HPF with an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explicitly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MD programming sty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ew in detail a specific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HPspmd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nguage called HPJa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ift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, advertised, communication goes through library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a binding of the Adlib function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oid shift(float [[,]] dst, float [[,]] src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nt amount, int dimension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tination and source arrays must be identically alig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lements “edge-off” shi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loaded to apply to different array ranks, ty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bout overall loop inde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1640" y="1828800"/>
            <a:ext cx="758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y does language demand use of shift?  Could we just wr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overall (i = x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overall (j = y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u[i, j] = 0.25 * (u[i-1, j] + u[i+1, j]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u[i, j-1] + u[i, j+1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nerally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Symbols i, j ar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nteger loop indices.  They ar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bound loca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loca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is an abstract element of a distributed r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pping of locations to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locations" descr=""/>
          <p:cNvPicPr/>
          <p:nvPr/>
        </p:nvPicPr>
        <p:blipFill>
          <a:blip r:embed="rId1"/>
          <a:stretch/>
        </p:blipFill>
        <p:spPr>
          <a:xfrm>
            <a:off x="1676520" y="2384280"/>
            <a:ext cx="609588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ound lo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bound location is a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am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cations can only be named in overall construct or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onstruc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next slid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No location-valued variables; no Java type associated with a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n general a subscript in a distributed array element referenc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u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be a bound location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must be a location in the corresponding range of the array dim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amatically limits patterns of subscrip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demandng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1057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t constr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5840" y="1828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a is a distributed array, generally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anno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r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 [1,  4]  =  73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ssign one element.  1, 4 not bound lo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x and y are the ranges of a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r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i = x [1]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j = y [4]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 [i, j]  = 73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 the final special control construct of HPJava.  Similar to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tricts execution of block to processes holding specified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lationship between overall and 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constru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l : u : 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for (int n = l; (u – n) * sign(s) &gt;= 0; n += 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i = x [n]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dex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ide the body of the constru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i = x [n]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xpression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`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tands for the integer   value,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st useful in overall.  According to the equivalence in the previous slide,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`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then the global index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Comple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2 p = new Procs2(P, 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x = new BlockRange(N, p.dim(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y = new BlockRange(N, p.dim(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u = new float [[x, y]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Initialize ‘u’, ‘r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n = new float [[x, y]],  s = new float [[x, y]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 = new float [[x, y]],  w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Main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printArray(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itialize ‘u’, ‘r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(i` == 0 || i` == N - 1 || j` == 0 || j` == N -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(float) (i` * i` - j` * j`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[i, j] = 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n, u,  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s, u, -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e, u,  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w, u, -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1 : N -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newU =  0.25 * (n[i, j] + s[i, j] + e[i, j] + w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[i, j] = Math.abs(newU – u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new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 while(Adlib.maxval(r) &gt; EP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spmd language exten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gration of high-level libra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Java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esses and distributed arr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pping arr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ray s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ules an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distributed array communication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oad balancing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ahoma"/>
              </a:rPr>
              <a:t>—Mandelbrot set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of complex numbers, c, such that the limit of the it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z    =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            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z    = c + (z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i+1                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s absolute value less than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|z  | 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Tahoma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merical computation of set: points outside the set are eliminated quickly; points inside or close to the set are computed for many it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ndelbrot set compu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017440"/>
            <a:ext cx="63644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2 p = new Procs2(2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x = new BlockRange(N, p.dim(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y = new BlockRange(N, p.dim(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olean [[,]]  set = new boolean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: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cr = (4.0 * i` - 2 * N) /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ci = (4.0 * j` - 2 * N) /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Inner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printArray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ne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81080" y="2017440"/>
            <a:ext cx="5446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t[i, j] =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k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ile(zr * zr + zi * zi &lt; 4.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(k++ == CUTO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t[i, j] =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// z = c + z *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newr = cr + zr * zr – zi * z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newi = ci + 2 * zr * z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r = new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i = new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nging mapping of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lock distribution leads to poor load-balanc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go over to cyclic decomposition, just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x = new BlockRange(N, p.dim(0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y = new BlockRange(N, p.dim(1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x = new CyclicRange(N, p.dim(0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y = new CyclicRange(N, p.dim(1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lock-wise decomposition of Mandelbrot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blockMandelbrot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148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yclic decomposition of Mandelbrot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cyclicMandelbrot" descr=""/>
          <p:cNvPicPr/>
          <p:nvPr/>
        </p:nvPicPr>
        <p:blipFill>
          <a:blip r:embed="rId1"/>
          <a:stretch/>
        </p:blipFill>
        <p:spPr>
          <a:xfrm>
            <a:off x="2057400" y="2058840"/>
            <a:ext cx="46148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discussed in previous lecture, ghost regions are extremely useful in parallel stencil upd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in HPJava, distributed array subscripts must be bound locations.  Special syntax extension for subscripting arrays with ghost reg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ifted loc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ed lo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414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bound location,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±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hifted location.  Here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integer, usually a small con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array, a, has suitable ghost regions, can write, sa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verall (i = x for 1 : N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verall (j = y for 1 : N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i, j] = 0.25 * (a[i-1, j] + a[i+1, j]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i, j-1] + a[i, j+1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rrays with ghost region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pecial syntax, but new range classes.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tBlock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range clas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ignment-equival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lock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but with ghost exten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extensions specified in constructor of range ob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l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host regions not magic.  They must be explicitly filled with values from (usually) neighboring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lib has a collective communication operation,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riteHal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hat does th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PF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ndard is more than 6 years o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companies involved in the HPF forum no longer in business; many of those remaining abandoned their HPF pro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 too comple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robust compilers very difficult to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erception that language inflexible—limited demand from application develo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ost parallel applications still developed in direct SPMD style, using MP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place equation us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2398320"/>
            <a:ext cx="762012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s2 p = new Procs2(P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tBlock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, p.dim(0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y =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tBlock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, p.dim(1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]] a = new float [[x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boundary values of ‘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[[,]] b = new float [[x, y]], r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dlib.writeHalo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1 : N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1 : N-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[i, j] = 0.25 * (a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j] + a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j] + a[i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+ a[i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[i, j] = Math.abs(b[i, j] - a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Pspmd.copy(a, b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while(Adlib.maxval(r) &gt; EP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-black 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[[,]] r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Pspmd.init(r, 0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iter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lib.writeHalo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1 : N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 + (i` + iter) % 2 : N-2 :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newA = 0.25 * (a[i-1, j] + a[i+1, j] + a[i, j-1] + a[i, j+1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[i, j] = Math.abs(newA - a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[i, j] = new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while(Adlib.maxval(r) &gt; EP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way’s Life us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mode [] = {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CYC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CYC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s2 p = new Procs2(P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new ExtBlockRange(N, p.dim(0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y = new ExtBlockRange(N, p.dim(1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[[,]] state = new int [[x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initial state of Life board, ‘state’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[[,]] sums = new in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nt iter = 0; iter &lt; NITER; iter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lib.writeHalo(state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s[i, j] = state[i-1,  j-1] + state[i-1,  j] + state[i-1,  j+1]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[i,     j-1] +                      state[i,     j+1]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[i+1, j-1] + state[i+1, j] + state[i+1, j+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tch (sums [i, j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2: 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3:  state[i, j] = 1; 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: state[i, j] = 0; 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apsed Dis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lapsed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bclass of Range stands for range that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tribu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x = CollapsedRange(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y = BlockRange(M, p.dim(0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oat [[,]] a = new float [[x, y]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dimension of a is collap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array dim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pts in first dimension of array declared above must still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und lo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lthough effectively a sequential array w.r.t. that dim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convenient to use integer subscripts in sequential dimen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“subtypes” of distributed arrays with sequential dimensions.  Exampl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y = BlockRange(M, p.dim(0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oat [[*,]] a = new float [[N, y]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ax for sequential dim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erisk, *, appears in slot of type signature for sequential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er expression (rather than range) appears in constructor slot.  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range, the expressio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w int [[10, x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typ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 [[*,]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integer expressions for subscripts in element referenc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licated dis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8483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psed distributions mean array rank can be larger than process grid r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llowed for array rank to be smaller than grid ran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cs2 p = new Procs2(P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nge x = new BlockRange(N, p.dim(0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oat [[]] b = new float [[x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plicated 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.dim(1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de: replicated variables versus replicated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PJav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o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force that all copies of replicated variables hold the same value at corresponding points of program execution (variables a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a common programming practice is to maintain same values in all copies (most of the time)—“canonical styl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 communication library, for example, typically broadcasts results to replicated destination arrays if necess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gh-level SPMD libr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ile the HPF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languag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t problems, various data-parallel SPMD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librari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have been deploy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caLAP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t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Array Tool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/CHA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l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er-level libraries support programming with distributed arrays in essentially MPI-like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rix multiplica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120" y="2093760"/>
            <a:ext cx="55990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]]  c  = new float [[x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*]] a = new float [[x, N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,]] b = new float [[N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e ‘a’, ‘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j = y for :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[i, j] = 0.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(int k = 0; k &lt; N; k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[i, j] += a[i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* b[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j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s on matrix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a very specific set of alignment relations betwee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dimension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ligned with first dimension o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second dimension collapsed; whole array replicated over process dimension associated with second dimension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eneral matrix multiplication procedure may accept any distributions for arguments, then remap them to the required rel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matrix multi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matmul(float [[,]] c, float [[,]] a, float [[,]] b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p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.grp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.rng(0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.rng(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n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.rng(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siz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*]] t1 = new float [[x, n]]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n 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remap(t1, a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,]] t2 = new float [[n, y]]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n 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remap(t2, b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(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nest, c = t1 * t2.  As previous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ion group of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tm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dure illustrates general form of distributed array constructor, with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 this specifies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stribution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 group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fau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ctive process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in all previous examples this was set by an enclosing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str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all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a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sid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(p){}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re, becau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elements outside grou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Formalize this requirement la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s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Java has a way of representing regular sub-arrays, similar to Fortran 9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 similar to element references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ouble bracket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r rules about subscrip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subscripts can be tripl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wo-dimensional FF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d FFT can be implemented simply by applying 1d FFT in parallel to all rows, then in parallel to all colum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eudocode assumes existence of fictitiou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imitive type.  For real code, split complex arrays into two float arrays—real and imaginary pa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Java Grande Numerics WG drafted proposals for adding complex to Java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d FFT (pseudocod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15760" y="1904760"/>
            <a:ext cx="6894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fft1d(complex [[*]] u) {… Sequential FFT…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[[,*]] a = new complex [[x, N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[[*,]] b = new complex [[N, x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values in ‘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ft1d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[[i, :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lib.remap(b, a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(i = x for 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ft1d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[[:, i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in ‘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de: an array section expression is not a variabl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2017440"/>
            <a:ext cx="7583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element reference is a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i, j] = 23.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section expression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[:, 1]] = b;    // Semantic erro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one-dimensional array, may copy elements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Pspmd.copy(a[[:, 1]], b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 rule for object-valued expres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lesky decomposi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LU decomposition of earlier lecture, but applie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mmetr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to distribute by columns, instead of 2d decompos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th column is broadcast by passing sections to rem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lesky decomposition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,]] a = new float [[N, x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 to initialize ‘a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]] col = new float [[N]];  // Collapsed, repl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k = 0; k &lt; N-1; k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k-th column of ‘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lib.remap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l [[k+1 : N-1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[[k+1 : N-1,  k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j = x for k+1 : 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j`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, j] -= col[i] * col[j`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element a[N-1, N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dea of HPspm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brary approach to distributed arrays clearly works, but lacks uniformity and elegance of data-parallel languages.  No unifying frame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 we take a minimal subset of the ideas from HPF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—unified syntax for distributed arrays—to make the library-based SPMD approach more attracti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bd04924_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84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umn normalization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63840" y="1828440"/>
            <a:ext cx="58276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rmalize k-th column of ‘a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(j = x[k]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diag = Math.sqrt(a [k, j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k, j] = dia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k+1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, j] /= dia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rmalize element a[N-1, N-1]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(j = x[N-1]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N-1, j] = Math.sqrt(a[N-1, j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de: correct use of sub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assign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[i, j] -= col[i] * col[j`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writ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[j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location in the rang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The array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a different, collapsed ran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this is not a “type” error, it would be trapped as a runtime exception.  Like array-bound che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mension of an array section produced by a triplet subscript is generally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ub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range of the par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 for direct creation of subrange obj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u = x [0 : N/2 - 1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v = y [0 : N-1 : 2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ricted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ed in the context of distributed array descriptors in an earlier l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HPJava a natural characterization of a restricted group is a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ubgro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which a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mapp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 for direct creation of a restricted grou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 / x [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 / x [1] / y [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mapping of array s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an array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distribution grou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some arbitrary regular section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reduce section to a standard form as fol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 any integer-valued subscript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y a location-valued subscript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.rng(r) 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Her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osition the subscript appears 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 replace any triplet-subscript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:u: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y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.rng(r) [l:u:s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ping for section in standard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location-valued subscripts ar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, j, ...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distribution group of the section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 / i / j / 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h range of the section is th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h range-value subscri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mapping of array s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= new float [[x, y]] on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form of the section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[[n, l:u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[[x[n], y[l:u]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ion group i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 / x[n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ges ar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y[l:u]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of HP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ous rules are imposed to ensure that all accesses to array elements really are loc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re automatically enforced by compiler or run-time che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rmally def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ctive process gro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active process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ng the construc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(p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APG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urrent APG is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executing the constru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t (i = x[n]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verall (i = x for l : u : s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APG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/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distributed control constru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struc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(p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ontained in the current AP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stru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t (i = x[n]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verall (i = x for l : u : s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only appear 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distributed over a dimension of the AP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eatures of HPspm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opts ideas, run-time technologies and some compilation techniques from HP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band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ngle, logical, global thread of control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-determined placement of computation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-generated, automatic insertion of commun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ft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licitly MIMD (SPMD) programming model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 for representing distributed array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 for expressing placement of compu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distributed array constru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ew T [[e , . . ., e , . . .]] on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0          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only appear where p is contained in the AP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that are non-collapsed range objects are distributed over distinct dimensions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“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is omitted, the distribution group defaults to the AP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element reference sub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distributed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e , . . ., e , . . .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0          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n integer expression if the dimension has the sequential attribute.  Otherwise it is a bound location in the corresponding range of the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rule for element a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distributed array, suppose the location-valued subscripts in the element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e , . . ., e , . . .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0          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, j, ..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me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element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 / i / j / 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may only be accessed when the active process group is contained in the home group of the el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9000" y="2017800"/>
            <a:ext cx="7812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ors ar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muc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asier to implement than HPF compilers.  No compiler magic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tractive framework for library development, avoiding inconsistent parametrizations of distributed array arg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tter prospects for handling irregular probl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sier to fall back on specialized libraries as requi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ltimate fall-back: can directly call MPI functions from within an HPspmd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nguage ext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spmd languages extended from standard base languages (Fortran, C++, Java, . . 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program tha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esn’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the extensions should be executed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s a SPMD 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in independent processes with their own threads of contr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tributed array types adde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ictly separate from sequential arrays of base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no attempt to conceal the disti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istributed contro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struc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ad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ost important is a distributed, data-parallel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蔡旭斌</cp:lastModifiedBy>
  <dcterms:modified xsi:type="dcterms:W3CDTF">2000-01-10T09:06:46Z</dcterms:modified>
  <cp:revision>51</cp:revision>
  <dc:subject/>
  <dc:title>The Development of Data-Parallel Programming</dc:title>
</cp:coreProperties>
</file>