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6022-1022-4FB4-ACCC-42CFAA9B405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3480" cy="3130560"/>
          </a:xfrm>
          <a:prstGeom prst="rect">
            <a:avLst/>
          </a:prstGeom>
          <a:ln w="0">
            <a:noFill/>
          </a:ln>
        </p:spPr>
      </p:sp>
      <p:sp>
        <p:nvSpPr>
          <p:cNvPr id="179" name=""/>
          <p:cNvSpPr/>
          <p:nvPr/>
        </p:nvSpPr>
        <p:spPr>
          <a:xfrm>
            <a:off x="1046160" y="4352760"/>
            <a:ext cx="477036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3480" cy="3130560"/>
          </a:xfrm>
          <a:prstGeom prst="rect">
            <a:avLst/>
          </a:prstGeom>
          <a:ln w="0">
            <a:noFill/>
          </a:ln>
        </p:spPr>
      </p:sp>
      <p:sp>
        <p:nvSpPr>
          <p:cNvPr id="181" name=""/>
          <p:cNvSpPr/>
          <p:nvPr/>
        </p:nvSpPr>
        <p:spPr>
          <a:xfrm>
            <a:off x="1046160" y="4352760"/>
            <a:ext cx="477036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3480" cy="3130560"/>
          </a:xfrm>
          <a:prstGeom prst="rect">
            <a:avLst/>
          </a:prstGeom>
          <a:ln w="0">
            <a:noFill/>
          </a:ln>
        </p:spPr>
      </p:sp>
      <p:sp>
        <p:nvSpPr>
          <p:cNvPr id="183" name=""/>
          <p:cNvSpPr/>
          <p:nvPr/>
        </p:nvSpPr>
        <p:spPr>
          <a:xfrm>
            <a:off x="1046160" y="4352760"/>
            <a:ext cx="477036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3480" cy="3130560"/>
          </a:xfrm>
          <a:prstGeom prst="rect">
            <a:avLst/>
          </a:prstGeom>
          <a:ln w="0">
            <a:noFill/>
          </a:ln>
        </p:spPr>
      </p:sp>
      <p:sp>
        <p:nvSpPr>
          <p:cNvPr id="185" name=""/>
          <p:cNvSpPr/>
          <p:nvPr/>
        </p:nvSpPr>
        <p:spPr>
          <a:xfrm>
            <a:off x="1046160" y="4352760"/>
            <a:ext cx="477036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3480" cy="3130560"/>
          </a:xfrm>
          <a:prstGeom prst="rect">
            <a:avLst/>
          </a:prstGeom>
          <a:ln w="0">
            <a:noFill/>
          </a:ln>
        </p:spPr>
      </p:sp>
      <p:sp>
        <p:nvSpPr>
          <p:cNvPr id="187" name=""/>
          <p:cNvSpPr/>
          <p:nvPr/>
        </p:nvSpPr>
        <p:spPr>
          <a:xfrm>
            <a:off x="1046160" y="4352760"/>
            <a:ext cx="477036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3480" cy="3130560"/>
          </a:xfrm>
          <a:prstGeom prst="rect">
            <a:avLst/>
          </a:prstGeom>
          <a:ln w="0">
            <a:noFill/>
          </a:ln>
        </p:spPr>
      </p:sp>
      <p:sp>
        <p:nvSpPr>
          <p:cNvPr id="189" name=""/>
          <p:cNvSpPr/>
          <p:nvPr/>
        </p:nvSpPr>
        <p:spPr>
          <a:xfrm>
            <a:off x="1046160" y="4352760"/>
            <a:ext cx="477036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3480" cy="3130560"/>
          </a:xfrm>
          <a:prstGeom prst="rect">
            <a:avLst/>
          </a:prstGeom>
          <a:ln w="0">
            <a:noFill/>
          </a:ln>
        </p:spPr>
      </p:sp>
      <p:sp>
        <p:nvSpPr>
          <p:cNvPr id="191" name=""/>
          <p:cNvSpPr/>
          <p:nvPr/>
        </p:nvSpPr>
        <p:spPr>
          <a:xfrm>
            <a:off x="1046160" y="4352760"/>
            <a:ext cx="477036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3480" cy="3130560"/>
          </a:xfrm>
          <a:prstGeom prst="rect">
            <a:avLst/>
          </a:prstGeom>
          <a:ln w="0">
            <a:noFill/>
          </a:ln>
        </p:spPr>
      </p:sp>
      <p:sp>
        <p:nvSpPr>
          <p:cNvPr id="193" name=""/>
          <p:cNvSpPr/>
          <p:nvPr/>
        </p:nvSpPr>
        <p:spPr>
          <a:xfrm>
            <a:off x="1046160" y="4352760"/>
            <a:ext cx="477036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3480" cy="3130560"/>
          </a:xfrm>
          <a:prstGeom prst="rect">
            <a:avLst/>
          </a:prstGeom>
          <a:ln w="0">
            <a:noFill/>
          </a:ln>
        </p:spPr>
      </p:sp>
      <p:sp>
        <p:nvSpPr>
          <p:cNvPr id="195" name=""/>
          <p:cNvSpPr/>
          <p:nvPr/>
        </p:nvSpPr>
        <p:spPr>
          <a:xfrm>
            <a:off x="1046160" y="4352760"/>
            <a:ext cx="477036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3480" cy="3130560"/>
          </a:xfrm>
          <a:prstGeom prst="rect">
            <a:avLst/>
          </a:prstGeom>
          <a:ln w="0">
            <a:noFill/>
          </a:ln>
        </p:spPr>
      </p:sp>
      <p:sp>
        <p:nvSpPr>
          <p:cNvPr id="197" name=""/>
          <p:cNvSpPr/>
          <p:nvPr/>
        </p:nvSpPr>
        <p:spPr>
          <a:xfrm>
            <a:off x="1046160" y="4352760"/>
            <a:ext cx="477036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3480" cy="3130560"/>
          </a:xfrm>
          <a:prstGeom prst="rect">
            <a:avLst/>
          </a:prstGeom>
          <a:ln w="0">
            <a:noFill/>
          </a:ln>
        </p:spPr>
      </p:sp>
      <p:sp>
        <p:nvSpPr>
          <p:cNvPr id="171" name=""/>
          <p:cNvSpPr/>
          <p:nvPr/>
        </p:nvSpPr>
        <p:spPr>
          <a:xfrm>
            <a:off x="1046160" y="4352760"/>
            <a:ext cx="477036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3480" cy="3130560"/>
          </a:xfrm>
          <a:prstGeom prst="rect">
            <a:avLst/>
          </a:prstGeom>
          <a:ln w="0">
            <a:noFill/>
          </a:ln>
        </p:spPr>
      </p:sp>
      <p:sp>
        <p:nvSpPr>
          <p:cNvPr id="173" name=""/>
          <p:cNvSpPr/>
          <p:nvPr/>
        </p:nvSpPr>
        <p:spPr>
          <a:xfrm>
            <a:off x="1046160" y="4352760"/>
            <a:ext cx="477036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3480" cy="3130560"/>
          </a:xfrm>
          <a:prstGeom prst="rect">
            <a:avLst/>
          </a:prstGeom>
          <a:ln w="0">
            <a:noFill/>
          </a:ln>
        </p:spPr>
      </p:sp>
      <p:sp>
        <p:nvSpPr>
          <p:cNvPr id="175" name=""/>
          <p:cNvSpPr/>
          <p:nvPr/>
        </p:nvSpPr>
        <p:spPr>
          <a:xfrm>
            <a:off x="1046160" y="4352760"/>
            <a:ext cx="477036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3480" cy="3130560"/>
          </a:xfrm>
          <a:prstGeom prst="rect">
            <a:avLst/>
          </a:prstGeom>
          <a:ln w="0">
            <a:noFill/>
          </a:ln>
        </p:spPr>
      </p:sp>
      <p:sp>
        <p:nvSpPr>
          <p:cNvPr id="177" name=""/>
          <p:cNvSpPr/>
          <p:nvPr/>
        </p:nvSpPr>
        <p:spPr>
          <a:xfrm>
            <a:off x="1046160" y="4352760"/>
            <a:ext cx="477036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D3BA-8426-422F-9633-58F193912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2F1E-55D9-4D05-8BDF-C71298B9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9A27-A468-42FA-87DF-0D6707691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A2CB-1DA6-481C-842C-19CB0B4B6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48A0-E9EA-40FF-A6AD-3FC99B939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CCF2-F4DB-47BA-8692-24044B04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0918-6406-496A-A63C-E8DFEE98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EA73-5C15-48C7-AA33-526C4C41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5308-4253-4324-9C80-5616E698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F88A-9586-4DEA-A219-C2F59B02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0338-2F2F-498F-A793-0CCE0904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D496-2E2F-4BDD-95BE-801648F2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63DA-F4F3-4151-9713-88885A9E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806A-8955-42BF-BF44-5E549B30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3AC38-A855-443A-B2F7-07EE89D9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CE21-79FC-4EDA-AC55-38BD7D63C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FAD9-0EAE-43EA-810D-439BEEB05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FA1C-84F0-4583-ABC2-DB0F3730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A683-1490-498A-A13E-62EF5F82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DF65-5DB8-4EF4-9BFD-0045E67A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5414-6D00-4A4A-876B-8B22C292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352A-EFBC-4BD5-9497-3D58671A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FF64-6344-41F2-A7F8-D2177E21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C57D-83C5-4187-8D14-DD0D2A39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5267-2744-4CB4-9793-679709D0145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8122-F83B-4FDF-9A81-C6CDF834A11B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JavaGran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Bryan Carpenter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Sung Hoon K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PAC at Syracuse Univers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yracuse, NY 1324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bc@npac.syr.ed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Use pure Java libraries(I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PIJ  :  Brigham Young 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ure Java based subset of MPI developed  as part of the Distributed Object Group Meta-computing Architecture(DOGM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u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MPI  :  MPI Software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 a commercial message-passing framework and parallel support environment for Jav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s to build a pure Java version of MPI-2 standard specialized for commercial applic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Use pure Java libraries(II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JavaNOW  :  Illinois Institute Te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d memory based system and experimental message passing frame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s a virtual parallel machine like PV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icit multi-thread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icit synchroniza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ssociative shared memory similar to Li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available as standalone software and must be used with a remote (or secure) shell tool in order to run on a network of workst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xtend Java Language(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se pre-processor to create Java co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wn compiler to create Java Byte code or executable code that loose portability of Jav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anta  :  Vrije Univers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-based high-performance Java system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s native compiler for aggressive optimis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as optimised RMI protocol(Manta RMI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xtend Java Language(I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itanium  :  UC Berkele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based language for high-performance parallel scientific computing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tanium compiler translates Titanium into 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Java with additional features lik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mutable classes which behave like existing Java primitive types or C struc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dimensional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explicitly parallel SPMD model of computation with a global address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mechanism for programmer to control memory management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905120" y="42670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419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4267080"/>
            <a:ext cx="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4495680"/>
            <a:ext cx="1905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3962520"/>
            <a:ext cx="1676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3962520"/>
            <a:ext cx="1067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38862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4648320"/>
            <a:ext cx="762120" cy="533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3505320"/>
            <a:ext cx="167616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4419720"/>
            <a:ext cx="457200" cy="304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4419720"/>
            <a:ext cx="243828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5257800"/>
            <a:ext cx="1524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5181480"/>
            <a:ext cx="2666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10080" y="4419720"/>
            <a:ext cx="221004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5181480"/>
            <a:ext cx="380988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10080" y="5943600"/>
            <a:ext cx="221004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4267080"/>
            <a:ext cx="7924680" cy="144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09680" y="39625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48006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53341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62520" y="54100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67080" y="46483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4648320"/>
            <a:ext cx="1067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464832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00800" y="4800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00800" y="55627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xtend Java Language(II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JavaParty  :  University of Karlsruh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s a mechanism for parallel programming on distributed memory machi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iler generates the appropriate Java code plus RMI hook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mote keywords is used to identify which objects can be called remote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eb orient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ceT  :  Emory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ables users to share JVMs across a networ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user can upload a class to another virtual machine using a PVM-like interfa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explicitly calling send and receive statements, work can be distributed among multiple JVM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elin  :  UC Santa Barba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ternet-based parallel computing using Java by running Java applets in web brows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munication latencies are high since web browsers use RMIs over TCP/IP, typically over slow Etherne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bject Serialization and RM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 Ser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a program the ability to read or write a whole object to and from a raw byte strea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essential feature needed by RMI implementation when method arguments are passed by cop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M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y access to objects existing on remote virtual machi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ed for Client-Server applications over unstable and slow network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remote method invocations with low latency and high bandwidth are required for high performance comput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erformance Problems of Object Serial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handle float and double types efficient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ype cast which is implemented in the JNI, requires various time consuming operations for check-pointing and state recover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at arrays invokes the above mentioned JNI routine for every single array elem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ly encoding of typ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type of serialized object, all fields of the type are described verbose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 creation takes too lo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ject output and input should be overlapped to reduce latenc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fficient Object Serialization(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KA-serialization (as part of JavaPar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m Encoding typ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roach : When objects are being communicated, it can be assumed that all JVMs that collaborate on a parallel applications use the same file system(NSF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much shorter to textually send the name of the class including package prefi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explicit (un)marshaling instead of reflection (by writeObject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regular users of object serialization, programmers do not implement (un)marshaling, instead they rely on Java’s reflec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Efficient Object Serialization(II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97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KA-serialization (as part of JavaParty)(con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buffer handling and less copying to achieve better performa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DK External Buffering probl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the recipient side, JDK-serialization uses buffered stream implementation that does not know byte representation of object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 can not directly write into External Buffer, instead use special write routin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KA-serialization handles the buffering Internally and Publi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y making the buffer Public, explicit marshaling routines can write their data immediately into the buffer.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Manta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erialization code is generated by the compil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makes it possible to avoid the overhead of dynamic inspection of the object struct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Java for High-Performance Compu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Java is potentially an excellent platform for developing large-scale science and engineering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Java has advantag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Java is descendant of C++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Java omits various features of C and C++ that are considered difficult - e.g poin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Java comes with built-in multithread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Java is por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Java has advantages in visualisation and user interfaces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Java Grande Fo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Java has some problems that hinder its use for Grande applic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Java Grande Forum created to make Java a better platform for Grande applic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urrently two working groups are ex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eric Work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mplex and floating-point arithmetic, mulitidimensional arrays, operator overloading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currency/Applications Work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erformance of RMI and object serialization, benchmarking, computing portal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Approaches to Parallelism in Jav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utomatic parallelization of sequential co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JVM for SMP can be schedule the threads of a multi-threaded Java cod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anguage extensions or directive akin to HPF or provision of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Message Passing with J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Java so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nattractive to scientific parallel program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Java R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t is restrictive and overhead is hig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un)marshaling of data is costly than sock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essage passing libraries in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Java as wrapper for existing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only pure Java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808760" cy="83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p>
            <a:pPr algn="ctr">
              <a:buClr>
                <a:srgbClr val="000000"/>
              </a:buClr>
              <a:buSzPct val="75000"/>
              <a:buFont typeface="starba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Java Based Frame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880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Aft>
                <a:spcPts val="1287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se Java as wrapper for existing framework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Aft>
                <a:spcPts val="1026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mpiJava, Java/DSM, JavaPV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Aft>
                <a:spcPts val="1287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se pure Java librar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Aft>
                <a:spcPts val="1287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MPJ, DOGMA, JPVM, JavaNOW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Aft>
                <a:spcPts val="1287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Java language with new keywor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Aft>
                <a:spcPts val="1026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se preprocessor or own compiler to creat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Aft>
                <a:spcPts val="1026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Java(byte) code.  (HPJava, Manta, JavaParty, Titaniu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Aft>
                <a:spcPts val="102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eb oriented and use Java applets to excute parallel task.  (WebFlow, IceT, Javelin)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Use Java as wrapper for existing frameworks. (I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JavaMPI  :  U. of Westmins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Java wrapper to M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rappers are automatically generated from the C MPI header using Java-to-C interface generator(JCI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lose to C binding, Not Object-orien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JavaPVM(jPVM)  : Georgia Te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Java wrapper to PV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Use Java as wrapper for existing frameworks. (II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Java/DSM  :  Rice 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terogeneous computing syst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s a JVM on top of a TreadMarks Distributed Shared Memory(DSM) syst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JVM on each machine. All objects are allocated in the shared memory reg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Transparency : Java/DSM combination hides the hardware differences from the programm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ce communication is handled by the underlying DSM, no explicit communic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Use pure Java libraries(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JPVM  :  U. of Virgin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ure Java implementation of PVM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communication over TCP socke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is very poor compared to JavaPV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mpi  :  Baskent 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ure Java implementation of MPI built on top of JPVM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additional wrapper layer to JPVM routines, its performance is poor compared to JPVM.                         (JavaPVM  &lt;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JPVM  &lt;  jmp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2T14:25:34Z</dcterms:created>
  <dc:creator>Mr &amp; Mrs P Carpenter</dc:creator>
  <dc:description/>
  <dc:language>en-US</dc:language>
  <cp:lastModifiedBy>pku-cs</cp:lastModifiedBy>
  <dcterms:modified xsi:type="dcterms:W3CDTF">2000-01-11T09:03:04Z</dcterms:modified>
  <cp:revision>46</cp:revision>
  <dc:subject/>
  <dc:title>The Development of Data-Parallel Programming</dc:title>
</cp:coreProperties>
</file>