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180B-77ED-43E2-8073-3AA495C4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17B6-1FD4-435E-84CF-D06618AF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E49E-01EE-4C79-A4BE-F07CBE86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758B-1B46-4797-816B-49454DE0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8A7E-C1D7-4003-8E4B-61D3C9FC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707D-3F57-4D2A-8E92-C92A2AD3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9060-7BE2-4E6A-96B0-642FD67C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BD59-A826-42E3-8802-85B3DC84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B7AB-4D46-4A90-B453-B0EAC6E4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BF9F-A1BD-4991-9558-FFAB1EDD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5878-24F9-406F-933C-5DC8C9EF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D7A5-EBC8-49FE-BC07-E332A23A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7794-4C5B-4AF8-B558-B0364BDE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B488-DFD2-4078-A081-0C3301A8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17C4-19E0-4B90-BA69-B1CEBB25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1382-43D1-4457-8745-2E35FABF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1ABA-9832-4842-A566-5B2CD491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EFB-3063-4C47-8B65-436A99CC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D79-AF66-4478-BC61-2A5B53E6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C6D5-9003-484F-9341-91474A12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5011-9D61-420D-9E44-A8EA52FA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33A9-4D94-4170-8D72-6212552C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4742-1AB0-4CC7-A9A4-4FFA001D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2C7E-79F7-43FB-847B-A6EFA346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F339-1821-4C69-9789-87D17F013E3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6F9B-5316-4DAA-8CF3-41BDA8BF901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essage-passing programming in 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Bryan Carp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PAC at Syracuse Univers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yracuse, NY 1324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bc@npac.syr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Data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00200" y="2038320"/>
          <a:ext cx="5676840" cy="42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38320"/>
                    <a:ext cx="5676840" cy="42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19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implementation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piJav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currently implemented as Java interface to an underlying MPI implementation - such as MPICH or some other native MPI implement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nterface betwee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piJav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the underlying MPI implementation is via the Java Native Interface (JNI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 -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978200" y="2286000"/>
            <a:ext cx="5195880" cy="2904840"/>
            <a:chOff x="1978200" y="2286000"/>
            <a:chExt cx="5195880" cy="2904840"/>
          </a:xfrm>
        </p:grpSpPr>
        <p:sp>
          <p:nvSpPr>
            <p:cNvPr id="154" name=""/>
            <p:cNvSpPr/>
            <p:nvPr/>
          </p:nvSpPr>
          <p:spPr>
            <a:xfrm>
              <a:off x="2757600" y="2286000"/>
              <a:ext cx="3246480" cy="415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MPIprog.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96960" y="3116160"/>
              <a:ext cx="3899160" cy="415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mport mpi.*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03480" y="3946320"/>
              <a:ext cx="4761000" cy="4161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JNI 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78200" y="4776480"/>
              <a:ext cx="5195880" cy="414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ative Library (MP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417560" y="4362480"/>
              <a:ext cx="1800" cy="41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417560" y="3531960"/>
              <a:ext cx="1800" cy="41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417560" y="2701800"/>
              <a:ext cx="1800" cy="41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59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implementation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entury Schoolbook"/>
              </a:rPr>
              <a:t>Interfacing Java to MPI not always trivial,  e.g., see low-level conflicts between the Java runtime and interrupts in MPI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entury Schoolbook"/>
              </a:rPr>
              <a:t>Situation improving as JDK matures - </a:t>
            </a:r>
            <a:r>
              <a:rPr b="0" lang="en-US" sz="2900" spc="-1" strike="noStrike">
                <a:solidFill>
                  <a:srgbClr val="ff3300"/>
                </a:solidFill>
                <a:latin typeface="Century Schoolbook"/>
              </a:rPr>
              <a:t>1.2</a:t>
            </a:r>
            <a:r>
              <a:rPr b="0" lang="en-US" sz="2900" spc="-1" strike="noStrike">
                <a:solidFill>
                  <a:srgbClr val="ff3300"/>
                </a:solidFill>
                <a:latin typeface="Marlett"/>
                <a:ea typeface="Marlett"/>
              </a:rPr>
              <a:t>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entury Schoolbook"/>
              </a:rPr>
              <a:t>Now reliable on Solaris MPI (SunHPC, MPICH), shared memory, NT (WMPI)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entury Schoolbook"/>
              </a:rPr>
              <a:t>Linux - Blackdown JDK 1.2 beta just out and seems OK - other ports in progress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 -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Mach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04920" y="2585880"/>
          <a:ext cx="8804160" cy="31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85880"/>
                    <a:ext cx="880416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-304920" y="2971800"/>
          <a:ext cx="9769680" cy="175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2971800"/>
                    <a:ext cx="976968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62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erformanc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 Shared memory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image27" descr=""/>
          <p:cNvPicPr/>
          <p:nvPr/>
        </p:nvPicPr>
        <p:blipFill>
          <a:blip r:embed="rId1"/>
          <a:stretch/>
        </p:blipFill>
        <p:spPr>
          <a:xfrm>
            <a:off x="1219320" y="1627200"/>
            <a:ext cx="66294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26680" y="304560"/>
            <a:ext cx="71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erformanc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Distributed mem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image28" descr=""/>
          <p:cNvPicPr/>
          <p:nvPr/>
        </p:nvPicPr>
        <p:blipFill>
          <a:blip r:embed="rId1"/>
          <a:stretch/>
        </p:blipFill>
        <p:spPr>
          <a:xfrm>
            <a:off x="1143000" y="1584360"/>
            <a:ext cx="678168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demo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 CFD: inviscid fl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cfd" descr=""/>
          <p:cNvPicPr/>
          <p:nvPr/>
        </p:nvPicPr>
        <p:blipFill>
          <a:blip r:embed="rId1"/>
          <a:stretch/>
        </p:blipFill>
        <p:spPr>
          <a:xfrm>
            <a:off x="1143000" y="2165400"/>
            <a:ext cx="693432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demo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Q-state Potts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7" name="pottsdemo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92920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oals of this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scribe a Java binding of MPI developed in the HPJava project at Syrac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scuss ongoing activities related to message-passing in the Java Grande Forum—MPJ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18288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Object Serialization in mpi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80880" y="3733560"/>
            <a:ext cx="87631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yan Carpenter, Geoffrey Fox, Sung-Hoon Ko, and Sang Li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npac.syr.edu/projects/pcrc/HPJava/mpiJava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issues in design of a Java API for MP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ass hierarch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MPI is already object-based.  “Standard” class hierarchy exists for C++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tailed argument lists for methods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Java language imply various superficial changes from C/C++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Mechanisms for representing message buffer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resenting Message Buffer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natural op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e MPI standard route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rived datatype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buffers consisting of mixed primitive fields scattered in local mem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e Java standard route: automatic marshalling of complex structures through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bject serializ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 of this part of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uss incorporation of derived datatypes in the Java API, and limit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ng object serialization at the API lev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implementation using JDK serializ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chmarks for naïve implement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mizing serializ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Data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316160" y="2054160"/>
          <a:ext cx="6360840" cy="41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6160" y="2054160"/>
                    <a:ext cx="636084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rived data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PI derived datatypes have two ro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contiguous data can be transmitted in one mess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PI_TYPE_STRU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lows mixed primitive types in one mess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binding doesn’t support second role. All data come from a homogeneous array of elements (no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PI_Addr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tricted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erived datatype consist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base typ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One of the 9 basic typ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displacement sequence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locatable pattern of integer displacements in the buffer arra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s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s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, . . . 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s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             1                          n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mi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’t mix primitive types or fields from different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lacements only operate within 1d arrays.  Can’t use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PI_TYPE_VECT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describe sections of multidimensional array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 data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gument is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PI.OBJE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uf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n array of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s to send fields of mixed primitive types, and fields from different objects, in one mess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s to send multidimensional arrays, because they are arrays of arrays (and arrays are effectively object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utomatic serial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7888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d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uf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n array of objects implementing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u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hould be an array of compatible reference types (may be null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serialization paradigm applied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objects (and objects referenced through them) converted to a byte stream.  Object graph reconstructed at the receiving e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tents of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verview of mpi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PI and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nchmarks and dem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 Serialization in mpiJav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rived datatypes vs object data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ive and optimized implement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-passing activities in Java Gra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oughts on a Java Reference Implementation for MP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ation issues for Object data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2017440"/>
            <a:ext cx="78883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implementation in mpiJava used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ObjectOutputStrea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ObjectInputStrea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sses from JD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serialized and sent as a byte vector, using MP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ngth of byte data not known in advance.  Encoded in a separate header so space can be allocated dynamically in receiv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ifications to mpi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mpiJava communications, including non-blocking modes and collective operations, now allow objects as base typ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der + data decomposition complicates, eg,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wait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e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ami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d datatypes complic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ective comms involve two phases if base type is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OBJEC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mpiJava with naive serial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in “Grande” applications, critical case is arrays of primitive el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 x N array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loat [] [] buf = new float [N] [N]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PI.COMM_WORLD.send(buf, 0, N, MPI.OBJEC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st, tag)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loat [] [] buf = new float [N] []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PI.COMM_WORLD.recv(buf, 0, N, MPI.OBJEC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rc, tag)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t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uster of 2-processor, 200 Mhz Ultrasparc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nATM-155/MMF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n MPI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shared memory” = inter-node com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d memory” = intra-node com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shared memory: by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8" name="nonsh_byte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3718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shared memory: flo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0" name="nonsh_float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47660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ared memory: by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2" name="sh_byte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3718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ared memory: flo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4" name="sh_float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47660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ers in timing model (microsecond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4582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te                                    flo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     = 0.043         t     = 2.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                                      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te                                    flo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     = 0.027         t     = 1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er                                  un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te                                    flo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     = 0.062         t     = 0.25    (non-shar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                                     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te                                    flo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     = 0.008         t     = 0.038  (shar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                                    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 less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of serializing and unserializing an individual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loa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ne to tw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rders of magnitud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ater than communicatio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ializing subarrays also expensiv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c                                         ve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    = 100               t     = 5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                                         un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A Java Interface to MP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4019400"/>
            <a:ext cx="807696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k Baker, Bryan Carpenter, Geoffrey Fox, Guansong Zhang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npac.syr.edu/projects/pcrc/HPJava/mpiJava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serial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s o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bjectOutputStrea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bjectInputStrea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available, and format of serialized stream is documen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overriding performance-critical methods in classes, and modifying critical aspects of the stream format, can hope to solve immediate probl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iminating overheads of element serial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iz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jectOutputStr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places primitive arrays with sh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rrayProx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bject.  Separat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olding the Java arrays is produc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-less” byte stream sent as head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jectInputStr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ield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llocated arrays, not writing ele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s then sent in one comm using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PI_TYPE_STRU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rom vector inf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ed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4" name="arrayProtocol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31520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stomized output stream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xperimental implementation, use inheritance from standard stream class,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bjectOutputStrea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rrayOutputStr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tends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bjectOutputStr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defines metho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placeOb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method tests if argument is a primitive array.  If it is, reference to the array is stored in th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ataVect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a small proxy object is placed in the output stre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stomized input stream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ly, class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rrayInputStr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tends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bjectInputStr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defines metho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lveOb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method tests if argument is an array proxy.  If it is, a primitive array of the appropriate size and type is created and stored in th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ataVect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shared memory: float (optimized in r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0" name="nonsharedFloatNewOld" descr=""/>
          <p:cNvPicPr/>
          <p:nvPr/>
        </p:nvPicPr>
        <p:blipFill>
          <a:blip r:embed="rId1"/>
          <a:srcRect l="3125" t="5398" r="0" b="0"/>
          <a:stretch/>
        </p:blipFill>
        <p:spPr>
          <a:xfrm>
            <a:off x="1143000" y="1828800"/>
            <a:ext cx="7085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shared memory: byt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optimized in r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2" name="nonsharedByteNewOld" descr=""/>
          <p:cNvPicPr/>
          <p:nvPr/>
        </p:nvPicPr>
        <p:blipFill>
          <a:blip r:embed="rId1"/>
          <a:srcRect l="0" t="6832" r="0" b="0"/>
          <a:stretch/>
        </p:blipFill>
        <p:spPr>
          <a:xfrm>
            <a:off x="1066680" y="1905120"/>
            <a:ext cx="73152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ared memory: float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optimized in r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4" name="sharedFloatNewOld" descr=""/>
          <p:cNvPicPr/>
          <p:nvPr/>
        </p:nvPicPr>
        <p:blipFill>
          <a:blip r:embed="rId1"/>
          <a:srcRect l="0" t="6832" r="0" b="0"/>
          <a:stretch/>
        </p:blipFill>
        <p:spPr>
          <a:xfrm>
            <a:off x="1066680" y="1828800"/>
            <a:ext cx="73152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ared memory: byt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optimized in r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6" name="sharedByteNewOld" descr=""/>
          <p:cNvPicPr/>
          <p:nvPr/>
        </p:nvPicPr>
        <p:blipFill>
          <a:blip r:embed="rId1"/>
          <a:srcRect l="0" t="6832" r="0" b="0"/>
          <a:stretch/>
        </p:blipFill>
        <p:spPr>
          <a:xfrm>
            <a:off x="990720" y="1828800"/>
            <a:ext cx="73152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ly easy to get dramatic improve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only truly optimized one dimensional arrays embedded in stre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r work looked at direct optimizations for rectangular multi-dimensional arrays---replace wholesale in stre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wrapp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s a Java API for MPI suggested  in late ‘9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ilds on work on Java wrappers for MPI started at NPAC about a year earli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Bryan Carpenter, Yuh-Jye Chang, Xinying Li, Sung Hoon Ko, Guansong Zhang, Mark Baker, Sang Li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on object serial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d datatypes workable for Java, but slightly limi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 basic types attractive on grounds of simplicity and general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ïve implementation too slow for bulk data transf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mizations should bring asymptotic performance in line with C/Fortran MP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8960" y="1828800"/>
            <a:ext cx="7721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Message-passing in Java Grand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javagrande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jects related to MPI and 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piJav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Syracu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JavaMP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Getov et al, Westmins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JMP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MPI Software Technology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PI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Judd et al, Brigham You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jmp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Dincer et 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piJava related work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 DOGMA MPI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letely Java-bas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mplementation of a large subset of MP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 o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tributed Object Group Metacomputing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native marshalling of primitive Java types for perform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dd, Clement and Snell, 199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piJava related work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. Automatic wrapper gener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JC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ava-to-C interface generator takes input C header and generates stub functions for JNI Java inter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JavaMP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ndings generated in this way resemble the C interface to MP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ov and Mintchev, 199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piJava related work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JMPI™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rcial message-passing environment for Java announced by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PI Software Technolog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awford, Dandass and Skjellum, 199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piJava related work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. jmpi instrumented MP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0%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implementation of an MPI subs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yered o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JPV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mented for performance analysis and visualiz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ncer and Kadriy, 199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iza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ly all implementations of MPI for Java have different AP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“official” Java binding for MPI (complementing Fortran, C, C++ bindings) would hel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sition paper and draft AP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Carpenter, Getov, Judd, Skjellum and Fox, 199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va Grande Fo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19320" y="2017800"/>
            <a:ext cx="77356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of interest in message-passing for Java healthy, but not enough to expect MPI forum to reconve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promising to work within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Java Grande For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Message-Passing Working Group formed (as a subset of the existing Concurrency and Applications working group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avoid conflicts with MPIF, Java effort renam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P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P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p of enthusiasts, informally chaired by Vladimir Getov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etings in last year in San Francisco (Java ‘99), Syracuse, and Portland (SC ‘99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 attendance by members of SunHPC group, amongst oth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features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ully featur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ava interface to MPI 1.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-oriented API based on MPI 2 standard C++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implementation through JNI to native M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rehensive test su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ranslated from IBM MPI su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for Solaris, Windows NT and other plat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8960" y="1828800"/>
            <a:ext cx="7721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Thoughts on a Java Reference Implementation for MP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218960" y="37335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rk Baker, Bryan Carp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efits of a pure Java implementation of MP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ly portable.  Assumes only a Java development environ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: moderate.  May need JNI inserts for marshalling arrays.  Network speed limited by Java socke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for education/evaluation.  Vendors provide wrappers to native MPI for ultimate performa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ource discov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ically, Jini discovery and lookup seems an obvious choice.  Daemons register with lookup servi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“hosts file” may still guide the search for hosts, if preferr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unication b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7772400" cy="17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be, some day, Java VIA??  For now sockets are the only portable option.  RMI surely too sl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ling “Partial Failure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able MPI implementation must deal with unexpected process termination or network failure, without leaving orphan processes, or leaking other resour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ld reinvent protocols to deal with these situations, but Jini provides a ready-made framework (or, at least, a set of concept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quiring compute slaves through Jin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0" name="MPJ-Jini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0580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ling failures with Jin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ny slave dies, client generates a Jini distributed event,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PIAbor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All slaves are notified and all processes kill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case of other failures (network failure, death of client, death of controlling daemon, …) client leases on slaves expire in a fixed time, and processes are kill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er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4" name="tower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8196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Integration of Jini and MPI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Geoffrey C. Fox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18960" y="2286000"/>
            <a:ext cx="6933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natural Java framework for parallel computing with the powerful fault tolerance and dynamic characteristics of Jini combined with proven parallel computing functionality and performance of M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280" y="3657600"/>
            <a:ext cx="8686800" cy="31240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76320"/>
            <a:ext cx="365760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-672840"/>
            <a:ext cx="4916520" cy="143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JiniMPI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8380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MPI Transport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091200"/>
            <a:ext cx="9144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52080" y="4864320"/>
            <a:ext cx="8617320" cy="476280"/>
            <a:chOff x="352080" y="4864320"/>
            <a:chExt cx="8617320" cy="476280"/>
          </a:xfrm>
        </p:grpSpPr>
        <p:sp>
          <p:nvSpPr>
            <p:cNvPr id="284" name=""/>
            <p:cNvSpPr/>
            <p:nvPr/>
          </p:nvSpPr>
          <p:spPr>
            <a:xfrm>
              <a:off x="352080" y="4864320"/>
              <a:ext cx="1530720" cy="476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PC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14400" y="4864320"/>
              <a:ext cx="1530720" cy="476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PC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38680" y="4864320"/>
              <a:ext cx="1530720" cy="476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PC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29000" y="4864320"/>
              <a:ext cx="1530720" cy="476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PC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4610160" y="4800600"/>
            <a:ext cx="0" cy="914400"/>
          </a:xfrm>
          <a:prstGeom prst="line">
            <a:avLst/>
          </a:prstGeom>
          <a:ln w="76320">
            <a:solidFill>
              <a:srgbClr val="ff7c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74000" y="3796920"/>
            <a:ext cx="2272320" cy="99468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i Looku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2880" y="1371600"/>
            <a:ext cx="1676520" cy="19051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15200" y="1371600"/>
            <a:ext cx="1676520" cy="19051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522920" y="2424600"/>
            <a:ext cx="1261800" cy="821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ini P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1371600"/>
            <a:ext cx="1676160" cy="19051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88560" y="2424600"/>
            <a:ext cx="1261800" cy="821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ini P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1371600"/>
            <a:ext cx="1676520" cy="19051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1358640"/>
            <a:ext cx="1733760" cy="994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PMD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62120" y="1358640"/>
            <a:ext cx="1733760" cy="994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PMD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24440" y="1358640"/>
            <a:ext cx="1733760" cy="994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PMD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286760" y="1358640"/>
            <a:ext cx="1733760" cy="994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PMD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95280" y="185580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6960" y="2424600"/>
            <a:ext cx="1261800" cy="821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ini P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51240" y="2424600"/>
            <a:ext cx="1261800" cy="821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ini P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05320" y="5715000"/>
            <a:ext cx="2209680" cy="9144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C Contro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57600" y="3200400"/>
            <a:ext cx="533520" cy="685800"/>
          </a:xfrm>
          <a:prstGeom prst="line">
            <a:avLst/>
          </a:prstGeom>
          <a:ln w="38160">
            <a:solidFill>
              <a:srgbClr val="00e4a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43000" y="3276720"/>
            <a:ext cx="2438280" cy="914400"/>
          </a:xfrm>
          <a:prstGeom prst="line">
            <a:avLst/>
          </a:prstGeom>
          <a:ln w="38160">
            <a:solidFill>
              <a:srgbClr val="00e4a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715000" y="3276360"/>
            <a:ext cx="2438280" cy="1066680"/>
          </a:xfrm>
          <a:prstGeom prst="line">
            <a:avLst/>
          </a:prstGeom>
          <a:ln w="38160">
            <a:solidFill>
              <a:srgbClr val="00e4a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5181480" y="3276720"/>
            <a:ext cx="609840" cy="609480"/>
          </a:xfrm>
          <a:prstGeom prst="line">
            <a:avLst/>
          </a:prstGeom>
          <a:ln w="38160">
            <a:solidFill>
              <a:srgbClr val="00e4a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839080" y="2133720"/>
            <a:ext cx="0" cy="28954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53080" y="2057400"/>
            <a:ext cx="0" cy="28954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19520" y="2133720"/>
            <a:ext cx="0" cy="28954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2133720"/>
            <a:ext cx="0" cy="28954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763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5334120"/>
            <a:ext cx="2361960" cy="68580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05320" y="990720"/>
            <a:ext cx="1904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638680" y="5334120"/>
            <a:ext cx="2590920" cy="8380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05520" y="304920"/>
            <a:ext cx="2286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5334120"/>
            <a:ext cx="533160" cy="45720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333760" y="5334120"/>
            <a:ext cx="685800" cy="45720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4960" y="59436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4920" y="838080"/>
            <a:ext cx="2963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C is Parallel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838080"/>
            <a:ext cx="5562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ss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084320" y="2463840"/>
            <a:ext cx="7068600" cy="3403440"/>
            <a:chOff x="1084320" y="2463840"/>
            <a:chExt cx="7068600" cy="3403440"/>
          </a:xfrm>
        </p:grpSpPr>
        <p:sp>
          <p:nvSpPr>
            <p:cNvPr id="113" name=""/>
            <p:cNvSpPr/>
            <p:nvPr/>
          </p:nvSpPr>
          <p:spPr>
            <a:xfrm>
              <a:off x="3126960" y="2463840"/>
              <a:ext cx="120960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6960" y="3071880"/>
              <a:ext cx="125568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6960" y="3679920"/>
              <a:ext cx="125568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26960" y="4287960"/>
              <a:ext cx="125568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a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26960" y="4896000"/>
              <a:ext cx="125568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26960" y="5504040"/>
              <a:ext cx="1262880" cy="36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84320" y="4044960"/>
              <a:ext cx="1571040" cy="36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ackage m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54240" y="3436920"/>
              <a:ext cx="1414440" cy="36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raco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54240" y="4044960"/>
              <a:ext cx="1414440" cy="36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rco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10840" y="5504040"/>
              <a:ext cx="1571040" cy="36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38480" y="3193920"/>
              <a:ext cx="1414440" cy="36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rtco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8480" y="3679920"/>
              <a:ext cx="141444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phco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11960" y="2586240"/>
              <a:ext cx="0" cy="31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11960" y="258624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1960" y="331488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11960" y="392292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11960" y="453060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11960" y="513864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1960" y="574668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55360" y="4165560"/>
              <a:ext cx="15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83000" y="3922920"/>
              <a:ext cx="31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83000" y="5746680"/>
              <a:ext cx="62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97640" y="3679920"/>
              <a:ext cx="0" cy="4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97640" y="4165560"/>
              <a:ext cx="15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97640" y="3679920"/>
              <a:ext cx="15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68680" y="36799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81880" y="343692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81880" y="3922920"/>
              <a:ext cx="15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81880" y="3436920"/>
              <a:ext cx="15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arks on JiniMPI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architecture is more general than that needed to support MPI like parallel comp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ncludes ideas present in systems like Condor and Javel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agram only shows server (bottom) and service (top) layers. There is of course a client layer which communicates directly with “Parallel Computing (PC) Control and Services module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assume that each workstation has a “Jini client” called here a “Jini Parallel Computing (PC) Embryo” which registers the availability of that workstation to run either particular or generic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Jini embryo can represent the machine (I.e. ability to run general applications) or particular 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ateway or “Parallel Computing (PC) Control and Services module” queries Jini lookup server to find appropriate service computers to run a particular MPI jo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could of course use this mechanism “just” to be able to run a single job or to set up a farm of independent work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arks on JiniMPI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tandard Jini mechanism is applied for each chosen embryo. This effectively establishes an RMI link from Gateway to (SPMD) node which corresponds to creating a Java proxy (corresponding to RMI stub) for the node program which can be any language (Java, Fortran, C++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Gateway--Embryo exchange should also supply to the Gateway any needed data (such as specification of needed parameters and how to input them) for user client lay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rategy separates control and data transf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supports Jini (registration, lookup and invocation) and advanced services such as load balancing and fault tolerance on control lay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MPI style data messages on fast transpor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Jini embryo is only used to initiate process. It is not involved in the actual “execution” ph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ould build a JavaSpace at the Control layer as the basis of a powerful management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very different from using Linda (JavaSpaces) in execution layer as in Control layer one represents each executing node program by a proxy and normal performance problems with Linda are irreleva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nimal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r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1876320"/>
            <a:ext cx="769644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mport mpi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tic public void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PI.Init(args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 myrank =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PI.COMM_WORLD.Rank(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(myrank =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r[] message = “Hello, there”.toCharArray(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PI.COMM_WORLD.Send(message, 0, message.length, MPI.CHAR, 1, 99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r[] message = new char [20]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PI.COMM_WORLD.Recv(message, 0, 20, MPI.CHAR, 0, 99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“received:” + new String(message) + “:”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PI.Finalize(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PI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data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53452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d and receive members of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m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oid send(Object buf, int offset, int coun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atatype type, int dst, int tag)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us recv(Object buf, int offset, int coun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atatype type, int src, int tag)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uf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 array. 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offse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 element where message starts.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atatyp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escribes type of ele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2T14:25:34Z</dcterms:created>
  <dc:creator>Mr &amp; Mrs P Carpenter</dc:creator>
  <dc:description/>
  <dc:language>en-US</dc:language>
  <cp:lastModifiedBy>蔡旭斌</cp:lastModifiedBy>
  <dcterms:modified xsi:type="dcterms:W3CDTF">2000-01-11T08:24:29Z</dcterms:modified>
  <cp:revision>56</cp:revision>
  <dc:subject/>
  <dc:title>The Development of Data-Parallel Programming</dc:title>
</cp:coreProperties>
</file>