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5440363" cy="8391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3B4-C5D8-4880-857F-84AC1CE5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884-1E4E-4531-94B4-8F20D3D7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0DA-5D6D-4377-8239-30A5BBA8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DC3-C2D6-4AAC-8A3F-673411E4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D14-23D7-47DA-9F0D-A1EC9541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8F7A-72A9-42E0-8D05-334DFD30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52D2-1F26-495E-8CB4-D0707218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62C0-7578-4205-AD3E-870C11A1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05B0-41D9-431C-8E5F-9BFA7F8F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6A90-C4E1-4E75-851F-624082E6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EC1C-ABD4-4810-A7EC-EE135948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9F1-1AFF-4AD5-98D2-DAA6647B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8993-5157-4E8D-B1D1-88DC8E1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4A94-524B-4AA6-A40C-49E8A01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83B6-EB57-4E4F-BAE7-61331D9C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D102-B124-46A7-96D1-1DC95880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3DE0-BA09-4B79-B140-924A10D7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660-6D90-431A-9C78-0BFDA2ED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E51-F564-4BF5-8176-73937321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8A6-751E-4939-A37D-3827AE0F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B03-E64D-4E35-99DB-9B02E88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02E-157F-4406-9350-AF6F1C1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0FC-B62E-48BF-8527-462F7FC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6B4-C834-4729-BDDA-C228E3B9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0652-35B6-4CF4-9972-7A5EC4F384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B42A-2AA6-4EBF-A2E8-B4C5377C84A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ssues in Translation of High Performance Fortr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oop over local el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ociated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ER L,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 L = 1, BLK_COU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= BLK_START * 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(L) = 1.0 *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 HP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perficially similar progra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BROUTINE INIT(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D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INHERIT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ALL (I = 1:50)  D(I) = 1.0 *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HERIT directive means mapping of dummy should be same as actual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whateve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at 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dure call with block-distribut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3519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ing of 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callblock" descr=""/>
          <p:cNvPicPr/>
          <p:nvPr/>
        </p:nvPicPr>
        <p:blipFill>
          <a:blip r:embed="rId1"/>
          <a:stretch/>
        </p:blipFill>
        <p:spPr>
          <a:xfrm>
            <a:off x="228600" y="5278320"/>
            <a:ext cx="86868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dure call with cyclically distribut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3519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CYCLIC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ing of 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callcyclic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89154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dure call with strided alignment of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3519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INIT(B(1:100:2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ing of 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callstride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88390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dure call with row-align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F$ PROCESSORS Q(2,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6, 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BLOCK, BLOCK) ONTO 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ing of 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callrow" descr=""/>
          <p:cNvPicPr/>
          <p:nvPr/>
        </p:nvPicPr>
        <p:blipFill>
          <a:blip r:embed="rId1"/>
          <a:stretch/>
        </p:blipFill>
        <p:spPr>
          <a:xfrm>
            <a:off x="1295280" y="4524480"/>
            <a:ext cx="6705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mehow INIT must be translated to deal with data having any of these decompositions, or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egal HPF mapping.  Actual mapping not known until run-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t an artificial example.  Libraries that operate on distributed arrays (eg the communication libraries discussed later) must deal with exactly this sit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quirements for an array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ems that to translate procedure calls, need some non-trivial data structure to describe layout of actual argu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Distributed Array Descriptor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(DA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ant to understand requirements and best organization of a 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opt object-oriented principles to build an abstract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stributed array dim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vious structural feature of HPF array: multidimens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ch dimension mapped independently 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llapsed (serial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ple block distribu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ple cyclic distribu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lock cyclic distribu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l block distribution (HPF 2.0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near alignment to any of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verting block distribution to cyclic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SIZE = (N + NP – 1) / N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START = R * BLK_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(N – BLK_START &gt;= BLK_SIZE)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COUNT = BLK_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LSEIF (N – BLK_START &gt; 0)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COUNT = N – BLK_STA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COUN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 = BLK_START + 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2133720"/>
            <a:ext cx="4191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BLK_SIZE = (N + NP – 1) / 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BLK_START =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BLK_COUNT = (N – R + NP – 1) / 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I = BLK_START + NP *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22860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1240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4197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63244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als of 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cuss translation of some elementary HPF examples to MPI code.  Illustrate the need for a Distributed Array Descriptor (DA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an abstract model of a DAD, and show how it can be used to translate simple c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stributed 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ve different kinds of array dimension (distribution forma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ch kind of dimension has a different set of formulae for segment layout, index computatio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O interpretation: virtual functions on a class hierarc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lement as th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ang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erarc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D for rank-r array will contain r Range objects, one per dim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aling with “hidden” dimensions of s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47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rray may be mapped to slice of gri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callrow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705720" cy="2333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95280" y="5181480"/>
            <a:ext cx="7047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nk-1 section only has one range object.  Need some other structure to represent embedding in subg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D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ed a group concept similar to MPI_Gro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ant lightweight structure for representing arbitrary slices of process gri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ject representing grid itself needs multidimensional structure (cf Cartesian Communicator in MP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ing processor arrang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OO runtime descriptor, expect entity like processor arrangement becomes an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C++ for definiten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s1 p(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PROCESSORS Q(2,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s2 q(2, 2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erarchy of process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procs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58597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face of Procs and Dimen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 Procs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member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mension dim(const int d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 Dimensio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size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crd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ing Procs in trans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GER W_RANK,  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LL MPI_COMM_RANK(MPI_COMM_WORLD, W_RANK, ERRCOD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F (W_RANK &lt; 4)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K_START = W_RANK * BLK_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4724280"/>
            <a:ext cx="4724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Procs1 p(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if (p.member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blk_start = p.dim(0).crd() * blk_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410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eco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stricted process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lice of process grid to which array section may be mapp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rtion of grid selected by specifying subset of dimension coordin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ghtweight representation.  Use bitmask to represent dimension s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 restricted groups in 2-dimensional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restricted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on of sub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ample     dimension         lead         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           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{dim(0), dim(1)}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0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(p, 11  ,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dim(0)}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8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(p, 10  , 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dim(1)}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(p, 01  ,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)                {}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6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(p, 00  ,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ents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nslation of simple HPF fragment to SPM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blem of proced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quirements for an array descripto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roup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ess gr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ed grou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nge object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Group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ass Group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(const Procs&amp;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oid restrict(Dimension d, const int coord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 member() cons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ghtwe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plementation in about 3 words.  Can freely copy and discard.  DAD contains a Group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DAD, range object describes extent and distribution format of one array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ect a class hierarchy of r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ch subclass corresponds to a different kind of distribution format for a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hierarchy of 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ranges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809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face of the Range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 rang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size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mension dim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volume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subrng(const int extent, const int 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t int stride = 1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oid block(Block* blk, const int crd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oid location(Location* loc, const int glb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ng simple HPF program to C++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ALL (I = 1:50)  A(I) = 1.0 * 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190512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1  p(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Range x(p.dim(0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(p.member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.block(&amp;b,  p.dim(0).crd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(int l = 0; l &lt; b.count; l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onst int i = b.glb_bas + b.glb_stp * l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 [b.sub_bas + b.sub_stp * l] = 1.0 *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eatures of C++ trans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rguments of BlockRange constructor are process dimension and extent of r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elds of Block define count of local loop and base and step for local subscript and global ind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distribution directive is change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CYCLIC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ly change is x declaration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yclicRange x(p.dim(0), 5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parently making progress toward writing code that works for any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Block and Location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uct Block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coun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glb_b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glb_st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sub_b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sub_st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36232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struct Loca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int su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int cr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mory stri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39625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tran 90 progra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B(100, 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FOO(B(1, :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BROUTINE FOO(C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C(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209680"/>
            <a:ext cx="426708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rst dimension of D most-rapidly-varying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ond dimension has memory stride 100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inherited by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Fortran compilers normally pass a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dope vect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containing r extents and r strides for rank-r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tride not really a property of the distributed range.  Store separately in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stract DAD for a rank-r array is an object contai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distribution group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 range object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 integer strid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face of the DAD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uct DAD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D(const int _rank, const Group&amp; _group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p _maps [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t Group&amp; grp() cons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ge rng(const int d) cons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 str(const int d) cons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simple HPF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re is a simple HPF progra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ALL (I = 1:50)  A(I) = 1.0 *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want to translate this to an MPI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p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199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uct Map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(Range _range, const int _stride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nge ran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strid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ng HPF program with inherited map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UBROUTINE INIT(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D(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INHERI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ALL (I = 1:50)  D(I) = 1.0 * 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82880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oid init(float* D, DAD* D_da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roup p = d_dad-&gt;gr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(p.member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ange x = d_dad-&gt;rng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      s = d_dad-&gt;str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.block(&amp;b,  p.dim(0).crd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(int l = 0; l &lt; b.count; l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onst int i = b.glb_bas + b.glb_stp * l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 [s * (b.sub_bas + b.sub_stp * l)] = 1.0 *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call with block-distribut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90512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1  p(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Range x(p.dim(0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 maps 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s [0] = Map(x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D dad(1, p, ma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it(a, &amp;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call with cyclically distribut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A(CYCLIC) ONTO 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190512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1  p(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yclicRange x(p.dim(0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 maps 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s [0] = Map(x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D dad(1, p, ma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it(a, &amp;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call with strided alignment of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LL INIT(A(1:100:2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190512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1  p(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Range x(p.dim(0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// Create DAD for section a(::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ange x2 = x.subrng(50, 0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 maps 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s [0] = Map(x2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D dad(1, p, ma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it(a, &amp;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call with row-align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Q(2, 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6, 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(BLOCK, BLOCK)  ONTO Q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LL INIT(A(2, :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160020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2  q(2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Range x(q.dim(0), 6),  y(q.dim(1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 * y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// Create DAD for section a(1,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ocation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.location(&amp;i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roup p =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.restrict(q.dim(0), i.c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 maps 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s [0] = Map(y, x.volum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D dad(1, p, ma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it(a + i.sub, &amp;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ther features of the Adlib 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upport for block-cyclic distribu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Local loops traversing distributed data need outer loop over set of local blocks.  LocBlocksIndex iterator class.  offset() method computes overall memory off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upport for ghost extension, other memory layout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Shift in memory for ghost region not in local subscript (univers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memory-layout-independent).  disp(), offset(), step() methods applied to local subscri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ther features of the Adlib DAD,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upport for loops over subrang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Additional block() methods take triplet argument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directly traverse subranges.   crds() methods define ranges of coordinates where local blocks exi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Other feature to support communication librar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.  AllBlocksInd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scellaneous inquires and predicat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Useful in general libraries, and for runtime checking programs for correct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simple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0" y="20574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TEGER W_RANK, W_SIZE, ERRCOD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TEGER BLK_SIZ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PARAMETER (BLK_SIZE = (50 + 3)/4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REAL A(BLK_SIZE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TEGER BLK_START, BLK_COU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TEGER L, 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ALL MPI_INIT(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ALL MPI_COMM_RANK(MPI_COMM_WORLD, W_RANK, ERRCODE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ALL MPI_COMM_SIZE(MPI_COMM_WORLD, W_SIZE, ERRCODE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F (W_RANK &lt; 4) THE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LK_START = W_RANK * BLK_SIZ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F (50 – BLK_START &gt;= BLK_SIZE) THE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LK_COUNT = BLK_SIZ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LSEIF (50 – BLK_START &gt; 0) THE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LK_COUNT = 50 – BLK_STAR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LK_COUNT = 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DO L = 1, BLK_COU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 = BLK_START + 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A(L) = 1.0 * 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ALL MPI_FINALIZE(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etting up the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8991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ociated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GER W_RANK, W_SIZE, ERR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MPI_INI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MPI_COMM_SIZE(MPI_COMM_WORLD, W_RANK, ERRC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MPI_COMM_RANK(MPI_COMM_WORLD, W_RANK, ERRC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MPI_FINAL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llocating segment of the distributed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ociated statement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ER BLK_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AMETER (BLK_SIZE = (50 + 3)/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AL A(BLK_SIZ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gment size is  50/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720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5627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952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4952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esting this processor holds a seg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ociated code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(W_RANK &lt; 4)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es number of MPI processes i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e size of the largest processor arrangement of HPF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uting parameters of locally held seg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8832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ociated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GER BLK_START, BLK_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K_START = W_RANK * BLK_SIZ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(50 – BLK_START &gt;= BLK_SIZE)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K_COUNT = BLK_SIZ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IF (50 – BLK_START &gt; 0)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K_COUNT = 50 – BLK_ST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K_COUNT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LK_STAR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position in global index space.  BLK_COUNT—elements in seg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4:25:34Z</dcterms:created>
  <dc:creator>Mr &amp; Mrs P Carpenter</dc:creator>
  <dc:description/>
  <dc:language>en-US</dc:language>
  <cp:lastModifiedBy>Li Xiaoming</cp:lastModifiedBy>
  <cp:lastPrinted>2000-01-05T01:12:24Z</cp:lastPrinted>
  <dcterms:modified xsi:type="dcterms:W3CDTF">2000-01-04T14:56:15Z</dcterms:modified>
  <cp:revision>36</cp:revision>
  <dc:subject/>
  <dc:title>The Development of Data-Parallel Programming</dc:title>
</cp:coreProperties>
</file>