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852E-928E-4E95-B8C3-722A19982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728E-9AAC-4962-8B42-10FD42031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886A-9DE6-4874-B3DF-442EA0CB0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0FCF-141C-4344-BF32-54D861647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2FB55-2FCF-4D90-9894-F80087358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7E5D4-5B3C-480C-99FE-3A391ED94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0BEE4-612B-43E0-9BC5-7B64BA1F6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ADC1E-0809-4334-8860-B65C3F849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715AA-CCDF-467D-BDA6-9F4CB74F1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B1637-2587-41C1-9BEC-B824243E9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CFE02-BCD3-409B-B524-C8B5DF93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F343-88E9-41AB-919E-3EFC55586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4256F-4C51-4C47-BA8E-442E7279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7C3BC-4F05-4067-970D-E0E53860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2EA72-7D71-4C3C-BC35-995EE3A3F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CC404-7514-4F45-A3DC-D23E9A826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B23C1-3306-4612-8DFF-07DDEB572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68A9-F3C4-4BF5-A7BA-EC6B27718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1D1D-58B7-4A8E-A226-2C981FB50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A7A5-5D98-4A09-939D-9DA04BE15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B3B1-1394-4C34-AA25-577ECB446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C95B-8EB1-4BB2-88DF-70E557EE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DE97-E0B1-4F2F-A57E-989E0FD3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A315-97AF-41BA-968F-218EFBE4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95B29-1DB9-4360-A327-49BA41E4DC7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8DF57-D37F-4FB6-B9B9-FC328FB9BC64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unication in Data Parallel 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Bryan Carpen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NPAC at Syracuse Univers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yracuse, NY 1324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bc@npac.syr.ed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ssignment gathering data to one process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8" name="assigngather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807696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ray assignment </a:t>
            </a: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gathering to al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5328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!HPF$ PROCESSORS P(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(50, 50), B(50), C(5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!HPF$ DISTRIBUTE  A(*, BLOCK)  ONTO  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!HPF$ DISTRIBUTE  B(BLOCK)  ONTO  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!HPF$ ALIGN  C(I)  WITH  A(I, *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 = 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 ha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eplicat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collapsed alignm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in emitted SPMD program, might be implemented with MPI_ALLGATH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ray assignments with all-to-all communic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5328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L A(50, 50), B(50, 5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!HPF$ DISTRIBUTE  A(*, BLOCK)  ONTO  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!HPF$ DISTRIBUTE  B(BLOCK, *)  ONTO  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 = 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L A(50), B(5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!HPF$ DISTRIBUTE  A(BLOCK)  ONTO  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!HPF$ DISTRIBUTE  B(CYCLIC)  ONTO  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 = 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in emitted SPMD program, might be implemented with MPI_ALLTOAL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. Stencil probl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43000" y="2666880"/>
            <a:ext cx="7772400" cy="33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pdates where element updated in terms of fixed “footprint” of neighboring elemen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ise in solution of PDEs, cellular automata, image processing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Famous example: Jacobi relaxation for Lapla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ORALL (I = 2:N-1, J = 2:N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&amp;     U(I, J) = 0.25 * (U(I, J-1) + U(I, J+1) 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&amp;                              U(I-1, J) + U(I+1, J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Can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be recast in terms of array assignmen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(2:N-1, 2:N-1) 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&amp;     0.25 * (U(2:N-1, 1:N-2) + U(2:N-1, 3: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&amp;             + U(1:N-2, 2:N-1) + U(3:N, 2:N-1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ray assignment version of Laplace sol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27080" y="1904760"/>
            <a:ext cx="7812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temporaries T1, …, T4 aligned to section U(2:N-1, 2:N-1).  The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1 = U(2:N-1, 1:N-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2 = U(2:N-1, 3: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3 = U(1:N-2, 2:N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4 = U(3:N, 2:N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U(2:N-1, 2:N-1) = 0.25 * (T1 + T2 + T3 + T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ments to Ts ne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hift communicat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as described earlier.  Final assignment is pure computation—no communic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lems with array assignment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2017800"/>
            <a:ext cx="78120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e in terms of volume of inter-processor communication, b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atic because it involves multiple memory-memory copies of whole array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l loop had good cache-locality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atial loc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mporal loc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into multiple array copies—multiple loops—causes memory cache to be loaded and flushed several tim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 aside: array syntax and cache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ray syntax” style of parallel programming evolved to support SIMD and vector processo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transcription may lead to poor use of cache on modern microprocesso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modern computers, memory access costs typicall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dominate ov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osts of arithmeti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iler may have to work hard to fuse sequences of array assignments into loops with good locality…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un-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ctorizing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tter approach: Translation using </a:t>
            </a: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ghost reg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U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0:BLK_SIZE1+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0:BLK_SIZE2+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(BLK_SIZE1, BLK_SIZE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ghost area of U with values from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L1 = 1, BLK_COUNT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L2 = 1, BLK_COUNT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(L1, L2) = 0.25 * (U(L1,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2-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+ U(L1,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2+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 U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1-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L2) + U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1+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L2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y T to interior part of U (local copy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unications needed to update ghost reg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6" name="updateghost" descr=""/>
          <p:cNvPicPr/>
          <p:nvPr/>
        </p:nvPicPr>
        <p:blipFill>
          <a:blip r:embed="rId1"/>
          <a:stretch/>
        </p:blipFill>
        <p:spPr>
          <a:xfrm>
            <a:off x="1828800" y="2111400"/>
            <a:ext cx="5562720" cy="39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oals of this l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3000" y="25142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cuss patterns of communication needed to implement various constructs in High Performance Fortr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duce some libraries that have been developed to support these communication patter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. Reductions and other transformational intrinsic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2017800"/>
            <a:ext cx="77356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tran intrinsic procedures operating on whole arrays, often returning array resul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just “reshuffle” elements of array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SHIFT, EOSHIFT, TRANSPOSE, SPREAD, e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ation similar to array assignmen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other important class reduces arrays to scalar or lower-rank array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UM, PRODUCT, MAXVAL, MINVAL, e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pattern quite different.  Similar to MPI_REDU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llel prefi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8040960" cy="48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ithmetic operation generalizing reduction.  Different optimal communication patter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FORALL (I = 1 : N)  RES (I) = SUM(A (1 : I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-th element of result contains sum of elements of A up to 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PF library function PREFIX_SU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unication pattern like MPI_SC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4. General subscripting in array parallel state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40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programs execute code li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FORALL (I = 1:50)  RES (I) = A (IND (I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RES, A, IND all distributed arrays. Subscript not simple linear function of loop index variabl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not be reduced to simple array assignment of type 1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not be expressed in single MPI collective oper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ngle phase of communication not enoug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40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FORALL (I = 1:50)  RES (I) = A (IND (I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ume IND aligned with RES (if not, do array assignment to make it so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wner of RES(I) also owns IND(I), so knows where source element liv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Bu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owner of source element, A(IND(I)), generally do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know it must be mov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eque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ommunications need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tailed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79246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!HPF$ PROCESSORS  P(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(5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!HPF$ DISTRIBUTE  A(CYCLIC)  ONTO  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RES(5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GER IND(5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!HPF$ DISTRIBUTE RES(BLOCK)  ONTO  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!HPF$ DISTRIBUTE IND(BLOCK)  ONTO  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 = (/ 5, 41, 7, . . . /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ALL (I = 1:50)  RES (I) = A (IND (I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ssignment with indirect refere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8" name="assignind" descr=""/>
          <p:cNvPicPr/>
          <p:nvPr/>
        </p:nvPicPr>
        <p:blipFill>
          <a:blip r:embed="rId1"/>
          <a:stretch/>
        </p:blipFill>
        <p:spPr>
          <a:xfrm>
            <a:off x="380880" y="2514600"/>
            <a:ext cx="838224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processor can deal with assignment of values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(5), A(41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RES(1), RES(2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locall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ement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(7)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ssigned to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RES(3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n first processor, lives on third process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processor knows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(7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required; third processor, owner, does no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two-way communication need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eneralizations of subscrip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7467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-linear subscript may be on LH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FORALL (I = 1:50)  RES (IND (I)) = A (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bscripted array multidimensiona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FORALL (I = 1:5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&amp;      RES (I) = A (IND1 (I), IND2(I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bscripts linear but dependen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FORALL (I = 1:50)  RES (I) = A (I, 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Loo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ultidimensiona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FORALL (I = 1:50, J = 1:5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&amp;      RES (I, J) = A (IND (I, J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eneral case.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urce rank S, dest rank R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6108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 special cases o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general gathe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FORALL(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= 1: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, …, 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= 1: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           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1          1          R          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&amp;     RES(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, …,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) 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3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          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1          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&amp;         SRC(IND  (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, …,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), … ,IND  (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, …,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 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1    1         R                S    1         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general scatte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FORALL(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= 1: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, …, 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= 1: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           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1          1          S          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&amp;     RES(IND  (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, …,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), … ,IND  (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, …,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)) 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1    1         S                R    1         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&amp;                       SRC(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, …,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                     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1         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5. Accessing remote data from task-parallel code seg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345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DO loop of HPF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       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!HPF$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                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DO I = 1, 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                    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                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END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able-uses must have no loop-carried data dependence—can execute in parallel.  B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hing forces all variables used in given iteration to have same home—communication needed—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control flow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ith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teration.  Cannot predict before execution what accesses actually happ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ents of L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3520" y="2190600"/>
            <a:ext cx="723924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tterns of 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ula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regular array access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cheduled” access to remote dat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raries for distributed array 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OS/PAR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l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milar problem calling PURE procedures from FORAL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2093400"/>
            <a:ext cx="853416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allow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PURE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REAL FUNCTION FOO(REAL 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   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FORALL (I = 1 : N)  RES (I) = FOO(1.0 * 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15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RE procedures restricted—no side-effects.  B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hing to prevent the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ad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global data—random element of distributed array in common block, s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es not predictable from parallel points of cal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ne-sided communic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43000" y="2017800"/>
            <a:ext cx="78120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yond point-to-point communication, apparently need ability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one-sided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ccess memory of remote process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ly, needed where parallel tasks are not sharing a single, logical, “loosely synchronous” thread of contro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PI 2 standard add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one-sided-communic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unctionality to MPI.  Still not widely implement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I. Libraries for distributed array communic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seen, communication patterns in languages like HPF are quite complex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impractical for compiler to generate low-level MPI calls to execute the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nce development of higher-level libraries—directly support operations on distributed array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section of talk will conside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OS/PAR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l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. CHAOS/PART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ies of libraries developed at University of Marylan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iginal PARTI primitives designed to deal with irregular scientific computa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includ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ultiblock PART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—handles problems defined over multiple regular grid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rregular applic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ypical case: physical problem discretized on unstructured mesh, represented as a grap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rrays X, Y defined over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graph. 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th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d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graph connects nod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an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racteristic inner loo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32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DO I = 1, N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Y(EDGE1(I)) = Y(EDGE1(I)) 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&amp;                          F(X(EDGE1(I)),  X(EDGE2(I)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Y(EDGE2(I)) = Y(EDGE2(I)) 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&amp;                          G(X(EDGE1(I)),  X(EDGE2(I)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END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alue of Y at node is sum of terms, each depending on value of X at ends of edge connected to nod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 irregular problem grap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0" name="graphpartition" descr=""/>
          <p:cNvPicPr/>
          <p:nvPr/>
        </p:nvPicPr>
        <p:blipFill>
          <a:blip r:embed="rId1"/>
          <a:stretch/>
        </p:blipFill>
        <p:spPr>
          <a:xfrm>
            <a:off x="304920" y="2666880"/>
            <a:ext cx="8839080" cy="19954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04920" y="525780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us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rregul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istribution of X, Y—1, 2, 5 on P0; 3, 4, 6 on P1.  Inessential to discussion here—by permuting node labelling could use HPF-like regular block distrib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ocality of reference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1920" y="2093760"/>
            <a:ext cx="8915400" cy="43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rtant class of physical problems, while irregular, have property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ocality of refer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s go over locally held elements of indirection vector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suitably partitioning nodes, majority of locally held elements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ndirection vecto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DGE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DGE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reference locally held elements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rray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example, only edge (2,3) held on P0 causes non-local referen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TI </a:t>
            </a: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ghost reg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2017800"/>
            <a:ext cx="86500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 primitives exploit locality of reference; ghost region method, similar to stencil upda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ion vectors preprocessed to convert global index values to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ocal subscrip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rection to non-local element—local subscript goes into ghost region of data arr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host regions filled or flushed by collective communication routines, called outside local processing loop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mplified irregular loo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69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DO I = 1,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     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X(IA(I))  =  X(IA(I))  +  Y(IB(I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END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nspector pha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akes distribution of data arrays, global subscripts, and returns local subscripts an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mmunication schedul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xecutor pha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akes communication schedules.  Collective GATHER fills ghost regions.  Does local arithmetic.  Collective SCATTER_ADD flushes ghost regions back to Y array, accumulat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. Patterns of communic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st lecture gave translations of simple fragments of HPF—involved no inter-processor communic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listic HPF programs translate to SPMD programs with communications for accessing array elements on other processo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ll take a pattern-oriented look at the required communica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TI 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inspector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and executor for simple irregular loo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Create required schedules (inspec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CALL LOCALIZE(DAD_X, SCHED_IA, IA, LOC_IA, I_BLK_COUNT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&amp;                       OFF_PROC_X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CALL LOCALIZE(DAD_Y, SCHED_IB, IB, LOC_IB, I_BLK_COUNT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&amp;                       OFF_PROC_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Actual computation (exec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CALL GATHER(Y(Y_BLK_SIZE+1),  Y,  SCHED_I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CALL ZERO_OUT_BUFFER(X(X_BLK_SIZE+1),  OFF_PROC_X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DO L = 1,  I_BLK_COU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           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X(LOC_IA(L))  =  X(LOC_IA(L))  +  Y(LOC_IB(L)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END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CALL SCATTER_ADD(X(X_BLK_SIZE+1),  X, SCHED_I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ea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2017440"/>
            <a:ext cx="78120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unication schedule created by analysing requested set of access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lists of accessed elements to processors that own the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te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ppropriate aggregations and redundancy elimina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nd resul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digested list of messages that must be sent, received, with local source and destination elemen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ssons from CHAOS/PART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ortan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spector-executor mode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uction of communication schedules should be separated from execution of schedu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benefit: common situation where pattern of subscripting constant over many iterations of an outer loo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if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spector phase out of main loop.  No need to repeat computations every tim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. Adli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gh-level runtime library, designed to support translation of data parallel languag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rly version implemented 1994 in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hp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ject at Southampton Universit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ch improved version produced during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rallel Compiler Runtime Consortiu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PCRC) project at Syracu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ea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1920" y="205740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-in model of distributed arrays and sec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HPF 1.0 model, plus ghost extensions and general block distribution from HPF 2.0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ve communication libra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upport for array section assignments, ghost region updates, F90 array intrinsics, general gather/scat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on top of MP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lib kernel implemented in C++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-based distributed array descriptor (DAD)—see previous lecture.  Schedule 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unication schedu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98120" y="1904760"/>
            <a:ext cx="811692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collective operations based on communicatio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chedu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bjec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kin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operation has associat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la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schedul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cular instances—involving specific arrays and other parameters—created by class constructo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ecut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chedule object initiates communications, etc, to effect oper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vantages of schedule-based approa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80520" y="21333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in CHAOS/PARTI, schedules can be reused in case same pattern of accesses repeat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in single-use case, component communications generally have to be aggregated and sorted, for efficienc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quir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reation of temporary data structures—essentially the schedu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lib only do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ssenti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ptimization at schedule creation time.  Supports, but does no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ssu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rtization over many execu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map cla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2017800"/>
            <a:ext cx="834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racteristic example of communication schedule clas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lass Remap {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Remap(const DAD* dst, const DAD* src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           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onst int len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void execute(void* dstDat, void* srcDat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eration of Rem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21800" y="2017440"/>
            <a:ext cx="8193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ects the “array assignment” form of communic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pies data between two arrays or sections of same shape and element typ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rce and destination can have any, unrelated mapp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ilar to operation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egular section mo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Multiblock PART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thods on Remap cla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2017800"/>
            <a:ext cx="78883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truc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s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DAD for destination arra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r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DAD for source arra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Length in bytes of individual elem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xecute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stDa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address of array of local element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for source arra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rcDa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address of array of local elements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for destination arra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assifying communication patter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22960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ll discuss 5 situatio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ray assign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ncil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tions and transformational intrin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subscripting in array-parallel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ing remote data in task parallel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claim these are exhaustive, but cover many of the cases arising in useful parallel program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PF example generally needing communic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20570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UBROUTINE ADD_VEC(A, B, 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REAL A(:), B(:), C(: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!HPF$ INHERIT 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FORALL (I = 1:SIZE(A))  A(I) = B(I) + C(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 arrays A, B, C have different mapp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copy B, C to temporaries with same mapping as 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nslation to C++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addVec(float* a, DAD* a_dad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at* b, DAD* b_dad, float* c, DAD* c_dad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x = a_dad-&gt;rng(0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at* t1 = new float [x.volume()]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Remap sched1(a_dad, b_dad, sizeof(float)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ched1.execute(t1, b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at* t2 = new float [x.volume()]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Remap sched2(a_dad, c_dad, sizeof(float)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ched2.execute(t2, c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…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 to assign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tail of local loo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2017440"/>
            <a:ext cx="7812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p = a_dad-&gt;grp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(p.member()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 s = a_dad-&gt;str(0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ock b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.block(&amp;b, x.dim().crd()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(int l = 0 ; l &lt; b.count ; l++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 int sub = b.sub_bas + b.sub_stp * l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[s * sub] = t1 [sub] + t2 [sub]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erfaces to kernel Adli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2017800"/>
            <a:ext cx="8726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hpf Fortran interfa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 A Fortran 90 interface using a kind of dope vect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CRC Fortran interfa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 A Fortran 77 interface using handles to objects in DA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d++ interfa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 A higher-level C++ interface providing distributed arrays as template (container) classes.  Somewhat impractical, but inspiration fo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PJava interfa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 See next lecture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lecture.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82600" y="2474640"/>
            <a:ext cx="777240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te 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Pspm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odel of parallel computation—a hybrid of the HPF data parallel model with the low-level SPMD sty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duce a particular HPspmd language: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PJav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. Array assign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31280" y="1886040"/>
            <a:ext cx="817884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ariants of the assignmen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 =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de many communication patter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and B may be any conforming array sec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ll see that communication patterns required encompass most of those occurring i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llective communicati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MP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ray assignment with neighbor communic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15328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!HPF$ PROCESSORS P(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(50), B(5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!HPF$ DISTRIBUTE  A(BLOCK)  ONTO  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!HPF$ DISTRIBUTE  B(BLOCK)  ONTO  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(1:49)  =  B(2:5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emitted SPMD program, communication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igh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e implemented with MPI_SEND, MPI_RECV, or MPI_SENDRECV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ssignment with shift in alig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4" name="assignshift" descr=""/>
          <p:cNvPicPr/>
          <p:nvPr/>
        </p:nvPicPr>
        <p:blipFill>
          <a:blip r:embed="rId1"/>
          <a:stretch/>
        </p:blipFill>
        <p:spPr>
          <a:xfrm>
            <a:off x="304920" y="2819520"/>
            <a:ext cx="853416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ray assignment with </a:t>
            </a: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gather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communic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5328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!HPF$ PROCESSORS P(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(50, 50), B(5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!HPF$ DISTRIBUTE  A(*, BLOCK)  ONTO  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!HPF$ DISTRIBUTE  B(BLOCK)  ONTO  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(:, 1)  = 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emitted SPMD program, communication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igh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e implemented with MPI_GATH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ssignment direction reversed, might use MPI_SCATT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acher</cp:lastModifiedBy>
  <dcterms:modified xsi:type="dcterms:W3CDTF">2000-01-08T00:13:50Z</dcterms:modified>
  <cp:revision>10</cp:revision>
  <dc:subject/>
  <dc:title>Communication in Data Parallel Languages</dc:title>
</cp:coreProperties>
</file>